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24.wmf" ContentType="image/x-wmf"/>
  <Override PartName="/ppt/media/image3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26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577280" y="158760"/>
            <a:ext cx="1542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BS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480" y="6665760"/>
            <a:ext cx="10414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/work/ind_day/brief_5.p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47280" y="6545160"/>
            <a:ext cx="311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5C9DD6A-7FC0-49E6-802F-2267CC0602A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7080" y="988920"/>
            <a:ext cx="8907480" cy="0"/>
          </a:xfrm>
          <a:prstGeom prst="line">
            <a:avLst/>
          </a:prstGeom>
          <a:ln w="507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image" Target="../media/image31.wmf"/><Relationship Id="rId9" Type="http://schemas.openxmlformats.org/officeDocument/2006/relationships/image" Target="../media/image31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5.wmf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5.wmf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1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image" Target="../media/image44.wmf"/><Relationship Id="rId13" Type="http://schemas.openxmlformats.org/officeDocument/2006/relationships/image" Target="../media/image37.wmf"/><Relationship Id="rId14" Type="http://schemas.openxmlformats.org/officeDocument/2006/relationships/image" Target="../media/image39.wmf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58.wmf"/><Relationship Id="rId14" Type="http://schemas.openxmlformats.org/officeDocument/2006/relationships/image" Target="../media/image59.wmf"/><Relationship Id="rId15" Type="http://schemas.openxmlformats.org/officeDocument/2006/relationships/image" Target="../media/image52.wmf"/><Relationship Id="rId16" Type="http://schemas.openxmlformats.org/officeDocument/2006/relationships/image" Target="../media/image60.wmf"/><Relationship Id="rId17" Type="http://schemas.openxmlformats.org/officeDocument/2006/relationships/image" Target="../media/image58.wmf"/><Relationship Id="rId18" Type="http://schemas.openxmlformats.org/officeDocument/2006/relationships/image" Target="../media/image59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61.png"/><Relationship Id="rId9" Type="http://schemas.openxmlformats.org/officeDocument/2006/relationships/image" Target="../media/image22.wmf"/><Relationship Id="rId10" Type="http://schemas.openxmlformats.org/officeDocument/2006/relationships/image" Target="../media/image31.wmf"/><Relationship Id="rId11" Type="http://schemas.openxmlformats.org/officeDocument/2006/relationships/image" Target="../media/image31.wmf"/><Relationship Id="rId12" Type="http://schemas.openxmlformats.org/officeDocument/2006/relationships/image" Target="../media/image31.wmf"/><Relationship Id="rId13" Type="http://schemas.openxmlformats.org/officeDocument/2006/relationships/image" Target="../media/image31.wmf"/><Relationship Id="rId14" Type="http://schemas.openxmlformats.org/officeDocument/2006/relationships/image" Target="../media/image31.wmf"/><Relationship Id="rId15" Type="http://schemas.openxmlformats.org/officeDocument/2006/relationships/image" Target="../media/image31.wmf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1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2.wmf"/><Relationship Id="rId6" Type="http://schemas.openxmlformats.org/officeDocument/2006/relationships/image" Target="../media/image62.wmf"/><Relationship Id="rId7" Type="http://schemas.openxmlformats.org/officeDocument/2006/relationships/image" Target="../media/image22.wmf"/><Relationship Id="rId8" Type="http://schemas.openxmlformats.org/officeDocument/2006/relationships/image" Target="../media/image3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1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62.wmf"/><Relationship Id="rId6" Type="http://schemas.openxmlformats.org/officeDocument/2006/relationships/image" Target="../media/image22.wmf"/><Relationship Id="rId7" Type="http://schemas.openxmlformats.org/officeDocument/2006/relationships/image" Target="../media/image3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2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8.wmf"/><Relationship Id="rId3" Type="http://schemas.openxmlformats.org/officeDocument/2006/relationships/image" Target="../media/image31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2.wmf"/><Relationship Id="rId7" Type="http://schemas.openxmlformats.org/officeDocument/2006/relationships/image" Target="../media/image62.wmf"/><Relationship Id="rId8" Type="http://schemas.openxmlformats.org/officeDocument/2006/relationships/image" Target="../media/image3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2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1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2.wmf"/><Relationship Id="rId6" Type="http://schemas.openxmlformats.org/officeDocument/2006/relationships/image" Target="../media/image6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31.wmf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2.wmf"/><Relationship Id="rId7" Type="http://schemas.openxmlformats.org/officeDocument/2006/relationships/image" Target="../media/image15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523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BS Industry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71920" y="2079720"/>
            <a:ext cx="4608360" cy="25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Joint Program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C/M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AFB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9 March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87200" y="1558800"/>
            <a:ext cx="4467240" cy="4192560"/>
            <a:chOff x="187200" y="1558800"/>
            <a:chExt cx="4467240" cy="4192560"/>
          </a:xfrm>
        </p:grpSpPr>
        <p:sp>
          <p:nvSpPr>
            <p:cNvPr id="45" name=""/>
            <p:cNvSpPr/>
            <p:nvPr/>
          </p:nvSpPr>
          <p:spPr>
            <a:xfrm>
              <a:off x="696960" y="2090880"/>
              <a:ext cx="3537000" cy="339876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1114560" y="2587680"/>
              <a:ext cx="2600280" cy="2086200"/>
              <a:chOff x="1114560" y="2587680"/>
              <a:chExt cx="2600280" cy="2086200"/>
            </a:xfrm>
          </p:grpSpPr>
          <p:pic>
            <p:nvPicPr>
              <p:cNvPr id="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4560" y="2587680"/>
                <a:ext cx="1136520" cy="69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1773360" y="2811600"/>
                <a:ext cx="0" cy="1728720"/>
              </a:xfrm>
              <a:prstGeom prst="line">
                <a:avLst/>
              </a:prstGeom>
              <a:ln w="12600">
                <a:solidFill>
                  <a:srgbClr val="00b7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773360" y="2811600"/>
                <a:ext cx="1850760" cy="1044360"/>
              </a:xfrm>
              <a:prstGeom prst="line">
                <a:avLst/>
              </a:prstGeom>
              <a:ln w="12600">
                <a:solidFill>
                  <a:srgbClr val="00b7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14680" y="3855960"/>
                <a:ext cx="2000160" cy="74448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7960" y="4035600"/>
                <a:ext cx="390600" cy="29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0040" y="4240080"/>
                <a:ext cx="461880" cy="326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" name=""/>
              <p:cNvGrpSpPr/>
              <p:nvPr/>
            </p:nvGrpSpPr>
            <p:grpSpPr>
              <a:xfrm>
                <a:off x="2430360" y="4278240"/>
                <a:ext cx="420840" cy="395640"/>
                <a:chOff x="2430360" y="4278240"/>
                <a:chExt cx="420840" cy="39564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430360" y="4278240"/>
                  <a:ext cx="173520" cy="322560"/>
                </a:xfrm>
                <a:custGeom>
                  <a:avLst/>
                  <a:gdLst/>
                  <a:ahLst/>
                  <a:rect l="0" t="0" r="r" b="b"/>
                  <a:pathLst>
                    <a:path w="482" h="896">
                      <a:moveTo>
                        <a:pt x="203" y="131"/>
                      </a:moveTo>
                      <a:lnTo>
                        <a:pt x="180" y="141"/>
                      </a:lnTo>
                      <a:lnTo>
                        <a:pt x="157" y="162"/>
                      </a:lnTo>
                      <a:lnTo>
                        <a:pt x="123" y="183"/>
                      </a:lnTo>
                      <a:lnTo>
                        <a:pt x="108" y="237"/>
                      </a:lnTo>
                      <a:lnTo>
                        <a:pt x="88" y="305"/>
                      </a:lnTo>
                      <a:lnTo>
                        <a:pt x="82" y="334"/>
                      </a:lnTo>
                      <a:lnTo>
                        <a:pt x="88" y="367"/>
                      </a:lnTo>
                      <a:lnTo>
                        <a:pt x="76" y="367"/>
                      </a:lnTo>
                      <a:lnTo>
                        <a:pt x="85" y="395"/>
                      </a:lnTo>
                      <a:lnTo>
                        <a:pt x="0" y="439"/>
                      </a:lnTo>
                      <a:lnTo>
                        <a:pt x="12" y="468"/>
                      </a:lnTo>
                      <a:lnTo>
                        <a:pt x="104" y="426"/>
                      </a:lnTo>
                      <a:lnTo>
                        <a:pt x="113" y="433"/>
                      </a:lnTo>
                      <a:lnTo>
                        <a:pt x="132" y="493"/>
                      </a:lnTo>
                      <a:lnTo>
                        <a:pt x="160" y="511"/>
                      </a:lnTo>
                      <a:lnTo>
                        <a:pt x="149" y="534"/>
                      </a:lnTo>
                      <a:lnTo>
                        <a:pt x="149" y="562"/>
                      </a:lnTo>
                      <a:lnTo>
                        <a:pt x="173" y="601"/>
                      </a:lnTo>
                      <a:lnTo>
                        <a:pt x="173" y="626"/>
                      </a:lnTo>
                      <a:lnTo>
                        <a:pt x="163" y="676"/>
                      </a:lnTo>
                      <a:lnTo>
                        <a:pt x="163" y="718"/>
                      </a:lnTo>
                      <a:lnTo>
                        <a:pt x="173" y="742"/>
                      </a:lnTo>
                      <a:lnTo>
                        <a:pt x="190" y="767"/>
                      </a:lnTo>
                      <a:lnTo>
                        <a:pt x="195" y="801"/>
                      </a:lnTo>
                      <a:lnTo>
                        <a:pt x="192" y="828"/>
                      </a:lnTo>
                      <a:lnTo>
                        <a:pt x="178" y="853"/>
                      </a:lnTo>
                      <a:lnTo>
                        <a:pt x="152" y="874"/>
                      </a:lnTo>
                      <a:lnTo>
                        <a:pt x="172" y="896"/>
                      </a:lnTo>
                      <a:lnTo>
                        <a:pt x="215" y="885"/>
                      </a:lnTo>
                      <a:lnTo>
                        <a:pt x="242" y="857"/>
                      </a:lnTo>
                      <a:lnTo>
                        <a:pt x="252" y="833"/>
                      </a:lnTo>
                      <a:lnTo>
                        <a:pt x="248" y="811"/>
                      </a:lnTo>
                      <a:lnTo>
                        <a:pt x="255" y="779"/>
                      </a:lnTo>
                      <a:lnTo>
                        <a:pt x="258" y="759"/>
                      </a:lnTo>
                      <a:lnTo>
                        <a:pt x="261" y="745"/>
                      </a:lnTo>
                      <a:lnTo>
                        <a:pt x="265" y="742"/>
                      </a:lnTo>
                      <a:lnTo>
                        <a:pt x="265" y="801"/>
                      </a:lnTo>
                      <a:lnTo>
                        <a:pt x="278" y="833"/>
                      </a:lnTo>
                      <a:lnTo>
                        <a:pt x="308" y="836"/>
                      </a:lnTo>
                      <a:lnTo>
                        <a:pt x="316" y="790"/>
                      </a:lnTo>
                      <a:lnTo>
                        <a:pt x="314" y="761"/>
                      </a:lnTo>
                      <a:lnTo>
                        <a:pt x="301" y="739"/>
                      </a:lnTo>
                      <a:lnTo>
                        <a:pt x="304" y="716"/>
                      </a:lnTo>
                      <a:lnTo>
                        <a:pt x="320" y="695"/>
                      </a:lnTo>
                      <a:lnTo>
                        <a:pt x="336" y="673"/>
                      </a:lnTo>
                      <a:lnTo>
                        <a:pt x="342" y="640"/>
                      </a:lnTo>
                      <a:lnTo>
                        <a:pt x="350" y="595"/>
                      </a:lnTo>
                      <a:lnTo>
                        <a:pt x="367" y="568"/>
                      </a:lnTo>
                      <a:lnTo>
                        <a:pt x="372" y="528"/>
                      </a:lnTo>
                      <a:lnTo>
                        <a:pt x="370" y="508"/>
                      </a:lnTo>
                      <a:lnTo>
                        <a:pt x="386" y="489"/>
                      </a:lnTo>
                      <a:lnTo>
                        <a:pt x="390" y="468"/>
                      </a:lnTo>
                      <a:lnTo>
                        <a:pt x="390" y="436"/>
                      </a:lnTo>
                      <a:lnTo>
                        <a:pt x="389" y="407"/>
                      </a:lnTo>
                      <a:lnTo>
                        <a:pt x="372" y="392"/>
                      </a:lnTo>
                      <a:lnTo>
                        <a:pt x="367" y="374"/>
                      </a:lnTo>
                      <a:lnTo>
                        <a:pt x="389" y="358"/>
                      </a:lnTo>
                      <a:lnTo>
                        <a:pt x="410" y="340"/>
                      </a:lnTo>
                      <a:lnTo>
                        <a:pt x="444" y="340"/>
                      </a:lnTo>
                      <a:lnTo>
                        <a:pt x="476" y="305"/>
                      </a:lnTo>
                      <a:lnTo>
                        <a:pt x="482" y="268"/>
                      </a:lnTo>
                      <a:lnTo>
                        <a:pt x="467" y="240"/>
                      </a:lnTo>
                      <a:lnTo>
                        <a:pt x="444" y="216"/>
                      </a:lnTo>
                      <a:lnTo>
                        <a:pt x="416" y="179"/>
                      </a:lnTo>
                      <a:lnTo>
                        <a:pt x="364" y="137"/>
                      </a:lnTo>
                      <a:lnTo>
                        <a:pt x="331" y="119"/>
                      </a:lnTo>
                      <a:lnTo>
                        <a:pt x="299" y="116"/>
                      </a:lnTo>
                      <a:lnTo>
                        <a:pt x="290" y="116"/>
                      </a:lnTo>
                      <a:lnTo>
                        <a:pt x="296" y="84"/>
                      </a:lnTo>
                      <a:lnTo>
                        <a:pt x="294" y="53"/>
                      </a:lnTo>
                      <a:lnTo>
                        <a:pt x="287" y="26"/>
                      </a:lnTo>
                      <a:lnTo>
                        <a:pt x="270" y="4"/>
                      </a:lnTo>
                      <a:lnTo>
                        <a:pt x="255" y="0"/>
                      </a:lnTo>
                      <a:lnTo>
                        <a:pt x="227" y="0"/>
                      </a:lnTo>
                      <a:lnTo>
                        <a:pt x="206" y="4"/>
                      </a:lnTo>
                      <a:lnTo>
                        <a:pt x="189" y="22"/>
                      </a:lnTo>
                      <a:lnTo>
                        <a:pt x="183" y="41"/>
                      </a:lnTo>
                      <a:lnTo>
                        <a:pt x="180" y="68"/>
                      </a:lnTo>
                      <a:lnTo>
                        <a:pt x="173" y="84"/>
                      </a:lnTo>
                      <a:lnTo>
                        <a:pt x="187" y="90"/>
                      </a:lnTo>
                      <a:lnTo>
                        <a:pt x="206" y="125"/>
                      </a:lnTo>
                      <a:lnTo>
                        <a:pt x="203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487600" y="4335480"/>
                  <a:ext cx="178200" cy="325800"/>
                </a:xfrm>
                <a:custGeom>
                  <a:avLst/>
                  <a:gdLst/>
                  <a:ahLst/>
                  <a:rect l="0" t="0" r="r" b="b"/>
                  <a:pathLst>
                    <a:path w="495" h="905">
                      <a:moveTo>
                        <a:pt x="208" y="133"/>
                      </a:moveTo>
                      <a:lnTo>
                        <a:pt x="185" y="142"/>
                      </a:lnTo>
                      <a:lnTo>
                        <a:pt x="161" y="164"/>
                      </a:lnTo>
                      <a:lnTo>
                        <a:pt x="126" y="185"/>
                      </a:lnTo>
                      <a:lnTo>
                        <a:pt x="111" y="240"/>
                      </a:lnTo>
                      <a:lnTo>
                        <a:pt x="91" y="309"/>
                      </a:lnTo>
                      <a:lnTo>
                        <a:pt x="84" y="338"/>
                      </a:lnTo>
                      <a:lnTo>
                        <a:pt x="91" y="372"/>
                      </a:lnTo>
                      <a:lnTo>
                        <a:pt x="78" y="372"/>
                      </a:lnTo>
                      <a:lnTo>
                        <a:pt x="88" y="400"/>
                      </a:lnTo>
                      <a:lnTo>
                        <a:pt x="0" y="445"/>
                      </a:lnTo>
                      <a:lnTo>
                        <a:pt x="12" y="473"/>
                      </a:lnTo>
                      <a:lnTo>
                        <a:pt x="106" y="431"/>
                      </a:lnTo>
                      <a:lnTo>
                        <a:pt x="116" y="439"/>
                      </a:lnTo>
                      <a:lnTo>
                        <a:pt x="136" y="497"/>
                      </a:lnTo>
                      <a:lnTo>
                        <a:pt x="164" y="516"/>
                      </a:lnTo>
                      <a:lnTo>
                        <a:pt x="153" y="539"/>
                      </a:lnTo>
                      <a:lnTo>
                        <a:pt x="153" y="567"/>
                      </a:lnTo>
                      <a:lnTo>
                        <a:pt x="178" y="607"/>
                      </a:lnTo>
                      <a:lnTo>
                        <a:pt x="178" y="632"/>
                      </a:lnTo>
                      <a:lnTo>
                        <a:pt x="167" y="684"/>
                      </a:lnTo>
                      <a:lnTo>
                        <a:pt x="167" y="726"/>
                      </a:lnTo>
                      <a:lnTo>
                        <a:pt x="178" y="751"/>
                      </a:lnTo>
                      <a:lnTo>
                        <a:pt x="196" y="775"/>
                      </a:lnTo>
                      <a:lnTo>
                        <a:pt x="200" y="810"/>
                      </a:lnTo>
                      <a:lnTo>
                        <a:pt x="197" y="837"/>
                      </a:lnTo>
                      <a:lnTo>
                        <a:pt x="183" y="862"/>
                      </a:lnTo>
                      <a:lnTo>
                        <a:pt x="156" y="884"/>
                      </a:lnTo>
                      <a:lnTo>
                        <a:pt x="177" y="905"/>
                      </a:lnTo>
                      <a:lnTo>
                        <a:pt x="221" y="895"/>
                      </a:lnTo>
                      <a:lnTo>
                        <a:pt x="249" y="867"/>
                      </a:lnTo>
                      <a:lnTo>
                        <a:pt x="258" y="842"/>
                      </a:lnTo>
                      <a:lnTo>
                        <a:pt x="255" y="820"/>
                      </a:lnTo>
                      <a:lnTo>
                        <a:pt x="262" y="788"/>
                      </a:lnTo>
                      <a:lnTo>
                        <a:pt x="265" y="768"/>
                      </a:lnTo>
                      <a:lnTo>
                        <a:pt x="268" y="754"/>
                      </a:lnTo>
                      <a:lnTo>
                        <a:pt x="273" y="751"/>
                      </a:lnTo>
                      <a:lnTo>
                        <a:pt x="273" y="810"/>
                      </a:lnTo>
                      <a:lnTo>
                        <a:pt x="285" y="842"/>
                      </a:lnTo>
                      <a:lnTo>
                        <a:pt x="317" y="845"/>
                      </a:lnTo>
                      <a:lnTo>
                        <a:pt x="325" y="799"/>
                      </a:lnTo>
                      <a:lnTo>
                        <a:pt x="323" y="769"/>
                      </a:lnTo>
                      <a:lnTo>
                        <a:pt x="309" y="748"/>
                      </a:lnTo>
                      <a:lnTo>
                        <a:pt x="312" y="724"/>
                      </a:lnTo>
                      <a:lnTo>
                        <a:pt x="329" y="703"/>
                      </a:lnTo>
                      <a:lnTo>
                        <a:pt x="345" y="681"/>
                      </a:lnTo>
                      <a:lnTo>
                        <a:pt x="351" y="646"/>
                      </a:lnTo>
                      <a:lnTo>
                        <a:pt x="359" y="601"/>
                      </a:lnTo>
                      <a:lnTo>
                        <a:pt x="377" y="573"/>
                      </a:lnTo>
                      <a:lnTo>
                        <a:pt x="382" y="533"/>
                      </a:lnTo>
                      <a:lnTo>
                        <a:pt x="381" y="513"/>
                      </a:lnTo>
                      <a:lnTo>
                        <a:pt x="396" y="494"/>
                      </a:lnTo>
                      <a:lnTo>
                        <a:pt x="401" y="473"/>
                      </a:lnTo>
                      <a:lnTo>
                        <a:pt x="401" y="442"/>
                      </a:lnTo>
                      <a:lnTo>
                        <a:pt x="399" y="412"/>
                      </a:lnTo>
                      <a:lnTo>
                        <a:pt x="382" y="397"/>
                      </a:lnTo>
                      <a:lnTo>
                        <a:pt x="377" y="378"/>
                      </a:lnTo>
                      <a:lnTo>
                        <a:pt x="399" y="363"/>
                      </a:lnTo>
                      <a:lnTo>
                        <a:pt x="421" y="344"/>
                      </a:lnTo>
                      <a:lnTo>
                        <a:pt x="456" y="344"/>
                      </a:lnTo>
                      <a:lnTo>
                        <a:pt x="489" y="309"/>
                      </a:lnTo>
                      <a:lnTo>
                        <a:pt x="495" y="271"/>
                      </a:lnTo>
                      <a:lnTo>
                        <a:pt x="480" y="244"/>
                      </a:lnTo>
                      <a:lnTo>
                        <a:pt x="456" y="218"/>
                      </a:lnTo>
                      <a:lnTo>
                        <a:pt x="428" y="181"/>
                      </a:lnTo>
                      <a:lnTo>
                        <a:pt x="374" y="139"/>
                      </a:lnTo>
                      <a:lnTo>
                        <a:pt x="340" y="120"/>
                      </a:lnTo>
                      <a:lnTo>
                        <a:pt x="307" y="117"/>
                      </a:lnTo>
                      <a:lnTo>
                        <a:pt x="298" y="117"/>
                      </a:lnTo>
                      <a:lnTo>
                        <a:pt x="304" y="85"/>
                      </a:lnTo>
                      <a:lnTo>
                        <a:pt x="302" y="54"/>
                      </a:lnTo>
                      <a:lnTo>
                        <a:pt x="295" y="26"/>
                      </a:lnTo>
                      <a:lnTo>
                        <a:pt x="277" y="4"/>
                      </a:lnTo>
                      <a:lnTo>
                        <a:pt x="262" y="0"/>
                      </a:lnTo>
                      <a:lnTo>
                        <a:pt x="233" y="0"/>
                      </a:lnTo>
                      <a:lnTo>
                        <a:pt x="211" y="4"/>
                      </a:lnTo>
                      <a:lnTo>
                        <a:pt x="194" y="23"/>
                      </a:lnTo>
                      <a:lnTo>
                        <a:pt x="188" y="41"/>
                      </a:lnTo>
                      <a:lnTo>
                        <a:pt x="185" y="69"/>
                      </a:lnTo>
                      <a:lnTo>
                        <a:pt x="178" y="85"/>
                      </a:lnTo>
                      <a:lnTo>
                        <a:pt x="192" y="91"/>
                      </a:lnTo>
                      <a:lnTo>
                        <a:pt x="211" y="126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674800" y="4346640"/>
                  <a:ext cx="176400" cy="327240"/>
                </a:xfrm>
                <a:custGeom>
                  <a:avLst/>
                  <a:gdLst/>
                  <a:ahLst/>
                  <a:rect l="0" t="0" r="r" b="b"/>
                  <a:pathLst>
                    <a:path w="490" h="909">
                      <a:moveTo>
                        <a:pt x="205" y="133"/>
                      </a:moveTo>
                      <a:lnTo>
                        <a:pt x="182" y="143"/>
                      </a:lnTo>
                      <a:lnTo>
                        <a:pt x="159" y="164"/>
                      </a:lnTo>
                      <a:lnTo>
                        <a:pt x="124" y="186"/>
                      </a:lnTo>
                      <a:lnTo>
                        <a:pt x="110" y="241"/>
                      </a:lnTo>
                      <a:lnTo>
                        <a:pt x="90" y="309"/>
                      </a:lnTo>
                      <a:lnTo>
                        <a:pt x="84" y="339"/>
                      </a:lnTo>
                      <a:lnTo>
                        <a:pt x="90" y="373"/>
                      </a:lnTo>
                      <a:lnTo>
                        <a:pt x="77" y="373"/>
                      </a:lnTo>
                      <a:lnTo>
                        <a:pt x="87" y="401"/>
                      </a:lnTo>
                      <a:lnTo>
                        <a:pt x="0" y="446"/>
                      </a:lnTo>
                      <a:lnTo>
                        <a:pt x="12" y="475"/>
                      </a:lnTo>
                      <a:lnTo>
                        <a:pt x="106" y="432"/>
                      </a:lnTo>
                      <a:lnTo>
                        <a:pt x="115" y="440"/>
                      </a:lnTo>
                      <a:lnTo>
                        <a:pt x="134" y="500"/>
                      </a:lnTo>
                      <a:lnTo>
                        <a:pt x="162" y="518"/>
                      </a:lnTo>
                      <a:lnTo>
                        <a:pt x="151" y="542"/>
                      </a:lnTo>
                      <a:lnTo>
                        <a:pt x="151" y="570"/>
                      </a:lnTo>
                      <a:lnTo>
                        <a:pt x="176" y="610"/>
                      </a:lnTo>
                      <a:lnTo>
                        <a:pt x="176" y="635"/>
                      </a:lnTo>
                      <a:lnTo>
                        <a:pt x="165" y="686"/>
                      </a:lnTo>
                      <a:lnTo>
                        <a:pt x="165" y="728"/>
                      </a:lnTo>
                      <a:lnTo>
                        <a:pt x="176" y="753"/>
                      </a:lnTo>
                      <a:lnTo>
                        <a:pt x="193" y="778"/>
                      </a:lnTo>
                      <a:lnTo>
                        <a:pt x="197" y="812"/>
                      </a:lnTo>
                      <a:lnTo>
                        <a:pt x="194" y="840"/>
                      </a:lnTo>
                      <a:lnTo>
                        <a:pt x="180" y="865"/>
                      </a:lnTo>
                      <a:lnTo>
                        <a:pt x="154" y="887"/>
                      </a:lnTo>
                      <a:lnTo>
                        <a:pt x="174" y="909"/>
                      </a:lnTo>
                      <a:lnTo>
                        <a:pt x="218" y="898"/>
                      </a:lnTo>
                      <a:lnTo>
                        <a:pt x="247" y="870"/>
                      </a:lnTo>
                      <a:lnTo>
                        <a:pt x="256" y="845"/>
                      </a:lnTo>
                      <a:lnTo>
                        <a:pt x="253" y="823"/>
                      </a:lnTo>
                      <a:lnTo>
                        <a:pt x="259" y="791"/>
                      </a:lnTo>
                      <a:lnTo>
                        <a:pt x="262" y="770"/>
                      </a:lnTo>
                      <a:lnTo>
                        <a:pt x="266" y="756"/>
                      </a:lnTo>
                      <a:lnTo>
                        <a:pt x="270" y="753"/>
                      </a:lnTo>
                      <a:lnTo>
                        <a:pt x="270" y="812"/>
                      </a:lnTo>
                      <a:lnTo>
                        <a:pt x="283" y="845"/>
                      </a:lnTo>
                      <a:lnTo>
                        <a:pt x="314" y="848"/>
                      </a:lnTo>
                      <a:lnTo>
                        <a:pt x="322" y="802"/>
                      </a:lnTo>
                      <a:lnTo>
                        <a:pt x="320" y="772"/>
                      </a:lnTo>
                      <a:lnTo>
                        <a:pt x="306" y="750"/>
                      </a:lnTo>
                      <a:lnTo>
                        <a:pt x="309" y="727"/>
                      </a:lnTo>
                      <a:lnTo>
                        <a:pt x="326" y="705"/>
                      </a:lnTo>
                      <a:lnTo>
                        <a:pt x="342" y="683"/>
                      </a:lnTo>
                      <a:lnTo>
                        <a:pt x="348" y="649"/>
                      </a:lnTo>
                      <a:lnTo>
                        <a:pt x="356" y="604"/>
                      </a:lnTo>
                      <a:lnTo>
                        <a:pt x="373" y="576"/>
                      </a:lnTo>
                      <a:lnTo>
                        <a:pt x="378" y="536"/>
                      </a:lnTo>
                      <a:lnTo>
                        <a:pt x="376" y="515"/>
                      </a:lnTo>
                      <a:lnTo>
                        <a:pt x="392" y="497"/>
                      </a:lnTo>
                      <a:lnTo>
                        <a:pt x="396" y="475"/>
                      </a:lnTo>
                      <a:lnTo>
                        <a:pt x="396" y="443"/>
                      </a:lnTo>
                      <a:lnTo>
                        <a:pt x="395" y="413"/>
                      </a:lnTo>
                      <a:lnTo>
                        <a:pt x="378" y="398"/>
                      </a:lnTo>
                      <a:lnTo>
                        <a:pt x="373" y="379"/>
                      </a:lnTo>
                      <a:lnTo>
                        <a:pt x="395" y="363"/>
                      </a:lnTo>
                      <a:lnTo>
                        <a:pt x="417" y="345"/>
                      </a:lnTo>
                      <a:lnTo>
                        <a:pt x="451" y="345"/>
                      </a:lnTo>
                      <a:lnTo>
                        <a:pt x="484" y="309"/>
                      </a:lnTo>
                      <a:lnTo>
                        <a:pt x="490" y="272"/>
                      </a:lnTo>
                      <a:lnTo>
                        <a:pt x="474" y="244"/>
                      </a:lnTo>
                      <a:lnTo>
                        <a:pt x="451" y="219"/>
                      </a:lnTo>
                      <a:lnTo>
                        <a:pt x="423" y="181"/>
                      </a:lnTo>
                      <a:lnTo>
                        <a:pt x="370" y="139"/>
                      </a:lnTo>
                      <a:lnTo>
                        <a:pt x="337" y="121"/>
                      </a:lnTo>
                      <a:lnTo>
                        <a:pt x="304" y="118"/>
                      </a:lnTo>
                      <a:lnTo>
                        <a:pt x="295" y="118"/>
                      </a:lnTo>
                      <a:lnTo>
                        <a:pt x="301" y="85"/>
                      </a:lnTo>
                      <a:lnTo>
                        <a:pt x="300" y="54"/>
                      </a:lnTo>
                      <a:lnTo>
                        <a:pt x="292" y="26"/>
                      </a:lnTo>
                      <a:lnTo>
                        <a:pt x="275" y="4"/>
                      </a:lnTo>
                      <a:lnTo>
                        <a:pt x="259" y="0"/>
                      </a:lnTo>
                      <a:lnTo>
                        <a:pt x="230" y="0"/>
                      </a:lnTo>
                      <a:lnTo>
                        <a:pt x="208" y="4"/>
                      </a:lnTo>
                      <a:lnTo>
                        <a:pt x="191" y="23"/>
                      </a:lnTo>
                      <a:lnTo>
                        <a:pt x="185" y="41"/>
                      </a:lnTo>
                      <a:lnTo>
                        <a:pt x="182" y="69"/>
                      </a:lnTo>
                      <a:lnTo>
                        <a:pt x="176" y="85"/>
                      </a:lnTo>
                      <a:lnTo>
                        <a:pt x="190" y="91"/>
                      </a:lnTo>
                      <a:lnTo>
                        <a:pt x="208" y="127"/>
                      </a:lnTo>
                      <a:lnTo>
                        <a:pt x="205" y="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065320" y="3855960"/>
                <a:ext cx="5731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773520"/>
                <a:ext cx="981000" cy="227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517680" y="4270320"/>
              <a:ext cx="389268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187200" y="1558800"/>
              <a:ext cx="4467240" cy="197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542880" y="1306440"/>
            <a:ext cx="7296120" cy="5226120"/>
            <a:chOff x="542880" y="1306440"/>
            <a:chExt cx="7296120" cy="5226120"/>
          </a:xfrm>
        </p:grpSpPr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1325520" y="1306440"/>
              <a:ext cx="6469200" cy="51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 txBox="1"/>
            <p:nvPr/>
          </p:nvSpPr>
          <p:spPr>
            <a:xfrm>
              <a:off x="1325520" y="1319040"/>
              <a:ext cx="8510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5122800" y="1709640"/>
              <a:ext cx="271620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ad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C/M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mbers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COM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RP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AWAR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RO / OSO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A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FC4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bs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MC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E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ers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JT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1325520" y="6135840"/>
              <a:ext cx="1414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4556160" y="1319040"/>
              <a:ext cx="3282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FORMATION 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5165640" y="6135840"/>
              <a:ext cx="2673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ERNAL INTERFA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3732120" y="2813040"/>
              <a:ext cx="16527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5207040" y="4921200"/>
              <a:ext cx="26319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ad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MC/M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mbers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RP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COM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AWAR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bs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1325520" y="4738680"/>
              <a:ext cx="29275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ad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M MILSAT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mbers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C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AWAR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MC/MC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A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bs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JT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1325520" y="1709640"/>
              <a:ext cx="314496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ad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vy/UFO/G - Phase 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MC/MC - Objective Phase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mbers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C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AWAR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A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SPACE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MC/M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3078000" y="3436920"/>
              <a:ext cx="2631960" cy="17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d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C/M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mbers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C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C4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P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AWA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RO / OS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SA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60400"/>
                  <a:tab algn="l" pos="1770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542880" y="1317600"/>
              <a:ext cx="974880" cy="521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JPO Functiona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757840" y="3771720"/>
            <a:ext cx="239544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erminal planning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Procurement of broadcast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r-service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82680" y="4060800"/>
            <a:ext cx="259704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Architecture Development/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Requirements/CONOP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Spec’s IC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End-end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056040" y="4060800"/>
            <a:ext cx="1843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fo Broadcast Mgt 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rface into DI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29000" y="1295280"/>
            <a:ext cx="2209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352680" y="1371600"/>
            <a:ext cx="236232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or - SMC/M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G Kwiatkow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0880" y="304812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1972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433680" y="1905120"/>
            <a:ext cx="2281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R Ayotte (ac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625760" y="2819520"/>
            <a:ext cx="5689800" cy="228960"/>
          </a:xfrm>
          <a:custGeom>
            <a:avLst/>
            <a:gdLst/>
            <a:ahLst/>
            <a:rect l="0" t="0" r="r" b="b"/>
            <a:pathLst>
              <a:path fill="none" w="15805" h="636">
                <a:moveTo>
                  <a:pt x="33" y="601"/>
                </a:moveTo>
                <a:lnTo>
                  <a:pt x="0" y="540"/>
                </a:lnTo>
                <a:lnTo>
                  <a:pt x="0" y="0"/>
                </a:lnTo>
                <a:lnTo>
                  <a:pt x="15771" y="0"/>
                </a:lnTo>
                <a:lnTo>
                  <a:pt x="15771" y="636"/>
                </a:lnTo>
                <a:lnTo>
                  <a:pt x="15805" y="61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84200" y="3200400"/>
            <a:ext cx="241128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s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C Howard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6680160" y="3200400"/>
            <a:ext cx="1320840" cy="11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l Proc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C Ludwig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3179880" y="3124080"/>
            <a:ext cx="2479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adcas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 Col Troxel (US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429000" y="1981080"/>
            <a:ext cx="220968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162240" y="304812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791320" y="3048120"/>
            <a:ext cx="312408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419720" y="1828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714680" y="5018040"/>
            <a:ext cx="316224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128680" y="5010120"/>
            <a:ext cx="2479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shington Integration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T Lee (US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048120" y="2819520"/>
            <a:ext cx="2880" cy="219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and Acquisition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TC Ho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- Why A GBS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lf Wa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“Electronic / Information W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 Information Transport Capacity Swa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ch Info Never Shipped To Theater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le Map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irlif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rom CONUS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Info Arriving In Theater Not Disseminated To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cked Flexible Dissemin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-Level Security Issues Never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ical Theater Info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905040" y="1851120"/>
            <a:ext cx="7381800" cy="39956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047000" y="1863720"/>
            <a:ext cx="1231920" cy="39751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233440" y="2028960"/>
            <a:ext cx="99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3430440" y="1922400"/>
            <a:ext cx="1014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M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 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703760" y="1922400"/>
            <a:ext cx="870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2 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5856120" y="1922400"/>
            <a:ext cx="1033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4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227720" y="1922400"/>
            <a:ext cx="841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1035000" y="2627280"/>
            <a:ext cx="984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1035000" y="3336840"/>
            <a:ext cx="9842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ha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1057320" y="4065480"/>
            <a:ext cx="9399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1012680" y="5165640"/>
            <a:ext cx="1028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TPF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124000" y="1851120"/>
            <a:ext cx="0" cy="39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292560" y="1851120"/>
            <a:ext cx="0" cy="39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513320" y="1851120"/>
            <a:ext cx="0" cy="39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48480" y="1851120"/>
            <a:ext cx="0" cy="39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037280" y="1851120"/>
            <a:ext cx="0" cy="399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905040" y="2494080"/>
            <a:ext cx="7381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05040" y="3271680"/>
            <a:ext cx="7381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05040" y="4100400"/>
            <a:ext cx="7381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905040" y="4998960"/>
            <a:ext cx="7381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2352600" y="271764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2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2333520" y="3533760"/>
            <a:ext cx="79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2352600" y="43689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2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2290680" y="5256360"/>
            <a:ext cx="884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65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484440" y="271764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1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513240" y="3533760"/>
            <a:ext cx="849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9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560760" y="4368960"/>
            <a:ext cx="754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557520" y="52563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92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664160" y="2717640"/>
            <a:ext cx="950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19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765680" y="353376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47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686120" y="43689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5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4759200" y="52563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9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5999040" y="271764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5999040" y="353376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6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5919840" y="43689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7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5869080" y="5256360"/>
            <a:ext cx="1008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59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7273800" y="271764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38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7273800" y="353376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7273800" y="436896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4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7183440" y="5256360"/>
            <a:ext cx="928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5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JPO Mis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304920" y="373392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ar term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 as an Integrated Product Team (I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 GBS Testbed &amp; Demo CON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lete Program Review scheduled for July 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e Planning for the Interim GBS (GBS on U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282600" y="1800360"/>
            <a:ext cx="844056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warfighters with a worldwide, seam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roughput broadcast information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pport today's and tomorrow's missio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chnic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669960" y="169848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high data rate (in excess of 20MBPS per transponder) connectivity from CONUS  to theater (or within and between theaters) to a distributed set of users through small aperture antennae and highly mobile terminal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GBS system is comprised of three basic elements - an information management segment, a broadcast segment, and user receive terminal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USD-Space Report on the DoD Global Broadcast Service Program in response to the Department of Defense Appropriations Conference Report  Jan,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039000" y="5343480"/>
            <a:ext cx="1371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1828800" y="1752480"/>
            <a:ext cx="1219320" cy="2209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V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1828800" y="4038480"/>
            <a:ext cx="121932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A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F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410080" y="2057400"/>
            <a:ext cx="1600200" cy="373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048120" y="2057400"/>
            <a:ext cx="1524240" cy="1448280"/>
          </a:xfrm>
          <a:custGeom>
            <a:avLst/>
            <a:gdLst/>
            <a:ahLst/>
            <a:rect l="0" t="0" r="r" b="b"/>
            <a:pathLst>
              <a:path fill="none" w="4234" h="4023">
                <a:moveTo>
                  <a:pt x="0" y="0"/>
                </a:moveTo>
                <a:lnTo>
                  <a:pt x="0" y="4023"/>
                </a:lnTo>
                <a:lnTo>
                  <a:pt x="2964" y="4023"/>
                </a:lnTo>
                <a:lnTo>
                  <a:pt x="4234" y="2011"/>
                </a:lnTo>
                <a:lnTo>
                  <a:pt x="2964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581280" y="2057400"/>
            <a:ext cx="13255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4343400"/>
            <a:ext cx="1524240" cy="1448280"/>
          </a:xfrm>
          <a:custGeom>
            <a:avLst/>
            <a:gdLst/>
            <a:ahLst/>
            <a:rect l="0" t="0" r="r" b="b"/>
            <a:pathLst>
              <a:path fill="none" w="4234" h="4023">
                <a:moveTo>
                  <a:pt x="0" y="0"/>
                </a:moveTo>
                <a:lnTo>
                  <a:pt x="0" y="4023"/>
                </a:lnTo>
                <a:lnTo>
                  <a:pt x="2964" y="4023"/>
                </a:lnTo>
                <a:lnTo>
                  <a:pt x="4234" y="2011"/>
                </a:lnTo>
                <a:lnTo>
                  <a:pt x="2964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81280" y="4343400"/>
            <a:ext cx="13255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6381720" y="1628640"/>
            <a:ext cx="1049400" cy="352440"/>
          </a:xfrm>
          <a:prstGeom prst="rect">
            <a:avLst/>
          </a:prstGeom>
          <a:ln w="0">
            <a:noFill/>
          </a:ln>
        </p:spPr>
      </p:pic>
      <p:grpSp>
        <p:nvGrpSpPr>
          <p:cNvPr id="994" name=""/>
          <p:cNvGrpSpPr/>
          <p:nvPr/>
        </p:nvGrpSpPr>
        <p:grpSpPr>
          <a:xfrm>
            <a:off x="7480440" y="2757600"/>
            <a:ext cx="1143360" cy="515880"/>
            <a:chOff x="7480440" y="2757600"/>
            <a:chExt cx="1143360" cy="515880"/>
          </a:xfrm>
        </p:grpSpPr>
        <p:grpSp>
          <p:nvGrpSpPr>
            <p:cNvPr id="995" name=""/>
            <p:cNvGrpSpPr/>
            <p:nvPr/>
          </p:nvGrpSpPr>
          <p:grpSpPr>
            <a:xfrm>
              <a:off x="7491240" y="2766960"/>
              <a:ext cx="1132560" cy="505080"/>
              <a:chOff x="7491240" y="2766960"/>
              <a:chExt cx="1132560" cy="505080"/>
            </a:xfrm>
          </p:grpSpPr>
          <p:sp>
            <p:nvSpPr>
              <p:cNvPr id="996" name=""/>
              <p:cNvSpPr/>
              <p:nvPr/>
            </p:nvSpPr>
            <p:spPr>
              <a:xfrm>
                <a:off x="7647120" y="3164040"/>
                <a:ext cx="722520" cy="90720"/>
              </a:xfrm>
              <a:custGeom>
                <a:avLst/>
                <a:gdLst/>
                <a:ahLst/>
                <a:rect l="0" t="0" r="r" b="b"/>
                <a:pathLst>
                  <a:path fill="none" w="2007" h="252">
                    <a:moveTo>
                      <a:pt x="0" y="71"/>
                    </a:moveTo>
                    <a:lnTo>
                      <a:pt x="61" y="37"/>
                    </a:lnTo>
                    <a:lnTo>
                      <a:pt x="85" y="33"/>
                    </a:lnTo>
                    <a:lnTo>
                      <a:pt x="123" y="23"/>
                    </a:lnTo>
                    <a:lnTo>
                      <a:pt x="194" y="33"/>
                    </a:lnTo>
                    <a:lnTo>
                      <a:pt x="247" y="42"/>
                    </a:lnTo>
                    <a:lnTo>
                      <a:pt x="318" y="52"/>
                    </a:lnTo>
                    <a:lnTo>
                      <a:pt x="1508" y="0"/>
                    </a:lnTo>
                    <a:lnTo>
                      <a:pt x="1841" y="171"/>
                    </a:lnTo>
                    <a:lnTo>
                      <a:pt x="1898" y="113"/>
                    </a:lnTo>
                    <a:lnTo>
                      <a:pt x="1955" y="75"/>
                    </a:lnTo>
                    <a:lnTo>
                      <a:pt x="1988" y="66"/>
                    </a:lnTo>
                    <a:lnTo>
                      <a:pt x="2007" y="80"/>
                    </a:lnTo>
                    <a:lnTo>
                      <a:pt x="2002" y="118"/>
                    </a:lnTo>
                    <a:lnTo>
                      <a:pt x="2007" y="133"/>
                    </a:lnTo>
                    <a:lnTo>
                      <a:pt x="1988" y="195"/>
                    </a:lnTo>
                    <a:lnTo>
                      <a:pt x="1902" y="200"/>
                    </a:lnTo>
                    <a:lnTo>
                      <a:pt x="1874" y="242"/>
                    </a:lnTo>
                    <a:lnTo>
                      <a:pt x="1612" y="242"/>
                    </a:lnTo>
                    <a:lnTo>
                      <a:pt x="1408" y="252"/>
                    </a:lnTo>
                    <a:lnTo>
                      <a:pt x="1318" y="214"/>
                    </a:lnTo>
                    <a:lnTo>
                      <a:pt x="1232" y="252"/>
                    </a:lnTo>
                    <a:lnTo>
                      <a:pt x="1146" y="247"/>
                    </a:lnTo>
                    <a:lnTo>
                      <a:pt x="1080" y="200"/>
                    </a:lnTo>
                    <a:lnTo>
                      <a:pt x="1008" y="181"/>
                    </a:lnTo>
                    <a:lnTo>
                      <a:pt x="931" y="200"/>
                    </a:lnTo>
                    <a:lnTo>
                      <a:pt x="736" y="157"/>
                    </a:lnTo>
                    <a:lnTo>
                      <a:pt x="580" y="176"/>
                    </a:lnTo>
                    <a:lnTo>
                      <a:pt x="489" y="138"/>
                    </a:lnTo>
                    <a:lnTo>
                      <a:pt x="465" y="113"/>
                    </a:lnTo>
                    <a:lnTo>
                      <a:pt x="389" y="118"/>
                    </a:lnTo>
                    <a:lnTo>
                      <a:pt x="328" y="113"/>
                    </a:lnTo>
                    <a:lnTo>
                      <a:pt x="228" y="94"/>
                    </a:lnTo>
                    <a:lnTo>
                      <a:pt x="123" y="85"/>
                    </a:lnTo>
                    <a:lnTo>
                      <a:pt x="66" y="90"/>
                    </a:lnTo>
                    <a:lnTo>
                      <a:pt x="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70800" y="3178080"/>
                <a:ext cx="248040" cy="28800"/>
              </a:xfrm>
              <a:custGeom>
                <a:avLst/>
                <a:gdLst/>
                <a:ahLst/>
                <a:rect l="0" t="0" r="r" b="b"/>
                <a:pathLst>
                  <a:path fill="none" w="689" h="80">
                    <a:moveTo>
                      <a:pt x="0" y="14"/>
                    </a:moveTo>
                    <a:lnTo>
                      <a:pt x="99" y="14"/>
                    </a:lnTo>
                    <a:lnTo>
                      <a:pt x="132" y="4"/>
                    </a:lnTo>
                    <a:lnTo>
                      <a:pt x="166" y="18"/>
                    </a:lnTo>
                    <a:lnTo>
                      <a:pt x="219" y="18"/>
                    </a:lnTo>
                    <a:lnTo>
                      <a:pt x="247" y="14"/>
                    </a:lnTo>
                    <a:lnTo>
                      <a:pt x="290" y="0"/>
                    </a:lnTo>
                    <a:lnTo>
                      <a:pt x="285" y="18"/>
                    </a:lnTo>
                    <a:lnTo>
                      <a:pt x="333" y="14"/>
                    </a:lnTo>
                    <a:lnTo>
                      <a:pt x="371" y="28"/>
                    </a:lnTo>
                    <a:lnTo>
                      <a:pt x="437" y="32"/>
                    </a:lnTo>
                    <a:lnTo>
                      <a:pt x="489" y="43"/>
                    </a:lnTo>
                    <a:lnTo>
                      <a:pt x="538" y="43"/>
                    </a:lnTo>
                    <a:lnTo>
                      <a:pt x="585" y="52"/>
                    </a:lnTo>
                    <a:lnTo>
                      <a:pt x="651" y="47"/>
                    </a:lnTo>
                    <a:lnTo>
                      <a:pt x="689" y="71"/>
                    </a:lnTo>
                    <a:lnTo>
                      <a:pt x="599" y="75"/>
                    </a:lnTo>
                    <a:lnTo>
                      <a:pt x="523" y="80"/>
                    </a:lnTo>
                    <a:lnTo>
                      <a:pt x="446" y="75"/>
                    </a:lnTo>
                    <a:lnTo>
                      <a:pt x="361" y="57"/>
                    </a:lnTo>
                    <a:lnTo>
                      <a:pt x="280" y="57"/>
                    </a:lnTo>
                    <a:lnTo>
                      <a:pt x="233" y="52"/>
                    </a:lnTo>
                    <a:lnTo>
                      <a:pt x="151" y="47"/>
                    </a:lnTo>
                    <a:lnTo>
                      <a:pt x="118" y="43"/>
                    </a:lnTo>
                    <a:lnTo>
                      <a:pt x="61" y="47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799400" y="3205080"/>
                <a:ext cx="271800" cy="39960"/>
              </a:xfrm>
              <a:custGeom>
                <a:avLst/>
                <a:gdLst/>
                <a:ahLst/>
                <a:rect l="0" t="0" r="r" b="b"/>
                <a:pathLst>
                  <a:path fill="none" w="755" h="111">
                    <a:moveTo>
                      <a:pt x="755" y="92"/>
                    </a:moveTo>
                    <a:lnTo>
                      <a:pt x="717" y="58"/>
                    </a:lnTo>
                    <a:lnTo>
                      <a:pt x="688" y="63"/>
                    </a:lnTo>
                    <a:lnTo>
                      <a:pt x="636" y="58"/>
                    </a:lnTo>
                    <a:lnTo>
                      <a:pt x="612" y="33"/>
                    </a:lnTo>
                    <a:lnTo>
                      <a:pt x="589" y="23"/>
                    </a:lnTo>
                    <a:lnTo>
                      <a:pt x="541" y="23"/>
                    </a:lnTo>
                    <a:lnTo>
                      <a:pt x="532" y="43"/>
                    </a:lnTo>
                    <a:lnTo>
                      <a:pt x="541" y="63"/>
                    </a:lnTo>
                    <a:lnTo>
                      <a:pt x="513" y="68"/>
                    </a:lnTo>
                    <a:lnTo>
                      <a:pt x="479" y="63"/>
                    </a:lnTo>
                    <a:lnTo>
                      <a:pt x="461" y="47"/>
                    </a:lnTo>
                    <a:lnTo>
                      <a:pt x="374" y="38"/>
                    </a:lnTo>
                    <a:lnTo>
                      <a:pt x="365" y="43"/>
                    </a:lnTo>
                    <a:lnTo>
                      <a:pt x="322" y="23"/>
                    </a:lnTo>
                    <a:lnTo>
                      <a:pt x="270" y="38"/>
                    </a:lnTo>
                    <a:lnTo>
                      <a:pt x="232" y="43"/>
                    </a:lnTo>
                    <a:lnTo>
                      <a:pt x="184" y="38"/>
                    </a:lnTo>
                    <a:lnTo>
                      <a:pt x="156" y="52"/>
                    </a:lnTo>
                    <a:lnTo>
                      <a:pt x="113" y="23"/>
                    </a:lnTo>
                    <a:lnTo>
                      <a:pt x="75" y="23"/>
                    </a:lnTo>
                    <a:lnTo>
                      <a:pt x="42" y="0"/>
                    </a:lnTo>
                    <a:lnTo>
                      <a:pt x="42" y="19"/>
                    </a:lnTo>
                    <a:lnTo>
                      <a:pt x="0" y="68"/>
                    </a:lnTo>
                    <a:lnTo>
                      <a:pt x="61" y="77"/>
                    </a:lnTo>
                    <a:lnTo>
                      <a:pt x="118" y="63"/>
                    </a:lnTo>
                    <a:lnTo>
                      <a:pt x="156" y="72"/>
                    </a:lnTo>
                    <a:lnTo>
                      <a:pt x="203" y="82"/>
                    </a:lnTo>
                    <a:lnTo>
                      <a:pt x="270" y="68"/>
                    </a:lnTo>
                    <a:lnTo>
                      <a:pt x="327" y="77"/>
                    </a:lnTo>
                    <a:lnTo>
                      <a:pt x="389" y="92"/>
                    </a:lnTo>
                    <a:lnTo>
                      <a:pt x="451" y="92"/>
                    </a:lnTo>
                    <a:lnTo>
                      <a:pt x="494" y="101"/>
                    </a:lnTo>
                    <a:lnTo>
                      <a:pt x="555" y="111"/>
                    </a:lnTo>
                    <a:lnTo>
                      <a:pt x="608" y="92"/>
                    </a:lnTo>
                    <a:lnTo>
                      <a:pt x="693" y="111"/>
                    </a:lnTo>
                    <a:lnTo>
                      <a:pt x="755" y="106"/>
                    </a:lnTo>
                    <a:lnTo>
                      <a:pt x="755" y="9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040600" y="3168720"/>
                <a:ext cx="365400" cy="101880"/>
              </a:xfrm>
              <a:custGeom>
                <a:avLst/>
                <a:gdLst/>
                <a:ahLst/>
                <a:rect l="0" t="0" r="r" b="b"/>
                <a:pathLst>
                  <a:path fill="none" w="1015" h="283">
                    <a:moveTo>
                      <a:pt x="151" y="100"/>
                    </a:moveTo>
                    <a:lnTo>
                      <a:pt x="208" y="95"/>
                    </a:lnTo>
                    <a:lnTo>
                      <a:pt x="255" y="76"/>
                    </a:lnTo>
                    <a:lnTo>
                      <a:pt x="312" y="86"/>
                    </a:lnTo>
                    <a:lnTo>
                      <a:pt x="369" y="66"/>
                    </a:lnTo>
                    <a:lnTo>
                      <a:pt x="417" y="66"/>
                    </a:lnTo>
                    <a:lnTo>
                      <a:pt x="440" y="95"/>
                    </a:lnTo>
                    <a:lnTo>
                      <a:pt x="492" y="100"/>
                    </a:lnTo>
                    <a:lnTo>
                      <a:pt x="560" y="124"/>
                    </a:lnTo>
                    <a:lnTo>
                      <a:pt x="583" y="154"/>
                    </a:lnTo>
                    <a:lnTo>
                      <a:pt x="645" y="173"/>
                    </a:lnTo>
                    <a:lnTo>
                      <a:pt x="655" y="192"/>
                    </a:lnTo>
                    <a:lnTo>
                      <a:pt x="621" y="206"/>
                    </a:lnTo>
                    <a:lnTo>
                      <a:pt x="569" y="177"/>
                    </a:lnTo>
                    <a:lnTo>
                      <a:pt x="536" y="177"/>
                    </a:lnTo>
                    <a:lnTo>
                      <a:pt x="502" y="192"/>
                    </a:lnTo>
                    <a:lnTo>
                      <a:pt x="469" y="192"/>
                    </a:lnTo>
                    <a:lnTo>
                      <a:pt x="436" y="187"/>
                    </a:lnTo>
                    <a:lnTo>
                      <a:pt x="407" y="201"/>
                    </a:lnTo>
                    <a:lnTo>
                      <a:pt x="388" y="221"/>
                    </a:lnTo>
                    <a:lnTo>
                      <a:pt x="350" y="216"/>
                    </a:lnTo>
                    <a:lnTo>
                      <a:pt x="322" y="192"/>
                    </a:lnTo>
                    <a:lnTo>
                      <a:pt x="284" y="187"/>
                    </a:lnTo>
                    <a:lnTo>
                      <a:pt x="265" y="192"/>
                    </a:lnTo>
                    <a:lnTo>
                      <a:pt x="241" y="177"/>
                    </a:lnTo>
                    <a:lnTo>
                      <a:pt x="213" y="163"/>
                    </a:lnTo>
                    <a:lnTo>
                      <a:pt x="161" y="168"/>
                    </a:lnTo>
                    <a:lnTo>
                      <a:pt x="137" y="158"/>
                    </a:lnTo>
                    <a:lnTo>
                      <a:pt x="104" y="177"/>
                    </a:lnTo>
                    <a:lnTo>
                      <a:pt x="90" y="192"/>
                    </a:lnTo>
                    <a:lnTo>
                      <a:pt x="47" y="192"/>
                    </a:lnTo>
                    <a:lnTo>
                      <a:pt x="0" y="230"/>
                    </a:lnTo>
                    <a:lnTo>
                      <a:pt x="80" y="249"/>
                    </a:lnTo>
                    <a:lnTo>
                      <a:pt x="151" y="249"/>
                    </a:lnTo>
                    <a:lnTo>
                      <a:pt x="218" y="221"/>
                    </a:lnTo>
                    <a:lnTo>
                      <a:pt x="279" y="235"/>
                    </a:lnTo>
                    <a:lnTo>
                      <a:pt x="303" y="254"/>
                    </a:lnTo>
                    <a:lnTo>
                      <a:pt x="369" y="268"/>
                    </a:lnTo>
                    <a:lnTo>
                      <a:pt x="440" y="268"/>
                    </a:lnTo>
                    <a:lnTo>
                      <a:pt x="497" y="268"/>
                    </a:lnTo>
                    <a:lnTo>
                      <a:pt x="550" y="268"/>
                    </a:lnTo>
                    <a:lnTo>
                      <a:pt x="617" y="278"/>
                    </a:lnTo>
                    <a:lnTo>
                      <a:pt x="664" y="283"/>
                    </a:lnTo>
                    <a:lnTo>
                      <a:pt x="683" y="254"/>
                    </a:lnTo>
                    <a:lnTo>
                      <a:pt x="754" y="249"/>
                    </a:lnTo>
                    <a:lnTo>
                      <a:pt x="801" y="235"/>
                    </a:lnTo>
                    <a:lnTo>
                      <a:pt x="825" y="240"/>
                    </a:lnTo>
                    <a:lnTo>
                      <a:pt x="849" y="211"/>
                    </a:lnTo>
                    <a:lnTo>
                      <a:pt x="910" y="192"/>
                    </a:lnTo>
                    <a:lnTo>
                      <a:pt x="944" y="216"/>
                    </a:lnTo>
                    <a:lnTo>
                      <a:pt x="963" y="187"/>
                    </a:lnTo>
                    <a:lnTo>
                      <a:pt x="1015" y="177"/>
                    </a:lnTo>
                    <a:lnTo>
                      <a:pt x="991" y="138"/>
                    </a:lnTo>
                    <a:lnTo>
                      <a:pt x="915" y="149"/>
                    </a:lnTo>
                    <a:lnTo>
                      <a:pt x="910" y="110"/>
                    </a:lnTo>
                    <a:lnTo>
                      <a:pt x="863" y="124"/>
                    </a:lnTo>
                    <a:lnTo>
                      <a:pt x="849" y="149"/>
                    </a:lnTo>
                    <a:lnTo>
                      <a:pt x="825" y="149"/>
                    </a:lnTo>
                    <a:lnTo>
                      <a:pt x="811" y="168"/>
                    </a:lnTo>
                    <a:lnTo>
                      <a:pt x="797" y="154"/>
                    </a:lnTo>
                    <a:lnTo>
                      <a:pt x="820" y="119"/>
                    </a:lnTo>
                    <a:lnTo>
                      <a:pt x="816" y="100"/>
                    </a:lnTo>
                    <a:lnTo>
                      <a:pt x="778" y="119"/>
                    </a:lnTo>
                    <a:lnTo>
                      <a:pt x="778" y="211"/>
                    </a:lnTo>
                    <a:lnTo>
                      <a:pt x="740" y="192"/>
                    </a:lnTo>
                    <a:lnTo>
                      <a:pt x="707" y="177"/>
                    </a:lnTo>
                    <a:lnTo>
                      <a:pt x="702" y="138"/>
                    </a:lnTo>
                    <a:lnTo>
                      <a:pt x="669" y="105"/>
                    </a:lnTo>
                    <a:lnTo>
                      <a:pt x="607" y="86"/>
                    </a:lnTo>
                    <a:lnTo>
                      <a:pt x="560" y="52"/>
                    </a:lnTo>
                    <a:lnTo>
                      <a:pt x="483" y="47"/>
                    </a:lnTo>
                    <a:lnTo>
                      <a:pt x="445" y="14"/>
                    </a:lnTo>
                    <a:lnTo>
                      <a:pt x="360" y="0"/>
                    </a:lnTo>
                    <a:lnTo>
                      <a:pt x="180" y="66"/>
                    </a:lnTo>
                    <a:lnTo>
                      <a:pt x="151" y="10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51600" y="2941560"/>
                <a:ext cx="451080" cy="73440"/>
              </a:xfrm>
              <a:custGeom>
                <a:avLst/>
                <a:gdLst/>
                <a:ahLst/>
                <a:rect l="0" t="0" r="r" b="b"/>
                <a:pathLst>
                  <a:path fill="none" w="1253" h="204">
                    <a:moveTo>
                      <a:pt x="0" y="190"/>
                    </a:moveTo>
                    <a:lnTo>
                      <a:pt x="14" y="171"/>
                    </a:lnTo>
                    <a:lnTo>
                      <a:pt x="76" y="157"/>
                    </a:lnTo>
                    <a:lnTo>
                      <a:pt x="76" y="123"/>
                    </a:lnTo>
                    <a:lnTo>
                      <a:pt x="176" y="123"/>
                    </a:lnTo>
                    <a:lnTo>
                      <a:pt x="176" y="104"/>
                    </a:lnTo>
                    <a:lnTo>
                      <a:pt x="242" y="104"/>
                    </a:lnTo>
                    <a:lnTo>
                      <a:pt x="242" y="109"/>
                    </a:lnTo>
                    <a:lnTo>
                      <a:pt x="223" y="109"/>
                    </a:lnTo>
                    <a:lnTo>
                      <a:pt x="242" y="142"/>
                    </a:lnTo>
                    <a:lnTo>
                      <a:pt x="290" y="128"/>
                    </a:lnTo>
                    <a:lnTo>
                      <a:pt x="290" y="85"/>
                    </a:lnTo>
                    <a:lnTo>
                      <a:pt x="380" y="85"/>
                    </a:lnTo>
                    <a:lnTo>
                      <a:pt x="342" y="90"/>
                    </a:lnTo>
                    <a:lnTo>
                      <a:pt x="352" y="109"/>
                    </a:lnTo>
                    <a:lnTo>
                      <a:pt x="428" y="90"/>
                    </a:lnTo>
                    <a:lnTo>
                      <a:pt x="428" y="62"/>
                    </a:lnTo>
                    <a:lnTo>
                      <a:pt x="533" y="62"/>
                    </a:lnTo>
                    <a:lnTo>
                      <a:pt x="490" y="67"/>
                    </a:lnTo>
                    <a:lnTo>
                      <a:pt x="499" y="90"/>
                    </a:lnTo>
                    <a:lnTo>
                      <a:pt x="571" y="71"/>
                    </a:lnTo>
                    <a:lnTo>
                      <a:pt x="571" y="33"/>
                    </a:lnTo>
                    <a:lnTo>
                      <a:pt x="686" y="33"/>
                    </a:lnTo>
                    <a:lnTo>
                      <a:pt x="634" y="37"/>
                    </a:lnTo>
                    <a:lnTo>
                      <a:pt x="648" y="62"/>
                    </a:lnTo>
                    <a:lnTo>
                      <a:pt x="729" y="42"/>
                    </a:lnTo>
                    <a:lnTo>
                      <a:pt x="729" y="0"/>
                    </a:lnTo>
                    <a:lnTo>
                      <a:pt x="867" y="0"/>
                    </a:lnTo>
                    <a:lnTo>
                      <a:pt x="796" y="4"/>
                    </a:lnTo>
                    <a:lnTo>
                      <a:pt x="824" y="52"/>
                    </a:lnTo>
                    <a:lnTo>
                      <a:pt x="977" y="33"/>
                    </a:lnTo>
                    <a:lnTo>
                      <a:pt x="1034" y="23"/>
                    </a:lnTo>
                    <a:lnTo>
                      <a:pt x="1067" y="23"/>
                    </a:lnTo>
                    <a:lnTo>
                      <a:pt x="1091" y="33"/>
                    </a:lnTo>
                    <a:lnTo>
                      <a:pt x="1129" y="52"/>
                    </a:lnTo>
                    <a:lnTo>
                      <a:pt x="1220" y="71"/>
                    </a:lnTo>
                    <a:lnTo>
                      <a:pt x="1253" y="85"/>
                    </a:lnTo>
                    <a:lnTo>
                      <a:pt x="1158" y="90"/>
                    </a:lnTo>
                    <a:lnTo>
                      <a:pt x="1115" y="90"/>
                    </a:lnTo>
                    <a:lnTo>
                      <a:pt x="1115" y="109"/>
                    </a:lnTo>
                    <a:lnTo>
                      <a:pt x="1077" y="109"/>
                    </a:lnTo>
                    <a:lnTo>
                      <a:pt x="1077" y="95"/>
                    </a:lnTo>
                    <a:lnTo>
                      <a:pt x="920" y="95"/>
                    </a:lnTo>
                    <a:lnTo>
                      <a:pt x="943" y="109"/>
                    </a:lnTo>
                    <a:lnTo>
                      <a:pt x="915" y="114"/>
                    </a:lnTo>
                    <a:lnTo>
                      <a:pt x="867" y="123"/>
                    </a:lnTo>
                    <a:lnTo>
                      <a:pt x="781" y="123"/>
                    </a:lnTo>
                    <a:lnTo>
                      <a:pt x="643" y="162"/>
                    </a:lnTo>
                    <a:lnTo>
                      <a:pt x="133" y="204"/>
                    </a:lnTo>
                    <a:lnTo>
                      <a:pt x="38" y="195"/>
                    </a:lnTo>
                    <a:lnTo>
                      <a:pt x="0" y="19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542360" y="2987640"/>
                <a:ext cx="1045080" cy="257400"/>
              </a:xfrm>
              <a:custGeom>
                <a:avLst/>
                <a:gdLst/>
                <a:ahLst/>
                <a:rect l="0" t="0" r="r" b="b"/>
                <a:pathLst>
                  <a:path fill="none" w="2903" h="715">
                    <a:moveTo>
                      <a:pt x="0" y="185"/>
                    </a:moveTo>
                    <a:lnTo>
                      <a:pt x="299" y="85"/>
                    </a:lnTo>
                    <a:lnTo>
                      <a:pt x="446" y="85"/>
                    </a:lnTo>
                    <a:lnTo>
                      <a:pt x="484" y="95"/>
                    </a:lnTo>
                    <a:lnTo>
                      <a:pt x="707" y="95"/>
                    </a:lnTo>
                    <a:lnTo>
                      <a:pt x="707" y="133"/>
                    </a:lnTo>
                    <a:lnTo>
                      <a:pt x="813" y="133"/>
                    </a:lnTo>
                    <a:lnTo>
                      <a:pt x="813" y="109"/>
                    </a:lnTo>
                    <a:lnTo>
                      <a:pt x="798" y="100"/>
                    </a:lnTo>
                    <a:lnTo>
                      <a:pt x="1672" y="0"/>
                    </a:lnTo>
                    <a:lnTo>
                      <a:pt x="2894" y="14"/>
                    </a:lnTo>
                    <a:lnTo>
                      <a:pt x="2851" y="38"/>
                    </a:lnTo>
                    <a:lnTo>
                      <a:pt x="2903" y="38"/>
                    </a:lnTo>
                    <a:lnTo>
                      <a:pt x="2903" y="123"/>
                    </a:lnTo>
                    <a:lnTo>
                      <a:pt x="2751" y="157"/>
                    </a:lnTo>
                    <a:lnTo>
                      <a:pt x="2575" y="214"/>
                    </a:lnTo>
                    <a:lnTo>
                      <a:pt x="2419" y="290"/>
                    </a:lnTo>
                    <a:lnTo>
                      <a:pt x="2295" y="381"/>
                    </a:lnTo>
                    <a:lnTo>
                      <a:pt x="2233" y="448"/>
                    </a:lnTo>
                    <a:lnTo>
                      <a:pt x="2191" y="520"/>
                    </a:lnTo>
                    <a:lnTo>
                      <a:pt x="2157" y="596"/>
                    </a:lnTo>
                    <a:lnTo>
                      <a:pt x="2157" y="715"/>
                    </a:lnTo>
                    <a:lnTo>
                      <a:pt x="2095" y="677"/>
                    </a:lnTo>
                    <a:lnTo>
                      <a:pt x="2057" y="601"/>
                    </a:lnTo>
                    <a:lnTo>
                      <a:pt x="2005" y="601"/>
                    </a:lnTo>
                    <a:lnTo>
                      <a:pt x="1933" y="553"/>
                    </a:lnTo>
                    <a:lnTo>
                      <a:pt x="1872" y="553"/>
                    </a:lnTo>
                    <a:lnTo>
                      <a:pt x="1819" y="520"/>
                    </a:lnTo>
                    <a:lnTo>
                      <a:pt x="1762" y="505"/>
                    </a:lnTo>
                    <a:lnTo>
                      <a:pt x="1634" y="562"/>
                    </a:lnTo>
                    <a:lnTo>
                      <a:pt x="1577" y="562"/>
                    </a:lnTo>
                    <a:lnTo>
                      <a:pt x="1492" y="610"/>
                    </a:lnTo>
                    <a:lnTo>
                      <a:pt x="1468" y="596"/>
                    </a:lnTo>
                    <a:lnTo>
                      <a:pt x="1468" y="558"/>
                    </a:lnTo>
                    <a:lnTo>
                      <a:pt x="1435" y="534"/>
                    </a:lnTo>
                    <a:lnTo>
                      <a:pt x="1416" y="553"/>
                    </a:lnTo>
                    <a:lnTo>
                      <a:pt x="1354" y="529"/>
                    </a:lnTo>
                    <a:lnTo>
                      <a:pt x="1259" y="572"/>
                    </a:lnTo>
                    <a:lnTo>
                      <a:pt x="1221" y="572"/>
                    </a:lnTo>
                    <a:lnTo>
                      <a:pt x="1159" y="605"/>
                    </a:lnTo>
                    <a:lnTo>
                      <a:pt x="1121" y="601"/>
                    </a:lnTo>
                    <a:lnTo>
                      <a:pt x="1055" y="601"/>
                    </a:lnTo>
                    <a:lnTo>
                      <a:pt x="960" y="610"/>
                    </a:lnTo>
                    <a:lnTo>
                      <a:pt x="927" y="605"/>
                    </a:lnTo>
                    <a:lnTo>
                      <a:pt x="884" y="586"/>
                    </a:lnTo>
                    <a:lnTo>
                      <a:pt x="851" y="586"/>
                    </a:lnTo>
                    <a:lnTo>
                      <a:pt x="803" y="596"/>
                    </a:lnTo>
                    <a:lnTo>
                      <a:pt x="756" y="577"/>
                    </a:lnTo>
                    <a:lnTo>
                      <a:pt x="712" y="572"/>
                    </a:lnTo>
                    <a:lnTo>
                      <a:pt x="669" y="577"/>
                    </a:lnTo>
                    <a:lnTo>
                      <a:pt x="655" y="558"/>
                    </a:lnTo>
                    <a:lnTo>
                      <a:pt x="612" y="572"/>
                    </a:lnTo>
                    <a:lnTo>
                      <a:pt x="593" y="553"/>
                    </a:lnTo>
                    <a:lnTo>
                      <a:pt x="541" y="548"/>
                    </a:lnTo>
                    <a:lnTo>
                      <a:pt x="517" y="524"/>
                    </a:lnTo>
                    <a:lnTo>
                      <a:pt x="280" y="381"/>
                    </a:lnTo>
                    <a:lnTo>
                      <a:pt x="175" y="358"/>
                    </a:lnTo>
                    <a:lnTo>
                      <a:pt x="56" y="242"/>
                    </a:lnTo>
                    <a:lnTo>
                      <a:pt x="56" y="223"/>
                    </a:lnTo>
                    <a:lnTo>
                      <a:pt x="0" y="18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790040" y="3017880"/>
                <a:ext cx="12960" cy="38520"/>
              </a:xfrm>
              <a:custGeom>
                <a:avLst/>
                <a:gdLst/>
                <a:ahLst/>
                <a:rect l="0" t="0" r="r" b="b"/>
                <a:pathLst>
                  <a:path fill="none" w="36" h="107">
                    <a:moveTo>
                      <a:pt x="0" y="107"/>
                    </a:moveTo>
                    <a:lnTo>
                      <a:pt x="36" y="107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792920" y="3021120"/>
                <a:ext cx="3600" cy="35280"/>
              </a:xfrm>
              <a:custGeom>
                <a:avLst/>
                <a:gdLst/>
                <a:ahLst/>
                <a:rect l="0" t="0" r="r" b="b"/>
                <a:pathLst>
                  <a:path fill="none" w="10" h="98">
                    <a:moveTo>
                      <a:pt x="10" y="0"/>
                    </a:moveTo>
                    <a:lnTo>
                      <a:pt x="5" y="9"/>
                    </a:lnTo>
                    <a:lnTo>
                      <a:pt x="5" y="98"/>
                    </a:lnTo>
                    <a:lnTo>
                      <a:pt x="0" y="98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62880" y="288288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0" y="12"/>
                    </a:moveTo>
                    <a:lnTo>
                      <a:pt x="0" y="19"/>
                    </a:lnTo>
                    <a:lnTo>
                      <a:pt x="23" y="19"/>
                    </a:lnTo>
                    <a:lnTo>
                      <a:pt x="17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570800" y="29084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fill="none" w="14" h="19">
                    <a:moveTo>
                      <a:pt x="0" y="12"/>
                    </a:moveTo>
                    <a:lnTo>
                      <a:pt x="0" y="19"/>
                    </a:lnTo>
                    <a:lnTo>
                      <a:pt x="14" y="19"/>
                    </a:lnTo>
                    <a:lnTo>
                      <a:pt x="9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662960" y="289260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4" y="14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4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581960" y="2844720"/>
                <a:ext cx="18000" cy="9720"/>
              </a:xfrm>
              <a:custGeom>
                <a:avLst/>
                <a:gdLst/>
                <a:ahLst/>
                <a:rect l="0" t="0" r="r" b="b"/>
                <a:pathLst>
                  <a:path fill="none" w="50" h="27">
                    <a:moveTo>
                      <a:pt x="4" y="0"/>
                    </a:moveTo>
                    <a:lnTo>
                      <a:pt x="0" y="18"/>
                    </a:lnTo>
                    <a:lnTo>
                      <a:pt x="9" y="23"/>
                    </a:lnTo>
                    <a:lnTo>
                      <a:pt x="20" y="27"/>
                    </a:lnTo>
                    <a:lnTo>
                      <a:pt x="30" y="27"/>
                    </a:lnTo>
                    <a:lnTo>
                      <a:pt x="45" y="27"/>
                    </a:lnTo>
                    <a:lnTo>
                      <a:pt x="50" y="0"/>
                    </a:lnTo>
                    <a:lnTo>
                      <a:pt x="40" y="4"/>
                    </a:lnTo>
                    <a:lnTo>
                      <a:pt x="30" y="4"/>
                    </a:lnTo>
                    <a:lnTo>
                      <a:pt x="20" y="4"/>
                    </a:lnTo>
                    <a:lnTo>
                      <a:pt x="15" y="4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51720" y="2870280"/>
                <a:ext cx="9720" cy="3600"/>
              </a:xfrm>
              <a:custGeom>
                <a:avLst/>
                <a:gdLst/>
                <a:ahLst/>
                <a:rect l="0" t="0" r="r" b="b"/>
                <a:pathLst>
                  <a:path fill="none" w="27" h="10">
                    <a:moveTo>
                      <a:pt x="0" y="5"/>
                    </a:moveTo>
                    <a:lnTo>
                      <a:pt x="23" y="0"/>
                    </a:lnTo>
                    <a:lnTo>
                      <a:pt x="27" y="1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61440" y="2900520"/>
                <a:ext cx="9720" cy="1800"/>
              </a:xfrm>
              <a:custGeom>
                <a:avLst/>
                <a:gdLst/>
                <a:ahLst/>
                <a:rect l="0" t="0" r="r" b="b"/>
                <a:pathLst>
                  <a:path fill="none" w="27" h="5">
                    <a:moveTo>
                      <a:pt x="0" y="5"/>
                    </a:moveTo>
                    <a:lnTo>
                      <a:pt x="16" y="0"/>
                    </a:lnTo>
                    <a:lnTo>
                      <a:pt x="27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653240" y="290520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6" y="19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672320" y="2874960"/>
                <a:ext cx="5040" cy="3600"/>
              </a:xfrm>
              <a:custGeom>
                <a:avLst/>
                <a:gdLst/>
                <a:ahLst/>
                <a:rect l="0" t="0" r="r" b="b"/>
                <a:pathLst>
                  <a:path fill="none" w="14" h="10">
                    <a:moveTo>
                      <a:pt x="0" y="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12200" y="290196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fill="none" w="85" h="80">
                    <a:moveTo>
                      <a:pt x="85" y="0"/>
                    </a:moveTo>
                    <a:lnTo>
                      <a:pt x="0" y="0"/>
                    </a:lnTo>
                    <a:lnTo>
                      <a:pt x="0" y="80"/>
                    </a:lnTo>
                    <a:lnTo>
                      <a:pt x="85" y="80"/>
                    </a:lnTo>
                    <a:lnTo>
                      <a:pt x="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8960" y="2901960"/>
                <a:ext cx="33840" cy="28800"/>
              </a:xfrm>
              <a:custGeom>
                <a:avLst/>
                <a:gdLst/>
                <a:ahLst/>
                <a:rect l="0" t="0" r="r" b="b"/>
                <a:pathLst>
                  <a:path fill="none" w="94" h="80">
                    <a:moveTo>
                      <a:pt x="94" y="80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9"/>
                    </a:lnTo>
                    <a:lnTo>
                      <a:pt x="35" y="18"/>
                    </a:lnTo>
                    <a:lnTo>
                      <a:pt x="39" y="23"/>
                    </a:lnTo>
                    <a:lnTo>
                      <a:pt x="44" y="28"/>
                    </a:lnTo>
                    <a:lnTo>
                      <a:pt x="54" y="32"/>
                    </a:lnTo>
                    <a:lnTo>
                      <a:pt x="59" y="37"/>
                    </a:lnTo>
                    <a:lnTo>
                      <a:pt x="69" y="43"/>
                    </a:lnTo>
                    <a:lnTo>
                      <a:pt x="75" y="43"/>
                    </a:lnTo>
                    <a:lnTo>
                      <a:pt x="94" y="43"/>
                    </a:lnTo>
                    <a:lnTo>
                      <a:pt x="94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556400" y="2900520"/>
                <a:ext cx="198720" cy="138600"/>
              </a:xfrm>
              <a:custGeom>
                <a:avLst/>
                <a:gdLst/>
                <a:ahLst/>
                <a:rect l="0" t="0" r="r" b="b"/>
                <a:pathLst>
                  <a:path fill="none" w="552" h="385">
                    <a:moveTo>
                      <a:pt x="0" y="376"/>
                    </a:moveTo>
                    <a:lnTo>
                      <a:pt x="19" y="371"/>
                    </a:lnTo>
                    <a:lnTo>
                      <a:pt x="28" y="319"/>
                    </a:lnTo>
                    <a:lnTo>
                      <a:pt x="61" y="305"/>
                    </a:lnTo>
                    <a:lnTo>
                      <a:pt x="76" y="305"/>
                    </a:lnTo>
                    <a:lnTo>
                      <a:pt x="76" y="295"/>
                    </a:lnTo>
                    <a:lnTo>
                      <a:pt x="95" y="295"/>
                    </a:lnTo>
                    <a:lnTo>
                      <a:pt x="95" y="285"/>
                    </a:lnTo>
                    <a:lnTo>
                      <a:pt x="99" y="285"/>
                    </a:lnTo>
                    <a:lnTo>
                      <a:pt x="99" y="252"/>
                    </a:lnTo>
                    <a:lnTo>
                      <a:pt x="61" y="252"/>
                    </a:lnTo>
                    <a:lnTo>
                      <a:pt x="61" y="242"/>
                    </a:lnTo>
                    <a:lnTo>
                      <a:pt x="71" y="228"/>
                    </a:lnTo>
                    <a:lnTo>
                      <a:pt x="66" y="228"/>
                    </a:lnTo>
                    <a:lnTo>
                      <a:pt x="66" y="204"/>
                    </a:lnTo>
                    <a:lnTo>
                      <a:pt x="99" y="105"/>
                    </a:lnTo>
                    <a:lnTo>
                      <a:pt x="228" y="105"/>
                    </a:lnTo>
                    <a:lnTo>
                      <a:pt x="228" y="94"/>
                    </a:lnTo>
                    <a:lnTo>
                      <a:pt x="338" y="94"/>
                    </a:lnTo>
                    <a:lnTo>
                      <a:pt x="338" y="105"/>
                    </a:lnTo>
                    <a:lnTo>
                      <a:pt x="333" y="114"/>
                    </a:lnTo>
                    <a:lnTo>
                      <a:pt x="333" y="214"/>
                    </a:lnTo>
                    <a:lnTo>
                      <a:pt x="295" y="228"/>
                    </a:lnTo>
                    <a:lnTo>
                      <a:pt x="295" y="295"/>
                    </a:lnTo>
                    <a:lnTo>
                      <a:pt x="400" y="290"/>
                    </a:lnTo>
                    <a:lnTo>
                      <a:pt x="438" y="275"/>
                    </a:lnTo>
                    <a:lnTo>
                      <a:pt x="442" y="0"/>
                    </a:lnTo>
                    <a:lnTo>
                      <a:pt x="447" y="0"/>
                    </a:lnTo>
                    <a:lnTo>
                      <a:pt x="447" y="270"/>
                    </a:lnTo>
                    <a:lnTo>
                      <a:pt x="471" y="270"/>
                    </a:lnTo>
                    <a:lnTo>
                      <a:pt x="537" y="290"/>
                    </a:lnTo>
                    <a:lnTo>
                      <a:pt x="552" y="295"/>
                    </a:lnTo>
                    <a:lnTo>
                      <a:pt x="552" y="324"/>
                    </a:lnTo>
                    <a:lnTo>
                      <a:pt x="466" y="338"/>
                    </a:lnTo>
                    <a:lnTo>
                      <a:pt x="371" y="338"/>
                    </a:lnTo>
                    <a:lnTo>
                      <a:pt x="338" y="328"/>
                    </a:lnTo>
                    <a:lnTo>
                      <a:pt x="251" y="328"/>
                    </a:lnTo>
                    <a:lnTo>
                      <a:pt x="23" y="385"/>
                    </a:lnTo>
                    <a:lnTo>
                      <a:pt x="0" y="37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50000" y="3035160"/>
                <a:ext cx="143280" cy="11520"/>
              </a:xfrm>
              <a:custGeom>
                <a:avLst/>
                <a:gdLst/>
                <a:ahLst/>
                <a:rect l="0" t="0" r="r" b="b"/>
                <a:pathLst>
                  <a:path fill="none" w="398" h="32">
                    <a:moveTo>
                      <a:pt x="0" y="32"/>
                    </a:moveTo>
                    <a:lnTo>
                      <a:pt x="398" y="32"/>
                    </a:lnTo>
                    <a:lnTo>
                      <a:pt x="398" y="0"/>
                    </a:lnTo>
                    <a:lnTo>
                      <a:pt x="0" y="0"/>
                    </a:lnTo>
                    <a:lnTo>
                      <a:pt x="0" y="3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20120" y="3083040"/>
                <a:ext cx="47880" cy="47880"/>
              </a:xfrm>
              <a:custGeom>
                <a:avLst/>
                <a:gdLst/>
                <a:ahLst/>
                <a:rect l="0" t="0" r="r" b="b"/>
                <a:pathLst>
                  <a:path fill="none" w="133" h="133">
                    <a:moveTo>
                      <a:pt x="0" y="0"/>
                    </a:moveTo>
                    <a:lnTo>
                      <a:pt x="37" y="103"/>
                    </a:lnTo>
                    <a:lnTo>
                      <a:pt x="133" y="133"/>
                    </a:lnTo>
                    <a:lnTo>
                      <a:pt x="13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43880" y="3124080"/>
                <a:ext cx="120960" cy="59040"/>
              </a:xfrm>
              <a:custGeom>
                <a:avLst/>
                <a:gdLst/>
                <a:ahLst/>
                <a:rect l="0" t="0" r="r" b="b"/>
                <a:pathLst>
                  <a:path fill="none" w="336" h="164">
                    <a:moveTo>
                      <a:pt x="336" y="130"/>
                    </a:moveTo>
                    <a:lnTo>
                      <a:pt x="265" y="164"/>
                    </a:lnTo>
                    <a:lnTo>
                      <a:pt x="241" y="149"/>
                    </a:lnTo>
                    <a:lnTo>
                      <a:pt x="199" y="144"/>
                    </a:lnTo>
                    <a:lnTo>
                      <a:pt x="51" y="9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5" y="52"/>
                    </a:lnTo>
                    <a:lnTo>
                      <a:pt x="122" y="62"/>
                    </a:lnTo>
                    <a:lnTo>
                      <a:pt x="336" y="13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824960" y="2987640"/>
                <a:ext cx="495720" cy="259200"/>
              </a:xfrm>
              <a:custGeom>
                <a:avLst/>
                <a:gdLst/>
                <a:ahLst/>
                <a:rect l="0" t="0" r="r" b="b"/>
                <a:pathLst>
                  <a:path fill="none" w="1377" h="720">
                    <a:moveTo>
                      <a:pt x="1107" y="544"/>
                    </a:moveTo>
                    <a:lnTo>
                      <a:pt x="997" y="453"/>
                    </a:lnTo>
                    <a:lnTo>
                      <a:pt x="802" y="353"/>
                    </a:lnTo>
                    <a:lnTo>
                      <a:pt x="570" y="296"/>
                    </a:lnTo>
                    <a:lnTo>
                      <a:pt x="380" y="277"/>
                    </a:lnTo>
                    <a:lnTo>
                      <a:pt x="375" y="267"/>
                    </a:lnTo>
                    <a:lnTo>
                      <a:pt x="270" y="186"/>
                    </a:lnTo>
                    <a:lnTo>
                      <a:pt x="270" y="123"/>
                    </a:lnTo>
                    <a:lnTo>
                      <a:pt x="0" y="138"/>
                    </a:lnTo>
                    <a:lnTo>
                      <a:pt x="18" y="104"/>
                    </a:lnTo>
                    <a:lnTo>
                      <a:pt x="745" y="42"/>
                    </a:lnTo>
                    <a:lnTo>
                      <a:pt x="850" y="0"/>
                    </a:lnTo>
                    <a:lnTo>
                      <a:pt x="783" y="71"/>
                    </a:lnTo>
                    <a:lnTo>
                      <a:pt x="783" y="123"/>
                    </a:lnTo>
                    <a:lnTo>
                      <a:pt x="850" y="152"/>
                    </a:lnTo>
                    <a:lnTo>
                      <a:pt x="940" y="152"/>
                    </a:lnTo>
                    <a:lnTo>
                      <a:pt x="878" y="123"/>
                    </a:lnTo>
                    <a:lnTo>
                      <a:pt x="1050" y="123"/>
                    </a:lnTo>
                    <a:lnTo>
                      <a:pt x="1050" y="138"/>
                    </a:lnTo>
                    <a:lnTo>
                      <a:pt x="1377" y="296"/>
                    </a:lnTo>
                    <a:lnTo>
                      <a:pt x="1377" y="720"/>
                    </a:lnTo>
                    <a:lnTo>
                      <a:pt x="1354" y="701"/>
                    </a:lnTo>
                    <a:lnTo>
                      <a:pt x="1306" y="673"/>
                    </a:lnTo>
                    <a:lnTo>
                      <a:pt x="1273" y="611"/>
                    </a:lnTo>
                    <a:lnTo>
                      <a:pt x="1216" y="611"/>
                    </a:lnTo>
                    <a:lnTo>
                      <a:pt x="1173" y="563"/>
                    </a:lnTo>
                    <a:lnTo>
                      <a:pt x="1107" y="5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748640" y="3081240"/>
                <a:ext cx="224280" cy="65520"/>
              </a:xfrm>
              <a:custGeom>
                <a:avLst/>
                <a:gdLst/>
                <a:ahLst/>
                <a:rect l="0" t="0" r="r" b="b"/>
                <a:pathLst>
                  <a:path fill="none" w="623" h="182">
                    <a:moveTo>
                      <a:pt x="623" y="14"/>
                    </a:moveTo>
                    <a:lnTo>
                      <a:pt x="609" y="77"/>
                    </a:lnTo>
                    <a:lnTo>
                      <a:pt x="585" y="144"/>
                    </a:lnTo>
                    <a:lnTo>
                      <a:pt x="552" y="182"/>
                    </a:lnTo>
                    <a:lnTo>
                      <a:pt x="228" y="178"/>
                    </a:lnTo>
                    <a:lnTo>
                      <a:pt x="52" y="159"/>
                    </a:lnTo>
                    <a:lnTo>
                      <a:pt x="4" y="124"/>
                    </a:lnTo>
                    <a:lnTo>
                      <a:pt x="0" y="86"/>
                    </a:lnTo>
                    <a:lnTo>
                      <a:pt x="52" y="86"/>
                    </a:lnTo>
                    <a:lnTo>
                      <a:pt x="66" y="58"/>
                    </a:lnTo>
                    <a:lnTo>
                      <a:pt x="52" y="0"/>
                    </a:lnTo>
                    <a:lnTo>
                      <a:pt x="609" y="0"/>
                    </a:lnTo>
                    <a:lnTo>
                      <a:pt x="6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202600" y="3032280"/>
                <a:ext cx="384480" cy="208440"/>
              </a:xfrm>
              <a:custGeom>
                <a:avLst/>
                <a:gdLst/>
                <a:ahLst/>
                <a:rect l="0" t="0" r="r" b="b"/>
                <a:pathLst>
                  <a:path fill="none" w="1068" h="579">
                    <a:moveTo>
                      <a:pt x="4" y="19"/>
                    </a:moveTo>
                    <a:lnTo>
                      <a:pt x="33" y="33"/>
                    </a:lnTo>
                    <a:lnTo>
                      <a:pt x="52" y="52"/>
                    </a:lnTo>
                    <a:lnTo>
                      <a:pt x="75" y="71"/>
                    </a:lnTo>
                    <a:lnTo>
                      <a:pt x="99" y="90"/>
                    </a:lnTo>
                    <a:lnTo>
                      <a:pt x="118" y="109"/>
                    </a:lnTo>
                    <a:lnTo>
                      <a:pt x="137" y="128"/>
                    </a:lnTo>
                    <a:lnTo>
                      <a:pt x="156" y="153"/>
                    </a:lnTo>
                    <a:lnTo>
                      <a:pt x="175" y="177"/>
                    </a:lnTo>
                    <a:lnTo>
                      <a:pt x="194" y="196"/>
                    </a:lnTo>
                    <a:lnTo>
                      <a:pt x="208" y="220"/>
                    </a:lnTo>
                    <a:lnTo>
                      <a:pt x="227" y="244"/>
                    </a:lnTo>
                    <a:lnTo>
                      <a:pt x="241" y="273"/>
                    </a:lnTo>
                    <a:lnTo>
                      <a:pt x="251" y="296"/>
                    </a:lnTo>
                    <a:lnTo>
                      <a:pt x="265" y="325"/>
                    </a:lnTo>
                    <a:lnTo>
                      <a:pt x="275" y="349"/>
                    </a:lnTo>
                    <a:lnTo>
                      <a:pt x="284" y="378"/>
                    </a:lnTo>
                    <a:lnTo>
                      <a:pt x="294" y="406"/>
                    </a:lnTo>
                    <a:lnTo>
                      <a:pt x="303" y="436"/>
                    </a:lnTo>
                    <a:lnTo>
                      <a:pt x="308" y="465"/>
                    </a:lnTo>
                    <a:lnTo>
                      <a:pt x="317" y="493"/>
                    </a:lnTo>
                    <a:lnTo>
                      <a:pt x="322" y="522"/>
                    </a:lnTo>
                    <a:lnTo>
                      <a:pt x="322" y="551"/>
                    </a:lnTo>
                    <a:lnTo>
                      <a:pt x="327" y="579"/>
                    </a:lnTo>
                    <a:lnTo>
                      <a:pt x="327" y="560"/>
                    </a:lnTo>
                    <a:lnTo>
                      <a:pt x="332" y="536"/>
                    </a:lnTo>
                    <a:lnTo>
                      <a:pt x="336" y="512"/>
                    </a:lnTo>
                    <a:lnTo>
                      <a:pt x="341" y="488"/>
                    </a:lnTo>
                    <a:lnTo>
                      <a:pt x="350" y="469"/>
                    </a:lnTo>
                    <a:lnTo>
                      <a:pt x="355" y="445"/>
                    </a:lnTo>
                    <a:lnTo>
                      <a:pt x="365" y="425"/>
                    </a:lnTo>
                    <a:lnTo>
                      <a:pt x="374" y="402"/>
                    </a:lnTo>
                    <a:lnTo>
                      <a:pt x="388" y="382"/>
                    </a:lnTo>
                    <a:lnTo>
                      <a:pt x="398" y="363"/>
                    </a:lnTo>
                    <a:lnTo>
                      <a:pt x="412" y="344"/>
                    </a:lnTo>
                    <a:lnTo>
                      <a:pt x="426" y="325"/>
                    </a:lnTo>
                    <a:lnTo>
                      <a:pt x="441" y="311"/>
                    </a:lnTo>
                    <a:lnTo>
                      <a:pt x="460" y="292"/>
                    </a:lnTo>
                    <a:lnTo>
                      <a:pt x="474" y="277"/>
                    </a:lnTo>
                    <a:lnTo>
                      <a:pt x="493" y="263"/>
                    </a:lnTo>
                    <a:lnTo>
                      <a:pt x="507" y="244"/>
                    </a:lnTo>
                    <a:lnTo>
                      <a:pt x="526" y="234"/>
                    </a:lnTo>
                    <a:lnTo>
                      <a:pt x="546" y="220"/>
                    </a:lnTo>
                    <a:lnTo>
                      <a:pt x="617" y="177"/>
                    </a:lnTo>
                    <a:lnTo>
                      <a:pt x="702" y="133"/>
                    </a:lnTo>
                    <a:lnTo>
                      <a:pt x="812" y="85"/>
                    </a:lnTo>
                    <a:lnTo>
                      <a:pt x="925" y="47"/>
                    </a:lnTo>
                    <a:lnTo>
                      <a:pt x="1068" y="0"/>
                    </a:lnTo>
                    <a:lnTo>
                      <a:pt x="1006" y="0"/>
                    </a:lnTo>
                    <a:lnTo>
                      <a:pt x="1006" y="14"/>
                    </a:lnTo>
                    <a:lnTo>
                      <a:pt x="0" y="14"/>
                    </a:lnTo>
                    <a:lnTo>
                      <a:pt x="4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31320" y="3000240"/>
                <a:ext cx="71640" cy="36720"/>
              </a:xfrm>
              <a:custGeom>
                <a:avLst/>
                <a:gdLst/>
                <a:ahLst/>
                <a:rect l="0" t="0" r="r" b="b"/>
                <a:pathLst>
                  <a:path fill="none" w="199" h="102">
                    <a:moveTo>
                      <a:pt x="199" y="102"/>
                    </a:moveTo>
                    <a:lnTo>
                      <a:pt x="199" y="0"/>
                    </a:lnTo>
                    <a:lnTo>
                      <a:pt x="189" y="0"/>
                    </a:lnTo>
                    <a:lnTo>
                      <a:pt x="189" y="83"/>
                    </a:lnTo>
                    <a:lnTo>
                      <a:pt x="0" y="83"/>
                    </a:lnTo>
                    <a:lnTo>
                      <a:pt x="56" y="102"/>
                    </a:lnTo>
                    <a:lnTo>
                      <a:pt x="56" y="88"/>
                    </a:lnTo>
                    <a:lnTo>
                      <a:pt x="189" y="88"/>
                    </a:lnTo>
                    <a:lnTo>
                      <a:pt x="166" y="102"/>
                    </a:lnTo>
                    <a:lnTo>
                      <a:pt x="199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47160" y="2987640"/>
                <a:ext cx="437040" cy="12960"/>
              </a:xfrm>
              <a:custGeom>
                <a:avLst/>
                <a:gdLst/>
                <a:ahLst/>
                <a:rect l="0" t="0" r="r" b="b"/>
                <a:pathLst>
                  <a:path fill="none" w="1214" h="36">
                    <a:moveTo>
                      <a:pt x="146" y="36"/>
                    </a:moveTo>
                    <a:lnTo>
                      <a:pt x="184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14" y="15"/>
                    </a:lnTo>
                    <a:lnTo>
                      <a:pt x="1181" y="36"/>
                    </a:lnTo>
                    <a:lnTo>
                      <a:pt x="146" y="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572680" y="3000240"/>
                <a:ext cx="14760" cy="32040"/>
              </a:xfrm>
              <a:custGeom>
                <a:avLst/>
                <a:gdLst/>
                <a:ahLst/>
                <a:rect l="0" t="0" r="r" b="b"/>
                <a:pathLst>
                  <a:path fill="none" w="41" h="89">
                    <a:moveTo>
                      <a:pt x="0" y="0"/>
                    </a:moveTo>
                    <a:lnTo>
                      <a:pt x="41" y="0"/>
                    </a:lnTo>
                    <a:lnTo>
                      <a:pt x="41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586720" y="301788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0" y="19"/>
                    </a:moveTo>
                    <a:lnTo>
                      <a:pt x="41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790040" y="3000240"/>
                <a:ext cx="375120" cy="81360"/>
              </a:xfrm>
              <a:custGeom>
                <a:avLst/>
                <a:gdLst/>
                <a:ahLst/>
                <a:rect l="0" t="0" r="r" b="b"/>
                <a:pathLst>
                  <a:path fill="none" w="1042" h="226">
                    <a:moveTo>
                      <a:pt x="1004" y="108"/>
                    </a:moveTo>
                    <a:lnTo>
                      <a:pt x="1023" y="113"/>
                    </a:lnTo>
                    <a:lnTo>
                      <a:pt x="680" y="118"/>
                    </a:lnTo>
                    <a:lnTo>
                      <a:pt x="847" y="51"/>
                    </a:lnTo>
                    <a:lnTo>
                      <a:pt x="847" y="0"/>
                    </a:lnTo>
                    <a:lnTo>
                      <a:pt x="814" y="0"/>
                    </a:lnTo>
                    <a:lnTo>
                      <a:pt x="814" y="57"/>
                    </a:lnTo>
                    <a:lnTo>
                      <a:pt x="713" y="57"/>
                    </a:lnTo>
                    <a:lnTo>
                      <a:pt x="109" y="99"/>
                    </a:lnTo>
                    <a:lnTo>
                      <a:pt x="185" y="99"/>
                    </a:lnTo>
                    <a:lnTo>
                      <a:pt x="185" y="155"/>
                    </a:lnTo>
                    <a:lnTo>
                      <a:pt x="0" y="155"/>
                    </a:lnTo>
                    <a:lnTo>
                      <a:pt x="0" y="160"/>
                    </a:lnTo>
                    <a:lnTo>
                      <a:pt x="395" y="160"/>
                    </a:lnTo>
                    <a:lnTo>
                      <a:pt x="485" y="226"/>
                    </a:lnTo>
                    <a:lnTo>
                      <a:pt x="371" y="136"/>
                    </a:lnTo>
                    <a:lnTo>
                      <a:pt x="371" y="85"/>
                    </a:lnTo>
                    <a:lnTo>
                      <a:pt x="428" y="122"/>
                    </a:lnTo>
                    <a:lnTo>
                      <a:pt x="390" y="127"/>
                    </a:lnTo>
                    <a:lnTo>
                      <a:pt x="1042" y="113"/>
                    </a:lnTo>
                    <a:lnTo>
                      <a:pt x="1004" y="10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790040" y="3046320"/>
                <a:ext cx="66960" cy="33840"/>
              </a:xfrm>
              <a:custGeom>
                <a:avLst/>
                <a:gdLst/>
                <a:ahLst/>
                <a:rect l="0" t="0" r="r" b="b"/>
                <a:pathLst>
                  <a:path fill="none" w="186" h="94">
                    <a:moveTo>
                      <a:pt x="0" y="94"/>
                    </a:moveTo>
                    <a:lnTo>
                      <a:pt x="0" y="0"/>
                    </a:lnTo>
                    <a:lnTo>
                      <a:pt x="18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790040" y="305280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790040" y="304956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802640" y="30463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815240" y="30463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826400" y="30463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39000" y="30463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850160" y="30463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802640" y="3029040"/>
                <a:ext cx="27360" cy="18000"/>
              </a:xfrm>
              <a:custGeom>
                <a:avLst/>
                <a:gdLst/>
                <a:ahLst/>
                <a:rect l="0" t="0" r="r" b="b"/>
                <a:pathLst>
                  <a:path fill="none" w="76" h="50">
                    <a:moveTo>
                      <a:pt x="58" y="50"/>
                    </a:moveTo>
                    <a:lnTo>
                      <a:pt x="58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24" y="30"/>
                    </a:lnTo>
                    <a:lnTo>
                      <a:pt x="24" y="50"/>
                    </a:lnTo>
                    <a:lnTo>
                      <a:pt x="58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790040" y="3017880"/>
                <a:ext cx="12960" cy="28800"/>
              </a:xfrm>
              <a:custGeom>
                <a:avLst/>
                <a:gdLst/>
                <a:ahLst/>
                <a:rect l="0" t="0" r="r" b="b"/>
                <a:pathLst>
                  <a:path fill="none" w="36" h="80">
                    <a:moveTo>
                      <a:pt x="36" y="80"/>
                    </a:move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0" y="14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829640" y="2987640"/>
                <a:ext cx="302040" cy="36720"/>
              </a:xfrm>
              <a:custGeom>
                <a:avLst/>
                <a:gdLst/>
                <a:ahLst/>
                <a:rect l="0" t="0" r="r" b="b"/>
                <a:pathLst>
                  <a:path fill="none" w="839" h="102">
                    <a:moveTo>
                      <a:pt x="0" y="102"/>
                    </a:moveTo>
                    <a:lnTo>
                      <a:pt x="839" y="0"/>
                    </a:lnTo>
                    <a:lnTo>
                      <a:pt x="739" y="43"/>
                    </a:lnTo>
                    <a:lnTo>
                      <a:pt x="605" y="43"/>
                    </a:lnTo>
                    <a:lnTo>
                      <a:pt x="605" y="87"/>
                    </a:lnTo>
                    <a:lnTo>
                      <a:pt x="591" y="48"/>
                    </a:lnTo>
                    <a:lnTo>
                      <a:pt x="0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29640" y="3008160"/>
                <a:ext cx="209880" cy="18000"/>
              </a:xfrm>
              <a:custGeom>
                <a:avLst/>
                <a:gdLst/>
                <a:ahLst/>
                <a:rect l="0" t="0" r="r" b="b"/>
                <a:pathLst>
                  <a:path fill="none" w="583" h="50">
                    <a:moveTo>
                      <a:pt x="0" y="45"/>
                    </a:moveTo>
                    <a:lnTo>
                      <a:pt x="9" y="50"/>
                    </a:lnTo>
                    <a:lnTo>
                      <a:pt x="58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764480" y="3081240"/>
                <a:ext cx="200520" cy="55800"/>
              </a:xfrm>
              <a:custGeom>
                <a:avLst/>
                <a:gdLst/>
                <a:ahLst/>
                <a:rect l="0" t="0" r="r" b="b"/>
                <a:pathLst>
                  <a:path fill="none" w="557" h="155">
                    <a:moveTo>
                      <a:pt x="557" y="0"/>
                    </a:moveTo>
                    <a:lnTo>
                      <a:pt x="557" y="14"/>
                    </a:lnTo>
                    <a:lnTo>
                      <a:pt x="552" y="43"/>
                    </a:lnTo>
                    <a:lnTo>
                      <a:pt x="548" y="67"/>
                    </a:lnTo>
                    <a:lnTo>
                      <a:pt x="533" y="97"/>
                    </a:lnTo>
                    <a:lnTo>
                      <a:pt x="519" y="126"/>
                    </a:lnTo>
                    <a:lnTo>
                      <a:pt x="495" y="155"/>
                    </a:lnTo>
                    <a:lnTo>
                      <a:pt x="371" y="145"/>
                    </a:lnTo>
                    <a:lnTo>
                      <a:pt x="0" y="0"/>
                    </a:lnTo>
                    <a:lnTo>
                      <a:pt x="55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926480" y="3057480"/>
                <a:ext cx="1800" cy="25920"/>
              </a:xfrm>
              <a:custGeom>
                <a:avLst/>
                <a:gdLst/>
                <a:ahLst/>
                <a:rect l="0" t="0" r="r" b="b"/>
                <a:pathLst>
                  <a:path fill="none" w="5" h="72">
                    <a:moveTo>
                      <a:pt x="0" y="0"/>
                    </a:moveTo>
                    <a:lnTo>
                      <a:pt x="0" y="72"/>
                    </a:lnTo>
                    <a:lnTo>
                      <a:pt x="5" y="7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763040" y="3087720"/>
                <a:ext cx="44640" cy="38520"/>
              </a:xfrm>
              <a:custGeom>
                <a:avLst/>
                <a:gdLst/>
                <a:ahLst/>
                <a:rect l="0" t="0" r="r" b="b"/>
                <a:pathLst>
                  <a:path fill="none" w="124" h="107">
                    <a:moveTo>
                      <a:pt x="14" y="0"/>
                    </a:moveTo>
                    <a:lnTo>
                      <a:pt x="95" y="60"/>
                    </a:lnTo>
                    <a:lnTo>
                      <a:pt x="95" y="74"/>
                    </a:lnTo>
                    <a:lnTo>
                      <a:pt x="91" y="89"/>
                    </a:lnTo>
                    <a:lnTo>
                      <a:pt x="81" y="94"/>
                    </a:lnTo>
                    <a:lnTo>
                      <a:pt x="61" y="98"/>
                    </a:lnTo>
                    <a:lnTo>
                      <a:pt x="0" y="98"/>
                    </a:lnTo>
                    <a:lnTo>
                      <a:pt x="4" y="103"/>
                    </a:lnTo>
                    <a:lnTo>
                      <a:pt x="86" y="107"/>
                    </a:lnTo>
                    <a:lnTo>
                      <a:pt x="100" y="103"/>
                    </a:lnTo>
                    <a:lnTo>
                      <a:pt x="110" y="94"/>
                    </a:lnTo>
                    <a:lnTo>
                      <a:pt x="114" y="84"/>
                    </a:lnTo>
                    <a:lnTo>
                      <a:pt x="119" y="70"/>
                    </a:lnTo>
                    <a:lnTo>
                      <a:pt x="124" y="4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7664400" y="3022560"/>
                <a:ext cx="125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542360" y="3022560"/>
                <a:ext cx="248040" cy="39960"/>
              </a:xfrm>
              <a:custGeom>
                <a:avLst/>
                <a:gdLst/>
                <a:ahLst/>
                <a:rect l="0" t="0" r="r" b="b"/>
                <a:pathLst>
                  <a:path fill="none" w="689" h="111">
                    <a:moveTo>
                      <a:pt x="337" y="0"/>
                    </a:moveTo>
                    <a:lnTo>
                      <a:pt x="337" y="32"/>
                    </a:lnTo>
                    <a:lnTo>
                      <a:pt x="689" y="32"/>
                    </a:lnTo>
                    <a:lnTo>
                      <a:pt x="689" y="41"/>
                    </a:lnTo>
                    <a:lnTo>
                      <a:pt x="295" y="41"/>
                    </a:lnTo>
                    <a:lnTo>
                      <a:pt x="56" y="111"/>
                    </a:lnTo>
                    <a:lnTo>
                      <a:pt x="0" y="97"/>
                    </a:lnTo>
                    <a:lnTo>
                      <a:pt x="295" y="0"/>
                    </a:lnTo>
                    <a:lnTo>
                      <a:pt x="33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551720" y="3033720"/>
                <a:ext cx="224280" cy="109800"/>
              </a:xfrm>
              <a:custGeom>
                <a:avLst/>
                <a:gdLst/>
                <a:ahLst/>
                <a:rect l="0" t="0" r="r" b="b"/>
                <a:pathLst>
                  <a:path fill="none" w="623" h="305">
                    <a:moveTo>
                      <a:pt x="623" y="57"/>
                    </a:moveTo>
                    <a:lnTo>
                      <a:pt x="609" y="71"/>
                    </a:lnTo>
                    <a:lnTo>
                      <a:pt x="600" y="71"/>
                    </a:lnTo>
                    <a:lnTo>
                      <a:pt x="600" y="95"/>
                    </a:lnTo>
                    <a:lnTo>
                      <a:pt x="481" y="95"/>
                    </a:lnTo>
                    <a:lnTo>
                      <a:pt x="481" y="133"/>
                    </a:lnTo>
                    <a:lnTo>
                      <a:pt x="571" y="233"/>
                    </a:lnTo>
                    <a:lnTo>
                      <a:pt x="552" y="219"/>
                    </a:lnTo>
                    <a:lnTo>
                      <a:pt x="552" y="248"/>
                    </a:lnTo>
                    <a:lnTo>
                      <a:pt x="490" y="238"/>
                    </a:lnTo>
                    <a:lnTo>
                      <a:pt x="490" y="305"/>
                    </a:lnTo>
                    <a:lnTo>
                      <a:pt x="356" y="243"/>
                    </a:lnTo>
                    <a:lnTo>
                      <a:pt x="356" y="157"/>
                    </a:lnTo>
                    <a:lnTo>
                      <a:pt x="342" y="157"/>
                    </a:lnTo>
                    <a:lnTo>
                      <a:pt x="342" y="205"/>
                    </a:lnTo>
                    <a:lnTo>
                      <a:pt x="328" y="205"/>
                    </a:lnTo>
                    <a:lnTo>
                      <a:pt x="328" y="157"/>
                    </a:lnTo>
                    <a:lnTo>
                      <a:pt x="314" y="157"/>
                    </a:lnTo>
                    <a:lnTo>
                      <a:pt x="314" y="243"/>
                    </a:lnTo>
                    <a:lnTo>
                      <a:pt x="314" y="147"/>
                    </a:lnTo>
                    <a:lnTo>
                      <a:pt x="200" y="147"/>
                    </a:lnTo>
                    <a:lnTo>
                      <a:pt x="186" y="133"/>
                    </a:lnTo>
                    <a:lnTo>
                      <a:pt x="219" y="133"/>
                    </a:lnTo>
                    <a:lnTo>
                      <a:pt x="219" y="85"/>
                    </a:lnTo>
                    <a:lnTo>
                      <a:pt x="104" y="109"/>
                    </a:lnTo>
                    <a:lnTo>
                      <a:pt x="151" y="229"/>
                    </a:lnTo>
                    <a:lnTo>
                      <a:pt x="0" y="142"/>
                    </a:lnTo>
                    <a:lnTo>
                      <a:pt x="0" y="118"/>
                    </a:lnTo>
                    <a:lnTo>
                      <a:pt x="219" y="61"/>
                    </a:lnTo>
                    <a:lnTo>
                      <a:pt x="219" y="23"/>
                    </a:lnTo>
                    <a:lnTo>
                      <a:pt x="271" y="0"/>
                    </a:lnTo>
                    <a:lnTo>
                      <a:pt x="271" y="57"/>
                    </a:lnTo>
                    <a:lnTo>
                      <a:pt x="623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10400" y="311796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fill="none" w="270" h="67">
                    <a:moveTo>
                      <a:pt x="0" y="0"/>
                    </a:moveTo>
                    <a:lnTo>
                      <a:pt x="149" y="9"/>
                    </a:lnTo>
                    <a:lnTo>
                      <a:pt x="270" y="6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723080" y="3067200"/>
                <a:ext cx="66960" cy="19440"/>
              </a:xfrm>
              <a:custGeom>
                <a:avLst/>
                <a:gdLst/>
                <a:ahLst/>
                <a:rect l="0" t="0" r="r" b="b"/>
                <a:pathLst>
                  <a:path fill="none" w="186" h="54">
                    <a:moveTo>
                      <a:pt x="47" y="0"/>
                    </a:moveTo>
                    <a:lnTo>
                      <a:pt x="47" y="45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14" y="54"/>
                    </a:lnTo>
                    <a:lnTo>
                      <a:pt x="95" y="45"/>
                    </a:lnTo>
                    <a:lnTo>
                      <a:pt x="186" y="45"/>
                    </a:lnTo>
                    <a:lnTo>
                      <a:pt x="186" y="0"/>
                    </a:lnTo>
                    <a:lnTo>
                      <a:pt x="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542360" y="3016080"/>
                <a:ext cx="251280" cy="57600"/>
              </a:xfrm>
              <a:custGeom>
                <a:avLst/>
                <a:gdLst/>
                <a:ahLst/>
                <a:rect l="0" t="0" r="r" b="b"/>
                <a:pathLst>
                  <a:path fill="none" w="698" h="160">
                    <a:moveTo>
                      <a:pt x="57" y="160"/>
                    </a:moveTo>
                    <a:lnTo>
                      <a:pt x="57" y="131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296" y="0"/>
                    </a:lnTo>
                    <a:lnTo>
                      <a:pt x="378" y="0"/>
                    </a:lnTo>
                    <a:lnTo>
                      <a:pt x="411" y="9"/>
                    </a:lnTo>
                    <a:lnTo>
                      <a:pt x="698" y="9"/>
                    </a:lnTo>
                    <a:lnTo>
                      <a:pt x="698" y="14"/>
                    </a:lnTo>
                    <a:lnTo>
                      <a:pt x="411" y="14"/>
                    </a:lnTo>
                    <a:lnTo>
                      <a:pt x="378" y="4"/>
                    </a:lnTo>
                    <a:lnTo>
                      <a:pt x="296" y="4"/>
                    </a:lnTo>
                    <a:lnTo>
                      <a:pt x="296" y="19"/>
                    </a:lnTo>
                    <a:lnTo>
                      <a:pt x="263" y="19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57" y="16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40640" y="3121200"/>
                <a:ext cx="135360" cy="54360"/>
              </a:xfrm>
              <a:custGeom>
                <a:avLst/>
                <a:gdLst/>
                <a:ahLst/>
                <a:rect l="0" t="0" r="r" b="b"/>
                <a:pathLst>
                  <a:path fill="none" w="376" h="151">
                    <a:moveTo>
                      <a:pt x="334" y="0"/>
                    </a:moveTo>
                    <a:lnTo>
                      <a:pt x="343" y="4"/>
                    </a:lnTo>
                    <a:lnTo>
                      <a:pt x="376" y="4"/>
                    </a:lnTo>
                    <a:lnTo>
                      <a:pt x="376" y="132"/>
                    </a:lnTo>
                    <a:lnTo>
                      <a:pt x="353" y="151"/>
                    </a:lnTo>
                    <a:lnTo>
                      <a:pt x="18" y="49"/>
                    </a:lnTo>
                    <a:lnTo>
                      <a:pt x="37" y="83"/>
                    </a:lnTo>
                    <a:lnTo>
                      <a:pt x="4" y="49"/>
                    </a:lnTo>
                    <a:lnTo>
                      <a:pt x="0" y="9"/>
                    </a:lnTo>
                    <a:lnTo>
                      <a:pt x="9" y="39"/>
                    </a:lnTo>
                    <a:lnTo>
                      <a:pt x="334" y="122"/>
                    </a:lnTo>
                    <a:lnTo>
                      <a:pt x="33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31000" y="312120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fill="none" w="54" h="89">
                    <a:moveTo>
                      <a:pt x="54" y="0"/>
                    </a:moveTo>
                    <a:lnTo>
                      <a:pt x="54" y="8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50" y="79"/>
                    </a:lnTo>
                    <a:lnTo>
                      <a:pt x="50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731000" y="3119400"/>
                <a:ext cx="5040" cy="27360"/>
              </a:xfrm>
              <a:custGeom>
                <a:avLst/>
                <a:gdLst/>
                <a:ahLst/>
                <a:rect l="0" t="0" r="r" b="b"/>
                <a:pathLst>
                  <a:path fill="none" w="14" h="76">
                    <a:moveTo>
                      <a:pt x="0" y="0"/>
                    </a:moveTo>
                    <a:lnTo>
                      <a:pt x="0" y="76"/>
                    </a:lnTo>
                    <a:lnTo>
                      <a:pt x="14" y="76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4280" y="308592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4"/>
                    </a:moveTo>
                    <a:lnTo>
                      <a:pt x="25" y="63"/>
                    </a:lnTo>
                    <a:lnTo>
                      <a:pt x="41" y="63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593120" y="307656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0" y="0"/>
                    </a:moveTo>
                    <a:lnTo>
                      <a:pt x="41" y="102"/>
                    </a:lnTo>
                    <a:lnTo>
                      <a:pt x="50" y="102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10400" y="3067200"/>
                <a:ext cx="8280" cy="11520"/>
              </a:xfrm>
              <a:custGeom>
                <a:avLst/>
                <a:gdLst/>
                <a:ahLst/>
                <a:rect l="0" t="0" r="r" b="b"/>
                <a:pathLst>
                  <a:path fill="none" w="23" h="32">
                    <a:moveTo>
                      <a:pt x="23" y="0"/>
                    </a:moveTo>
                    <a:lnTo>
                      <a:pt x="23" y="32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272440" y="3182760"/>
                <a:ext cx="143280" cy="89280"/>
              </a:xfrm>
              <a:custGeom>
                <a:avLst/>
                <a:gdLst/>
                <a:ahLst/>
                <a:rect l="0" t="0" r="r" b="b"/>
                <a:pathLst>
                  <a:path fill="none" w="398" h="248">
                    <a:moveTo>
                      <a:pt x="0" y="248"/>
                    </a:moveTo>
                    <a:lnTo>
                      <a:pt x="33" y="248"/>
                    </a:lnTo>
                    <a:lnTo>
                      <a:pt x="38" y="225"/>
                    </a:lnTo>
                    <a:lnTo>
                      <a:pt x="66" y="225"/>
                    </a:lnTo>
                    <a:lnTo>
                      <a:pt x="76" y="210"/>
                    </a:lnTo>
                    <a:lnTo>
                      <a:pt x="106" y="206"/>
                    </a:lnTo>
                    <a:lnTo>
                      <a:pt x="120" y="229"/>
                    </a:lnTo>
                    <a:lnTo>
                      <a:pt x="134" y="225"/>
                    </a:lnTo>
                    <a:lnTo>
                      <a:pt x="134" y="206"/>
                    </a:lnTo>
                    <a:lnTo>
                      <a:pt x="163" y="196"/>
                    </a:lnTo>
                    <a:lnTo>
                      <a:pt x="182" y="210"/>
                    </a:lnTo>
                    <a:lnTo>
                      <a:pt x="192" y="201"/>
                    </a:lnTo>
                    <a:lnTo>
                      <a:pt x="201" y="181"/>
                    </a:lnTo>
                    <a:lnTo>
                      <a:pt x="225" y="176"/>
                    </a:lnTo>
                    <a:lnTo>
                      <a:pt x="235" y="167"/>
                    </a:lnTo>
                    <a:lnTo>
                      <a:pt x="268" y="162"/>
                    </a:lnTo>
                    <a:lnTo>
                      <a:pt x="303" y="181"/>
                    </a:lnTo>
                    <a:lnTo>
                      <a:pt x="317" y="171"/>
                    </a:lnTo>
                    <a:lnTo>
                      <a:pt x="317" y="152"/>
                    </a:lnTo>
                    <a:lnTo>
                      <a:pt x="331" y="152"/>
                    </a:lnTo>
                    <a:lnTo>
                      <a:pt x="379" y="171"/>
                    </a:lnTo>
                    <a:lnTo>
                      <a:pt x="398" y="167"/>
                    </a:lnTo>
                    <a:lnTo>
                      <a:pt x="389" y="119"/>
                    </a:lnTo>
                    <a:lnTo>
                      <a:pt x="351" y="105"/>
                    </a:lnTo>
                    <a:lnTo>
                      <a:pt x="331" y="91"/>
                    </a:lnTo>
                    <a:lnTo>
                      <a:pt x="292" y="100"/>
                    </a:lnTo>
                    <a:lnTo>
                      <a:pt x="278" y="91"/>
                    </a:lnTo>
                    <a:lnTo>
                      <a:pt x="283" y="72"/>
                    </a:lnTo>
                    <a:lnTo>
                      <a:pt x="268" y="56"/>
                    </a:lnTo>
                    <a:lnTo>
                      <a:pt x="278" y="33"/>
                    </a:lnTo>
                    <a:lnTo>
                      <a:pt x="268" y="0"/>
                    </a:lnTo>
                    <a:lnTo>
                      <a:pt x="225" y="4"/>
                    </a:lnTo>
                    <a:lnTo>
                      <a:pt x="206" y="23"/>
                    </a:lnTo>
                    <a:lnTo>
                      <a:pt x="182" y="28"/>
                    </a:lnTo>
                    <a:lnTo>
                      <a:pt x="163" y="52"/>
                    </a:lnTo>
                    <a:lnTo>
                      <a:pt x="144" y="81"/>
                    </a:lnTo>
                    <a:lnTo>
                      <a:pt x="173" y="52"/>
                    </a:lnTo>
                    <a:lnTo>
                      <a:pt x="206" y="33"/>
                    </a:lnTo>
                    <a:lnTo>
                      <a:pt x="220" y="14"/>
                    </a:lnTo>
                    <a:lnTo>
                      <a:pt x="254" y="18"/>
                    </a:lnTo>
                    <a:lnTo>
                      <a:pt x="263" y="42"/>
                    </a:lnTo>
                    <a:lnTo>
                      <a:pt x="254" y="56"/>
                    </a:lnTo>
                    <a:lnTo>
                      <a:pt x="268" y="67"/>
                    </a:lnTo>
                    <a:lnTo>
                      <a:pt x="263" y="95"/>
                    </a:lnTo>
                    <a:lnTo>
                      <a:pt x="273" y="110"/>
                    </a:lnTo>
                    <a:lnTo>
                      <a:pt x="254" y="110"/>
                    </a:lnTo>
                    <a:lnTo>
                      <a:pt x="254" y="129"/>
                    </a:lnTo>
                    <a:lnTo>
                      <a:pt x="278" y="133"/>
                    </a:lnTo>
                    <a:lnTo>
                      <a:pt x="278" y="124"/>
                    </a:lnTo>
                    <a:lnTo>
                      <a:pt x="292" y="119"/>
                    </a:lnTo>
                    <a:lnTo>
                      <a:pt x="308" y="124"/>
                    </a:lnTo>
                    <a:lnTo>
                      <a:pt x="336" y="110"/>
                    </a:lnTo>
                    <a:lnTo>
                      <a:pt x="351" y="138"/>
                    </a:lnTo>
                    <a:lnTo>
                      <a:pt x="322" y="138"/>
                    </a:lnTo>
                    <a:lnTo>
                      <a:pt x="303" y="157"/>
                    </a:lnTo>
                    <a:lnTo>
                      <a:pt x="263" y="152"/>
                    </a:lnTo>
                    <a:lnTo>
                      <a:pt x="230" y="157"/>
                    </a:lnTo>
                    <a:lnTo>
                      <a:pt x="216" y="143"/>
                    </a:lnTo>
                    <a:lnTo>
                      <a:pt x="192" y="148"/>
                    </a:lnTo>
                    <a:lnTo>
                      <a:pt x="187" y="181"/>
                    </a:lnTo>
                    <a:lnTo>
                      <a:pt x="182" y="196"/>
                    </a:lnTo>
                    <a:lnTo>
                      <a:pt x="163" y="181"/>
                    </a:lnTo>
                    <a:lnTo>
                      <a:pt x="130" y="191"/>
                    </a:lnTo>
                    <a:lnTo>
                      <a:pt x="115" y="181"/>
                    </a:lnTo>
                    <a:lnTo>
                      <a:pt x="95" y="187"/>
                    </a:lnTo>
                    <a:lnTo>
                      <a:pt x="90" y="201"/>
                    </a:lnTo>
                    <a:lnTo>
                      <a:pt x="62" y="206"/>
                    </a:lnTo>
                    <a:lnTo>
                      <a:pt x="47" y="215"/>
                    </a:lnTo>
                    <a:lnTo>
                      <a:pt x="23" y="215"/>
                    </a:lnTo>
                    <a:lnTo>
                      <a:pt x="23" y="239"/>
                    </a:lnTo>
                    <a:lnTo>
                      <a:pt x="0" y="2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53440" y="321480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fill="none" w="19" h="23">
                    <a:moveTo>
                      <a:pt x="4" y="0"/>
                    </a:moveTo>
                    <a:lnTo>
                      <a:pt x="19" y="5"/>
                    </a:lnTo>
                    <a:lnTo>
                      <a:pt x="9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81880" y="3201840"/>
                <a:ext cx="9720" cy="8280"/>
              </a:xfrm>
              <a:custGeom>
                <a:avLst/>
                <a:gdLst/>
                <a:ahLst/>
                <a:rect l="0" t="0" r="r" b="b"/>
                <a:pathLst>
                  <a:path fill="none" w="27" h="23">
                    <a:moveTo>
                      <a:pt x="10" y="2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7" y="8"/>
                    </a:lnTo>
                    <a:lnTo>
                      <a:pt x="27" y="23"/>
                    </a:lnTo>
                    <a:lnTo>
                      <a:pt x="10" y="2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80440" y="31798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9" y="0"/>
                    </a:moveTo>
                    <a:lnTo>
                      <a:pt x="0" y="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889760" y="3164040"/>
                <a:ext cx="427320" cy="79560"/>
              </a:xfrm>
              <a:custGeom>
                <a:avLst/>
                <a:gdLst/>
                <a:ahLst/>
                <a:rect l="0" t="0" r="r" b="b"/>
                <a:pathLst>
                  <a:path fill="none" w="1187" h="221">
                    <a:moveTo>
                      <a:pt x="1187" y="221"/>
                    </a:moveTo>
                    <a:lnTo>
                      <a:pt x="1163" y="197"/>
                    </a:lnTo>
                    <a:lnTo>
                      <a:pt x="1135" y="187"/>
                    </a:lnTo>
                    <a:lnTo>
                      <a:pt x="1125" y="173"/>
                    </a:lnTo>
                    <a:lnTo>
                      <a:pt x="1125" y="144"/>
                    </a:lnTo>
                    <a:lnTo>
                      <a:pt x="1106" y="125"/>
                    </a:lnTo>
                    <a:lnTo>
                      <a:pt x="1101" y="105"/>
                    </a:lnTo>
                    <a:lnTo>
                      <a:pt x="1068" y="105"/>
                    </a:lnTo>
                    <a:lnTo>
                      <a:pt x="1044" y="105"/>
                    </a:lnTo>
                    <a:lnTo>
                      <a:pt x="1016" y="95"/>
                    </a:lnTo>
                    <a:lnTo>
                      <a:pt x="997" y="57"/>
                    </a:lnTo>
                    <a:lnTo>
                      <a:pt x="978" y="57"/>
                    </a:lnTo>
                    <a:lnTo>
                      <a:pt x="959" y="38"/>
                    </a:lnTo>
                    <a:lnTo>
                      <a:pt x="930" y="47"/>
                    </a:lnTo>
                    <a:lnTo>
                      <a:pt x="907" y="57"/>
                    </a:lnTo>
                    <a:lnTo>
                      <a:pt x="893" y="47"/>
                    </a:lnTo>
                    <a:lnTo>
                      <a:pt x="859" y="23"/>
                    </a:lnTo>
                    <a:lnTo>
                      <a:pt x="821" y="19"/>
                    </a:lnTo>
                    <a:lnTo>
                      <a:pt x="793" y="0"/>
                    </a:lnTo>
                    <a:lnTo>
                      <a:pt x="760" y="9"/>
                    </a:lnTo>
                    <a:lnTo>
                      <a:pt x="741" y="38"/>
                    </a:lnTo>
                    <a:lnTo>
                      <a:pt x="693" y="52"/>
                    </a:lnTo>
                    <a:lnTo>
                      <a:pt x="679" y="67"/>
                    </a:lnTo>
                    <a:lnTo>
                      <a:pt x="646" y="67"/>
                    </a:lnTo>
                    <a:lnTo>
                      <a:pt x="613" y="67"/>
                    </a:lnTo>
                    <a:lnTo>
                      <a:pt x="594" y="86"/>
                    </a:lnTo>
                    <a:lnTo>
                      <a:pt x="574" y="100"/>
                    </a:lnTo>
                    <a:lnTo>
                      <a:pt x="536" y="111"/>
                    </a:lnTo>
                    <a:lnTo>
                      <a:pt x="517" y="100"/>
                    </a:lnTo>
                    <a:lnTo>
                      <a:pt x="517" y="71"/>
                    </a:lnTo>
                    <a:lnTo>
                      <a:pt x="502" y="62"/>
                    </a:lnTo>
                    <a:lnTo>
                      <a:pt x="507" y="43"/>
                    </a:lnTo>
                    <a:lnTo>
                      <a:pt x="460" y="28"/>
                    </a:lnTo>
                    <a:lnTo>
                      <a:pt x="450" y="47"/>
                    </a:lnTo>
                    <a:lnTo>
                      <a:pt x="398" y="28"/>
                    </a:lnTo>
                    <a:lnTo>
                      <a:pt x="351" y="38"/>
                    </a:lnTo>
                    <a:lnTo>
                      <a:pt x="322" y="57"/>
                    </a:lnTo>
                    <a:lnTo>
                      <a:pt x="246" y="76"/>
                    </a:lnTo>
                    <a:lnTo>
                      <a:pt x="223" y="100"/>
                    </a:lnTo>
                    <a:lnTo>
                      <a:pt x="161" y="111"/>
                    </a:lnTo>
                    <a:lnTo>
                      <a:pt x="94" y="100"/>
                    </a:lnTo>
                    <a:lnTo>
                      <a:pt x="0" y="120"/>
                    </a:lnTo>
                    <a:lnTo>
                      <a:pt x="94" y="105"/>
                    </a:lnTo>
                    <a:lnTo>
                      <a:pt x="142" y="116"/>
                    </a:lnTo>
                    <a:lnTo>
                      <a:pt x="180" y="116"/>
                    </a:lnTo>
                    <a:lnTo>
                      <a:pt x="227" y="105"/>
                    </a:lnTo>
                    <a:lnTo>
                      <a:pt x="256" y="86"/>
                    </a:lnTo>
                    <a:lnTo>
                      <a:pt x="289" y="86"/>
                    </a:lnTo>
                    <a:lnTo>
                      <a:pt x="303" y="95"/>
                    </a:lnTo>
                    <a:lnTo>
                      <a:pt x="336" y="76"/>
                    </a:lnTo>
                    <a:lnTo>
                      <a:pt x="360" y="52"/>
                    </a:lnTo>
                    <a:lnTo>
                      <a:pt x="403" y="57"/>
                    </a:lnTo>
                    <a:lnTo>
                      <a:pt x="422" y="52"/>
                    </a:lnTo>
                    <a:lnTo>
                      <a:pt x="455" y="62"/>
                    </a:lnTo>
                    <a:lnTo>
                      <a:pt x="488" y="57"/>
                    </a:lnTo>
                    <a:lnTo>
                      <a:pt x="502" y="81"/>
                    </a:lnTo>
                    <a:lnTo>
                      <a:pt x="498" y="95"/>
                    </a:lnTo>
                    <a:lnTo>
                      <a:pt x="479" y="95"/>
                    </a:lnTo>
                    <a:lnTo>
                      <a:pt x="474" y="116"/>
                    </a:lnTo>
                    <a:lnTo>
                      <a:pt x="498" y="135"/>
                    </a:lnTo>
                    <a:lnTo>
                      <a:pt x="521" y="120"/>
                    </a:lnTo>
                    <a:lnTo>
                      <a:pt x="536" y="140"/>
                    </a:lnTo>
                    <a:lnTo>
                      <a:pt x="550" y="120"/>
                    </a:lnTo>
                    <a:lnTo>
                      <a:pt x="588" y="105"/>
                    </a:lnTo>
                    <a:lnTo>
                      <a:pt x="622" y="86"/>
                    </a:lnTo>
                    <a:lnTo>
                      <a:pt x="651" y="86"/>
                    </a:lnTo>
                    <a:lnTo>
                      <a:pt x="679" y="76"/>
                    </a:lnTo>
                    <a:lnTo>
                      <a:pt x="712" y="71"/>
                    </a:lnTo>
                    <a:lnTo>
                      <a:pt x="741" y="47"/>
                    </a:lnTo>
                    <a:lnTo>
                      <a:pt x="774" y="47"/>
                    </a:lnTo>
                    <a:lnTo>
                      <a:pt x="793" y="28"/>
                    </a:lnTo>
                    <a:lnTo>
                      <a:pt x="826" y="33"/>
                    </a:lnTo>
                    <a:lnTo>
                      <a:pt x="864" y="33"/>
                    </a:lnTo>
                    <a:lnTo>
                      <a:pt x="897" y="76"/>
                    </a:lnTo>
                    <a:lnTo>
                      <a:pt x="940" y="67"/>
                    </a:lnTo>
                    <a:lnTo>
                      <a:pt x="983" y="100"/>
                    </a:lnTo>
                    <a:lnTo>
                      <a:pt x="997" y="91"/>
                    </a:lnTo>
                    <a:lnTo>
                      <a:pt x="1011" y="105"/>
                    </a:lnTo>
                    <a:lnTo>
                      <a:pt x="1044" y="116"/>
                    </a:lnTo>
                    <a:lnTo>
                      <a:pt x="1082" y="120"/>
                    </a:lnTo>
                    <a:lnTo>
                      <a:pt x="1101" y="154"/>
                    </a:lnTo>
                    <a:lnTo>
                      <a:pt x="1116" y="163"/>
                    </a:lnTo>
                    <a:lnTo>
                      <a:pt x="1111" y="192"/>
                    </a:lnTo>
                    <a:lnTo>
                      <a:pt x="1158" y="207"/>
                    </a:lnTo>
                    <a:lnTo>
                      <a:pt x="1187" y="22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085240" y="3236760"/>
                <a:ext cx="173520" cy="32040"/>
              </a:xfrm>
              <a:custGeom>
                <a:avLst/>
                <a:gdLst/>
                <a:ahLst/>
                <a:rect l="0" t="0" r="r" b="b"/>
                <a:pathLst>
                  <a:path fill="none" w="482" h="89">
                    <a:moveTo>
                      <a:pt x="482" y="89"/>
                    </a:moveTo>
                    <a:lnTo>
                      <a:pt x="439" y="69"/>
                    </a:lnTo>
                    <a:lnTo>
                      <a:pt x="406" y="74"/>
                    </a:lnTo>
                    <a:lnTo>
                      <a:pt x="377" y="79"/>
                    </a:lnTo>
                    <a:lnTo>
                      <a:pt x="357" y="74"/>
                    </a:lnTo>
                    <a:lnTo>
                      <a:pt x="334" y="64"/>
                    </a:lnTo>
                    <a:lnTo>
                      <a:pt x="305" y="64"/>
                    </a:lnTo>
                    <a:lnTo>
                      <a:pt x="291" y="69"/>
                    </a:lnTo>
                    <a:lnTo>
                      <a:pt x="267" y="69"/>
                    </a:lnTo>
                    <a:lnTo>
                      <a:pt x="234" y="64"/>
                    </a:lnTo>
                    <a:lnTo>
                      <a:pt x="181" y="64"/>
                    </a:lnTo>
                    <a:lnTo>
                      <a:pt x="162" y="29"/>
                    </a:lnTo>
                    <a:lnTo>
                      <a:pt x="139" y="34"/>
                    </a:lnTo>
                    <a:lnTo>
                      <a:pt x="129" y="9"/>
                    </a:lnTo>
                    <a:lnTo>
                      <a:pt x="99" y="0"/>
                    </a:lnTo>
                    <a:lnTo>
                      <a:pt x="90" y="19"/>
                    </a:lnTo>
                    <a:lnTo>
                      <a:pt x="80" y="4"/>
                    </a:lnTo>
                    <a:lnTo>
                      <a:pt x="52" y="9"/>
                    </a:lnTo>
                    <a:lnTo>
                      <a:pt x="71" y="24"/>
                    </a:lnTo>
                    <a:lnTo>
                      <a:pt x="66" y="34"/>
                    </a:lnTo>
                    <a:lnTo>
                      <a:pt x="38" y="45"/>
                    </a:lnTo>
                    <a:lnTo>
                      <a:pt x="38" y="59"/>
                    </a:lnTo>
                    <a:lnTo>
                      <a:pt x="0" y="64"/>
                    </a:lnTo>
                    <a:lnTo>
                      <a:pt x="47" y="64"/>
                    </a:lnTo>
                    <a:lnTo>
                      <a:pt x="71" y="45"/>
                    </a:lnTo>
                    <a:lnTo>
                      <a:pt x="95" y="34"/>
                    </a:lnTo>
                    <a:lnTo>
                      <a:pt x="114" y="34"/>
                    </a:lnTo>
                    <a:lnTo>
                      <a:pt x="109" y="54"/>
                    </a:lnTo>
                    <a:lnTo>
                      <a:pt x="139" y="64"/>
                    </a:lnTo>
                    <a:lnTo>
                      <a:pt x="153" y="54"/>
                    </a:lnTo>
                    <a:lnTo>
                      <a:pt x="172" y="74"/>
                    </a:lnTo>
                    <a:lnTo>
                      <a:pt x="234" y="84"/>
                    </a:lnTo>
                    <a:lnTo>
                      <a:pt x="291" y="79"/>
                    </a:lnTo>
                    <a:lnTo>
                      <a:pt x="363" y="89"/>
                    </a:lnTo>
                    <a:lnTo>
                      <a:pt x="430" y="74"/>
                    </a:lnTo>
                    <a:lnTo>
                      <a:pt x="482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110440" y="3228840"/>
                <a:ext cx="8280" cy="8280"/>
              </a:xfrm>
              <a:custGeom>
                <a:avLst/>
                <a:gdLst/>
                <a:ahLst/>
                <a:rect l="0" t="0" r="r" b="b"/>
                <a:pathLst>
                  <a:path fill="none" w="23" h="23">
                    <a:moveTo>
                      <a:pt x="0" y="4"/>
                    </a:moveTo>
                    <a:lnTo>
                      <a:pt x="0" y="23"/>
                    </a:lnTo>
                    <a:lnTo>
                      <a:pt x="23" y="23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088480" y="322740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18" y="0"/>
                    </a:moveTo>
                    <a:lnTo>
                      <a:pt x="0" y="4"/>
                    </a:lnTo>
                    <a:lnTo>
                      <a:pt x="14" y="14"/>
                    </a:lnTo>
                    <a:lnTo>
                      <a:pt x="27" y="9"/>
                    </a:lnTo>
                    <a:lnTo>
                      <a:pt x="23" y="4"/>
                    </a:lnTo>
                    <a:lnTo>
                      <a:pt x="1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959600" y="3240000"/>
                <a:ext cx="116280" cy="18000"/>
              </a:xfrm>
              <a:custGeom>
                <a:avLst/>
                <a:gdLst/>
                <a:ahLst/>
                <a:rect l="0" t="0" r="r" b="b"/>
                <a:pathLst>
                  <a:path fill="none" w="323" h="50">
                    <a:moveTo>
                      <a:pt x="262" y="50"/>
                    </a:moveTo>
                    <a:lnTo>
                      <a:pt x="319" y="41"/>
                    </a:lnTo>
                    <a:lnTo>
                      <a:pt x="323" y="23"/>
                    </a:lnTo>
                    <a:lnTo>
                      <a:pt x="304" y="4"/>
                    </a:lnTo>
                    <a:lnTo>
                      <a:pt x="281" y="0"/>
                    </a:lnTo>
                    <a:lnTo>
                      <a:pt x="262" y="8"/>
                    </a:lnTo>
                    <a:lnTo>
                      <a:pt x="243" y="0"/>
                    </a:lnTo>
                    <a:lnTo>
                      <a:pt x="223" y="0"/>
                    </a:lnTo>
                    <a:lnTo>
                      <a:pt x="209" y="14"/>
                    </a:lnTo>
                    <a:lnTo>
                      <a:pt x="190" y="23"/>
                    </a:lnTo>
                    <a:lnTo>
                      <a:pt x="166" y="23"/>
                    </a:lnTo>
                    <a:lnTo>
                      <a:pt x="157" y="31"/>
                    </a:lnTo>
                    <a:lnTo>
                      <a:pt x="0" y="50"/>
                    </a:lnTo>
                    <a:lnTo>
                      <a:pt x="223" y="50"/>
                    </a:lnTo>
                    <a:lnTo>
                      <a:pt x="262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790040" y="3219480"/>
                <a:ext cx="170280" cy="22680"/>
              </a:xfrm>
              <a:custGeom>
                <a:avLst/>
                <a:gdLst/>
                <a:ahLst/>
                <a:rect l="0" t="0" r="r" b="b"/>
                <a:pathLst>
                  <a:path fill="none" w="473" h="63">
                    <a:moveTo>
                      <a:pt x="473" y="58"/>
                    </a:moveTo>
                    <a:lnTo>
                      <a:pt x="473" y="34"/>
                    </a:lnTo>
                    <a:lnTo>
                      <a:pt x="440" y="24"/>
                    </a:lnTo>
                    <a:lnTo>
                      <a:pt x="402" y="29"/>
                    </a:lnTo>
                    <a:lnTo>
                      <a:pt x="383" y="4"/>
                    </a:lnTo>
                    <a:lnTo>
                      <a:pt x="353" y="9"/>
                    </a:lnTo>
                    <a:lnTo>
                      <a:pt x="329" y="24"/>
                    </a:lnTo>
                    <a:lnTo>
                      <a:pt x="291" y="24"/>
                    </a:lnTo>
                    <a:lnTo>
                      <a:pt x="277" y="24"/>
                    </a:lnTo>
                    <a:lnTo>
                      <a:pt x="258" y="38"/>
                    </a:lnTo>
                    <a:lnTo>
                      <a:pt x="186" y="34"/>
                    </a:lnTo>
                    <a:lnTo>
                      <a:pt x="163" y="9"/>
                    </a:lnTo>
                    <a:lnTo>
                      <a:pt x="109" y="0"/>
                    </a:lnTo>
                    <a:lnTo>
                      <a:pt x="76" y="24"/>
                    </a:lnTo>
                    <a:lnTo>
                      <a:pt x="33" y="24"/>
                    </a:lnTo>
                    <a:lnTo>
                      <a:pt x="47" y="9"/>
                    </a:lnTo>
                    <a:lnTo>
                      <a:pt x="0" y="34"/>
                    </a:lnTo>
                    <a:lnTo>
                      <a:pt x="28" y="38"/>
                    </a:lnTo>
                    <a:lnTo>
                      <a:pt x="76" y="43"/>
                    </a:lnTo>
                    <a:lnTo>
                      <a:pt x="114" y="34"/>
                    </a:lnTo>
                    <a:lnTo>
                      <a:pt x="182" y="43"/>
                    </a:lnTo>
                    <a:lnTo>
                      <a:pt x="239" y="49"/>
                    </a:lnTo>
                    <a:lnTo>
                      <a:pt x="310" y="43"/>
                    </a:lnTo>
                    <a:lnTo>
                      <a:pt x="353" y="58"/>
                    </a:lnTo>
                    <a:lnTo>
                      <a:pt x="416" y="63"/>
                    </a:lnTo>
                    <a:lnTo>
                      <a:pt x="450" y="54"/>
                    </a:lnTo>
                    <a:lnTo>
                      <a:pt x="473" y="5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966080" y="3236760"/>
                <a:ext cx="39960" cy="9720"/>
              </a:xfrm>
              <a:custGeom>
                <a:avLst/>
                <a:gdLst/>
                <a:ahLst/>
                <a:rect l="0" t="0" r="r" b="b"/>
                <a:pathLst>
                  <a:path fill="none" w="111" h="27">
                    <a:moveTo>
                      <a:pt x="0" y="5"/>
                    </a:moveTo>
                    <a:lnTo>
                      <a:pt x="63" y="0"/>
                    </a:lnTo>
                    <a:lnTo>
                      <a:pt x="111" y="27"/>
                    </a:lnTo>
                    <a:lnTo>
                      <a:pt x="47" y="27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50000" y="3157560"/>
                <a:ext cx="232200" cy="49680"/>
              </a:xfrm>
              <a:custGeom>
                <a:avLst/>
                <a:gdLst/>
                <a:ahLst/>
                <a:rect l="0" t="0" r="r" b="b"/>
                <a:pathLst>
                  <a:path fill="none" w="645" h="138">
                    <a:moveTo>
                      <a:pt x="645" y="138"/>
                    </a:moveTo>
                    <a:lnTo>
                      <a:pt x="621" y="119"/>
                    </a:lnTo>
                    <a:lnTo>
                      <a:pt x="583" y="115"/>
                    </a:lnTo>
                    <a:lnTo>
                      <a:pt x="564" y="138"/>
                    </a:lnTo>
                    <a:lnTo>
                      <a:pt x="502" y="129"/>
                    </a:lnTo>
                    <a:lnTo>
                      <a:pt x="477" y="105"/>
                    </a:lnTo>
                    <a:lnTo>
                      <a:pt x="444" y="105"/>
                    </a:lnTo>
                    <a:lnTo>
                      <a:pt x="425" y="110"/>
                    </a:lnTo>
                    <a:lnTo>
                      <a:pt x="406" y="99"/>
                    </a:lnTo>
                    <a:lnTo>
                      <a:pt x="372" y="110"/>
                    </a:lnTo>
                    <a:lnTo>
                      <a:pt x="358" y="90"/>
                    </a:lnTo>
                    <a:lnTo>
                      <a:pt x="310" y="99"/>
                    </a:lnTo>
                    <a:lnTo>
                      <a:pt x="306" y="85"/>
                    </a:lnTo>
                    <a:lnTo>
                      <a:pt x="263" y="76"/>
                    </a:lnTo>
                    <a:lnTo>
                      <a:pt x="225" y="85"/>
                    </a:lnTo>
                    <a:lnTo>
                      <a:pt x="229" y="66"/>
                    </a:lnTo>
                    <a:lnTo>
                      <a:pt x="210" y="62"/>
                    </a:lnTo>
                    <a:lnTo>
                      <a:pt x="182" y="71"/>
                    </a:lnTo>
                    <a:lnTo>
                      <a:pt x="152" y="62"/>
                    </a:lnTo>
                    <a:lnTo>
                      <a:pt x="143" y="52"/>
                    </a:lnTo>
                    <a:lnTo>
                      <a:pt x="104" y="48"/>
                    </a:lnTo>
                    <a:lnTo>
                      <a:pt x="81" y="62"/>
                    </a:lnTo>
                    <a:lnTo>
                      <a:pt x="57" y="57"/>
                    </a:lnTo>
                    <a:lnTo>
                      <a:pt x="0" y="81"/>
                    </a:lnTo>
                    <a:lnTo>
                      <a:pt x="61" y="43"/>
                    </a:lnTo>
                    <a:lnTo>
                      <a:pt x="81" y="48"/>
                    </a:lnTo>
                    <a:lnTo>
                      <a:pt x="104" y="32"/>
                    </a:lnTo>
                    <a:lnTo>
                      <a:pt x="138" y="32"/>
                    </a:lnTo>
                    <a:lnTo>
                      <a:pt x="33" y="0"/>
                    </a:lnTo>
                    <a:lnTo>
                      <a:pt x="210" y="52"/>
                    </a:lnTo>
                    <a:lnTo>
                      <a:pt x="239" y="48"/>
                    </a:lnTo>
                    <a:lnTo>
                      <a:pt x="253" y="71"/>
                    </a:lnTo>
                    <a:lnTo>
                      <a:pt x="310" y="66"/>
                    </a:lnTo>
                    <a:lnTo>
                      <a:pt x="330" y="85"/>
                    </a:lnTo>
                    <a:lnTo>
                      <a:pt x="363" y="85"/>
                    </a:lnTo>
                    <a:lnTo>
                      <a:pt x="382" y="90"/>
                    </a:lnTo>
                    <a:lnTo>
                      <a:pt x="415" y="85"/>
                    </a:lnTo>
                    <a:lnTo>
                      <a:pt x="439" y="99"/>
                    </a:lnTo>
                    <a:lnTo>
                      <a:pt x="477" y="85"/>
                    </a:lnTo>
                    <a:lnTo>
                      <a:pt x="521" y="115"/>
                    </a:lnTo>
                    <a:lnTo>
                      <a:pt x="555" y="119"/>
                    </a:lnTo>
                    <a:lnTo>
                      <a:pt x="583" y="105"/>
                    </a:lnTo>
                    <a:lnTo>
                      <a:pt x="631" y="115"/>
                    </a:lnTo>
                    <a:lnTo>
                      <a:pt x="645" y="1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535880" y="3184560"/>
                <a:ext cx="284400" cy="28800"/>
              </a:xfrm>
              <a:custGeom>
                <a:avLst/>
                <a:gdLst/>
                <a:ahLst/>
                <a:rect l="0" t="0" r="r" b="b"/>
                <a:pathLst>
                  <a:path fill="none" w="790" h="80">
                    <a:moveTo>
                      <a:pt x="790" y="71"/>
                    </a:moveTo>
                    <a:lnTo>
                      <a:pt x="785" y="47"/>
                    </a:lnTo>
                    <a:lnTo>
                      <a:pt x="742" y="43"/>
                    </a:lnTo>
                    <a:lnTo>
                      <a:pt x="733" y="52"/>
                    </a:lnTo>
                    <a:lnTo>
                      <a:pt x="709" y="43"/>
                    </a:lnTo>
                    <a:lnTo>
                      <a:pt x="695" y="47"/>
                    </a:lnTo>
                    <a:lnTo>
                      <a:pt x="685" y="52"/>
                    </a:lnTo>
                    <a:lnTo>
                      <a:pt x="661" y="57"/>
                    </a:lnTo>
                    <a:lnTo>
                      <a:pt x="633" y="37"/>
                    </a:lnTo>
                    <a:lnTo>
                      <a:pt x="600" y="37"/>
                    </a:lnTo>
                    <a:lnTo>
                      <a:pt x="585" y="52"/>
                    </a:lnTo>
                    <a:lnTo>
                      <a:pt x="557" y="23"/>
                    </a:lnTo>
                    <a:lnTo>
                      <a:pt x="524" y="23"/>
                    </a:lnTo>
                    <a:lnTo>
                      <a:pt x="486" y="9"/>
                    </a:lnTo>
                    <a:lnTo>
                      <a:pt x="457" y="28"/>
                    </a:lnTo>
                    <a:lnTo>
                      <a:pt x="433" y="4"/>
                    </a:lnTo>
                    <a:lnTo>
                      <a:pt x="405" y="4"/>
                    </a:lnTo>
                    <a:lnTo>
                      <a:pt x="370" y="28"/>
                    </a:lnTo>
                    <a:lnTo>
                      <a:pt x="347" y="9"/>
                    </a:lnTo>
                    <a:lnTo>
                      <a:pt x="313" y="23"/>
                    </a:lnTo>
                    <a:lnTo>
                      <a:pt x="275" y="23"/>
                    </a:lnTo>
                    <a:lnTo>
                      <a:pt x="252" y="9"/>
                    </a:lnTo>
                    <a:lnTo>
                      <a:pt x="185" y="18"/>
                    </a:lnTo>
                    <a:lnTo>
                      <a:pt x="137" y="0"/>
                    </a:lnTo>
                    <a:lnTo>
                      <a:pt x="0" y="9"/>
                    </a:lnTo>
                    <a:lnTo>
                      <a:pt x="114" y="14"/>
                    </a:lnTo>
                    <a:lnTo>
                      <a:pt x="152" y="37"/>
                    </a:lnTo>
                    <a:lnTo>
                      <a:pt x="228" y="28"/>
                    </a:lnTo>
                    <a:lnTo>
                      <a:pt x="247" y="37"/>
                    </a:lnTo>
                    <a:lnTo>
                      <a:pt x="294" y="37"/>
                    </a:lnTo>
                    <a:lnTo>
                      <a:pt x="328" y="37"/>
                    </a:lnTo>
                    <a:lnTo>
                      <a:pt x="375" y="43"/>
                    </a:lnTo>
                    <a:lnTo>
                      <a:pt x="332" y="66"/>
                    </a:lnTo>
                    <a:lnTo>
                      <a:pt x="409" y="61"/>
                    </a:lnTo>
                    <a:lnTo>
                      <a:pt x="452" y="52"/>
                    </a:lnTo>
                    <a:lnTo>
                      <a:pt x="524" y="66"/>
                    </a:lnTo>
                    <a:lnTo>
                      <a:pt x="562" y="80"/>
                    </a:lnTo>
                    <a:lnTo>
                      <a:pt x="595" y="71"/>
                    </a:lnTo>
                    <a:lnTo>
                      <a:pt x="628" y="71"/>
                    </a:lnTo>
                    <a:lnTo>
                      <a:pt x="704" y="75"/>
                    </a:lnTo>
                    <a:lnTo>
                      <a:pt x="761" y="61"/>
                    </a:lnTo>
                    <a:lnTo>
                      <a:pt x="79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15080" y="3165480"/>
                <a:ext cx="46440" cy="9720"/>
              </a:xfrm>
              <a:custGeom>
                <a:avLst/>
                <a:gdLst/>
                <a:ahLst/>
                <a:rect l="0" t="0" r="r" b="b"/>
                <a:pathLst>
                  <a:path fill="none" w="129" h="27">
                    <a:moveTo>
                      <a:pt x="110" y="5"/>
                    </a:moveTo>
                    <a:lnTo>
                      <a:pt x="76" y="0"/>
                    </a:lnTo>
                    <a:lnTo>
                      <a:pt x="34" y="10"/>
                    </a:lnTo>
                    <a:lnTo>
                      <a:pt x="0" y="22"/>
                    </a:lnTo>
                    <a:lnTo>
                      <a:pt x="76" y="27"/>
                    </a:lnTo>
                    <a:lnTo>
                      <a:pt x="129" y="22"/>
                    </a:lnTo>
                    <a:lnTo>
                      <a:pt x="1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504200" y="3138480"/>
                <a:ext cx="41760" cy="3600"/>
              </a:xfrm>
              <a:custGeom>
                <a:avLst/>
                <a:gdLst/>
                <a:ahLst/>
                <a:rect l="0" t="0" r="r" b="b"/>
                <a:pathLst>
                  <a:path fill="none" w="116" h="10">
                    <a:moveTo>
                      <a:pt x="116" y="10"/>
                    </a:moveTo>
                    <a:lnTo>
                      <a:pt x="78" y="0"/>
                    </a:lnTo>
                    <a:lnTo>
                      <a:pt x="46" y="10"/>
                    </a:lnTo>
                    <a:lnTo>
                      <a:pt x="0" y="10"/>
                    </a:lnTo>
                    <a:lnTo>
                      <a:pt x="65" y="10"/>
                    </a:lnTo>
                    <a:lnTo>
                      <a:pt x="89" y="10"/>
                    </a:lnTo>
                    <a:lnTo>
                      <a:pt x="116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91240" y="3111480"/>
                <a:ext cx="113040" cy="6840"/>
              </a:xfrm>
              <a:custGeom>
                <a:avLst/>
                <a:gdLst/>
                <a:ahLst/>
                <a:rect l="0" t="0" r="r" b="b"/>
                <a:pathLst>
                  <a:path fill="none" w="314" h="19">
                    <a:moveTo>
                      <a:pt x="0" y="0"/>
                    </a:moveTo>
                    <a:lnTo>
                      <a:pt x="71" y="4"/>
                    </a:lnTo>
                    <a:lnTo>
                      <a:pt x="156" y="0"/>
                    </a:lnTo>
                    <a:lnTo>
                      <a:pt x="223" y="4"/>
                    </a:lnTo>
                    <a:lnTo>
                      <a:pt x="304" y="0"/>
                    </a:lnTo>
                    <a:lnTo>
                      <a:pt x="314" y="9"/>
                    </a:lnTo>
                    <a:lnTo>
                      <a:pt x="228" y="19"/>
                    </a:lnTo>
                    <a:lnTo>
                      <a:pt x="142" y="15"/>
                    </a:lnTo>
                    <a:lnTo>
                      <a:pt x="75" y="1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711920" y="2900520"/>
                <a:ext cx="3600" cy="120960"/>
              </a:xfrm>
              <a:custGeom>
                <a:avLst/>
                <a:gdLst/>
                <a:ahLst/>
                <a:rect l="0" t="0" r="r" b="b"/>
                <a:pathLst>
                  <a:path fill="none" w="10" h="336">
                    <a:moveTo>
                      <a:pt x="0" y="336"/>
                    </a:moveTo>
                    <a:lnTo>
                      <a:pt x="10" y="0"/>
                    </a:lnTo>
                    <a:lnTo>
                      <a:pt x="5" y="336"/>
                    </a:lnTo>
                    <a:lnTo>
                      <a:pt x="0" y="3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715160" y="2900520"/>
                <a:ext cx="3600" cy="122760"/>
              </a:xfrm>
              <a:custGeom>
                <a:avLst/>
                <a:gdLst/>
                <a:ahLst/>
                <a:rect l="0" t="0" r="r" b="b"/>
                <a:pathLst>
                  <a:path fill="none" w="10" h="341">
                    <a:moveTo>
                      <a:pt x="0" y="0"/>
                    </a:moveTo>
                    <a:lnTo>
                      <a:pt x="0" y="341"/>
                    </a:lnTo>
                    <a:lnTo>
                      <a:pt x="10" y="341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711920" y="2901960"/>
                <a:ext cx="19440" cy="3600"/>
              </a:xfrm>
              <a:custGeom>
                <a:avLst/>
                <a:gdLst/>
                <a:ahLst/>
                <a:rect l="0" t="0" r="r" b="b"/>
                <a:pathLst>
                  <a:path fill="none" w="54" h="10">
                    <a:moveTo>
                      <a:pt x="4" y="10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5" y="5"/>
                    </a:lnTo>
                    <a:lnTo>
                      <a:pt x="15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4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716960" y="2913120"/>
                <a:ext cx="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16960" y="291780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558200" y="3009960"/>
                <a:ext cx="90720" cy="33840"/>
              </a:xfrm>
              <a:custGeom>
                <a:avLst/>
                <a:gdLst/>
                <a:ahLst/>
                <a:rect l="0" t="0" r="r" b="b"/>
                <a:pathLst>
                  <a:path fill="none" w="252" h="94">
                    <a:moveTo>
                      <a:pt x="185" y="0"/>
                    </a:moveTo>
                    <a:lnTo>
                      <a:pt x="166" y="14"/>
                    </a:lnTo>
                    <a:lnTo>
                      <a:pt x="157" y="14"/>
                    </a:lnTo>
                    <a:lnTo>
                      <a:pt x="166" y="25"/>
                    </a:lnTo>
                    <a:lnTo>
                      <a:pt x="129" y="25"/>
                    </a:lnTo>
                    <a:lnTo>
                      <a:pt x="143" y="35"/>
                    </a:lnTo>
                    <a:lnTo>
                      <a:pt x="104" y="35"/>
                    </a:lnTo>
                    <a:lnTo>
                      <a:pt x="118" y="44"/>
                    </a:lnTo>
                    <a:lnTo>
                      <a:pt x="80" y="44"/>
                    </a:lnTo>
                    <a:lnTo>
                      <a:pt x="94" y="49"/>
                    </a:lnTo>
                    <a:lnTo>
                      <a:pt x="61" y="49"/>
                    </a:lnTo>
                    <a:lnTo>
                      <a:pt x="75" y="59"/>
                    </a:lnTo>
                    <a:lnTo>
                      <a:pt x="47" y="59"/>
                    </a:lnTo>
                    <a:lnTo>
                      <a:pt x="56" y="64"/>
                    </a:lnTo>
                    <a:lnTo>
                      <a:pt x="28" y="64"/>
                    </a:lnTo>
                    <a:lnTo>
                      <a:pt x="33" y="69"/>
                    </a:lnTo>
                    <a:lnTo>
                      <a:pt x="14" y="69"/>
                    </a:lnTo>
                    <a:lnTo>
                      <a:pt x="23" y="75"/>
                    </a:lnTo>
                    <a:lnTo>
                      <a:pt x="0" y="75"/>
                    </a:lnTo>
                    <a:lnTo>
                      <a:pt x="14" y="89"/>
                    </a:lnTo>
                    <a:lnTo>
                      <a:pt x="42" y="89"/>
                    </a:lnTo>
                    <a:lnTo>
                      <a:pt x="52" y="94"/>
                    </a:lnTo>
                    <a:lnTo>
                      <a:pt x="252" y="25"/>
                    </a:lnTo>
                    <a:lnTo>
                      <a:pt x="209" y="0"/>
                    </a:lnTo>
                    <a:lnTo>
                      <a:pt x="1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558200" y="301320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8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562880" y="301140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4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567560" y="3009960"/>
                <a:ext cx="16200" cy="22680"/>
              </a:xfrm>
              <a:custGeom>
                <a:avLst/>
                <a:gdLst/>
                <a:ahLst/>
                <a:rect l="0" t="0" r="r" b="b"/>
                <a:pathLst>
                  <a:path fill="none" w="45" h="63">
                    <a:moveTo>
                      <a:pt x="0" y="63"/>
                    </a:moveTo>
                    <a:lnTo>
                      <a:pt x="14" y="54"/>
                    </a:lnTo>
                    <a:lnTo>
                      <a:pt x="30" y="0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575480" y="3006720"/>
                <a:ext cx="14760" cy="24120"/>
              </a:xfrm>
              <a:custGeom>
                <a:avLst/>
                <a:gdLst/>
                <a:ahLst/>
                <a:rect l="0" t="0" r="r" b="b"/>
                <a:pathLst>
                  <a:path fill="none" w="41" h="67">
                    <a:moveTo>
                      <a:pt x="0" y="67"/>
                    </a:moveTo>
                    <a:lnTo>
                      <a:pt x="14" y="57"/>
                    </a:lnTo>
                    <a:lnTo>
                      <a:pt x="23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580160" y="3003480"/>
                <a:ext cx="18000" cy="24120"/>
              </a:xfrm>
              <a:custGeom>
                <a:avLst/>
                <a:gdLst/>
                <a:ahLst/>
                <a:rect l="0" t="0" r="r" b="b"/>
                <a:pathLst>
                  <a:path fill="none" w="50" h="67">
                    <a:moveTo>
                      <a:pt x="0" y="67"/>
                    </a:moveTo>
                    <a:lnTo>
                      <a:pt x="20" y="62"/>
                    </a:lnTo>
                    <a:lnTo>
                      <a:pt x="30" y="0"/>
                    </a:lnTo>
                    <a:lnTo>
                      <a:pt x="5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586640" y="3000240"/>
                <a:ext cx="19440" cy="25920"/>
              </a:xfrm>
              <a:custGeom>
                <a:avLst/>
                <a:gdLst/>
                <a:ahLst/>
                <a:rect l="0" t="0" r="r" b="b"/>
                <a:pathLst>
                  <a:path fill="none" w="54" h="72">
                    <a:moveTo>
                      <a:pt x="0" y="72"/>
                    </a:moveTo>
                    <a:lnTo>
                      <a:pt x="20" y="63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596360" y="2995560"/>
                <a:ext cx="19440" cy="27360"/>
              </a:xfrm>
              <a:custGeom>
                <a:avLst/>
                <a:gdLst/>
                <a:ahLst/>
                <a:rect l="0" t="0" r="r" b="b"/>
                <a:pathLst>
                  <a:path fill="none" w="54" h="76">
                    <a:moveTo>
                      <a:pt x="0" y="76"/>
                    </a:moveTo>
                    <a:lnTo>
                      <a:pt x="20" y="66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04280" y="2992320"/>
                <a:ext cx="41760" cy="25920"/>
              </a:xfrm>
              <a:custGeom>
                <a:avLst/>
                <a:gdLst/>
                <a:ahLst/>
                <a:rect l="0" t="0" r="r" b="b"/>
                <a:pathLst>
                  <a:path fill="none" w="116" h="72">
                    <a:moveTo>
                      <a:pt x="0" y="72"/>
                    </a:moveTo>
                    <a:lnTo>
                      <a:pt x="19" y="63"/>
                    </a:lnTo>
                    <a:lnTo>
                      <a:pt x="28" y="0"/>
                    </a:lnTo>
                    <a:lnTo>
                      <a:pt x="63" y="0"/>
                    </a:lnTo>
                    <a:lnTo>
                      <a:pt x="11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48560" y="3003480"/>
                <a:ext cx="63720" cy="5040"/>
              </a:xfrm>
              <a:custGeom>
                <a:avLst/>
                <a:gdLst/>
                <a:ahLst/>
                <a:rect l="0" t="0" r="r" b="b"/>
                <a:pathLst>
                  <a:path fill="none" w="177" h="14">
                    <a:moveTo>
                      <a:pt x="0" y="14"/>
                    </a:moveTo>
                    <a:lnTo>
                      <a:pt x="42" y="9"/>
                    </a:lnTo>
                    <a:lnTo>
                      <a:pt x="177" y="0"/>
                    </a:lnTo>
                    <a:lnTo>
                      <a:pt x="177" y="4"/>
                    </a:lnTo>
                    <a:lnTo>
                      <a:pt x="134" y="9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716960" y="3000240"/>
                <a:ext cx="46440" cy="20880"/>
              </a:xfrm>
              <a:custGeom>
                <a:avLst/>
                <a:gdLst/>
                <a:ahLst/>
                <a:rect l="0" t="0" r="r" b="b"/>
                <a:pathLst>
                  <a:path fill="none" w="129" h="58">
                    <a:moveTo>
                      <a:pt x="0" y="9"/>
                    </a:moveTo>
                    <a:lnTo>
                      <a:pt x="34" y="9"/>
                    </a:lnTo>
                    <a:lnTo>
                      <a:pt x="38" y="0"/>
                    </a:lnTo>
                    <a:lnTo>
                      <a:pt x="62" y="9"/>
                    </a:lnTo>
                    <a:lnTo>
                      <a:pt x="90" y="14"/>
                    </a:lnTo>
                    <a:lnTo>
                      <a:pt x="67" y="14"/>
                    </a:lnTo>
                    <a:lnTo>
                      <a:pt x="101" y="28"/>
                    </a:lnTo>
                    <a:lnTo>
                      <a:pt x="101" y="19"/>
                    </a:lnTo>
                    <a:lnTo>
                      <a:pt x="125" y="34"/>
                    </a:lnTo>
                    <a:lnTo>
                      <a:pt x="129" y="39"/>
                    </a:lnTo>
                    <a:lnTo>
                      <a:pt x="125" y="43"/>
                    </a:lnTo>
                    <a:lnTo>
                      <a:pt x="120" y="48"/>
                    </a:lnTo>
                    <a:lnTo>
                      <a:pt x="101" y="53"/>
                    </a:lnTo>
                    <a:lnTo>
                      <a:pt x="62" y="58"/>
                    </a:lnTo>
                    <a:lnTo>
                      <a:pt x="23" y="58"/>
                    </a:lnTo>
                    <a:lnTo>
                      <a:pt x="23" y="39"/>
                    </a:lnTo>
                    <a:lnTo>
                      <a:pt x="18" y="34"/>
                    </a:lnTo>
                    <a:lnTo>
                      <a:pt x="4" y="23"/>
                    </a:lnTo>
                    <a:lnTo>
                      <a:pt x="4" y="19"/>
                    </a:lnTo>
                    <a:lnTo>
                      <a:pt x="34" y="28"/>
                    </a:lnTo>
                    <a:lnTo>
                      <a:pt x="43" y="34"/>
                    </a:lnTo>
                    <a:lnTo>
                      <a:pt x="53" y="43"/>
                    </a:lnTo>
                    <a:lnTo>
                      <a:pt x="86" y="43"/>
                    </a:lnTo>
                    <a:lnTo>
                      <a:pt x="90" y="28"/>
                    </a:lnTo>
                    <a:lnTo>
                      <a:pt x="57" y="19"/>
                    </a:lnTo>
                    <a:lnTo>
                      <a:pt x="38" y="14"/>
                    </a:lnTo>
                    <a:lnTo>
                      <a:pt x="0" y="14"/>
                    </a:lnTo>
                    <a:lnTo>
                      <a:pt x="0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718400" y="301788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83480" y="3014640"/>
                <a:ext cx="30600" cy="8280"/>
              </a:xfrm>
              <a:custGeom>
                <a:avLst/>
                <a:gdLst/>
                <a:ahLst/>
                <a:rect l="0" t="0" r="r" b="b"/>
                <a:pathLst>
                  <a:path fill="none" w="85" h="23">
                    <a:moveTo>
                      <a:pt x="85" y="12"/>
                    </a:moveTo>
                    <a:lnTo>
                      <a:pt x="67" y="17"/>
                    </a:lnTo>
                    <a:lnTo>
                      <a:pt x="38" y="12"/>
                    </a:lnTo>
                    <a:lnTo>
                      <a:pt x="13" y="5"/>
                    </a:lnTo>
                    <a:lnTo>
                      <a:pt x="24" y="0"/>
                    </a:lnTo>
                    <a:lnTo>
                      <a:pt x="0" y="5"/>
                    </a:lnTo>
                    <a:lnTo>
                      <a:pt x="24" y="12"/>
                    </a:lnTo>
                    <a:lnTo>
                      <a:pt x="52" y="23"/>
                    </a:lnTo>
                    <a:lnTo>
                      <a:pt x="85" y="23"/>
                    </a:lnTo>
                    <a:lnTo>
                      <a:pt x="85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716960" y="2998800"/>
                <a:ext cx="14760" cy="1800"/>
              </a:xfrm>
              <a:custGeom>
                <a:avLst/>
                <a:gdLst/>
                <a:ahLst/>
                <a:rect l="0" t="0" r="r" b="b"/>
                <a:pathLst>
                  <a:path fill="none" w="41" h="5">
                    <a:moveTo>
                      <a:pt x="41" y="5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0" y="5"/>
                    </a:lnTo>
                    <a:lnTo>
                      <a:pt x="41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94640" y="2998800"/>
                <a:ext cx="19440" cy="6840"/>
              </a:xfrm>
              <a:custGeom>
                <a:avLst/>
                <a:gdLst/>
                <a:ahLst/>
                <a:rect l="0" t="0" r="r" b="b"/>
                <a:pathLst>
                  <a:path fill="none" w="54" h="19">
                    <a:moveTo>
                      <a:pt x="54" y="0"/>
                    </a:moveTo>
                    <a:lnTo>
                      <a:pt x="45" y="4"/>
                    </a:lnTo>
                    <a:lnTo>
                      <a:pt x="0" y="19"/>
                    </a:lnTo>
                    <a:lnTo>
                      <a:pt x="45" y="19"/>
                    </a:lnTo>
                    <a:lnTo>
                      <a:pt x="39" y="9"/>
                    </a:lnTo>
                    <a:lnTo>
                      <a:pt x="54" y="4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124840" y="298944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fill="none" w="102" h="116">
                    <a:moveTo>
                      <a:pt x="97" y="0"/>
                    </a:moveTo>
                    <a:lnTo>
                      <a:pt x="97" y="58"/>
                    </a:lnTo>
                    <a:lnTo>
                      <a:pt x="0" y="58"/>
                    </a:lnTo>
                    <a:lnTo>
                      <a:pt x="74" y="116"/>
                    </a:lnTo>
                    <a:lnTo>
                      <a:pt x="97" y="116"/>
                    </a:lnTo>
                    <a:lnTo>
                      <a:pt x="27" y="63"/>
                    </a:lnTo>
                    <a:lnTo>
                      <a:pt x="97" y="63"/>
                    </a:lnTo>
                    <a:lnTo>
                      <a:pt x="97" y="107"/>
                    </a:lnTo>
                    <a:lnTo>
                      <a:pt x="102" y="72"/>
                    </a:lnTo>
                    <a:lnTo>
                      <a:pt x="102" y="0"/>
                    </a:lnTo>
                    <a:lnTo>
                      <a:pt x="9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131320" y="2987640"/>
                <a:ext cx="1800" cy="41760"/>
              </a:xfrm>
              <a:custGeom>
                <a:avLst/>
                <a:gdLst/>
                <a:ahLst/>
                <a:rect l="0" t="0" r="r" b="b"/>
                <a:pathLst>
                  <a:path fill="none" w="5" h="116">
                    <a:moveTo>
                      <a:pt x="0" y="116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6"/>
                    </a:lnTo>
                    <a:lnTo>
                      <a:pt x="0" y="11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153280" y="3016080"/>
                <a:ext cx="3600" cy="5040"/>
              </a:xfrm>
              <a:custGeom>
                <a:avLst/>
                <a:gdLst/>
                <a:ahLst/>
                <a:rect l="0" t="0" r="r" b="b"/>
                <a:pathLst>
                  <a:path fill="none" w="10" h="14">
                    <a:moveTo>
                      <a:pt x="0" y="0"/>
                    </a:moveTo>
                    <a:lnTo>
                      <a:pt x="0" y="6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70760" y="2998800"/>
                <a:ext cx="178200" cy="68760"/>
              </a:xfrm>
              <a:custGeom>
                <a:avLst/>
                <a:gdLst/>
                <a:ahLst/>
                <a:rect l="0" t="0" r="r" b="b"/>
                <a:pathLst>
                  <a:path fill="none" w="495" h="191">
                    <a:moveTo>
                      <a:pt x="481" y="0"/>
                    </a:moveTo>
                    <a:lnTo>
                      <a:pt x="491" y="0"/>
                    </a:lnTo>
                    <a:lnTo>
                      <a:pt x="495" y="4"/>
                    </a:lnTo>
                    <a:lnTo>
                      <a:pt x="491" y="14"/>
                    </a:lnTo>
                    <a:lnTo>
                      <a:pt x="0" y="191"/>
                    </a:lnTo>
                    <a:lnTo>
                      <a:pt x="48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593200" y="2998800"/>
                <a:ext cx="28800" cy="11520"/>
              </a:xfrm>
              <a:custGeom>
                <a:avLst/>
                <a:gdLst/>
                <a:ahLst/>
                <a:rect l="0" t="0" r="r" b="b"/>
                <a:pathLst>
                  <a:path fill="none" w="80" h="32">
                    <a:moveTo>
                      <a:pt x="1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80" y="3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878600" y="2986200"/>
                <a:ext cx="33840" cy="20880"/>
              </a:xfrm>
              <a:custGeom>
                <a:avLst/>
                <a:gdLst/>
                <a:ahLst/>
                <a:rect l="0" t="0" r="r" b="b"/>
                <a:pathLst>
                  <a:path fill="none" w="94" h="58">
                    <a:moveTo>
                      <a:pt x="59" y="23"/>
                    </a:moveTo>
                    <a:lnTo>
                      <a:pt x="49" y="4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79" y="58"/>
                    </a:lnTo>
                    <a:lnTo>
                      <a:pt x="69" y="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897680" y="299088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861320" y="2978280"/>
                <a:ext cx="18000" cy="25920"/>
              </a:xfrm>
              <a:custGeom>
                <a:avLst/>
                <a:gdLst/>
                <a:ahLst/>
                <a:rect l="0" t="0" r="r" b="b"/>
                <a:pathLst>
                  <a:path fill="none" w="50" h="72">
                    <a:moveTo>
                      <a:pt x="50" y="33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4" y="63"/>
                    </a:lnTo>
                    <a:lnTo>
                      <a:pt x="0" y="67"/>
                    </a:lnTo>
                    <a:lnTo>
                      <a:pt x="50" y="72"/>
                    </a:lnTo>
                    <a:lnTo>
                      <a:pt x="50" y="3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846920" y="3002040"/>
                <a:ext cx="82800" cy="14760"/>
              </a:xfrm>
              <a:custGeom>
                <a:avLst/>
                <a:gdLst/>
                <a:ahLst/>
                <a:rect l="0" t="0" r="r" b="b"/>
                <a:pathLst>
                  <a:path fill="none" w="230" h="41">
                    <a:moveTo>
                      <a:pt x="23" y="0"/>
                    </a:moveTo>
                    <a:lnTo>
                      <a:pt x="23" y="14"/>
                    </a:lnTo>
                    <a:lnTo>
                      <a:pt x="76" y="8"/>
                    </a:lnTo>
                    <a:lnTo>
                      <a:pt x="85" y="8"/>
                    </a:lnTo>
                    <a:lnTo>
                      <a:pt x="76" y="27"/>
                    </a:lnTo>
                    <a:lnTo>
                      <a:pt x="125" y="27"/>
                    </a:lnTo>
                    <a:lnTo>
                      <a:pt x="125" y="18"/>
                    </a:lnTo>
                    <a:lnTo>
                      <a:pt x="90" y="14"/>
                    </a:lnTo>
                    <a:lnTo>
                      <a:pt x="163" y="14"/>
                    </a:lnTo>
                    <a:lnTo>
                      <a:pt x="211" y="23"/>
                    </a:lnTo>
                    <a:lnTo>
                      <a:pt x="230" y="27"/>
                    </a:lnTo>
                    <a:lnTo>
                      <a:pt x="149" y="41"/>
                    </a:lnTo>
                    <a:lnTo>
                      <a:pt x="95" y="32"/>
                    </a:lnTo>
                    <a:lnTo>
                      <a:pt x="52" y="32"/>
                    </a:lnTo>
                    <a:lnTo>
                      <a:pt x="19" y="27"/>
                    </a:lnTo>
                    <a:lnTo>
                      <a:pt x="9" y="23"/>
                    </a:lnTo>
                    <a:lnTo>
                      <a:pt x="0" y="18"/>
                    </a:lnTo>
                    <a:lnTo>
                      <a:pt x="9" y="14"/>
                    </a:lnTo>
                    <a:lnTo>
                      <a:pt x="14" y="8"/>
                    </a:lnTo>
                    <a:lnTo>
                      <a:pt x="19" y="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15320" y="2979720"/>
                <a:ext cx="35280" cy="22680"/>
              </a:xfrm>
              <a:custGeom>
                <a:avLst/>
                <a:gdLst/>
                <a:ahLst/>
                <a:rect l="0" t="0" r="r" b="b"/>
                <a:pathLst>
                  <a:path fill="none" w="98" h="63">
                    <a:moveTo>
                      <a:pt x="59" y="24"/>
                    </a:moveTo>
                    <a:lnTo>
                      <a:pt x="43" y="4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78" y="63"/>
                    </a:lnTo>
                    <a:lnTo>
                      <a:pt x="73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32600" y="298440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893000" y="2970360"/>
                <a:ext cx="22680" cy="28800"/>
              </a:xfrm>
              <a:custGeom>
                <a:avLst/>
                <a:gdLst/>
                <a:ahLst/>
                <a:rect l="0" t="0" r="r" b="b"/>
                <a:pathLst>
                  <a:path fill="none" w="63" h="80">
                    <a:moveTo>
                      <a:pt x="63" y="34"/>
                    </a:moveTo>
                    <a:lnTo>
                      <a:pt x="34" y="0"/>
                    </a:lnTo>
                    <a:lnTo>
                      <a:pt x="0" y="0"/>
                    </a:lnTo>
                    <a:lnTo>
                      <a:pt x="14" y="70"/>
                    </a:lnTo>
                    <a:lnTo>
                      <a:pt x="0" y="75"/>
                    </a:lnTo>
                    <a:lnTo>
                      <a:pt x="63" y="80"/>
                    </a:lnTo>
                    <a:lnTo>
                      <a:pt x="63" y="3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878600" y="2995560"/>
                <a:ext cx="87840" cy="16200"/>
              </a:xfrm>
              <a:custGeom>
                <a:avLst/>
                <a:gdLst/>
                <a:ahLst/>
                <a:rect l="0" t="0" r="r" b="b"/>
                <a:pathLst>
                  <a:path fill="none" w="244" h="45">
                    <a:moveTo>
                      <a:pt x="28" y="0"/>
                    </a:moveTo>
                    <a:lnTo>
                      <a:pt x="23" y="19"/>
                    </a:lnTo>
                    <a:lnTo>
                      <a:pt x="77" y="9"/>
                    </a:lnTo>
                    <a:lnTo>
                      <a:pt x="91" y="9"/>
                    </a:lnTo>
                    <a:lnTo>
                      <a:pt x="81" y="30"/>
                    </a:lnTo>
                    <a:lnTo>
                      <a:pt x="134" y="30"/>
                    </a:lnTo>
                    <a:lnTo>
                      <a:pt x="134" y="19"/>
                    </a:lnTo>
                    <a:lnTo>
                      <a:pt x="100" y="14"/>
                    </a:lnTo>
                    <a:lnTo>
                      <a:pt x="176" y="14"/>
                    </a:lnTo>
                    <a:lnTo>
                      <a:pt x="225" y="25"/>
                    </a:lnTo>
                    <a:lnTo>
                      <a:pt x="244" y="30"/>
                    </a:lnTo>
                    <a:lnTo>
                      <a:pt x="157" y="45"/>
                    </a:lnTo>
                    <a:lnTo>
                      <a:pt x="100" y="35"/>
                    </a:lnTo>
                    <a:lnTo>
                      <a:pt x="52" y="35"/>
                    </a:lnTo>
                    <a:lnTo>
                      <a:pt x="19" y="30"/>
                    </a:lnTo>
                    <a:lnTo>
                      <a:pt x="9" y="25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4" y="9"/>
                    </a:lnTo>
                    <a:lnTo>
                      <a:pt x="19" y="0"/>
                    </a:lnTo>
                    <a:lnTo>
                      <a:pt x="2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56720" y="2971800"/>
                <a:ext cx="39960" cy="24120"/>
              </a:xfrm>
              <a:custGeom>
                <a:avLst/>
                <a:gdLst/>
                <a:ahLst/>
                <a:rect l="0" t="0" r="r" b="b"/>
                <a:pathLst>
                  <a:path fill="none" w="111" h="67">
                    <a:moveTo>
                      <a:pt x="68" y="23"/>
                    </a:moveTo>
                    <a:lnTo>
                      <a:pt x="52" y="4"/>
                    </a:lnTo>
                    <a:lnTo>
                      <a:pt x="1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92" y="67"/>
                    </a:lnTo>
                    <a:lnTo>
                      <a:pt x="82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78680" y="297828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31160" y="296244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fill="none" w="72" h="85">
                    <a:moveTo>
                      <a:pt x="72" y="38"/>
                    </a:moveTo>
                    <a:lnTo>
                      <a:pt x="43" y="0"/>
                    </a:lnTo>
                    <a:lnTo>
                      <a:pt x="4" y="0"/>
                    </a:lnTo>
                    <a:lnTo>
                      <a:pt x="19" y="76"/>
                    </a:lnTo>
                    <a:lnTo>
                      <a:pt x="0" y="81"/>
                    </a:lnTo>
                    <a:lnTo>
                      <a:pt x="72" y="85"/>
                    </a:lnTo>
                    <a:lnTo>
                      <a:pt x="72" y="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15320" y="2990880"/>
                <a:ext cx="101880" cy="19440"/>
              </a:xfrm>
              <a:custGeom>
                <a:avLst/>
                <a:gdLst/>
                <a:ahLst/>
                <a:rect l="0" t="0" r="r" b="b"/>
                <a:pathLst>
                  <a:path fill="none" w="283" h="54">
                    <a:moveTo>
                      <a:pt x="33" y="0"/>
                    </a:moveTo>
                    <a:lnTo>
                      <a:pt x="28" y="20"/>
                    </a:lnTo>
                    <a:lnTo>
                      <a:pt x="90" y="9"/>
                    </a:lnTo>
                    <a:lnTo>
                      <a:pt x="105" y="9"/>
                    </a:lnTo>
                    <a:lnTo>
                      <a:pt x="90" y="34"/>
                    </a:lnTo>
                    <a:lnTo>
                      <a:pt x="154" y="34"/>
                    </a:lnTo>
                    <a:lnTo>
                      <a:pt x="154" y="20"/>
                    </a:lnTo>
                    <a:lnTo>
                      <a:pt x="114" y="15"/>
                    </a:lnTo>
                    <a:lnTo>
                      <a:pt x="206" y="15"/>
                    </a:lnTo>
                    <a:lnTo>
                      <a:pt x="259" y="25"/>
                    </a:lnTo>
                    <a:lnTo>
                      <a:pt x="283" y="34"/>
                    </a:lnTo>
                    <a:lnTo>
                      <a:pt x="182" y="54"/>
                    </a:lnTo>
                    <a:lnTo>
                      <a:pt x="114" y="39"/>
                    </a:lnTo>
                    <a:lnTo>
                      <a:pt x="62" y="39"/>
                    </a:lnTo>
                    <a:lnTo>
                      <a:pt x="19" y="34"/>
                    </a:lnTo>
                    <a:lnTo>
                      <a:pt x="14" y="29"/>
                    </a:lnTo>
                    <a:lnTo>
                      <a:pt x="0" y="25"/>
                    </a:lnTo>
                    <a:lnTo>
                      <a:pt x="14" y="20"/>
                    </a:lnTo>
                    <a:lnTo>
                      <a:pt x="19" y="9"/>
                    </a:lnTo>
                    <a:lnTo>
                      <a:pt x="23" y="0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005680" y="2963880"/>
                <a:ext cx="44640" cy="27360"/>
              </a:xfrm>
              <a:custGeom>
                <a:avLst/>
                <a:gdLst/>
                <a:ahLst/>
                <a:rect l="0" t="0" r="r" b="b"/>
                <a:pathLst>
                  <a:path fill="none" w="124" h="76">
                    <a:moveTo>
                      <a:pt x="72" y="29"/>
                    </a:moveTo>
                    <a:lnTo>
                      <a:pt x="56" y="4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100" y="76"/>
                    </a:lnTo>
                    <a:lnTo>
                      <a:pt x="91" y="6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029440" y="296856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0" y="0"/>
                    </a:lnTo>
                    <a:lnTo>
                      <a:pt x="5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78680" y="2951280"/>
                <a:ext cx="27360" cy="36720"/>
              </a:xfrm>
              <a:custGeom>
                <a:avLst/>
                <a:gdLst/>
                <a:ahLst/>
                <a:rect l="0" t="0" r="r" b="b"/>
                <a:pathLst>
                  <a:path fill="none" w="76" h="102">
                    <a:moveTo>
                      <a:pt x="76" y="43"/>
                    </a:moveTo>
                    <a:lnTo>
                      <a:pt x="43" y="0"/>
                    </a:lnTo>
                    <a:lnTo>
                      <a:pt x="0" y="0"/>
                    </a:lnTo>
                    <a:lnTo>
                      <a:pt x="18" y="87"/>
                    </a:lnTo>
                    <a:lnTo>
                      <a:pt x="0" y="92"/>
                    </a:lnTo>
                    <a:lnTo>
                      <a:pt x="76" y="102"/>
                    </a:lnTo>
                    <a:lnTo>
                      <a:pt x="7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59600" y="2984400"/>
                <a:ext cx="113040" cy="20880"/>
              </a:xfrm>
              <a:custGeom>
                <a:avLst/>
                <a:gdLst/>
                <a:ahLst/>
                <a:rect l="0" t="0" r="r" b="b"/>
                <a:pathLst>
                  <a:path fill="none" w="314" h="58">
                    <a:moveTo>
                      <a:pt x="33" y="0"/>
                    </a:moveTo>
                    <a:lnTo>
                      <a:pt x="33" y="23"/>
                    </a:lnTo>
                    <a:lnTo>
                      <a:pt x="99" y="9"/>
                    </a:lnTo>
                    <a:lnTo>
                      <a:pt x="118" y="9"/>
                    </a:lnTo>
                    <a:lnTo>
                      <a:pt x="104" y="39"/>
                    </a:lnTo>
                    <a:lnTo>
                      <a:pt x="171" y="39"/>
                    </a:lnTo>
                    <a:lnTo>
                      <a:pt x="171" y="23"/>
                    </a:lnTo>
                    <a:lnTo>
                      <a:pt x="128" y="19"/>
                    </a:lnTo>
                    <a:lnTo>
                      <a:pt x="228" y="19"/>
                    </a:lnTo>
                    <a:lnTo>
                      <a:pt x="290" y="28"/>
                    </a:lnTo>
                    <a:lnTo>
                      <a:pt x="314" y="39"/>
                    </a:lnTo>
                    <a:lnTo>
                      <a:pt x="204" y="58"/>
                    </a:lnTo>
                    <a:lnTo>
                      <a:pt x="132" y="48"/>
                    </a:lnTo>
                    <a:lnTo>
                      <a:pt x="71" y="43"/>
                    </a:lnTo>
                    <a:lnTo>
                      <a:pt x="23" y="39"/>
                    </a:lnTo>
                    <a:lnTo>
                      <a:pt x="14" y="34"/>
                    </a:lnTo>
                    <a:lnTo>
                      <a:pt x="0" y="28"/>
                    </a:lnTo>
                    <a:lnTo>
                      <a:pt x="14" y="23"/>
                    </a:lnTo>
                    <a:lnTo>
                      <a:pt x="18" y="9"/>
                    </a:lnTo>
                    <a:lnTo>
                      <a:pt x="28" y="4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058240" y="2952720"/>
                <a:ext cx="47880" cy="30600"/>
              </a:xfrm>
              <a:custGeom>
                <a:avLst/>
                <a:gdLst/>
                <a:ahLst/>
                <a:rect l="0" t="0" r="r" b="b"/>
                <a:pathLst>
                  <a:path fill="none" w="133" h="85">
                    <a:moveTo>
                      <a:pt x="76" y="35"/>
                    </a:moveTo>
                    <a:lnTo>
                      <a:pt x="61" y="4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4" y="85"/>
                    </a:lnTo>
                    <a:lnTo>
                      <a:pt x="100" y="7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083440" y="296064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27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27" y="14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026560" y="2941560"/>
                <a:ext cx="32040" cy="38520"/>
              </a:xfrm>
              <a:custGeom>
                <a:avLst/>
                <a:gdLst/>
                <a:ahLst/>
                <a:rect l="0" t="0" r="r" b="b"/>
                <a:pathLst>
                  <a:path fill="none" w="89" h="107">
                    <a:moveTo>
                      <a:pt x="89" y="44"/>
                    </a:moveTo>
                    <a:lnTo>
                      <a:pt x="49" y="0"/>
                    </a:lnTo>
                    <a:lnTo>
                      <a:pt x="0" y="0"/>
                    </a:lnTo>
                    <a:lnTo>
                      <a:pt x="24" y="93"/>
                    </a:lnTo>
                    <a:lnTo>
                      <a:pt x="0" y="98"/>
                    </a:lnTo>
                    <a:lnTo>
                      <a:pt x="89" y="107"/>
                    </a:lnTo>
                    <a:lnTo>
                      <a:pt x="89" y="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007480" y="2978280"/>
                <a:ext cx="154440" cy="20880"/>
              </a:xfrm>
              <a:custGeom>
                <a:avLst/>
                <a:gdLst/>
                <a:ahLst/>
                <a:rect l="0" t="0" r="r" b="b"/>
                <a:pathLst>
                  <a:path fill="none" w="429" h="58">
                    <a:moveTo>
                      <a:pt x="38" y="0"/>
                    </a:moveTo>
                    <a:lnTo>
                      <a:pt x="33" y="19"/>
                    </a:lnTo>
                    <a:lnTo>
                      <a:pt x="110" y="9"/>
                    </a:lnTo>
                    <a:lnTo>
                      <a:pt x="129" y="9"/>
                    </a:lnTo>
                    <a:lnTo>
                      <a:pt x="110" y="34"/>
                    </a:lnTo>
                    <a:lnTo>
                      <a:pt x="186" y="34"/>
                    </a:lnTo>
                    <a:lnTo>
                      <a:pt x="186" y="19"/>
                    </a:lnTo>
                    <a:lnTo>
                      <a:pt x="138" y="14"/>
                    </a:lnTo>
                    <a:lnTo>
                      <a:pt x="367" y="4"/>
                    </a:lnTo>
                    <a:lnTo>
                      <a:pt x="429" y="28"/>
                    </a:lnTo>
                    <a:lnTo>
                      <a:pt x="344" y="28"/>
                    </a:lnTo>
                    <a:lnTo>
                      <a:pt x="219" y="58"/>
                    </a:lnTo>
                    <a:lnTo>
                      <a:pt x="143" y="43"/>
                    </a:lnTo>
                    <a:lnTo>
                      <a:pt x="76" y="43"/>
                    </a:lnTo>
                    <a:lnTo>
                      <a:pt x="23" y="34"/>
                    </a:lnTo>
                    <a:lnTo>
                      <a:pt x="14" y="28"/>
                    </a:lnTo>
                    <a:lnTo>
                      <a:pt x="0" y="23"/>
                    </a:lnTo>
                    <a:lnTo>
                      <a:pt x="14" y="19"/>
                    </a:lnTo>
                    <a:lnTo>
                      <a:pt x="19" y="4"/>
                    </a:lnTo>
                    <a:lnTo>
                      <a:pt x="28" y="0"/>
                    </a:lnTo>
                    <a:lnTo>
                      <a:pt x="3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083440" y="2928960"/>
                <a:ext cx="30600" cy="38520"/>
              </a:xfrm>
              <a:custGeom>
                <a:avLst/>
                <a:gdLst/>
                <a:ahLst/>
                <a:rect l="0" t="0" r="r" b="b"/>
                <a:pathLst>
                  <a:path fill="none" w="85" h="107">
                    <a:moveTo>
                      <a:pt x="85" y="107"/>
                    </a:moveTo>
                    <a:lnTo>
                      <a:pt x="0" y="103"/>
                    </a:lnTo>
                    <a:lnTo>
                      <a:pt x="24" y="98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85" y="44"/>
                    </a:lnTo>
                    <a:lnTo>
                      <a:pt x="85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113680" y="2941560"/>
                <a:ext cx="49680" cy="32040"/>
              </a:xfrm>
              <a:custGeom>
                <a:avLst/>
                <a:gdLst/>
                <a:ahLst/>
                <a:rect l="0" t="0" r="r" b="b"/>
                <a:pathLst>
                  <a:path fill="none" w="138" h="89">
                    <a:moveTo>
                      <a:pt x="0" y="79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115" y="89"/>
                    </a:lnTo>
                    <a:lnTo>
                      <a:pt x="0" y="7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153280" y="2965320"/>
                <a:ext cx="149760" cy="18000"/>
              </a:xfrm>
              <a:custGeom>
                <a:avLst/>
                <a:gdLst/>
                <a:ahLst/>
                <a:rect l="0" t="0" r="r" b="b"/>
                <a:pathLst>
                  <a:path fill="none" w="416" h="50">
                    <a:moveTo>
                      <a:pt x="0" y="20"/>
                    </a:moveTo>
                    <a:lnTo>
                      <a:pt x="286" y="0"/>
                    </a:lnTo>
                    <a:lnTo>
                      <a:pt x="167" y="15"/>
                    </a:lnTo>
                    <a:lnTo>
                      <a:pt x="167" y="25"/>
                    </a:lnTo>
                    <a:lnTo>
                      <a:pt x="392" y="20"/>
                    </a:lnTo>
                    <a:lnTo>
                      <a:pt x="416" y="15"/>
                    </a:lnTo>
                    <a:lnTo>
                      <a:pt x="392" y="20"/>
                    </a:lnTo>
                    <a:lnTo>
                      <a:pt x="330" y="30"/>
                    </a:lnTo>
                    <a:lnTo>
                      <a:pt x="282" y="30"/>
                    </a:lnTo>
                    <a:lnTo>
                      <a:pt x="277" y="40"/>
                    </a:lnTo>
                    <a:lnTo>
                      <a:pt x="272" y="30"/>
                    </a:lnTo>
                    <a:lnTo>
                      <a:pt x="243" y="30"/>
                    </a:lnTo>
                    <a:lnTo>
                      <a:pt x="243" y="40"/>
                    </a:lnTo>
                    <a:lnTo>
                      <a:pt x="229" y="30"/>
                    </a:lnTo>
                    <a:lnTo>
                      <a:pt x="95" y="30"/>
                    </a:lnTo>
                    <a:lnTo>
                      <a:pt x="110" y="50"/>
                    </a:lnTo>
                    <a:lnTo>
                      <a:pt x="80" y="34"/>
                    </a:lnTo>
                    <a:lnTo>
                      <a:pt x="42" y="30"/>
                    </a:lnTo>
                    <a:lnTo>
                      <a:pt x="4" y="25"/>
                    </a:lnTo>
                    <a:lnTo>
                      <a:pt x="0" y="2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113680" y="2970360"/>
                <a:ext cx="78120" cy="18000"/>
              </a:xfrm>
              <a:custGeom>
                <a:avLst/>
                <a:gdLst/>
                <a:ahLst/>
                <a:rect l="0" t="0" r="r" b="b"/>
                <a:pathLst>
                  <a:path fill="none" w="217" h="50">
                    <a:moveTo>
                      <a:pt x="145" y="9"/>
                    </a:moveTo>
                    <a:lnTo>
                      <a:pt x="121" y="15"/>
                    </a:lnTo>
                    <a:lnTo>
                      <a:pt x="173" y="40"/>
                    </a:lnTo>
                    <a:lnTo>
                      <a:pt x="217" y="34"/>
                    </a:lnTo>
                    <a:lnTo>
                      <a:pt x="178" y="45"/>
                    </a:lnTo>
                    <a:lnTo>
                      <a:pt x="140" y="50"/>
                    </a:lnTo>
                    <a:lnTo>
                      <a:pt x="81" y="45"/>
                    </a:lnTo>
                    <a:lnTo>
                      <a:pt x="38" y="34"/>
                    </a:lnTo>
                    <a:lnTo>
                      <a:pt x="52" y="30"/>
                    </a:lnTo>
                    <a:lnTo>
                      <a:pt x="52" y="9"/>
                    </a:lnTo>
                    <a:lnTo>
                      <a:pt x="0" y="0"/>
                    </a:lnTo>
                    <a:lnTo>
                      <a:pt x="145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139240" y="2948040"/>
                <a:ext cx="30600" cy="9720"/>
              </a:xfrm>
              <a:custGeom>
                <a:avLst/>
                <a:gdLst/>
                <a:ahLst/>
                <a:rect l="0" t="0" r="r" b="b"/>
                <a:pathLst>
                  <a:path fill="none" w="85" h="27">
                    <a:moveTo>
                      <a:pt x="0" y="0"/>
                    </a:moveTo>
                    <a:lnTo>
                      <a:pt x="85" y="0"/>
                    </a:lnTo>
                    <a:lnTo>
                      <a:pt x="40" y="5"/>
                    </a:lnTo>
                    <a:lnTo>
                      <a:pt x="50" y="22"/>
                    </a:lnTo>
                    <a:lnTo>
                      <a:pt x="14" y="2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147160" y="2952720"/>
                <a:ext cx="143280" cy="14760"/>
              </a:xfrm>
              <a:custGeom>
                <a:avLst/>
                <a:gdLst/>
                <a:ahLst/>
                <a:rect l="0" t="0" r="r" b="b"/>
                <a:pathLst>
                  <a:path fill="none" w="398" h="41">
                    <a:moveTo>
                      <a:pt x="0" y="15"/>
                    </a:moveTo>
                    <a:lnTo>
                      <a:pt x="47" y="9"/>
                    </a:lnTo>
                    <a:lnTo>
                      <a:pt x="114" y="4"/>
                    </a:lnTo>
                    <a:lnTo>
                      <a:pt x="175" y="4"/>
                    </a:lnTo>
                    <a:lnTo>
                      <a:pt x="275" y="15"/>
                    </a:lnTo>
                    <a:lnTo>
                      <a:pt x="275" y="0"/>
                    </a:lnTo>
                    <a:lnTo>
                      <a:pt x="318" y="20"/>
                    </a:lnTo>
                    <a:lnTo>
                      <a:pt x="398" y="41"/>
                    </a:lnTo>
                    <a:lnTo>
                      <a:pt x="275" y="25"/>
                    </a:lnTo>
                    <a:lnTo>
                      <a:pt x="246" y="20"/>
                    </a:lnTo>
                    <a:lnTo>
                      <a:pt x="208" y="36"/>
                    </a:lnTo>
                    <a:lnTo>
                      <a:pt x="9" y="36"/>
                    </a:lnTo>
                    <a:lnTo>
                      <a:pt x="0" y="1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061480" y="2965320"/>
                <a:ext cx="74880" cy="18000"/>
              </a:xfrm>
              <a:custGeom>
                <a:avLst/>
                <a:gdLst/>
                <a:ahLst/>
                <a:rect l="0" t="0" r="r" b="b"/>
                <a:pathLst>
                  <a:path fill="none" w="208" h="50">
                    <a:moveTo>
                      <a:pt x="118" y="9"/>
                    </a:moveTo>
                    <a:lnTo>
                      <a:pt x="42" y="2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9"/>
                    </a:lnTo>
                    <a:lnTo>
                      <a:pt x="18" y="20"/>
                    </a:lnTo>
                    <a:lnTo>
                      <a:pt x="0" y="30"/>
                    </a:lnTo>
                    <a:lnTo>
                      <a:pt x="18" y="34"/>
                    </a:lnTo>
                    <a:lnTo>
                      <a:pt x="28" y="40"/>
                    </a:lnTo>
                    <a:lnTo>
                      <a:pt x="128" y="50"/>
                    </a:lnTo>
                    <a:lnTo>
                      <a:pt x="170" y="50"/>
                    </a:lnTo>
                    <a:lnTo>
                      <a:pt x="208" y="40"/>
                    </a:lnTo>
                    <a:lnTo>
                      <a:pt x="123" y="40"/>
                    </a:lnTo>
                    <a:lnTo>
                      <a:pt x="137" y="9"/>
                    </a:lnTo>
                    <a:lnTo>
                      <a:pt x="118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202600" y="2949480"/>
                <a:ext cx="44640" cy="3600"/>
              </a:xfrm>
              <a:custGeom>
                <a:avLst/>
                <a:gdLst/>
                <a:ahLst/>
                <a:rect l="0" t="0" r="r" b="b"/>
                <a:pathLst>
                  <a:path fill="none" w="124" h="10">
                    <a:moveTo>
                      <a:pt x="0" y="10"/>
                    </a:moveTo>
                    <a:lnTo>
                      <a:pt x="56" y="0"/>
                    </a:lnTo>
                    <a:lnTo>
                      <a:pt x="95" y="0"/>
                    </a:lnTo>
                    <a:lnTo>
                      <a:pt x="124" y="10"/>
                    </a:lnTo>
                    <a:lnTo>
                      <a:pt x="91" y="0"/>
                    </a:lnTo>
                    <a:lnTo>
                      <a:pt x="67" y="0"/>
                    </a:lnTo>
                    <a:lnTo>
                      <a:pt x="0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264520" y="298620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14" y="9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14" y="14"/>
                    </a:lnTo>
                    <a:lnTo>
                      <a:pt x="14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263080" y="297324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fill="none" w="14" h="27">
                    <a:moveTo>
                      <a:pt x="14" y="27"/>
                    </a:moveTo>
                    <a:lnTo>
                      <a:pt x="9" y="27"/>
                    </a:lnTo>
                    <a:lnTo>
                      <a:pt x="9" y="22"/>
                    </a:lnTo>
                    <a:lnTo>
                      <a:pt x="9" y="16"/>
                    </a:lnTo>
                    <a:lnTo>
                      <a:pt x="0" y="5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377200" y="3112920"/>
                <a:ext cx="246600" cy="11520"/>
              </a:xfrm>
              <a:custGeom>
                <a:avLst/>
                <a:gdLst/>
                <a:ahLst/>
                <a:rect l="0" t="0" r="r" b="b"/>
                <a:pathLst>
                  <a:path fill="none" w="685" h="32">
                    <a:moveTo>
                      <a:pt x="23" y="0"/>
                    </a:moveTo>
                    <a:lnTo>
                      <a:pt x="685" y="0"/>
                    </a:lnTo>
                    <a:lnTo>
                      <a:pt x="524" y="14"/>
                    </a:lnTo>
                    <a:lnTo>
                      <a:pt x="309" y="14"/>
                    </a:lnTo>
                    <a:lnTo>
                      <a:pt x="252" y="4"/>
                    </a:lnTo>
                    <a:lnTo>
                      <a:pt x="195" y="14"/>
                    </a:lnTo>
                    <a:lnTo>
                      <a:pt x="113" y="14"/>
                    </a:lnTo>
                    <a:lnTo>
                      <a:pt x="75" y="23"/>
                    </a:lnTo>
                    <a:lnTo>
                      <a:pt x="304" y="23"/>
                    </a:lnTo>
                    <a:lnTo>
                      <a:pt x="394" y="32"/>
                    </a:lnTo>
                    <a:lnTo>
                      <a:pt x="0" y="32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172360" y="3071880"/>
                <a:ext cx="11520" cy="11520"/>
              </a:xfrm>
              <a:custGeom>
                <a:avLst/>
                <a:gdLst/>
                <a:ahLst/>
                <a:rect l="0" t="0" r="r" b="b"/>
                <a:pathLst>
                  <a:path fill="none" w="32" h="32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23" y="23"/>
                    </a:lnTo>
                    <a:lnTo>
                      <a:pt x="23" y="28"/>
                    </a:lnTo>
                    <a:lnTo>
                      <a:pt x="18" y="32"/>
                    </a:lnTo>
                    <a:lnTo>
                      <a:pt x="32" y="28"/>
                    </a:lnTo>
                    <a:lnTo>
                      <a:pt x="32" y="14"/>
                    </a:lnTo>
                    <a:lnTo>
                      <a:pt x="28" y="4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172360" y="307800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109000" y="3071880"/>
                <a:ext cx="9720" cy="9720"/>
              </a:xfrm>
              <a:custGeom>
                <a:avLst/>
                <a:gdLst/>
                <a:ahLst/>
                <a:rect l="0" t="0" r="r" b="b"/>
                <a:pathLst>
                  <a:path fill="none" w="27" h="27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18" y="18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27" y="14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109000" y="307800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064360" y="3071880"/>
                <a:ext cx="8280" cy="9720"/>
              </a:xfrm>
              <a:custGeom>
                <a:avLst/>
                <a:gdLst/>
                <a:ahLst/>
                <a:rect l="0" t="0" r="r" b="b"/>
                <a:pathLst>
                  <a:path fill="none" w="23" h="27">
                    <a:moveTo>
                      <a:pt x="0" y="4"/>
                    </a:moveTo>
                    <a:lnTo>
                      <a:pt x="4" y="4"/>
                    </a:lnTo>
                    <a:lnTo>
                      <a:pt x="14" y="14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4" y="27"/>
                    </a:lnTo>
                    <a:lnTo>
                      <a:pt x="23" y="23"/>
                    </a:lnTo>
                    <a:lnTo>
                      <a:pt x="23" y="14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064360" y="3076560"/>
                <a:ext cx="1800" cy="3600"/>
              </a:xfrm>
              <a:custGeom>
                <a:avLst/>
                <a:gdLst/>
                <a:ahLst/>
                <a:rect l="0" t="0" r="r" b="b"/>
                <a:pathLst>
                  <a:path fill="none" w="5" h="10">
                    <a:moveTo>
                      <a:pt x="0" y="5"/>
                    </a:moveTo>
                    <a:lnTo>
                      <a:pt x="5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182080" y="3110040"/>
                <a:ext cx="47880" cy="46440"/>
              </a:xfrm>
              <a:custGeom>
                <a:avLst/>
                <a:gdLst/>
                <a:ahLst/>
                <a:rect l="0" t="0" r="r" b="b"/>
                <a:pathLst>
                  <a:path fill="none" w="133" h="129">
                    <a:moveTo>
                      <a:pt x="56" y="0"/>
                    </a:moveTo>
                    <a:lnTo>
                      <a:pt x="0" y="53"/>
                    </a:lnTo>
                    <a:lnTo>
                      <a:pt x="4" y="57"/>
                    </a:lnTo>
                    <a:lnTo>
                      <a:pt x="28" y="43"/>
                    </a:lnTo>
                    <a:lnTo>
                      <a:pt x="42" y="48"/>
                    </a:lnTo>
                    <a:lnTo>
                      <a:pt x="56" y="57"/>
                    </a:lnTo>
                    <a:lnTo>
                      <a:pt x="47" y="67"/>
                    </a:lnTo>
                    <a:lnTo>
                      <a:pt x="47" y="76"/>
                    </a:lnTo>
                    <a:lnTo>
                      <a:pt x="56" y="76"/>
                    </a:lnTo>
                    <a:lnTo>
                      <a:pt x="51" y="81"/>
                    </a:lnTo>
                    <a:lnTo>
                      <a:pt x="56" y="86"/>
                    </a:lnTo>
                    <a:lnTo>
                      <a:pt x="76" y="81"/>
                    </a:lnTo>
                    <a:lnTo>
                      <a:pt x="90" y="101"/>
                    </a:lnTo>
                    <a:lnTo>
                      <a:pt x="76" y="125"/>
                    </a:lnTo>
                    <a:lnTo>
                      <a:pt x="81" y="129"/>
                    </a:lnTo>
                    <a:lnTo>
                      <a:pt x="133" y="86"/>
                    </a:lnTo>
                    <a:lnTo>
                      <a:pt x="114" y="62"/>
                    </a:lnTo>
                    <a:lnTo>
                      <a:pt x="109" y="43"/>
                    </a:lnTo>
                    <a:lnTo>
                      <a:pt x="109" y="57"/>
                    </a:lnTo>
                    <a:lnTo>
                      <a:pt x="104" y="62"/>
                    </a:lnTo>
                    <a:lnTo>
                      <a:pt x="100" y="43"/>
                    </a:lnTo>
                    <a:lnTo>
                      <a:pt x="86" y="28"/>
                    </a:lnTo>
                    <a:lnTo>
                      <a:pt x="76" y="23"/>
                    </a:lnTo>
                    <a:lnTo>
                      <a:pt x="71" y="28"/>
                    </a:lnTo>
                    <a:lnTo>
                      <a:pt x="67" y="34"/>
                    </a:lnTo>
                    <a:lnTo>
                      <a:pt x="71" y="43"/>
                    </a:lnTo>
                    <a:lnTo>
                      <a:pt x="76" y="57"/>
                    </a:lnTo>
                    <a:lnTo>
                      <a:pt x="61" y="43"/>
                    </a:lnTo>
                    <a:lnTo>
                      <a:pt x="56" y="28"/>
                    </a:lnTo>
                    <a:lnTo>
                      <a:pt x="61" y="18"/>
                    </a:lnTo>
                    <a:lnTo>
                      <a:pt x="81" y="14"/>
                    </a:lnTo>
                    <a:lnTo>
                      <a:pt x="100" y="23"/>
                    </a:lnTo>
                    <a:lnTo>
                      <a:pt x="81" y="9"/>
                    </a:lnTo>
                    <a:lnTo>
                      <a:pt x="71" y="9"/>
                    </a:lnTo>
                    <a:lnTo>
                      <a:pt x="5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66040" y="3117960"/>
                <a:ext cx="44640" cy="36720"/>
              </a:xfrm>
              <a:custGeom>
                <a:avLst/>
                <a:gdLst/>
                <a:ahLst/>
                <a:rect l="0" t="0" r="r" b="b"/>
                <a:pathLst>
                  <a:path fill="none" w="124" h="102">
                    <a:moveTo>
                      <a:pt x="33" y="102"/>
                    </a:moveTo>
                    <a:lnTo>
                      <a:pt x="37" y="97"/>
                    </a:lnTo>
                    <a:lnTo>
                      <a:pt x="33" y="68"/>
                    </a:lnTo>
                    <a:lnTo>
                      <a:pt x="42" y="63"/>
                    </a:lnTo>
                    <a:lnTo>
                      <a:pt x="61" y="78"/>
                    </a:lnTo>
                    <a:lnTo>
                      <a:pt x="67" y="78"/>
                    </a:lnTo>
                    <a:lnTo>
                      <a:pt x="67" y="63"/>
                    </a:lnTo>
                    <a:lnTo>
                      <a:pt x="76" y="73"/>
                    </a:lnTo>
                    <a:lnTo>
                      <a:pt x="81" y="68"/>
                    </a:lnTo>
                    <a:lnTo>
                      <a:pt x="81" y="58"/>
                    </a:lnTo>
                    <a:lnTo>
                      <a:pt x="95" y="43"/>
                    </a:lnTo>
                    <a:lnTo>
                      <a:pt x="119" y="73"/>
                    </a:lnTo>
                    <a:lnTo>
                      <a:pt x="124" y="63"/>
                    </a:lnTo>
                    <a:lnTo>
                      <a:pt x="86" y="4"/>
                    </a:lnTo>
                    <a:lnTo>
                      <a:pt x="18" y="0"/>
                    </a:lnTo>
                    <a:lnTo>
                      <a:pt x="0" y="48"/>
                    </a:lnTo>
                    <a:lnTo>
                      <a:pt x="33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578720" y="2978280"/>
                <a:ext cx="97200" cy="28800"/>
              </a:xfrm>
              <a:custGeom>
                <a:avLst/>
                <a:gdLst/>
                <a:ahLst/>
                <a:rect l="0" t="0" r="r" b="b"/>
                <a:pathLst>
                  <a:path fill="none" w="270" h="80">
                    <a:moveTo>
                      <a:pt x="233" y="80"/>
                    </a:moveTo>
                    <a:lnTo>
                      <a:pt x="233" y="43"/>
                    </a:lnTo>
                    <a:lnTo>
                      <a:pt x="166" y="43"/>
                    </a:lnTo>
                    <a:lnTo>
                      <a:pt x="147" y="52"/>
                    </a:lnTo>
                    <a:lnTo>
                      <a:pt x="133" y="43"/>
                    </a:lnTo>
                    <a:lnTo>
                      <a:pt x="100" y="43"/>
                    </a:lnTo>
                    <a:lnTo>
                      <a:pt x="95" y="52"/>
                    </a:lnTo>
                    <a:lnTo>
                      <a:pt x="76" y="52"/>
                    </a:lnTo>
                    <a:lnTo>
                      <a:pt x="71" y="61"/>
                    </a:lnTo>
                    <a:lnTo>
                      <a:pt x="51" y="61"/>
                    </a:lnTo>
                    <a:lnTo>
                      <a:pt x="51" y="71"/>
                    </a:lnTo>
                    <a:lnTo>
                      <a:pt x="37" y="7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14" y="28"/>
                    </a:lnTo>
                    <a:lnTo>
                      <a:pt x="37" y="28"/>
                    </a:lnTo>
                    <a:lnTo>
                      <a:pt x="37" y="14"/>
                    </a:lnTo>
                    <a:lnTo>
                      <a:pt x="4" y="14"/>
                    </a:lnTo>
                    <a:lnTo>
                      <a:pt x="18" y="0"/>
                    </a:lnTo>
                    <a:lnTo>
                      <a:pt x="270" y="0"/>
                    </a:lnTo>
                    <a:lnTo>
                      <a:pt x="237" y="14"/>
                    </a:lnTo>
                    <a:lnTo>
                      <a:pt x="237" y="80"/>
                    </a:lnTo>
                    <a:lnTo>
                      <a:pt x="233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75560" y="296532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66200" y="29653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55040" y="2965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45320" y="29653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89880" y="2965320"/>
                <a:ext cx="52920" cy="5040"/>
              </a:xfrm>
              <a:custGeom>
                <a:avLst/>
                <a:gdLst/>
                <a:ahLst/>
                <a:rect l="0" t="0" r="r" b="b"/>
                <a:pathLst>
                  <a:path fill="none" w="147" h="14">
                    <a:moveTo>
                      <a:pt x="147" y="0"/>
                    </a:moveTo>
                    <a:lnTo>
                      <a:pt x="147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5560" y="295128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19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66200" y="295128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655040" y="295128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23" y="0"/>
                    </a:moveTo>
                    <a:lnTo>
                      <a:pt x="23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45320" y="295128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89880" y="2951280"/>
                <a:ext cx="52920" cy="6840"/>
              </a:xfrm>
              <a:custGeom>
                <a:avLst/>
                <a:gdLst/>
                <a:ahLst/>
                <a:rect l="0" t="0" r="r" b="b"/>
                <a:pathLst>
                  <a:path fill="none" w="147" h="19">
                    <a:moveTo>
                      <a:pt x="147" y="0"/>
                    </a:moveTo>
                    <a:lnTo>
                      <a:pt x="147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75560" y="293832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66200" y="29383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55040" y="2938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45320" y="29383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558200" y="2938320"/>
                <a:ext cx="84600" cy="41760"/>
              </a:xfrm>
              <a:custGeom>
                <a:avLst/>
                <a:gdLst/>
                <a:ahLst/>
                <a:rect l="0" t="0" r="r" b="b"/>
                <a:pathLst>
                  <a:path fill="none" w="235" h="116">
                    <a:moveTo>
                      <a:pt x="235" y="14"/>
                    </a:moveTo>
                    <a:lnTo>
                      <a:pt x="105" y="14"/>
                    </a:lnTo>
                    <a:lnTo>
                      <a:pt x="105" y="48"/>
                    </a:lnTo>
                    <a:lnTo>
                      <a:pt x="91" y="48"/>
                    </a:lnTo>
                    <a:lnTo>
                      <a:pt x="91" y="111"/>
                    </a:lnTo>
                    <a:lnTo>
                      <a:pt x="77" y="111"/>
                    </a:lnTo>
                    <a:lnTo>
                      <a:pt x="77" y="97"/>
                    </a:lnTo>
                    <a:lnTo>
                      <a:pt x="63" y="116"/>
                    </a:lnTo>
                    <a:lnTo>
                      <a:pt x="14" y="92"/>
                    </a:lnTo>
                    <a:lnTo>
                      <a:pt x="23" y="92"/>
                    </a:lnTo>
                    <a:lnTo>
                      <a:pt x="23" y="77"/>
                    </a:lnTo>
                    <a:lnTo>
                      <a:pt x="19" y="77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34"/>
                    </a:lnTo>
                    <a:lnTo>
                      <a:pt x="23" y="34"/>
                    </a:lnTo>
                    <a:lnTo>
                      <a:pt x="23" y="23"/>
                    </a:lnTo>
                    <a:lnTo>
                      <a:pt x="67" y="23"/>
                    </a:lnTo>
                    <a:lnTo>
                      <a:pt x="67" y="0"/>
                    </a:lnTo>
                    <a:lnTo>
                      <a:pt x="235" y="0"/>
                    </a:lnTo>
                    <a:lnTo>
                      <a:pt x="235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589880" y="2938320"/>
                <a:ext cx="86040" cy="39960"/>
              </a:xfrm>
              <a:custGeom>
                <a:avLst/>
                <a:gdLst/>
                <a:ahLst/>
                <a:rect l="0" t="0" r="r" b="b"/>
                <a:pathLst>
                  <a:path fill="none" w="239" h="111">
                    <a:moveTo>
                      <a:pt x="239" y="111"/>
                    </a:move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589880" y="29433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589880" y="295128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89880" y="295740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89880" y="296532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89880" y="29703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05720" y="2901960"/>
                <a:ext cx="36720" cy="36720"/>
              </a:xfrm>
              <a:custGeom>
                <a:avLst/>
                <a:gdLst/>
                <a:ahLst/>
                <a:rect l="0" t="0" r="r" b="b"/>
                <a:pathLst>
                  <a:path fill="none" w="102" h="102">
                    <a:moveTo>
                      <a:pt x="102" y="83"/>
                    </a:moveTo>
                    <a:lnTo>
                      <a:pt x="54" y="83"/>
                    </a:lnTo>
                    <a:lnTo>
                      <a:pt x="54" y="102"/>
                    </a:lnTo>
                    <a:lnTo>
                      <a:pt x="14" y="102"/>
                    </a:lnTo>
                    <a:lnTo>
                      <a:pt x="14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83"/>
                    </a:lnTo>
                    <a:lnTo>
                      <a:pt x="102" y="8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16880" y="2901960"/>
                <a:ext cx="1800" cy="28800"/>
              </a:xfrm>
              <a:custGeom>
                <a:avLst/>
                <a:gdLst/>
                <a:ahLst/>
                <a:rect l="0" t="0" r="r" b="b"/>
                <a:pathLst>
                  <a:path fill="none" w="5" h="80">
                    <a:moveTo>
                      <a:pt x="0" y="8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0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21560" y="2911320"/>
                <a:ext cx="1800" cy="19440"/>
              </a:xfrm>
              <a:custGeom>
                <a:avLst/>
                <a:gdLst/>
                <a:ahLst/>
                <a:rect l="0" t="0" r="r" b="b"/>
                <a:pathLst>
                  <a:path fill="none" w="5" h="54">
                    <a:moveTo>
                      <a:pt x="0" y="5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54"/>
                    </a:lnTo>
                    <a:lnTo>
                      <a:pt x="0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05720" y="290196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fill="none" w="102" h="80">
                    <a:moveTo>
                      <a:pt x="102" y="80"/>
                    </a:moveTo>
                    <a:lnTo>
                      <a:pt x="10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 flipV="1">
                <a:off x="7629480" y="2930400"/>
                <a:ext cx="972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577280" y="2933640"/>
                <a:ext cx="100440" cy="5040"/>
              </a:xfrm>
              <a:custGeom>
                <a:avLst/>
                <a:gdLst/>
                <a:ahLst/>
                <a:rect l="0" t="0" r="r" b="b"/>
                <a:pathLst>
                  <a:path fill="none" w="279" h="14">
                    <a:moveTo>
                      <a:pt x="279" y="14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577280" y="2935440"/>
                <a:ext cx="99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08960" y="289548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0" y="1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18320" y="2895480"/>
                <a:ext cx="20880" cy="5040"/>
              </a:xfrm>
              <a:custGeom>
                <a:avLst/>
                <a:gdLst/>
                <a:ahLst/>
                <a:rect l="0" t="0" r="r" b="b"/>
                <a:pathLst>
                  <a:path fill="none" w="58" h="14">
                    <a:moveTo>
                      <a:pt x="0" y="14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4"/>
                    </a:lnTo>
                    <a:lnTo>
                      <a:pt x="48" y="4"/>
                    </a:lnTo>
                    <a:lnTo>
                      <a:pt x="48" y="14"/>
                    </a:lnTo>
                    <a:lnTo>
                      <a:pt x="48" y="4"/>
                    </a:lnTo>
                    <a:lnTo>
                      <a:pt x="9" y="4"/>
                    </a:lnTo>
                    <a:lnTo>
                      <a:pt x="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12200" y="2892600"/>
                <a:ext cx="10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16880" y="2811600"/>
                <a:ext cx="1800" cy="84600"/>
              </a:xfrm>
              <a:custGeom>
                <a:avLst/>
                <a:gdLst/>
                <a:ahLst/>
                <a:rect l="0" t="0" r="r" b="b"/>
                <a:pathLst>
                  <a:path fill="none" w="5" h="235">
                    <a:moveTo>
                      <a:pt x="0" y="235"/>
                    </a:moveTo>
                    <a:lnTo>
                      <a:pt x="5" y="0"/>
                    </a:lnTo>
                    <a:lnTo>
                      <a:pt x="5" y="235"/>
                    </a:lnTo>
                    <a:lnTo>
                      <a:pt x="0" y="23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12200" y="287640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19"/>
                    </a:moveTo>
                    <a:lnTo>
                      <a:pt x="0" y="1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675560" y="29336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667640" y="29336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61160" y="29336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53240" y="29336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47120" y="29336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9200" y="293364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31280" y="293364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04280" y="293364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7588080" y="2933640"/>
                <a:ext cx="180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81960" y="293364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97800" y="292248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93120" y="292248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596360" y="292896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fill="none" w="5" h="27">
                    <a:moveTo>
                      <a:pt x="0" y="0"/>
                    </a:moveTo>
                    <a:lnTo>
                      <a:pt x="0" y="27"/>
                    </a:lnTo>
                    <a:lnTo>
                      <a:pt x="5" y="27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67640" y="2927520"/>
                <a:ext cx="8280" cy="1800"/>
              </a:xfrm>
              <a:custGeom>
                <a:avLst/>
                <a:gdLst/>
                <a:ahLst/>
                <a:rect l="0" t="0" r="r" b="b"/>
                <a:pathLst>
                  <a:path fill="none" w="23" h="5">
                    <a:moveTo>
                      <a:pt x="23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558200" y="2976480"/>
                <a:ext cx="20880" cy="11520"/>
              </a:xfrm>
              <a:custGeom>
                <a:avLst/>
                <a:gdLst/>
                <a:ahLst/>
                <a:rect l="0" t="0" r="r" b="b"/>
                <a:pathLst>
                  <a:path fill="none" w="58" h="32">
                    <a:moveTo>
                      <a:pt x="0" y="0"/>
                    </a:moveTo>
                    <a:lnTo>
                      <a:pt x="0" y="18"/>
                    </a:lnTo>
                    <a:lnTo>
                      <a:pt x="4" y="23"/>
                    </a:lnTo>
                    <a:lnTo>
                      <a:pt x="14" y="14"/>
                    </a:lnTo>
                    <a:lnTo>
                      <a:pt x="58" y="32"/>
                    </a:lnTo>
                    <a:lnTo>
                      <a:pt x="58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566120" y="2990880"/>
                <a:ext cx="12960" cy="22680"/>
              </a:xfrm>
              <a:custGeom>
                <a:avLst/>
                <a:gdLst/>
                <a:ahLst/>
                <a:rect l="0" t="0" r="r" b="b"/>
                <a:pathLst>
                  <a:path fill="none" w="36" h="63">
                    <a:moveTo>
                      <a:pt x="0" y="0"/>
                    </a:moveTo>
                    <a:lnTo>
                      <a:pt x="36" y="0"/>
                    </a:lnTo>
                    <a:lnTo>
                      <a:pt x="36" y="54"/>
                    </a:lnTo>
                    <a:lnTo>
                      <a:pt x="31" y="58"/>
                    </a:lnTo>
                    <a:lnTo>
                      <a:pt x="21" y="58"/>
                    </a:lnTo>
                    <a:lnTo>
                      <a:pt x="15" y="63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566120" y="2955960"/>
                <a:ext cx="7920" cy="3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578720" y="2978280"/>
                <a:ext cx="3600" cy="12960"/>
              </a:xfrm>
              <a:custGeom>
                <a:avLst/>
                <a:gdLst/>
                <a:ahLst/>
                <a:rect l="0" t="0" r="r" b="b"/>
                <a:pathLst>
                  <a:path fill="none" w="10" h="36">
                    <a:moveTo>
                      <a:pt x="0" y="36"/>
                    </a:moveTo>
                    <a:lnTo>
                      <a:pt x="0" y="27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540560" y="301608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fill="none" w="72" h="14">
                    <a:moveTo>
                      <a:pt x="67" y="1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67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54960" y="30020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50280" y="30020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553160" y="3008160"/>
                <a:ext cx="1800" cy="8280"/>
              </a:xfrm>
              <a:custGeom>
                <a:avLst/>
                <a:gdLst/>
                <a:ahLst/>
                <a:rect l="0" t="0" r="r" b="b"/>
                <a:pathLst>
                  <a:path fill="none" w="5" h="23">
                    <a:moveTo>
                      <a:pt x="0" y="0"/>
                    </a:move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31200" y="3000240"/>
                <a:ext cx="35280" cy="14760"/>
              </a:xfrm>
              <a:custGeom>
                <a:avLst/>
                <a:gdLst/>
                <a:ahLst/>
                <a:rect l="0" t="0" r="r" b="b"/>
                <a:pathLst>
                  <a:path fill="none" w="98" h="41">
                    <a:moveTo>
                      <a:pt x="98" y="41"/>
                    </a:move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40560" y="300024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fill="none" w="72" h="27">
                    <a:moveTo>
                      <a:pt x="72" y="0"/>
                    </a:moveTo>
                    <a:lnTo>
                      <a:pt x="43" y="27"/>
                    </a:lnTo>
                    <a:lnTo>
                      <a:pt x="29" y="0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31200" y="3000240"/>
                <a:ext cx="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9400" y="300996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529400" y="301320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40560" y="302724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fill="none" w="63" h="27">
                    <a:moveTo>
                      <a:pt x="63" y="0"/>
                    </a:moveTo>
                    <a:lnTo>
                      <a:pt x="0" y="27"/>
                    </a:lnTo>
                    <a:lnTo>
                      <a:pt x="63" y="4"/>
                    </a:lnTo>
                    <a:lnTo>
                      <a:pt x="6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50280" y="3017880"/>
                <a:ext cx="12960" cy="32040"/>
              </a:xfrm>
              <a:custGeom>
                <a:avLst/>
                <a:gdLst/>
                <a:ahLst/>
                <a:rect l="0" t="0" r="r" b="b"/>
                <a:pathLst>
                  <a:path fill="none" w="36" h="89">
                    <a:moveTo>
                      <a:pt x="36" y="79"/>
                    </a:moveTo>
                    <a:lnTo>
                      <a:pt x="0" y="0"/>
                    </a:lnTo>
                    <a:lnTo>
                      <a:pt x="23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66120" y="29401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0" y="0"/>
                    </a:moveTo>
                    <a:lnTo>
                      <a:pt x="0" y="14"/>
                    </a:lnTo>
                    <a:lnTo>
                      <a:pt x="23" y="14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62880" y="2927520"/>
                <a:ext cx="12960" cy="8280"/>
              </a:xfrm>
              <a:custGeom>
                <a:avLst/>
                <a:gdLst/>
                <a:ahLst/>
                <a:rect l="0" t="0" r="r" b="b"/>
                <a:pathLst>
                  <a:path fill="none" w="36" h="23">
                    <a:moveTo>
                      <a:pt x="0" y="12"/>
                    </a:moveTo>
                    <a:lnTo>
                      <a:pt x="36" y="0"/>
                    </a:lnTo>
                    <a:lnTo>
                      <a:pt x="36" y="5"/>
                    </a:lnTo>
                    <a:lnTo>
                      <a:pt x="36" y="17"/>
                    </a:lnTo>
                    <a:lnTo>
                      <a:pt x="3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7562880" y="2930400"/>
                <a:ext cx="1260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564320" y="2930400"/>
                <a:ext cx="0" cy="4680"/>
              </a:xfrm>
              <a:custGeom>
                <a:avLst/>
                <a:gdLst/>
                <a:ahLst/>
                <a:rect l="0" t="0" r="r" b="b"/>
                <a:pathLst>
                  <a:path fill="none" w="0" h="13">
                    <a:moveTo>
                      <a:pt x="0" y="0"/>
                    </a:moveTo>
                    <a:lnTo>
                      <a:pt x="0" y="6"/>
                    </a:lnTo>
                    <a:lnTo>
                      <a:pt x="0" y="1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66120" y="292896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567560" y="292896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570800" y="292896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572240" y="292896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0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5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70800" y="293688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562880" y="2863800"/>
                <a:ext cx="127440" cy="6840"/>
              </a:xfrm>
              <a:custGeom>
                <a:avLst/>
                <a:gdLst/>
                <a:ahLst/>
                <a:rect l="0" t="0" r="r" b="b"/>
                <a:pathLst>
                  <a:path fill="none" w="354" h="19">
                    <a:moveTo>
                      <a:pt x="0" y="6"/>
                    </a:moveTo>
                    <a:lnTo>
                      <a:pt x="153" y="0"/>
                    </a:lnTo>
                    <a:lnTo>
                      <a:pt x="354" y="6"/>
                    </a:lnTo>
                    <a:lnTo>
                      <a:pt x="177" y="6"/>
                    </a:lnTo>
                    <a:lnTo>
                      <a:pt x="153" y="19"/>
                    </a:lnTo>
                    <a:lnTo>
                      <a:pt x="139" y="6"/>
                    </a:lnTo>
                    <a:lnTo>
                      <a:pt x="0" y="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62880" y="283356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fill="none" w="296" h="14">
                    <a:moveTo>
                      <a:pt x="0" y="4"/>
                    </a:moveTo>
                    <a:lnTo>
                      <a:pt x="153" y="0"/>
                    </a:lnTo>
                    <a:lnTo>
                      <a:pt x="296" y="4"/>
                    </a:lnTo>
                    <a:lnTo>
                      <a:pt x="172" y="9"/>
                    </a:lnTo>
                    <a:lnTo>
                      <a:pt x="153" y="14"/>
                    </a:lnTo>
                    <a:lnTo>
                      <a:pt x="138" y="9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596360" y="2857680"/>
                <a:ext cx="38520" cy="1800"/>
              </a:xfrm>
              <a:custGeom>
                <a:avLst/>
                <a:gdLst/>
                <a:ahLst/>
                <a:rect l="0" t="0" r="r" b="b"/>
                <a:pathLst>
                  <a:path fill="none" w="107" h="5">
                    <a:moveTo>
                      <a:pt x="0" y="0"/>
                    </a:moveTo>
                    <a:lnTo>
                      <a:pt x="60" y="0"/>
                    </a:lnTo>
                    <a:lnTo>
                      <a:pt x="107" y="0"/>
                    </a:lnTo>
                    <a:lnTo>
                      <a:pt x="6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7596360" y="2811600"/>
                <a:ext cx="21960" cy="46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15080" y="281160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9" y="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9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588080" y="281160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12" y="67"/>
                    </a:moveTo>
                    <a:lnTo>
                      <a:pt x="12" y="1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9" y="9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12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39200" y="281160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9" y="67"/>
                    </a:moveTo>
                    <a:lnTo>
                      <a:pt x="9" y="14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5" y="9"/>
                    </a:lnTo>
                    <a:lnTo>
                      <a:pt x="15" y="4"/>
                    </a:lnTo>
                    <a:lnTo>
                      <a:pt x="15" y="9"/>
                    </a:lnTo>
                    <a:lnTo>
                      <a:pt x="19" y="14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9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93120" y="2835360"/>
                <a:ext cx="49680" cy="19440"/>
              </a:xfrm>
              <a:custGeom>
                <a:avLst/>
                <a:gdLst/>
                <a:ahLst/>
                <a:rect l="0" t="0" r="r" b="b"/>
                <a:pathLst>
                  <a:path fill="none" w="138" h="54">
                    <a:moveTo>
                      <a:pt x="138" y="0"/>
                    </a:moveTo>
                    <a:lnTo>
                      <a:pt x="71" y="5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7624800" y="2766960"/>
                <a:ext cx="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570800" y="2844720"/>
                <a:ext cx="0" cy="19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77280" y="285588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678800" y="2841480"/>
                <a:ext cx="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656480" y="285588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62880" y="2867040"/>
                <a:ext cx="1908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7642080" y="2867040"/>
                <a:ext cx="478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7640640" y="2867040"/>
                <a:ext cx="4284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581960" y="2844720"/>
                <a:ext cx="19440" cy="9720"/>
              </a:xfrm>
              <a:custGeom>
                <a:avLst/>
                <a:gdLst/>
                <a:ahLst/>
                <a:rect l="0" t="0" r="r" b="b"/>
                <a:pathLst>
                  <a:path fill="none" w="54" h="27">
                    <a:moveTo>
                      <a:pt x="45" y="27"/>
                    </a:moveTo>
                    <a:lnTo>
                      <a:pt x="54" y="0"/>
                    </a:lnTo>
                    <a:lnTo>
                      <a:pt x="39" y="0"/>
                    </a:lnTo>
                    <a:lnTo>
                      <a:pt x="29" y="4"/>
                    </a:lnTo>
                    <a:lnTo>
                      <a:pt x="20" y="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20" y="27"/>
                    </a:lnTo>
                    <a:lnTo>
                      <a:pt x="4" y="23"/>
                    </a:lnTo>
                    <a:lnTo>
                      <a:pt x="0" y="18"/>
                    </a:lnTo>
                    <a:lnTo>
                      <a:pt x="4" y="0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29" y="14"/>
                    </a:lnTo>
                    <a:lnTo>
                      <a:pt x="45" y="14"/>
                    </a:lnTo>
                    <a:lnTo>
                      <a:pt x="45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51720" y="287028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37" y="4"/>
                    </a:moveTo>
                    <a:lnTo>
                      <a:pt x="27" y="4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8" y="9"/>
                    </a:lnTo>
                    <a:lnTo>
                      <a:pt x="4" y="9"/>
                    </a:lnTo>
                    <a:lnTo>
                      <a:pt x="23" y="4"/>
                    </a:lnTo>
                    <a:lnTo>
                      <a:pt x="27" y="19"/>
                    </a:lnTo>
                    <a:lnTo>
                      <a:pt x="41" y="15"/>
                    </a:lnTo>
                    <a:lnTo>
                      <a:pt x="37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58200" y="2884320"/>
                <a:ext cx="12960" cy="11520"/>
              </a:xfrm>
              <a:custGeom>
                <a:avLst/>
                <a:gdLst/>
                <a:ahLst/>
                <a:rect l="0" t="0" r="r" b="b"/>
                <a:pathLst>
                  <a:path fill="none" w="36" h="32">
                    <a:moveTo>
                      <a:pt x="31" y="0"/>
                    </a:moveTo>
                    <a:lnTo>
                      <a:pt x="15" y="0"/>
                    </a:lnTo>
                    <a:lnTo>
                      <a:pt x="15" y="11"/>
                    </a:lnTo>
                    <a:lnTo>
                      <a:pt x="0" y="16"/>
                    </a:lnTo>
                    <a:lnTo>
                      <a:pt x="5" y="21"/>
                    </a:lnTo>
                    <a:lnTo>
                      <a:pt x="5" y="32"/>
                    </a:lnTo>
                    <a:lnTo>
                      <a:pt x="15" y="21"/>
                    </a:lnTo>
                    <a:lnTo>
                      <a:pt x="15" y="16"/>
                    </a:lnTo>
                    <a:lnTo>
                      <a:pt x="36" y="11"/>
                    </a:lnTo>
                    <a:lnTo>
                      <a:pt x="15" y="11"/>
                    </a:lnTo>
                    <a:lnTo>
                      <a:pt x="15" y="5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61440" y="289872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21" y="4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16" y="9"/>
                    </a:lnTo>
                    <a:lnTo>
                      <a:pt x="5" y="9"/>
                    </a:lnTo>
                    <a:lnTo>
                      <a:pt x="16" y="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62880" y="2908440"/>
                <a:ext cx="12960" cy="9720"/>
              </a:xfrm>
              <a:custGeom>
                <a:avLst/>
                <a:gdLst/>
                <a:ahLst/>
                <a:rect l="0" t="0" r="r" b="b"/>
                <a:pathLst>
                  <a:path fill="none" w="36" h="27">
                    <a:moveTo>
                      <a:pt x="31" y="0"/>
                    </a:moveTo>
                    <a:lnTo>
                      <a:pt x="15" y="10"/>
                    </a:lnTo>
                    <a:lnTo>
                      <a:pt x="0" y="16"/>
                    </a:lnTo>
                    <a:lnTo>
                      <a:pt x="5" y="27"/>
                    </a:lnTo>
                    <a:lnTo>
                      <a:pt x="21" y="22"/>
                    </a:lnTo>
                    <a:lnTo>
                      <a:pt x="26" y="16"/>
                    </a:lnTo>
                    <a:lnTo>
                      <a:pt x="36" y="16"/>
                    </a:lnTo>
                    <a:lnTo>
                      <a:pt x="21" y="16"/>
                    </a:lnTo>
                    <a:lnTo>
                      <a:pt x="21" y="10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93120" y="285264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5"/>
                    </a:moveTo>
                    <a:lnTo>
                      <a:pt x="9" y="0"/>
                    </a:lnTo>
                    <a:lnTo>
                      <a:pt x="14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75480" y="287352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9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9" y="19"/>
                    </a:lnTo>
                    <a:lnTo>
                      <a:pt x="19" y="15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62960" y="287496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27" y="0"/>
                    </a:lnTo>
                    <a:lnTo>
                      <a:pt x="23" y="9"/>
                    </a:lnTo>
                    <a:lnTo>
                      <a:pt x="14" y="9"/>
                    </a:lnTo>
                    <a:lnTo>
                      <a:pt x="0" y="14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7" y="9"/>
                    </a:lnTo>
                    <a:lnTo>
                      <a:pt x="32" y="14"/>
                    </a:lnTo>
                    <a:lnTo>
                      <a:pt x="27" y="4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66200" y="2884320"/>
                <a:ext cx="9720" cy="6840"/>
              </a:xfrm>
              <a:custGeom>
                <a:avLst/>
                <a:gdLst/>
                <a:ahLst/>
                <a:rect l="0" t="0" r="r" b="b"/>
                <a:pathLst>
                  <a:path fill="none" w="27" h="19">
                    <a:moveTo>
                      <a:pt x="27" y="0"/>
                    </a:moveTo>
                    <a:lnTo>
                      <a:pt x="14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8" y="19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653240" y="289260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30" y="0"/>
                    </a:lnTo>
                    <a:lnTo>
                      <a:pt x="25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20" y="14"/>
                    </a:lnTo>
                    <a:lnTo>
                      <a:pt x="25" y="14"/>
                    </a:lnTo>
                    <a:lnTo>
                      <a:pt x="30" y="14"/>
                    </a:lnTo>
                    <a:lnTo>
                      <a:pt x="25" y="9"/>
                    </a:lnTo>
                    <a:lnTo>
                      <a:pt x="30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651800" y="2898720"/>
                <a:ext cx="16200" cy="5040"/>
              </a:xfrm>
              <a:custGeom>
                <a:avLst/>
                <a:gdLst/>
                <a:ahLst/>
                <a:rect l="0" t="0" r="r" b="b"/>
                <a:pathLst>
                  <a:path fill="none" w="45" h="14">
                    <a:moveTo>
                      <a:pt x="45" y="0"/>
                    </a:moveTo>
                    <a:lnTo>
                      <a:pt x="30" y="0"/>
                    </a:lnTo>
                    <a:lnTo>
                      <a:pt x="25" y="4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5" y="9"/>
                    </a:lnTo>
                    <a:lnTo>
                      <a:pt x="35" y="14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645320" y="290520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41" y="0"/>
                    </a:moveTo>
                    <a:lnTo>
                      <a:pt x="30" y="0"/>
                    </a:lnTo>
                    <a:lnTo>
                      <a:pt x="25" y="6"/>
                    </a:lnTo>
                    <a:lnTo>
                      <a:pt x="0" y="12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25" y="19"/>
                    </a:lnTo>
                    <a:lnTo>
                      <a:pt x="30" y="6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48560" y="29131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14" y="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4" name="" descr=""/>
            <p:cNvPicPr/>
            <p:nvPr/>
          </p:nvPicPr>
          <p:blipFill>
            <a:blip r:embed="rId2"/>
            <a:stretch/>
          </p:blipFill>
          <p:spPr>
            <a:xfrm>
              <a:off x="7480440" y="2757600"/>
              <a:ext cx="1098720" cy="51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5" name="" descr=""/>
          <p:cNvPicPr/>
          <p:nvPr/>
        </p:nvPicPr>
        <p:blipFill>
          <a:blip r:embed="rId3"/>
          <a:stretch/>
        </p:blipFill>
        <p:spPr>
          <a:xfrm>
            <a:off x="7610400" y="4343400"/>
            <a:ext cx="847800" cy="47952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4"/>
          <a:stretch/>
        </p:blipFill>
        <p:spPr>
          <a:xfrm>
            <a:off x="6735600" y="5284800"/>
            <a:ext cx="673200" cy="47628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5"/>
          <a:stretch/>
        </p:blipFill>
        <p:spPr>
          <a:xfrm>
            <a:off x="868320" y="5818320"/>
            <a:ext cx="673200" cy="476280"/>
          </a:xfrm>
          <a:prstGeom prst="rect">
            <a:avLst/>
          </a:prstGeom>
          <a:ln w="0">
            <a:noFill/>
          </a:ln>
        </p:spPr>
      </p:pic>
      <p:grpSp>
        <p:nvGrpSpPr>
          <p:cNvPr id="1238" name=""/>
          <p:cNvGrpSpPr/>
          <p:nvPr/>
        </p:nvGrpSpPr>
        <p:grpSpPr>
          <a:xfrm>
            <a:off x="668160" y="2824200"/>
            <a:ext cx="843480" cy="432360"/>
            <a:chOff x="668160" y="2824200"/>
            <a:chExt cx="843480" cy="432360"/>
          </a:xfrm>
        </p:grpSpPr>
        <p:sp>
          <p:nvSpPr>
            <p:cNvPr id="1239" name=""/>
            <p:cNvSpPr/>
            <p:nvPr/>
          </p:nvSpPr>
          <p:spPr>
            <a:xfrm>
              <a:off x="668160" y="3160800"/>
              <a:ext cx="759240" cy="92520"/>
            </a:xfrm>
            <a:custGeom>
              <a:avLst/>
              <a:gdLst/>
              <a:ahLst/>
              <a:rect l="0" t="0" r="r" b="b"/>
              <a:pathLst>
                <a:path fill="none" w="2109" h="257">
                  <a:moveTo>
                    <a:pt x="1002" y="160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1002" y="257"/>
                  </a:lnTo>
                  <a:lnTo>
                    <a:pt x="2109" y="58"/>
                  </a:lnTo>
                  <a:lnTo>
                    <a:pt x="1932" y="38"/>
                  </a:lnTo>
                  <a:lnTo>
                    <a:pt x="1002" y="16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31760" y="2914560"/>
              <a:ext cx="479880" cy="249480"/>
            </a:xfrm>
            <a:custGeom>
              <a:avLst/>
              <a:gdLst/>
              <a:ahLst/>
              <a:rect l="0" t="0" r="r" b="b"/>
              <a:pathLst>
                <a:path fill="none" w="1333" h="693">
                  <a:moveTo>
                    <a:pt x="0" y="0"/>
                  </a:moveTo>
                  <a:lnTo>
                    <a:pt x="951" y="217"/>
                  </a:lnTo>
                  <a:lnTo>
                    <a:pt x="951" y="448"/>
                  </a:lnTo>
                  <a:lnTo>
                    <a:pt x="1333" y="487"/>
                  </a:lnTo>
                  <a:lnTo>
                    <a:pt x="1333" y="606"/>
                  </a:lnTo>
                  <a:lnTo>
                    <a:pt x="0" y="69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82560" y="2913120"/>
              <a:ext cx="346320" cy="235440"/>
            </a:xfrm>
            <a:custGeom>
              <a:avLst/>
              <a:gdLst/>
              <a:ahLst/>
              <a:rect l="0" t="0" r="r" b="b"/>
              <a:pathLst>
                <a:path fill="none" w="962" h="654">
                  <a:moveTo>
                    <a:pt x="0" y="275"/>
                  </a:moveTo>
                  <a:lnTo>
                    <a:pt x="962" y="0"/>
                  </a:lnTo>
                  <a:lnTo>
                    <a:pt x="962" y="654"/>
                  </a:lnTo>
                  <a:lnTo>
                    <a:pt x="0" y="595"/>
                  </a:lnTo>
                  <a:lnTo>
                    <a:pt x="0" y="275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0480" y="3130560"/>
              <a:ext cx="673560" cy="87840"/>
            </a:xfrm>
            <a:custGeom>
              <a:avLst/>
              <a:gdLst/>
              <a:ahLst/>
              <a:rect l="0" t="0" r="r" b="b"/>
              <a:pathLst>
                <a:path fill="none" w="1871" h="244">
                  <a:moveTo>
                    <a:pt x="0" y="0"/>
                  </a:moveTo>
                  <a:lnTo>
                    <a:pt x="940" y="55"/>
                  </a:lnTo>
                  <a:lnTo>
                    <a:pt x="1871" y="22"/>
                  </a:lnTo>
                  <a:lnTo>
                    <a:pt x="1871" y="135"/>
                  </a:lnTo>
                  <a:lnTo>
                    <a:pt x="940" y="244"/>
                  </a:lnTo>
                  <a:lnTo>
                    <a:pt x="0" y="81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428840" y="3114720"/>
              <a:ext cx="33840" cy="24120"/>
            </a:xfrm>
            <a:custGeom>
              <a:avLst/>
              <a:gdLst/>
              <a:ahLst/>
              <a:rect l="0" t="0" r="r" b="b"/>
              <a:pathLst>
                <a:path fill="none" w="94" h="67">
                  <a:moveTo>
                    <a:pt x="0" y="67"/>
                  </a:moveTo>
                  <a:lnTo>
                    <a:pt x="94" y="60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67"/>
                  </a:lnTo>
                </a:path>
              </a:pathLst>
            </a:custGeom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182600" y="3143160"/>
              <a:ext cx="81360" cy="59040"/>
            </a:xfrm>
            <a:custGeom>
              <a:avLst/>
              <a:gdLst/>
              <a:ahLst/>
              <a:rect l="0" t="0" r="r" b="b"/>
              <a:pathLst>
                <a:path fill="none" w="226" h="164">
                  <a:moveTo>
                    <a:pt x="0" y="164"/>
                  </a:moveTo>
                  <a:lnTo>
                    <a:pt x="226" y="136"/>
                  </a:lnTo>
                  <a:lnTo>
                    <a:pt x="226" y="0"/>
                  </a:lnTo>
                  <a:lnTo>
                    <a:pt x="0" y="10"/>
                  </a:lnTo>
                  <a:lnTo>
                    <a:pt x="0" y="164"/>
                  </a:lnTo>
                </a:path>
              </a:pathLst>
            </a:custGeom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5240" y="3141720"/>
              <a:ext cx="81360" cy="52920"/>
            </a:xfrm>
            <a:custGeom>
              <a:avLst/>
              <a:gdLst/>
              <a:ahLst/>
              <a:rect l="0" t="0" r="r" b="b"/>
              <a:pathLst>
                <a:path fill="none" w="226" h="147">
                  <a:moveTo>
                    <a:pt x="0" y="106"/>
                  </a:moveTo>
                  <a:lnTo>
                    <a:pt x="0" y="0"/>
                  </a:lnTo>
                  <a:lnTo>
                    <a:pt x="226" y="14"/>
                  </a:lnTo>
                  <a:lnTo>
                    <a:pt x="226" y="147"/>
                  </a:lnTo>
                  <a:lnTo>
                    <a:pt x="0" y="106"/>
                  </a:lnTo>
                </a:path>
              </a:pathLst>
            </a:custGeom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82560" y="2913120"/>
              <a:ext cx="692640" cy="238320"/>
            </a:xfrm>
            <a:custGeom>
              <a:avLst/>
              <a:gdLst/>
              <a:ahLst/>
              <a:rect l="0" t="0" r="r" b="b"/>
              <a:pathLst>
                <a:path fill="none" w="1924" h="662">
                  <a:moveTo>
                    <a:pt x="0" y="278"/>
                  </a:moveTo>
                  <a:lnTo>
                    <a:pt x="964" y="0"/>
                  </a:lnTo>
                  <a:lnTo>
                    <a:pt x="1924" y="220"/>
                  </a:lnTo>
                  <a:lnTo>
                    <a:pt x="1924" y="623"/>
                  </a:lnTo>
                  <a:lnTo>
                    <a:pt x="964" y="662"/>
                  </a:lnTo>
                  <a:lnTo>
                    <a:pt x="0" y="602"/>
                  </a:lnTo>
                  <a:lnTo>
                    <a:pt x="0" y="2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0480" y="3130560"/>
              <a:ext cx="675000" cy="92520"/>
            </a:xfrm>
            <a:custGeom>
              <a:avLst/>
              <a:gdLst/>
              <a:ahLst/>
              <a:rect l="0" t="0" r="r" b="b"/>
              <a:pathLst>
                <a:path fill="none" w="1875" h="257">
                  <a:moveTo>
                    <a:pt x="0" y="0"/>
                  </a:moveTo>
                  <a:lnTo>
                    <a:pt x="0" y="86"/>
                  </a:lnTo>
                  <a:lnTo>
                    <a:pt x="941" y="257"/>
                  </a:lnTo>
                  <a:lnTo>
                    <a:pt x="1875" y="140"/>
                  </a:lnTo>
                  <a:lnTo>
                    <a:pt x="1875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1030320" y="28242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97040" y="313704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6120" y="3137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35200" y="31384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57160" y="31399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79480" y="31417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82600" y="314316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06360" y="314172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28680" y="3141720"/>
              <a:ext cx="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246320" y="3141720"/>
              <a:ext cx="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5400" y="31417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15840" y="2828880"/>
              <a:ext cx="114840" cy="78120"/>
            </a:xfrm>
            <a:custGeom>
              <a:avLst/>
              <a:gdLst/>
              <a:ahLst/>
              <a:rect l="0" t="0" r="r" b="b"/>
              <a:pathLst>
                <a:path fill="none" w="319" h="217">
                  <a:moveTo>
                    <a:pt x="319" y="0"/>
                  </a:moveTo>
                  <a:lnTo>
                    <a:pt x="187" y="42"/>
                  </a:lnTo>
                  <a:lnTo>
                    <a:pt x="173" y="115"/>
                  </a:lnTo>
                  <a:lnTo>
                    <a:pt x="0" y="217"/>
                  </a:lnTo>
                  <a:lnTo>
                    <a:pt x="156" y="189"/>
                  </a:lnTo>
                  <a:lnTo>
                    <a:pt x="163" y="164"/>
                  </a:lnTo>
                  <a:lnTo>
                    <a:pt x="319" y="125"/>
                  </a:lnTo>
                  <a:lnTo>
                    <a:pt x="3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28840" y="3112920"/>
              <a:ext cx="36720" cy="27360"/>
            </a:xfrm>
            <a:custGeom>
              <a:avLst/>
              <a:gdLst/>
              <a:ahLst/>
              <a:rect l="0" t="0" r="r" b="b"/>
              <a:pathLst>
                <a:path fill="none" w="102" h="76">
                  <a:moveTo>
                    <a:pt x="0" y="76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6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440000" y="31147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447920" y="31147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55840" y="31147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049400" y="2946240"/>
              <a:ext cx="63720" cy="184680"/>
            </a:xfrm>
            <a:custGeom>
              <a:avLst/>
              <a:gdLst/>
              <a:ahLst/>
              <a:rect l="0" t="0" r="r" b="b"/>
              <a:pathLst>
                <a:path fill="none" w="177" h="513">
                  <a:moveTo>
                    <a:pt x="168" y="509"/>
                  </a:moveTo>
                  <a:lnTo>
                    <a:pt x="0" y="512"/>
                  </a:lnTo>
                  <a:lnTo>
                    <a:pt x="0" y="513"/>
                  </a:lnTo>
                  <a:lnTo>
                    <a:pt x="177" y="511"/>
                  </a:lnTo>
                  <a:lnTo>
                    <a:pt x="177" y="111"/>
                  </a:lnTo>
                  <a:lnTo>
                    <a:pt x="176" y="100"/>
                  </a:lnTo>
                  <a:lnTo>
                    <a:pt x="174" y="87"/>
                  </a:lnTo>
                  <a:lnTo>
                    <a:pt x="172" y="79"/>
                  </a:lnTo>
                  <a:lnTo>
                    <a:pt x="170" y="68"/>
                  </a:lnTo>
                  <a:lnTo>
                    <a:pt x="166" y="57"/>
                  </a:lnTo>
                  <a:lnTo>
                    <a:pt x="161" y="49"/>
                  </a:lnTo>
                  <a:lnTo>
                    <a:pt x="154" y="37"/>
                  </a:lnTo>
                  <a:lnTo>
                    <a:pt x="147" y="27"/>
                  </a:lnTo>
                  <a:lnTo>
                    <a:pt x="140" y="20"/>
                  </a:lnTo>
                  <a:lnTo>
                    <a:pt x="131" y="13"/>
                  </a:lnTo>
                  <a:lnTo>
                    <a:pt x="120" y="7"/>
                  </a:lnTo>
                  <a:lnTo>
                    <a:pt x="111" y="4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1"/>
                  </a:lnTo>
                  <a:lnTo>
                    <a:pt x="56" y="7"/>
                  </a:lnTo>
                  <a:lnTo>
                    <a:pt x="45" y="14"/>
                  </a:lnTo>
                  <a:lnTo>
                    <a:pt x="37" y="20"/>
                  </a:lnTo>
                  <a:lnTo>
                    <a:pt x="30" y="26"/>
                  </a:lnTo>
                  <a:lnTo>
                    <a:pt x="24" y="35"/>
                  </a:lnTo>
                  <a:lnTo>
                    <a:pt x="32" y="25"/>
                  </a:lnTo>
                  <a:lnTo>
                    <a:pt x="39" y="20"/>
                  </a:lnTo>
                  <a:lnTo>
                    <a:pt x="46" y="14"/>
                  </a:lnTo>
                  <a:lnTo>
                    <a:pt x="57" y="8"/>
                  </a:lnTo>
                  <a:lnTo>
                    <a:pt x="65" y="5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93" y="1"/>
                  </a:lnTo>
                  <a:lnTo>
                    <a:pt x="102" y="4"/>
                  </a:lnTo>
                  <a:lnTo>
                    <a:pt x="110" y="6"/>
                  </a:lnTo>
                  <a:lnTo>
                    <a:pt x="119" y="12"/>
                  </a:lnTo>
                  <a:lnTo>
                    <a:pt x="131" y="20"/>
                  </a:lnTo>
                  <a:lnTo>
                    <a:pt x="139" y="27"/>
                  </a:lnTo>
                  <a:lnTo>
                    <a:pt x="147" y="37"/>
                  </a:lnTo>
                  <a:lnTo>
                    <a:pt x="151" y="44"/>
                  </a:lnTo>
                  <a:lnTo>
                    <a:pt x="157" y="53"/>
                  </a:lnTo>
                  <a:lnTo>
                    <a:pt x="161" y="64"/>
                  </a:lnTo>
                  <a:lnTo>
                    <a:pt x="165" y="76"/>
                  </a:lnTo>
                  <a:lnTo>
                    <a:pt x="166" y="90"/>
                  </a:lnTo>
                  <a:lnTo>
                    <a:pt x="168" y="103"/>
                  </a:lnTo>
                  <a:lnTo>
                    <a:pt x="168" y="107"/>
                  </a:lnTo>
                  <a:lnTo>
                    <a:pt x="168" y="5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123920" y="2962440"/>
              <a:ext cx="60840" cy="168480"/>
            </a:xfrm>
            <a:custGeom>
              <a:avLst/>
              <a:gdLst/>
              <a:ahLst/>
              <a:rect l="0" t="0" r="r" b="b"/>
              <a:pathLst>
                <a:path fill="none" w="169" h="468">
                  <a:moveTo>
                    <a:pt x="160" y="463"/>
                  </a:moveTo>
                  <a:lnTo>
                    <a:pt x="0" y="466"/>
                  </a:lnTo>
                  <a:lnTo>
                    <a:pt x="0" y="468"/>
                  </a:lnTo>
                  <a:lnTo>
                    <a:pt x="169" y="466"/>
                  </a:lnTo>
                  <a:lnTo>
                    <a:pt x="168" y="102"/>
                  </a:lnTo>
                  <a:lnTo>
                    <a:pt x="167" y="92"/>
                  </a:lnTo>
                  <a:lnTo>
                    <a:pt x="165" y="81"/>
                  </a:lnTo>
                  <a:lnTo>
                    <a:pt x="164" y="72"/>
                  </a:lnTo>
                  <a:lnTo>
                    <a:pt x="162" y="62"/>
                  </a:lnTo>
                  <a:lnTo>
                    <a:pt x="158" y="53"/>
                  </a:lnTo>
                  <a:lnTo>
                    <a:pt x="154" y="45"/>
                  </a:lnTo>
                  <a:lnTo>
                    <a:pt x="148" y="35"/>
                  </a:lnTo>
                  <a:lnTo>
                    <a:pt x="141" y="25"/>
                  </a:lnTo>
                  <a:lnTo>
                    <a:pt x="133" y="18"/>
                  </a:lnTo>
                  <a:lnTo>
                    <a:pt x="124" y="12"/>
                  </a:lnTo>
                  <a:lnTo>
                    <a:pt x="114" y="7"/>
                  </a:lnTo>
                  <a:lnTo>
                    <a:pt x="105" y="3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7" y="0"/>
                  </a:lnTo>
                  <a:lnTo>
                    <a:pt x="66" y="2"/>
                  </a:lnTo>
                  <a:lnTo>
                    <a:pt x="55" y="8"/>
                  </a:lnTo>
                  <a:lnTo>
                    <a:pt x="44" y="13"/>
                  </a:lnTo>
                  <a:lnTo>
                    <a:pt x="35" y="18"/>
                  </a:lnTo>
                  <a:lnTo>
                    <a:pt x="29" y="24"/>
                  </a:lnTo>
                  <a:lnTo>
                    <a:pt x="23" y="32"/>
                  </a:lnTo>
                  <a:lnTo>
                    <a:pt x="31" y="24"/>
                  </a:lnTo>
                  <a:lnTo>
                    <a:pt x="37" y="18"/>
                  </a:lnTo>
                  <a:lnTo>
                    <a:pt x="46" y="13"/>
                  </a:lnTo>
                  <a:lnTo>
                    <a:pt x="55" y="8"/>
                  </a:lnTo>
                  <a:lnTo>
                    <a:pt x="62" y="5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1"/>
                  </a:lnTo>
                  <a:lnTo>
                    <a:pt x="97" y="3"/>
                  </a:lnTo>
                  <a:lnTo>
                    <a:pt x="105" y="5"/>
                  </a:lnTo>
                  <a:lnTo>
                    <a:pt x="112" y="11"/>
                  </a:lnTo>
                  <a:lnTo>
                    <a:pt x="123" y="18"/>
                  </a:lnTo>
                  <a:lnTo>
                    <a:pt x="133" y="25"/>
                  </a:lnTo>
                  <a:lnTo>
                    <a:pt x="140" y="34"/>
                  </a:lnTo>
                  <a:lnTo>
                    <a:pt x="145" y="41"/>
                  </a:lnTo>
                  <a:lnTo>
                    <a:pt x="149" y="49"/>
                  </a:lnTo>
                  <a:lnTo>
                    <a:pt x="154" y="59"/>
                  </a:lnTo>
                  <a:lnTo>
                    <a:pt x="156" y="68"/>
                  </a:lnTo>
                  <a:lnTo>
                    <a:pt x="159" y="82"/>
                  </a:lnTo>
                  <a:lnTo>
                    <a:pt x="160" y="94"/>
                  </a:lnTo>
                  <a:lnTo>
                    <a:pt x="160" y="98"/>
                  </a:lnTo>
                  <a:lnTo>
                    <a:pt x="160" y="46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193760" y="2975040"/>
              <a:ext cx="52920" cy="154440"/>
            </a:xfrm>
            <a:custGeom>
              <a:avLst/>
              <a:gdLst/>
              <a:ahLst/>
              <a:rect l="0" t="0" r="r" b="b"/>
              <a:pathLst>
                <a:path fill="none" w="147" h="429">
                  <a:moveTo>
                    <a:pt x="139" y="428"/>
                  </a:moveTo>
                  <a:lnTo>
                    <a:pt x="0" y="429"/>
                  </a:lnTo>
                  <a:lnTo>
                    <a:pt x="147" y="429"/>
                  </a:lnTo>
                  <a:lnTo>
                    <a:pt x="147" y="93"/>
                  </a:lnTo>
                  <a:lnTo>
                    <a:pt x="147" y="84"/>
                  </a:lnTo>
                  <a:lnTo>
                    <a:pt x="146" y="73"/>
                  </a:lnTo>
                  <a:lnTo>
                    <a:pt x="143" y="66"/>
                  </a:lnTo>
                  <a:lnTo>
                    <a:pt x="141" y="56"/>
                  </a:lnTo>
                  <a:lnTo>
                    <a:pt x="137" y="48"/>
                  </a:lnTo>
                  <a:lnTo>
                    <a:pt x="134" y="40"/>
                  </a:lnTo>
                  <a:lnTo>
                    <a:pt x="129" y="31"/>
                  </a:lnTo>
                  <a:lnTo>
                    <a:pt x="122" y="22"/>
                  </a:lnTo>
                  <a:lnTo>
                    <a:pt x="116" y="17"/>
                  </a:lnTo>
                  <a:lnTo>
                    <a:pt x="107" y="11"/>
                  </a:lnTo>
                  <a:lnTo>
                    <a:pt x="100" y="5"/>
                  </a:lnTo>
                  <a:lnTo>
                    <a:pt x="91" y="3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6" y="1"/>
                  </a:lnTo>
                  <a:lnTo>
                    <a:pt x="48" y="5"/>
                  </a:lnTo>
                  <a:lnTo>
                    <a:pt x="38" y="11"/>
                  </a:lnTo>
                  <a:lnTo>
                    <a:pt x="31" y="17"/>
                  </a:lnTo>
                  <a:lnTo>
                    <a:pt x="25" y="22"/>
                  </a:lnTo>
                  <a:lnTo>
                    <a:pt x="19" y="29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40" y="11"/>
                  </a:lnTo>
                  <a:lnTo>
                    <a:pt x="48" y="7"/>
                  </a:lnTo>
                  <a:lnTo>
                    <a:pt x="54" y="3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8" y="9"/>
                  </a:lnTo>
                  <a:lnTo>
                    <a:pt x="107" y="16"/>
                  </a:lnTo>
                  <a:lnTo>
                    <a:pt x="116" y="22"/>
                  </a:lnTo>
                  <a:lnTo>
                    <a:pt x="122" y="30"/>
                  </a:lnTo>
                  <a:lnTo>
                    <a:pt x="125" y="37"/>
                  </a:lnTo>
                  <a:lnTo>
                    <a:pt x="130" y="43"/>
                  </a:lnTo>
                  <a:lnTo>
                    <a:pt x="134" y="54"/>
                  </a:lnTo>
                  <a:lnTo>
                    <a:pt x="137" y="63"/>
                  </a:lnTo>
                  <a:lnTo>
                    <a:pt x="139" y="75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42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255680" y="2987640"/>
              <a:ext cx="51120" cy="141480"/>
            </a:xfrm>
            <a:custGeom>
              <a:avLst/>
              <a:gdLst/>
              <a:ahLst/>
              <a:rect l="0" t="0" r="r" b="b"/>
              <a:pathLst>
                <a:path fill="none" w="142" h="393">
                  <a:moveTo>
                    <a:pt x="134" y="390"/>
                  </a:moveTo>
                  <a:lnTo>
                    <a:pt x="0" y="392"/>
                  </a:lnTo>
                  <a:lnTo>
                    <a:pt x="0" y="393"/>
                  </a:lnTo>
                  <a:lnTo>
                    <a:pt x="142" y="392"/>
                  </a:lnTo>
                  <a:lnTo>
                    <a:pt x="140" y="85"/>
                  </a:lnTo>
                  <a:lnTo>
                    <a:pt x="140" y="76"/>
                  </a:lnTo>
                  <a:lnTo>
                    <a:pt x="140" y="67"/>
                  </a:lnTo>
                  <a:lnTo>
                    <a:pt x="138" y="60"/>
                  </a:lnTo>
                  <a:lnTo>
                    <a:pt x="136" y="52"/>
                  </a:lnTo>
                  <a:lnTo>
                    <a:pt x="132" y="44"/>
                  </a:lnTo>
                  <a:lnTo>
                    <a:pt x="128" y="37"/>
                  </a:lnTo>
                  <a:lnTo>
                    <a:pt x="123" y="28"/>
                  </a:lnTo>
                  <a:lnTo>
                    <a:pt x="118" y="21"/>
                  </a:lnTo>
                  <a:lnTo>
                    <a:pt x="112" y="14"/>
                  </a:lnTo>
                  <a:lnTo>
                    <a:pt x="103" y="10"/>
                  </a:lnTo>
                  <a:lnTo>
                    <a:pt x="95" y="5"/>
                  </a:lnTo>
                  <a:lnTo>
                    <a:pt x="87" y="2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5" y="5"/>
                  </a:lnTo>
                  <a:lnTo>
                    <a:pt x="36" y="11"/>
                  </a:lnTo>
                  <a:lnTo>
                    <a:pt x="29" y="14"/>
                  </a:lnTo>
                  <a:lnTo>
                    <a:pt x="25" y="21"/>
                  </a:lnTo>
                  <a:lnTo>
                    <a:pt x="19" y="26"/>
                  </a:lnTo>
                  <a:lnTo>
                    <a:pt x="26" y="19"/>
                  </a:lnTo>
                  <a:lnTo>
                    <a:pt x="31" y="14"/>
                  </a:lnTo>
                  <a:lnTo>
                    <a:pt x="38" y="11"/>
                  </a:lnTo>
                  <a:lnTo>
                    <a:pt x="46" y="7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73" y="1"/>
                  </a:lnTo>
                  <a:lnTo>
                    <a:pt x="81" y="2"/>
                  </a:lnTo>
                  <a:lnTo>
                    <a:pt x="87" y="4"/>
                  </a:lnTo>
                  <a:lnTo>
                    <a:pt x="95" y="8"/>
                  </a:lnTo>
                  <a:lnTo>
                    <a:pt x="103" y="14"/>
                  </a:lnTo>
                  <a:lnTo>
                    <a:pt x="111" y="21"/>
                  </a:lnTo>
                  <a:lnTo>
                    <a:pt x="117" y="28"/>
                  </a:lnTo>
                  <a:lnTo>
                    <a:pt x="121" y="34"/>
                  </a:lnTo>
                  <a:lnTo>
                    <a:pt x="124" y="40"/>
                  </a:lnTo>
                  <a:lnTo>
                    <a:pt x="128" y="50"/>
                  </a:lnTo>
                  <a:lnTo>
                    <a:pt x="131" y="58"/>
                  </a:lnTo>
                  <a:lnTo>
                    <a:pt x="133" y="69"/>
                  </a:lnTo>
                  <a:lnTo>
                    <a:pt x="134" y="78"/>
                  </a:lnTo>
                  <a:lnTo>
                    <a:pt x="134" y="82"/>
                  </a:lnTo>
                  <a:lnTo>
                    <a:pt x="134" y="3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16160" y="2997360"/>
              <a:ext cx="44640" cy="128880"/>
            </a:xfrm>
            <a:custGeom>
              <a:avLst/>
              <a:gdLst/>
              <a:ahLst/>
              <a:rect l="0" t="0" r="r" b="b"/>
              <a:pathLst>
                <a:path fill="none" w="124" h="358">
                  <a:moveTo>
                    <a:pt x="118" y="355"/>
                  </a:moveTo>
                  <a:lnTo>
                    <a:pt x="0" y="357"/>
                  </a:lnTo>
                  <a:lnTo>
                    <a:pt x="0" y="358"/>
                  </a:lnTo>
                  <a:lnTo>
                    <a:pt x="124" y="356"/>
                  </a:lnTo>
                  <a:lnTo>
                    <a:pt x="123" y="76"/>
                  </a:lnTo>
                  <a:lnTo>
                    <a:pt x="123" y="69"/>
                  </a:lnTo>
                  <a:lnTo>
                    <a:pt x="123" y="61"/>
                  </a:lnTo>
                  <a:lnTo>
                    <a:pt x="120" y="55"/>
                  </a:lnTo>
                  <a:lnTo>
                    <a:pt x="118" y="47"/>
                  </a:lnTo>
                  <a:lnTo>
                    <a:pt x="115" y="40"/>
                  </a:lnTo>
                  <a:lnTo>
                    <a:pt x="112" y="33"/>
                  </a:lnTo>
                  <a:lnTo>
                    <a:pt x="108" y="25"/>
                  </a:lnTo>
                  <a:lnTo>
                    <a:pt x="102" y="19"/>
                  </a:lnTo>
                  <a:lnTo>
                    <a:pt x="98" y="13"/>
                  </a:lnTo>
                  <a:lnTo>
                    <a:pt x="91" y="9"/>
                  </a:lnTo>
                  <a:lnTo>
                    <a:pt x="83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7" y="1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5" y="13"/>
                  </a:lnTo>
                  <a:lnTo>
                    <a:pt x="21" y="18"/>
                  </a:lnTo>
                  <a:lnTo>
                    <a:pt x="16" y="23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4" y="9"/>
                  </a:lnTo>
                  <a:lnTo>
                    <a:pt x="39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3" y="7"/>
                  </a:lnTo>
                  <a:lnTo>
                    <a:pt x="91" y="12"/>
                  </a:lnTo>
                  <a:lnTo>
                    <a:pt x="97" y="19"/>
                  </a:lnTo>
                  <a:lnTo>
                    <a:pt x="101" y="25"/>
                  </a:lnTo>
                  <a:lnTo>
                    <a:pt x="106" y="31"/>
                  </a:lnTo>
                  <a:lnTo>
                    <a:pt x="109" y="35"/>
                  </a:lnTo>
                  <a:lnTo>
                    <a:pt x="112" y="45"/>
                  </a:lnTo>
                  <a:lnTo>
                    <a:pt x="114" y="52"/>
                  </a:lnTo>
                  <a:lnTo>
                    <a:pt x="116" y="63"/>
                  </a:lnTo>
                  <a:lnTo>
                    <a:pt x="116" y="71"/>
                  </a:lnTo>
                  <a:lnTo>
                    <a:pt x="116" y="74"/>
                  </a:lnTo>
                  <a:lnTo>
                    <a:pt x="118" y="3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0480" y="3130560"/>
              <a:ext cx="675000" cy="27360"/>
            </a:xfrm>
            <a:custGeom>
              <a:avLst/>
              <a:gdLst/>
              <a:ahLst/>
              <a:rect l="0" t="0" r="r" b="b"/>
              <a:pathLst>
                <a:path fill="none" w="1875" h="76">
                  <a:moveTo>
                    <a:pt x="942" y="5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942" y="76"/>
                  </a:lnTo>
                  <a:lnTo>
                    <a:pt x="1875" y="28"/>
                  </a:lnTo>
                  <a:lnTo>
                    <a:pt x="1875" y="17"/>
                  </a:lnTo>
                  <a:lnTo>
                    <a:pt x="942" y="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96960" y="3122640"/>
              <a:ext cx="9720" cy="43200"/>
            </a:xfrm>
            <a:custGeom>
              <a:avLst/>
              <a:gdLst/>
              <a:ahLst/>
              <a:rect l="0" t="0" r="r" b="b"/>
              <a:pathLst>
                <a:path fill="none" w="27" h="120">
                  <a:moveTo>
                    <a:pt x="15" y="114"/>
                  </a:moveTo>
                  <a:lnTo>
                    <a:pt x="18" y="109"/>
                  </a:lnTo>
                  <a:lnTo>
                    <a:pt x="21" y="102"/>
                  </a:lnTo>
                  <a:lnTo>
                    <a:pt x="22" y="96"/>
                  </a:lnTo>
                  <a:lnTo>
                    <a:pt x="24" y="89"/>
                  </a:lnTo>
                  <a:lnTo>
                    <a:pt x="26" y="84"/>
                  </a:lnTo>
                  <a:lnTo>
                    <a:pt x="26" y="77"/>
                  </a:lnTo>
                  <a:lnTo>
                    <a:pt x="27" y="71"/>
                  </a:lnTo>
                  <a:lnTo>
                    <a:pt x="27" y="63"/>
                  </a:lnTo>
                  <a:lnTo>
                    <a:pt x="27" y="56"/>
                  </a:lnTo>
                  <a:lnTo>
                    <a:pt x="27" y="50"/>
                  </a:lnTo>
                  <a:lnTo>
                    <a:pt x="26" y="43"/>
                  </a:lnTo>
                  <a:lnTo>
                    <a:pt x="26" y="37"/>
                  </a:lnTo>
                  <a:lnTo>
                    <a:pt x="25" y="30"/>
                  </a:lnTo>
                  <a:lnTo>
                    <a:pt x="24" y="24"/>
                  </a:lnTo>
                  <a:lnTo>
                    <a:pt x="21" y="17"/>
                  </a:lnTo>
                  <a:lnTo>
                    <a:pt x="18" y="12"/>
                  </a:lnTo>
                  <a:lnTo>
                    <a:pt x="17" y="6"/>
                  </a:lnTo>
                  <a:lnTo>
                    <a:pt x="12" y="0"/>
                  </a:lnTo>
                  <a:lnTo>
                    <a:pt x="9" y="6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8" y="109"/>
                  </a:lnTo>
                  <a:lnTo>
                    <a:pt x="10" y="114"/>
                  </a:lnTo>
                  <a:lnTo>
                    <a:pt x="12" y="120"/>
                  </a:lnTo>
                  <a:lnTo>
                    <a:pt x="15" y="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19280" y="3124080"/>
              <a:ext cx="11520" cy="46440"/>
            </a:xfrm>
            <a:custGeom>
              <a:avLst/>
              <a:gdLst/>
              <a:ahLst/>
              <a:rect l="0" t="0" r="r" b="b"/>
              <a:pathLst>
                <a:path fill="none" w="32" h="129">
                  <a:moveTo>
                    <a:pt x="18" y="124"/>
                  </a:moveTo>
                  <a:lnTo>
                    <a:pt x="21" y="117"/>
                  </a:lnTo>
                  <a:lnTo>
                    <a:pt x="23" y="111"/>
                  </a:lnTo>
                  <a:lnTo>
                    <a:pt x="27" y="103"/>
                  </a:lnTo>
                  <a:lnTo>
                    <a:pt x="28" y="96"/>
                  </a:lnTo>
                  <a:lnTo>
                    <a:pt x="30" y="90"/>
                  </a:lnTo>
                  <a:lnTo>
                    <a:pt x="30" y="82"/>
                  </a:lnTo>
                  <a:lnTo>
                    <a:pt x="32" y="75"/>
                  </a:lnTo>
                  <a:lnTo>
                    <a:pt x="32" y="69"/>
                  </a:lnTo>
                  <a:lnTo>
                    <a:pt x="32" y="62"/>
                  </a:lnTo>
                  <a:lnTo>
                    <a:pt x="32" y="54"/>
                  </a:lnTo>
                  <a:lnTo>
                    <a:pt x="30" y="48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26"/>
                  </a:lnTo>
                  <a:lnTo>
                    <a:pt x="23" y="18"/>
                  </a:lnTo>
                  <a:lnTo>
                    <a:pt x="21" y="13"/>
                  </a:lnTo>
                  <a:lnTo>
                    <a:pt x="18" y="6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2" y="90"/>
                  </a:lnTo>
                  <a:lnTo>
                    <a:pt x="4" y="96"/>
                  </a:lnTo>
                  <a:lnTo>
                    <a:pt x="4" y="103"/>
                  </a:lnTo>
                  <a:lnTo>
                    <a:pt x="7" y="111"/>
                  </a:lnTo>
                  <a:lnTo>
                    <a:pt x="11" y="117"/>
                  </a:lnTo>
                  <a:lnTo>
                    <a:pt x="13" y="124"/>
                  </a:lnTo>
                  <a:lnTo>
                    <a:pt x="15" y="129"/>
                  </a:lnTo>
                  <a:lnTo>
                    <a:pt x="18" y="1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4480" y="3124080"/>
              <a:ext cx="9720" cy="52920"/>
            </a:xfrm>
            <a:custGeom>
              <a:avLst/>
              <a:gdLst/>
              <a:ahLst/>
              <a:rect l="0" t="0" r="r" b="b"/>
              <a:pathLst>
                <a:path fill="none" w="27" h="147">
                  <a:moveTo>
                    <a:pt x="16" y="140"/>
                  </a:moveTo>
                  <a:lnTo>
                    <a:pt x="19" y="133"/>
                  </a:lnTo>
                  <a:lnTo>
                    <a:pt x="21" y="125"/>
                  </a:lnTo>
                  <a:lnTo>
                    <a:pt x="23" y="118"/>
                  </a:lnTo>
                  <a:lnTo>
                    <a:pt x="25" y="109"/>
                  </a:lnTo>
                  <a:lnTo>
                    <a:pt x="26" y="102"/>
                  </a:lnTo>
                  <a:lnTo>
                    <a:pt x="26" y="94"/>
                  </a:lnTo>
                  <a:lnTo>
                    <a:pt x="27" y="84"/>
                  </a:lnTo>
                  <a:lnTo>
                    <a:pt x="27" y="78"/>
                  </a:lnTo>
                  <a:lnTo>
                    <a:pt x="27" y="70"/>
                  </a:lnTo>
                  <a:lnTo>
                    <a:pt x="27" y="61"/>
                  </a:lnTo>
                  <a:lnTo>
                    <a:pt x="26" y="54"/>
                  </a:lnTo>
                  <a:lnTo>
                    <a:pt x="26" y="46"/>
                  </a:lnTo>
                  <a:lnTo>
                    <a:pt x="25" y="38"/>
                  </a:lnTo>
                  <a:lnTo>
                    <a:pt x="24" y="30"/>
                  </a:lnTo>
                  <a:lnTo>
                    <a:pt x="21" y="21"/>
                  </a:lnTo>
                  <a:lnTo>
                    <a:pt x="19" y="15"/>
                  </a:lnTo>
                  <a:lnTo>
                    <a:pt x="17" y="7"/>
                  </a:lnTo>
                  <a:lnTo>
                    <a:pt x="14" y="0"/>
                  </a:lnTo>
                  <a:lnTo>
                    <a:pt x="11" y="7"/>
                  </a:lnTo>
                  <a:lnTo>
                    <a:pt x="8" y="15"/>
                  </a:lnTo>
                  <a:lnTo>
                    <a:pt x="6" y="21"/>
                  </a:lnTo>
                  <a:lnTo>
                    <a:pt x="4" y="30"/>
                  </a:lnTo>
                  <a:lnTo>
                    <a:pt x="4" y="38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4" y="109"/>
                  </a:lnTo>
                  <a:lnTo>
                    <a:pt x="4" y="118"/>
                  </a:lnTo>
                  <a:lnTo>
                    <a:pt x="6" y="125"/>
                  </a:lnTo>
                  <a:lnTo>
                    <a:pt x="8" y="133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6" y="1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71480" y="3124080"/>
              <a:ext cx="11520" cy="55800"/>
            </a:xfrm>
            <a:custGeom>
              <a:avLst/>
              <a:gdLst/>
              <a:ahLst/>
              <a:rect l="0" t="0" r="r" b="b"/>
              <a:pathLst>
                <a:path fill="none" w="32" h="155">
                  <a:moveTo>
                    <a:pt x="19" y="148"/>
                  </a:moveTo>
                  <a:lnTo>
                    <a:pt x="21" y="141"/>
                  </a:lnTo>
                  <a:lnTo>
                    <a:pt x="25" y="131"/>
                  </a:lnTo>
                  <a:lnTo>
                    <a:pt x="27" y="125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99"/>
                  </a:lnTo>
                  <a:lnTo>
                    <a:pt x="32" y="91"/>
                  </a:lnTo>
                  <a:lnTo>
                    <a:pt x="32" y="83"/>
                  </a:lnTo>
                  <a:lnTo>
                    <a:pt x="32" y="72"/>
                  </a:lnTo>
                  <a:lnTo>
                    <a:pt x="32" y="64"/>
                  </a:lnTo>
                  <a:lnTo>
                    <a:pt x="31" y="55"/>
                  </a:lnTo>
                  <a:lnTo>
                    <a:pt x="31" y="48"/>
                  </a:lnTo>
                  <a:lnTo>
                    <a:pt x="29" y="39"/>
                  </a:lnTo>
                  <a:lnTo>
                    <a:pt x="28" y="32"/>
                  </a:lnTo>
                  <a:lnTo>
                    <a:pt x="25" y="23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6" y="0"/>
                  </a:lnTo>
                  <a:lnTo>
                    <a:pt x="13" y="7"/>
                  </a:lnTo>
                  <a:lnTo>
                    <a:pt x="10" y="15"/>
                  </a:lnTo>
                  <a:lnTo>
                    <a:pt x="6" y="23"/>
                  </a:lnTo>
                  <a:lnTo>
                    <a:pt x="5" y="32"/>
                  </a:lnTo>
                  <a:lnTo>
                    <a:pt x="5" y="39"/>
                  </a:lnTo>
                  <a:lnTo>
                    <a:pt x="2" y="48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1" y="99"/>
                  </a:lnTo>
                  <a:lnTo>
                    <a:pt x="2" y="109"/>
                  </a:lnTo>
                  <a:lnTo>
                    <a:pt x="5" y="116"/>
                  </a:lnTo>
                  <a:lnTo>
                    <a:pt x="5" y="125"/>
                  </a:lnTo>
                  <a:lnTo>
                    <a:pt x="7" y="131"/>
                  </a:lnTo>
                  <a:lnTo>
                    <a:pt x="10" y="141"/>
                  </a:lnTo>
                  <a:lnTo>
                    <a:pt x="14" y="148"/>
                  </a:lnTo>
                  <a:lnTo>
                    <a:pt x="16" y="155"/>
                  </a:lnTo>
                  <a:lnTo>
                    <a:pt x="19" y="1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90640" y="3124080"/>
              <a:ext cx="16200" cy="79560"/>
            </a:xfrm>
            <a:custGeom>
              <a:avLst/>
              <a:gdLst/>
              <a:ahLst/>
              <a:rect l="0" t="0" r="r" b="b"/>
              <a:pathLst>
                <a:path fill="none" w="45" h="221">
                  <a:moveTo>
                    <a:pt x="26" y="212"/>
                  </a:moveTo>
                  <a:lnTo>
                    <a:pt x="30" y="202"/>
                  </a:lnTo>
                  <a:lnTo>
                    <a:pt x="34" y="189"/>
                  </a:lnTo>
                  <a:lnTo>
                    <a:pt x="37" y="178"/>
                  </a:lnTo>
                  <a:lnTo>
                    <a:pt x="38" y="165"/>
                  </a:lnTo>
                  <a:lnTo>
                    <a:pt x="42" y="153"/>
                  </a:lnTo>
                  <a:lnTo>
                    <a:pt x="42" y="142"/>
                  </a:lnTo>
                  <a:lnTo>
                    <a:pt x="45" y="129"/>
                  </a:lnTo>
                  <a:lnTo>
                    <a:pt x="45" y="118"/>
                  </a:lnTo>
                  <a:lnTo>
                    <a:pt x="45" y="105"/>
                  </a:lnTo>
                  <a:lnTo>
                    <a:pt x="45" y="92"/>
                  </a:lnTo>
                  <a:lnTo>
                    <a:pt x="42" y="82"/>
                  </a:lnTo>
                  <a:lnTo>
                    <a:pt x="42" y="69"/>
                  </a:lnTo>
                  <a:lnTo>
                    <a:pt x="39" y="58"/>
                  </a:lnTo>
                  <a:lnTo>
                    <a:pt x="37" y="45"/>
                  </a:lnTo>
                  <a:lnTo>
                    <a:pt x="34" y="33"/>
                  </a:lnTo>
                  <a:lnTo>
                    <a:pt x="30" y="22"/>
                  </a:lnTo>
                  <a:lnTo>
                    <a:pt x="27" y="12"/>
                  </a:lnTo>
                  <a:lnTo>
                    <a:pt x="19" y="0"/>
                  </a:lnTo>
                  <a:lnTo>
                    <a:pt x="17" y="12"/>
                  </a:lnTo>
                  <a:lnTo>
                    <a:pt x="13" y="22"/>
                  </a:lnTo>
                  <a:lnTo>
                    <a:pt x="8" y="33"/>
                  </a:lnTo>
                  <a:lnTo>
                    <a:pt x="5" y="45"/>
                  </a:lnTo>
                  <a:lnTo>
                    <a:pt x="4" y="58"/>
                  </a:lnTo>
                  <a:lnTo>
                    <a:pt x="1" y="69"/>
                  </a:lnTo>
                  <a:lnTo>
                    <a:pt x="1" y="82"/>
                  </a:lnTo>
                  <a:lnTo>
                    <a:pt x="0" y="92"/>
                  </a:lnTo>
                  <a:lnTo>
                    <a:pt x="0" y="105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1" y="142"/>
                  </a:lnTo>
                  <a:lnTo>
                    <a:pt x="1" y="153"/>
                  </a:lnTo>
                  <a:lnTo>
                    <a:pt x="4" y="165"/>
                  </a:lnTo>
                  <a:lnTo>
                    <a:pt x="7" y="178"/>
                  </a:lnTo>
                  <a:lnTo>
                    <a:pt x="10" y="189"/>
                  </a:lnTo>
                  <a:lnTo>
                    <a:pt x="13" y="202"/>
                  </a:lnTo>
                  <a:lnTo>
                    <a:pt x="18" y="212"/>
                  </a:lnTo>
                  <a:lnTo>
                    <a:pt x="19" y="221"/>
                  </a:lnTo>
                  <a:lnTo>
                    <a:pt x="26" y="2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920880" y="3125880"/>
              <a:ext cx="18000" cy="84600"/>
            </a:xfrm>
            <a:custGeom>
              <a:avLst/>
              <a:gdLst/>
              <a:ahLst/>
              <a:rect l="0" t="0" r="r" b="b"/>
              <a:pathLst>
                <a:path fill="none" w="50" h="235">
                  <a:moveTo>
                    <a:pt x="28" y="224"/>
                  </a:moveTo>
                  <a:lnTo>
                    <a:pt x="32" y="214"/>
                  </a:lnTo>
                  <a:lnTo>
                    <a:pt x="38" y="201"/>
                  </a:lnTo>
                  <a:lnTo>
                    <a:pt x="40" y="189"/>
                  </a:lnTo>
                  <a:lnTo>
                    <a:pt x="43" y="175"/>
                  </a:lnTo>
                  <a:lnTo>
                    <a:pt x="46" y="163"/>
                  </a:lnTo>
                  <a:lnTo>
                    <a:pt x="47" y="150"/>
                  </a:lnTo>
                  <a:lnTo>
                    <a:pt x="50" y="137"/>
                  </a:lnTo>
                  <a:lnTo>
                    <a:pt x="50" y="125"/>
                  </a:lnTo>
                  <a:lnTo>
                    <a:pt x="50" y="112"/>
                  </a:lnTo>
                  <a:lnTo>
                    <a:pt x="50" y="99"/>
                  </a:lnTo>
                  <a:lnTo>
                    <a:pt x="47" y="86"/>
                  </a:lnTo>
                  <a:lnTo>
                    <a:pt x="46" y="74"/>
                  </a:lnTo>
                  <a:lnTo>
                    <a:pt x="44" y="62"/>
                  </a:lnTo>
                  <a:lnTo>
                    <a:pt x="42" y="47"/>
                  </a:lnTo>
                  <a:lnTo>
                    <a:pt x="38" y="34"/>
                  </a:lnTo>
                  <a:lnTo>
                    <a:pt x="32" y="23"/>
                  </a:lnTo>
                  <a:lnTo>
                    <a:pt x="29" y="12"/>
                  </a:lnTo>
                  <a:lnTo>
                    <a:pt x="23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10" y="34"/>
                  </a:lnTo>
                  <a:lnTo>
                    <a:pt x="7" y="47"/>
                  </a:lnTo>
                  <a:lnTo>
                    <a:pt x="5" y="62"/>
                  </a:lnTo>
                  <a:lnTo>
                    <a:pt x="1" y="74"/>
                  </a:lnTo>
                  <a:lnTo>
                    <a:pt x="1" y="86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1" y="150"/>
                  </a:lnTo>
                  <a:lnTo>
                    <a:pt x="3" y="163"/>
                  </a:lnTo>
                  <a:lnTo>
                    <a:pt x="5" y="175"/>
                  </a:lnTo>
                  <a:lnTo>
                    <a:pt x="7" y="189"/>
                  </a:lnTo>
                  <a:lnTo>
                    <a:pt x="10" y="201"/>
                  </a:lnTo>
                  <a:lnTo>
                    <a:pt x="15" y="214"/>
                  </a:lnTo>
                  <a:lnTo>
                    <a:pt x="20" y="224"/>
                  </a:lnTo>
                  <a:lnTo>
                    <a:pt x="23" y="235"/>
                  </a:lnTo>
                  <a:lnTo>
                    <a:pt x="28" y="2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952560" y="3125880"/>
              <a:ext cx="18000" cy="90720"/>
            </a:xfrm>
            <a:custGeom>
              <a:avLst/>
              <a:gdLst/>
              <a:ahLst/>
              <a:rect l="0" t="0" r="r" b="b"/>
              <a:pathLst>
                <a:path fill="none" w="50" h="252">
                  <a:moveTo>
                    <a:pt x="28" y="242"/>
                  </a:moveTo>
                  <a:lnTo>
                    <a:pt x="33" y="231"/>
                  </a:lnTo>
                  <a:lnTo>
                    <a:pt x="36" y="215"/>
                  </a:lnTo>
                  <a:lnTo>
                    <a:pt x="41" y="203"/>
                  </a:lnTo>
                  <a:lnTo>
                    <a:pt x="43" y="188"/>
                  </a:lnTo>
                  <a:lnTo>
                    <a:pt x="47" y="176"/>
                  </a:lnTo>
                  <a:lnTo>
                    <a:pt x="48" y="162"/>
                  </a:lnTo>
                  <a:lnTo>
                    <a:pt x="50" y="147"/>
                  </a:lnTo>
                  <a:lnTo>
                    <a:pt x="50" y="134"/>
                  </a:lnTo>
                  <a:lnTo>
                    <a:pt x="50" y="120"/>
                  </a:lnTo>
                  <a:lnTo>
                    <a:pt x="50" y="105"/>
                  </a:lnTo>
                  <a:lnTo>
                    <a:pt x="48" y="93"/>
                  </a:lnTo>
                  <a:lnTo>
                    <a:pt x="47" y="79"/>
                  </a:lnTo>
                  <a:lnTo>
                    <a:pt x="44" y="65"/>
                  </a:lnTo>
                  <a:lnTo>
                    <a:pt x="41" y="52"/>
                  </a:lnTo>
                  <a:lnTo>
                    <a:pt x="36" y="38"/>
                  </a:lnTo>
                  <a:lnTo>
                    <a:pt x="33" y="25"/>
                  </a:lnTo>
                  <a:lnTo>
                    <a:pt x="29" y="13"/>
                  </a:lnTo>
                  <a:lnTo>
                    <a:pt x="23" y="0"/>
                  </a:lnTo>
                  <a:lnTo>
                    <a:pt x="19" y="13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6" y="52"/>
                  </a:lnTo>
                  <a:lnTo>
                    <a:pt x="5" y="65"/>
                  </a:lnTo>
                  <a:lnTo>
                    <a:pt x="1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5" y="188"/>
                  </a:lnTo>
                  <a:lnTo>
                    <a:pt x="7" y="203"/>
                  </a:lnTo>
                  <a:lnTo>
                    <a:pt x="11" y="215"/>
                  </a:lnTo>
                  <a:lnTo>
                    <a:pt x="16" y="231"/>
                  </a:lnTo>
                  <a:lnTo>
                    <a:pt x="19" y="242"/>
                  </a:lnTo>
                  <a:lnTo>
                    <a:pt x="23" y="252"/>
                  </a:lnTo>
                  <a:lnTo>
                    <a:pt x="28" y="2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90720" y="3125880"/>
              <a:ext cx="20880" cy="98640"/>
            </a:xfrm>
            <a:custGeom>
              <a:avLst/>
              <a:gdLst/>
              <a:ahLst/>
              <a:rect l="0" t="0" r="r" b="b"/>
              <a:pathLst>
                <a:path fill="none" w="58" h="274">
                  <a:moveTo>
                    <a:pt x="33" y="262"/>
                  </a:moveTo>
                  <a:lnTo>
                    <a:pt x="38" y="250"/>
                  </a:lnTo>
                  <a:lnTo>
                    <a:pt x="43" y="233"/>
                  </a:lnTo>
                  <a:lnTo>
                    <a:pt x="47" y="220"/>
                  </a:lnTo>
                  <a:lnTo>
                    <a:pt x="51" y="205"/>
                  </a:lnTo>
                  <a:lnTo>
                    <a:pt x="55" y="190"/>
                  </a:lnTo>
                  <a:lnTo>
                    <a:pt x="55" y="175"/>
                  </a:lnTo>
                  <a:lnTo>
                    <a:pt x="58" y="160"/>
                  </a:lnTo>
                  <a:lnTo>
                    <a:pt x="58" y="146"/>
                  </a:lnTo>
                  <a:lnTo>
                    <a:pt x="58" y="131"/>
                  </a:lnTo>
                  <a:lnTo>
                    <a:pt x="58" y="114"/>
                  </a:lnTo>
                  <a:lnTo>
                    <a:pt x="55" y="101"/>
                  </a:lnTo>
                  <a:lnTo>
                    <a:pt x="55" y="84"/>
                  </a:lnTo>
                  <a:lnTo>
                    <a:pt x="51" y="71"/>
                  </a:lnTo>
                  <a:lnTo>
                    <a:pt x="49" y="57"/>
                  </a:lnTo>
                  <a:lnTo>
                    <a:pt x="43" y="42"/>
                  </a:lnTo>
                  <a:lnTo>
                    <a:pt x="38" y="27"/>
                  </a:lnTo>
                  <a:lnTo>
                    <a:pt x="34" y="15"/>
                  </a:lnTo>
                  <a:lnTo>
                    <a:pt x="27" y="0"/>
                  </a:lnTo>
                  <a:lnTo>
                    <a:pt x="22" y="15"/>
                  </a:lnTo>
                  <a:lnTo>
                    <a:pt x="17" y="27"/>
                  </a:lnTo>
                  <a:lnTo>
                    <a:pt x="11" y="42"/>
                  </a:lnTo>
                  <a:lnTo>
                    <a:pt x="7" y="57"/>
                  </a:lnTo>
                  <a:lnTo>
                    <a:pt x="7" y="71"/>
                  </a:lnTo>
                  <a:lnTo>
                    <a:pt x="1" y="84"/>
                  </a:lnTo>
                  <a:lnTo>
                    <a:pt x="0" y="101"/>
                  </a:lnTo>
                  <a:lnTo>
                    <a:pt x="0" y="114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0"/>
                  </a:lnTo>
                  <a:lnTo>
                    <a:pt x="0" y="175"/>
                  </a:lnTo>
                  <a:lnTo>
                    <a:pt x="3" y="190"/>
                  </a:lnTo>
                  <a:lnTo>
                    <a:pt x="7" y="205"/>
                  </a:lnTo>
                  <a:lnTo>
                    <a:pt x="10" y="220"/>
                  </a:lnTo>
                  <a:lnTo>
                    <a:pt x="13" y="233"/>
                  </a:lnTo>
                  <a:lnTo>
                    <a:pt x="17" y="250"/>
                  </a:lnTo>
                  <a:lnTo>
                    <a:pt x="23" y="262"/>
                  </a:lnTo>
                  <a:lnTo>
                    <a:pt x="27" y="274"/>
                  </a:lnTo>
                  <a:lnTo>
                    <a:pt x="33" y="2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33560" y="3184560"/>
              <a:ext cx="155880" cy="44640"/>
            </a:xfrm>
            <a:custGeom>
              <a:avLst/>
              <a:gdLst/>
              <a:ahLst/>
              <a:rect l="0" t="0" r="r" b="b"/>
              <a:pathLst>
                <a:path fill="none" w="433" h="124">
                  <a:moveTo>
                    <a:pt x="27" y="121"/>
                  </a:moveTo>
                  <a:lnTo>
                    <a:pt x="17" y="118"/>
                  </a:lnTo>
                  <a:lnTo>
                    <a:pt x="11" y="114"/>
                  </a:lnTo>
                  <a:lnTo>
                    <a:pt x="4" y="105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5" y="90"/>
                  </a:lnTo>
                  <a:lnTo>
                    <a:pt x="1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3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8" y="64"/>
                  </a:lnTo>
                  <a:lnTo>
                    <a:pt x="9" y="49"/>
                  </a:lnTo>
                  <a:lnTo>
                    <a:pt x="14" y="40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5" y="23"/>
                  </a:lnTo>
                  <a:lnTo>
                    <a:pt x="54" y="25"/>
                  </a:lnTo>
                  <a:lnTo>
                    <a:pt x="61" y="27"/>
                  </a:lnTo>
                  <a:lnTo>
                    <a:pt x="65" y="31"/>
                  </a:lnTo>
                  <a:lnTo>
                    <a:pt x="70" y="22"/>
                  </a:lnTo>
                  <a:lnTo>
                    <a:pt x="83" y="18"/>
                  </a:lnTo>
                  <a:lnTo>
                    <a:pt x="100" y="18"/>
                  </a:lnTo>
                  <a:lnTo>
                    <a:pt x="108" y="20"/>
                  </a:lnTo>
                  <a:lnTo>
                    <a:pt x="112" y="12"/>
                  </a:lnTo>
                  <a:lnTo>
                    <a:pt x="117" y="10"/>
                  </a:lnTo>
                  <a:lnTo>
                    <a:pt x="123" y="10"/>
                  </a:lnTo>
                  <a:lnTo>
                    <a:pt x="126" y="14"/>
                  </a:lnTo>
                  <a:lnTo>
                    <a:pt x="136" y="5"/>
                  </a:lnTo>
                  <a:lnTo>
                    <a:pt x="147" y="2"/>
                  </a:lnTo>
                  <a:lnTo>
                    <a:pt x="159" y="0"/>
                  </a:lnTo>
                  <a:lnTo>
                    <a:pt x="173" y="1"/>
                  </a:lnTo>
                  <a:lnTo>
                    <a:pt x="185" y="3"/>
                  </a:lnTo>
                  <a:lnTo>
                    <a:pt x="195" y="10"/>
                  </a:lnTo>
                  <a:lnTo>
                    <a:pt x="197" y="15"/>
                  </a:lnTo>
                  <a:lnTo>
                    <a:pt x="210" y="8"/>
                  </a:lnTo>
                  <a:lnTo>
                    <a:pt x="219" y="7"/>
                  </a:lnTo>
                  <a:lnTo>
                    <a:pt x="224" y="8"/>
                  </a:lnTo>
                  <a:lnTo>
                    <a:pt x="226" y="12"/>
                  </a:lnTo>
                  <a:lnTo>
                    <a:pt x="233" y="7"/>
                  </a:lnTo>
                  <a:lnTo>
                    <a:pt x="240" y="8"/>
                  </a:lnTo>
                  <a:lnTo>
                    <a:pt x="243" y="10"/>
                  </a:lnTo>
                  <a:lnTo>
                    <a:pt x="244" y="14"/>
                  </a:lnTo>
                  <a:lnTo>
                    <a:pt x="254" y="9"/>
                  </a:lnTo>
                  <a:lnTo>
                    <a:pt x="259" y="11"/>
                  </a:lnTo>
                  <a:lnTo>
                    <a:pt x="261" y="12"/>
                  </a:lnTo>
                  <a:lnTo>
                    <a:pt x="271" y="5"/>
                  </a:lnTo>
                  <a:lnTo>
                    <a:pt x="283" y="1"/>
                  </a:lnTo>
                  <a:lnTo>
                    <a:pt x="299" y="1"/>
                  </a:lnTo>
                  <a:lnTo>
                    <a:pt x="313" y="5"/>
                  </a:lnTo>
                  <a:lnTo>
                    <a:pt x="321" y="11"/>
                  </a:lnTo>
                  <a:lnTo>
                    <a:pt x="327" y="6"/>
                  </a:lnTo>
                  <a:lnTo>
                    <a:pt x="335" y="3"/>
                  </a:lnTo>
                  <a:lnTo>
                    <a:pt x="348" y="1"/>
                  </a:lnTo>
                  <a:lnTo>
                    <a:pt x="362" y="1"/>
                  </a:lnTo>
                  <a:lnTo>
                    <a:pt x="377" y="3"/>
                  </a:lnTo>
                  <a:lnTo>
                    <a:pt x="385" y="9"/>
                  </a:lnTo>
                  <a:lnTo>
                    <a:pt x="393" y="1"/>
                  </a:lnTo>
                  <a:lnTo>
                    <a:pt x="403" y="1"/>
                  </a:lnTo>
                  <a:lnTo>
                    <a:pt x="412" y="5"/>
                  </a:lnTo>
                  <a:lnTo>
                    <a:pt x="418" y="11"/>
                  </a:lnTo>
                  <a:lnTo>
                    <a:pt x="418" y="20"/>
                  </a:lnTo>
                  <a:lnTo>
                    <a:pt x="429" y="23"/>
                  </a:lnTo>
                  <a:lnTo>
                    <a:pt x="432" y="31"/>
                  </a:lnTo>
                  <a:lnTo>
                    <a:pt x="433" y="43"/>
                  </a:lnTo>
                  <a:lnTo>
                    <a:pt x="432" y="51"/>
                  </a:lnTo>
                  <a:lnTo>
                    <a:pt x="431" y="60"/>
                  </a:lnTo>
                  <a:lnTo>
                    <a:pt x="428" y="64"/>
                  </a:lnTo>
                  <a:lnTo>
                    <a:pt x="422" y="69"/>
                  </a:lnTo>
                  <a:lnTo>
                    <a:pt x="416" y="72"/>
                  </a:lnTo>
                  <a:lnTo>
                    <a:pt x="406" y="72"/>
                  </a:lnTo>
                  <a:lnTo>
                    <a:pt x="392" y="73"/>
                  </a:lnTo>
                  <a:lnTo>
                    <a:pt x="386" y="75"/>
                  </a:lnTo>
                  <a:lnTo>
                    <a:pt x="377" y="78"/>
                  </a:lnTo>
                  <a:lnTo>
                    <a:pt x="368" y="78"/>
                  </a:lnTo>
                  <a:lnTo>
                    <a:pt x="61" y="119"/>
                  </a:lnTo>
                  <a:lnTo>
                    <a:pt x="54" y="121"/>
                  </a:lnTo>
                  <a:lnTo>
                    <a:pt x="40" y="124"/>
                  </a:lnTo>
                  <a:lnTo>
                    <a:pt x="27" y="12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268280" y="3166920"/>
              <a:ext cx="103680" cy="30600"/>
            </a:xfrm>
            <a:custGeom>
              <a:avLst/>
              <a:gdLst/>
              <a:ahLst/>
              <a:rect l="0" t="0" r="r" b="b"/>
              <a:pathLst>
                <a:path fill="none" w="288" h="85">
                  <a:moveTo>
                    <a:pt x="1" y="77"/>
                  </a:moveTo>
                  <a:lnTo>
                    <a:pt x="5" y="81"/>
                  </a:lnTo>
                  <a:lnTo>
                    <a:pt x="11" y="82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5"/>
                  </a:lnTo>
                  <a:lnTo>
                    <a:pt x="19" y="85"/>
                  </a:lnTo>
                  <a:lnTo>
                    <a:pt x="277" y="49"/>
                  </a:lnTo>
                  <a:lnTo>
                    <a:pt x="283" y="45"/>
                  </a:lnTo>
                  <a:lnTo>
                    <a:pt x="287" y="38"/>
                  </a:lnTo>
                  <a:lnTo>
                    <a:pt x="288" y="33"/>
                  </a:lnTo>
                  <a:lnTo>
                    <a:pt x="288" y="28"/>
                  </a:lnTo>
                  <a:lnTo>
                    <a:pt x="287" y="28"/>
                  </a:lnTo>
                  <a:lnTo>
                    <a:pt x="287" y="19"/>
                  </a:lnTo>
                  <a:lnTo>
                    <a:pt x="284" y="15"/>
                  </a:lnTo>
                  <a:lnTo>
                    <a:pt x="282" y="13"/>
                  </a:lnTo>
                  <a:lnTo>
                    <a:pt x="280" y="16"/>
                  </a:lnTo>
                  <a:lnTo>
                    <a:pt x="276" y="7"/>
                  </a:lnTo>
                  <a:lnTo>
                    <a:pt x="269" y="3"/>
                  </a:lnTo>
                  <a:lnTo>
                    <a:pt x="261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49" y="3"/>
                  </a:lnTo>
                  <a:lnTo>
                    <a:pt x="239" y="1"/>
                  </a:lnTo>
                  <a:lnTo>
                    <a:pt x="228" y="1"/>
                  </a:lnTo>
                  <a:lnTo>
                    <a:pt x="220" y="7"/>
                  </a:lnTo>
                  <a:lnTo>
                    <a:pt x="213" y="13"/>
                  </a:lnTo>
                  <a:lnTo>
                    <a:pt x="207" y="4"/>
                  </a:lnTo>
                  <a:lnTo>
                    <a:pt x="194" y="0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162" y="9"/>
                  </a:lnTo>
                  <a:lnTo>
                    <a:pt x="158" y="13"/>
                  </a:lnTo>
                  <a:lnTo>
                    <a:pt x="149" y="11"/>
                  </a:lnTo>
                  <a:lnTo>
                    <a:pt x="145" y="13"/>
                  </a:lnTo>
                  <a:lnTo>
                    <a:pt x="143" y="19"/>
                  </a:lnTo>
                  <a:lnTo>
                    <a:pt x="135" y="11"/>
                  </a:lnTo>
                  <a:lnTo>
                    <a:pt x="122" y="10"/>
                  </a:lnTo>
                  <a:lnTo>
                    <a:pt x="111" y="11"/>
                  </a:lnTo>
                  <a:lnTo>
                    <a:pt x="108" y="16"/>
                  </a:lnTo>
                  <a:lnTo>
                    <a:pt x="102" y="24"/>
                  </a:lnTo>
                  <a:lnTo>
                    <a:pt x="95" y="20"/>
                  </a:lnTo>
                  <a:lnTo>
                    <a:pt x="84" y="24"/>
                  </a:lnTo>
                  <a:lnTo>
                    <a:pt x="80" y="28"/>
                  </a:lnTo>
                  <a:lnTo>
                    <a:pt x="71" y="20"/>
                  </a:lnTo>
                  <a:lnTo>
                    <a:pt x="54" y="19"/>
                  </a:lnTo>
                  <a:lnTo>
                    <a:pt x="32" y="23"/>
                  </a:lnTo>
                  <a:lnTo>
                    <a:pt x="17" y="28"/>
                  </a:lnTo>
                  <a:lnTo>
                    <a:pt x="5" y="38"/>
                  </a:lnTo>
                  <a:lnTo>
                    <a:pt x="1" y="47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68160" y="3160800"/>
              <a:ext cx="760680" cy="95760"/>
            </a:xfrm>
            <a:custGeom>
              <a:avLst/>
              <a:gdLst/>
              <a:ahLst/>
              <a:rect l="0" t="0" r="r" b="b"/>
              <a:pathLst>
                <a:path fill="none" w="2113" h="266">
                  <a:moveTo>
                    <a:pt x="66" y="0"/>
                  </a:moveTo>
                  <a:lnTo>
                    <a:pt x="0" y="0"/>
                  </a:lnTo>
                  <a:lnTo>
                    <a:pt x="1003" y="266"/>
                  </a:lnTo>
                  <a:lnTo>
                    <a:pt x="2113" y="60"/>
                  </a:lnTo>
                  <a:lnTo>
                    <a:pt x="1935" y="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334800" y="1760400"/>
            <a:ext cx="1360440" cy="446040"/>
            <a:chOff x="334800" y="1760400"/>
            <a:chExt cx="1360440" cy="446040"/>
          </a:xfrm>
        </p:grpSpPr>
        <p:pic>
          <p:nvPicPr>
            <p:cNvPr id="1282" name="" descr=""/>
            <p:cNvPicPr/>
            <p:nvPr/>
          </p:nvPicPr>
          <p:blipFill>
            <a:blip r:embed="rId6"/>
            <a:stretch/>
          </p:blipFill>
          <p:spPr>
            <a:xfrm>
              <a:off x="334800" y="1787400"/>
              <a:ext cx="9334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7"/>
            <a:stretch/>
          </p:blipFill>
          <p:spPr>
            <a:xfrm>
              <a:off x="1387440" y="1760400"/>
              <a:ext cx="307800" cy="4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4" name="" descr=""/>
          <p:cNvPicPr/>
          <p:nvPr/>
        </p:nvPicPr>
        <p:blipFill>
          <a:blip r:embed="rId8"/>
          <a:stretch/>
        </p:blipFill>
        <p:spPr>
          <a:xfrm>
            <a:off x="514440" y="3838680"/>
            <a:ext cx="1049400" cy="352440"/>
          </a:xfrm>
          <a:prstGeom prst="rect">
            <a:avLst/>
          </a:prstGeom>
          <a:ln w="0">
            <a:noFill/>
          </a:ln>
        </p:spPr>
      </p:pic>
      <p:grpSp>
        <p:nvGrpSpPr>
          <p:cNvPr id="1285" name=""/>
          <p:cNvGrpSpPr/>
          <p:nvPr/>
        </p:nvGrpSpPr>
        <p:grpSpPr>
          <a:xfrm>
            <a:off x="469800" y="4815000"/>
            <a:ext cx="1143720" cy="515880"/>
            <a:chOff x="469800" y="4815000"/>
            <a:chExt cx="1143720" cy="515880"/>
          </a:xfrm>
        </p:grpSpPr>
        <p:grpSp>
          <p:nvGrpSpPr>
            <p:cNvPr id="1286" name=""/>
            <p:cNvGrpSpPr/>
            <p:nvPr/>
          </p:nvGrpSpPr>
          <p:grpSpPr>
            <a:xfrm>
              <a:off x="480960" y="4824360"/>
              <a:ext cx="1132560" cy="505080"/>
              <a:chOff x="480960" y="4824360"/>
              <a:chExt cx="1132560" cy="505080"/>
            </a:xfrm>
          </p:grpSpPr>
          <p:sp>
            <p:nvSpPr>
              <p:cNvPr id="1287" name=""/>
              <p:cNvSpPr/>
              <p:nvPr/>
            </p:nvSpPr>
            <p:spPr>
              <a:xfrm>
                <a:off x="636480" y="5221440"/>
                <a:ext cx="722520" cy="90720"/>
              </a:xfrm>
              <a:custGeom>
                <a:avLst/>
                <a:gdLst/>
                <a:ahLst/>
                <a:rect l="0" t="0" r="r" b="b"/>
                <a:pathLst>
                  <a:path fill="none" w="2007" h="252">
                    <a:moveTo>
                      <a:pt x="0" y="71"/>
                    </a:moveTo>
                    <a:lnTo>
                      <a:pt x="61" y="37"/>
                    </a:lnTo>
                    <a:lnTo>
                      <a:pt x="85" y="33"/>
                    </a:lnTo>
                    <a:lnTo>
                      <a:pt x="123" y="23"/>
                    </a:lnTo>
                    <a:lnTo>
                      <a:pt x="194" y="33"/>
                    </a:lnTo>
                    <a:lnTo>
                      <a:pt x="247" y="42"/>
                    </a:lnTo>
                    <a:lnTo>
                      <a:pt x="318" y="52"/>
                    </a:lnTo>
                    <a:lnTo>
                      <a:pt x="1508" y="0"/>
                    </a:lnTo>
                    <a:lnTo>
                      <a:pt x="1841" y="171"/>
                    </a:lnTo>
                    <a:lnTo>
                      <a:pt x="1898" y="113"/>
                    </a:lnTo>
                    <a:lnTo>
                      <a:pt x="1955" y="75"/>
                    </a:lnTo>
                    <a:lnTo>
                      <a:pt x="1988" y="66"/>
                    </a:lnTo>
                    <a:lnTo>
                      <a:pt x="2007" y="80"/>
                    </a:lnTo>
                    <a:lnTo>
                      <a:pt x="2002" y="118"/>
                    </a:lnTo>
                    <a:lnTo>
                      <a:pt x="2007" y="133"/>
                    </a:lnTo>
                    <a:lnTo>
                      <a:pt x="1988" y="195"/>
                    </a:lnTo>
                    <a:lnTo>
                      <a:pt x="1902" y="200"/>
                    </a:lnTo>
                    <a:lnTo>
                      <a:pt x="1874" y="242"/>
                    </a:lnTo>
                    <a:lnTo>
                      <a:pt x="1612" y="242"/>
                    </a:lnTo>
                    <a:lnTo>
                      <a:pt x="1408" y="252"/>
                    </a:lnTo>
                    <a:lnTo>
                      <a:pt x="1318" y="214"/>
                    </a:lnTo>
                    <a:lnTo>
                      <a:pt x="1232" y="252"/>
                    </a:lnTo>
                    <a:lnTo>
                      <a:pt x="1146" y="247"/>
                    </a:lnTo>
                    <a:lnTo>
                      <a:pt x="1080" y="200"/>
                    </a:lnTo>
                    <a:lnTo>
                      <a:pt x="1008" y="181"/>
                    </a:lnTo>
                    <a:lnTo>
                      <a:pt x="931" y="200"/>
                    </a:lnTo>
                    <a:lnTo>
                      <a:pt x="736" y="157"/>
                    </a:lnTo>
                    <a:lnTo>
                      <a:pt x="580" y="176"/>
                    </a:lnTo>
                    <a:lnTo>
                      <a:pt x="489" y="138"/>
                    </a:lnTo>
                    <a:lnTo>
                      <a:pt x="465" y="113"/>
                    </a:lnTo>
                    <a:lnTo>
                      <a:pt x="389" y="118"/>
                    </a:lnTo>
                    <a:lnTo>
                      <a:pt x="328" y="113"/>
                    </a:lnTo>
                    <a:lnTo>
                      <a:pt x="228" y="94"/>
                    </a:lnTo>
                    <a:lnTo>
                      <a:pt x="123" y="85"/>
                    </a:lnTo>
                    <a:lnTo>
                      <a:pt x="66" y="90"/>
                    </a:lnTo>
                    <a:lnTo>
                      <a:pt x="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60520" y="5235480"/>
                <a:ext cx="248040" cy="28800"/>
              </a:xfrm>
              <a:custGeom>
                <a:avLst/>
                <a:gdLst/>
                <a:ahLst/>
                <a:rect l="0" t="0" r="r" b="b"/>
                <a:pathLst>
                  <a:path fill="none" w="689" h="80">
                    <a:moveTo>
                      <a:pt x="0" y="14"/>
                    </a:moveTo>
                    <a:lnTo>
                      <a:pt x="99" y="14"/>
                    </a:lnTo>
                    <a:lnTo>
                      <a:pt x="132" y="4"/>
                    </a:lnTo>
                    <a:lnTo>
                      <a:pt x="166" y="18"/>
                    </a:lnTo>
                    <a:lnTo>
                      <a:pt x="219" y="18"/>
                    </a:lnTo>
                    <a:lnTo>
                      <a:pt x="247" y="14"/>
                    </a:lnTo>
                    <a:lnTo>
                      <a:pt x="290" y="0"/>
                    </a:lnTo>
                    <a:lnTo>
                      <a:pt x="285" y="18"/>
                    </a:lnTo>
                    <a:lnTo>
                      <a:pt x="333" y="14"/>
                    </a:lnTo>
                    <a:lnTo>
                      <a:pt x="371" y="28"/>
                    </a:lnTo>
                    <a:lnTo>
                      <a:pt x="437" y="32"/>
                    </a:lnTo>
                    <a:lnTo>
                      <a:pt x="489" y="43"/>
                    </a:lnTo>
                    <a:lnTo>
                      <a:pt x="538" y="43"/>
                    </a:lnTo>
                    <a:lnTo>
                      <a:pt x="585" y="52"/>
                    </a:lnTo>
                    <a:lnTo>
                      <a:pt x="651" y="47"/>
                    </a:lnTo>
                    <a:lnTo>
                      <a:pt x="689" y="71"/>
                    </a:lnTo>
                    <a:lnTo>
                      <a:pt x="599" y="75"/>
                    </a:lnTo>
                    <a:lnTo>
                      <a:pt x="523" y="80"/>
                    </a:lnTo>
                    <a:lnTo>
                      <a:pt x="446" y="75"/>
                    </a:lnTo>
                    <a:lnTo>
                      <a:pt x="361" y="57"/>
                    </a:lnTo>
                    <a:lnTo>
                      <a:pt x="280" y="57"/>
                    </a:lnTo>
                    <a:lnTo>
                      <a:pt x="233" y="52"/>
                    </a:lnTo>
                    <a:lnTo>
                      <a:pt x="151" y="47"/>
                    </a:lnTo>
                    <a:lnTo>
                      <a:pt x="118" y="43"/>
                    </a:lnTo>
                    <a:lnTo>
                      <a:pt x="61" y="47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89120" y="5262480"/>
                <a:ext cx="271800" cy="39960"/>
              </a:xfrm>
              <a:custGeom>
                <a:avLst/>
                <a:gdLst/>
                <a:ahLst/>
                <a:rect l="0" t="0" r="r" b="b"/>
                <a:pathLst>
                  <a:path fill="none" w="755" h="111">
                    <a:moveTo>
                      <a:pt x="755" y="92"/>
                    </a:moveTo>
                    <a:lnTo>
                      <a:pt x="717" y="58"/>
                    </a:lnTo>
                    <a:lnTo>
                      <a:pt x="688" y="63"/>
                    </a:lnTo>
                    <a:lnTo>
                      <a:pt x="636" y="58"/>
                    </a:lnTo>
                    <a:lnTo>
                      <a:pt x="612" y="33"/>
                    </a:lnTo>
                    <a:lnTo>
                      <a:pt x="589" y="23"/>
                    </a:lnTo>
                    <a:lnTo>
                      <a:pt x="541" y="23"/>
                    </a:lnTo>
                    <a:lnTo>
                      <a:pt x="532" y="43"/>
                    </a:lnTo>
                    <a:lnTo>
                      <a:pt x="541" y="63"/>
                    </a:lnTo>
                    <a:lnTo>
                      <a:pt x="513" y="68"/>
                    </a:lnTo>
                    <a:lnTo>
                      <a:pt x="479" y="63"/>
                    </a:lnTo>
                    <a:lnTo>
                      <a:pt x="461" y="47"/>
                    </a:lnTo>
                    <a:lnTo>
                      <a:pt x="374" y="38"/>
                    </a:lnTo>
                    <a:lnTo>
                      <a:pt x="365" y="43"/>
                    </a:lnTo>
                    <a:lnTo>
                      <a:pt x="322" y="23"/>
                    </a:lnTo>
                    <a:lnTo>
                      <a:pt x="270" y="38"/>
                    </a:lnTo>
                    <a:lnTo>
                      <a:pt x="232" y="43"/>
                    </a:lnTo>
                    <a:lnTo>
                      <a:pt x="184" y="38"/>
                    </a:lnTo>
                    <a:lnTo>
                      <a:pt x="156" y="52"/>
                    </a:lnTo>
                    <a:lnTo>
                      <a:pt x="113" y="23"/>
                    </a:lnTo>
                    <a:lnTo>
                      <a:pt x="75" y="23"/>
                    </a:lnTo>
                    <a:lnTo>
                      <a:pt x="42" y="0"/>
                    </a:lnTo>
                    <a:lnTo>
                      <a:pt x="42" y="19"/>
                    </a:lnTo>
                    <a:lnTo>
                      <a:pt x="0" y="68"/>
                    </a:lnTo>
                    <a:lnTo>
                      <a:pt x="61" y="77"/>
                    </a:lnTo>
                    <a:lnTo>
                      <a:pt x="118" y="63"/>
                    </a:lnTo>
                    <a:lnTo>
                      <a:pt x="156" y="72"/>
                    </a:lnTo>
                    <a:lnTo>
                      <a:pt x="203" y="82"/>
                    </a:lnTo>
                    <a:lnTo>
                      <a:pt x="270" y="68"/>
                    </a:lnTo>
                    <a:lnTo>
                      <a:pt x="327" y="77"/>
                    </a:lnTo>
                    <a:lnTo>
                      <a:pt x="389" y="92"/>
                    </a:lnTo>
                    <a:lnTo>
                      <a:pt x="451" y="92"/>
                    </a:lnTo>
                    <a:lnTo>
                      <a:pt x="494" y="101"/>
                    </a:lnTo>
                    <a:lnTo>
                      <a:pt x="555" y="111"/>
                    </a:lnTo>
                    <a:lnTo>
                      <a:pt x="608" y="92"/>
                    </a:lnTo>
                    <a:lnTo>
                      <a:pt x="693" y="111"/>
                    </a:lnTo>
                    <a:lnTo>
                      <a:pt x="755" y="106"/>
                    </a:lnTo>
                    <a:lnTo>
                      <a:pt x="755" y="9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30320" y="5226120"/>
                <a:ext cx="365400" cy="101880"/>
              </a:xfrm>
              <a:custGeom>
                <a:avLst/>
                <a:gdLst/>
                <a:ahLst/>
                <a:rect l="0" t="0" r="r" b="b"/>
                <a:pathLst>
                  <a:path fill="none" w="1015" h="283">
                    <a:moveTo>
                      <a:pt x="151" y="100"/>
                    </a:moveTo>
                    <a:lnTo>
                      <a:pt x="208" y="95"/>
                    </a:lnTo>
                    <a:lnTo>
                      <a:pt x="255" y="76"/>
                    </a:lnTo>
                    <a:lnTo>
                      <a:pt x="312" y="86"/>
                    </a:lnTo>
                    <a:lnTo>
                      <a:pt x="369" y="66"/>
                    </a:lnTo>
                    <a:lnTo>
                      <a:pt x="417" y="66"/>
                    </a:lnTo>
                    <a:lnTo>
                      <a:pt x="440" y="95"/>
                    </a:lnTo>
                    <a:lnTo>
                      <a:pt x="492" y="100"/>
                    </a:lnTo>
                    <a:lnTo>
                      <a:pt x="560" y="124"/>
                    </a:lnTo>
                    <a:lnTo>
                      <a:pt x="583" y="154"/>
                    </a:lnTo>
                    <a:lnTo>
                      <a:pt x="645" y="173"/>
                    </a:lnTo>
                    <a:lnTo>
                      <a:pt x="655" y="192"/>
                    </a:lnTo>
                    <a:lnTo>
                      <a:pt x="621" y="206"/>
                    </a:lnTo>
                    <a:lnTo>
                      <a:pt x="569" y="177"/>
                    </a:lnTo>
                    <a:lnTo>
                      <a:pt x="536" y="177"/>
                    </a:lnTo>
                    <a:lnTo>
                      <a:pt x="502" y="192"/>
                    </a:lnTo>
                    <a:lnTo>
                      <a:pt x="469" y="192"/>
                    </a:lnTo>
                    <a:lnTo>
                      <a:pt x="436" y="187"/>
                    </a:lnTo>
                    <a:lnTo>
                      <a:pt x="407" y="201"/>
                    </a:lnTo>
                    <a:lnTo>
                      <a:pt x="388" y="221"/>
                    </a:lnTo>
                    <a:lnTo>
                      <a:pt x="350" y="216"/>
                    </a:lnTo>
                    <a:lnTo>
                      <a:pt x="322" y="192"/>
                    </a:lnTo>
                    <a:lnTo>
                      <a:pt x="284" y="187"/>
                    </a:lnTo>
                    <a:lnTo>
                      <a:pt x="265" y="192"/>
                    </a:lnTo>
                    <a:lnTo>
                      <a:pt x="241" y="177"/>
                    </a:lnTo>
                    <a:lnTo>
                      <a:pt x="213" y="163"/>
                    </a:lnTo>
                    <a:lnTo>
                      <a:pt x="161" y="168"/>
                    </a:lnTo>
                    <a:lnTo>
                      <a:pt x="137" y="158"/>
                    </a:lnTo>
                    <a:lnTo>
                      <a:pt x="104" y="177"/>
                    </a:lnTo>
                    <a:lnTo>
                      <a:pt x="90" y="192"/>
                    </a:lnTo>
                    <a:lnTo>
                      <a:pt x="47" y="192"/>
                    </a:lnTo>
                    <a:lnTo>
                      <a:pt x="0" y="230"/>
                    </a:lnTo>
                    <a:lnTo>
                      <a:pt x="80" y="249"/>
                    </a:lnTo>
                    <a:lnTo>
                      <a:pt x="151" y="249"/>
                    </a:lnTo>
                    <a:lnTo>
                      <a:pt x="218" y="221"/>
                    </a:lnTo>
                    <a:lnTo>
                      <a:pt x="279" y="235"/>
                    </a:lnTo>
                    <a:lnTo>
                      <a:pt x="303" y="254"/>
                    </a:lnTo>
                    <a:lnTo>
                      <a:pt x="369" y="268"/>
                    </a:lnTo>
                    <a:lnTo>
                      <a:pt x="440" y="268"/>
                    </a:lnTo>
                    <a:lnTo>
                      <a:pt x="497" y="268"/>
                    </a:lnTo>
                    <a:lnTo>
                      <a:pt x="550" y="268"/>
                    </a:lnTo>
                    <a:lnTo>
                      <a:pt x="617" y="278"/>
                    </a:lnTo>
                    <a:lnTo>
                      <a:pt x="664" y="283"/>
                    </a:lnTo>
                    <a:lnTo>
                      <a:pt x="683" y="254"/>
                    </a:lnTo>
                    <a:lnTo>
                      <a:pt x="754" y="249"/>
                    </a:lnTo>
                    <a:lnTo>
                      <a:pt x="801" y="235"/>
                    </a:lnTo>
                    <a:lnTo>
                      <a:pt x="825" y="240"/>
                    </a:lnTo>
                    <a:lnTo>
                      <a:pt x="849" y="211"/>
                    </a:lnTo>
                    <a:lnTo>
                      <a:pt x="910" y="192"/>
                    </a:lnTo>
                    <a:lnTo>
                      <a:pt x="944" y="216"/>
                    </a:lnTo>
                    <a:lnTo>
                      <a:pt x="963" y="187"/>
                    </a:lnTo>
                    <a:lnTo>
                      <a:pt x="1015" y="177"/>
                    </a:lnTo>
                    <a:lnTo>
                      <a:pt x="991" y="138"/>
                    </a:lnTo>
                    <a:lnTo>
                      <a:pt x="915" y="149"/>
                    </a:lnTo>
                    <a:lnTo>
                      <a:pt x="910" y="110"/>
                    </a:lnTo>
                    <a:lnTo>
                      <a:pt x="863" y="124"/>
                    </a:lnTo>
                    <a:lnTo>
                      <a:pt x="849" y="149"/>
                    </a:lnTo>
                    <a:lnTo>
                      <a:pt x="825" y="149"/>
                    </a:lnTo>
                    <a:lnTo>
                      <a:pt x="811" y="168"/>
                    </a:lnTo>
                    <a:lnTo>
                      <a:pt x="797" y="154"/>
                    </a:lnTo>
                    <a:lnTo>
                      <a:pt x="820" y="119"/>
                    </a:lnTo>
                    <a:lnTo>
                      <a:pt x="816" y="100"/>
                    </a:lnTo>
                    <a:lnTo>
                      <a:pt x="778" y="119"/>
                    </a:lnTo>
                    <a:lnTo>
                      <a:pt x="778" y="211"/>
                    </a:lnTo>
                    <a:lnTo>
                      <a:pt x="740" y="192"/>
                    </a:lnTo>
                    <a:lnTo>
                      <a:pt x="707" y="177"/>
                    </a:lnTo>
                    <a:lnTo>
                      <a:pt x="702" y="138"/>
                    </a:lnTo>
                    <a:lnTo>
                      <a:pt x="669" y="105"/>
                    </a:lnTo>
                    <a:lnTo>
                      <a:pt x="607" y="86"/>
                    </a:lnTo>
                    <a:lnTo>
                      <a:pt x="560" y="52"/>
                    </a:lnTo>
                    <a:lnTo>
                      <a:pt x="483" y="47"/>
                    </a:lnTo>
                    <a:lnTo>
                      <a:pt x="445" y="14"/>
                    </a:lnTo>
                    <a:lnTo>
                      <a:pt x="360" y="0"/>
                    </a:lnTo>
                    <a:lnTo>
                      <a:pt x="180" y="66"/>
                    </a:lnTo>
                    <a:lnTo>
                      <a:pt x="151" y="10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41320" y="4998960"/>
                <a:ext cx="451080" cy="73440"/>
              </a:xfrm>
              <a:custGeom>
                <a:avLst/>
                <a:gdLst/>
                <a:ahLst/>
                <a:rect l="0" t="0" r="r" b="b"/>
                <a:pathLst>
                  <a:path fill="none" w="1253" h="204">
                    <a:moveTo>
                      <a:pt x="0" y="190"/>
                    </a:moveTo>
                    <a:lnTo>
                      <a:pt x="14" y="171"/>
                    </a:lnTo>
                    <a:lnTo>
                      <a:pt x="76" y="157"/>
                    </a:lnTo>
                    <a:lnTo>
                      <a:pt x="76" y="123"/>
                    </a:lnTo>
                    <a:lnTo>
                      <a:pt x="176" y="123"/>
                    </a:lnTo>
                    <a:lnTo>
                      <a:pt x="176" y="104"/>
                    </a:lnTo>
                    <a:lnTo>
                      <a:pt x="242" y="104"/>
                    </a:lnTo>
                    <a:lnTo>
                      <a:pt x="242" y="109"/>
                    </a:lnTo>
                    <a:lnTo>
                      <a:pt x="223" y="109"/>
                    </a:lnTo>
                    <a:lnTo>
                      <a:pt x="242" y="142"/>
                    </a:lnTo>
                    <a:lnTo>
                      <a:pt x="290" y="128"/>
                    </a:lnTo>
                    <a:lnTo>
                      <a:pt x="290" y="85"/>
                    </a:lnTo>
                    <a:lnTo>
                      <a:pt x="380" y="85"/>
                    </a:lnTo>
                    <a:lnTo>
                      <a:pt x="342" y="90"/>
                    </a:lnTo>
                    <a:lnTo>
                      <a:pt x="352" y="109"/>
                    </a:lnTo>
                    <a:lnTo>
                      <a:pt x="428" y="90"/>
                    </a:lnTo>
                    <a:lnTo>
                      <a:pt x="428" y="62"/>
                    </a:lnTo>
                    <a:lnTo>
                      <a:pt x="533" y="62"/>
                    </a:lnTo>
                    <a:lnTo>
                      <a:pt x="490" y="67"/>
                    </a:lnTo>
                    <a:lnTo>
                      <a:pt x="499" y="90"/>
                    </a:lnTo>
                    <a:lnTo>
                      <a:pt x="571" y="71"/>
                    </a:lnTo>
                    <a:lnTo>
                      <a:pt x="571" y="33"/>
                    </a:lnTo>
                    <a:lnTo>
                      <a:pt x="686" y="33"/>
                    </a:lnTo>
                    <a:lnTo>
                      <a:pt x="634" y="37"/>
                    </a:lnTo>
                    <a:lnTo>
                      <a:pt x="648" y="62"/>
                    </a:lnTo>
                    <a:lnTo>
                      <a:pt x="729" y="42"/>
                    </a:lnTo>
                    <a:lnTo>
                      <a:pt x="729" y="0"/>
                    </a:lnTo>
                    <a:lnTo>
                      <a:pt x="867" y="0"/>
                    </a:lnTo>
                    <a:lnTo>
                      <a:pt x="796" y="4"/>
                    </a:lnTo>
                    <a:lnTo>
                      <a:pt x="824" y="52"/>
                    </a:lnTo>
                    <a:lnTo>
                      <a:pt x="977" y="33"/>
                    </a:lnTo>
                    <a:lnTo>
                      <a:pt x="1034" y="23"/>
                    </a:lnTo>
                    <a:lnTo>
                      <a:pt x="1067" y="23"/>
                    </a:lnTo>
                    <a:lnTo>
                      <a:pt x="1091" y="33"/>
                    </a:lnTo>
                    <a:lnTo>
                      <a:pt x="1129" y="52"/>
                    </a:lnTo>
                    <a:lnTo>
                      <a:pt x="1220" y="71"/>
                    </a:lnTo>
                    <a:lnTo>
                      <a:pt x="1253" y="85"/>
                    </a:lnTo>
                    <a:lnTo>
                      <a:pt x="1158" y="90"/>
                    </a:lnTo>
                    <a:lnTo>
                      <a:pt x="1115" y="90"/>
                    </a:lnTo>
                    <a:lnTo>
                      <a:pt x="1115" y="109"/>
                    </a:lnTo>
                    <a:lnTo>
                      <a:pt x="1077" y="109"/>
                    </a:lnTo>
                    <a:lnTo>
                      <a:pt x="1077" y="95"/>
                    </a:lnTo>
                    <a:lnTo>
                      <a:pt x="920" y="95"/>
                    </a:lnTo>
                    <a:lnTo>
                      <a:pt x="943" y="109"/>
                    </a:lnTo>
                    <a:lnTo>
                      <a:pt x="915" y="114"/>
                    </a:lnTo>
                    <a:lnTo>
                      <a:pt x="867" y="123"/>
                    </a:lnTo>
                    <a:lnTo>
                      <a:pt x="781" y="123"/>
                    </a:lnTo>
                    <a:lnTo>
                      <a:pt x="643" y="162"/>
                    </a:lnTo>
                    <a:lnTo>
                      <a:pt x="133" y="204"/>
                    </a:lnTo>
                    <a:lnTo>
                      <a:pt x="38" y="195"/>
                    </a:lnTo>
                    <a:lnTo>
                      <a:pt x="0" y="19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31720" y="5045040"/>
                <a:ext cx="1045080" cy="257400"/>
              </a:xfrm>
              <a:custGeom>
                <a:avLst/>
                <a:gdLst/>
                <a:ahLst/>
                <a:rect l="0" t="0" r="r" b="b"/>
                <a:pathLst>
                  <a:path fill="none" w="2903" h="715">
                    <a:moveTo>
                      <a:pt x="0" y="185"/>
                    </a:moveTo>
                    <a:lnTo>
                      <a:pt x="299" y="85"/>
                    </a:lnTo>
                    <a:lnTo>
                      <a:pt x="446" y="85"/>
                    </a:lnTo>
                    <a:lnTo>
                      <a:pt x="484" y="95"/>
                    </a:lnTo>
                    <a:lnTo>
                      <a:pt x="707" y="95"/>
                    </a:lnTo>
                    <a:lnTo>
                      <a:pt x="707" y="133"/>
                    </a:lnTo>
                    <a:lnTo>
                      <a:pt x="813" y="133"/>
                    </a:lnTo>
                    <a:lnTo>
                      <a:pt x="813" y="109"/>
                    </a:lnTo>
                    <a:lnTo>
                      <a:pt x="798" y="100"/>
                    </a:lnTo>
                    <a:lnTo>
                      <a:pt x="1672" y="0"/>
                    </a:lnTo>
                    <a:lnTo>
                      <a:pt x="2894" y="14"/>
                    </a:lnTo>
                    <a:lnTo>
                      <a:pt x="2851" y="38"/>
                    </a:lnTo>
                    <a:lnTo>
                      <a:pt x="2903" y="38"/>
                    </a:lnTo>
                    <a:lnTo>
                      <a:pt x="2903" y="123"/>
                    </a:lnTo>
                    <a:lnTo>
                      <a:pt x="2751" y="157"/>
                    </a:lnTo>
                    <a:lnTo>
                      <a:pt x="2575" y="214"/>
                    </a:lnTo>
                    <a:lnTo>
                      <a:pt x="2419" y="290"/>
                    </a:lnTo>
                    <a:lnTo>
                      <a:pt x="2295" y="381"/>
                    </a:lnTo>
                    <a:lnTo>
                      <a:pt x="2233" y="448"/>
                    </a:lnTo>
                    <a:lnTo>
                      <a:pt x="2191" y="520"/>
                    </a:lnTo>
                    <a:lnTo>
                      <a:pt x="2157" y="596"/>
                    </a:lnTo>
                    <a:lnTo>
                      <a:pt x="2157" y="715"/>
                    </a:lnTo>
                    <a:lnTo>
                      <a:pt x="2095" y="677"/>
                    </a:lnTo>
                    <a:lnTo>
                      <a:pt x="2057" y="601"/>
                    </a:lnTo>
                    <a:lnTo>
                      <a:pt x="2005" y="601"/>
                    </a:lnTo>
                    <a:lnTo>
                      <a:pt x="1933" y="553"/>
                    </a:lnTo>
                    <a:lnTo>
                      <a:pt x="1872" y="553"/>
                    </a:lnTo>
                    <a:lnTo>
                      <a:pt x="1819" y="520"/>
                    </a:lnTo>
                    <a:lnTo>
                      <a:pt x="1762" y="505"/>
                    </a:lnTo>
                    <a:lnTo>
                      <a:pt x="1634" y="562"/>
                    </a:lnTo>
                    <a:lnTo>
                      <a:pt x="1577" y="562"/>
                    </a:lnTo>
                    <a:lnTo>
                      <a:pt x="1492" y="610"/>
                    </a:lnTo>
                    <a:lnTo>
                      <a:pt x="1468" y="596"/>
                    </a:lnTo>
                    <a:lnTo>
                      <a:pt x="1468" y="558"/>
                    </a:lnTo>
                    <a:lnTo>
                      <a:pt x="1435" y="534"/>
                    </a:lnTo>
                    <a:lnTo>
                      <a:pt x="1416" y="553"/>
                    </a:lnTo>
                    <a:lnTo>
                      <a:pt x="1354" y="529"/>
                    </a:lnTo>
                    <a:lnTo>
                      <a:pt x="1259" y="572"/>
                    </a:lnTo>
                    <a:lnTo>
                      <a:pt x="1221" y="572"/>
                    </a:lnTo>
                    <a:lnTo>
                      <a:pt x="1159" y="605"/>
                    </a:lnTo>
                    <a:lnTo>
                      <a:pt x="1121" y="601"/>
                    </a:lnTo>
                    <a:lnTo>
                      <a:pt x="1055" y="601"/>
                    </a:lnTo>
                    <a:lnTo>
                      <a:pt x="960" y="610"/>
                    </a:lnTo>
                    <a:lnTo>
                      <a:pt x="927" y="605"/>
                    </a:lnTo>
                    <a:lnTo>
                      <a:pt x="884" y="586"/>
                    </a:lnTo>
                    <a:lnTo>
                      <a:pt x="851" y="586"/>
                    </a:lnTo>
                    <a:lnTo>
                      <a:pt x="803" y="596"/>
                    </a:lnTo>
                    <a:lnTo>
                      <a:pt x="756" y="577"/>
                    </a:lnTo>
                    <a:lnTo>
                      <a:pt x="712" y="572"/>
                    </a:lnTo>
                    <a:lnTo>
                      <a:pt x="669" y="577"/>
                    </a:lnTo>
                    <a:lnTo>
                      <a:pt x="655" y="558"/>
                    </a:lnTo>
                    <a:lnTo>
                      <a:pt x="612" y="572"/>
                    </a:lnTo>
                    <a:lnTo>
                      <a:pt x="593" y="553"/>
                    </a:lnTo>
                    <a:lnTo>
                      <a:pt x="541" y="548"/>
                    </a:lnTo>
                    <a:lnTo>
                      <a:pt x="517" y="524"/>
                    </a:lnTo>
                    <a:lnTo>
                      <a:pt x="280" y="381"/>
                    </a:lnTo>
                    <a:lnTo>
                      <a:pt x="175" y="358"/>
                    </a:lnTo>
                    <a:lnTo>
                      <a:pt x="56" y="242"/>
                    </a:lnTo>
                    <a:lnTo>
                      <a:pt x="56" y="223"/>
                    </a:lnTo>
                    <a:lnTo>
                      <a:pt x="0" y="18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79400" y="5075280"/>
                <a:ext cx="12960" cy="38520"/>
              </a:xfrm>
              <a:custGeom>
                <a:avLst/>
                <a:gdLst/>
                <a:ahLst/>
                <a:rect l="0" t="0" r="r" b="b"/>
                <a:pathLst>
                  <a:path fill="none" w="36" h="107">
                    <a:moveTo>
                      <a:pt x="0" y="107"/>
                    </a:moveTo>
                    <a:lnTo>
                      <a:pt x="36" y="107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82640" y="5078520"/>
                <a:ext cx="3600" cy="35280"/>
              </a:xfrm>
              <a:custGeom>
                <a:avLst/>
                <a:gdLst/>
                <a:ahLst/>
                <a:rect l="0" t="0" r="r" b="b"/>
                <a:pathLst>
                  <a:path fill="none" w="10" h="98">
                    <a:moveTo>
                      <a:pt x="10" y="0"/>
                    </a:moveTo>
                    <a:lnTo>
                      <a:pt x="5" y="9"/>
                    </a:lnTo>
                    <a:lnTo>
                      <a:pt x="5" y="98"/>
                    </a:lnTo>
                    <a:lnTo>
                      <a:pt x="0" y="98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52600" y="494028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0" y="12"/>
                    </a:moveTo>
                    <a:lnTo>
                      <a:pt x="0" y="19"/>
                    </a:lnTo>
                    <a:lnTo>
                      <a:pt x="23" y="19"/>
                    </a:lnTo>
                    <a:lnTo>
                      <a:pt x="17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60520" y="49658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fill="none" w="14" h="19">
                    <a:moveTo>
                      <a:pt x="0" y="12"/>
                    </a:moveTo>
                    <a:lnTo>
                      <a:pt x="0" y="19"/>
                    </a:lnTo>
                    <a:lnTo>
                      <a:pt x="14" y="19"/>
                    </a:lnTo>
                    <a:lnTo>
                      <a:pt x="9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52320" y="495000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4" y="14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4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1680" y="4902120"/>
                <a:ext cx="18000" cy="9720"/>
              </a:xfrm>
              <a:custGeom>
                <a:avLst/>
                <a:gdLst/>
                <a:ahLst/>
                <a:rect l="0" t="0" r="r" b="b"/>
                <a:pathLst>
                  <a:path fill="none" w="50" h="27">
                    <a:moveTo>
                      <a:pt x="4" y="0"/>
                    </a:moveTo>
                    <a:lnTo>
                      <a:pt x="0" y="18"/>
                    </a:lnTo>
                    <a:lnTo>
                      <a:pt x="9" y="23"/>
                    </a:lnTo>
                    <a:lnTo>
                      <a:pt x="20" y="27"/>
                    </a:lnTo>
                    <a:lnTo>
                      <a:pt x="30" y="27"/>
                    </a:lnTo>
                    <a:lnTo>
                      <a:pt x="45" y="27"/>
                    </a:lnTo>
                    <a:lnTo>
                      <a:pt x="50" y="0"/>
                    </a:lnTo>
                    <a:lnTo>
                      <a:pt x="40" y="4"/>
                    </a:lnTo>
                    <a:lnTo>
                      <a:pt x="30" y="4"/>
                    </a:lnTo>
                    <a:lnTo>
                      <a:pt x="20" y="4"/>
                    </a:lnTo>
                    <a:lnTo>
                      <a:pt x="15" y="4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41440" y="4927680"/>
                <a:ext cx="9720" cy="3600"/>
              </a:xfrm>
              <a:custGeom>
                <a:avLst/>
                <a:gdLst/>
                <a:ahLst/>
                <a:rect l="0" t="0" r="r" b="b"/>
                <a:pathLst>
                  <a:path fill="none" w="27" h="10">
                    <a:moveTo>
                      <a:pt x="0" y="5"/>
                    </a:moveTo>
                    <a:lnTo>
                      <a:pt x="23" y="0"/>
                    </a:lnTo>
                    <a:lnTo>
                      <a:pt x="27" y="1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50800" y="4957920"/>
                <a:ext cx="9720" cy="1800"/>
              </a:xfrm>
              <a:custGeom>
                <a:avLst/>
                <a:gdLst/>
                <a:ahLst/>
                <a:rect l="0" t="0" r="r" b="b"/>
                <a:pathLst>
                  <a:path fill="none" w="27" h="5">
                    <a:moveTo>
                      <a:pt x="0" y="5"/>
                    </a:moveTo>
                    <a:lnTo>
                      <a:pt x="16" y="0"/>
                    </a:lnTo>
                    <a:lnTo>
                      <a:pt x="27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2960" y="496260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6" y="19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62040" y="4932360"/>
                <a:ext cx="5040" cy="3600"/>
              </a:xfrm>
              <a:custGeom>
                <a:avLst/>
                <a:gdLst/>
                <a:ahLst/>
                <a:rect l="0" t="0" r="r" b="b"/>
                <a:pathLst>
                  <a:path fill="none" w="14" h="10">
                    <a:moveTo>
                      <a:pt x="0" y="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01560" y="495936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fill="none" w="85" h="80">
                    <a:moveTo>
                      <a:pt x="85" y="0"/>
                    </a:moveTo>
                    <a:lnTo>
                      <a:pt x="0" y="0"/>
                    </a:lnTo>
                    <a:lnTo>
                      <a:pt x="0" y="80"/>
                    </a:lnTo>
                    <a:lnTo>
                      <a:pt x="85" y="80"/>
                    </a:lnTo>
                    <a:lnTo>
                      <a:pt x="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8320" y="4959360"/>
                <a:ext cx="33840" cy="28800"/>
              </a:xfrm>
              <a:custGeom>
                <a:avLst/>
                <a:gdLst/>
                <a:ahLst/>
                <a:rect l="0" t="0" r="r" b="b"/>
                <a:pathLst>
                  <a:path fill="none" w="94" h="80">
                    <a:moveTo>
                      <a:pt x="94" y="80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9"/>
                    </a:lnTo>
                    <a:lnTo>
                      <a:pt x="35" y="18"/>
                    </a:lnTo>
                    <a:lnTo>
                      <a:pt x="39" y="23"/>
                    </a:lnTo>
                    <a:lnTo>
                      <a:pt x="44" y="28"/>
                    </a:lnTo>
                    <a:lnTo>
                      <a:pt x="54" y="32"/>
                    </a:lnTo>
                    <a:lnTo>
                      <a:pt x="59" y="37"/>
                    </a:lnTo>
                    <a:lnTo>
                      <a:pt x="69" y="43"/>
                    </a:lnTo>
                    <a:lnTo>
                      <a:pt x="75" y="43"/>
                    </a:lnTo>
                    <a:lnTo>
                      <a:pt x="94" y="43"/>
                    </a:lnTo>
                    <a:lnTo>
                      <a:pt x="94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46120" y="4957920"/>
                <a:ext cx="198720" cy="138600"/>
              </a:xfrm>
              <a:custGeom>
                <a:avLst/>
                <a:gdLst/>
                <a:ahLst/>
                <a:rect l="0" t="0" r="r" b="b"/>
                <a:pathLst>
                  <a:path fill="none" w="552" h="385">
                    <a:moveTo>
                      <a:pt x="0" y="376"/>
                    </a:moveTo>
                    <a:lnTo>
                      <a:pt x="19" y="371"/>
                    </a:lnTo>
                    <a:lnTo>
                      <a:pt x="28" y="319"/>
                    </a:lnTo>
                    <a:lnTo>
                      <a:pt x="61" y="305"/>
                    </a:lnTo>
                    <a:lnTo>
                      <a:pt x="76" y="305"/>
                    </a:lnTo>
                    <a:lnTo>
                      <a:pt x="76" y="295"/>
                    </a:lnTo>
                    <a:lnTo>
                      <a:pt x="95" y="295"/>
                    </a:lnTo>
                    <a:lnTo>
                      <a:pt x="95" y="285"/>
                    </a:lnTo>
                    <a:lnTo>
                      <a:pt x="99" y="285"/>
                    </a:lnTo>
                    <a:lnTo>
                      <a:pt x="99" y="252"/>
                    </a:lnTo>
                    <a:lnTo>
                      <a:pt x="61" y="252"/>
                    </a:lnTo>
                    <a:lnTo>
                      <a:pt x="61" y="242"/>
                    </a:lnTo>
                    <a:lnTo>
                      <a:pt x="71" y="228"/>
                    </a:lnTo>
                    <a:lnTo>
                      <a:pt x="66" y="228"/>
                    </a:lnTo>
                    <a:lnTo>
                      <a:pt x="66" y="204"/>
                    </a:lnTo>
                    <a:lnTo>
                      <a:pt x="99" y="105"/>
                    </a:lnTo>
                    <a:lnTo>
                      <a:pt x="228" y="105"/>
                    </a:lnTo>
                    <a:lnTo>
                      <a:pt x="228" y="94"/>
                    </a:lnTo>
                    <a:lnTo>
                      <a:pt x="338" y="94"/>
                    </a:lnTo>
                    <a:lnTo>
                      <a:pt x="338" y="105"/>
                    </a:lnTo>
                    <a:lnTo>
                      <a:pt x="333" y="114"/>
                    </a:lnTo>
                    <a:lnTo>
                      <a:pt x="333" y="214"/>
                    </a:lnTo>
                    <a:lnTo>
                      <a:pt x="295" y="228"/>
                    </a:lnTo>
                    <a:lnTo>
                      <a:pt x="295" y="295"/>
                    </a:lnTo>
                    <a:lnTo>
                      <a:pt x="400" y="290"/>
                    </a:lnTo>
                    <a:lnTo>
                      <a:pt x="438" y="275"/>
                    </a:lnTo>
                    <a:lnTo>
                      <a:pt x="442" y="0"/>
                    </a:lnTo>
                    <a:lnTo>
                      <a:pt x="447" y="0"/>
                    </a:lnTo>
                    <a:lnTo>
                      <a:pt x="447" y="270"/>
                    </a:lnTo>
                    <a:lnTo>
                      <a:pt x="471" y="270"/>
                    </a:lnTo>
                    <a:lnTo>
                      <a:pt x="537" y="290"/>
                    </a:lnTo>
                    <a:lnTo>
                      <a:pt x="552" y="295"/>
                    </a:lnTo>
                    <a:lnTo>
                      <a:pt x="552" y="324"/>
                    </a:lnTo>
                    <a:lnTo>
                      <a:pt x="466" y="338"/>
                    </a:lnTo>
                    <a:lnTo>
                      <a:pt x="371" y="338"/>
                    </a:lnTo>
                    <a:lnTo>
                      <a:pt x="338" y="328"/>
                    </a:lnTo>
                    <a:lnTo>
                      <a:pt x="251" y="328"/>
                    </a:lnTo>
                    <a:lnTo>
                      <a:pt x="23" y="385"/>
                    </a:lnTo>
                    <a:lnTo>
                      <a:pt x="0" y="37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9720" y="5092560"/>
                <a:ext cx="143280" cy="11520"/>
              </a:xfrm>
              <a:custGeom>
                <a:avLst/>
                <a:gdLst/>
                <a:ahLst/>
                <a:rect l="0" t="0" r="r" b="b"/>
                <a:pathLst>
                  <a:path fill="none" w="398" h="32">
                    <a:moveTo>
                      <a:pt x="0" y="32"/>
                    </a:moveTo>
                    <a:lnTo>
                      <a:pt x="398" y="32"/>
                    </a:lnTo>
                    <a:lnTo>
                      <a:pt x="398" y="0"/>
                    </a:lnTo>
                    <a:lnTo>
                      <a:pt x="0" y="0"/>
                    </a:lnTo>
                    <a:lnTo>
                      <a:pt x="0" y="3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09480" y="5140440"/>
                <a:ext cx="47880" cy="47880"/>
              </a:xfrm>
              <a:custGeom>
                <a:avLst/>
                <a:gdLst/>
                <a:ahLst/>
                <a:rect l="0" t="0" r="r" b="b"/>
                <a:pathLst>
                  <a:path fill="none" w="133" h="133">
                    <a:moveTo>
                      <a:pt x="0" y="0"/>
                    </a:moveTo>
                    <a:lnTo>
                      <a:pt x="37" y="103"/>
                    </a:lnTo>
                    <a:lnTo>
                      <a:pt x="133" y="133"/>
                    </a:lnTo>
                    <a:lnTo>
                      <a:pt x="13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33240" y="5181480"/>
                <a:ext cx="120960" cy="59040"/>
              </a:xfrm>
              <a:custGeom>
                <a:avLst/>
                <a:gdLst/>
                <a:ahLst/>
                <a:rect l="0" t="0" r="r" b="b"/>
                <a:pathLst>
                  <a:path fill="none" w="336" h="164">
                    <a:moveTo>
                      <a:pt x="336" y="130"/>
                    </a:moveTo>
                    <a:lnTo>
                      <a:pt x="265" y="164"/>
                    </a:lnTo>
                    <a:lnTo>
                      <a:pt x="241" y="149"/>
                    </a:lnTo>
                    <a:lnTo>
                      <a:pt x="199" y="144"/>
                    </a:lnTo>
                    <a:lnTo>
                      <a:pt x="51" y="9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5" y="52"/>
                    </a:lnTo>
                    <a:lnTo>
                      <a:pt x="122" y="62"/>
                    </a:lnTo>
                    <a:lnTo>
                      <a:pt x="336" y="13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14320" y="5045040"/>
                <a:ext cx="495720" cy="259200"/>
              </a:xfrm>
              <a:custGeom>
                <a:avLst/>
                <a:gdLst/>
                <a:ahLst/>
                <a:rect l="0" t="0" r="r" b="b"/>
                <a:pathLst>
                  <a:path fill="none" w="1377" h="720">
                    <a:moveTo>
                      <a:pt x="1107" y="544"/>
                    </a:moveTo>
                    <a:lnTo>
                      <a:pt x="997" y="453"/>
                    </a:lnTo>
                    <a:lnTo>
                      <a:pt x="802" y="353"/>
                    </a:lnTo>
                    <a:lnTo>
                      <a:pt x="570" y="296"/>
                    </a:lnTo>
                    <a:lnTo>
                      <a:pt x="380" y="277"/>
                    </a:lnTo>
                    <a:lnTo>
                      <a:pt x="375" y="267"/>
                    </a:lnTo>
                    <a:lnTo>
                      <a:pt x="270" y="186"/>
                    </a:lnTo>
                    <a:lnTo>
                      <a:pt x="270" y="123"/>
                    </a:lnTo>
                    <a:lnTo>
                      <a:pt x="0" y="138"/>
                    </a:lnTo>
                    <a:lnTo>
                      <a:pt x="18" y="104"/>
                    </a:lnTo>
                    <a:lnTo>
                      <a:pt x="745" y="42"/>
                    </a:lnTo>
                    <a:lnTo>
                      <a:pt x="850" y="0"/>
                    </a:lnTo>
                    <a:lnTo>
                      <a:pt x="783" y="71"/>
                    </a:lnTo>
                    <a:lnTo>
                      <a:pt x="783" y="123"/>
                    </a:lnTo>
                    <a:lnTo>
                      <a:pt x="850" y="152"/>
                    </a:lnTo>
                    <a:lnTo>
                      <a:pt x="940" y="152"/>
                    </a:lnTo>
                    <a:lnTo>
                      <a:pt x="878" y="123"/>
                    </a:lnTo>
                    <a:lnTo>
                      <a:pt x="1050" y="123"/>
                    </a:lnTo>
                    <a:lnTo>
                      <a:pt x="1050" y="138"/>
                    </a:lnTo>
                    <a:lnTo>
                      <a:pt x="1377" y="296"/>
                    </a:lnTo>
                    <a:lnTo>
                      <a:pt x="1377" y="720"/>
                    </a:lnTo>
                    <a:lnTo>
                      <a:pt x="1354" y="701"/>
                    </a:lnTo>
                    <a:lnTo>
                      <a:pt x="1306" y="673"/>
                    </a:lnTo>
                    <a:lnTo>
                      <a:pt x="1273" y="611"/>
                    </a:lnTo>
                    <a:lnTo>
                      <a:pt x="1216" y="611"/>
                    </a:lnTo>
                    <a:lnTo>
                      <a:pt x="1173" y="563"/>
                    </a:lnTo>
                    <a:lnTo>
                      <a:pt x="1107" y="5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38360" y="5138640"/>
                <a:ext cx="224280" cy="65520"/>
              </a:xfrm>
              <a:custGeom>
                <a:avLst/>
                <a:gdLst/>
                <a:ahLst/>
                <a:rect l="0" t="0" r="r" b="b"/>
                <a:pathLst>
                  <a:path fill="none" w="623" h="182">
                    <a:moveTo>
                      <a:pt x="623" y="14"/>
                    </a:moveTo>
                    <a:lnTo>
                      <a:pt x="609" y="77"/>
                    </a:lnTo>
                    <a:lnTo>
                      <a:pt x="585" y="144"/>
                    </a:lnTo>
                    <a:lnTo>
                      <a:pt x="552" y="182"/>
                    </a:lnTo>
                    <a:lnTo>
                      <a:pt x="228" y="178"/>
                    </a:lnTo>
                    <a:lnTo>
                      <a:pt x="52" y="159"/>
                    </a:lnTo>
                    <a:lnTo>
                      <a:pt x="4" y="124"/>
                    </a:lnTo>
                    <a:lnTo>
                      <a:pt x="0" y="86"/>
                    </a:lnTo>
                    <a:lnTo>
                      <a:pt x="52" y="86"/>
                    </a:lnTo>
                    <a:lnTo>
                      <a:pt x="66" y="58"/>
                    </a:lnTo>
                    <a:lnTo>
                      <a:pt x="52" y="0"/>
                    </a:lnTo>
                    <a:lnTo>
                      <a:pt x="609" y="0"/>
                    </a:lnTo>
                    <a:lnTo>
                      <a:pt x="6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92320" y="5089680"/>
                <a:ext cx="384480" cy="208440"/>
              </a:xfrm>
              <a:custGeom>
                <a:avLst/>
                <a:gdLst/>
                <a:ahLst/>
                <a:rect l="0" t="0" r="r" b="b"/>
                <a:pathLst>
                  <a:path fill="none" w="1068" h="579">
                    <a:moveTo>
                      <a:pt x="4" y="19"/>
                    </a:moveTo>
                    <a:lnTo>
                      <a:pt x="33" y="33"/>
                    </a:lnTo>
                    <a:lnTo>
                      <a:pt x="52" y="52"/>
                    </a:lnTo>
                    <a:lnTo>
                      <a:pt x="75" y="71"/>
                    </a:lnTo>
                    <a:lnTo>
                      <a:pt x="99" y="90"/>
                    </a:lnTo>
                    <a:lnTo>
                      <a:pt x="118" y="109"/>
                    </a:lnTo>
                    <a:lnTo>
                      <a:pt x="137" y="128"/>
                    </a:lnTo>
                    <a:lnTo>
                      <a:pt x="156" y="153"/>
                    </a:lnTo>
                    <a:lnTo>
                      <a:pt x="175" y="177"/>
                    </a:lnTo>
                    <a:lnTo>
                      <a:pt x="194" y="196"/>
                    </a:lnTo>
                    <a:lnTo>
                      <a:pt x="208" y="220"/>
                    </a:lnTo>
                    <a:lnTo>
                      <a:pt x="227" y="244"/>
                    </a:lnTo>
                    <a:lnTo>
                      <a:pt x="241" y="273"/>
                    </a:lnTo>
                    <a:lnTo>
                      <a:pt x="251" y="296"/>
                    </a:lnTo>
                    <a:lnTo>
                      <a:pt x="265" y="325"/>
                    </a:lnTo>
                    <a:lnTo>
                      <a:pt x="275" y="349"/>
                    </a:lnTo>
                    <a:lnTo>
                      <a:pt x="284" y="378"/>
                    </a:lnTo>
                    <a:lnTo>
                      <a:pt x="294" y="406"/>
                    </a:lnTo>
                    <a:lnTo>
                      <a:pt x="303" y="436"/>
                    </a:lnTo>
                    <a:lnTo>
                      <a:pt x="308" y="465"/>
                    </a:lnTo>
                    <a:lnTo>
                      <a:pt x="317" y="493"/>
                    </a:lnTo>
                    <a:lnTo>
                      <a:pt x="322" y="522"/>
                    </a:lnTo>
                    <a:lnTo>
                      <a:pt x="322" y="551"/>
                    </a:lnTo>
                    <a:lnTo>
                      <a:pt x="327" y="579"/>
                    </a:lnTo>
                    <a:lnTo>
                      <a:pt x="327" y="560"/>
                    </a:lnTo>
                    <a:lnTo>
                      <a:pt x="332" y="536"/>
                    </a:lnTo>
                    <a:lnTo>
                      <a:pt x="336" y="512"/>
                    </a:lnTo>
                    <a:lnTo>
                      <a:pt x="341" y="488"/>
                    </a:lnTo>
                    <a:lnTo>
                      <a:pt x="350" y="469"/>
                    </a:lnTo>
                    <a:lnTo>
                      <a:pt x="355" y="445"/>
                    </a:lnTo>
                    <a:lnTo>
                      <a:pt x="365" y="425"/>
                    </a:lnTo>
                    <a:lnTo>
                      <a:pt x="374" y="402"/>
                    </a:lnTo>
                    <a:lnTo>
                      <a:pt x="388" y="382"/>
                    </a:lnTo>
                    <a:lnTo>
                      <a:pt x="398" y="363"/>
                    </a:lnTo>
                    <a:lnTo>
                      <a:pt x="412" y="344"/>
                    </a:lnTo>
                    <a:lnTo>
                      <a:pt x="426" y="325"/>
                    </a:lnTo>
                    <a:lnTo>
                      <a:pt x="441" y="311"/>
                    </a:lnTo>
                    <a:lnTo>
                      <a:pt x="460" y="292"/>
                    </a:lnTo>
                    <a:lnTo>
                      <a:pt x="474" y="277"/>
                    </a:lnTo>
                    <a:lnTo>
                      <a:pt x="493" y="263"/>
                    </a:lnTo>
                    <a:lnTo>
                      <a:pt x="507" y="244"/>
                    </a:lnTo>
                    <a:lnTo>
                      <a:pt x="526" y="234"/>
                    </a:lnTo>
                    <a:lnTo>
                      <a:pt x="546" y="220"/>
                    </a:lnTo>
                    <a:lnTo>
                      <a:pt x="617" y="177"/>
                    </a:lnTo>
                    <a:lnTo>
                      <a:pt x="702" y="133"/>
                    </a:lnTo>
                    <a:lnTo>
                      <a:pt x="812" y="85"/>
                    </a:lnTo>
                    <a:lnTo>
                      <a:pt x="925" y="47"/>
                    </a:lnTo>
                    <a:lnTo>
                      <a:pt x="1068" y="0"/>
                    </a:lnTo>
                    <a:lnTo>
                      <a:pt x="1006" y="0"/>
                    </a:lnTo>
                    <a:lnTo>
                      <a:pt x="1006" y="14"/>
                    </a:lnTo>
                    <a:lnTo>
                      <a:pt x="0" y="14"/>
                    </a:lnTo>
                    <a:lnTo>
                      <a:pt x="4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20680" y="5057640"/>
                <a:ext cx="71640" cy="36720"/>
              </a:xfrm>
              <a:custGeom>
                <a:avLst/>
                <a:gdLst/>
                <a:ahLst/>
                <a:rect l="0" t="0" r="r" b="b"/>
                <a:pathLst>
                  <a:path fill="none" w="199" h="102">
                    <a:moveTo>
                      <a:pt x="199" y="102"/>
                    </a:moveTo>
                    <a:lnTo>
                      <a:pt x="199" y="0"/>
                    </a:lnTo>
                    <a:lnTo>
                      <a:pt x="189" y="0"/>
                    </a:lnTo>
                    <a:lnTo>
                      <a:pt x="189" y="83"/>
                    </a:lnTo>
                    <a:lnTo>
                      <a:pt x="0" y="83"/>
                    </a:lnTo>
                    <a:lnTo>
                      <a:pt x="56" y="102"/>
                    </a:lnTo>
                    <a:lnTo>
                      <a:pt x="56" y="88"/>
                    </a:lnTo>
                    <a:lnTo>
                      <a:pt x="189" y="88"/>
                    </a:lnTo>
                    <a:lnTo>
                      <a:pt x="166" y="102"/>
                    </a:lnTo>
                    <a:lnTo>
                      <a:pt x="199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36520" y="5045040"/>
                <a:ext cx="437040" cy="12960"/>
              </a:xfrm>
              <a:custGeom>
                <a:avLst/>
                <a:gdLst/>
                <a:ahLst/>
                <a:rect l="0" t="0" r="r" b="b"/>
                <a:pathLst>
                  <a:path fill="none" w="1214" h="36">
                    <a:moveTo>
                      <a:pt x="146" y="36"/>
                    </a:moveTo>
                    <a:lnTo>
                      <a:pt x="184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14" y="15"/>
                    </a:lnTo>
                    <a:lnTo>
                      <a:pt x="1181" y="36"/>
                    </a:lnTo>
                    <a:lnTo>
                      <a:pt x="146" y="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562040" y="5057640"/>
                <a:ext cx="14760" cy="32040"/>
              </a:xfrm>
              <a:custGeom>
                <a:avLst/>
                <a:gdLst/>
                <a:ahLst/>
                <a:rect l="0" t="0" r="r" b="b"/>
                <a:pathLst>
                  <a:path fill="none" w="41" h="89">
                    <a:moveTo>
                      <a:pt x="0" y="0"/>
                    </a:moveTo>
                    <a:lnTo>
                      <a:pt x="41" y="0"/>
                    </a:lnTo>
                    <a:lnTo>
                      <a:pt x="41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576440" y="507528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0" y="19"/>
                    </a:moveTo>
                    <a:lnTo>
                      <a:pt x="41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79400" y="5057640"/>
                <a:ext cx="375120" cy="81360"/>
              </a:xfrm>
              <a:custGeom>
                <a:avLst/>
                <a:gdLst/>
                <a:ahLst/>
                <a:rect l="0" t="0" r="r" b="b"/>
                <a:pathLst>
                  <a:path fill="none" w="1042" h="226">
                    <a:moveTo>
                      <a:pt x="1004" y="108"/>
                    </a:moveTo>
                    <a:lnTo>
                      <a:pt x="1023" y="113"/>
                    </a:lnTo>
                    <a:lnTo>
                      <a:pt x="680" y="118"/>
                    </a:lnTo>
                    <a:lnTo>
                      <a:pt x="847" y="51"/>
                    </a:lnTo>
                    <a:lnTo>
                      <a:pt x="847" y="0"/>
                    </a:lnTo>
                    <a:lnTo>
                      <a:pt x="814" y="0"/>
                    </a:lnTo>
                    <a:lnTo>
                      <a:pt x="814" y="57"/>
                    </a:lnTo>
                    <a:lnTo>
                      <a:pt x="713" y="57"/>
                    </a:lnTo>
                    <a:lnTo>
                      <a:pt x="109" y="99"/>
                    </a:lnTo>
                    <a:lnTo>
                      <a:pt x="185" y="99"/>
                    </a:lnTo>
                    <a:lnTo>
                      <a:pt x="185" y="155"/>
                    </a:lnTo>
                    <a:lnTo>
                      <a:pt x="0" y="155"/>
                    </a:lnTo>
                    <a:lnTo>
                      <a:pt x="0" y="160"/>
                    </a:lnTo>
                    <a:lnTo>
                      <a:pt x="395" y="160"/>
                    </a:lnTo>
                    <a:lnTo>
                      <a:pt x="485" y="226"/>
                    </a:lnTo>
                    <a:lnTo>
                      <a:pt x="371" y="136"/>
                    </a:lnTo>
                    <a:lnTo>
                      <a:pt x="371" y="85"/>
                    </a:lnTo>
                    <a:lnTo>
                      <a:pt x="428" y="122"/>
                    </a:lnTo>
                    <a:lnTo>
                      <a:pt x="390" y="127"/>
                    </a:lnTo>
                    <a:lnTo>
                      <a:pt x="1042" y="113"/>
                    </a:lnTo>
                    <a:lnTo>
                      <a:pt x="1004" y="10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9400" y="5103720"/>
                <a:ext cx="66960" cy="33840"/>
              </a:xfrm>
              <a:custGeom>
                <a:avLst/>
                <a:gdLst/>
                <a:ahLst/>
                <a:rect l="0" t="0" r="r" b="b"/>
                <a:pathLst>
                  <a:path fill="none" w="186" h="94">
                    <a:moveTo>
                      <a:pt x="0" y="94"/>
                    </a:moveTo>
                    <a:lnTo>
                      <a:pt x="0" y="0"/>
                    </a:lnTo>
                    <a:lnTo>
                      <a:pt x="18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779400" y="511020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79400" y="510696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92000" y="51037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04960" y="51037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16120" y="51037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828720" y="51037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839880" y="5103720"/>
                <a:ext cx="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92000" y="5086440"/>
                <a:ext cx="27360" cy="18000"/>
              </a:xfrm>
              <a:custGeom>
                <a:avLst/>
                <a:gdLst/>
                <a:ahLst/>
                <a:rect l="0" t="0" r="r" b="b"/>
                <a:pathLst>
                  <a:path fill="none" w="76" h="50">
                    <a:moveTo>
                      <a:pt x="58" y="50"/>
                    </a:moveTo>
                    <a:lnTo>
                      <a:pt x="58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24" y="30"/>
                    </a:lnTo>
                    <a:lnTo>
                      <a:pt x="24" y="50"/>
                    </a:lnTo>
                    <a:lnTo>
                      <a:pt x="58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79400" y="5075280"/>
                <a:ext cx="12960" cy="28800"/>
              </a:xfrm>
              <a:custGeom>
                <a:avLst/>
                <a:gdLst/>
                <a:ahLst/>
                <a:rect l="0" t="0" r="r" b="b"/>
                <a:pathLst>
                  <a:path fill="none" w="36" h="80">
                    <a:moveTo>
                      <a:pt x="36" y="80"/>
                    </a:move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0" y="14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19000" y="5045040"/>
                <a:ext cx="302040" cy="36720"/>
              </a:xfrm>
              <a:custGeom>
                <a:avLst/>
                <a:gdLst/>
                <a:ahLst/>
                <a:rect l="0" t="0" r="r" b="b"/>
                <a:pathLst>
                  <a:path fill="none" w="839" h="102">
                    <a:moveTo>
                      <a:pt x="0" y="102"/>
                    </a:moveTo>
                    <a:lnTo>
                      <a:pt x="839" y="0"/>
                    </a:lnTo>
                    <a:lnTo>
                      <a:pt x="739" y="43"/>
                    </a:lnTo>
                    <a:lnTo>
                      <a:pt x="605" y="43"/>
                    </a:lnTo>
                    <a:lnTo>
                      <a:pt x="605" y="87"/>
                    </a:lnTo>
                    <a:lnTo>
                      <a:pt x="591" y="48"/>
                    </a:lnTo>
                    <a:lnTo>
                      <a:pt x="0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19000" y="5065560"/>
                <a:ext cx="209880" cy="18000"/>
              </a:xfrm>
              <a:custGeom>
                <a:avLst/>
                <a:gdLst/>
                <a:ahLst/>
                <a:rect l="0" t="0" r="r" b="b"/>
                <a:pathLst>
                  <a:path fill="none" w="583" h="50">
                    <a:moveTo>
                      <a:pt x="0" y="45"/>
                    </a:moveTo>
                    <a:lnTo>
                      <a:pt x="9" y="50"/>
                    </a:lnTo>
                    <a:lnTo>
                      <a:pt x="58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54200" y="5138640"/>
                <a:ext cx="200160" cy="55800"/>
              </a:xfrm>
              <a:custGeom>
                <a:avLst/>
                <a:gdLst/>
                <a:ahLst/>
                <a:rect l="0" t="0" r="r" b="b"/>
                <a:pathLst>
                  <a:path fill="none" w="556" h="155">
                    <a:moveTo>
                      <a:pt x="556" y="0"/>
                    </a:moveTo>
                    <a:lnTo>
                      <a:pt x="556" y="14"/>
                    </a:lnTo>
                    <a:lnTo>
                      <a:pt x="551" y="43"/>
                    </a:lnTo>
                    <a:lnTo>
                      <a:pt x="547" y="67"/>
                    </a:lnTo>
                    <a:lnTo>
                      <a:pt x="532" y="97"/>
                    </a:lnTo>
                    <a:lnTo>
                      <a:pt x="518" y="126"/>
                    </a:lnTo>
                    <a:lnTo>
                      <a:pt x="494" y="155"/>
                    </a:lnTo>
                    <a:lnTo>
                      <a:pt x="371" y="145"/>
                    </a:lnTo>
                    <a:lnTo>
                      <a:pt x="0" y="0"/>
                    </a:lnTo>
                    <a:lnTo>
                      <a:pt x="55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915840" y="5114880"/>
                <a:ext cx="1800" cy="25920"/>
              </a:xfrm>
              <a:custGeom>
                <a:avLst/>
                <a:gdLst/>
                <a:ahLst/>
                <a:rect l="0" t="0" r="r" b="b"/>
                <a:pathLst>
                  <a:path fill="none" w="5" h="72">
                    <a:moveTo>
                      <a:pt x="0" y="0"/>
                    </a:moveTo>
                    <a:lnTo>
                      <a:pt x="0" y="72"/>
                    </a:lnTo>
                    <a:lnTo>
                      <a:pt x="5" y="7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52400" y="5145120"/>
                <a:ext cx="44640" cy="38520"/>
              </a:xfrm>
              <a:custGeom>
                <a:avLst/>
                <a:gdLst/>
                <a:ahLst/>
                <a:rect l="0" t="0" r="r" b="b"/>
                <a:pathLst>
                  <a:path fill="none" w="124" h="107">
                    <a:moveTo>
                      <a:pt x="14" y="0"/>
                    </a:moveTo>
                    <a:lnTo>
                      <a:pt x="95" y="60"/>
                    </a:lnTo>
                    <a:lnTo>
                      <a:pt x="95" y="74"/>
                    </a:lnTo>
                    <a:lnTo>
                      <a:pt x="91" y="89"/>
                    </a:lnTo>
                    <a:lnTo>
                      <a:pt x="81" y="94"/>
                    </a:lnTo>
                    <a:lnTo>
                      <a:pt x="61" y="98"/>
                    </a:lnTo>
                    <a:lnTo>
                      <a:pt x="0" y="98"/>
                    </a:lnTo>
                    <a:lnTo>
                      <a:pt x="4" y="103"/>
                    </a:lnTo>
                    <a:lnTo>
                      <a:pt x="86" y="107"/>
                    </a:lnTo>
                    <a:lnTo>
                      <a:pt x="100" y="103"/>
                    </a:lnTo>
                    <a:lnTo>
                      <a:pt x="110" y="94"/>
                    </a:lnTo>
                    <a:lnTo>
                      <a:pt x="114" y="84"/>
                    </a:lnTo>
                    <a:lnTo>
                      <a:pt x="119" y="70"/>
                    </a:lnTo>
                    <a:lnTo>
                      <a:pt x="124" y="4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654120" y="5079960"/>
                <a:ext cx="125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31720" y="5079960"/>
                <a:ext cx="248040" cy="39960"/>
              </a:xfrm>
              <a:custGeom>
                <a:avLst/>
                <a:gdLst/>
                <a:ahLst/>
                <a:rect l="0" t="0" r="r" b="b"/>
                <a:pathLst>
                  <a:path fill="none" w="689" h="111">
                    <a:moveTo>
                      <a:pt x="337" y="0"/>
                    </a:moveTo>
                    <a:lnTo>
                      <a:pt x="337" y="32"/>
                    </a:lnTo>
                    <a:lnTo>
                      <a:pt x="689" y="32"/>
                    </a:lnTo>
                    <a:lnTo>
                      <a:pt x="689" y="41"/>
                    </a:lnTo>
                    <a:lnTo>
                      <a:pt x="295" y="41"/>
                    </a:lnTo>
                    <a:lnTo>
                      <a:pt x="56" y="111"/>
                    </a:lnTo>
                    <a:lnTo>
                      <a:pt x="0" y="97"/>
                    </a:lnTo>
                    <a:lnTo>
                      <a:pt x="295" y="0"/>
                    </a:lnTo>
                    <a:lnTo>
                      <a:pt x="33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41440" y="5091120"/>
                <a:ext cx="224280" cy="109800"/>
              </a:xfrm>
              <a:custGeom>
                <a:avLst/>
                <a:gdLst/>
                <a:ahLst/>
                <a:rect l="0" t="0" r="r" b="b"/>
                <a:pathLst>
                  <a:path fill="none" w="623" h="305">
                    <a:moveTo>
                      <a:pt x="623" y="57"/>
                    </a:moveTo>
                    <a:lnTo>
                      <a:pt x="609" y="71"/>
                    </a:lnTo>
                    <a:lnTo>
                      <a:pt x="600" y="71"/>
                    </a:lnTo>
                    <a:lnTo>
                      <a:pt x="600" y="95"/>
                    </a:lnTo>
                    <a:lnTo>
                      <a:pt x="481" y="95"/>
                    </a:lnTo>
                    <a:lnTo>
                      <a:pt x="481" y="133"/>
                    </a:lnTo>
                    <a:lnTo>
                      <a:pt x="571" y="233"/>
                    </a:lnTo>
                    <a:lnTo>
                      <a:pt x="552" y="219"/>
                    </a:lnTo>
                    <a:lnTo>
                      <a:pt x="552" y="248"/>
                    </a:lnTo>
                    <a:lnTo>
                      <a:pt x="490" y="238"/>
                    </a:lnTo>
                    <a:lnTo>
                      <a:pt x="490" y="305"/>
                    </a:lnTo>
                    <a:lnTo>
                      <a:pt x="356" y="243"/>
                    </a:lnTo>
                    <a:lnTo>
                      <a:pt x="356" y="157"/>
                    </a:lnTo>
                    <a:lnTo>
                      <a:pt x="342" y="157"/>
                    </a:lnTo>
                    <a:lnTo>
                      <a:pt x="342" y="205"/>
                    </a:lnTo>
                    <a:lnTo>
                      <a:pt x="328" y="205"/>
                    </a:lnTo>
                    <a:lnTo>
                      <a:pt x="328" y="157"/>
                    </a:lnTo>
                    <a:lnTo>
                      <a:pt x="314" y="157"/>
                    </a:lnTo>
                    <a:lnTo>
                      <a:pt x="314" y="243"/>
                    </a:lnTo>
                    <a:lnTo>
                      <a:pt x="314" y="147"/>
                    </a:lnTo>
                    <a:lnTo>
                      <a:pt x="200" y="147"/>
                    </a:lnTo>
                    <a:lnTo>
                      <a:pt x="186" y="133"/>
                    </a:lnTo>
                    <a:lnTo>
                      <a:pt x="219" y="133"/>
                    </a:lnTo>
                    <a:lnTo>
                      <a:pt x="219" y="85"/>
                    </a:lnTo>
                    <a:lnTo>
                      <a:pt x="104" y="109"/>
                    </a:lnTo>
                    <a:lnTo>
                      <a:pt x="151" y="229"/>
                    </a:lnTo>
                    <a:lnTo>
                      <a:pt x="0" y="142"/>
                    </a:lnTo>
                    <a:lnTo>
                      <a:pt x="0" y="118"/>
                    </a:lnTo>
                    <a:lnTo>
                      <a:pt x="219" y="61"/>
                    </a:lnTo>
                    <a:lnTo>
                      <a:pt x="219" y="23"/>
                    </a:lnTo>
                    <a:lnTo>
                      <a:pt x="271" y="0"/>
                    </a:lnTo>
                    <a:lnTo>
                      <a:pt x="271" y="57"/>
                    </a:lnTo>
                    <a:lnTo>
                      <a:pt x="623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00120" y="517536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fill="none" w="270" h="67">
                    <a:moveTo>
                      <a:pt x="0" y="0"/>
                    </a:moveTo>
                    <a:lnTo>
                      <a:pt x="149" y="9"/>
                    </a:lnTo>
                    <a:lnTo>
                      <a:pt x="270" y="6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12800" y="5124600"/>
                <a:ext cx="66960" cy="19440"/>
              </a:xfrm>
              <a:custGeom>
                <a:avLst/>
                <a:gdLst/>
                <a:ahLst/>
                <a:rect l="0" t="0" r="r" b="b"/>
                <a:pathLst>
                  <a:path fill="none" w="186" h="54">
                    <a:moveTo>
                      <a:pt x="47" y="0"/>
                    </a:moveTo>
                    <a:lnTo>
                      <a:pt x="47" y="45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14" y="54"/>
                    </a:lnTo>
                    <a:lnTo>
                      <a:pt x="95" y="45"/>
                    </a:lnTo>
                    <a:lnTo>
                      <a:pt x="186" y="45"/>
                    </a:lnTo>
                    <a:lnTo>
                      <a:pt x="186" y="0"/>
                    </a:lnTo>
                    <a:lnTo>
                      <a:pt x="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31720" y="5073480"/>
                <a:ext cx="251280" cy="57600"/>
              </a:xfrm>
              <a:custGeom>
                <a:avLst/>
                <a:gdLst/>
                <a:ahLst/>
                <a:rect l="0" t="0" r="r" b="b"/>
                <a:pathLst>
                  <a:path fill="none" w="698" h="160">
                    <a:moveTo>
                      <a:pt x="57" y="160"/>
                    </a:moveTo>
                    <a:lnTo>
                      <a:pt x="57" y="131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296" y="0"/>
                    </a:lnTo>
                    <a:lnTo>
                      <a:pt x="378" y="0"/>
                    </a:lnTo>
                    <a:lnTo>
                      <a:pt x="411" y="9"/>
                    </a:lnTo>
                    <a:lnTo>
                      <a:pt x="698" y="9"/>
                    </a:lnTo>
                    <a:lnTo>
                      <a:pt x="698" y="14"/>
                    </a:lnTo>
                    <a:lnTo>
                      <a:pt x="411" y="14"/>
                    </a:lnTo>
                    <a:lnTo>
                      <a:pt x="378" y="4"/>
                    </a:lnTo>
                    <a:lnTo>
                      <a:pt x="296" y="4"/>
                    </a:lnTo>
                    <a:lnTo>
                      <a:pt x="296" y="19"/>
                    </a:lnTo>
                    <a:lnTo>
                      <a:pt x="263" y="19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57" y="16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30360" y="5178600"/>
                <a:ext cx="135360" cy="54360"/>
              </a:xfrm>
              <a:custGeom>
                <a:avLst/>
                <a:gdLst/>
                <a:ahLst/>
                <a:rect l="0" t="0" r="r" b="b"/>
                <a:pathLst>
                  <a:path fill="none" w="376" h="151">
                    <a:moveTo>
                      <a:pt x="334" y="0"/>
                    </a:moveTo>
                    <a:lnTo>
                      <a:pt x="343" y="4"/>
                    </a:lnTo>
                    <a:lnTo>
                      <a:pt x="376" y="4"/>
                    </a:lnTo>
                    <a:lnTo>
                      <a:pt x="376" y="132"/>
                    </a:lnTo>
                    <a:lnTo>
                      <a:pt x="353" y="151"/>
                    </a:lnTo>
                    <a:lnTo>
                      <a:pt x="18" y="49"/>
                    </a:lnTo>
                    <a:lnTo>
                      <a:pt x="37" y="83"/>
                    </a:lnTo>
                    <a:lnTo>
                      <a:pt x="4" y="49"/>
                    </a:lnTo>
                    <a:lnTo>
                      <a:pt x="0" y="9"/>
                    </a:lnTo>
                    <a:lnTo>
                      <a:pt x="9" y="39"/>
                    </a:lnTo>
                    <a:lnTo>
                      <a:pt x="334" y="122"/>
                    </a:lnTo>
                    <a:lnTo>
                      <a:pt x="33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20720" y="517860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fill="none" w="54" h="89">
                    <a:moveTo>
                      <a:pt x="54" y="0"/>
                    </a:moveTo>
                    <a:lnTo>
                      <a:pt x="54" y="8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50" y="79"/>
                    </a:lnTo>
                    <a:lnTo>
                      <a:pt x="50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20720" y="5176800"/>
                <a:ext cx="5040" cy="27360"/>
              </a:xfrm>
              <a:custGeom>
                <a:avLst/>
                <a:gdLst/>
                <a:ahLst/>
                <a:rect l="0" t="0" r="r" b="b"/>
                <a:pathLst>
                  <a:path fill="none" w="14" h="76">
                    <a:moveTo>
                      <a:pt x="0" y="0"/>
                    </a:moveTo>
                    <a:lnTo>
                      <a:pt x="0" y="76"/>
                    </a:lnTo>
                    <a:lnTo>
                      <a:pt x="14" y="76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93640" y="514332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4"/>
                    </a:moveTo>
                    <a:lnTo>
                      <a:pt x="25" y="63"/>
                    </a:lnTo>
                    <a:lnTo>
                      <a:pt x="41" y="63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2480" y="513396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0" y="0"/>
                    </a:moveTo>
                    <a:lnTo>
                      <a:pt x="41" y="102"/>
                    </a:lnTo>
                    <a:lnTo>
                      <a:pt x="50" y="102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00120" y="5124600"/>
                <a:ext cx="8280" cy="11520"/>
              </a:xfrm>
              <a:custGeom>
                <a:avLst/>
                <a:gdLst/>
                <a:ahLst/>
                <a:rect l="0" t="0" r="r" b="b"/>
                <a:pathLst>
                  <a:path fill="none" w="23" h="32">
                    <a:moveTo>
                      <a:pt x="23" y="0"/>
                    </a:moveTo>
                    <a:lnTo>
                      <a:pt x="23" y="32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62160" y="5240160"/>
                <a:ext cx="143280" cy="89280"/>
              </a:xfrm>
              <a:custGeom>
                <a:avLst/>
                <a:gdLst/>
                <a:ahLst/>
                <a:rect l="0" t="0" r="r" b="b"/>
                <a:pathLst>
                  <a:path fill="none" w="398" h="248">
                    <a:moveTo>
                      <a:pt x="0" y="248"/>
                    </a:moveTo>
                    <a:lnTo>
                      <a:pt x="33" y="248"/>
                    </a:lnTo>
                    <a:lnTo>
                      <a:pt x="38" y="225"/>
                    </a:lnTo>
                    <a:lnTo>
                      <a:pt x="66" y="225"/>
                    </a:lnTo>
                    <a:lnTo>
                      <a:pt x="76" y="210"/>
                    </a:lnTo>
                    <a:lnTo>
                      <a:pt x="106" y="206"/>
                    </a:lnTo>
                    <a:lnTo>
                      <a:pt x="120" y="229"/>
                    </a:lnTo>
                    <a:lnTo>
                      <a:pt x="134" y="225"/>
                    </a:lnTo>
                    <a:lnTo>
                      <a:pt x="134" y="206"/>
                    </a:lnTo>
                    <a:lnTo>
                      <a:pt x="163" y="196"/>
                    </a:lnTo>
                    <a:lnTo>
                      <a:pt x="182" y="210"/>
                    </a:lnTo>
                    <a:lnTo>
                      <a:pt x="192" y="201"/>
                    </a:lnTo>
                    <a:lnTo>
                      <a:pt x="201" y="181"/>
                    </a:lnTo>
                    <a:lnTo>
                      <a:pt x="225" y="176"/>
                    </a:lnTo>
                    <a:lnTo>
                      <a:pt x="235" y="167"/>
                    </a:lnTo>
                    <a:lnTo>
                      <a:pt x="268" y="162"/>
                    </a:lnTo>
                    <a:lnTo>
                      <a:pt x="303" y="181"/>
                    </a:lnTo>
                    <a:lnTo>
                      <a:pt x="317" y="171"/>
                    </a:lnTo>
                    <a:lnTo>
                      <a:pt x="317" y="152"/>
                    </a:lnTo>
                    <a:lnTo>
                      <a:pt x="331" y="152"/>
                    </a:lnTo>
                    <a:lnTo>
                      <a:pt x="379" y="171"/>
                    </a:lnTo>
                    <a:lnTo>
                      <a:pt x="398" y="167"/>
                    </a:lnTo>
                    <a:lnTo>
                      <a:pt x="389" y="119"/>
                    </a:lnTo>
                    <a:lnTo>
                      <a:pt x="351" y="105"/>
                    </a:lnTo>
                    <a:lnTo>
                      <a:pt x="331" y="91"/>
                    </a:lnTo>
                    <a:lnTo>
                      <a:pt x="292" y="100"/>
                    </a:lnTo>
                    <a:lnTo>
                      <a:pt x="278" y="91"/>
                    </a:lnTo>
                    <a:lnTo>
                      <a:pt x="283" y="72"/>
                    </a:lnTo>
                    <a:lnTo>
                      <a:pt x="268" y="56"/>
                    </a:lnTo>
                    <a:lnTo>
                      <a:pt x="278" y="33"/>
                    </a:lnTo>
                    <a:lnTo>
                      <a:pt x="268" y="0"/>
                    </a:lnTo>
                    <a:lnTo>
                      <a:pt x="225" y="4"/>
                    </a:lnTo>
                    <a:lnTo>
                      <a:pt x="206" y="23"/>
                    </a:lnTo>
                    <a:lnTo>
                      <a:pt x="182" y="28"/>
                    </a:lnTo>
                    <a:lnTo>
                      <a:pt x="163" y="52"/>
                    </a:lnTo>
                    <a:lnTo>
                      <a:pt x="144" y="81"/>
                    </a:lnTo>
                    <a:lnTo>
                      <a:pt x="173" y="52"/>
                    </a:lnTo>
                    <a:lnTo>
                      <a:pt x="206" y="33"/>
                    </a:lnTo>
                    <a:lnTo>
                      <a:pt x="220" y="14"/>
                    </a:lnTo>
                    <a:lnTo>
                      <a:pt x="254" y="18"/>
                    </a:lnTo>
                    <a:lnTo>
                      <a:pt x="263" y="42"/>
                    </a:lnTo>
                    <a:lnTo>
                      <a:pt x="254" y="56"/>
                    </a:lnTo>
                    <a:lnTo>
                      <a:pt x="268" y="67"/>
                    </a:lnTo>
                    <a:lnTo>
                      <a:pt x="263" y="95"/>
                    </a:lnTo>
                    <a:lnTo>
                      <a:pt x="273" y="110"/>
                    </a:lnTo>
                    <a:lnTo>
                      <a:pt x="254" y="110"/>
                    </a:lnTo>
                    <a:lnTo>
                      <a:pt x="254" y="129"/>
                    </a:lnTo>
                    <a:lnTo>
                      <a:pt x="278" y="133"/>
                    </a:lnTo>
                    <a:lnTo>
                      <a:pt x="278" y="124"/>
                    </a:lnTo>
                    <a:lnTo>
                      <a:pt x="292" y="119"/>
                    </a:lnTo>
                    <a:lnTo>
                      <a:pt x="308" y="124"/>
                    </a:lnTo>
                    <a:lnTo>
                      <a:pt x="336" y="110"/>
                    </a:lnTo>
                    <a:lnTo>
                      <a:pt x="351" y="138"/>
                    </a:lnTo>
                    <a:lnTo>
                      <a:pt x="322" y="138"/>
                    </a:lnTo>
                    <a:lnTo>
                      <a:pt x="303" y="157"/>
                    </a:lnTo>
                    <a:lnTo>
                      <a:pt x="263" y="152"/>
                    </a:lnTo>
                    <a:lnTo>
                      <a:pt x="230" y="157"/>
                    </a:lnTo>
                    <a:lnTo>
                      <a:pt x="216" y="143"/>
                    </a:lnTo>
                    <a:lnTo>
                      <a:pt x="192" y="148"/>
                    </a:lnTo>
                    <a:lnTo>
                      <a:pt x="187" y="181"/>
                    </a:lnTo>
                    <a:lnTo>
                      <a:pt x="182" y="196"/>
                    </a:lnTo>
                    <a:lnTo>
                      <a:pt x="163" y="181"/>
                    </a:lnTo>
                    <a:lnTo>
                      <a:pt x="130" y="191"/>
                    </a:lnTo>
                    <a:lnTo>
                      <a:pt x="115" y="181"/>
                    </a:lnTo>
                    <a:lnTo>
                      <a:pt x="95" y="187"/>
                    </a:lnTo>
                    <a:lnTo>
                      <a:pt x="90" y="201"/>
                    </a:lnTo>
                    <a:lnTo>
                      <a:pt x="62" y="206"/>
                    </a:lnTo>
                    <a:lnTo>
                      <a:pt x="47" y="215"/>
                    </a:lnTo>
                    <a:lnTo>
                      <a:pt x="23" y="215"/>
                    </a:lnTo>
                    <a:lnTo>
                      <a:pt x="23" y="239"/>
                    </a:lnTo>
                    <a:lnTo>
                      <a:pt x="0" y="2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160" y="527220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fill="none" w="19" h="23">
                    <a:moveTo>
                      <a:pt x="4" y="0"/>
                    </a:moveTo>
                    <a:lnTo>
                      <a:pt x="19" y="5"/>
                    </a:lnTo>
                    <a:lnTo>
                      <a:pt x="9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71600" y="5259240"/>
                <a:ext cx="9720" cy="8280"/>
              </a:xfrm>
              <a:custGeom>
                <a:avLst/>
                <a:gdLst/>
                <a:ahLst/>
                <a:rect l="0" t="0" r="r" b="b"/>
                <a:pathLst>
                  <a:path fill="none" w="27" h="23">
                    <a:moveTo>
                      <a:pt x="10" y="2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7" y="8"/>
                    </a:lnTo>
                    <a:lnTo>
                      <a:pt x="27" y="23"/>
                    </a:lnTo>
                    <a:lnTo>
                      <a:pt x="10" y="2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70160" y="52372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9" y="0"/>
                    </a:moveTo>
                    <a:lnTo>
                      <a:pt x="0" y="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79480" y="5221440"/>
                <a:ext cx="427320" cy="79560"/>
              </a:xfrm>
              <a:custGeom>
                <a:avLst/>
                <a:gdLst/>
                <a:ahLst/>
                <a:rect l="0" t="0" r="r" b="b"/>
                <a:pathLst>
                  <a:path fill="none" w="1187" h="221">
                    <a:moveTo>
                      <a:pt x="1187" y="221"/>
                    </a:moveTo>
                    <a:lnTo>
                      <a:pt x="1163" y="197"/>
                    </a:lnTo>
                    <a:lnTo>
                      <a:pt x="1135" y="187"/>
                    </a:lnTo>
                    <a:lnTo>
                      <a:pt x="1125" y="173"/>
                    </a:lnTo>
                    <a:lnTo>
                      <a:pt x="1125" y="144"/>
                    </a:lnTo>
                    <a:lnTo>
                      <a:pt x="1106" y="125"/>
                    </a:lnTo>
                    <a:lnTo>
                      <a:pt x="1101" y="105"/>
                    </a:lnTo>
                    <a:lnTo>
                      <a:pt x="1068" y="105"/>
                    </a:lnTo>
                    <a:lnTo>
                      <a:pt x="1044" y="105"/>
                    </a:lnTo>
                    <a:lnTo>
                      <a:pt x="1016" y="95"/>
                    </a:lnTo>
                    <a:lnTo>
                      <a:pt x="997" y="57"/>
                    </a:lnTo>
                    <a:lnTo>
                      <a:pt x="978" y="57"/>
                    </a:lnTo>
                    <a:lnTo>
                      <a:pt x="959" y="38"/>
                    </a:lnTo>
                    <a:lnTo>
                      <a:pt x="930" y="47"/>
                    </a:lnTo>
                    <a:lnTo>
                      <a:pt x="907" y="57"/>
                    </a:lnTo>
                    <a:lnTo>
                      <a:pt x="893" y="47"/>
                    </a:lnTo>
                    <a:lnTo>
                      <a:pt x="859" y="23"/>
                    </a:lnTo>
                    <a:lnTo>
                      <a:pt x="821" y="19"/>
                    </a:lnTo>
                    <a:lnTo>
                      <a:pt x="793" y="0"/>
                    </a:lnTo>
                    <a:lnTo>
                      <a:pt x="760" y="9"/>
                    </a:lnTo>
                    <a:lnTo>
                      <a:pt x="741" y="38"/>
                    </a:lnTo>
                    <a:lnTo>
                      <a:pt x="693" y="52"/>
                    </a:lnTo>
                    <a:lnTo>
                      <a:pt x="679" y="67"/>
                    </a:lnTo>
                    <a:lnTo>
                      <a:pt x="646" y="67"/>
                    </a:lnTo>
                    <a:lnTo>
                      <a:pt x="613" y="67"/>
                    </a:lnTo>
                    <a:lnTo>
                      <a:pt x="594" y="86"/>
                    </a:lnTo>
                    <a:lnTo>
                      <a:pt x="574" y="100"/>
                    </a:lnTo>
                    <a:lnTo>
                      <a:pt x="536" y="111"/>
                    </a:lnTo>
                    <a:lnTo>
                      <a:pt x="517" y="100"/>
                    </a:lnTo>
                    <a:lnTo>
                      <a:pt x="517" y="71"/>
                    </a:lnTo>
                    <a:lnTo>
                      <a:pt x="502" y="62"/>
                    </a:lnTo>
                    <a:lnTo>
                      <a:pt x="507" y="43"/>
                    </a:lnTo>
                    <a:lnTo>
                      <a:pt x="460" y="28"/>
                    </a:lnTo>
                    <a:lnTo>
                      <a:pt x="450" y="47"/>
                    </a:lnTo>
                    <a:lnTo>
                      <a:pt x="398" y="28"/>
                    </a:lnTo>
                    <a:lnTo>
                      <a:pt x="351" y="38"/>
                    </a:lnTo>
                    <a:lnTo>
                      <a:pt x="322" y="57"/>
                    </a:lnTo>
                    <a:lnTo>
                      <a:pt x="246" y="76"/>
                    </a:lnTo>
                    <a:lnTo>
                      <a:pt x="223" y="100"/>
                    </a:lnTo>
                    <a:lnTo>
                      <a:pt x="161" y="111"/>
                    </a:lnTo>
                    <a:lnTo>
                      <a:pt x="94" y="100"/>
                    </a:lnTo>
                    <a:lnTo>
                      <a:pt x="0" y="120"/>
                    </a:lnTo>
                    <a:lnTo>
                      <a:pt x="94" y="105"/>
                    </a:lnTo>
                    <a:lnTo>
                      <a:pt x="142" y="116"/>
                    </a:lnTo>
                    <a:lnTo>
                      <a:pt x="180" y="116"/>
                    </a:lnTo>
                    <a:lnTo>
                      <a:pt x="227" y="105"/>
                    </a:lnTo>
                    <a:lnTo>
                      <a:pt x="256" y="86"/>
                    </a:lnTo>
                    <a:lnTo>
                      <a:pt x="289" y="86"/>
                    </a:lnTo>
                    <a:lnTo>
                      <a:pt x="303" y="95"/>
                    </a:lnTo>
                    <a:lnTo>
                      <a:pt x="336" y="76"/>
                    </a:lnTo>
                    <a:lnTo>
                      <a:pt x="360" y="52"/>
                    </a:lnTo>
                    <a:lnTo>
                      <a:pt x="403" y="57"/>
                    </a:lnTo>
                    <a:lnTo>
                      <a:pt x="422" y="52"/>
                    </a:lnTo>
                    <a:lnTo>
                      <a:pt x="455" y="62"/>
                    </a:lnTo>
                    <a:lnTo>
                      <a:pt x="488" y="57"/>
                    </a:lnTo>
                    <a:lnTo>
                      <a:pt x="502" y="81"/>
                    </a:lnTo>
                    <a:lnTo>
                      <a:pt x="498" y="95"/>
                    </a:lnTo>
                    <a:lnTo>
                      <a:pt x="479" y="95"/>
                    </a:lnTo>
                    <a:lnTo>
                      <a:pt x="474" y="116"/>
                    </a:lnTo>
                    <a:lnTo>
                      <a:pt x="498" y="135"/>
                    </a:lnTo>
                    <a:lnTo>
                      <a:pt x="521" y="120"/>
                    </a:lnTo>
                    <a:lnTo>
                      <a:pt x="536" y="140"/>
                    </a:lnTo>
                    <a:lnTo>
                      <a:pt x="550" y="120"/>
                    </a:lnTo>
                    <a:lnTo>
                      <a:pt x="588" y="105"/>
                    </a:lnTo>
                    <a:lnTo>
                      <a:pt x="622" y="86"/>
                    </a:lnTo>
                    <a:lnTo>
                      <a:pt x="651" y="86"/>
                    </a:lnTo>
                    <a:lnTo>
                      <a:pt x="679" y="76"/>
                    </a:lnTo>
                    <a:lnTo>
                      <a:pt x="712" y="71"/>
                    </a:lnTo>
                    <a:lnTo>
                      <a:pt x="741" y="47"/>
                    </a:lnTo>
                    <a:lnTo>
                      <a:pt x="774" y="47"/>
                    </a:lnTo>
                    <a:lnTo>
                      <a:pt x="793" y="28"/>
                    </a:lnTo>
                    <a:lnTo>
                      <a:pt x="826" y="33"/>
                    </a:lnTo>
                    <a:lnTo>
                      <a:pt x="864" y="33"/>
                    </a:lnTo>
                    <a:lnTo>
                      <a:pt x="897" y="76"/>
                    </a:lnTo>
                    <a:lnTo>
                      <a:pt x="940" y="67"/>
                    </a:lnTo>
                    <a:lnTo>
                      <a:pt x="983" y="100"/>
                    </a:lnTo>
                    <a:lnTo>
                      <a:pt x="997" y="91"/>
                    </a:lnTo>
                    <a:lnTo>
                      <a:pt x="1011" y="105"/>
                    </a:lnTo>
                    <a:lnTo>
                      <a:pt x="1044" y="116"/>
                    </a:lnTo>
                    <a:lnTo>
                      <a:pt x="1082" y="120"/>
                    </a:lnTo>
                    <a:lnTo>
                      <a:pt x="1101" y="154"/>
                    </a:lnTo>
                    <a:lnTo>
                      <a:pt x="1116" y="163"/>
                    </a:lnTo>
                    <a:lnTo>
                      <a:pt x="1111" y="192"/>
                    </a:lnTo>
                    <a:lnTo>
                      <a:pt x="1158" y="207"/>
                    </a:lnTo>
                    <a:lnTo>
                      <a:pt x="1187" y="22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074600" y="5294160"/>
                <a:ext cx="173520" cy="32040"/>
              </a:xfrm>
              <a:custGeom>
                <a:avLst/>
                <a:gdLst/>
                <a:ahLst/>
                <a:rect l="0" t="0" r="r" b="b"/>
                <a:pathLst>
                  <a:path fill="none" w="482" h="89">
                    <a:moveTo>
                      <a:pt x="482" y="89"/>
                    </a:moveTo>
                    <a:lnTo>
                      <a:pt x="439" y="69"/>
                    </a:lnTo>
                    <a:lnTo>
                      <a:pt x="406" y="74"/>
                    </a:lnTo>
                    <a:lnTo>
                      <a:pt x="377" y="79"/>
                    </a:lnTo>
                    <a:lnTo>
                      <a:pt x="357" y="74"/>
                    </a:lnTo>
                    <a:lnTo>
                      <a:pt x="334" y="64"/>
                    </a:lnTo>
                    <a:lnTo>
                      <a:pt x="305" y="64"/>
                    </a:lnTo>
                    <a:lnTo>
                      <a:pt x="291" y="69"/>
                    </a:lnTo>
                    <a:lnTo>
                      <a:pt x="267" y="69"/>
                    </a:lnTo>
                    <a:lnTo>
                      <a:pt x="234" y="64"/>
                    </a:lnTo>
                    <a:lnTo>
                      <a:pt x="181" y="64"/>
                    </a:lnTo>
                    <a:lnTo>
                      <a:pt x="162" y="29"/>
                    </a:lnTo>
                    <a:lnTo>
                      <a:pt x="139" y="34"/>
                    </a:lnTo>
                    <a:lnTo>
                      <a:pt x="129" y="9"/>
                    </a:lnTo>
                    <a:lnTo>
                      <a:pt x="99" y="0"/>
                    </a:lnTo>
                    <a:lnTo>
                      <a:pt x="90" y="19"/>
                    </a:lnTo>
                    <a:lnTo>
                      <a:pt x="80" y="4"/>
                    </a:lnTo>
                    <a:lnTo>
                      <a:pt x="52" y="9"/>
                    </a:lnTo>
                    <a:lnTo>
                      <a:pt x="71" y="24"/>
                    </a:lnTo>
                    <a:lnTo>
                      <a:pt x="66" y="34"/>
                    </a:lnTo>
                    <a:lnTo>
                      <a:pt x="38" y="45"/>
                    </a:lnTo>
                    <a:lnTo>
                      <a:pt x="38" y="59"/>
                    </a:lnTo>
                    <a:lnTo>
                      <a:pt x="0" y="64"/>
                    </a:lnTo>
                    <a:lnTo>
                      <a:pt x="47" y="64"/>
                    </a:lnTo>
                    <a:lnTo>
                      <a:pt x="71" y="45"/>
                    </a:lnTo>
                    <a:lnTo>
                      <a:pt x="95" y="34"/>
                    </a:lnTo>
                    <a:lnTo>
                      <a:pt x="114" y="34"/>
                    </a:lnTo>
                    <a:lnTo>
                      <a:pt x="109" y="54"/>
                    </a:lnTo>
                    <a:lnTo>
                      <a:pt x="139" y="64"/>
                    </a:lnTo>
                    <a:lnTo>
                      <a:pt x="153" y="54"/>
                    </a:lnTo>
                    <a:lnTo>
                      <a:pt x="172" y="74"/>
                    </a:lnTo>
                    <a:lnTo>
                      <a:pt x="234" y="84"/>
                    </a:lnTo>
                    <a:lnTo>
                      <a:pt x="291" y="79"/>
                    </a:lnTo>
                    <a:lnTo>
                      <a:pt x="363" y="89"/>
                    </a:lnTo>
                    <a:lnTo>
                      <a:pt x="430" y="74"/>
                    </a:lnTo>
                    <a:lnTo>
                      <a:pt x="482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100160" y="5286240"/>
                <a:ext cx="8280" cy="8280"/>
              </a:xfrm>
              <a:custGeom>
                <a:avLst/>
                <a:gdLst/>
                <a:ahLst/>
                <a:rect l="0" t="0" r="r" b="b"/>
                <a:pathLst>
                  <a:path fill="none" w="23" h="23">
                    <a:moveTo>
                      <a:pt x="0" y="4"/>
                    </a:moveTo>
                    <a:lnTo>
                      <a:pt x="0" y="23"/>
                    </a:lnTo>
                    <a:lnTo>
                      <a:pt x="23" y="23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077840" y="528480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18" y="0"/>
                    </a:moveTo>
                    <a:lnTo>
                      <a:pt x="0" y="4"/>
                    </a:lnTo>
                    <a:lnTo>
                      <a:pt x="14" y="14"/>
                    </a:lnTo>
                    <a:lnTo>
                      <a:pt x="27" y="9"/>
                    </a:lnTo>
                    <a:lnTo>
                      <a:pt x="23" y="4"/>
                    </a:lnTo>
                    <a:lnTo>
                      <a:pt x="1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949320" y="5297400"/>
                <a:ext cx="116280" cy="18000"/>
              </a:xfrm>
              <a:custGeom>
                <a:avLst/>
                <a:gdLst/>
                <a:ahLst/>
                <a:rect l="0" t="0" r="r" b="b"/>
                <a:pathLst>
                  <a:path fill="none" w="323" h="50">
                    <a:moveTo>
                      <a:pt x="262" y="50"/>
                    </a:moveTo>
                    <a:lnTo>
                      <a:pt x="319" y="41"/>
                    </a:lnTo>
                    <a:lnTo>
                      <a:pt x="323" y="23"/>
                    </a:lnTo>
                    <a:lnTo>
                      <a:pt x="304" y="4"/>
                    </a:lnTo>
                    <a:lnTo>
                      <a:pt x="281" y="0"/>
                    </a:lnTo>
                    <a:lnTo>
                      <a:pt x="262" y="8"/>
                    </a:lnTo>
                    <a:lnTo>
                      <a:pt x="243" y="0"/>
                    </a:lnTo>
                    <a:lnTo>
                      <a:pt x="223" y="0"/>
                    </a:lnTo>
                    <a:lnTo>
                      <a:pt x="209" y="14"/>
                    </a:lnTo>
                    <a:lnTo>
                      <a:pt x="190" y="23"/>
                    </a:lnTo>
                    <a:lnTo>
                      <a:pt x="166" y="23"/>
                    </a:lnTo>
                    <a:lnTo>
                      <a:pt x="157" y="31"/>
                    </a:lnTo>
                    <a:lnTo>
                      <a:pt x="0" y="50"/>
                    </a:lnTo>
                    <a:lnTo>
                      <a:pt x="223" y="50"/>
                    </a:lnTo>
                    <a:lnTo>
                      <a:pt x="262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79400" y="5276880"/>
                <a:ext cx="170280" cy="22680"/>
              </a:xfrm>
              <a:custGeom>
                <a:avLst/>
                <a:gdLst/>
                <a:ahLst/>
                <a:rect l="0" t="0" r="r" b="b"/>
                <a:pathLst>
                  <a:path fill="none" w="473" h="63">
                    <a:moveTo>
                      <a:pt x="473" y="58"/>
                    </a:moveTo>
                    <a:lnTo>
                      <a:pt x="473" y="34"/>
                    </a:lnTo>
                    <a:lnTo>
                      <a:pt x="440" y="24"/>
                    </a:lnTo>
                    <a:lnTo>
                      <a:pt x="402" y="29"/>
                    </a:lnTo>
                    <a:lnTo>
                      <a:pt x="383" y="4"/>
                    </a:lnTo>
                    <a:lnTo>
                      <a:pt x="353" y="9"/>
                    </a:lnTo>
                    <a:lnTo>
                      <a:pt x="329" y="24"/>
                    </a:lnTo>
                    <a:lnTo>
                      <a:pt x="291" y="24"/>
                    </a:lnTo>
                    <a:lnTo>
                      <a:pt x="277" y="24"/>
                    </a:lnTo>
                    <a:lnTo>
                      <a:pt x="258" y="38"/>
                    </a:lnTo>
                    <a:lnTo>
                      <a:pt x="186" y="34"/>
                    </a:lnTo>
                    <a:lnTo>
                      <a:pt x="163" y="9"/>
                    </a:lnTo>
                    <a:lnTo>
                      <a:pt x="109" y="0"/>
                    </a:lnTo>
                    <a:lnTo>
                      <a:pt x="76" y="24"/>
                    </a:lnTo>
                    <a:lnTo>
                      <a:pt x="33" y="24"/>
                    </a:lnTo>
                    <a:lnTo>
                      <a:pt x="47" y="9"/>
                    </a:lnTo>
                    <a:lnTo>
                      <a:pt x="0" y="34"/>
                    </a:lnTo>
                    <a:lnTo>
                      <a:pt x="28" y="38"/>
                    </a:lnTo>
                    <a:lnTo>
                      <a:pt x="76" y="43"/>
                    </a:lnTo>
                    <a:lnTo>
                      <a:pt x="114" y="34"/>
                    </a:lnTo>
                    <a:lnTo>
                      <a:pt x="182" y="43"/>
                    </a:lnTo>
                    <a:lnTo>
                      <a:pt x="239" y="49"/>
                    </a:lnTo>
                    <a:lnTo>
                      <a:pt x="310" y="43"/>
                    </a:lnTo>
                    <a:lnTo>
                      <a:pt x="353" y="58"/>
                    </a:lnTo>
                    <a:lnTo>
                      <a:pt x="416" y="63"/>
                    </a:lnTo>
                    <a:lnTo>
                      <a:pt x="450" y="54"/>
                    </a:lnTo>
                    <a:lnTo>
                      <a:pt x="473" y="5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955800" y="5294160"/>
                <a:ext cx="39960" cy="9720"/>
              </a:xfrm>
              <a:custGeom>
                <a:avLst/>
                <a:gdLst/>
                <a:ahLst/>
                <a:rect l="0" t="0" r="r" b="b"/>
                <a:pathLst>
                  <a:path fill="none" w="111" h="27">
                    <a:moveTo>
                      <a:pt x="0" y="5"/>
                    </a:moveTo>
                    <a:lnTo>
                      <a:pt x="63" y="0"/>
                    </a:lnTo>
                    <a:lnTo>
                      <a:pt x="111" y="27"/>
                    </a:lnTo>
                    <a:lnTo>
                      <a:pt x="47" y="27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39720" y="5214960"/>
                <a:ext cx="232200" cy="49680"/>
              </a:xfrm>
              <a:custGeom>
                <a:avLst/>
                <a:gdLst/>
                <a:ahLst/>
                <a:rect l="0" t="0" r="r" b="b"/>
                <a:pathLst>
                  <a:path fill="none" w="645" h="138">
                    <a:moveTo>
                      <a:pt x="645" y="138"/>
                    </a:moveTo>
                    <a:lnTo>
                      <a:pt x="621" y="119"/>
                    </a:lnTo>
                    <a:lnTo>
                      <a:pt x="583" y="115"/>
                    </a:lnTo>
                    <a:lnTo>
                      <a:pt x="564" y="138"/>
                    </a:lnTo>
                    <a:lnTo>
                      <a:pt x="502" y="129"/>
                    </a:lnTo>
                    <a:lnTo>
                      <a:pt x="477" y="105"/>
                    </a:lnTo>
                    <a:lnTo>
                      <a:pt x="444" y="105"/>
                    </a:lnTo>
                    <a:lnTo>
                      <a:pt x="425" y="110"/>
                    </a:lnTo>
                    <a:lnTo>
                      <a:pt x="406" y="99"/>
                    </a:lnTo>
                    <a:lnTo>
                      <a:pt x="372" y="110"/>
                    </a:lnTo>
                    <a:lnTo>
                      <a:pt x="358" y="90"/>
                    </a:lnTo>
                    <a:lnTo>
                      <a:pt x="310" y="99"/>
                    </a:lnTo>
                    <a:lnTo>
                      <a:pt x="306" y="85"/>
                    </a:lnTo>
                    <a:lnTo>
                      <a:pt x="263" y="76"/>
                    </a:lnTo>
                    <a:lnTo>
                      <a:pt x="225" y="85"/>
                    </a:lnTo>
                    <a:lnTo>
                      <a:pt x="229" y="66"/>
                    </a:lnTo>
                    <a:lnTo>
                      <a:pt x="210" y="62"/>
                    </a:lnTo>
                    <a:lnTo>
                      <a:pt x="182" y="71"/>
                    </a:lnTo>
                    <a:lnTo>
                      <a:pt x="152" y="62"/>
                    </a:lnTo>
                    <a:lnTo>
                      <a:pt x="143" y="52"/>
                    </a:lnTo>
                    <a:lnTo>
                      <a:pt x="104" y="48"/>
                    </a:lnTo>
                    <a:lnTo>
                      <a:pt x="81" y="62"/>
                    </a:lnTo>
                    <a:lnTo>
                      <a:pt x="57" y="57"/>
                    </a:lnTo>
                    <a:lnTo>
                      <a:pt x="0" y="81"/>
                    </a:lnTo>
                    <a:lnTo>
                      <a:pt x="61" y="43"/>
                    </a:lnTo>
                    <a:lnTo>
                      <a:pt x="81" y="48"/>
                    </a:lnTo>
                    <a:lnTo>
                      <a:pt x="104" y="32"/>
                    </a:lnTo>
                    <a:lnTo>
                      <a:pt x="138" y="32"/>
                    </a:lnTo>
                    <a:lnTo>
                      <a:pt x="33" y="0"/>
                    </a:lnTo>
                    <a:lnTo>
                      <a:pt x="210" y="52"/>
                    </a:lnTo>
                    <a:lnTo>
                      <a:pt x="239" y="48"/>
                    </a:lnTo>
                    <a:lnTo>
                      <a:pt x="253" y="71"/>
                    </a:lnTo>
                    <a:lnTo>
                      <a:pt x="310" y="66"/>
                    </a:lnTo>
                    <a:lnTo>
                      <a:pt x="330" y="85"/>
                    </a:lnTo>
                    <a:lnTo>
                      <a:pt x="363" y="85"/>
                    </a:lnTo>
                    <a:lnTo>
                      <a:pt x="382" y="90"/>
                    </a:lnTo>
                    <a:lnTo>
                      <a:pt x="415" y="85"/>
                    </a:lnTo>
                    <a:lnTo>
                      <a:pt x="439" y="99"/>
                    </a:lnTo>
                    <a:lnTo>
                      <a:pt x="477" y="85"/>
                    </a:lnTo>
                    <a:lnTo>
                      <a:pt x="521" y="115"/>
                    </a:lnTo>
                    <a:lnTo>
                      <a:pt x="555" y="119"/>
                    </a:lnTo>
                    <a:lnTo>
                      <a:pt x="583" y="105"/>
                    </a:lnTo>
                    <a:lnTo>
                      <a:pt x="631" y="115"/>
                    </a:lnTo>
                    <a:lnTo>
                      <a:pt x="645" y="1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25600" y="5241960"/>
                <a:ext cx="284400" cy="28800"/>
              </a:xfrm>
              <a:custGeom>
                <a:avLst/>
                <a:gdLst/>
                <a:ahLst/>
                <a:rect l="0" t="0" r="r" b="b"/>
                <a:pathLst>
                  <a:path fill="none" w="790" h="80">
                    <a:moveTo>
                      <a:pt x="790" y="71"/>
                    </a:moveTo>
                    <a:lnTo>
                      <a:pt x="785" y="47"/>
                    </a:lnTo>
                    <a:lnTo>
                      <a:pt x="742" y="43"/>
                    </a:lnTo>
                    <a:lnTo>
                      <a:pt x="733" y="52"/>
                    </a:lnTo>
                    <a:lnTo>
                      <a:pt x="709" y="43"/>
                    </a:lnTo>
                    <a:lnTo>
                      <a:pt x="695" y="47"/>
                    </a:lnTo>
                    <a:lnTo>
                      <a:pt x="685" y="52"/>
                    </a:lnTo>
                    <a:lnTo>
                      <a:pt x="661" y="57"/>
                    </a:lnTo>
                    <a:lnTo>
                      <a:pt x="633" y="37"/>
                    </a:lnTo>
                    <a:lnTo>
                      <a:pt x="600" y="37"/>
                    </a:lnTo>
                    <a:lnTo>
                      <a:pt x="585" y="52"/>
                    </a:lnTo>
                    <a:lnTo>
                      <a:pt x="557" y="23"/>
                    </a:lnTo>
                    <a:lnTo>
                      <a:pt x="524" y="23"/>
                    </a:lnTo>
                    <a:lnTo>
                      <a:pt x="486" y="9"/>
                    </a:lnTo>
                    <a:lnTo>
                      <a:pt x="457" y="28"/>
                    </a:lnTo>
                    <a:lnTo>
                      <a:pt x="433" y="4"/>
                    </a:lnTo>
                    <a:lnTo>
                      <a:pt x="405" y="4"/>
                    </a:lnTo>
                    <a:lnTo>
                      <a:pt x="370" y="28"/>
                    </a:lnTo>
                    <a:lnTo>
                      <a:pt x="347" y="9"/>
                    </a:lnTo>
                    <a:lnTo>
                      <a:pt x="313" y="23"/>
                    </a:lnTo>
                    <a:lnTo>
                      <a:pt x="275" y="23"/>
                    </a:lnTo>
                    <a:lnTo>
                      <a:pt x="252" y="9"/>
                    </a:lnTo>
                    <a:lnTo>
                      <a:pt x="185" y="18"/>
                    </a:lnTo>
                    <a:lnTo>
                      <a:pt x="137" y="0"/>
                    </a:lnTo>
                    <a:lnTo>
                      <a:pt x="0" y="9"/>
                    </a:lnTo>
                    <a:lnTo>
                      <a:pt x="114" y="14"/>
                    </a:lnTo>
                    <a:lnTo>
                      <a:pt x="152" y="37"/>
                    </a:lnTo>
                    <a:lnTo>
                      <a:pt x="228" y="28"/>
                    </a:lnTo>
                    <a:lnTo>
                      <a:pt x="247" y="37"/>
                    </a:lnTo>
                    <a:lnTo>
                      <a:pt x="294" y="37"/>
                    </a:lnTo>
                    <a:lnTo>
                      <a:pt x="328" y="37"/>
                    </a:lnTo>
                    <a:lnTo>
                      <a:pt x="375" y="43"/>
                    </a:lnTo>
                    <a:lnTo>
                      <a:pt x="332" y="66"/>
                    </a:lnTo>
                    <a:lnTo>
                      <a:pt x="409" y="61"/>
                    </a:lnTo>
                    <a:lnTo>
                      <a:pt x="452" y="52"/>
                    </a:lnTo>
                    <a:lnTo>
                      <a:pt x="524" y="66"/>
                    </a:lnTo>
                    <a:lnTo>
                      <a:pt x="562" y="80"/>
                    </a:lnTo>
                    <a:lnTo>
                      <a:pt x="595" y="71"/>
                    </a:lnTo>
                    <a:lnTo>
                      <a:pt x="628" y="71"/>
                    </a:lnTo>
                    <a:lnTo>
                      <a:pt x="704" y="75"/>
                    </a:lnTo>
                    <a:lnTo>
                      <a:pt x="761" y="61"/>
                    </a:lnTo>
                    <a:lnTo>
                      <a:pt x="79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800" y="5222880"/>
                <a:ext cx="46440" cy="9720"/>
              </a:xfrm>
              <a:custGeom>
                <a:avLst/>
                <a:gdLst/>
                <a:ahLst/>
                <a:rect l="0" t="0" r="r" b="b"/>
                <a:pathLst>
                  <a:path fill="none" w="129" h="27">
                    <a:moveTo>
                      <a:pt x="110" y="5"/>
                    </a:moveTo>
                    <a:lnTo>
                      <a:pt x="76" y="0"/>
                    </a:lnTo>
                    <a:lnTo>
                      <a:pt x="34" y="10"/>
                    </a:lnTo>
                    <a:lnTo>
                      <a:pt x="0" y="22"/>
                    </a:lnTo>
                    <a:lnTo>
                      <a:pt x="76" y="27"/>
                    </a:lnTo>
                    <a:lnTo>
                      <a:pt x="129" y="22"/>
                    </a:lnTo>
                    <a:lnTo>
                      <a:pt x="1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93560" y="5195880"/>
                <a:ext cx="41760" cy="3600"/>
              </a:xfrm>
              <a:custGeom>
                <a:avLst/>
                <a:gdLst/>
                <a:ahLst/>
                <a:rect l="0" t="0" r="r" b="b"/>
                <a:pathLst>
                  <a:path fill="none" w="116" h="10">
                    <a:moveTo>
                      <a:pt x="116" y="10"/>
                    </a:moveTo>
                    <a:lnTo>
                      <a:pt x="78" y="0"/>
                    </a:lnTo>
                    <a:lnTo>
                      <a:pt x="46" y="10"/>
                    </a:lnTo>
                    <a:lnTo>
                      <a:pt x="0" y="10"/>
                    </a:lnTo>
                    <a:lnTo>
                      <a:pt x="65" y="10"/>
                    </a:lnTo>
                    <a:lnTo>
                      <a:pt x="89" y="10"/>
                    </a:lnTo>
                    <a:lnTo>
                      <a:pt x="116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80960" y="5168880"/>
                <a:ext cx="113040" cy="6840"/>
              </a:xfrm>
              <a:custGeom>
                <a:avLst/>
                <a:gdLst/>
                <a:ahLst/>
                <a:rect l="0" t="0" r="r" b="b"/>
                <a:pathLst>
                  <a:path fill="none" w="314" h="19">
                    <a:moveTo>
                      <a:pt x="0" y="0"/>
                    </a:moveTo>
                    <a:lnTo>
                      <a:pt x="71" y="4"/>
                    </a:lnTo>
                    <a:lnTo>
                      <a:pt x="156" y="0"/>
                    </a:lnTo>
                    <a:lnTo>
                      <a:pt x="223" y="4"/>
                    </a:lnTo>
                    <a:lnTo>
                      <a:pt x="304" y="0"/>
                    </a:lnTo>
                    <a:lnTo>
                      <a:pt x="314" y="9"/>
                    </a:lnTo>
                    <a:lnTo>
                      <a:pt x="228" y="19"/>
                    </a:lnTo>
                    <a:lnTo>
                      <a:pt x="142" y="15"/>
                    </a:lnTo>
                    <a:lnTo>
                      <a:pt x="75" y="1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01640" y="4957920"/>
                <a:ext cx="3600" cy="120960"/>
              </a:xfrm>
              <a:custGeom>
                <a:avLst/>
                <a:gdLst/>
                <a:ahLst/>
                <a:rect l="0" t="0" r="r" b="b"/>
                <a:pathLst>
                  <a:path fill="none" w="10" h="336">
                    <a:moveTo>
                      <a:pt x="0" y="336"/>
                    </a:moveTo>
                    <a:lnTo>
                      <a:pt x="10" y="0"/>
                    </a:lnTo>
                    <a:lnTo>
                      <a:pt x="5" y="336"/>
                    </a:lnTo>
                    <a:lnTo>
                      <a:pt x="0" y="3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04880" y="4957920"/>
                <a:ext cx="3600" cy="122760"/>
              </a:xfrm>
              <a:custGeom>
                <a:avLst/>
                <a:gdLst/>
                <a:ahLst/>
                <a:rect l="0" t="0" r="r" b="b"/>
                <a:pathLst>
                  <a:path fill="none" w="10" h="341">
                    <a:moveTo>
                      <a:pt x="0" y="0"/>
                    </a:moveTo>
                    <a:lnTo>
                      <a:pt x="0" y="341"/>
                    </a:lnTo>
                    <a:lnTo>
                      <a:pt x="10" y="341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01640" y="4959360"/>
                <a:ext cx="19440" cy="3600"/>
              </a:xfrm>
              <a:custGeom>
                <a:avLst/>
                <a:gdLst/>
                <a:ahLst/>
                <a:rect l="0" t="0" r="r" b="b"/>
                <a:pathLst>
                  <a:path fill="none" w="54" h="10">
                    <a:moveTo>
                      <a:pt x="4" y="10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5" y="5"/>
                    </a:lnTo>
                    <a:lnTo>
                      <a:pt x="15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4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06320" y="4970520"/>
                <a:ext cx="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06320" y="497520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47560" y="5067360"/>
                <a:ext cx="90720" cy="33840"/>
              </a:xfrm>
              <a:custGeom>
                <a:avLst/>
                <a:gdLst/>
                <a:ahLst/>
                <a:rect l="0" t="0" r="r" b="b"/>
                <a:pathLst>
                  <a:path fill="none" w="252" h="94">
                    <a:moveTo>
                      <a:pt x="185" y="0"/>
                    </a:moveTo>
                    <a:lnTo>
                      <a:pt x="166" y="14"/>
                    </a:lnTo>
                    <a:lnTo>
                      <a:pt x="157" y="14"/>
                    </a:lnTo>
                    <a:lnTo>
                      <a:pt x="166" y="25"/>
                    </a:lnTo>
                    <a:lnTo>
                      <a:pt x="129" y="25"/>
                    </a:lnTo>
                    <a:lnTo>
                      <a:pt x="143" y="35"/>
                    </a:lnTo>
                    <a:lnTo>
                      <a:pt x="104" y="35"/>
                    </a:lnTo>
                    <a:lnTo>
                      <a:pt x="118" y="44"/>
                    </a:lnTo>
                    <a:lnTo>
                      <a:pt x="80" y="44"/>
                    </a:lnTo>
                    <a:lnTo>
                      <a:pt x="94" y="49"/>
                    </a:lnTo>
                    <a:lnTo>
                      <a:pt x="61" y="49"/>
                    </a:lnTo>
                    <a:lnTo>
                      <a:pt x="75" y="59"/>
                    </a:lnTo>
                    <a:lnTo>
                      <a:pt x="47" y="59"/>
                    </a:lnTo>
                    <a:lnTo>
                      <a:pt x="56" y="64"/>
                    </a:lnTo>
                    <a:lnTo>
                      <a:pt x="28" y="64"/>
                    </a:lnTo>
                    <a:lnTo>
                      <a:pt x="33" y="69"/>
                    </a:lnTo>
                    <a:lnTo>
                      <a:pt x="14" y="69"/>
                    </a:lnTo>
                    <a:lnTo>
                      <a:pt x="23" y="75"/>
                    </a:lnTo>
                    <a:lnTo>
                      <a:pt x="0" y="75"/>
                    </a:lnTo>
                    <a:lnTo>
                      <a:pt x="14" y="89"/>
                    </a:lnTo>
                    <a:lnTo>
                      <a:pt x="42" y="89"/>
                    </a:lnTo>
                    <a:lnTo>
                      <a:pt x="52" y="94"/>
                    </a:lnTo>
                    <a:lnTo>
                      <a:pt x="252" y="25"/>
                    </a:lnTo>
                    <a:lnTo>
                      <a:pt x="209" y="0"/>
                    </a:lnTo>
                    <a:lnTo>
                      <a:pt x="1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47560" y="507060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8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52600" y="506880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4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57280" y="5067360"/>
                <a:ext cx="16200" cy="22680"/>
              </a:xfrm>
              <a:custGeom>
                <a:avLst/>
                <a:gdLst/>
                <a:ahLst/>
                <a:rect l="0" t="0" r="r" b="b"/>
                <a:pathLst>
                  <a:path fill="none" w="45" h="63">
                    <a:moveTo>
                      <a:pt x="0" y="63"/>
                    </a:moveTo>
                    <a:lnTo>
                      <a:pt x="14" y="54"/>
                    </a:lnTo>
                    <a:lnTo>
                      <a:pt x="30" y="0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65200" y="5064120"/>
                <a:ext cx="14760" cy="24120"/>
              </a:xfrm>
              <a:custGeom>
                <a:avLst/>
                <a:gdLst/>
                <a:ahLst/>
                <a:rect l="0" t="0" r="r" b="b"/>
                <a:pathLst>
                  <a:path fill="none" w="41" h="67">
                    <a:moveTo>
                      <a:pt x="0" y="67"/>
                    </a:moveTo>
                    <a:lnTo>
                      <a:pt x="14" y="57"/>
                    </a:lnTo>
                    <a:lnTo>
                      <a:pt x="23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69880" y="5060880"/>
                <a:ext cx="18000" cy="24120"/>
              </a:xfrm>
              <a:custGeom>
                <a:avLst/>
                <a:gdLst/>
                <a:ahLst/>
                <a:rect l="0" t="0" r="r" b="b"/>
                <a:pathLst>
                  <a:path fill="none" w="50" h="67">
                    <a:moveTo>
                      <a:pt x="0" y="67"/>
                    </a:moveTo>
                    <a:lnTo>
                      <a:pt x="20" y="62"/>
                    </a:lnTo>
                    <a:lnTo>
                      <a:pt x="30" y="0"/>
                    </a:lnTo>
                    <a:lnTo>
                      <a:pt x="5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76360" y="5057640"/>
                <a:ext cx="19440" cy="25920"/>
              </a:xfrm>
              <a:custGeom>
                <a:avLst/>
                <a:gdLst/>
                <a:ahLst/>
                <a:rect l="0" t="0" r="r" b="b"/>
                <a:pathLst>
                  <a:path fill="none" w="54" h="72">
                    <a:moveTo>
                      <a:pt x="0" y="72"/>
                    </a:moveTo>
                    <a:lnTo>
                      <a:pt x="20" y="63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5720" y="5052960"/>
                <a:ext cx="19440" cy="27360"/>
              </a:xfrm>
              <a:custGeom>
                <a:avLst/>
                <a:gdLst/>
                <a:ahLst/>
                <a:rect l="0" t="0" r="r" b="b"/>
                <a:pathLst>
                  <a:path fill="none" w="54" h="76">
                    <a:moveTo>
                      <a:pt x="0" y="76"/>
                    </a:moveTo>
                    <a:lnTo>
                      <a:pt x="20" y="66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93640" y="5049720"/>
                <a:ext cx="41760" cy="25920"/>
              </a:xfrm>
              <a:custGeom>
                <a:avLst/>
                <a:gdLst/>
                <a:ahLst/>
                <a:rect l="0" t="0" r="r" b="b"/>
                <a:pathLst>
                  <a:path fill="none" w="116" h="72">
                    <a:moveTo>
                      <a:pt x="0" y="72"/>
                    </a:moveTo>
                    <a:lnTo>
                      <a:pt x="19" y="63"/>
                    </a:lnTo>
                    <a:lnTo>
                      <a:pt x="28" y="0"/>
                    </a:lnTo>
                    <a:lnTo>
                      <a:pt x="63" y="0"/>
                    </a:lnTo>
                    <a:lnTo>
                      <a:pt x="11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38280" y="5060880"/>
                <a:ext cx="63720" cy="5040"/>
              </a:xfrm>
              <a:custGeom>
                <a:avLst/>
                <a:gdLst/>
                <a:ahLst/>
                <a:rect l="0" t="0" r="r" b="b"/>
                <a:pathLst>
                  <a:path fill="none" w="177" h="14">
                    <a:moveTo>
                      <a:pt x="0" y="14"/>
                    </a:moveTo>
                    <a:lnTo>
                      <a:pt x="42" y="9"/>
                    </a:lnTo>
                    <a:lnTo>
                      <a:pt x="177" y="0"/>
                    </a:lnTo>
                    <a:lnTo>
                      <a:pt x="177" y="4"/>
                    </a:lnTo>
                    <a:lnTo>
                      <a:pt x="134" y="9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06320" y="5057640"/>
                <a:ext cx="46440" cy="20880"/>
              </a:xfrm>
              <a:custGeom>
                <a:avLst/>
                <a:gdLst/>
                <a:ahLst/>
                <a:rect l="0" t="0" r="r" b="b"/>
                <a:pathLst>
                  <a:path fill="none" w="129" h="58">
                    <a:moveTo>
                      <a:pt x="0" y="9"/>
                    </a:moveTo>
                    <a:lnTo>
                      <a:pt x="34" y="9"/>
                    </a:lnTo>
                    <a:lnTo>
                      <a:pt x="38" y="0"/>
                    </a:lnTo>
                    <a:lnTo>
                      <a:pt x="62" y="9"/>
                    </a:lnTo>
                    <a:lnTo>
                      <a:pt x="90" y="14"/>
                    </a:lnTo>
                    <a:lnTo>
                      <a:pt x="67" y="14"/>
                    </a:lnTo>
                    <a:lnTo>
                      <a:pt x="101" y="28"/>
                    </a:lnTo>
                    <a:lnTo>
                      <a:pt x="101" y="19"/>
                    </a:lnTo>
                    <a:lnTo>
                      <a:pt x="125" y="34"/>
                    </a:lnTo>
                    <a:lnTo>
                      <a:pt x="129" y="39"/>
                    </a:lnTo>
                    <a:lnTo>
                      <a:pt x="125" y="43"/>
                    </a:lnTo>
                    <a:lnTo>
                      <a:pt x="120" y="48"/>
                    </a:lnTo>
                    <a:lnTo>
                      <a:pt x="101" y="53"/>
                    </a:lnTo>
                    <a:lnTo>
                      <a:pt x="62" y="58"/>
                    </a:lnTo>
                    <a:lnTo>
                      <a:pt x="23" y="58"/>
                    </a:lnTo>
                    <a:lnTo>
                      <a:pt x="23" y="39"/>
                    </a:lnTo>
                    <a:lnTo>
                      <a:pt x="18" y="34"/>
                    </a:lnTo>
                    <a:lnTo>
                      <a:pt x="4" y="23"/>
                    </a:lnTo>
                    <a:lnTo>
                      <a:pt x="4" y="19"/>
                    </a:lnTo>
                    <a:lnTo>
                      <a:pt x="34" y="28"/>
                    </a:lnTo>
                    <a:lnTo>
                      <a:pt x="43" y="34"/>
                    </a:lnTo>
                    <a:lnTo>
                      <a:pt x="53" y="43"/>
                    </a:lnTo>
                    <a:lnTo>
                      <a:pt x="86" y="43"/>
                    </a:lnTo>
                    <a:lnTo>
                      <a:pt x="90" y="28"/>
                    </a:lnTo>
                    <a:lnTo>
                      <a:pt x="57" y="19"/>
                    </a:lnTo>
                    <a:lnTo>
                      <a:pt x="38" y="14"/>
                    </a:lnTo>
                    <a:lnTo>
                      <a:pt x="0" y="14"/>
                    </a:lnTo>
                    <a:lnTo>
                      <a:pt x="0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08120" y="507528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73200" y="5072040"/>
                <a:ext cx="30600" cy="8280"/>
              </a:xfrm>
              <a:custGeom>
                <a:avLst/>
                <a:gdLst/>
                <a:ahLst/>
                <a:rect l="0" t="0" r="r" b="b"/>
                <a:pathLst>
                  <a:path fill="none" w="85" h="23">
                    <a:moveTo>
                      <a:pt x="85" y="12"/>
                    </a:moveTo>
                    <a:lnTo>
                      <a:pt x="67" y="17"/>
                    </a:lnTo>
                    <a:lnTo>
                      <a:pt x="38" y="12"/>
                    </a:lnTo>
                    <a:lnTo>
                      <a:pt x="13" y="5"/>
                    </a:lnTo>
                    <a:lnTo>
                      <a:pt x="24" y="0"/>
                    </a:lnTo>
                    <a:lnTo>
                      <a:pt x="0" y="5"/>
                    </a:lnTo>
                    <a:lnTo>
                      <a:pt x="24" y="12"/>
                    </a:lnTo>
                    <a:lnTo>
                      <a:pt x="52" y="23"/>
                    </a:lnTo>
                    <a:lnTo>
                      <a:pt x="85" y="23"/>
                    </a:lnTo>
                    <a:lnTo>
                      <a:pt x="85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06320" y="5056200"/>
                <a:ext cx="14760" cy="1800"/>
              </a:xfrm>
              <a:custGeom>
                <a:avLst/>
                <a:gdLst/>
                <a:ahLst/>
                <a:rect l="0" t="0" r="r" b="b"/>
                <a:pathLst>
                  <a:path fill="none" w="41" h="5">
                    <a:moveTo>
                      <a:pt x="41" y="5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0" y="5"/>
                    </a:lnTo>
                    <a:lnTo>
                      <a:pt x="41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4360" y="5056200"/>
                <a:ext cx="19440" cy="6840"/>
              </a:xfrm>
              <a:custGeom>
                <a:avLst/>
                <a:gdLst/>
                <a:ahLst/>
                <a:rect l="0" t="0" r="r" b="b"/>
                <a:pathLst>
                  <a:path fill="none" w="54" h="19">
                    <a:moveTo>
                      <a:pt x="54" y="0"/>
                    </a:moveTo>
                    <a:lnTo>
                      <a:pt x="45" y="4"/>
                    </a:lnTo>
                    <a:lnTo>
                      <a:pt x="0" y="19"/>
                    </a:lnTo>
                    <a:lnTo>
                      <a:pt x="45" y="19"/>
                    </a:lnTo>
                    <a:lnTo>
                      <a:pt x="39" y="9"/>
                    </a:lnTo>
                    <a:lnTo>
                      <a:pt x="54" y="4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114560" y="504684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fill="none" w="102" h="116">
                    <a:moveTo>
                      <a:pt x="97" y="0"/>
                    </a:moveTo>
                    <a:lnTo>
                      <a:pt x="97" y="58"/>
                    </a:lnTo>
                    <a:lnTo>
                      <a:pt x="0" y="58"/>
                    </a:lnTo>
                    <a:lnTo>
                      <a:pt x="74" y="116"/>
                    </a:lnTo>
                    <a:lnTo>
                      <a:pt x="97" y="116"/>
                    </a:lnTo>
                    <a:lnTo>
                      <a:pt x="27" y="63"/>
                    </a:lnTo>
                    <a:lnTo>
                      <a:pt x="97" y="63"/>
                    </a:lnTo>
                    <a:lnTo>
                      <a:pt x="97" y="107"/>
                    </a:lnTo>
                    <a:lnTo>
                      <a:pt x="102" y="72"/>
                    </a:lnTo>
                    <a:lnTo>
                      <a:pt x="102" y="0"/>
                    </a:lnTo>
                    <a:lnTo>
                      <a:pt x="9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120680" y="5045040"/>
                <a:ext cx="1800" cy="41760"/>
              </a:xfrm>
              <a:custGeom>
                <a:avLst/>
                <a:gdLst/>
                <a:ahLst/>
                <a:rect l="0" t="0" r="r" b="b"/>
                <a:pathLst>
                  <a:path fill="none" w="5" h="116">
                    <a:moveTo>
                      <a:pt x="0" y="116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6"/>
                    </a:lnTo>
                    <a:lnTo>
                      <a:pt x="0" y="11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143000" y="5073480"/>
                <a:ext cx="3600" cy="5040"/>
              </a:xfrm>
              <a:custGeom>
                <a:avLst/>
                <a:gdLst/>
                <a:ahLst/>
                <a:rect l="0" t="0" r="r" b="b"/>
                <a:pathLst>
                  <a:path fill="none" w="10" h="14">
                    <a:moveTo>
                      <a:pt x="0" y="0"/>
                    </a:moveTo>
                    <a:lnTo>
                      <a:pt x="0" y="6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960480" y="5056200"/>
                <a:ext cx="178200" cy="68760"/>
              </a:xfrm>
              <a:custGeom>
                <a:avLst/>
                <a:gdLst/>
                <a:ahLst/>
                <a:rect l="0" t="0" r="r" b="b"/>
                <a:pathLst>
                  <a:path fill="none" w="495" h="191">
                    <a:moveTo>
                      <a:pt x="481" y="0"/>
                    </a:moveTo>
                    <a:lnTo>
                      <a:pt x="491" y="0"/>
                    </a:lnTo>
                    <a:lnTo>
                      <a:pt x="495" y="4"/>
                    </a:lnTo>
                    <a:lnTo>
                      <a:pt x="491" y="14"/>
                    </a:lnTo>
                    <a:lnTo>
                      <a:pt x="0" y="191"/>
                    </a:lnTo>
                    <a:lnTo>
                      <a:pt x="48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582560" y="5056200"/>
                <a:ext cx="28800" cy="11520"/>
              </a:xfrm>
              <a:custGeom>
                <a:avLst/>
                <a:gdLst/>
                <a:ahLst/>
                <a:rect l="0" t="0" r="r" b="b"/>
                <a:pathLst>
                  <a:path fill="none" w="80" h="32">
                    <a:moveTo>
                      <a:pt x="1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80" y="3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68320" y="5043600"/>
                <a:ext cx="33840" cy="20880"/>
              </a:xfrm>
              <a:custGeom>
                <a:avLst/>
                <a:gdLst/>
                <a:ahLst/>
                <a:rect l="0" t="0" r="r" b="b"/>
                <a:pathLst>
                  <a:path fill="none" w="94" h="58">
                    <a:moveTo>
                      <a:pt x="59" y="23"/>
                    </a:moveTo>
                    <a:lnTo>
                      <a:pt x="49" y="4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79" y="58"/>
                    </a:lnTo>
                    <a:lnTo>
                      <a:pt x="69" y="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87400" y="504828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51040" y="5035680"/>
                <a:ext cx="18000" cy="25920"/>
              </a:xfrm>
              <a:custGeom>
                <a:avLst/>
                <a:gdLst/>
                <a:ahLst/>
                <a:rect l="0" t="0" r="r" b="b"/>
                <a:pathLst>
                  <a:path fill="none" w="50" h="72">
                    <a:moveTo>
                      <a:pt x="50" y="33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4" y="63"/>
                    </a:lnTo>
                    <a:lnTo>
                      <a:pt x="0" y="67"/>
                    </a:lnTo>
                    <a:lnTo>
                      <a:pt x="50" y="72"/>
                    </a:lnTo>
                    <a:lnTo>
                      <a:pt x="50" y="3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36640" y="5059440"/>
                <a:ext cx="82800" cy="14760"/>
              </a:xfrm>
              <a:custGeom>
                <a:avLst/>
                <a:gdLst/>
                <a:ahLst/>
                <a:rect l="0" t="0" r="r" b="b"/>
                <a:pathLst>
                  <a:path fill="none" w="230" h="41">
                    <a:moveTo>
                      <a:pt x="23" y="0"/>
                    </a:moveTo>
                    <a:lnTo>
                      <a:pt x="23" y="14"/>
                    </a:lnTo>
                    <a:lnTo>
                      <a:pt x="76" y="8"/>
                    </a:lnTo>
                    <a:lnTo>
                      <a:pt x="85" y="8"/>
                    </a:lnTo>
                    <a:lnTo>
                      <a:pt x="76" y="27"/>
                    </a:lnTo>
                    <a:lnTo>
                      <a:pt x="125" y="27"/>
                    </a:lnTo>
                    <a:lnTo>
                      <a:pt x="125" y="18"/>
                    </a:lnTo>
                    <a:lnTo>
                      <a:pt x="90" y="14"/>
                    </a:lnTo>
                    <a:lnTo>
                      <a:pt x="163" y="14"/>
                    </a:lnTo>
                    <a:lnTo>
                      <a:pt x="211" y="23"/>
                    </a:lnTo>
                    <a:lnTo>
                      <a:pt x="230" y="27"/>
                    </a:lnTo>
                    <a:lnTo>
                      <a:pt x="149" y="41"/>
                    </a:lnTo>
                    <a:lnTo>
                      <a:pt x="95" y="32"/>
                    </a:lnTo>
                    <a:lnTo>
                      <a:pt x="52" y="32"/>
                    </a:lnTo>
                    <a:lnTo>
                      <a:pt x="19" y="27"/>
                    </a:lnTo>
                    <a:lnTo>
                      <a:pt x="9" y="23"/>
                    </a:lnTo>
                    <a:lnTo>
                      <a:pt x="0" y="18"/>
                    </a:lnTo>
                    <a:lnTo>
                      <a:pt x="9" y="14"/>
                    </a:lnTo>
                    <a:lnTo>
                      <a:pt x="14" y="8"/>
                    </a:lnTo>
                    <a:lnTo>
                      <a:pt x="19" y="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905040" y="5037120"/>
                <a:ext cx="35280" cy="22680"/>
              </a:xfrm>
              <a:custGeom>
                <a:avLst/>
                <a:gdLst/>
                <a:ahLst/>
                <a:rect l="0" t="0" r="r" b="b"/>
                <a:pathLst>
                  <a:path fill="none" w="98" h="63">
                    <a:moveTo>
                      <a:pt x="59" y="24"/>
                    </a:moveTo>
                    <a:lnTo>
                      <a:pt x="43" y="4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78" y="63"/>
                    </a:lnTo>
                    <a:lnTo>
                      <a:pt x="73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922320" y="504180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82720" y="5027760"/>
                <a:ext cx="22680" cy="28800"/>
              </a:xfrm>
              <a:custGeom>
                <a:avLst/>
                <a:gdLst/>
                <a:ahLst/>
                <a:rect l="0" t="0" r="r" b="b"/>
                <a:pathLst>
                  <a:path fill="none" w="63" h="80">
                    <a:moveTo>
                      <a:pt x="63" y="34"/>
                    </a:moveTo>
                    <a:lnTo>
                      <a:pt x="34" y="0"/>
                    </a:lnTo>
                    <a:lnTo>
                      <a:pt x="0" y="0"/>
                    </a:lnTo>
                    <a:lnTo>
                      <a:pt x="14" y="70"/>
                    </a:lnTo>
                    <a:lnTo>
                      <a:pt x="0" y="75"/>
                    </a:lnTo>
                    <a:lnTo>
                      <a:pt x="63" y="80"/>
                    </a:lnTo>
                    <a:lnTo>
                      <a:pt x="63" y="3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68320" y="5052960"/>
                <a:ext cx="87840" cy="16200"/>
              </a:xfrm>
              <a:custGeom>
                <a:avLst/>
                <a:gdLst/>
                <a:ahLst/>
                <a:rect l="0" t="0" r="r" b="b"/>
                <a:pathLst>
                  <a:path fill="none" w="244" h="45">
                    <a:moveTo>
                      <a:pt x="28" y="0"/>
                    </a:moveTo>
                    <a:lnTo>
                      <a:pt x="23" y="19"/>
                    </a:lnTo>
                    <a:lnTo>
                      <a:pt x="77" y="9"/>
                    </a:lnTo>
                    <a:lnTo>
                      <a:pt x="91" y="9"/>
                    </a:lnTo>
                    <a:lnTo>
                      <a:pt x="81" y="30"/>
                    </a:lnTo>
                    <a:lnTo>
                      <a:pt x="134" y="30"/>
                    </a:lnTo>
                    <a:lnTo>
                      <a:pt x="134" y="19"/>
                    </a:lnTo>
                    <a:lnTo>
                      <a:pt x="100" y="14"/>
                    </a:lnTo>
                    <a:lnTo>
                      <a:pt x="176" y="14"/>
                    </a:lnTo>
                    <a:lnTo>
                      <a:pt x="225" y="25"/>
                    </a:lnTo>
                    <a:lnTo>
                      <a:pt x="244" y="30"/>
                    </a:lnTo>
                    <a:lnTo>
                      <a:pt x="157" y="45"/>
                    </a:lnTo>
                    <a:lnTo>
                      <a:pt x="100" y="35"/>
                    </a:lnTo>
                    <a:lnTo>
                      <a:pt x="52" y="35"/>
                    </a:lnTo>
                    <a:lnTo>
                      <a:pt x="19" y="30"/>
                    </a:lnTo>
                    <a:lnTo>
                      <a:pt x="9" y="25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4" y="9"/>
                    </a:lnTo>
                    <a:lnTo>
                      <a:pt x="19" y="0"/>
                    </a:lnTo>
                    <a:lnTo>
                      <a:pt x="2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946080" y="5029200"/>
                <a:ext cx="39960" cy="24120"/>
              </a:xfrm>
              <a:custGeom>
                <a:avLst/>
                <a:gdLst/>
                <a:ahLst/>
                <a:rect l="0" t="0" r="r" b="b"/>
                <a:pathLst>
                  <a:path fill="none" w="111" h="67">
                    <a:moveTo>
                      <a:pt x="68" y="23"/>
                    </a:moveTo>
                    <a:lnTo>
                      <a:pt x="52" y="4"/>
                    </a:lnTo>
                    <a:lnTo>
                      <a:pt x="1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92" y="67"/>
                    </a:lnTo>
                    <a:lnTo>
                      <a:pt x="82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968400" y="503568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920880" y="501984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fill="none" w="72" h="85">
                    <a:moveTo>
                      <a:pt x="72" y="38"/>
                    </a:moveTo>
                    <a:lnTo>
                      <a:pt x="43" y="0"/>
                    </a:lnTo>
                    <a:lnTo>
                      <a:pt x="4" y="0"/>
                    </a:lnTo>
                    <a:lnTo>
                      <a:pt x="19" y="76"/>
                    </a:lnTo>
                    <a:lnTo>
                      <a:pt x="0" y="81"/>
                    </a:lnTo>
                    <a:lnTo>
                      <a:pt x="72" y="85"/>
                    </a:lnTo>
                    <a:lnTo>
                      <a:pt x="72" y="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905040" y="5048280"/>
                <a:ext cx="101880" cy="19440"/>
              </a:xfrm>
              <a:custGeom>
                <a:avLst/>
                <a:gdLst/>
                <a:ahLst/>
                <a:rect l="0" t="0" r="r" b="b"/>
                <a:pathLst>
                  <a:path fill="none" w="283" h="54">
                    <a:moveTo>
                      <a:pt x="33" y="0"/>
                    </a:moveTo>
                    <a:lnTo>
                      <a:pt x="28" y="20"/>
                    </a:lnTo>
                    <a:lnTo>
                      <a:pt x="90" y="9"/>
                    </a:lnTo>
                    <a:lnTo>
                      <a:pt x="105" y="9"/>
                    </a:lnTo>
                    <a:lnTo>
                      <a:pt x="90" y="34"/>
                    </a:lnTo>
                    <a:lnTo>
                      <a:pt x="154" y="34"/>
                    </a:lnTo>
                    <a:lnTo>
                      <a:pt x="154" y="20"/>
                    </a:lnTo>
                    <a:lnTo>
                      <a:pt x="114" y="15"/>
                    </a:lnTo>
                    <a:lnTo>
                      <a:pt x="206" y="15"/>
                    </a:lnTo>
                    <a:lnTo>
                      <a:pt x="259" y="25"/>
                    </a:lnTo>
                    <a:lnTo>
                      <a:pt x="283" y="34"/>
                    </a:lnTo>
                    <a:lnTo>
                      <a:pt x="182" y="54"/>
                    </a:lnTo>
                    <a:lnTo>
                      <a:pt x="114" y="39"/>
                    </a:lnTo>
                    <a:lnTo>
                      <a:pt x="62" y="39"/>
                    </a:lnTo>
                    <a:lnTo>
                      <a:pt x="19" y="34"/>
                    </a:lnTo>
                    <a:lnTo>
                      <a:pt x="14" y="29"/>
                    </a:lnTo>
                    <a:lnTo>
                      <a:pt x="0" y="25"/>
                    </a:lnTo>
                    <a:lnTo>
                      <a:pt x="14" y="20"/>
                    </a:lnTo>
                    <a:lnTo>
                      <a:pt x="19" y="9"/>
                    </a:lnTo>
                    <a:lnTo>
                      <a:pt x="23" y="0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995400" y="5021280"/>
                <a:ext cx="44640" cy="27360"/>
              </a:xfrm>
              <a:custGeom>
                <a:avLst/>
                <a:gdLst/>
                <a:ahLst/>
                <a:rect l="0" t="0" r="r" b="b"/>
                <a:pathLst>
                  <a:path fill="none" w="124" h="76">
                    <a:moveTo>
                      <a:pt x="72" y="29"/>
                    </a:moveTo>
                    <a:lnTo>
                      <a:pt x="56" y="4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100" y="76"/>
                    </a:lnTo>
                    <a:lnTo>
                      <a:pt x="91" y="6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019160" y="502596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0" y="0"/>
                    </a:lnTo>
                    <a:lnTo>
                      <a:pt x="5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968400" y="5008680"/>
                <a:ext cx="27360" cy="36720"/>
              </a:xfrm>
              <a:custGeom>
                <a:avLst/>
                <a:gdLst/>
                <a:ahLst/>
                <a:rect l="0" t="0" r="r" b="b"/>
                <a:pathLst>
                  <a:path fill="none" w="76" h="102">
                    <a:moveTo>
                      <a:pt x="76" y="43"/>
                    </a:moveTo>
                    <a:lnTo>
                      <a:pt x="43" y="0"/>
                    </a:lnTo>
                    <a:lnTo>
                      <a:pt x="0" y="0"/>
                    </a:lnTo>
                    <a:lnTo>
                      <a:pt x="18" y="87"/>
                    </a:lnTo>
                    <a:lnTo>
                      <a:pt x="0" y="92"/>
                    </a:lnTo>
                    <a:lnTo>
                      <a:pt x="76" y="102"/>
                    </a:lnTo>
                    <a:lnTo>
                      <a:pt x="7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949320" y="5041800"/>
                <a:ext cx="113040" cy="20880"/>
              </a:xfrm>
              <a:custGeom>
                <a:avLst/>
                <a:gdLst/>
                <a:ahLst/>
                <a:rect l="0" t="0" r="r" b="b"/>
                <a:pathLst>
                  <a:path fill="none" w="314" h="58">
                    <a:moveTo>
                      <a:pt x="33" y="0"/>
                    </a:moveTo>
                    <a:lnTo>
                      <a:pt x="33" y="23"/>
                    </a:lnTo>
                    <a:lnTo>
                      <a:pt x="99" y="9"/>
                    </a:lnTo>
                    <a:lnTo>
                      <a:pt x="118" y="9"/>
                    </a:lnTo>
                    <a:lnTo>
                      <a:pt x="104" y="39"/>
                    </a:lnTo>
                    <a:lnTo>
                      <a:pt x="171" y="39"/>
                    </a:lnTo>
                    <a:lnTo>
                      <a:pt x="171" y="23"/>
                    </a:lnTo>
                    <a:lnTo>
                      <a:pt x="128" y="19"/>
                    </a:lnTo>
                    <a:lnTo>
                      <a:pt x="228" y="19"/>
                    </a:lnTo>
                    <a:lnTo>
                      <a:pt x="290" y="28"/>
                    </a:lnTo>
                    <a:lnTo>
                      <a:pt x="314" y="39"/>
                    </a:lnTo>
                    <a:lnTo>
                      <a:pt x="204" y="58"/>
                    </a:lnTo>
                    <a:lnTo>
                      <a:pt x="132" y="48"/>
                    </a:lnTo>
                    <a:lnTo>
                      <a:pt x="71" y="43"/>
                    </a:lnTo>
                    <a:lnTo>
                      <a:pt x="23" y="39"/>
                    </a:lnTo>
                    <a:lnTo>
                      <a:pt x="14" y="34"/>
                    </a:lnTo>
                    <a:lnTo>
                      <a:pt x="0" y="28"/>
                    </a:lnTo>
                    <a:lnTo>
                      <a:pt x="14" y="23"/>
                    </a:lnTo>
                    <a:lnTo>
                      <a:pt x="18" y="9"/>
                    </a:lnTo>
                    <a:lnTo>
                      <a:pt x="28" y="4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047600" y="5010120"/>
                <a:ext cx="47880" cy="30600"/>
              </a:xfrm>
              <a:custGeom>
                <a:avLst/>
                <a:gdLst/>
                <a:ahLst/>
                <a:rect l="0" t="0" r="r" b="b"/>
                <a:pathLst>
                  <a:path fill="none" w="133" h="85">
                    <a:moveTo>
                      <a:pt x="76" y="35"/>
                    </a:moveTo>
                    <a:lnTo>
                      <a:pt x="61" y="4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4" y="85"/>
                    </a:lnTo>
                    <a:lnTo>
                      <a:pt x="100" y="7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073160" y="501804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27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27" y="14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015920" y="4998960"/>
                <a:ext cx="32040" cy="38520"/>
              </a:xfrm>
              <a:custGeom>
                <a:avLst/>
                <a:gdLst/>
                <a:ahLst/>
                <a:rect l="0" t="0" r="r" b="b"/>
                <a:pathLst>
                  <a:path fill="none" w="89" h="107">
                    <a:moveTo>
                      <a:pt x="89" y="44"/>
                    </a:moveTo>
                    <a:lnTo>
                      <a:pt x="49" y="0"/>
                    </a:lnTo>
                    <a:lnTo>
                      <a:pt x="0" y="0"/>
                    </a:lnTo>
                    <a:lnTo>
                      <a:pt x="24" y="93"/>
                    </a:lnTo>
                    <a:lnTo>
                      <a:pt x="0" y="98"/>
                    </a:lnTo>
                    <a:lnTo>
                      <a:pt x="89" y="107"/>
                    </a:lnTo>
                    <a:lnTo>
                      <a:pt x="89" y="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996840" y="5035680"/>
                <a:ext cx="154440" cy="20880"/>
              </a:xfrm>
              <a:custGeom>
                <a:avLst/>
                <a:gdLst/>
                <a:ahLst/>
                <a:rect l="0" t="0" r="r" b="b"/>
                <a:pathLst>
                  <a:path fill="none" w="429" h="58">
                    <a:moveTo>
                      <a:pt x="38" y="0"/>
                    </a:moveTo>
                    <a:lnTo>
                      <a:pt x="33" y="19"/>
                    </a:lnTo>
                    <a:lnTo>
                      <a:pt x="110" y="9"/>
                    </a:lnTo>
                    <a:lnTo>
                      <a:pt x="129" y="9"/>
                    </a:lnTo>
                    <a:lnTo>
                      <a:pt x="110" y="34"/>
                    </a:lnTo>
                    <a:lnTo>
                      <a:pt x="186" y="34"/>
                    </a:lnTo>
                    <a:lnTo>
                      <a:pt x="186" y="19"/>
                    </a:lnTo>
                    <a:lnTo>
                      <a:pt x="138" y="14"/>
                    </a:lnTo>
                    <a:lnTo>
                      <a:pt x="367" y="4"/>
                    </a:lnTo>
                    <a:lnTo>
                      <a:pt x="429" y="28"/>
                    </a:lnTo>
                    <a:lnTo>
                      <a:pt x="344" y="28"/>
                    </a:lnTo>
                    <a:lnTo>
                      <a:pt x="219" y="58"/>
                    </a:lnTo>
                    <a:lnTo>
                      <a:pt x="143" y="43"/>
                    </a:lnTo>
                    <a:lnTo>
                      <a:pt x="76" y="43"/>
                    </a:lnTo>
                    <a:lnTo>
                      <a:pt x="23" y="34"/>
                    </a:lnTo>
                    <a:lnTo>
                      <a:pt x="14" y="28"/>
                    </a:lnTo>
                    <a:lnTo>
                      <a:pt x="0" y="23"/>
                    </a:lnTo>
                    <a:lnTo>
                      <a:pt x="14" y="19"/>
                    </a:lnTo>
                    <a:lnTo>
                      <a:pt x="19" y="4"/>
                    </a:lnTo>
                    <a:lnTo>
                      <a:pt x="28" y="0"/>
                    </a:lnTo>
                    <a:lnTo>
                      <a:pt x="3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073160" y="4986360"/>
                <a:ext cx="30600" cy="38520"/>
              </a:xfrm>
              <a:custGeom>
                <a:avLst/>
                <a:gdLst/>
                <a:ahLst/>
                <a:rect l="0" t="0" r="r" b="b"/>
                <a:pathLst>
                  <a:path fill="none" w="85" h="107">
                    <a:moveTo>
                      <a:pt x="85" y="107"/>
                    </a:moveTo>
                    <a:lnTo>
                      <a:pt x="0" y="103"/>
                    </a:lnTo>
                    <a:lnTo>
                      <a:pt x="24" y="98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85" y="44"/>
                    </a:lnTo>
                    <a:lnTo>
                      <a:pt x="85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103400" y="4998960"/>
                <a:ext cx="49680" cy="32040"/>
              </a:xfrm>
              <a:custGeom>
                <a:avLst/>
                <a:gdLst/>
                <a:ahLst/>
                <a:rect l="0" t="0" r="r" b="b"/>
                <a:pathLst>
                  <a:path fill="none" w="138" h="89">
                    <a:moveTo>
                      <a:pt x="0" y="79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115" y="89"/>
                    </a:lnTo>
                    <a:lnTo>
                      <a:pt x="0" y="7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143000" y="5022720"/>
                <a:ext cx="149760" cy="18000"/>
              </a:xfrm>
              <a:custGeom>
                <a:avLst/>
                <a:gdLst/>
                <a:ahLst/>
                <a:rect l="0" t="0" r="r" b="b"/>
                <a:pathLst>
                  <a:path fill="none" w="416" h="50">
                    <a:moveTo>
                      <a:pt x="0" y="20"/>
                    </a:moveTo>
                    <a:lnTo>
                      <a:pt x="286" y="0"/>
                    </a:lnTo>
                    <a:lnTo>
                      <a:pt x="167" y="15"/>
                    </a:lnTo>
                    <a:lnTo>
                      <a:pt x="167" y="25"/>
                    </a:lnTo>
                    <a:lnTo>
                      <a:pt x="392" y="20"/>
                    </a:lnTo>
                    <a:lnTo>
                      <a:pt x="416" y="15"/>
                    </a:lnTo>
                    <a:lnTo>
                      <a:pt x="392" y="20"/>
                    </a:lnTo>
                    <a:lnTo>
                      <a:pt x="330" y="30"/>
                    </a:lnTo>
                    <a:lnTo>
                      <a:pt x="282" y="30"/>
                    </a:lnTo>
                    <a:lnTo>
                      <a:pt x="277" y="40"/>
                    </a:lnTo>
                    <a:lnTo>
                      <a:pt x="272" y="30"/>
                    </a:lnTo>
                    <a:lnTo>
                      <a:pt x="243" y="30"/>
                    </a:lnTo>
                    <a:lnTo>
                      <a:pt x="243" y="40"/>
                    </a:lnTo>
                    <a:lnTo>
                      <a:pt x="229" y="30"/>
                    </a:lnTo>
                    <a:lnTo>
                      <a:pt x="95" y="30"/>
                    </a:lnTo>
                    <a:lnTo>
                      <a:pt x="110" y="50"/>
                    </a:lnTo>
                    <a:lnTo>
                      <a:pt x="80" y="34"/>
                    </a:lnTo>
                    <a:lnTo>
                      <a:pt x="42" y="30"/>
                    </a:lnTo>
                    <a:lnTo>
                      <a:pt x="4" y="25"/>
                    </a:lnTo>
                    <a:lnTo>
                      <a:pt x="0" y="2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103400" y="5027760"/>
                <a:ext cx="78120" cy="18000"/>
              </a:xfrm>
              <a:custGeom>
                <a:avLst/>
                <a:gdLst/>
                <a:ahLst/>
                <a:rect l="0" t="0" r="r" b="b"/>
                <a:pathLst>
                  <a:path fill="none" w="217" h="50">
                    <a:moveTo>
                      <a:pt x="145" y="9"/>
                    </a:moveTo>
                    <a:lnTo>
                      <a:pt x="121" y="15"/>
                    </a:lnTo>
                    <a:lnTo>
                      <a:pt x="173" y="40"/>
                    </a:lnTo>
                    <a:lnTo>
                      <a:pt x="217" y="34"/>
                    </a:lnTo>
                    <a:lnTo>
                      <a:pt x="178" y="45"/>
                    </a:lnTo>
                    <a:lnTo>
                      <a:pt x="140" y="50"/>
                    </a:lnTo>
                    <a:lnTo>
                      <a:pt x="81" y="45"/>
                    </a:lnTo>
                    <a:lnTo>
                      <a:pt x="38" y="34"/>
                    </a:lnTo>
                    <a:lnTo>
                      <a:pt x="52" y="30"/>
                    </a:lnTo>
                    <a:lnTo>
                      <a:pt x="52" y="9"/>
                    </a:lnTo>
                    <a:lnTo>
                      <a:pt x="0" y="0"/>
                    </a:lnTo>
                    <a:lnTo>
                      <a:pt x="145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128600" y="5005440"/>
                <a:ext cx="30600" cy="9720"/>
              </a:xfrm>
              <a:custGeom>
                <a:avLst/>
                <a:gdLst/>
                <a:ahLst/>
                <a:rect l="0" t="0" r="r" b="b"/>
                <a:pathLst>
                  <a:path fill="none" w="85" h="27">
                    <a:moveTo>
                      <a:pt x="0" y="0"/>
                    </a:moveTo>
                    <a:lnTo>
                      <a:pt x="85" y="0"/>
                    </a:lnTo>
                    <a:lnTo>
                      <a:pt x="40" y="5"/>
                    </a:lnTo>
                    <a:lnTo>
                      <a:pt x="50" y="22"/>
                    </a:lnTo>
                    <a:lnTo>
                      <a:pt x="14" y="2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136520" y="5010120"/>
                <a:ext cx="143280" cy="14760"/>
              </a:xfrm>
              <a:custGeom>
                <a:avLst/>
                <a:gdLst/>
                <a:ahLst/>
                <a:rect l="0" t="0" r="r" b="b"/>
                <a:pathLst>
                  <a:path fill="none" w="398" h="41">
                    <a:moveTo>
                      <a:pt x="0" y="15"/>
                    </a:moveTo>
                    <a:lnTo>
                      <a:pt x="47" y="9"/>
                    </a:lnTo>
                    <a:lnTo>
                      <a:pt x="114" y="4"/>
                    </a:lnTo>
                    <a:lnTo>
                      <a:pt x="175" y="4"/>
                    </a:lnTo>
                    <a:lnTo>
                      <a:pt x="275" y="15"/>
                    </a:lnTo>
                    <a:lnTo>
                      <a:pt x="275" y="0"/>
                    </a:lnTo>
                    <a:lnTo>
                      <a:pt x="318" y="20"/>
                    </a:lnTo>
                    <a:lnTo>
                      <a:pt x="398" y="41"/>
                    </a:lnTo>
                    <a:lnTo>
                      <a:pt x="275" y="25"/>
                    </a:lnTo>
                    <a:lnTo>
                      <a:pt x="246" y="20"/>
                    </a:lnTo>
                    <a:lnTo>
                      <a:pt x="208" y="36"/>
                    </a:lnTo>
                    <a:lnTo>
                      <a:pt x="9" y="36"/>
                    </a:lnTo>
                    <a:lnTo>
                      <a:pt x="0" y="1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50840" y="5022720"/>
                <a:ext cx="74880" cy="18000"/>
              </a:xfrm>
              <a:custGeom>
                <a:avLst/>
                <a:gdLst/>
                <a:ahLst/>
                <a:rect l="0" t="0" r="r" b="b"/>
                <a:pathLst>
                  <a:path fill="none" w="208" h="50">
                    <a:moveTo>
                      <a:pt x="118" y="9"/>
                    </a:moveTo>
                    <a:lnTo>
                      <a:pt x="42" y="2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9"/>
                    </a:lnTo>
                    <a:lnTo>
                      <a:pt x="18" y="20"/>
                    </a:lnTo>
                    <a:lnTo>
                      <a:pt x="0" y="30"/>
                    </a:lnTo>
                    <a:lnTo>
                      <a:pt x="18" y="34"/>
                    </a:lnTo>
                    <a:lnTo>
                      <a:pt x="28" y="40"/>
                    </a:lnTo>
                    <a:lnTo>
                      <a:pt x="128" y="50"/>
                    </a:lnTo>
                    <a:lnTo>
                      <a:pt x="170" y="50"/>
                    </a:lnTo>
                    <a:lnTo>
                      <a:pt x="208" y="40"/>
                    </a:lnTo>
                    <a:lnTo>
                      <a:pt x="123" y="40"/>
                    </a:lnTo>
                    <a:lnTo>
                      <a:pt x="137" y="9"/>
                    </a:lnTo>
                    <a:lnTo>
                      <a:pt x="118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92320" y="5006880"/>
                <a:ext cx="44640" cy="3600"/>
              </a:xfrm>
              <a:custGeom>
                <a:avLst/>
                <a:gdLst/>
                <a:ahLst/>
                <a:rect l="0" t="0" r="r" b="b"/>
                <a:pathLst>
                  <a:path fill="none" w="124" h="10">
                    <a:moveTo>
                      <a:pt x="0" y="10"/>
                    </a:moveTo>
                    <a:lnTo>
                      <a:pt x="56" y="0"/>
                    </a:lnTo>
                    <a:lnTo>
                      <a:pt x="95" y="0"/>
                    </a:lnTo>
                    <a:lnTo>
                      <a:pt x="124" y="10"/>
                    </a:lnTo>
                    <a:lnTo>
                      <a:pt x="91" y="0"/>
                    </a:lnTo>
                    <a:lnTo>
                      <a:pt x="67" y="0"/>
                    </a:lnTo>
                    <a:lnTo>
                      <a:pt x="0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254240" y="504360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14" y="9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14" y="14"/>
                    </a:lnTo>
                    <a:lnTo>
                      <a:pt x="14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52440" y="503064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fill="none" w="14" h="27">
                    <a:moveTo>
                      <a:pt x="14" y="27"/>
                    </a:moveTo>
                    <a:lnTo>
                      <a:pt x="9" y="27"/>
                    </a:lnTo>
                    <a:lnTo>
                      <a:pt x="9" y="22"/>
                    </a:lnTo>
                    <a:lnTo>
                      <a:pt x="9" y="16"/>
                    </a:lnTo>
                    <a:lnTo>
                      <a:pt x="0" y="5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366920" y="5170320"/>
                <a:ext cx="246600" cy="11520"/>
              </a:xfrm>
              <a:custGeom>
                <a:avLst/>
                <a:gdLst/>
                <a:ahLst/>
                <a:rect l="0" t="0" r="r" b="b"/>
                <a:pathLst>
                  <a:path fill="none" w="685" h="32">
                    <a:moveTo>
                      <a:pt x="23" y="0"/>
                    </a:moveTo>
                    <a:lnTo>
                      <a:pt x="685" y="0"/>
                    </a:lnTo>
                    <a:lnTo>
                      <a:pt x="524" y="14"/>
                    </a:lnTo>
                    <a:lnTo>
                      <a:pt x="309" y="14"/>
                    </a:lnTo>
                    <a:lnTo>
                      <a:pt x="252" y="4"/>
                    </a:lnTo>
                    <a:lnTo>
                      <a:pt x="195" y="14"/>
                    </a:lnTo>
                    <a:lnTo>
                      <a:pt x="113" y="14"/>
                    </a:lnTo>
                    <a:lnTo>
                      <a:pt x="75" y="23"/>
                    </a:lnTo>
                    <a:lnTo>
                      <a:pt x="304" y="23"/>
                    </a:lnTo>
                    <a:lnTo>
                      <a:pt x="394" y="32"/>
                    </a:lnTo>
                    <a:lnTo>
                      <a:pt x="0" y="32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162080" y="5129280"/>
                <a:ext cx="11520" cy="11520"/>
              </a:xfrm>
              <a:custGeom>
                <a:avLst/>
                <a:gdLst/>
                <a:ahLst/>
                <a:rect l="0" t="0" r="r" b="b"/>
                <a:pathLst>
                  <a:path fill="none" w="32" h="32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23" y="23"/>
                    </a:lnTo>
                    <a:lnTo>
                      <a:pt x="23" y="28"/>
                    </a:lnTo>
                    <a:lnTo>
                      <a:pt x="18" y="32"/>
                    </a:lnTo>
                    <a:lnTo>
                      <a:pt x="32" y="28"/>
                    </a:lnTo>
                    <a:lnTo>
                      <a:pt x="32" y="14"/>
                    </a:lnTo>
                    <a:lnTo>
                      <a:pt x="28" y="4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162080" y="513540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98720" y="5129280"/>
                <a:ext cx="9720" cy="9720"/>
              </a:xfrm>
              <a:custGeom>
                <a:avLst/>
                <a:gdLst/>
                <a:ahLst/>
                <a:rect l="0" t="0" r="r" b="b"/>
                <a:pathLst>
                  <a:path fill="none" w="27" h="27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18" y="18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27" y="14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98720" y="513540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54080" y="5129280"/>
                <a:ext cx="8280" cy="9720"/>
              </a:xfrm>
              <a:custGeom>
                <a:avLst/>
                <a:gdLst/>
                <a:ahLst/>
                <a:rect l="0" t="0" r="r" b="b"/>
                <a:pathLst>
                  <a:path fill="none" w="23" h="27">
                    <a:moveTo>
                      <a:pt x="0" y="4"/>
                    </a:moveTo>
                    <a:lnTo>
                      <a:pt x="4" y="4"/>
                    </a:lnTo>
                    <a:lnTo>
                      <a:pt x="14" y="14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4" y="27"/>
                    </a:lnTo>
                    <a:lnTo>
                      <a:pt x="23" y="23"/>
                    </a:lnTo>
                    <a:lnTo>
                      <a:pt x="23" y="14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54080" y="5133960"/>
                <a:ext cx="1800" cy="3600"/>
              </a:xfrm>
              <a:custGeom>
                <a:avLst/>
                <a:gdLst/>
                <a:ahLst/>
                <a:rect l="0" t="0" r="r" b="b"/>
                <a:pathLst>
                  <a:path fill="none" w="5" h="10">
                    <a:moveTo>
                      <a:pt x="0" y="5"/>
                    </a:moveTo>
                    <a:lnTo>
                      <a:pt x="5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171440" y="5167440"/>
                <a:ext cx="47880" cy="46440"/>
              </a:xfrm>
              <a:custGeom>
                <a:avLst/>
                <a:gdLst/>
                <a:ahLst/>
                <a:rect l="0" t="0" r="r" b="b"/>
                <a:pathLst>
                  <a:path fill="none" w="133" h="129">
                    <a:moveTo>
                      <a:pt x="56" y="0"/>
                    </a:moveTo>
                    <a:lnTo>
                      <a:pt x="0" y="53"/>
                    </a:lnTo>
                    <a:lnTo>
                      <a:pt x="4" y="57"/>
                    </a:lnTo>
                    <a:lnTo>
                      <a:pt x="28" y="43"/>
                    </a:lnTo>
                    <a:lnTo>
                      <a:pt x="42" y="48"/>
                    </a:lnTo>
                    <a:lnTo>
                      <a:pt x="56" y="57"/>
                    </a:lnTo>
                    <a:lnTo>
                      <a:pt x="47" y="67"/>
                    </a:lnTo>
                    <a:lnTo>
                      <a:pt x="47" y="76"/>
                    </a:lnTo>
                    <a:lnTo>
                      <a:pt x="56" y="76"/>
                    </a:lnTo>
                    <a:lnTo>
                      <a:pt x="51" y="81"/>
                    </a:lnTo>
                    <a:lnTo>
                      <a:pt x="56" y="86"/>
                    </a:lnTo>
                    <a:lnTo>
                      <a:pt x="76" y="81"/>
                    </a:lnTo>
                    <a:lnTo>
                      <a:pt x="90" y="101"/>
                    </a:lnTo>
                    <a:lnTo>
                      <a:pt x="76" y="125"/>
                    </a:lnTo>
                    <a:lnTo>
                      <a:pt x="81" y="129"/>
                    </a:lnTo>
                    <a:lnTo>
                      <a:pt x="133" y="86"/>
                    </a:lnTo>
                    <a:lnTo>
                      <a:pt x="114" y="62"/>
                    </a:lnTo>
                    <a:lnTo>
                      <a:pt x="109" y="43"/>
                    </a:lnTo>
                    <a:lnTo>
                      <a:pt x="109" y="57"/>
                    </a:lnTo>
                    <a:lnTo>
                      <a:pt x="104" y="62"/>
                    </a:lnTo>
                    <a:lnTo>
                      <a:pt x="100" y="43"/>
                    </a:lnTo>
                    <a:lnTo>
                      <a:pt x="86" y="28"/>
                    </a:lnTo>
                    <a:lnTo>
                      <a:pt x="76" y="23"/>
                    </a:lnTo>
                    <a:lnTo>
                      <a:pt x="71" y="28"/>
                    </a:lnTo>
                    <a:lnTo>
                      <a:pt x="67" y="34"/>
                    </a:lnTo>
                    <a:lnTo>
                      <a:pt x="71" y="43"/>
                    </a:lnTo>
                    <a:lnTo>
                      <a:pt x="76" y="57"/>
                    </a:lnTo>
                    <a:lnTo>
                      <a:pt x="61" y="43"/>
                    </a:lnTo>
                    <a:lnTo>
                      <a:pt x="56" y="28"/>
                    </a:lnTo>
                    <a:lnTo>
                      <a:pt x="61" y="18"/>
                    </a:lnTo>
                    <a:lnTo>
                      <a:pt x="81" y="14"/>
                    </a:lnTo>
                    <a:lnTo>
                      <a:pt x="100" y="23"/>
                    </a:lnTo>
                    <a:lnTo>
                      <a:pt x="81" y="9"/>
                    </a:lnTo>
                    <a:lnTo>
                      <a:pt x="71" y="9"/>
                    </a:lnTo>
                    <a:lnTo>
                      <a:pt x="5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55760" y="5175360"/>
                <a:ext cx="44640" cy="36720"/>
              </a:xfrm>
              <a:custGeom>
                <a:avLst/>
                <a:gdLst/>
                <a:ahLst/>
                <a:rect l="0" t="0" r="r" b="b"/>
                <a:pathLst>
                  <a:path fill="none" w="124" h="102">
                    <a:moveTo>
                      <a:pt x="33" y="102"/>
                    </a:moveTo>
                    <a:lnTo>
                      <a:pt x="37" y="97"/>
                    </a:lnTo>
                    <a:lnTo>
                      <a:pt x="33" y="68"/>
                    </a:lnTo>
                    <a:lnTo>
                      <a:pt x="42" y="63"/>
                    </a:lnTo>
                    <a:lnTo>
                      <a:pt x="61" y="78"/>
                    </a:lnTo>
                    <a:lnTo>
                      <a:pt x="67" y="78"/>
                    </a:lnTo>
                    <a:lnTo>
                      <a:pt x="67" y="63"/>
                    </a:lnTo>
                    <a:lnTo>
                      <a:pt x="76" y="73"/>
                    </a:lnTo>
                    <a:lnTo>
                      <a:pt x="81" y="68"/>
                    </a:lnTo>
                    <a:lnTo>
                      <a:pt x="81" y="58"/>
                    </a:lnTo>
                    <a:lnTo>
                      <a:pt x="95" y="43"/>
                    </a:lnTo>
                    <a:lnTo>
                      <a:pt x="119" y="73"/>
                    </a:lnTo>
                    <a:lnTo>
                      <a:pt x="124" y="63"/>
                    </a:lnTo>
                    <a:lnTo>
                      <a:pt x="86" y="4"/>
                    </a:lnTo>
                    <a:lnTo>
                      <a:pt x="18" y="0"/>
                    </a:lnTo>
                    <a:lnTo>
                      <a:pt x="0" y="48"/>
                    </a:lnTo>
                    <a:lnTo>
                      <a:pt x="33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68440" y="5035680"/>
                <a:ext cx="97200" cy="28800"/>
              </a:xfrm>
              <a:custGeom>
                <a:avLst/>
                <a:gdLst/>
                <a:ahLst/>
                <a:rect l="0" t="0" r="r" b="b"/>
                <a:pathLst>
                  <a:path fill="none" w="270" h="80">
                    <a:moveTo>
                      <a:pt x="233" y="80"/>
                    </a:moveTo>
                    <a:lnTo>
                      <a:pt x="233" y="43"/>
                    </a:lnTo>
                    <a:lnTo>
                      <a:pt x="166" y="43"/>
                    </a:lnTo>
                    <a:lnTo>
                      <a:pt x="147" y="52"/>
                    </a:lnTo>
                    <a:lnTo>
                      <a:pt x="133" y="43"/>
                    </a:lnTo>
                    <a:lnTo>
                      <a:pt x="100" y="43"/>
                    </a:lnTo>
                    <a:lnTo>
                      <a:pt x="95" y="52"/>
                    </a:lnTo>
                    <a:lnTo>
                      <a:pt x="76" y="52"/>
                    </a:lnTo>
                    <a:lnTo>
                      <a:pt x="71" y="61"/>
                    </a:lnTo>
                    <a:lnTo>
                      <a:pt x="51" y="61"/>
                    </a:lnTo>
                    <a:lnTo>
                      <a:pt x="51" y="71"/>
                    </a:lnTo>
                    <a:lnTo>
                      <a:pt x="37" y="7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14" y="28"/>
                    </a:lnTo>
                    <a:lnTo>
                      <a:pt x="37" y="28"/>
                    </a:lnTo>
                    <a:lnTo>
                      <a:pt x="37" y="14"/>
                    </a:lnTo>
                    <a:lnTo>
                      <a:pt x="4" y="14"/>
                    </a:lnTo>
                    <a:lnTo>
                      <a:pt x="18" y="0"/>
                    </a:lnTo>
                    <a:lnTo>
                      <a:pt x="270" y="0"/>
                    </a:lnTo>
                    <a:lnTo>
                      <a:pt x="237" y="14"/>
                    </a:lnTo>
                    <a:lnTo>
                      <a:pt x="237" y="80"/>
                    </a:lnTo>
                    <a:lnTo>
                      <a:pt x="233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5280" y="502272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5560" y="50227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44400" y="50227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35040" y="50227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79600" y="5022720"/>
                <a:ext cx="52920" cy="5040"/>
              </a:xfrm>
              <a:custGeom>
                <a:avLst/>
                <a:gdLst/>
                <a:ahLst/>
                <a:rect l="0" t="0" r="r" b="b"/>
                <a:pathLst>
                  <a:path fill="none" w="147" h="14">
                    <a:moveTo>
                      <a:pt x="147" y="0"/>
                    </a:moveTo>
                    <a:lnTo>
                      <a:pt x="147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5280" y="500868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19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55560" y="500868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4400" y="500868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23" y="0"/>
                    </a:moveTo>
                    <a:lnTo>
                      <a:pt x="23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40" y="500868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9600" y="5008680"/>
                <a:ext cx="52920" cy="6840"/>
              </a:xfrm>
              <a:custGeom>
                <a:avLst/>
                <a:gdLst/>
                <a:ahLst/>
                <a:rect l="0" t="0" r="r" b="b"/>
                <a:pathLst>
                  <a:path fill="none" w="147" h="19">
                    <a:moveTo>
                      <a:pt x="147" y="0"/>
                    </a:moveTo>
                    <a:lnTo>
                      <a:pt x="147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65280" y="499572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55560" y="49957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4400" y="49957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35040" y="49957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47560" y="4995720"/>
                <a:ext cx="84600" cy="41760"/>
              </a:xfrm>
              <a:custGeom>
                <a:avLst/>
                <a:gdLst/>
                <a:ahLst/>
                <a:rect l="0" t="0" r="r" b="b"/>
                <a:pathLst>
                  <a:path fill="none" w="235" h="116">
                    <a:moveTo>
                      <a:pt x="235" y="14"/>
                    </a:moveTo>
                    <a:lnTo>
                      <a:pt x="105" y="14"/>
                    </a:lnTo>
                    <a:lnTo>
                      <a:pt x="105" y="48"/>
                    </a:lnTo>
                    <a:lnTo>
                      <a:pt x="91" y="48"/>
                    </a:lnTo>
                    <a:lnTo>
                      <a:pt x="91" y="111"/>
                    </a:lnTo>
                    <a:lnTo>
                      <a:pt x="77" y="111"/>
                    </a:lnTo>
                    <a:lnTo>
                      <a:pt x="77" y="97"/>
                    </a:lnTo>
                    <a:lnTo>
                      <a:pt x="63" y="116"/>
                    </a:lnTo>
                    <a:lnTo>
                      <a:pt x="14" y="92"/>
                    </a:lnTo>
                    <a:lnTo>
                      <a:pt x="23" y="92"/>
                    </a:lnTo>
                    <a:lnTo>
                      <a:pt x="23" y="77"/>
                    </a:lnTo>
                    <a:lnTo>
                      <a:pt x="19" y="77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34"/>
                    </a:lnTo>
                    <a:lnTo>
                      <a:pt x="23" y="34"/>
                    </a:lnTo>
                    <a:lnTo>
                      <a:pt x="23" y="23"/>
                    </a:lnTo>
                    <a:lnTo>
                      <a:pt x="67" y="23"/>
                    </a:lnTo>
                    <a:lnTo>
                      <a:pt x="67" y="0"/>
                    </a:lnTo>
                    <a:lnTo>
                      <a:pt x="235" y="0"/>
                    </a:lnTo>
                    <a:lnTo>
                      <a:pt x="235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79600" y="4995720"/>
                <a:ext cx="86040" cy="39960"/>
              </a:xfrm>
              <a:custGeom>
                <a:avLst/>
                <a:gdLst/>
                <a:ahLst/>
                <a:rect l="0" t="0" r="r" b="b"/>
                <a:pathLst>
                  <a:path fill="none" w="239" h="111">
                    <a:moveTo>
                      <a:pt x="239" y="111"/>
                    </a:move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79600" y="50007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79600" y="500868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79600" y="501480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79600" y="502272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79600" y="50277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95440" y="4959360"/>
                <a:ext cx="36720" cy="36720"/>
              </a:xfrm>
              <a:custGeom>
                <a:avLst/>
                <a:gdLst/>
                <a:ahLst/>
                <a:rect l="0" t="0" r="r" b="b"/>
                <a:pathLst>
                  <a:path fill="none" w="102" h="102">
                    <a:moveTo>
                      <a:pt x="102" y="83"/>
                    </a:moveTo>
                    <a:lnTo>
                      <a:pt x="54" y="83"/>
                    </a:lnTo>
                    <a:lnTo>
                      <a:pt x="54" y="102"/>
                    </a:lnTo>
                    <a:lnTo>
                      <a:pt x="14" y="102"/>
                    </a:lnTo>
                    <a:lnTo>
                      <a:pt x="14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83"/>
                    </a:lnTo>
                    <a:lnTo>
                      <a:pt x="102" y="8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06600" y="4959360"/>
                <a:ext cx="1800" cy="28800"/>
              </a:xfrm>
              <a:custGeom>
                <a:avLst/>
                <a:gdLst/>
                <a:ahLst/>
                <a:rect l="0" t="0" r="r" b="b"/>
                <a:pathLst>
                  <a:path fill="none" w="5" h="80">
                    <a:moveTo>
                      <a:pt x="0" y="8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0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11280" y="4968720"/>
                <a:ext cx="1800" cy="19440"/>
              </a:xfrm>
              <a:custGeom>
                <a:avLst/>
                <a:gdLst/>
                <a:ahLst/>
                <a:rect l="0" t="0" r="r" b="b"/>
                <a:pathLst>
                  <a:path fill="none" w="5" h="54">
                    <a:moveTo>
                      <a:pt x="0" y="5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54"/>
                    </a:lnTo>
                    <a:lnTo>
                      <a:pt x="0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95440" y="495936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fill="none" w="102" h="80">
                    <a:moveTo>
                      <a:pt x="102" y="80"/>
                    </a:moveTo>
                    <a:lnTo>
                      <a:pt x="10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 flipV="1">
                <a:off x="619200" y="4987800"/>
                <a:ext cx="936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66640" y="4991040"/>
                <a:ext cx="100440" cy="5040"/>
              </a:xfrm>
              <a:custGeom>
                <a:avLst/>
                <a:gdLst/>
                <a:ahLst/>
                <a:rect l="0" t="0" r="r" b="b"/>
                <a:pathLst>
                  <a:path fill="none" w="279" h="14">
                    <a:moveTo>
                      <a:pt x="279" y="14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66640" y="499284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98320" y="495288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0" y="1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08040" y="4952880"/>
                <a:ext cx="20880" cy="5040"/>
              </a:xfrm>
              <a:custGeom>
                <a:avLst/>
                <a:gdLst/>
                <a:ahLst/>
                <a:rect l="0" t="0" r="r" b="b"/>
                <a:pathLst>
                  <a:path fill="none" w="58" h="14">
                    <a:moveTo>
                      <a:pt x="0" y="14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4"/>
                    </a:lnTo>
                    <a:lnTo>
                      <a:pt x="48" y="4"/>
                    </a:lnTo>
                    <a:lnTo>
                      <a:pt x="48" y="14"/>
                    </a:lnTo>
                    <a:lnTo>
                      <a:pt x="48" y="4"/>
                    </a:lnTo>
                    <a:lnTo>
                      <a:pt x="9" y="4"/>
                    </a:lnTo>
                    <a:lnTo>
                      <a:pt x="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01560" y="4950000"/>
                <a:ext cx="1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06600" y="4869000"/>
                <a:ext cx="1800" cy="84600"/>
              </a:xfrm>
              <a:custGeom>
                <a:avLst/>
                <a:gdLst/>
                <a:ahLst/>
                <a:rect l="0" t="0" r="r" b="b"/>
                <a:pathLst>
                  <a:path fill="none" w="5" h="235">
                    <a:moveTo>
                      <a:pt x="0" y="235"/>
                    </a:moveTo>
                    <a:lnTo>
                      <a:pt x="5" y="0"/>
                    </a:lnTo>
                    <a:lnTo>
                      <a:pt x="5" y="235"/>
                    </a:lnTo>
                    <a:lnTo>
                      <a:pt x="0" y="23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01560" y="493380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19"/>
                    </a:moveTo>
                    <a:lnTo>
                      <a:pt x="0" y="1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65280" y="49910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57360" y="49910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50880" y="49910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42960" y="49910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36480" y="4991040"/>
                <a:ext cx="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28560" y="499104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20640" y="499104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93640" y="499104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577800" y="4991040"/>
                <a:ext cx="180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71680" y="499104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87520" y="497988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82480" y="497988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5720" y="498636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fill="none" w="5" h="27">
                    <a:moveTo>
                      <a:pt x="0" y="0"/>
                    </a:moveTo>
                    <a:lnTo>
                      <a:pt x="0" y="27"/>
                    </a:lnTo>
                    <a:lnTo>
                      <a:pt x="5" y="27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57360" y="4984920"/>
                <a:ext cx="8280" cy="1800"/>
              </a:xfrm>
              <a:custGeom>
                <a:avLst/>
                <a:gdLst/>
                <a:ahLst/>
                <a:rect l="0" t="0" r="r" b="b"/>
                <a:pathLst>
                  <a:path fill="none" w="23" h="5">
                    <a:moveTo>
                      <a:pt x="23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47560" y="5033880"/>
                <a:ext cx="20880" cy="11520"/>
              </a:xfrm>
              <a:custGeom>
                <a:avLst/>
                <a:gdLst/>
                <a:ahLst/>
                <a:rect l="0" t="0" r="r" b="b"/>
                <a:pathLst>
                  <a:path fill="none" w="58" h="32">
                    <a:moveTo>
                      <a:pt x="0" y="0"/>
                    </a:moveTo>
                    <a:lnTo>
                      <a:pt x="0" y="18"/>
                    </a:lnTo>
                    <a:lnTo>
                      <a:pt x="4" y="23"/>
                    </a:lnTo>
                    <a:lnTo>
                      <a:pt x="14" y="14"/>
                    </a:lnTo>
                    <a:lnTo>
                      <a:pt x="58" y="32"/>
                    </a:lnTo>
                    <a:lnTo>
                      <a:pt x="58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55480" y="5048280"/>
                <a:ext cx="12960" cy="22680"/>
              </a:xfrm>
              <a:custGeom>
                <a:avLst/>
                <a:gdLst/>
                <a:ahLst/>
                <a:rect l="0" t="0" r="r" b="b"/>
                <a:pathLst>
                  <a:path fill="none" w="36" h="63">
                    <a:moveTo>
                      <a:pt x="0" y="0"/>
                    </a:moveTo>
                    <a:lnTo>
                      <a:pt x="36" y="0"/>
                    </a:lnTo>
                    <a:lnTo>
                      <a:pt x="36" y="54"/>
                    </a:lnTo>
                    <a:lnTo>
                      <a:pt x="31" y="58"/>
                    </a:lnTo>
                    <a:lnTo>
                      <a:pt x="21" y="58"/>
                    </a:lnTo>
                    <a:lnTo>
                      <a:pt x="15" y="63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555480" y="5013360"/>
                <a:ext cx="7920" cy="3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68440" y="5035680"/>
                <a:ext cx="3600" cy="12960"/>
              </a:xfrm>
              <a:custGeom>
                <a:avLst/>
                <a:gdLst/>
                <a:ahLst/>
                <a:rect l="0" t="0" r="r" b="b"/>
                <a:pathLst>
                  <a:path fill="none" w="10" h="36">
                    <a:moveTo>
                      <a:pt x="0" y="36"/>
                    </a:moveTo>
                    <a:lnTo>
                      <a:pt x="0" y="27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30280" y="507348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fill="none" w="72" h="14">
                    <a:moveTo>
                      <a:pt x="67" y="1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67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44680" y="5059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39640" y="5059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42880" y="5065560"/>
                <a:ext cx="1800" cy="8280"/>
              </a:xfrm>
              <a:custGeom>
                <a:avLst/>
                <a:gdLst/>
                <a:ahLst/>
                <a:rect l="0" t="0" r="r" b="b"/>
                <a:pathLst>
                  <a:path fill="none" w="5" h="23">
                    <a:moveTo>
                      <a:pt x="0" y="0"/>
                    </a:move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20560" y="5057640"/>
                <a:ext cx="35280" cy="14760"/>
              </a:xfrm>
              <a:custGeom>
                <a:avLst/>
                <a:gdLst/>
                <a:ahLst/>
                <a:rect l="0" t="0" r="r" b="b"/>
                <a:pathLst>
                  <a:path fill="none" w="98" h="41">
                    <a:moveTo>
                      <a:pt x="98" y="41"/>
                    </a:move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30280" y="505764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fill="none" w="72" h="27">
                    <a:moveTo>
                      <a:pt x="72" y="0"/>
                    </a:moveTo>
                    <a:lnTo>
                      <a:pt x="43" y="27"/>
                    </a:lnTo>
                    <a:lnTo>
                      <a:pt x="29" y="0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20560" y="5057640"/>
                <a:ext cx="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9120" y="506736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19120" y="507060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30280" y="508464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fill="none" w="63" h="27">
                    <a:moveTo>
                      <a:pt x="63" y="0"/>
                    </a:moveTo>
                    <a:lnTo>
                      <a:pt x="0" y="27"/>
                    </a:lnTo>
                    <a:lnTo>
                      <a:pt x="63" y="4"/>
                    </a:lnTo>
                    <a:lnTo>
                      <a:pt x="6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39640" y="5075280"/>
                <a:ext cx="12960" cy="32040"/>
              </a:xfrm>
              <a:custGeom>
                <a:avLst/>
                <a:gdLst/>
                <a:ahLst/>
                <a:rect l="0" t="0" r="r" b="b"/>
                <a:pathLst>
                  <a:path fill="none" w="36" h="89">
                    <a:moveTo>
                      <a:pt x="36" y="79"/>
                    </a:moveTo>
                    <a:lnTo>
                      <a:pt x="0" y="0"/>
                    </a:lnTo>
                    <a:lnTo>
                      <a:pt x="23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55480" y="49975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0" y="0"/>
                    </a:moveTo>
                    <a:lnTo>
                      <a:pt x="0" y="14"/>
                    </a:lnTo>
                    <a:lnTo>
                      <a:pt x="23" y="14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52600" y="4984920"/>
                <a:ext cx="12960" cy="8280"/>
              </a:xfrm>
              <a:custGeom>
                <a:avLst/>
                <a:gdLst/>
                <a:ahLst/>
                <a:rect l="0" t="0" r="r" b="b"/>
                <a:pathLst>
                  <a:path fill="none" w="36" h="23">
                    <a:moveTo>
                      <a:pt x="0" y="12"/>
                    </a:moveTo>
                    <a:lnTo>
                      <a:pt x="36" y="0"/>
                    </a:lnTo>
                    <a:lnTo>
                      <a:pt x="36" y="5"/>
                    </a:lnTo>
                    <a:lnTo>
                      <a:pt x="36" y="17"/>
                    </a:lnTo>
                    <a:lnTo>
                      <a:pt x="3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552600" y="4987800"/>
                <a:ext cx="1260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54040" y="4987800"/>
                <a:ext cx="0" cy="4680"/>
              </a:xfrm>
              <a:custGeom>
                <a:avLst/>
                <a:gdLst/>
                <a:ahLst/>
                <a:rect l="0" t="0" r="r" b="b"/>
                <a:pathLst>
                  <a:path fill="none" w="0" h="13">
                    <a:moveTo>
                      <a:pt x="0" y="0"/>
                    </a:moveTo>
                    <a:lnTo>
                      <a:pt x="0" y="6"/>
                    </a:lnTo>
                    <a:lnTo>
                      <a:pt x="0" y="1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55480" y="498636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57280" y="498636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60520" y="498636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61960" y="498636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0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5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60520" y="499428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52600" y="4921200"/>
                <a:ext cx="127440" cy="6840"/>
              </a:xfrm>
              <a:custGeom>
                <a:avLst/>
                <a:gdLst/>
                <a:ahLst/>
                <a:rect l="0" t="0" r="r" b="b"/>
                <a:pathLst>
                  <a:path fill="none" w="354" h="19">
                    <a:moveTo>
                      <a:pt x="0" y="6"/>
                    </a:moveTo>
                    <a:lnTo>
                      <a:pt x="153" y="0"/>
                    </a:lnTo>
                    <a:lnTo>
                      <a:pt x="354" y="6"/>
                    </a:lnTo>
                    <a:lnTo>
                      <a:pt x="177" y="6"/>
                    </a:lnTo>
                    <a:lnTo>
                      <a:pt x="153" y="19"/>
                    </a:lnTo>
                    <a:lnTo>
                      <a:pt x="139" y="6"/>
                    </a:lnTo>
                    <a:lnTo>
                      <a:pt x="0" y="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52600" y="489096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fill="none" w="296" h="14">
                    <a:moveTo>
                      <a:pt x="0" y="4"/>
                    </a:moveTo>
                    <a:lnTo>
                      <a:pt x="153" y="0"/>
                    </a:lnTo>
                    <a:lnTo>
                      <a:pt x="296" y="4"/>
                    </a:lnTo>
                    <a:lnTo>
                      <a:pt x="172" y="9"/>
                    </a:lnTo>
                    <a:lnTo>
                      <a:pt x="153" y="14"/>
                    </a:lnTo>
                    <a:lnTo>
                      <a:pt x="138" y="9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85720" y="4915080"/>
                <a:ext cx="38520" cy="1800"/>
              </a:xfrm>
              <a:custGeom>
                <a:avLst/>
                <a:gdLst/>
                <a:ahLst/>
                <a:rect l="0" t="0" r="r" b="b"/>
                <a:pathLst>
                  <a:path fill="none" w="107" h="5">
                    <a:moveTo>
                      <a:pt x="0" y="0"/>
                    </a:moveTo>
                    <a:lnTo>
                      <a:pt x="60" y="0"/>
                    </a:lnTo>
                    <a:lnTo>
                      <a:pt x="107" y="0"/>
                    </a:lnTo>
                    <a:lnTo>
                      <a:pt x="6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585720" y="4869000"/>
                <a:ext cx="22320" cy="46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04800" y="486900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9" y="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9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800" y="486900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12" y="67"/>
                    </a:moveTo>
                    <a:lnTo>
                      <a:pt x="12" y="1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9" y="9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12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8560" y="486900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9" y="67"/>
                    </a:moveTo>
                    <a:lnTo>
                      <a:pt x="9" y="14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5" y="9"/>
                    </a:lnTo>
                    <a:lnTo>
                      <a:pt x="15" y="4"/>
                    </a:lnTo>
                    <a:lnTo>
                      <a:pt x="15" y="9"/>
                    </a:lnTo>
                    <a:lnTo>
                      <a:pt x="19" y="14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9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82480" y="4892760"/>
                <a:ext cx="49680" cy="19440"/>
              </a:xfrm>
              <a:custGeom>
                <a:avLst/>
                <a:gdLst/>
                <a:ahLst/>
                <a:rect l="0" t="0" r="r" b="b"/>
                <a:pathLst>
                  <a:path fill="none" w="138" h="54">
                    <a:moveTo>
                      <a:pt x="138" y="0"/>
                    </a:moveTo>
                    <a:lnTo>
                      <a:pt x="71" y="5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614520" y="4824360"/>
                <a:ext cx="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60520" y="4902120"/>
                <a:ext cx="0" cy="19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66640" y="491328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8160" y="4898880"/>
                <a:ext cx="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46200" y="491328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52600" y="4924440"/>
                <a:ext cx="1908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631800" y="4924440"/>
                <a:ext cx="475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30360" y="4924440"/>
                <a:ext cx="4284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71680" y="4902120"/>
                <a:ext cx="19440" cy="9720"/>
              </a:xfrm>
              <a:custGeom>
                <a:avLst/>
                <a:gdLst/>
                <a:ahLst/>
                <a:rect l="0" t="0" r="r" b="b"/>
                <a:pathLst>
                  <a:path fill="none" w="54" h="27">
                    <a:moveTo>
                      <a:pt x="45" y="27"/>
                    </a:moveTo>
                    <a:lnTo>
                      <a:pt x="54" y="0"/>
                    </a:lnTo>
                    <a:lnTo>
                      <a:pt x="39" y="0"/>
                    </a:lnTo>
                    <a:lnTo>
                      <a:pt x="29" y="4"/>
                    </a:lnTo>
                    <a:lnTo>
                      <a:pt x="20" y="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20" y="27"/>
                    </a:lnTo>
                    <a:lnTo>
                      <a:pt x="4" y="23"/>
                    </a:lnTo>
                    <a:lnTo>
                      <a:pt x="0" y="18"/>
                    </a:lnTo>
                    <a:lnTo>
                      <a:pt x="4" y="0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29" y="14"/>
                    </a:lnTo>
                    <a:lnTo>
                      <a:pt x="45" y="14"/>
                    </a:lnTo>
                    <a:lnTo>
                      <a:pt x="45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41440" y="492768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37" y="4"/>
                    </a:moveTo>
                    <a:lnTo>
                      <a:pt x="27" y="4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8" y="9"/>
                    </a:lnTo>
                    <a:lnTo>
                      <a:pt x="4" y="9"/>
                    </a:lnTo>
                    <a:lnTo>
                      <a:pt x="23" y="4"/>
                    </a:lnTo>
                    <a:lnTo>
                      <a:pt x="27" y="19"/>
                    </a:lnTo>
                    <a:lnTo>
                      <a:pt x="41" y="15"/>
                    </a:lnTo>
                    <a:lnTo>
                      <a:pt x="37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47560" y="4941720"/>
                <a:ext cx="12960" cy="11520"/>
              </a:xfrm>
              <a:custGeom>
                <a:avLst/>
                <a:gdLst/>
                <a:ahLst/>
                <a:rect l="0" t="0" r="r" b="b"/>
                <a:pathLst>
                  <a:path fill="none" w="36" h="32">
                    <a:moveTo>
                      <a:pt x="31" y="0"/>
                    </a:moveTo>
                    <a:lnTo>
                      <a:pt x="15" y="0"/>
                    </a:lnTo>
                    <a:lnTo>
                      <a:pt x="15" y="11"/>
                    </a:lnTo>
                    <a:lnTo>
                      <a:pt x="0" y="16"/>
                    </a:lnTo>
                    <a:lnTo>
                      <a:pt x="5" y="21"/>
                    </a:lnTo>
                    <a:lnTo>
                      <a:pt x="5" y="32"/>
                    </a:lnTo>
                    <a:lnTo>
                      <a:pt x="15" y="21"/>
                    </a:lnTo>
                    <a:lnTo>
                      <a:pt x="15" y="16"/>
                    </a:lnTo>
                    <a:lnTo>
                      <a:pt x="36" y="11"/>
                    </a:lnTo>
                    <a:lnTo>
                      <a:pt x="15" y="11"/>
                    </a:lnTo>
                    <a:lnTo>
                      <a:pt x="15" y="5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50800" y="495612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21" y="4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16" y="9"/>
                    </a:lnTo>
                    <a:lnTo>
                      <a:pt x="5" y="9"/>
                    </a:lnTo>
                    <a:lnTo>
                      <a:pt x="16" y="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52600" y="4965840"/>
                <a:ext cx="12960" cy="9720"/>
              </a:xfrm>
              <a:custGeom>
                <a:avLst/>
                <a:gdLst/>
                <a:ahLst/>
                <a:rect l="0" t="0" r="r" b="b"/>
                <a:pathLst>
                  <a:path fill="none" w="36" h="27">
                    <a:moveTo>
                      <a:pt x="31" y="0"/>
                    </a:moveTo>
                    <a:lnTo>
                      <a:pt x="15" y="10"/>
                    </a:lnTo>
                    <a:lnTo>
                      <a:pt x="0" y="16"/>
                    </a:lnTo>
                    <a:lnTo>
                      <a:pt x="5" y="27"/>
                    </a:lnTo>
                    <a:lnTo>
                      <a:pt x="21" y="22"/>
                    </a:lnTo>
                    <a:lnTo>
                      <a:pt x="26" y="16"/>
                    </a:lnTo>
                    <a:lnTo>
                      <a:pt x="36" y="16"/>
                    </a:lnTo>
                    <a:lnTo>
                      <a:pt x="21" y="16"/>
                    </a:lnTo>
                    <a:lnTo>
                      <a:pt x="21" y="10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82480" y="491004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5"/>
                    </a:moveTo>
                    <a:lnTo>
                      <a:pt x="9" y="0"/>
                    </a:lnTo>
                    <a:lnTo>
                      <a:pt x="14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65200" y="493092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9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9" y="19"/>
                    </a:lnTo>
                    <a:lnTo>
                      <a:pt x="19" y="15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52320" y="493236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27" y="0"/>
                    </a:lnTo>
                    <a:lnTo>
                      <a:pt x="23" y="9"/>
                    </a:lnTo>
                    <a:lnTo>
                      <a:pt x="14" y="9"/>
                    </a:lnTo>
                    <a:lnTo>
                      <a:pt x="0" y="14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7" y="9"/>
                    </a:lnTo>
                    <a:lnTo>
                      <a:pt x="32" y="14"/>
                    </a:lnTo>
                    <a:lnTo>
                      <a:pt x="27" y="4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55560" y="4941720"/>
                <a:ext cx="9720" cy="6840"/>
              </a:xfrm>
              <a:custGeom>
                <a:avLst/>
                <a:gdLst/>
                <a:ahLst/>
                <a:rect l="0" t="0" r="r" b="b"/>
                <a:pathLst>
                  <a:path fill="none" w="27" h="19">
                    <a:moveTo>
                      <a:pt x="27" y="0"/>
                    </a:moveTo>
                    <a:lnTo>
                      <a:pt x="14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8" y="19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42960" y="495000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30" y="0"/>
                    </a:lnTo>
                    <a:lnTo>
                      <a:pt x="25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20" y="14"/>
                    </a:lnTo>
                    <a:lnTo>
                      <a:pt x="25" y="14"/>
                    </a:lnTo>
                    <a:lnTo>
                      <a:pt x="30" y="14"/>
                    </a:lnTo>
                    <a:lnTo>
                      <a:pt x="25" y="9"/>
                    </a:lnTo>
                    <a:lnTo>
                      <a:pt x="30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41520" y="4956120"/>
                <a:ext cx="16200" cy="5040"/>
              </a:xfrm>
              <a:custGeom>
                <a:avLst/>
                <a:gdLst/>
                <a:ahLst/>
                <a:rect l="0" t="0" r="r" b="b"/>
                <a:pathLst>
                  <a:path fill="none" w="45" h="14">
                    <a:moveTo>
                      <a:pt x="45" y="0"/>
                    </a:moveTo>
                    <a:lnTo>
                      <a:pt x="30" y="0"/>
                    </a:lnTo>
                    <a:lnTo>
                      <a:pt x="25" y="4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5" y="9"/>
                    </a:lnTo>
                    <a:lnTo>
                      <a:pt x="35" y="14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35040" y="496260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41" y="0"/>
                    </a:moveTo>
                    <a:lnTo>
                      <a:pt x="30" y="0"/>
                    </a:lnTo>
                    <a:lnTo>
                      <a:pt x="25" y="6"/>
                    </a:lnTo>
                    <a:lnTo>
                      <a:pt x="0" y="12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25" y="19"/>
                    </a:lnTo>
                    <a:lnTo>
                      <a:pt x="30" y="6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38280" y="49705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14" y="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5" name="" descr=""/>
            <p:cNvPicPr/>
            <p:nvPr/>
          </p:nvPicPr>
          <p:blipFill>
            <a:blip r:embed="rId9"/>
            <a:stretch/>
          </p:blipFill>
          <p:spPr>
            <a:xfrm>
              <a:off x="469800" y="4815000"/>
              <a:ext cx="109872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6" name=""/>
          <p:cNvSpPr/>
          <p:nvPr/>
        </p:nvSpPr>
        <p:spPr>
          <a:xfrm flipH="1" flipV="1">
            <a:off x="5424480" y="1339920"/>
            <a:ext cx="4680" cy="107316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413320" y="5445000"/>
            <a:ext cx="0" cy="10638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906800" y="2527200"/>
            <a:ext cx="500040" cy="2789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4313160" y="3673440"/>
            <a:ext cx="172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 &amp;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7358040" y="3606840"/>
            <a:ext cx="1312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Makes GBS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116080" y="3416400"/>
            <a:ext cx="4750200" cy="2972160"/>
          </a:xfrm>
          <a:custGeom>
            <a:avLst/>
            <a:gdLst/>
            <a:ahLst/>
            <a:rect l="0" t="0" r="r" b="b"/>
            <a:pathLst>
              <a:path fill="none" w="13195" h="8256">
                <a:moveTo>
                  <a:pt x="0" y="8256"/>
                </a:moveTo>
                <a:lnTo>
                  <a:pt x="13195" y="8256"/>
                </a:lnTo>
                <a:lnTo>
                  <a:pt x="6597" y="0"/>
                </a:lnTo>
                <a:lnTo>
                  <a:pt x="0" y="8256"/>
                </a:lnTo>
              </a:path>
            </a:pathLst>
          </a:custGeom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19080" y="3998880"/>
            <a:ext cx="2949480" cy="2395800"/>
            <a:chOff x="19080" y="3998880"/>
            <a:chExt cx="2949480" cy="2395800"/>
          </a:xfrm>
        </p:grpSpPr>
        <p:sp>
          <p:nvSpPr>
            <p:cNvPr id="1534" name=""/>
            <p:cNvSpPr/>
            <p:nvPr/>
          </p:nvSpPr>
          <p:spPr>
            <a:xfrm>
              <a:off x="874800" y="5186520"/>
              <a:ext cx="1692360" cy="4014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73040" y="6053040"/>
              <a:ext cx="1798560" cy="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952640" y="4275000"/>
              <a:ext cx="1015920" cy="9525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96920" y="3998880"/>
              <a:ext cx="2181600" cy="2395800"/>
            </a:xfrm>
            <a:custGeom>
              <a:avLst/>
              <a:gdLst/>
              <a:ahLst/>
              <a:rect l="0" t="0" r="r" b="b"/>
              <a:pathLst>
                <a:path fill="none" w="6060" h="6655">
                  <a:moveTo>
                    <a:pt x="0" y="6655"/>
                  </a:moveTo>
                  <a:lnTo>
                    <a:pt x="0" y="6655"/>
                  </a:lnTo>
                  <a:cubicBezTo>
                    <a:pt x="1064" y="6655"/>
                    <a:pt x="2109" y="6347"/>
                    <a:pt x="3030" y="5763"/>
                  </a:cubicBezTo>
                  <a:cubicBezTo>
                    <a:pt x="3951" y="5179"/>
                    <a:pt x="4716" y="4339"/>
                    <a:pt x="5248" y="3327"/>
                  </a:cubicBezTo>
                  <a:cubicBezTo>
                    <a:pt x="5780" y="2316"/>
                    <a:pt x="6060" y="1168"/>
                    <a:pt x="6060" y="0"/>
                  </a:cubicBezTo>
                </a:path>
              </a:pathLst>
            </a:custGeom>
            <a:ln w="38160">
              <a:solidFill>
                <a:srgbClr val="00ae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 txBox="1"/>
            <p:nvPr/>
          </p:nvSpPr>
          <p:spPr>
            <a:xfrm>
              <a:off x="19080" y="452592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  <a:ea typeface="ARIAL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5979960" y="3876840"/>
            <a:ext cx="3132360" cy="2395800"/>
            <a:chOff x="5979960" y="3876840"/>
            <a:chExt cx="3132360" cy="2395800"/>
          </a:xfrm>
        </p:grpSpPr>
        <p:sp>
          <p:nvSpPr>
            <p:cNvPr id="1540" name=""/>
            <p:cNvSpPr/>
            <p:nvPr/>
          </p:nvSpPr>
          <p:spPr>
            <a:xfrm flipH="1">
              <a:off x="6235560" y="5059440"/>
              <a:ext cx="1692360" cy="4014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6721560" y="5931000"/>
              <a:ext cx="1798560" cy="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5979960" y="4127400"/>
              <a:ext cx="1016280" cy="9525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00680" y="3876840"/>
              <a:ext cx="2181600" cy="2395800"/>
            </a:xfrm>
            <a:custGeom>
              <a:avLst/>
              <a:gdLst/>
              <a:ahLst/>
              <a:rect l="0" t="0" r="r" b="b"/>
              <a:pathLst>
                <a:path fill="none" w="6060" h="6655">
                  <a:moveTo>
                    <a:pt x="0" y="0"/>
                  </a:moveTo>
                  <a:lnTo>
                    <a:pt x="0" y="0"/>
                  </a:lnTo>
                  <a:cubicBezTo>
                    <a:pt x="0" y="1168"/>
                    <a:pt x="280" y="2316"/>
                    <a:pt x="812" y="3328"/>
                  </a:cubicBezTo>
                  <a:cubicBezTo>
                    <a:pt x="1344" y="4339"/>
                    <a:pt x="2109" y="5179"/>
                    <a:pt x="3030" y="5763"/>
                  </a:cubicBezTo>
                  <a:cubicBezTo>
                    <a:pt x="3951" y="6347"/>
                    <a:pt x="4996" y="6655"/>
                    <a:pt x="6060" y="6655"/>
                  </a:cubicBezTo>
                </a:path>
              </a:pathLst>
            </a:custGeom>
            <a:ln w="38160">
              <a:solidFill>
                <a:srgbClr val="00ae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 txBox="1"/>
            <p:nvPr/>
          </p:nvSpPr>
          <p:spPr>
            <a:xfrm>
              <a:off x="8369280" y="422604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  <a:ea typeface="ARIAL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"/>
          <p:cNvSpPr txBox="1"/>
          <p:nvPr/>
        </p:nvSpPr>
        <p:spPr>
          <a:xfrm>
            <a:off x="114480" y="1579680"/>
            <a:ext cx="90169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ormation Managem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ke GBS an Information Transpor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3200400" y="510552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3362400" y="5272200"/>
            <a:ext cx="245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4511520" y="35053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591000" y="4476600"/>
            <a:ext cx="934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508640" y="4492800"/>
            <a:ext cx="934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Phased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2" name="" descr=""/>
          <p:cNvPicPr/>
          <p:nvPr/>
        </p:nvPicPr>
        <p:blipFill>
          <a:blip r:embed="rId1"/>
          <a:stretch/>
        </p:blipFill>
        <p:spPr>
          <a:xfrm>
            <a:off x="749160" y="1420920"/>
            <a:ext cx="7632720" cy="440676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/>
          <p:nvPr/>
        </p:nvSpPr>
        <p:spPr>
          <a:xfrm>
            <a:off x="2971800" y="185436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69880" y="130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Industry Da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5720" y="1149480"/>
            <a:ext cx="807732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900 - Wel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T Dou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915 - JPO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DR Ay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930 - System and Acquisition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C Ho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10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70000"/>
              </a:lnSpc>
              <a:spcBef>
                <a:spcPts val="479"/>
              </a:spcBef>
              <a:tabLst>
                <a:tab algn="l" pos="3151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20 - On-Going Related Activ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C Ho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 - System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C Ho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00 - Broadcast Mgt Seg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C Tro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30 - Terminal Seg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C Ludw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00 - Summ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DR Ayo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15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tabLst>
                <a:tab algn="l" pos="3551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0 - Questions/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695160" y="144360"/>
            <a:ext cx="703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Elements: Phase 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BS Test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308240" y="2063880"/>
            <a:ext cx="1231920" cy="2070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374920" y="3645000"/>
            <a:ext cx="4229280" cy="495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477120" y="2108160"/>
            <a:ext cx="1206360" cy="2031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4470480"/>
            <a:ext cx="7759800" cy="0"/>
          </a:xfrm>
          <a:prstGeom prst="line">
            <a:avLst/>
          </a:prstGeom>
          <a:ln w="2030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693720" y="4826160"/>
            <a:ext cx="77090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1324080" y="2098800"/>
            <a:ext cx="1200240" cy="1406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568600" y="2098800"/>
            <a:ext cx="1200240" cy="1406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ject Termi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3813120" y="2098800"/>
            <a:ext cx="1200240" cy="1406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u Commer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6480000" y="2098800"/>
            <a:ext cx="1200240" cy="1406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7737480" y="2098800"/>
            <a:ext cx="1200240" cy="1406520"/>
          </a:xfrm>
          <a:prstGeom prst="rect">
            <a:avLst/>
          </a:prstGeom>
          <a:solidFill>
            <a:srgbClr val="fafd00"/>
          </a:solidFill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919191"/>
                </a:solidFill>
                <a:latin typeface="ARIAL"/>
                <a:ea typeface="ARIAL"/>
              </a:rPr>
              <a:t>End U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6524640" y="5227560"/>
            <a:ext cx="903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RO/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6159600" y="5537160"/>
            <a:ext cx="368280" cy="0"/>
          </a:xfrm>
          <a:prstGeom prst="line">
            <a:avLst/>
          </a:prstGeom>
          <a:ln w="203040">
            <a:solidFill>
              <a:srgbClr val="71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6159600" y="5715000"/>
            <a:ext cx="368280" cy="0"/>
          </a:xfrm>
          <a:prstGeom prst="line">
            <a:avLst/>
          </a:prstGeom>
          <a:ln w="2030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6159600" y="5905440"/>
            <a:ext cx="368280" cy="0"/>
          </a:xfrm>
          <a:prstGeom prst="line">
            <a:avLst/>
          </a:prstGeom>
          <a:ln w="20304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6159600" y="6095880"/>
            <a:ext cx="368280" cy="0"/>
          </a:xfrm>
          <a:prstGeom prst="line">
            <a:avLst/>
          </a:prstGeom>
          <a:ln w="2030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880240" y="5334120"/>
            <a:ext cx="180324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6159600" y="6273720"/>
            <a:ext cx="368280" cy="0"/>
          </a:xfrm>
          <a:prstGeom prst="line">
            <a:avLst/>
          </a:prstGeom>
          <a:ln w="203040">
            <a:solidFill>
              <a:srgbClr val="0020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66600" y="2098800"/>
            <a:ext cx="1200240" cy="1406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919191"/>
                </a:solidFill>
                <a:latin typeface="ARIAL"/>
                <a:ea typeface="ARIAL"/>
              </a:rPr>
              <a:t>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314360" y="1562040"/>
            <a:ext cx="6381720" cy="3808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1825560" y="1639800"/>
            <a:ext cx="523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verall Systems Engineering &amp; Integration and Program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067360" y="2095560"/>
            <a:ext cx="1352520" cy="14097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076720" y="2114640"/>
            <a:ext cx="1362600" cy="1391040"/>
          </a:xfrm>
          <a:custGeom>
            <a:avLst/>
            <a:gdLst/>
            <a:ahLst/>
            <a:rect l="0" t="0" r="r" b="b"/>
            <a:pathLst>
              <a:path w="3785" h="3864">
                <a:moveTo>
                  <a:pt x="0" y="3864"/>
                </a:moveTo>
                <a:lnTo>
                  <a:pt x="3785" y="3864"/>
                </a:lnTo>
                <a:lnTo>
                  <a:pt x="0" y="0"/>
                </a:lnTo>
                <a:lnTo>
                  <a:pt x="0" y="3864"/>
                </a:lnTo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5108400" y="2144880"/>
            <a:ext cx="1300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 Termi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5203800" y="2563920"/>
            <a:ext cx="5857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575160" y="4135320"/>
            <a:ext cx="131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rt P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3718080" y="4516560"/>
            <a:ext cx="1065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r P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415800" y="5364000"/>
            <a:ext cx="3919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u-based demo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ase I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703440" y="1347840"/>
            <a:ext cx="7772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BS CONOPS Testb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transponders on lease - Ku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ercial equipment being evaluated i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SPACECOM Regulating the GBS CONOPS Testbed System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A/ARPA/OSO/ESC Providing Bosnia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PA Developing Battlefield Information Dissemination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my and AF Investigating Transportable Injection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overall acquisition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ure “Lessons Learned” from on-going activities get to Phase II/III Acq Mg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monstr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" descr=""/>
          <p:cNvPicPr/>
          <p:nvPr/>
        </p:nvPicPr>
        <p:blipFill>
          <a:blip r:embed="rId1"/>
          <a:stretch/>
        </p:blipFill>
        <p:spPr>
          <a:xfrm>
            <a:off x="430200" y="1204920"/>
            <a:ext cx="83566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 txBox="1"/>
          <p:nvPr/>
        </p:nvSpPr>
        <p:spPr>
          <a:xfrm>
            <a:off x="695160" y="144360"/>
            <a:ext cx="703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Elements: Phase I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BS Transponders on UF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308240" y="2082960"/>
            <a:ext cx="1231920" cy="20574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374920" y="3645000"/>
            <a:ext cx="4229280" cy="49536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477120" y="2108160"/>
            <a:ext cx="1206360" cy="203184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685800" y="4470480"/>
            <a:ext cx="7759800" cy="0"/>
          </a:xfrm>
          <a:prstGeom prst="line">
            <a:avLst/>
          </a:prstGeom>
          <a:ln w="2030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614520" y="4869000"/>
            <a:ext cx="7708680" cy="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1324080" y="2098800"/>
            <a:ext cx="1200240" cy="14065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2568600" y="2098800"/>
            <a:ext cx="1200240" cy="14065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ject Termi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3813120" y="2098800"/>
            <a:ext cx="1200240" cy="1406520"/>
          </a:xfrm>
          <a:prstGeom prst="rect">
            <a:avLst/>
          </a:prstGeom>
          <a:solidFill>
            <a:srgbClr val="00208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atel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Ka on Navy U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6480000" y="2098800"/>
            <a:ext cx="1200240" cy="14065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5070600" y="2098800"/>
            <a:ext cx="1352520" cy="14065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 Termi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6524640" y="5227560"/>
            <a:ext cx="903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RO/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6159600" y="5537160"/>
            <a:ext cx="368280" cy="0"/>
          </a:xfrm>
          <a:prstGeom prst="line">
            <a:avLst/>
          </a:prstGeom>
          <a:ln w="203040">
            <a:solidFill>
              <a:srgbClr val="71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6159600" y="5715000"/>
            <a:ext cx="368280" cy="0"/>
          </a:xfrm>
          <a:prstGeom prst="line">
            <a:avLst/>
          </a:prstGeom>
          <a:ln w="2030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6159600" y="5905440"/>
            <a:ext cx="368280" cy="0"/>
          </a:xfrm>
          <a:prstGeom prst="line">
            <a:avLst/>
          </a:prstGeom>
          <a:ln w="20304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159600" y="6095880"/>
            <a:ext cx="368280" cy="0"/>
          </a:xfrm>
          <a:prstGeom prst="line">
            <a:avLst/>
          </a:prstGeom>
          <a:ln w="2030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880240" y="5334120"/>
            <a:ext cx="180324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6159600" y="6273720"/>
            <a:ext cx="368280" cy="0"/>
          </a:xfrm>
          <a:prstGeom prst="line">
            <a:avLst/>
          </a:prstGeom>
          <a:ln w="203040">
            <a:solidFill>
              <a:srgbClr val="0020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92160" y="2098800"/>
            <a:ext cx="743040" cy="1406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919191"/>
                </a:solidFill>
                <a:latin typeface="ARIAL"/>
                <a:ea typeface="ARIAL"/>
              </a:rPr>
              <a:t>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927000" y="2082960"/>
            <a:ext cx="343080" cy="1422360"/>
          </a:xfrm>
          <a:prstGeom prst="rect">
            <a:avLst/>
          </a:prstGeom>
          <a:solidFill>
            <a:srgbClr val="714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860400" y="216684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I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314360" y="1562040"/>
            <a:ext cx="6381720" cy="38088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825560" y="1639800"/>
            <a:ext cx="523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Systems Engineering &amp; Integration and Program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728120" y="2120760"/>
            <a:ext cx="343080" cy="1422360"/>
          </a:xfrm>
          <a:prstGeom prst="rect">
            <a:avLst/>
          </a:prstGeom>
          <a:solidFill>
            <a:srgbClr val="714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8153280" y="2114640"/>
            <a:ext cx="723960" cy="142884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8251920" y="2163600"/>
            <a:ext cx="5364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919191"/>
                </a:solidFill>
                <a:latin typeface="ARIAL"/>
                <a:ea typeface="ARIAL"/>
              </a:rPr>
              <a:t>E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919191"/>
                </a:solidFill>
                <a:latin typeface="ARIAL"/>
                <a:ea typeface="ARIAL"/>
              </a:rPr>
              <a:t>U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7696080" y="216072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I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575160" y="4135320"/>
            <a:ext cx="131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rt P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3718080" y="4516560"/>
            <a:ext cx="1065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r P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1400040" y="4952880"/>
            <a:ext cx="1351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ave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3225960" y="4952880"/>
            <a:ext cx="2457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ondary - Tactical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447840" y="5506920"/>
            <a:ext cx="2733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 ban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ase II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y Planning to Procure UFO Hosted Spac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my Preparing for Inject Terminal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my Preparing for Receive Terminal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y Examining Ship and Submarine Antenna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Activities -  GBS JPO will integ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C’s management of Information Management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C’s coordination With DISA for GBS Integration to D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my’s management of Receive Terminal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my’s management of Inject Terminal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y’s management of Spac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ce Segment composed of four Ka-Band tran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Broadcast 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FO F8/F9/F10 Space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ransponder will handle a data channel of 24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channel can accommodate both High Speed Data and Compressed Video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 txBox="1"/>
          <p:nvPr/>
        </p:nvSpPr>
        <p:spPr>
          <a:xfrm>
            <a:off x="695160" y="144360"/>
            <a:ext cx="703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Elements: Phase II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arget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308240" y="2082960"/>
            <a:ext cx="1231920" cy="20574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374920" y="3645000"/>
            <a:ext cx="4229280" cy="49536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477120" y="2108160"/>
            <a:ext cx="1206360" cy="203184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85800" y="4470480"/>
            <a:ext cx="7759800" cy="0"/>
          </a:xfrm>
          <a:prstGeom prst="line">
            <a:avLst/>
          </a:prstGeom>
          <a:ln w="2030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673200" y="4826160"/>
            <a:ext cx="7708680" cy="0"/>
          </a:xfrm>
          <a:prstGeom prst="line">
            <a:avLst/>
          </a:prstGeom>
          <a:ln w="1522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92160" y="2098800"/>
            <a:ext cx="743040" cy="1406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919191"/>
                </a:solidFill>
                <a:latin typeface="ARIAL"/>
                <a:ea typeface="ARIAL"/>
              </a:rPr>
              <a:t>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1324080" y="2098800"/>
            <a:ext cx="1200240" cy="140652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2568600" y="2098800"/>
            <a:ext cx="1200240" cy="14065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ject Termi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3813120" y="2098800"/>
            <a:ext cx="1200240" cy="14065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atell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DSA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6480000" y="2098800"/>
            <a:ext cx="1200240" cy="140652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5070600" y="2098800"/>
            <a:ext cx="1352520" cy="14065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 Termi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8172360" y="2098800"/>
            <a:ext cx="765000" cy="1406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6524640" y="5227560"/>
            <a:ext cx="903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RO/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6159600" y="5537160"/>
            <a:ext cx="368280" cy="0"/>
          </a:xfrm>
          <a:prstGeom prst="line">
            <a:avLst/>
          </a:prstGeom>
          <a:ln w="203040">
            <a:solidFill>
              <a:srgbClr val="71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6159600" y="5715000"/>
            <a:ext cx="368280" cy="0"/>
          </a:xfrm>
          <a:prstGeom prst="line">
            <a:avLst/>
          </a:prstGeom>
          <a:ln w="2030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6159600" y="5905440"/>
            <a:ext cx="368280" cy="0"/>
          </a:xfrm>
          <a:prstGeom prst="line">
            <a:avLst/>
          </a:prstGeom>
          <a:ln w="20304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6159600" y="6095880"/>
            <a:ext cx="368280" cy="0"/>
          </a:xfrm>
          <a:prstGeom prst="line">
            <a:avLst/>
          </a:prstGeom>
          <a:ln w="2030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880240" y="5334120"/>
            <a:ext cx="180324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6159600" y="6273720"/>
            <a:ext cx="368280" cy="0"/>
          </a:xfrm>
          <a:prstGeom prst="line">
            <a:avLst/>
          </a:prstGeom>
          <a:ln w="203040">
            <a:solidFill>
              <a:srgbClr val="0020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927000" y="2082960"/>
            <a:ext cx="343080" cy="1422360"/>
          </a:xfrm>
          <a:prstGeom prst="rect">
            <a:avLst/>
          </a:prstGeom>
          <a:solidFill>
            <a:srgbClr val="714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860400" y="216684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I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728120" y="2101680"/>
            <a:ext cx="343080" cy="1422360"/>
          </a:xfrm>
          <a:prstGeom prst="rect">
            <a:avLst/>
          </a:prstGeom>
          <a:solidFill>
            <a:srgbClr val="714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8194680" y="2117880"/>
            <a:ext cx="438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U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7680240" y="226224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I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314360" y="1562040"/>
            <a:ext cx="6381720" cy="38088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 txBox="1"/>
          <p:nvPr/>
        </p:nvSpPr>
        <p:spPr>
          <a:xfrm>
            <a:off x="1825560" y="1639800"/>
            <a:ext cx="523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Systems Engineering &amp; Integration and Program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3575160" y="4135320"/>
            <a:ext cx="131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rt P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3718080" y="4516560"/>
            <a:ext cx="1065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r P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1479600" y="5637240"/>
            <a:ext cx="3516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US/Theater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 Information Mgm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ls used at sea, land,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955800" y="5157720"/>
            <a:ext cx="2951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ase III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669960" y="169848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D Space Architect Developing MILSATCOM Architecture Approaches for the Objective G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PO Will Manage Acquisition of Satellite, Terminal, and Information Managemen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Space Segment Acquisition Needed (Per DODOSA), GBS JPO Will Lead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my Will Lead Receive Terminal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my Will Lead Inject Terminal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A Will Lead Inform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C Will Lead GBS Broadcast Management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C Will coordinate GBS Broadcast plug into DII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awman WBS Structure an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" descr=""/>
          <p:cNvPicPr/>
          <p:nvPr/>
        </p:nvPicPr>
        <p:blipFill>
          <a:blip r:embed="rId1"/>
          <a:stretch/>
        </p:blipFill>
        <p:spPr>
          <a:xfrm>
            <a:off x="1128600" y="1162080"/>
            <a:ext cx="71359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BS Structure and Format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" descr=""/>
          <p:cNvPicPr/>
          <p:nvPr/>
        </p:nvPicPr>
        <p:blipFill>
          <a:blip r:embed="rId1"/>
          <a:stretch/>
        </p:blipFill>
        <p:spPr>
          <a:xfrm>
            <a:off x="870120" y="1392120"/>
            <a:ext cx="7443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r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3040" y="1184400"/>
            <a:ext cx="8458200" cy="5257800"/>
            <a:chOff x="473040" y="1184400"/>
            <a:chExt cx="8458200" cy="5257800"/>
          </a:xfrm>
        </p:grpSpPr>
        <p:sp>
          <p:nvSpPr>
            <p:cNvPr id="65" name=""/>
            <p:cNvSpPr/>
            <p:nvPr/>
          </p:nvSpPr>
          <p:spPr>
            <a:xfrm>
              <a:off x="5394240" y="4962600"/>
              <a:ext cx="1990800" cy="16812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94320" y="5365800"/>
              <a:ext cx="1171440" cy="14292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693280" y="3849840"/>
              <a:ext cx="108360" cy="2049840"/>
            </a:xfrm>
            <a:custGeom>
              <a:avLst/>
              <a:gdLst/>
              <a:ahLst/>
              <a:rect l="0" t="0" r="r" b="b"/>
              <a:pathLst>
                <a:path w="301" h="5694">
                  <a:moveTo>
                    <a:pt x="0" y="5694"/>
                  </a:moveTo>
                  <a:lnTo>
                    <a:pt x="210" y="5694"/>
                  </a:lnTo>
                  <a:lnTo>
                    <a:pt x="301" y="0"/>
                  </a:lnTo>
                  <a:lnTo>
                    <a:pt x="90" y="0"/>
                  </a:lnTo>
                  <a:lnTo>
                    <a:pt x="0" y="5694"/>
                  </a:lnTo>
                  <a:close/>
                </a:path>
              </a:pathLst>
            </a:custGeom>
            <a:solidFill>
              <a:srgbClr val="ffc5cf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0840" y="1790640"/>
              <a:ext cx="105120" cy="3204000"/>
            </a:xfrm>
            <a:custGeom>
              <a:avLst/>
              <a:gdLst/>
              <a:ahLst/>
              <a:rect l="0" t="0" r="r" b="b"/>
              <a:pathLst>
                <a:path w="292" h="8900">
                  <a:moveTo>
                    <a:pt x="0" y="8900"/>
                  </a:moveTo>
                  <a:lnTo>
                    <a:pt x="204" y="8900"/>
                  </a:lnTo>
                  <a:lnTo>
                    <a:pt x="292" y="0"/>
                  </a:lnTo>
                  <a:lnTo>
                    <a:pt x="87" y="0"/>
                  </a:lnTo>
                  <a:lnTo>
                    <a:pt x="0" y="8900"/>
                  </a:lnTo>
                  <a:close/>
                </a:path>
              </a:pathLst>
            </a:custGeom>
            <a:solidFill>
              <a:srgbClr val="ffc5cf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38800" y="1782720"/>
              <a:ext cx="146520" cy="3223080"/>
            </a:xfrm>
            <a:custGeom>
              <a:avLst/>
              <a:gdLst/>
              <a:ahLst/>
              <a:rect l="0" t="0" r="r" b="b"/>
              <a:pathLst>
                <a:path w="407" h="8953">
                  <a:moveTo>
                    <a:pt x="0" y="8953"/>
                  </a:moveTo>
                  <a:lnTo>
                    <a:pt x="284" y="8953"/>
                  </a:lnTo>
                  <a:lnTo>
                    <a:pt x="407" y="0"/>
                  </a:lnTo>
                  <a:lnTo>
                    <a:pt x="122" y="0"/>
                  </a:lnTo>
                  <a:lnTo>
                    <a:pt x="0" y="8953"/>
                  </a:lnTo>
                  <a:close/>
                </a:path>
              </a:pathLst>
            </a:custGeom>
            <a:solidFill>
              <a:srgbClr val="ffc5cf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914560" y="2062080"/>
              <a:ext cx="963720" cy="1404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3040" y="1641600"/>
              <a:ext cx="8381880" cy="441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64360" y="1184400"/>
              <a:ext cx="0" cy="487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7120" y="1184400"/>
              <a:ext cx="0" cy="486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92760" y="1184400"/>
              <a:ext cx="0" cy="486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35960" y="1184400"/>
              <a:ext cx="0" cy="486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25520" y="1641600"/>
              <a:ext cx="0" cy="4419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473040" y="1641600"/>
              <a:ext cx="1752480" cy="441972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 Milest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hase I (Test B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BC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BADD ACT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hase II (Interi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  <a:buClr>
                  <a:srgbClr val="000000"/>
                </a:buClr>
                <a:buFont typeface="Wingdings"/>
                <a:buChar char=""/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ce -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FO/G Laun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  <a:buClr>
                  <a:srgbClr val="000000"/>
                </a:buClr>
                <a:buFont typeface="Wingdings"/>
                <a:buChar char=""/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link Sites    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  <a:buClr>
                  <a:srgbClr val="000000"/>
                </a:buClr>
                <a:buFont typeface="Wingdings"/>
                <a:buChar char=""/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 Mgt (I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GOC/TIM/SBM/RB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hase III (Targ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spcBef>
                  <a:spcPts val="479"/>
                </a:spcBef>
                <a:spcAft>
                  <a:spcPts val="479"/>
                </a:spcAft>
                <a:buClr>
                  <a:srgbClr val="000000"/>
                </a:buClr>
                <a:buFont typeface="Wingdings"/>
                <a:buChar char=""/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ce -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rg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1006560" y="1184400"/>
              <a:ext cx="7635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Y              1996          1997         1998          1999         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25520" y="1184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25520" y="1184400"/>
              <a:ext cx="6629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854920" y="1184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54120" y="171756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424" y="424"/>
                  </a:lnTo>
                  <a:lnTo>
                    <a:pt x="211" y="0"/>
                  </a:lnTo>
                  <a:lnTo>
                    <a:pt x="0" y="4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35360" y="171756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424" y="424"/>
                  </a:lnTo>
                  <a:lnTo>
                    <a:pt x="211" y="0"/>
                  </a:lnTo>
                  <a:lnTo>
                    <a:pt x="0" y="4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2486160" y="1673280"/>
              <a:ext cx="4129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865600" y="1673280"/>
              <a:ext cx="4348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0" y="1654200"/>
              <a:ext cx="0" cy="44197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68880" y="1736640"/>
              <a:ext cx="200520" cy="133560"/>
            </a:xfrm>
            <a:custGeom>
              <a:avLst/>
              <a:gdLst/>
              <a:ahLst/>
              <a:rect l="0" t="0" r="r" b="b"/>
              <a:pathLst>
                <a:path w="557" h="371">
                  <a:moveTo>
                    <a:pt x="278" y="0"/>
                  </a:moveTo>
                  <a:lnTo>
                    <a:pt x="213" y="141"/>
                  </a:lnTo>
                  <a:lnTo>
                    <a:pt x="0" y="141"/>
                  </a:lnTo>
                  <a:lnTo>
                    <a:pt x="173" y="230"/>
                  </a:lnTo>
                  <a:lnTo>
                    <a:pt x="107" y="371"/>
                  </a:lnTo>
                  <a:lnTo>
                    <a:pt x="278" y="289"/>
                  </a:lnTo>
                  <a:lnTo>
                    <a:pt x="449" y="371"/>
                  </a:lnTo>
                  <a:lnTo>
                    <a:pt x="383" y="230"/>
                  </a:lnTo>
                  <a:lnTo>
                    <a:pt x="557" y="141"/>
                  </a:lnTo>
                  <a:lnTo>
                    <a:pt x="343" y="141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7b00e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48200" y="1957320"/>
              <a:ext cx="646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WID 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25520" y="2174760"/>
              <a:ext cx="1143000" cy="152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68520" y="2174760"/>
              <a:ext cx="2590920" cy="1522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25520" y="2327400"/>
              <a:ext cx="1371600" cy="152280"/>
            </a:xfrm>
            <a:prstGeom prst="rect">
              <a:avLst/>
            </a:prstGeom>
            <a:solidFill>
              <a:srgbClr val="7b00e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968720" y="1870200"/>
              <a:ext cx="304920" cy="1218960"/>
            </a:xfrm>
            <a:prstGeom prst="line">
              <a:avLst/>
            </a:prstGeom>
            <a:ln w="12600">
              <a:solidFill>
                <a:srgbClr val="7b00e4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5310360" y="1749600"/>
              <a:ext cx="7272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I -  I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16800" y="1736640"/>
              <a:ext cx="200520" cy="133560"/>
            </a:xfrm>
            <a:custGeom>
              <a:avLst/>
              <a:gdLst/>
              <a:ahLst/>
              <a:rect l="0" t="0" r="r" b="b"/>
              <a:pathLst>
                <a:path w="557" h="371">
                  <a:moveTo>
                    <a:pt x="278" y="0"/>
                  </a:moveTo>
                  <a:lnTo>
                    <a:pt x="213" y="141"/>
                  </a:lnTo>
                  <a:lnTo>
                    <a:pt x="0" y="141"/>
                  </a:lnTo>
                  <a:lnTo>
                    <a:pt x="173" y="230"/>
                  </a:lnTo>
                  <a:lnTo>
                    <a:pt x="107" y="371"/>
                  </a:lnTo>
                  <a:lnTo>
                    <a:pt x="278" y="289"/>
                  </a:lnTo>
                  <a:lnTo>
                    <a:pt x="449" y="371"/>
                  </a:lnTo>
                  <a:lnTo>
                    <a:pt x="383" y="230"/>
                  </a:lnTo>
                  <a:lnTo>
                    <a:pt x="557" y="141"/>
                  </a:lnTo>
                  <a:lnTo>
                    <a:pt x="343" y="141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7b00e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6667560" y="1749600"/>
              <a:ext cx="75564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I - F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4994280" y="3121200"/>
              <a:ext cx="5968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FO 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932360" y="3079800"/>
              <a:ext cx="113040" cy="238320"/>
              <a:chOff x="4932360" y="3079800"/>
              <a:chExt cx="113040" cy="23832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4952880" y="3079800"/>
                <a:ext cx="73440" cy="30600"/>
                <a:chOff x="4952880" y="3079800"/>
                <a:chExt cx="73440" cy="306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952880" y="3079800"/>
                  <a:ext cx="62280" cy="28800"/>
                </a:xfrm>
                <a:custGeom>
                  <a:avLst/>
                  <a:gdLst/>
                  <a:ahLst/>
                  <a:rect l="0" t="0" r="r" b="b"/>
                  <a:pathLst>
                    <a:path w="173" h="80">
                      <a:moveTo>
                        <a:pt x="0" y="80"/>
                      </a:moveTo>
                      <a:lnTo>
                        <a:pt x="88" y="0"/>
                      </a:lnTo>
                      <a:lnTo>
                        <a:pt x="173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952880" y="3079800"/>
                  <a:ext cx="73440" cy="30600"/>
                </a:xfrm>
                <a:custGeom>
                  <a:avLst/>
                  <a:gdLst/>
                  <a:ahLst/>
                  <a:rect l="0" t="0" r="r" b="b"/>
                  <a:pathLst>
                    <a:path w="204" h="85">
                      <a:moveTo>
                        <a:pt x="0" y="85"/>
                      </a:moveTo>
                      <a:lnTo>
                        <a:pt x="103" y="0"/>
                      </a:lnTo>
                      <a:lnTo>
                        <a:pt x="204" y="8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952880" y="3110040"/>
                <a:ext cx="73440" cy="30600"/>
                <a:chOff x="4952880" y="3110040"/>
                <a:chExt cx="73440" cy="306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952880" y="3110040"/>
                  <a:ext cx="62280" cy="30600"/>
                </a:xfrm>
                <a:custGeom>
                  <a:avLst/>
                  <a:gdLst/>
                  <a:ahLst/>
                  <a:rect l="0" t="0" r="r" b="b"/>
                  <a:pathLst>
                    <a:path w="173" h="85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173" y="85"/>
                      </a:lnTo>
                      <a:lnTo>
                        <a:pt x="1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952880" y="3110040"/>
                  <a:ext cx="73440" cy="30600"/>
                </a:xfrm>
                <a:custGeom>
                  <a:avLst/>
                  <a:gdLst/>
                  <a:ahLst/>
                  <a:rect l="0" t="0" r="r" b="b"/>
                  <a:pathLst>
                    <a:path w="204" h="85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204" y="8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4956120" y="3139920"/>
                <a:ext cx="63360" cy="396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56120" y="3179880"/>
                <a:ext cx="63360" cy="138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2360" y="3287880"/>
                <a:ext cx="25920" cy="28800"/>
              </a:xfrm>
              <a:custGeom>
                <a:avLst/>
                <a:gdLst/>
                <a:ahLst/>
                <a:rect l="0" t="0" r="r" b="b"/>
                <a:pathLst>
                  <a:path w="72" h="80">
                    <a:moveTo>
                      <a:pt x="61" y="0"/>
                    </a:moveTo>
                    <a:lnTo>
                      <a:pt x="0" y="76"/>
                    </a:lnTo>
                    <a:lnTo>
                      <a:pt x="72" y="8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14800" y="328788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w="85" h="80">
                    <a:moveTo>
                      <a:pt x="13" y="0"/>
                    </a:moveTo>
                    <a:lnTo>
                      <a:pt x="85" y="76"/>
                    </a:lnTo>
                    <a:lnTo>
                      <a:pt x="0" y="8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618160" y="3079800"/>
              <a:ext cx="113040" cy="238320"/>
              <a:chOff x="5618160" y="3079800"/>
              <a:chExt cx="113040" cy="2383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5638680" y="3079800"/>
                <a:ext cx="73440" cy="30600"/>
                <a:chOff x="5638680" y="3079800"/>
                <a:chExt cx="73440" cy="30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638680" y="3079800"/>
                  <a:ext cx="62280" cy="28800"/>
                </a:xfrm>
                <a:custGeom>
                  <a:avLst/>
                  <a:gdLst/>
                  <a:ahLst/>
                  <a:rect l="0" t="0" r="r" b="b"/>
                  <a:pathLst>
                    <a:path w="173" h="80">
                      <a:moveTo>
                        <a:pt x="0" y="80"/>
                      </a:moveTo>
                      <a:lnTo>
                        <a:pt x="88" y="0"/>
                      </a:lnTo>
                      <a:lnTo>
                        <a:pt x="173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638680" y="3079800"/>
                  <a:ext cx="73440" cy="30600"/>
                </a:xfrm>
                <a:custGeom>
                  <a:avLst/>
                  <a:gdLst/>
                  <a:ahLst/>
                  <a:rect l="0" t="0" r="r" b="b"/>
                  <a:pathLst>
                    <a:path w="204" h="85">
                      <a:moveTo>
                        <a:pt x="0" y="85"/>
                      </a:moveTo>
                      <a:lnTo>
                        <a:pt x="103" y="0"/>
                      </a:lnTo>
                      <a:lnTo>
                        <a:pt x="204" y="8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638680" y="3110040"/>
                <a:ext cx="73440" cy="30600"/>
                <a:chOff x="5638680" y="3110040"/>
                <a:chExt cx="73440" cy="306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638680" y="3110040"/>
                  <a:ext cx="62280" cy="30600"/>
                </a:xfrm>
                <a:custGeom>
                  <a:avLst/>
                  <a:gdLst/>
                  <a:ahLst/>
                  <a:rect l="0" t="0" r="r" b="b"/>
                  <a:pathLst>
                    <a:path w="173" h="85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173" y="85"/>
                      </a:lnTo>
                      <a:lnTo>
                        <a:pt x="1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638680" y="3110040"/>
                  <a:ext cx="73440" cy="30600"/>
                </a:xfrm>
                <a:custGeom>
                  <a:avLst/>
                  <a:gdLst/>
                  <a:ahLst/>
                  <a:rect l="0" t="0" r="r" b="b"/>
                  <a:pathLst>
                    <a:path w="204" h="85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204" y="8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5641920" y="3139920"/>
                <a:ext cx="63360" cy="396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41920" y="3179880"/>
                <a:ext cx="63360" cy="138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8160" y="3287880"/>
                <a:ext cx="25920" cy="28800"/>
              </a:xfrm>
              <a:custGeom>
                <a:avLst/>
                <a:gdLst/>
                <a:ahLst/>
                <a:rect l="0" t="0" r="r" b="b"/>
                <a:pathLst>
                  <a:path w="72" h="80">
                    <a:moveTo>
                      <a:pt x="61" y="0"/>
                    </a:moveTo>
                    <a:lnTo>
                      <a:pt x="0" y="76"/>
                    </a:lnTo>
                    <a:lnTo>
                      <a:pt x="72" y="8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00600" y="328788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w="85" h="80">
                    <a:moveTo>
                      <a:pt x="13" y="0"/>
                    </a:moveTo>
                    <a:lnTo>
                      <a:pt x="85" y="76"/>
                    </a:lnTo>
                    <a:lnTo>
                      <a:pt x="0" y="8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303960" y="3079800"/>
              <a:ext cx="113040" cy="238320"/>
              <a:chOff x="6303960" y="3079800"/>
              <a:chExt cx="113040" cy="2383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6324480" y="3079800"/>
                <a:ext cx="73440" cy="30600"/>
                <a:chOff x="6324480" y="3079800"/>
                <a:chExt cx="73440" cy="306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324480" y="3079800"/>
                  <a:ext cx="62280" cy="28800"/>
                </a:xfrm>
                <a:custGeom>
                  <a:avLst/>
                  <a:gdLst/>
                  <a:ahLst/>
                  <a:rect l="0" t="0" r="r" b="b"/>
                  <a:pathLst>
                    <a:path w="173" h="80">
                      <a:moveTo>
                        <a:pt x="0" y="80"/>
                      </a:moveTo>
                      <a:lnTo>
                        <a:pt x="88" y="0"/>
                      </a:lnTo>
                      <a:lnTo>
                        <a:pt x="173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324480" y="3079800"/>
                  <a:ext cx="73440" cy="30600"/>
                </a:xfrm>
                <a:custGeom>
                  <a:avLst/>
                  <a:gdLst/>
                  <a:ahLst/>
                  <a:rect l="0" t="0" r="r" b="b"/>
                  <a:pathLst>
                    <a:path w="204" h="85">
                      <a:moveTo>
                        <a:pt x="0" y="85"/>
                      </a:moveTo>
                      <a:lnTo>
                        <a:pt x="103" y="0"/>
                      </a:lnTo>
                      <a:lnTo>
                        <a:pt x="204" y="8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6324480" y="3110040"/>
                <a:ext cx="73440" cy="30600"/>
                <a:chOff x="6324480" y="3110040"/>
                <a:chExt cx="73440" cy="30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324480" y="3110040"/>
                  <a:ext cx="62280" cy="30600"/>
                </a:xfrm>
                <a:custGeom>
                  <a:avLst/>
                  <a:gdLst/>
                  <a:ahLst/>
                  <a:rect l="0" t="0" r="r" b="b"/>
                  <a:pathLst>
                    <a:path w="173" h="85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173" y="85"/>
                      </a:lnTo>
                      <a:lnTo>
                        <a:pt x="1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324480" y="3110040"/>
                  <a:ext cx="73440" cy="30600"/>
                </a:xfrm>
                <a:custGeom>
                  <a:avLst/>
                  <a:gdLst/>
                  <a:ahLst/>
                  <a:rect l="0" t="0" r="r" b="b"/>
                  <a:pathLst>
                    <a:path w="204" h="85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204" y="8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6327720" y="3139920"/>
                <a:ext cx="63360" cy="396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27720" y="3179880"/>
                <a:ext cx="63360" cy="138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03960" y="3287880"/>
                <a:ext cx="25920" cy="28800"/>
              </a:xfrm>
              <a:custGeom>
                <a:avLst/>
                <a:gdLst/>
                <a:ahLst/>
                <a:rect l="0" t="0" r="r" b="b"/>
                <a:pathLst>
                  <a:path w="72" h="80">
                    <a:moveTo>
                      <a:pt x="61" y="0"/>
                    </a:moveTo>
                    <a:lnTo>
                      <a:pt x="0" y="76"/>
                    </a:lnTo>
                    <a:lnTo>
                      <a:pt x="72" y="8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86400" y="328788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w="85" h="80">
                    <a:moveTo>
                      <a:pt x="13" y="0"/>
                    </a:moveTo>
                    <a:lnTo>
                      <a:pt x="85" y="76"/>
                    </a:lnTo>
                    <a:lnTo>
                      <a:pt x="0" y="8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 txBox="1"/>
            <p:nvPr/>
          </p:nvSpPr>
          <p:spPr>
            <a:xfrm>
              <a:off x="6410160" y="3121200"/>
              <a:ext cx="66024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FO 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5603760" y="3121200"/>
              <a:ext cx="5968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FO 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416640" y="1793880"/>
              <a:ext cx="304920" cy="1295280"/>
            </a:xfrm>
            <a:prstGeom prst="line">
              <a:avLst/>
            </a:prstGeom>
            <a:ln w="12600">
              <a:solidFill>
                <a:srgbClr val="7b00e4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8666280" y="5746680"/>
              <a:ext cx="113040" cy="238320"/>
              <a:chOff x="8666280" y="5746680"/>
              <a:chExt cx="113040" cy="2383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8686800" y="5746680"/>
                <a:ext cx="73440" cy="30600"/>
                <a:chOff x="8686800" y="5746680"/>
                <a:chExt cx="73440" cy="306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8686800" y="5746680"/>
                  <a:ext cx="62280" cy="28800"/>
                </a:xfrm>
                <a:custGeom>
                  <a:avLst/>
                  <a:gdLst/>
                  <a:ahLst/>
                  <a:rect l="0" t="0" r="r" b="b"/>
                  <a:pathLst>
                    <a:path w="173" h="80">
                      <a:moveTo>
                        <a:pt x="0" y="80"/>
                      </a:moveTo>
                      <a:lnTo>
                        <a:pt x="88" y="0"/>
                      </a:lnTo>
                      <a:lnTo>
                        <a:pt x="173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686800" y="5746680"/>
                  <a:ext cx="73440" cy="30600"/>
                </a:xfrm>
                <a:custGeom>
                  <a:avLst/>
                  <a:gdLst/>
                  <a:ahLst/>
                  <a:rect l="0" t="0" r="r" b="b"/>
                  <a:pathLst>
                    <a:path w="204" h="85">
                      <a:moveTo>
                        <a:pt x="0" y="85"/>
                      </a:moveTo>
                      <a:lnTo>
                        <a:pt x="103" y="0"/>
                      </a:lnTo>
                      <a:lnTo>
                        <a:pt x="204" y="8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8686800" y="5776920"/>
                <a:ext cx="73440" cy="30600"/>
                <a:chOff x="8686800" y="5776920"/>
                <a:chExt cx="73440" cy="306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8686800" y="5776920"/>
                  <a:ext cx="62280" cy="30600"/>
                </a:xfrm>
                <a:custGeom>
                  <a:avLst/>
                  <a:gdLst/>
                  <a:ahLst/>
                  <a:rect l="0" t="0" r="r" b="b"/>
                  <a:pathLst>
                    <a:path w="173" h="85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173" y="85"/>
                      </a:lnTo>
                      <a:lnTo>
                        <a:pt x="1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686800" y="5776920"/>
                  <a:ext cx="73440" cy="30600"/>
                </a:xfrm>
                <a:custGeom>
                  <a:avLst/>
                  <a:gdLst/>
                  <a:ahLst/>
                  <a:rect l="0" t="0" r="r" b="b"/>
                  <a:pathLst>
                    <a:path w="204" h="85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204" y="8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8690040" y="5807160"/>
                <a:ext cx="63360" cy="396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690040" y="5846760"/>
                <a:ext cx="63360" cy="138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666280" y="5954760"/>
                <a:ext cx="25920" cy="28800"/>
              </a:xfrm>
              <a:custGeom>
                <a:avLst/>
                <a:gdLst/>
                <a:ahLst/>
                <a:rect l="0" t="0" r="r" b="b"/>
                <a:pathLst>
                  <a:path w="72" h="80">
                    <a:moveTo>
                      <a:pt x="61" y="0"/>
                    </a:moveTo>
                    <a:lnTo>
                      <a:pt x="0" y="76"/>
                    </a:lnTo>
                    <a:lnTo>
                      <a:pt x="72" y="8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48720" y="595476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w="85" h="80">
                    <a:moveTo>
                      <a:pt x="13" y="0"/>
                    </a:moveTo>
                    <a:lnTo>
                      <a:pt x="85" y="76"/>
                    </a:lnTo>
                    <a:lnTo>
                      <a:pt x="0" y="8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 txBox="1"/>
            <p:nvPr/>
          </p:nvSpPr>
          <p:spPr>
            <a:xfrm>
              <a:off x="8169120" y="5603760"/>
              <a:ext cx="463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20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n ‘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664160" y="5872320"/>
              <a:ext cx="3962520" cy="140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 3 year Bu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292560" y="5680080"/>
              <a:ext cx="1295280" cy="152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quisition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587840" y="5680080"/>
              <a:ext cx="588960" cy="183960"/>
              <a:chOff x="4587840" y="5680080"/>
              <a:chExt cx="588960" cy="183960"/>
            </a:xfrm>
          </p:grpSpPr>
          <p:sp>
            <p:nvSpPr>
              <p:cNvPr id="148" name=""/>
              <p:cNvSpPr/>
              <p:nvPr/>
            </p:nvSpPr>
            <p:spPr>
              <a:xfrm>
                <a:off x="4587840" y="568008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fill="none"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4646520" y="5711760"/>
                <a:ext cx="5302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war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 txBox="1"/>
            <p:nvPr/>
          </p:nvSpPr>
          <p:spPr>
            <a:xfrm>
              <a:off x="2835360" y="5527800"/>
              <a:ext cx="457200" cy="152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0600" y="5318280"/>
              <a:ext cx="200520" cy="133560"/>
            </a:xfrm>
            <a:custGeom>
              <a:avLst/>
              <a:gdLst/>
              <a:ahLst/>
              <a:rect l="0" t="0" r="r" b="b"/>
              <a:pathLst>
                <a:path w="557" h="371">
                  <a:moveTo>
                    <a:pt x="278" y="0"/>
                  </a:moveTo>
                  <a:lnTo>
                    <a:pt x="213" y="141"/>
                  </a:lnTo>
                  <a:lnTo>
                    <a:pt x="0" y="141"/>
                  </a:lnTo>
                  <a:lnTo>
                    <a:pt x="173" y="230"/>
                  </a:lnTo>
                  <a:lnTo>
                    <a:pt x="107" y="371"/>
                  </a:lnTo>
                  <a:lnTo>
                    <a:pt x="278" y="289"/>
                  </a:lnTo>
                  <a:lnTo>
                    <a:pt x="449" y="371"/>
                  </a:lnTo>
                  <a:lnTo>
                    <a:pt x="383" y="230"/>
                  </a:lnTo>
                  <a:lnTo>
                    <a:pt x="557" y="141"/>
                  </a:lnTo>
                  <a:lnTo>
                    <a:pt x="343" y="141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984400" y="5321160"/>
              <a:ext cx="355284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4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If DODSA directs to meet GBS requirements by ‘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54120" y="3699000"/>
              <a:ext cx="457200" cy="15228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911320" y="3699000"/>
              <a:ext cx="609480" cy="15228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lici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835360" y="369900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549360" y="3394080"/>
              <a:ext cx="1447920" cy="228600"/>
            </a:xfrm>
            <a:prstGeom prst="rect">
              <a:avLst/>
            </a:prstGeom>
            <a:solidFill>
              <a:srgbClr val="7b00e4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M MILSATCO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549360" y="5222880"/>
              <a:ext cx="1447920" cy="228600"/>
            </a:xfrm>
            <a:prstGeom prst="rect">
              <a:avLst/>
            </a:prstGeom>
            <a:solidFill>
              <a:srgbClr val="7b00e4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M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549360" y="4460760"/>
              <a:ext cx="1447920" cy="228600"/>
            </a:xfrm>
            <a:prstGeom prst="rect">
              <a:avLst/>
            </a:prstGeom>
            <a:solidFill>
              <a:srgbClr val="7b00e4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S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97120" y="3927600"/>
              <a:ext cx="589320" cy="183960"/>
              <a:chOff x="3597120" y="3927600"/>
              <a:chExt cx="589320" cy="183960"/>
            </a:xfrm>
          </p:grpSpPr>
          <p:sp>
            <p:nvSpPr>
              <p:cNvPr id="160" name=""/>
              <p:cNvSpPr/>
              <p:nvPr/>
            </p:nvSpPr>
            <p:spPr>
              <a:xfrm>
                <a:off x="3597120" y="392760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fill="none"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3656160" y="3959280"/>
                <a:ext cx="5302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war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 txBox="1"/>
            <p:nvPr/>
          </p:nvSpPr>
          <p:spPr>
            <a:xfrm>
              <a:off x="3673440" y="4156200"/>
              <a:ext cx="2286000" cy="22860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130640" y="4003560"/>
              <a:ext cx="457200" cy="15228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M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606760" y="4765680"/>
              <a:ext cx="1295280" cy="1522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el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902040" y="4917960"/>
              <a:ext cx="457200" cy="1522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l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40120" y="1793880"/>
              <a:ext cx="533880" cy="76680"/>
            </a:xfrm>
            <a:custGeom>
              <a:avLst/>
              <a:gdLst/>
              <a:ahLst/>
              <a:rect l="0" t="0" r="r" b="b"/>
              <a:pathLst>
                <a:path w="1483" h="213">
                  <a:moveTo>
                    <a:pt x="0" y="42"/>
                  </a:moveTo>
                  <a:lnTo>
                    <a:pt x="0" y="171"/>
                  </a:lnTo>
                  <a:lnTo>
                    <a:pt x="1038" y="171"/>
                  </a:lnTo>
                  <a:lnTo>
                    <a:pt x="1038" y="213"/>
                  </a:lnTo>
                  <a:lnTo>
                    <a:pt x="1483" y="106"/>
                  </a:lnTo>
                  <a:lnTo>
                    <a:pt x="1038" y="0"/>
                  </a:lnTo>
                  <a:lnTo>
                    <a:pt x="1038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c5cf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4359240" y="4765680"/>
              <a:ext cx="1143000" cy="1522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ol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25920" y="4917960"/>
              <a:ext cx="457200" cy="1522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l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64360" y="1793880"/>
              <a:ext cx="457560" cy="76680"/>
            </a:xfrm>
            <a:custGeom>
              <a:avLst/>
              <a:gdLst/>
              <a:ahLst/>
              <a:rect l="0" t="0" r="r" b="b"/>
              <a:pathLst>
                <a:path w="1271" h="213">
                  <a:moveTo>
                    <a:pt x="0" y="42"/>
                  </a:moveTo>
                  <a:lnTo>
                    <a:pt x="0" y="171"/>
                  </a:lnTo>
                  <a:lnTo>
                    <a:pt x="890" y="171"/>
                  </a:lnTo>
                  <a:lnTo>
                    <a:pt x="890" y="213"/>
                  </a:lnTo>
                  <a:lnTo>
                    <a:pt x="1271" y="106"/>
                  </a:lnTo>
                  <a:lnTo>
                    <a:pt x="890" y="0"/>
                  </a:lnTo>
                  <a:lnTo>
                    <a:pt x="89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c5cf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78160" y="2479680"/>
              <a:ext cx="6477120" cy="443160"/>
              <a:chOff x="2378160" y="2479680"/>
              <a:chExt cx="6477120" cy="443160"/>
            </a:xfrm>
          </p:grpSpPr>
          <p:sp>
            <p:nvSpPr>
              <p:cNvPr id="171" name=""/>
              <p:cNvSpPr/>
              <p:nvPr/>
            </p:nvSpPr>
            <p:spPr>
              <a:xfrm>
                <a:off x="2378160" y="2479680"/>
                <a:ext cx="6477120" cy="152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2730600" y="2511360"/>
                <a:ext cx="5540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ase 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5148360" y="2511360"/>
                <a:ext cx="5968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ase I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6954840" y="2511360"/>
                <a:ext cx="63972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ase II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21160" y="2479680"/>
                <a:ext cx="13716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35760" y="2479680"/>
                <a:ext cx="2286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64160" y="2631960"/>
                <a:ext cx="76680" cy="152640"/>
              </a:xfrm>
              <a:custGeom>
                <a:avLst/>
                <a:gdLst/>
                <a:ahLst/>
                <a:rect l="0" t="0" r="r" b="b"/>
                <a:pathLst>
                  <a:path w="213" h="424">
                    <a:moveTo>
                      <a:pt x="71" y="0"/>
                    </a:moveTo>
                    <a:lnTo>
                      <a:pt x="141" y="0"/>
                    </a:lnTo>
                    <a:lnTo>
                      <a:pt x="141" y="297"/>
                    </a:lnTo>
                    <a:lnTo>
                      <a:pt x="213" y="297"/>
                    </a:lnTo>
                    <a:lnTo>
                      <a:pt x="106" y="424"/>
                    </a:lnTo>
                    <a:lnTo>
                      <a:pt x="0" y="297"/>
                    </a:lnTo>
                    <a:lnTo>
                      <a:pt x="71" y="29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88040" y="2631960"/>
                <a:ext cx="76680" cy="152640"/>
              </a:xfrm>
              <a:custGeom>
                <a:avLst/>
                <a:gdLst/>
                <a:ahLst/>
                <a:rect l="0" t="0" r="r" b="b"/>
                <a:pathLst>
                  <a:path w="213" h="424">
                    <a:moveTo>
                      <a:pt x="71" y="0"/>
                    </a:moveTo>
                    <a:lnTo>
                      <a:pt x="141" y="0"/>
                    </a:lnTo>
                    <a:lnTo>
                      <a:pt x="141" y="297"/>
                    </a:lnTo>
                    <a:lnTo>
                      <a:pt x="213" y="297"/>
                    </a:lnTo>
                    <a:lnTo>
                      <a:pt x="106" y="424"/>
                    </a:lnTo>
                    <a:lnTo>
                      <a:pt x="0" y="297"/>
                    </a:lnTo>
                    <a:lnTo>
                      <a:pt x="71" y="29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702640" y="2631960"/>
                <a:ext cx="76680" cy="152640"/>
              </a:xfrm>
              <a:custGeom>
                <a:avLst/>
                <a:gdLst/>
                <a:ahLst/>
                <a:rect l="0" t="0" r="r" b="b"/>
                <a:pathLst>
                  <a:path w="213" h="424">
                    <a:moveTo>
                      <a:pt x="71" y="0"/>
                    </a:moveTo>
                    <a:lnTo>
                      <a:pt x="141" y="0"/>
                    </a:lnTo>
                    <a:lnTo>
                      <a:pt x="141" y="297"/>
                    </a:lnTo>
                    <a:lnTo>
                      <a:pt x="213" y="297"/>
                    </a:lnTo>
                    <a:lnTo>
                      <a:pt x="106" y="424"/>
                    </a:lnTo>
                    <a:lnTo>
                      <a:pt x="0" y="297"/>
                    </a:lnTo>
                    <a:lnTo>
                      <a:pt x="71" y="29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5243400" y="2664000"/>
                <a:ext cx="101268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CONUS Pilo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r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3768840" y="2664000"/>
                <a:ext cx="91440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US Pilo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r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7596360" y="2664000"/>
                <a:ext cx="118584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inal Operationa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r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 txBox="1"/>
            <p:nvPr/>
          </p:nvSpPr>
          <p:spPr>
            <a:xfrm>
              <a:off x="549360" y="6213600"/>
              <a:ext cx="2438280" cy="228600"/>
            </a:xfrm>
            <a:prstGeom prst="rect">
              <a:avLst/>
            </a:prstGeom>
            <a:solidFill>
              <a:srgbClr val="7b00e4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urement Agen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549360" y="2936880"/>
              <a:ext cx="1447920" cy="228600"/>
            </a:xfrm>
            <a:prstGeom prst="rect">
              <a:avLst/>
            </a:prstGeom>
            <a:solidFill>
              <a:srgbClr val="7b00e4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v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93160" y="4994280"/>
              <a:ext cx="686160" cy="381240"/>
            </a:xfrm>
            <a:custGeom>
              <a:avLst/>
              <a:gdLst/>
              <a:ahLst/>
              <a:rect l="0" t="0" r="r" b="b"/>
              <a:pathLst>
                <a:path w="1906" h="1059">
                  <a:moveTo>
                    <a:pt x="0" y="0"/>
                  </a:moveTo>
                  <a:lnTo>
                    <a:pt x="0" y="1059"/>
                  </a:lnTo>
                  <a:lnTo>
                    <a:pt x="1334" y="1059"/>
                  </a:lnTo>
                  <a:lnTo>
                    <a:pt x="1906" y="530"/>
                  </a:lnTo>
                  <a:lnTo>
                    <a:pt x="13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8016840" y="4994280"/>
              <a:ext cx="914400" cy="47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ase III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OC 6/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C 12/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30640" y="3927600"/>
              <a:ext cx="53352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59240" y="2403360"/>
              <a:ext cx="53352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5520" y="2403360"/>
              <a:ext cx="381240" cy="2362320"/>
            </a:xfrm>
            <a:prstGeom prst="line">
              <a:avLst/>
            </a:prstGeom>
            <a:ln w="12600">
              <a:solidFill>
                <a:srgbClr val="7b00e4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97120" y="2403360"/>
              <a:ext cx="304920" cy="2362320"/>
            </a:xfrm>
            <a:prstGeom prst="line">
              <a:avLst/>
            </a:prstGeom>
            <a:ln w="12600">
              <a:solidFill>
                <a:srgbClr val="7b00e4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83120" y="2403360"/>
              <a:ext cx="53352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359240" y="4613400"/>
              <a:ext cx="588960" cy="183960"/>
              <a:chOff x="4359240" y="4613400"/>
              <a:chExt cx="588960" cy="183960"/>
            </a:xfrm>
          </p:grpSpPr>
          <p:sp>
            <p:nvSpPr>
              <p:cNvPr id="193" name=""/>
              <p:cNvSpPr/>
              <p:nvPr/>
            </p:nvSpPr>
            <p:spPr>
              <a:xfrm>
                <a:off x="4359240" y="461340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fill="none"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4417920" y="4645080"/>
                <a:ext cx="5302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720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war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Ke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687240" y="1432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from MNS and CON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commercial equipment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CLASS through S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info to garrisoned, moving, and deploy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 “Smart push” and “User pul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existing info dissemination requirements appropriate for one-way wideband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5N-65S worldwid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tible and integrated with existing/planned C4I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compatible with existing/planned spacecraft contro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for “lost”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non-proprietary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direct and theater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peace through two MRCs (non-nucl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ility to route to all, subset, or single user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 relevant DoD, national, and international policies, procedures, regulations, and restrictions for radio frequency spectru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IM to schedule/prioritize/deconflict transmission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ve all relevant interfaces between IM and 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IM to manage all incom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IM to coordinate all user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Key Requirement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 txBox="1"/>
          <p:nvPr/>
        </p:nvSpPr>
        <p:spPr>
          <a:xfrm>
            <a:off x="652320" y="2603520"/>
            <a:ext cx="7772400" cy="13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BREA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-Going Activitie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TC Ho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4462560" y="3843360"/>
            <a:ext cx="606600" cy="579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AD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6512040" y="3743280"/>
            <a:ext cx="954000" cy="625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1239840" y="144360"/>
            <a:ext cx="61405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Relat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707080" y="1539720"/>
            <a:ext cx="3350160" cy="3438720"/>
          </a:xfrm>
          <a:custGeom>
            <a:avLst/>
            <a:gdLst/>
            <a:ahLst/>
            <a:rect l="0" t="0" r="r" b="b"/>
            <a:pathLst>
              <a:path fill="none" w="9306" h="9552">
                <a:moveTo>
                  <a:pt x="0" y="4685"/>
                </a:moveTo>
                <a:lnTo>
                  <a:pt x="2563" y="4685"/>
                </a:lnTo>
                <a:lnTo>
                  <a:pt x="2563" y="0"/>
                </a:lnTo>
                <a:lnTo>
                  <a:pt x="9306" y="0"/>
                </a:lnTo>
                <a:lnTo>
                  <a:pt x="9306" y="9552"/>
                </a:lnTo>
                <a:lnTo>
                  <a:pt x="0" y="9552"/>
                </a:lnTo>
                <a:lnTo>
                  <a:pt x="0" y="468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833560" y="2301840"/>
            <a:ext cx="2513160" cy="3867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880240" y="3967200"/>
            <a:ext cx="314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4334040" y="2901960"/>
            <a:ext cx="905040" cy="1836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oD Information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5361120" y="3454560"/>
            <a:ext cx="990720" cy="124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ational or The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8507520" y="3290760"/>
            <a:ext cx="176400" cy="157680"/>
          </a:xfrm>
          <a:custGeom>
            <a:avLst/>
            <a:gdLst/>
            <a:ahLst/>
            <a:rect l="0" t="0" r="r" b="b"/>
            <a:pathLst>
              <a:path fill="none" w="490" h="438">
                <a:moveTo>
                  <a:pt x="481" y="438"/>
                </a:moveTo>
                <a:lnTo>
                  <a:pt x="490" y="423"/>
                </a:lnTo>
                <a:lnTo>
                  <a:pt x="8" y="0"/>
                </a:lnTo>
                <a:lnTo>
                  <a:pt x="0" y="15"/>
                </a:lnTo>
                <a:lnTo>
                  <a:pt x="481" y="43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8477280" y="3349800"/>
            <a:ext cx="209880" cy="86040"/>
          </a:xfrm>
          <a:custGeom>
            <a:avLst/>
            <a:gdLst/>
            <a:ahLst/>
            <a:rect l="0" t="0" r="r" b="b"/>
            <a:pathLst>
              <a:path fill="none" w="583" h="239">
                <a:moveTo>
                  <a:pt x="577" y="239"/>
                </a:moveTo>
                <a:lnTo>
                  <a:pt x="583" y="222"/>
                </a:lnTo>
                <a:lnTo>
                  <a:pt x="7" y="0"/>
                </a:lnTo>
                <a:lnTo>
                  <a:pt x="0" y="14"/>
                </a:lnTo>
                <a:lnTo>
                  <a:pt x="577" y="23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8307360" y="3295800"/>
            <a:ext cx="194040" cy="125640"/>
          </a:xfrm>
          <a:custGeom>
            <a:avLst/>
            <a:gdLst/>
            <a:ahLst/>
            <a:rect l="0" t="0" r="r" b="b"/>
            <a:pathLst>
              <a:path fill="none" w="539" h="349">
                <a:moveTo>
                  <a:pt x="5" y="349"/>
                </a:moveTo>
                <a:lnTo>
                  <a:pt x="0" y="332"/>
                </a:lnTo>
                <a:lnTo>
                  <a:pt x="536" y="0"/>
                </a:lnTo>
                <a:lnTo>
                  <a:pt x="539" y="10"/>
                </a:lnTo>
                <a:lnTo>
                  <a:pt x="5" y="34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8307360" y="3365640"/>
            <a:ext cx="216360" cy="43200"/>
          </a:xfrm>
          <a:custGeom>
            <a:avLst/>
            <a:gdLst/>
            <a:ahLst/>
            <a:rect l="0" t="0" r="r" b="b"/>
            <a:pathLst>
              <a:path fill="none" w="601" h="120">
                <a:moveTo>
                  <a:pt x="0" y="120"/>
                </a:moveTo>
                <a:lnTo>
                  <a:pt x="0" y="99"/>
                </a:lnTo>
                <a:lnTo>
                  <a:pt x="601" y="0"/>
                </a:lnTo>
                <a:lnTo>
                  <a:pt x="601" y="14"/>
                </a:lnTo>
                <a:lnTo>
                  <a:pt x="0" y="12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8461440" y="336564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248" y="111"/>
                </a:moveTo>
                <a:lnTo>
                  <a:pt x="0" y="111"/>
                </a:lnTo>
                <a:lnTo>
                  <a:pt x="0" y="0"/>
                </a:lnTo>
                <a:lnTo>
                  <a:pt x="248" y="0"/>
                </a:lnTo>
                <a:lnTo>
                  <a:pt x="248" y="1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245440" y="339876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24" y="0"/>
                </a:moveTo>
                <a:lnTo>
                  <a:pt x="149" y="0"/>
                </a:lnTo>
                <a:lnTo>
                  <a:pt x="173" y="0"/>
                </a:lnTo>
                <a:lnTo>
                  <a:pt x="196" y="9"/>
                </a:lnTo>
                <a:lnTo>
                  <a:pt x="214" y="18"/>
                </a:lnTo>
                <a:lnTo>
                  <a:pt x="221" y="18"/>
                </a:lnTo>
                <a:lnTo>
                  <a:pt x="227" y="27"/>
                </a:lnTo>
                <a:lnTo>
                  <a:pt x="233" y="36"/>
                </a:lnTo>
                <a:lnTo>
                  <a:pt x="239" y="36"/>
                </a:lnTo>
                <a:lnTo>
                  <a:pt x="245" y="45"/>
                </a:lnTo>
                <a:lnTo>
                  <a:pt x="245" y="56"/>
                </a:lnTo>
                <a:lnTo>
                  <a:pt x="248" y="65"/>
                </a:lnTo>
                <a:lnTo>
                  <a:pt x="248" y="74"/>
                </a:lnTo>
                <a:lnTo>
                  <a:pt x="245" y="74"/>
                </a:lnTo>
                <a:lnTo>
                  <a:pt x="242" y="83"/>
                </a:lnTo>
                <a:lnTo>
                  <a:pt x="239" y="92"/>
                </a:lnTo>
                <a:lnTo>
                  <a:pt x="233" y="92"/>
                </a:lnTo>
                <a:lnTo>
                  <a:pt x="227" y="92"/>
                </a:lnTo>
                <a:lnTo>
                  <a:pt x="221" y="102"/>
                </a:lnTo>
                <a:lnTo>
                  <a:pt x="214" y="102"/>
                </a:lnTo>
                <a:lnTo>
                  <a:pt x="196" y="111"/>
                </a:lnTo>
                <a:lnTo>
                  <a:pt x="173" y="111"/>
                </a:lnTo>
                <a:lnTo>
                  <a:pt x="149" y="111"/>
                </a:lnTo>
                <a:lnTo>
                  <a:pt x="124" y="111"/>
                </a:lnTo>
                <a:lnTo>
                  <a:pt x="102" y="111"/>
                </a:lnTo>
                <a:lnTo>
                  <a:pt x="78" y="111"/>
                </a:lnTo>
                <a:lnTo>
                  <a:pt x="58" y="102"/>
                </a:lnTo>
                <a:lnTo>
                  <a:pt x="37" y="102"/>
                </a:lnTo>
                <a:lnTo>
                  <a:pt x="30" y="92"/>
                </a:lnTo>
                <a:lnTo>
                  <a:pt x="21" y="92"/>
                </a:lnTo>
                <a:lnTo>
                  <a:pt x="15" y="92"/>
                </a:lnTo>
                <a:lnTo>
                  <a:pt x="9" y="83"/>
                </a:lnTo>
                <a:lnTo>
                  <a:pt x="6" y="83"/>
                </a:lnTo>
                <a:lnTo>
                  <a:pt x="3" y="74"/>
                </a:lnTo>
                <a:lnTo>
                  <a:pt x="0" y="74"/>
                </a:lnTo>
                <a:lnTo>
                  <a:pt x="0" y="65"/>
                </a:lnTo>
                <a:lnTo>
                  <a:pt x="0" y="56"/>
                </a:lnTo>
                <a:lnTo>
                  <a:pt x="3" y="56"/>
                </a:lnTo>
                <a:lnTo>
                  <a:pt x="6" y="45"/>
                </a:lnTo>
                <a:lnTo>
                  <a:pt x="9" y="36"/>
                </a:lnTo>
                <a:lnTo>
                  <a:pt x="15" y="27"/>
                </a:lnTo>
                <a:lnTo>
                  <a:pt x="21" y="27"/>
                </a:lnTo>
                <a:lnTo>
                  <a:pt x="30" y="18"/>
                </a:lnTo>
                <a:lnTo>
                  <a:pt x="37" y="18"/>
                </a:lnTo>
                <a:lnTo>
                  <a:pt x="58" y="9"/>
                </a:lnTo>
                <a:lnTo>
                  <a:pt x="78" y="0"/>
                </a:lnTo>
                <a:lnTo>
                  <a:pt x="102" y="0"/>
                </a:lnTo>
                <a:lnTo>
                  <a:pt x="12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8461440" y="338940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19" y="0"/>
                </a:moveTo>
                <a:lnTo>
                  <a:pt x="145" y="8"/>
                </a:lnTo>
                <a:lnTo>
                  <a:pt x="170" y="8"/>
                </a:lnTo>
                <a:lnTo>
                  <a:pt x="191" y="16"/>
                </a:lnTo>
                <a:lnTo>
                  <a:pt x="210" y="16"/>
                </a:lnTo>
                <a:lnTo>
                  <a:pt x="220" y="25"/>
                </a:lnTo>
                <a:lnTo>
                  <a:pt x="226" y="25"/>
                </a:lnTo>
                <a:lnTo>
                  <a:pt x="232" y="33"/>
                </a:lnTo>
                <a:lnTo>
                  <a:pt x="239" y="33"/>
                </a:lnTo>
                <a:lnTo>
                  <a:pt x="242" y="33"/>
                </a:lnTo>
                <a:lnTo>
                  <a:pt x="245" y="42"/>
                </a:lnTo>
                <a:lnTo>
                  <a:pt x="248" y="42"/>
                </a:lnTo>
                <a:lnTo>
                  <a:pt x="248" y="50"/>
                </a:lnTo>
                <a:lnTo>
                  <a:pt x="248" y="60"/>
                </a:lnTo>
                <a:lnTo>
                  <a:pt x="245" y="68"/>
                </a:lnTo>
                <a:lnTo>
                  <a:pt x="242" y="68"/>
                </a:lnTo>
                <a:lnTo>
                  <a:pt x="239" y="77"/>
                </a:lnTo>
                <a:lnTo>
                  <a:pt x="232" y="85"/>
                </a:lnTo>
                <a:lnTo>
                  <a:pt x="226" y="85"/>
                </a:lnTo>
                <a:lnTo>
                  <a:pt x="220" y="94"/>
                </a:lnTo>
                <a:lnTo>
                  <a:pt x="210" y="94"/>
                </a:lnTo>
                <a:lnTo>
                  <a:pt x="191" y="102"/>
                </a:lnTo>
                <a:lnTo>
                  <a:pt x="170" y="111"/>
                </a:lnTo>
                <a:lnTo>
                  <a:pt x="145" y="111"/>
                </a:lnTo>
                <a:lnTo>
                  <a:pt x="119" y="111"/>
                </a:lnTo>
                <a:lnTo>
                  <a:pt x="94" y="111"/>
                </a:lnTo>
                <a:lnTo>
                  <a:pt x="74" y="102"/>
                </a:lnTo>
                <a:lnTo>
                  <a:pt x="51" y="102"/>
                </a:lnTo>
                <a:lnTo>
                  <a:pt x="35" y="94"/>
                </a:lnTo>
                <a:lnTo>
                  <a:pt x="25" y="85"/>
                </a:lnTo>
                <a:lnTo>
                  <a:pt x="19" y="85"/>
                </a:lnTo>
                <a:lnTo>
                  <a:pt x="12" y="77"/>
                </a:lnTo>
                <a:lnTo>
                  <a:pt x="6" y="77"/>
                </a:lnTo>
                <a:lnTo>
                  <a:pt x="3" y="68"/>
                </a:lnTo>
                <a:lnTo>
                  <a:pt x="0" y="60"/>
                </a:lnTo>
                <a:lnTo>
                  <a:pt x="0" y="50"/>
                </a:lnTo>
                <a:lnTo>
                  <a:pt x="0" y="42"/>
                </a:lnTo>
                <a:lnTo>
                  <a:pt x="0" y="33"/>
                </a:lnTo>
                <a:lnTo>
                  <a:pt x="3" y="33"/>
                </a:lnTo>
                <a:lnTo>
                  <a:pt x="6" y="33"/>
                </a:lnTo>
                <a:lnTo>
                  <a:pt x="12" y="25"/>
                </a:lnTo>
                <a:lnTo>
                  <a:pt x="19" y="25"/>
                </a:lnTo>
                <a:lnTo>
                  <a:pt x="25" y="16"/>
                </a:lnTo>
                <a:lnTo>
                  <a:pt x="35" y="16"/>
                </a:lnTo>
                <a:lnTo>
                  <a:pt x="51" y="8"/>
                </a:lnTo>
                <a:lnTo>
                  <a:pt x="74" y="8"/>
                </a:lnTo>
                <a:lnTo>
                  <a:pt x="94" y="8"/>
                </a:lnTo>
                <a:lnTo>
                  <a:pt x="11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8640720" y="334332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27" y="0"/>
                </a:moveTo>
                <a:lnTo>
                  <a:pt x="152" y="8"/>
                </a:lnTo>
                <a:lnTo>
                  <a:pt x="171" y="8"/>
                </a:lnTo>
                <a:lnTo>
                  <a:pt x="195" y="8"/>
                </a:lnTo>
                <a:lnTo>
                  <a:pt x="210" y="16"/>
                </a:lnTo>
                <a:lnTo>
                  <a:pt x="220" y="25"/>
                </a:lnTo>
                <a:lnTo>
                  <a:pt x="226" y="25"/>
                </a:lnTo>
                <a:lnTo>
                  <a:pt x="233" y="33"/>
                </a:lnTo>
                <a:lnTo>
                  <a:pt x="239" y="42"/>
                </a:lnTo>
                <a:lnTo>
                  <a:pt x="242" y="42"/>
                </a:lnTo>
                <a:lnTo>
                  <a:pt x="245" y="50"/>
                </a:lnTo>
                <a:lnTo>
                  <a:pt x="248" y="60"/>
                </a:lnTo>
                <a:lnTo>
                  <a:pt x="248" y="68"/>
                </a:lnTo>
                <a:lnTo>
                  <a:pt x="248" y="77"/>
                </a:lnTo>
                <a:lnTo>
                  <a:pt x="245" y="77"/>
                </a:lnTo>
                <a:lnTo>
                  <a:pt x="242" y="77"/>
                </a:lnTo>
                <a:lnTo>
                  <a:pt x="239" y="85"/>
                </a:lnTo>
                <a:lnTo>
                  <a:pt x="233" y="85"/>
                </a:lnTo>
                <a:lnTo>
                  <a:pt x="226" y="94"/>
                </a:lnTo>
                <a:lnTo>
                  <a:pt x="220" y="94"/>
                </a:lnTo>
                <a:lnTo>
                  <a:pt x="210" y="94"/>
                </a:lnTo>
                <a:lnTo>
                  <a:pt x="195" y="102"/>
                </a:lnTo>
                <a:lnTo>
                  <a:pt x="171" y="111"/>
                </a:lnTo>
                <a:lnTo>
                  <a:pt x="149" y="111"/>
                </a:lnTo>
                <a:lnTo>
                  <a:pt x="127" y="111"/>
                </a:lnTo>
                <a:lnTo>
                  <a:pt x="102" y="111"/>
                </a:lnTo>
                <a:lnTo>
                  <a:pt x="76" y="102"/>
                </a:lnTo>
                <a:lnTo>
                  <a:pt x="53" y="102"/>
                </a:lnTo>
                <a:lnTo>
                  <a:pt x="37" y="94"/>
                </a:lnTo>
                <a:lnTo>
                  <a:pt x="28" y="94"/>
                </a:lnTo>
                <a:lnTo>
                  <a:pt x="18" y="85"/>
                </a:lnTo>
                <a:lnTo>
                  <a:pt x="12" y="85"/>
                </a:lnTo>
                <a:lnTo>
                  <a:pt x="9" y="77"/>
                </a:lnTo>
                <a:lnTo>
                  <a:pt x="6" y="77"/>
                </a:lnTo>
                <a:lnTo>
                  <a:pt x="3" y="77"/>
                </a:lnTo>
                <a:lnTo>
                  <a:pt x="0" y="68"/>
                </a:lnTo>
                <a:lnTo>
                  <a:pt x="0" y="60"/>
                </a:lnTo>
                <a:lnTo>
                  <a:pt x="3" y="50"/>
                </a:lnTo>
                <a:lnTo>
                  <a:pt x="6" y="42"/>
                </a:lnTo>
                <a:lnTo>
                  <a:pt x="9" y="42"/>
                </a:lnTo>
                <a:lnTo>
                  <a:pt x="12" y="33"/>
                </a:lnTo>
                <a:lnTo>
                  <a:pt x="18" y="25"/>
                </a:lnTo>
                <a:lnTo>
                  <a:pt x="28" y="25"/>
                </a:lnTo>
                <a:lnTo>
                  <a:pt x="37" y="16"/>
                </a:lnTo>
                <a:lnTo>
                  <a:pt x="53" y="8"/>
                </a:lnTo>
                <a:lnTo>
                  <a:pt x="76" y="8"/>
                </a:lnTo>
                <a:lnTo>
                  <a:pt x="102" y="8"/>
                </a:lnTo>
                <a:lnTo>
                  <a:pt x="12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8616960" y="342108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27" y="0"/>
                </a:moveTo>
                <a:lnTo>
                  <a:pt x="152" y="8"/>
                </a:lnTo>
                <a:lnTo>
                  <a:pt x="175" y="8"/>
                </a:lnTo>
                <a:lnTo>
                  <a:pt x="195" y="16"/>
                </a:lnTo>
                <a:lnTo>
                  <a:pt x="214" y="16"/>
                </a:lnTo>
                <a:lnTo>
                  <a:pt x="220" y="25"/>
                </a:lnTo>
                <a:lnTo>
                  <a:pt x="226" y="33"/>
                </a:lnTo>
                <a:lnTo>
                  <a:pt x="233" y="33"/>
                </a:lnTo>
                <a:lnTo>
                  <a:pt x="239" y="42"/>
                </a:lnTo>
                <a:lnTo>
                  <a:pt x="242" y="50"/>
                </a:lnTo>
                <a:lnTo>
                  <a:pt x="245" y="50"/>
                </a:lnTo>
                <a:lnTo>
                  <a:pt x="248" y="60"/>
                </a:lnTo>
                <a:lnTo>
                  <a:pt x="248" y="68"/>
                </a:lnTo>
                <a:lnTo>
                  <a:pt x="245" y="77"/>
                </a:lnTo>
                <a:lnTo>
                  <a:pt x="242" y="85"/>
                </a:lnTo>
                <a:lnTo>
                  <a:pt x="239" y="85"/>
                </a:lnTo>
                <a:lnTo>
                  <a:pt x="233" y="85"/>
                </a:lnTo>
                <a:lnTo>
                  <a:pt x="226" y="94"/>
                </a:lnTo>
                <a:lnTo>
                  <a:pt x="220" y="94"/>
                </a:lnTo>
                <a:lnTo>
                  <a:pt x="214" y="102"/>
                </a:lnTo>
                <a:lnTo>
                  <a:pt x="195" y="102"/>
                </a:lnTo>
                <a:lnTo>
                  <a:pt x="175" y="102"/>
                </a:lnTo>
                <a:lnTo>
                  <a:pt x="152" y="111"/>
                </a:lnTo>
                <a:lnTo>
                  <a:pt x="127" y="111"/>
                </a:lnTo>
                <a:lnTo>
                  <a:pt x="102" y="111"/>
                </a:lnTo>
                <a:lnTo>
                  <a:pt x="76" y="102"/>
                </a:lnTo>
                <a:lnTo>
                  <a:pt x="56" y="102"/>
                </a:lnTo>
                <a:lnTo>
                  <a:pt x="37" y="94"/>
                </a:lnTo>
                <a:lnTo>
                  <a:pt x="28" y="94"/>
                </a:lnTo>
                <a:lnTo>
                  <a:pt x="22" y="85"/>
                </a:lnTo>
                <a:lnTo>
                  <a:pt x="15" y="85"/>
                </a:lnTo>
                <a:lnTo>
                  <a:pt x="9" y="85"/>
                </a:lnTo>
                <a:lnTo>
                  <a:pt x="6" y="77"/>
                </a:lnTo>
                <a:lnTo>
                  <a:pt x="3" y="77"/>
                </a:lnTo>
                <a:lnTo>
                  <a:pt x="0" y="68"/>
                </a:lnTo>
                <a:lnTo>
                  <a:pt x="0" y="60"/>
                </a:lnTo>
                <a:lnTo>
                  <a:pt x="3" y="50"/>
                </a:lnTo>
                <a:lnTo>
                  <a:pt x="6" y="42"/>
                </a:lnTo>
                <a:lnTo>
                  <a:pt x="9" y="33"/>
                </a:lnTo>
                <a:lnTo>
                  <a:pt x="15" y="33"/>
                </a:lnTo>
                <a:lnTo>
                  <a:pt x="22" y="25"/>
                </a:lnTo>
                <a:lnTo>
                  <a:pt x="28" y="25"/>
                </a:lnTo>
                <a:lnTo>
                  <a:pt x="37" y="16"/>
                </a:lnTo>
                <a:lnTo>
                  <a:pt x="56" y="16"/>
                </a:lnTo>
                <a:lnTo>
                  <a:pt x="76" y="8"/>
                </a:lnTo>
                <a:lnTo>
                  <a:pt x="102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8313840" y="3343320"/>
            <a:ext cx="392400" cy="68760"/>
          </a:xfrm>
          <a:custGeom>
            <a:avLst/>
            <a:gdLst/>
            <a:ahLst/>
            <a:rect l="0" t="0" r="r" b="b"/>
            <a:pathLst>
              <a:path fill="none" w="1090" h="191">
                <a:moveTo>
                  <a:pt x="5" y="170"/>
                </a:moveTo>
                <a:lnTo>
                  <a:pt x="1090" y="0"/>
                </a:lnTo>
                <a:lnTo>
                  <a:pt x="1090" y="21"/>
                </a:lnTo>
                <a:lnTo>
                  <a:pt x="0" y="191"/>
                </a:lnTo>
                <a:lnTo>
                  <a:pt x="5" y="17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8616960" y="3344760"/>
            <a:ext cx="89280" cy="92520"/>
          </a:xfrm>
          <a:custGeom>
            <a:avLst/>
            <a:gdLst/>
            <a:ahLst/>
            <a:rect l="0" t="0" r="r" b="b"/>
            <a:pathLst>
              <a:path fill="none" w="248" h="257">
                <a:moveTo>
                  <a:pt x="0" y="240"/>
                </a:moveTo>
                <a:lnTo>
                  <a:pt x="248" y="0"/>
                </a:lnTo>
                <a:lnTo>
                  <a:pt x="248" y="10"/>
                </a:lnTo>
                <a:lnTo>
                  <a:pt x="48" y="257"/>
                </a:lnTo>
                <a:lnTo>
                  <a:pt x="0" y="2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8513640" y="3290760"/>
            <a:ext cx="176400" cy="162360"/>
          </a:xfrm>
          <a:custGeom>
            <a:avLst/>
            <a:gdLst/>
            <a:ahLst/>
            <a:rect l="0" t="0" r="r" b="b"/>
            <a:pathLst>
              <a:path fill="none" w="490" h="451">
                <a:moveTo>
                  <a:pt x="481" y="451"/>
                </a:moveTo>
                <a:lnTo>
                  <a:pt x="490" y="433"/>
                </a:lnTo>
                <a:lnTo>
                  <a:pt x="7" y="0"/>
                </a:lnTo>
                <a:lnTo>
                  <a:pt x="0" y="15"/>
                </a:lnTo>
                <a:lnTo>
                  <a:pt x="481" y="45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8486640" y="3351240"/>
            <a:ext cx="203400" cy="82800"/>
          </a:xfrm>
          <a:custGeom>
            <a:avLst/>
            <a:gdLst/>
            <a:ahLst/>
            <a:rect l="0" t="0" r="r" b="b"/>
            <a:pathLst>
              <a:path fill="none" w="565" h="230">
                <a:moveTo>
                  <a:pt x="561" y="230"/>
                </a:moveTo>
                <a:lnTo>
                  <a:pt x="565" y="215"/>
                </a:lnTo>
                <a:lnTo>
                  <a:pt x="8" y="0"/>
                </a:lnTo>
                <a:lnTo>
                  <a:pt x="0" y="14"/>
                </a:lnTo>
                <a:lnTo>
                  <a:pt x="561" y="2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8319960" y="3297240"/>
            <a:ext cx="187560" cy="127440"/>
          </a:xfrm>
          <a:custGeom>
            <a:avLst/>
            <a:gdLst/>
            <a:ahLst/>
            <a:rect l="0" t="0" r="r" b="b"/>
            <a:pathLst>
              <a:path fill="none" w="521" h="354">
                <a:moveTo>
                  <a:pt x="3" y="354"/>
                </a:moveTo>
                <a:lnTo>
                  <a:pt x="0" y="337"/>
                </a:lnTo>
                <a:lnTo>
                  <a:pt x="516" y="0"/>
                </a:lnTo>
                <a:lnTo>
                  <a:pt x="521" y="10"/>
                </a:lnTo>
                <a:lnTo>
                  <a:pt x="3" y="35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8313840" y="3368520"/>
            <a:ext cx="216360" cy="43200"/>
          </a:xfrm>
          <a:custGeom>
            <a:avLst/>
            <a:gdLst/>
            <a:ahLst/>
            <a:rect l="0" t="0" r="r" b="b"/>
            <a:pathLst>
              <a:path fill="none" w="601" h="120">
                <a:moveTo>
                  <a:pt x="0" y="120"/>
                </a:moveTo>
                <a:lnTo>
                  <a:pt x="0" y="100"/>
                </a:lnTo>
                <a:lnTo>
                  <a:pt x="601" y="0"/>
                </a:lnTo>
                <a:lnTo>
                  <a:pt x="601" y="15"/>
                </a:lnTo>
                <a:lnTo>
                  <a:pt x="0" y="12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8467560" y="336852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248" y="111"/>
                </a:moveTo>
                <a:lnTo>
                  <a:pt x="0" y="111"/>
                </a:lnTo>
                <a:lnTo>
                  <a:pt x="0" y="0"/>
                </a:lnTo>
                <a:lnTo>
                  <a:pt x="248" y="0"/>
                </a:lnTo>
                <a:lnTo>
                  <a:pt x="248" y="1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8253360" y="340344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24" y="0"/>
                </a:moveTo>
                <a:lnTo>
                  <a:pt x="149" y="0"/>
                </a:lnTo>
                <a:lnTo>
                  <a:pt x="173" y="0"/>
                </a:lnTo>
                <a:lnTo>
                  <a:pt x="193" y="9"/>
                </a:lnTo>
                <a:lnTo>
                  <a:pt x="211" y="9"/>
                </a:lnTo>
                <a:lnTo>
                  <a:pt x="221" y="18"/>
                </a:lnTo>
                <a:lnTo>
                  <a:pt x="227" y="27"/>
                </a:lnTo>
                <a:lnTo>
                  <a:pt x="233" y="27"/>
                </a:lnTo>
                <a:lnTo>
                  <a:pt x="239" y="36"/>
                </a:lnTo>
                <a:lnTo>
                  <a:pt x="242" y="45"/>
                </a:lnTo>
                <a:lnTo>
                  <a:pt x="245" y="45"/>
                </a:lnTo>
                <a:lnTo>
                  <a:pt x="248" y="56"/>
                </a:lnTo>
                <a:lnTo>
                  <a:pt x="248" y="65"/>
                </a:lnTo>
                <a:lnTo>
                  <a:pt x="248" y="74"/>
                </a:lnTo>
                <a:lnTo>
                  <a:pt x="245" y="74"/>
                </a:lnTo>
                <a:lnTo>
                  <a:pt x="242" y="83"/>
                </a:lnTo>
                <a:lnTo>
                  <a:pt x="239" y="83"/>
                </a:lnTo>
                <a:lnTo>
                  <a:pt x="233" y="83"/>
                </a:lnTo>
                <a:lnTo>
                  <a:pt x="227" y="92"/>
                </a:lnTo>
                <a:lnTo>
                  <a:pt x="221" y="92"/>
                </a:lnTo>
                <a:lnTo>
                  <a:pt x="211" y="102"/>
                </a:lnTo>
                <a:lnTo>
                  <a:pt x="193" y="102"/>
                </a:lnTo>
                <a:lnTo>
                  <a:pt x="173" y="111"/>
                </a:lnTo>
                <a:lnTo>
                  <a:pt x="149" y="111"/>
                </a:lnTo>
                <a:lnTo>
                  <a:pt x="124" y="111"/>
                </a:lnTo>
                <a:lnTo>
                  <a:pt x="99" y="111"/>
                </a:lnTo>
                <a:lnTo>
                  <a:pt x="78" y="111"/>
                </a:lnTo>
                <a:lnTo>
                  <a:pt x="58" y="102"/>
                </a:lnTo>
                <a:lnTo>
                  <a:pt x="37" y="102"/>
                </a:lnTo>
                <a:lnTo>
                  <a:pt x="30" y="92"/>
                </a:lnTo>
                <a:lnTo>
                  <a:pt x="24" y="92"/>
                </a:lnTo>
                <a:lnTo>
                  <a:pt x="15" y="83"/>
                </a:lnTo>
                <a:lnTo>
                  <a:pt x="12" y="83"/>
                </a:lnTo>
                <a:lnTo>
                  <a:pt x="6" y="83"/>
                </a:lnTo>
                <a:lnTo>
                  <a:pt x="3" y="74"/>
                </a:lnTo>
                <a:lnTo>
                  <a:pt x="0" y="74"/>
                </a:lnTo>
                <a:lnTo>
                  <a:pt x="0" y="65"/>
                </a:lnTo>
                <a:lnTo>
                  <a:pt x="0" y="56"/>
                </a:lnTo>
                <a:lnTo>
                  <a:pt x="3" y="45"/>
                </a:lnTo>
                <a:lnTo>
                  <a:pt x="6" y="45"/>
                </a:lnTo>
                <a:lnTo>
                  <a:pt x="12" y="36"/>
                </a:lnTo>
                <a:lnTo>
                  <a:pt x="15" y="27"/>
                </a:lnTo>
                <a:lnTo>
                  <a:pt x="24" y="27"/>
                </a:lnTo>
                <a:lnTo>
                  <a:pt x="30" y="18"/>
                </a:lnTo>
                <a:lnTo>
                  <a:pt x="37" y="9"/>
                </a:lnTo>
                <a:lnTo>
                  <a:pt x="58" y="9"/>
                </a:lnTo>
                <a:lnTo>
                  <a:pt x="78" y="0"/>
                </a:lnTo>
                <a:lnTo>
                  <a:pt x="99" y="0"/>
                </a:lnTo>
                <a:lnTo>
                  <a:pt x="12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8466120" y="339264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19" y="0"/>
                </a:moveTo>
                <a:lnTo>
                  <a:pt x="148" y="0"/>
                </a:lnTo>
                <a:lnTo>
                  <a:pt x="170" y="0"/>
                </a:lnTo>
                <a:lnTo>
                  <a:pt x="194" y="9"/>
                </a:lnTo>
                <a:lnTo>
                  <a:pt x="213" y="9"/>
                </a:lnTo>
                <a:lnTo>
                  <a:pt x="220" y="18"/>
                </a:lnTo>
                <a:lnTo>
                  <a:pt x="229" y="18"/>
                </a:lnTo>
                <a:lnTo>
                  <a:pt x="236" y="18"/>
                </a:lnTo>
                <a:lnTo>
                  <a:pt x="239" y="27"/>
                </a:lnTo>
                <a:lnTo>
                  <a:pt x="245" y="27"/>
                </a:lnTo>
                <a:lnTo>
                  <a:pt x="245" y="36"/>
                </a:lnTo>
                <a:lnTo>
                  <a:pt x="248" y="36"/>
                </a:lnTo>
                <a:lnTo>
                  <a:pt x="248" y="45"/>
                </a:lnTo>
                <a:lnTo>
                  <a:pt x="248" y="56"/>
                </a:lnTo>
                <a:lnTo>
                  <a:pt x="245" y="56"/>
                </a:lnTo>
                <a:lnTo>
                  <a:pt x="245" y="65"/>
                </a:lnTo>
                <a:lnTo>
                  <a:pt x="239" y="74"/>
                </a:lnTo>
                <a:lnTo>
                  <a:pt x="236" y="83"/>
                </a:lnTo>
                <a:lnTo>
                  <a:pt x="229" y="83"/>
                </a:lnTo>
                <a:lnTo>
                  <a:pt x="220" y="92"/>
                </a:lnTo>
                <a:lnTo>
                  <a:pt x="213" y="92"/>
                </a:lnTo>
                <a:lnTo>
                  <a:pt x="194" y="102"/>
                </a:lnTo>
                <a:lnTo>
                  <a:pt x="170" y="111"/>
                </a:lnTo>
                <a:lnTo>
                  <a:pt x="148" y="111"/>
                </a:lnTo>
                <a:lnTo>
                  <a:pt x="119" y="111"/>
                </a:lnTo>
                <a:lnTo>
                  <a:pt x="97" y="111"/>
                </a:lnTo>
                <a:lnTo>
                  <a:pt x="74" y="111"/>
                </a:lnTo>
                <a:lnTo>
                  <a:pt x="54" y="102"/>
                </a:lnTo>
                <a:lnTo>
                  <a:pt x="35" y="92"/>
                </a:lnTo>
                <a:lnTo>
                  <a:pt x="28" y="92"/>
                </a:lnTo>
                <a:lnTo>
                  <a:pt x="19" y="83"/>
                </a:lnTo>
                <a:lnTo>
                  <a:pt x="16" y="83"/>
                </a:lnTo>
                <a:lnTo>
                  <a:pt x="9" y="74"/>
                </a:lnTo>
                <a:lnTo>
                  <a:pt x="6" y="65"/>
                </a:lnTo>
                <a:lnTo>
                  <a:pt x="3" y="56"/>
                </a:lnTo>
                <a:lnTo>
                  <a:pt x="0" y="56"/>
                </a:lnTo>
                <a:lnTo>
                  <a:pt x="0" y="45"/>
                </a:lnTo>
                <a:lnTo>
                  <a:pt x="0" y="36"/>
                </a:lnTo>
                <a:lnTo>
                  <a:pt x="3" y="36"/>
                </a:lnTo>
                <a:lnTo>
                  <a:pt x="6" y="27"/>
                </a:lnTo>
                <a:lnTo>
                  <a:pt x="9" y="27"/>
                </a:lnTo>
                <a:lnTo>
                  <a:pt x="16" y="18"/>
                </a:lnTo>
                <a:lnTo>
                  <a:pt x="19" y="18"/>
                </a:lnTo>
                <a:lnTo>
                  <a:pt x="28" y="18"/>
                </a:lnTo>
                <a:lnTo>
                  <a:pt x="35" y="9"/>
                </a:lnTo>
                <a:lnTo>
                  <a:pt x="54" y="9"/>
                </a:lnTo>
                <a:lnTo>
                  <a:pt x="74" y="0"/>
                </a:lnTo>
                <a:lnTo>
                  <a:pt x="97" y="0"/>
                </a:lnTo>
                <a:lnTo>
                  <a:pt x="11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8645400" y="334476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29" y="0"/>
                </a:moveTo>
                <a:lnTo>
                  <a:pt x="151" y="0"/>
                </a:lnTo>
                <a:lnTo>
                  <a:pt x="174" y="0"/>
                </a:lnTo>
                <a:lnTo>
                  <a:pt x="194" y="8"/>
                </a:lnTo>
                <a:lnTo>
                  <a:pt x="213" y="16"/>
                </a:lnTo>
                <a:lnTo>
                  <a:pt x="220" y="16"/>
                </a:lnTo>
                <a:lnTo>
                  <a:pt x="229" y="25"/>
                </a:lnTo>
                <a:lnTo>
                  <a:pt x="236" y="25"/>
                </a:lnTo>
                <a:lnTo>
                  <a:pt x="239" y="33"/>
                </a:lnTo>
                <a:lnTo>
                  <a:pt x="245" y="42"/>
                </a:lnTo>
                <a:lnTo>
                  <a:pt x="245" y="50"/>
                </a:lnTo>
                <a:lnTo>
                  <a:pt x="248" y="60"/>
                </a:lnTo>
                <a:lnTo>
                  <a:pt x="248" y="68"/>
                </a:lnTo>
                <a:lnTo>
                  <a:pt x="245" y="68"/>
                </a:lnTo>
                <a:lnTo>
                  <a:pt x="245" y="77"/>
                </a:lnTo>
                <a:lnTo>
                  <a:pt x="239" y="77"/>
                </a:lnTo>
                <a:lnTo>
                  <a:pt x="236" y="85"/>
                </a:lnTo>
                <a:lnTo>
                  <a:pt x="229" y="85"/>
                </a:lnTo>
                <a:lnTo>
                  <a:pt x="220" y="94"/>
                </a:lnTo>
                <a:lnTo>
                  <a:pt x="213" y="94"/>
                </a:lnTo>
                <a:lnTo>
                  <a:pt x="194" y="94"/>
                </a:lnTo>
                <a:lnTo>
                  <a:pt x="174" y="102"/>
                </a:lnTo>
                <a:lnTo>
                  <a:pt x="151" y="102"/>
                </a:lnTo>
                <a:lnTo>
                  <a:pt x="129" y="111"/>
                </a:lnTo>
                <a:lnTo>
                  <a:pt x="103" y="102"/>
                </a:lnTo>
                <a:lnTo>
                  <a:pt x="77" y="102"/>
                </a:lnTo>
                <a:lnTo>
                  <a:pt x="54" y="94"/>
                </a:lnTo>
                <a:lnTo>
                  <a:pt x="38" y="94"/>
                </a:lnTo>
                <a:lnTo>
                  <a:pt x="28" y="94"/>
                </a:lnTo>
                <a:lnTo>
                  <a:pt x="19" y="85"/>
                </a:lnTo>
                <a:lnTo>
                  <a:pt x="12" y="85"/>
                </a:lnTo>
                <a:lnTo>
                  <a:pt x="9" y="77"/>
                </a:lnTo>
                <a:lnTo>
                  <a:pt x="6" y="77"/>
                </a:lnTo>
                <a:lnTo>
                  <a:pt x="3" y="68"/>
                </a:lnTo>
                <a:lnTo>
                  <a:pt x="0" y="68"/>
                </a:lnTo>
                <a:lnTo>
                  <a:pt x="0" y="60"/>
                </a:lnTo>
                <a:lnTo>
                  <a:pt x="3" y="50"/>
                </a:lnTo>
                <a:lnTo>
                  <a:pt x="6" y="42"/>
                </a:lnTo>
                <a:lnTo>
                  <a:pt x="9" y="33"/>
                </a:lnTo>
                <a:lnTo>
                  <a:pt x="12" y="25"/>
                </a:lnTo>
                <a:lnTo>
                  <a:pt x="19" y="25"/>
                </a:lnTo>
                <a:lnTo>
                  <a:pt x="28" y="16"/>
                </a:lnTo>
                <a:lnTo>
                  <a:pt x="38" y="16"/>
                </a:lnTo>
                <a:lnTo>
                  <a:pt x="54" y="8"/>
                </a:lnTo>
                <a:lnTo>
                  <a:pt x="77" y="0"/>
                </a:lnTo>
                <a:lnTo>
                  <a:pt x="103" y="0"/>
                </a:lnTo>
                <a:lnTo>
                  <a:pt x="12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8621640" y="342252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29" y="0"/>
                </a:moveTo>
                <a:lnTo>
                  <a:pt x="151" y="0"/>
                </a:lnTo>
                <a:lnTo>
                  <a:pt x="174" y="0"/>
                </a:lnTo>
                <a:lnTo>
                  <a:pt x="197" y="9"/>
                </a:lnTo>
                <a:lnTo>
                  <a:pt x="213" y="9"/>
                </a:lnTo>
                <a:lnTo>
                  <a:pt x="223" y="18"/>
                </a:lnTo>
                <a:lnTo>
                  <a:pt x="229" y="27"/>
                </a:lnTo>
                <a:lnTo>
                  <a:pt x="236" y="27"/>
                </a:lnTo>
                <a:lnTo>
                  <a:pt x="239" y="36"/>
                </a:lnTo>
                <a:lnTo>
                  <a:pt x="245" y="45"/>
                </a:lnTo>
                <a:lnTo>
                  <a:pt x="248" y="45"/>
                </a:lnTo>
                <a:lnTo>
                  <a:pt x="248" y="56"/>
                </a:lnTo>
                <a:lnTo>
                  <a:pt x="248" y="65"/>
                </a:lnTo>
                <a:lnTo>
                  <a:pt x="248" y="74"/>
                </a:lnTo>
                <a:lnTo>
                  <a:pt x="245" y="83"/>
                </a:lnTo>
                <a:lnTo>
                  <a:pt x="239" y="83"/>
                </a:lnTo>
                <a:lnTo>
                  <a:pt x="236" y="83"/>
                </a:lnTo>
                <a:lnTo>
                  <a:pt x="229" y="92"/>
                </a:lnTo>
                <a:lnTo>
                  <a:pt x="223" y="92"/>
                </a:lnTo>
                <a:lnTo>
                  <a:pt x="213" y="102"/>
                </a:lnTo>
                <a:lnTo>
                  <a:pt x="197" y="102"/>
                </a:lnTo>
                <a:lnTo>
                  <a:pt x="174" y="111"/>
                </a:lnTo>
                <a:lnTo>
                  <a:pt x="151" y="111"/>
                </a:lnTo>
                <a:lnTo>
                  <a:pt x="129" y="111"/>
                </a:lnTo>
                <a:lnTo>
                  <a:pt x="103" y="111"/>
                </a:lnTo>
                <a:lnTo>
                  <a:pt x="77" y="111"/>
                </a:lnTo>
                <a:lnTo>
                  <a:pt x="54" y="102"/>
                </a:lnTo>
                <a:lnTo>
                  <a:pt x="35" y="102"/>
                </a:lnTo>
                <a:lnTo>
                  <a:pt x="28" y="92"/>
                </a:lnTo>
                <a:lnTo>
                  <a:pt x="22" y="92"/>
                </a:lnTo>
                <a:lnTo>
                  <a:pt x="16" y="83"/>
                </a:lnTo>
                <a:lnTo>
                  <a:pt x="9" y="83"/>
                </a:lnTo>
                <a:lnTo>
                  <a:pt x="6" y="83"/>
                </a:lnTo>
                <a:lnTo>
                  <a:pt x="3" y="74"/>
                </a:lnTo>
                <a:lnTo>
                  <a:pt x="0" y="74"/>
                </a:lnTo>
                <a:lnTo>
                  <a:pt x="0" y="65"/>
                </a:lnTo>
                <a:lnTo>
                  <a:pt x="0" y="56"/>
                </a:lnTo>
                <a:lnTo>
                  <a:pt x="3" y="45"/>
                </a:lnTo>
                <a:lnTo>
                  <a:pt x="6" y="45"/>
                </a:lnTo>
                <a:lnTo>
                  <a:pt x="9" y="36"/>
                </a:lnTo>
                <a:lnTo>
                  <a:pt x="16" y="27"/>
                </a:lnTo>
                <a:lnTo>
                  <a:pt x="22" y="27"/>
                </a:lnTo>
                <a:lnTo>
                  <a:pt x="28" y="18"/>
                </a:lnTo>
                <a:lnTo>
                  <a:pt x="35" y="9"/>
                </a:lnTo>
                <a:lnTo>
                  <a:pt x="54" y="9"/>
                </a:lnTo>
                <a:lnTo>
                  <a:pt x="77" y="0"/>
                </a:lnTo>
                <a:lnTo>
                  <a:pt x="103" y="0"/>
                </a:lnTo>
                <a:lnTo>
                  <a:pt x="12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8329680" y="3344760"/>
            <a:ext cx="379800" cy="68760"/>
          </a:xfrm>
          <a:custGeom>
            <a:avLst/>
            <a:gdLst/>
            <a:ahLst/>
            <a:rect l="0" t="0" r="r" b="b"/>
            <a:pathLst>
              <a:path fill="none" w="1055" h="191">
                <a:moveTo>
                  <a:pt x="3" y="171"/>
                </a:moveTo>
                <a:lnTo>
                  <a:pt x="1055" y="0"/>
                </a:lnTo>
                <a:lnTo>
                  <a:pt x="1055" y="20"/>
                </a:lnTo>
                <a:lnTo>
                  <a:pt x="0" y="191"/>
                </a:lnTo>
                <a:lnTo>
                  <a:pt x="3" y="17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8521560" y="3287880"/>
            <a:ext cx="187560" cy="68760"/>
          </a:xfrm>
          <a:custGeom>
            <a:avLst/>
            <a:gdLst/>
            <a:ahLst/>
            <a:rect l="0" t="0" r="r" b="b"/>
            <a:pathLst>
              <a:path fill="none" w="521" h="191">
                <a:moveTo>
                  <a:pt x="0" y="0"/>
                </a:moveTo>
                <a:lnTo>
                  <a:pt x="521" y="174"/>
                </a:lnTo>
                <a:lnTo>
                  <a:pt x="521" y="191"/>
                </a:lnTo>
                <a:lnTo>
                  <a:pt x="0" y="3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8620200" y="3346560"/>
            <a:ext cx="89280" cy="89280"/>
          </a:xfrm>
          <a:custGeom>
            <a:avLst/>
            <a:gdLst/>
            <a:ahLst/>
            <a:rect l="0" t="0" r="r" b="b"/>
            <a:pathLst>
              <a:path fill="none" w="248" h="248">
                <a:moveTo>
                  <a:pt x="0" y="232"/>
                </a:moveTo>
                <a:lnTo>
                  <a:pt x="248" y="0"/>
                </a:lnTo>
                <a:lnTo>
                  <a:pt x="248" y="8"/>
                </a:lnTo>
                <a:lnTo>
                  <a:pt x="43" y="248"/>
                </a:lnTo>
                <a:lnTo>
                  <a:pt x="0" y="23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8542440" y="3346560"/>
            <a:ext cx="165600" cy="39960"/>
          </a:xfrm>
          <a:custGeom>
            <a:avLst/>
            <a:gdLst/>
            <a:ahLst/>
            <a:rect l="0" t="0" r="r" b="b"/>
            <a:pathLst>
              <a:path fill="none" w="460" h="111">
                <a:moveTo>
                  <a:pt x="0" y="86"/>
                </a:moveTo>
                <a:lnTo>
                  <a:pt x="460" y="0"/>
                </a:lnTo>
                <a:lnTo>
                  <a:pt x="460" y="10"/>
                </a:lnTo>
                <a:lnTo>
                  <a:pt x="0" y="111"/>
                </a:lnTo>
                <a:lnTo>
                  <a:pt x="0" y="8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480520" y="335592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0" y="71"/>
                </a:moveTo>
                <a:lnTo>
                  <a:pt x="182" y="111"/>
                </a:lnTo>
                <a:lnTo>
                  <a:pt x="248" y="0"/>
                </a:lnTo>
                <a:lnTo>
                  <a:pt x="65" y="63"/>
                </a:lnTo>
                <a:lnTo>
                  <a:pt x="0" y="56"/>
                </a:lnTo>
                <a:lnTo>
                  <a:pt x="0" y="7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8531280" y="332892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0" y="56"/>
                </a:moveTo>
                <a:lnTo>
                  <a:pt x="248" y="111"/>
                </a:lnTo>
                <a:lnTo>
                  <a:pt x="177" y="0"/>
                </a:lnTo>
                <a:lnTo>
                  <a:pt x="89" y="56"/>
                </a:lnTo>
                <a:lnTo>
                  <a:pt x="17" y="36"/>
                </a:lnTo>
                <a:lnTo>
                  <a:pt x="0" y="5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8572680" y="328140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22" y="0"/>
                </a:moveTo>
                <a:lnTo>
                  <a:pt x="248" y="111"/>
                </a:lnTo>
                <a:lnTo>
                  <a:pt x="22" y="89"/>
                </a:lnTo>
                <a:lnTo>
                  <a:pt x="90" y="78"/>
                </a:lnTo>
                <a:lnTo>
                  <a:pt x="0" y="33"/>
                </a:lnTo>
                <a:lnTo>
                  <a:pt x="2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8393040" y="3022560"/>
            <a:ext cx="292320" cy="416160"/>
          </a:xfrm>
          <a:custGeom>
            <a:avLst/>
            <a:gdLst/>
            <a:ahLst/>
            <a:rect l="0" t="0" r="r" b="b"/>
            <a:pathLst>
              <a:path fill="none" w="812" h="1156">
                <a:moveTo>
                  <a:pt x="675" y="88"/>
                </a:moveTo>
                <a:lnTo>
                  <a:pt x="773" y="266"/>
                </a:lnTo>
                <a:lnTo>
                  <a:pt x="812" y="470"/>
                </a:lnTo>
                <a:lnTo>
                  <a:pt x="799" y="660"/>
                </a:lnTo>
                <a:lnTo>
                  <a:pt x="735" y="860"/>
                </a:lnTo>
                <a:lnTo>
                  <a:pt x="636" y="1019"/>
                </a:lnTo>
                <a:lnTo>
                  <a:pt x="491" y="1131"/>
                </a:lnTo>
                <a:lnTo>
                  <a:pt x="304" y="1156"/>
                </a:lnTo>
                <a:lnTo>
                  <a:pt x="126" y="1044"/>
                </a:lnTo>
                <a:lnTo>
                  <a:pt x="36" y="883"/>
                </a:lnTo>
                <a:lnTo>
                  <a:pt x="0" y="692"/>
                </a:lnTo>
                <a:lnTo>
                  <a:pt x="12" y="486"/>
                </a:lnTo>
                <a:lnTo>
                  <a:pt x="71" y="300"/>
                </a:lnTo>
                <a:lnTo>
                  <a:pt x="170" y="145"/>
                </a:lnTo>
                <a:lnTo>
                  <a:pt x="316" y="29"/>
                </a:lnTo>
                <a:lnTo>
                  <a:pt x="491" y="0"/>
                </a:lnTo>
                <a:lnTo>
                  <a:pt x="675" y="8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07440" y="3035160"/>
            <a:ext cx="275040" cy="389160"/>
          </a:xfrm>
          <a:custGeom>
            <a:avLst/>
            <a:gdLst/>
            <a:ahLst/>
            <a:rect l="0" t="0" r="r" b="b"/>
            <a:pathLst>
              <a:path fill="none" w="764" h="1081">
                <a:moveTo>
                  <a:pt x="0" y="532"/>
                </a:moveTo>
                <a:lnTo>
                  <a:pt x="0" y="512"/>
                </a:lnTo>
                <a:lnTo>
                  <a:pt x="0" y="492"/>
                </a:lnTo>
                <a:lnTo>
                  <a:pt x="1" y="471"/>
                </a:lnTo>
                <a:lnTo>
                  <a:pt x="3" y="451"/>
                </a:lnTo>
                <a:lnTo>
                  <a:pt x="7" y="431"/>
                </a:lnTo>
                <a:lnTo>
                  <a:pt x="10" y="411"/>
                </a:lnTo>
                <a:lnTo>
                  <a:pt x="14" y="393"/>
                </a:lnTo>
                <a:lnTo>
                  <a:pt x="19" y="373"/>
                </a:lnTo>
                <a:lnTo>
                  <a:pt x="28" y="346"/>
                </a:lnTo>
                <a:lnTo>
                  <a:pt x="36" y="319"/>
                </a:lnTo>
                <a:lnTo>
                  <a:pt x="46" y="295"/>
                </a:lnTo>
                <a:lnTo>
                  <a:pt x="57" y="270"/>
                </a:lnTo>
                <a:lnTo>
                  <a:pt x="68" y="248"/>
                </a:lnTo>
                <a:lnTo>
                  <a:pt x="79" y="225"/>
                </a:lnTo>
                <a:lnTo>
                  <a:pt x="91" y="203"/>
                </a:lnTo>
                <a:lnTo>
                  <a:pt x="104" y="183"/>
                </a:lnTo>
                <a:lnTo>
                  <a:pt x="119" y="163"/>
                </a:lnTo>
                <a:lnTo>
                  <a:pt x="133" y="145"/>
                </a:lnTo>
                <a:lnTo>
                  <a:pt x="147" y="127"/>
                </a:lnTo>
                <a:lnTo>
                  <a:pt x="162" y="111"/>
                </a:lnTo>
                <a:lnTo>
                  <a:pt x="178" y="98"/>
                </a:lnTo>
                <a:lnTo>
                  <a:pt x="193" y="82"/>
                </a:lnTo>
                <a:lnTo>
                  <a:pt x="210" y="69"/>
                </a:lnTo>
                <a:lnTo>
                  <a:pt x="228" y="58"/>
                </a:lnTo>
                <a:lnTo>
                  <a:pt x="244" y="46"/>
                </a:lnTo>
                <a:lnTo>
                  <a:pt x="260" y="35"/>
                </a:lnTo>
                <a:lnTo>
                  <a:pt x="278" y="29"/>
                </a:lnTo>
                <a:lnTo>
                  <a:pt x="296" y="20"/>
                </a:lnTo>
                <a:lnTo>
                  <a:pt x="313" y="13"/>
                </a:lnTo>
                <a:lnTo>
                  <a:pt x="332" y="8"/>
                </a:lnTo>
                <a:lnTo>
                  <a:pt x="350" y="4"/>
                </a:lnTo>
                <a:lnTo>
                  <a:pt x="368" y="2"/>
                </a:lnTo>
                <a:lnTo>
                  <a:pt x="386" y="0"/>
                </a:lnTo>
                <a:lnTo>
                  <a:pt x="406" y="0"/>
                </a:lnTo>
                <a:lnTo>
                  <a:pt x="424" y="2"/>
                </a:lnTo>
                <a:lnTo>
                  <a:pt x="442" y="4"/>
                </a:lnTo>
                <a:lnTo>
                  <a:pt x="462" y="8"/>
                </a:lnTo>
                <a:lnTo>
                  <a:pt x="480" y="13"/>
                </a:lnTo>
                <a:lnTo>
                  <a:pt x="498" y="17"/>
                </a:lnTo>
                <a:lnTo>
                  <a:pt x="518" y="26"/>
                </a:lnTo>
                <a:lnTo>
                  <a:pt x="533" y="33"/>
                </a:lnTo>
                <a:lnTo>
                  <a:pt x="551" y="38"/>
                </a:lnTo>
                <a:lnTo>
                  <a:pt x="569" y="42"/>
                </a:lnTo>
                <a:lnTo>
                  <a:pt x="586" y="46"/>
                </a:lnTo>
                <a:lnTo>
                  <a:pt x="602" y="51"/>
                </a:lnTo>
                <a:lnTo>
                  <a:pt x="616" y="58"/>
                </a:lnTo>
                <a:lnTo>
                  <a:pt x="622" y="62"/>
                </a:lnTo>
                <a:lnTo>
                  <a:pt x="627" y="67"/>
                </a:lnTo>
                <a:lnTo>
                  <a:pt x="633" y="73"/>
                </a:lnTo>
                <a:lnTo>
                  <a:pt x="638" y="80"/>
                </a:lnTo>
                <a:lnTo>
                  <a:pt x="721" y="221"/>
                </a:lnTo>
                <a:lnTo>
                  <a:pt x="764" y="427"/>
                </a:lnTo>
                <a:lnTo>
                  <a:pt x="754" y="618"/>
                </a:lnTo>
                <a:lnTo>
                  <a:pt x="692" y="815"/>
                </a:lnTo>
                <a:lnTo>
                  <a:pt x="591" y="971"/>
                </a:lnTo>
                <a:lnTo>
                  <a:pt x="444" y="1067"/>
                </a:lnTo>
                <a:lnTo>
                  <a:pt x="269" y="1081"/>
                </a:lnTo>
                <a:lnTo>
                  <a:pt x="260" y="1076"/>
                </a:lnTo>
                <a:lnTo>
                  <a:pt x="249" y="1070"/>
                </a:lnTo>
                <a:lnTo>
                  <a:pt x="240" y="1061"/>
                </a:lnTo>
                <a:lnTo>
                  <a:pt x="230" y="1054"/>
                </a:lnTo>
                <a:lnTo>
                  <a:pt x="219" y="1043"/>
                </a:lnTo>
                <a:lnTo>
                  <a:pt x="210" y="1034"/>
                </a:lnTo>
                <a:lnTo>
                  <a:pt x="199" y="1023"/>
                </a:lnTo>
                <a:lnTo>
                  <a:pt x="187" y="1009"/>
                </a:lnTo>
                <a:lnTo>
                  <a:pt x="176" y="996"/>
                </a:lnTo>
                <a:lnTo>
                  <a:pt x="164" y="982"/>
                </a:lnTo>
                <a:lnTo>
                  <a:pt x="153" y="967"/>
                </a:lnTo>
                <a:lnTo>
                  <a:pt x="142" y="951"/>
                </a:lnTo>
                <a:lnTo>
                  <a:pt x="131" y="935"/>
                </a:lnTo>
                <a:lnTo>
                  <a:pt x="120" y="918"/>
                </a:lnTo>
                <a:lnTo>
                  <a:pt x="111" y="900"/>
                </a:lnTo>
                <a:lnTo>
                  <a:pt x="100" y="882"/>
                </a:lnTo>
                <a:lnTo>
                  <a:pt x="81" y="844"/>
                </a:lnTo>
                <a:lnTo>
                  <a:pt x="63" y="801"/>
                </a:lnTo>
                <a:lnTo>
                  <a:pt x="54" y="781"/>
                </a:lnTo>
                <a:lnTo>
                  <a:pt x="46" y="761"/>
                </a:lnTo>
                <a:lnTo>
                  <a:pt x="39" y="739"/>
                </a:lnTo>
                <a:lnTo>
                  <a:pt x="32" y="716"/>
                </a:lnTo>
                <a:lnTo>
                  <a:pt x="25" y="694"/>
                </a:lnTo>
                <a:lnTo>
                  <a:pt x="19" y="672"/>
                </a:lnTo>
                <a:lnTo>
                  <a:pt x="14" y="649"/>
                </a:lnTo>
                <a:lnTo>
                  <a:pt x="10" y="625"/>
                </a:lnTo>
                <a:lnTo>
                  <a:pt x="7" y="602"/>
                </a:lnTo>
                <a:lnTo>
                  <a:pt x="3" y="578"/>
                </a:lnTo>
                <a:lnTo>
                  <a:pt x="1" y="555"/>
                </a:lnTo>
                <a:lnTo>
                  <a:pt x="0" y="53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420040" y="3111480"/>
            <a:ext cx="238320" cy="206640"/>
          </a:xfrm>
          <a:custGeom>
            <a:avLst/>
            <a:gdLst/>
            <a:ahLst/>
            <a:rect l="0" t="0" r="r" b="b"/>
            <a:pathLst>
              <a:path fill="none" w="662" h="574">
                <a:moveTo>
                  <a:pt x="0" y="0"/>
                </a:moveTo>
                <a:lnTo>
                  <a:pt x="16" y="11"/>
                </a:lnTo>
                <a:lnTo>
                  <a:pt x="32" y="22"/>
                </a:lnTo>
                <a:lnTo>
                  <a:pt x="52" y="33"/>
                </a:lnTo>
                <a:lnTo>
                  <a:pt x="70" y="47"/>
                </a:lnTo>
                <a:lnTo>
                  <a:pt x="90" y="63"/>
                </a:lnTo>
                <a:lnTo>
                  <a:pt x="110" y="79"/>
                </a:lnTo>
                <a:lnTo>
                  <a:pt x="132" y="92"/>
                </a:lnTo>
                <a:lnTo>
                  <a:pt x="154" y="111"/>
                </a:lnTo>
                <a:lnTo>
                  <a:pt x="176" y="129"/>
                </a:lnTo>
                <a:lnTo>
                  <a:pt x="199" y="147"/>
                </a:lnTo>
                <a:lnTo>
                  <a:pt x="221" y="165"/>
                </a:lnTo>
                <a:lnTo>
                  <a:pt x="245" y="183"/>
                </a:lnTo>
                <a:lnTo>
                  <a:pt x="292" y="224"/>
                </a:lnTo>
                <a:lnTo>
                  <a:pt x="340" y="265"/>
                </a:lnTo>
                <a:lnTo>
                  <a:pt x="388" y="306"/>
                </a:lnTo>
                <a:lnTo>
                  <a:pt x="433" y="349"/>
                </a:lnTo>
                <a:lnTo>
                  <a:pt x="457" y="370"/>
                </a:lnTo>
                <a:lnTo>
                  <a:pt x="478" y="390"/>
                </a:lnTo>
                <a:lnTo>
                  <a:pt x="500" y="411"/>
                </a:lnTo>
                <a:lnTo>
                  <a:pt x="520" y="431"/>
                </a:lnTo>
                <a:lnTo>
                  <a:pt x="542" y="449"/>
                </a:lnTo>
                <a:lnTo>
                  <a:pt x="562" y="470"/>
                </a:lnTo>
                <a:lnTo>
                  <a:pt x="580" y="488"/>
                </a:lnTo>
                <a:lnTo>
                  <a:pt x="598" y="508"/>
                </a:lnTo>
                <a:lnTo>
                  <a:pt x="615" y="524"/>
                </a:lnTo>
                <a:lnTo>
                  <a:pt x="633" y="542"/>
                </a:lnTo>
                <a:lnTo>
                  <a:pt x="647" y="558"/>
                </a:lnTo>
                <a:lnTo>
                  <a:pt x="662" y="57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8435880" y="3048120"/>
            <a:ext cx="198720" cy="346320"/>
          </a:xfrm>
          <a:custGeom>
            <a:avLst/>
            <a:gdLst/>
            <a:ahLst/>
            <a:rect l="0" t="0" r="r" b="b"/>
            <a:pathLst>
              <a:path fill="none" w="552" h="962">
                <a:moveTo>
                  <a:pt x="552" y="0"/>
                </a:moveTo>
                <a:lnTo>
                  <a:pt x="546" y="25"/>
                </a:lnTo>
                <a:lnTo>
                  <a:pt x="537" y="52"/>
                </a:lnTo>
                <a:lnTo>
                  <a:pt x="528" y="80"/>
                </a:lnTo>
                <a:lnTo>
                  <a:pt x="519" y="109"/>
                </a:lnTo>
                <a:lnTo>
                  <a:pt x="506" y="141"/>
                </a:lnTo>
                <a:lnTo>
                  <a:pt x="495" y="173"/>
                </a:lnTo>
                <a:lnTo>
                  <a:pt x="480" y="205"/>
                </a:lnTo>
                <a:lnTo>
                  <a:pt x="465" y="240"/>
                </a:lnTo>
                <a:lnTo>
                  <a:pt x="450" y="274"/>
                </a:lnTo>
                <a:lnTo>
                  <a:pt x="434" y="308"/>
                </a:lnTo>
                <a:lnTo>
                  <a:pt x="417" y="345"/>
                </a:lnTo>
                <a:lnTo>
                  <a:pt x="399" y="382"/>
                </a:lnTo>
                <a:lnTo>
                  <a:pt x="380" y="418"/>
                </a:lnTo>
                <a:lnTo>
                  <a:pt x="362" y="453"/>
                </a:lnTo>
                <a:lnTo>
                  <a:pt x="342" y="490"/>
                </a:lnTo>
                <a:lnTo>
                  <a:pt x="321" y="527"/>
                </a:lnTo>
                <a:lnTo>
                  <a:pt x="301" y="564"/>
                </a:lnTo>
                <a:lnTo>
                  <a:pt x="281" y="598"/>
                </a:lnTo>
                <a:lnTo>
                  <a:pt x="258" y="632"/>
                </a:lnTo>
                <a:lnTo>
                  <a:pt x="237" y="667"/>
                </a:lnTo>
                <a:lnTo>
                  <a:pt x="217" y="699"/>
                </a:lnTo>
                <a:lnTo>
                  <a:pt x="197" y="731"/>
                </a:lnTo>
                <a:lnTo>
                  <a:pt x="175" y="760"/>
                </a:lnTo>
                <a:lnTo>
                  <a:pt x="154" y="790"/>
                </a:lnTo>
                <a:lnTo>
                  <a:pt x="134" y="818"/>
                </a:lnTo>
                <a:lnTo>
                  <a:pt x="112" y="845"/>
                </a:lnTo>
                <a:lnTo>
                  <a:pt x="94" y="868"/>
                </a:lnTo>
                <a:lnTo>
                  <a:pt x="73" y="891"/>
                </a:lnTo>
                <a:lnTo>
                  <a:pt x="53" y="914"/>
                </a:lnTo>
                <a:lnTo>
                  <a:pt x="35" y="932"/>
                </a:lnTo>
                <a:lnTo>
                  <a:pt x="16" y="948"/>
                </a:lnTo>
                <a:lnTo>
                  <a:pt x="0" y="96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8394840" y="3162240"/>
            <a:ext cx="292320" cy="79560"/>
          </a:xfrm>
          <a:custGeom>
            <a:avLst/>
            <a:gdLst/>
            <a:ahLst/>
            <a:rect l="0" t="0" r="r" b="b"/>
            <a:pathLst>
              <a:path fill="none" w="812" h="221">
                <a:moveTo>
                  <a:pt x="0" y="221"/>
                </a:moveTo>
                <a:lnTo>
                  <a:pt x="58" y="216"/>
                </a:lnTo>
                <a:lnTo>
                  <a:pt x="115" y="212"/>
                </a:lnTo>
                <a:lnTo>
                  <a:pt x="171" y="203"/>
                </a:lnTo>
                <a:lnTo>
                  <a:pt x="230" y="194"/>
                </a:lnTo>
                <a:lnTo>
                  <a:pt x="286" y="183"/>
                </a:lnTo>
                <a:lnTo>
                  <a:pt x="343" y="169"/>
                </a:lnTo>
                <a:lnTo>
                  <a:pt x="398" y="156"/>
                </a:lnTo>
                <a:lnTo>
                  <a:pt x="454" y="142"/>
                </a:lnTo>
                <a:lnTo>
                  <a:pt x="507" y="124"/>
                </a:lnTo>
                <a:lnTo>
                  <a:pt x="558" y="107"/>
                </a:lnTo>
                <a:lnTo>
                  <a:pt x="583" y="98"/>
                </a:lnTo>
                <a:lnTo>
                  <a:pt x="607" y="92"/>
                </a:lnTo>
                <a:lnTo>
                  <a:pt x="631" y="83"/>
                </a:lnTo>
                <a:lnTo>
                  <a:pt x="653" y="74"/>
                </a:lnTo>
                <a:lnTo>
                  <a:pt x="675" y="65"/>
                </a:lnTo>
                <a:lnTo>
                  <a:pt x="697" y="56"/>
                </a:lnTo>
                <a:lnTo>
                  <a:pt x="719" y="47"/>
                </a:lnTo>
                <a:lnTo>
                  <a:pt x="739" y="38"/>
                </a:lnTo>
                <a:lnTo>
                  <a:pt x="759" y="29"/>
                </a:lnTo>
                <a:lnTo>
                  <a:pt x="777" y="17"/>
                </a:lnTo>
                <a:lnTo>
                  <a:pt x="795" y="8"/>
                </a:lnTo>
                <a:lnTo>
                  <a:pt x="81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8481960" y="3030480"/>
            <a:ext cx="89280" cy="397080"/>
          </a:xfrm>
          <a:custGeom>
            <a:avLst/>
            <a:gdLst/>
            <a:ahLst/>
            <a:rect l="0" t="0" r="r" b="b"/>
            <a:pathLst>
              <a:path fill="none" w="248" h="1103">
                <a:moveTo>
                  <a:pt x="0" y="0"/>
                </a:moveTo>
                <a:lnTo>
                  <a:pt x="7" y="13"/>
                </a:lnTo>
                <a:lnTo>
                  <a:pt x="12" y="25"/>
                </a:lnTo>
                <a:lnTo>
                  <a:pt x="19" y="38"/>
                </a:lnTo>
                <a:lnTo>
                  <a:pt x="27" y="54"/>
                </a:lnTo>
                <a:lnTo>
                  <a:pt x="39" y="84"/>
                </a:lnTo>
                <a:lnTo>
                  <a:pt x="52" y="116"/>
                </a:lnTo>
                <a:lnTo>
                  <a:pt x="65" y="150"/>
                </a:lnTo>
                <a:lnTo>
                  <a:pt x="80" y="186"/>
                </a:lnTo>
                <a:lnTo>
                  <a:pt x="93" y="223"/>
                </a:lnTo>
                <a:lnTo>
                  <a:pt x="105" y="261"/>
                </a:lnTo>
                <a:lnTo>
                  <a:pt x="118" y="302"/>
                </a:lnTo>
                <a:lnTo>
                  <a:pt x="130" y="343"/>
                </a:lnTo>
                <a:lnTo>
                  <a:pt x="140" y="384"/>
                </a:lnTo>
                <a:lnTo>
                  <a:pt x="150" y="428"/>
                </a:lnTo>
                <a:lnTo>
                  <a:pt x="173" y="514"/>
                </a:lnTo>
                <a:lnTo>
                  <a:pt x="191" y="600"/>
                </a:lnTo>
                <a:lnTo>
                  <a:pt x="201" y="643"/>
                </a:lnTo>
                <a:lnTo>
                  <a:pt x="209" y="684"/>
                </a:lnTo>
                <a:lnTo>
                  <a:pt x="216" y="727"/>
                </a:lnTo>
                <a:lnTo>
                  <a:pt x="221" y="766"/>
                </a:lnTo>
                <a:lnTo>
                  <a:pt x="228" y="807"/>
                </a:lnTo>
                <a:lnTo>
                  <a:pt x="233" y="843"/>
                </a:lnTo>
                <a:lnTo>
                  <a:pt x="236" y="880"/>
                </a:lnTo>
                <a:lnTo>
                  <a:pt x="241" y="914"/>
                </a:lnTo>
                <a:lnTo>
                  <a:pt x="243" y="946"/>
                </a:lnTo>
                <a:lnTo>
                  <a:pt x="246" y="978"/>
                </a:lnTo>
                <a:lnTo>
                  <a:pt x="246" y="1005"/>
                </a:lnTo>
                <a:lnTo>
                  <a:pt x="248" y="1030"/>
                </a:lnTo>
                <a:lnTo>
                  <a:pt x="248" y="1041"/>
                </a:lnTo>
                <a:lnTo>
                  <a:pt x="246" y="1053"/>
                </a:lnTo>
                <a:lnTo>
                  <a:pt x="246" y="1064"/>
                </a:lnTo>
                <a:lnTo>
                  <a:pt x="246" y="1073"/>
                </a:lnTo>
                <a:lnTo>
                  <a:pt x="246" y="1082"/>
                </a:lnTo>
                <a:lnTo>
                  <a:pt x="243" y="1089"/>
                </a:lnTo>
                <a:lnTo>
                  <a:pt x="241" y="1096"/>
                </a:lnTo>
                <a:lnTo>
                  <a:pt x="241" y="110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8456760" y="3063960"/>
            <a:ext cx="165600" cy="322560"/>
          </a:xfrm>
          <a:custGeom>
            <a:avLst/>
            <a:gdLst/>
            <a:ahLst/>
            <a:rect l="0" t="0" r="r" b="b"/>
            <a:pathLst>
              <a:path fill="none" w="460" h="896">
                <a:moveTo>
                  <a:pt x="460" y="896"/>
                </a:moveTo>
                <a:lnTo>
                  <a:pt x="456" y="880"/>
                </a:lnTo>
                <a:lnTo>
                  <a:pt x="451" y="861"/>
                </a:lnTo>
                <a:lnTo>
                  <a:pt x="446" y="843"/>
                </a:lnTo>
                <a:lnTo>
                  <a:pt x="438" y="820"/>
                </a:lnTo>
                <a:lnTo>
                  <a:pt x="429" y="797"/>
                </a:lnTo>
                <a:lnTo>
                  <a:pt x="420" y="772"/>
                </a:lnTo>
                <a:lnTo>
                  <a:pt x="409" y="746"/>
                </a:lnTo>
                <a:lnTo>
                  <a:pt x="397" y="717"/>
                </a:lnTo>
                <a:lnTo>
                  <a:pt x="384" y="689"/>
                </a:lnTo>
                <a:lnTo>
                  <a:pt x="369" y="657"/>
                </a:lnTo>
                <a:lnTo>
                  <a:pt x="357" y="627"/>
                </a:lnTo>
                <a:lnTo>
                  <a:pt x="339" y="595"/>
                </a:lnTo>
                <a:lnTo>
                  <a:pt x="325" y="563"/>
                </a:lnTo>
                <a:lnTo>
                  <a:pt x="309" y="528"/>
                </a:lnTo>
                <a:lnTo>
                  <a:pt x="292" y="496"/>
                </a:lnTo>
                <a:lnTo>
                  <a:pt x="276" y="462"/>
                </a:lnTo>
                <a:lnTo>
                  <a:pt x="242" y="394"/>
                </a:lnTo>
                <a:lnTo>
                  <a:pt x="205" y="328"/>
                </a:lnTo>
                <a:lnTo>
                  <a:pt x="187" y="296"/>
                </a:lnTo>
                <a:lnTo>
                  <a:pt x="169" y="261"/>
                </a:lnTo>
                <a:lnTo>
                  <a:pt x="151" y="231"/>
                </a:lnTo>
                <a:lnTo>
                  <a:pt x="133" y="199"/>
                </a:lnTo>
                <a:lnTo>
                  <a:pt x="114" y="169"/>
                </a:lnTo>
                <a:lnTo>
                  <a:pt x="97" y="142"/>
                </a:lnTo>
                <a:lnTo>
                  <a:pt x="79" y="114"/>
                </a:lnTo>
                <a:lnTo>
                  <a:pt x="63" y="87"/>
                </a:lnTo>
                <a:lnTo>
                  <a:pt x="47" y="61"/>
                </a:lnTo>
                <a:lnTo>
                  <a:pt x="30" y="39"/>
                </a:lnTo>
                <a:lnTo>
                  <a:pt x="14" y="1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8483760" y="3022560"/>
            <a:ext cx="89280" cy="414720"/>
          </a:xfrm>
          <a:custGeom>
            <a:avLst/>
            <a:gdLst/>
            <a:ahLst/>
            <a:rect l="0" t="0" r="r" b="b"/>
            <a:pathLst>
              <a:path fill="none" w="248" h="1152">
                <a:moveTo>
                  <a:pt x="237" y="0"/>
                </a:moveTo>
                <a:lnTo>
                  <a:pt x="242" y="31"/>
                </a:lnTo>
                <a:lnTo>
                  <a:pt x="244" y="67"/>
                </a:lnTo>
                <a:lnTo>
                  <a:pt x="246" y="99"/>
                </a:lnTo>
                <a:lnTo>
                  <a:pt x="248" y="135"/>
                </a:lnTo>
                <a:lnTo>
                  <a:pt x="248" y="169"/>
                </a:lnTo>
                <a:lnTo>
                  <a:pt x="246" y="206"/>
                </a:lnTo>
                <a:lnTo>
                  <a:pt x="244" y="242"/>
                </a:lnTo>
                <a:lnTo>
                  <a:pt x="242" y="278"/>
                </a:lnTo>
                <a:lnTo>
                  <a:pt x="239" y="315"/>
                </a:lnTo>
                <a:lnTo>
                  <a:pt x="235" y="354"/>
                </a:lnTo>
                <a:lnTo>
                  <a:pt x="230" y="392"/>
                </a:lnTo>
                <a:lnTo>
                  <a:pt x="223" y="429"/>
                </a:lnTo>
                <a:lnTo>
                  <a:pt x="216" y="467"/>
                </a:lnTo>
                <a:lnTo>
                  <a:pt x="209" y="506"/>
                </a:lnTo>
                <a:lnTo>
                  <a:pt x="202" y="542"/>
                </a:lnTo>
                <a:lnTo>
                  <a:pt x="193" y="581"/>
                </a:lnTo>
                <a:lnTo>
                  <a:pt x="174" y="655"/>
                </a:lnTo>
                <a:lnTo>
                  <a:pt x="153" y="730"/>
                </a:lnTo>
                <a:lnTo>
                  <a:pt x="132" y="805"/>
                </a:lnTo>
                <a:lnTo>
                  <a:pt x="107" y="878"/>
                </a:lnTo>
                <a:lnTo>
                  <a:pt x="81" y="951"/>
                </a:lnTo>
                <a:lnTo>
                  <a:pt x="53" y="1021"/>
                </a:lnTo>
                <a:lnTo>
                  <a:pt x="41" y="1055"/>
                </a:lnTo>
                <a:lnTo>
                  <a:pt x="27" y="1087"/>
                </a:lnTo>
                <a:lnTo>
                  <a:pt x="13" y="1121"/>
                </a:lnTo>
                <a:lnTo>
                  <a:pt x="0" y="115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8404200" y="3102120"/>
            <a:ext cx="265320" cy="222480"/>
          </a:xfrm>
          <a:custGeom>
            <a:avLst/>
            <a:gdLst/>
            <a:ahLst/>
            <a:rect l="0" t="0" r="r" b="b"/>
            <a:pathLst>
              <a:path fill="none" w="737" h="618">
                <a:moveTo>
                  <a:pt x="0" y="618"/>
                </a:moveTo>
                <a:lnTo>
                  <a:pt x="20" y="613"/>
                </a:lnTo>
                <a:lnTo>
                  <a:pt x="42" y="604"/>
                </a:lnTo>
                <a:lnTo>
                  <a:pt x="65" y="593"/>
                </a:lnTo>
                <a:lnTo>
                  <a:pt x="87" y="581"/>
                </a:lnTo>
                <a:lnTo>
                  <a:pt x="113" y="570"/>
                </a:lnTo>
                <a:lnTo>
                  <a:pt x="139" y="554"/>
                </a:lnTo>
                <a:lnTo>
                  <a:pt x="164" y="538"/>
                </a:lnTo>
                <a:lnTo>
                  <a:pt x="190" y="520"/>
                </a:lnTo>
                <a:lnTo>
                  <a:pt x="217" y="502"/>
                </a:lnTo>
                <a:lnTo>
                  <a:pt x="245" y="481"/>
                </a:lnTo>
                <a:lnTo>
                  <a:pt x="272" y="461"/>
                </a:lnTo>
                <a:lnTo>
                  <a:pt x="300" y="438"/>
                </a:lnTo>
                <a:lnTo>
                  <a:pt x="327" y="415"/>
                </a:lnTo>
                <a:lnTo>
                  <a:pt x="355" y="392"/>
                </a:lnTo>
                <a:lnTo>
                  <a:pt x="383" y="370"/>
                </a:lnTo>
                <a:lnTo>
                  <a:pt x="411" y="344"/>
                </a:lnTo>
                <a:lnTo>
                  <a:pt x="438" y="319"/>
                </a:lnTo>
                <a:lnTo>
                  <a:pt x="466" y="296"/>
                </a:lnTo>
                <a:lnTo>
                  <a:pt x="491" y="271"/>
                </a:lnTo>
                <a:lnTo>
                  <a:pt x="517" y="246"/>
                </a:lnTo>
                <a:lnTo>
                  <a:pt x="541" y="223"/>
                </a:lnTo>
                <a:lnTo>
                  <a:pt x="567" y="198"/>
                </a:lnTo>
                <a:lnTo>
                  <a:pt x="589" y="175"/>
                </a:lnTo>
                <a:lnTo>
                  <a:pt x="611" y="152"/>
                </a:lnTo>
                <a:lnTo>
                  <a:pt x="631" y="129"/>
                </a:lnTo>
                <a:lnTo>
                  <a:pt x="651" y="107"/>
                </a:lnTo>
                <a:lnTo>
                  <a:pt x="669" y="88"/>
                </a:lnTo>
                <a:lnTo>
                  <a:pt x="686" y="68"/>
                </a:lnTo>
                <a:lnTo>
                  <a:pt x="702" y="47"/>
                </a:lnTo>
                <a:lnTo>
                  <a:pt x="715" y="31"/>
                </a:lnTo>
                <a:lnTo>
                  <a:pt x="728" y="15"/>
                </a:lnTo>
                <a:lnTo>
                  <a:pt x="73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8402760" y="3168720"/>
            <a:ext cx="281520" cy="68760"/>
          </a:xfrm>
          <a:custGeom>
            <a:avLst/>
            <a:gdLst/>
            <a:ahLst/>
            <a:rect l="0" t="0" r="r" b="b"/>
            <a:pathLst>
              <a:path fill="none" w="782" h="191">
                <a:moveTo>
                  <a:pt x="0" y="0"/>
                </a:moveTo>
                <a:lnTo>
                  <a:pt x="21" y="4"/>
                </a:lnTo>
                <a:lnTo>
                  <a:pt x="43" y="9"/>
                </a:lnTo>
                <a:lnTo>
                  <a:pt x="64" y="14"/>
                </a:lnTo>
                <a:lnTo>
                  <a:pt x="90" y="21"/>
                </a:lnTo>
                <a:lnTo>
                  <a:pt x="113" y="25"/>
                </a:lnTo>
                <a:lnTo>
                  <a:pt x="140" y="32"/>
                </a:lnTo>
                <a:lnTo>
                  <a:pt x="165" y="39"/>
                </a:lnTo>
                <a:lnTo>
                  <a:pt x="192" y="50"/>
                </a:lnTo>
                <a:lnTo>
                  <a:pt x="220" y="57"/>
                </a:lnTo>
                <a:lnTo>
                  <a:pt x="249" y="64"/>
                </a:lnTo>
                <a:lnTo>
                  <a:pt x="278" y="73"/>
                </a:lnTo>
                <a:lnTo>
                  <a:pt x="307" y="80"/>
                </a:lnTo>
                <a:lnTo>
                  <a:pt x="366" y="96"/>
                </a:lnTo>
                <a:lnTo>
                  <a:pt x="426" y="113"/>
                </a:lnTo>
                <a:lnTo>
                  <a:pt x="471" y="125"/>
                </a:lnTo>
                <a:lnTo>
                  <a:pt x="516" y="136"/>
                </a:lnTo>
                <a:lnTo>
                  <a:pt x="561" y="149"/>
                </a:lnTo>
                <a:lnTo>
                  <a:pt x="607" y="158"/>
                </a:lnTo>
                <a:lnTo>
                  <a:pt x="652" y="168"/>
                </a:lnTo>
                <a:lnTo>
                  <a:pt x="695" y="177"/>
                </a:lnTo>
                <a:lnTo>
                  <a:pt x="739" y="186"/>
                </a:lnTo>
                <a:lnTo>
                  <a:pt x="782" y="1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8474040" y="3178080"/>
            <a:ext cx="89280" cy="46440"/>
          </a:xfrm>
          <a:custGeom>
            <a:avLst/>
            <a:gdLst/>
            <a:ahLst/>
            <a:rect l="0" t="0" r="r" b="b"/>
            <a:pathLst>
              <a:path fill="none" w="248" h="129">
                <a:moveTo>
                  <a:pt x="232" y="42"/>
                </a:moveTo>
                <a:lnTo>
                  <a:pt x="14" y="0"/>
                </a:lnTo>
                <a:lnTo>
                  <a:pt x="0" y="40"/>
                </a:lnTo>
                <a:lnTo>
                  <a:pt x="198" y="129"/>
                </a:lnTo>
                <a:lnTo>
                  <a:pt x="206" y="127"/>
                </a:lnTo>
                <a:lnTo>
                  <a:pt x="212" y="124"/>
                </a:lnTo>
                <a:lnTo>
                  <a:pt x="220" y="122"/>
                </a:lnTo>
                <a:lnTo>
                  <a:pt x="226" y="117"/>
                </a:lnTo>
                <a:lnTo>
                  <a:pt x="232" y="112"/>
                </a:lnTo>
                <a:lnTo>
                  <a:pt x="237" y="107"/>
                </a:lnTo>
                <a:lnTo>
                  <a:pt x="243" y="100"/>
                </a:lnTo>
                <a:lnTo>
                  <a:pt x="246" y="94"/>
                </a:lnTo>
                <a:lnTo>
                  <a:pt x="248" y="87"/>
                </a:lnTo>
                <a:lnTo>
                  <a:pt x="248" y="79"/>
                </a:lnTo>
                <a:lnTo>
                  <a:pt x="248" y="74"/>
                </a:lnTo>
                <a:lnTo>
                  <a:pt x="248" y="67"/>
                </a:lnTo>
                <a:lnTo>
                  <a:pt x="248" y="60"/>
                </a:lnTo>
                <a:lnTo>
                  <a:pt x="243" y="55"/>
                </a:lnTo>
                <a:lnTo>
                  <a:pt x="237" y="47"/>
                </a:lnTo>
                <a:lnTo>
                  <a:pt x="232" y="4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421840" y="316224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21" y="0"/>
                </a:moveTo>
                <a:lnTo>
                  <a:pt x="248" y="61"/>
                </a:lnTo>
                <a:lnTo>
                  <a:pt x="215" y="102"/>
                </a:lnTo>
                <a:lnTo>
                  <a:pt x="0" y="111"/>
                </a:lnTo>
                <a:lnTo>
                  <a:pt x="12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418600" y="316224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75" y="0"/>
                </a:moveTo>
                <a:lnTo>
                  <a:pt x="151" y="0"/>
                </a:lnTo>
                <a:lnTo>
                  <a:pt x="127" y="0"/>
                </a:lnTo>
                <a:lnTo>
                  <a:pt x="103" y="2"/>
                </a:lnTo>
                <a:lnTo>
                  <a:pt x="79" y="6"/>
                </a:lnTo>
                <a:lnTo>
                  <a:pt x="54" y="13"/>
                </a:lnTo>
                <a:lnTo>
                  <a:pt x="42" y="20"/>
                </a:lnTo>
                <a:lnTo>
                  <a:pt x="24" y="29"/>
                </a:lnTo>
                <a:lnTo>
                  <a:pt x="12" y="40"/>
                </a:lnTo>
                <a:lnTo>
                  <a:pt x="6" y="51"/>
                </a:lnTo>
                <a:lnTo>
                  <a:pt x="0" y="61"/>
                </a:lnTo>
                <a:lnTo>
                  <a:pt x="0" y="72"/>
                </a:lnTo>
                <a:lnTo>
                  <a:pt x="6" y="84"/>
                </a:lnTo>
                <a:lnTo>
                  <a:pt x="18" y="90"/>
                </a:lnTo>
                <a:lnTo>
                  <a:pt x="30" y="99"/>
                </a:lnTo>
                <a:lnTo>
                  <a:pt x="48" y="106"/>
                </a:lnTo>
                <a:lnTo>
                  <a:pt x="73" y="111"/>
                </a:lnTo>
                <a:lnTo>
                  <a:pt x="97" y="111"/>
                </a:lnTo>
                <a:lnTo>
                  <a:pt x="121" y="111"/>
                </a:lnTo>
                <a:lnTo>
                  <a:pt x="145" y="108"/>
                </a:lnTo>
                <a:lnTo>
                  <a:pt x="169" y="104"/>
                </a:lnTo>
                <a:lnTo>
                  <a:pt x="188" y="97"/>
                </a:lnTo>
                <a:lnTo>
                  <a:pt x="206" y="90"/>
                </a:lnTo>
                <a:lnTo>
                  <a:pt x="224" y="81"/>
                </a:lnTo>
                <a:lnTo>
                  <a:pt x="236" y="70"/>
                </a:lnTo>
                <a:lnTo>
                  <a:pt x="242" y="59"/>
                </a:lnTo>
                <a:lnTo>
                  <a:pt x="248" y="47"/>
                </a:lnTo>
                <a:lnTo>
                  <a:pt x="248" y="38"/>
                </a:lnTo>
                <a:lnTo>
                  <a:pt x="242" y="29"/>
                </a:lnTo>
                <a:lnTo>
                  <a:pt x="230" y="20"/>
                </a:lnTo>
                <a:lnTo>
                  <a:pt x="218" y="11"/>
                </a:lnTo>
                <a:lnTo>
                  <a:pt x="200" y="4"/>
                </a:lnTo>
                <a:lnTo>
                  <a:pt x="17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589960" y="310032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0" y="0"/>
                </a:moveTo>
                <a:lnTo>
                  <a:pt x="248" y="29"/>
                </a:lnTo>
                <a:lnTo>
                  <a:pt x="231" y="40"/>
                </a:lnTo>
                <a:lnTo>
                  <a:pt x="106" y="111"/>
                </a:lnTo>
                <a:lnTo>
                  <a:pt x="35" y="17"/>
                </a:lnTo>
                <a:lnTo>
                  <a:pt x="17" y="11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605800" y="316224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17" y="0"/>
                </a:moveTo>
                <a:lnTo>
                  <a:pt x="231" y="27"/>
                </a:lnTo>
                <a:lnTo>
                  <a:pt x="248" y="48"/>
                </a:lnTo>
                <a:lnTo>
                  <a:pt x="17" y="111"/>
                </a:lnTo>
                <a:lnTo>
                  <a:pt x="35" y="27"/>
                </a:lnTo>
                <a:lnTo>
                  <a:pt x="0" y="0"/>
                </a:lnTo>
                <a:lnTo>
                  <a:pt x="1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599320" y="322272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56" y="0"/>
                </a:moveTo>
                <a:lnTo>
                  <a:pt x="248" y="36"/>
                </a:lnTo>
                <a:lnTo>
                  <a:pt x="0" y="111"/>
                </a:lnTo>
                <a:lnTo>
                  <a:pt x="56" y="24"/>
                </a:lnTo>
                <a:lnTo>
                  <a:pt x="56" y="12"/>
                </a:lnTo>
                <a:lnTo>
                  <a:pt x="5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555040" y="3046320"/>
            <a:ext cx="89280" cy="39960"/>
          </a:xfrm>
          <a:custGeom>
            <a:avLst/>
            <a:gdLst/>
            <a:ahLst/>
            <a:rect l="0" t="0" r="r" b="b"/>
            <a:pathLst>
              <a:path fill="none" w="248" h="111">
                <a:moveTo>
                  <a:pt x="52" y="0"/>
                </a:moveTo>
                <a:lnTo>
                  <a:pt x="248" y="33"/>
                </a:lnTo>
                <a:lnTo>
                  <a:pt x="196" y="111"/>
                </a:lnTo>
                <a:lnTo>
                  <a:pt x="71" y="25"/>
                </a:lnTo>
                <a:lnTo>
                  <a:pt x="0" y="8"/>
                </a:lnTo>
                <a:lnTo>
                  <a:pt x="5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6556320" y="2766960"/>
            <a:ext cx="611280" cy="920880"/>
          </a:xfrm>
          <a:prstGeom prst="rect">
            <a:avLst/>
          </a:prstGeom>
          <a:ln w="0">
            <a:noFill/>
          </a:ln>
        </p:spPr>
      </p:pic>
      <p:pic>
        <p:nvPicPr>
          <p:cNvPr id="1719" name="" descr=""/>
          <p:cNvPicPr/>
          <p:nvPr/>
        </p:nvPicPr>
        <p:blipFill>
          <a:blip r:embed="rId2"/>
          <a:stretch/>
        </p:blipFill>
        <p:spPr>
          <a:xfrm>
            <a:off x="7567560" y="1898640"/>
            <a:ext cx="1382760" cy="630360"/>
          </a:xfrm>
          <a:prstGeom prst="rect">
            <a:avLst/>
          </a:prstGeom>
          <a:ln w="0">
            <a:noFill/>
          </a:ln>
        </p:spPr>
      </p:pic>
      <p:sp>
        <p:nvSpPr>
          <p:cNvPr id="1720" name=""/>
          <p:cNvSpPr txBox="1"/>
          <p:nvPr/>
        </p:nvSpPr>
        <p:spPr>
          <a:xfrm>
            <a:off x="4130640" y="5318280"/>
            <a:ext cx="847800" cy="233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ther Me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142120" y="4559400"/>
            <a:ext cx="0" cy="69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 txBox="1"/>
          <p:nvPr/>
        </p:nvSpPr>
        <p:spPr>
          <a:xfrm>
            <a:off x="7821720" y="3668760"/>
            <a:ext cx="1112760" cy="7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ce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6746760" y="5141880"/>
            <a:ext cx="1846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6826320" y="5141880"/>
            <a:ext cx="17604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7064280" y="5141880"/>
            <a:ext cx="17640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7304040" y="5141880"/>
            <a:ext cx="17640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7542360" y="5141880"/>
            <a:ext cx="17604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7780320" y="5141880"/>
            <a:ext cx="17640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8020080" y="5141880"/>
            <a:ext cx="17604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8258040" y="5141880"/>
            <a:ext cx="17640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3"/>
          <a:stretch/>
        </p:blipFill>
        <p:spPr>
          <a:xfrm>
            <a:off x="6653160" y="5262480"/>
            <a:ext cx="336600" cy="33660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4"/>
          <a:stretch/>
        </p:blipFill>
        <p:spPr>
          <a:xfrm>
            <a:off x="6905520" y="5262480"/>
            <a:ext cx="336600" cy="3366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5"/>
          <a:stretch/>
        </p:blipFill>
        <p:spPr>
          <a:xfrm>
            <a:off x="7142040" y="5262480"/>
            <a:ext cx="341280" cy="33660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6"/>
          <a:stretch/>
        </p:blipFill>
        <p:spPr>
          <a:xfrm>
            <a:off x="7399440" y="5262480"/>
            <a:ext cx="336600" cy="33660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7"/>
          <a:stretch/>
        </p:blipFill>
        <p:spPr>
          <a:xfrm>
            <a:off x="7616880" y="5262480"/>
            <a:ext cx="336600" cy="33660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8"/>
          <a:stretch/>
        </p:blipFill>
        <p:spPr>
          <a:xfrm>
            <a:off x="7885080" y="5262480"/>
            <a:ext cx="336600" cy="336600"/>
          </a:xfrm>
          <a:prstGeom prst="rect">
            <a:avLst/>
          </a:prstGeom>
          <a:ln w="0">
            <a:noFill/>
          </a:ln>
        </p:spPr>
      </p:pic>
      <p:pic>
        <p:nvPicPr>
          <p:cNvPr id="1737" name="" descr=""/>
          <p:cNvPicPr/>
          <p:nvPr/>
        </p:nvPicPr>
        <p:blipFill>
          <a:blip r:embed="rId9"/>
          <a:stretch/>
        </p:blipFill>
        <p:spPr>
          <a:xfrm>
            <a:off x="8123400" y="5262480"/>
            <a:ext cx="336600" cy="336600"/>
          </a:xfrm>
          <a:prstGeom prst="rect">
            <a:avLst/>
          </a:prstGeom>
          <a:ln w="0">
            <a:noFill/>
          </a:ln>
        </p:spPr>
      </p:pic>
      <p:sp>
        <p:nvSpPr>
          <p:cNvPr id="1738" name=""/>
          <p:cNvSpPr/>
          <p:nvPr/>
        </p:nvSpPr>
        <p:spPr>
          <a:xfrm>
            <a:off x="3933720" y="3693960"/>
            <a:ext cx="4082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6321600" y="2039760"/>
            <a:ext cx="1041480" cy="41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B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8515440" y="3390840"/>
            <a:ext cx="63360" cy="366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7085160" y="2287440"/>
            <a:ext cx="931680" cy="582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8150400" y="2392200"/>
            <a:ext cx="37440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6504120" y="5595840"/>
            <a:ext cx="838080" cy="233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2 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5472000" y="4933800"/>
            <a:ext cx="706320" cy="233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ser P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5381640" y="489600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6" name="" descr=""/>
          <p:cNvPicPr/>
          <p:nvPr/>
        </p:nvPicPr>
        <p:blipFill>
          <a:blip r:embed="rId10"/>
          <a:stretch/>
        </p:blipFill>
        <p:spPr>
          <a:xfrm>
            <a:off x="5541840" y="4280040"/>
            <a:ext cx="662040" cy="387360"/>
          </a:xfrm>
          <a:prstGeom prst="rect">
            <a:avLst/>
          </a:prstGeom>
          <a:ln w="0">
            <a:noFill/>
          </a:ln>
        </p:spPr>
      </p:pic>
      <p:sp>
        <p:nvSpPr>
          <p:cNvPr id="1747" name=""/>
          <p:cNvSpPr txBox="1"/>
          <p:nvPr/>
        </p:nvSpPr>
        <p:spPr>
          <a:xfrm>
            <a:off x="3328920" y="2355840"/>
            <a:ext cx="1003320" cy="26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6353280" y="4044960"/>
            <a:ext cx="1569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829560" y="350028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451400" y="35542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5291280" y="3227400"/>
            <a:ext cx="16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41960" y="3444840"/>
            <a:ext cx="1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5656320" y="2992320"/>
            <a:ext cx="914400" cy="20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IS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240160" y="3009960"/>
            <a:ext cx="370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5440320" y="3211560"/>
            <a:ext cx="107460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mcl Sat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596960" y="1865160"/>
            <a:ext cx="1136880" cy="4086720"/>
          </a:xfrm>
          <a:custGeom>
            <a:avLst/>
            <a:gdLst/>
            <a:ahLst/>
            <a:rect l="0" t="0" r="r" b="b"/>
            <a:pathLst>
              <a:path fill="none" w="3158" h="11352">
                <a:moveTo>
                  <a:pt x="0" y="11352"/>
                </a:moveTo>
                <a:lnTo>
                  <a:pt x="3" y="9901"/>
                </a:lnTo>
                <a:lnTo>
                  <a:pt x="162" y="9552"/>
                </a:lnTo>
                <a:lnTo>
                  <a:pt x="312" y="9220"/>
                </a:lnTo>
                <a:lnTo>
                  <a:pt x="477" y="8861"/>
                </a:lnTo>
                <a:lnTo>
                  <a:pt x="660" y="8430"/>
                </a:lnTo>
                <a:lnTo>
                  <a:pt x="838" y="8041"/>
                </a:lnTo>
                <a:lnTo>
                  <a:pt x="996" y="7676"/>
                </a:lnTo>
                <a:lnTo>
                  <a:pt x="1141" y="7370"/>
                </a:lnTo>
                <a:lnTo>
                  <a:pt x="1282" y="7083"/>
                </a:lnTo>
                <a:lnTo>
                  <a:pt x="1448" y="6750"/>
                </a:lnTo>
                <a:lnTo>
                  <a:pt x="1591" y="6483"/>
                </a:lnTo>
                <a:lnTo>
                  <a:pt x="1749" y="6206"/>
                </a:lnTo>
                <a:lnTo>
                  <a:pt x="1927" y="5922"/>
                </a:lnTo>
                <a:lnTo>
                  <a:pt x="2084" y="5684"/>
                </a:lnTo>
                <a:lnTo>
                  <a:pt x="2257" y="5462"/>
                </a:lnTo>
                <a:lnTo>
                  <a:pt x="2105" y="5325"/>
                </a:lnTo>
                <a:lnTo>
                  <a:pt x="1923" y="5175"/>
                </a:lnTo>
                <a:lnTo>
                  <a:pt x="1728" y="4993"/>
                </a:lnTo>
                <a:lnTo>
                  <a:pt x="1533" y="4784"/>
                </a:lnTo>
                <a:lnTo>
                  <a:pt x="1344" y="4566"/>
                </a:lnTo>
                <a:lnTo>
                  <a:pt x="1157" y="4305"/>
                </a:lnTo>
                <a:lnTo>
                  <a:pt x="957" y="3985"/>
                </a:lnTo>
                <a:lnTo>
                  <a:pt x="718" y="3519"/>
                </a:lnTo>
                <a:lnTo>
                  <a:pt x="542" y="3154"/>
                </a:lnTo>
                <a:lnTo>
                  <a:pt x="377" y="2748"/>
                </a:lnTo>
                <a:lnTo>
                  <a:pt x="235" y="2321"/>
                </a:lnTo>
                <a:lnTo>
                  <a:pt x="25" y="1597"/>
                </a:lnTo>
                <a:lnTo>
                  <a:pt x="30" y="0"/>
                </a:lnTo>
                <a:lnTo>
                  <a:pt x="195" y="534"/>
                </a:lnTo>
                <a:lnTo>
                  <a:pt x="393" y="1079"/>
                </a:lnTo>
                <a:lnTo>
                  <a:pt x="579" y="1545"/>
                </a:lnTo>
                <a:lnTo>
                  <a:pt x="760" y="1989"/>
                </a:lnTo>
                <a:lnTo>
                  <a:pt x="983" y="2458"/>
                </a:lnTo>
                <a:lnTo>
                  <a:pt x="1198" y="2873"/>
                </a:lnTo>
                <a:lnTo>
                  <a:pt x="1357" y="3157"/>
                </a:lnTo>
                <a:lnTo>
                  <a:pt x="1565" y="3447"/>
                </a:lnTo>
                <a:lnTo>
                  <a:pt x="1752" y="3701"/>
                </a:lnTo>
                <a:lnTo>
                  <a:pt x="1907" y="3884"/>
                </a:lnTo>
                <a:lnTo>
                  <a:pt x="2103" y="4089"/>
                </a:lnTo>
                <a:lnTo>
                  <a:pt x="2259" y="4236"/>
                </a:lnTo>
                <a:lnTo>
                  <a:pt x="2365" y="4331"/>
                </a:lnTo>
                <a:lnTo>
                  <a:pt x="2508" y="4432"/>
                </a:lnTo>
                <a:lnTo>
                  <a:pt x="2626" y="4510"/>
                </a:lnTo>
                <a:lnTo>
                  <a:pt x="2628" y="3705"/>
                </a:lnTo>
                <a:lnTo>
                  <a:pt x="3158" y="5107"/>
                </a:lnTo>
                <a:lnTo>
                  <a:pt x="2620" y="6793"/>
                </a:lnTo>
                <a:lnTo>
                  <a:pt x="2622" y="5990"/>
                </a:lnTo>
                <a:lnTo>
                  <a:pt x="2532" y="6075"/>
                </a:lnTo>
                <a:lnTo>
                  <a:pt x="2420" y="6202"/>
                </a:lnTo>
                <a:lnTo>
                  <a:pt x="2304" y="6392"/>
                </a:lnTo>
                <a:lnTo>
                  <a:pt x="2162" y="6626"/>
                </a:lnTo>
                <a:lnTo>
                  <a:pt x="2019" y="6890"/>
                </a:lnTo>
                <a:lnTo>
                  <a:pt x="1894" y="7125"/>
                </a:lnTo>
                <a:lnTo>
                  <a:pt x="1769" y="7370"/>
                </a:lnTo>
                <a:lnTo>
                  <a:pt x="1629" y="7647"/>
                </a:lnTo>
                <a:lnTo>
                  <a:pt x="1515" y="7878"/>
                </a:lnTo>
                <a:lnTo>
                  <a:pt x="1378" y="8149"/>
                </a:lnTo>
                <a:lnTo>
                  <a:pt x="1136" y="8669"/>
                </a:lnTo>
                <a:lnTo>
                  <a:pt x="958" y="9066"/>
                </a:lnTo>
                <a:lnTo>
                  <a:pt x="811" y="9396"/>
                </a:lnTo>
                <a:lnTo>
                  <a:pt x="690" y="9673"/>
                </a:lnTo>
                <a:lnTo>
                  <a:pt x="509" y="10110"/>
                </a:lnTo>
                <a:lnTo>
                  <a:pt x="340" y="10511"/>
                </a:lnTo>
                <a:lnTo>
                  <a:pt x="176" y="10912"/>
                </a:lnTo>
                <a:lnTo>
                  <a:pt x="0" y="1135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100080" y="1854360"/>
            <a:ext cx="1463760" cy="72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sn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and &amp; Control Aug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BC2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00080" y="3908520"/>
            <a:ext cx="1989000" cy="41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ttlefield Awareness and Data Dissemination (BAD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217440" y="3200400"/>
            <a:ext cx="1587600" cy="568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ense Dissemination Service (D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192240" y="4579920"/>
            <a:ext cx="1469880" cy="568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rated Broadcast Service (IB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7539120" y="2590920"/>
            <a:ext cx="1052640" cy="384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FO Packa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6421320" y="4546440"/>
            <a:ext cx="1108080" cy="247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stem Secu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243240" y="3417840"/>
            <a:ext cx="914400" cy="123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090960" y="3265560"/>
            <a:ext cx="914400" cy="123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2938320" y="3112920"/>
            <a:ext cx="914400" cy="123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5389560" y="3427560"/>
            <a:ext cx="914400" cy="20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681440" y="4479840"/>
            <a:ext cx="165600" cy="609840"/>
          </a:xfrm>
          <a:custGeom>
            <a:avLst/>
            <a:gdLst/>
            <a:ahLst/>
            <a:rect l="0" t="0" r="r" b="b"/>
            <a:pathLst>
              <a:path w="460" h="1694">
                <a:moveTo>
                  <a:pt x="153" y="1694"/>
                </a:moveTo>
                <a:lnTo>
                  <a:pt x="306" y="1694"/>
                </a:lnTo>
                <a:lnTo>
                  <a:pt x="306" y="507"/>
                </a:lnTo>
                <a:lnTo>
                  <a:pt x="460" y="507"/>
                </a:lnTo>
                <a:lnTo>
                  <a:pt x="230" y="0"/>
                </a:lnTo>
                <a:lnTo>
                  <a:pt x="0" y="507"/>
                </a:lnTo>
                <a:lnTo>
                  <a:pt x="153" y="507"/>
                </a:lnTo>
                <a:lnTo>
                  <a:pt x="153" y="16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681440" y="4737240"/>
            <a:ext cx="165600" cy="609840"/>
          </a:xfrm>
          <a:custGeom>
            <a:avLst/>
            <a:gdLst/>
            <a:ahLst/>
            <a:rect l="0" t="0" r="r" b="b"/>
            <a:pathLst>
              <a:path w="460" h="1694">
                <a:moveTo>
                  <a:pt x="153" y="0"/>
                </a:moveTo>
                <a:lnTo>
                  <a:pt x="306" y="0"/>
                </a:lnTo>
                <a:lnTo>
                  <a:pt x="306" y="1186"/>
                </a:lnTo>
                <a:lnTo>
                  <a:pt x="460" y="1186"/>
                </a:lnTo>
                <a:lnTo>
                  <a:pt x="230" y="1694"/>
                </a:lnTo>
                <a:lnTo>
                  <a:pt x="0" y="1186"/>
                </a:lnTo>
                <a:lnTo>
                  <a:pt x="153" y="1186"/>
                </a:lnTo>
                <a:lnTo>
                  <a:pt x="15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"/>
          <p:cNvSpPr txBox="1"/>
          <p:nvPr/>
        </p:nvSpPr>
        <p:spPr>
          <a:xfrm>
            <a:off x="1289160" y="25560"/>
            <a:ext cx="6140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snia Command/Control Augmentation (BC2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127080" y="3780000"/>
            <a:ext cx="4375080" cy="27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OC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SAT - Secure Tactical Internet - MAPS and V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PA Lead - DISA/NRO Support ORION satellite - 3 transpo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nd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 Command Control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dator unmanned aerial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en - Common Operating Picture (C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4589640" y="3780000"/>
            <a:ext cx="4410000" cy="26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FITS TO G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CA will provide operational experience to refine the CONOPS for follow-on GBS ph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127080" y="1155600"/>
            <a:ext cx="88898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30320" y="3646440"/>
            <a:ext cx="88898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538520" y="1208160"/>
            <a:ext cx="0" cy="5497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5516640" y="1488960"/>
            <a:ext cx="21924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OCA PO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 For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BS JPO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 Sce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144360" y="1395360"/>
            <a:ext cx="4310280" cy="2200320"/>
            <a:chOff x="144360" y="1395360"/>
            <a:chExt cx="4310280" cy="2200320"/>
          </a:xfrm>
        </p:grpSpPr>
        <p:sp>
          <p:nvSpPr>
            <p:cNvPr id="1777" name=""/>
            <p:cNvSpPr/>
            <p:nvPr/>
          </p:nvSpPr>
          <p:spPr>
            <a:xfrm>
              <a:off x="2181240" y="2197080"/>
              <a:ext cx="2008080" cy="649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68560" y="2071800"/>
              <a:ext cx="223524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689120" y="2376360"/>
              <a:ext cx="0" cy="246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0" name=""/>
            <p:cNvGrpSpPr/>
            <p:nvPr/>
          </p:nvGrpSpPr>
          <p:grpSpPr>
            <a:xfrm>
              <a:off x="2446200" y="1973160"/>
              <a:ext cx="1364040" cy="1168920"/>
              <a:chOff x="2446200" y="1973160"/>
              <a:chExt cx="1364040" cy="1168920"/>
            </a:xfrm>
          </p:grpSpPr>
          <p:grpSp>
            <p:nvGrpSpPr>
              <p:cNvPr id="1781" name=""/>
              <p:cNvGrpSpPr/>
              <p:nvPr/>
            </p:nvGrpSpPr>
            <p:grpSpPr>
              <a:xfrm>
                <a:off x="2446200" y="1973160"/>
                <a:ext cx="422640" cy="432000"/>
                <a:chOff x="2446200" y="1973160"/>
                <a:chExt cx="422640" cy="43200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2576520" y="1973160"/>
                  <a:ext cx="292320" cy="432000"/>
                </a:xfrm>
                <a:custGeom>
                  <a:avLst/>
                  <a:gdLst/>
                  <a:ahLst/>
                  <a:rect l="0" t="0" r="r" b="b"/>
                  <a:pathLst>
                    <a:path fill="none" w="812" h="1200">
                      <a:moveTo>
                        <a:pt x="455" y="17"/>
                      </a:moveTo>
                      <a:lnTo>
                        <a:pt x="439" y="34"/>
                      </a:lnTo>
                      <a:lnTo>
                        <a:pt x="405" y="51"/>
                      </a:lnTo>
                      <a:lnTo>
                        <a:pt x="405" y="102"/>
                      </a:lnTo>
                      <a:lnTo>
                        <a:pt x="373" y="119"/>
                      </a:lnTo>
                      <a:lnTo>
                        <a:pt x="357" y="119"/>
                      </a:lnTo>
                      <a:lnTo>
                        <a:pt x="340" y="119"/>
                      </a:lnTo>
                      <a:lnTo>
                        <a:pt x="340" y="154"/>
                      </a:lnTo>
                      <a:lnTo>
                        <a:pt x="324" y="205"/>
                      </a:lnTo>
                      <a:lnTo>
                        <a:pt x="324" y="222"/>
                      </a:lnTo>
                      <a:lnTo>
                        <a:pt x="292" y="239"/>
                      </a:lnTo>
                      <a:lnTo>
                        <a:pt x="292" y="257"/>
                      </a:lnTo>
                      <a:lnTo>
                        <a:pt x="292" y="291"/>
                      </a:lnTo>
                      <a:lnTo>
                        <a:pt x="275" y="325"/>
                      </a:lnTo>
                      <a:lnTo>
                        <a:pt x="259" y="394"/>
                      </a:lnTo>
                      <a:lnTo>
                        <a:pt x="243" y="394"/>
                      </a:lnTo>
                      <a:lnTo>
                        <a:pt x="227" y="445"/>
                      </a:lnTo>
                      <a:lnTo>
                        <a:pt x="243" y="445"/>
                      </a:lnTo>
                      <a:lnTo>
                        <a:pt x="259" y="428"/>
                      </a:lnTo>
                      <a:lnTo>
                        <a:pt x="292" y="376"/>
                      </a:lnTo>
                      <a:lnTo>
                        <a:pt x="324" y="376"/>
                      </a:lnTo>
                      <a:lnTo>
                        <a:pt x="357" y="394"/>
                      </a:lnTo>
                      <a:lnTo>
                        <a:pt x="389" y="394"/>
                      </a:lnTo>
                      <a:lnTo>
                        <a:pt x="405" y="411"/>
                      </a:lnTo>
                      <a:lnTo>
                        <a:pt x="422" y="445"/>
                      </a:lnTo>
                      <a:lnTo>
                        <a:pt x="405" y="479"/>
                      </a:lnTo>
                      <a:lnTo>
                        <a:pt x="405" y="514"/>
                      </a:lnTo>
                      <a:lnTo>
                        <a:pt x="422" y="531"/>
                      </a:lnTo>
                      <a:lnTo>
                        <a:pt x="389" y="565"/>
                      </a:lnTo>
                      <a:lnTo>
                        <a:pt x="389" y="599"/>
                      </a:lnTo>
                      <a:lnTo>
                        <a:pt x="405" y="634"/>
                      </a:lnTo>
                      <a:lnTo>
                        <a:pt x="439" y="652"/>
                      </a:lnTo>
                      <a:lnTo>
                        <a:pt x="405" y="669"/>
                      </a:lnTo>
                      <a:lnTo>
                        <a:pt x="405" y="720"/>
                      </a:lnTo>
                      <a:lnTo>
                        <a:pt x="373" y="737"/>
                      </a:lnTo>
                      <a:lnTo>
                        <a:pt x="340" y="772"/>
                      </a:lnTo>
                      <a:lnTo>
                        <a:pt x="292" y="772"/>
                      </a:lnTo>
                      <a:lnTo>
                        <a:pt x="243" y="772"/>
                      </a:lnTo>
                      <a:lnTo>
                        <a:pt x="243" y="857"/>
                      </a:lnTo>
                      <a:lnTo>
                        <a:pt x="227" y="909"/>
                      </a:lnTo>
                      <a:lnTo>
                        <a:pt x="194" y="909"/>
                      </a:lnTo>
                      <a:lnTo>
                        <a:pt x="146" y="909"/>
                      </a:lnTo>
                      <a:lnTo>
                        <a:pt x="113" y="943"/>
                      </a:lnTo>
                      <a:lnTo>
                        <a:pt x="113" y="960"/>
                      </a:lnTo>
                      <a:lnTo>
                        <a:pt x="162" y="960"/>
                      </a:lnTo>
                      <a:lnTo>
                        <a:pt x="194" y="960"/>
                      </a:lnTo>
                      <a:lnTo>
                        <a:pt x="194" y="977"/>
                      </a:lnTo>
                      <a:lnTo>
                        <a:pt x="243" y="977"/>
                      </a:lnTo>
                      <a:lnTo>
                        <a:pt x="243" y="1011"/>
                      </a:lnTo>
                      <a:lnTo>
                        <a:pt x="227" y="1029"/>
                      </a:lnTo>
                      <a:lnTo>
                        <a:pt x="194" y="1046"/>
                      </a:lnTo>
                      <a:lnTo>
                        <a:pt x="162" y="1063"/>
                      </a:lnTo>
                      <a:lnTo>
                        <a:pt x="129" y="1080"/>
                      </a:lnTo>
                      <a:lnTo>
                        <a:pt x="81" y="1149"/>
                      </a:lnTo>
                      <a:lnTo>
                        <a:pt x="0" y="1183"/>
                      </a:lnTo>
                      <a:lnTo>
                        <a:pt x="16" y="1200"/>
                      </a:lnTo>
                      <a:lnTo>
                        <a:pt x="146" y="1149"/>
                      </a:lnTo>
                      <a:lnTo>
                        <a:pt x="194" y="1166"/>
                      </a:lnTo>
                      <a:lnTo>
                        <a:pt x="243" y="1149"/>
                      </a:lnTo>
                      <a:lnTo>
                        <a:pt x="275" y="1131"/>
                      </a:lnTo>
                      <a:lnTo>
                        <a:pt x="357" y="1131"/>
                      </a:lnTo>
                      <a:lnTo>
                        <a:pt x="422" y="1131"/>
                      </a:lnTo>
                      <a:lnTo>
                        <a:pt x="585" y="1131"/>
                      </a:lnTo>
                      <a:lnTo>
                        <a:pt x="601" y="1149"/>
                      </a:lnTo>
                      <a:lnTo>
                        <a:pt x="682" y="1131"/>
                      </a:lnTo>
                      <a:lnTo>
                        <a:pt x="731" y="1097"/>
                      </a:lnTo>
                      <a:lnTo>
                        <a:pt x="731" y="1080"/>
                      </a:lnTo>
                      <a:lnTo>
                        <a:pt x="698" y="1046"/>
                      </a:lnTo>
                      <a:lnTo>
                        <a:pt x="666" y="1046"/>
                      </a:lnTo>
                      <a:lnTo>
                        <a:pt x="747" y="994"/>
                      </a:lnTo>
                      <a:lnTo>
                        <a:pt x="779" y="960"/>
                      </a:lnTo>
                      <a:lnTo>
                        <a:pt x="812" y="840"/>
                      </a:lnTo>
                      <a:lnTo>
                        <a:pt x="796" y="823"/>
                      </a:lnTo>
                      <a:lnTo>
                        <a:pt x="731" y="840"/>
                      </a:lnTo>
                      <a:lnTo>
                        <a:pt x="698" y="857"/>
                      </a:lnTo>
                      <a:lnTo>
                        <a:pt x="666" y="823"/>
                      </a:lnTo>
                      <a:lnTo>
                        <a:pt x="698" y="806"/>
                      </a:lnTo>
                      <a:lnTo>
                        <a:pt x="698" y="772"/>
                      </a:lnTo>
                      <a:lnTo>
                        <a:pt x="682" y="720"/>
                      </a:lnTo>
                      <a:lnTo>
                        <a:pt x="682" y="686"/>
                      </a:lnTo>
                      <a:lnTo>
                        <a:pt x="682" y="634"/>
                      </a:lnTo>
                      <a:lnTo>
                        <a:pt x="633" y="582"/>
                      </a:lnTo>
                      <a:lnTo>
                        <a:pt x="650" y="565"/>
                      </a:lnTo>
                      <a:lnTo>
                        <a:pt x="617" y="514"/>
                      </a:lnTo>
                      <a:lnTo>
                        <a:pt x="601" y="496"/>
                      </a:lnTo>
                      <a:lnTo>
                        <a:pt x="601" y="445"/>
                      </a:lnTo>
                      <a:lnTo>
                        <a:pt x="552" y="445"/>
                      </a:lnTo>
                      <a:lnTo>
                        <a:pt x="552" y="394"/>
                      </a:lnTo>
                      <a:lnTo>
                        <a:pt x="520" y="376"/>
                      </a:lnTo>
                      <a:lnTo>
                        <a:pt x="487" y="376"/>
                      </a:lnTo>
                      <a:lnTo>
                        <a:pt x="520" y="359"/>
                      </a:lnTo>
                      <a:lnTo>
                        <a:pt x="552" y="359"/>
                      </a:lnTo>
                      <a:lnTo>
                        <a:pt x="536" y="325"/>
                      </a:lnTo>
                      <a:lnTo>
                        <a:pt x="568" y="325"/>
                      </a:lnTo>
                      <a:lnTo>
                        <a:pt x="601" y="274"/>
                      </a:lnTo>
                      <a:lnTo>
                        <a:pt x="633" y="274"/>
                      </a:lnTo>
                      <a:lnTo>
                        <a:pt x="650" y="239"/>
                      </a:lnTo>
                      <a:lnTo>
                        <a:pt x="682" y="171"/>
                      </a:lnTo>
                      <a:lnTo>
                        <a:pt x="568" y="171"/>
                      </a:lnTo>
                      <a:lnTo>
                        <a:pt x="536" y="154"/>
                      </a:lnTo>
                      <a:lnTo>
                        <a:pt x="504" y="154"/>
                      </a:lnTo>
                      <a:lnTo>
                        <a:pt x="471" y="171"/>
                      </a:lnTo>
                      <a:lnTo>
                        <a:pt x="471" y="137"/>
                      </a:lnTo>
                      <a:lnTo>
                        <a:pt x="520" y="119"/>
                      </a:lnTo>
                      <a:lnTo>
                        <a:pt x="536" y="102"/>
                      </a:lnTo>
                      <a:lnTo>
                        <a:pt x="585" y="68"/>
                      </a:lnTo>
                      <a:lnTo>
                        <a:pt x="601" y="34"/>
                      </a:lnTo>
                      <a:lnTo>
                        <a:pt x="568" y="0"/>
                      </a:lnTo>
                      <a:lnTo>
                        <a:pt x="471" y="34"/>
                      </a:lnTo>
                      <a:lnTo>
                        <a:pt x="455" y="17"/>
                      </a:lnTo>
                    </a:path>
                  </a:pathLst>
                </a:custGeom>
                <a:ln w="12600">
                  <a:solidFill>
                    <a:srgbClr val="dadada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446200" y="2135160"/>
                  <a:ext cx="170280" cy="178200"/>
                </a:xfrm>
                <a:custGeom>
                  <a:avLst/>
                  <a:gdLst/>
                  <a:ahLst/>
                  <a:rect l="0" t="0" r="r" b="b"/>
                  <a:pathLst>
                    <a:path fill="none" w="473" h="495">
                      <a:moveTo>
                        <a:pt x="342" y="0"/>
                      </a:moveTo>
                      <a:lnTo>
                        <a:pt x="392" y="0"/>
                      </a:lnTo>
                      <a:lnTo>
                        <a:pt x="408" y="17"/>
                      </a:lnTo>
                      <a:lnTo>
                        <a:pt x="425" y="17"/>
                      </a:lnTo>
                      <a:lnTo>
                        <a:pt x="408" y="34"/>
                      </a:lnTo>
                      <a:lnTo>
                        <a:pt x="392" y="34"/>
                      </a:lnTo>
                      <a:lnTo>
                        <a:pt x="359" y="68"/>
                      </a:lnTo>
                      <a:lnTo>
                        <a:pt x="326" y="102"/>
                      </a:lnTo>
                      <a:lnTo>
                        <a:pt x="342" y="119"/>
                      </a:lnTo>
                      <a:lnTo>
                        <a:pt x="359" y="137"/>
                      </a:lnTo>
                      <a:lnTo>
                        <a:pt x="376" y="137"/>
                      </a:lnTo>
                      <a:lnTo>
                        <a:pt x="441" y="102"/>
                      </a:lnTo>
                      <a:lnTo>
                        <a:pt x="457" y="154"/>
                      </a:lnTo>
                      <a:lnTo>
                        <a:pt x="473" y="188"/>
                      </a:lnTo>
                      <a:lnTo>
                        <a:pt x="457" y="205"/>
                      </a:lnTo>
                      <a:lnTo>
                        <a:pt x="457" y="273"/>
                      </a:lnTo>
                      <a:lnTo>
                        <a:pt x="441" y="341"/>
                      </a:lnTo>
                      <a:lnTo>
                        <a:pt x="376" y="444"/>
                      </a:lnTo>
                      <a:lnTo>
                        <a:pt x="245" y="444"/>
                      </a:lnTo>
                      <a:lnTo>
                        <a:pt x="228" y="461"/>
                      </a:lnTo>
                      <a:lnTo>
                        <a:pt x="196" y="461"/>
                      </a:lnTo>
                      <a:lnTo>
                        <a:pt x="179" y="427"/>
                      </a:lnTo>
                      <a:lnTo>
                        <a:pt x="163" y="478"/>
                      </a:lnTo>
                      <a:lnTo>
                        <a:pt x="131" y="478"/>
                      </a:lnTo>
                      <a:lnTo>
                        <a:pt x="113" y="495"/>
                      </a:lnTo>
                      <a:lnTo>
                        <a:pt x="32" y="495"/>
                      </a:lnTo>
                      <a:lnTo>
                        <a:pt x="0" y="444"/>
                      </a:lnTo>
                      <a:lnTo>
                        <a:pt x="16" y="410"/>
                      </a:lnTo>
                      <a:lnTo>
                        <a:pt x="0" y="393"/>
                      </a:lnTo>
                      <a:lnTo>
                        <a:pt x="32" y="376"/>
                      </a:lnTo>
                      <a:lnTo>
                        <a:pt x="81" y="358"/>
                      </a:lnTo>
                      <a:lnTo>
                        <a:pt x="81" y="324"/>
                      </a:lnTo>
                      <a:lnTo>
                        <a:pt x="113" y="324"/>
                      </a:lnTo>
                      <a:lnTo>
                        <a:pt x="147" y="239"/>
                      </a:lnTo>
                      <a:lnTo>
                        <a:pt x="113" y="222"/>
                      </a:lnTo>
                      <a:lnTo>
                        <a:pt x="97" y="188"/>
                      </a:lnTo>
                      <a:lnTo>
                        <a:pt x="131" y="188"/>
                      </a:lnTo>
                      <a:lnTo>
                        <a:pt x="131" y="171"/>
                      </a:lnTo>
                      <a:lnTo>
                        <a:pt x="147" y="85"/>
                      </a:lnTo>
                      <a:lnTo>
                        <a:pt x="179" y="102"/>
                      </a:lnTo>
                      <a:lnTo>
                        <a:pt x="196" y="119"/>
                      </a:lnTo>
                      <a:lnTo>
                        <a:pt x="228" y="119"/>
                      </a:lnTo>
                      <a:lnTo>
                        <a:pt x="245" y="119"/>
                      </a:lnTo>
                      <a:lnTo>
                        <a:pt x="277" y="119"/>
                      </a:lnTo>
                      <a:lnTo>
                        <a:pt x="277" y="102"/>
                      </a:lnTo>
                      <a:lnTo>
                        <a:pt x="310" y="68"/>
                      </a:lnTo>
                      <a:lnTo>
                        <a:pt x="277" y="51"/>
                      </a:lnTo>
                      <a:lnTo>
                        <a:pt x="293" y="34"/>
                      </a:lnTo>
                      <a:lnTo>
                        <a:pt x="326" y="34"/>
                      </a:lnTo>
                      <a:lnTo>
                        <a:pt x="342" y="0"/>
                      </a:lnTo>
                    </a:path>
                  </a:pathLst>
                </a:custGeom>
                <a:ln w="12600">
                  <a:solidFill>
                    <a:srgbClr val="dadada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2563920" y="2139840"/>
                  <a:ext cx="82800" cy="5580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155">
                      <a:moveTo>
                        <a:pt x="98" y="0"/>
                      </a:moveTo>
                      <a:lnTo>
                        <a:pt x="132" y="0"/>
                      </a:lnTo>
                      <a:lnTo>
                        <a:pt x="132" y="17"/>
                      </a:lnTo>
                      <a:lnTo>
                        <a:pt x="148" y="0"/>
                      </a:lnTo>
                      <a:lnTo>
                        <a:pt x="197" y="17"/>
                      </a:lnTo>
                      <a:lnTo>
                        <a:pt x="213" y="0"/>
                      </a:lnTo>
                      <a:lnTo>
                        <a:pt x="213" y="34"/>
                      </a:lnTo>
                      <a:lnTo>
                        <a:pt x="230" y="68"/>
                      </a:lnTo>
                      <a:lnTo>
                        <a:pt x="230" y="103"/>
                      </a:lnTo>
                      <a:lnTo>
                        <a:pt x="197" y="155"/>
                      </a:lnTo>
                      <a:lnTo>
                        <a:pt x="181" y="155"/>
                      </a:lnTo>
                      <a:lnTo>
                        <a:pt x="164" y="155"/>
                      </a:lnTo>
                      <a:lnTo>
                        <a:pt x="148" y="155"/>
                      </a:lnTo>
                      <a:lnTo>
                        <a:pt x="132" y="155"/>
                      </a:lnTo>
                      <a:lnTo>
                        <a:pt x="114" y="103"/>
                      </a:lnTo>
                      <a:lnTo>
                        <a:pt x="81" y="121"/>
                      </a:lnTo>
                      <a:lnTo>
                        <a:pt x="49" y="121"/>
                      </a:lnTo>
                      <a:lnTo>
                        <a:pt x="32" y="121"/>
                      </a:lnTo>
                      <a:lnTo>
                        <a:pt x="16" y="103"/>
                      </a:lnTo>
                      <a:lnTo>
                        <a:pt x="0" y="86"/>
                      </a:lnTo>
                      <a:lnTo>
                        <a:pt x="32" y="34"/>
                      </a:lnTo>
                      <a:lnTo>
                        <a:pt x="65" y="17"/>
                      </a:lnTo>
                      <a:lnTo>
                        <a:pt x="81" y="17"/>
                      </a:lnTo>
                      <a:lnTo>
                        <a:pt x="98" y="0"/>
                      </a:lnTo>
                    </a:path>
                  </a:pathLst>
                </a:custGeom>
                <a:ln w="12600">
                  <a:solidFill>
                    <a:srgbClr val="dadada"/>
                  </a:solidFill>
                  <a:round/>
                </a:ln>
              </p:spPr>
              <p:txBody>
                <a:bodyPr lIns="96120" rIns="9612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5" name=""/>
              <p:cNvSpPr/>
              <p:nvPr/>
            </p:nvSpPr>
            <p:spPr>
              <a:xfrm>
                <a:off x="3267000" y="2616120"/>
                <a:ext cx="390960" cy="297360"/>
              </a:xfrm>
              <a:custGeom>
                <a:avLst/>
                <a:gdLst/>
                <a:ahLst/>
                <a:rect l="0" t="0" r="r" b="b"/>
                <a:pathLst>
                  <a:path fill="none" w="1086" h="826">
                    <a:moveTo>
                      <a:pt x="0" y="0"/>
                    </a:moveTo>
                    <a:lnTo>
                      <a:pt x="64" y="0"/>
                    </a:lnTo>
                    <a:lnTo>
                      <a:pt x="129" y="17"/>
                    </a:lnTo>
                    <a:lnTo>
                      <a:pt x="161" y="0"/>
                    </a:lnTo>
                    <a:lnTo>
                      <a:pt x="194" y="0"/>
                    </a:lnTo>
                    <a:lnTo>
                      <a:pt x="226" y="0"/>
                    </a:lnTo>
                    <a:lnTo>
                      <a:pt x="292" y="0"/>
                    </a:lnTo>
                    <a:lnTo>
                      <a:pt x="308" y="17"/>
                    </a:lnTo>
                    <a:lnTo>
                      <a:pt x="357" y="51"/>
                    </a:lnTo>
                    <a:lnTo>
                      <a:pt x="438" y="103"/>
                    </a:lnTo>
                    <a:lnTo>
                      <a:pt x="502" y="120"/>
                    </a:lnTo>
                    <a:lnTo>
                      <a:pt x="616" y="85"/>
                    </a:lnTo>
                    <a:lnTo>
                      <a:pt x="697" y="51"/>
                    </a:lnTo>
                    <a:lnTo>
                      <a:pt x="761" y="85"/>
                    </a:lnTo>
                    <a:lnTo>
                      <a:pt x="810" y="171"/>
                    </a:lnTo>
                    <a:lnTo>
                      <a:pt x="860" y="188"/>
                    </a:lnTo>
                    <a:lnTo>
                      <a:pt x="892" y="275"/>
                    </a:lnTo>
                    <a:lnTo>
                      <a:pt x="989" y="275"/>
                    </a:lnTo>
                    <a:lnTo>
                      <a:pt x="1022" y="344"/>
                    </a:lnTo>
                    <a:lnTo>
                      <a:pt x="1005" y="378"/>
                    </a:lnTo>
                    <a:lnTo>
                      <a:pt x="1038" y="413"/>
                    </a:lnTo>
                    <a:lnTo>
                      <a:pt x="1054" y="482"/>
                    </a:lnTo>
                    <a:lnTo>
                      <a:pt x="1038" y="550"/>
                    </a:lnTo>
                    <a:lnTo>
                      <a:pt x="1038" y="620"/>
                    </a:lnTo>
                    <a:lnTo>
                      <a:pt x="1086" y="637"/>
                    </a:lnTo>
                    <a:lnTo>
                      <a:pt x="1086" y="689"/>
                    </a:lnTo>
                    <a:lnTo>
                      <a:pt x="1070" y="723"/>
                    </a:lnTo>
                    <a:lnTo>
                      <a:pt x="1054" y="775"/>
                    </a:lnTo>
                    <a:lnTo>
                      <a:pt x="973" y="775"/>
                    </a:lnTo>
                    <a:lnTo>
                      <a:pt x="973" y="809"/>
                    </a:lnTo>
                    <a:lnTo>
                      <a:pt x="908" y="826"/>
                    </a:lnTo>
                    <a:lnTo>
                      <a:pt x="827" y="826"/>
                    </a:lnTo>
                    <a:lnTo>
                      <a:pt x="794" y="740"/>
                    </a:lnTo>
                    <a:lnTo>
                      <a:pt x="794" y="620"/>
                    </a:lnTo>
                    <a:lnTo>
                      <a:pt x="778" y="620"/>
                    </a:lnTo>
                    <a:lnTo>
                      <a:pt x="713" y="585"/>
                    </a:lnTo>
                    <a:lnTo>
                      <a:pt x="681" y="550"/>
                    </a:lnTo>
                    <a:lnTo>
                      <a:pt x="648" y="550"/>
                    </a:lnTo>
                    <a:lnTo>
                      <a:pt x="648" y="620"/>
                    </a:lnTo>
                    <a:lnTo>
                      <a:pt x="648" y="672"/>
                    </a:lnTo>
                    <a:lnTo>
                      <a:pt x="600" y="654"/>
                    </a:lnTo>
                    <a:lnTo>
                      <a:pt x="535" y="620"/>
                    </a:lnTo>
                    <a:lnTo>
                      <a:pt x="502" y="585"/>
                    </a:lnTo>
                    <a:lnTo>
                      <a:pt x="454" y="567"/>
                    </a:lnTo>
                    <a:lnTo>
                      <a:pt x="405" y="516"/>
                    </a:lnTo>
                    <a:lnTo>
                      <a:pt x="341" y="482"/>
                    </a:lnTo>
                    <a:lnTo>
                      <a:pt x="276" y="464"/>
                    </a:lnTo>
                    <a:lnTo>
                      <a:pt x="242" y="447"/>
                    </a:lnTo>
                    <a:lnTo>
                      <a:pt x="210" y="413"/>
                    </a:lnTo>
                    <a:lnTo>
                      <a:pt x="178" y="361"/>
                    </a:lnTo>
                    <a:lnTo>
                      <a:pt x="210" y="344"/>
                    </a:lnTo>
                    <a:lnTo>
                      <a:pt x="161" y="310"/>
                    </a:lnTo>
                    <a:lnTo>
                      <a:pt x="145" y="258"/>
                    </a:lnTo>
                    <a:lnTo>
                      <a:pt x="113" y="207"/>
                    </a:lnTo>
                    <a:lnTo>
                      <a:pt x="64" y="207"/>
                    </a:lnTo>
                    <a:lnTo>
                      <a:pt x="64" y="241"/>
                    </a:lnTo>
                    <a:lnTo>
                      <a:pt x="32" y="258"/>
                    </a:lnTo>
                    <a:lnTo>
                      <a:pt x="0" y="241"/>
                    </a:lnTo>
                    <a:lnTo>
                      <a:pt x="0" y="207"/>
                    </a:lnTo>
                    <a:lnTo>
                      <a:pt x="16" y="171"/>
                    </a:lnTo>
                    <a:lnTo>
                      <a:pt x="16" y="120"/>
                    </a:lnTo>
                    <a:lnTo>
                      <a:pt x="32" y="120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376440" y="2523960"/>
                <a:ext cx="265320" cy="136800"/>
              </a:xfrm>
              <a:custGeom>
                <a:avLst/>
                <a:gdLst/>
                <a:ahLst/>
                <a:rect l="0" t="0" r="r" b="b"/>
                <a:pathLst>
                  <a:path fill="none" w="737" h="380">
                    <a:moveTo>
                      <a:pt x="688" y="34"/>
                    </a:moveTo>
                    <a:lnTo>
                      <a:pt x="639" y="34"/>
                    </a:lnTo>
                    <a:lnTo>
                      <a:pt x="622" y="17"/>
                    </a:lnTo>
                    <a:lnTo>
                      <a:pt x="541" y="17"/>
                    </a:lnTo>
                    <a:lnTo>
                      <a:pt x="459" y="0"/>
                    </a:lnTo>
                    <a:lnTo>
                      <a:pt x="393" y="34"/>
                    </a:lnTo>
                    <a:lnTo>
                      <a:pt x="327" y="34"/>
                    </a:lnTo>
                    <a:lnTo>
                      <a:pt x="229" y="103"/>
                    </a:lnTo>
                    <a:lnTo>
                      <a:pt x="180" y="103"/>
                    </a:lnTo>
                    <a:lnTo>
                      <a:pt x="98" y="68"/>
                    </a:lnTo>
                    <a:lnTo>
                      <a:pt x="81" y="68"/>
                    </a:lnTo>
                    <a:lnTo>
                      <a:pt x="65" y="120"/>
                    </a:lnTo>
                    <a:lnTo>
                      <a:pt x="32" y="120"/>
                    </a:lnTo>
                    <a:lnTo>
                      <a:pt x="16" y="189"/>
                    </a:lnTo>
                    <a:lnTo>
                      <a:pt x="0" y="225"/>
                    </a:lnTo>
                    <a:lnTo>
                      <a:pt x="32" y="311"/>
                    </a:lnTo>
                    <a:lnTo>
                      <a:pt x="130" y="362"/>
                    </a:lnTo>
                    <a:lnTo>
                      <a:pt x="196" y="380"/>
                    </a:lnTo>
                    <a:lnTo>
                      <a:pt x="310" y="345"/>
                    </a:lnTo>
                    <a:lnTo>
                      <a:pt x="393" y="328"/>
                    </a:lnTo>
                    <a:lnTo>
                      <a:pt x="459" y="345"/>
                    </a:lnTo>
                    <a:lnTo>
                      <a:pt x="590" y="276"/>
                    </a:lnTo>
                    <a:lnTo>
                      <a:pt x="655" y="137"/>
                    </a:lnTo>
                    <a:lnTo>
                      <a:pt x="688" y="120"/>
                    </a:lnTo>
                    <a:lnTo>
                      <a:pt x="737" y="86"/>
                    </a:lnTo>
                    <a:lnTo>
                      <a:pt x="688" y="34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541680" y="2857680"/>
                <a:ext cx="268560" cy="284400"/>
              </a:xfrm>
              <a:custGeom>
                <a:avLst/>
                <a:gdLst/>
                <a:ahLst/>
                <a:rect l="0" t="0" r="r" b="b"/>
                <a:pathLst>
                  <a:path fill="none" w="746" h="790">
                    <a:moveTo>
                      <a:pt x="730" y="0"/>
                    </a:moveTo>
                    <a:lnTo>
                      <a:pt x="697" y="17"/>
                    </a:lnTo>
                    <a:lnTo>
                      <a:pt x="649" y="102"/>
                    </a:lnTo>
                    <a:lnTo>
                      <a:pt x="503" y="102"/>
                    </a:lnTo>
                    <a:lnTo>
                      <a:pt x="487" y="34"/>
                    </a:lnTo>
                    <a:lnTo>
                      <a:pt x="438" y="85"/>
                    </a:lnTo>
                    <a:lnTo>
                      <a:pt x="406" y="85"/>
                    </a:lnTo>
                    <a:lnTo>
                      <a:pt x="340" y="51"/>
                    </a:lnTo>
                    <a:lnTo>
                      <a:pt x="307" y="51"/>
                    </a:lnTo>
                    <a:lnTo>
                      <a:pt x="291" y="102"/>
                    </a:lnTo>
                    <a:lnTo>
                      <a:pt x="210" y="102"/>
                    </a:lnTo>
                    <a:lnTo>
                      <a:pt x="210" y="137"/>
                    </a:lnTo>
                    <a:lnTo>
                      <a:pt x="129" y="154"/>
                    </a:lnTo>
                    <a:lnTo>
                      <a:pt x="64" y="137"/>
                    </a:lnTo>
                    <a:lnTo>
                      <a:pt x="97" y="205"/>
                    </a:lnTo>
                    <a:lnTo>
                      <a:pt x="48" y="274"/>
                    </a:lnTo>
                    <a:lnTo>
                      <a:pt x="0" y="257"/>
                    </a:lnTo>
                    <a:lnTo>
                      <a:pt x="16" y="308"/>
                    </a:lnTo>
                    <a:lnTo>
                      <a:pt x="0" y="343"/>
                    </a:lnTo>
                    <a:lnTo>
                      <a:pt x="0" y="377"/>
                    </a:lnTo>
                    <a:lnTo>
                      <a:pt x="32" y="394"/>
                    </a:lnTo>
                    <a:lnTo>
                      <a:pt x="48" y="412"/>
                    </a:lnTo>
                    <a:lnTo>
                      <a:pt x="81" y="412"/>
                    </a:lnTo>
                    <a:lnTo>
                      <a:pt x="64" y="447"/>
                    </a:lnTo>
                    <a:lnTo>
                      <a:pt x="81" y="481"/>
                    </a:lnTo>
                    <a:lnTo>
                      <a:pt x="113" y="481"/>
                    </a:lnTo>
                    <a:lnTo>
                      <a:pt x="162" y="481"/>
                    </a:lnTo>
                    <a:lnTo>
                      <a:pt x="210" y="498"/>
                    </a:lnTo>
                    <a:lnTo>
                      <a:pt x="291" y="498"/>
                    </a:lnTo>
                    <a:lnTo>
                      <a:pt x="340" y="550"/>
                    </a:lnTo>
                    <a:lnTo>
                      <a:pt x="324" y="567"/>
                    </a:lnTo>
                    <a:lnTo>
                      <a:pt x="275" y="567"/>
                    </a:lnTo>
                    <a:lnTo>
                      <a:pt x="226" y="550"/>
                    </a:lnTo>
                    <a:lnTo>
                      <a:pt x="210" y="532"/>
                    </a:lnTo>
                    <a:lnTo>
                      <a:pt x="178" y="550"/>
                    </a:lnTo>
                    <a:lnTo>
                      <a:pt x="145" y="550"/>
                    </a:lnTo>
                    <a:lnTo>
                      <a:pt x="129" y="567"/>
                    </a:lnTo>
                    <a:lnTo>
                      <a:pt x="129" y="601"/>
                    </a:lnTo>
                    <a:lnTo>
                      <a:pt x="162" y="618"/>
                    </a:lnTo>
                    <a:lnTo>
                      <a:pt x="194" y="653"/>
                    </a:lnTo>
                    <a:lnTo>
                      <a:pt x="194" y="704"/>
                    </a:lnTo>
                    <a:lnTo>
                      <a:pt x="226" y="687"/>
                    </a:lnTo>
                    <a:lnTo>
                      <a:pt x="259" y="756"/>
                    </a:lnTo>
                    <a:lnTo>
                      <a:pt x="275" y="790"/>
                    </a:lnTo>
                    <a:lnTo>
                      <a:pt x="307" y="790"/>
                    </a:lnTo>
                    <a:lnTo>
                      <a:pt x="291" y="738"/>
                    </a:lnTo>
                    <a:lnTo>
                      <a:pt x="356" y="756"/>
                    </a:lnTo>
                    <a:lnTo>
                      <a:pt x="389" y="773"/>
                    </a:lnTo>
                    <a:lnTo>
                      <a:pt x="372" y="721"/>
                    </a:lnTo>
                    <a:lnTo>
                      <a:pt x="324" y="670"/>
                    </a:lnTo>
                    <a:lnTo>
                      <a:pt x="324" y="635"/>
                    </a:lnTo>
                    <a:lnTo>
                      <a:pt x="389" y="653"/>
                    </a:lnTo>
                    <a:lnTo>
                      <a:pt x="406" y="635"/>
                    </a:lnTo>
                    <a:lnTo>
                      <a:pt x="356" y="618"/>
                    </a:lnTo>
                    <a:lnTo>
                      <a:pt x="356" y="584"/>
                    </a:lnTo>
                    <a:lnTo>
                      <a:pt x="389" y="567"/>
                    </a:lnTo>
                    <a:lnTo>
                      <a:pt x="422" y="550"/>
                    </a:lnTo>
                    <a:lnTo>
                      <a:pt x="470" y="567"/>
                    </a:lnTo>
                    <a:lnTo>
                      <a:pt x="503" y="567"/>
                    </a:lnTo>
                    <a:lnTo>
                      <a:pt x="487" y="532"/>
                    </a:lnTo>
                    <a:lnTo>
                      <a:pt x="438" y="498"/>
                    </a:lnTo>
                    <a:lnTo>
                      <a:pt x="389" y="464"/>
                    </a:lnTo>
                    <a:lnTo>
                      <a:pt x="356" y="447"/>
                    </a:lnTo>
                    <a:lnTo>
                      <a:pt x="356" y="412"/>
                    </a:lnTo>
                    <a:lnTo>
                      <a:pt x="372" y="377"/>
                    </a:lnTo>
                    <a:lnTo>
                      <a:pt x="275" y="291"/>
                    </a:lnTo>
                    <a:lnTo>
                      <a:pt x="275" y="223"/>
                    </a:lnTo>
                    <a:lnTo>
                      <a:pt x="324" y="240"/>
                    </a:lnTo>
                    <a:lnTo>
                      <a:pt x="372" y="291"/>
                    </a:lnTo>
                    <a:lnTo>
                      <a:pt x="438" y="274"/>
                    </a:lnTo>
                    <a:lnTo>
                      <a:pt x="470" y="257"/>
                    </a:lnTo>
                    <a:lnTo>
                      <a:pt x="470" y="205"/>
                    </a:lnTo>
                    <a:lnTo>
                      <a:pt x="470" y="171"/>
                    </a:lnTo>
                    <a:lnTo>
                      <a:pt x="616" y="171"/>
                    </a:lnTo>
                    <a:lnTo>
                      <a:pt x="665" y="154"/>
                    </a:lnTo>
                    <a:lnTo>
                      <a:pt x="713" y="154"/>
                    </a:lnTo>
                    <a:lnTo>
                      <a:pt x="746" y="85"/>
                    </a:lnTo>
                    <a:lnTo>
                      <a:pt x="730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500280" y="2814480"/>
                <a:ext cx="76680" cy="167040"/>
              </a:xfrm>
              <a:custGeom>
                <a:avLst/>
                <a:gdLst/>
                <a:ahLst/>
                <a:rect l="0" t="0" r="r" b="b"/>
                <a:pathLst>
                  <a:path fill="none" w="213" h="464">
                    <a:moveTo>
                      <a:pt x="0" y="0"/>
                    </a:moveTo>
                    <a:lnTo>
                      <a:pt x="16" y="0"/>
                    </a:lnTo>
                    <a:lnTo>
                      <a:pt x="66" y="34"/>
                    </a:lnTo>
                    <a:lnTo>
                      <a:pt x="114" y="51"/>
                    </a:lnTo>
                    <a:lnTo>
                      <a:pt x="147" y="85"/>
                    </a:lnTo>
                    <a:lnTo>
                      <a:pt x="147" y="188"/>
                    </a:lnTo>
                    <a:lnTo>
                      <a:pt x="197" y="275"/>
                    </a:lnTo>
                    <a:lnTo>
                      <a:pt x="213" y="326"/>
                    </a:lnTo>
                    <a:lnTo>
                      <a:pt x="181" y="395"/>
                    </a:lnTo>
                    <a:lnTo>
                      <a:pt x="114" y="395"/>
                    </a:lnTo>
                    <a:lnTo>
                      <a:pt x="131" y="429"/>
                    </a:lnTo>
                    <a:lnTo>
                      <a:pt x="114" y="464"/>
                    </a:lnTo>
                    <a:lnTo>
                      <a:pt x="82" y="446"/>
                    </a:lnTo>
                    <a:lnTo>
                      <a:pt x="48" y="412"/>
                    </a:lnTo>
                    <a:lnTo>
                      <a:pt x="48" y="378"/>
                    </a:lnTo>
                    <a:lnTo>
                      <a:pt x="16" y="361"/>
                    </a:lnTo>
                    <a:lnTo>
                      <a:pt x="0" y="343"/>
                    </a:lnTo>
                    <a:lnTo>
                      <a:pt x="0" y="309"/>
                    </a:lnTo>
                    <a:lnTo>
                      <a:pt x="0" y="275"/>
                    </a:lnTo>
                    <a:lnTo>
                      <a:pt x="16" y="205"/>
                    </a:lnTo>
                    <a:lnTo>
                      <a:pt x="16" y="171"/>
                    </a:lnTo>
                    <a:lnTo>
                      <a:pt x="0" y="120"/>
                    </a:lnTo>
                    <a:lnTo>
                      <a:pt x="0" y="6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990880" y="2430360"/>
                <a:ext cx="24120" cy="38520"/>
              </a:xfrm>
              <a:custGeom>
                <a:avLst/>
                <a:gdLst/>
                <a:ahLst/>
                <a:rect l="0" t="0" r="r" b="b"/>
                <a:pathLst>
                  <a:path fill="none" w="67" h="107">
                    <a:moveTo>
                      <a:pt x="0" y="36"/>
                    </a:moveTo>
                    <a:lnTo>
                      <a:pt x="16" y="0"/>
                    </a:lnTo>
                    <a:lnTo>
                      <a:pt x="50" y="17"/>
                    </a:lnTo>
                    <a:lnTo>
                      <a:pt x="67" y="107"/>
                    </a:lnTo>
                    <a:lnTo>
                      <a:pt x="0" y="90"/>
                    </a:lnTo>
                    <a:lnTo>
                      <a:pt x="0" y="36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119400" y="2498760"/>
                <a:ext cx="298800" cy="136800"/>
              </a:xfrm>
              <a:custGeom>
                <a:avLst/>
                <a:gdLst/>
                <a:ahLst/>
                <a:rect l="0" t="0" r="r" b="b"/>
                <a:pathLst>
                  <a:path fill="none" w="830" h="380">
                    <a:moveTo>
                      <a:pt x="16" y="207"/>
                    </a:moveTo>
                    <a:lnTo>
                      <a:pt x="48" y="207"/>
                    </a:lnTo>
                    <a:lnTo>
                      <a:pt x="97" y="189"/>
                    </a:lnTo>
                    <a:lnTo>
                      <a:pt x="243" y="189"/>
                    </a:lnTo>
                    <a:lnTo>
                      <a:pt x="292" y="189"/>
                    </a:lnTo>
                    <a:lnTo>
                      <a:pt x="308" y="189"/>
                    </a:lnTo>
                    <a:lnTo>
                      <a:pt x="341" y="189"/>
                    </a:lnTo>
                    <a:lnTo>
                      <a:pt x="357" y="172"/>
                    </a:lnTo>
                    <a:lnTo>
                      <a:pt x="357" y="120"/>
                    </a:lnTo>
                    <a:lnTo>
                      <a:pt x="373" y="103"/>
                    </a:lnTo>
                    <a:lnTo>
                      <a:pt x="423" y="86"/>
                    </a:lnTo>
                    <a:lnTo>
                      <a:pt x="439" y="34"/>
                    </a:lnTo>
                    <a:lnTo>
                      <a:pt x="456" y="51"/>
                    </a:lnTo>
                    <a:lnTo>
                      <a:pt x="504" y="68"/>
                    </a:lnTo>
                    <a:lnTo>
                      <a:pt x="553" y="34"/>
                    </a:lnTo>
                    <a:lnTo>
                      <a:pt x="586" y="17"/>
                    </a:lnTo>
                    <a:lnTo>
                      <a:pt x="618" y="0"/>
                    </a:lnTo>
                    <a:lnTo>
                      <a:pt x="651" y="17"/>
                    </a:lnTo>
                    <a:lnTo>
                      <a:pt x="748" y="51"/>
                    </a:lnTo>
                    <a:lnTo>
                      <a:pt x="765" y="68"/>
                    </a:lnTo>
                    <a:lnTo>
                      <a:pt x="830" y="137"/>
                    </a:lnTo>
                    <a:lnTo>
                      <a:pt x="797" y="137"/>
                    </a:lnTo>
                    <a:lnTo>
                      <a:pt x="781" y="189"/>
                    </a:lnTo>
                    <a:lnTo>
                      <a:pt x="748" y="189"/>
                    </a:lnTo>
                    <a:lnTo>
                      <a:pt x="748" y="242"/>
                    </a:lnTo>
                    <a:lnTo>
                      <a:pt x="716" y="294"/>
                    </a:lnTo>
                    <a:lnTo>
                      <a:pt x="765" y="380"/>
                    </a:lnTo>
                    <a:lnTo>
                      <a:pt x="716" y="345"/>
                    </a:lnTo>
                    <a:lnTo>
                      <a:pt x="699" y="328"/>
                    </a:lnTo>
                    <a:lnTo>
                      <a:pt x="651" y="328"/>
                    </a:lnTo>
                    <a:lnTo>
                      <a:pt x="602" y="328"/>
                    </a:lnTo>
                    <a:lnTo>
                      <a:pt x="569" y="328"/>
                    </a:lnTo>
                    <a:lnTo>
                      <a:pt x="537" y="345"/>
                    </a:lnTo>
                    <a:lnTo>
                      <a:pt x="472" y="328"/>
                    </a:lnTo>
                    <a:lnTo>
                      <a:pt x="406" y="328"/>
                    </a:lnTo>
                    <a:lnTo>
                      <a:pt x="276" y="311"/>
                    </a:lnTo>
                    <a:lnTo>
                      <a:pt x="243" y="259"/>
                    </a:lnTo>
                    <a:lnTo>
                      <a:pt x="162" y="276"/>
                    </a:lnTo>
                    <a:lnTo>
                      <a:pt x="130" y="294"/>
                    </a:lnTo>
                    <a:lnTo>
                      <a:pt x="97" y="311"/>
                    </a:lnTo>
                    <a:lnTo>
                      <a:pt x="48" y="276"/>
                    </a:lnTo>
                    <a:lnTo>
                      <a:pt x="32" y="276"/>
                    </a:lnTo>
                    <a:lnTo>
                      <a:pt x="16" y="242"/>
                    </a:lnTo>
                    <a:lnTo>
                      <a:pt x="0" y="225"/>
                    </a:lnTo>
                    <a:lnTo>
                      <a:pt x="16" y="207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874960" y="2351160"/>
                <a:ext cx="133560" cy="111600"/>
              </a:xfrm>
              <a:custGeom>
                <a:avLst/>
                <a:gdLst/>
                <a:ahLst/>
                <a:rect l="0" t="0" r="r" b="b"/>
                <a:pathLst>
                  <a:path fill="none" w="371" h="310">
                    <a:moveTo>
                      <a:pt x="226" y="0"/>
                    </a:moveTo>
                    <a:lnTo>
                      <a:pt x="274" y="0"/>
                    </a:lnTo>
                    <a:lnTo>
                      <a:pt x="290" y="0"/>
                    </a:lnTo>
                    <a:lnTo>
                      <a:pt x="323" y="51"/>
                    </a:lnTo>
                    <a:lnTo>
                      <a:pt x="355" y="86"/>
                    </a:lnTo>
                    <a:lnTo>
                      <a:pt x="355" y="121"/>
                    </a:lnTo>
                    <a:lnTo>
                      <a:pt x="371" y="155"/>
                    </a:lnTo>
                    <a:lnTo>
                      <a:pt x="371" y="189"/>
                    </a:lnTo>
                    <a:lnTo>
                      <a:pt x="323" y="242"/>
                    </a:lnTo>
                    <a:lnTo>
                      <a:pt x="339" y="310"/>
                    </a:lnTo>
                    <a:lnTo>
                      <a:pt x="274" y="293"/>
                    </a:lnTo>
                    <a:lnTo>
                      <a:pt x="242" y="223"/>
                    </a:lnTo>
                    <a:lnTo>
                      <a:pt x="161" y="206"/>
                    </a:lnTo>
                    <a:lnTo>
                      <a:pt x="80" y="121"/>
                    </a:lnTo>
                    <a:lnTo>
                      <a:pt x="0" y="68"/>
                    </a:lnTo>
                    <a:lnTo>
                      <a:pt x="80" y="51"/>
                    </a:lnTo>
                    <a:lnTo>
                      <a:pt x="144" y="17"/>
                    </a:lnTo>
                    <a:lnTo>
                      <a:pt x="177" y="34"/>
                    </a:lnTo>
                    <a:lnTo>
                      <a:pt x="210" y="34"/>
                    </a:lnTo>
                    <a:lnTo>
                      <a:pt x="226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112920" y="2079720"/>
                <a:ext cx="159120" cy="154440"/>
              </a:xfrm>
              <a:custGeom>
                <a:avLst/>
                <a:gdLst/>
                <a:ahLst/>
                <a:rect l="0" t="0" r="r" b="b"/>
                <a:pathLst>
                  <a:path fill="none" w="442" h="429">
                    <a:moveTo>
                      <a:pt x="180" y="0"/>
                    </a:moveTo>
                    <a:lnTo>
                      <a:pt x="115" y="17"/>
                    </a:lnTo>
                    <a:lnTo>
                      <a:pt x="97" y="51"/>
                    </a:lnTo>
                    <a:lnTo>
                      <a:pt x="32" y="102"/>
                    </a:lnTo>
                    <a:lnTo>
                      <a:pt x="0" y="206"/>
                    </a:lnTo>
                    <a:lnTo>
                      <a:pt x="48" y="240"/>
                    </a:lnTo>
                    <a:lnTo>
                      <a:pt x="16" y="291"/>
                    </a:lnTo>
                    <a:lnTo>
                      <a:pt x="32" y="361"/>
                    </a:lnTo>
                    <a:lnTo>
                      <a:pt x="97" y="429"/>
                    </a:lnTo>
                    <a:lnTo>
                      <a:pt x="131" y="395"/>
                    </a:lnTo>
                    <a:lnTo>
                      <a:pt x="147" y="395"/>
                    </a:lnTo>
                    <a:lnTo>
                      <a:pt x="196" y="395"/>
                    </a:lnTo>
                    <a:lnTo>
                      <a:pt x="262" y="412"/>
                    </a:lnTo>
                    <a:lnTo>
                      <a:pt x="344" y="395"/>
                    </a:lnTo>
                    <a:lnTo>
                      <a:pt x="393" y="378"/>
                    </a:lnTo>
                    <a:lnTo>
                      <a:pt x="442" y="378"/>
                    </a:lnTo>
                    <a:lnTo>
                      <a:pt x="442" y="206"/>
                    </a:lnTo>
                    <a:lnTo>
                      <a:pt x="426" y="172"/>
                    </a:lnTo>
                    <a:lnTo>
                      <a:pt x="393" y="172"/>
                    </a:lnTo>
                    <a:lnTo>
                      <a:pt x="377" y="172"/>
                    </a:lnTo>
                    <a:lnTo>
                      <a:pt x="361" y="206"/>
                    </a:lnTo>
                    <a:lnTo>
                      <a:pt x="361" y="223"/>
                    </a:lnTo>
                    <a:lnTo>
                      <a:pt x="377" y="240"/>
                    </a:lnTo>
                    <a:lnTo>
                      <a:pt x="377" y="274"/>
                    </a:lnTo>
                    <a:lnTo>
                      <a:pt x="361" y="291"/>
                    </a:lnTo>
                    <a:lnTo>
                      <a:pt x="327" y="291"/>
                    </a:lnTo>
                    <a:lnTo>
                      <a:pt x="294" y="257"/>
                    </a:lnTo>
                    <a:lnTo>
                      <a:pt x="278" y="257"/>
                    </a:lnTo>
                    <a:lnTo>
                      <a:pt x="245" y="240"/>
                    </a:lnTo>
                    <a:lnTo>
                      <a:pt x="229" y="274"/>
                    </a:lnTo>
                    <a:lnTo>
                      <a:pt x="196" y="291"/>
                    </a:lnTo>
                    <a:lnTo>
                      <a:pt x="180" y="274"/>
                    </a:lnTo>
                    <a:lnTo>
                      <a:pt x="180" y="206"/>
                    </a:lnTo>
                    <a:lnTo>
                      <a:pt x="213" y="137"/>
                    </a:lnTo>
                    <a:lnTo>
                      <a:pt x="245" y="154"/>
                    </a:lnTo>
                    <a:lnTo>
                      <a:pt x="262" y="154"/>
                    </a:lnTo>
                    <a:lnTo>
                      <a:pt x="278" y="85"/>
                    </a:lnTo>
                    <a:lnTo>
                      <a:pt x="213" y="68"/>
                    </a:lnTo>
                    <a:lnTo>
                      <a:pt x="229" y="17"/>
                    </a:lnTo>
                    <a:lnTo>
                      <a:pt x="180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997360" y="2214720"/>
                <a:ext cx="346320" cy="359280"/>
              </a:xfrm>
              <a:custGeom>
                <a:avLst/>
                <a:gdLst/>
                <a:ahLst/>
                <a:rect l="0" t="0" r="r" b="b"/>
                <a:pathLst>
                  <a:path fill="none" w="962" h="998">
                    <a:moveTo>
                      <a:pt x="587" y="34"/>
                    </a:moveTo>
                    <a:lnTo>
                      <a:pt x="522" y="17"/>
                    </a:lnTo>
                    <a:lnTo>
                      <a:pt x="472" y="17"/>
                    </a:lnTo>
                    <a:lnTo>
                      <a:pt x="456" y="0"/>
                    </a:lnTo>
                    <a:lnTo>
                      <a:pt x="407" y="68"/>
                    </a:lnTo>
                    <a:lnTo>
                      <a:pt x="374" y="85"/>
                    </a:lnTo>
                    <a:lnTo>
                      <a:pt x="342" y="154"/>
                    </a:lnTo>
                    <a:lnTo>
                      <a:pt x="309" y="154"/>
                    </a:lnTo>
                    <a:lnTo>
                      <a:pt x="276" y="120"/>
                    </a:lnTo>
                    <a:lnTo>
                      <a:pt x="228" y="137"/>
                    </a:lnTo>
                    <a:lnTo>
                      <a:pt x="228" y="189"/>
                    </a:lnTo>
                    <a:lnTo>
                      <a:pt x="211" y="206"/>
                    </a:lnTo>
                    <a:lnTo>
                      <a:pt x="162" y="223"/>
                    </a:lnTo>
                    <a:lnTo>
                      <a:pt x="130" y="258"/>
                    </a:lnTo>
                    <a:lnTo>
                      <a:pt x="162" y="275"/>
                    </a:lnTo>
                    <a:lnTo>
                      <a:pt x="146" y="327"/>
                    </a:lnTo>
                    <a:lnTo>
                      <a:pt x="114" y="344"/>
                    </a:lnTo>
                    <a:lnTo>
                      <a:pt x="65" y="396"/>
                    </a:lnTo>
                    <a:lnTo>
                      <a:pt x="81" y="430"/>
                    </a:lnTo>
                    <a:lnTo>
                      <a:pt x="65" y="464"/>
                    </a:lnTo>
                    <a:lnTo>
                      <a:pt x="16" y="464"/>
                    </a:lnTo>
                    <a:lnTo>
                      <a:pt x="0" y="499"/>
                    </a:lnTo>
                    <a:lnTo>
                      <a:pt x="32" y="533"/>
                    </a:lnTo>
                    <a:lnTo>
                      <a:pt x="32" y="568"/>
                    </a:lnTo>
                    <a:lnTo>
                      <a:pt x="0" y="602"/>
                    </a:lnTo>
                    <a:lnTo>
                      <a:pt x="32" y="619"/>
                    </a:lnTo>
                    <a:lnTo>
                      <a:pt x="48" y="705"/>
                    </a:lnTo>
                    <a:lnTo>
                      <a:pt x="81" y="722"/>
                    </a:lnTo>
                    <a:lnTo>
                      <a:pt x="146" y="722"/>
                    </a:lnTo>
                    <a:lnTo>
                      <a:pt x="195" y="739"/>
                    </a:lnTo>
                    <a:lnTo>
                      <a:pt x="195" y="792"/>
                    </a:lnTo>
                    <a:lnTo>
                      <a:pt x="179" y="878"/>
                    </a:lnTo>
                    <a:lnTo>
                      <a:pt x="146" y="929"/>
                    </a:lnTo>
                    <a:lnTo>
                      <a:pt x="260" y="964"/>
                    </a:lnTo>
                    <a:lnTo>
                      <a:pt x="309" y="929"/>
                    </a:lnTo>
                    <a:lnTo>
                      <a:pt x="342" y="947"/>
                    </a:lnTo>
                    <a:lnTo>
                      <a:pt x="358" y="998"/>
                    </a:lnTo>
                    <a:lnTo>
                      <a:pt x="391" y="998"/>
                    </a:lnTo>
                    <a:lnTo>
                      <a:pt x="439" y="981"/>
                    </a:lnTo>
                    <a:lnTo>
                      <a:pt x="587" y="981"/>
                    </a:lnTo>
                    <a:lnTo>
                      <a:pt x="620" y="981"/>
                    </a:lnTo>
                    <a:lnTo>
                      <a:pt x="652" y="981"/>
                    </a:lnTo>
                    <a:lnTo>
                      <a:pt x="685" y="981"/>
                    </a:lnTo>
                    <a:lnTo>
                      <a:pt x="701" y="964"/>
                    </a:lnTo>
                    <a:lnTo>
                      <a:pt x="701" y="912"/>
                    </a:lnTo>
                    <a:lnTo>
                      <a:pt x="717" y="895"/>
                    </a:lnTo>
                    <a:lnTo>
                      <a:pt x="766" y="878"/>
                    </a:lnTo>
                    <a:lnTo>
                      <a:pt x="783" y="826"/>
                    </a:lnTo>
                    <a:lnTo>
                      <a:pt x="701" y="739"/>
                    </a:lnTo>
                    <a:lnTo>
                      <a:pt x="685" y="705"/>
                    </a:lnTo>
                    <a:lnTo>
                      <a:pt x="669" y="671"/>
                    </a:lnTo>
                    <a:lnTo>
                      <a:pt x="701" y="619"/>
                    </a:lnTo>
                    <a:lnTo>
                      <a:pt x="750" y="602"/>
                    </a:lnTo>
                    <a:lnTo>
                      <a:pt x="750" y="568"/>
                    </a:lnTo>
                    <a:lnTo>
                      <a:pt x="783" y="568"/>
                    </a:lnTo>
                    <a:lnTo>
                      <a:pt x="799" y="550"/>
                    </a:lnTo>
                    <a:lnTo>
                      <a:pt x="864" y="533"/>
                    </a:lnTo>
                    <a:lnTo>
                      <a:pt x="962" y="499"/>
                    </a:lnTo>
                    <a:lnTo>
                      <a:pt x="929" y="464"/>
                    </a:lnTo>
                    <a:lnTo>
                      <a:pt x="962" y="413"/>
                    </a:lnTo>
                    <a:lnTo>
                      <a:pt x="962" y="310"/>
                    </a:lnTo>
                    <a:lnTo>
                      <a:pt x="897" y="223"/>
                    </a:lnTo>
                    <a:lnTo>
                      <a:pt x="962" y="137"/>
                    </a:lnTo>
                    <a:lnTo>
                      <a:pt x="913" y="103"/>
                    </a:lnTo>
                    <a:lnTo>
                      <a:pt x="864" y="85"/>
                    </a:lnTo>
                    <a:lnTo>
                      <a:pt x="831" y="34"/>
                    </a:lnTo>
                    <a:lnTo>
                      <a:pt x="783" y="0"/>
                    </a:lnTo>
                    <a:lnTo>
                      <a:pt x="717" y="0"/>
                    </a:lnTo>
                    <a:lnTo>
                      <a:pt x="669" y="17"/>
                    </a:lnTo>
                    <a:lnTo>
                      <a:pt x="587" y="34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957400" y="2257560"/>
                <a:ext cx="116280" cy="124200"/>
              </a:xfrm>
              <a:custGeom>
                <a:avLst/>
                <a:gdLst/>
                <a:ahLst/>
                <a:rect l="0" t="0" r="r" b="b"/>
                <a:pathLst>
                  <a:path fill="none" w="323" h="345">
                    <a:moveTo>
                      <a:pt x="323" y="85"/>
                    </a:moveTo>
                    <a:lnTo>
                      <a:pt x="291" y="104"/>
                    </a:lnTo>
                    <a:lnTo>
                      <a:pt x="243" y="138"/>
                    </a:lnTo>
                    <a:lnTo>
                      <a:pt x="275" y="155"/>
                    </a:lnTo>
                    <a:lnTo>
                      <a:pt x="259" y="207"/>
                    </a:lnTo>
                    <a:lnTo>
                      <a:pt x="226" y="224"/>
                    </a:lnTo>
                    <a:lnTo>
                      <a:pt x="178" y="277"/>
                    </a:lnTo>
                    <a:lnTo>
                      <a:pt x="194" y="311"/>
                    </a:lnTo>
                    <a:lnTo>
                      <a:pt x="178" y="345"/>
                    </a:lnTo>
                    <a:lnTo>
                      <a:pt x="113" y="345"/>
                    </a:lnTo>
                    <a:lnTo>
                      <a:pt x="97" y="311"/>
                    </a:lnTo>
                    <a:lnTo>
                      <a:pt x="64" y="258"/>
                    </a:lnTo>
                    <a:lnTo>
                      <a:pt x="48" y="258"/>
                    </a:lnTo>
                    <a:lnTo>
                      <a:pt x="0" y="258"/>
                    </a:lnTo>
                    <a:lnTo>
                      <a:pt x="0" y="224"/>
                    </a:lnTo>
                    <a:lnTo>
                      <a:pt x="32" y="172"/>
                    </a:lnTo>
                    <a:lnTo>
                      <a:pt x="48" y="138"/>
                    </a:lnTo>
                    <a:lnTo>
                      <a:pt x="64" y="138"/>
                    </a:lnTo>
                    <a:lnTo>
                      <a:pt x="97" y="155"/>
                    </a:lnTo>
                    <a:lnTo>
                      <a:pt x="129" y="155"/>
                    </a:lnTo>
                    <a:lnTo>
                      <a:pt x="145" y="85"/>
                    </a:lnTo>
                    <a:lnTo>
                      <a:pt x="113" y="68"/>
                    </a:lnTo>
                    <a:lnTo>
                      <a:pt x="113" y="34"/>
                    </a:lnTo>
                    <a:lnTo>
                      <a:pt x="161" y="0"/>
                    </a:lnTo>
                    <a:lnTo>
                      <a:pt x="210" y="0"/>
                    </a:lnTo>
                    <a:lnTo>
                      <a:pt x="243" y="34"/>
                    </a:lnTo>
                    <a:lnTo>
                      <a:pt x="323" y="85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576520" y="2368440"/>
                <a:ext cx="492480" cy="459000"/>
              </a:xfrm>
              <a:custGeom>
                <a:avLst/>
                <a:gdLst/>
                <a:ahLst/>
                <a:rect l="0" t="0" r="r" b="b"/>
                <a:pathLst>
                  <a:path fill="none" w="1368" h="1275">
                    <a:moveTo>
                      <a:pt x="847" y="0"/>
                    </a:moveTo>
                    <a:lnTo>
                      <a:pt x="912" y="68"/>
                    </a:lnTo>
                    <a:lnTo>
                      <a:pt x="993" y="154"/>
                    </a:lnTo>
                    <a:lnTo>
                      <a:pt x="1075" y="172"/>
                    </a:lnTo>
                    <a:lnTo>
                      <a:pt x="1107" y="241"/>
                    </a:lnTo>
                    <a:lnTo>
                      <a:pt x="1156" y="258"/>
                    </a:lnTo>
                    <a:lnTo>
                      <a:pt x="1221" y="275"/>
                    </a:lnTo>
                    <a:lnTo>
                      <a:pt x="1254" y="292"/>
                    </a:lnTo>
                    <a:lnTo>
                      <a:pt x="1319" y="292"/>
                    </a:lnTo>
                    <a:lnTo>
                      <a:pt x="1368" y="309"/>
                    </a:lnTo>
                    <a:lnTo>
                      <a:pt x="1368" y="361"/>
                    </a:lnTo>
                    <a:lnTo>
                      <a:pt x="1351" y="447"/>
                    </a:lnTo>
                    <a:lnTo>
                      <a:pt x="1319" y="516"/>
                    </a:lnTo>
                    <a:lnTo>
                      <a:pt x="1286" y="533"/>
                    </a:lnTo>
                    <a:lnTo>
                      <a:pt x="1237" y="551"/>
                    </a:lnTo>
                    <a:lnTo>
                      <a:pt x="1205" y="551"/>
                    </a:lnTo>
                    <a:lnTo>
                      <a:pt x="1205" y="585"/>
                    </a:lnTo>
                    <a:lnTo>
                      <a:pt x="1172" y="602"/>
                    </a:lnTo>
                    <a:lnTo>
                      <a:pt x="1140" y="638"/>
                    </a:lnTo>
                    <a:lnTo>
                      <a:pt x="1123" y="672"/>
                    </a:lnTo>
                    <a:lnTo>
                      <a:pt x="1107" y="689"/>
                    </a:lnTo>
                    <a:lnTo>
                      <a:pt x="1140" y="689"/>
                    </a:lnTo>
                    <a:lnTo>
                      <a:pt x="1172" y="672"/>
                    </a:lnTo>
                    <a:lnTo>
                      <a:pt x="1188" y="672"/>
                    </a:lnTo>
                    <a:lnTo>
                      <a:pt x="1172" y="724"/>
                    </a:lnTo>
                    <a:lnTo>
                      <a:pt x="1205" y="758"/>
                    </a:lnTo>
                    <a:lnTo>
                      <a:pt x="1221" y="810"/>
                    </a:lnTo>
                    <a:lnTo>
                      <a:pt x="1221" y="844"/>
                    </a:lnTo>
                    <a:lnTo>
                      <a:pt x="1188" y="862"/>
                    </a:lnTo>
                    <a:lnTo>
                      <a:pt x="1172" y="879"/>
                    </a:lnTo>
                    <a:lnTo>
                      <a:pt x="1172" y="913"/>
                    </a:lnTo>
                    <a:lnTo>
                      <a:pt x="1188" y="913"/>
                    </a:lnTo>
                    <a:lnTo>
                      <a:pt x="1172" y="948"/>
                    </a:lnTo>
                    <a:lnTo>
                      <a:pt x="1172" y="999"/>
                    </a:lnTo>
                    <a:lnTo>
                      <a:pt x="1205" y="1017"/>
                    </a:lnTo>
                    <a:lnTo>
                      <a:pt x="1221" y="1051"/>
                    </a:lnTo>
                    <a:lnTo>
                      <a:pt x="1205" y="1068"/>
                    </a:lnTo>
                    <a:lnTo>
                      <a:pt x="1172" y="1103"/>
                    </a:lnTo>
                    <a:lnTo>
                      <a:pt x="1140" y="1137"/>
                    </a:lnTo>
                    <a:lnTo>
                      <a:pt x="1075" y="1154"/>
                    </a:lnTo>
                    <a:lnTo>
                      <a:pt x="1009" y="1154"/>
                    </a:lnTo>
                    <a:lnTo>
                      <a:pt x="961" y="1137"/>
                    </a:lnTo>
                    <a:lnTo>
                      <a:pt x="863" y="1103"/>
                    </a:lnTo>
                    <a:lnTo>
                      <a:pt x="782" y="1103"/>
                    </a:lnTo>
                    <a:lnTo>
                      <a:pt x="733" y="1137"/>
                    </a:lnTo>
                    <a:lnTo>
                      <a:pt x="700" y="1189"/>
                    </a:lnTo>
                    <a:lnTo>
                      <a:pt x="683" y="1258"/>
                    </a:lnTo>
                    <a:lnTo>
                      <a:pt x="618" y="1275"/>
                    </a:lnTo>
                    <a:lnTo>
                      <a:pt x="553" y="1240"/>
                    </a:lnTo>
                    <a:lnTo>
                      <a:pt x="520" y="1189"/>
                    </a:lnTo>
                    <a:lnTo>
                      <a:pt x="455" y="1172"/>
                    </a:lnTo>
                    <a:lnTo>
                      <a:pt x="325" y="1172"/>
                    </a:lnTo>
                    <a:lnTo>
                      <a:pt x="244" y="1154"/>
                    </a:lnTo>
                    <a:lnTo>
                      <a:pt x="244" y="1120"/>
                    </a:lnTo>
                    <a:lnTo>
                      <a:pt x="179" y="1085"/>
                    </a:lnTo>
                    <a:lnTo>
                      <a:pt x="179" y="1051"/>
                    </a:lnTo>
                    <a:lnTo>
                      <a:pt x="195" y="1034"/>
                    </a:lnTo>
                    <a:lnTo>
                      <a:pt x="211" y="982"/>
                    </a:lnTo>
                    <a:lnTo>
                      <a:pt x="227" y="930"/>
                    </a:lnTo>
                    <a:lnTo>
                      <a:pt x="260" y="879"/>
                    </a:lnTo>
                    <a:lnTo>
                      <a:pt x="260" y="810"/>
                    </a:lnTo>
                    <a:lnTo>
                      <a:pt x="276" y="758"/>
                    </a:lnTo>
                    <a:lnTo>
                      <a:pt x="292" y="724"/>
                    </a:lnTo>
                    <a:lnTo>
                      <a:pt x="309" y="638"/>
                    </a:lnTo>
                    <a:lnTo>
                      <a:pt x="211" y="585"/>
                    </a:lnTo>
                    <a:lnTo>
                      <a:pt x="244" y="516"/>
                    </a:lnTo>
                    <a:lnTo>
                      <a:pt x="211" y="499"/>
                    </a:lnTo>
                    <a:lnTo>
                      <a:pt x="211" y="482"/>
                    </a:lnTo>
                    <a:lnTo>
                      <a:pt x="179" y="447"/>
                    </a:lnTo>
                    <a:lnTo>
                      <a:pt x="146" y="447"/>
                    </a:lnTo>
                    <a:lnTo>
                      <a:pt x="97" y="430"/>
                    </a:lnTo>
                    <a:lnTo>
                      <a:pt x="48" y="413"/>
                    </a:lnTo>
                    <a:lnTo>
                      <a:pt x="0" y="396"/>
                    </a:lnTo>
                    <a:lnTo>
                      <a:pt x="32" y="361"/>
                    </a:lnTo>
                    <a:lnTo>
                      <a:pt x="32" y="344"/>
                    </a:lnTo>
                    <a:lnTo>
                      <a:pt x="48" y="309"/>
                    </a:lnTo>
                    <a:lnTo>
                      <a:pt x="146" y="309"/>
                    </a:lnTo>
                    <a:lnTo>
                      <a:pt x="211" y="275"/>
                    </a:lnTo>
                    <a:lnTo>
                      <a:pt x="211" y="292"/>
                    </a:lnTo>
                    <a:lnTo>
                      <a:pt x="260" y="309"/>
                    </a:lnTo>
                    <a:lnTo>
                      <a:pt x="276" y="327"/>
                    </a:lnTo>
                    <a:lnTo>
                      <a:pt x="325" y="327"/>
                    </a:lnTo>
                    <a:lnTo>
                      <a:pt x="358" y="309"/>
                    </a:lnTo>
                    <a:lnTo>
                      <a:pt x="358" y="154"/>
                    </a:lnTo>
                    <a:lnTo>
                      <a:pt x="406" y="172"/>
                    </a:lnTo>
                    <a:lnTo>
                      <a:pt x="406" y="206"/>
                    </a:lnTo>
                    <a:lnTo>
                      <a:pt x="455" y="241"/>
                    </a:lnTo>
                    <a:lnTo>
                      <a:pt x="504" y="241"/>
                    </a:lnTo>
                    <a:lnTo>
                      <a:pt x="569" y="206"/>
                    </a:lnTo>
                    <a:lnTo>
                      <a:pt x="585" y="189"/>
                    </a:lnTo>
                    <a:lnTo>
                      <a:pt x="634" y="172"/>
                    </a:lnTo>
                    <a:lnTo>
                      <a:pt x="667" y="154"/>
                    </a:lnTo>
                    <a:lnTo>
                      <a:pt x="717" y="120"/>
                    </a:lnTo>
                    <a:lnTo>
                      <a:pt x="798" y="34"/>
                    </a:lnTo>
                    <a:lnTo>
                      <a:pt x="847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973240" y="2549520"/>
                <a:ext cx="182880" cy="111600"/>
              </a:xfrm>
              <a:custGeom>
                <a:avLst/>
                <a:gdLst/>
                <a:ahLst/>
                <a:rect l="0" t="0" r="r" b="b"/>
                <a:pathLst>
                  <a:path fill="none" w="508" h="310">
                    <a:moveTo>
                      <a:pt x="229" y="0"/>
                    </a:moveTo>
                    <a:lnTo>
                      <a:pt x="179" y="34"/>
                    </a:lnTo>
                    <a:lnTo>
                      <a:pt x="130" y="51"/>
                    </a:lnTo>
                    <a:lnTo>
                      <a:pt x="98" y="51"/>
                    </a:lnTo>
                    <a:lnTo>
                      <a:pt x="98" y="86"/>
                    </a:lnTo>
                    <a:lnTo>
                      <a:pt x="49" y="103"/>
                    </a:lnTo>
                    <a:lnTo>
                      <a:pt x="32" y="138"/>
                    </a:lnTo>
                    <a:lnTo>
                      <a:pt x="16" y="172"/>
                    </a:lnTo>
                    <a:lnTo>
                      <a:pt x="0" y="189"/>
                    </a:lnTo>
                    <a:lnTo>
                      <a:pt x="49" y="189"/>
                    </a:lnTo>
                    <a:lnTo>
                      <a:pt x="65" y="172"/>
                    </a:lnTo>
                    <a:lnTo>
                      <a:pt x="81" y="189"/>
                    </a:lnTo>
                    <a:lnTo>
                      <a:pt x="65" y="223"/>
                    </a:lnTo>
                    <a:lnTo>
                      <a:pt x="98" y="259"/>
                    </a:lnTo>
                    <a:lnTo>
                      <a:pt x="114" y="310"/>
                    </a:lnTo>
                    <a:lnTo>
                      <a:pt x="196" y="242"/>
                    </a:lnTo>
                    <a:lnTo>
                      <a:pt x="245" y="242"/>
                    </a:lnTo>
                    <a:lnTo>
                      <a:pt x="279" y="276"/>
                    </a:lnTo>
                    <a:lnTo>
                      <a:pt x="311" y="310"/>
                    </a:lnTo>
                    <a:lnTo>
                      <a:pt x="360" y="223"/>
                    </a:lnTo>
                    <a:lnTo>
                      <a:pt x="426" y="242"/>
                    </a:lnTo>
                    <a:lnTo>
                      <a:pt x="442" y="206"/>
                    </a:lnTo>
                    <a:lnTo>
                      <a:pt x="475" y="172"/>
                    </a:lnTo>
                    <a:lnTo>
                      <a:pt x="508" y="172"/>
                    </a:lnTo>
                    <a:lnTo>
                      <a:pt x="459" y="138"/>
                    </a:lnTo>
                    <a:lnTo>
                      <a:pt x="426" y="103"/>
                    </a:lnTo>
                    <a:lnTo>
                      <a:pt x="409" y="86"/>
                    </a:lnTo>
                    <a:lnTo>
                      <a:pt x="426" y="68"/>
                    </a:lnTo>
                    <a:lnTo>
                      <a:pt x="409" y="17"/>
                    </a:lnTo>
                    <a:lnTo>
                      <a:pt x="377" y="0"/>
                    </a:lnTo>
                    <a:lnTo>
                      <a:pt x="328" y="34"/>
                    </a:lnTo>
                    <a:lnTo>
                      <a:pt x="229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021120" y="2887560"/>
                <a:ext cx="70200" cy="124200"/>
              </a:xfrm>
              <a:custGeom>
                <a:avLst/>
                <a:gdLst/>
                <a:ahLst/>
                <a:rect l="0" t="0" r="r" b="b"/>
                <a:pathLst>
                  <a:path fill="none" w="195" h="345">
                    <a:moveTo>
                      <a:pt x="146" y="0"/>
                    </a:moveTo>
                    <a:lnTo>
                      <a:pt x="114" y="17"/>
                    </a:lnTo>
                    <a:lnTo>
                      <a:pt x="98" y="51"/>
                    </a:lnTo>
                    <a:lnTo>
                      <a:pt x="32" y="51"/>
                    </a:lnTo>
                    <a:lnTo>
                      <a:pt x="16" y="34"/>
                    </a:lnTo>
                    <a:lnTo>
                      <a:pt x="0" y="68"/>
                    </a:lnTo>
                    <a:lnTo>
                      <a:pt x="32" y="121"/>
                    </a:lnTo>
                    <a:lnTo>
                      <a:pt x="48" y="138"/>
                    </a:lnTo>
                    <a:lnTo>
                      <a:pt x="48" y="155"/>
                    </a:lnTo>
                    <a:lnTo>
                      <a:pt x="16" y="172"/>
                    </a:lnTo>
                    <a:lnTo>
                      <a:pt x="48" y="190"/>
                    </a:lnTo>
                    <a:lnTo>
                      <a:pt x="48" y="224"/>
                    </a:lnTo>
                    <a:lnTo>
                      <a:pt x="32" y="258"/>
                    </a:lnTo>
                    <a:lnTo>
                      <a:pt x="16" y="294"/>
                    </a:lnTo>
                    <a:lnTo>
                      <a:pt x="48" y="328"/>
                    </a:lnTo>
                    <a:lnTo>
                      <a:pt x="64" y="345"/>
                    </a:lnTo>
                    <a:lnTo>
                      <a:pt x="80" y="345"/>
                    </a:lnTo>
                    <a:lnTo>
                      <a:pt x="80" y="311"/>
                    </a:lnTo>
                    <a:lnTo>
                      <a:pt x="98" y="277"/>
                    </a:lnTo>
                    <a:lnTo>
                      <a:pt x="146" y="294"/>
                    </a:lnTo>
                    <a:lnTo>
                      <a:pt x="178" y="277"/>
                    </a:lnTo>
                    <a:lnTo>
                      <a:pt x="178" y="241"/>
                    </a:lnTo>
                    <a:lnTo>
                      <a:pt x="195" y="190"/>
                    </a:lnTo>
                    <a:lnTo>
                      <a:pt x="195" y="138"/>
                    </a:lnTo>
                    <a:lnTo>
                      <a:pt x="195" y="121"/>
                    </a:lnTo>
                    <a:lnTo>
                      <a:pt x="195" y="85"/>
                    </a:lnTo>
                    <a:lnTo>
                      <a:pt x="178" y="51"/>
                    </a:lnTo>
                    <a:lnTo>
                      <a:pt x="178" y="17"/>
                    </a:lnTo>
                    <a:lnTo>
                      <a:pt x="162" y="0"/>
                    </a:lnTo>
                    <a:lnTo>
                      <a:pt x="146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056040" y="2795760"/>
                <a:ext cx="35280" cy="79560"/>
              </a:xfrm>
              <a:custGeom>
                <a:avLst/>
                <a:gdLst/>
                <a:ahLst/>
                <a:rect l="0" t="0" r="r" b="b"/>
                <a:pathLst>
                  <a:path fill="none" w="98" h="221">
                    <a:moveTo>
                      <a:pt x="81" y="0"/>
                    </a:moveTo>
                    <a:lnTo>
                      <a:pt x="81" y="33"/>
                    </a:lnTo>
                    <a:lnTo>
                      <a:pt x="65" y="67"/>
                    </a:lnTo>
                    <a:lnTo>
                      <a:pt x="32" y="50"/>
                    </a:lnTo>
                    <a:lnTo>
                      <a:pt x="0" y="67"/>
                    </a:lnTo>
                    <a:lnTo>
                      <a:pt x="0" y="153"/>
                    </a:lnTo>
                    <a:lnTo>
                      <a:pt x="16" y="187"/>
                    </a:lnTo>
                    <a:lnTo>
                      <a:pt x="0" y="204"/>
                    </a:lnTo>
                    <a:lnTo>
                      <a:pt x="32" y="221"/>
                    </a:lnTo>
                    <a:lnTo>
                      <a:pt x="81" y="221"/>
                    </a:lnTo>
                    <a:lnTo>
                      <a:pt x="65" y="187"/>
                    </a:lnTo>
                    <a:lnTo>
                      <a:pt x="81" y="153"/>
                    </a:lnTo>
                    <a:lnTo>
                      <a:pt x="98" y="136"/>
                    </a:lnTo>
                    <a:lnTo>
                      <a:pt x="98" y="16"/>
                    </a:lnTo>
                    <a:lnTo>
                      <a:pt x="81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201840" y="3049560"/>
                <a:ext cx="135360" cy="81360"/>
              </a:xfrm>
              <a:custGeom>
                <a:avLst/>
                <a:gdLst/>
                <a:ahLst/>
                <a:rect l="0" t="0" r="r" b="b"/>
                <a:pathLst>
                  <a:path fill="none" w="376" h="226">
                    <a:moveTo>
                      <a:pt x="344" y="17"/>
                    </a:moveTo>
                    <a:lnTo>
                      <a:pt x="278" y="17"/>
                    </a:lnTo>
                    <a:lnTo>
                      <a:pt x="245" y="34"/>
                    </a:lnTo>
                    <a:lnTo>
                      <a:pt x="196" y="17"/>
                    </a:lnTo>
                    <a:lnTo>
                      <a:pt x="98" y="34"/>
                    </a:lnTo>
                    <a:lnTo>
                      <a:pt x="81" y="0"/>
                    </a:lnTo>
                    <a:lnTo>
                      <a:pt x="65" y="17"/>
                    </a:lnTo>
                    <a:lnTo>
                      <a:pt x="32" y="17"/>
                    </a:lnTo>
                    <a:lnTo>
                      <a:pt x="16" y="17"/>
                    </a:lnTo>
                    <a:lnTo>
                      <a:pt x="0" y="70"/>
                    </a:lnTo>
                    <a:lnTo>
                      <a:pt x="16" y="104"/>
                    </a:lnTo>
                    <a:lnTo>
                      <a:pt x="32" y="104"/>
                    </a:lnTo>
                    <a:lnTo>
                      <a:pt x="81" y="122"/>
                    </a:lnTo>
                    <a:lnTo>
                      <a:pt x="163" y="156"/>
                    </a:lnTo>
                    <a:lnTo>
                      <a:pt x="180" y="174"/>
                    </a:lnTo>
                    <a:lnTo>
                      <a:pt x="212" y="174"/>
                    </a:lnTo>
                    <a:lnTo>
                      <a:pt x="261" y="226"/>
                    </a:lnTo>
                    <a:lnTo>
                      <a:pt x="295" y="209"/>
                    </a:lnTo>
                    <a:lnTo>
                      <a:pt x="327" y="226"/>
                    </a:lnTo>
                    <a:lnTo>
                      <a:pt x="344" y="192"/>
                    </a:lnTo>
                    <a:lnTo>
                      <a:pt x="327" y="139"/>
                    </a:lnTo>
                    <a:lnTo>
                      <a:pt x="311" y="104"/>
                    </a:lnTo>
                    <a:lnTo>
                      <a:pt x="344" y="51"/>
                    </a:lnTo>
                    <a:lnTo>
                      <a:pt x="360" y="34"/>
                    </a:lnTo>
                    <a:lnTo>
                      <a:pt x="376" y="17"/>
                    </a:lnTo>
                    <a:lnTo>
                      <a:pt x="344" y="17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997360" y="2590920"/>
                <a:ext cx="462240" cy="470160"/>
              </a:xfrm>
              <a:custGeom>
                <a:avLst/>
                <a:gdLst/>
                <a:ahLst/>
                <a:rect l="0" t="0" r="r" b="b"/>
                <a:pathLst>
                  <a:path fill="none" w="1284" h="1306">
                    <a:moveTo>
                      <a:pt x="292" y="103"/>
                    </a:moveTo>
                    <a:lnTo>
                      <a:pt x="243" y="171"/>
                    </a:lnTo>
                    <a:lnTo>
                      <a:pt x="178" y="120"/>
                    </a:lnTo>
                    <a:lnTo>
                      <a:pt x="129" y="120"/>
                    </a:lnTo>
                    <a:lnTo>
                      <a:pt x="48" y="188"/>
                    </a:lnTo>
                    <a:lnTo>
                      <a:pt x="32" y="188"/>
                    </a:lnTo>
                    <a:lnTo>
                      <a:pt x="32" y="223"/>
                    </a:lnTo>
                    <a:lnTo>
                      <a:pt x="32" y="240"/>
                    </a:lnTo>
                    <a:lnTo>
                      <a:pt x="0" y="240"/>
                    </a:lnTo>
                    <a:lnTo>
                      <a:pt x="0" y="291"/>
                    </a:lnTo>
                    <a:lnTo>
                      <a:pt x="16" y="291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32" y="395"/>
                    </a:lnTo>
                    <a:lnTo>
                      <a:pt x="48" y="429"/>
                    </a:lnTo>
                    <a:lnTo>
                      <a:pt x="81" y="429"/>
                    </a:lnTo>
                    <a:lnTo>
                      <a:pt x="97" y="429"/>
                    </a:lnTo>
                    <a:lnTo>
                      <a:pt x="146" y="412"/>
                    </a:lnTo>
                    <a:lnTo>
                      <a:pt x="162" y="377"/>
                    </a:lnTo>
                    <a:lnTo>
                      <a:pt x="194" y="377"/>
                    </a:lnTo>
                    <a:lnTo>
                      <a:pt x="341" y="429"/>
                    </a:lnTo>
                    <a:lnTo>
                      <a:pt x="357" y="446"/>
                    </a:lnTo>
                    <a:lnTo>
                      <a:pt x="389" y="549"/>
                    </a:lnTo>
                    <a:lnTo>
                      <a:pt x="373" y="566"/>
                    </a:lnTo>
                    <a:lnTo>
                      <a:pt x="438" y="635"/>
                    </a:lnTo>
                    <a:lnTo>
                      <a:pt x="454" y="670"/>
                    </a:lnTo>
                    <a:lnTo>
                      <a:pt x="487" y="670"/>
                    </a:lnTo>
                    <a:lnTo>
                      <a:pt x="519" y="705"/>
                    </a:lnTo>
                    <a:lnTo>
                      <a:pt x="568" y="739"/>
                    </a:lnTo>
                    <a:lnTo>
                      <a:pt x="584" y="791"/>
                    </a:lnTo>
                    <a:lnTo>
                      <a:pt x="617" y="825"/>
                    </a:lnTo>
                    <a:lnTo>
                      <a:pt x="715" y="859"/>
                    </a:lnTo>
                    <a:lnTo>
                      <a:pt x="796" y="894"/>
                    </a:lnTo>
                    <a:lnTo>
                      <a:pt x="861" y="911"/>
                    </a:lnTo>
                    <a:lnTo>
                      <a:pt x="878" y="962"/>
                    </a:lnTo>
                    <a:lnTo>
                      <a:pt x="878" y="997"/>
                    </a:lnTo>
                    <a:lnTo>
                      <a:pt x="959" y="997"/>
                    </a:lnTo>
                    <a:lnTo>
                      <a:pt x="991" y="1031"/>
                    </a:lnTo>
                    <a:lnTo>
                      <a:pt x="991" y="1100"/>
                    </a:lnTo>
                    <a:lnTo>
                      <a:pt x="1008" y="1168"/>
                    </a:lnTo>
                    <a:lnTo>
                      <a:pt x="991" y="1220"/>
                    </a:lnTo>
                    <a:lnTo>
                      <a:pt x="991" y="1237"/>
                    </a:lnTo>
                    <a:lnTo>
                      <a:pt x="975" y="1271"/>
                    </a:lnTo>
                    <a:lnTo>
                      <a:pt x="959" y="1271"/>
                    </a:lnTo>
                    <a:lnTo>
                      <a:pt x="959" y="1306"/>
                    </a:lnTo>
                    <a:lnTo>
                      <a:pt x="1024" y="1306"/>
                    </a:lnTo>
                    <a:lnTo>
                      <a:pt x="1024" y="1271"/>
                    </a:lnTo>
                    <a:lnTo>
                      <a:pt x="1056" y="1254"/>
                    </a:lnTo>
                    <a:lnTo>
                      <a:pt x="1073" y="1220"/>
                    </a:lnTo>
                    <a:lnTo>
                      <a:pt x="1056" y="1186"/>
                    </a:lnTo>
                    <a:lnTo>
                      <a:pt x="1105" y="1168"/>
                    </a:lnTo>
                    <a:lnTo>
                      <a:pt x="1138" y="1168"/>
                    </a:lnTo>
                    <a:lnTo>
                      <a:pt x="1138" y="1134"/>
                    </a:lnTo>
                    <a:lnTo>
                      <a:pt x="1121" y="1065"/>
                    </a:lnTo>
                    <a:lnTo>
                      <a:pt x="1073" y="1048"/>
                    </a:lnTo>
                    <a:lnTo>
                      <a:pt x="1073" y="1014"/>
                    </a:lnTo>
                    <a:lnTo>
                      <a:pt x="1089" y="979"/>
                    </a:lnTo>
                    <a:lnTo>
                      <a:pt x="1121" y="945"/>
                    </a:lnTo>
                    <a:lnTo>
                      <a:pt x="1121" y="962"/>
                    </a:lnTo>
                    <a:lnTo>
                      <a:pt x="1203" y="962"/>
                    </a:lnTo>
                    <a:lnTo>
                      <a:pt x="1251" y="1048"/>
                    </a:lnTo>
                    <a:lnTo>
                      <a:pt x="1251" y="1031"/>
                    </a:lnTo>
                    <a:lnTo>
                      <a:pt x="1284" y="997"/>
                    </a:lnTo>
                    <a:lnTo>
                      <a:pt x="1251" y="911"/>
                    </a:lnTo>
                    <a:lnTo>
                      <a:pt x="1203" y="911"/>
                    </a:lnTo>
                    <a:lnTo>
                      <a:pt x="1154" y="876"/>
                    </a:lnTo>
                    <a:lnTo>
                      <a:pt x="1105" y="859"/>
                    </a:lnTo>
                    <a:lnTo>
                      <a:pt x="1056" y="825"/>
                    </a:lnTo>
                    <a:lnTo>
                      <a:pt x="991" y="808"/>
                    </a:lnTo>
                    <a:lnTo>
                      <a:pt x="975" y="791"/>
                    </a:lnTo>
                    <a:lnTo>
                      <a:pt x="1008" y="773"/>
                    </a:lnTo>
                    <a:lnTo>
                      <a:pt x="1024" y="756"/>
                    </a:lnTo>
                    <a:lnTo>
                      <a:pt x="1008" y="739"/>
                    </a:lnTo>
                    <a:lnTo>
                      <a:pt x="910" y="739"/>
                    </a:lnTo>
                    <a:lnTo>
                      <a:pt x="861" y="722"/>
                    </a:lnTo>
                    <a:lnTo>
                      <a:pt x="829" y="722"/>
                    </a:lnTo>
                    <a:lnTo>
                      <a:pt x="780" y="635"/>
                    </a:lnTo>
                    <a:lnTo>
                      <a:pt x="780" y="583"/>
                    </a:lnTo>
                    <a:lnTo>
                      <a:pt x="764" y="549"/>
                    </a:lnTo>
                    <a:lnTo>
                      <a:pt x="731" y="549"/>
                    </a:lnTo>
                    <a:lnTo>
                      <a:pt x="731" y="498"/>
                    </a:lnTo>
                    <a:lnTo>
                      <a:pt x="699" y="463"/>
                    </a:lnTo>
                    <a:lnTo>
                      <a:pt x="650" y="446"/>
                    </a:lnTo>
                    <a:lnTo>
                      <a:pt x="617" y="429"/>
                    </a:lnTo>
                    <a:lnTo>
                      <a:pt x="584" y="360"/>
                    </a:lnTo>
                    <a:lnTo>
                      <a:pt x="584" y="326"/>
                    </a:lnTo>
                    <a:lnTo>
                      <a:pt x="617" y="309"/>
                    </a:lnTo>
                    <a:lnTo>
                      <a:pt x="617" y="223"/>
                    </a:lnTo>
                    <a:lnTo>
                      <a:pt x="633" y="206"/>
                    </a:lnTo>
                    <a:lnTo>
                      <a:pt x="748" y="206"/>
                    </a:lnTo>
                    <a:lnTo>
                      <a:pt x="764" y="206"/>
                    </a:lnTo>
                    <a:lnTo>
                      <a:pt x="780" y="188"/>
                    </a:lnTo>
                    <a:lnTo>
                      <a:pt x="764" y="120"/>
                    </a:lnTo>
                    <a:lnTo>
                      <a:pt x="764" y="68"/>
                    </a:lnTo>
                    <a:lnTo>
                      <a:pt x="699" y="51"/>
                    </a:lnTo>
                    <a:lnTo>
                      <a:pt x="633" y="51"/>
                    </a:lnTo>
                    <a:lnTo>
                      <a:pt x="584" y="0"/>
                    </a:lnTo>
                    <a:lnTo>
                      <a:pt x="519" y="17"/>
                    </a:lnTo>
                    <a:lnTo>
                      <a:pt x="471" y="34"/>
                    </a:lnTo>
                    <a:lnTo>
                      <a:pt x="438" y="34"/>
                    </a:lnTo>
                    <a:lnTo>
                      <a:pt x="406" y="51"/>
                    </a:lnTo>
                    <a:lnTo>
                      <a:pt x="357" y="103"/>
                    </a:lnTo>
                    <a:lnTo>
                      <a:pt x="292" y="103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1" name=""/>
            <p:cNvSpPr/>
            <p:nvPr/>
          </p:nvSpPr>
          <p:spPr>
            <a:xfrm>
              <a:off x="187200" y="2071800"/>
              <a:ext cx="1722960" cy="973440"/>
            </a:xfrm>
            <a:custGeom>
              <a:avLst/>
              <a:gdLst/>
              <a:ahLst/>
              <a:rect l="0" t="0" r="r" b="b"/>
              <a:pathLst>
                <a:path fill="none" w="4786" h="2704">
                  <a:moveTo>
                    <a:pt x="4603" y="14"/>
                  </a:moveTo>
                  <a:lnTo>
                    <a:pt x="4588" y="0"/>
                  </a:lnTo>
                  <a:lnTo>
                    <a:pt x="4557" y="0"/>
                  </a:lnTo>
                  <a:lnTo>
                    <a:pt x="4542" y="0"/>
                  </a:lnTo>
                  <a:lnTo>
                    <a:pt x="4527" y="28"/>
                  </a:lnTo>
                  <a:lnTo>
                    <a:pt x="4512" y="14"/>
                  </a:lnTo>
                  <a:lnTo>
                    <a:pt x="4497" y="28"/>
                  </a:lnTo>
                  <a:lnTo>
                    <a:pt x="4481" y="42"/>
                  </a:lnTo>
                  <a:lnTo>
                    <a:pt x="4451" y="114"/>
                  </a:lnTo>
                  <a:lnTo>
                    <a:pt x="4466" y="143"/>
                  </a:lnTo>
                  <a:lnTo>
                    <a:pt x="4451" y="185"/>
                  </a:lnTo>
                  <a:lnTo>
                    <a:pt x="4466" y="214"/>
                  </a:lnTo>
                  <a:lnTo>
                    <a:pt x="4466" y="243"/>
                  </a:lnTo>
                  <a:lnTo>
                    <a:pt x="4451" y="271"/>
                  </a:lnTo>
                  <a:lnTo>
                    <a:pt x="4436" y="286"/>
                  </a:lnTo>
                  <a:lnTo>
                    <a:pt x="4420" y="271"/>
                  </a:lnTo>
                  <a:lnTo>
                    <a:pt x="4390" y="343"/>
                  </a:lnTo>
                  <a:lnTo>
                    <a:pt x="4329" y="357"/>
                  </a:lnTo>
                  <a:lnTo>
                    <a:pt x="4238" y="371"/>
                  </a:lnTo>
                  <a:lnTo>
                    <a:pt x="4177" y="386"/>
                  </a:lnTo>
                  <a:lnTo>
                    <a:pt x="4131" y="429"/>
                  </a:lnTo>
                  <a:lnTo>
                    <a:pt x="4100" y="471"/>
                  </a:lnTo>
                  <a:lnTo>
                    <a:pt x="4070" y="471"/>
                  </a:lnTo>
                  <a:lnTo>
                    <a:pt x="4039" y="514"/>
                  </a:lnTo>
                  <a:lnTo>
                    <a:pt x="4055" y="529"/>
                  </a:lnTo>
                  <a:lnTo>
                    <a:pt x="4070" y="572"/>
                  </a:lnTo>
                  <a:lnTo>
                    <a:pt x="4055" y="572"/>
                  </a:lnTo>
                  <a:lnTo>
                    <a:pt x="4024" y="600"/>
                  </a:lnTo>
                  <a:lnTo>
                    <a:pt x="4009" y="615"/>
                  </a:lnTo>
                  <a:lnTo>
                    <a:pt x="3994" y="629"/>
                  </a:lnTo>
                  <a:lnTo>
                    <a:pt x="3963" y="629"/>
                  </a:lnTo>
                  <a:lnTo>
                    <a:pt x="3902" y="643"/>
                  </a:lnTo>
                  <a:lnTo>
                    <a:pt x="3857" y="657"/>
                  </a:lnTo>
                  <a:lnTo>
                    <a:pt x="3872" y="700"/>
                  </a:lnTo>
                  <a:lnTo>
                    <a:pt x="3857" y="729"/>
                  </a:lnTo>
                  <a:lnTo>
                    <a:pt x="3811" y="772"/>
                  </a:lnTo>
                  <a:lnTo>
                    <a:pt x="3765" y="815"/>
                  </a:lnTo>
                  <a:lnTo>
                    <a:pt x="3719" y="829"/>
                  </a:lnTo>
                  <a:lnTo>
                    <a:pt x="3719" y="872"/>
                  </a:lnTo>
                  <a:lnTo>
                    <a:pt x="3613" y="901"/>
                  </a:lnTo>
                  <a:lnTo>
                    <a:pt x="3566" y="886"/>
                  </a:lnTo>
                  <a:lnTo>
                    <a:pt x="3551" y="886"/>
                  </a:lnTo>
                  <a:lnTo>
                    <a:pt x="3581" y="858"/>
                  </a:lnTo>
                  <a:lnTo>
                    <a:pt x="3581" y="829"/>
                  </a:lnTo>
                  <a:lnTo>
                    <a:pt x="3566" y="800"/>
                  </a:lnTo>
                  <a:lnTo>
                    <a:pt x="3581" y="800"/>
                  </a:lnTo>
                  <a:lnTo>
                    <a:pt x="3613" y="800"/>
                  </a:lnTo>
                  <a:lnTo>
                    <a:pt x="3613" y="743"/>
                  </a:lnTo>
                  <a:lnTo>
                    <a:pt x="3598" y="700"/>
                  </a:lnTo>
                  <a:lnTo>
                    <a:pt x="3581" y="672"/>
                  </a:lnTo>
                  <a:lnTo>
                    <a:pt x="3566" y="643"/>
                  </a:lnTo>
                  <a:lnTo>
                    <a:pt x="3520" y="643"/>
                  </a:lnTo>
                  <a:lnTo>
                    <a:pt x="3505" y="657"/>
                  </a:lnTo>
                  <a:lnTo>
                    <a:pt x="3475" y="686"/>
                  </a:lnTo>
                  <a:lnTo>
                    <a:pt x="3444" y="686"/>
                  </a:lnTo>
                  <a:lnTo>
                    <a:pt x="3459" y="657"/>
                  </a:lnTo>
                  <a:lnTo>
                    <a:pt x="3475" y="657"/>
                  </a:lnTo>
                  <a:lnTo>
                    <a:pt x="3490" y="643"/>
                  </a:lnTo>
                  <a:lnTo>
                    <a:pt x="3520" y="615"/>
                  </a:lnTo>
                  <a:lnTo>
                    <a:pt x="3490" y="557"/>
                  </a:lnTo>
                  <a:lnTo>
                    <a:pt x="3490" y="514"/>
                  </a:lnTo>
                  <a:lnTo>
                    <a:pt x="3444" y="514"/>
                  </a:lnTo>
                  <a:lnTo>
                    <a:pt x="3383" y="471"/>
                  </a:lnTo>
                  <a:lnTo>
                    <a:pt x="3337" y="486"/>
                  </a:lnTo>
                  <a:lnTo>
                    <a:pt x="3322" y="500"/>
                  </a:lnTo>
                  <a:lnTo>
                    <a:pt x="3337" y="514"/>
                  </a:lnTo>
                  <a:lnTo>
                    <a:pt x="3322" y="529"/>
                  </a:lnTo>
                  <a:lnTo>
                    <a:pt x="3307" y="557"/>
                  </a:lnTo>
                  <a:lnTo>
                    <a:pt x="3292" y="557"/>
                  </a:lnTo>
                  <a:lnTo>
                    <a:pt x="3261" y="586"/>
                  </a:lnTo>
                  <a:lnTo>
                    <a:pt x="3246" y="615"/>
                  </a:lnTo>
                  <a:lnTo>
                    <a:pt x="3246" y="629"/>
                  </a:lnTo>
                  <a:lnTo>
                    <a:pt x="3246" y="686"/>
                  </a:lnTo>
                  <a:lnTo>
                    <a:pt x="3231" y="743"/>
                  </a:lnTo>
                  <a:lnTo>
                    <a:pt x="3246" y="772"/>
                  </a:lnTo>
                  <a:lnTo>
                    <a:pt x="3277" y="829"/>
                  </a:lnTo>
                  <a:lnTo>
                    <a:pt x="3277" y="886"/>
                  </a:lnTo>
                  <a:lnTo>
                    <a:pt x="3246" y="958"/>
                  </a:lnTo>
                  <a:lnTo>
                    <a:pt x="3216" y="972"/>
                  </a:lnTo>
                  <a:lnTo>
                    <a:pt x="3200" y="958"/>
                  </a:lnTo>
                  <a:lnTo>
                    <a:pt x="3170" y="929"/>
                  </a:lnTo>
                  <a:lnTo>
                    <a:pt x="3155" y="886"/>
                  </a:lnTo>
                  <a:lnTo>
                    <a:pt x="3155" y="843"/>
                  </a:lnTo>
                  <a:lnTo>
                    <a:pt x="3155" y="800"/>
                  </a:lnTo>
                  <a:lnTo>
                    <a:pt x="3139" y="772"/>
                  </a:lnTo>
                  <a:lnTo>
                    <a:pt x="3139" y="700"/>
                  </a:lnTo>
                  <a:lnTo>
                    <a:pt x="3155" y="657"/>
                  </a:lnTo>
                  <a:lnTo>
                    <a:pt x="3155" y="629"/>
                  </a:lnTo>
                  <a:lnTo>
                    <a:pt x="3185" y="586"/>
                  </a:lnTo>
                  <a:lnTo>
                    <a:pt x="3170" y="572"/>
                  </a:lnTo>
                  <a:lnTo>
                    <a:pt x="3155" y="572"/>
                  </a:lnTo>
                  <a:lnTo>
                    <a:pt x="3139" y="600"/>
                  </a:lnTo>
                  <a:lnTo>
                    <a:pt x="3109" y="643"/>
                  </a:lnTo>
                  <a:lnTo>
                    <a:pt x="3124" y="600"/>
                  </a:lnTo>
                  <a:lnTo>
                    <a:pt x="3124" y="586"/>
                  </a:lnTo>
                  <a:lnTo>
                    <a:pt x="3124" y="557"/>
                  </a:lnTo>
                  <a:lnTo>
                    <a:pt x="3124" y="529"/>
                  </a:lnTo>
                  <a:lnTo>
                    <a:pt x="3139" y="514"/>
                  </a:lnTo>
                  <a:lnTo>
                    <a:pt x="3155" y="471"/>
                  </a:lnTo>
                  <a:lnTo>
                    <a:pt x="3155" y="457"/>
                  </a:lnTo>
                  <a:lnTo>
                    <a:pt x="3170" y="486"/>
                  </a:lnTo>
                  <a:lnTo>
                    <a:pt x="3200" y="486"/>
                  </a:lnTo>
                  <a:lnTo>
                    <a:pt x="3216" y="471"/>
                  </a:lnTo>
                  <a:lnTo>
                    <a:pt x="3246" y="457"/>
                  </a:lnTo>
                  <a:lnTo>
                    <a:pt x="3292" y="457"/>
                  </a:lnTo>
                  <a:lnTo>
                    <a:pt x="3307" y="457"/>
                  </a:lnTo>
                  <a:lnTo>
                    <a:pt x="3337" y="457"/>
                  </a:lnTo>
                  <a:lnTo>
                    <a:pt x="3383" y="443"/>
                  </a:lnTo>
                  <a:lnTo>
                    <a:pt x="3398" y="443"/>
                  </a:lnTo>
                  <a:lnTo>
                    <a:pt x="3398" y="429"/>
                  </a:lnTo>
                  <a:lnTo>
                    <a:pt x="3414" y="429"/>
                  </a:lnTo>
                  <a:lnTo>
                    <a:pt x="3383" y="414"/>
                  </a:lnTo>
                  <a:lnTo>
                    <a:pt x="3368" y="400"/>
                  </a:lnTo>
                  <a:lnTo>
                    <a:pt x="3322" y="386"/>
                  </a:lnTo>
                  <a:lnTo>
                    <a:pt x="3292" y="386"/>
                  </a:lnTo>
                  <a:lnTo>
                    <a:pt x="3261" y="386"/>
                  </a:lnTo>
                  <a:lnTo>
                    <a:pt x="3246" y="371"/>
                  </a:lnTo>
                  <a:lnTo>
                    <a:pt x="3216" y="357"/>
                  </a:lnTo>
                  <a:lnTo>
                    <a:pt x="3170" y="371"/>
                  </a:lnTo>
                  <a:lnTo>
                    <a:pt x="3139" y="371"/>
                  </a:lnTo>
                  <a:lnTo>
                    <a:pt x="3109" y="400"/>
                  </a:lnTo>
                  <a:lnTo>
                    <a:pt x="3078" y="386"/>
                  </a:lnTo>
                  <a:lnTo>
                    <a:pt x="3048" y="371"/>
                  </a:lnTo>
                  <a:lnTo>
                    <a:pt x="3018" y="386"/>
                  </a:lnTo>
                  <a:lnTo>
                    <a:pt x="2987" y="371"/>
                  </a:lnTo>
                  <a:lnTo>
                    <a:pt x="3018" y="343"/>
                  </a:lnTo>
                  <a:lnTo>
                    <a:pt x="3002" y="328"/>
                  </a:lnTo>
                  <a:lnTo>
                    <a:pt x="2987" y="328"/>
                  </a:lnTo>
                  <a:lnTo>
                    <a:pt x="2957" y="371"/>
                  </a:lnTo>
                  <a:lnTo>
                    <a:pt x="2926" y="400"/>
                  </a:lnTo>
                  <a:lnTo>
                    <a:pt x="2896" y="443"/>
                  </a:lnTo>
                  <a:lnTo>
                    <a:pt x="2850" y="443"/>
                  </a:lnTo>
                  <a:lnTo>
                    <a:pt x="2835" y="400"/>
                  </a:lnTo>
                  <a:lnTo>
                    <a:pt x="2819" y="400"/>
                  </a:lnTo>
                  <a:lnTo>
                    <a:pt x="2804" y="429"/>
                  </a:lnTo>
                  <a:lnTo>
                    <a:pt x="2758" y="429"/>
                  </a:lnTo>
                  <a:lnTo>
                    <a:pt x="2819" y="371"/>
                  </a:lnTo>
                  <a:lnTo>
                    <a:pt x="2941" y="300"/>
                  </a:lnTo>
                  <a:lnTo>
                    <a:pt x="2941" y="286"/>
                  </a:lnTo>
                  <a:lnTo>
                    <a:pt x="2880" y="286"/>
                  </a:lnTo>
                  <a:lnTo>
                    <a:pt x="2804" y="257"/>
                  </a:lnTo>
                  <a:lnTo>
                    <a:pt x="2789" y="300"/>
                  </a:lnTo>
                  <a:lnTo>
                    <a:pt x="2728" y="271"/>
                  </a:lnTo>
                  <a:lnTo>
                    <a:pt x="2698" y="286"/>
                  </a:lnTo>
                  <a:lnTo>
                    <a:pt x="2667" y="257"/>
                  </a:lnTo>
                  <a:lnTo>
                    <a:pt x="2606" y="257"/>
                  </a:lnTo>
                  <a:lnTo>
                    <a:pt x="2591" y="271"/>
                  </a:lnTo>
                  <a:lnTo>
                    <a:pt x="2530" y="228"/>
                  </a:lnTo>
                  <a:lnTo>
                    <a:pt x="2515" y="200"/>
                  </a:lnTo>
                  <a:lnTo>
                    <a:pt x="2438" y="185"/>
                  </a:lnTo>
                  <a:lnTo>
                    <a:pt x="2484" y="228"/>
                  </a:lnTo>
                  <a:lnTo>
                    <a:pt x="1357" y="200"/>
                  </a:lnTo>
                  <a:lnTo>
                    <a:pt x="1280" y="185"/>
                  </a:lnTo>
                  <a:lnTo>
                    <a:pt x="1158" y="171"/>
                  </a:lnTo>
                  <a:lnTo>
                    <a:pt x="1005" y="143"/>
                  </a:lnTo>
                  <a:lnTo>
                    <a:pt x="822" y="128"/>
                  </a:lnTo>
                  <a:lnTo>
                    <a:pt x="746" y="114"/>
                  </a:lnTo>
                  <a:lnTo>
                    <a:pt x="639" y="100"/>
                  </a:lnTo>
                  <a:lnTo>
                    <a:pt x="563" y="85"/>
                  </a:lnTo>
                  <a:lnTo>
                    <a:pt x="365" y="28"/>
                  </a:lnTo>
                  <a:lnTo>
                    <a:pt x="365" y="42"/>
                  </a:lnTo>
                  <a:lnTo>
                    <a:pt x="365" y="57"/>
                  </a:lnTo>
                  <a:lnTo>
                    <a:pt x="380" y="85"/>
                  </a:lnTo>
                  <a:lnTo>
                    <a:pt x="365" y="100"/>
                  </a:lnTo>
                  <a:lnTo>
                    <a:pt x="350" y="114"/>
                  </a:lnTo>
                  <a:lnTo>
                    <a:pt x="365" y="143"/>
                  </a:lnTo>
                  <a:lnTo>
                    <a:pt x="396" y="185"/>
                  </a:lnTo>
                  <a:lnTo>
                    <a:pt x="365" y="214"/>
                  </a:lnTo>
                  <a:lnTo>
                    <a:pt x="350" y="243"/>
                  </a:lnTo>
                  <a:lnTo>
                    <a:pt x="319" y="243"/>
                  </a:lnTo>
                  <a:lnTo>
                    <a:pt x="350" y="228"/>
                  </a:lnTo>
                  <a:lnTo>
                    <a:pt x="350" y="214"/>
                  </a:lnTo>
                  <a:lnTo>
                    <a:pt x="350" y="185"/>
                  </a:lnTo>
                  <a:lnTo>
                    <a:pt x="335" y="185"/>
                  </a:lnTo>
                  <a:lnTo>
                    <a:pt x="335" y="171"/>
                  </a:lnTo>
                  <a:lnTo>
                    <a:pt x="365" y="171"/>
                  </a:lnTo>
                  <a:lnTo>
                    <a:pt x="350" y="128"/>
                  </a:lnTo>
                  <a:lnTo>
                    <a:pt x="335" y="128"/>
                  </a:lnTo>
                  <a:lnTo>
                    <a:pt x="289" y="128"/>
                  </a:lnTo>
                  <a:lnTo>
                    <a:pt x="274" y="100"/>
                  </a:lnTo>
                  <a:lnTo>
                    <a:pt x="243" y="85"/>
                  </a:lnTo>
                  <a:lnTo>
                    <a:pt x="228" y="85"/>
                  </a:lnTo>
                  <a:lnTo>
                    <a:pt x="213" y="100"/>
                  </a:lnTo>
                  <a:lnTo>
                    <a:pt x="213" y="143"/>
                  </a:lnTo>
                  <a:lnTo>
                    <a:pt x="228" y="171"/>
                  </a:lnTo>
                  <a:lnTo>
                    <a:pt x="228" y="214"/>
                  </a:lnTo>
                  <a:lnTo>
                    <a:pt x="213" y="243"/>
                  </a:lnTo>
                  <a:lnTo>
                    <a:pt x="228" y="257"/>
                  </a:lnTo>
                  <a:lnTo>
                    <a:pt x="243" y="271"/>
                  </a:lnTo>
                  <a:lnTo>
                    <a:pt x="228" y="300"/>
                  </a:lnTo>
                  <a:lnTo>
                    <a:pt x="228" y="314"/>
                  </a:lnTo>
                  <a:lnTo>
                    <a:pt x="228" y="343"/>
                  </a:lnTo>
                  <a:lnTo>
                    <a:pt x="213" y="343"/>
                  </a:lnTo>
                  <a:lnTo>
                    <a:pt x="198" y="414"/>
                  </a:lnTo>
                  <a:lnTo>
                    <a:pt x="182" y="457"/>
                  </a:lnTo>
                  <a:lnTo>
                    <a:pt x="152" y="514"/>
                  </a:lnTo>
                  <a:lnTo>
                    <a:pt x="121" y="557"/>
                  </a:lnTo>
                  <a:lnTo>
                    <a:pt x="106" y="615"/>
                  </a:lnTo>
                  <a:lnTo>
                    <a:pt x="76" y="643"/>
                  </a:lnTo>
                  <a:lnTo>
                    <a:pt x="76" y="729"/>
                  </a:lnTo>
                  <a:lnTo>
                    <a:pt x="76" y="800"/>
                  </a:lnTo>
                  <a:lnTo>
                    <a:pt x="60" y="829"/>
                  </a:lnTo>
                  <a:lnTo>
                    <a:pt x="30" y="886"/>
                  </a:lnTo>
                  <a:lnTo>
                    <a:pt x="0" y="929"/>
                  </a:lnTo>
                  <a:lnTo>
                    <a:pt x="30" y="1001"/>
                  </a:lnTo>
                  <a:lnTo>
                    <a:pt x="30" y="1058"/>
                  </a:lnTo>
                  <a:lnTo>
                    <a:pt x="15" y="1086"/>
                  </a:lnTo>
                  <a:lnTo>
                    <a:pt x="45" y="1158"/>
                  </a:lnTo>
                  <a:lnTo>
                    <a:pt x="60" y="1201"/>
                  </a:lnTo>
                  <a:lnTo>
                    <a:pt x="91" y="1215"/>
                  </a:lnTo>
                  <a:lnTo>
                    <a:pt x="121" y="1187"/>
                  </a:lnTo>
                  <a:lnTo>
                    <a:pt x="137" y="1201"/>
                  </a:lnTo>
                  <a:lnTo>
                    <a:pt x="137" y="1230"/>
                  </a:lnTo>
                  <a:lnTo>
                    <a:pt x="106" y="1230"/>
                  </a:lnTo>
                  <a:lnTo>
                    <a:pt x="121" y="1244"/>
                  </a:lnTo>
                  <a:lnTo>
                    <a:pt x="91" y="1230"/>
                  </a:lnTo>
                  <a:lnTo>
                    <a:pt x="91" y="1272"/>
                  </a:lnTo>
                  <a:lnTo>
                    <a:pt x="106" y="1315"/>
                  </a:lnTo>
                  <a:lnTo>
                    <a:pt x="106" y="1344"/>
                  </a:lnTo>
                  <a:lnTo>
                    <a:pt x="152" y="1330"/>
                  </a:lnTo>
                  <a:lnTo>
                    <a:pt x="137" y="1344"/>
                  </a:lnTo>
                  <a:lnTo>
                    <a:pt x="106" y="1359"/>
                  </a:lnTo>
                  <a:lnTo>
                    <a:pt x="106" y="1402"/>
                  </a:lnTo>
                  <a:lnTo>
                    <a:pt x="152" y="1445"/>
                  </a:lnTo>
                  <a:lnTo>
                    <a:pt x="167" y="1459"/>
                  </a:lnTo>
                  <a:lnTo>
                    <a:pt x="152" y="1488"/>
                  </a:lnTo>
                  <a:lnTo>
                    <a:pt x="167" y="1502"/>
                  </a:lnTo>
                  <a:lnTo>
                    <a:pt x="182" y="1545"/>
                  </a:lnTo>
                  <a:lnTo>
                    <a:pt x="182" y="1559"/>
                  </a:lnTo>
                  <a:lnTo>
                    <a:pt x="198" y="1574"/>
                  </a:lnTo>
                  <a:lnTo>
                    <a:pt x="198" y="1602"/>
                  </a:lnTo>
                  <a:lnTo>
                    <a:pt x="182" y="1617"/>
                  </a:lnTo>
                  <a:lnTo>
                    <a:pt x="213" y="1631"/>
                  </a:lnTo>
                  <a:lnTo>
                    <a:pt x="243" y="1631"/>
                  </a:lnTo>
                  <a:lnTo>
                    <a:pt x="274" y="1617"/>
                  </a:lnTo>
                  <a:lnTo>
                    <a:pt x="289" y="1631"/>
                  </a:lnTo>
                  <a:lnTo>
                    <a:pt x="304" y="1645"/>
                  </a:lnTo>
                  <a:lnTo>
                    <a:pt x="304" y="1660"/>
                  </a:lnTo>
                  <a:lnTo>
                    <a:pt x="335" y="1688"/>
                  </a:lnTo>
                  <a:lnTo>
                    <a:pt x="350" y="1702"/>
                  </a:lnTo>
                  <a:lnTo>
                    <a:pt x="365" y="1731"/>
                  </a:lnTo>
                  <a:lnTo>
                    <a:pt x="365" y="1745"/>
                  </a:lnTo>
                  <a:lnTo>
                    <a:pt x="396" y="1760"/>
                  </a:lnTo>
                  <a:lnTo>
                    <a:pt x="411" y="1774"/>
                  </a:lnTo>
                  <a:lnTo>
                    <a:pt x="441" y="1817"/>
                  </a:lnTo>
                  <a:lnTo>
                    <a:pt x="441" y="1860"/>
                  </a:lnTo>
                  <a:lnTo>
                    <a:pt x="441" y="1874"/>
                  </a:lnTo>
                  <a:lnTo>
                    <a:pt x="472" y="1888"/>
                  </a:lnTo>
                  <a:lnTo>
                    <a:pt x="487" y="1874"/>
                  </a:lnTo>
                  <a:lnTo>
                    <a:pt x="518" y="1874"/>
                  </a:lnTo>
                  <a:lnTo>
                    <a:pt x="563" y="1874"/>
                  </a:lnTo>
                  <a:lnTo>
                    <a:pt x="594" y="1874"/>
                  </a:lnTo>
                  <a:lnTo>
                    <a:pt x="655" y="1874"/>
                  </a:lnTo>
                  <a:lnTo>
                    <a:pt x="685" y="1888"/>
                  </a:lnTo>
                  <a:lnTo>
                    <a:pt x="685" y="1903"/>
                  </a:lnTo>
                  <a:lnTo>
                    <a:pt x="685" y="1917"/>
                  </a:lnTo>
                  <a:lnTo>
                    <a:pt x="731" y="1946"/>
                  </a:lnTo>
                  <a:lnTo>
                    <a:pt x="761" y="1974"/>
                  </a:lnTo>
                  <a:lnTo>
                    <a:pt x="853" y="2003"/>
                  </a:lnTo>
                  <a:lnTo>
                    <a:pt x="899" y="2031"/>
                  </a:lnTo>
                  <a:lnTo>
                    <a:pt x="975" y="2060"/>
                  </a:lnTo>
                  <a:lnTo>
                    <a:pt x="1036" y="2074"/>
                  </a:lnTo>
                  <a:lnTo>
                    <a:pt x="1081" y="2089"/>
                  </a:lnTo>
                  <a:lnTo>
                    <a:pt x="1112" y="2074"/>
                  </a:lnTo>
                  <a:lnTo>
                    <a:pt x="1173" y="2089"/>
                  </a:lnTo>
                  <a:lnTo>
                    <a:pt x="1219" y="2089"/>
                  </a:lnTo>
                  <a:lnTo>
                    <a:pt x="1250" y="2089"/>
                  </a:lnTo>
                  <a:lnTo>
                    <a:pt x="1296" y="2103"/>
                  </a:lnTo>
                  <a:lnTo>
                    <a:pt x="1326" y="2089"/>
                  </a:lnTo>
                  <a:lnTo>
                    <a:pt x="1341" y="2046"/>
                  </a:lnTo>
                  <a:lnTo>
                    <a:pt x="1402" y="2060"/>
                  </a:lnTo>
                  <a:lnTo>
                    <a:pt x="1463" y="2060"/>
                  </a:lnTo>
                  <a:lnTo>
                    <a:pt x="1524" y="2117"/>
                  </a:lnTo>
                  <a:lnTo>
                    <a:pt x="1600" y="2174"/>
                  </a:lnTo>
                  <a:lnTo>
                    <a:pt x="1631" y="2217"/>
                  </a:lnTo>
                  <a:lnTo>
                    <a:pt x="1631" y="2246"/>
                  </a:lnTo>
                  <a:lnTo>
                    <a:pt x="1646" y="2289"/>
                  </a:lnTo>
                  <a:lnTo>
                    <a:pt x="1677" y="2317"/>
                  </a:lnTo>
                  <a:lnTo>
                    <a:pt x="1707" y="2346"/>
                  </a:lnTo>
                  <a:lnTo>
                    <a:pt x="1783" y="2389"/>
                  </a:lnTo>
                  <a:lnTo>
                    <a:pt x="1814" y="2389"/>
                  </a:lnTo>
                  <a:lnTo>
                    <a:pt x="1829" y="2375"/>
                  </a:lnTo>
                  <a:lnTo>
                    <a:pt x="1844" y="2346"/>
                  </a:lnTo>
                  <a:lnTo>
                    <a:pt x="1844" y="2317"/>
                  </a:lnTo>
                  <a:lnTo>
                    <a:pt x="1890" y="2317"/>
                  </a:lnTo>
                  <a:lnTo>
                    <a:pt x="1920" y="2317"/>
                  </a:lnTo>
                  <a:lnTo>
                    <a:pt x="1966" y="2332"/>
                  </a:lnTo>
                  <a:lnTo>
                    <a:pt x="1997" y="2346"/>
                  </a:lnTo>
                  <a:lnTo>
                    <a:pt x="2027" y="2360"/>
                  </a:lnTo>
                  <a:lnTo>
                    <a:pt x="2042" y="2389"/>
                  </a:lnTo>
                  <a:lnTo>
                    <a:pt x="2058" y="2418"/>
                  </a:lnTo>
                  <a:lnTo>
                    <a:pt x="2073" y="2461"/>
                  </a:lnTo>
                  <a:lnTo>
                    <a:pt x="2088" y="2489"/>
                  </a:lnTo>
                  <a:lnTo>
                    <a:pt x="2119" y="2503"/>
                  </a:lnTo>
                  <a:lnTo>
                    <a:pt x="2149" y="2532"/>
                  </a:lnTo>
                  <a:lnTo>
                    <a:pt x="2164" y="2575"/>
                  </a:lnTo>
                  <a:lnTo>
                    <a:pt x="2179" y="2604"/>
                  </a:lnTo>
                  <a:lnTo>
                    <a:pt x="2195" y="2661"/>
                  </a:lnTo>
                  <a:lnTo>
                    <a:pt x="2225" y="2661"/>
                  </a:lnTo>
                  <a:lnTo>
                    <a:pt x="2271" y="2675"/>
                  </a:lnTo>
                  <a:lnTo>
                    <a:pt x="2301" y="2689"/>
                  </a:lnTo>
                  <a:lnTo>
                    <a:pt x="2347" y="2689"/>
                  </a:lnTo>
                  <a:lnTo>
                    <a:pt x="2378" y="2704"/>
                  </a:lnTo>
                  <a:lnTo>
                    <a:pt x="2438" y="2704"/>
                  </a:lnTo>
                  <a:lnTo>
                    <a:pt x="2454" y="2661"/>
                  </a:lnTo>
                  <a:lnTo>
                    <a:pt x="2408" y="2632"/>
                  </a:lnTo>
                  <a:lnTo>
                    <a:pt x="2408" y="2589"/>
                  </a:lnTo>
                  <a:lnTo>
                    <a:pt x="2423" y="2561"/>
                  </a:lnTo>
                  <a:lnTo>
                    <a:pt x="2423" y="2518"/>
                  </a:lnTo>
                  <a:lnTo>
                    <a:pt x="2438" y="2518"/>
                  </a:lnTo>
                  <a:lnTo>
                    <a:pt x="2438" y="2489"/>
                  </a:lnTo>
                  <a:lnTo>
                    <a:pt x="2469" y="2475"/>
                  </a:lnTo>
                  <a:lnTo>
                    <a:pt x="2499" y="2446"/>
                  </a:lnTo>
                  <a:lnTo>
                    <a:pt x="2530" y="2446"/>
                  </a:lnTo>
                  <a:lnTo>
                    <a:pt x="2576" y="2418"/>
                  </a:lnTo>
                  <a:lnTo>
                    <a:pt x="2606" y="2389"/>
                  </a:lnTo>
                  <a:lnTo>
                    <a:pt x="2667" y="2360"/>
                  </a:lnTo>
                  <a:lnTo>
                    <a:pt x="2652" y="2317"/>
                  </a:lnTo>
                  <a:lnTo>
                    <a:pt x="2667" y="2317"/>
                  </a:lnTo>
                  <a:lnTo>
                    <a:pt x="2682" y="2346"/>
                  </a:lnTo>
                  <a:lnTo>
                    <a:pt x="2743" y="2289"/>
                  </a:lnTo>
                  <a:lnTo>
                    <a:pt x="2804" y="2303"/>
                  </a:lnTo>
                  <a:lnTo>
                    <a:pt x="2880" y="2317"/>
                  </a:lnTo>
                  <a:lnTo>
                    <a:pt x="2941" y="2303"/>
                  </a:lnTo>
                  <a:lnTo>
                    <a:pt x="2972" y="2303"/>
                  </a:lnTo>
                  <a:lnTo>
                    <a:pt x="2957" y="2275"/>
                  </a:lnTo>
                  <a:lnTo>
                    <a:pt x="2987" y="2275"/>
                  </a:lnTo>
                  <a:lnTo>
                    <a:pt x="3002" y="2303"/>
                  </a:lnTo>
                  <a:lnTo>
                    <a:pt x="3002" y="2317"/>
                  </a:lnTo>
                  <a:lnTo>
                    <a:pt x="3063" y="2317"/>
                  </a:lnTo>
                  <a:lnTo>
                    <a:pt x="3094" y="2317"/>
                  </a:lnTo>
                  <a:lnTo>
                    <a:pt x="3124" y="2332"/>
                  </a:lnTo>
                  <a:lnTo>
                    <a:pt x="3139" y="2332"/>
                  </a:lnTo>
                  <a:lnTo>
                    <a:pt x="3170" y="2332"/>
                  </a:lnTo>
                  <a:lnTo>
                    <a:pt x="3155" y="2303"/>
                  </a:lnTo>
                  <a:lnTo>
                    <a:pt x="3170" y="2303"/>
                  </a:lnTo>
                  <a:lnTo>
                    <a:pt x="3185" y="2303"/>
                  </a:lnTo>
                  <a:lnTo>
                    <a:pt x="3216" y="2332"/>
                  </a:lnTo>
                  <a:lnTo>
                    <a:pt x="3231" y="2317"/>
                  </a:lnTo>
                  <a:lnTo>
                    <a:pt x="3246" y="2303"/>
                  </a:lnTo>
                  <a:lnTo>
                    <a:pt x="3246" y="2275"/>
                  </a:lnTo>
                  <a:lnTo>
                    <a:pt x="3216" y="2275"/>
                  </a:lnTo>
                  <a:lnTo>
                    <a:pt x="3200" y="2260"/>
                  </a:lnTo>
                  <a:lnTo>
                    <a:pt x="3216" y="2232"/>
                  </a:lnTo>
                  <a:lnTo>
                    <a:pt x="3216" y="2203"/>
                  </a:lnTo>
                  <a:lnTo>
                    <a:pt x="3185" y="2203"/>
                  </a:lnTo>
                  <a:lnTo>
                    <a:pt x="3155" y="2232"/>
                  </a:lnTo>
                  <a:lnTo>
                    <a:pt x="3155" y="2203"/>
                  </a:lnTo>
                  <a:lnTo>
                    <a:pt x="3124" y="2217"/>
                  </a:lnTo>
                  <a:lnTo>
                    <a:pt x="3094" y="2232"/>
                  </a:lnTo>
                  <a:lnTo>
                    <a:pt x="3094" y="2217"/>
                  </a:lnTo>
                  <a:lnTo>
                    <a:pt x="3109" y="2189"/>
                  </a:lnTo>
                  <a:lnTo>
                    <a:pt x="3185" y="2203"/>
                  </a:lnTo>
                  <a:lnTo>
                    <a:pt x="3216" y="2174"/>
                  </a:lnTo>
                  <a:lnTo>
                    <a:pt x="3246" y="2160"/>
                  </a:lnTo>
                  <a:lnTo>
                    <a:pt x="3292" y="2174"/>
                  </a:lnTo>
                  <a:lnTo>
                    <a:pt x="3307" y="2160"/>
                  </a:lnTo>
                  <a:lnTo>
                    <a:pt x="3307" y="2117"/>
                  </a:lnTo>
                  <a:lnTo>
                    <a:pt x="3337" y="2174"/>
                  </a:lnTo>
                  <a:lnTo>
                    <a:pt x="3337" y="2189"/>
                  </a:lnTo>
                  <a:lnTo>
                    <a:pt x="3383" y="2160"/>
                  </a:lnTo>
                  <a:lnTo>
                    <a:pt x="3398" y="2132"/>
                  </a:lnTo>
                  <a:lnTo>
                    <a:pt x="3414" y="2160"/>
                  </a:lnTo>
                  <a:lnTo>
                    <a:pt x="3444" y="2160"/>
                  </a:lnTo>
                  <a:lnTo>
                    <a:pt x="3475" y="2146"/>
                  </a:lnTo>
                  <a:lnTo>
                    <a:pt x="3551" y="2132"/>
                  </a:lnTo>
                  <a:lnTo>
                    <a:pt x="3566" y="2146"/>
                  </a:lnTo>
                  <a:lnTo>
                    <a:pt x="3581" y="2174"/>
                  </a:lnTo>
                  <a:lnTo>
                    <a:pt x="3613" y="2174"/>
                  </a:lnTo>
                  <a:lnTo>
                    <a:pt x="3643" y="2174"/>
                  </a:lnTo>
                  <a:lnTo>
                    <a:pt x="3689" y="2174"/>
                  </a:lnTo>
                  <a:lnTo>
                    <a:pt x="3704" y="2146"/>
                  </a:lnTo>
                  <a:lnTo>
                    <a:pt x="3735" y="2146"/>
                  </a:lnTo>
                  <a:lnTo>
                    <a:pt x="3765" y="2174"/>
                  </a:lnTo>
                  <a:lnTo>
                    <a:pt x="3796" y="2189"/>
                  </a:lnTo>
                  <a:lnTo>
                    <a:pt x="3811" y="2203"/>
                  </a:lnTo>
                  <a:lnTo>
                    <a:pt x="3841" y="2203"/>
                  </a:lnTo>
                  <a:lnTo>
                    <a:pt x="3857" y="2232"/>
                  </a:lnTo>
                  <a:lnTo>
                    <a:pt x="3872" y="2246"/>
                  </a:lnTo>
                  <a:lnTo>
                    <a:pt x="3902" y="2275"/>
                  </a:lnTo>
                  <a:lnTo>
                    <a:pt x="3887" y="2303"/>
                  </a:lnTo>
                  <a:lnTo>
                    <a:pt x="3887" y="2332"/>
                  </a:lnTo>
                  <a:lnTo>
                    <a:pt x="3887" y="2360"/>
                  </a:lnTo>
                  <a:lnTo>
                    <a:pt x="3902" y="2375"/>
                  </a:lnTo>
                  <a:lnTo>
                    <a:pt x="3918" y="2375"/>
                  </a:lnTo>
                  <a:lnTo>
                    <a:pt x="3918" y="2346"/>
                  </a:lnTo>
                  <a:lnTo>
                    <a:pt x="3933" y="2360"/>
                  </a:lnTo>
                  <a:lnTo>
                    <a:pt x="3918" y="2389"/>
                  </a:lnTo>
                  <a:lnTo>
                    <a:pt x="3918" y="2403"/>
                  </a:lnTo>
                  <a:lnTo>
                    <a:pt x="3933" y="2418"/>
                  </a:lnTo>
                  <a:lnTo>
                    <a:pt x="3963" y="2446"/>
                  </a:lnTo>
                  <a:lnTo>
                    <a:pt x="3994" y="2461"/>
                  </a:lnTo>
                  <a:lnTo>
                    <a:pt x="4009" y="2489"/>
                  </a:lnTo>
                  <a:lnTo>
                    <a:pt x="4024" y="2503"/>
                  </a:lnTo>
                  <a:lnTo>
                    <a:pt x="4039" y="2532"/>
                  </a:lnTo>
                  <a:lnTo>
                    <a:pt x="4070" y="2546"/>
                  </a:lnTo>
                  <a:lnTo>
                    <a:pt x="4100" y="2561"/>
                  </a:lnTo>
                  <a:lnTo>
                    <a:pt x="4116" y="2589"/>
                  </a:lnTo>
                  <a:lnTo>
                    <a:pt x="4161" y="2589"/>
                  </a:lnTo>
                  <a:lnTo>
                    <a:pt x="4222" y="2575"/>
                  </a:lnTo>
                  <a:lnTo>
                    <a:pt x="4238" y="2518"/>
                  </a:lnTo>
                  <a:lnTo>
                    <a:pt x="4222" y="2475"/>
                  </a:lnTo>
                  <a:lnTo>
                    <a:pt x="4222" y="2418"/>
                  </a:lnTo>
                  <a:lnTo>
                    <a:pt x="4207" y="2389"/>
                  </a:lnTo>
                  <a:lnTo>
                    <a:pt x="4177" y="2360"/>
                  </a:lnTo>
                  <a:lnTo>
                    <a:pt x="4161" y="2332"/>
                  </a:lnTo>
                  <a:lnTo>
                    <a:pt x="4131" y="2275"/>
                  </a:lnTo>
                  <a:lnTo>
                    <a:pt x="4116" y="2232"/>
                  </a:lnTo>
                  <a:lnTo>
                    <a:pt x="4070" y="2174"/>
                  </a:lnTo>
                  <a:lnTo>
                    <a:pt x="4055" y="2146"/>
                  </a:lnTo>
                  <a:lnTo>
                    <a:pt x="4009" y="2103"/>
                  </a:lnTo>
                  <a:lnTo>
                    <a:pt x="3994" y="2060"/>
                  </a:lnTo>
                  <a:lnTo>
                    <a:pt x="3978" y="2017"/>
                  </a:lnTo>
                  <a:lnTo>
                    <a:pt x="3978" y="1989"/>
                  </a:lnTo>
                  <a:lnTo>
                    <a:pt x="3978" y="1974"/>
                  </a:lnTo>
                  <a:lnTo>
                    <a:pt x="3994" y="1960"/>
                  </a:lnTo>
                  <a:lnTo>
                    <a:pt x="3994" y="1903"/>
                  </a:lnTo>
                  <a:lnTo>
                    <a:pt x="4024" y="1860"/>
                  </a:lnTo>
                  <a:lnTo>
                    <a:pt x="4009" y="1817"/>
                  </a:lnTo>
                  <a:lnTo>
                    <a:pt x="4070" y="1817"/>
                  </a:lnTo>
                  <a:lnTo>
                    <a:pt x="4131" y="1760"/>
                  </a:lnTo>
                  <a:lnTo>
                    <a:pt x="4161" y="1660"/>
                  </a:lnTo>
                  <a:lnTo>
                    <a:pt x="4238" y="1631"/>
                  </a:lnTo>
                  <a:lnTo>
                    <a:pt x="4283" y="1545"/>
                  </a:lnTo>
                  <a:lnTo>
                    <a:pt x="4359" y="1517"/>
                  </a:lnTo>
                  <a:lnTo>
                    <a:pt x="4405" y="1445"/>
                  </a:lnTo>
                  <a:lnTo>
                    <a:pt x="4405" y="1402"/>
                  </a:lnTo>
                  <a:lnTo>
                    <a:pt x="4405" y="1359"/>
                  </a:lnTo>
                  <a:lnTo>
                    <a:pt x="4390" y="1359"/>
                  </a:lnTo>
                  <a:lnTo>
                    <a:pt x="4390" y="1431"/>
                  </a:lnTo>
                  <a:lnTo>
                    <a:pt x="4344" y="1488"/>
                  </a:lnTo>
                  <a:lnTo>
                    <a:pt x="4268" y="1502"/>
                  </a:lnTo>
                  <a:lnTo>
                    <a:pt x="4329" y="1459"/>
                  </a:lnTo>
                  <a:lnTo>
                    <a:pt x="4298" y="1445"/>
                  </a:lnTo>
                  <a:lnTo>
                    <a:pt x="4329" y="1445"/>
                  </a:lnTo>
                  <a:lnTo>
                    <a:pt x="4359" y="1445"/>
                  </a:lnTo>
                  <a:lnTo>
                    <a:pt x="4375" y="1402"/>
                  </a:lnTo>
                  <a:lnTo>
                    <a:pt x="4359" y="1374"/>
                  </a:lnTo>
                  <a:lnTo>
                    <a:pt x="4329" y="1374"/>
                  </a:lnTo>
                  <a:lnTo>
                    <a:pt x="4283" y="1388"/>
                  </a:lnTo>
                  <a:lnTo>
                    <a:pt x="4283" y="1359"/>
                  </a:lnTo>
                  <a:lnTo>
                    <a:pt x="4314" y="1374"/>
                  </a:lnTo>
                  <a:lnTo>
                    <a:pt x="4359" y="1344"/>
                  </a:lnTo>
                  <a:lnTo>
                    <a:pt x="4359" y="1330"/>
                  </a:lnTo>
                  <a:lnTo>
                    <a:pt x="4329" y="1315"/>
                  </a:lnTo>
                  <a:lnTo>
                    <a:pt x="4329" y="1272"/>
                  </a:lnTo>
                  <a:lnTo>
                    <a:pt x="4298" y="1258"/>
                  </a:lnTo>
                  <a:lnTo>
                    <a:pt x="4283" y="1272"/>
                  </a:lnTo>
                  <a:lnTo>
                    <a:pt x="4283" y="1244"/>
                  </a:lnTo>
                  <a:lnTo>
                    <a:pt x="4283" y="1215"/>
                  </a:lnTo>
                  <a:lnTo>
                    <a:pt x="4283" y="1187"/>
                  </a:lnTo>
                  <a:lnTo>
                    <a:pt x="4222" y="1158"/>
                  </a:lnTo>
                  <a:lnTo>
                    <a:pt x="4238" y="1158"/>
                  </a:lnTo>
                  <a:lnTo>
                    <a:pt x="4222" y="1086"/>
                  </a:lnTo>
                  <a:lnTo>
                    <a:pt x="4222" y="1044"/>
                  </a:lnTo>
                  <a:lnTo>
                    <a:pt x="4238" y="1029"/>
                  </a:lnTo>
                  <a:lnTo>
                    <a:pt x="4238" y="1086"/>
                  </a:lnTo>
                  <a:lnTo>
                    <a:pt x="4268" y="1129"/>
                  </a:lnTo>
                  <a:lnTo>
                    <a:pt x="4298" y="1172"/>
                  </a:lnTo>
                  <a:lnTo>
                    <a:pt x="4298" y="1244"/>
                  </a:lnTo>
                  <a:lnTo>
                    <a:pt x="4329" y="1244"/>
                  </a:lnTo>
                  <a:lnTo>
                    <a:pt x="4359" y="1172"/>
                  </a:lnTo>
                  <a:lnTo>
                    <a:pt x="4359" y="1072"/>
                  </a:lnTo>
                  <a:lnTo>
                    <a:pt x="4329" y="1044"/>
                  </a:lnTo>
                  <a:lnTo>
                    <a:pt x="4329" y="1015"/>
                  </a:lnTo>
                  <a:lnTo>
                    <a:pt x="4375" y="1044"/>
                  </a:lnTo>
                  <a:lnTo>
                    <a:pt x="4405" y="986"/>
                  </a:lnTo>
                  <a:lnTo>
                    <a:pt x="4405" y="943"/>
                  </a:lnTo>
                  <a:lnTo>
                    <a:pt x="4405" y="872"/>
                  </a:lnTo>
                  <a:lnTo>
                    <a:pt x="4375" y="843"/>
                  </a:lnTo>
                  <a:lnTo>
                    <a:pt x="4390" y="829"/>
                  </a:lnTo>
                  <a:lnTo>
                    <a:pt x="4405" y="843"/>
                  </a:lnTo>
                  <a:lnTo>
                    <a:pt x="4512" y="800"/>
                  </a:lnTo>
                  <a:lnTo>
                    <a:pt x="4573" y="743"/>
                  </a:lnTo>
                  <a:lnTo>
                    <a:pt x="4527" y="743"/>
                  </a:lnTo>
                  <a:lnTo>
                    <a:pt x="4451" y="786"/>
                  </a:lnTo>
                  <a:lnTo>
                    <a:pt x="4405" y="800"/>
                  </a:lnTo>
                  <a:lnTo>
                    <a:pt x="4436" y="758"/>
                  </a:lnTo>
                  <a:lnTo>
                    <a:pt x="4466" y="743"/>
                  </a:lnTo>
                  <a:lnTo>
                    <a:pt x="4481" y="743"/>
                  </a:lnTo>
                  <a:lnTo>
                    <a:pt x="4542" y="715"/>
                  </a:lnTo>
                  <a:lnTo>
                    <a:pt x="4557" y="700"/>
                  </a:lnTo>
                  <a:lnTo>
                    <a:pt x="4573" y="700"/>
                  </a:lnTo>
                  <a:lnTo>
                    <a:pt x="4588" y="686"/>
                  </a:lnTo>
                  <a:lnTo>
                    <a:pt x="4603" y="657"/>
                  </a:lnTo>
                  <a:lnTo>
                    <a:pt x="4649" y="672"/>
                  </a:lnTo>
                  <a:lnTo>
                    <a:pt x="4664" y="657"/>
                  </a:lnTo>
                  <a:lnTo>
                    <a:pt x="4695" y="629"/>
                  </a:lnTo>
                  <a:lnTo>
                    <a:pt x="4664" y="600"/>
                  </a:lnTo>
                  <a:lnTo>
                    <a:pt x="4649" y="572"/>
                  </a:lnTo>
                  <a:lnTo>
                    <a:pt x="4634" y="572"/>
                  </a:lnTo>
                  <a:lnTo>
                    <a:pt x="4618" y="586"/>
                  </a:lnTo>
                  <a:lnTo>
                    <a:pt x="4634" y="615"/>
                  </a:lnTo>
                  <a:lnTo>
                    <a:pt x="4634" y="629"/>
                  </a:lnTo>
                  <a:lnTo>
                    <a:pt x="4618" y="629"/>
                  </a:lnTo>
                  <a:lnTo>
                    <a:pt x="4588" y="600"/>
                  </a:lnTo>
                  <a:lnTo>
                    <a:pt x="4573" y="600"/>
                  </a:lnTo>
                  <a:lnTo>
                    <a:pt x="4573" y="572"/>
                  </a:lnTo>
                  <a:lnTo>
                    <a:pt x="4588" y="557"/>
                  </a:lnTo>
                  <a:lnTo>
                    <a:pt x="4557" y="543"/>
                  </a:lnTo>
                  <a:lnTo>
                    <a:pt x="4588" y="500"/>
                  </a:lnTo>
                  <a:lnTo>
                    <a:pt x="4573" y="471"/>
                  </a:lnTo>
                  <a:lnTo>
                    <a:pt x="4603" y="457"/>
                  </a:lnTo>
                  <a:lnTo>
                    <a:pt x="4588" y="414"/>
                  </a:lnTo>
                  <a:lnTo>
                    <a:pt x="4603" y="400"/>
                  </a:lnTo>
                  <a:lnTo>
                    <a:pt x="4634" y="386"/>
                  </a:lnTo>
                  <a:lnTo>
                    <a:pt x="4664" y="386"/>
                  </a:lnTo>
                  <a:lnTo>
                    <a:pt x="4664" y="328"/>
                  </a:lnTo>
                  <a:lnTo>
                    <a:pt x="4695" y="328"/>
                  </a:lnTo>
                  <a:lnTo>
                    <a:pt x="4740" y="314"/>
                  </a:lnTo>
                  <a:lnTo>
                    <a:pt x="4756" y="286"/>
                  </a:lnTo>
                  <a:lnTo>
                    <a:pt x="4786" y="257"/>
                  </a:lnTo>
                  <a:lnTo>
                    <a:pt x="4786" y="228"/>
                  </a:lnTo>
                  <a:lnTo>
                    <a:pt x="4740" y="214"/>
                  </a:lnTo>
                  <a:lnTo>
                    <a:pt x="4710" y="185"/>
                  </a:lnTo>
                  <a:lnTo>
                    <a:pt x="4664" y="185"/>
                  </a:lnTo>
                  <a:lnTo>
                    <a:pt x="4649" y="143"/>
                  </a:lnTo>
                  <a:lnTo>
                    <a:pt x="4649" y="100"/>
                  </a:lnTo>
                  <a:lnTo>
                    <a:pt x="4634" y="71"/>
                  </a:lnTo>
                  <a:lnTo>
                    <a:pt x="4603" y="14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 txBox="1"/>
            <p:nvPr/>
          </p:nvSpPr>
          <p:spPr>
            <a:xfrm>
              <a:off x="287280" y="2460600"/>
              <a:ext cx="26496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 txBox="1"/>
            <p:nvPr/>
          </p:nvSpPr>
          <p:spPr>
            <a:xfrm>
              <a:off x="287280" y="3110040"/>
              <a:ext cx="264960" cy="12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PIC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 txBox="1"/>
            <p:nvPr/>
          </p:nvSpPr>
          <p:spPr>
            <a:xfrm>
              <a:off x="287280" y="2622600"/>
              <a:ext cx="26496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5" name=""/>
            <p:cNvGrpSpPr/>
            <p:nvPr/>
          </p:nvGrpSpPr>
          <p:grpSpPr>
            <a:xfrm>
              <a:off x="2106720" y="2622600"/>
              <a:ext cx="795240" cy="357120"/>
              <a:chOff x="2106720" y="2622600"/>
              <a:chExt cx="795240" cy="357120"/>
            </a:xfrm>
          </p:grpSpPr>
          <p:sp>
            <p:nvSpPr>
              <p:cNvPr id="1806" name=""/>
              <p:cNvSpPr txBox="1"/>
              <p:nvPr/>
            </p:nvSpPr>
            <p:spPr>
              <a:xfrm>
                <a:off x="2106720" y="2622600"/>
                <a:ext cx="795240" cy="357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00279f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ater GCCS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tions Cent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 txBox="1"/>
              <p:nvPr/>
            </p:nvSpPr>
            <p:spPr>
              <a:xfrm>
                <a:off x="2144880" y="2817720"/>
                <a:ext cx="33984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OPS/Inte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Support Cent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 txBox="1"/>
              <p:nvPr/>
            </p:nvSpPr>
            <p:spPr>
              <a:xfrm>
                <a:off x="2522520" y="2817720"/>
                <a:ext cx="34128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Theater Bca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Mgmt Cent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9" name=""/>
            <p:cNvSpPr/>
            <p:nvPr/>
          </p:nvSpPr>
          <p:spPr>
            <a:xfrm flipH="1">
              <a:off x="817560" y="3173400"/>
              <a:ext cx="909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2333520" y="3173400"/>
              <a:ext cx="1136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1" name="" descr=""/>
            <p:cNvPicPr/>
            <p:nvPr/>
          </p:nvPicPr>
          <p:blipFill>
            <a:blip r:embed="rId1"/>
            <a:stretch/>
          </p:blipFill>
          <p:spPr>
            <a:xfrm>
              <a:off x="2421000" y="1427040"/>
              <a:ext cx="290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2"/>
            <a:stretch/>
          </p:blipFill>
          <p:spPr>
            <a:xfrm>
              <a:off x="3292560" y="1427040"/>
              <a:ext cx="29052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 txBox="1"/>
            <p:nvPr/>
          </p:nvSpPr>
          <p:spPr>
            <a:xfrm>
              <a:off x="2279520" y="1395360"/>
              <a:ext cx="2919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 txBox="1"/>
            <p:nvPr/>
          </p:nvSpPr>
          <p:spPr>
            <a:xfrm>
              <a:off x="2955960" y="1395360"/>
              <a:ext cx="455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SAT DISN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IPRNET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2522520" y="297972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 txBox="1"/>
            <p:nvPr/>
          </p:nvSpPr>
          <p:spPr>
            <a:xfrm>
              <a:off x="1235160" y="1876320"/>
              <a:ext cx="41580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B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Broadca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ent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7" name="" descr=""/>
            <p:cNvPicPr/>
            <p:nvPr/>
          </p:nvPicPr>
          <p:blipFill>
            <a:blip r:embed="rId3"/>
            <a:stretch/>
          </p:blipFill>
          <p:spPr>
            <a:xfrm>
              <a:off x="1569960" y="1790640"/>
              <a:ext cx="123840" cy="15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8" name=""/>
            <p:cNvGrpSpPr/>
            <p:nvPr/>
          </p:nvGrpSpPr>
          <p:grpSpPr>
            <a:xfrm>
              <a:off x="1084320" y="2622600"/>
              <a:ext cx="795240" cy="399960"/>
              <a:chOff x="1084320" y="2622600"/>
              <a:chExt cx="795240" cy="399960"/>
            </a:xfrm>
          </p:grpSpPr>
          <p:sp>
            <p:nvSpPr>
              <p:cNvPr id="1819" name=""/>
              <p:cNvSpPr txBox="1"/>
              <p:nvPr/>
            </p:nvSpPr>
            <p:spPr>
              <a:xfrm>
                <a:off x="1084320" y="2622600"/>
                <a:ext cx="795240" cy="357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00279f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tional GCCS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tions Cent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66760" y="2800440"/>
                <a:ext cx="14436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1" name=""/>
              <p:cNvSpPr txBox="1"/>
              <p:nvPr/>
            </p:nvSpPr>
            <p:spPr>
              <a:xfrm>
                <a:off x="1273320" y="2809800"/>
                <a:ext cx="601560" cy="21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i="1" lang="en-US" sz="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CS Oper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i="1" lang="en-US" sz="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form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2" name="" descr=""/>
            <p:cNvPicPr/>
            <p:nvPr/>
          </p:nvPicPr>
          <p:blipFill>
            <a:blip r:embed="rId5"/>
            <a:stretch/>
          </p:blipFill>
          <p:spPr>
            <a:xfrm>
              <a:off x="144360" y="2475000"/>
              <a:ext cx="10620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6"/>
            <a:stretch/>
          </p:blipFill>
          <p:spPr>
            <a:xfrm>
              <a:off x="144360" y="3124080"/>
              <a:ext cx="10620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7"/>
            <a:stretch/>
          </p:blipFill>
          <p:spPr>
            <a:xfrm>
              <a:off x="144360" y="2637000"/>
              <a:ext cx="10620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 txBox="1"/>
            <p:nvPr/>
          </p:nvSpPr>
          <p:spPr>
            <a:xfrm>
              <a:off x="287280" y="2784600"/>
              <a:ext cx="26496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M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6" name="" descr=""/>
            <p:cNvPicPr/>
            <p:nvPr/>
          </p:nvPicPr>
          <p:blipFill>
            <a:blip r:embed="rId8"/>
            <a:stretch/>
          </p:blipFill>
          <p:spPr>
            <a:xfrm>
              <a:off x="144360" y="2800440"/>
              <a:ext cx="106200" cy="1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7" name=""/>
            <p:cNvSpPr/>
            <p:nvPr/>
          </p:nvSpPr>
          <p:spPr>
            <a:xfrm flipV="1">
              <a:off x="1727280" y="1584360"/>
              <a:ext cx="795240" cy="22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181240" y="1584360"/>
              <a:ext cx="417600" cy="90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 txBox="1"/>
            <p:nvPr/>
          </p:nvSpPr>
          <p:spPr>
            <a:xfrm>
              <a:off x="3090960" y="2427120"/>
              <a:ext cx="34128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C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 txBox="1"/>
            <p:nvPr/>
          </p:nvSpPr>
          <p:spPr>
            <a:xfrm>
              <a:off x="2583000" y="3108240"/>
              <a:ext cx="573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N (SIPRNET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 txBox="1"/>
            <p:nvPr/>
          </p:nvSpPr>
          <p:spPr>
            <a:xfrm>
              <a:off x="3129120" y="2460600"/>
              <a:ext cx="34128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C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 txBox="1"/>
            <p:nvPr/>
          </p:nvSpPr>
          <p:spPr>
            <a:xfrm>
              <a:off x="3621240" y="2427120"/>
              <a:ext cx="34128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C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 txBox="1"/>
            <p:nvPr/>
          </p:nvSpPr>
          <p:spPr>
            <a:xfrm>
              <a:off x="3659040" y="2460600"/>
              <a:ext cx="34128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C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 txBox="1"/>
            <p:nvPr/>
          </p:nvSpPr>
          <p:spPr>
            <a:xfrm>
              <a:off x="3697200" y="2492280"/>
              <a:ext cx="34128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ploye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Nod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3205080" y="1584360"/>
              <a:ext cx="265320" cy="839880"/>
            </a:xfrm>
            <a:prstGeom prst="line">
              <a:avLst/>
            </a:prstGeom>
            <a:ln w="12600">
              <a:solidFill>
                <a:srgbClr val="ff50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3279600" y="1584360"/>
              <a:ext cx="190800" cy="873000"/>
            </a:xfrm>
            <a:prstGeom prst="line">
              <a:avLst/>
            </a:prstGeom>
            <a:ln w="12600">
              <a:solidFill>
                <a:srgbClr val="ff50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3355920" y="1617840"/>
              <a:ext cx="114480" cy="871200"/>
            </a:xfrm>
            <a:prstGeom prst="line">
              <a:avLst/>
            </a:prstGeom>
            <a:ln w="12600">
              <a:solidFill>
                <a:srgbClr val="ff50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470400" y="1584360"/>
              <a:ext cx="415800" cy="839880"/>
            </a:xfrm>
            <a:prstGeom prst="line">
              <a:avLst/>
            </a:prstGeom>
            <a:ln w="12600">
              <a:solidFill>
                <a:srgbClr val="ff50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470400" y="1584360"/>
              <a:ext cx="339480" cy="873000"/>
            </a:xfrm>
            <a:prstGeom prst="line">
              <a:avLst/>
            </a:prstGeom>
            <a:ln w="12600">
              <a:solidFill>
                <a:srgbClr val="ff50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470400" y="1584360"/>
              <a:ext cx="264960" cy="904680"/>
            </a:xfrm>
            <a:prstGeom prst="line">
              <a:avLst/>
            </a:prstGeom>
            <a:ln w="12600">
              <a:solidFill>
                <a:srgbClr val="ff50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598840" y="1584360"/>
              <a:ext cx="1401840" cy="743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817560" y="1973160"/>
              <a:ext cx="417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817560" y="1450800"/>
              <a:ext cx="0" cy="1818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552600" y="252576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552600" y="317340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52600" y="268776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552600" y="284940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 txBox="1"/>
            <p:nvPr/>
          </p:nvSpPr>
          <p:spPr>
            <a:xfrm>
              <a:off x="561960" y="2297160"/>
              <a:ext cx="573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N (SIPRNET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817560" y="278460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1650960" y="2460600"/>
              <a:ext cx="76320" cy="65160"/>
              <a:chOff x="1650960" y="2460600"/>
              <a:chExt cx="76320" cy="65160"/>
            </a:xfrm>
          </p:grpSpPr>
          <p:sp>
            <p:nvSpPr>
              <p:cNvPr id="1851" name=""/>
              <p:cNvSpPr/>
              <p:nvPr/>
            </p:nvSpPr>
            <p:spPr>
              <a:xfrm>
                <a:off x="1650960" y="2460600"/>
                <a:ext cx="76320" cy="651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650960" y="2460600"/>
                <a:ext cx="7632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1650960" y="2460600"/>
                <a:ext cx="7632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V="1">
              <a:off x="363600" y="3238560"/>
              <a:ext cx="0" cy="257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552600" y="190800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552600" y="151920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552600" y="171468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 txBox="1"/>
            <p:nvPr/>
          </p:nvSpPr>
          <p:spPr>
            <a:xfrm>
              <a:off x="174600" y="1844640"/>
              <a:ext cx="378000" cy="12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O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 txBox="1"/>
            <p:nvPr/>
          </p:nvSpPr>
          <p:spPr>
            <a:xfrm>
              <a:off x="174600" y="1649520"/>
              <a:ext cx="37800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CO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 txBox="1"/>
            <p:nvPr/>
          </p:nvSpPr>
          <p:spPr>
            <a:xfrm>
              <a:off x="174600" y="1454040"/>
              <a:ext cx="37800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O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 txBox="1"/>
            <p:nvPr/>
          </p:nvSpPr>
          <p:spPr>
            <a:xfrm>
              <a:off x="212760" y="3465360"/>
              <a:ext cx="33984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G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 txBox="1"/>
            <p:nvPr/>
          </p:nvSpPr>
          <p:spPr>
            <a:xfrm>
              <a:off x="915840" y="3108240"/>
              <a:ext cx="573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N (SIPRNET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355920" y="2619360"/>
              <a:ext cx="0" cy="550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279600" y="2622600"/>
              <a:ext cx="0" cy="54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3317760" y="2622600"/>
              <a:ext cx="0" cy="54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 txBox="1"/>
            <p:nvPr/>
          </p:nvSpPr>
          <p:spPr>
            <a:xfrm>
              <a:off x="1522440" y="2324160"/>
              <a:ext cx="357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7" name="" descr=""/>
            <p:cNvPicPr/>
            <p:nvPr/>
          </p:nvPicPr>
          <p:blipFill>
            <a:blip r:embed="rId9"/>
            <a:stretch/>
          </p:blipFill>
          <p:spPr>
            <a:xfrm>
              <a:off x="1165320" y="2471760"/>
              <a:ext cx="77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" descr=""/>
            <p:cNvPicPr/>
            <p:nvPr/>
          </p:nvPicPr>
          <p:blipFill>
            <a:blip r:embed="rId10"/>
            <a:stretch/>
          </p:blipFill>
          <p:spPr>
            <a:xfrm>
              <a:off x="1355760" y="2471760"/>
              <a:ext cx="7776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9" name=""/>
            <p:cNvSpPr txBox="1"/>
            <p:nvPr/>
          </p:nvSpPr>
          <p:spPr>
            <a:xfrm>
              <a:off x="1084320" y="2460600"/>
              <a:ext cx="22716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N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 txBox="1"/>
            <p:nvPr/>
          </p:nvSpPr>
          <p:spPr>
            <a:xfrm>
              <a:off x="1273320" y="2460600"/>
              <a:ext cx="22716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W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 txBox="1"/>
            <p:nvPr/>
          </p:nvSpPr>
          <p:spPr>
            <a:xfrm>
              <a:off x="1519200" y="3141720"/>
              <a:ext cx="814320" cy="6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ONUS LINK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 txBox="1"/>
            <p:nvPr/>
          </p:nvSpPr>
          <p:spPr>
            <a:xfrm>
              <a:off x="1370160" y="2557440"/>
              <a:ext cx="2649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 • 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2522520" y="2427120"/>
              <a:ext cx="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 txBox="1"/>
            <p:nvPr/>
          </p:nvSpPr>
          <p:spPr>
            <a:xfrm>
              <a:off x="2333520" y="2363760"/>
              <a:ext cx="341280" cy="12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C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 txBox="1"/>
            <p:nvPr/>
          </p:nvSpPr>
          <p:spPr>
            <a:xfrm>
              <a:off x="3166920" y="2492280"/>
              <a:ext cx="34128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ar Echelon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Nod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432240" y="2585880"/>
              <a:ext cx="492120" cy="519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00680" y="2585880"/>
              <a:ext cx="0" cy="519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544920" y="3105000"/>
              <a:ext cx="909720" cy="422280"/>
            </a:xfrm>
            <a:prstGeom prst="round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 txBox="1"/>
            <p:nvPr/>
          </p:nvSpPr>
          <p:spPr>
            <a:xfrm>
              <a:off x="3697200" y="3397320"/>
              <a:ext cx="26496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VSA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 txBox="1"/>
            <p:nvPr/>
          </p:nvSpPr>
          <p:spPr>
            <a:xfrm>
              <a:off x="4038480" y="3397320"/>
              <a:ext cx="26496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B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 txBox="1"/>
            <p:nvPr/>
          </p:nvSpPr>
          <p:spPr>
            <a:xfrm>
              <a:off x="3583080" y="3138480"/>
              <a:ext cx="833400" cy="22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GC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621240" y="3203640"/>
              <a:ext cx="227160" cy="12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 txBox="1"/>
            <p:nvPr/>
          </p:nvSpPr>
          <p:spPr>
            <a:xfrm>
              <a:off x="3886200" y="3203640"/>
              <a:ext cx="227160" cy="12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GCCS-L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 txBox="1"/>
            <p:nvPr/>
          </p:nvSpPr>
          <p:spPr>
            <a:xfrm>
              <a:off x="309600" y="3270240"/>
              <a:ext cx="3682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r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 txBox="1"/>
            <p:nvPr/>
          </p:nvSpPr>
          <p:spPr>
            <a:xfrm>
              <a:off x="4151160" y="3203640"/>
              <a:ext cx="227160" cy="12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 txBox="1"/>
            <p:nvPr/>
          </p:nvSpPr>
          <p:spPr>
            <a:xfrm>
              <a:off x="1415880" y="2168640"/>
              <a:ext cx="5284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n Sourc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 txBox="1"/>
            <p:nvPr/>
          </p:nvSpPr>
          <p:spPr>
            <a:xfrm>
              <a:off x="3544920" y="3214800"/>
              <a:ext cx="385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•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ploye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•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NA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552600" y="210348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 txBox="1"/>
            <p:nvPr/>
          </p:nvSpPr>
          <p:spPr>
            <a:xfrm>
              <a:off x="174600" y="2038320"/>
              <a:ext cx="37800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CIN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 Operation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 txBox="1"/>
            <p:nvPr/>
          </p:nvSpPr>
          <p:spPr>
            <a:xfrm>
              <a:off x="287280" y="2946240"/>
              <a:ext cx="264960" cy="13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1" name="" descr=""/>
            <p:cNvPicPr/>
            <p:nvPr/>
          </p:nvPicPr>
          <p:blipFill>
            <a:blip r:embed="rId11"/>
            <a:stretch/>
          </p:blipFill>
          <p:spPr>
            <a:xfrm>
              <a:off x="144360" y="2962440"/>
              <a:ext cx="106200" cy="1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2" name=""/>
            <p:cNvSpPr/>
            <p:nvPr/>
          </p:nvSpPr>
          <p:spPr>
            <a:xfrm flipH="1">
              <a:off x="552600" y="3011400"/>
              <a:ext cx="26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3" name=""/>
            <p:cNvGrpSpPr/>
            <p:nvPr/>
          </p:nvGrpSpPr>
          <p:grpSpPr>
            <a:xfrm>
              <a:off x="1120680" y="2233440"/>
              <a:ext cx="1136880" cy="144720"/>
              <a:chOff x="1120680" y="2233440"/>
              <a:chExt cx="1136880" cy="144720"/>
            </a:xfrm>
          </p:grpSpPr>
          <p:sp>
            <p:nvSpPr>
              <p:cNvPr id="1894" name=""/>
              <p:cNvSpPr/>
              <p:nvPr/>
            </p:nvSpPr>
            <p:spPr>
              <a:xfrm>
                <a:off x="1184400" y="2378160"/>
                <a:ext cx="103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1225440" y="2305080"/>
                <a:ext cx="0" cy="7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120680" y="2233440"/>
                <a:ext cx="190440" cy="7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1459080" y="2305080"/>
                <a:ext cx="0" cy="7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373040" y="2233440"/>
                <a:ext cx="190440" cy="7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1920960" y="2305080"/>
                <a:ext cx="0" cy="7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816200" y="2233440"/>
                <a:ext cx="189000" cy="7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2152800" y="2305080"/>
                <a:ext cx="0" cy="7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68560" y="2233440"/>
                <a:ext cx="189000" cy="7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3" name=""/>
            <p:cNvSpPr/>
            <p:nvPr/>
          </p:nvSpPr>
          <p:spPr>
            <a:xfrm flipV="1">
              <a:off x="2787480" y="1581120"/>
              <a:ext cx="682920" cy="1038240"/>
            </a:xfrm>
            <a:prstGeom prst="line">
              <a:avLst/>
            </a:prstGeom>
            <a:ln w="12600">
              <a:solidFill>
                <a:srgbClr val="ff50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snia C2 Augment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343400" y="3352680"/>
            <a:ext cx="4038480" cy="1523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114800" y="3056040"/>
            <a:ext cx="4495680" cy="28954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3352680" y="37749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4876920" y="2827440"/>
            <a:ext cx="2743560" cy="2743560"/>
            <a:chOff x="4876920" y="2827440"/>
            <a:chExt cx="2743560" cy="2743560"/>
          </a:xfrm>
        </p:grpSpPr>
        <p:grpSp>
          <p:nvGrpSpPr>
            <p:cNvPr id="1909" name=""/>
            <p:cNvGrpSpPr/>
            <p:nvPr/>
          </p:nvGrpSpPr>
          <p:grpSpPr>
            <a:xfrm>
              <a:off x="4876920" y="2827440"/>
              <a:ext cx="849600" cy="1014840"/>
              <a:chOff x="4876920" y="2827440"/>
              <a:chExt cx="849600" cy="1014840"/>
            </a:xfrm>
          </p:grpSpPr>
          <p:sp>
            <p:nvSpPr>
              <p:cNvPr id="1910" name=""/>
              <p:cNvSpPr/>
              <p:nvPr/>
            </p:nvSpPr>
            <p:spPr>
              <a:xfrm>
                <a:off x="5137200" y="2827440"/>
                <a:ext cx="589320" cy="1014840"/>
              </a:xfrm>
              <a:custGeom>
                <a:avLst/>
                <a:gdLst/>
                <a:ahLst/>
                <a:rect l="0" t="0" r="r" b="b"/>
                <a:pathLst>
                  <a:path fill="none" w="1637" h="2819">
                    <a:moveTo>
                      <a:pt x="917" y="40"/>
                    </a:moveTo>
                    <a:lnTo>
                      <a:pt x="884" y="80"/>
                    </a:lnTo>
                    <a:lnTo>
                      <a:pt x="819" y="120"/>
                    </a:lnTo>
                    <a:lnTo>
                      <a:pt x="819" y="241"/>
                    </a:lnTo>
                    <a:lnTo>
                      <a:pt x="752" y="281"/>
                    </a:lnTo>
                    <a:lnTo>
                      <a:pt x="719" y="281"/>
                    </a:lnTo>
                    <a:lnTo>
                      <a:pt x="687" y="281"/>
                    </a:lnTo>
                    <a:lnTo>
                      <a:pt x="687" y="362"/>
                    </a:lnTo>
                    <a:lnTo>
                      <a:pt x="654" y="483"/>
                    </a:lnTo>
                    <a:lnTo>
                      <a:pt x="654" y="523"/>
                    </a:lnTo>
                    <a:lnTo>
                      <a:pt x="588" y="563"/>
                    </a:lnTo>
                    <a:lnTo>
                      <a:pt x="588" y="603"/>
                    </a:lnTo>
                    <a:lnTo>
                      <a:pt x="588" y="684"/>
                    </a:lnTo>
                    <a:lnTo>
                      <a:pt x="556" y="765"/>
                    </a:lnTo>
                    <a:lnTo>
                      <a:pt x="523" y="926"/>
                    </a:lnTo>
                    <a:lnTo>
                      <a:pt x="490" y="926"/>
                    </a:lnTo>
                    <a:lnTo>
                      <a:pt x="458" y="1047"/>
                    </a:lnTo>
                    <a:lnTo>
                      <a:pt x="490" y="1047"/>
                    </a:lnTo>
                    <a:lnTo>
                      <a:pt x="523" y="1007"/>
                    </a:lnTo>
                    <a:lnTo>
                      <a:pt x="588" y="886"/>
                    </a:lnTo>
                    <a:lnTo>
                      <a:pt x="654" y="886"/>
                    </a:lnTo>
                    <a:lnTo>
                      <a:pt x="719" y="926"/>
                    </a:lnTo>
                    <a:lnTo>
                      <a:pt x="785" y="926"/>
                    </a:lnTo>
                    <a:lnTo>
                      <a:pt x="819" y="967"/>
                    </a:lnTo>
                    <a:lnTo>
                      <a:pt x="851" y="1047"/>
                    </a:lnTo>
                    <a:lnTo>
                      <a:pt x="819" y="1128"/>
                    </a:lnTo>
                    <a:lnTo>
                      <a:pt x="819" y="1208"/>
                    </a:lnTo>
                    <a:lnTo>
                      <a:pt x="851" y="1248"/>
                    </a:lnTo>
                    <a:lnTo>
                      <a:pt x="785" y="1329"/>
                    </a:lnTo>
                    <a:lnTo>
                      <a:pt x="785" y="1409"/>
                    </a:lnTo>
                    <a:lnTo>
                      <a:pt x="819" y="1490"/>
                    </a:lnTo>
                    <a:lnTo>
                      <a:pt x="884" y="1530"/>
                    </a:lnTo>
                    <a:lnTo>
                      <a:pt x="819" y="1570"/>
                    </a:lnTo>
                    <a:lnTo>
                      <a:pt x="819" y="1691"/>
                    </a:lnTo>
                    <a:lnTo>
                      <a:pt x="752" y="1731"/>
                    </a:lnTo>
                    <a:lnTo>
                      <a:pt x="687" y="1812"/>
                    </a:lnTo>
                    <a:lnTo>
                      <a:pt x="588" y="1812"/>
                    </a:lnTo>
                    <a:lnTo>
                      <a:pt x="490" y="1812"/>
                    </a:lnTo>
                    <a:lnTo>
                      <a:pt x="490" y="2013"/>
                    </a:lnTo>
                    <a:lnTo>
                      <a:pt x="458" y="2135"/>
                    </a:lnTo>
                    <a:lnTo>
                      <a:pt x="392" y="2135"/>
                    </a:lnTo>
                    <a:lnTo>
                      <a:pt x="294" y="2135"/>
                    </a:lnTo>
                    <a:lnTo>
                      <a:pt x="229" y="2215"/>
                    </a:lnTo>
                    <a:lnTo>
                      <a:pt x="229" y="2256"/>
                    </a:lnTo>
                    <a:lnTo>
                      <a:pt x="327" y="2256"/>
                    </a:lnTo>
                    <a:lnTo>
                      <a:pt x="392" y="2256"/>
                    </a:lnTo>
                    <a:lnTo>
                      <a:pt x="392" y="2296"/>
                    </a:lnTo>
                    <a:lnTo>
                      <a:pt x="490" y="2296"/>
                    </a:lnTo>
                    <a:lnTo>
                      <a:pt x="490" y="2377"/>
                    </a:lnTo>
                    <a:lnTo>
                      <a:pt x="458" y="2417"/>
                    </a:lnTo>
                    <a:lnTo>
                      <a:pt x="392" y="2457"/>
                    </a:lnTo>
                    <a:lnTo>
                      <a:pt x="327" y="2497"/>
                    </a:lnTo>
                    <a:lnTo>
                      <a:pt x="261" y="2538"/>
                    </a:lnTo>
                    <a:lnTo>
                      <a:pt x="163" y="2699"/>
                    </a:lnTo>
                    <a:lnTo>
                      <a:pt x="0" y="2779"/>
                    </a:lnTo>
                    <a:lnTo>
                      <a:pt x="32" y="2819"/>
                    </a:lnTo>
                    <a:lnTo>
                      <a:pt x="294" y="2699"/>
                    </a:lnTo>
                    <a:lnTo>
                      <a:pt x="392" y="2739"/>
                    </a:lnTo>
                    <a:lnTo>
                      <a:pt x="490" y="2699"/>
                    </a:lnTo>
                    <a:lnTo>
                      <a:pt x="556" y="2658"/>
                    </a:lnTo>
                    <a:lnTo>
                      <a:pt x="719" y="2658"/>
                    </a:lnTo>
                    <a:lnTo>
                      <a:pt x="851" y="2658"/>
                    </a:lnTo>
                    <a:lnTo>
                      <a:pt x="1178" y="2658"/>
                    </a:lnTo>
                    <a:lnTo>
                      <a:pt x="1211" y="2699"/>
                    </a:lnTo>
                    <a:lnTo>
                      <a:pt x="1375" y="2658"/>
                    </a:lnTo>
                    <a:lnTo>
                      <a:pt x="1473" y="2578"/>
                    </a:lnTo>
                    <a:lnTo>
                      <a:pt x="1473" y="2538"/>
                    </a:lnTo>
                    <a:lnTo>
                      <a:pt x="1407" y="2457"/>
                    </a:lnTo>
                    <a:lnTo>
                      <a:pt x="1342" y="2457"/>
                    </a:lnTo>
                    <a:lnTo>
                      <a:pt x="1506" y="2336"/>
                    </a:lnTo>
                    <a:lnTo>
                      <a:pt x="1571" y="2256"/>
                    </a:lnTo>
                    <a:lnTo>
                      <a:pt x="1637" y="1973"/>
                    </a:lnTo>
                    <a:lnTo>
                      <a:pt x="1604" y="1933"/>
                    </a:lnTo>
                    <a:lnTo>
                      <a:pt x="1473" y="1973"/>
                    </a:lnTo>
                    <a:lnTo>
                      <a:pt x="1407" y="2013"/>
                    </a:lnTo>
                    <a:lnTo>
                      <a:pt x="1342" y="1933"/>
                    </a:lnTo>
                    <a:lnTo>
                      <a:pt x="1407" y="1892"/>
                    </a:lnTo>
                    <a:lnTo>
                      <a:pt x="1407" y="1812"/>
                    </a:lnTo>
                    <a:lnTo>
                      <a:pt x="1375" y="1691"/>
                    </a:lnTo>
                    <a:lnTo>
                      <a:pt x="1375" y="1611"/>
                    </a:lnTo>
                    <a:lnTo>
                      <a:pt x="1375" y="1490"/>
                    </a:lnTo>
                    <a:lnTo>
                      <a:pt x="1277" y="1369"/>
                    </a:lnTo>
                    <a:lnTo>
                      <a:pt x="1309" y="1329"/>
                    </a:lnTo>
                    <a:lnTo>
                      <a:pt x="1244" y="1208"/>
                    </a:lnTo>
                    <a:lnTo>
                      <a:pt x="1211" y="1168"/>
                    </a:lnTo>
                    <a:lnTo>
                      <a:pt x="1211" y="1047"/>
                    </a:lnTo>
                    <a:lnTo>
                      <a:pt x="1113" y="1047"/>
                    </a:lnTo>
                    <a:lnTo>
                      <a:pt x="1113" y="926"/>
                    </a:lnTo>
                    <a:lnTo>
                      <a:pt x="1048" y="886"/>
                    </a:lnTo>
                    <a:lnTo>
                      <a:pt x="982" y="886"/>
                    </a:lnTo>
                    <a:lnTo>
                      <a:pt x="1048" y="846"/>
                    </a:lnTo>
                    <a:lnTo>
                      <a:pt x="1113" y="846"/>
                    </a:lnTo>
                    <a:lnTo>
                      <a:pt x="1080" y="765"/>
                    </a:lnTo>
                    <a:lnTo>
                      <a:pt x="1146" y="765"/>
                    </a:lnTo>
                    <a:lnTo>
                      <a:pt x="1211" y="644"/>
                    </a:lnTo>
                    <a:lnTo>
                      <a:pt x="1277" y="644"/>
                    </a:lnTo>
                    <a:lnTo>
                      <a:pt x="1309" y="563"/>
                    </a:lnTo>
                    <a:lnTo>
                      <a:pt x="1375" y="402"/>
                    </a:lnTo>
                    <a:lnTo>
                      <a:pt x="1146" y="402"/>
                    </a:lnTo>
                    <a:lnTo>
                      <a:pt x="1080" y="362"/>
                    </a:lnTo>
                    <a:lnTo>
                      <a:pt x="1015" y="362"/>
                    </a:lnTo>
                    <a:lnTo>
                      <a:pt x="949" y="402"/>
                    </a:lnTo>
                    <a:lnTo>
                      <a:pt x="949" y="322"/>
                    </a:lnTo>
                    <a:lnTo>
                      <a:pt x="1048" y="281"/>
                    </a:lnTo>
                    <a:lnTo>
                      <a:pt x="1080" y="241"/>
                    </a:lnTo>
                    <a:lnTo>
                      <a:pt x="1178" y="161"/>
                    </a:lnTo>
                    <a:lnTo>
                      <a:pt x="1211" y="80"/>
                    </a:lnTo>
                    <a:lnTo>
                      <a:pt x="1146" y="0"/>
                    </a:lnTo>
                    <a:lnTo>
                      <a:pt x="949" y="80"/>
                    </a:lnTo>
                    <a:lnTo>
                      <a:pt x="917" y="4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876920" y="3205080"/>
                <a:ext cx="341640" cy="421200"/>
              </a:xfrm>
              <a:custGeom>
                <a:avLst/>
                <a:gdLst/>
                <a:ahLst/>
                <a:rect l="0" t="0" r="r" b="b"/>
                <a:pathLst>
                  <a:path fill="none" w="949" h="1170">
                    <a:moveTo>
                      <a:pt x="687" y="0"/>
                    </a:moveTo>
                    <a:lnTo>
                      <a:pt x="785" y="0"/>
                    </a:lnTo>
                    <a:lnTo>
                      <a:pt x="818" y="40"/>
                    </a:lnTo>
                    <a:lnTo>
                      <a:pt x="851" y="40"/>
                    </a:lnTo>
                    <a:lnTo>
                      <a:pt x="818" y="80"/>
                    </a:lnTo>
                    <a:lnTo>
                      <a:pt x="785" y="80"/>
                    </a:lnTo>
                    <a:lnTo>
                      <a:pt x="720" y="161"/>
                    </a:lnTo>
                    <a:lnTo>
                      <a:pt x="654" y="241"/>
                    </a:lnTo>
                    <a:lnTo>
                      <a:pt x="687" y="282"/>
                    </a:lnTo>
                    <a:lnTo>
                      <a:pt x="720" y="323"/>
                    </a:lnTo>
                    <a:lnTo>
                      <a:pt x="752" y="323"/>
                    </a:lnTo>
                    <a:lnTo>
                      <a:pt x="883" y="241"/>
                    </a:lnTo>
                    <a:lnTo>
                      <a:pt x="916" y="363"/>
                    </a:lnTo>
                    <a:lnTo>
                      <a:pt x="949" y="444"/>
                    </a:lnTo>
                    <a:lnTo>
                      <a:pt x="916" y="484"/>
                    </a:lnTo>
                    <a:lnTo>
                      <a:pt x="916" y="645"/>
                    </a:lnTo>
                    <a:lnTo>
                      <a:pt x="883" y="806"/>
                    </a:lnTo>
                    <a:lnTo>
                      <a:pt x="752" y="1049"/>
                    </a:lnTo>
                    <a:lnTo>
                      <a:pt x="491" y="1049"/>
                    </a:lnTo>
                    <a:lnTo>
                      <a:pt x="457" y="1089"/>
                    </a:lnTo>
                    <a:lnTo>
                      <a:pt x="392" y="1089"/>
                    </a:lnTo>
                    <a:lnTo>
                      <a:pt x="359" y="1009"/>
                    </a:lnTo>
                    <a:lnTo>
                      <a:pt x="326" y="1130"/>
                    </a:lnTo>
                    <a:lnTo>
                      <a:pt x="261" y="1130"/>
                    </a:lnTo>
                    <a:lnTo>
                      <a:pt x="228" y="1170"/>
                    </a:lnTo>
                    <a:lnTo>
                      <a:pt x="65" y="1170"/>
                    </a:lnTo>
                    <a:lnTo>
                      <a:pt x="0" y="1049"/>
                    </a:lnTo>
                    <a:lnTo>
                      <a:pt x="32" y="969"/>
                    </a:lnTo>
                    <a:lnTo>
                      <a:pt x="0" y="928"/>
                    </a:lnTo>
                    <a:lnTo>
                      <a:pt x="65" y="888"/>
                    </a:lnTo>
                    <a:lnTo>
                      <a:pt x="163" y="847"/>
                    </a:lnTo>
                    <a:lnTo>
                      <a:pt x="163" y="766"/>
                    </a:lnTo>
                    <a:lnTo>
                      <a:pt x="228" y="766"/>
                    </a:lnTo>
                    <a:lnTo>
                      <a:pt x="294" y="565"/>
                    </a:lnTo>
                    <a:lnTo>
                      <a:pt x="228" y="524"/>
                    </a:lnTo>
                    <a:lnTo>
                      <a:pt x="196" y="444"/>
                    </a:lnTo>
                    <a:lnTo>
                      <a:pt x="261" y="444"/>
                    </a:lnTo>
                    <a:lnTo>
                      <a:pt x="261" y="403"/>
                    </a:lnTo>
                    <a:lnTo>
                      <a:pt x="294" y="201"/>
                    </a:lnTo>
                    <a:lnTo>
                      <a:pt x="359" y="241"/>
                    </a:lnTo>
                    <a:lnTo>
                      <a:pt x="392" y="282"/>
                    </a:lnTo>
                    <a:lnTo>
                      <a:pt x="457" y="282"/>
                    </a:lnTo>
                    <a:lnTo>
                      <a:pt x="491" y="282"/>
                    </a:lnTo>
                    <a:lnTo>
                      <a:pt x="556" y="282"/>
                    </a:lnTo>
                    <a:lnTo>
                      <a:pt x="556" y="241"/>
                    </a:lnTo>
                    <a:lnTo>
                      <a:pt x="622" y="161"/>
                    </a:lnTo>
                    <a:lnTo>
                      <a:pt x="556" y="120"/>
                    </a:lnTo>
                    <a:lnTo>
                      <a:pt x="589" y="80"/>
                    </a:lnTo>
                    <a:lnTo>
                      <a:pt x="654" y="80"/>
                    </a:lnTo>
                    <a:lnTo>
                      <a:pt x="687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111640" y="3219480"/>
                <a:ext cx="165600" cy="130680"/>
              </a:xfrm>
              <a:custGeom>
                <a:avLst/>
                <a:gdLst/>
                <a:ahLst/>
                <a:rect l="0" t="0" r="r" b="b"/>
                <a:pathLst>
                  <a:path fill="none" w="460" h="363">
                    <a:moveTo>
                      <a:pt x="197" y="0"/>
                    </a:moveTo>
                    <a:lnTo>
                      <a:pt x="263" y="0"/>
                    </a:lnTo>
                    <a:lnTo>
                      <a:pt x="263" y="40"/>
                    </a:lnTo>
                    <a:lnTo>
                      <a:pt x="295" y="0"/>
                    </a:lnTo>
                    <a:lnTo>
                      <a:pt x="395" y="40"/>
                    </a:lnTo>
                    <a:lnTo>
                      <a:pt x="427" y="0"/>
                    </a:lnTo>
                    <a:lnTo>
                      <a:pt x="427" y="80"/>
                    </a:lnTo>
                    <a:lnTo>
                      <a:pt x="460" y="161"/>
                    </a:lnTo>
                    <a:lnTo>
                      <a:pt x="460" y="242"/>
                    </a:lnTo>
                    <a:lnTo>
                      <a:pt x="395" y="363"/>
                    </a:lnTo>
                    <a:lnTo>
                      <a:pt x="362" y="363"/>
                    </a:lnTo>
                    <a:lnTo>
                      <a:pt x="328" y="363"/>
                    </a:lnTo>
                    <a:lnTo>
                      <a:pt x="295" y="363"/>
                    </a:lnTo>
                    <a:lnTo>
                      <a:pt x="263" y="363"/>
                    </a:lnTo>
                    <a:lnTo>
                      <a:pt x="230" y="242"/>
                    </a:lnTo>
                    <a:lnTo>
                      <a:pt x="164" y="283"/>
                    </a:lnTo>
                    <a:lnTo>
                      <a:pt x="98" y="283"/>
                    </a:lnTo>
                    <a:lnTo>
                      <a:pt x="65" y="283"/>
                    </a:lnTo>
                    <a:lnTo>
                      <a:pt x="32" y="242"/>
                    </a:lnTo>
                    <a:lnTo>
                      <a:pt x="0" y="201"/>
                    </a:lnTo>
                    <a:lnTo>
                      <a:pt x="65" y="80"/>
                    </a:lnTo>
                    <a:lnTo>
                      <a:pt x="132" y="40"/>
                    </a:lnTo>
                    <a:lnTo>
                      <a:pt x="164" y="40"/>
                    </a:lnTo>
                    <a:lnTo>
                      <a:pt x="197" y="0"/>
                    </a:lnTo>
                  </a:path>
                </a:pathLst>
              </a:custGeom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3" name=""/>
            <p:cNvSpPr/>
            <p:nvPr/>
          </p:nvSpPr>
          <p:spPr>
            <a:xfrm>
              <a:off x="6526080" y="4336920"/>
              <a:ext cx="787680" cy="697320"/>
            </a:xfrm>
            <a:custGeom>
              <a:avLst/>
              <a:gdLst/>
              <a:ahLst/>
              <a:rect l="0" t="0" r="r" b="b"/>
              <a:pathLst>
                <a:path fill="none" w="2188" h="1937">
                  <a:moveTo>
                    <a:pt x="0" y="0"/>
                  </a:moveTo>
                  <a:lnTo>
                    <a:pt x="130" y="0"/>
                  </a:lnTo>
                  <a:lnTo>
                    <a:pt x="261" y="40"/>
                  </a:lnTo>
                  <a:lnTo>
                    <a:pt x="326" y="0"/>
                  </a:lnTo>
                  <a:lnTo>
                    <a:pt x="391" y="0"/>
                  </a:lnTo>
                  <a:lnTo>
                    <a:pt x="457" y="0"/>
                  </a:lnTo>
                  <a:lnTo>
                    <a:pt x="587" y="0"/>
                  </a:lnTo>
                  <a:lnTo>
                    <a:pt x="620" y="40"/>
                  </a:lnTo>
                  <a:lnTo>
                    <a:pt x="718" y="120"/>
                  </a:lnTo>
                  <a:lnTo>
                    <a:pt x="881" y="241"/>
                  </a:lnTo>
                  <a:lnTo>
                    <a:pt x="1011" y="282"/>
                  </a:lnTo>
                  <a:lnTo>
                    <a:pt x="1241" y="201"/>
                  </a:lnTo>
                  <a:lnTo>
                    <a:pt x="1404" y="120"/>
                  </a:lnTo>
                  <a:lnTo>
                    <a:pt x="1535" y="201"/>
                  </a:lnTo>
                  <a:lnTo>
                    <a:pt x="1633" y="403"/>
                  </a:lnTo>
                  <a:lnTo>
                    <a:pt x="1731" y="443"/>
                  </a:lnTo>
                  <a:lnTo>
                    <a:pt x="1796" y="646"/>
                  </a:lnTo>
                  <a:lnTo>
                    <a:pt x="1992" y="646"/>
                  </a:lnTo>
                  <a:lnTo>
                    <a:pt x="2057" y="807"/>
                  </a:lnTo>
                  <a:lnTo>
                    <a:pt x="2024" y="888"/>
                  </a:lnTo>
                  <a:lnTo>
                    <a:pt x="2090" y="968"/>
                  </a:lnTo>
                  <a:lnTo>
                    <a:pt x="2122" y="1130"/>
                  </a:lnTo>
                  <a:lnTo>
                    <a:pt x="2090" y="1291"/>
                  </a:lnTo>
                  <a:lnTo>
                    <a:pt x="2090" y="1452"/>
                  </a:lnTo>
                  <a:lnTo>
                    <a:pt x="2188" y="1494"/>
                  </a:lnTo>
                  <a:lnTo>
                    <a:pt x="2188" y="1615"/>
                  </a:lnTo>
                  <a:lnTo>
                    <a:pt x="2155" y="1695"/>
                  </a:lnTo>
                  <a:lnTo>
                    <a:pt x="2122" y="1816"/>
                  </a:lnTo>
                  <a:lnTo>
                    <a:pt x="1959" y="1816"/>
                  </a:lnTo>
                  <a:lnTo>
                    <a:pt x="1959" y="1897"/>
                  </a:lnTo>
                  <a:lnTo>
                    <a:pt x="1829" y="1937"/>
                  </a:lnTo>
                  <a:lnTo>
                    <a:pt x="1665" y="1937"/>
                  </a:lnTo>
                  <a:lnTo>
                    <a:pt x="1600" y="1736"/>
                  </a:lnTo>
                  <a:lnTo>
                    <a:pt x="1600" y="1452"/>
                  </a:lnTo>
                  <a:lnTo>
                    <a:pt x="1567" y="1452"/>
                  </a:lnTo>
                  <a:lnTo>
                    <a:pt x="1437" y="1372"/>
                  </a:lnTo>
                  <a:lnTo>
                    <a:pt x="1372" y="1291"/>
                  </a:lnTo>
                  <a:lnTo>
                    <a:pt x="1306" y="1291"/>
                  </a:lnTo>
                  <a:lnTo>
                    <a:pt x="1306" y="1452"/>
                  </a:lnTo>
                  <a:lnTo>
                    <a:pt x="1306" y="1574"/>
                  </a:lnTo>
                  <a:lnTo>
                    <a:pt x="1208" y="1534"/>
                  </a:lnTo>
                  <a:lnTo>
                    <a:pt x="1077" y="1452"/>
                  </a:lnTo>
                  <a:lnTo>
                    <a:pt x="1011" y="1372"/>
                  </a:lnTo>
                  <a:lnTo>
                    <a:pt x="914" y="1331"/>
                  </a:lnTo>
                  <a:lnTo>
                    <a:pt x="816" y="1210"/>
                  </a:lnTo>
                  <a:lnTo>
                    <a:pt x="685" y="1130"/>
                  </a:lnTo>
                  <a:lnTo>
                    <a:pt x="554" y="1089"/>
                  </a:lnTo>
                  <a:lnTo>
                    <a:pt x="489" y="1049"/>
                  </a:lnTo>
                  <a:lnTo>
                    <a:pt x="424" y="968"/>
                  </a:lnTo>
                  <a:lnTo>
                    <a:pt x="359" y="847"/>
                  </a:lnTo>
                  <a:lnTo>
                    <a:pt x="424" y="807"/>
                  </a:lnTo>
                  <a:lnTo>
                    <a:pt x="326" y="726"/>
                  </a:lnTo>
                  <a:lnTo>
                    <a:pt x="293" y="605"/>
                  </a:lnTo>
                  <a:lnTo>
                    <a:pt x="228" y="483"/>
                  </a:lnTo>
                  <a:lnTo>
                    <a:pt x="130" y="483"/>
                  </a:lnTo>
                  <a:lnTo>
                    <a:pt x="130" y="565"/>
                  </a:lnTo>
                  <a:lnTo>
                    <a:pt x="65" y="605"/>
                  </a:lnTo>
                  <a:lnTo>
                    <a:pt x="0" y="565"/>
                  </a:lnTo>
                  <a:lnTo>
                    <a:pt x="0" y="483"/>
                  </a:lnTo>
                  <a:lnTo>
                    <a:pt x="32" y="403"/>
                  </a:lnTo>
                  <a:lnTo>
                    <a:pt x="32" y="282"/>
                  </a:lnTo>
                  <a:lnTo>
                    <a:pt x="65" y="282"/>
                  </a:lnTo>
                  <a:lnTo>
                    <a:pt x="0" y="12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48560" y="4119480"/>
              <a:ext cx="530640" cy="321120"/>
            </a:xfrm>
            <a:custGeom>
              <a:avLst/>
              <a:gdLst/>
              <a:ahLst/>
              <a:rect l="0" t="0" r="r" b="b"/>
              <a:pathLst>
                <a:path fill="none" w="1474" h="892">
                  <a:moveTo>
                    <a:pt x="1376" y="80"/>
                  </a:moveTo>
                  <a:lnTo>
                    <a:pt x="1278" y="80"/>
                  </a:lnTo>
                  <a:lnTo>
                    <a:pt x="1245" y="40"/>
                  </a:lnTo>
                  <a:lnTo>
                    <a:pt x="1081" y="40"/>
                  </a:lnTo>
                  <a:lnTo>
                    <a:pt x="917" y="0"/>
                  </a:lnTo>
                  <a:lnTo>
                    <a:pt x="786" y="80"/>
                  </a:lnTo>
                  <a:lnTo>
                    <a:pt x="655" y="80"/>
                  </a:lnTo>
                  <a:lnTo>
                    <a:pt x="459" y="243"/>
                  </a:lnTo>
                  <a:lnTo>
                    <a:pt x="360" y="243"/>
                  </a:lnTo>
                  <a:lnTo>
                    <a:pt x="196" y="161"/>
                  </a:lnTo>
                  <a:lnTo>
                    <a:pt x="163" y="161"/>
                  </a:lnTo>
                  <a:lnTo>
                    <a:pt x="130" y="284"/>
                  </a:lnTo>
                  <a:lnTo>
                    <a:pt x="65" y="284"/>
                  </a:lnTo>
                  <a:lnTo>
                    <a:pt x="32" y="446"/>
                  </a:lnTo>
                  <a:lnTo>
                    <a:pt x="0" y="527"/>
                  </a:lnTo>
                  <a:lnTo>
                    <a:pt x="65" y="730"/>
                  </a:lnTo>
                  <a:lnTo>
                    <a:pt x="261" y="852"/>
                  </a:lnTo>
                  <a:lnTo>
                    <a:pt x="393" y="892"/>
                  </a:lnTo>
                  <a:lnTo>
                    <a:pt x="622" y="811"/>
                  </a:lnTo>
                  <a:lnTo>
                    <a:pt x="786" y="771"/>
                  </a:lnTo>
                  <a:lnTo>
                    <a:pt x="917" y="811"/>
                  </a:lnTo>
                  <a:lnTo>
                    <a:pt x="1180" y="648"/>
                  </a:lnTo>
                  <a:lnTo>
                    <a:pt x="1311" y="324"/>
                  </a:lnTo>
                  <a:lnTo>
                    <a:pt x="1376" y="284"/>
                  </a:lnTo>
                  <a:lnTo>
                    <a:pt x="1474" y="202"/>
                  </a:lnTo>
                  <a:lnTo>
                    <a:pt x="1376" y="8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078680" y="4903920"/>
              <a:ext cx="541800" cy="667080"/>
            </a:xfrm>
            <a:custGeom>
              <a:avLst/>
              <a:gdLst/>
              <a:ahLst/>
              <a:rect l="0" t="0" r="r" b="b"/>
              <a:pathLst>
                <a:path fill="none" w="1505" h="1853">
                  <a:moveTo>
                    <a:pt x="1473" y="0"/>
                  </a:moveTo>
                  <a:lnTo>
                    <a:pt x="1407" y="40"/>
                  </a:lnTo>
                  <a:lnTo>
                    <a:pt x="1309" y="241"/>
                  </a:lnTo>
                  <a:lnTo>
                    <a:pt x="1014" y="241"/>
                  </a:lnTo>
                  <a:lnTo>
                    <a:pt x="981" y="80"/>
                  </a:lnTo>
                  <a:lnTo>
                    <a:pt x="883" y="201"/>
                  </a:lnTo>
                  <a:lnTo>
                    <a:pt x="818" y="201"/>
                  </a:lnTo>
                  <a:lnTo>
                    <a:pt x="687" y="120"/>
                  </a:lnTo>
                  <a:lnTo>
                    <a:pt x="622" y="120"/>
                  </a:lnTo>
                  <a:lnTo>
                    <a:pt x="589" y="241"/>
                  </a:lnTo>
                  <a:lnTo>
                    <a:pt x="425" y="241"/>
                  </a:lnTo>
                  <a:lnTo>
                    <a:pt x="425" y="322"/>
                  </a:lnTo>
                  <a:lnTo>
                    <a:pt x="261" y="362"/>
                  </a:lnTo>
                  <a:lnTo>
                    <a:pt x="130" y="322"/>
                  </a:lnTo>
                  <a:lnTo>
                    <a:pt x="196" y="483"/>
                  </a:lnTo>
                  <a:lnTo>
                    <a:pt x="98" y="644"/>
                  </a:lnTo>
                  <a:lnTo>
                    <a:pt x="0" y="603"/>
                  </a:lnTo>
                  <a:lnTo>
                    <a:pt x="32" y="724"/>
                  </a:lnTo>
                  <a:lnTo>
                    <a:pt x="0" y="805"/>
                  </a:lnTo>
                  <a:lnTo>
                    <a:pt x="0" y="885"/>
                  </a:lnTo>
                  <a:lnTo>
                    <a:pt x="65" y="926"/>
                  </a:lnTo>
                  <a:lnTo>
                    <a:pt x="98" y="967"/>
                  </a:lnTo>
                  <a:lnTo>
                    <a:pt x="163" y="967"/>
                  </a:lnTo>
                  <a:lnTo>
                    <a:pt x="130" y="1047"/>
                  </a:lnTo>
                  <a:lnTo>
                    <a:pt x="163" y="1128"/>
                  </a:lnTo>
                  <a:lnTo>
                    <a:pt x="228" y="1128"/>
                  </a:lnTo>
                  <a:lnTo>
                    <a:pt x="326" y="1128"/>
                  </a:lnTo>
                  <a:lnTo>
                    <a:pt x="425" y="1168"/>
                  </a:lnTo>
                  <a:lnTo>
                    <a:pt x="589" y="1168"/>
                  </a:lnTo>
                  <a:lnTo>
                    <a:pt x="687" y="1289"/>
                  </a:lnTo>
                  <a:lnTo>
                    <a:pt x="654" y="1329"/>
                  </a:lnTo>
                  <a:lnTo>
                    <a:pt x="556" y="1329"/>
                  </a:lnTo>
                  <a:lnTo>
                    <a:pt x="458" y="1289"/>
                  </a:lnTo>
                  <a:lnTo>
                    <a:pt x="425" y="1249"/>
                  </a:lnTo>
                  <a:lnTo>
                    <a:pt x="359" y="1289"/>
                  </a:lnTo>
                  <a:lnTo>
                    <a:pt x="294" y="1289"/>
                  </a:lnTo>
                  <a:lnTo>
                    <a:pt x="261" y="1329"/>
                  </a:lnTo>
                  <a:lnTo>
                    <a:pt x="261" y="1410"/>
                  </a:lnTo>
                  <a:lnTo>
                    <a:pt x="326" y="1450"/>
                  </a:lnTo>
                  <a:lnTo>
                    <a:pt x="393" y="1530"/>
                  </a:lnTo>
                  <a:lnTo>
                    <a:pt x="393" y="1651"/>
                  </a:lnTo>
                  <a:lnTo>
                    <a:pt x="458" y="1611"/>
                  </a:lnTo>
                  <a:lnTo>
                    <a:pt x="524" y="1772"/>
                  </a:lnTo>
                  <a:lnTo>
                    <a:pt x="556" y="1853"/>
                  </a:lnTo>
                  <a:lnTo>
                    <a:pt x="622" y="1853"/>
                  </a:lnTo>
                  <a:lnTo>
                    <a:pt x="589" y="1732"/>
                  </a:lnTo>
                  <a:lnTo>
                    <a:pt x="720" y="1772"/>
                  </a:lnTo>
                  <a:lnTo>
                    <a:pt x="785" y="1812"/>
                  </a:lnTo>
                  <a:lnTo>
                    <a:pt x="752" y="1692"/>
                  </a:lnTo>
                  <a:lnTo>
                    <a:pt x="654" y="1571"/>
                  </a:lnTo>
                  <a:lnTo>
                    <a:pt x="654" y="1490"/>
                  </a:lnTo>
                  <a:lnTo>
                    <a:pt x="785" y="1530"/>
                  </a:lnTo>
                  <a:lnTo>
                    <a:pt x="818" y="1490"/>
                  </a:lnTo>
                  <a:lnTo>
                    <a:pt x="720" y="1450"/>
                  </a:lnTo>
                  <a:lnTo>
                    <a:pt x="720" y="1369"/>
                  </a:lnTo>
                  <a:lnTo>
                    <a:pt x="785" y="1329"/>
                  </a:lnTo>
                  <a:lnTo>
                    <a:pt x="850" y="1289"/>
                  </a:lnTo>
                  <a:lnTo>
                    <a:pt x="948" y="1329"/>
                  </a:lnTo>
                  <a:lnTo>
                    <a:pt x="1014" y="1329"/>
                  </a:lnTo>
                  <a:lnTo>
                    <a:pt x="981" y="1249"/>
                  </a:lnTo>
                  <a:lnTo>
                    <a:pt x="883" y="1168"/>
                  </a:lnTo>
                  <a:lnTo>
                    <a:pt x="785" y="1088"/>
                  </a:lnTo>
                  <a:lnTo>
                    <a:pt x="720" y="1047"/>
                  </a:lnTo>
                  <a:lnTo>
                    <a:pt x="720" y="967"/>
                  </a:lnTo>
                  <a:lnTo>
                    <a:pt x="752" y="885"/>
                  </a:lnTo>
                  <a:lnTo>
                    <a:pt x="556" y="684"/>
                  </a:lnTo>
                  <a:lnTo>
                    <a:pt x="556" y="523"/>
                  </a:lnTo>
                  <a:lnTo>
                    <a:pt x="654" y="563"/>
                  </a:lnTo>
                  <a:lnTo>
                    <a:pt x="752" y="684"/>
                  </a:lnTo>
                  <a:lnTo>
                    <a:pt x="883" y="644"/>
                  </a:lnTo>
                  <a:lnTo>
                    <a:pt x="948" y="603"/>
                  </a:lnTo>
                  <a:lnTo>
                    <a:pt x="948" y="483"/>
                  </a:lnTo>
                  <a:lnTo>
                    <a:pt x="948" y="402"/>
                  </a:lnTo>
                  <a:lnTo>
                    <a:pt x="1244" y="402"/>
                  </a:lnTo>
                  <a:lnTo>
                    <a:pt x="1342" y="362"/>
                  </a:lnTo>
                  <a:lnTo>
                    <a:pt x="1440" y="362"/>
                  </a:lnTo>
                  <a:lnTo>
                    <a:pt x="1505" y="201"/>
                  </a:lnTo>
                  <a:lnTo>
                    <a:pt x="1473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94440" y="4802040"/>
              <a:ext cx="154440" cy="390960"/>
            </a:xfrm>
            <a:custGeom>
              <a:avLst/>
              <a:gdLst/>
              <a:ahLst/>
              <a:rect l="0" t="0" r="r" b="b"/>
              <a:pathLst>
                <a:path fill="none" w="429" h="1086">
                  <a:moveTo>
                    <a:pt x="0" y="0"/>
                  </a:moveTo>
                  <a:lnTo>
                    <a:pt x="32" y="0"/>
                  </a:lnTo>
                  <a:lnTo>
                    <a:pt x="132" y="80"/>
                  </a:lnTo>
                  <a:lnTo>
                    <a:pt x="231" y="120"/>
                  </a:lnTo>
                  <a:lnTo>
                    <a:pt x="297" y="200"/>
                  </a:lnTo>
                  <a:lnTo>
                    <a:pt x="297" y="442"/>
                  </a:lnTo>
                  <a:lnTo>
                    <a:pt x="396" y="643"/>
                  </a:lnTo>
                  <a:lnTo>
                    <a:pt x="429" y="764"/>
                  </a:lnTo>
                  <a:lnTo>
                    <a:pt x="363" y="926"/>
                  </a:lnTo>
                  <a:lnTo>
                    <a:pt x="231" y="926"/>
                  </a:lnTo>
                  <a:lnTo>
                    <a:pt x="264" y="1006"/>
                  </a:lnTo>
                  <a:lnTo>
                    <a:pt x="231" y="1086"/>
                  </a:lnTo>
                  <a:lnTo>
                    <a:pt x="165" y="1046"/>
                  </a:lnTo>
                  <a:lnTo>
                    <a:pt x="98" y="966"/>
                  </a:lnTo>
                  <a:lnTo>
                    <a:pt x="98" y="885"/>
                  </a:lnTo>
                  <a:lnTo>
                    <a:pt x="32" y="845"/>
                  </a:lnTo>
                  <a:lnTo>
                    <a:pt x="0" y="804"/>
                  </a:lnTo>
                  <a:lnTo>
                    <a:pt x="0" y="724"/>
                  </a:lnTo>
                  <a:lnTo>
                    <a:pt x="0" y="643"/>
                  </a:lnTo>
                  <a:lnTo>
                    <a:pt x="32" y="483"/>
                  </a:lnTo>
                  <a:lnTo>
                    <a:pt x="32" y="402"/>
                  </a:lnTo>
                  <a:lnTo>
                    <a:pt x="0" y="282"/>
                  </a:lnTo>
                  <a:lnTo>
                    <a:pt x="0" y="1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970600" y="3900600"/>
              <a:ext cx="47880" cy="89280"/>
            </a:xfrm>
            <a:custGeom>
              <a:avLst/>
              <a:gdLst/>
              <a:ahLst/>
              <a:rect l="0" t="0" r="r" b="b"/>
              <a:pathLst>
                <a:path fill="none" w="133" h="248">
                  <a:moveTo>
                    <a:pt x="0" y="83"/>
                  </a:moveTo>
                  <a:lnTo>
                    <a:pt x="33" y="0"/>
                  </a:lnTo>
                  <a:lnTo>
                    <a:pt x="100" y="41"/>
                  </a:lnTo>
                  <a:lnTo>
                    <a:pt x="133" y="248"/>
                  </a:lnTo>
                  <a:lnTo>
                    <a:pt x="0" y="207"/>
                  </a:lnTo>
                  <a:lnTo>
                    <a:pt x="0" y="83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229440" y="4060800"/>
              <a:ext cx="601920" cy="321120"/>
            </a:xfrm>
            <a:custGeom>
              <a:avLst/>
              <a:gdLst/>
              <a:ahLst/>
              <a:rect l="0" t="0" r="r" b="b"/>
              <a:pathLst>
                <a:path fill="none" w="1672" h="892">
                  <a:moveTo>
                    <a:pt x="32" y="486"/>
                  </a:moveTo>
                  <a:lnTo>
                    <a:pt x="98" y="486"/>
                  </a:lnTo>
                  <a:lnTo>
                    <a:pt x="196" y="446"/>
                  </a:lnTo>
                  <a:lnTo>
                    <a:pt x="491" y="446"/>
                  </a:lnTo>
                  <a:lnTo>
                    <a:pt x="589" y="446"/>
                  </a:lnTo>
                  <a:lnTo>
                    <a:pt x="622" y="446"/>
                  </a:lnTo>
                  <a:lnTo>
                    <a:pt x="688" y="446"/>
                  </a:lnTo>
                  <a:lnTo>
                    <a:pt x="720" y="405"/>
                  </a:lnTo>
                  <a:lnTo>
                    <a:pt x="720" y="284"/>
                  </a:lnTo>
                  <a:lnTo>
                    <a:pt x="753" y="243"/>
                  </a:lnTo>
                  <a:lnTo>
                    <a:pt x="853" y="202"/>
                  </a:lnTo>
                  <a:lnTo>
                    <a:pt x="885" y="80"/>
                  </a:lnTo>
                  <a:lnTo>
                    <a:pt x="918" y="121"/>
                  </a:lnTo>
                  <a:lnTo>
                    <a:pt x="1016" y="161"/>
                  </a:lnTo>
                  <a:lnTo>
                    <a:pt x="1115" y="80"/>
                  </a:lnTo>
                  <a:lnTo>
                    <a:pt x="1180" y="40"/>
                  </a:lnTo>
                  <a:lnTo>
                    <a:pt x="1246" y="0"/>
                  </a:lnTo>
                  <a:lnTo>
                    <a:pt x="1311" y="40"/>
                  </a:lnTo>
                  <a:lnTo>
                    <a:pt x="1508" y="121"/>
                  </a:lnTo>
                  <a:lnTo>
                    <a:pt x="1541" y="161"/>
                  </a:lnTo>
                  <a:lnTo>
                    <a:pt x="1672" y="324"/>
                  </a:lnTo>
                  <a:lnTo>
                    <a:pt x="1606" y="324"/>
                  </a:lnTo>
                  <a:lnTo>
                    <a:pt x="1573" y="446"/>
                  </a:lnTo>
                  <a:lnTo>
                    <a:pt x="1508" y="446"/>
                  </a:lnTo>
                  <a:lnTo>
                    <a:pt x="1508" y="567"/>
                  </a:lnTo>
                  <a:lnTo>
                    <a:pt x="1442" y="690"/>
                  </a:lnTo>
                  <a:lnTo>
                    <a:pt x="1541" y="892"/>
                  </a:lnTo>
                  <a:lnTo>
                    <a:pt x="1442" y="811"/>
                  </a:lnTo>
                  <a:lnTo>
                    <a:pt x="1410" y="771"/>
                  </a:lnTo>
                  <a:lnTo>
                    <a:pt x="1311" y="771"/>
                  </a:lnTo>
                  <a:lnTo>
                    <a:pt x="1213" y="771"/>
                  </a:lnTo>
                  <a:lnTo>
                    <a:pt x="1147" y="771"/>
                  </a:lnTo>
                  <a:lnTo>
                    <a:pt x="1082" y="811"/>
                  </a:lnTo>
                  <a:lnTo>
                    <a:pt x="951" y="771"/>
                  </a:lnTo>
                  <a:lnTo>
                    <a:pt x="819" y="771"/>
                  </a:lnTo>
                  <a:lnTo>
                    <a:pt x="557" y="730"/>
                  </a:lnTo>
                  <a:lnTo>
                    <a:pt x="491" y="608"/>
                  </a:lnTo>
                  <a:lnTo>
                    <a:pt x="327" y="648"/>
                  </a:lnTo>
                  <a:lnTo>
                    <a:pt x="262" y="690"/>
                  </a:lnTo>
                  <a:lnTo>
                    <a:pt x="196" y="730"/>
                  </a:lnTo>
                  <a:lnTo>
                    <a:pt x="98" y="648"/>
                  </a:lnTo>
                  <a:lnTo>
                    <a:pt x="65" y="648"/>
                  </a:lnTo>
                  <a:lnTo>
                    <a:pt x="32" y="567"/>
                  </a:lnTo>
                  <a:lnTo>
                    <a:pt x="0" y="527"/>
                  </a:lnTo>
                  <a:lnTo>
                    <a:pt x="32" y="486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37320" y="3714840"/>
              <a:ext cx="270360" cy="259200"/>
            </a:xfrm>
            <a:custGeom>
              <a:avLst/>
              <a:gdLst/>
              <a:ahLst/>
              <a:rect l="0" t="0" r="r" b="b"/>
              <a:pathLst>
                <a:path fill="none" w="751" h="720">
                  <a:moveTo>
                    <a:pt x="457" y="0"/>
                  </a:moveTo>
                  <a:lnTo>
                    <a:pt x="555" y="0"/>
                  </a:lnTo>
                  <a:lnTo>
                    <a:pt x="588" y="0"/>
                  </a:lnTo>
                  <a:lnTo>
                    <a:pt x="653" y="119"/>
                  </a:lnTo>
                  <a:lnTo>
                    <a:pt x="719" y="200"/>
                  </a:lnTo>
                  <a:lnTo>
                    <a:pt x="719" y="280"/>
                  </a:lnTo>
                  <a:lnTo>
                    <a:pt x="751" y="360"/>
                  </a:lnTo>
                  <a:lnTo>
                    <a:pt x="751" y="440"/>
                  </a:lnTo>
                  <a:lnTo>
                    <a:pt x="653" y="561"/>
                  </a:lnTo>
                  <a:lnTo>
                    <a:pt x="686" y="720"/>
                  </a:lnTo>
                  <a:lnTo>
                    <a:pt x="555" y="680"/>
                  </a:lnTo>
                  <a:lnTo>
                    <a:pt x="489" y="520"/>
                  </a:lnTo>
                  <a:lnTo>
                    <a:pt x="326" y="480"/>
                  </a:lnTo>
                  <a:lnTo>
                    <a:pt x="162" y="280"/>
                  </a:lnTo>
                  <a:lnTo>
                    <a:pt x="0" y="159"/>
                  </a:lnTo>
                  <a:lnTo>
                    <a:pt x="162" y="119"/>
                  </a:lnTo>
                  <a:lnTo>
                    <a:pt x="294" y="39"/>
                  </a:lnTo>
                  <a:lnTo>
                    <a:pt x="359" y="79"/>
                  </a:lnTo>
                  <a:lnTo>
                    <a:pt x="424" y="79"/>
                  </a:lnTo>
                  <a:lnTo>
                    <a:pt x="457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218280" y="3075120"/>
              <a:ext cx="319320" cy="362160"/>
            </a:xfrm>
            <a:custGeom>
              <a:avLst/>
              <a:gdLst/>
              <a:ahLst/>
              <a:rect l="0" t="0" r="r" b="b"/>
              <a:pathLst>
                <a:path fill="none" w="887" h="1006">
                  <a:moveTo>
                    <a:pt x="361" y="0"/>
                  </a:moveTo>
                  <a:lnTo>
                    <a:pt x="229" y="40"/>
                  </a:lnTo>
                  <a:lnTo>
                    <a:pt x="196" y="120"/>
                  </a:lnTo>
                  <a:lnTo>
                    <a:pt x="65" y="241"/>
                  </a:lnTo>
                  <a:lnTo>
                    <a:pt x="0" y="482"/>
                  </a:lnTo>
                  <a:lnTo>
                    <a:pt x="98" y="564"/>
                  </a:lnTo>
                  <a:lnTo>
                    <a:pt x="32" y="684"/>
                  </a:lnTo>
                  <a:lnTo>
                    <a:pt x="65" y="845"/>
                  </a:lnTo>
                  <a:lnTo>
                    <a:pt x="196" y="1006"/>
                  </a:lnTo>
                  <a:lnTo>
                    <a:pt x="262" y="925"/>
                  </a:lnTo>
                  <a:lnTo>
                    <a:pt x="295" y="925"/>
                  </a:lnTo>
                  <a:lnTo>
                    <a:pt x="393" y="925"/>
                  </a:lnTo>
                  <a:lnTo>
                    <a:pt x="526" y="966"/>
                  </a:lnTo>
                  <a:lnTo>
                    <a:pt x="690" y="925"/>
                  </a:lnTo>
                  <a:lnTo>
                    <a:pt x="788" y="885"/>
                  </a:lnTo>
                  <a:lnTo>
                    <a:pt x="887" y="885"/>
                  </a:lnTo>
                  <a:lnTo>
                    <a:pt x="887" y="482"/>
                  </a:lnTo>
                  <a:lnTo>
                    <a:pt x="854" y="402"/>
                  </a:lnTo>
                  <a:lnTo>
                    <a:pt x="788" y="402"/>
                  </a:lnTo>
                  <a:lnTo>
                    <a:pt x="756" y="402"/>
                  </a:lnTo>
                  <a:lnTo>
                    <a:pt x="723" y="482"/>
                  </a:lnTo>
                  <a:lnTo>
                    <a:pt x="723" y="523"/>
                  </a:lnTo>
                  <a:lnTo>
                    <a:pt x="756" y="564"/>
                  </a:lnTo>
                  <a:lnTo>
                    <a:pt x="756" y="644"/>
                  </a:lnTo>
                  <a:lnTo>
                    <a:pt x="723" y="684"/>
                  </a:lnTo>
                  <a:lnTo>
                    <a:pt x="657" y="684"/>
                  </a:lnTo>
                  <a:lnTo>
                    <a:pt x="591" y="604"/>
                  </a:lnTo>
                  <a:lnTo>
                    <a:pt x="559" y="604"/>
                  </a:lnTo>
                  <a:lnTo>
                    <a:pt x="493" y="564"/>
                  </a:lnTo>
                  <a:lnTo>
                    <a:pt x="460" y="644"/>
                  </a:lnTo>
                  <a:lnTo>
                    <a:pt x="393" y="684"/>
                  </a:lnTo>
                  <a:lnTo>
                    <a:pt x="361" y="644"/>
                  </a:lnTo>
                  <a:lnTo>
                    <a:pt x="361" y="482"/>
                  </a:lnTo>
                  <a:lnTo>
                    <a:pt x="426" y="321"/>
                  </a:lnTo>
                  <a:lnTo>
                    <a:pt x="493" y="361"/>
                  </a:lnTo>
                  <a:lnTo>
                    <a:pt x="526" y="361"/>
                  </a:lnTo>
                  <a:lnTo>
                    <a:pt x="559" y="201"/>
                  </a:lnTo>
                  <a:lnTo>
                    <a:pt x="426" y="160"/>
                  </a:lnTo>
                  <a:lnTo>
                    <a:pt x="460" y="40"/>
                  </a:lnTo>
                  <a:lnTo>
                    <a:pt x="361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83200" y="3394080"/>
              <a:ext cx="695520" cy="841680"/>
            </a:xfrm>
            <a:custGeom>
              <a:avLst/>
              <a:gdLst/>
              <a:ahLst/>
              <a:rect l="0" t="0" r="r" b="b"/>
              <a:pathLst>
                <a:path fill="none" w="1932" h="2338">
                  <a:moveTo>
                    <a:pt x="1179" y="80"/>
                  </a:moveTo>
                  <a:lnTo>
                    <a:pt x="1048" y="40"/>
                  </a:lnTo>
                  <a:lnTo>
                    <a:pt x="949" y="40"/>
                  </a:lnTo>
                  <a:lnTo>
                    <a:pt x="916" y="0"/>
                  </a:lnTo>
                  <a:lnTo>
                    <a:pt x="818" y="161"/>
                  </a:lnTo>
                  <a:lnTo>
                    <a:pt x="752" y="201"/>
                  </a:lnTo>
                  <a:lnTo>
                    <a:pt x="687" y="362"/>
                  </a:lnTo>
                  <a:lnTo>
                    <a:pt x="621" y="362"/>
                  </a:lnTo>
                  <a:lnTo>
                    <a:pt x="556" y="282"/>
                  </a:lnTo>
                  <a:lnTo>
                    <a:pt x="458" y="322"/>
                  </a:lnTo>
                  <a:lnTo>
                    <a:pt x="458" y="443"/>
                  </a:lnTo>
                  <a:lnTo>
                    <a:pt x="425" y="483"/>
                  </a:lnTo>
                  <a:lnTo>
                    <a:pt x="327" y="523"/>
                  </a:lnTo>
                  <a:lnTo>
                    <a:pt x="261" y="604"/>
                  </a:lnTo>
                  <a:lnTo>
                    <a:pt x="327" y="644"/>
                  </a:lnTo>
                  <a:lnTo>
                    <a:pt x="294" y="765"/>
                  </a:lnTo>
                  <a:lnTo>
                    <a:pt x="229" y="805"/>
                  </a:lnTo>
                  <a:lnTo>
                    <a:pt x="130" y="926"/>
                  </a:lnTo>
                  <a:lnTo>
                    <a:pt x="163" y="1007"/>
                  </a:lnTo>
                  <a:lnTo>
                    <a:pt x="130" y="1087"/>
                  </a:lnTo>
                  <a:lnTo>
                    <a:pt x="32" y="1087"/>
                  </a:lnTo>
                  <a:lnTo>
                    <a:pt x="0" y="1168"/>
                  </a:lnTo>
                  <a:lnTo>
                    <a:pt x="65" y="1250"/>
                  </a:lnTo>
                  <a:lnTo>
                    <a:pt x="65" y="1330"/>
                  </a:lnTo>
                  <a:lnTo>
                    <a:pt x="0" y="1411"/>
                  </a:lnTo>
                  <a:lnTo>
                    <a:pt x="65" y="1451"/>
                  </a:lnTo>
                  <a:lnTo>
                    <a:pt x="98" y="1653"/>
                  </a:lnTo>
                  <a:lnTo>
                    <a:pt x="163" y="1693"/>
                  </a:lnTo>
                  <a:lnTo>
                    <a:pt x="294" y="1693"/>
                  </a:lnTo>
                  <a:lnTo>
                    <a:pt x="392" y="1733"/>
                  </a:lnTo>
                  <a:lnTo>
                    <a:pt x="392" y="1854"/>
                  </a:lnTo>
                  <a:lnTo>
                    <a:pt x="360" y="2056"/>
                  </a:lnTo>
                  <a:lnTo>
                    <a:pt x="294" y="2176"/>
                  </a:lnTo>
                  <a:lnTo>
                    <a:pt x="523" y="2257"/>
                  </a:lnTo>
                  <a:lnTo>
                    <a:pt x="621" y="2176"/>
                  </a:lnTo>
                  <a:lnTo>
                    <a:pt x="687" y="2217"/>
                  </a:lnTo>
                  <a:lnTo>
                    <a:pt x="720" y="2338"/>
                  </a:lnTo>
                  <a:lnTo>
                    <a:pt x="785" y="2338"/>
                  </a:lnTo>
                  <a:lnTo>
                    <a:pt x="883" y="2297"/>
                  </a:lnTo>
                  <a:lnTo>
                    <a:pt x="1179" y="2297"/>
                  </a:lnTo>
                  <a:lnTo>
                    <a:pt x="1244" y="2297"/>
                  </a:lnTo>
                  <a:lnTo>
                    <a:pt x="1310" y="2297"/>
                  </a:lnTo>
                  <a:lnTo>
                    <a:pt x="1375" y="2297"/>
                  </a:lnTo>
                  <a:lnTo>
                    <a:pt x="1408" y="2257"/>
                  </a:lnTo>
                  <a:lnTo>
                    <a:pt x="1408" y="2136"/>
                  </a:lnTo>
                  <a:lnTo>
                    <a:pt x="1441" y="2096"/>
                  </a:lnTo>
                  <a:lnTo>
                    <a:pt x="1539" y="2056"/>
                  </a:lnTo>
                  <a:lnTo>
                    <a:pt x="1572" y="1935"/>
                  </a:lnTo>
                  <a:lnTo>
                    <a:pt x="1408" y="1733"/>
                  </a:lnTo>
                  <a:lnTo>
                    <a:pt x="1375" y="1653"/>
                  </a:lnTo>
                  <a:lnTo>
                    <a:pt x="1343" y="1572"/>
                  </a:lnTo>
                  <a:lnTo>
                    <a:pt x="1408" y="1451"/>
                  </a:lnTo>
                  <a:lnTo>
                    <a:pt x="1506" y="1411"/>
                  </a:lnTo>
                  <a:lnTo>
                    <a:pt x="1506" y="1330"/>
                  </a:lnTo>
                  <a:lnTo>
                    <a:pt x="1572" y="1330"/>
                  </a:lnTo>
                  <a:lnTo>
                    <a:pt x="1605" y="1290"/>
                  </a:lnTo>
                  <a:lnTo>
                    <a:pt x="1736" y="1250"/>
                  </a:lnTo>
                  <a:lnTo>
                    <a:pt x="1932" y="1168"/>
                  </a:lnTo>
                  <a:lnTo>
                    <a:pt x="1866" y="1087"/>
                  </a:lnTo>
                  <a:lnTo>
                    <a:pt x="1932" y="967"/>
                  </a:lnTo>
                  <a:lnTo>
                    <a:pt x="1932" y="725"/>
                  </a:lnTo>
                  <a:lnTo>
                    <a:pt x="1801" y="523"/>
                  </a:lnTo>
                  <a:lnTo>
                    <a:pt x="1932" y="322"/>
                  </a:lnTo>
                  <a:lnTo>
                    <a:pt x="1834" y="241"/>
                  </a:lnTo>
                  <a:lnTo>
                    <a:pt x="1736" y="201"/>
                  </a:lnTo>
                  <a:lnTo>
                    <a:pt x="1670" y="80"/>
                  </a:lnTo>
                  <a:lnTo>
                    <a:pt x="1572" y="0"/>
                  </a:lnTo>
                  <a:lnTo>
                    <a:pt x="1441" y="0"/>
                  </a:lnTo>
                  <a:lnTo>
                    <a:pt x="1343" y="40"/>
                  </a:lnTo>
                  <a:lnTo>
                    <a:pt x="1179" y="8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902200" y="3494160"/>
              <a:ext cx="235440" cy="290880"/>
            </a:xfrm>
            <a:custGeom>
              <a:avLst/>
              <a:gdLst/>
              <a:ahLst/>
              <a:rect l="0" t="0" r="r" b="b"/>
              <a:pathLst>
                <a:path fill="none" w="654" h="808">
                  <a:moveTo>
                    <a:pt x="654" y="201"/>
                  </a:moveTo>
                  <a:lnTo>
                    <a:pt x="589" y="243"/>
                  </a:lnTo>
                  <a:lnTo>
                    <a:pt x="491" y="323"/>
                  </a:lnTo>
                  <a:lnTo>
                    <a:pt x="556" y="364"/>
                  </a:lnTo>
                  <a:lnTo>
                    <a:pt x="524" y="485"/>
                  </a:lnTo>
                  <a:lnTo>
                    <a:pt x="457" y="525"/>
                  </a:lnTo>
                  <a:lnTo>
                    <a:pt x="359" y="647"/>
                  </a:lnTo>
                  <a:lnTo>
                    <a:pt x="392" y="728"/>
                  </a:lnTo>
                  <a:lnTo>
                    <a:pt x="359" y="808"/>
                  </a:lnTo>
                  <a:lnTo>
                    <a:pt x="229" y="808"/>
                  </a:lnTo>
                  <a:lnTo>
                    <a:pt x="196" y="728"/>
                  </a:lnTo>
                  <a:lnTo>
                    <a:pt x="130" y="607"/>
                  </a:lnTo>
                  <a:lnTo>
                    <a:pt x="97" y="607"/>
                  </a:lnTo>
                  <a:lnTo>
                    <a:pt x="0" y="607"/>
                  </a:lnTo>
                  <a:lnTo>
                    <a:pt x="0" y="525"/>
                  </a:lnTo>
                  <a:lnTo>
                    <a:pt x="65" y="404"/>
                  </a:lnTo>
                  <a:lnTo>
                    <a:pt x="97" y="323"/>
                  </a:lnTo>
                  <a:lnTo>
                    <a:pt x="130" y="323"/>
                  </a:lnTo>
                  <a:lnTo>
                    <a:pt x="196" y="364"/>
                  </a:lnTo>
                  <a:lnTo>
                    <a:pt x="262" y="364"/>
                  </a:lnTo>
                  <a:lnTo>
                    <a:pt x="294" y="201"/>
                  </a:lnTo>
                  <a:lnTo>
                    <a:pt x="229" y="161"/>
                  </a:lnTo>
                  <a:lnTo>
                    <a:pt x="229" y="80"/>
                  </a:lnTo>
                  <a:lnTo>
                    <a:pt x="327" y="0"/>
                  </a:lnTo>
                  <a:lnTo>
                    <a:pt x="425" y="0"/>
                  </a:lnTo>
                  <a:lnTo>
                    <a:pt x="491" y="80"/>
                  </a:lnTo>
                  <a:lnTo>
                    <a:pt x="654" y="201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137200" y="3755880"/>
              <a:ext cx="989280" cy="1074960"/>
            </a:xfrm>
            <a:custGeom>
              <a:avLst/>
              <a:gdLst/>
              <a:ahLst/>
              <a:rect l="0" t="0" r="r" b="b"/>
              <a:pathLst>
                <a:path fill="none" w="2748" h="2986">
                  <a:moveTo>
                    <a:pt x="1701" y="0"/>
                  </a:moveTo>
                  <a:lnTo>
                    <a:pt x="1832" y="161"/>
                  </a:lnTo>
                  <a:lnTo>
                    <a:pt x="1996" y="363"/>
                  </a:lnTo>
                  <a:lnTo>
                    <a:pt x="2159" y="403"/>
                  </a:lnTo>
                  <a:lnTo>
                    <a:pt x="2224" y="564"/>
                  </a:lnTo>
                  <a:lnTo>
                    <a:pt x="2323" y="605"/>
                  </a:lnTo>
                  <a:lnTo>
                    <a:pt x="2453" y="645"/>
                  </a:lnTo>
                  <a:lnTo>
                    <a:pt x="2519" y="685"/>
                  </a:lnTo>
                  <a:lnTo>
                    <a:pt x="2650" y="685"/>
                  </a:lnTo>
                  <a:lnTo>
                    <a:pt x="2748" y="726"/>
                  </a:lnTo>
                  <a:lnTo>
                    <a:pt x="2748" y="847"/>
                  </a:lnTo>
                  <a:lnTo>
                    <a:pt x="2715" y="1048"/>
                  </a:lnTo>
                  <a:lnTo>
                    <a:pt x="2650" y="1210"/>
                  </a:lnTo>
                  <a:lnTo>
                    <a:pt x="2584" y="1250"/>
                  </a:lnTo>
                  <a:lnTo>
                    <a:pt x="2486" y="1290"/>
                  </a:lnTo>
                  <a:lnTo>
                    <a:pt x="2421" y="1290"/>
                  </a:lnTo>
                  <a:lnTo>
                    <a:pt x="2421" y="1371"/>
                  </a:lnTo>
                  <a:lnTo>
                    <a:pt x="2355" y="1412"/>
                  </a:lnTo>
                  <a:lnTo>
                    <a:pt x="2290" y="1492"/>
                  </a:lnTo>
                  <a:lnTo>
                    <a:pt x="2257" y="1574"/>
                  </a:lnTo>
                  <a:lnTo>
                    <a:pt x="2224" y="1614"/>
                  </a:lnTo>
                  <a:lnTo>
                    <a:pt x="2290" y="1614"/>
                  </a:lnTo>
                  <a:lnTo>
                    <a:pt x="2355" y="1574"/>
                  </a:lnTo>
                  <a:lnTo>
                    <a:pt x="2388" y="1574"/>
                  </a:lnTo>
                  <a:lnTo>
                    <a:pt x="2355" y="1695"/>
                  </a:lnTo>
                  <a:lnTo>
                    <a:pt x="2421" y="1776"/>
                  </a:lnTo>
                  <a:lnTo>
                    <a:pt x="2453" y="1897"/>
                  </a:lnTo>
                  <a:lnTo>
                    <a:pt x="2453" y="1977"/>
                  </a:lnTo>
                  <a:lnTo>
                    <a:pt x="2388" y="2018"/>
                  </a:lnTo>
                  <a:lnTo>
                    <a:pt x="2355" y="2058"/>
                  </a:lnTo>
                  <a:lnTo>
                    <a:pt x="2355" y="2139"/>
                  </a:lnTo>
                  <a:lnTo>
                    <a:pt x="2388" y="2139"/>
                  </a:lnTo>
                  <a:lnTo>
                    <a:pt x="2355" y="2219"/>
                  </a:lnTo>
                  <a:lnTo>
                    <a:pt x="2355" y="2340"/>
                  </a:lnTo>
                  <a:lnTo>
                    <a:pt x="2421" y="2381"/>
                  </a:lnTo>
                  <a:lnTo>
                    <a:pt x="2453" y="2461"/>
                  </a:lnTo>
                  <a:lnTo>
                    <a:pt x="2421" y="2502"/>
                  </a:lnTo>
                  <a:lnTo>
                    <a:pt x="2355" y="2582"/>
                  </a:lnTo>
                  <a:lnTo>
                    <a:pt x="2290" y="2663"/>
                  </a:lnTo>
                  <a:lnTo>
                    <a:pt x="2159" y="2703"/>
                  </a:lnTo>
                  <a:lnTo>
                    <a:pt x="2028" y="2703"/>
                  </a:lnTo>
                  <a:lnTo>
                    <a:pt x="1930" y="2663"/>
                  </a:lnTo>
                  <a:lnTo>
                    <a:pt x="1734" y="2582"/>
                  </a:lnTo>
                  <a:lnTo>
                    <a:pt x="1570" y="2582"/>
                  </a:lnTo>
                  <a:lnTo>
                    <a:pt x="1472" y="2663"/>
                  </a:lnTo>
                  <a:lnTo>
                    <a:pt x="1407" y="2784"/>
                  </a:lnTo>
                  <a:lnTo>
                    <a:pt x="1373" y="2946"/>
                  </a:lnTo>
                  <a:lnTo>
                    <a:pt x="1242" y="2986"/>
                  </a:lnTo>
                  <a:lnTo>
                    <a:pt x="1111" y="2905"/>
                  </a:lnTo>
                  <a:lnTo>
                    <a:pt x="1046" y="2784"/>
                  </a:lnTo>
                  <a:lnTo>
                    <a:pt x="915" y="2744"/>
                  </a:lnTo>
                  <a:lnTo>
                    <a:pt x="654" y="2744"/>
                  </a:lnTo>
                  <a:lnTo>
                    <a:pt x="490" y="2703"/>
                  </a:lnTo>
                  <a:lnTo>
                    <a:pt x="490" y="2623"/>
                  </a:lnTo>
                  <a:lnTo>
                    <a:pt x="359" y="2542"/>
                  </a:lnTo>
                  <a:lnTo>
                    <a:pt x="359" y="2461"/>
                  </a:lnTo>
                  <a:lnTo>
                    <a:pt x="392" y="2421"/>
                  </a:lnTo>
                  <a:lnTo>
                    <a:pt x="425" y="2300"/>
                  </a:lnTo>
                  <a:lnTo>
                    <a:pt x="457" y="2179"/>
                  </a:lnTo>
                  <a:lnTo>
                    <a:pt x="523" y="2058"/>
                  </a:lnTo>
                  <a:lnTo>
                    <a:pt x="523" y="1897"/>
                  </a:lnTo>
                  <a:lnTo>
                    <a:pt x="555" y="1776"/>
                  </a:lnTo>
                  <a:lnTo>
                    <a:pt x="588" y="1695"/>
                  </a:lnTo>
                  <a:lnTo>
                    <a:pt x="621" y="1492"/>
                  </a:lnTo>
                  <a:lnTo>
                    <a:pt x="425" y="1371"/>
                  </a:lnTo>
                  <a:lnTo>
                    <a:pt x="490" y="1210"/>
                  </a:lnTo>
                  <a:lnTo>
                    <a:pt x="425" y="1169"/>
                  </a:lnTo>
                  <a:lnTo>
                    <a:pt x="425" y="1129"/>
                  </a:lnTo>
                  <a:lnTo>
                    <a:pt x="359" y="1048"/>
                  </a:lnTo>
                  <a:lnTo>
                    <a:pt x="294" y="1048"/>
                  </a:lnTo>
                  <a:lnTo>
                    <a:pt x="196" y="1008"/>
                  </a:lnTo>
                  <a:lnTo>
                    <a:pt x="98" y="968"/>
                  </a:lnTo>
                  <a:lnTo>
                    <a:pt x="0" y="927"/>
                  </a:lnTo>
                  <a:lnTo>
                    <a:pt x="65" y="847"/>
                  </a:lnTo>
                  <a:lnTo>
                    <a:pt x="65" y="806"/>
                  </a:lnTo>
                  <a:lnTo>
                    <a:pt x="98" y="726"/>
                  </a:lnTo>
                  <a:lnTo>
                    <a:pt x="294" y="726"/>
                  </a:lnTo>
                  <a:lnTo>
                    <a:pt x="425" y="645"/>
                  </a:lnTo>
                  <a:lnTo>
                    <a:pt x="425" y="685"/>
                  </a:lnTo>
                  <a:lnTo>
                    <a:pt x="523" y="726"/>
                  </a:lnTo>
                  <a:lnTo>
                    <a:pt x="555" y="766"/>
                  </a:lnTo>
                  <a:lnTo>
                    <a:pt x="654" y="766"/>
                  </a:lnTo>
                  <a:lnTo>
                    <a:pt x="719" y="726"/>
                  </a:lnTo>
                  <a:lnTo>
                    <a:pt x="719" y="363"/>
                  </a:lnTo>
                  <a:lnTo>
                    <a:pt x="817" y="403"/>
                  </a:lnTo>
                  <a:lnTo>
                    <a:pt x="817" y="484"/>
                  </a:lnTo>
                  <a:lnTo>
                    <a:pt x="915" y="564"/>
                  </a:lnTo>
                  <a:lnTo>
                    <a:pt x="1013" y="564"/>
                  </a:lnTo>
                  <a:lnTo>
                    <a:pt x="1144" y="484"/>
                  </a:lnTo>
                  <a:lnTo>
                    <a:pt x="1177" y="443"/>
                  </a:lnTo>
                  <a:lnTo>
                    <a:pt x="1275" y="403"/>
                  </a:lnTo>
                  <a:lnTo>
                    <a:pt x="1340" y="363"/>
                  </a:lnTo>
                  <a:lnTo>
                    <a:pt x="1440" y="282"/>
                  </a:lnTo>
                  <a:lnTo>
                    <a:pt x="1603" y="80"/>
                  </a:lnTo>
                  <a:lnTo>
                    <a:pt x="1701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937120" y="4178160"/>
              <a:ext cx="365400" cy="262440"/>
            </a:xfrm>
            <a:custGeom>
              <a:avLst/>
              <a:gdLst/>
              <a:ahLst/>
              <a:rect l="0" t="0" r="r" b="b"/>
              <a:pathLst>
                <a:path fill="none" w="1015" h="729">
                  <a:moveTo>
                    <a:pt x="458" y="0"/>
                  </a:moveTo>
                  <a:lnTo>
                    <a:pt x="359" y="80"/>
                  </a:lnTo>
                  <a:lnTo>
                    <a:pt x="261" y="121"/>
                  </a:lnTo>
                  <a:lnTo>
                    <a:pt x="196" y="121"/>
                  </a:lnTo>
                  <a:lnTo>
                    <a:pt x="196" y="203"/>
                  </a:lnTo>
                  <a:lnTo>
                    <a:pt x="98" y="243"/>
                  </a:lnTo>
                  <a:lnTo>
                    <a:pt x="65" y="324"/>
                  </a:lnTo>
                  <a:lnTo>
                    <a:pt x="32" y="405"/>
                  </a:lnTo>
                  <a:lnTo>
                    <a:pt x="0" y="445"/>
                  </a:lnTo>
                  <a:lnTo>
                    <a:pt x="98" y="445"/>
                  </a:lnTo>
                  <a:lnTo>
                    <a:pt x="130" y="405"/>
                  </a:lnTo>
                  <a:lnTo>
                    <a:pt x="163" y="445"/>
                  </a:lnTo>
                  <a:lnTo>
                    <a:pt x="130" y="526"/>
                  </a:lnTo>
                  <a:lnTo>
                    <a:pt x="196" y="608"/>
                  </a:lnTo>
                  <a:lnTo>
                    <a:pt x="229" y="729"/>
                  </a:lnTo>
                  <a:lnTo>
                    <a:pt x="392" y="567"/>
                  </a:lnTo>
                  <a:lnTo>
                    <a:pt x="490" y="567"/>
                  </a:lnTo>
                  <a:lnTo>
                    <a:pt x="557" y="648"/>
                  </a:lnTo>
                  <a:lnTo>
                    <a:pt x="622" y="729"/>
                  </a:lnTo>
                  <a:lnTo>
                    <a:pt x="720" y="526"/>
                  </a:lnTo>
                  <a:lnTo>
                    <a:pt x="851" y="567"/>
                  </a:lnTo>
                  <a:lnTo>
                    <a:pt x="884" y="486"/>
                  </a:lnTo>
                  <a:lnTo>
                    <a:pt x="949" y="405"/>
                  </a:lnTo>
                  <a:lnTo>
                    <a:pt x="1015" y="405"/>
                  </a:lnTo>
                  <a:lnTo>
                    <a:pt x="917" y="324"/>
                  </a:lnTo>
                  <a:lnTo>
                    <a:pt x="851" y="243"/>
                  </a:lnTo>
                  <a:lnTo>
                    <a:pt x="818" y="203"/>
                  </a:lnTo>
                  <a:lnTo>
                    <a:pt x="851" y="161"/>
                  </a:lnTo>
                  <a:lnTo>
                    <a:pt x="818" y="40"/>
                  </a:lnTo>
                  <a:lnTo>
                    <a:pt x="753" y="0"/>
                  </a:lnTo>
                  <a:lnTo>
                    <a:pt x="655" y="80"/>
                  </a:lnTo>
                  <a:lnTo>
                    <a:pt x="458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031080" y="4975200"/>
              <a:ext cx="140040" cy="290880"/>
            </a:xfrm>
            <a:custGeom>
              <a:avLst/>
              <a:gdLst/>
              <a:ahLst/>
              <a:rect l="0" t="0" r="r" b="b"/>
              <a:pathLst>
                <a:path fill="none" w="389" h="808">
                  <a:moveTo>
                    <a:pt x="292" y="0"/>
                  </a:moveTo>
                  <a:lnTo>
                    <a:pt x="227" y="40"/>
                  </a:lnTo>
                  <a:lnTo>
                    <a:pt x="195" y="121"/>
                  </a:lnTo>
                  <a:lnTo>
                    <a:pt x="64" y="121"/>
                  </a:lnTo>
                  <a:lnTo>
                    <a:pt x="32" y="80"/>
                  </a:lnTo>
                  <a:lnTo>
                    <a:pt x="0" y="161"/>
                  </a:lnTo>
                  <a:lnTo>
                    <a:pt x="64" y="283"/>
                  </a:lnTo>
                  <a:lnTo>
                    <a:pt x="97" y="323"/>
                  </a:lnTo>
                  <a:lnTo>
                    <a:pt x="97" y="364"/>
                  </a:lnTo>
                  <a:lnTo>
                    <a:pt x="32" y="404"/>
                  </a:lnTo>
                  <a:lnTo>
                    <a:pt x="97" y="444"/>
                  </a:lnTo>
                  <a:lnTo>
                    <a:pt x="97" y="525"/>
                  </a:lnTo>
                  <a:lnTo>
                    <a:pt x="64" y="607"/>
                  </a:lnTo>
                  <a:lnTo>
                    <a:pt x="32" y="687"/>
                  </a:lnTo>
                  <a:lnTo>
                    <a:pt x="97" y="768"/>
                  </a:lnTo>
                  <a:lnTo>
                    <a:pt x="129" y="808"/>
                  </a:lnTo>
                  <a:lnTo>
                    <a:pt x="161" y="808"/>
                  </a:lnTo>
                  <a:lnTo>
                    <a:pt x="161" y="728"/>
                  </a:lnTo>
                  <a:lnTo>
                    <a:pt x="195" y="647"/>
                  </a:lnTo>
                  <a:lnTo>
                    <a:pt x="292" y="687"/>
                  </a:lnTo>
                  <a:lnTo>
                    <a:pt x="356" y="647"/>
                  </a:lnTo>
                  <a:lnTo>
                    <a:pt x="356" y="565"/>
                  </a:lnTo>
                  <a:lnTo>
                    <a:pt x="389" y="444"/>
                  </a:lnTo>
                  <a:lnTo>
                    <a:pt x="389" y="323"/>
                  </a:lnTo>
                  <a:lnTo>
                    <a:pt x="389" y="283"/>
                  </a:lnTo>
                  <a:lnTo>
                    <a:pt x="389" y="201"/>
                  </a:lnTo>
                  <a:lnTo>
                    <a:pt x="356" y="121"/>
                  </a:lnTo>
                  <a:lnTo>
                    <a:pt x="356" y="40"/>
                  </a:lnTo>
                  <a:lnTo>
                    <a:pt x="324" y="0"/>
                  </a:lnTo>
                  <a:lnTo>
                    <a:pt x="292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100920" y="4756320"/>
              <a:ext cx="70200" cy="189360"/>
            </a:xfrm>
            <a:custGeom>
              <a:avLst/>
              <a:gdLst/>
              <a:ahLst/>
              <a:rect l="0" t="0" r="r" b="b"/>
              <a:pathLst>
                <a:path fill="none" w="195" h="526">
                  <a:moveTo>
                    <a:pt x="162" y="0"/>
                  </a:moveTo>
                  <a:lnTo>
                    <a:pt x="162" y="80"/>
                  </a:lnTo>
                  <a:lnTo>
                    <a:pt x="130" y="162"/>
                  </a:lnTo>
                  <a:lnTo>
                    <a:pt x="64" y="121"/>
                  </a:lnTo>
                  <a:lnTo>
                    <a:pt x="0" y="162"/>
                  </a:lnTo>
                  <a:lnTo>
                    <a:pt x="0" y="364"/>
                  </a:lnTo>
                  <a:lnTo>
                    <a:pt x="32" y="446"/>
                  </a:lnTo>
                  <a:lnTo>
                    <a:pt x="0" y="486"/>
                  </a:lnTo>
                  <a:lnTo>
                    <a:pt x="64" y="526"/>
                  </a:lnTo>
                  <a:lnTo>
                    <a:pt x="162" y="526"/>
                  </a:lnTo>
                  <a:lnTo>
                    <a:pt x="130" y="446"/>
                  </a:lnTo>
                  <a:lnTo>
                    <a:pt x="162" y="364"/>
                  </a:lnTo>
                  <a:lnTo>
                    <a:pt x="195" y="323"/>
                  </a:lnTo>
                  <a:lnTo>
                    <a:pt x="195" y="40"/>
                  </a:lnTo>
                  <a:lnTo>
                    <a:pt x="162" y="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396120" y="5354640"/>
              <a:ext cx="271800" cy="189360"/>
            </a:xfrm>
            <a:custGeom>
              <a:avLst/>
              <a:gdLst/>
              <a:ahLst/>
              <a:rect l="0" t="0" r="r" b="b"/>
              <a:pathLst>
                <a:path fill="none" w="755" h="526">
                  <a:moveTo>
                    <a:pt x="689" y="40"/>
                  </a:moveTo>
                  <a:lnTo>
                    <a:pt x="558" y="40"/>
                  </a:lnTo>
                  <a:lnTo>
                    <a:pt x="492" y="80"/>
                  </a:lnTo>
                  <a:lnTo>
                    <a:pt x="394" y="40"/>
                  </a:lnTo>
                  <a:lnTo>
                    <a:pt x="196" y="80"/>
                  </a:lnTo>
                  <a:lnTo>
                    <a:pt x="163" y="0"/>
                  </a:lnTo>
                  <a:lnTo>
                    <a:pt x="131" y="40"/>
                  </a:lnTo>
                  <a:lnTo>
                    <a:pt x="65" y="40"/>
                  </a:lnTo>
                  <a:lnTo>
                    <a:pt x="32" y="40"/>
                  </a:lnTo>
                  <a:lnTo>
                    <a:pt x="0" y="162"/>
                  </a:lnTo>
                  <a:lnTo>
                    <a:pt x="32" y="243"/>
                  </a:lnTo>
                  <a:lnTo>
                    <a:pt x="65" y="243"/>
                  </a:lnTo>
                  <a:lnTo>
                    <a:pt x="163" y="283"/>
                  </a:lnTo>
                  <a:lnTo>
                    <a:pt x="327" y="364"/>
                  </a:lnTo>
                  <a:lnTo>
                    <a:pt x="360" y="405"/>
                  </a:lnTo>
                  <a:lnTo>
                    <a:pt x="427" y="405"/>
                  </a:lnTo>
                  <a:lnTo>
                    <a:pt x="525" y="526"/>
                  </a:lnTo>
                  <a:lnTo>
                    <a:pt x="591" y="486"/>
                  </a:lnTo>
                  <a:lnTo>
                    <a:pt x="656" y="526"/>
                  </a:lnTo>
                  <a:lnTo>
                    <a:pt x="689" y="446"/>
                  </a:lnTo>
                  <a:lnTo>
                    <a:pt x="656" y="323"/>
                  </a:lnTo>
                  <a:lnTo>
                    <a:pt x="623" y="243"/>
                  </a:lnTo>
                  <a:lnTo>
                    <a:pt x="689" y="121"/>
                  </a:lnTo>
                  <a:lnTo>
                    <a:pt x="722" y="80"/>
                  </a:lnTo>
                  <a:lnTo>
                    <a:pt x="755" y="40"/>
                  </a:lnTo>
                  <a:lnTo>
                    <a:pt x="689" y="40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83200" y="4278240"/>
              <a:ext cx="930600" cy="1103760"/>
            </a:xfrm>
            <a:custGeom>
              <a:avLst/>
              <a:gdLst/>
              <a:ahLst/>
              <a:rect l="0" t="0" r="r" b="b"/>
              <a:pathLst>
                <a:path fill="none" w="2585" h="3066">
                  <a:moveTo>
                    <a:pt x="588" y="241"/>
                  </a:moveTo>
                  <a:lnTo>
                    <a:pt x="490" y="403"/>
                  </a:lnTo>
                  <a:lnTo>
                    <a:pt x="359" y="282"/>
                  </a:lnTo>
                  <a:lnTo>
                    <a:pt x="261" y="282"/>
                  </a:lnTo>
                  <a:lnTo>
                    <a:pt x="98" y="443"/>
                  </a:lnTo>
                  <a:lnTo>
                    <a:pt x="65" y="443"/>
                  </a:lnTo>
                  <a:lnTo>
                    <a:pt x="65" y="524"/>
                  </a:lnTo>
                  <a:lnTo>
                    <a:pt x="65" y="564"/>
                  </a:lnTo>
                  <a:lnTo>
                    <a:pt x="0" y="564"/>
                  </a:lnTo>
                  <a:lnTo>
                    <a:pt x="0" y="685"/>
                  </a:lnTo>
                  <a:lnTo>
                    <a:pt x="32" y="685"/>
                  </a:lnTo>
                  <a:lnTo>
                    <a:pt x="0" y="725"/>
                  </a:lnTo>
                  <a:lnTo>
                    <a:pt x="0" y="888"/>
                  </a:lnTo>
                  <a:lnTo>
                    <a:pt x="65" y="928"/>
                  </a:lnTo>
                  <a:lnTo>
                    <a:pt x="98" y="1009"/>
                  </a:lnTo>
                  <a:lnTo>
                    <a:pt x="163" y="1009"/>
                  </a:lnTo>
                  <a:lnTo>
                    <a:pt x="196" y="1009"/>
                  </a:lnTo>
                  <a:lnTo>
                    <a:pt x="294" y="968"/>
                  </a:lnTo>
                  <a:lnTo>
                    <a:pt x="327" y="888"/>
                  </a:lnTo>
                  <a:lnTo>
                    <a:pt x="392" y="888"/>
                  </a:lnTo>
                  <a:lnTo>
                    <a:pt x="686" y="1009"/>
                  </a:lnTo>
                  <a:lnTo>
                    <a:pt x="719" y="1049"/>
                  </a:lnTo>
                  <a:lnTo>
                    <a:pt x="785" y="1291"/>
                  </a:lnTo>
                  <a:lnTo>
                    <a:pt x="752" y="1331"/>
                  </a:lnTo>
                  <a:lnTo>
                    <a:pt x="883" y="1493"/>
                  </a:lnTo>
                  <a:lnTo>
                    <a:pt x="915" y="1573"/>
                  </a:lnTo>
                  <a:lnTo>
                    <a:pt x="981" y="1573"/>
                  </a:lnTo>
                  <a:lnTo>
                    <a:pt x="1046" y="1654"/>
                  </a:lnTo>
                  <a:lnTo>
                    <a:pt x="1144" y="1735"/>
                  </a:lnTo>
                  <a:lnTo>
                    <a:pt x="1177" y="1855"/>
                  </a:lnTo>
                  <a:lnTo>
                    <a:pt x="1242" y="1936"/>
                  </a:lnTo>
                  <a:lnTo>
                    <a:pt x="1440" y="2017"/>
                  </a:lnTo>
                  <a:lnTo>
                    <a:pt x="1603" y="2097"/>
                  </a:lnTo>
                  <a:lnTo>
                    <a:pt x="1734" y="2138"/>
                  </a:lnTo>
                  <a:lnTo>
                    <a:pt x="1767" y="2259"/>
                  </a:lnTo>
                  <a:lnTo>
                    <a:pt x="1767" y="2340"/>
                  </a:lnTo>
                  <a:lnTo>
                    <a:pt x="1930" y="2340"/>
                  </a:lnTo>
                  <a:lnTo>
                    <a:pt x="1996" y="2421"/>
                  </a:lnTo>
                  <a:lnTo>
                    <a:pt x="1996" y="2582"/>
                  </a:lnTo>
                  <a:lnTo>
                    <a:pt x="2029" y="2744"/>
                  </a:lnTo>
                  <a:lnTo>
                    <a:pt x="1996" y="2865"/>
                  </a:lnTo>
                  <a:lnTo>
                    <a:pt x="1996" y="2905"/>
                  </a:lnTo>
                  <a:lnTo>
                    <a:pt x="1963" y="2986"/>
                  </a:lnTo>
                  <a:lnTo>
                    <a:pt x="1930" y="2986"/>
                  </a:lnTo>
                  <a:lnTo>
                    <a:pt x="1930" y="3066"/>
                  </a:lnTo>
                  <a:lnTo>
                    <a:pt x="2061" y="3066"/>
                  </a:lnTo>
                  <a:lnTo>
                    <a:pt x="2061" y="2986"/>
                  </a:lnTo>
                  <a:lnTo>
                    <a:pt x="2127" y="2945"/>
                  </a:lnTo>
                  <a:lnTo>
                    <a:pt x="2159" y="2865"/>
                  </a:lnTo>
                  <a:lnTo>
                    <a:pt x="2127" y="2784"/>
                  </a:lnTo>
                  <a:lnTo>
                    <a:pt x="2225" y="2744"/>
                  </a:lnTo>
                  <a:lnTo>
                    <a:pt x="2290" y="2744"/>
                  </a:lnTo>
                  <a:lnTo>
                    <a:pt x="2290" y="2663"/>
                  </a:lnTo>
                  <a:lnTo>
                    <a:pt x="2257" y="2502"/>
                  </a:lnTo>
                  <a:lnTo>
                    <a:pt x="2159" y="2461"/>
                  </a:lnTo>
                  <a:lnTo>
                    <a:pt x="2159" y="2381"/>
                  </a:lnTo>
                  <a:lnTo>
                    <a:pt x="2192" y="2300"/>
                  </a:lnTo>
                  <a:lnTo>
                    <a:pt x="2257" y="2218"/>
                  </a:lnTo>
                  <a:lnTo>
                    <a:pt x="2257" y="2259"/>
                  </a:lnTo>
                  <a:lnTo>
                    <a:pt x="2421" y="2259"/>
                  </a:lnTo>
                  <a:lnTo>
                    <a:pt x="2519" y="2461"/>
                  </a:lnTo>
                  <a:lnTo>
                    <a:pt x="2519" y="2421"/>
                  </a:lnTo>
                  <a:lnTo>
                    <a:pt x="2585" y="2340"/>
                  </a:lnTo>
                  <a:lnTo>
                    <a:pt x="2519" y="2138"/>
                  </a:lnTo>
                  <a:lnTo>
                    <a:pt x="2421" y="2138"/>
                  </a:lnTo>
                  <a:lnTo>
                    <a:pt x="2323" y="2057"/>
                  </a:lnTo>
                  <a:lnTo>
                    <a:pt x="2225" y="2017"/>
                  </a:lnTo>
                  <a:lnTo>
                    <a:pt x="2127" y="1936"/>
                  </a:lnTo>
                  <a:lnTo>
                    <a:pt x="1996" y="1896"/>
                  </a:lnTo>
                  <a:lnTo>
                    <a:pt x="1963" y="1855"/>
                  </a:lnTo>
                  <a:lnTo>
                    <a:pt x="2029" y="1815"/>
                  </a:lnTo>
                  <a:lnTo>
                    <a:pt x="2061" y="1775"/>
                  </a:lnTo>
                  <a:lnTo>
                    <a:pt x="2029" y="1735"/>
                  </a:lnTo>
                  <a:lnTo>
                    <a:pt x="1832" y="1735"/>
                  </a:lnTo>
                  <a:lnTo>
                    <a:pt x="1734" y="1694"/>
                  </a:lnTo>
                  <a:lnTo>
                    <a:pt x="1669" y="1694"/>
                  </a:lnTo>
                  <a:lnTo>
                    <a:pt x="1571" y="1493"/>
                  </a:lnTo>
                  <a:lnTo>
                    <a:pt x="1571" y="1372"/>
                  </a:lnTo>
                  <a:lnTo>
                    <a:pt x="1538" y="1291"/>
                  </a:lnTo>
                  <a:lnTo>
                    <a:pt x="1472" y="1291"/>
                  </a:lnTo>
                  <a:lnTo>
                    <a:pt x="1472" y="1170"/>
                  </a:lnTo>
                  <a:lnTo>
                    <a:pt x="1407" y="1089"/>
                  </a:lnTo>
                  <a:lnTo>
                    <a:pt x="1309" y="1049"/>
                  </a:lnTo>
                  <a:lnTo>
                    <a:pt x="1242" y="1009"/>
                  </a:lnTo>
                  <a:lnTo>
                    <a:pt x="1177" y="847"/>
                  </a:lnTo>
                  <a:lnTo>
                    <a:pt x="1177" y="766"/>
                  </a:lnTo>
                  <a:lnTo>
                    <a:pt x="1242" y="725"/>
                  </a:lnTo>
                  <a:lnTo>
                    <a:pt x="1242" y="524"/>
                  </a:lnTo>
                  <a:lnTo>
                    <a:pt x="1275" y="483"/>
                  </a:lnTo>
                  <a:lnTo>
                    <a:pt x="1505" y="483"/>
                  </a:lnTo>
                  <a:lnTo>
                    <a:pt x="1538" y="483"/>
                  </a:lnTo>
                  <a:lnTo>
                    <a:pt x="1571" y="443"/>
                  </a:lnTo>
                  <a:lnTo>
                    <a:pt x="1538" y="282"/>
                  </a:lnTo>
                  <a:lnTo>
                    <a:pt x="1538" y="161"/>
                  </a:lnTo>
                  <a:lnTo>
                    <a:pt x="1407" y="120"/>
                  </a:lnTo>
                  <a:lnTo>
                    <a:pt x="1275" y="120"/>
                  </a:lnTo>
                  <a:lnTo>
                    <a:pt x="1177" y="0"/>
                  </a:lnTo>
                  <a:lnTo>
                    <a:pt x="1046" y="40"/>
                  </a:lnTo>
                  <a:lnTo>
                    <a:pt x="948" y="80"/>
                  </a:lnTo>
                  <a:lnTo>
                    <a:pt x="883" y="80"/>
                  </a:lnTo>
                  <a:lnTo>
                    <a:pt x="817" y="120"/>
                  </a:lnTo>
                  <a:lnTo>
                    <a:pt x="719" y="241"/>
                  </a:lnTo>
                  <a:lnTo>
                    <a:pt x="588" y="241"/>
                  </a:lnTo>
                </a:path>
              </a:pathLst>
            </a:custGeom>
            <a:ln w="12600">
              <a:solidFill>
                <a:srgbClr val="dadad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"/>
          <p:cNvSpPr/>
          <p:nvPr/>
        </p:nvSpPr>
        <p:spPr>
          <a:xfrm>
            <a:off x="330120" y="3056040"/>
            <a:ext cx="3467520" cy="2286360"/>
          </a:xfrm>
          <a:custGeom>
            <a:avLst/>
            <a:gdLst/>
            <a:ahLst/>
            <a:rect l="0" t="0" r="r" b="b"/>
            <a:pathLst>
              <a:path fill="none" w="9632" h="6351">
                <a:moveTo>
                  <a:pt x="9264" y="33"/>
                </a:moveTo>
                <a:lnTo>
                  <a:pt x="9234" y="0"/>
                </a:lnTo>
                <a:lnTo>
                  <a:pt x="9172" y="0"/>
                </a:lnTo>
                <a:lnTo>
                  <a:pt x="9142" y="0"/>
                </a:lnTo>
                <a:lnTo>
                  <a:pt x="9111" y="67"/>
                </a:lnTo>
                <a:lnTo>
                  <a:pt x="9080" y="33"/>
                </a:lnTo>
                <a:lnTo>
                  <a:pt x="9050" y="67"/>
                </a:lnTo>
                <a:lnTo>
                  <a:pt x="9019" y="100"/>
                </a:lnTo>
                <a:lnTo>
                  <a:pt x="8958" y="268"/>
                </a:lnTo>
                <a:lnTo>
                  <a:pt x="8988" y="335"/>
                </a:lnTo>
                <a:lnTo>
                  <a:pt x="8958" y="436"/>
                </a:lnTo>
                <a:lnTo>
                  <a:pt x="8988" y="503"/>
                </a:lnTo>
                <a:lnTo>
                  <a:pt x="8988" y="571"/>
                </a:lnTo>
                <a:lnTo>
                  <a:pt x="8958" y="638"/>
                </a:lnTo>
                <a:lnTo>
                  <a:pt x="8927" y="671"/>
                </a:lnTo>
                <a:lnTo>
                  <a:pt x="8896" y="638"/>
                </a:lnTo>
                <a:lnTo>
                  <a:pt x="8835" y="806"/>
                </a:lnTo>
                <a:lnTo>
                  <a:pt x="8712" y="839"/>
                </a:lnTo>
                <a:lnTo>
                  <a:pt x="8528" y="873"/>
                </a:lnTo>
                <a:lnTo>
                  <a:pt x="8405" y="907"/>
                </a:lnTo>
                <a:lnTo>
                  <a:pt x="8313" y="1007"/>
                </a:lnTo>
                <a:lnTo>
                  <a:pt x="8252" y="1108"/>
                </a:lnTo>
                <a:lnTo>
                  <a:pt x="8191" y="1108"/>
                </a:lnTo>
                <a:lnTo>
                  <a:pt x="8129" y="1209"/>
                </a:lnTo>
                <a:lnTo>
                  <a:pt x="8160" y="1243"/>
                </a:lnTo>
                <a:lnTo>
                  <a:pt x="8191" y="1343"/>
                </a:lnTo>
                <a:lnTo>
                  <a:pt x="8160" y="1343"/>
                </a:lnTo>
                <a:lnTo>
                  <a:pt x="8099" y="1411"/>
                </a:lnTo>
                <a:lnTo>
                  <a:pt x="8068" y="1444"/>
                </a:lnTo>
                <a:lnTo>
                  <a:pt x="8037" y="1478"/>
                </a:lnTo>
                <a:lnTo>
                  <a:pt x="7976" y="1478"/>
                </a:lnTo>
                <a:lnTo>
                  <a:pt x="7853" y="1511"/>
                </a:lnTo>
                <a:lnTo>
                  <a:pt x="7761" y="1545"/>
                </a:lnTo>
                <a:lnTo>
                  <a:pt x="7792" y="1646"/>
                </a:lnTo>
                <a:lnTo>
                  <a:pt x="7761" y="1713"/>
                </a:lnTo>
                <a:lnTo>
                  <a:pt x="7669" y="1814"/>
                </a:lnTo>
                <a:lnTo>
                  <a:pt x="7577" y="1915"/>
                </a:lnTo>
                <a:lnTo>
                  <a:pt x="7485" y="1948"/>
                </a:lnTo>
                <a:lnTo>
                  <a:pt x="7485" y="2049"/>
                </a:lnTo>
                <a:lnTo>
                  <a:pt x="7271" y="2116"/>
                </a:lnTo>
                <a:lnTo>
                  <a:pt x="7178" y="2083"/>
                </a:lnTo>
                <a:lnTo>
                  <a:pt x="7147" y="2083"/>
                </a:lnTo>
                <a:lnTo>
                  <a:pt x="7208" y="2015"/>
                </a:lnTo>
                <a:lnTo>
                  <a:pt x="7208" y="1948"/>
                </a:lnTo>
                <a:lnTo>
                  <a:pt x="7178" y="1881"/>
                </a:lnTo>
                <a:lnTo>
                  <a:pt x="7208" y="1881"/>
                </a:lnTo>
                <a:lnTo>
                  <a:pt x="7271" y="1881"/>
                </a:lnTo>
                <a:lnTo>
                  <a:pt x="7271" y="1747"/>
                </a:lnTo>
                <a:lnTo>
                  <a:pt x="7240" y="1646"/>
                </a:lnTo>
                <a:lnTo>
                  <a:pt x="7208" y="1579"/>
                </a:lnTo>
                <a:lnTo>
                  <a:pt x="7178" y="1511"/>
                </a:lnTo>
                <a:lnTo>
                  <a:pt x="7086" y="1511"/>
                </a:lnTo>
                <a:lnTo>
                  <a:pt x="7055" y="1545"/>
                </a:lnTo>
                <a:lnTo>
                  <a:pt x="6994" y="1612"/>
                </a:lnTo>
                <a:lnTo>
                  <a:pt x="6932" y="1612"/>
                </a:lnTo>
                <a:lnTo>
                  <a:pt x="6963" y="1545"/>
                </a:lnTo>
                <a:lnTo>
                  <a:pt x="6994" y="1545"/>
                </a:lnTo>
                <a:lnTo>
                  <a:pt x="7024" y="1511"/>
                </a:lnTo>
                <a:lnTo>
                  <a:pt x="7086" y="1444"/>
                </a:lnTo>
                <a:lnTo>
                  <a:pt x="7024" y="1310"/>
                </a:lnTo>
                <a:lnTo>
                  <a:pt x="7024" y="1209"/>
                </a:lnTo>
                <a:lnTo>
                  <a:pt x="6932" y="1209"/>
                </a:lnTo>
                <a:lnTo>
                  <a:pt x="6810" y="1108"/>
                </a:lnTo>
                <a:lnTo>
                  <a:pt x="6718" y="1142"/>
                </a:lnTo>
                <a:lnTo>
                  <a:pt x="6687" y="1175"/>
                </a:lnTo>
                <a:lnTo>
                  <a:pt x="6718" y="1209"/>
                </a:lnTo>
                <a:lnTo>
                  <a:pt x="6687" y="1243"/>
                </a:lnTo>
                <a:lnTo>
                  <a:pt x="6656" y="1310"/>
                </a:lnTo>
                <a:lnTo>
                  <a:pt x="6626" y="1310"/>
                </a:lnTo>
                <a:lnTo>
                  <a:pt x="6564" y="1377"/>
                </a:lnTo>
                <a:lnTo>
                  <a:pt x="6534" y="1444"/>
                </a:lnTo>
                <a:lnTo>
                  <a:pt x="6534" y="1478"/>
                </a:lnTo>
                <a:lnTo>
                  <a:pt x="6534" y="1612"/>
                </a:lnTo>
                <a:lnTo>
                  <a:pt x="6503" y="1747"/>
                </a:lnTo>
                <a:lnTo>
                  <a:pt x="6534" y="1814"/>
                </a:lnTo>
                <a:lnTo>
                  <a:pt x="6595" y="1948"/>
                </a:lnTo>
                <a:lnTo>
                  <a:pt x="6595" y="2083"/>
                </a:lnTo>
                <a:lnTo>
                  <a:pt x="6534" y="2251"/>
                </a:lnTo>
                <a:lnTo>
                  <a:pt x="6472" y="2284"/>
                </a:lnTo>
                <a:lnTo>
                  <a:pt x="6442" y="2251"/>
                </a:lnTo>
                <a:lnTo>
                  <a:pt x="6380" y="2183"/>
                </a:lnTo>
                <a:lnTo>
                  <a:pt x="6349" y="2083"/>
                </a:lnTo>
                <a:lnTo>
                  <a:pt x="6349" y="1982"/>
                </a:lnTo>
                <a:lnTo>
                  <a:pt x="6349" y="1881"/>
                </a:lnTo>
                <a:lnTo>
                  <a:pt x="6319" y="1814"/>
                </a:lnTo>
                <a:lnTo>
                  <a:pt x="6319" y="1646"/>
                </a:lnTo>
                <a:lnTo>
                  <a:pt x="6349" y="1545"/>
                </a:lnTo>
                <a:lnTo>
                  <a:pt x="6349" y="1478"/>
                </a:lnTo>
                <a:lnTo>
                  <a:pt x="6411" y="1377"/>
                </a:lnTo>
                <a:lnTo>
                  <a:pt x="6380" y="1343"/>
                </a:lnTo>
                <a:lnTo>
                  <a:pt x="6349" y="1343"/>
                </a:lnTo>
                <a:lnTo>
                  <a:pt x="6319" y="1411"/>
                </a:lnTo>
                <a:lnTo>
                  <a:pt x="6257" y="1511"/>
                </a:lnTo>
                <a:lnTo>
                  <a:pt x="6288" y="1411"/>
                </a:lnTo>
                <a:lnTo>
                  <a:pt x="6288" y="1377"/>
                </a:lnTo>
                <a:lnTo>
                  <a:pt x="6288" y="1310"/>
                </a:lnTo>
                <a:lnTo>
                  <a:pt x="6288" y="1243"/>
                </a:lnTo>
                <a:lnTo>
                  <a:pt x="6319" y="1209"/>
                </a:lnTo>
                <a:lnTo>
                  <a:pt x="6349" y="1108"/>
                </a:lnTo>
                <a:lnTo>
                  <a:pt x="6349" y="1075"/>
                </a:lnTo>
                <a:lnTo>
                  <a:pt x="6380" y="1142"/>
                </a:lnTo>
                <a:lnTo>
                  <a:pt x="6442" y="1142"/>
                </a:lnTo>
                <a:lnTo>
                  <a:pt x="6472" y="1108"/>
                </a:lnTo>
                <a:lnTo>
                  <a:pt x="6534" y="1075"/>
                </a:lnTo>
                <a:lnTo>
                  <a:pt x="6626" y="1075"/>
                </a:lnTo>
                <a:lnTo>
                  <a:pt x="6656" y="1075"/>
                </a:lnTo>
                <a:lnTo>
                  <a:pt x="6718" y="1075"/>
                </a:lnTo>
                <a:lnTo>
                  <a:pt x="6810" y="1041"/>
                </a:lnTo>
                <a:lnTo>
                  <a:pt x="6840" y="1041"/>
                </a:lnTo>
                <a:lnTo>
                  <a:pt x="6840" y="1007"/>
                </a:lnTo>
                <a:lnTo>
                  <a:pt x="6871" y="1007"/>
                </a:lnTo>
                <a:lnTo>
                  <a:pt x="6810" y="974"/>
                </a:lnTo>
                <a:lnTo>
                  <a:pt x="6779" y="940"/>
                </a:lnTo>
                <a:lnTo>
                  <a:pt x="6687" y="907"/>
                </a:lnTo>
                <a:lnTo>
                  <a:pt x="6626" y="907"/>
                </a:lnTo>
                <a:lnTo>
                  <a:pt x="6564" y="907"/>
                </a:lnTo>
                <a:lnTo>
                  <a:pt x="6534" y="873"/>
                </a:lnTo>
                <a:lnTo>
                  <a:pt x="6472" y="839"/>
                </a:lnTo>
                <a:lnTo>
                  <a:pt x="6380" y="873"/>
                </a:lnTo>
                <a:lnTo>
                  <a:pt x="6319" y="873"/>
                </a:lnTo>
                <a:lnTo>
                  <a:pt x="6257" y="940"/>
                </a:lnTo>
                <a:lnTo>
                  <a:pt x="6196" y="907"/>
                </a:lnTo>
                <a:lnTo>
                  <a:pt x="6135" y="873"/>
                </a:lnTo>
                <a:lnTo>
                  <a:pt x="6073" y="907"/>
                </a:lnTo>
                <a:lnTo>
                  <a:pt x="6012" y="873"/>
                </a:lnTo>
                <a:lnTo>
                  <a:pt x="6073" y="806"/>
                </a:lnTo>
                <a:lnTo>
                  <a:pt x="6043" y="772"/>
                </a:lnTo>
                <a:lnTo>
                  <a:pt x="6012" y="772"/>
                </a:lnTo>
                <a:lnTo>
                  <a:pt x="5951" y="873"/>
                </a:lnTo>
                <a:lnTo>
                  <a:pt x="5889" y="940"/>
                </a:lnTo>
                <a:lnTo>
                  <a:pt x="5828" y="1041"/>
                </a:lnTo>
                <a:lnTo>
                  <a:pt x="5736" y="1041"/>
                </a:lnTo>
                <a:lnTo>
                  <a:pt x="5705" y="940"/>
                </a:lnTo>
                <a:lnTo>
                  <a:pt x="5675" y="940"/>
                </a:lnTo>
                <a:lnTo>
                  <a:pt x="5644" y="1007"/>
                </a:lnTo>
                <a:lnTo>
                  <a:pt x="5552" y="1007"/>
                </a:lnTo>
                <a:lnTo>
                  <a:pt x="5675" y="873"/>
                </a:lnTo>
                <a:lnTo>
                  <a:pt x="5920" y="705"/>
                </a:lnTo>
                <a:lnTo>
                  <a:pt x="5920" y="671"/>
                </a:lnTo>
                <a:lnTo>
                  <a:pt x="5797" y="671"/>
                </a:lnTo>
                <a:lnTo>
                  <a:pt x="5644" y="604"/>
                </a:lnTo>
                <a:lnTo>
                  <a:pt x="5613" y="705"/>
                </a:lnTo>
                <a:lnTo>
                  <a:pt x="5491" y="638"/>
                </a:lnTo>
                <a:lnTo>
                  <a:pt x="5429" y="671"/>
                </a:lnTo>
                <a:lnTo>
                  <a:pt x="5368" y="604"/>
                </a:lnTo>
                <a:lnTo>
                  <a:pt x="5245" y="604"/>
                </a:lnTo>
                <a:lnTo>
                  <a:pt x="5215" y="638"/>
                </a:lnTo>
                <a:lnTo>
                  <a:pt x="5092" y="537"/>
                </a:lnTo>
                <a:lnTo>
                  <a:pt x="5061" y="470"/>
                </a:lnTo>
                <a:lnTo>
                  <a:pt x="4908" y="436"/>
                </a:lnTo>
                <a:lnTo>
                  <a:pt x="5000" y="537"/>
                </a:lnTo>
                <a:lnTo>
                  <a:pt x="2730" y="470"/>
                </a:lnTo>
                <a:lnTo>
                  <a:pt x="2577" y="436"/>
                </a:lnTo>
                <a:lnTo>
                  <a:pt x="2331" y="403"/>
                </a:lnTo>
                <a:lnTo>
                  <a:pt x="2024" y="335"/>
                </a:lnTo>
                <a:lnTo>
                  <a:pt x="1656" y="302"/>
                </a:lnTo>
                <a:lnTo>
                  <a:pt x="1502" y="268"/>
                </a:lnTo>
                <a:lnTo>
                  <a:pt x="1288" y="235"/>
                </a:lnTo>
                <a:lnTo>
                  <a:pt x="1134" y="201"/>
                </a:lnTo>
                <a:lnTo>
                  <a:pt x="736" y="67"/>
                </a:lnTo>
                <a:lnTo>
                  <a:pt x="736" y="100"/>
                </a:lnTo>
                <a:lnTo>
                  <a:pt x="736" y="134"/>
                </a:lnTo>
                <a:lnTo>
                  <a:pt x="766" y="201"/>
                </a:lnTo>
                <a:lnTo>
                  <a:pt x="736" y="235"/>
                </a:lnTo>
                <a:lnTo>
                  <a:pt x="705" y="268"/>
                </a:lnTo>
                <a:lnTo>
                  <a:pt x="736" y="335"/>
                </a:lnTo>
                <a:lnTo>
                  <a:pt x="797" y="436"/>
                </a:lnTo>
                <a:lnTo>
                  <a:pt x="736" y="503"/>
                </a:lnTo>
                <a:lnTo>
                  <a:pt x="705" y="571"/>
                </a:lnTo>
                <a:lnTo>
                  <a:pt x="644" y="571"/>
                </a:lnTo>
                <a:lnTo>
                  <a:pt x="705" y="537"/>
                </a:lnTo>
                <a:lnTo>
                  <a:pt x="705" y="503"/>
                </a:lnTo>
                <a:lnTo>
                  <a:pt x="705" y="436"/>
                </a:lnTo>
                <a:lnTo>
                  <a:pt x="674" y="436"/>
                </a:lnTo>
                <a:lnTo>
                  <a:pt x="674" y="403"/>
                </a:lnTo>
                <a:lnTo>
                  <a:pt x="736" y="403"/>
                </a:lnTo>
                <a:lnTo>
                  <a:pt x="705" y="302"/>
                </a:lnTo>
                <a:lnTo>
                  <a:pt x="674" y="302"/>
                </a:lnTo>
                <a:lnTo>
                  <a:pt x="582" y="302"/>
                </a:lnTo>
                <a:lnTo>
                  <a:pt x="552" y="235"/>
                </a:lnTo>
                <a:lnTo>
                  <a:pt x="490" y="201"/>
                </a:lnTo>
                <a:lnTo>
                  <a:pt x="460" y="201"/>
                </a:lnTo>
                <a:lnTo>
                  <a:pt x="429" y="235"/>
                </a:lnTo>
                <a:lnTo>
                  <a:pt x="429" y="335"/>
                </a:lnTo>
                <a:lnTo>
                  <a:pt x="460" y="403"/>
                </a:lnTo>
                <a:lnTo>
                  <a:pt x="460" y="503"/>
                </a:lnTo>
                <a:lnTo>
                  <a:pt x="429" y="571"/>
                </a:lnTo>
                <a:lnTo>
                  <a:pt x="460" y="604"/>
                </a:lnTo>
                <a:lnTo>
                  <a:pt x="490" y="638"/>
                </a:lnTo>
                <a:lnTo>
                  <a:pt x="460" y="705"/>
                </a:lnTo>
                <a:lnTo>
                  <a:pt x="460" y="739"/>
                </a:lnTo>
                <a:lnTo>
                  <a:pt x="460" y="806"/>
                </a:lnTo>
                <a:lnTo>
                  <a:pt x="429" y="806"/>
                </a:lnTo>
                <a:lnTo>
                  <a:pt x="398" y="974"/>
                </a:lnTo>
                <a:lnTo>
                  <a:pt x="368" y="1075"/>
                </a:lnTo>
                <a:lnTo>
                  <a:pt x="306" y="1209"/>
                </a:lnTo>
                <a:lnTo>
                  <a:pt x="245" y="1310"/>
                </a:lnTo>
                <a:lnTo>
                  <a:pt x="214" y="1444"/>
                </a:lnTo>
                <a:lnTo>
                  <a:pt x="153" y="1511"/>
                </a:lnTo>
                <a:lnTo>
                  <a:pt x="153" y="1713"/>
                </a:lnTo>
                <a:lnTo>
                  <a:pt x="153" y="1881"/>
                </a:lnTo>
                <a:lnTo>
                  <a:pt x="122" y="1948"/>
                </a:lnTo>
                <a:lnTo>
                  <a:pt x="61" y="2083"/>
                </a:lnTo>
                <a:lnTo>
                  <a:pt x="0" y="2183"/>
                </a:lnTo>
                <a:lnTo>
                  <a:pt x="61" y="2351"/>
                </a:lnTo>
                <a:lnTo>
                  <a:pt x="61" y="2486"/>
                </a:lnTo>
                <a:lnTo>
                  <a:pt x="30" y="2553"/>
                </a:lnTo>
                <a:lnTo>
                  <a:pt x="92" y="2721"/>
                </a:lnTo>
                <a:lnTo>
                  <a:pt x="122" y="2822"/>
                </a:lnTo>
                <a:lnTo>
                  <a:pt x="184" y="2855"/>
                </a:lnTo>
                <a:lnTo>
                  <a:pt x="245" y="2788"/>
                </a:lnTo>
                <a:lnTo>
                  <a:pt x="276" y="2822"/>
                </a:lnTo>
                <a:lnTo>
                  <a:pt x="276" y="2889"/>
                </a:lnTo>
                <a:lnTo>
                  <a:pt x="214" y="2889"/>
                </a:lnTo>
                <a:lnTo>
                  <a:pt x="245" y="2923"/>
                </a:lnTo>
                <a:lnTo>
                  <a:pt x="184" y="2889"/>
                </a:lnTo>
                <a:lnTo>
                  <a:pt x="184" y="2990"/>
                </a:lnTo>
                <a:lnTo>
                  <a:pt x="214" y="3091"/>
                </a:lnTo>
                <a:lnTo>
                  <a:pt x="214" y="3158"/>
                </a:lnTo>
                <a:lnTo>
                  <a:pt x="306" y="3124"/>
                </a:lnTo>
                <a:lnTo>
                  <a:pt x="276" y="3158"/>
                </a:lnTo>
                <a:lnTo>
                  <a:pt x="214" y="3192"/>
                </a:lnTo>
                <a:lnTo>
                  <a:pt x="214" y="3293"/>
                </a:lnTo>
                <a:lnTo>
                  <a:pt x="306" y="3394"/>
                </a:lnTo>
                <a:lnTo>
                  <a:pt x="337" y="3427"/>
                </a:lnTo>
                <a:lnTo>
                  <a:pt x="306" y="3495"/>
                </a:lnTo>
                <a:lnTo>
                  <a:pt x="337" y="3528"/>
                </a:lnTo>
                <a:lnTo>
                  <a:pt x="368" y="3629"/>
                </a:lnTo>
                <a:lnTo>
                  <a:pt x="368" y="3663"/>
                </a:lnTo>
                <a:lnTo>
                  <a:pt x="398" y="3696"/>
                </a:lnTo>
                <a:lnTo>
                  <a:pt x="398" y="3763"/>
                </a:lnTo>
                <a:lnTo>
                  <a:pt x="368" y="3797"/>
                </a:lnTo>
                <a:lnTo>
                  <a:pt x="429" y="3831"/>
                </a:lnTo>
                <a:lnTo>
                  <a:pt x="490" y="3831"/>
                </a:lnTo>
                <a:lnTo>
                  <a:pt x="552" y="3797"/>
                </a:lnTo>
                <a:lnTo>
                  <a:pt x="582" y="3831"/>
                </a:lnTo>
                <a:lnTo>
                  <a:pt x="613" y="3864"/>
                </a:lnTo>
                <a:lnTo>
                  <a:pt x="613" y="3898"/>
                </a:lnTo>
                <a:lnTo>
                  <a:pt x="674" y="3965"/>
                </a:lnTo>
                <a:lnTo>
                  <a:pt x="705" y="3999"/>
                </a:lnTo>
                <a:lnTo>
                  <a:pt x="736" y="4066"/>
                </a:lnTo>
                <a:lnTo>
                  <a:pt x="736" y="4099"/>
                </a:lnTo>
                <a:lnTo>
                  <a:pt x="797" y="4133"/>
                </a:lnTo>
                <a:lnTo>
                  <a:pt x="828" y="4167"/>
                </a:lnTo>
                <a:lnTo>
                  <a:pt x="889" y="4267"/>
                </a:lnTo>
                <a:lnTo>
                  <a:pt x="889" y="4368"/>
                </a:lnTo>
                <a:lnTo>
                  <a:pt x="889" y="4402"/>
                </a:lnTo>
                <a:lnTo>
                  <a:pt x="950" y="4435"/>
                </a:lnTo>
                <a:lnTo>
                  <a:pt x="981" y="4402"/>
                </a:lnTo>
                <a:lnTo>
                  <a:pt x="1042" y="4402"/>
                </a:lnTo>
                <a:lnTo>
                  <a:pt x="1134" y="4402"/>
                </a:lnTo>
                <a:lnTo>
                  <a:pt x="1196" y="4402"/>
                </a:lnTo>
                <a:lnTo>
                  <a:pt x="1318" y="4402"/>
                </a:lnTo>
                <a:lnTo>
                  <a:pt x="1380" y="4435"/>
                </a:lnTo>
                <a:lnTo>
                  <a:pt x="1380" y="4469"/>
                </a:lnTo>
                <a:lnTo>
                  <a:pt x="1380" y="4503"/>
                </a:lnTo>
                <a:lnTo>
                  <a:pt x="1472" y="4570"/>
                </a:lnTo>
                <a:lnTo>
                  <a:pt x="1533" y="4637"/>
                </a:lnTo>
                <a:lnTo>
                  <a:pt x="1717" y="4704"/>
                </a:lnTo>
                <a:lnTo>
                  <a:pt x="1809" y="4771"/>
                </a:lnTo>
                <a:lnTo>
                  <a:pt x="1962" y="4839"/>
                </a:lnTo>
                <a:lnTo>
                  <a:pt x="2085" y="4872"/>
                </a:lnTo>
                <a:lnTo>
                  <a:pt x="2177" y="4906"/>
                </a:lnTo>
                <a:lnTo>
                  <a:pt x="2239" y="4872"/>
                </a:lnTo>
                <a:lnTo>
                  <a:pt x="2361" y="4906"/>
                </a:lnTo>
                <a:lnTo>
                  <a:pt x="2454" y="4906"/>
                </a:lnTo>
                <a:lnTo>
                  <a:pt x="2516" y="4906"/>
                </a:lnTo>
                <a:lnTo>
                  <a:pt x="2608" y="4939"/>
                </a:lnTo>
                <a:lnTo>
                  <a:pt x="2669" y="4906"/>
                </a:lnTo>
                <a:lnTo>
                  <a:pt x="2700" y="4805"/>
                </a:lnTo>
                <a:lnTo>
                  <a:pt x="2822" y="4839"/>
                </a:lnTo>
                <a:lnTo>
                  <a:pt x="2945" y="4839"/>
                </a:lnTo>
                <a:lnTo>
                  <a:pt x="3068" y="4973"/>
                </a:lnTo>
                <a:lnTo>
                  <a:pt x="3221" y="5107"/>
                </a:lnTo>
                <a:lnTo>
                  <a:pt x="3282" y="5208"/>
                </a:lnTo>
                <a:lnTo>
                  <a:pt x="3282" y="5275"/>
                </a:lnTo>
                <a:lnTo>
                  <a:pt x="3313" y="5376"/>
                </a:lnTo>
                <a:lnTo>
                  <a:pt x="3374" y="5443"/>
                </a:lnTo>
                <a:lnTo>
                  <a:pt x="3436" y="5511"/>
                </a:lnTo>
                <a:lnTo>
                  <a:pt x="3589" y="5611"/>
                </a:lnTo>
                <a:lnTo>
                  <a:pt x="3650" y="5611"/>
                </a:lnTo>
                <a:lnTo>
                  <a:pt x="3681" y="5578"/>
                </a:lnTo>
                <a:lnTo>
                  <a:pt x="3712" y="5511"/>
                </a:lnTo>
                <a:lnTo>
                  <a:pt x="3712" y="5443"/>
                </a:lnTo>
                <a:lnTo>
                  <a:pt x="3804" y="5443"/>
                </a:lnTo>
                <a:lnTo>
                  <a:pt x="3865" y="5443"/>
                </a:lnTo>
                <a:lnTo>
                  <a:pt x="3957" y="5477"/>
                </a:lnTo>
                <a:lnTo>
                  <a:pt x="4018" y="5511"/>
                </a:lnTo>
                <a:lnTo>
                  <a:pt x="4080" y="5544"/>
                </a:lnTo>
                <a:lnTo>
                  <a:pt x="4110" y="5611"/>
                </a:lnTo>
                <a:lnTo>
                  <a:pt x="4141" y="5679"/>
                </a:lnTo>
                <a:lnTo>
                  <a:pt x="4172" y="5779"/>
                </a:lnTo>
                <a:lnTo>
                  <a:pt x="4202" y="5847"/>
                </a:lnTo>
                <a:lnTo>
                  <a:pt x="4264" y="5880"/>
                </a:lnTo>
                <a:lnTo>
                  <a:pt x="4325" y="5947"/>
                </a:lnTo>
                <a:lnTo>
                  <a:pt x="4356" y="6048"/>
                </a:lnTo>
                <a:lnTo>
                  <a:pt x="4387" y="6115"/>
                </a:lnTo>
                <a:lnTo>
                  <a:pt x="4417" y="6250"/>
                </a:lnTo>
                <a:lnTo>
                  <a:pt x="4479" y="6250"/>
                </a:lnTo>
                <a:lnTo>
                  <a:pt x="4571" y="6283"/>
                </a:lnTo>
                <a:lnTo>
                  <a:pt x="4632" y="6317"/>
                </a:lnTo>
                <a:lnTo>
                  <a:pt x="4724" y="6317"/>
                </a:lnTo>
                <a:lnTo>
                  <a:pt x="4785" y="6351"/>
                </a:lnTo>
                <a:lnTo>
                  <a:pt x="4908" y="6351"/>
                </a:lnTo>
                <a:lnTo>
                  <a:pt x="4939" y="6250"/>
                </a:lnTo>
                <a:lnTo>
                  <a:pt x="4847" y="6183"/>
                </a:lnTo>
                <a:lnTo>
                  <a:pt x="4847" y="6082"/>
                </a:lnTo>
                <a:lnTo>
                  <a:pt x="4877" y="6015"/>
                </a:lnTo>
                <a:lnTo>
                  <a:pt x="4877" y="5914"/>
                </a:lnTo>
                <a:lnTo>
                  <a:pt x="4908" y="5914"/>
                </a:lnTo>
                <a:lnTo>
                  <a:pt x="4908" y="5847"/>
                </a:lnTo>
                <a:lnTo>
                  <a:pt x="4969" y="5813"/>
                </a:lnTo>
                <a:lnTo>
                  <a:pt x="5031" y="5746"/>
                </a:lnTo>
                <a:lnTo>
                  <a:pt x="5092" y="5746"/>
                </a:lnTo>
                <a:lnTo>
                  <a:pt x="5184" y="5679"/>
                </a:lnTo>
                <a:lnTo>
                  <a:pt x="5245" y="5611"/>
                </a:lnTo>
                <a:lnTo>
                  <a:pt x="5368" y="5544"/>
                </a:lnTo>
                <a:lnTo>
                  <a:pt x="5337" y="5443"/>
                </a:lnTo>
                <a:lnTo>
                  <a:pt x="5368" y="5443"/>
                </a:lnTo>
                <a:lnTo>
                  <a:pt x="5399" y="5511"/>
                </a:lnTo>
                <a:lnTo>
                  <a:pt x="5521" y="5376"/>
                </a:lnTo>
                <a:lnTo>
                  <a:pt x="5644" y="5410"/>
                </a:lnTo>
                <a:lnTo>
                  <a:pt x="5797" y="5443"/>
                </a:lnTo>
                <a:lnTo>
                  <a:pt x="5920" y="5410"/>
                </a:lnTo>
                <a:lnTo>
                  <a:pt x="5981" y="5410"/>
                </a:lnTo>
                <a:lnTo>
                  <a:pt x="5951" y="5343"/>
                </a:lnTo>
                <a:lnTo>
                  <a:pt x="6012" y="5343"/>
                </a:lnTo>
                <a:lnTo>
                  <a:pt x="6043" y="5410"/>
                </a:lnTo>
                <a:lnTo>
                  <a:pt x="6043" y="5443"/>
                </a:lnTo>
                <a:lnTo>
                  <a:pt x="6165" y="5443"/>
                </a:lnTo>
                <a:lnTo>
                  <a:pt x="6227" y="5443"/>
                </a:lnTo>
                <a:lnTo>
                  <a:pt x="6288" y="5477"/>
                </a:lnTo>
                <a:lnTo>
                  <a:pt x="6319" y="5477"/>
                </a:lnTo>
                <a:lnTo>
                  <a:pt x="6380" y="5477"/>
                </a:lnTo>
                <a:lnTo>
                  <a:pt x="6349" y="5410"/>
                </a:lnTo>
                <a:lnTo>
                  <a:pt x="6380" y="5410"/>
                </a:lnTo>
                <a:lnTo>
                  <a:pt x="6411" y="5410"/>
                </a:lnTo>
                <a:lnTo>
                  <a:pt x="6472" y="5477"/>
                </a:lnTo>
                <a:lnTo>
                  <a:pt x="6503" y="5443"/>
                </a:lnTo>
                <a:lnTo>
                  <a:pt x="6534" y="5410"/>
                </a:lnTo>
                <a:lnTo>
                  <a:pt x="6534" y="5343"/>
                </a:lnTo>
                <a:lnTo>
                  <a:pt x="6472" y="5343"/>
                </a:lnTo>
                <a:lnTo>
                  <a:pt x="6442" y="5309"/>
                </a:lnTo>
                <a:lnTo>
                  <a:pt x="6472" y="5242"/>
                </a:lnTo>
                <a:lnTo>
                  <a:pt x="6472" y="5175"/>
                </a:lnTo>
                <a:lnTo>
                  <a:pt x="6411" y="5175"/>
                </a:lnTo>
                <a:lnTo>
                  <a:pt x="6349" y="5242"/>
                </a:lnTo>
                <a:lnTo>
                  <a:pt x="6349" y="5175"/>
                </a:lnTo>
                <a:lnTo>
                  <a:pt x="6288" y="5208"/>
                </a:lnTo>
                <a:lnTo>
                  <a:pt x="6227" y="5242"/>
                </a:lnTo>
                <a:lnTo>
                  <a:pt x="6227" y="5208"/>
                </a:lnTo>
                <a:lnTo>
                  <a:pt x="6257" y="5141"/>
                </a:lnTo>
                <a:lnTo>
                  <a:pt x="6411" y="5175"/>
                </a:lnTo>
                <a:lnTo>
                  <a:pt x="6472" y="5107"/>
                </a:lnTo>
                <a:lnTo>
                  <a:pt x="6534" y="5074"/>
                </a:lnTo>
                <a:lnTo>
                  <a:pt x="6626" y="5107"/>
                </a:lnTo>
                <a:lnTo>
                  <a:pt x="6656" y="5074"/>
                </a:lnTo>
                <a:lnTo>
                  <a:pt x="6656" y="4973"/>
                </a:lnTo>
                <a:lnTo>
                  <a:pt x="6718" y="5107"/>
                </a:lnTo>
                <a:lnTo>
                  <a:pt x="6718" y="5141"/>
                </a:lnTo>
                <a:lnTo>
                  <a:pt x="6810" y="5074"/>
                </a:lnTo>
                <a:lnTo>
                  <a:pt x="6840" y="5007"/>
                </a:lnTo>
                <a:lnTo>
                  <a:pt x="6871" y="5074"/>
                </a:lnTo>
                <a:lnTo>
                  <a:pt x="6932" y="5074"/>
                </a:lnTo>
                <a:lnTo>
                  <a:pt x="6994" y="5040"/>
                </a:lnTo>
                <a:lnTo>
                  <a:pt x="7147" y="5007"/>
                </a:lnTo>
                <a:lnTo>
                  <a:pt x="7178" y="5040"/>
                </a:lnTo>
                <a:lnTo>
                  <a:pt x="7208" y="5107"/>
                </a:lnTo>
                <a:lnTo>
                  <a:pt x="7271" y="5107"/>
                </a:lnTo>
                <a:lnTo>
                  <a:pt x="7332" y="5107"/>
                </a:lnTo>
                <a:lnTo>
                  <a:pt x="7424" y="5107"/>
                </a:lnTo>
                <a:lnTo>
                  <a:pt x="7455" y="5040"/>
                </a:lnTo>
                <a:lnTo>
                  <a:pt x="7516" y="5040"/>
                </a:lnTo>
                <a:lnTo>
                  <a:pt x="7577" y="5107"/>
                </a:lnTo>
                <a:lnTo>
                  <a:pt x="7639" y="5141"/>
                </a:lnTo>
                <a:lnTo>
                  <a:pt x="7669" y="5175"/>
                </a:lnTo>
                <a:lnTo>
                  <a:pt x="7731" y="5175"/>
                </a:lnTo>
                <a:lnTo>
                  <a:pt x="7761" y="5242"/>
                </a:lnTo>
                <a:lnTo>
                  <a:pt x="7792" y="5275"/>
                </a:lnTo>
                <a:lnTo>
                  <a:pt x="7853" y="5343"/>
                </a:lnTo>
                <a:lnTo>
                  <a:pt x="7823" y="5410"/>
                </a:lnTo>
                <a:lnTo>
                  <a:pt x="7823" y="5477"/>
                </a:lnTo>
                <a:lnTo>
                  <a:pt x="7823" y="5544"/>
                </a:lnTo>
                <a:lnTo>
                  <a:pt x="7853" y="5578"/>
                </a:lnTo>
                <a:lnTo>
                  <a:pt x="7884" y="5578"/>
                </a:lnTo>
                <a:lnTo>
                  <a:pt x="7884" y="5511"/>
                </a:lnTo>
                <a:lnTo>
                  <a:pt x="7915" y="5544"/>
                </a:lnTo>
                <a:lnTo>
                  <a:pt x="7884" y="5611"/>
                </a:lnTo>
                <a:lnTo>
                  <a:pt x="7884" y="5645"/>
                </a:lnTo>
                <a:lnTo>
                  <a:pt x="7915" y="5679"/>
                </a:lnTo>
                <a:lnTo>
                  <a:pt x="7976" y="5746"/>
                </a:lnTo>
                <a:lnTo>
                  <a:pt x="8037" y="5779"/>
                </a:lnTo>
                <a:lnTo>
                  <a:pt x="8068" y="5847"/>
                </a:lnTo>
                <a:lnTo>
                  <a:pt x="8099" y="5880"/>
                </a:lnTo>
                <a:lnTo>
                  <a:pt x="8129" y="5947"/>
                </a:lnTo>
                <a:lnTo>
                  <a:pt x="8191" y="5981"/>
                </a:lnTo>
                <a:lnTo>
                  <a:pt x="8252" y="6015"/>
                </a:lnTo>
                <a:lnTo>
                  <a:pt x="8283" y="6082"/>
                </a:lnTo>
                <a:lnTo>
                  <a:pt x="8375" y="6082"/>
                </a:lnTo>
                <a:lnTo>
                  <a:pt x="8497" y="6048"/>
                </a:lnTo>
                <a:lnTo>
                  <a:pt x="8528" y="5914"/>
                </a:lnTo>
                <a:lnTo>
                  <a:pt x="8497" y="5813"/>
                </a:lnTo>
                <a:lnTo>
                  <a:pt x="8497" y="5679"/>
                </a:lnTo>
                <a:lnTo>
                  <a:pt x="8467" y="5611"/>
                </a:lnTo>
                <a:lnTo>
                  <a:pt x="8405" y="5544"/>
                </a:lnTo>
                <a:lnTo>
                  <a:pt x="8375" y="5477"/>
                </a:lnTo>
                <a:lnTo>
                  <a:pt x="8313" y="5343"/>
                </a:lnTo>
                <a:lnTo>
                  <a:pt x="8283" y="5242"/>
                </a:lnTo>
                <a:lnTo>
                  <a:pt x="8191" y="5107"/>
                </a:lnTo>
                <a:lnTo>
                  <a:pt x="8160" y="5040"/>
                </a:lnTo>
                <a:lnTo>
                  <a:pt x="8068" y="4939"/>
                </a:lnTo>
                <a:lnTo>
                  <a:pt x="8037" y="4839"/>
                </a:lnTo>
                <a:lnTo>
                  <a:pt x="8007" y="4738"/>
                </a:lnTo>
                <a:lnTo>
                  <a:pt x="8007" y="4671"/>
                </a:lnTo>
                <a:lnTo>
                  <a:pt x="8007" y="4637"/>
                </a:lnTo>
                <a:lnTo>
                  <a:pt x="8037" y="4603"/>
                </a:lnTo>
                <a:lnTo>
                  <a:pt x="8037" y="4469"/>
                </a:lnTo>
                <a:lnTo>
                  <a:pt x="8099" y="4368"/>
                </a:lnTo>
                <a:lnTo>
                  <a:pt x="8068" y="4267"/>
                </a:lnTo>
                <a:lnTo>
                  <a:pt x="8191" y="4267"/>
                </a:lnTo>
                <a:lnTo>
                  <a:pt x="8313" y="4133"/>
                </a:lnTo>
                <a:lnTo>
                  <a:pt x="8375" y="3898"/>
                </a:lnTo>
                <a:lnTo>
                  <a:pt x="8528" y="3831"/>
                </a:lnTo>
                <a:lnTo>
                  <a:pt x="8620" y="3629"/>
                </a:lnTo>
                <a:lnTo>
                  <a:pt x="8774" y="3562"/>
                </a:lnTo>
                <a:lnTo>
                  <a:pt x="8866" y="3394"/>
                </a:lnTo>
                <a:lnTo>
                  <a:pt x="8866" y="3293"/>
                </a:lnTo>
                <a:lnTo>
                  <a:pt x="8866" y="3192"/>
                </a:lnTo>
                <a:lnTo>
                  <a:pt x="8835" y="3192"/>
                </a:lnTo>
                <a:lnTo>
                  <a:pt x="8835" y="3360"/>
                </a:lnTo>
                <a:lnTo>
                  <a:pt x="8743" y="3495"/>
                </a:lnTo>
                <a:lnTo>
                  <a:pt x="8590" y="3528"/>
                </a:lnTo>
                <a:lnTo>
                  <a:pt x="8712" y="3427"/>
                </a:lnTo>
                <a:lnTo>
                  <a:pt x="8651" y="3394"/>
                </a:lnTo>
                <a:lnTo>
                  <a:pt x="8712" y="3394"/>
                </a:lnTo>
                <a:lnTo>
                  <a:pt x="8774" y="3394"/>
                </a:lnTo>
                <a:lnTo>
                  <a:pt x="8804" y="3293"/>
                </a:lnTo>
                <a:lnTo>
                  <a:pt x="8774" y="3226"/>
                </a:lnTo>
                <a:lnTo>
                  <a:pt x="8712" y="3226"/>
                </a:lnTo>
                <a:lnTo>
                  <a:pt x="8620" y="3259"/>
                </a:lnTo>
                <a:lnTo>
                  <a:pt x="8620" y="3192"/>
                </a:lnTo>
                <a:lnTo>
                  <a:pt x="8682" y="3226"/>
                </a:lnTo>
                <a:lnTo>
                  <a:pt x="8774" y="3158"/>
                </a:lnTo>
                <a:lnTo>
                  <a:pt x="8774" y="3124"/>
                </a:lnTo>
                <a:lnTo>
                  <a:pt x="8712" y="3091"/>
                </a:lnTo>
                <a:lnTo>
                  <a:pt x="8712" y="2990"/>
                </a:lnTo>
                <a:lnTo>
                  <a:pt x="8651" y="2956"/>
                </a:lnTo>
                <a:lnTo>
                  <a:pt x="8620" y="2990"/>
                </a:lnTo>
                <a:lnTo>
                  <a:pt x="8620" y="2923"/>
                </a:lnTo>
                <a:lnTo>
                  <a:pt x="8620" y="2855"/>
                </a:lnTo>
                <a:lnTo>
                  <a:pt x="8620" y="2788"/>
                </a:lnTo>
                <a:lnTo>
                  <a:pt x="8497" y="2721"/>
                </a:lnTo>
                <a:lnTo>
                  <a:pt x="8528" y="2721"/>
                </a:lnTo>
                <a:lnTo>
                  <a:pt x="8497" y="2553"/>
                </a:lnTo>
                <a:lnTo>
                  <a:pt x="8497" y="2452"/>
                </a:lnTo>
                <a:lnTo>
                  <a:pt x="8528" y="2419"/>
                </a:lnTo>
                <a:lnTo>
                  <a:pt x="8528" y="2553"/>
                </a:lnTo>
                <a:lnTo>
                  <a:pt x="8590" y="2654"/>
                </a:lnTo>
                <a:lnTo>
                  <a:pt x="8651" y="2755"/>
                </a:lnTo>
                <a:lnTo>
                  <a:pt x="8651" y="2923"/>
                </a:lnTo>
                <a:lnTo>
                  <a:pt x="8712" y="2923"/>
                </a:lnTo>
                <a:lnTo>
                  <a:pt x="8774" y="2755"/>
                </a:lnTo>
                <a:lnTo>
                  <a:pt x="8774" y="2519"/>
                </a:lnTo>
                <a:lnTo>
                  <a:pt x="8712" y="2452"/>
                </a:lnTo>
                <a:lnTo>
                  <a:pt x="8712" y="2385"/>
                </a:lnTo>
                <a:lnTo>
                  <a:pt x="8804" y="2452"/>
                </a:lnTo>
                <a:lnTo>
                  <a:pt x="8866" y="2318"/>
                </a:lnTo>
                <a:lnTo>
                  <a:pt x="8866" y="2217"/>
                </a:lnTo>
                <a:lnTo>
                  <a:pt x="8866" y="2049"/>
                </a:lnTo>
                <a:lnTo>
                  <a:pt x="8804" y="1982"/>
                </a:lnTo>
                <a:lnTo>
                  <a:pt x="8835" y="1948"/>
                </a:lnTo>
                <a:lnTo>
                  <a:pt x="8866" y="1982"/>
                </a:lnTo>
                <a:lnTo>
                  <a:pt x="9080" y="1881"/>
                </a:lnTo>
                <a:lnTo>
                  <a:pt x="9203" y="1747"/>
                </a:lnTo>
                <a:lnTo>
                  <a:pt x="9111" y="1747"/>
                </a:lnTo>
                <a:lnTo>
                  <a:pt x="8958" y="1847"/>
                </a:lnTo>
                <a:lnTo>
                  <a:pt x="8866" y="1881"/>
                </a:lnTo>
                <a:lnTo>
                  <a:pt x="8927" y="1780"/>
                </a:lnTo>
                <a:lnTo>
                  <a:pt x="8988" y="1747"/>
                </a:lnTo>
                <a:lnTo>
                  <a:pt x="9019" y="1747"/>
                </a:lnTo>
                <a:lnTo>
                  <a:pt x="9142" y="1679"/>
                </a:lnTo>
                <a:lnTo>
                  <a:pt x="9172" y="1646"/>
                </a:lnTo>
                <a:lnTo>
                  <a:pt x="9203" y="1646"/>
                </a:lnTo>
                <a:lnTo>
                  <a:pt x="9234" y="1612"/>
                </a:lnTo>
                <a:lnTo>
                  <a:pt x="9264" y="1545"/>
                </a:lnTo>
                <a:lnTo>
                  <a:pt x="9356" y="1579"/>
                </a:lnTo>
                <a:lnTo>
                  <a:pt x="9387" y="1545"/>
                </a:lnTo>
                <a:lnTo>
                  <a:pt x="9448" y="1478"/>
                </a:lnTo>
                <a:lnTo>
                  <a:pt x="9387" y="1411"/>
                </a:lnTo>
                <a:lnTo>
                  <a:pt x="9356" y="1343"/>
                </a:lnTo>
                <a:lnTo>
                  <a:pt x="9326" y="1343"/>
                </a:lnTo>
                <a:lnTo>
                  <a:pt x="9295" y="1377"/>
                </a:lnTo>
                <a:lnTo>
                  <a:pt x="9326" y="1444"/>
                </a:lnTo>
                <a:lnTo>
                  <a:pt x="9326" y="1478"/>
                </a:lnTo>
                <a:lnTo>
                  <a:pt x="9295" y="1478"/>
                </a:lnTo>
                <a:lnTo>
                  <a:pt x="9234" y="1411"/>
                </a:lnTo>
                <a:lnTo>
                  <a:pt x="9203" y="1411"/>
                </a:lnTo>
                <a:lnTo>
                  <a:pt x="9203" y="1343"/>
                </a:lnTo>
                <a:lnTo>
                  <a:pt x="9234" y="1310"/>
                </a:lnTo>
                <a:lnTo>
                  <a:pt x="9172" y="1276"/>
                </a:lnTo>
                <a:lnTo>
                  <a:pt x="9234" y="1175"/>
                </a:lnTo>
                <a:lnTo>
                  <a:pt x="9203" y="1108"/>
                </a:lnTo>
                <a:lnTo>
                  <a:pt x="9264" y="1075"/>
                </a:lnTo>
                <a:lnTo>
                  <a:pt x="9234" y="974"/>
                </a:lnTo>
                <a:lnTo>
                  <a:pt x="9264" y="940"/>
                </a:lnTo>
                <a:lnTo>
                  <a:pt x="9326" y="907"/>
                </a:lnTo>
                <a:lnTo>
                  <a:pt x="9387" y="907"/>
                </a:lnTo>
                <a:lnTo>
                  <a:pt x="9387" y="772"/>
                </a:lnTo>
                <a:lnTo>
                  <a:pt x="9448" y="772"/>
                </a:lnTo>
                <a:lnTo>
                  <a:pt x="9540" y="739"/>
                </a:lnTo>
                <a:lnTo>
                  <a:pt x="9571" y="671"/>
                </a:lnTo>
                <a:lnTo>
                  <a:pt x="9632" y="604"/>
                </a:lnTo>
                <a:lnTo>
                  <a:pt x="9632" y="537"/>
                </a:lnTo>
                <a:lnTo>
                  <a:pt x="9540" y="503"/>
                </a:lnTo>
                <a:lnTo>
                  <a:pt x="9479" y="436"/>
                </a:lnTo>
                <a:lnTo>
                  <a:pt x="9387" y="436"/>
                </a:lnTo>
                <a:lnTo>
                  <a:pt x="9356" y="335"/>
                </a:lnTo>
                <a:lnTo>
                  <a:pt x="9356" y="235"/>
                </a:lnTo>
                <a:lnTo>
                  <a:pt x="9326" y="167"/>
                </a:lnTo>
                <a:lnTo>
                  <a:pt x="9264" y="33"/>
                </a:lnTo>
              </a:path>
            </a:pathLst>
          </a:custGeom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533520" y="3970440"/>
            <a:ext cx="5335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533520" y="5494320"/>
            <a:ext cx="5335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533520" y="4351320"/>
            <a:ext cx="5335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191120" y="4351320"/>
            <a:ext cx="1600200" cy="838080"/>
            <a:chOff x="4191120" y="4351320"/>
            <a:chExt cx="1600200" cy="838080"/>
          </a:xfrm>
        </p:grpSpPr>
        <p:sp>
          <p:nvSpPr>
            <p:cNvPr id="1934" name=""/>
            <p:cNvSpPr txBox="1"/>
            <p:nvPr/>
          </p:nvSpPr>
          <p:spPr>
            <a:xfrm>
              <a:off x="4191120" y="4351320"/>
              <a:ext cx="160020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ater GCC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 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 txBox="1"/>
            <p:nvPr/>
          </p:nvSpPr>
          <p:spPr>
            <a:xfrm>
              <a:off x="4267080" y="4808520"/>
              <a:ext cx="6858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OPS/Int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upport Cen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 txBox="1"/>
            <p:nvPr/>
          </p:nvSpPr>
          <p:spPr>
            <a:xfrm>
              <a:off x="5029200" y="4808520"/>
              <a:ext cx="6858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heater Bca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gmt Cen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7" name=""/>
          <p:cNvSpPr/>
          <p:nvPr/>
        </p:nvSpPr>
        <p:spPr>
          <a:xfrm flipH="1">
            <a:off x="1600200" y="564660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4648320" y="5646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9" name="" descr=""/>
          <p:cNvPicPr/>
          <p:nvPr/>
        </p:nvPicPr>
        <p:blipFill>
          <a:blip r:embed="rId1"/>
          <a:stretch/>
        </p:blipFill>
        <p:spPr>
          <a:xfrm>
            <a:off x="4824360" y="1541520"/>
            <a:ext cx="585720" cy="403200"/>
          </a:xfrm>
          <a:prstGeom prst="rect">
            <a:avLst/>
          </a:prstGeom>
          <a:ln w="0">
            <a:noFill/>
          </a:ln>
        </p:spPr>
      </p:pic>
      <p:pic>
        <p:nvPicPr>
          <p:cNvPr id="1940" name="" descr=""/>
          <p:cNvPicPr/>
          <p:nvPr/>
        </p:nvPicPr>
        <p:blipFill>
          <a:blip r:embed="rId2"/>
          <a:stretch/>
        </p:blipFill>
        <p:spPr>
          <a:xfrm>
            <a:off x="6576840" y="1541520"/>
            <a:ext cx="585720" cy="40320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 txBox="1"/>
          <p:nvPr/>
        </p:nvSpPr>
        <p:spPr>
          <a:xfrm>
            <a:off x="4632480" y="137160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5927760" y="1371600"/>
            <a:ext cx="861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T DIS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SIPRN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5029200" y="5189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2438280" y="2598840"/>
            <a:ext cx="8380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D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5" name="" descr=""/>
          <p:cNvPicPr/>
          <p:nvPr/>
        </p:nvPicPr>
        <p:blipFill>
          <a:blip r:embed="rId3"/>
          <a:stretch/>
        </p:blipFill>
        <p:spPr>
          <a:xfrm>
            <a:off x="3111480" y="2395440"/>
            <a:ext cx="249120" cy="355680"/>
          </a:xfrm>
          <a:prstGeom prst="rect">
            <a:avLst/>
          </a:prstGeom>
          <a:ln w="0">
            <a:noFill/>
          </a:ln>
        </p:spPr>
      </p:pic>
      <p:grpSp>
        <p:nvGrpSpPr>
          <p:cNvPr id="1946" name=""/>
          <p:cNvGrpSpPr/>
          <p:nvPr/>
        </p:nvGrpSpPr>
        <p:grpSpPr>
          <a:xfrm>
            <a:off x="2133720" y="4351320"/>
            <a:ext cx="1600200" cy="838080"/>
            <a:chOff x="2133720" y="4351320"/>
            <a:chExt cx="1600200" cy="838080"/>
          </a:xfrm>
        </p:grpSpPr>
        <p:sp>
          <p:nvSpPr>
            <p:cNvPr id="1947" name=""/>
            <p:cNvSpPr txBox="1"/>
            <p:nvPr/>
          </p:nvSpPr>
          <p:spPr>
            <a:xfrm>
              <a:off x="2133720" y="4351320"/>
              <a:ext cx="160020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279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GCC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 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8" name="" descr=""/>
            <p:cNvPicPr/>
            <p:nvPr/>
          </p:nvPicPr>
          <p:blipFill>
            <a:blip r:embed="rId4"/>
            <a:stretch/>
          </p:blipFill>
          <p:spPr>
            <a:xfrm>
              <a:off x="2301840" y="4767120"/>
              <a:ext cx="28908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9" name=""/>
            <p:cNvSpPr txBox="1"/>
            <p:nvPr/>
          </p:nvSpPr>
          <p:spPr>
            <a:xfrm>
              <a:off x="2611440" y="4746600"/>
              <a:ext cx="1019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CS Oper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0" name=""/>
          <p:cNvSpPr txBox="1"/>
          <p:nvPr/>
        </p:nvSpPr>
        <p:spPr>
          <a:xfrm>
            <a:off x="76320" y="359244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ilitary Information 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1" name="" descr=""/>
          <p:cNvPicPr/>
          <p:nvPr/>
        </p:nvPicPr>
        <p:blipFill>
          <a:blip r:embed="rId5"/>
          <a:stretch/>
        </p:blipFill>
        <p:spPr>
          <a:xfrm>
            <a:off x="244440" y="4005360"/>
            <a:ext cx="212760" cy="239760"/>
          </a:xfrm>
          <a:prstGeom prst="rect">
            <a:avLst/>
          </a:prstGeom>
          <a:ln w="0">
            <a:noFill/>
          </a:ln>
        </p:spPr>
      </p:pic>
      <p:pic>
        <p:nvPicPr>
          <p:cNvPr id="1952" name="" descr=""/>
          <p:cNvPicPr/>
          <p:nvPr/>
        </p:nvPicPr>
        <p:blipFill>
          <a:blip r:embed="rId6"/>
          <a:stretch/>
        </p:blipFill>
        <p:spPr>
          <a:xfrm>
            <a:off x="244440" y="5529240"/>
            <a:ext cx="212760" cy="239760"/>
          </a:xfrm>
          <a:prstGeom prst="rect">
            <a:avLst/>
          </a:prstGeom>
          <a:ln w="0">
            <a:noFill/>
          </a:ln>
        </p:spPr>
      </p:pic>
      <p:pic>
        <p:nvPicPr>
          <p:cNvPr id="1953" name="" descr=""/>
          <p:cNvPicPr/>
          <p:nvPr/>
        </p:nvPicPr>
        <p:blipFill>
          <a:blip r:embed="rId7"/>
          <a:stretch/>
        </p:blipFill>
        <p:spPr>
          <a:xfrm>
            <a:off x="244440" y="4386240"/>
            <a:ext cx="212760" cy="23976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 txBox="1"/>
          <p:nvPr/>
        </p:nvSpPr>
        <p:spPr>
          <a:xfrm>
            <a:off x="533520" y="4732200"/>
            <a:ext cx="5335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8"/>
          <a:stretch/>
        </p:blipFill>
        <p:spPr>
          <a:xfrm>
            <a:off x="244440" y="4767120"/>
            <a:ext cx="212760" cy="2397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 flipV="1">
            <a:off x="3429000" y="1913040"/>
            <a:ext cx="16002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4343400" y="1913040"/>
            <a:ext cx="838080" cy="212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6172200" y="389412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5241960" y="5421240"/>
            <a:ext cx="1060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SN (SIPRNE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6248520" y="39704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7238880" y="389412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7315200" y="39704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7391520" y="4046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ploy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6400800" y="1913040"/>
            <a:ext cx="533520" cy="1973160"/>
          </a:xfrm>
          <a:prstGeom prst="line">
            <a:avLst/>
          </a:prstGeom>
          <a:ln w="12600">
            <a:solidFill>
              <a:srgbClr val="ff50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6553080" y="1913040"/>
            <a:ext cx="381240" cy="2049480"/>
          </a:xfrm>
          <a:prstGeom prst="line">
            <a:avLst/>
          </a:prstGeom>
          <a:ln w="12600">
            <a:solidFill>
              <a:srgbClr val="ff50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6705720" y="1989000"/>
            <a:ext cx="228600" cy="2049480"/>
          </a:xfrm>
          <a:prstGeom prst="line">
            <a:avLst/>
          </a:prstGeom>
          <a:ln w="12600">
            <a:solidFill>
              <a:srgbClr val="ff50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934320" y="1913040"/>
            <a:ext cx="838080" cy="1973160"/>
          </a:xfrm>
          <a:prstGeom prst="line">
            <a:avLst/>
          </a:prstGeom>
          <a:ln w="12600">
            <a:solidFill>
              <a:srgbClr val="ff50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934320" y="1913040"/>
            <a:ext cx="685800" cy="2049480"/>
          </a:xfrm>
          <a:prstGeom prst="line">
            <a:avLst/>
          </a:prstGeom>
          <a:ln w="12600">
            <a:solidFill>
              <a:srgbClr val="ff50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934320" y="1913040"/>
            <a:ext cx="533160" cy="2125440"/>
          </a:xfrm>
          <a:prstGeom prst="line">
            <a:avLst/>
          </a:prstGeom>
          <a:ln w="12600">
            <a:solidFill>
              <a:srgbClr val="ff50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181480" y="1913040"/>
            <a:ext cx="2819520" cy="174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1600200" y="282744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V="1">
            <a:off x="1600200" y="160020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1066680" y="4122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1066680" y="56466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1066680" y="45036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1066680" y="488484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1177920" y="3516480"/>
            <a:ext cx="1060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SN (SIPRNE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>
            <a:off x="1600200" y="47322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3276720" y="3970440"/>
            <a:ext cx="152280" cy="152280"/>
            <a:chOff x="3276720" y="3970440"/>
            <a:chExt cx="152280" cy="152280"/>
          </a:xfrm>
        </p:grpSpPr>
        <p:sp>
          <p:nvSpPr>
            <p:cNvPr id="1980" name=""/>
            <p:cNvSpPr/>
            <p:nvPr/>
          </p:nvSpPr>
          <p:spPr>
            <a:xfrm>
              <a:off x="3276720" y="3970440"/>
              <a:ext cx="152280" cy="152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276720" y="397044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3276720" y="397044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3" name=""/>
          <p:cNvSpPr/>
          <p:nvPr/>
        </p:nvSpPr>
        <p:spPr>
          <a:xfrm flipV="1">
            <a:off x="685800" y="5799240"/>
            <a:ext cx="0" cy="601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H="1">
            <a:off x="1066680" y="26748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1066680" y="176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066680" y="22176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304920" y="252252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304920" y="206532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ENT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304920" y="160812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76320" y="1349280"/>
            <a:ext cx="988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380880" y="6332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1889280" y="5421240"/>
            <a:ext cx="1060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SN (SIPRNE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6705720" y="434340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6553080" y="435132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6629400" y="435132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3108240" y="36036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7" name="" descr=""/>
          <p:cNvPicPr/>
          <p:nvPr/>
        </p:nvPicPr>
        <p:blipFill>
          <a:blip r:embed="rId9"/>
          <a:stretch/>
        </p:blipFill>
        <p:spPr>
          <a:xfrm>
            <a:off x="2298600" y="3995640"/>
            <a:ext cx="157320" cy="431640"/>
          </a:xfrm>
          <a:prstGeom prst="rect">
            <a:avLst/>
          </a:prstGeom>
          <a:ln w="0">
            <a:noFill/>
          </a:ln>
        </p:spPr>
      </p:pic>
      <p:pic>
        <p:nvPicPr>
          <p:cNvPr id="1998" name="" descr=""/>
          <p:cNvPicPr/>
          <p:nvPr/>
        </p:nvPicPr>
        <p:blipFill>
          <a:blip r:embed="rId10"/>
          <a:stretch/>
        </p:blipFill>
        <p:spPr>
          <a:xfrm>
            <a:off x="2679840" y="3995640"/>
            <a:ext cx="157320" cy="431640"/>
          </a:xfrm>
          <a:prstGeom prst="rect">
            <a:avLst/>
          </a:prstGeom>
          <a:ln w="0">
            <a:noFill/>
          </a:ln>
        </p:spPr>
      </p:pic>
      <p:sp>
        <p:nvSpPr>
          <p:cNvPr id="1999" name=""/>
          <p:cNvSpPr txBox="1"/>
          <p:nvPr/>
        </p:nvSpPr>
        <p:spPr>
          <a:xfrm>
            <a:off x="2133720" y="397044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N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514600" y="397044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GW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3009960" y="5570640"/>
            <a:ext cx="163836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OCONUS LIN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2803680" y="4125960"/>
            <a:ext cx="368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• • 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5029200" y="3894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4648320" y="37418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6324480" y="4046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ar Echel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6858000" y="426708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800100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086600" y="5486400"/>
            <a:ext cx="1828800" cy="990720"/>
          </a:xfrm>
          <a:prstGeom prst="round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7391520" y="6172200"/>
            <a:ext cx="5335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  <a:ea typeface="Arial Narrow"/>
              </a:rPr>
              <a:t>VS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 txBox="1"/>
          <p:nvPr/>
        </p:nvSpPr>
        <p:spPr>
          <a:xfrm>
            <a:off x="8077320" y="6172200"/>
            <a:ext cx="5335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  <a:ea typeface="Arial Narrow"/>
              </a:rPr>
              <a:t>DB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 txBox="1"/>
          <p:nvPr/>
        </p:nvSpPr>
        <p:spPr>
          <a:xfrm>
            <a:off x="7162920" y="556272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  <a:ea typeface="Arial Narrow"/>
              </a:rPr>
              <a:t>GC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7238880" y="5715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7772400" y="5715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CCS-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669960" y="5802480"/>
            <a:ext cx="5968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mage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8305920" y="5715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 txBox="1"/>
          <p:nvPr/>
        </p:nvSpPr>
        <p:spPr>
          <a:xfrm>
            <a:off x="2895480" y="3211560"/>
            <a:ext cx="958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pen 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7178760" y="5697360"/>
            <a:ext cx="58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ploy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1066680" y="31320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04920" y="297972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ther CIN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amp;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 txBox="1"/>
          <p:nvPr/>
        </p:nvSpPr>
        <p:spPr>
          <a:xfrm>
            <a:off x="533520" y="5113440"/>
            <a:ext cx="5335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279f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" descr=""/>
          <p:cNvPicPr/>
          <p:nvPr/>
        </p:nvPicPr>
        <p:blipFill>
          <a:blip r:embed="rId11"/>
          <a:stretch/>
        </p:blipFill>
        <p:spPr>
          <a:xfrm>
            <a:off x="244440" y="5148360"/>
            <a:ext cx="212760" cy="239760"/>
          </a:xfrm>
          <a:prstGeom prst="rect">
            <a:avLst/>
          </a:prstGeom>
          <a:ln w="0">
            <a:noFill/>
          </a:ln>
        </p:spPr>
      </p:pic>
      <p:sp>
        <p:nvSpPr>
          <p:cNvPr id="2022" name=""/>
          <p:cNvSpPr/>
          <p:nvPr/>
        </p:nvSpPr>
        <p:spPr>
          <a:xfrm flipH="1">
            <a:off x="1066680" y="5265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2209680" y="3436920"/>
            <a:ext cx="2286000" cy="339840"/>
            <a:chOff x="2209680" y="3436920"/>
            <a:chExt cx="2286000" cy="339840"/>
          </a:xfrm>
        </p:grpSpPr>
        <p:sp>
          <p:nvSpPr>
            <p:cNvPr id="2024" name=""/>
            <p:cNvSpPr/>
            <p:nvPr/>
          </p:nvSpPr>
          <p:spPr>
            <a:xfrm>
              <a:off x="2336760" y="3776760"/>
              <a:ext cx="2075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2421000" y="3606840"/>
              <a:ext cx="0" cy="169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209680" y="3436920"/>
              <a:ext cx="38088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2887560" y="3606840"/>
              <a:ext cx="0" cy="169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717640" y="3436920"/>
              <a:ext cx="38088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3817800" y="3606840"/>
              <a:ext cx="0" cy="169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606840" y="3436920"/>
              <a:ext cx="38088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4284720" y="3606840"/>
              <a:ext cx="0" cy="169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114800" y="3436920"/>
              <a:ext cx="380880" cy="16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3" name=""/>
          <p:cNvSpPr/>
          <p:nvPr/>
        </p:nvSpPr>
        <p:spPr>
          <a:xfrm flipV="1">
            <a:off x="5562720" y="1905120"/>
            <a:ext cx="1371600" cy="2438280"/>
          </a:xfrm>
          <a:prstGeom prst="line">
            <a:avLst/>
          </a:prstGeom>
          <a:ln w="12600">
            <a:solidFill>
              <a:srgbClr val="ff50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 txBox="1"/>
          <p:nvPr/>
        </p:nvSpPr>
        <p:spPr>
          <a:xfrm>
            <a:off x="1355760" y="90360"/>
            <a:ext cx="5835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r Program Schedule (1 of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5" name=""/>
          <p:cNvGrpSpPr/>
          <p:nvPr/>
        </p:nvGrpSpPr>
        <p:grpSpPr>
          <a:xfrm>
            <a:off x="0" y="838080"/>
            <a:ext cx="8991720" cy="7210800"/>
            <a:chOff x="0" y="838080"/>
            <a:chExt cx="8991720" cy="7210800"/>
          </a:xfrm>
        </p:grpSpPr>
        <p:sp>
          <p:nvSpPr>
            <p:cNvPr id="2036" name=""/>
            <p:cNvSpPr/>
            <p:nvPr/>
          </p:nvSpPr>
          <p:spPr>
            <a:xfrm flipH="1">
              <a:off x="2362320" y="5791320"/>
              <a:ext cx="44956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>
              <a:off x="2209680" y="5943600"/>
              <a:ext cx="44197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2057400" y="6095880"/>
              <a:ext cx="62485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1981080" y="6248520"/>
              <a:ext cx="63248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1600200" y="6400800"/>
              <a:ext cx="45720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1752480" y="3657600"/>
              <a:ext cx="65534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2514600" y="4191120"/>
              <a:ext cx="57913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2438280" y="4343400"/>
              <a:ext cx="25146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2438280" y="4495680"/>
              <a:ext cx="37339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2362320" y="4800600"/>
              <a:ext cx="396216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2362320" y="4952880"/>
              <a:ext cx="43434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2057400" y="5105520"/>
              <a:ext cx="55627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990720"/>
              <a:ext cx="0" cy="5790960"/>
            </a:xfrm>
            <a:prstGeom prst="line">
              <a:avLst/>
            </a:prstGeom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20120" y="990720"/>
              <a:ext cx="0" cy="5790960"/>
            </a:xfrm>
            <a:prstGeom prst="line">
              <a:avLst/>
            </a:prstGeom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1" name=""/>
            <p:cNvGrpSpPr/>
            <p:nvPr/>
          </p:nvGrpSpPr>
          <p:grpSpPr>
            <a:xfrm>
              <a:off x="5334120" y="1143000"/>
              <a:ext cx="3581280" cy="5638680"/>
              <a:chOff x="5334120" y="1143000"/>
              <a:chExt cx="3581280" cy="5638680"/>
            </a:xfrm>
          </p:grpSpPr>
          <p:sp>
            <p:nvSpPr>
              <p:cNvPr id="2052" name=""/>
              <p:cNvSpPr txBox="1"/>
              <p:nvPr/>
            </p:nvSpPr>
            <p:spPr>
              <a:xfrm>
                <a:off x="7315200" y="1143000"/>
                <a:ext cx="685800" cy="3049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8001000" y="1447920"/>
                <a:ext cx="0" cy="5333760"/>
              </a:xfrm>
              <a:prstGeom prst="line">
                <a:avLst/>
              </a:prstGeom>
              <a:ln w="25560">
                <a:solidFill>
                  <a:srgbClr val="a2c1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334120" y="1447920"/>
                <a:ext cx="0" cy="5333760"/>
              </a:xfrm>
              <a:prstGeom prst="line">
                <a:avLst/>
              </a:prstGeom>
              <a:ln w="25560">
                <a:solidFill>
                  <a:srgbClr val="a2c1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15200" y="1447920"/>
                <a:ext cx="0" cy="5333760"/>
              </a:xfrm>
              <a:prstGeom prst="line">
                <a:avLst/>
              </a:prstGeom>
              <a:ln w="25560">
                <a:solidFill>
                  <a:srgbClr val="a2c1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 txBox="1"/>
              <p:nvPr/>
            </p:nvSpPr>
            <p:spPr>
              <a:xfrm>
                <a:off x="5334120" y="1143000"/>
                <a:ext cx="1981080" cy="3049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se 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 txBox="1"/>
              <p:nvPr/>
            </p:nvSpPr>
            <p:spPr>
              <a:xfrm>
                <a:off x="8001000" y="1143000"/>
                <a:ext cx="914400" cy="3049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8" name=""/>
            <p:cNvSpPr/>
            <p:nvPr/>
          </p:nvSpPr>
          <p:spPr>
            <a:xfrm flipH="1">
              <a:off x="1066680" y="1600200"/>
              <a:ext cx="26672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>
              <a:off x="1143000" y="1752480"/>
              <a:ext cx="55627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1828800" y="1905120"/>
              <a:ext cx="51055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1600200" y="2057400"/>
              <a:ext cx="57913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1219320" y="2209680"/>
              <a:ext cx="70866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2209680" y="2590920"/>
              <a:ext cx="41148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2362320" y="2743200"/>
              <a:ext cx="53316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2362320" y="2895480"/>
              <a:ext cx="144756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2438280" y="3048120"/>
              <a:ext cx="37339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2438280" y="3200400"/>
              <a:ext cx="34290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1905120" y="3352680"/>
              <a:ext cx="42670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2133720" y="3505320"/>
              <a:ext cx="17524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1676520" y="3809880"/>
              <a:ext cx="66294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733920" y="990720"/>
              <a:ext cx="0" cy="5790960"/>
            </a:xfrm>
            <a:prstGeom prst="line">
              <a:avLst/>
            </a:prstGeom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029200" y="990720"/>
              <a:ext cx="0" cy="5790960"/>
            </a:xfrm>
            <a:prstGeom prst="line">
              <a:avLst/>
            </a:prstGeom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 txBox="1"/>
            <p:nvPr/>
          </p:nvSpPr>
          <p:spPr>
            <a:xfrm>
              <a:off x="152280" y="838080"/>
              <a:ext cx="228600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"/>
            <p:cNvSpPr txBox="1"/>
            <p:nvPr/>
          </p:nvSpPr>
          <p:spPr>
            <a:xfrm>
              <a:off x="243828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J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"/>
            <p:cNvSpPr txBox="1"/>
            <p:nvPr/>
          </p:nvSpPr>
          <p:spPr>
            <a:xfrm>
              <a:off x="373392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"/>
            <p:cNvSpPr txBox="1"/>
            <p:nvPr/>
          </p:nvSpPr>
          <p:spPr>
            <a:xfrm>
              <a:off x="502920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"/>
            <p:cNvSpPr txBox="1"/>
            <p:nvPr/>
          </p:nvSpPr>
          <p:spPr>
            <a:xfrm>
              <a:off x="632448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"/>
            <p:cNvSpPr txBox="1"/>
            <p:nvPr/>
          </p:nvSpPr>
          <p:spPr>
            <a:xfrm>
              <a:off x="762012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352680" y="1143000"/>
              <a:ext cx="0" cy="56386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 txBox="1"/>
            <p:nvPr/>
          </p:nvSpPr>
          <p:spPr>
            <a:xfrm>
              <a:off x="2922480" y="11462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P (23 J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 txBox="1"/>
            <p:nvPr/>
          </p:nvSpPr>
          <p:spPr>
            <a:xfrm>
              <a:off x="7257960" y="1779480"/>
              <a:ext cx="593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5-24 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 txBox="1"/>
            <p:nvPr/>
          </p:nvSpPr>
          <p:spPr>
            <a:xfrm>
              <a:off x="7334280" y="193212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 txBox="1"/>
            <p:nvPr/>
          </p:nvSpPr>
          <p:spPr>
            <a:xfrm>
              <a:off x="8104320" y="1887480"/>
              <a:ext cx="887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 pending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EUCOM decis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733920" y="160020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 txBox="1"/>
            <p:nvPr/>
          </p:nvSpPr>
          <p:spPr>
            <a:xfrm>
              <a:off x="5962680" y="1474920"/>
              <a:ext cx="9619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EUCOM 17-21 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629400" y="1752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81680" y="16765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da4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 txBox="1"/>
            <p:nvPr/>
          </p:nvSpPr>
          <p:spPr>
            <a:xfrm>
              <a:off x="6877080" y="1627200"/>
              <a:ext cx="5270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8-13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934320" y="1905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162920" y="18288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238880" y="19810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da4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514600" y="1143000"/>
              <a:ext cx="0" cy="5638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 txBox="1"/>
            <p:nvPr/>
          </p:nvSpPr>
          <p:spPr>
            <a:xfrm>
              <a:off x="0" y="1257480"/>
              <a:ext cx="2692440" cy="679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eploy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ite Surve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US T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hip/Install initial EUCOM Sit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itial Sites IO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Additional Sit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mmun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	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ransponders &amp; Landing Righ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VSAT Procurement &amp; 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JBS Rcvr Procurement &amp; 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Predator site surveys, shipping, insta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Predator Communications tes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eployed node 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Broadcast Management 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tegration with JWIC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90000"/>
                </a:lnSpc>
                <a:spcBef>
                  <a:spcPts val="241"/>
                </a:spcBef>
                <a:tabLst>
                  <a:tab algn="l" pos="1144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Add JBS Receive Si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formation 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fo Mgmt CONOPS &amp; manning concep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formation Management Archite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Applications Procurement &amp;Integ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formation Security Archite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itial Web Management cap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itial Broadcast Mgmt cap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mmon Operational Pi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xed Node 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eployed node 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eployed / Fixed No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formation Server Procure. &amp; I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VSAT and JBS Comms sub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tegration with GCCS / JMC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PA Integration with JDI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tegration &amp; Delive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Joint InfoMgmt C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90000"/>
                </a:lnSpc>
                <a:spcBef>
                  <a:spcPts val="24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heater InfoMgmt C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19520" y="2514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114800" y="2514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572000" y="2514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876920" y="2514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895480" y="274320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809880" y="3048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200400" y="289548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114800" y="32004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86400" y="31240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86200" y="350532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172200" y="3352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733920" y="434340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 txBox="1"/>
            <p:nvPr/>
          </p:nvSpPr>
          <p:spPr>
            <a:xfrm>
              <a:off x="2685960" y="2236680"/>
              <a:ext cx="630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telsat 60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6 J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 txBox="1"/>
            <p:nvPr/>
          </p:nvSpPr>
          <p:spPr>
            <a:xfrm>
              <a:off x="3600360" y="2236680"/>
              <a:ext cx="790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Landing Righ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6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 txBox="1"/>
            <p:nvPr/>
          </p:nvSpPr>
          <p:spPr>
            <a:xfrm>
              <a:off x="4362480" y="2236680"/>
              <a:ext cx="436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3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4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 txBox="1"/>
            <p:nvPr/>
          </p:nvSpPr>
          <p:spPr>
            <a:xfrm>
              <a:off x="4667400" y="2236680"/>
              <a:ext cx="598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ORION 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9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 txBox="1"/>
            <p:nvPr/>
          </p:nvSpPr>
          <p:spPr>
            <a:xfrm>
              <a:off x="6114960" y="2617920"/>
              <a:ext cx="458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 txBox="1"/>
            <p:nvPr/>
          </p:nvSpPr>
          <p:spPr>
            <a:xfrm>
              <a:off x="5532480" y="2895480"/>
              <a:ext cx="7160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VSAT 15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 txBox="1"/>
            <p:nvPr/>
          </p:nvSpPr>
          <p:spPr>
            <a:xfrm>
              <a:off x="5048280" y="3227400"/>
              <a:ext cx="9223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VSAT IOC  15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 txBox="1"/>
            <p:nvPr/>
          </p:nvSpPr>
          <p:spPr>
            <a:xfrm>
              <a:off x="6114960" y="2770200"/>
              <a:ext cx="458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 txBox="1"/>
            <p:nvPr/>
          </p:nvSpPr>
          <p:spPr>
            <a:xfrm>
              <a:off x="6572160" y="3151080"/>
              <a:ext cx="407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7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 txBox="1"/>
            <p:nvPr/>
          </p:nvSpPr>
          <p:spPr>
            <a:xfrm>
              <a:off x="5886360" y="3532320"/>
              <a:ext cx="727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BMC2 2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 txBox="1"/>
            <p:nvPr/>
          </p:nvSpPr>
          <p:spPr>
            <a:xfrm>
              <a:off x="4591080" y="5589720"/>
              <a:ext cx="9684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Procurement 23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 txBox="1"/>
            <p:nvPr/>
          </p:nvSpPr>
          <p:spPr>
            <a:xfrm>
              <a:off x="6648480" y="5818320"/>
              <a:ext cx="407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7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572000" y="31240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248520" y="2514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 txBox="1"/>
            <p:nvPr/>
          </p:nvSpPr>
          <p:spPr>
            <a:xfrm>
              <a:off x="5810400" y="2236680"/>
              <a:ext cx="766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US Dem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</a:t>
              </a: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 txBox="1"/>
            <p:nvPr/>
          </p:nvSpPr>
          <p:spPr>
            <a:xfrm>
              <a:off x="4667400" y="3075120"/>
              <a:ext cx="789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US Dem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4-23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876920" y="34290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 txBox="1"/>
            <p:nvPr/>
          </p:nvSpPr>
          <p:spPr>
            <a:xfrm>
              <a:off x="4896000" y="353232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OC 29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095880" y="34290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553080" y="4876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 txBox="1"/>
            <p:nvPr/>
          </p:nvSpPr>
          <p:spPr>
            <a:xfrm>
              <a:off x="6648480" y="4751280"/>
              <a:ext cx="590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7x24  Op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7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553080" y="3733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38880" y="3733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229600" y="61722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229600" y="21337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 txBox="1"/>
            <p:nvPr/>
          </p:nvSpPr>
          <p:spPr>
            <a:xfrm>
              <a:off x="8332920" y="6078600"/>
              <a:ext cx="506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 txBox="1"/>
            <p:nvPr/>
          </p:nvSpPr>
          <p:spPr>
            <a:xfrm>
              <a:off x="6656400" y="3665520"/>
              <a:ext cx="582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ites 1-5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7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 txBox="1"/>
            <p:nvPr/>
          </p:nvSpPr>
          <p:spPr>
            <a:xfrm>
              <a:off x="7342200" y="3665520"/>
              <a:ext cx="887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ites 6-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486400" y="29718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172200" y="30481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553080" y="29718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 txBox="1"/>
            <p:nvPr/>
          </p:nvSpPr>
          <p:spPr>
            <a:xfrm>
              <a:off x="6648480" y="2922480"/>
              <a:ext cx="5619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JBS 7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52280" y="838080"/>
              <a:ext cx="8763120" cy="594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791320" y="15238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181480" y="15238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76920" y="15238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 txBox="1"/>
            <p:nvPr/>
          </p:nvSpPr>
          <p:spPr>
            <a:xfrm>
              <a:off x="4057560" y="1627200"/>
              <a:ext cx="15210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US Demo Sites29 Feb    7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572000" y="41148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410080" y="41148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229600" y="41148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 txBox="1"/>
            <p:nvPr/>
          </p:nvSpPr>
          <p:spPr>
            <a:xfrm>
              <a:off x="4667400" y="3913200"/>
              <a:ext cx="436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raft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3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 txBox="1"/>
            <p:nvPr/>
          </p:nvSpPr>
          <p:spPr>
            <a:xfrm>
              <a:off x="5200560" y="3913200"/>
              <a:ext cx="789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pdate &amp; App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3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 txBox="1"/>
            <p:nvPr/>
          </p:nvSpPr>
          <p:spPr>
            <a:xfrm>
              <a:off x="8172360" y="3913200"/>
              <a:ext cx="517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229600" y="6019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 txBox="1"/>
            <p:nvPr/>
          </p:nvSpPr>
          <p:spPr>
            <a:xfrm>
              <a:off x="8332920" y="5925960"/>
              <a:ext cx="506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1981080" y="5394240"/>
              <a:ext cx="41911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172200" y="53942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 txBox="1"/>
            <p:nvPr/>
          </p:nvSpPr>
          <p:spPr>
            <a:xfrm>
              <a:off x="6572160" y="5268960"/>
              <a:ext cx="407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7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352680" y="5791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095880" y="4876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952880" y="26668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 txBox="1"/>
            <p:nvPr/>
          </p:nvSpPr>
          <p:spPr>
            <a:xfrm>
              <a:off x="4971960" y="2541600"/>
              <a:ext cx="809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hip #1-5 1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572000" y="57150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172200" y="2743200"/>
              <a:ext cx="0" cy="609480"/>
            </a:xfrm>
            <a:prstGeom prst="line">
              <a:avLst/>
            </a:prstGeom>
            <a:ln w="12600">
              <a:solidFill>
                <a:srgbClr val="fc0128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191120" y="4495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543800" y="50292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 txBox="1"/>
            <p:nvPr/>
          </p:nvSpPr>
          <p:spPr>
            <a:xfrm>
              <a:off x="7562880" y="4903920"/>
              <a:ext cx="8287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OPS 1 Ma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 txBox="1"/>
            <p:nvPr/>
          </p:nvSpPr>
          <p:spPr>
            <a:xfrm>
              <a:off x="6191280" y="4827600"/>
              <a:ext cx="458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00600" y="6019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 txBox="1"/>
            <p:nvPr/>
          </p:nvSpPr>
          <p:spPr>
            <a:xfrm>
              <a:off x="4946760" y="5929200"/>
              <a:ext cx="10047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W Delivered 27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629400" y="34290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 txBox="1"/>
            <p:nvPr/>
          </p:nvSpPr>
          <p:spPr>
            <a:xfrm>
              <a:off x="6724800" y="3379680"/>
              <a:ext cx="755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Packet Tes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8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876920" y="4876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 txBox="1"/>
            <p:nvPr/>
          </p:nvSpPr>
          <p:spPr>
            <a:xfrm>
              <a:off x="4921200" y="477684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OC 29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172200" y="5943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95880" y="57150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 txBox="1"/>
            <p:nvPr/>
          </p:nvSpPr>
          <p:spPr>
            <a:xfrm>
              <a:off x="6114960" y="5589720"/>
              <a:ext cx="458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72200" y="6400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248520" y="6324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858000" y="6324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 txBox="1"/>
            <p:nvPr/>
          </p:nvSpPr>
          <p:spPr>
            <a:xfrm>
              <a:off x="5208480" y="6230880"/>
              <a:ext cx="14209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US  Sites 1-3  1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 txBox="1"/>
            <p:nvPr/>
          </p:nvSpPr>
          <p:spPr>
            <a:xfrm>
              <a:off x="6885000" y="6230880"/>
              <a:ext cx="11923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EUCOM Sites 1-4  1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229600" y="3733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 txBox="1"/>
            <p:nvPr/>
          </p:nvSpPr>
          <p:spPr>
            <a:xfrm>
              <a:off x="8332920" y="3716280"/>
              <a:ext cx="506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229600" y="35812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 txBox="1"/>
            <p:nvPr/>
          </p:nvSpPr>
          <p:spPr>
            <a:xfrm>
              <a:off x="8332920" y="3564000"/>
              <a:ext cx="506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229600" y="6324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 txBox="1"/>
            <p:nvPr/>
          </p:nvSpPr>
          <p:spPr>
            <a:xfrm>
              <a:off x="8332920" y="6230880"/>
              <a:ext cx="506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 txBox="1"/>
            <p:nvPr/>
          </p:nvSpPr>
          <p:spPr>
            <a:xfrm>
              <a:off x="6114960" y="4370400"/>
              <a:ext cx="458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 txBox="1"/>
            <p:nvPr/>
          </p:nvSpPr>
          <p:spPr>
            <a:xfrm>
              <a:off x="4971960" y="4218120"/>
              <a:ext cx="4366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9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648320" y="4648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410080" y="45720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 txBox="1"/>
            <p:nvPr/>
          </p:nvSpPr>
          <p:spPr>
            <a:xfrm>
              <a:off x="5060880" y="4484520"/>
              <a:ext cx="458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3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876920" y="42670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638680" y="47242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638680" y="44197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 txBox="1"/>
            <p:nvPr/>
          </p:nvSpPr>
          <p:spPr>
            <a:xfrm>
              <a:off x="5645160" y="4268880"/>
              <a:ext cx="673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DR 1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 txBox="1"/>
            <p:nvPr/>
          </p:nvSpPr>
          <p:spPr>
            <a:xfrm>
              <a:off x="5632560" y="4586400"/>
              <a:ext cx="673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DR 1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1680" y="61722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 txBox="1"/>
            <p:nvPr/>
          </p:nvSpPr>
          <p:spPr>
            <a:xfrm>
              <a:off x="6885000" y="6078600"/>
              <a:ext cx="11160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W Delivery 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15000" y="32004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 txBox="1"/>
            <p:nvPr/>
          </p:nvSpPr>
          <p:spPr>
            <a:xfrm>
              <a:off x="5962680" y="3075120"/>
              <a:ext cx="7300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JBS 18-24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248520" y="41148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 txBox="1"/>
            <p:nvPr/>
          </p:nvSpPr>
          <p:spPr>
            <a:xfrm>
              <a:off x="6267600" y="3913200"/>
              <a:ext cx="474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30920" y="41022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 txBox="1"/>
            <p:nvPr/>
          </p:nvSpPr>
          <p:spPr>
            <a:xfrm>
              <a:off x="6661080" y="3925800"/>
              <a:ext cx="739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EUCOM Con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600200" y="6553080"/>
              <a:ext cx="40384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1752480" y="6705720"/>
              <a:ext cx="38862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800600" y="65530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 txBox="1"/>
            <p:nvPr/>
          </p:nvSpPr>
          <p:spPr>
            <a:xfrm>
              <a:off x="5060880" y="6364440"/>
              <a:ext cx="9651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Equipment   15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952880" y="67057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334120" y="66294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 txBox="1"/>
            <p:nvPr/>
          </p:nvSpPr>
          <p:spPr>
            <a:xfrm>
              <a:off x="4502160" y="6529320"/>
              <a:ext cx="1263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itial Th. CONOPS   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562720" y="6477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48520" y="6477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238880" y="6477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924680" y="6477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763120" y="6477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 txBox="1"/>
            <p:nvPr/>
          </p:nvSpPr>
          <p:spPr>
            <a:xfrm>
              <a:off x="6305400" y="6407280"/>
              <a:ext cx="758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US Test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 txBox="1"/>
            <p:nvPr/>
          </p:nvSpPr>
          <p:spPr>
            <a:xfrm>
              <a:off x="7305840" y="6381720"/>
              <a:ext cx="452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O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 txBox="1"/>
            <p:nvPr/>
          </p:nvSpPr>
          <p:spPr>
            <a:xfrm>
              <a:off x="7975440" y="6407280"/>
              <a:ext cx="484200" cy="41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rypt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unn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0 Ma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 txBox="1"/>
            <p:nvPr/>
          </p:nvSpPr>
          <p:spPr>
            <a:xfrm>
              <a:off x="8391600" y="6451560"/>
              <a:ext cx="473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NAT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 Ju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1752480" y="5257800"/>
              <a:ext cx="41911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38680" y="52578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 txBox="1"/>
            <p:nvPr/>
          </p:nvSpPr>
          <p:spPr>
            <a:xfrm>
              <a:off x="7232760" y="5192640"/>
              <a:ext cx="6904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OC 25 Apri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1" name=""/>
          <p:cNvGrpSpPr/>
          <p:nvPr/>
        </p:nvGrpSpPr>
        <p:grpSpPr>
          <a:xfrm>
            <a:off x="0" y="838080"/>
            <a:ext cx="8915400" cy="6732000"/>
            <a:chOff x="0" y="838080"/>
            <a:chExt cx="8915400" cy="6732000"/>
          </a:xfrm>
        </p:grpSpPr>
        <p:sp>
          <p:nvSpPr>
            <p:cNvPr id="2222" name=""/>
            <p:cNvSpPr/>
            <p:nvPr/>
          </p:nvSpPr>
          <p:spPr>
            <a:xfrm>
              <a:off x="6324480" y="990720"/>
              <a:ext cx="0" cy="5790960"/>
            </a:xfrm>
            <a:prstGeom prst="line">
              <a:avLst/>
            </a:prstGeom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620120" y="990720"/>
              <a:ext cx="0" cy="5790960"/>
            </a:xfrm>
            <a:prstGeom prst="line">
              <a:avLst/>
            </a:prstGeom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4" name=""/>
            <p:cNvGrpSpPr/>
            <p:nvPr/>
          </p:nvGrpSpPr>
          <p:grpSpPr>
            <a:xfrm>
              <a:off x="5334120" y="1143000"/>
              <a:ext cx="3581280" cy="5638680"/>
              <a:chOff x="5334120" y="1143000"/>
              <a:chExt cx="3581280" cy="5638680"/>
            </a:xfrm>
          </p:grpSpPr>
          <p:sp>
            <p:nvSpPr>
              <p:cNvPr id="2225" name=""/>
              <p:cNvSpPr txBox="1"/>
              <p:nvPr/>
            </p:nvSpPr>
            <p:spPr>
              <a:xfrm>
                <a:off x="7315200" y="1143000"/>
                <a:ext cx="685800" cy="3049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001000" y="1447920"/>
                <a:ext cx="0" cy="5333760"/>
              </a:xfrm>
              <a:prstGeom prst="line">
                <a:avLst/>
              </a:prstGeom>
              <a:ln w="25560">
                <a:solidFill>
                  <a:srgbClr val="a2c1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334120" y="1447920"/>
                <a:ext cx="0" cy="5333760"/>
              </a:xfrm>
              <a:prstGeom prst="line">
                <a:avLst/>
              </a:prstGeom>
              <a:ln w="25560">
                <a:solidFill>
                  <a:srgbClr val="a2c1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315200" y="1447920"/>
                <a:ext cx="0" cy="5333760"/>
              </a:xfrm>
              <a:prstGeom prst="line">
                <a:avLst/>
              </a:prstGeom>
              <a:ln w="25560">
                <a:solidFill>
                  <a:srgbClr val="a2c1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 txBox="1"/>
              <p:nvPr/>
            </p:nvSpPr>
            <p:spPr>
              <a:xfrm>
                <a:off x="5334120" y="1143000"/>
                <a:ext cx="1981080" cy="3049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se 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 txBox="1"/>
              <p:nvPr/>
            </p:nvSpPr>
            <p:spPr>
              <a:xfrm>
                <a:off x="8001000" y="1143000"/>
                <a:ext cx="914400" cy="3049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1" name=""/>
            <p:cNvSpPr/>
            <p:nvPr/>
          </p:nvSpPr>
          <p:spPr>
            <a:xfrm>
              <a:off x="8305920" y="1523880"/>
              <a:ext cx="0" cy="1676520"/>
            </a:xfrm>
            <a:prstGeom prst="line">
              <a:avLst/>
            </a:prstGeom>
            <a:ln w="12600">
              <a:solidFill>
                <a:srgbClr val="cecece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1066680" y="2133720"/>
              <a:ext cx="62485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>
              <a:off x="1447920" y="1523880"/>
              <a:ext cx="68580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066680" y="2286000"/>
              <a:ext cx="62485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1066680" y="2438280"/>
              <a:ext cx="72392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1981080" y="2590920"/>
              <a:ext cx="53341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1676520" y="2743200"/>
              <a:ext cx="56386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1828800" y="2895480"/>
              <a:ext cx="64771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685800" y="4419720"/>
              <a:ext cx="56386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1295280" y="3048120"/>
              <a:ext cx="601992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1143000" y="3200400"/>
              <a:ext cx="708516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1752480" y="4572000"/>
              <a:ext cx="38862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>
              <a:off x="1219320" y="4724280"/>
              <a:ext cx="60958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733920" y="990720"/>
              <a:ext cx="0" cy="5790960"/>
            </a:xfrm>
            <a:prstGeom prst="line">
              <a:avLst/>
            </a:prstGeom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029200" y="990720"/>
              <a:ext cx="0" cy="5790960"/>
            </a:xfrm>
            <a:prstGeom prst="line">
              <a:avLst/>
            </a:prstGeom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 txBox="1"/>
            <p:nvPr/>
          </p:nvSpPr>
          <p:spPr>
            <a:xfrm>
              <a:off x="152280" y="838080"/>
              <a:ext cx="228600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"/>
            <p:cNvSpPr txBox="1"/>
            <p:nvPr/>
          </p:nvSpPr>
          <p:spPr>
            <a:xfrm>
              <a:off x="243828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J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"/>
            <p:cNvSpPr txBox="1"/>
            <p:nvPr/>
          </p:nvSpPr>
          <p:spPr>
            <a:xfrm>
              <a:off x="373392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"/>
            <p:cNvSpPr txBox="1"/>
            <p:nvPr/>
          </p:nvSpPr>
          <p:spPr>
            <a:xfrm>
              <a:off x="502920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"/>
            <p:cNvSpPr txBox="1"/>
            <p:nvPr/>
          </p:nvSpPr>
          <p:spPr>
            <a:xfrm>
              <a:off x="632448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438280" y="1143000"/>
              <a:ext cx="0" cy="5638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 txBox="1"/>
            <p:nvPr/>
          </p:nvSpPr>
          <p:spPr>
            <a:xfrm>
              <a:off x="7620120" y="838080"/>
              <a:ext cx="1295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"/>
            <p:cNvSpPr txBox="1"/>
            <p:nvPr/>
          </p:nvSpPr>
          <p:spPr>
            <a:xfrm>
              <a:off x="0" y="1409760"/>
              <a:ext cx="2692440" cy="616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eployment Milest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Mission Support Products and Appl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IA 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IA 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NSA 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magery and targeting 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MA mapping 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-theater tailored map produc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eather 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llabo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ecu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Archite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ocumentation/Accredi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Encryption Devices/Keying Materi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OPS Anne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LS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epot/Distribution Cen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On-site 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ser Document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est Objec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est Scenario / Scrip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est Pl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est Procedur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unctional Tests/Chec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>
                <a:lnSpc>
                  <a:spcPct val="110000"/>
                </a:lnSpc>
                <a:spcBef>
                  <a:spcPts val="1199"/>
                </a:spcBef>
                <a:tabLst>
                  <a:tab algn="l" pos="114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O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Mai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114480">
                <a:lnSpc>
                  <a:spcPct val="100000"/>
                </a:lnSpc>
                <a:spcBef>
                  <a:spcPts val="241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Annex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334120" y="4572000"/>
              <a:ext cx="3581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334120" y="4724280"/>
              <a:ext cx="3581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29400" y="1523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858000" y="1447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da4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 txBox="1"/>
            <p:nvPr/>
          </p:nvSpPr>
          <p:spPr>
            <a:xfrm>
              <a:off x="6267600" y="1550880"/>
              <a:ext cx="736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NUS  Test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8-13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 txBox="1"/>
            <p:nvPr/>
          </p:nvSpPr>
          <p:spPr>
            <a:xfrm>
              <a:off x="7334280" y="155088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71500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70572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 txBox="1"/>
            <p:nvPr/>
          </p:nvSpPr>
          <p:spPr>
            <a:xfrm>
              <a:off x="5264280" y="4281480"/>
              <a:ext cx="9763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st Draft        1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 txBox="1"/>
            <p:nvPr/>
          </p:nvSpPr>
          <p:spPr>
            <a:xfrm>
              <a:off x="7296120" y="454824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2280" y="838080"/>
              <a:ext cx="8763120" cy="594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229600" y="23623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229600" y="28195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229600" y="31240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 txBox="1"/>
            <p:nvPr/>
          </p:nvSpPr>
          <p:spPr>
            <a:xfrm>
              <a:off x="7334280" y="200808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 txBox="1"/>
            <p:nvPr/>
          </p:nvSpPr>
          <p:spPr>
            <a:xfrm>
              <a:off x="7334280" y="216072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 txBox="1"/>
            <p:nvPr/>
          </p:nvSpPr>
          <p:spPr>
            <a:xfrm>
              <a:off x="7334280" y="246528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 txBox="1"/>
            <p:nvPr/>
          </p:nvSpPr>
          <p:spPr>
            <a:xfrm>
              <a:off x="7334280" y="261792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 txBox="1"/>
            <p:nvPr/>
          </p:nvSpPr>
          <p:spPr>
            <a:xfrm>
              <a:off x="7334280" y="292248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 txBox="1"/>
            <p:nvPr/>
          </p:nvSpPr>
          <p:spPr>
            <a:xfrm>
              <a:off x="7334280" y="3075120"/>
              <a:ext cx="6793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VTC  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 txBox="1"/>
            <p:nvPr/>
          </p:nvSpPr>
          <p:spPr>
            <a:xfrm>
              <a:off x="8325000" y="3075120"/>
              <a:ext cx="590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 txBox="1"/>
            <p:nvPr/>
          </p:nvSpPr>
          <p:spPr>
            <a:xfrm>
              <a:off x="8325000" y="2313000"/>
              <a:ext cx="361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 txBox="1"/>
            <p:nvPr/>
          </p:nvSpPr>
          <p:spPr>
            <a:xfrm>
              <a:off x="8325000" y="2770200"/>
              <a:ext cx="361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1066680" y="5257800"/>
              <a:ext cx="44960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1523880" y="5410080"/>
              <a:ext cx="47246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H="1">
              <a:off x="838080" y="5562720"/>
              <a:ext cx="54104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1295280" y="5715000"/>
              <a:ext cx="45720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1676520" y="5867280"/>
              <a:ext cx="49528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229600" y="1447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da4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 txBox="1"/>
            <p:nvPr/>
          </p:nvSpPr>
          <p:spPr>
            <a:xfrm>
              <a:off x="8325000" y="1474920"/>
              <a:ext cx="361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B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238880" y="14479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da4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238880" y="20574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238880" y="22096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38880" y="2514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238880" y="26668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238880" y="29718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238880" y="31240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324480" y="22096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43600" y="2514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257800" y="26668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52880" y="28195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562720" y="31240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 txBox="1"/>
            <p:nvPr/>
          </p:nvSpPr>
          <p:spPr>
            <a:xfrm>
              <a:off x="6343560" y="2084400"/>
              <a:ext cx="611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BIS 3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 txBox="1"/>
            <p:nvPr/>
          </p:nvSpPr>
          <p:spPr>
            <a:xfrm>
              <a:off x="5962680" y="2389320"/>
              <a:ext cx="7016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NPIC 22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 txBox="1"/>
            <p:nvPr/>
          </p:nvSpPr>
          <p:spPr>
            <a:xfrm>
              <a:off x="5276880" y="2541600"/>
              <a:ext cx="6001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OC 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 txBox="1"/>
            <p:nvPr/>
          </p:nvSpPr>
          <p:spPr>
            <a:xfrm>
              <a:off x="5048280" y="2770200"/>
              <a:ext cx="6825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Vers.1 1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 txBox="1"/>
            <p:nvPr/>
          </p:nvSpPr>
          <p:spPr>
            <a:xfrm>
              <a:off x="5657760" y="3075120"/>
              <a:ext cx="84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VTC IOC 15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>
              <a:off x="1066680" y="3581280"/>
              <a:ext cx="44960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>
              <a:off x="1981080" y="3733920"/>
              <a:ext cx="35816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2362320" y="3886200"/>
              <a:ext cx="441936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1447920" y="4876920"/>
              <a:ext cx="541008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25780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38880" y="46483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257800" y="46483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 txBox="1"/>
            <p:nvPr/>
          </p:nvSpPr>
          <p:spPr>
            <a:xfrm>
              <a:off x="4756320" y="4560840"/>
              <a:ext cx="6001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OC 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962520" y="4876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78168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 txBox="1"/>
            <p:nvPr/>
          </p:nvSpPr>
          <p:spPr>
            <a:xfrm>
              <a:off x="6496200" y="4878360"/>
              <a:ext cx="7491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raft    1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 txBox="1"/>
            <p:nvPr/>
          </p:nvSpPr>
          <p:spPr>
            <a:xfrm>
              <a:off x="5505480" y="4979880"/>
              <a:ext cx="1050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ritical Issues Revie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3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343400" y="52578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86400" y="5181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343400" y="55627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72200" y="54864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343400" y="54100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791320" y="5334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91320" y="54864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324480" y="58672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629400" y="1523880"/>
              <a:ext cx="0" cy="41911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172200" y="57913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 txBox="1"/>
            <p:nvPr/>
          </p:nvSpPr>
          <p:spPr>
            <a:xfrm>
              <a:off x="5353200" y="5894280"/>
              <a:ext cx="8841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hecklists 29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 txBox="1"/>
            <p:nvPr/>
          </p:nvSpPr>
          <p:spPr>
            <a:xfrm>
              <a:off x="6419880" y="5894280"/>
              <a:ext cx="5270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 - 7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 txBox="1"/>
            <p:nvPr/>
          </p:nvSpPr>
          <p:spPr>
            <a:xfrm>
              <a:off x="6267600" y="5361120"/>
              <a:ext cx="677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 29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 txBox="1"/>
            <p:nvPr/>
          </p:nvSpPr>
          <p:spPr>
            <a:xfrm>
              <a:off x="5886360" y="5284800"/>
              <a:ext cx="677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 22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343400" y="57150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2200" y="56386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791320" y="56386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 txBox="1"/>
            <p:nvPr/>
          </p:nvSpPr>
          <p:spPr>
            <a:xfrm>
              <a:off x="6267600" y="5513400"/>
              <a:ext cx="677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 29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5508720" y="5559480"/>
              <a:ext cx="7761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raft     22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 txBox="1"/>
            <p:nvPr/>
          </p:nvSpPr>
          <p:spPr>
            <a:xfrm>
              <a:off x="5275440" y="5391000"/>
              <a:ext cx="996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 Draft     22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343400" y="35812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511960" y="349236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343400" y="373392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781680" y="3657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343400" y="388620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781680" y="38098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 txBox="1"/>
            <p:nvPr/>
          </p:nvSpPr>
          <p:spPr>
            <a:xfrm>
              <a:off x="6877080" y="360828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 txBox="1"/>
            <p:nvPr/>
          </p:nvSpPr>
          <p:spPr>
            <a:xfrm>
              <a:off x="6877080" y="3760920"/>
              <a:ext cx="452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 txBox="1"/>
            <p:nvPr/>
          </p:nvSpPr>
          <p:spPr>
            <a:xfrm>
              <a:off x="4819680" y="3379680"/>
              <a:ext cx="8064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Baseline 13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 txBox="1"/>
            <p:nvPr/>
          </p:nvSpPr>
          <p:spPr>
            <a:xfrm>
              <a:off x="4959360" y="4408560"/>
              <a:ext cx="4143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685800" y="6248520"/>
              <a:ext cx="48006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914400" y="6400800"/>
              <a:ext cx="480060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740560" y="349236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 txBox="1"/>
            <p:nvPr/>
          </p:nvSpPr>
          <p:spPr>
            <a:xfrm>
              <a:off x="5734080" y="3379680"/>
              <a:ext cx="673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DR 1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48520" y="3657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48520" y="38098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 txBox="1"/>
            <p:nvPr/>
          </p:nvSpPr>
          <p:spPr>
            <a:xfrm>
              <a:off x="5886360" y="3532320"/>
              <a:ext cx="768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terim   1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 txBox="1"/>
            <p:nvPr/>
          </p:nvSpPr>
          <p:spPr>
            <a:xfrm>
              <a:off x="5886360" y="3708360"/>
              <a:ext cx="8953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nterim     1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800600" y="54864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 txBox="1"/>
            <p:nvPr/>
          </p:nvSpPr>
          <p:spPr>
            <a:xfrm>
              <a:off x="4518000" y="5407200"/>
              <a:ext cx="754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raft     22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 txBox="1"/>
            <p:nvPr/>
          </p:nvSpPr>
          <p:spPr>
            <a:xfrm>
              <a:off x="7334280" y="4789440"/>
              <a:ext cx="673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 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23888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>
              <a:off x="1295280" y="4267080"/>
              <a:ext cx="5410440" cy="0"/>
            </a:xfrm>
            <a:prstGeom prst="line">
              <a:avLst/>
            </a:prstGeom>
            <a:ln w="12600">
              <a:solidFill>
                <a:srgbClr val="3f5d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 txBox="1"/>
            <p:nvPr/>
          </p:nvSpPr>
          <p:spPr>
            <a:xfrm>
              <a:off x="6254640" y="4281480"/>
              <a:ext cx="9889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nd Draft       12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23888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 txBox="1"/>
            <p:nvPr/>
          </p:nvSpPr>
          <p:spPr>
            <a:xfrm>
              <a:off x="7321680" y="4281480"/>
              <a:ext cx="673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 25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715000" y="4191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095880" y="4191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 txBox="1"/>
            <p:nvPr/>
          </p:nvSpPr>
          <p:spPr>
            <a:xfrm>
              <a:off x="5340240" y="3976560"/>
              <a:ext cx="523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st Draf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8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 txBox="1"/>
            <p:nvPr/>
          </p:nvSpPr>
          <p:spPr>
            <a:xfrm>
              <a:off x="5797440" y="3976560"/>
              <a:ext cx="563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nd Draf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7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29400" y="419112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 txBox="1"/>
            <p:nvPr/>
          </p:nvSpPr>
          <p:spPr>
            <a:xfrm>
              <a:off x="6711840" y="4129200"/>
              <a:ext cx="673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 10 Ap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343400" y="61722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410080" y="61722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91320" y="617220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 txBox="1"/>
            <p:nvPr/>
          </p:nvSpPr>
          <p:spPr>
            <a:xfrm>
              <a:off x="4060800" y="6093000"/>
              <a:ext cx="7542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raft     15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 txBox="1"/>
            <p:nvPr/>
          </p:nvSpPr>
          <p:spPr>
            <a:xfrm>
              <a:off x="5127480" y="6093000"/>
              <a:ext cx="7761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raft     12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 txBox="1"/>
            <p:nvPr/>
          </p:nvSpPr>
          <p:spPr>
            <a:xfrm>
              <a:off x="5889600" y="6093000"/>
              <a:ext cx="458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Final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2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105520" y="6324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 txBox="1"/>
            <p:nvPr/>
          </p:nvSpPr>
          <p:spPr>
            <a:xfrm>
              <a:off x="4975200" y="639756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A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4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791320" y="6324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648320" y="6324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 txBox="1"/>
            <p:nvPr/>
          </p:nvSpPr>
          <p:spPr>
            <a:xfrm>
              <a:off x="4518000" y="6397560"/>
              <a:ext cx="436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 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15 Fe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410080" y="6324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 txBox="1"/>
            <p:nvPr/>
          </p:nvSpPr>
          <p:spPr>
            <a:xfrm>
              <a:off x="5280120" y="6397560"/>
              <a:ext cx="42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B&lt;C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4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 txBox="1"/>
            <p:nvPr/>
          </p:nvSpPr>
          <p:spPr>
            <a:xfrm>
              <a:off x="5661000" y="6397560"/>
              <a:ext cx="458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G,H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2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172200" y="63244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211" y="424"/>
                  </a:moveTo>
                  <a:lnTo>
                    <a:pt x="424" y="211"/>
                  </a:lnTo>
                  <a:lnTo>
                    <a:pt x="211" y="0"/>
                  </a:lnTo>
                  <a:lnTo>
                    <a:pt x="0" y="211"/>
                  </a:lnTo>
                  <a:lnTo>
                    <a:pt x="211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 txBox="1"/>
            <p:nvPr/>
          </p:nvSpPr>
          <p:spPr>
            <a:xfrm>
              <a:off x="6041880" y="6397560"/>
              <a:ext cx="458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E,F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29 M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1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r Program Schedule (2 of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"/>
          <p:cNvSpPr txBox="1"/>
          <p:nvPr/>
        </p:nvSpPr>
        <p:spPr>
          <a:xfrm>
            <a:off x="1273320" y="11160"/>
            <a:ext cx="6140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ttlefield Awareness and Data Dissemination (BA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127080" y="3780000"/>
            <a:ext cx="4375080" cy="27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D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ow commander to tailor own info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ce info dissemination capability in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 tools to dynamically reconfigure disp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 access to multiple types of inf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iver consistent battlefield picture; integrate tactical, operational, and national multimedia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ow warriors to manipulate, visualize, and apply information to tactical/strategic sit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sh (broadcast) and Pull (request)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4589640" y="3780000"/>
            <a:ext cx="4410000" cy="26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FITS TO G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 IM concept of “Intelligent Push” via Info Dissemination Service (I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 User IM tool concept “Warfighter Associat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lligently assist users to filter, user, and store GB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thfinder to test using Joint Tactical Internet for “User Pul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mploy and test use of ATM for 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127080" y="1155600"/>
            <a:ext cx="88898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130320" y="3646440"/>
            <a:ext cx="88898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538520" y="1208160"/>
            <a:ext cx="0" cy="5497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5516640" y="1488960"/>
            <a:ext cx="219240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DD PO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b Doug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BS JPO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 Col Ho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We’re Looking For From You (RF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you plan to participate in this effort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onents to turn-ke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ed NDI leveraging off commercia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st way to satisfy our acquisition approach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M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es due by COB 26 April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"/>
          <p:cNvSpPr txBox="1"/>
          <p:nvPr/>
        </p:nvSpPr>
        <p:spPr>
          <a:xfrm>
            <a:off x="695160" y="144360"/>
            <a:ext cx="703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ttlefield Awareness and Data Dissemination (BA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5492880" y="5307120"/>
            <a:ext cx="1272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 txBox="1"/>
          <p:nvPr/>
        </p:nvSpPr>
        <p:spPr>
          <a:xfrm>
            <a:off x="3273480" y="4632480"/>
            <a:ext cx="18176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, store, disseminate, search, retrieve, edit, and integrate information (distribut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75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nchor de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g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mmari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ubli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 txBox="1"/>
          <p:nvPr/>
        </p:nvSpPr>
        <p:spPr>
          <a:xfrm>
            <a:off x="3597120" y="4073400"/>
            <a:ext cx="109548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 (IDS’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7340760" y="5065560"/>
            <a:ext cx="1481040" cy="1562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6603840" y="1839960"/>
            <a:ext cx="2224080" cy="309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4998960" y="3478320"/>
            <a:ext cx="2661120" cy="2190960"/>
          </a:xfrm>
          <a:custGeom>
            <a:avLst/>
            <a:gdLst/>
            <a:ahLst/>
            <a:rect l="0" t="0" r="r" b="b"/>
            <a:pathLst>
              <a:path fill="none" w="7392" h="6086">
                <a:moveTo>
                  <a:pt x="911" y="0"/>
                </a:moveTo>
                <a:lnTo>
                  <a:pt x="4298" y="0"/>
                </a:lnTo>
                <a:lnTo>
                  <a:pt x="4298" y="1733"/>
                </a:lnTo>
                <a:lnTo>
                  <a:pt x="4559" y="1733"/>
                </a:lnTo>
                <a:lnTo>
                  <a:pt x="4559" y="4105"/>
                </a:lnTo>
                <a:lnTo>
                  <a:pt x="7392" y="4105"/>
                </a:lnTo>
                <a:lnTo>
                  <a:pt x="7392" y="5980"/>
                </a:lnTo>
                <a:lnTo>
                  <a:pt x="7392" y="6086"/>
                </a:lnTo>
                <a:lnTo>
                  <a:pt x="4331" y="6086"/>
                </a:lnTo>
                <a:lnTo>
                  <a:pt x="4331" y="4388"/>
                </a:lnTo>
                <a:lnTo>
                  <a:pt x="0" y="4388"/>
                </a:lnTo>
                <a:lnTo>
                  <a:pt x="0" y="955"/>
                </a:lnTo>
                <a:lnTo>
                  <a:pt x="846" y="955"/>
                </a:lnTo>
                <a:lnTo>
                  <a:pt x="91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8600" y="6218280"/>
            <a:ext cx="5731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2570040" y="3157560"/>
            <a:ext cx="876600" cy="1248120"/>
          </a:xfrm>
          <a:custGeom>
            <a:avLst/>
            <a:gdLst/>
            <a:ahLst/>
            <a:rect l="0" t="0" r="r" b="b"/>
            <a:pathLst>
              <a:path w="2435" h="3467">
                <a:moveTo>
                  <a:pt x="0" y="0"/>
                </a:moveTo>
                <a:lnTo>
                  <a:pt x="2435" y="0"/>
                </a:lnTo>
                <a:lnTo>
                  <a:pt x="2435" y="2417"/>
                </a:lnTo>
                <a:lnTo>
                  <a:pt x="1777" y="2417"/>
                </a:lnTo>
                <a:lnTo>
                  <a:pt x="1777" y="3467"/>
                </a:lnTo>
                <a:lnTo>
                  <a:pt x="756" y="3467"/>
                </a:lnTo>
                <a:lnTo>
                  <a:pt x="756" y="2417"/>
                </a:lnTo>
                <a:lnTo>
                  <a:pt x="32" y="24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773680" y="2744640"/>
            <a:ext cx="2049840" cy="767160"/>
          </a:xfrm>
          <a:custGeom>
            <a:avLst/>
            <a:gdLst/>
            <a:ahLst/>
            <a:rect l="0" t="0" r="r" b="b"/>
            <a:pathLst>
              <a:path fill="none" w="5694" h="2131">
                <a:moveTo>
                  <a:pt x="1877" y="2131"/>
                </a:moveTo>
                <a:lnTo>
                  <a:pt x="0" y="0"/>
                </a:lnTo>
                <a:lnTo>
                  <a:pt x="5694" y="175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6450120" y="3317760"/>
            <a:ext cx="158760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04840" y="1243080"/>
            <a:ext cx="1027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46240" y="1933560"/>
            <a:ext cx="9446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425520" y="2693880"/>
            <a:ext cx="5875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AV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135000" y="3119400"/>
            <a:ext cx="12193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cra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181080" y="4029120"/>
            <a:ext cx="1077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itatio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sion Nod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46240" y="4898880"/>
            <a:ext cx="944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382680" y="5932440"/>
            <a:ext cx="669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7" name="" descr=""/>
          <p:cNvPicPr/>
          <p:nvPr/>
        </p:nvPicPr>
        <p:blipFill>
          <a:blip r:embed="rId1"/>
          <a:stretch/>
        </p:blipFill>
        <p:spPr>
          <a:xfrm>
            <a:off x="541440" y="1647720"/>
            <a:ext cx="349200" cy="285840"/>
          </a:xfrm>
          <a:prstGeom prst="rect">
            <a:avLst/>
          </a:prstGeom>
          <a:ln w="0">
            <a:noFill/>
          </a:ln>
        </p:spPr>
      </p:pic>
      <p:pic>
        <p:nvPicPr>
          <p:cNvPr id="2408" name="" descr=""/>
          <p:cNvPicPr/>
          <p:nvPr/>
        </p:nvPicPr>
        <p:blipFill>
          <a:blip r:embed="rId2"/>
          <a:stretch/>
        </p:blipFill>
        <p:spPr>
          <a:xfrm>
            <a:off x="492120" y="2467080"/>
            <a:ext cx="449280" cy="209520"/>
          </a:xfrm>
          <a:prstGeom prst="rect">
            <a:avLst/>
          </a:prstGeom>
          <a:ln w="0">
            <a:noFill/>
          </a:ln>
        </p:spPr>
      </p:pic>
      <p:pic>
        <p:nvPicPr>
          <p:cNvPr id="2409" name="" descr=""/>
          <p:cNvPicPr/>
          <p:nvPr/>
        </p:nvPicPr>
        <p:blipFill>
          <a:blip r:embed="rId3"/>
          <a:stretch/>
        </p:blipFill>
        <p:spPr>
          <a:xfrm>
            <a:off x="453960" y="2933640"/>
            <a:ext cx="523800" cy="189000"/>
          </a:xfrm>
          <a:prstGeom prst="rect">
            <a:avLst/>
          </a:prstGeom>
          <a:ln w="0">
            <a:noFill/>
          </a:ln>
        </p:spPr>
      </p:pic>
      <p:pic>
        <p:nvPicPr>
          <p:cNvPr id="2410" name="" descr=""/>
          <p:cNvPicPr/>
          <p:nvPr/>
        </p:nvPicPr>
        <p:blipFill>
          <a:blip r:embed="rId4"/>
          <a:stretch/>
        </p:blipFill>
        <p:spPr>
          <a:xfrm>
            <a:off x="541440" y="3632040"/>
            <a:ext cx="349200" cy="388800"/>
          </a:xfrm>
          <a:prstGeom prst="rect">
            <a:avLst/>
          </a:prstGeom>
          <a:ln w="0">
            <a:noFill/>
          </a:ln>
        </p:spPr>
      </p:pic>
      <p:sp>
        <p:nvSpPr>
          <p:cNvPr id="2411" name=""/>
          <p:cNvSpPr txBox="1"/>
          <p:nvPr/>
        </p:nvSpPr>
        <p:spPr>
          <a:xfrm>
            <a:off x="660240" y="4295880"/>
            <a:ext cx="214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2" name="" descr=""/>
          <p:cNvPicPr/>
          <p:nvPr/>
        </p:nvPicPr>
        <p:blipFill>
          <a:blip r:embed="rId5"/>
          <a:stretch/>
        </p:blipFill>
        <p:spPr>
          <a:xfrm>
            <a:off x="531720" y="5322960"/>
            <a:ext cx="368280" cy="250920"/>
          </a:xfrm>
          <a:prstGeom prst="rect">
            <a:avLst/>
          </a:prstGeom>
          <a:ln w="0">
            <a:noFill/>
          </a:ln>
        </p:spPr>
      </p:pic>
      <p:sp>
        <p:nvSpPr>
          <p:cNvPr id="2413" name=""/>
          <p:cNvSpPr txBox="1"/>
          <p:nvPr/>
        </p:nvSpPr>
        <p:spPr>
          <a:xfrm>
            <a:off x="355680" y="5559480"/>
            <a:ext cx="723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1528920" y="1438200"/>
            <a:ext cx="1036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sito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5" name="" descr=""/>
          <p:cNvPicPr/>
          <p:nvPr/>
        </p:nvPicPr>
        <p:blipFill>
          <a:blip r:embed="rId6"/>
          <a:stretch/>
        </p:blipFill>
        <p:spPr>
          <a:xfrm>
            <a:off x="1849320" y="2109960"/>
            <a:ext cx="396720" cy="463680"/>
          </a:xfrm>
          <a:prstGeom prst="rect">
            <a:avLst/>
          </a:prstGeom>
          <a:ln w="0">
            <a:noFill/>
          </a:ln>
        </p:spPr>
      </p:pic>
      <p:pic>
        <p:nvPicPr>
          <p:cNvPr id="2416" name="" descr=""/>
          <p:cNvPicPr/>
          <p:nvPr/>
        </p:nvPicPr>
        <p:blipFill>
          <a:blip r:embed="rId7"/>
          <a:stretch/>
        </p:blipFill>
        <p:spPr>
          <a:xfrm>
            <a:off x="1849320" y="4510080"/>
            <a:ext cx="396720" cy="465120"/>
          </a:xfrm>
          <a:prstGeom prst="rect">
            <a:avLst/>
          </a:prstGeom>
          <a:ln w="0">
            <a:noFill/>
          </a:ln>
        </p:spPr>
      </p:pic>
      <p:pic>
        <p:nvPicPr>
          <p:cNvPr id="2417" name="" descr=""/>
          <p:cNvPicPr/>
          <p:nvPr/>
        </p:nvPicPr>
        <p:blipFill>
          <a:blip r:embed="rId8"/>
          <a:stretch/>
        </p:blipFill>
        <p:spPr>
          <a:xfrm>
            <a:off x="1849320" y="5405400"/>
            <a:ext cx="396720" cy="465120"/>
          </a:xfrm>
          <a:prstGeom prst="rect">
            <a:avLst/>
          </a:prstGeom>
          <a:ln w="0">
            <a:noFill/>
          </a:ln>
        </p:spPr>
      </p:pic>
      <p:sp>
        <p:nvSpPr>
          <p:cNvPr id="2418" name=""/>
          <p:cNvSpPr txBox="1"/>
          <p:nvPr/>
        </p:nvSpPr>
        <p:spPr>
          <a:xfrm>
            <a:off x="1584360" y="2550960"/>
            <a:ext cx="927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1584360" y="3413160"/>
            <a:ext cx="927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 txBox="1"/>
          <p:nvPr/>
        </p:nvSpPr>
        <p:spPr>
          <a:xfrm>
            <a:off x="1584360" y="4976640"/>
            <a:ext cx="92700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1398600" y="5838840"/>
            <a:ext cx="129528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s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 txBox="1"/>
          <p:nvPr/>
        </p:nvSpPr>
        <p:spPr>
          <a:xfrm>
            <a:off x="3995640" y="1270080"/>
            <a:ext cx="880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3530520" y="1751040"/>
            <a:ext cx="181944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andwidth one-way broadcast based on low-cost commercial receiver equi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2768760" y="2614680"/>
            <a:ext cx="181764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ata tagged with source, time, location, quality, 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4948200" y="4146480"/>
            <a:ext cx="181764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o medium bandwidth tactical two-way communications based on integration of ATM, IP (Internet), and legacy protoc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6540480" y="1967040"/>
            <a:ext cx="1544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fighter’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s (WFA’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495680" y="3460680"/>
            <a:ext cx="8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lin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8" name="" descr=""/>
          <p:cNvPicPr/>
          <p:nvPr/>
        </p:nvPicPr>
        <p:blipFill>
          <a:blip r:embed="rId9"/>
          <a:stretch/>
        </p:blipFill>
        <p:spPr>
          <a:xfrm>
            <a:off x="5343480" y="1366920"/>
            <a:ext cx="806400" cy="909720"/>
          </a:xfrm>
          <a:prstGeom prst="rect">
            <a:avLst/>
          </a:prstGeom>
          <a:ln w="0">
            <a:noFill/>
          </a:ln>
        </p:spPr>
      </p:pic>
      <p:grpSp>
        <p:nvGrpSpPr>
          <p:cNvPr id="2429" name=""/>
          <p:cNvGrpSpPr/>
          <p:nvPr/>
        </p:nvGrpSpPr>
        <p:grpSpPr>
          <a:xfrm>
            <a:off x="4635360" y="3008160"/>
            <a:ext cx="621360" cy="424440"/>
            <a:chOff x="4635360" y="3008160"/>
            <a:chExt cx="621360" cy="424440"/>
          </a:xfrm>
        </p:grpSpPr>
        <p:grpSp>
          <p:nvGrpSpPr>
            <p:cNvPr id="2430" name=""/>
            <p:cNvGrpSpPr/>
            <p:nvPr/>
          </p:nvGrpSpPr>
          <p:grpSpPr>
            <a:xfrm>
              <a:off x="4635360" y="3225960"/>
              <a:ext cx="621360" cy="206640"/>
              <a:chOff x="4635360" y="3225960"/>
              <a:chExt cx="621360" cy="206640"/>
            </a:xfrm>
          </p:grpSpPr>
          <p:sp>
            <p:nvSpPr>
              <p:cNvPr id="2431" name=""/>
              <p:cNvSpPr/>
              <p:nvPr/>
            </p:nvSpPr>
            <p:spPr>
              <a:xfrm>
                <a:off x="4962600" y="3249720"/>
                <a:ext cx="113040" cy="171720"/>
              </a:xfrm>
              <a:custGeom>
                <a:avLst/>
                <a:gdLst/>
                <a:ahLst/>
                <a:rect l="0" t="0" r="r" b="b"/>
                <a:pathLst>
                  <a:path w="314" h="477">
                    <a:moveTo>
                      <a:pt x="314" y="59"/>
                    </a:moveTo>
                    <a:lnTo>
                      <a:pt x="142" y="0"/>
                    </a:lnTo>
                    <a:lnTo>
                      <a:pt x="28" y="148"/>
                    </a:lnTo>
                    <a:lnTo>
                      <a:pt x="0" y="477"/>
                    </a:lnTo>
                    <a:lnTo>
                      <a:pt x="314" y="328"/>
                    </a:lnTo>
                    <a:lnTo>
                      <a:pt x="314" y="89"/>
                    </a:lnTo>
                    <a:lnTo>
                      <a:pt x="314" y="5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973760" y="3249720"/>
                <a:ext cx="90720" cy="160560"/>
              </a:xfrm>
              <a:custGeom>
                <a:avLst/>
                <a:gdLst/>
                <a:ahLst/>
                <a:rect l="0" t="0" r="r" b="b"/>
                <a:pathLst>
                  <a:path w="252" h="446">
                    <a:moveTo>
                      <a:pt x="252" y="59"/>
                    </a:moveTo>
                    <a:lnTo>
                      <a:pt x="140" y="0"/>
                    </a:lnTo>
                    <a:lnTo>
                      <a:pt x="111" y="29"/>
                    </a:lnTo>
                    <a:lnTo>
                      <a:pt x="140" y="29"/>
                    </a:lnTo>
                    <a:lnTo>
                      <a:pt x="55" y="59"/>
                    </a:lnTo>
                    <a:lnTo>
                      <a:pt x="196" y="29"/>
                    </a:lnTo>
                    <a:lnTo>
                      <a:pt x="27" y="89"/>
                    </a:lnTo>
                    <a:lnTo>
                      <a:pt x="252" y="29"/>
                    </a:lnTo>
                    <a:lnTo>
                      <a:pt x="0" y="148"/>
                    </a:lnTo>
                    <a:lnTo>
                      <a:pt x="252" y="59"/>
                    </a:lnTo>
                    <a:lnTo>
                      <a:pt x="0" y="178"/>
                    </a:lnTo>
                    <a:lnTo>
                      <a:pt x="252" y="89"/>
                    </a:lnTo>
                    <a:lnTo>
                      <a:pt x="0" y="207"/>
                    </a:lnTo>
                    <a:lnTo>
                      <a:pt x="252" y="118"/>
                    </a:lnTo>
                    <a:lnTo>
                      <a:pt x="0" y="268"/>
                    </a:lnTo>
                    <a:lnTo>
                      <a:pt x="252" y="178"/>
                    </a:lnTo>
                    <a:lnTo>
                      <a:pt x="0" y="327"/>
                    </a:lnTo>
                    <a:lnTo>
                      <a:pt x="252" y="207"/>
                    </a:lnTo>
                    <a:lnTo>
                      <a:pt x="0" y="357"/>
                    </a:lnTo>
                    <a:lnTo>
                      <a:pt x="252" y="268"/>
                    </a:lnTo>
                    <a:lnTo>
                      <a:pt x="0" y="416"/>
                    </a:lnTo>
                    <a:lnTo>
                      <a:pt x="252" y="327"/>
                    </a:lnTo>
                    <a:lnTo>
                      <a:pt x="0" y="446"/>
                    </a:lnTo>
                    <a:lnTo>
                      <a:pt x="252" y="327"/>
                    </a:lnTo>
                    <a:lnTo>
                      <a:pt x="252" y="5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635360" y="3236760"/>
                <a:ext cx="462240" cy="81360"/>
              </a:xfrm>
              <a:custGeom>
                <a:avLst/>
                <a:gdLst/>
                <a:ahLst/>
                <a:rect l="0" t="0" r="r" b="b"/>
                <a:pathLst>
                  <a:path w="1284" h="226">
                    <a:moveTo>
                      <a:pt x="30" y="113"/>
                    </a:moveTo>
                    <a:lnTo>
                      <a:pt x="61" y="113"/>
                    </a:lnTo>
                    <a:lnTo>
                      <a:pt x="917" y="226"/>
                    </a:lnTo>
                    <a:lnTo>
                      <a:pt x="917" y="198"/>
                    </a:lnTo>
                    <a:lnTo>
                      <a:pt x="978" y="113"/>
                    </a:lnTo>
                    <a:lnTo>
                      <a:pt x="1070" y="28"/>
                    </a:lnTo>
                    <a:lnTo>
                      <a:pt x="1223" y="85"/>
                    </a:lnTo>
                    <a:lnTo>
                      <a:pt x="1223" y="113"/>
                    </a:lnTo>
                    <a:lnTo>
                      <a:pt x="1253" y="113"/>
                    </a:lnTo>
                    <a:lnTo>
                      <a:pt x="1284" y="113"/>
                    </a:lnTo>
                    <a:lnTo>
                      <a:pt x="1070" y="0"/>
                    </a:lnTo>
                    <a:lnTo>
                      <a:pt x="887" y="198"/>
                    </a:lnTo>
                    <a:lnTo>
                      <a:pt x="0" y="113"/>
                    </a:lnTo>
                    <a:lnTo>
                      <a:pt x="3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648320" y="3225960"/>
                <a:ext cx="371880" cy="79560"/>
              </a:xfrm>
              <a:custGeom>
                <a:avLst/>
                <a:gdLst/>
                <a:ahLst/>
                <a:rect l="0" t="0" r="r" b="b"/>
                <a:pathLst>
                  <a:path w="1033" h="221">
                    <a:moveTo>
                      <a:pt x="0" y="138"/>
                    </a:moveTo>
                    <a:lnTo>
                      <a:pt x="851" y="221"/>
                    </a:lnTo>
                    <a:lnTo>
                      <a:pt x="1033" y="27"/>
                    </a:lnTo>
                    <a:lnTo>
                      <a:pt x="274" y="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659480" y="3282840"/>
                <a:ext cx="303480" cy="149760"/>
              </a:xfrm>
              <a:custGeom>
                <a:avLst/>
                <a:gdLst/>
                <a:ahLst/>
                <a:rect l="0" t="0" r="r" b="b"/>
                <a:pathLst>
                  <a:path w="843" h="416">
                    <a:moveTo>
                      <a:pt x="0" y="0"/>
                    </a:moveTo>
                    <a:lnTo>
                      <a:pt x="30" y="327"/>
                    </a:lnTo>
                    <a:lnTo>
                      <a:pt x="843" y="416"/>
                    </a:lnTo>
                    <a:lnTo>
                      <a:pt x="843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659480" y="3271680"/>
                <a:ext cx="427320" cy="160560"/>
              </a:xfrm>
              <a:custGeom>
                <a:avLst/>
                <a:gdLst/>
                <a:ahLst/>
                <a:rect l="0" t="0" r="r" b="b"/>
                <a:pathLst>
                  <a:path w="1187" h="446">
                    <a:moveTo>
                      <a:pt x="0" y="29"/>
                    </a:moveTo>
                    <a:lnTo>
                      <a:pt x="30" y="357"/>
                    </a:lnTo>
                    <a:lnTo>
                      <a:pt x="822" y="446"/>
                    </a:lnTo>
                    <a:lnTo>
                      <a:pt x="852" y="118"/>
                    </a:lnTo>
                    <a:lnTo>
                      <a:pt x="883" y="89"/>
                    </a:lnTo>
                    <a:lnTo>
                      <a:pt x="852" y="416"/>
                    </a:lnTo>
                    <a:lnTo>
                      <a:pt x="1156" y="268"/>
                    </a:lnTo>
                    <a:lnTo>
                      <a:pt x="1156" y="0"/>
                    </a:lnTo>
                    <a:lnTo>
                      <a:pt x="1187" y="0"/>
                    </a:lnTo>
                    <a:lnTo>
                      <a:pt x="1187" y="268"/>
                    </a:lnTo>
                    <a:lnTo>
                      <a:pt x="852" y="446"/>
                    </a:lnTo>
                    <a:lnTo>
                      <a:pt x="0" y="35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973760" y="3362400"/>
                <a:ext cx="282960" cy="70200"/>
              </a:xfrm>
              <a:custGeom>
                <a:avLst/>
                <a:gdLst/>
                <a:ahLst/>
                <a:rect l="0" t="0" r="r" b="b"/>
                <a:pathLst>
                  <a:path w="786" h="195">
                    <a:moveTo>
                      <a:pt x="0" y="195"/>
                    </a:moveTo>
                    <a:lnTo>
                      <a:pt x="363" y="27"/>
                    </a:lnTo>
                    <a:lnTo>
                      <a:pt x="363" y="0"/>
                    </a:lnTo>
                    <a:lnTo>
                      <a:pt x="786" y="2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4748040" y="3008160"/>
              <a:ext cx="190800" cy="274680"/>
              <a:chOff x="4748040" y="3008160"/>
              <a:chExt cx="190800" cy="274680"/>
            </a:xfrm>
          </p:grpSpPr>
          <p:grpSp>
            <p:nvGrpSpPr>
              <p:cNvPr id="2439" name=""/>
              <p:cNvGrpSpPr/>
              <p:nvPr/>
            </p:nvGrpSpPr>
            <p:grpSpPr>
              <a:xfrm>
                <a:off x="4781520" y="3135240"/>
                <a:ext cx="59040" cy="91080"/>
                <a:chOff x="4781520" y="3135240"/>
                <a:chExt cx="59040" cy="9108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4829040" y="3179880"/>
                  <a:ext cx="11520" cy="46440"/>
                </a:xfrm>
                <a:custGeom>
                  <a:avLst/>
                  <a:gdLst/>
                  <a:ahLst/>
                  <a:rect l="0" t="0" r="r" b="b"/>
                  <a:pathLst>
                    <a:path w="32" h="12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32" y="129"/>
                      </a:lnTo>
                      <a:lnTo>
                        <a:pt x="0" y="1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4781520" y="3135240"/>
                  <a:ext cx="35280" cy="44640"/>
                </a:xfrm>
                <a:custGeom>
                  <a:avLst/>
                  <a:gdLst/>
                  <a:ahLst/>
                  <a:rect l="0" t="0" r="r" b="b"/>
                  <a:pathLst>
                    <a:path fill="none" w="98" h="12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8" y="0"/>
                      </a:lnTo>
                      <a:lnTo>
                        <a:pt x="98" y="124"/>
                      </a:lnTo>
                      <a:lnTo>
                        <a:pt x="0" y="124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4781520" y="3135240"/>
                  <a:ext cx="24120" cy="44640"/>
                </a:xfrm>
                <a:custGeom>
                  <a:avLst/>
                  <a:gdLst/>
                  <a:ahLst/>
                  <a:rect l="0" t="0" r="r" b="b"/>
                  <a:pathLst>
                    <a:path fill="none" w="67" h="124">
                      <a:moveTo>
                        <a:pt x="0" y="0"/>
                      </a:moveTo>
                      <a:lnTo>
                        <a:pt x="67" y="0"/>
                      </a:lnTo>
                      <a:lnTo>
                        <a:pt x="67" y="124"/>
                      </a:lnTo>
                      <a:lnTo>
                        <a:pt x="0" y="124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4840200" y="3144960"/>
                <a:ext cx="9720" cy="12960"/>
                <a:chOff x="4840200" y="3144960"/>
                <a:chExt cx="9720" cy="1296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4840200" y="3144960"/>
                  <a:ext cx="972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27" h="3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27" y="36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4840200" y="3144960"/>
                  <a:ext cx="972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27" h="36">
                      <a:moveTo>
                        <a:pt x="0" y="0"/>
                      </a:moveTo>
                      <a:lnTo>
                        <a:pt x="0" y="36"/>
                      </a:lnTo>
                      <a:lnTo>
                        <a:pt x="27" y="36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4829040" y="3122640"/>
                <a:ext cx="33480" cy="46080"/>
                <a:chOff x="4829040" y="3122640"/>
                <a:chExt cx="33480" cy="4608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4862520" y="3168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4829040" y="3122640"/>
                  <a:ext cx="0" cy="12600"/>
                </a:xfrm>
                <a:custGeom>
                  <a:avLst/>
                  <a:gdLst/>
                  <a:ahLst/>
                  <a:rect l="0" t="0" r="r" b="b"/>
                  <a:pathLst>
                    <a:path fill="none" w="0" h="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4829040" y="3122640"/>
                  <a:ext cx="0" cy="12600"/>
                </a:xfrm>
                <a:custGeom>
                  <a:avLst/>
                  <a:gdLst/>
                  <a:ahLst/>
                  <a:rect l="0" t="0" r="r" b="b"/>
                  <a:pathLst>
                    <a:path fill="none" w="0" h="35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"/>
              <p:cNvGrpSpPr/>
              <p:nvPr/>
            </p:nvGrpSpPr>
            <p:grpSpPr>
              <a:xfrm>
                <a:off x="4816440" y="3192480"/>
                <a:ext cx="33120" cy="0"/>
                <a:chOff x="4816440" y="3192480"/>
                <a:chExt cx="33120" cy="0"/>
              </a:xfrm>
            </p:grpSpPr>
            <p:sp>
              <p:nvSpPr>
                <p:cNvPr id="2451" name=""/>
                <p:cNvSpPr/>
                <p:nvPr/>
              </p:nvSpPr>
              <p:spPr>
                <a:xfrm>
                  <a:off x="4816440" y="3192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4816440" y="3192480"/>
                  <a:ext cx="33120" cy="0"/>
                </a:xfrm>
                <a:custGeom>
                  <a:avLst/>
                  <a:gdLst/>
                  <a:ahLst/>
                  <a:rect l="0" t="0" r="r" b="b"/>
                  <a:pathLst>
                    <a:path fill="none" w="9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2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4816440" y="3192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fill="none" w="66" h="0">
                      <a:moveTo>
                        <a:pt x="0" y="0"/>
                      </a:moveTo>
                      <a:lnTo>
                        <a:pt x="66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4781520" y="3076560"/>
                <a:ext cx="59040" cy="46440"/>
                <a:chOff x="4781520" y="3076560"/>
                <a:chExt cx="59040" cy="4644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4829040" y="3111480"/>
                  <a:ext cx="11520" cy="11520"/>
                </a:xfrm>
                <a:custGeom>
                  <a:avLst/>
                  <a:gdLst/>
                  <a:ahLst/>
                  <a:rect l="0" t="0" r="r" b="b"/>
                  <a:pathLst>
                    <a:path w="32" h="32">
                      <a:moveTo>
                        <a:pt x="32" y="0"/>
                      </a:moveTo>
                      <a:lnTo>
                        <a:pt x="0" y="32"/>
                      </a:lnTo>
                      <a:lnTo>
                        <a:pt x="32" y="16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4781520" y="3076560"/>
                  <a:ext cx="24120" cy="24120"/>
                </a:xfrm>
                <a:custGeom>
                  <a:avLst/>
                  <a:gdLst/>
                  <a:ahLst/>
                  <a:rect l="0" t="0" r="r" b="b"/>
                  <a:pathLst>
                    <a:path fill="none" w="67" h="67">
                      <a:moveTo>
                        <a:pt x="67" y="0"/>
                      </a:moveTo>
                      <a:lnTo>
                        <a:pt x="67" y="0"/>
                      </a:lnTo>
                      <a:lnTo>
                        <a:pt x="0" y="34"/>
                      </a:lnTo>
                      <a:lnTo>
                        <a:pt x="0" y="67"/>
                      </a:lnTo>
                      <a:lnTo>
                        <a:pt x="67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4781520" y="3076560"/>
                  <a:ext cx="1152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32" h="32">
                      <a:moveTo>
                        <a:pt x="32" y="0"/>
                      </a:moveTo>
                      <a:lnTo>
                        <a:pt x="0" y="32"/>
                      </a:lnTo>
                      <a:lnTo>
                        <a:pt x="32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8" name=""/>
              <p:cNvGrpSpPr/>
              <p:nvPr/>
            </p:nvGrpSpPr>
            <p:grpSpPr>
              <a:xfrm>
                <a:off x="4781520" y="3019320"/>
                <a:ext cx="59040" cy="206640"/>
                <a:chOff x="4781520" y="3019320"/>
                <a:chExt cx="59040" cy="206640"/>
              </a:xfrm>
            </p:grpSpPr>
            <p:sp>
              <p:nvSpPr>
                <p:cNvPr id="2459" name=""/>
                <p:cNvSpPr/>
                <p:nvPr/>
              </p:nvSpPr>
              <p:spPr>
                <a:xfrm>
                  <a:off x="4816440" y="3054240"/>
                  <a:ext cx="24120" cy="171720"/>
                </a:xfrm>
                <a:custGeom>
                  <a:avLst/>
                  <a:gdLst/>
                  <a:ahLst/>
                  <a:rect l="0" t="0" r="r" b="b"/>
                  <a:pathLst>
                    <a:path w="67" h="477">
                      <a:moveTo>
                        <a:pt x="67" y="0"/>
                      </a:moveTo>
                      <a:lnTo>
                        <a:pt x="0" y="59"/>
                      </a:lnTo>
                      <a:lnTo>
                        <a:pt x="0" y="477"/>
                      </a:lnTo>
                      <a:lnTo>
                        <a:pt x="22" y="477"/>
                      </a:lnTo>
                      <a:lnTo>
                        <a:pt x="22" y="89"/>
                      </a:lnTo>
                      <a:lnTo>
                        <a:pt x="67" y="59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4781520" y="3019320"/>
                  <a:ext cx="35280" cy="173520"/>
                </a:xfrm>
                <a:custGeom>
                  <a:avLst/>
                  <a:gdLst/>
                  <a:ahLst/>
                  <a:rect l="0" t="0" r="r" b="b"/>
                  <a:pathLst>
                    <a:path fill="none" w="98" h="482">
                      <a:moveTo>
                        <a:pt x="98" y="0"/>
                      </a:moveTo>
                      <a:lnTo>
                        <a:pt x="98" y="0"/>
                      </a:lnTo>
                      <a:lnTo>
                        <a:pt x="0" y="32"/>
                      </a:lnTo>
                      <a:lnTo>
                        <a:pt x="0" y="482"/>
                      </a:lnTo>
                      <a:lnTo>
                        <a:pt x="32" y="482"/>
                      </a:lnTo>
                      <a:lnTo>
                        <a:pt x="32" y="96"/>
                      </a:lnTo>
                      <a:lnTo>
                        <a:pt x="98" y="64"/>
                      </a:lnTo>
                      <a:lnTo>
                        <a:pt x="98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4781520" y="3019320"/>
                  <a:ext cx="24120" cy="160560"/>
                </a:xfrm>
                <a:custGeom>
                  <a:avLst/>
                  <a:gdLst/>
                  <a:ahLst/>
                  <a:rect l="0" t="0" r="r" b="b"/>
                  <a:pathLst>
                    <a:path fill="none" w="67" h="446">
                      <a:moveTo>
                        <a:pt x="67" y="0"/>
                      </a:moveTo>
                      <a:lnTo>
                        <a:pt x="0" y="31"/>
                      </a:lnTo>
                      <a:lnTo>
                        <a:pt x="0" y="446"/>
                      </a:lnTo>
                      <a:lnTo>
                        <a:pt x="0" y="63"/>
                      </a:lnTo>
                      <a:lnTo>
                        <a:pt x="67" y="63"/>
                      </a:lnTo>
                      <a:lnTo>
                        <a:pt x="67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4770360" y="3135240"/>
                <a:ext cx="4680" cy="21960"/>
                <a:chOff x="4770360" y="3135240"/>
                <a:chExt cx="4680" cy="2196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4775040" y="313524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4770360" y="3135240"/>
                  <a:ext cx="0" cy="21960"/>
                </a:xfrm>
                <a:custGeom>
                  <a:avLst/>
                  <a:gdLst/>
                  <a:ahLst/>
                  <a:rect l="0" t="0" r="r" b="b"/>
                  <a:pathLst>
                    <a:path fill="none" w="0" h="61">
                      <a:moveTo>
                        <a:pt x="0" y="0"/>
                      </a:moveTo>
                      <a:lnTo>
                        <a:pt x="0" y="61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4770360" y="3135240"/>
                  <a:ext cx="0" cy="21960"/>
                </a:xfrm>
                <a:custGeom>
                  <a:avLst/>
                  <a:gdLst/>
                  <a:ahLst/>
                  <a:rect l="0" t="0" r="r" b="b"/>
                  <a:pathLst>
                    <a:path fill="none" w="0" h="61">
                      <a:moveTo>
                        <a:pt x="0" y="0"/>
                      </a:moveTo>
                      <a:lnTo>
                        <a:pt x="0" y="61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4748040" y="3236760"/>
                <a:ext cx="190440" cy="46080"/>
                <a:chOff x="4748040" y="3236760"/>
                <a:chExt cx="190440" cy="4608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4792680" y="3282840"/>
                  <a:ext cx="145800" cy="0"/>
                </a:xfrm>
                <a:custGeom>
                  <a:avLst/>
                  <a:gdLst/>
                  <a:ahLst/>
                  <a:rect l="0" t="0" r="r" b="b"/>
                  <a:pathLst>
                    <a:path w="405" h="0">
                      <a:moveTo>
                        <a:pt x="0" y="0"/>
                      </a:moveTo>
                      <a:lnTo>
                        <a:pt x="40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4748040" y="3236760"/>
                  <a:ext cx="158400" cy="0"/>
                </a:xfrm>
                <a:custGeom>
                  <a:avLst/>
                  <a:gdLst/>
                  <a:ahLst/>
                  <a:rect l="0" t="0" r="r" b="b"/>
                  <a:pathLst>
                    <a:path fill="none" w="44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40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4748040" y="3236760"/>
                  <a:ext cx="158400" cy="0"/>
                </a:xfrm>
                <a:custGeom>
                  <a:avLst/>
                  <a:gdLst/>
                  <a:ahLst/>
                  <a:rect l="0" t="0" r="r" b="b"/>
                  <a:pathLst>
                    <a:path fill="none" w="440" h="0">
                      <a:moveTo>
                        <a:pt x="0" y="0"/>
                      </a:moveTo>
                      <a:lnTo>
                        <a:pt x="440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0" name=""/>
              <p:cNvGrpSpPr/>
              <p:nvPr/>
            </p:nvGrpSpPr>
            <p:grpSpPr>
              <a:xfrm>
                <a:off x="4884840" y="3213000"/>
                <a:ext cx="42840" cy="47880"/>
                <a:chOff x="4884840" y="3213000"/>
                <a:chExt cx="42840" cy="47880"/>
              </a:xfrm>
            </p:grpSpPr>
            <p:sp>
              <p:nvSpPr>
                <p:cNvPr id="2471" name=""/>
                <p:cNvSpPr/>
                <p:nvPr/>
              </p:nvSpPr>
              <p:spPr>
                <a:xfrm>
                  <a:off x="4927680" y="32608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4884840" y="3213000"/>
                  <a:ext cx="2268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63" h="3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4884840" y="3213000"/>
                  <a:ext cx="2268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63" h="36">
                      <a:moveTo>
                        <a:pt x="0" y="0"/>
                      </a:moveTo>
                      <a:lnTo>
                        <a:pt x="63" y="0"/>
                      </a:lnTo>
                      <a:lnTo>
                        <a:pt x="63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4" name=""/>
              <p:cNvGrpSpPr/>
              <p:nvPr/>
            </p:nvGrpSpPr>
            <p:grpSpPr>
              <a:xfrm>
                <a:off x="4805280" y="3144960"/>
                <a:ext cx="44640" cy="47520"/>
                <a:chOff x="4805280" y="3144960"/>
                <a:chExt cx="44640" cy="47520"/>
              </a:xfrm>
            </p:grpSpPr>
            <p:sp>
              <p:nvSpPr>
                <p:cNvPr id="2475" name=""/>
                <p:cNvSpPr/>
                <p:nvPr/>
              </p:nvSpPr>
              <p:spPr>
                <a:xfrm>
                  <a:off x="4849920" y="3192480"/>
                  <a:ext cx="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4805280" y="3144960"/>
                  <a:ext cx="2412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67" h="36">
                      <a:moveTo>
                        <a:pt x="67" y="0"/>
                      </a:moveTo>
                      <a:lnTo>
                        <a:pt x="67" y="0"/>
                      </a:lnTo>
                      <a:lnTo>
                        <a:pt x="67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67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4805280" y="3144960"/>
                  <a:ext cx="2412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67" h="36">
                      <a:moveTo>
                        <a:pt x="67" y="0"/>
                      </a:moveTo>
                      <a:lnTo>
                        <a:pt x="67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67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4770360" y="3087720"/>
                <a:ext cx="69840" cy="81000"/>
                <a:chOff x="4770360" y="3087720"/>
                <a:chExt cx="69840" cy="8100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4770360" y="3087720"/>
                  <a:ext cx="69840" cy="81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4770360" y="3087720"/>
                  <a:ext cx="69840" cy="81000"/>
                </a:xfrm>
                <a:prstGeom prst="ellipse">
                  <a:avLst/>
                </a:prstGeom>
                <a:solidFill>
                  <a:srgbClr val="bfbfb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4781520" y="3179880"/>
                <a:ext cx="59040" cy="81000"/>
                <a:chOff x="4781520" y="3179880"/>
                <a:chExt cx="59040" cy="81000"/>
              </a:xfrm>
            </p:grpSpPr>
            <p:grpSp>
              <p:nvGrpSpPr>
                <p:cNvPr id="2482" name=""/>
                <p:cNvGrpSpPr/>
                <p:nvPr/>
              </p:nvGrpSpPr>
              <p:grpSpPr>
                <a:xfrm>
                  <a:off x="4781520" y="3179880"/>
                  <a:ext cx="59040" cy="81000"/>
                  <a:chOff x="4781520" y="3179880"/>
                  <a:chExt cx="59040" cy="81000"/>
                </a:xfrm>
              </p:grpSpPr>
              <p:sp>
                <p:nvSpPr>
                  <p:cNvPr id="2483" name=""/>
                  <p:cNvSpPr/>
                  <p:nvPr/>
                </p:nvSpPr>
                <p:spPr>
                  <a:xfrm>
                    <a:off x="4829040" y="3236760"/>
                    <a:ext cx="1152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67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32" y="67"/>
                        </a:lnTo>
                        <a:lnTo>
                          <a:pt x="0" y="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4781520" y="3179880"/>
                    <a:ext cx="2412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7" h="12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129"/>
                        </a:lnTo>
                        <a:lnTo>
                          <a:pt x="0" y="129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4781520" y="3179880"/>
                    <a:ext cx="2412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7" h="129">
                        <a:moveTo>
                          <a:pt x="0" y="0"/>
                        </a:moveTo>
                        <a:lnTo>
                          <a:pt x="67" y="0"/>
                        </a:lnTo>
                        <a:lnTo>
                          <a:pt x="67" y="129"/>
                        </a:lnTo>
                        <a:lnTo>
                          <a:pt x="0" y="129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6" name=""/>
                <p:cNvGrpSpPr/>
                <p:nvPr/>
              </p:nvGrpSpPr>
              <p:grpSpPr>
                <a:xfrm>
                  <a:off x="4781520" y="3192480"/>
                  <a:ext cx="23760" cy="33480"/>
                  <a:chOff x="4781520" y="3192480"/>
                  <a:chExt cx="23760" cy="33480"/>
                </a:xfrm>
              </p:grpSpPr>
              <p:grpSp>
                <p:nvGrpSpPr>
                  <p:cNvPr id="2487" name=""/>
                  <p:cNvGrpSpPr/>
                  <p:nvPr/>
                </p:nvGrpSpPr>
                <p:grpSpPr>
                  <a:xfrm>
                    <a:off x="4781520" y="3192480"/>
                    <a:ext cx="23760" cy="0"/>
                    <a:chOff x="4781520" y="3192480"/>
                    <a:chExt cx="23760" cy="0"/>
                  </a:xfrm>
                </p:grpSpPr>
                <p:sp>
                  <p:nvSpPr>
                    <p:cNvPr id="2488" name=""/>
                    <p:cNvSpPr/>
                    <p:nvPr/>
                  </p:nvSpPr>
                  <p:spPr>
                    <a:xfrm>
                      <a:off x="4781520" y="319248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9" name=""/>
                    <p:cNvSpPr/>
                    <p:nvPr/>
                  </p:nvSpPr>
                  <p:spPr>
                    <a:xfrm>
                      <a:off x="4781520" y="319248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0" name=""/>
                  <p:cNvGrpSpPr/>
                  <p:nvPr/>
                </p:nvGrpSpPr>
                <p:grpSpPr>
                  <a:xfrm>
                    <a:off x="4781520" y="3213000"/>
                    <a:ext cx="23760" cy="0"/>
                    <a:chOff x="4781520" y="3213000"/>
                    <a:chExt cx="23760" cy="0"/>
                  </a:xfrm>
                </p:grpSpPr>
                <p:sp>
                  <p:nvSpPr>
                    <p:cNvPr id="2491" name=""/>
                    <p:cNvSpPr/>
                    <p:nvPr/>
                  </p:nvSpPr>
                  <p:spPr>
                    <a:xfrm>
                      <a:off x="4781520" y="321300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2" name=""/>
                    <p:cNvSpPr/>
                    <p:nvPr/>
                  </p:nvSpPr>
                  <p:spPr>
                    <a:xfrm>
                      <a:off x="4781520" y="321300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3" name=""/>
                  <p:cNvGrpSpPr/>
                  <p:nvPr/>
                </p:nvGrpSpPr>
                <p:grpSpPr>
                  <a:xfrm>
                    <a:off x="4781520" y="3213000"/>
                    <a:ext cx="23760" cy="0"/>
                    <a:chOff x="4781520" y="3213000"/>
                    <a:chExt cx="23760" cy="0"/>
                  </a:xfrm>
                </p:grpSpPr>
                <p:sp>
                  <p:nvSpPr>
                    <p:cNvPr id="2494" name=""/>
                    <p:cNvSpPr/>
                    <p:nvPr/>
                  </p:nvSpPr>
                  <p:spPr>
                    <a:xfrm>
                      <a:off x="4781520" y="321300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5" name=""/>
                    <p:cNvSpPr/>
                    <p:nvPr/>
                  </p:nvSpPr>
                  <p:spPr>
                    <a:xfrm>
                      <a:off x="4781520" y="321300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6" name=""/>
                  <p:cNvGrpSpPr/>
                  <p:nvPr/>
                </p:nvGrpSpPr>
                <p:grpSpPr>
                  <a:xfrm>
                    <a:off x="4781520" y="3203640"/>
                    <a:ext cx="23760" cy="0"/>
                    <a:chOff x="4781520" y="3203640"/>
                    <a:chExt cx="23760" cy="0"/>
                  </a:xfrm>
                </p:grpSpPr>
                <p:sp>
                  <p:nvSpPr>
                    <p:cNvPr id="2497" name=""/>
                    <p:cNvSpPr/>
                    <p:nvPr/>
                  </p:nvSpPr>
                  <p:spPr>
                    <a:xfrm>
                      <a:off x="4781520" y="320364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8" name=""/>
                    <p:cNvSpPr/>
                    <p:nvPr/>
                  </p:nvSpPr>
                  <p:spPr>
                    <a:xfrm>
                      <a:off x="4781520" y="320364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9" name=""/>
                  <p:cNvGrpSpPr/>
                  <p:nvPr/>
                </p:nvGrpSpPr>
                <p:grpSpPr>
                  <a:xfrm>
                    <a:off x="4781520" y="3192480"/>
                    <a:ext cx="23760" cy="0"/>
                    <a:chOff x="4781520" y="3192480"/>
                    <a:chExt cx="23760" cy="0"/>
                  </a:xfrm>
                </p:grpSpPr>
                <p:sp>
                  <p:nvSpPr>
                    <p:cNvPr id="2500" name=""/>
                    <p:cNvSpPr/>
                    <p:nvPr/>
                  </p:nvSpPr>
                  <p:spPr>
                    <a:xfrm>
                      <a:off x="4781520" y="319248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1" name=""/>
                    <p:cNvSpPr/>
                    <p:nvPr/>
                  </p:nvSpPr>
                  <p:spPr>
                    <a:xfrm>
                      <a:off x="4781520" y="319248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2" name=""/>
                  <p:cNvGrpSpPr/>
                  <p:nvPr/>
                </p:nvGrpSpPr>
                <p:grpSpPr>
                  <a:xfrm>
                    <a:off x="4781520" y="3213000"/>
                    <a:ext cx="23760" cy="0"/>
                    <a:chOff x="4781520" y="3213000"/>
                    <a:chExt cx="23760" cy="0"/>
                  </a:xfrm>
                </p:grpSpPr>
                <p:sp>
                  <p:nvSpPr>
                    <p:cNvPr id="2503" name=""/>
                    <p:cNvSpPr/>
                    <p:nvPr/>
                  </p:nvSpPr>
                  <p:spPr>
                    <a:xfrm>
                      <a:off x="4781520" y="321300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4" name=""/>
                    <p:cNvSpPr/>
                    <p:nvPr/>
                  </p:nvSpPr>
                  <p:spPr>
                    <a:xfrm>
                      <a:off x="4781520" y="321300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5" name=""/>
                  <p:cNvGrpSpPr/>
                  <p:nvPr/>
                </p:nvGrpSpPr>
                <p:grpSpPr>
                  <a:xfrm>
                    <a:off x="4781520" y="3225960"/>
                    <a:ext cx="23760" cy="0"/>
                    <a:chOff x="4781520" y="3225960"/>
                    <a:chExt cx="23760" cy="0"/>
                  </a:xfrm>
                </p:grpSpPr>
                <p:sp>
                  <p:nvSpPr>
                    <p:cNvPr id="2506" name=""/>
                    <p:cNvSpPr/>
                    <p:nvPr/>
                  </p:nvSpPr>
                  <p:spPr>
                    <a:xfrm>
                      <a:off x="4781520" y="322596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7" name=""/>
                    <p:cNvSpPr/>
                    <p:nvPr/>
                  </p:nvSpPr>
                  <p:spPr>
                    <a:xfrm>
                      <a:off x="4781520" y="3225960"/>
                      <a:ext cx="23760" cy="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6" h="0">
                          <a:moveTo>
                            <a:pt x="0" y="0"/>
                          </a:moveTo>
                          <a:lnTo>
                            <a:pt x="6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08" name=""/>
              <p:cNvGrpSpPr/>
              <p:nvPr/>
            </p:nvGrpSpPr>
            <p:grpSpPr>
              <a:xfrm>
                <a:off x="4884840" y="3192480"/>
                <a:ext cx="54000" cy="44280"/>
                <a:chOff x="4884840" y="3192480"/>
                <a:chExt cx="54000" cy="4428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4938840" y="32367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4884840" y="3192480"/>
                  <a:ext cx="11520" cy="20880"/>
                </a:xfrm>
                <a:custGeom>
                  <a:avLst/>
                  <a:gdLst/>
                  <a:ahLst/>
                  <a:rect l="0" t="0" r="r" b="b"/>
                  <a:pathLst>
                    <a:path fill="none" w="32" h="5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32" y="58"/>
                      </a:lnTo>
                      <a:lnTo>
                        <a:pt x="0" y="58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4884840" y="3192480"/>
                  <a:ext cx="11520" cy="20880"/>
                </a:xfrm>
                <a:custGeom>
                  <a:avLst/>
                  <a:gdLst/>
                  <a:ahLst/>
                  <a:rect l="0" t="0" r="r" b="b"/>
                  <a:pathLst>
                    <a:path fill="none" w="32" h="58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32" y="58"/>
                      </a:lnTo>
                      <a:lnTo>
                        <a:pt x="0" y="58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2" name=""/>
              <p:cNvGrpSpPr/>
              <p:nvPr/>
            </p:nvGrpSpPr>
            <p:grpSpPr>
              <a:xfrm>
                <a:off x="4840200" y="3067200"/>
                <a:ext cx="67320" cy="68400"/>
                <a:chOff x="4840200" y="3067200"/>
                <a:chExt cx="67320" cy="68400"/>
              </a:xfrm>
            </p:grpSpPr>
            <p:grpSp>
              <p:nvGrpSpPr>
                <p:cNvPr id="2513" name=""/>
                <p:cNvGrpSpPr/>
                <p:nvPr/>
              </p:nvGrpSpPr>
              <p:grpSpPr>
                <a:xfrm>
                  <a:off x="4862520" y="3076560"/>
                  <a:ext cx="45000" cy="59040"/>
                  <a:chOff x="4862520" y="3076560"/>
                  <a:chExt cx="45000" cy="59040"/>
                </a:xfrm>
              </p:grpSpPr>
              <p:sp>
                <p:nvSpPr>
                  <p:cNvPr id="2514" name=""/>
                  <p:cNvSpPr/>
                  <p:nvPr/>
                </p:nvSpPr>
                <p:spPr>
                  <a:xfrm>
                    <a:off x="4896000" y="3111480"/>
                    <a:ext cx="1152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67">
                        <a:moveTo>
                          <a:pt x="16" y="0"/>
                        </a:moveTo>
                        <a:lnTo>
                          <a:pt x="0" y="67"/>
                        </a:lnTo>
                        <a:lnTo>
                          <a:pt x="32" y="2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4862520" y="3076560"/>
                    <a:ext cx="11520" cy="35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" h="98">
                        <a:moveTo>
                          <a:pt x="32" y="0"/>
                        </a:moveTo>
                        <a:lnTo>
                          <a:pt x="32" y="0"/>
                        </a:lnTo>
                        <a:lnTo>
                          <a:pt x="0" y="65"/>
                        </a:lnTo>
                        <a:lnTo>
                          <a:pt x="0" y="98"/>
                        </a:lnTo>
                        <a:lnTo>
                          <a:pt x="32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4862520" y="3076560"/>
                    <a:ext cx="1152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" h="67">
                        <a:moveTo>
                          <a:pt x="32" y="0"/>
                        </a:moveTo>
                        <a:lnTo>
                          <a:pt x="0" y="34"/>
                        </a:lnTo>
                        <a:lnTo>
                          <a:pt x="0" y="67"/>
                        </a:lnTo>
                        <a:lnTo>
                          <a:pt x="32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7" name=""/>
                <p:cNvGrpSpPr/>
                <p:nvPr/>
              </p:nvGrpSpPr>
              <p:grpSpPr>
                <a:xfrm>
                  <a:off x="4840200" y="3067200"/>
                  <a:ext cx="33840" cy="9720"/>
                  <a:chOff x="4840200" y="3067200"/>
                  <a:chExt cx="33840" cy="9720"/>
                </a:xfrm>
              </p:grpSpPr>
              <p:sp>
                <p:nvSpPr>
                  <p:cNvPr id="2518" name=""/>
                  <p:cNvSpPr/>
                  <p:nvPr/>
                </p:nvSpPr>
                <p:spPr>
                  <a:xfrm>
                    <a:off x="4840200" y="306720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6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4840200" y="3067200"/>
                    <a:ext cx="3384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" h="27">
                        <a:moveTo>
                          <a:pt x="94" y="0"/>
                        </a:moveTo>
                        <a:lnTo>
                          <a:pt x="94" y="0"/>
                        </a:lnTo>
                        <a:lnTo>
                          <a:pt x="0" y="0"/>
                        </a:lnTo>
                        <a:lnTo>
                          <a:pt x="0" y="27"/>
                        </a:lnTo>
                        <a:lnTo>
                          <a:pt x="94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4840200" y="3067200"/>
                    <a:ext cx="3384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" h="27">
                        <a:moveTo>
                          <a:pt x="94" y="0"/>
                        </a:moveTo>
                        <a:lnTo>
                          <a:pt x="0" y="0"/>
                        </a:lnTo>
                        <a:lnTo>
                          <a:pt x="0" y="27"/>
                        </a:lnTo>
                        <a:lnTo>
                          <a:pt x="94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21" name=""/>
              <p:cNvGrpSpPr/>
              <p:nvPr/>
            </p:nvGrpSpPr>
            <p:grpSpPr>
              <a:xfrm>
                <a:off x="4781520" y="3008160"/>
                <a:ext cx="136800" cy="195840"/>
                <a:chOff x="4781520" y="3008160"/>
                <a:chExt cx="136800" cy="195840"/>
              </a:xfrm>
            </p:grpSpPr>
            <p:grpSp>
              <p:nvGrpSpPr>
                <p:cNvPr id="2522" name=""/>
                <p:cNvGrpSpPr/>
                <p:nvPr/>
              </p:nvGrpSpPr>
              <p:grpSpPr>
                <a:xfrm>
                  <a:off x="4781520" y="3008160"/>
                  <a:ext cx="136800" cy="195840"/>
                  <a:chOff x="4781520" y="3008160"/>
                  <a:chExt cx="136800" cy="195840"/>
                </a:xfrm>
              </p:grpSpPr>
              <p:sp>
                <p:nvSpPr>
                  <p:cNvPr id="2523" name=""/>
                  <p:cNvSpPr/>
                  <p:nvPr/>
                </p:nvSpPr>
                <p:spPr>
                  <a:xfrm>
                    <a:off x="4840200" y="3054240"/>
                    <a:ext cx="78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416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0" y="59"/>
                        </a:lnTo>
                        <a:lnTo>
                          <a:pt x="0" y="88"/>
                        </a:lnTo>
                        <a:lnTo>
                          <a:pt x="0" y="119"/>
                        </a:lnTo>
                        <a:lnTo>
                          <a:pt x="0" y="149"/>
                        </a:lnTo>
                        <a:lnTo>
                          <a:pt x="0" y="178"/>
                        </a:lnTo>
                        <a:lnTo>
                          <a:pt x="0" y="208"/>
                        </a:lnTo>
                        <a:lnTo>
                          <a:pt x="27" y="237"/>
                        </a:lnTo>
                        <a:lnTo>
                          <a:pt x="27" y="267"/>
                        </a:lnTo>
                        <a:lnTo>
                          <a:pt x="54" y="297"/>
                        </a:lnTo>
                        <a:lnTo>
                          <a:pt x="81" y="357"/>
                        </a:lnTo>
                        <a:lnTo>
                          <a:pt x="108" y="357"/>
                        </a:lnTo>
                        <a:lnTo>
                          <a:pt x="136" y="357"/>
                        </a:lnTo>
                        <a:lnTo>
                          <a:pt x="136" y="386"/>
                        </a:lnTo>
                        <a:lnTo>
                          <a:pt x="163" y="386"/>
                        </a:lnTo>
                        <a:lnTo>
                          <a:pt x="190" y="416"/>
                        </a:lnTo>
                        <a:lnTo>
                          <a:pt x="217" y="3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4781520" y="3008160"/>
                    <a:ext cx="92520" cy="1605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57" h="446">
                        <a:moveTo>
                          <a:pt x="0" y="31"/>
                        </a:moveTo>
                        <a:lnTo>
                          <a:pt x="0" y="31"/>
                        </a:lnTo>
                        <a:lnTo>
                          <a:pt x="0" y="63"/>
                        </a:lnTo>
                        <a:lnTo>
                          <a:pt x="0" y="95"/>
                        </a:lnTo>
                        <a:lnTo>
                          <a:pt x="0" y="127"/>
                        </a:lnTo>
                        <a:lnTo>
                          <a:pt x="31" y="159"/>
                        </a:lnTo>
                        <a:lnTo>
                          <a:pt x="31" y="222"/>
                        </a:lnTo>
                        <a:lnTo>
                          <a:pt x="63" y="222"/>
                        </a:lnTo>
                        <a:lnTo>
                          <a:pt x="96" y="255"/>
                        </a:lnTo>
                        <a:lnTo>
                          <a:pt x="96" y="319"/>
                        </a:lnTo>
                        <a:lnTo>
                          <a:pt x="96" y="350"/>
                        </a:lnTo>
                        <a:lnTo>
                          <a:pt x="128" y="350"/>
                        </a:lnTo>
                        <a:lnTo>
                          <a:pt x="160" y="382"/>
                        </a:lnTo>
                        <a:lnTo>
                          <a:pt x="192" y="414"/>
                        </a:lnTo>
                        <a:lnTo>
                          <a:pt x="225" y="414"/>
                        </a:lnTo>
                        <a:lnTo>
                          <a:pt x="225" y="446"/>
                        </a:lnTo>
                        <a:lnTo>
                          <a:pt x="257" y="446"/>
                        </a:lnTo>
                        <a:lnTo>
                          <a:pt x="31" y="0"/>
                        </a:lnTo>
                        <a:lnTo>
                          <a:pt x="0" y="31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4781520" y="3008160"/>
                    <a:ext cx="103680" cy="1605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88" h="446">
                        <a:moveTo>
                          <a:pt x="0" y="31"/>
                        </a:moveTo>
                        <a:lnTo>
                          <a:pt x="0" y="63"/>
                        </a:lnTo>
                        <a:lnTo>
                          <a:pt x="0" y="95"/>
                        </a:lnTo>
                        <a:lnTo>
                          <a:pt x="0" y="127"/>
                        </a:lnTo>
                        <a:lnTo>
                          <a:pt x="31" y="159"/>
                        </a:lnTo>
                        <a:lnTo>
                          <a:pt x="31" y="222"/>
                        </a:lnTo>
                        <a:lnTo>
                          <a:pt x="63" y="222"/>
                        </a:lnTo>
                        <a:lnTo>
                          <a:pt x="96" y="255"/>
                        </a:lnTo>
                        <a:lnTo>
                          <a:pt x="128" y="319"/>
                        </a:lnTo>
                        <a:lnTo>
                          <a:pt x="128" y="350"/>
                        </a:lnTo>
                        <a:lnTo>
                          <a:pt x="160" y="382"/>
                        </a:lnTo>
                        <a:lnTo>
                          <a:pt x="192" y="414"/>
                        </a:lnTo>
                        <a:lnTo>
                          <a:pt x="224" y="414"/>
                        </a:lnTo>
                        <a:lnTo>
                          <a:pt x="256" y="446"/>
                        </a:lnTo>
                        <a:lnTo>
                          <a:pt x="288" y="446"/>
                        </a:lnTo>
                        <a:lnTo>
                          <a:pt x="31" y="0"/>
                        </a:lnTo>
                        <a:lnTo>
                          <a:pt x="0" y="31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6" name=""/>
                <p:cNvGrpSpPr/>
                <p:nvPr/>
              </p:nvGrpSpPr>
              <p:grpSpPr>
                <a:xfrm>
                  <a:off x="4792680" y="3008160"/>
                  <a:ext cx="125640" cy="184680"/>
                  <a:chOff x="4792680" y="3008160"/>
                  <a:chExt cx="125640" cy="184680"/>
                </a:xfrm>
              </p:grpSpPr>
              <p:sp>
                <p:nvSpPr>
                  <p:cNvPr id="2527" name=""/>
                  <p:cNvSpPr/>
                  <p:nvPr/>
                </p:nvSpPr>
                <p:spPr>
                  <a:xfrm>
                    <a:off x="4840200" y="3054240"/>
                    <a:ext cx="78120" cy="138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38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0" y="59"/>
                        </a:lnTo>
                        <a:lnTo>
                          <a:pt x="0" y="88"/>
                        </a:lnTo>
                        <a:lnTo>
                          <a:pt x="0" y="119"/>
                        </a:lnTo>
                        <a:lnTo>
                          <a:pt x="0" y="178"/>
                        </a:lnTo>
                        <a:lnTo>
                          <a:pt x="27" y="207"/>
                        </a:lnTo>
                        <a:lnTo>
                          <a:pt x="27" y="237"/>
                        </a:lnTo>
                        <a:lnTo>
                          <a:pt x="54" y="266"/>
                        </a:lnTo>
                        <a:lnTo>
                          <a:pt x="81" y="297"/>
                        </a:lnTo>
                        <a:lnTo>
                          <a:pt x="108" y="326"/>
                        </a:lnTo>
                        <a:lnTo>
                          <a:pt x="136" y="356"/>
                        </a:lnTo>
                        <a:lnTo>
                          <a:pt x="163" y="385"/>
                        </a:lnTo>
                        <a:lnTo>
                          <a:pt x="190" y="385"/>
                        </a:lnTo>
                        <a:lnTo>
                          <a:pt x="217" y="385"/>
                        </a:lnTo>
                        <a:lnTo>
                          <a:pt x="190" y="356"/>
                        </a:lnTo>
                        <a:lnTo>
                          <a:pt x="190" y="326"/>
                        </a:lnTo>
                        <a:lnTo>
                          <a:pt x="190" y="297"/>
                        </a:lnTo>
                        <a:lnTo>
                          <a:pt x="163" y="266"/>
                        </a:lnTo>
                        <a:lnTo>
                          <a:pt x="163" y="237"/>
                        </a:lnTo>
                        <a:lnTo>
                          <a:pt x="136" y="207"/>
                        </a:lnTo>
                        <a:lnTo>
                          <a:pt x="136" y="178"/>
                        </a:lnTo>
                        <a:lnTo>
                          <a:pt x="136" y="148"/>
                        </a:lnTo>
                        <a:lnTo>
                          <a:pt x="108" y="119"/>
                        </a:lnTo>
                        <a:lnTo>
                          <a:pt x="81" y="88"/>
                        </a:lnTo>
                        <a:lnTo>
                          <a:pt x="54" y="88"/>
                        </a:lnTo>
                        <a:lnTo>
                          <a:pt x="27" y="59"/>
                        </a:lnTo>
                        <a:lnTo>
                          <a:pt x="27" y="29"/>
                        </a:lnTo>
                        <a:lnTo>
                          <a:pt x="2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4792680" y="3008160"/>
                    <a:ext cx="81360" cy="1605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26" h="44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1"/>
                        </a:lnTo>
                        <a:lnTo>
                          <a:pt x="0" y="63"/>
                        </a:lnTo>
                        <a:lnTo>
                          <a:pt x="0" y="95"/>
                        </a:lnTo>
                        <a:lnTo>
                          <a:pt x="0" y="127"/>
                        </a:lnTo>
                        <a:lnTo>
                          <a:pt x="0" y="159"/>
                        </a:lnTo>
                        <a:lnTo>
                          <a:pt x="32" y="190"/>
                        </a:lnTo>
                        <a:lnTo>
                          <a:pt x="65" y="222"/>
                        </a:lnTo>
                        <a:lnTo>
                          <a:pt x="97" y="255"/>
                        </a:lnTo>
                        <a:lnTo>
                          <a:pt x="97" y="287"/>
                        </a:lnTo>
                        <a:lnTo>
                          <a:pt x="97" y="350"/>
                        </a:lnTo>
                        <a:lnTo>
                          <a:pt x="129" y="350"/>
                        </a:lnTo>
                        <a:lnTo>
                          <a:pt x="161" y="382"/>
                        </a:lnTo>
                        <a:lnTo>
                          <a:pt x="194" y="414"/>
                        </a:lnTo>
                        <a:lnTo>
                          <a:pt x="226" y="414"/>
                        </a:lnTo>
                        <a:lnTo>
                          <a:pt x="226" y="446"/>
                        </a:lnTo>
                        <a:lnTo>
                          <a:pt x="226" y="414"/>
                        </a:lnTo>
                        <a:lnTo>
                          <a:pt x="226" y="382"/>
                        </a:lnTo>
                        <a:lnTo>
                          <a:pt x="226" y="350"/>
                        </a:lnTo>
                        <a:lnTo>
                          <a:pt x="226" y="319"/>
                        </a:lnTo>
                        <a:lnTo>
                          <a:pt x="226" y="287"/>
                        </a:lnTo>
                        <a:lnTo>
                          <a:pt x="226" y="255"/>
                        </a:lnTo>
                        <a:lnTo>
                          <a:pt x="194" y="255"/>
                        </a:lnTo>
                        <a:lnTo>
                          <a:pt x="194" y="222"/>
                        </a:lnTo>
                        <a:lnTo>
                          <a:pt x="161" y="222"/>
                        </a:lnTo>
                        <a:lnTo>
                          <a:pt x="161" y="190"/>
                        </a:lnTo>
                        <a:lnTo>
                          <a:pt x="129" y="159"/>
                        </a:lnTo>
                        <a:lnTo>
                          <a:pt x="97" y="127"/>
                        </a:lnTo>
                        <a:lnTo>
                          <a:pt x="97" y="95"/>
                        </a:lnTo>
                        <a:lnTo>
                          <a:pt x="97" y="63"/>
                        </a:lnTo>
                        <a:lnTo>
                          <a:pt x="65" y="63"/>
                        </a:lnTo>
                        <a:lnTo>
                          <a:pt x="32" y="31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4792680" y="3008160"/>
                    <a:ext cx="92520" cy="1605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57" h="446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0" y="63"/>
                        </a:lnTo>
                        <a:lnTo>
                          <a:pt x="0" y="95"/>
                        </a:lnTo>
                        <a:lnTo>
                          <a:pt x="0" y="127"/>
                        </a:lnTo>
                        <a:lnTo>
                          <a:pt x="0" y="159"/>
                        </a:lnTo>
                        <a:lnTo>
                          <a:pt x="31" y="190"/>
                        </a:lnTo>
                        <a:lnTo>
                          <a:pt x="63" y="222"/>
                        </a:lnTo>
                        <a:lnTo>
                          <a:pt x="96" y="255"/>
                        </a:lnTo>
                        <a:lnTo>
                          <a:pt x="96" y="287"/>
                        </a:lnTo>
                        <a:lnTo>
                          <a:pt x="96" y="350"/>
                        </a:lnTo>
                        <a:lnTo>
                          <a:pt x="128" y="350"/>
                        </a:lnTo>
                        <a:lnTo>
                          <a:pt x="160" y="382"/>
                        </a:lnTo>
                        <a:lnTo>
                          <a:pt x="192" y="414"/>
                        </a:lnTo>
                        <a:lnTo>
                          <a:pt x="225" y="414"/>
                        </a:lnTo>
                        <a:lnTo>
                          <a:pt x="257" y="446"/>
                        </a:lnTo>
                        <a:lnTo>
                          <a:pt x="257" y="414"/>
                        </a:lnTo>
                        <a:lnTo>
                          <a:pt x="257" y="382"/>
                        </a:lnTo>
                        <a:lnTo>
                          <a:pt x="257" y="350"/>
                        </a:lnTo>
                        <a:lnTo>
                          <a:pt x="225" y="350"/>
                        </a:lnTo>
                        <a:lnTo>
                          <a:pt x="225" y="319"/>
                        </a:lnTo>
                        <a:lnTo>
                          <a:pt x="225" y="287"/>
                        </a:lnTo>
                        <a:lnTo>
                          <a:pt x="225" y="255"/>
                        </a:lnTo>
                        <a:lnTo>
                          <a:pt x="192" y="255"/>
                        </a:lnTo>
                        <a:lnTo>
                          <a:pt x="192" y="222"/>
                        </a:lnTo>
                        <a:lnTo>
                          <a:pt x="160" y="222"/>
                        </a:lnTo>
                        <a:lnTo>
                          <a:pt x="160" y="190"/>
                        </a:lnTo>
                        <a:lnTo>
                          <a:pt x="128" y="159"/>
                        </a:lnTo>
                        <a:lnTo>
                          <a:pt x="96" y="127"/>
                        </a:lnTo>
                        <a:lnTo>
                          <a:pt x="96" y="95"/>
                        </a:lnTo>
                        <a:lnTo>
                          <a:pt x="96" y="63"/>
                        </a:lnTo>
                        <a:lnTo>
                          <a:pt x="63" y="63"/>
                        </a:lnTo>
                        <a:lnTo>
                          <a:pt x="31" y="31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0" name=""/>
              <p:cNvGrpSpPr/>
              <p:nvPr/>
            </p:nvGrpSpPr>
            <p:grpSpPr>
              <a:xfrm>
                <a:off x="4792680" y="3043080"/>
                <a:ext cx="126000" cy="137160"/>
                <a:chOff x="4792680" y="3043080"/>
                <a:chExt cx="126000" cy="137160"/>
              </a:xfrm>
            </p:grpSpPr>
            <p:grpSp>
              <p:nvGrpSpPr>
                <p:cNvPr id="2531" name=""/>
                <p:cNvGrpSpPr/>
                <p:nvPr/>
              </p:nvGrpSpPr>
              <p:grpSpPr>
                <a:xfrm>
                  <a:off x="4792680" y="3043080"/>
                  <a:ext cx="125280" cy="57240"/>
                  <a:chOff x="4792680" y="3043080"/>
                  <a:chExt cx="125280" cy="57240"/>
                </a:xfrm>
              </p:grpSpPr>
              <p:sp>
                <p:nvSpPr>
                  <p:cNvPr id="2532" name=""/>
                  <p:cNvSpPr/>
                  <p:nvPr/>
                </p:nvSpPr>
                <p:spPr>
                  <a:xfrm>
                    <a:off x="4840200" y="3100320"/>
                    <a:ext cx="777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16" h="0">
                        <a:moveTo>
                          <a:pt x="0" y="0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dcff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4792680" y="3043080"/>
                    <a:ext cx="8136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26" h="3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26" y="3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4792680" y="3043080"/>
                    <a:ext cx="9252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57" h="32">
                        <a:moveTo>
                          <a:pt x="0" y="0"/>
                        </a:moveTo>
                        <a:lnTo>
                          <a:pt x="257" y="3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5" name=""/>
                <p:cNvGrpSpPr/>
                <p:nvPr/>
              </p:nvGrpSpPr>
              <p:grpSpPr>
                <a:xfrm>
                  <a:off x="4849920" y="3067200"/>
                  <a:ext cx="68760" cy="113040"/>
                  <a:chOff x="4849920" y="3067200"/>
                  <a:chExt cx="68760" cy="113040"/>
                </a:xfrm>
              </p:grpSpPr>
              <p:sp>
                <p:nvSpPr>
                  <p:cNvPr id="2536" name=""/>
                  <p:cNvSpPr/>
                  <p:nvPr/>
                </p:nvSpPr>
                <p:spPr>
                  <a:xfrm>
                    <a:off x="4896000" y="3111480"/>
                    <a:ext cx="2268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91">
                        <a:moveTo>
                          <a:pt x="63" y="0"/>
                        </a:moveTo>
                        <a:lnTo>
                          <a:pt x="0" y="191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ccdcf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4849920" y="3067200"/>
                    <a:ext cx="35280" cy="78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8" h="217">
                        <a:moveTo>
                          <a:pt x="98" y="30"/>
                        </a:moveTo>
                        <a:lnTo>
                          <a:pt x="98" y="30"/>
                        </a:lnTo>
                        <a:lnTo>
                          <a:pt x="0" y="217"/>
                        </a:lnTo>
                        <a:lnTo>
                          <a:pt x="98" y="0"/>
                        </a:lnTo>
                        <a:lnTo>
                          <a:pt x="98" y="3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4849920" y="3067200"/>
                    <a:ext cx="35280" cy="78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8" h="217">
                        <a:moveTo>
                          <a:pt x="65" y="30"/>
                        </a:moveTo>
                        <a:lnTo>
                          <a:pt x="0" y="217"/>
                        </a:lnTo>
                        <a:lnTo>
                          <a:pt x="98" y="0"/>
                        </a:lnTo>
                        <a:lnTo>
                          <a:pt x="65" y="3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9" name=""/>
              <p:cNvGrpSpPr/>
              <p:nvPr/>
            </p:nvGrpSpPr>
            <p:grpSpPr>
              <a:xfrm>
                <a:off x="4862520" y="3043080"/>
                <a:ext cx="65160" cy="68760"/>
                <a:chOff x="4862520" y="3043080"/>
                <a:chExt cx="65160" cy="68760"/>
              </a:xfrm>
            </p:grpSpPr>
            <p:grpSp>
              <p:nvGrpSpPr>
                <p:cNvPr id="2540" name=""/>
                <p:cNvGrpSpPr/>
                <p:nvPr/>
              </p:nvGrpSpPr>
              <p:grpSpPr>
                <a:xfrm>
                  <a:off x="4862520" y="3054240"/>
                  <a:ext cx="65160" cy="57600"/>
                  <a:chOff x="4862520" y="3054240"/>
                  <a:chExt cx="65160" cy="57600"/>
                </a:xfrm>
              </p:grpSpPr>
              <p:sp>
                <p:nvSpPr>
                  <p:cNvPr id="2541" name=""/>
                  <p:cNvSpPr/>
                  <p:nvPr/>
                </p:nvSpPr>
                <p:spPr>
                  <a:xfrm>
                    <a:off x="4906800" y="3100320"/>
                    <a:ext cx="2088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32">
                        <a:moveTo>
                          <a:pt x="39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0" y="32"/>
                        </a:lnTo>
                        <a:lnTo>
                          <a:pt x="19" y="32"/>
                        </a:lnTo>
                        <a:lnTo>
                          <a:pt x="58" y="16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4862520" y="3054240"/>
                    <a:ext cx="338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" h="63">
                        <a:moveTo>
                          <a:pt x="94" y="0"/>
                        </a:moveTo>
                        <a:lnTo>
                          <a:pt x="94" y="0"/>
                        </a:lnTo>
                        <a:lnTo>
                          <a:pt x="31" y="0"/>
                        </a:lnTo>
                        <a:lnTo>
                          <a:pt x="0" y="31"/>
                        </a:lnTo>
                        <a:lnTo>
                          <a:pt x="31" y="63"/>
                        </a:lnTo>
                        <a:lnTo>
                          <a:pt x="94" y="31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 flipV="1">
                    <a:off x="4896000" y="3060720"/>
                    <a:ext cx="0" cy="9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4862520" y="3054240"/>
                    <a:ext cx="2268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3" h="63">
                        <a:moveTo>
                          <a:pt x="63" y="0"/>
                        </a:moveTo>
                        <a:lnTo>
                          <a:pt x="31" y="0"/>
                        </a:lnTo>
                        <a:lnTo>
                          <a:pt x="0" y="31"/>
                        </a:lnTo>
                        <a:lnTo>
                          <a:pt x="31" y="63"/>
                        </a:lnTo>
                        <a:lnTo>
                          <a:pt x="63" y="31"/>
                        </a:lnTo>
                        <a:lnTo>
                          <a:pt x="63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5" name=""/>
                <p:cNvGrpSpPr/>
                <p:nvPr/>
              </p:nvGrpSpPr>
              <p:grpSpPr>
                <a:xfrm>
                  <a:off x="4873680" y="3043080"/>
                  <a:ext cx="54000" cy="57240"/>
                  <a:chOff x="4873680" y="3043080"/>
                  <a:chExt cx="54000" cy="57240"/>
                </a:xfrm>
              </p:grpSpPr>
              <p:sp>
                <p:nvSpPr>
                  <p:cNvPr id="2546" name=""/>
                  <p:cNvSpPr/>
                  <p:nvPr/>
                </p:nvSpPr>
                <p:spPr>
                  <a:xfrm>
                    <a:off x="4927680" y="31003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4873680" y="3043080"/>
                    <a:ext cx="226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3" h="94">
                        <a:moveTo>
                          <a:pt x="31" y="31"/>
                        </a:moveTo>
                        <a:lnTo>
                          <a:pt x="31" y="31"/>
                        </a:lnTo>
                        <a:lnTo>
                          <a:pt x="31" y="0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  <a:lnTo>
                          <a:pt x="0" y="62"/>
                        </a:lnTo>
                        <a:lnTo>
                          <a:pt x="31" y="62"/>
                        </a:lnTo>
                        <a:lnTo>
                          <a:pt x="31" y="94"/>
                        </a:lnTo>
                        <a:lnTo>
                          <a:pt x="63" y="94"/>
                        </a:lnTo>
                        <a:lnTo>
                          <a:pt x="63" y="62"/>
                        </a:lnTo>
                        <a:lnTo>
                          <a:pt x="31" y="31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4873680" y="3043080"/>
                    <a:ext cx="226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3" h="94">
                        <a:moveTo>
                          <a:pt x="31" y="31"/>
                        </a:moveTo>
                        <a:lnTo>
                          <a:pt x="31" y="0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  <a:lnTo>
                          <a:pt x="0" y="62"/>
                        </a:lnTo>
                        <a:lnTo>
                          <a:pt x="31" y="62"/>
                        </a:lnTo>
                        <a:lnTo>
                          <a:pt x="31" y="94"/>
                        </a:lnTo>
                        <a:lnTo>
                          <a:pt x="63" y="94"/>
                        </a:lnTo>
                        <a:lnTo>
                          <a:pt x="63" y="62"/>
                        </a:lnTo>
                        <a:lnTo>
                          <a:pt x="31" y="31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9" name=""/>
                <p:cNvGrpSpPr/>
                <p:nvPr/>
              </p:nvGrpSpPr>
              <p:grpSpPr>
                <a:xfrm>
                  <a:off x="4884840" y="3054240"/>
                  <a:ext cx="42840" cy="46080"/>
                  <a:chOff x="4884840" y="3054240"/>
                  <a:chExt cx="42840" cy="46080"/>
                </a:xfrm>
              </p:grpSpPr>
              <p:sp>
                <p:nvSpPr>
                  <p:cNvPr id="2550" name=""/>
                  <p:cNvSpPr/>
                  <p:nvPr/>
                </p:nvSpPr>
                <p:spPr>
                  <a:xfrm>
                    <a:off x="4927680" y="31003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6a6a6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4884840" y="3054240"/>
                    <a:ext cx="115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" h="3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2" y="0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4884840" y="3054240"/>
                    <a:ext cx="115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" h="36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3" name=""/>
                <p:cNvGrpSpPr/>
                <p:nvPr/>
              </p:nvGrpSpPr>
              <p:grpSpPr>
                <a:xfrm>
                  <a:off x="4873680" y="3054240"/>
                  <a:ext cx="11520" cy="22680"/>
                  <a:chOff x="4873680" y="3054240"/>
                  <a:chExt cx="11520" cy="2268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4873680" y="3054240"/>
                    <a:ext cx="1152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" h="6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1"/>
                        </a:lnTo>
                        <a:lnTo>
                          <a:pt x="0" y="63"/>
                        </a:lnTo>
                        <a:lnTo>
                          <a:pt x="32" y="63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4873680" y="3054240"/>
                    <a:ext cx="1152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" h="63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0" y="63"/>
                        </a:lnTo>
                        <a:lnTo>
                          <a:pt x="32" y="63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6" name=""/>
                <p:cNvGrpSpPr/>
                <p:nvPr/>
              </p:nvGrpSpPr>
              <p:grpSpPr>
                <a:xfrm>
                  <a:off x="4873680" y="3054240"/>
                  <a:ext cx="11520" cy="22680"/>
                  <a:chOff x="4873680" y="3054240"/>
                  <a:chExt cx="11520" cy="22680"/>
                </a:xfrm>
              </p:grpSpPr>
              <p:sp>
                <p:nvSpPr>
                  <p:cNvPr id="2557" name=""/>
                  <p:cNvSpPr/>
                  <p:nvPr/>
                </p:nvSpPr>
                <p:spPr>
                  <a:xfrm>
                    <a:off x="4873680" y="3054240"/>
                    <a:ext cx="1152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" h="63">
                        <a:moveTo>
                          <a:pt x="32" y="0"/>
                        </a:moveTo>
                        <a:lnTo>
                          <a:pt x="32" y="0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  <a:lnTo>
                          <a:pt x="32" y="31"/>
                        </a:lnTo>
                        <a:lnTo>
                          <a:pt x="32" y="63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4873680" y="3054240"/>
                    <a:ext cx="1152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" h="63">
                        <a:moveTo>
                          <a:pt x="32" y="0"/>
                        </a:moveTo>
                        <a:lnTo>
                          <a:pt x="0" y="0"/>
                        </a:lnTo>
                        <a:lnTo>
                          <a:pt x="0" y="31"/>
                        </a:lnTo>
                        <a:lnTo>
                          <a:pt x="32" y="31"/>
                        </a:lnTo>
                        <a:lnTo>
                          <a:pt x="32" y="63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59" name=""/>
            <p:cNvGrpSpPr/>
            <p:nvPr/>
          </p:nvGrpSpPr>
          <p:grpSpPr>
            <a:xfrm>
              <a:off x="5052960" y="3111480"/>
              <a:ext cx="57240" cy="250920"/>
              <a:chOff x="5052960" y="3111480"/>
              <a:chExt cx="57240" cy="250920"/>
            </a:xfrm>
          </p:grpSpPr>
          <p:sp>
            <p:nvSpPr>
              <p:cNvPr id="2560" name=""/>
              <p:cNvSpPr/>
              <p:nvPr/>
            </p:nvSpPr>
            <p:spPr>
              <a:xfrm>
                <a:off x="5079960" y="3111480"/>
                <a:ext cx="0" cy="25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1" name=""/>
              <p:cNvGrpSpPr/>
              <p:nvPr/>
            </p:nvGrpSpPr>
            <p:grpSpPr>
              <a:xfrm>
                <a:off x="5052960" y="3151080"/>
                <a:ext cx="57240" cy="34920"/>
                <a:chOff x="5052960" y="3151080"/>
                <a:chExt cx="57240" cy="34920"/>
              </a:xfrm>
            </p:grpSpPr>
            <p:sp>
              <p:nvSpPr>
                <p:cNvPr id="2562" name=""/>
                <p:cNvSpPr/>
                <p:nvPr/>
              </p:nvSpPr>
              <p:spPr>
                <a:xfrm>
                  <a:off x="5052960" y="3174840"/>
                  <a:ext cx="57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V="1">
                  <a:off x="5097600" y="315108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564" name="" descr=""/>
          <p:cNvPicPr/>
          <p:nvPr/>
        </p:nvPicPr>
        <p:blipFill>
          <a:blip r:embed="rId10"/>
          <a:stretch/>
        </p:blipFill>
        <p:spPr>
          <a:xfrm>
            <a:off x="3814920" y="3809880"/>
            <a:ext cx="665280" cy="252360"/>
          </a:xfrm>
          <a:prstGeom prst="rect">
            <a:avLst/>
          </a:prstGeom>
          <a:ln w="0">
            <a:noFill/>
          </a:ln>
        </p:spPr>
      </p:pic>
      <p:grpSp>
        <p:nvGrpSpPr>
          <p:cNvPr id="2565" name=""/>
          <p:cNvGrpSpPr/>
          <p:nvPr/>
        </p:nvGrpSpPr>
        <p:grpSpPr>
          <a:xfrm>
            <a:off x="3824280" y="3706920"/>
            <a:ext cx="57240" cy="252360"/>
            <a:chOff x="3824280" y="3706920"/>
            <a:chExt cx="57240" cy="252360"/>
          </a:xfrm>
        </p:grpSpPr>
        <p:sp>
          <p:nvSpPr>
            <p:cNvPr id="2566" name=""/>
            <p:cNvSpPr/>
            <p:nvPr/>
          </p:nvSpPr>
          <p:spPr>
            <a:xfrm>
              <a:off x="3852720" y="370692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7" name=""/>
            <p:cNvGrpSpPr/>
            <p:nvPr/>
          </p:nvGrpSpPr>
          <p:grpSpPr>
            <a:xfrm>
              <a:off x="3824280" y="3746520"/>
              <a:ext cx="57240" cy="33480"/>
              <a:chOff x="3824280" y="3746520"/>
              <a:chExt cx="57240" cy="33480"/>
            </a:xfrm>
          </p:grpSpPr>
          <p:sp>
            <p:nvSpPr>
              <p:cNvPr id="2568" name=""/>
              <p:cNvSpPr/>
              <p:nvPr/>
            </p:nvSpPr>
            <p:spPr>
              <a:xfrm>
                <a:off x="3824280" y="377028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3870360" y="374652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0" name=""/>
          <p:cNvGrpSpPr/>
          <p:nvPr/>
        </p:nvGrpSpPr>
        <p:grpSpPr>
          <a:xfrm>
            <a:off x="7848720" y="5172120"/>
            <a:ext cx="835200" cy="782640"/>
            <a:chOff x="7848720" y="5172120"/>
            <a:chExt cx="835200" cy="782640"/>
          </a:xfrm>
        </p:grpSpPr>
        <p:sp>
          <p:nvSpPr>
            <p:cNvPr id="2571" name=""/>
            <p:cNvSpPr/>
            <p:nvPr/>
          </p:nvSpPr>
          <p:spPr>
            <a:xfrm>
              <a:off x="8077320" y="5335560"/>
              <a:ext cx="606600" cy="61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012160" y="5283360"/>
              <a:ext cx="609480" cy="61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931160" y="5219640"/>
              <a:ext cx="606600" cy="61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4" name=""/>
            <p:cNvGrpSpPr/>
            <p:nvPr/>
          </p:nvGrpSpPr>
          <p:grpSpPr>
            <a:xfrm>
              <a:off x="7848720" y="5172120"/>
              <a:ext cx="606600" cy="619200"/>
              <a:chOff x="7848720" y="5172120"/>
              <a:chExt cx="606600" cy="619200"/>
            </a:xfrm>
          </p:grpSpPr>
          <p:sp>
            <p:nvSpPr>
              <p:cNvPr id="2575" name=""/>
              <p:cNvSpPr/>
              <p:nvPr/>
            </p:nvSpPr>
            <p:spPr>
              <a:xfrm>
                <a:off x="7848720" y="5172120"/>
                <a:ext cx="606600" cy="619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97680" y="5270400"/>
                <a:ext cx="501480" cy="39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77" name=""/>
          <p:cNvGrpSpPr/>
          <p:nvPr/>
        </p:nvGrpSpPr>
        <p:grpSpPr>
          <a:xfrm>
            <a:off x="5338800" y="3541680"/>
            <a:ext cx="968400" cy="609840"/>
            <a:chOff x="5338800" y="3541680"/>
            <a:chExt cx="968400" cy="609840"/>
          </a:xfrm>
        </p:grpSpPr>
        <p:sp>
          <p:nvSpPr>
            <p:cNvPr id="2578" name=""/>
            <p:cNvSpPr/>
            <p:nvPr/>
          </p:nvSpPr>
          <p:spPr>
            <a:xfrm>
              <a:off x="5338800" y="3541680"/>
              <a:ext cx="954360" cy="609840"/>
            </a:xfrm>
            <a:custGeom>
              <a:avLst/>
              <a:gdLst/>
              <a:ahLst/>
              <a:rect l="0" t="0" r="r" b="b"/>
              <a:pathLst>
                <a:path w="2651" h="1694">
                  <a:moveTo>
                    <a:pt x="420" y="404"/>
                  </a:moveTo>
                  <a:lnTo>
                    <a:pt x="441" y="349"/>
                  </a:lnTo>
                  <a:lnTo>
                    <a:pt x="483" y="312"/>
                  </a:lnTo>
                  <a:lnTo>
                    <a:pt x="525" y="276"/>
                  </a:lnTo>
                  <a:lnTo>
                    <a:pt x="588" y="239"/>
                  </a:lnTo>
                  <a:lnTo>
                    <a:pt x="652" y="220"/>
                  </a:lnTo>
                  <a:lnTo>
                    <a:pt x="715" y="202"/>
                  </a:lnTo>
                  <a:lnTo>
                    <a:pt x="820" y="202"/>
                  </a:lnTo>
                  <a:lnTo>
                    <a:pt x="925" y="202"/>
                  </a:lnTo>
                  <a:lnTo>
                    <a:pt x="1009" y="220"/>
                  </a:lnTo>
                  <a:lnTo>
                    <a:pt x="1093" y="239"/>
                  </a:lnTo>
                  <a:lnTo>
                    <a:pt x="1114" y="165"/>
                  </a:lnTo>
                  <a:lnTo>
                    <a:pt x="1177" y="110"/>
                  </a:lnTo>
                  <a:lnTo>
                    <a:pt x="1240" y="55"/>
                  </a:lnTo>
                  <a:lnTo>
                    <a:pt x="1347" y="18"/>
                  </a:lnTo>
                  <a:lnTo>
                    <a:pt x="1452" y="0"/>
                  </a:lnTo>
                  <a:lnTo>
                    <a:pt x="1557" y="0"/>
                  </a:lnTo>
                  <a:lnTo>
                    <a:pt x="1662" y="18"/>
                  </a:lnTo>
                  <a:lnTo>
                    <a:pt x="1767" y="36"/>
                  </a:lnTo>
                  <a:lnTo>
                    <a:pt x="1851" y="92"/>
                  </a:lnTo>
                  <a:lnTo>
                    <a:pt x="1915" y="147"/>
                  </a:lnTo>
                  <a:lnTo>
                    <a:pt x="1957" y="202"/>
                  </a:lnTo>
                  <a:lnTo>
                    <a:pt x="1957" y="257"/>
                  </a:lnTo>
                  <a:lnTo>
                    <a:pt x="2041" y="239"/>
                  </a:lnTo>
                  <a:lnTo>
                    <a:pt x="2146" y="257"/>
                  </a:lnTo>
                  <a:lnTo>
                    <a:pt x="2209" y="276"/>
                  </a:lnTo>
                  <a:lnTo>
                    <a:pt x="2272" y="312"/>
                  </a:lnTo>
                  <a:lnTo>
                    <a:pt x="2335" y="368"/>
                  </a:lnTo>
                  <a:lnTo>
                    <a:pt x="2335" y="441"/>
                  </a:lnTo>
                  <a:lnTo>
                    <a:pt x="2335" y="496"/>
                  </a:lnTo>
                  <a:lnTo>
                    <a:pt x="2377" y="478"/>
                  </a:lnTo>
                  <a:lnTo>
                    <a:pt x="2440" y="496"/>
                  </a:lnTo>
                  <a:lnTo>
                    <a:pt x="2504" y="515"/>
                  </a:lnTo>
                  <a:lnTo>
                    <a:pt x="2546" y="552"/>
                  </a:lnTo>
                  <a:lnTo>
                    <a:pt x="2567" y="570"/>
                  </a:lnTo>
                  <a:lnTo>
                    <a:pt x="2588" y="588"/>
                  </a:lnTo>
                  <a:lnTo>
                    <a:pt x="2630" y="625"/>
                  </a:lnTo>
                  <a:lnTo>
                    <a:pt x="2630" y="681"/>
                  </a:lnTo>
                  <a:lnTo>
                    <a:pt x="2651" y="717"/>
                  </a:lnTo>
                  <a:lnTo>
                    <a:pt x="2630" y="754"/>
                  </a:lnTo>
                  <a:lnTo>
                    <a:pt x="2609" y="791"/>
                  </a:lnTo>
                  <a:lnTo>
                    <a:pt x="2630" y="846"/>
                  </a:lnTo>
                  <a:lnTo>
                    <a:pt x="2651" y="884"/>
                  </a:lnTo>
                  <a:lnTo>
                    <a:pt x="2651" y="939"/>
                  </a:lnTo>
                  <a:lnTo>
                    <a:pt x="2651" y="994"/>
                  </a:lnTo>
                  <a:lnTo>
                    <a:pt x="2630" y="1031"/>
                  </a:lnTo>
                  <a:lnTo>
                    <a:pt x="2609" y="1068"/>
                  </a:lnTo>
                  <a:lnTo>
                    <a:pt x="2651" y="1123"/>
                  </a:lnTo>
                  <a:lnTo>
                    <a:pt x="2651" y="1160"/>
                  </a:lnTo>
                  <a:lnTo>
                    <a:pt x="2651" y="1215"/>
                  </a:lnTo>
                  <a:lnTo>
                    <a:pt x="2651" y="1271"/>
                  </a:lnTo>
                  <a:lnTo>
                    <a:pt x="2630" y="1326"/>
                  </a:lnTo>
                  <a:lnTo>
                    <a:pt x="2588" y="1363"/>
                  </a:lnTo>
                  <a:lnTo>
                    <a:pt x="2546" y="1399"/>
                  </a:lnTo>
                  <a:lnTo>
                    <a:pt x="2461" y="1455"/>
                  </a:lnTo>
                  <a:lnTo>
                    <a:pt x="2377" y="1455"/>
                  </a:lnTo>
                  <a:lnTo>
                    <a:pt x="2314" y="1455"/>
                  </a:lnTo>
                  <a:lnTo>
                    <a:pt x="2251" y="1436"/>
                  </a:lnTo>
                  <a:lnTo>
                    <a:pt x="2230" y="1473"/>
                  </a:lnTo>
                  <a:lnTo>
                    <a:pt x="2188" y="1510"/>
                  </a:lnTo>
                  <a:lnTo>
                    <a:pt x="2167" y="1528"/>
                  </a:lnTo>
                  <a:lnTo>
                    <a:pt x="2104" y="1547"/>
                  </a:lnTo>
                  <a:lnTo>
                    <a:pt x="2041" y="1565"/>
                  </a:lnTo>
                  <a:lnTo>
                    <a:pt x="1957" y="1583"/>
                  </a:lnTo>
                  <a:lnTo>
                    <a:pt x="1894" y="1583"/>
                  </a:lnTo>
                  <a:lnTo>
                    <a:pt x="1809" y="1565"/>
                  </a:lnTo>
                  <a:lnTo>
                    <a:pt x="1746" y="1528"/>
                  </a:lnTo>
                  <a:lnTo>
                    <a:pt x="1704" y="1583"/>
                  </a:lnTo>
                  <a:lnTo>
                    <a:pt x="1662" y="1620"/>
                  </a:lnTo>
                  <a:lnTo>
                    <a:pt x="1620" y="1639"/>
                  </a:lnTo>
                  <a:lnTo>
                    <a:pt x="1578" y="1675"/>
                  </a:lnTo>
                  <a:lnTo>
                    <a:pt x="1515" y="1675"/>
                  </a:lnTo>
                  <a:lnTo>
                    <a:pt x="1452" y="1675"/>
                  </a:lnTo>
                  <a:lnTo>
                    <a:pt x="1389" y="1675"/>
                  </a:lnTo>
                  <a:lnTo>
                    <a:pt x="1326" y="1639"/>
                  </a:lnTo>
                  <a:lnTo>
                    <a:pt x="1283" y="1602"/>
                  </a:lnTo>
                  <a:lnTo>
                    <a:pt x="1240" y="1639"/>
                  </a:lnTo>
                  <a:lnTo>
                    <a:pt x="1198" y="1675"/>
                  </a:lnTo>
                  <a:lnTo>
                    <a:pt x="1156" y="1694"/>
                  </a:lnTo>
                  <a:lnTo>
                    <a:pt x="1093" y="1694"/>
                  </a:lnTo>
                  <a:lnTo>
                    <a:pt x="1030" y="1694"/>
                  </a:lnTo>
                  <a:lnTo>
                    <a:pt x="946" y="1675"/>
                  </a:lnTo>
                  <a:lnTo>
                    <a:pt x="883" y="1657"/>
                  </a:lnTo>
                  <a:lnTo>
                    <a:pt x="841" y="1602"/>
                  </a:lnTo>
                  <a:lnTo>
                    <a:pt x="799" y="1565"/>
                  </a:lnTo>
                  <a:lnTo>
                    <a:pt x="757" y="1583"/>
                  </a:lnTo>
                  <a:lnTo>
                    <a:pt x="694" y="1583"/>
                  </a:lnTo>
                  <a:lnTo>
                    <a:pt x="609" y="1583"/>
                  </a:lnTo>
                  <a:lnTo>
                    <a:pt x="546" y="1565"/>
                  </a:lnTo>
                  <a:lnTo>
                    <a:pt x="504" y="1528"/>
                  </a:lnTo>
                  <a:lnTo>
                    <a:pt x="462" y="1510"/>
                  </a:lnTo>
                  <a:lnTo>
                    <a:pt x="420" y="1455"/>
                  </a:lnTo>
                  <a:lnTo>
                    <a:pt x="420" y="1399"/>
                  </a:lnTo>
                  <a:lnTo>
                    <a:pt x="378" y="1418"/>
                  </a:lnTo>
                  <a:lnTo>
                    <a:pt x="315" y="1418"/>
                  </a:lnTo>
                  <a:lnTo>
                    <a:pt x="252" y="1399"/>
                  </a:lnTo>
                  <a:lnTo>
                    <a:pt x="189" y="1381"/>
                  </a:lnTo>
                  <a:lnTo>
                    <a:pt x="126" y="1326"/>
                  </a:lnTo>
                  <a:lnTo>
                    <a:pt x="84" y="1271"/>
                  </a:lnTo>
                  <a:lnTo>
                    <a:pt x="63" y="1215"/>
                  </a:lnTo>
                  <a:lnTo>
                    <a:pt x="63" y="1142"/>
                  </a:lnTo>
                  <a:lnTo>
                    <a:pt x="63" y="1086"/>
                  </a:lnTo>
                  <a:lnTo>
                    <a:pt x="84" y="994"/>
                  </a:lnTo>
                  <a:lnTo>
                    <a:pt x="42" y="958"/>
                  </a:lnTo>
                  <a:lnTo>
                    <a:pt x="21" y="902"/>
                  </a:lnTo>
                  <a:lnTo>
                    <a:pt x="0" y="828"/>
                  </a:lnTo>
                  <a:lnTo>
                    <a:pt x="0" y="754"/>
                  </a:lnTo>
                  <a:lnTo>
                    <a:pt x="21" y="699"/>
                  </a:lnTo>
                  <a:lnTo>
                    <a:pt x="42" y="644"/>
                  </a:lnTo>
                  <a:lnTo>
                    <a:pt x="105" y="588"/>
                  </a:lnTo>
                  <a:lnTo>
                    <a:pt x="147" y="533"/>
                  </a:lnTo>
                  <a:lnTo>
                    <a:pt x="231" y="496"/>
                  </a:lnTo>
                  <a:lnTo>
                    <a:pt x="315" y="460"/>
                  </a:lnTo>
                  <a:lnTo>
                    <a:pt x="378" y="460"/>
                  </a:lnTo>
                  <a:lnTo>
                    <a:pt x="420" y="441"/>
                  </a:lnTo>
                  <a:lnTo>
                    <a:pt x="420" y="4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 txBox="1"/>
            <p:nvPr/>
          </p:nvSpPr>
          <p:spPr>
            <a:xfrm>
              <a:off x="5362560" y="3773520"/>
              <a:ext cx="944640" cy="23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chb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0" name=""/>
          <p:cNvGrpSpPr/>
          <p:nvPr/>
        </p:nvGrpSpPr>
        <p:grpSpPr>
          <a:xfrm>
            <a:off x="6600960" y="4954680"/>
            <a:ext cx="951120" cy="619560"/>
            <a:chOff x="6600960" y="4954680"/>
            <a:chExt cx="951120" cy="619560"/>
          </a:xfrm>
        </p:grpSpPr>
        <p:sp>
          <p:nvSpPr>
            <p:cNvPr id="2581" name=""/>
            <p:cNvSpPr/>
            <p:nvPr/>
          </p:nvSpPr>
          <p:spPr>
            <a:xfrm>
              <a:off x="6600960" y="4954680"/>
              <a:ext cx="951120" cy="619560"/>
            </a:xfrm>
            <a:custGeom>
              <a:avLst/>
              <a:gdLst/>
              <a:ahLst/>
              <a:rect l="0" t="0" r="r" b="b"/>
              <a:pathLst>
                <a:path w="2642" h="1721">
                  <a:moveTo>
                    <a:pt x="419" y="411"/>
                  </a:moveTo>
                  <a:lnTo>
                    <a:pt x="440" y="355"/>
                  </a:lnTo>
                  <a:lnTo>
                    <a:pt x="482" y="317"/>
                  </a:lnTo>
                  <a:lnTo>
                    <a:pt x="524" y="280"/>
                  </a:lnTo>
                  <a:lnTo>
                    <a:pt x="586" y="243"/>
                  </a:lnTo>
                  <a:lnTo>
                    <a:pt x="649" y="224"/>
                  </a:lnTo>
                  <a:lnTo>
                    <a:pt x="712" y="205"/>
                  </a:lnTo>
                  <a:lnTo>
                    <a:pt x="817" y="205"/>
                  </a:lnTo>
                  <a:lnTo>
                    <a:pt x="922" y="205"/>
                  </a:lnTo>
                  <a:lnTo>
                    <a:pt x="1006" y="224"/>
                  </a:lnTo>
                  <a:lnTo>
                    <a:pt x="1090" y="243"/>
                  </a:lnTo>
                  <a:lnTo>
                    <a:pt x="1111" y="168"/>
                  </a:lnTo>
                  <a:lnTo>
                    <a:pt x="1173" y="112"/>
                  </a:lnTo>
                  <a:lnTo>
                    <a:pt x="1236" y="56"/>
                  </a:lnTo>
                  <a:lnTo>
                    <a:pt x="1342" y="18"/>
                  </a:lnTo>
                  <a:lnTo>
                    <a:pt x="1447" y="0"/>
                  </a:lnTo>
                  <a:lnTo>
                    <a:pt x="1552" y="0"/>
                  </a:lnTo>
                  <a:lnTo>
                    <a:pt x="1657" y="18"/>
                  </a:lnTo>
                  <a:lnTo>
                    <a:pt x="1761" y="37"/>
                  </a:lnTo>
                  <a:lnTo>
                    <a:pt x="1845" y="93"/>
                  </a:lnTo>
                  <a:lnTo>
                    <a:pt x="1908" y="149"/>
                  </a:lnTo>
                  <a:lnTo>
                    <a:pt x="1950" y="205"/>
                  </a:lnTo>
                  <a:lnTo>
                    <a:pt x="1950" y="261"/>
                  </a:lnTo>
                  <a:lnTo>
                    <a:pt x="2034" y="243"/>
                  </a:lnTo>
                  <a:lnTo>
                    <a:pt x="2139" y="261"/>
                  </a:lnTo>
                  <a:lnTo>
                    <a:pt x="2202" y="280"/>
                  </a:lnTo>
                  <a:lnTo>
                    <a:pt x="2265" y="317"/>
                  </a:lnTo>
                  <a:lnTo>
                    <a:pt x="2327" y="373"/>
                  </a:lnTo>
                  <a:lnTo>
                    <a:pt x="2327" y="449"/>
                  </a:lnTo>
                  <a:lnTo>
                    <a:pt x="2327" y="505"/>
                  </a:lnTo>
                  <a:lnTo>
                    <a:pt x="2369" y="487"/>
                  </a:lnTo>
                  <a:lnTo>
                    <a:pt x="2432" y="505"/>
                  </a:lnTo>
                  <a:lnTo>
                    <a:pt x="2495" y="524"/>
                  </a:lnTo>
                  <a:lnTo>
                    <a:pt x="2537" y="561"/>
                  </a:lnTo>
                  <a:lnTo>
                    <a:pt x="2558" y="580"/>
                  </a:lnTo>
                  <a:lnTo>
                    <a:pt x="2579" y="599"/>
                  </a:lnTo>
                  <a:lnTo>
                    <a:pt x="2621" y="636"/>
                  </a:lnTo>
                  <a:lnTo>
                    <a:pt x="2621" y="692"/>
                  </a:lnTo>
                  <a:lnTo>
                    <a:pt x="2642" y="730"/>
                  </a:lnTo>
                  <a:lnTo>
                    <a:pt x="2621" y="767"/>
                  </a:lnTo>
                  <a:lnTo>
                    <a:pt x="2600" y="804"/>
                  </a:lnTo>
                  <a:lnTo>
                    <a:pt x="2621" y="860"/>
                  </a:lnTo>
                  <a:lnTo>
                    <a:pt x="2642" y="898"/>
                  </a:lnTo>
                  <a:lnTo>
                    <a:pt x="2642" y="954"/>
                  </a:lnTo>
                  <a:lnTo>
                    <a:pt x="2642" y="1010"/>
                  </a:lnTo>
                  <a:lnTo>
                    <a:pt x="2621" y="1047"/>
                  </a:lnTo>
                  <a:lnTo>
                    <a:pt x="2600" y="1085"/>
                  </a:lnTo>
                  <a:lnTo>
                    <a:pt x="2642" y="1141"/>
                  </a:lnTo>
                  <a:lnTo>
                    <a:pt x="2642" y="1178"/>
                  </a:lnTo>
                  <a:lnTo>
                    <a:pt x="2642" y="1234"/>
                  </a:lnTo>
                  <a:lnTo>
                    <a:pt x="2642" y="1290"/>
                  </a:lnTo>
                  <a:lnTo>
                    <a:pt x="2621" y="1347"/>
                  </a:lnTo>
                  <a:lnTo>
                    <a:pt x="2579" y="1385"/>
                  </a:lnTo>
                  <a:lnTo>
                    <a:pt x="2537" y="1422"/>
                  </a:lnTo>
                  <a:lnTo>
                    <a:pt x="2453" y="1478"/>
                  </a:lnTo>
                  <a:lnTo>
                    <a:pt x="2369" y="1478"/>
                  </a:lnTo>
                  <a:lnTo>
                    <a:pt x="2307" y="1478"/>
                  </a:lnTo>
                  <a:lnTo>
                    <a:pt x="2244" y="1460"/>
                  </a:lnTo>
                  <a:lnTo>
                    <a:pt x="2223" y="1497"/>
                  </a:lnTo>
                  <a:lnTo>
                    <a:pt x="2181" y="1534"/>
                  </a:lnTo>
                  <a:lnTo>
                    <a:pt x="2160" y="1553"/>
                  </a:lnTo>
                  <a:lnTo>
                    <a:pt x="2097" y="1572"/>
                  </a:lnTo>
                  <a:lnTo>
                    <a:pt x="2034" y="1590"/>
                  </a:lnTo>
                  <a:lnTo>
                    <a:pt x="1950" y="1609"/>
                  </a:lnTo>
                  <a:lnTo>
                    <a:pt x="1887" y="1609"/>
                  </a:lnTo>
                  <a:lnTo>
                    <a:pt x="1803" y="1590"/>
                  </a:lnTo>
                  <a:lnTo>
                    <a:pt x="1740" y="1553"/>
                  </a:lnTo>
                  <a:lnTo>
                    <a:pt x="1699" y="1609"/>
                  </a:lnTo>
                  <a:lnTo>
                    <a:pt x="1657" y="1647"/>
                  </a:lnTo>
                  <a:lnTo>
                    <a:pt x="1615" y="1665"/>
                  </a:lnTo>
                  <a:lnTo>
                    <a:pt x="1573" y="1703"/>
                  </a:lnTo>
                  <a:lnTo>
                    <a:pt x="1510" y="1703"/>
                  </a:lnTo>
                  <a:lnTo>
                    <a:pt x="1447" y="1703"/>
                  </a:lnTo>
                  <a:lnTo>
                    <a:pt x="1384" y="1703"/>
                  </a:lnTo>
                  <a:lnTo>
                    <a:pt x="1320" y="1665"/>
                  </a:lnTo>
                  <a:lnTo>
                    <a:pt x="1278" y="1628"/>
                  </a:lnTo>
                  <a:lnTo>
                    <a:pt x="1236" y="1665"/>
                  </a:lnTo>
                  <a:lnTo>
                    <a:pt x="1194" y="1703"/>
                  </a:lnTo>
                  <a:lnTo>
                    <a:pt x="1153" y="1721"/>
                  </a:lnTo>
                  <a:lnTo>
                    <a:pt x="1090" y="1721"/>
                  </a:lnTo>
                  <a:lnTo>
                    <a:pt x="1027" y="1721"/>
                  </a:lnTo>
                  <a:lnTo>
                    <a:pt x="943" y="1703"/>
                  </a:lnTo>
                  <a:lnTo>
                    <a:pt x="880" y="1684"/>
                  </a:lnTo>
                  <a:lnTo>
                    <a:pt x="838" y="1628"/>
                  </a:lnTo>
                  <a:lnTo>
                    <a:pt x="796" y="1590"/>
                  </a:lnTo>
                  <a:lnTo>
                    <a:pt x="754" y="1609"/>
                  </a:lnTo>
                  <a:lnTo>
                    <a:pt x="691" y="1609"/>
                  </a:lnTo>
                  <a:lnTo>
                    <a:pt x="607" y="1609"/>
                  </a:lnTo>
                  <a:lnTo>
                    <a:pt x="545" y="1590"/>
                  </a:lnTo>
                  <a:lnTo>
                    <a:pt x="503" y="1553"/>
                  </a:lnTo>
                  <a:lnTo>
                    <a:pt x="461" y="1534"/>
                  </a:lnTo>
                  <a:lnTo>
                    <a:pt x="419" y="1478"/>
                  </a:lnTo>
                  <a:lnTo>
                    <a:pt x="419" y="1422"/>
                  </a:lnTo>
                  <a:lnTo>
                    <a:pt x="377" y="1441"/>
                  </a:lnTo>
                  <a:lnTo>
                    <a:pt x="314" y="1441"/>
                  </a:lnTo>
                  <a:lnTo>
                    <a:pt x="251" y="1422"/>
                  </a:lnTo>
                  <a:lnTo>
                    <a:pt x="188" y="1404"/>
                  </a:lnTo>
                  <a:lnTo>
                    <a:pt x="125" y="1347"/>
                  </a:lnTo>
                  <a:lnTo>
                    <a:pt x="83" y="1290"/>
                  </a:lnTo>
                  <a:lnTo>
                    <a:pt x="62" y="1234"/>
                  </a:lnTo>
                  <a:lnTo>
                    <a:pt x="62" y="1159"/>
                  </a:lnTo>
                  <a:lnTo>
                    <a:pt x="62" y="1103"/>
                  </a:lnTo>
                  <a:lnTo>
                    <a:pt x="83" y="1010"/>
                  </a:lnTo>
                  <a:lnTo>
                    <a:pt x="41" y="973"/>
                  </a:lnTo>
                  <a:lnTo>
                    <a:pt x="20" y="916"/>
                  </a:lnTo>
                  <a:lnTo>
                    <a:pt x="0" y="842"/>
                  </a:lnTo>
                  <a:lnTo>
                    <a:pt x="0" y="767"/>
                  </a:lnTo>
                  <a:lnTo>
                    <a:pt x="20" y="711"/>
                  </a:lnTo>
                  <a:lnTo>
                    <a:pt x="41" y="655"/>
                  </a:lnTo>
                  <a:lnTo>
                    <a:pt x="104" y="599"/>
                  </a:lnTo>
                  <a:lnTo>
                    <a:pt x="146" y="543"/>
                  </a:lnTo>
                  <a:lnTo>
                    <a:pt x="230" y="505"/>
                  </a:lnTo>
                  <a:lnTo>
                    <a:pt x="314" y="468"/>
                  </a:lnTo>
                  <a:lnTo>
                    <a:pt x="377" y="468"/>
                  </a:lnTo>
                  <a:lnTo>
                    <a:pt x="419" y="449"/>
                  </a:lnTo>
                  <a:lnTo>
                    <a:pt x="419" y="4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 txBox="1"/>
            <p:nvPr/>
          </p:nvSpPr>
          <p:spPr>
            <a:xfrm>
              <a:off x="6726240" y="5111640"/>
              <a:ext cx="7333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ctic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3" name=""/>
          <p:cNvSpPr/>
          <p:nvPr/>
        </p:nvSpPr>
        <p:spPr>
          <a:xfrm>
            <a:off x="7149960" y="3665520"/>
            <a:ext cx="608040" cy="6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7068960" y="3598920"/>
            <a:ext cx="60660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5" name=""/>
          <p:cNvGrpSpPr/>
          <p:nvPr/>
        </p:nvGrpSpPr>
        <p:grpSpPr>
          <a:xfrm>
            <a:off x="6986520" y="3554280"/>
            <a:ext cx="606600" cy="617400"/>
            <a:chOff x="6986520" y="3554280"/>
            <a:chExt cx="606600" cy="617400"/>
          </a:xfrm>
        </p:grpSpPr>
        <p:sp>
          <p:nvSpPr>
            <p:cNvPr id="2586" name=""/>
            <p:cNvSpPr/>
            <p:nvPr/>
          </p:nvSpPr>
          <p:spPr>
            <a:xfrm>
              <a:off x="6986520" y="3554280"/>
              <a:ext cx="606600" cy="61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7" name="" descr=""/>
            <p:cNvPicPr/>
            <p:nvPr/>
          </p:nvPicPr>
          <p:blipFill>
            <a:blip r:embed="rId12"/>
            <a:stretch/>
          </p:blipFill>
          <p:spPr>
            <a:xfrm>
              <a:off x="7037280" y="3651120"/>
              <a:ext cx="50004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8" name=""/>
          <p:cNvGrpSpPr/>
          <p:nvPr/>
        </p:nvGrpSpPr>
        <p:grpSpPr>
          <a:xfrm>
            <a:off x="7102440" y="3209760"/>
            <a:ext cx="230400" cy="325440"/>
            <a:chOff x="7102440" y="3209760"/>
            <a:chExt cx="230400" cy="325440"/>
          </a:xfrm>
        </p:grpSpPr>
        <p:sp>
          <p:nvSpPr>
            <p:cNvPr id="2589" name=""/>
            <p:cNvSpPr/>
            <p:nvPr/>
          </p:nvSpPr>
          <p:spPr>
            <a:xfrm>
              <a:off x="7248600" y="3317760"/>
              <a:ext cx="44280" cy="217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0" name=""/>
            <p:cNvGrpSpPr/>
            <p:nvPr/>
          </p:nvGrpSpPr>
          <p:grpSpPr>
            <a:xfrm>
              <a:off x="7102440" y="3209760"/>
              <a:ext cx="230400" cy="302040"/>
              <a:chOff x="7102440" y="3209760"/>
              <a:chExt cx="230400" cy="302040"/>
            </a:xfrm>
          </p:grpSpPr>
          <p:grpSp>
            <p:nvGrpSpPr>
              <p:cNvPr id="2591" name=""/>
              <p:cNvGrpSpPr/>
              <p:nvPr/>
            </p:nvGrpSpPr>
            <p:grpSpPr>
              <a:xfrm>
                <a:off x="7161120" y="3316320"/>
                <a:ext cx="57600" cy="63720"/>
                <a:chOff x="7161120" y="3316320"/>
                <a:chExt cx="57600" cy="6372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7161120" y="3335400"/>
                  <a:ext cx="27360" cy="44640"/>
                </a:xfrm>
                <a:custGeom>
                  <a:avLst/>
                  <a:gdLst/>
                  <a:ahLst/>
                  <a:rect l="0" t="0" r="r" b="b"/>
                  <a:pathLst>
                    <a:path w="76" h="124">
                      <a:moveTo>
                        <a:pt x="15" y="0"/>
                      </a:moveTo>
                      <a:lnTo>
                        <a:pt x="76" y="103"/>
                      </a:lnTo>
                      <a:lnTo>
                        <a:pt x="66" y="124"/>
                      </a:lnTo>
                      <a:lnTo>
                        <a:pt x="0" y="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7169040" y="3316320"/>
                  <a:ext cx="49680" cy="12960"/>
                </a:xfrm>
                <a:custGeom>
                  <a:avLst/>
                  <a:gdLst/>
                  <a:ahLst/>
                  <a:rect l="0" t="0" r="r" b="b"/>
                  <a:pathLst>
                    <a:path w="138" h="36">
                      <a:moveTo>
                        <a:pt x="4" y="0"/>
                      </a:moveTo>
                      <a:lnTo>
                        <a:pt x="138" y="20"/>
                      </a:lnTo>
                      <a:lnTo>
                        <a:pt x="123" y="36"/>
                      </a:lnTo>
                      <a:lnTo>
                        <a:pt x="0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4" name=""/>
              <p:cNvGrpSpPr/>
              <p:nvPr/>
            </p:nvGrpSpPr>
            <p:grpSpPr>
              <a:xfrm>
                <a:off x="7145280" y="3209760"/>
                <a:ext cx="187560" cy="302040"/>
                <a:chOff x="7145280" y="3209760"/>
                <a:chExt cx="187560" cy="30204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7145280" y="3211560"/>
                  <a:ext cx="187560" cy="300240"/>
                </a:xfrm>
                <a:custGeom>
                  <a:avLst/>
                  <a:gdLst/>
                  <a:ahLst/>
                  <a:rect l="0" t="0" r="r" b="b"/>
                  <a:pathLst>
                    <a:path w="521" h="834">
                      <a:moveTo>
                        <a:pt x="506" y="27"/>
                      </a:moveTo>
                      <a:lnTo>
                        <a:pt x="510" y="54"/>
                      </a:lnTo>
                      <a:lnTo>
                        <a:pt x="516" y="81"/>
                      </a:lnTo>
                      <a:lnTo>
                        <a:pt x="521" y="114"/>
                      </a:lnTo>
                      <a:lnTo>
                        <a:pt x="521" y="146"/>
                      </a:lnTo>
                      <a:lnTo>
                        <a:pt x="516" y="189"/>
                      </a:lnTo>
                      <a:lnTo>
                        <a:pt x="506" y="243"/>
                      </a:lnTo>
                      <a:lnTo>
                        <a:pt x="495" y="302"/>
                      </a:lnTo>
                      <a:lnTo>
                        <a:pt x="474" y="368"/>
                      </a:lnTo>
                      <a:lnTo>
                        <a:pt x="447" y="434"/>
                      </a:lnTo>
                      <a:lnTo>
                        <a:pt x="398" y="510"/>
                      </a:lnTo>
                      <a:lnTo>
                        <a:pt x="351" y="585"/>
                      </a:lnTo>
                      <a:lnTo>
                        <a:pt x="309" y="633"/>
                      </a:lnTo>
                      <a:lnTo>
                        <a:pt x="254" y="689"/>
                      </a:lnTo>
                      <a:lnTo>
                        <a:pt x="196" y="737"/>
                      </a:lnTo>
                      <a:lnTo>
                        <a:pt x="148" y="775"/>
                      </a:lnTo>
                      <a:lnTo>
                        <a:pt x="105" y="802"/>
                      </a:lnTo>
                      <a:lnTo>
                        <a:pt x="68" y="818"/>
                      </a:lnTo>
                      <a:lnTo>
                        <a:pt x="42" y="834"/>
                      </a:lnTo>
                      <a:lnTo>
                        <a:pt x="15" y="834"/>
                      </a:lnTo>
                      <a:lnTo>
                        <a:pt x="0" y="823"/>
                      </a:lnTo>
                      <a:lnTo>
                        <a:pt x="484" y="0"/>
                      </a:lnTo>
                      <a:lnTo>
                        <a:pt x="506" y="2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7145280" y="3209760"/>
                  <a:ext cx="176400" cy="297360"/>
                </a:xfrm>
                <a:custGeom>
                  <a:avLst/>
                  <a:gdLst/>
                  <a:ahLst/>
                  <a:rect l="0" t="0" r="r" b="b"/>
                  <a:pathLst>
                    <a:path w="490" h="826">
                      <a:moveTo>
                        <a:pt x="485" y="0"/>
                      </a:moveTo>
                      <a:lnTo>
                        <a:pt x="490" y="15"/>
                      </a:lnTo>
                      <a:lnTo>
                        <a:pt x="490" y="53"/>
                      </a:lnTo>
                      <a:lnTo>
                        <a:pt x="490" y="96"/>
                      </a:lnTo>
                      <a:lnTo>
                        <a:pt x="485" y="129"/>
                      </a:lnTo>
                      <a:lnTo>
                        <a:pt x="479" y="172"/>
                      </a:lnTo>
                      <a:lnTo>
                        <a:pt x="469" y="227"/>
                      </a:lnTo>
                      <a:lnTo>
                        <a:pt x="458" y="281"/>
                      </a:lnTo>
                      <a:lnTo>
                        <a:pt x="437" y="351"/>
                      </a:lnTo>
                      <a:lnTo>
                        <a:pt x="399" y="427"/>
                      </a:lnTo>
                      <a:lnTo>
                        <a:pt x="357" y="491"/>
                      </a:lnTo>
                      <a:lnTo>
                        <a:pt x="310" y="561"/>
                      </a:lnTo>
                      <a:lnTo>
                        <a:pt x="266" y="614"/>
                      </a:lnTo>
                      <a:lnTo>
                        <a:pt x="233" y="649"/>
                      </a:lnTo>
                      <a:lnTo>
                        <a:pt x="201" y="681"/>
                      </a:lnTo>
                      <a:lnTo>
                        <a:pt x="169" y="714"/>
                      </a:lnTo>
                      <a:lnTo>
                        <a:pt x="132" y="746"/>
                      </a:lnTo>
                      <a:lnTo>
                        <a:pt x="106" y="767"/>
                      </a:lnTo>
                      <a:lnTo>
                        <a:pt x="74" y="789"/>
                      </a:lnTo>
                      <a:lnTo>
                        <a:pt x="47" y="805"/>
                      </a:lnTo>
                      <a:lnTo>
                        <a:pt x="21" y="821"/>
                      </a:lnTo>
                      <a:lnTo>
                        <a:pt x="4" y="826"/>
                      </a:lnTo>
                      <a:lnTo>
                        <a:pt x="0" y="811"/>
                      </a:lnTo>
                      <a:lnTo>
                        <a:pt x="0" y="794"/>
                      </a:lnTo>
                      <a:lnTo>
                        <a:pt x="4" y="778"/>
                      </a:lnTo>
                      <a:lnTo>
                        <a:pt x="10" y="740"/>
                      </a:lnTo>
                      <a:lnTo>
                        <a:pt x="21" y="697"/>
                      </a:lnTo>
                      <a:lnTo>
                        <a:pt x="25" y="654"/>
                      </a:lnTo>
                      <a:lnTo>
                        <a:pt x="42" y="604"/>
                      </a:lnTo>
                      <a:lnTo>
                        <a:pt x="57" y="556"/>
                      </a:lnTo>
                      <a:lnTo>
                        <a:pt x="74" y="513"/>
                      </a:lnTo>
                      <a:lnTo>
                        <a:pt x="89" y="474"/>
                      </a:lnTo>
                      <a:lnTo>
                        <a:pt x="110" y="431"/>
                      </a:lnTo>
                      <a:lnTo>
                        <a:pt x="132" y="388"/>
                      </a:lnTo>
                      <a:lnTo>
                        <a:pt x="159" y="345"/>
                      </a:lnTo>
                      <a:lnTo>
                        <a:pt x="201" y="285"/>
                      </a:lnTo>
                      <a:lnTo>
                        <a:pt x="233" y="248"/>
                      </a:lnTo>
                      <a:lnTo>
                        <a:pt x="276" y="193"/>
                      </a:lnTo>
                      <a:lnTo>
                        <a:pt x="320" y="150"/>
                      </a:lnTo>
                      <a:lnTo>
                        <a:pt x="357" y="112"/>
                      </a:lnTo>
                      <a:lnTo>
                        <a:pt x="389" y="80"/>
                      </a:lnTo>
                      <a:lnTo>
                        <a:pt x="420" y="47"/>
                      </a:lnTo>
                      <a:lnTo>
                        <a:pt x="442" y="26"/>
                      </a:lnTo>
                      <a:lnTo>
                        <a:pt x="469" y="10"/>
                      </a:lnTo>
                      <a:lnTo>
                        <a:pt x="485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7132680" y="3286080"/>
                <a:ext cx="182880" cy="197280"/>
                <a:chOff x="7132680" y="3286080"/>
                <a:chExt cx="182880" cy="19728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7142040" y="3286080"/>
                  <a:ext cx="173520" cy="12960"/>
                </a:xfrm>
                <a:custGeom>
                  <a:avLst/>
                  <a:gdLst/>
                  <a:ahLst/>
                  <a:rect l="0" t="0" r="r" b="b"/>
                  <a:pathLst>
                    <a:path w="482" h="36">
                      <a:moveTo>
                        <a:pt x="482" y="0"/>
                      </a:moveTo>
                      <a:lnTo>
                        <a:pt x="0" y="20"/>
                      </a:lnTo>
                      <a:lnTo>
                        <a:pt x="5" y="36"/>
                      </a:lnTo>
                      <a:lnTo>
                        <a:pt x="476" y="15"/>
                      </a:lnTo>
                      <a:lnTo>
                        <a:pt x="482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7132680" y="3324240"/>
                  <a:ext cx="63720" cy="159120"/>
                </a:xfrm>
                <a:custGeom>
                  <a:avLst/>
                  <a:gdLst/>
                  <a:ahLst/>
                  <a:rect l="0" t="0" r="r" b="b"/>
                  <a:pathLst>
                    <a:path w="177" h="442">
                      <a:moveTo>
                        <a:pt x="21" y="12"/>
                      </a:moveTo>
                      <a:lnTo>
                        <a:pt x="177" y="431"/>
                      </a:lnTo>
                      <a:lnTo>
                        <a:pt x="166" y="442"/>
                      </a:lnTo>
                      <a:lnTo>
                        <a:pt x="0" y="0"/>
                      </a:lnTo>
                      <a:lnTo>
                        <a:pt x="21" y="12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0" name=""/>
              <p:cNvGrpSpPr/>
              <p:nvPr/>
            </p:nvGrpSpPr>
            <p:grpSpPr>
              <a:xfrm>
                <a:off x="7102440" y="3289320"/>
                <a:ext cx="72000" cy="51120"/>
                <a:chOff x="7102440" y="3289320"/>
                <a:chExt cx="72000" cy="5112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7124760" y="3295800"/>
                  <a:ext cx="49680" cy="44640"/>
                </a:xfrm>
                <a:custGeom>
                  <a:avLst/>
                  <a:gdLst/>
                  <a:ahLst/>
                  <a:rect l="0" t="0" r="r" b="b"/>
                  <a:pathLst>
                    <a:path w="138" h="124">
                      <a:moveTo>
                        <a:pt x="31" y="0"/>
                      </a:moveTo>
                      <a:lnTo>
                        <a:pt x="134" y="33"/>
                      </a:lnTo>
                      <a:lnTo>
                        <a:pt x="138" y="44"/>
                      </a:lnTo>
                      <a:lnTo>
                        <a:pt x="138" y="56"/>
                      </a:lnTo>
                      <a:lnTo>
                        <a:pt x="138" y="73"/>
                      </a:lnTo>
                      <a:lnTo>
                        <a:pt x="138" y="84"/>
                      </a:lnTo>
                      <a:lnTo>
                        <a:pt x="134" y="102"/>
                      </a:lnTo>
                      <a:lnTo>
                        <a:pt x="123" y="113"/>
                      </a:lnTo>
                      <a:lnTo>
                        <a:pt x="107" y="119"/>
                      </a:lnTo>
                      <a:lnTo>
                        <a:pt x="101" y="124"/>
                      </a:lnTo>
                      <a:lnTo>
                        <a:pt x="90" y="124"/>
                      </a:lnTo>
                      <a:lnTo>
                        <a:pt x="0" y="73"/>
                      </a:lnTo>
                      <a:lnTo>
                        <a:pt x="15" y="61"/>
                      </a:lnTo>
                      <a:lnTo>
                        <a:pt x="25" y="4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7115040" y="3289320"/>
                  <a:ext cx="30600" cy="39960"/>
                </a:xfrm>
                <a:custGeom>
                  <a:avLst/>
                  <a:gdLst/>
                  <a:ahLst/>
                  <a:rect l="0" t="0" r="r" b="b"/>
                  <a:pathLst>
                    <a:path w="85" h="111">
                      <a:moveTo>
                        <a:pt x="34" y="16"/>
                      </a:moveTo>
                      <a:lnTo>
                        <a:pt x="39" y="10"/>
                      </a:lnTo>
                      <a:lnTo>
                        <a:pt x="45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3" y="6"/>
                      </a:lnTo>
                      <a:lnTo>
                        <a:pt x="79" y="16"/>
                      </a:lnTo>
                      <a:lnTo>
                        <a:pt x="85" y="27"/>
                      </a:lnTo>
                      <a:lnTo>
                        <a:pt x="85" y="38"/>
                      </a:lnTo>
                      <a:lnTo>
                        <a:pt x="79" y="49"/>
                      </a:lnTo>
                      <a:lnTo>
                        <a:pt x="79" y="61"/>
                      </a:lnTo>
                      <a:lnTo>
                        <a:pt x="73" y="77"/>
                      </a:lnTo>
                      <a:lnTo>
                        <a:pt x="61" y="88"/>
                      </a:lnTo>
                      <a:lnTo>
                        <a:pt x="56" y="94"/>
                      </a:lnTo>
                      <a:lnTo>
                        <a:pt x="50" y="105"/>
                      </a:lnTo>
                      <a:lnTo>
                        <a:pt x="39" y="111"/>
                      </a:lnTo>
                      <a:lnTo>
                        <a:pt x="28" y="111"/>
                      </a:lnTo>
                      <a:lnTo>
                        <a:pt x="16" y="111"/>
                      </a:lnTo>
                      <a:lnTo>
                        <a:pt x="4" y="105"/>
                      </a:lnTo>
                      <a:lnTo>
                        <a:pt x="0" y="99"/>
                      </a:lnTo>
                      <a:lnTo>
                        <a:pt x="0" y="83"/>
                      </a:lnTo>
                      <a:lnTo>
                        <a:pt x="4" y="72"/>
                      </a:lnTo>
                      <a:lnTo>
                        <a:pt x="11" y="54"/>
                      </a:lnTo>
                      <a:lnTo>
                        <a:pt x="23" y="27"/>
                      </a:lnTo>
                      <a:lnTo>
                        <a:pt x="34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7102440" y="3290760"/>
                  <a:ext cx="35280" cy="32040"/>
                </a:xfrm>
                <a:custGeom>
                  <a:avLst/>
                  <a:gdLst/>
                  <a:ahLst/>
                  <a:rect l="0" t="0" r="r" b="b"/>
                  <a:pathLst>
                    <a:path w="98" h="89">
                      <a:moveTo>
                        <a:pt x="87" y="17"/>
                      </a:moveTo>
                      <a:lnTo>
                        <a:pt x="2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7"/>
                      </a:lnTo>
                      <a:lnTo>
                        <a:pt x="0" y="28"/>
                      </a:lnTo>
                      <a:lnTo>
                        <a:pt x="60" y="89"/>
                      </a:lnTo>
                      <a:lnTo>
                        <a:pt x="65" y="83"/>
                      </a:lnTo>
                      <a:lnTo>
                        <a:pt x="76" y="83"/>
                      </a:lnTo>
                      <a:lnTo>
                        <a:pt x="82" y="77"/>
                      </a:lnTo>
                      <a:lnTo>
                        <a:pt x="93" y="65"/>
                      </a:lnTo>
                      <a:lnTo>
                        <a:pt x="98" y="53"/>
                      </a:lnTo>
                      <a:lnTo>
                        <a:pt x="98" y="40"/>
                      </a:lnTo>
                      <a:lnTo>
                        <a:pt x="93" y="28"/>
                      </a:lnTo>
                      <a:lnTo>
                        <a:pt x="87" y="17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7149960" y="3303720"/>
                  <a:ext cx="14760" cy="32040"/>
                </a:xfrm>
                <a:custGeom>
                  <a:avLst/>
                  <a:gdLst/>
                  <a:ahLst/>
                  <a:rect l="0" t="0" r="r" b="b"/>
                  <a:pathLst>
                    <a:path fill="none" w="41" h="89">
                      <a:moveTo>
                        <a:pt x="36" y="0"/>
                      </a:moveTo>
                      <a:lnTo>
                        <a:pt x="41" y="11"/>
                      </a:lnTo>
                      <a:lnTo>
                        <a:pt x="41" y="29"/>
                      </a:lnTo>
                      <a:lnTo>
                        <a:pt x="36" y="41"/>
                      </a:lnTo>
                      <a:lnTo>
                        <a:pt x="30" y="54"/>
                      </a:lnTo>
                      <a:lnTo>
                        <a:pt x="25" y="72"/>
                      </a:lnTo>
                      <a:lnTo>
                        <a:pt x="15" y="77"/>
                      </a:lnTo>
                      <a:lnTo>
                        <a:pt x="9" y="84"/>
                      </a:lnTo>
                      <a:lnTo>
                        <a:pt x="4" y="84"/>
                      </a:lnTo>
                      <a:lnTo>
                        <a:pt x="0" y="8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7140600" y="3301920"/>
                  <a:ext cx="1620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45" h="80">
                      <a:moveTo>
                        <a:pt x="40" y="0"/>
                      </a:moveTo>
                      <a:lnTo>
                        <a:pt x="45" y="10"/>
                      </a:lnTo>
                      <a:lnTo>
                        <a:pt x="45" y="26"/>
                      </a:lnTo>
                      <a:lnTo>
                        <a:pt x="40" y="37"/>
                      </a:lnTo>
                      <a:lnTo>
                        <a:pt x="40" y="48"/>
                      </a:lnTo>
                      <a:lnTo>
                        <a:pt x="29" y="59"/>
                      </a:lnTo>
                      <a:lnTo>
                        <a:pt x="17" y="69"/>
                      </a:lnTo>
                      <a:lnTo>
                        <a:pt x="11" y="75"/>
                      </a:lnTo>
                      <a:lnTo>
                        <a:pt x="4" y="75"/>
                      </a:lnTo>
                      <a:lnTo>
                        <a:pt x="0" y="8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6" name=""/>
          <p:cNvSpPr/>
          <p:nvPr/>
        </p:nvSpPr>
        <p:spPr>
          <a:xfrm>
            <a:off x="5954760" y="2116080"/>
            <a:ext cx="2094120" cy="1362600"/>
          </a:xfrm>
          <a:custGeom>
            <a:avLst/>
            <a:gdLst/>
            <a:ahLst/>
            <a:rect l="0" t="0" r="r" b="b"/>
            <a:pathLst>
              <a:path fill="none" w="5817" h="3785">
                <a:moveTo>
                  <a:pt x="1375" y="3785"/>
                </a:moveTo>
                <a:lnTo>
                  <a:pt x="0" y="0"/>
                </a:lnTo>
                <a:lnTo>
                  <a:pt x="5817" y="372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7" name="" descr=""/>
          <p:cNvPicPr/>
          <p:nvPr/>
        </p:nvPicPr>
        <p:blipFill>
          <a:blip r:embed="rId13"/>
          <a:stretch/>
        </p:blipFill>
        <p:spPr>
          <a:xfrm>
            <a:off x="5492880" y="2558880"/>
            <a:ext cx="447840" cy="209520"/>
          </a:xfrm>
          <a:prstGeom prst="rect">
            <a:avLst/>
          </a:prstGeom>
          <a:ln w="0">
            <a:noFill/>
          </a:ln>
        </p:spPr>
      </p:pic>
      <p:sp>
        <p:nvSpPr>
          <p:cNvPr id="2608" name=""/>
          <p:cNvSpPr txBox="1"/>
          <p:nvPr/>
        </p:nvSpPr>
        <p:spPr>
          <a:xfrm>
            <a:off x="5477040" y="2397240"/>
            <a:ext cx="52236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A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H="1">
            <a:off x="7277040" y="4152960"/>
            <a:ext cx="61920" cy="8366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278400" y="3854520"/>
            <a:ext cx="735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468680" y="395928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4130640" y="3397320"/>
            <a:ext cx="482760" cy="388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4984920" y="2755800"/>
            <a:ext cx="722160" cy="3114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4951440" y="2103480"/>
            <a:ext cx="608040" cy="892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933480" y="1841400"/>
            <a:ext cx="831960" cy="387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976320" y="2630520"/>
            <a:ext cx="750960" cy="503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976320" y="3067200"/>
            <a:ext cx="739800" cy="112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976320" y="3249720"/>
            <a:ext cx="7668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V="1">
            <a:off x="1038240" y="4645080"/>
            <a:ext cx="727200" cy="14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920880" y="4794120"/>
            <a:ext cx="822240" cy="676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988920" y="5584680"/>
            <a:ext cx="754200" cy="47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7520040" y="5167440"/>
            <a:ext cx="349200" cy="439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 txBox="1"/>
          <p:nvPr/>
        </p:nvSpPr>
        <p:spPr>
          <a:xfrm>
            <a:off x="6602400" y="2314440"/>
            <a:ext cx="1652760" cy="863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, filter, store locally, search, brow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75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e prefetch, remote query, integrate, exploit, and visualize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"/>
          <p:cNvGrpSpPr/>
          <p:nvPr/>
        </p:nvGrpSpPr>
        <p:grpSpPr>
          <a:xfrm>
            <a:off x="479520" y="4700520"/>
            <a:ext cx="536760" cy="217800"/>
            <a:chOff x="479520" y="4700520"/>
            <a:chExt cx="536760" cy="217800"/>
          </a:xfrm>
        </p:grpSpPr>
        <p:sp>
          <p:nvSpPr>
            <p:cNvPr id="2625" name=""/>
            <p:cNvSpPr/>
            <p:nvPr/>
          </p:nvSpPr>
          <p:spPr>
            <a:xfrm>
              <a:off x="482760" y="4700520"/>
              <a:ext cx="368640" cy="162360"/>
            </a:xfrm>
            <a:custGeom>
              <a:avLst/>
              <a:gdLst/>
              <a:ahLst/>
              <a:rect l="0" t="0" r="r" b="b"/>
              <a:pathLst>
                <a:path w="1024" h="451">
                  <a:moveTo>
                    <a:pt x="532" y="0"/>
                  </a:moveTo>
                  <a:lnTo>
                    <a:pt x="969" y="0"/>
                  </a:lnTo>
                  <a:lnTo>
                    <a:pt x="972" y="2"/>
                  </a:lnTo>
                  <a:lnTo>
                    <a:pt x="980" y="2"/>
                  </a:lnTo>
                  <a:lnTo>
                    <a:pt x="983" y="2"/>
                  </a:lnTo>
                  <a:lnTo>
                    <a:pt x="989" y="8"/>
                  </a:lnTo>
                  <a:lnTo>
                    <a:pt x="992" y="11"/>
                  </a:lnTo>
                  <a:lnTo>
                    <a:pt x="992" y="17"/>
                  </a:lnTo>
                  <a:lnTo>
                    <a:pt x="995" y="23"/>
                  </a:lnTo>
                  <a:lnTo>
                    <a:pt x="1012" y="145"/>
                  </a:lnTo>
                  <a:lnTo>
                    <a:pt x="1024" y="165"/>
                  </a:lnTo>
                  <a:lnTo>
                    <a:pt x="1024" y="221"/>
                  </a:lnTo>
                  <a:lnTo>
                    <a:pt x="1012" y="221"/>
                  </a:lnTo>
                  <a:lnTo>
                    <a:pt x="1012" y="451"/>
                  </a:lnTo>
                  <a:lnTo>
                    <a:pt x="524" y="451"/>
                  </a:lnTo>
                  <a:lnTo>
                    <a:pt x="508" y="451"/>
                  </a:lnTo>
                  <a:lnTo>
                    <a:pt x="494" y="451"/>
                  </a:lnTo>
                  <a:lnTo>
                    <a:pt x="479" y="448"/>
                  </a:lnTo>
                  <a:lnTo>
                    <a:pt x="462" y="442"/>
                  </a:lnTo>
                  <a:lnTo>
                    <a:pt x="447" y="440"/>
                  </a:lnTo>
                  <a:lnTo>
                    <a:pt x="436" y="431"/>
                  </a:lnTo>
                  <a:lnTo>
                    <a:pt x="427" y="422"/>
                  </a:lnTo>
                  <a:lnTo>
                    <a:pt x="419" y="410"/>
                  </a:lnTo>
                  <a:lnTo>
                    <a:pt x="416" y="401"/>
                  </a:lnTo>
                  <a:lnTo>
                    <a:pt x="413" y="390"/>
                  </a:lnTo>
                  <a:lnTo>
                    <a:pt x="375" y="315"/>
                  </a:lnTo>
                  <a:lnTo>
                    <a:pt x="375" y="312"/>
                  </a:lnTo>
                  <a:lnTo>
                    <a:pt x="445" y="312"/>
                  </a:lnTo>
                  <a:lnTo>
                    <a:pt x="462" y="366"/>
                  </a:lnTo>
                  <a:lnTo>
                    <a:pt x="462" y="369"/>
                  </a:lnTo>
                  <a:lnTo>
                    <a:pt x="468" y="375"/>
                  </a:lnTo>
                  <a:lnTo>
                    <a:pt x="471" y="375"/>
                  </a:lnTo>
                  <a:lnTo>
                    <a:pt x="476" y="378"/>
                  </a:lnTo>
                  <a:lnTo>
                    <a:pt x="479" y="381"/>
                  </a:lnTo>
                  <a:lnTo>
                    <a:pt x="482" y="387"/>
                  </a:lnTo>
                  <a:lnTo>
                    <a:pt x="488" y="387"/>
                  </a:lnTo>
                  <a:lnTo>
                    <a:pt x="494" y="387"/>
                  </a:lnTo>
                  <a:lnTo>
                    <a:pt x="628" y="387"/>
                  </a:lnTo>
                  <a:lnTo>
                    <a:pt x="642" y="401"/>
                  </a:lnTo>
                  <a:lnTo>
                    <a:pt x="778" y="401"/>
                  </a:lnTo>
                  <a:lnTo>
                    <a:pt x="792" y="387"/>
                  </a:lnTo>
                  <a:lnTo>
                    <a:pt x="963" y="387"/>
                  </a:lnTo>
                  <a:lnTo>
                    <a:pt x="972" y="387"/>
                  </a:lnTo>
                  <a:lnTo>
                    <a:pt x="980" y="378"/>
                  </a:lnTo>
                  <a:lnTo>
                    <a:pt x="983" y="375"/>
                  </a:lnTo>
                  <a:lnTo>
                    <a:pt x="983" y="366"/>
                  </a:lnTo>
                  <a:lnTo>
                    <a:pt x="983" y="348"/>
                  </a:lnTo>
                  <a:lnTo>
                    <a:pt x="992" y="348"/>
                  </a:lnTo>
                  <a:lnTo>
                    <a:pt x="992" y="333"/>
                  </a:lnTo>
                  <a:lnTo>
                    <a:pt x="983" y="333"/>
                  </a:lnTo>
                  <a:lnTo>
                    <a:pt x="983" y="230"/>
                  </a:lnTo>
                  <a:lnTo>
                    <a:pt x="992" y="230"/>
                  </a:lnTo>
                  <a:lnTo>
                    <a:pt x="992" y="212"/>
                  </a:lnTo>
                  <a:lnTo>
                    <a:pt x="983" y="212"/>
                  </a:lnTo>
                  <a:lnTo>
                    <a:pt x="983" y="197"/>
                  </a:lnTo>
                  <a:lnTo>
                    <a:pt x="963" y="52"/>
                  </a:lnTo>
                  <a:lnTo>
                    <a:pt x="963" y="44"/>
                  </a:lnTo>
                  <a:lnTo>
                    <a:pt x="960" y="38"/>
                  </a:lnTo>
                  <a:lnTo>
                    <a:pt x="957" y="32"/>
                  </a:lnTo>
                  <a:lnTo>
                    <a:pt x="946" y="32"/>
                  </a:lnTo>
                  <a:lnTo>
                    <a:pt x="737" y="32"/>
                  </a:lnTo>
                  <a:lnTo>
                    <a:pt x="671" y="32"/>
                  </a:lnTo>
                  <a:lnTo>
                    <a:pt x="471" y="32"/>
                  </a:lnTo>
                  <a:lnTo>
                    <a:pt x="459" y="32"/>
                  </a:lnTo>
                  <a:lnTo>
                    <a:pt x="456" y="41"/>
                  </a:lnTo>
                  <a:lnTo>
                    <a:pt x="450" y="44"/>
                  </a:lnTo>
                  <a:lnTo>
                    <a:pt x="450" y="52"/>
                  </a:lnTo>
                  <a:lnTo>
                    <a:pt x="404" y="197"/>
                  </a:lnTo>
                  <a:lnTo>
                    <a:pt x="0" y="200"/>
                  </a:lnTo>
                  <a:lnTo>
                    <a:pt x="0" y="186"/>
                  </a:lnTo>
                  <a:lnTo>
                    <a:pt x="2" y="171"/>
                  </a:lnTo>
                  <a:lnTo>
                    <a:pt x="2" y="165"/>
                  </a:lnTo>
                  <a:lnTo>
                    <a:pt x="5" y="159"/>
                  </a:lnTo>
                  <a:lnTo>
                    <a:pt x="11" y="153"/>
                  </a:lnTo>
                  <a:lnTo>
                    <a:pt x="14" y="147"/>
                  </a:lnTo>
                  <a:lnTo>
                    <a:pt x="23" y="145"/>
                  </a:lnTo>
                  <a:lnTo>
                    <a:pt x="31" y="145"/>
                  </a:lnTo>
                  <a:lnTo>
                    <a:pt x="57" y="133"/>
                  </a:lnTo>
                  <a:lnTo>
                    <a:pt x="83" y="124"/>
                  </a:lnTo>
                  <a:lnTo>
                    <a:pt x="109" y="115"/>
                  </a:lnTo>
                  <a:lnTo>
                    <a:pt x="132" y="102"/>
                  </a:lnTo>
                  <a:lnTo>
                    <a:pt x="161" y="94"/>
                  </a:lnTo>
                  <a:lnTo>
                    <a:pt x="184" y="85"/>
                  </a:lnTo>
                  <a:lnTo>
                    <a:pt x="213" y="76"/>
                  </a:lnTo>
                  <a:lnTo>
                    <a:pt x="236" y="64"/>
                  </a:lnTo>
                  <a:lnTo>
                    <a:pt x="265" y="58"/>
                  </a:lnTo>
                  <a:lnTo>
                    <a:pt x="288" y="49"/>
                  </a:lnTo>
                  <a:lnTo>
                    <a:pt x="317" y="41"/>
                  </a:lnTo>
                  <a:lnTo>
                    <a:pt x="341" y="32"/>
                  </a:lnTo>
                  <a:lnTo>
                    <a:pt x="364" y="23"/>
                  </a:lnTo>
                  <a:lnTo>
                    <a:pt x="393" y="17"/>
                  </a:lnTo>
                  <a:lnTo>
                    <a:pt x="419" y="11"/>
                  </a:lnTo>
                  <a:lnTo>
                    <a:pt x="445" y="2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82760" y="4770360"/>
              <a:ext cx="160560" cy="54360"/>
            </a:xfrm>
            <a:custGeom>
              <a:avLst/>
              <a:gdLst/>
              <a:ahLst/>
              <a:rect l="0" t="0" r="r" b="b"/>
              <a:pathLst>
                <a:path w="446" h="151">
                  <a:moveTo>
                    <a:pt x="0" y="2"/>
                  </a:moveTo>
                  <a:lnTo>
                    <a:pt x="405" y="0"/>
                  </a:lnTo>
                  <a:lnTo>
                    <a:pt x="446" y="116"/>
                  </a:lnTo>
                  <a:lnTo>
                    <a:pt x="376" y="116"/>
                  </a:lnTo>
                  <a:lnTo>
                    <a:pt x="374" y="106"/>
                  </a:lnTo>
                  <a:lnTo>
                    <a:pt x="368" y="103"/>
                  </a:lnTo>
                  <a:lnTo>
                    <a:pt x="365" y="95"/>
                  </a:lnTo>
                  <a:lnTo>
                    <a:pt x="362" y="89"/>
                  </a:lnTo>
                  <a:lnTo>
                    <a:pt x="356" y="86"/>
                  </a:lnTo>
                  <a:lnTo>
                    <a:pt x="353" y="86"/>
                  </a:lnTo>
                  <a:lnTo>
                    <a:pt x="350" y="83"/>
                  </a:lnTo>
                  <a:lnTo>
                    <a:pt x="345" y="83"/>
                  </a:lnTo>
                  <a:lnTo>
                    <a:pt x="333" y="74"/>
                  </a:lnTo>
                  <a:lnTo>
                    <a:pt x="322" y="68"/>
                  </a:lnTo>
                  <a:lnTo>
                    <a:pt x="310" y="65"/>
                  </a:lnTo>
                  <a:lnTo>
                    <a:pt x="293" y="65"/>
                  </a:lnTo>
                  <a:lnTo>
                    <a:pt x="281" y="62"/>
                  </a:lnTo>
                  <a:lnTo>
                    <a:pt x="269" y="62"/>
                  </a:lnTo>
                  <a:lnTo>
                    <a:pt x="255" y="62"/>
                  </a:lnTo>
                  <a:lnTo>
                    <a:pt x="243" y="62"/>
                  </a:lnTo>
                  <a:lnTo>
                    <a:pt x="226" y="62"/>
                  </a:lnTo>
                  <a:lnTo>
                    <a:pt x="214" y="62"/>
                  </a:lnTo>
                  <a:lnTo>
                    <a:pt x="196" y="62"/>
                  </a:lnTo>
                  <a:lnTo>
                    <a:pt x="185" y="65"/>
                  </a:lnTo>
                  <a:lnTo>
                    <a:pt x="173" y="65"/>
                  </a:lnTo>
                  <a:lnTo>
                    <a:pt x="159" y="68"/>
                  </a:lnTo>
                  <a:lnTo>
                    <a:pt x="147" y="74"/>
                  </a:lnTo>
                  <a:lnTo>
                    <a:pt x="130" y="77"/>
                  </a:lnTo>
                  <a:lnTo>
                    <a:pt x="83" y="151"/>
                  </a:lnTo>
                  <a:lnTo>
                    <a:pt x="0" y="151"/>
                  </a:lnTo>
                  <a:lnTo>
                    <a:pt x="0" y="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39800" y="4711680"/>
              <a:ext cx="97200" cy="127440"/>
            </a:xfrm>
            <a:custGeom>
              <a:avLst/>
              <a:gdLst/>
              <a:ahLst/>
              <a:rect l="0" t="0" r="r" b="b"/>
              <a:pathLst>
                <a:path w="270" h="354">
                  <a:moveTo>
                    <a:pt x="79" y="354"/>
                  </a:moveTo>
                  <a:lnTo>
                    <a:pt x="23" y="354"/>
                  </a:lnTo>
                  <a:lnTo>
                    <a:pt x="14" y="354"/>
                  </a:lnTo>
                  <a:lnTo>
                    <a:pt x="8" y="345"/>
                  </a:lnTo>
                  <a:lnTo>
                    <a:pt x="2" y="343"/>
                  </a:lnTo>
                  <a:lnTo>
                    <a:pt x="0" y="334"/>
                  </a:lnTo>
                  <a:lnTo>
                    <a:pt x="0" y="20"/>
                  </a:lnTo>
                  <a:lnTo>
                    <a:pt x="2" y="11"/>
                  </a:lnTo>
                  <a:lnTo>
                    <a:pt x="8" y="8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47" y="5"/>
                  </a:lnTo>
                  <a:lnTo>
                    <a:pt x="250" y="11"/>
                  </a:lnTo>
                  <a:lnTo>
                    <a:pt x="250" y="20"/>
                  </a:lnTo>
                  <a:lnTo>
                    <a:pt x="270" y="165"/>
                  </a:lnTo>
                  <a:lnTo>
                    <a:pt x="270" y="180"/>
                  </a:lnTo>
                  <a:lnTo>
                    <a:pt x="256" y="180"/>
                  </a:lnTo>
                  <a:lnTo>
                    <a:pt x="244" y="189"/>
                  </a:lnTo>
                  <a:lnTo>
                    <a:pt x="256" y="197"/>
                  </a:lnTo>
                  <a:lnTo>
                    <a:pt x="270" y="197"/>
                  </a:lnTo>
                  <a:lnTo>
                    <a:pt x="270" y="301"/>
                  </a:lnTo>
                  <a:lnTo>
                    <a:pt x="256" y="301"/>
                  </a:lnTo>
                  <a:lnTo>
                    <a:pt x="244" y="310"/>
                  </a:lnTo>
                  <a:lnTo>
                    <a:pt x="256" y="316"/>
                  </a:lnTo>
                  <a:lnTo>
                    <a:pt x="270" y="316"/>
                  </a:lnTo>
                  <a:lnTo>
                    <a:pt x="270" y="334"/>
                  </a:lnTo>
                  <a:lnTo>
                    <a:pt x="270" y="343"/>
                  </a:lnTo>
                  <a:lnTo>
                    <a:pt x="268" y="345"/>
                  </a:lnTo>
                  <a:lnTo>
                    <a:pt x="259" y="354"/>
                  </a:lnTo>
                  <a:lnTo>
                    <a:pt x="250" y="354"/>
                  </a:lnTo>
                  <a:lnTo>
                    <a:pt x="79" y="35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5400" y="4711680"/>
              <a:ext cx="24120" cy="127440"/>
            </a:xfrm>
            <a:custGeom>
              <a:avLst/>
              <a:gdLst/>
              <a:ahLst/>
              <a:rect l="0" t="0" r="r" b="b"/>
              <a:pathLst>
                <a:path w="67" h="354">
                  <a:moveTo>
                    <a:pt x="67" y="354"/>
                  </a:moveTo>
                  <a:lnTo>
                    <a:pt x="0" y="354"/>
                  </a:lnTo>
                  <a:lnTo>
                    <a:pt x="8" y="354"/>
                  </a:lnTo>
                  <a:lnTo>
                    <a:pt x="14" y="345"/>
                  </a:lnTo>
                  <a:lnTo>
                    <a:pt x="20" y="343"/>
                  </a:lnTo>
                  <a:lnTo>
                    <a:pt x="20" y="334"/>
                  </a:lnTo>
                  <a:lnTo>
                    <a:pt x="20" y="316"/>
                  </a:lnTo>
                  <a:lnTo>
                    <a:pt x="25" y="316"/>
                  </a:lnTo>
                  <a:lnTo>
                    <a:pt x="25" y="301"/>
                  </a:lnTo>
                  <a:lnTo>
                    <a:pt x="20" y="301"/>
                  </a:lnTo>
                  <a:lnTo>
                    <a:pt x="20" y="197"/>
                  </a:lnTo>
                  <a:lnTo>
                    <a:pt x="25" y="197"/>
                  </a:lnTo>
                  <a:lnTo>
                    <a:pt x="25" y="180"/>
                  </a:lnTo>
                  <a:lnTo>
                    <a:pt x="20" y="180"/>
                  </a:lnTo>
                  <a:lnTo>
                    <a:pt x="20" y="20"/>
                  </a:lnTo>
                  <a:lnTo>
                    <a:pt x="20" y="11"/>
                  </a:lnTo>
                  <a:lnTo>
                    <a:pt x="14" y="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2" y="8"/>
                  </a:lnTo>
                  <a:lnTo>
                    <a:pt x="47" y="11"/>
                  </a:lnTo>
                  <a:lnTo>
                    <a:pt x="44" y="20"/>
                  </a:lnTo>
                  <a:lnTo>
                    <a:pt x="44" y="334"/>
                  </a:lnTo>
                  <a:lnTo>
                    <a:pt x="47" y="343"/>
                  </a:lnTo>
                  <a:lnTo>
                    <a:pt x="52" y="345"/>
                  </a:lnTo>
                  <a:lnTo>
                    <a:pt x="58" y="354"/>
                  </a:lnTo>
                  <a:lnTo>
                    <a:pt x="67" y="35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28560" y="4711680"/>
              <a:ext cx="105120" cy="127440"/>
            </a:xfrm>
            <a:custGeom>
              <a:avLst/>
              <a:gdLst/>
              <a:ahLst/>
              <a:rect l="0" t="0" r="r" b="b"/>
              <a:pathLst>
                <a:path w="292" h="354">
                  <a:moveTo>
                    <a:pt x="271" y="354"/>
                  </a:moveTo>
                  <a:lnTo>
                    <a:pt x="91" y="354"/>
                  </a:lnTo>
                  <a:lnTo>
                    <a:pt x="85" y="354"/>
                  </a:lnTo>
                  <a:lnTo>
                    <a:pt x="79" y="354"/>
                  </a:lnTo>
                  <a:lnTo>
                    <a:pt x="76" y="348"/>
                  </a:lnTo>
                  <a:lnTo>
                    <a:pt x="73" y="345"/>
                  </a:lnTo>
                  <a:lnTo>
                    <a:pt x="67" y="343"/>
                  </a:lnTo>
                  <a:lnTo>
                    <a:pt x="64" y="343"/>
                  </a:lnTo>
                  <a:lnTo>
                    <a:pt x="58" y="337"/>
                  </a:lnTo>
                  <a:lnTo>
                    <a:pt x="58" y="334"/>
                  </a:lnTo>
                  <a:lnTo>
                    <a:pt x="41" y="281"/>
                  </a:lnTo>
                  <a:lnTo>
                    <a:pt x="0" y="165"/>
                  </a:lnTo>
                  <a:lnTo>
                    <a:pt x="47" y="20"/>
                  </a:lnTo>
                  <a:lnTo>
                    <a:pt x="47" y="11"/>
                  </a:lnTo>
                  <a:lnTo>
                    <a:pt x="52" y="8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271" y="0"/>
                  </a:lnTo>
                  <a:lnTo>
                    <a:pt x="283" y="0"/>
                  </a:lnTo>
                  <a:lnTo>
                    <a:pt x="286" y="5"/>
                  </a:lnTo>
                  <a:lnTo>
                    <a:pt x="292" y="11"/>
                  </a:lnTo>
                  <a:lnTo>
                    <a:pt x="292" y="20"/>
                  </a:lnTo>
                  <a:lnTo>
                    <a:pt x="292" y="180"/>
                  </a:lnTo>
                  <a:lnTo>
                    <a:pt x="274" y="180"/>
                  </a:lnTo>
                  <a:lnTo>
                    <a:pt x="262" y="189"/>
                  </a:lnTo>
                  <a:lnTo>
                    <a:pt x="274" y="197"/>
                  </a:lnTo>
                  <a:lnTo>
                    <a:pt x="292" y="197"/>
                  </a:lnTo>
                  <a:lnTo>
                    <a:pt x="292" y="301"/>
                  </a:lnTo>
                  <a:lnTo>
                    <a:pt x="274" y="301"/>
                  </a:lnTo>
                  <a:lnTo>
                    <a:pt x="262" y="310"/>
                  </a:lnTo>
                  <a:lnTo>
                    <a:pt x="274" y="316"/>
                  </a:lnTo>
                  <a:lnTo>
                    <a:pt x="292" y="316"/>
                  </a:lnTo>
                  <a:lnTo>
                    <a:pt x="292" y="334"/>
                  </a:lnTo>
                  <a:lnTo>
                    <a:pt x="292" y="343"/>
                  </a:lnTo>
                  <a:lnTo>
                    <a:pt x="286" y="345"/>
                  </a:lnTo>
                  <a:lnTo>
                    <a:pt x="280" y="354"/>
                  </a:lnTo>
                  <a:lnTo>
                    <a:pt x="271" y="35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12640" y="4794120"/>
              <a:ext cx="119520" cy="49680"/>
            </a:xfrm>
            <a:custGeom>
              <a:avLst/>
              <a:gdLst/>
              <a:ahLst/>
              <a:rect l="0" t="0" r="r" b="b"/>
              <a:pathLst>
                <a:path w="332" h="138">
                  <a:moveTo>
                    <a:pt x="332" y="138"/>
                  </a:moveTo>
                  <a:lnTo>
                    <a:pt x="301" y="138"/>
                  </a:lnTo>
                  <a:lnTo>
                    <a:pt x="298" y="127"/>
                  </a:lnTo>
                  <a:lnTo>
                    <a:pt x="280" y="97"/>
                  </a:lnTo>
                  <a:lnTo>
                    <a:pt x="266" y="80"/>
                  </a:lnTo>
                  <a:lnTo>
                    <a:pt x="252" y="72"/>
                  </a:lnTo>
                  <a:lnTo>
                    <a:pt x="239" y="60"/>
                  </a:lnTo>
                  <a:lnTo>
                    <a:pt x="216" y="46"/>
                  </a:lnTo>
                  <a:lnTo>
                    <a:pt x="190" y="40"/>
                  </a:lnTo>
                  <a:lnTo>
                    <a:pt x="162" y="35"/>
                  </a:lnTo>
                  <a:lnTo>
                    <a:pt x="133" y="40"/>
                  </a:lnTo>
                  <a:lnTo>
                    <a:pt x="101" y="46"/>
                  </a:lnTo>
                  <a:lnTo>
                    <a:pt x="77" y="60"/>
                  </a:lnTo>
                  <a:lnTo>
                    <a:pt x="57" y="80"/>
                  </a:lnTo>
                  <a:lnTo>
                    <a:pt x="25" y="83"/>
                  </a:lnTo>
                  <a:lnTo>
                    <a:pt x="0" y="86"/>
                  </a:lnTo>
                  <a:lnTo>
                    <a:pt x="46" y="14"/>
                  </a:lnTo>
                  <a:lnTo>
                    <a:pt x="63" y="11"/>
                  </a:lnTo>
                  <a:lnTo>
                    <a:pt x="74" y="5"/>
                  </a:lnTo>
                  <a:lnTo>
                    <a:pt x="90" y="2"/>
                  </a:lnTo>
                  <a:lnTo>
                    <a:pt x="101" y="2"/>
                  </a:lnTo>
                  <a:lnTo>
                    <a:pt x="113" y="0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2"/>
                  </a:lnTo>
                  <a:lnTo>
                    <a:pt x="225" y="2"/>
                  </a:lnTo>
                  <a:lnTo>
                    <a:pt x="236" y="5"/>
                  </a:lnTo>
                  <a:lnTo>
                    <a:pt x="248" y="11"/>
                  </a:lnTo>
                  <a:lnTo>
                    <a:pt x="260" y="19"/>
                  </a:lnTo>
                  <a:lnTo>
                    <a:pt x="266" y="19"/>
                  </a:lnTo>
                  <a:lnTo>
                    <a:pt x="269" y="22"/>
                  </a:lnTo>
                  <a:lnTo>
                    <a:pt x="272" y="22"/>
                  </a:lnTo>
                  <a:lnTo>
                    <a:pt x="278" y="25"/>
                  </a:lnTo>
                  <a:lnTo>
                    <a:pt x="280" y="31"/>
                  </a:lnTo>
                  <a:lnTo>
                    <a:pt x="283" y="40"/>
                  </a:lnTo>
                  <a:lnTo>
                    <a:pt x="289" y="43"/>
                  </a:lnTo>
                  <a:lnTo>
                    <a:pt x="292" y="52"/>
                  </a:lnTo>
                  <a:lnTo>
                    <a:pt x="292" y="55"/>
                  </a:lnTo>
                  <a:lnTo>
                    <a:pt x="329" y="127"/>
                  </a:lnTo>
                  <a:lnTo>
                    <a:pt x="332" y="138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957240" y="4782960"/>
              <a:ext cx="44640" cy="33840"/>
            </a:xfrm>
            <a:custGeom>
              <a:avLst/>
              <a:gdLst/>
              <a:ahLst/>
              <a:rect l="0" t="0" r="r" b="b"/>
              <a:pathLst>
                <a:path w="124" h="94">
                  <a:moveTo>
                    <a:pt x="115" y="44"/>
                  </a:moveTo>
                  <a:lnTo>
                    <a:pt x="115" y="79"/>
                  </a:lnTo>
                  <a:lnTo>
                    <a:pt x="124" y="94"/>
                  </a:lnTo>
                  <a:lnTo>
                    <a:pt x="112" y="94"/>
                  </a:lnTo>
                  <a:lnTo>
                    <a:pt x="82" y="94"/>
                  </a:lnTo>
                  <a:lnTo>
                    <a:pt x="67" y="56"/>
                  </a:lnTo>
                  <a:lnTo>
                    <a:pt x="60" y="53"/>
                  </a:lnTo>
                  <a:lnTo>
                    <a:pt x="54" y="53"/>
                  </a:lnTo>
                  <a:lnTo>
                    <a:pt x="48" y="50"/>
                  </a:lnTo>
                  <a:lnTo>
                    <a:pt x="39" y="44"/>
                  </a:lnTo>
                  <a:lnTo>
                    <a:pt x="36" y="41"/>
                  </a:lnTo>
                  <a:lnTo>
                    <a:pt x="27" y="41"/>
                  </a:lnTo>
                  <a:lnTo>
                    <a:pt x="21" y="34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91" y="15"/>
                  </a:lnTo>
                  <a:lnTo>
                    <a:pt x="100" y="18"/>
                  </a:lnTo>
                  <a:lnTo>
                    <a:pt x="106" y="28"/>
                  </a:lnTo>
                  <a:lnTo>
                    <a:pt x="115" y="4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851040" y="4761000"/>
              <a:ext cx="113040" cy="44640"/>
            </a:xfrm>
            <a:custGeom>
              <a:avLst/>
              <a:gdLst/>
              <a:ahLst/>
              <a:rect l="0" t="0" r="r" b="b"/>
              <a:pathLst>
                <a:path w="314" h="124">
                  <a:moveTo>
                    <a:pt x="0" y="0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23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7" y="5"/>
                  </a:lnTo>
                  <a:lnTo>
                    <a:pt x="76" y="5"/>
                  </a:lnTo>
                  <a:lnTo>
                    <a:pt x="84" y="5"/>
                  </a:lnTo>
                  <a:lnTo>
                    <a:pt x="93" y="5"/>
                  </a:lnTo>
                  <a:lnTo>
                    <a:pt x="96" y="11"/>
                  </a:lnTo>
                  <a:lnTo>
                    <a:pt x="105" y="11"/>
                  </a:lnTo>
                  <a:lnTo>
                    <a:pt x="114" y="11"/>
                  </a:lnTo>
                  <a:lnTo>
                    <a:pt x="119" y="11"/>
                  </a:lnTo>
                  <a:lnTo>
                    <a:pt x="128" y="33"/>
                  </a:lnTo>
                  <a:lnTo>
                    <a:pt x="137" y="44"/>
                  </a:lnTo>
                  <a:lnTo>
                    <a:pt x="149" y="50"/>
                  </a:lnTo>
                  <a:lnTo>
                    <a:pt x="299" y="65"/>
                  </a:lnTo>
                  <a:lnTo>
                    <a:pt x="314" y="96"/>
                  </a:lnTo>
                  <a:lnTo>
                    <a:pt x="302" y="93"/>
                  </a:lnTo>
                  <a:lnTo>
                    <a:pt x="290" y="93"/>
                  </a:lnTo>
                  <a:lnTo>
                    <a:pt x="278" y="90"/>
                  </a:lnTo>
                  <a:lnTo>
                    <a:pt x="267" y="90"/>
                  </a:lnTo>
                  <a:lnTo>
                    <a:pt x="255" y="90"/>
                  </a:lnTo>
                  <a:lnTo>
                    <a:pt x="226" y="90"/>
                  </a:lnTo>
                  <a:lnTo>
                    <a:pt x="208" y="90"/>
                  </a:lnTo>
                  <a:lnTo>
                    <a:pt x="197" y="93"/>
                  </a:lnTo>
                  <a:lnTo>
                    <a:pt x="185" y="93"/>
                  </a:lnTo>
                  <a:lnTo>
                    <a:pt x="173" y="96"/>
                  </a:lnTo>
                  <a:lnTo>
                    <a:pt x="161" y="102"/>
                  </a:lnTo>
                  <a:lnTo>
                    <a:pt x="152" y="104"/>
                  </a:lnTo>
                  <a:lnTo>
                    <a:pt x="146" y="110"/>
                  </a:lnTo>
                  <a:lnTo>
                    <a:pt x="137" y="113"/>
                  </a:lnTo>
                  <a:lnTo>
                    <a:pt x="131" y="121"/>
                  </a:lnTo>
                  <a:lnTo>
                    <a:pt x="128" y="124"/>
                  </a:lnTo>
                  <a:lnTo>
                    <a:pt x="99" y="124"/>
                  </a:lnTo>
                  <a:lnTo>
                    <a:pt x="84" y="116"/>
                  </a:lnTo>
                  <a:lnTo>
                    <a:pt x="93" y="104"/>
                  </a:lnTo>
                  <a:lnTo>
                    <a:pt x="108" y="102"/>
                  </a:lnTo>
                  <a:lnTo>
                    <a:pt x="131" y="79"/>
                  </a:lnTo>
                  <a:lnTo>
                    <a:pt x="137" y="71"/>
                  </a:lnTo>
                  <a:lnTo>
                    <a:pt x="131" y="61"/>
                  </a:lnTo>
                  <a:lnTo>
                    <a:pt x="125" y="50"/>
                  </a:lnTo>
                  <a:lnTo>
                    <a:pt x="114" y="44"/>
                  </a:lnTo>
                  <a:lnTo>
                    <a:pt x="105" y="53"/>
                  </a:lnTo>
                  <a:lnTo>
                    <a:pt x="81" y="73"/>
                  </a:lnTo>
                  <a:lnTo>
                    <a:pt x="76" y="90"/>
                  </a:lnTo>
                  <a:lnTo>
                    <a:pt x="67" y="102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884160" y="4809960"/>
              <a:ext cx="106560" cy="108360"/>
            </a:xfrm>
            <a:custGeom>
              <a:avLst/>
              <a:gdLst/>
              <a:ahLst/>
              <a:rect l="0" t="0" r="r" b="b"/>
              <a:pathLst>
                <a:path w="296" h="301">
                  <a:moveTo>
                    <a:pt x="26" y="231"/>
                  </a:moveTo>
                  <a:lnTo>
                    <a:pt x="11" y="207"/>
                  </a:lnTo>
                  <a:lnTo>
                    <a:pt x="23" y="204"/>
                  </a:lnTo>
                  <a:lnTo>
                    <a:pt x="11" y="207"/>
                  </a:lnTo>
                  <a:lnTo>
                    <a:pt x="2" y="178"/>
                  </a:lnTo>
                  <a:lnTo>
                    <a:pt x="0" y="152"/>
                  </a:lnTo>
                  <a:lnTo>
                    <a:pt x="2" y="123"/>
                  </a:lnTo>
                  <a:lnTo>
                    <a:pt x="2" y="117"/>
                  </a:lnTo>
                  <a:lnTo>
                    <a:pt x="11" y="91"/>
                  </a:lnTo>
                  <a:lnTo>
                    <a:pt x="26" y="64"/>
                  </a:lnTo>
                  <a:lnTo>
                    <a:pt x="35" y="55"/>
                  </a:lnTo>
                  <a:lnTo>
                    <a:pt x="43" y="43"/>
                  </a:lnTo>
                  <a:lnTo>
                    <a:pt x="52" y="52"/>
                  </a:lnTo>
                  <a:lnTo>
                    <a:pt x="43" y="43"/>
                  </a:lnTo>
                  <a:lnTo>
                    <a:pt x="64" y="23"/>
                  </a:lnTo>
                  <a:lnTo>
                    <a:pt x="90" y="11"/>
                  </a:lnTo>
                  <a:lnTo>
                    <a:pt x="119" y="0"/>
                  </a:lnTo>
                  <a:lnTo>
                    <a:pt x="146" y="0"/>
                  </a:lnTo>
                  <a:lnTo>
                    <a:pt x="176" y="0"/>
                  </a:lnTo>
                  <a:lnTo>
                    <a:pt x="205" y="11"/>
                  </a:lnTo>
                  <a:lnTo>
                    <a:pt x="229" y="23"/>
                  </a:lnTo>
                  <a:lnTo>
                    <a:pt x="243" y="32"/>
                  </a:lnTo>
                  <a:lnTo>
                    <a:pt x="252" y="43"/>
                  </a:lnTo>
                  <a:lnTo>
                    <a:pt x="243" y="52"/>
                  </a:lnTo>
                  <a:lnTo>
                    <a:pt x="252" y="43"/>
                  </a:lnTo>
                  <a:lnTo>
                    <a:pt x="270" y="64"/>
                  </a:lnTo>
                  <a:lnTo>
                    <a:pt x="284" y="91"/>
                  </a:lnTo>
                  <a:lnTo>
                    <a:pt x="293" y="117"/>
                  </a:lnTo>
                  <a:lnTo>
                    <a:pt x="296" y="152"/>
                  </a:lnTo>
                  <a:lnTo>
                    <a:pt x="293" y="178"/>
                  </a:lnTo>
                  <a:lnTo>
                    <a:pt x="284" y="207"/>
                  </a:lnTo>
                  <a:lnTo>
                    <a:pt x="273" y="204"/>
                  </a:lnTo>
                  <a:lnTo>
                    <a:pt x="284" y="207"/>
                  </a:lnTo>
                  <a:lnTo>
                    <a:pt x="270" y="231"/>
                  </a:lnTo>
                  <a:lnTo>
                    <a:pt x="261" y="229"/>
                  </a:lnTo>
                  <a:lnTo>
                    <a:pt x="270" y="231"/>
                  </a:lnTo>
                  <a:lnTo>
                    <a:pt x="252" y="258"/>
                  </a:lnTo>
                  <a:lnTo>
                    <a:pt x="229" y="272"/>
                  </a:lnTo>
                  <a:lnTo>
                    <a:pt x="205" y="290"/>
                  </a:lnTo>
                  <a:lnTo>
                    <a:pt x="176" y="298"/>
                  </a:lnTo>
                  <a:lnTo>
                    <a:pt x="146" y="301"/>
                  </a:lnTo>
                  <a:lnTo>
                    <a:pt x="119" y="298"/>
                  </a:lnTo>
                  <a:lnTo>
                    <a:pt x="90" y="290"/>
                  </a:lnTo>
                  <a:lnTo>
                    <a:pt x="64" y="272"/>
                  </a:lnTo>
                  <a:lnTo>
                    <a:pt x="43" y="258"/>
                  </a:lnTo>
                  <a:lnTo>
                    <a:pt x="26" y="231"/>
                  </a:lnTo>
                  <a:close/>
                </a:path>
              </a:pathLst>
            </a:custGeom>
            <a:solidFill>
              <a:srgbClr val="f0f0f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19120" y="4805280"/>
              <a:ext cx="106560" cy="109800"/>
            </a:xfrm>
            <a:custGeom>
              <a:avLst/>
              <a:gdLst/>
              <a:ahLst/>
              <a:rect l="0" t="0" r="r" b="b"/>
              <a:pathLst>
                <a:path w="296" h="305">
                  <a:moveTo>
                    <a:pt x="253" y="47"/>
                  </a:moveTo>
                  <a:lnTo>
                    <a:pt x="267" y="64"/>
                  </a:lnTo>
                  <a:lnTo>
                    <a:pt x="284" y="94"/>
                  </a:lnTo>
                  <a:lnTo>
                    <a:pt x="287" y="106"/>
                  </a:lnTo>
                  <a:lnTo>
                    <a:pt x="290" y="124"/>
                  </a:lnTo>
                  <a:lnTo>
                    <a:pt x="296" y="154"/>
                  </a:lnTo>
                  <a:lnTo>
                    <a:pt x="290" y="187"/>
                  </a:lnTo>
                  <a:lnTo>
                    <a:pt x="284" y="210"/>
                  </a:lnTo>
                  <a:lnTo>
                    <a:pt x="270" y="207"/>
                  </a:lnTo>
                  <a:lnTo>
                    <a:pt x="284" y="210"/>
                  </a:lnTo>
                  <a:lnTo>
                    <a:pt x="267" y="240"/>
                  </a:lnTo>
                  <a:lnTo>
                    <a:pt x="258" y="231"/>
                  </a:lnTo>
                  <a:lnTo>
                    <a:pt x="267" y="240"/>
                  </a:lnTo>
                  <a:lnTo>
                    <a:pt x="253" y="260"/>
                  </a:lnTo>
                  <a:lnTo>
                    <a:pt x="226" y="281"/>
                  </a:lnTo>
                  <a:lnTo>
                    <a:pt x="203" y="293"/>
                  </a:lnTo>
                  <a:lnTo>
                    <a:pt x="177" y="302"/>
                  </a:lnTo>
                  <a:lnTo>
                    <a:pt x="147" y="305"/>
                  </a:lnTo>
                  <a:lnTo>
                    <a:pt x="118" y="302"/>
                  </a:lnTo>
                  <a:lnTo>
                    <a:pt x="86" y="293"/>
                  </a:lnTo>
                  <a:lnTo>
                    <a:pt x="63" y="281"/>
                  </a:lnTo>
                  <a:lnTo>
                    <a:pt x="43" y="260"/>
                  </a:lnTo>
                  <a:lnTo>
                    <a:pt x="28" y="240"/>
                  </a:lnTo>
                  <a:lnTo>
                    <a:pt x="34" y="231"/>
                  </a:lnTo>
                  <a:lnTo>
                    <a:pt x="28" y="240"/>
                  </a:lnTo>
                  <a:lnTo>
                    <a:pt x="11" y="210"/>
                  </a:lnTo>
                  <a:lnTo>
                    <a:pt x="2" y="187"/>
                  </a:lnTo>
                  <a:lnTo>
                    <a:pt x="0" y="154"/>
                  </a:lnTo>
                  <a:lnTo>
                    <a:pt x="2" y="124"/>
                  </a:lnTo>
                  <a:lnTo>
                    <a:pt x="11" y="100"/>
                  </a:lnTo>
                  <a:lnTo>
                    <a:pt x="20" y="103"/>
                  </a:lnTo>
                  <a:lnTo>
                    <a:pt x="11" y="100"/>
                  </a:lnTo>
                  <a:lnTo>
                    <a:pt x="11" y="94"/>
                  </a:lnTo>
                  <a:lnTo>
                    <a:pt x="28" y="64"/>
                  </a:lnTo>
                  <a:lnTo>
                    <a:pt x="31" y="59"/>
                  </a:lnTo>
                  <a:lnTo>
                    <a:pt x="43" y="47"/>
                  </a:lnTo>
                  <a:lnTo>
                    <a:pt x="52" y="53"/>
                  </a:lnTo>
                  <a:lnTo>
                    <a:pt x="43" y="47"/>
                  </a:lnTo>
                  <a:lnTo>
                    <a:pt x="63" y="26"/>
                  </a:lnTo>
                  <a:lnTo>
                    <a:pt x="86" y="11"/>
                  </a:lnTo>
                  <a:lnTo>
                    <a:pt x="118" y="5"/>
                  </a:lnTo>
                  <a:lnTo>
                    <a:pt x="147" y="0"/>
                  </a:lnTo>
                  <a:lnTo>
                    <a:pt x="177" y="5"/>
                  </a:lnTo>
                  <a:lnTo>
                    <a:pt x="203" y="11"/>
                  </a:lnTo>
                  <a:lnTo>
                    <a:pt x="226" y="26"/>
                  </a:lnTo>
                  <a:lnTo>
                    <a:pt x="238" y="38"/>
                  </a:lnTo>
                  <a:lnTo>
                    <a:pt x="253" y="47"/>
                  </a:lnTo>
                  <a:close/>
                </a:path>
              </a:pathLst>
            </a:custGeom>
            <a:solidFill>
              <a:srgbClr val="f0f0f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95320" y="4764240"/>
              <a:ext cx="103680" cy="35280"/>
            </a:xfrm>
            <a:custGeom>
              <a:avLst/>
              <a:gdLst/>
              <a:ahLst/>
              <a:rect l="0" t="0" r="r" b="b"/>
              <a:pathLst>
                <a:path w="288" h="98">
                  <a:moveTo>
                    <a:pt x="0" y="0"/>
                  </a:moveTo>
                  <a:lnTo>
                    <a:pt x="17" y="2"/>
                  </a:lnTo>
                  <a:lnTo>
                    <a:pt x="37" y="8"/>
                  </a:lnTo>
                  <a:lnTo>
                    <a:pt x="52" y="8"/>
                  </a:lnTo>
                  <a:lnTo>
                    <a:pt x="69" y="11"/>
                  </a:lnTo>
                  <a:lnTo>
                    <a:pt x="84" y="14"/>
                  </a:lnTo>
                  <a:lnTo>
                    <a:pt x="105" y="20"/>
                  </a:lnTo>
                  <a:lnTo>
                    <a:pt x="119" y="23"/>
                  </a:lnTo>
                  <a:lnTo>
                    <a:pt x="137" y="29"/>
                  </a:lnTo>
                  <a:lnTo>
                    <a:pt x="151" y="32"/>
                  </a:lnTo>
                  <a:lnTo>
                    <a:pt x="168" y="35"/>
                  </a:lnTo>
                  <a:lnTo>
                    <a:pt x="183" y="35"/>
                  </a:lnTo>
                  <a:lnTo>
                    <a:pt x="200" y="44"/>
                  </a:lnTo>
                  <a:lnTo>
                    <a:pt x="215" y="50"/>
                  </a:lnTo>
                  <a:lnTo>
                    <a:pt x="233" y="53"/>
                  </a:lnTo>
                  <a:lnTo>
                    <a:pt x="253" y="56"/>
                  </a:lnTo>
                  <a:lnTo>
                    <a:pt x="268" y="62"/>
                  </a:lnTo>
                  <a:lnTo>
                    <a:pt x="279" y="71"/>
                  </a:lnTo>
                  <a:lnTo>
                    <a:pt x="288" y="77"/>
                  </a:lnTo>
                  <a:lnTo>
                    <a:pt x="288" y="98"/>
                  </a:lnTo>
                  <a:lnTo>
                    <a:pt x="279" y="83"/>
                  </a:lnTo>
                  <a:lnTo>
                    <a:pt x="274" y="74"/>
                  </a:lnTo>
                  <a:lnTo>
                    <a:pt x="265" y="71"/>
                  </a:lnTo>
                  <a:lnTo>
                    <a:pt x="177" y="56"/>
                  </a:lnTo>
                  <a:lnTo>
                    <a:pt x="28" y="41"/>
                  </a:lnTo>
                  <a:lnTo>
                    <a:pt x="17" y="35"/>
                  </a:lnTo>
                  <a:lnTo>
                    <a:pt x="8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30280" y="4819680"/>
              <a:ext cx="81360" cy="84600"/>
            </a:xfrm>
            <a:custGeom>
              <a:avLst/>
              <a:gdLst/>
              <a:ahLst/>
              <a:rect l="0" t="0" r="r" b="b"/>
              <a:pathLst>
                <a:path w="226" h="235">
                  <a:moveTo>
                    <a:pt x="116" y="0"/>
                  </a:moveTo>
                  <a:lnTo>
                    <a:pt x="136" y="0"/>
                  </a:lnTo>
                  <a:lnTo>
                    <a:pt x="159" y="8"/>
                  </a:lnTo>
                  <a:lnTo>
                    <a:pt x="180" y="20"/>
                  </a:lnTo>
                  <a:lnTo>
                    <a:pt x="195" y="32"/>
                  </a:lnTo>
                  <a:lnTo>
                    <a:pt x="206" y="47"/>
                  </a:lnTo>
                  <a:lnTo>
                    <a:pt x="221" y="69"/>
                  </a:lnTo>
                  <a:lnTo>
                    <a:pt x="224" y="89"/>
                  </a:lnTo>
                  <a:lnTo>
                    <a:pt x="226" y="116"/>
                  </a:lnTo>
                  <a:lnTo>
                    <a:pt x="224" y="140"/>
                  </a:lnTo>
                  <a:lnTo>
                    <a:pt x="221" y="160"/>
                  </a:lnTo>
                  <a:lnTo>
                    <a:pt x="206" y="182"/>
                  </a:lnTo>
                  <a:lnTo>
                    <a:pt x="195" y="200"/>
                  </a:lnTo>
                  <a:lnTo>
                    <a:pt x="180" y="215"/>
                  </a:lnTo>
                  <a:lnTo>
                    <a:pt x="159" y="223"/>
                  </a:lnTo>
                  <a:lnTo>
                    <a:pt x="136" y="232"/>
                  </a:lnTo>
                  <a:lnTo>
                    <a:pt x="116" y="235"/>
                  </a:lnTo>
                  <a:lnTo>
                    <a:pt x="93" y="232"/>
                  </a:lnTo>
                  <a:lnTo>
                    <a:pt x="73" y="223"/>
                  </a:lnTo>
                  <a:lnTo>
                    <a:pt x="51" y="215"/>
                  </a:lnTo>
                  <a:lnTo>
                    <a:pt x="34" y="200"/>
                  </a:lnTo>
                  <a:lnTo>
                    <a:pt x="23" y="182"/>
                  </a:lnTo>
                  <a:lnTo>
                    <a:pt x="11" y="160"/>
                  </a:lnTo>
                  <a:lnTo>
                    <a:pt x="2" y="140"/>
                  </a:lnTo>
                  <a:lnTo>
                    <a:pt x="0" y="116"/>
                  </a:lnTo>
                  <a:lnTo>
                    <a:pt x="2" y="89"/>
                  </a:lnTo>
                  <a:lnTo>
                    <a:pt x="11" y="69"/>
                  </a:lnTo>
                  <a:lnTo>
                    <a:pt x="23" y="47"/>
                  </a:lnTo>
                  <a:lnTo>
                    <a:pt x="34" y="32"/>
                  </a:lnTo>
                  <a:lnTo>
                    <a:pt x="51" y="20"/>
                  </a:lnTo>
                  <a:lnTo>
                    <a:pt x="73" y="8"/>
                  </a:lnTo>
                  <a:lnTo>
                    <a:pt x="93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1e1e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98560" y="4822920"/>
              <a:ext cx="79560" cy="82800"/>
            </a:xfrm>
            <a:custGeom>
              <a:avLst/>
              <a:gdLst/>
              <a:ahLst/>
              <a:rect l="0" t="0" r="r" b="b"/>
              <a:pathLst>
                <a:path w="221" h="230">
                  <a:moveTo>
                    <a:pt x="108" y="0"/>
                  </a:moveTo>
                  <a:lnTo>
                    <a:pt x="135" y="0"/>
                  </a:lnTo>
                  <a:lnTo>
                    <a:pt x="155" y="5"/>
                  </a:lnTo>
                  <a:lnTo>
                    <a:pt x="172" y="14"/>
                  </a:lnTo>
                  <a:lnTo>
                    <a:pt x="189" y="32"/>
                  </a:lnTo>
                  <a:lnTo>
                    <a:pt x="201" y="47"/>
                  </a:lnTo>
                  <a:lnTo>
                    <a:pt x="212" y="68"/>
                  </a:lnTo>
                  <a:lnTo>
                    <a:pt x="221" y="89"/>
                  </a:lnTo>
                  <a:lnTo>
                    <a:pt x="221" y="117"/>
                  </a:lnTo>
                  <a:lnTo>
                    <a:pt x="221" y="140"/>
                  </a:lnTo>
                  <a:lnTo>
                    <a:pt x="212" y="161"/>
                  </a:lnTo>
                  <a:lnTo>
                    <a:pt x="201" y="182"/>
                  </a:lnTo>
                  <a:lnTo>
                    <a:pt x="189" y="197"/>
                  </a:lnTo>
                  <a:lnTo>
                    <a:pt x="172" y="212"/>
                  </a:lnTo>
                  <a:lnTo>
                    <a:pt x="155" y="224"/>
                  </a:lnTo>
                  <a:lnTo>
                    <a:pt x="135" y="227"/>
                  </a:lnTo>
                  <a:lnTo>
                    <a:pt x="108" y="230"/>
                  </a:lnTo>
                  <a:lnTo>
                    <a:pt x="91" y="227"/>
                  </a:lnTo>
                  <a:lnTo>
                    <a:pt x="65" y="224"/>
                  </a:lnTo>
                  <a:lnTo>
                    <a:pt x="45" y="212"/>
                  </a:lnTo>
                  <a:lnTo>
                    <a:pt x="31" y="197"/>
                  </a:lnTo>
                  <a:lnTo>
                    <a:pt x="20" y="182"/>
                  </a:lnTo>
                  <a:lnTo>
                    <a:pt x="8" y="161"/>
                  </a:lnTo>
                  <a:lnTo>
                    <a:pt x="2" y="140"/>
                  </a:lnTo>
                  <a:lnTo>
                    <a:pt x="0" y="117"/>
                  </a:lnTo>
                  <a:lnTo>
                    <a:pt x="2" y="89"/>
                  </a:lnTo>
                  <a:lnTo>
                    <a:pt x="8" y="68"/>
                  </a:lnTo>
                  <a:lnTo>
                    <a:pt x="20" y="47"/>
                  </a:lnTo>
                  <a:lnTo>
                    <a:pt x="31" y="32"/>
                  </a:lnTo>
                  <a:lnTo>
                    <a:pt x="45" y="14"/>
                  </a:lnTo>
                  <a:lnTo>
                    <a:pt x="65" y="5"/>
                  </a:lnTo>
                  <a:lnTo>
                    <a:pt x="91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e1e1e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46000" y="4780080"/>
              <a:ext cx="52920" cy="82800"/>
            </a:xfrm>
            <a:custGeom>
              <a:avLst/>
              <a:gdLst/>
              <a:ahLst/>
              <a:rect l="0" t="0" r="r" b="b"/>
              <a:pathLst>
                <a:path w="147" h="230">
                  <a:moveTo>
                    <a:pt x="147" y="73"/>
                  </a:moveTo>
                  <a:lnTo>
                    <a:pt x="114" y="147"/>
                  </a:lnTo>
                  <a:lnTo>
                    <a:pt x="79" y="209"/>
                  </a:lnTo>
                  <a:lnTo>
                    <a:pt x="70" y="230"/>
                  </a:lnTo>
                  <a:lnTo>
                    <a:pt x="0" y="23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82" y="49"/>
                  </a:lnTo>
                  <a:lnTo>
                    <a:pt x="82" y="52"/>
                  </a:lnTo>
                  <a:lnTo>
                    <a:pt x="98" y="61"/>
                  </a:lnTo>
                  <a:lnTo>
                    <a:pt x="101" y="64"/>
                  </a:lnTo>
                  <a:lnTo>
                    <a:pt x="117" y="73"/>
                  </a:lnTo>
                  <a:lnTo>
                    <a:pt x="147" y="73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52400" y="4722840"/>
              <a:ext cx="74880" cy="43200"/>
            </a:xfrm>
            <a:custGeom>
              <a:avLst/>
              <a:gdLst/>
              <a:ahLst/>
              <a:rect l="0" t="0" r="r" b="b"/>
              <a:pathLst>
                <a:path w="208" h="120">
                  <a:moveTo>
                    <a:pt x="2" y="8"/>
                  </a:moveTo>
                  <a:lnTo>
                    <a:pt x="2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182" y="0"/>
                  </a:lnTo>
                  <a:lnTo>
                    <a:pt x="188" y="2"/>
                  </a:lnTo>
                  <a:lnTo>
                    <a:pt x="191" y="2"/>
                  </a:lnTo>
                  <a:lnTo>
                    <a:pt x="196" y="8"/>
                  </a:lnTo>
                  <a:lnTo>
                    <a:pt x="196" y="11"/>
                  </a:lnTo>
                  <a:lnTo>
                    <a:pt x="199" y="14"/>
                  </a:lnTo>
                  <a:lnTo>
                    <a:pt x="208" y="105"/>
                  </a:lnTo>
                  <a:lnTo>
                    <a:pt x="208" y="111"/>
                  </a:lnTo>
                  <a:lnTo>
                    <a:pt x="202" y="117"/>
                  </a:lnTo>
                  <a:lnTo>
                    <a:pt x="199" y="120"/>
                  </a:lnTo>
                  <a:lnTo>
                    <a:pt x="191" y="120"/>
                  </a:lnTo>
                  <a:lnTo>
                    <a:pt x="14" y="120"/>
                  </a:lnTo>
                  <a:lnTo>
                    <a:pt x="8" y="120"/>
                  </a:lnTo>
                  <a:lnTo>
                    <a:pt x="2" y="117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7080" y="4726080"/>
              <a:ext cx="66960" cy="36720"/>
            </a:xfrm>
            <a:custGeom>
              <a:avLst/>
              <a:gdLst/>
              <a:ahLst/>
              <a:rect l="0" t="0" r="r" b="b"/>
              <a:pathLst>
                <a:path w="186" h="102">
                  <a:moveTo>
                    <a:pt x="175" y="102"/>
                  </a:moveTo>
                  <a:lnTo>
                    <a:pt x="11" y="102"/>
                  </a:lnTo>
                  <a:lnTo>
                    <a:pt x="5" y="102"/>
                  </a:lnTo>
                  <a:lnTo>
                    <a:pt x="2" y="99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66" y="0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77" y="5"/>
                  </a:lnTo>
                  <a:lnTo>
                    <a:pt x="177" y="11"/>
                  </a:lnTo>
                  <a:lnTo>
                    <a:pt x="186" y="90"/>
                  </a:lnTo>
                  <a:lnTo>
                    <a:pt x="186" y="96"/>
                  </a:lnTo>
                  <a:lnTo>
                    <a:pt x="183" y="99"/>
                  </a:lnTo>
                  <a:lnTo>
                    <a:pt x="177" y="102"/>
                  </a:lnTo>
                  <a:lnTo>
                    <a:pt x="175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54200" y="4719600"/>
              <a:ext cx="70200" cy="6840"/>
            </a:xfrm>
            <a:custGeom>
              <a:avLst/>
              <a:gdLst/>
              <a:ahLst/>
              <a:rect l="0" t="0" r="r" b="b"/>
              <a:pathLst>
                <a:path w="195" h="19">
                  <a:moveTo>
                    <a:pt x="0" y="19"/>
                  </a:moveTo>
                  <a:lnTo>
                    <a:pt x="11" y="0"/>
                  </a:lnTo>
                  <a:lnTo>
                    <a:pt x="180" y="0"/>
                  </a:lnTo>
                  <a:lnTo>
                    <a:pt x="195" y="19"/>
                  </a:lnTo>
                  <a:lnTo>
                    <a:pt x="189" y="12"/>
                  </a:lnTo>
                  <a:lnTo>
                    <a:pt x="186" y="12"/>
                  </a:lnTo>
                  <a:lnTo>
                    <a:pt x="180" y="9"/>
                  </a:lnTo>
                  <a:lnTo>
                    <a:pt x="11" y="9"/>
                  </a:lnTo>
                  <a:lnTo>
                    <a:pt x="8" y="12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55560" y="4722840"/>
              <a:ext cx="66960" cy="43200"/>
            </a:xfrm>
            <a:custGeom>
              <a:avLst/>
              <a:gdLst/>
              <a:ahLst/>
              <a:rect l="0" t="0" r="r" b="b"/>
              <a:pathLst>
                <a:path w="186" h="120">
                  <a:moveTo>
                    <a:pt x="2" y="8"/>
                  </a:moveTo>
                  <a:lnTo>
                    <a:pt x="8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71" y="0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3" y="11"/>
                  </a:lnTo>
                  <a:lnTo>
                    <a:pt x="183" y="14"/>
                  </a:lnTo>
                  <a:lnTo>
                    <a:pt x="186" y="105"/>
                  </a:lnTo>
                  <a:lnTo>
                    <a:pt x="186" y="111"/>
                  </a:lnTo>
                  <a:lnTo>
                    <a:pt x="186" y="117"/>
                  </a:lnTo>
                  <a:lnTo>
                    <a:pt x="183" y="120"/>
                  </a:lnTo>
                  <a:lnTo>
                    <a:pt x="174" y="120"/>
                  </a:lnTo>
                  <a:lnTo>
                    <a:pt x="11" y="120"/>
                  </a:lnTo>
                  <a:lnTo>
                    <a:pt x="8" y="120"/>
                  </a:lnTo>
                  <a:lnTo>
                    <a:pt x="2" y="117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39640" y="4829040"/>
              <a:ext cx="63720" cy="65520"/>
            </a:xfrm>
            <a:custGeom>
              <a:avLst/>
              <a:gdLst/>
              <a:ahLst/>
              <a:rect l="0" t="0" r="r" b="b"/>
              <a:pathLst>
                <a:path w="177" h="182">
                  <a:moveTo>
                    <a:pt x="92" y="0"/>
                  </a:moveTo>
                  <a:lnTo>
                    <a:pt x="106" y="0"/>
                  </a:lnTo>
                  <a:lnTo>
                    <a:pt x="123" y="8"/>
                  </a:lnTo>
                  <a:lnTo>
                    <a:pt x="137" y="17"/>
                  </a:lnTo>
                  <a:lnTo>
                    <a:pt x="154" y="22"/>
                  </a:lnTo>
                  <a:lnTo>
                    <a:pt x="163" y="40"/>
                  </a:lnTo>
                  <a:lnTo>
                    <a:pt x="168" y="52"/>
                  </a:lnTo>
                  <a:lnTo>
                    <a:pt x="174" y="72"/>
                  </a:lnTo>
                  <a:lnTo>
                    <a:pt x="177" y="89"/>
                  </a:lnTo>
                  <a:lnTo>
                    <a:pt x="174" y="110"/>
                  </a:lnTo>
                  <a:lnTo>
                    <a:pt x="168" y="124"/>
                  </a:lnTo>
                  <a:lnTo>
                    <a:pt x="163" y="142"/>
                  </a:lnTo>
                  <a:lnTo>
                    <a:pt x="154" y="154"/>
                  </a:lnTo>
                  <a:lnTo>
                    <a:pt x="137" y="165"/>
                  </a:lnTo>
                  <a:lnTo>
                    <a:pt x="123" y="174"/>
                  </a:lnTo>
                  <a:lnTo>
                    <a:pt x="106" y="177"/>
                  </a:lnTo>
                  <a:lnTo>
                    <a:pt x="92" y="182"/>
                  </a:lnTo>
                  <a:lnTo>
                    <a:pt x="71" y="177"/>
                  </a:lnTo>
                  <a:lnTo>
                    <a:pt x="56" y="174"/>
                  </a:lnTo>
                  <a:lnTo>
                    <a:pt x="39" y="165"/>
                  </a:lnTo>
                  <a:lnTo>
                    <a:pt x="28" y="154"/>
                  </a:lnTo>
                  <a:lnTo>
                    <a:pt x="17" y="142"/>
                  </a:lnTo>
                  <a:lnTo>
                    <a:pt x="8" y="124"/>
                  </a:lnTo>
                  <a:lnTo>
                    <a:pt x="5" y="110"/>
                  </a:lnTo>
                  <a:lnTo>
                    <a:pt x="0" y="89"/>
                  </a:lnTo>
                  <a:lnTo>
                    <a:pt x="5" y="72"/>
                  </a:lnTo>
                  <a:lnTo>
                    <a:pt x="8" y="52"/>
                  </a:lnTo>
                  <a:lnTo>
                    <a:pt x="17" y="40"/>
                  </a:lnTo>
                  <a:lnTo>
                    <a:pt x="28" y="22"/>
                  </a:lnTo>
                  <a:lnTo>
                    <a:pt x="39" y="17"/>
                  </a:lnTo>
                  <a:lnTo>
                    <a:pt x="56" y="8"/>
                  </a:lnTo>
                  <a:lnTo>
                    <a:pt x="7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1e1e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55560" y="4719600"/>
              <a:ext cx="65520" cy="6840"/>
            </a:xfrm>
            <a:custGeom>
              <a:avLst/>
              <a:gdLst/>
              <a:ahLst/>
              <a:rect l="0" t="0" r="r" b="b"/>
              <a:pathLst>
                <a:path w="182" h="19">
                  <a:moveTo>
                    <a:pt x="0" y="19"/>
                  </a:moveTo>
                  <a:lnTo>
                    <a:pt x="11" y="0"/>
                  </a:lnTo>
                  <a:lnTo>
                    <a:pt x="173" y="0"/>
                  </a:lnTo>
                  <a:lnTo>
                    <a:pt x="182" y="12"/>
                  </a:lnTo>
                  <a:lnTo>
                    <a:pt x="176" y="12"/>
                  </a:lnTo>
                  <a:lnTo>
                    <a:pt x="173" y="9"/>
                  </a:lnTo>
                  <a:lnTo>
                    <a:pt x="8" y="9"/>
                  </a:lnTo>
                  <a:lnTo>
                    <a:pt x="8" y="12"/>
                  </a:lnTo>
                  <a:lnTo>
                    <a:pt x="5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58800" y="4726080"/>
              <a:ext cx="62280" cy="36720"/>
            </a:xfrm>
            <a:custGeom>
              <a:avLst/>
              <a:gdLst/>
              <a:ahLst/>
              <a:rect l="0" t="0" r="r" b="b"/>
              <a:pathLst>
                <a:path w="173" h="102">
                  <a:moveTo>
                    <a:pt x="162" y="102"/>
                  </a:moveTo>
                  <a:lnTo>
                    <a:pt x="11" y="102"/>
                  </a:lnTo>
                  <a:lnTo>
                    <a:pt x="5" y="102"/>
                  </a:lnTo>
                  <a:lnTo>
                    <a:pt x="2" y="99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59" y="0"/>
                  </a:lnTo>
                  <a:lnTo>
                    <a:pt x="162" y="2"/>
                  </a:lnTo>
                  <a:lnTo>
                    <a:pt x="165" y="2"/>
                  </a:lnTo>
                  <a:lnTo>
                    <a:pt x="165" y="5"/>
                  </a:lnTo>
                  <a:lnTo>
                    <a:pt x="171" y="11"/>
                  </a:lnTo>
                  <a:lnTo>
                    <a:pt x="173" y="90"/>
                  </a:lnTo>
                  <a:lnTo>
                    <a:pt x="173" y="96"/>
                  </a:lnTo>
                  <a:lnTo>
                    <a:pt x="171" y="99"/>
                  </a:lnTo>
                  <a:lnTo>
                    <a:pt x="165" y="102"/>
                  </a:lnTo>
                  <a:lnTo>
                    <a:pt x="162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09560" y="4838760"/>
              <a:ext cx="60840" cy="5040"/>
            </a:xfrm>
            <a:custGeom>
              <a:avLst/>
              <a:gdLst/>
              <a:ahLst/>
              <a:rect l="0" t="0" r="r" b="b"/>
              <a:pathLst>
                <a:path w="169" h="14">
                  <a:moveTo>
                    <a:pt x="169" y="0"/>
                  </a:moveTo>
                  <a:lnTo>
                    <a:pt x="154" y="14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79520" y="4822920"/>
              <a:ext cx="55800" cy="19440"/>
            </a:xfrm>
            <a:custGeom>
              <a:avLst/>
              <a:gdLst/>
              <a:ahLst/>
              <a:rect l="0" t="0" r="r" b="b"/>
              <a:pathLst>
                <a:path w="155" h="54">
                  <a:moveTo>
                    <a:pt x="95" y="5"/>
                  </a:moveTo>
                  <a:lnTo>
                    <a:pt x="122" y="2"/>
                  </a:lnTo>
                  <a:lnTo>
                    <a:pt x="155" y="0"/>
                  </a:lnTo>
                  <a:lnTo>
                    <a:pt x="143" y="11"/>
                  </a:lnTo>
                  <a:lnTo>
                    <a:pt x="140" y="18"/>
                  </a:lnTo>
                  <a:lnTo>
                    <a:pt x="122" y="49"/>
                  </a:lnTo>
                  <a:lnTo>
                    <a:pt x="122" y="54"/>
                  </a:lnTo>
                  <a:lnTo>
                    <a:pt x="29" y="54"/>
                  </a:lnTo>
                  <a:lnTo>
                    <a:pt x="8" y="46"/>
                  </a:lnTo>
                  <a:lnTo>
                    <a:pt x="0" y="33"/>
                  </a:lnTo>
                  <a:lnTo>
                    <a:pt x="0" y="18"/>
                  </a:lnTo>
                  <a:lnTo>
                    <a:pt x="8" y="5"/>
                  </a:lnTo>
                  <a:lnTo>
                    <a:pt x="95" y="5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50800" y="4838760"/>
              <a:ext cx="41760" cy="44640"/>
            </a:xfrm>
            <a:custGeom>
              <a:avLst/>
              <a:gdLst/>
              <a:ahLst/>
              <a:rect l="0" t="0" r="r" b="b"/>
              <a:pathLst>
                <a:path w="116" h="124">
                  <a:moveTo>
                    <a:pt x="61" y="0"/>
                  </a:moveTo>
                  <a:lnTo>
                    <a:pt x="81" y="6"/>
                  </a:lnTo>
                  <a:lnTo>
                    <a:pt x="102" y="18"/>
                  </a:lnTo>
                  <a:lnTo>
                    <a:pt x="113" y="33"/>
                  </a:lnTo>
                  <a:lnTo>
                    <a:pt x="116" y="60"/>
                  </a:lnTo>
                  <a:lnTo>
                    <a:pt x="113" y="85"/>
                  </a:lnTo>
                  <a:lnTo>
                    <a:pt x="102" y="106"/>
                  </a:lnTo>
                  <a:lnTo>
                    <a:pt x="81" y="118"/>
                  </a:lnTo>
                  <a:lnTo>
                    <a:pt x="61" y="124"/>
                  </a:lnTo>
                  <a:lnTo>
                    <a:pt x="38" y="118"/>
                  </a:lnTo>
                  <a:lnTo>
                    <a:pt x="17" y="106"/>
                  </a:lnTo>
                  <a:lnTo>
                    <a:pt x="5" y="85"/>
                  </a:lnTo>
                  <a:lnTo>
                    <a:pt x="0" y="60"/>
                  </a:lnTo>
                  <a:lnTo>
                    <a:pt x="5" y="33"/>
                  </a:lnTo>
                  <a:lnTo>
                    <a:pt x="17" y="18"/>
                  </a:lnTo>
                  <a:lnTo>
                    <a:pt x="38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003320" y="4822920"/>
              <a:ext cx="12960" cy="32040"/>
            </a:xfrm>
            <a:custGeom>
              <a:avLst/>
              <a:gdLst/>
              <a:ahLst/>
              <a:rect l="0" t="0" r="r" b="b"/>
              <a:pathLst>
                <a:path w="36" h="89">
                  <a:moveTo>
                    <a:pt x="5" y="80"/>
                  </a:moveTo>
                  <a:lnTo>
                    <a:pt x="19" y="77"/>
                  </a:lnTo>
                  <a:lnTo>
                    <a:pt x="1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80"/>
                  </a:lnTo>
                  <a:lnTo>
                    <a:pt x="28" y="89"/>
                  </a:lnTo>
                  <a:lnTo>
                    <a:pt x="10" y="89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3360" y="478008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47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8" y="46"/>
                  </a:lnTo>
                  <a:lnTo>
                    <a:pt x="30" y="51"/>
                  </a:lnTo>
                  <a:lnTo>
                    <a:pt x="38" y="54"/>
                  </a:lnTo>
                  <a:lnTo>
                    <a:pt x="69" y="54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61" y="8"/>
                  </a:lnTo>
                  <a:lnTo>
                    <a:pt x="58" y="5"/>
                  </a:lnTo>
                  <a:lnTo>
                    <a:pt x="5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874800" y="4829040"/>
              <a:ext cx="24120" cy="27360"/>
            </a:xfrm>
            <a:custGeom>
              <a:avLst/>
              <a:gdLst/>
              <a:ahLst/>
              <a:rect l="0" t="0" r="r" b="b"/>
              <a:pathLst>
                <a:path w="67" h="76">
                  <a:moveTo>
                    <a:pt x="34" y="9"/>
                  </a:moveTo>
                  <a:lnTo>
                    <a:pt x="67" y="0"/>
                  </a:lnTo>
                  <a:lnTo>
                    <a:pt x="58" y="9"/>
                  </a:lnTo>
                  <a:lnTo>
                    <a:pt x="43" y="38"/>
                  </a:lnTo>
                  <a:lnTo>
                    <a:pt x="34" y="67"/>
                  </a:lnTo>
                  <a:lnTo>
                    <a:pt x="34" y="73"/>
                  </a:lnTo>
                  <a:lnTo>
                    <a:pt x="0" y="76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876240" y="4776840"/>
              <a:ext cx="24120" cy="25920"/>
            </a:xfrm>
            <a:custGeom>
              <a:avLst/>
              <a:gdLst/>
              <a:ahLst/>
              <a:rect l="0" t="0" r="r" b="b"/>
              <a:pathLst>
                <a:path w="67" h="72">
                  <a:moveTo>
                    <a:pt x="16" y="72"/>
                  </a:moveTo>
                  <a:lnTo>
                    <a:pt x="13" y="69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46"/>
                  </a:lnTo>
                  <a:lnTo>
                    <a:pt x="50" y="29"/>
                  </a:lnTo>
                  <a:lnTo>
                    <a:pt x="56" y="26"/>
                  </a:lnTo>
                  <a:lnTo>
                    <a:pt x="56" y="20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39" y="16"/>
                  </a:lnTo>
                  <a:lnTo>
                    <a:pt x="24" y="34"/>
                  </a:lnTo>
                  <a:lnTo>
                    <a:pt x="13" y="37"/>
                  </a:lnTo>
                  <a:lnTo>
                    <a:pt x="13" y="48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3" y="29"/>
                  </a:lnTo>
                  <a:lnTo>
                    <a:pt x="36" y="8"/>
                  </a:lnTo>
                  <a:lnTo>
                    <a:pt x="45" y="0"/>
                  </a:lnTo>
                  <a:lnTo>
                    <a:pt x="56" y="5"/>
                  </a:lnTo>
                  <a:lnTo>
                    <a:pt x="61" y="16"/>
                  </a:lnTo>
                  <a:lnTo>
                    <a:pt x="67" y="26"/>
                  </a:lnTo>
                  <a:lnTo>
                    <a:pt x="61" y="34"/>
                  </a:lnTo>
                  <a:lnTo>
                    <a:pt x="39" y="58"/>
                  </a:lnTo>
                  <a:lnTo>
                    <a:pt x="24" y="61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98600" y="478008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15" y="0"/>
                  </a:moveTo>
                  <a:lnTo>
                    <a:pt x="58" y="0"/>
                  </a:lnTo>
                  <a:lnTo>
                    <a:pt x="61" y="0"/>
                  </a:lnTo>
                  <a:lnTo>
                    <a:pt x="67" y="8"/>
                  </a:lnTo>
                  <a:lnTo>
                    <a:pt x="67" y="21"/>
                  </a:lnTo>
                  <a:lnTo>
                    <a:pt x="67" y="27"/>
                  </a:lnTo>
                  <a:lnTo>
                    <a:pt x="61" y="33"/>
                  </a:lnTo>
                  <a:lnTo>
                    <a:pt x="49" y="54"/>
                  </a:lnTo>
                  <a:lnTo>
                    <a:pt x="46" y="60"/>
                  </a:lnTo>
                  <a:lnTo>
                    <a:pt x="37" y="63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8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992160" y="4842000"/>
              <a:ext cx="18000" cy="9720"/>
            </a:xfrm>
            <a:custGeom>
              <a:avLst/>
              <a:gdLst/>
              <a:ahLst/>
              <a:rect l="0" t="0" r="r" b="b"/>
              <a:pathLst>
                <a:path w="50" h="27">
                  <a:moveTo>
                    <a:pt x="0" y="0"/>
                  </a:moveTo>
                  <a:lnTo>
                    <a:pt x="50" y="0"/>
                  </a:lnTo>
                  <a:lnTo>
                    <a:pt x="50" y="24"/>
                  </a:lnTo>
                  <a:lnTo>
                    <a:pt x="28" y="27"/>
                  </a:lnTo>
                  <a:lnTo>
                    <a:pt x="22" y="27"/>
                  </a:lnTo>
                  <a:lnTo>
                    <a:pt x="6" y="2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63400" y="4851360"/>
              <a:ext cx="18000" cy="19440"/>
            </a:xfrm>
            <a:custGeom>
              <a:avLst/>
              <a:gdLst/>
              <a:ahLst/>
              <a:rect l="0" t="0" r="r" b="b"/>
              <a:pathLst>
                <a:path w="50" h="54">
                  <a:moveTo>
                    <a:pt x="25" y="0"/>
                  </a:moveTo>
                  <a:lnTo>
                    <a:pt x="34" y="6"/>
                  </a:lnTo>
                  <a:lnTo>
                    <a:pt x="41" y="9"/>
                  </a:lnTo>
                  <a:lnTo>
                    <a:pt x="47" y="19"/>
                  </a:lnTo>
                  <a:lnTo>
                    <a:pt x="50" y="29"/>
                  </a:lnTo>
                  <a:lnTo>
                    <a:pt x="47" y="42"/>
                  </a:lnTo>
                  <a:lnTo>
                    <a:pt x="41" y="45"/>
                  </a:lnTo>
                  <a:lnTo>
                    <a:pt x="34" y="54"/>
                  </a:lnTo>
                  <a:lnTo>
                    <a:pt x="25" y="54"/>
                  </a:lnTo>
                  <a:lnTo>
                    <a:pt x="13" y="54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6" y="9"/>
                  </a:lnTo>
                  <a:lnTo>
                    <a:pt x="13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92120" y="4813200"/>
              <a:ext cx="16200" cy="6840"/>
            </a:xfrm>
            <a:custGeom>
              <a:avLst/>
              <a:gdLst/>
              <a:ahLst/>
              <a:rect l="0" t="0" r="r" b="b"/>
              <a:pathLst>
                <a:path w="45" h="19">
                  <a:moveTo>
                    <a:pt x="45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5" y="1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993600" y="4824360"/>
              <a:ext cx="6840" cy="18000"/>
            </a:xfrm>
            <a:custGeom>
              <a:avLst/>
              <a:gdLst/>
              <a:ahLst/>
              <a:rect l="0" t="0" r="r" b="b"/>
              <a:pathLst>
                <a:path w="19" h="50">
                  <a:moveTo>
                    <a:pt x="0" y="0"/>
                  </a:moveTo>
                  <a:lnTo>
                    <a:pt x="19" y="0"/>
                  </a:lnTo>
                  <a:lnTo>
                    <a:pt x="19" y="50"/>
                  </a:lnTo>
                  <a:lnTo>
                    <a:pt x="0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985680" y="4824360"/>
              <a:ext cx="8280" cy="18000"/>
            </a:xfrm>
            <a:custGeom>
              <a:avLst/>
              <a:gdLst/>
              <a:ahLst/>
              <a:rect l="0" t="0" r="r" b="b"/>
              <a:pathLst>
                <a:path w="23" h="50">
                  <a:moveTo>
                    <a:pt x="23" y="0"/>
                  </a:moveTo>
                  <a:lnTo>
                    <a:pt x="23" y="50"/>
                  </a:lnTo>
                  <a:lnTo>
                    <a:pt x="18" y="5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876240" y="47894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13" y="36"/>
                  </a:moveTo>
                  <a:lnTo>
                    <a:pt x="0" y="27"/>
                  </a:lnTo>
                  <a:lnTo>
                    <a:pt x="13" y="14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5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6" y="11"/>
                  </a:lnTo>
                  <a:lnTo>
                    <a:pt x="30" y="24"/>
                  </a:lnTo>
                  <a:lnTo>
                    <a:pt x="25" y="24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09640" y="4748040"/>
              <a:ext cx="11520" cy="14760"/>
            </a:xfrm>
            <a:custGeom>
              <a:avLst/>
              <a:gdLst/>
              <a:ahLst/>
              <a:rect l="0" t="0" r="r" b="b"/>
              <a:pathLst>
                <a:path w="32" h="41">
                  <a:moveTo>
                    <a:pt x="32" y="41"/>
                  </a:moveTo>
                  <a:lnTo>
                    <a:pt x="26" y="41"/>
                  </a:lnTo>
                  <a:lnTo>
                    <a:pt x="26" y="14"/>
                  </a:lnTo>
                  <a:lnTo>
                    <a:pt x="10" y="41"/>
                  </a:lnTo>
                  <a:lnTo>
                    <a:pt x="0" y="4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3"/>
                  </a:lnTo>
                  <a:lnTo>
                    <a:pt x="32" y="9"/>
                  </a:lnTo>
                  <a:lnTo>
                    <a:pt x="32" y="41"/>
                  </a:lnTo>
                  <a:close/>
                </a:path>
              </a:pathLst>
            </a:custGeom>
            <a:solidFill>
              <a:srgbClr val="f0f0f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826920" y="4819680"/>
              <a:ext cx="12960" cy="5040"/>
            </a:xfrm>
            <a:custGeom>
              <a:avLst/>
              <a:gdLst/>
              <a:ahLst/>
              <a:rect l="0" t="0" r="r" b="b"/>
              <a:pathLst>
                <a:path w="36" h="14">
                  <a:moveTo>
                    <a:pt x="27" y="0"/>
                  </a:moveTo>
                  <a:lnTo>
                    <a:pt x="36" y="0"/>
                  </a:lnTo>
                  <a:lnTo>
                    <a:pt x="36" y="14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1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20720" y="4819680"/>
              <a:ext cx="14760" cy="5040"/>
            </a:xfrm>
            <a:custGeom>
              <a:avLst/>
              <a:gdLst/>
              <a:ahLst/>
              <a:rect l="0" t="0" r="r" b="b"/>
              <a:pathLst>
                <a:path w="41" h="14">
                  <a:moveTo>
                    <a:pt x="35" y="0"/>
                  </a:moveTo>
                  <a:lnTo>
                    <a:pt x="41" y="0"/>
                  </a:lnTo>
                  <a:lnTo>
                    <a:pt x="41" y="14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14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826920" y="4776840"/>
              <a:ext cx="12960" cy="6840"/>
            </a:xfrm>
            <a:custGeom>
              <a:avLst/>
              <a:gdLst/>
              <a:ahLst/>
              <a:rect l="0" t="0" r="r" b="b"/>
              <a:pathLst>
                <a:path w="36" h="19">
                  <a:moveTo>
                    <a:pt x="27" y="0"/>
                  </a:moveTo>
                  <a:lnTo>
                    <a:pt x="36" y="0"/>
                  </a:lnTo>
                  <a:lnTo>
                    <a:pt x="36" y="19"/>
                  </a:ln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20720" y="4776840"/>
              <a:ext cx="14760" cy="6840"/>
            </a:xfrm>
            <a:custGeom>
              <a:avLst/>
              <a:gdLst/>
              <a:ahLst/>
              <a:rect l="0" t="0" r="r" b="b"/>
              <a:pathLst>
                <a:path w="41" h="19">
                  <a:moveTo>
                    <a:pt x="35" y="0"/>
                  </a:moveTo>
                  <a:lnTo>
                    <a:pt x="41" y="0"/>
                  </a:lnTo>
                  <a:lnTo>
                    <a:pt x="41" y="19"/>
                  </a:lnTo>
                  <a:lnTo>
                    <a:pt x="14" y="19"/>
                  </a:lnTo>
                  <a:lnTo>
                    <a:pt x="0" y="9"/>
                  </a:lnTo>
                  <a:lnTo>
                    <a:pt x="14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001880" y="4829040"/>
              <a:ext cx="8280" cy="12960"/>
            </a:xfrm>
            <a:custGeom>
              <a:avLst/>
              <a:gdLst/>
              <a:ahLst/>
              <a:rect l="0" t="0" r="r" b="b"/>
              <a:pathLst>
                <a:path w="23" h="36">
                  <a:moveTo>
                    <a:pt x="23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84160" y="478296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7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36" y="9"/>
                  </a:lnTo>
                  <a:lnTo>
                    <a:pt x="29" y="12"/>
                  </a:lnTo>
                  <a:lnTo>
                    <a:pt x="12" y="30"/>
                  </a:lnTo>
                  <a:lnTo>
                    <a:pt x="6" y="32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79520" y="4772160"/>
              <a:ext cx="3600" cy="11520"/>
            </a:xfrm>
            <a:custGeom>
              <a:avLst/>
              <a:gdLst/>
              <a:ahLst/>
              <a:rect l="0" t="0" r="r" b="b"/>
              <a:pathLst>
                <a:path w="10" h="32">
                  <a:moveTo>
                    <a:pt x="10" y="0"/>
                  </a:moveTo>
                  <a:lnTo>
                    <a:pt x="10" y="32"/>
                  </a:lnTo>
                  <a:lnTo>
                    <a:pt x="0" y="29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0e2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000080" y="482436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27" y="14"/>
                  </a:moveTo>
                  <a:lnTo>
                    <a:pt x="2" y="14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44400" y="479412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27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49160" y="479412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984240" y="479412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13" y="0"/>
                  </a:moveTo>
                  <a:lnTo>
                    <a:pt x="18" y="0"/>
                  </a:lnTo>
                  <a:lnTo>
                    <a:pt x="23" y="6"/>
                  </a:lnTo>
                  <a:lnTo>
                    <a:pt x="18" y="16"/>
                  </a:lnTo>
                  <a:lnTo>
                    <a:pt x="13" y="23"/>
                  </a:lnTo>
                  <a:lnTo>
                    <a:pt x="4" y="16"/>
                  </a:lnTo>
                  <a:lnTo>
                    <a:pt x="0" y="6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993600" y="4822920"/>
              <a:ext cx="9720" cy="1800"/>
            </a:xfrm>
            <a:custGeom>
              <a:avLst/>
              <a:gdLst/>
              <a:ahLst/>
              <a:rect l="0" t="0" r="r" b="b"/>
              <a:pathLst>
                <a:path w="27" h="5">
                  <a:moveTo>
                    <a:pt x="0" y="5"/>
                  </a:moveTo>
                  <a:lnTo>
                    <a:pt x="27" y="0"/>
                  </a:lnTo>
                  <a:lnTo>
                    <a:pt x="2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63400" y="487044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8" y="14"/>
                  </a:moveTo>
                  <a:lnTo>
                    <a:pt x="3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9" y="8"/>
                  </a:lnTo>
                  <a:lnTo>
                    <a:pt x="16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79600" y="48830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0" y="19"/>
                  </a:moveTo>
                  <a:lnTo>
                    <a:pt x="3" y="16"/>
                  </a:lnTo>
                  <a:lnTo>
                    <a:pt x="0" y="8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4" y="3"/>
                  </a:lnTo>
                  <a:lnTo>
                    <a:pt x="14" y="8"/>
                  </a:lnTo>
                  <a:lnTo>
                    <a:pt x="14" y="16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44680" y="486900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11" y="19"/>
                  </a:moveTo>
                  <a:lnTo>
                    <a:pt x="3" y="19"/>
                  </a:lnTo>
                  <a:lnTo>
                    <a:pt x="0" y="8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9" y="8"/>
                  </a:lnTo>
                  <a:lnTo>
                    <a:pt x="16" y="19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60520" y="48830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5" y="19"/>
                  </a:moveTo>
                  <a:lnTo>
                    <a:pt x="2" y="16"/>
                  </a:lnTo>
                  <a:lnTo>
                    <a:pt x="0" y="8"/>
                  </a:lnTo>
                  <a:lnTo>
                    <a:pt x="2" y="3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4" y="8"/>
                  </a:lnTo>
                  <a:lnTo>
                    <a:pt x="11" y="16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92200" y="48690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5" y="19"/>
                  </a:moveTo>
                  <a:lnTo>
                    <a:pt x="0" y="19"/>
                  </a:lnTo>
                  <a:lnTo>
                    <a:pt x="0" y="8"/>
                  </a:lnTo>
                  <a:lnTo>
                    <a:pt x="0" y="3"/>
                  </a:lnTo>
                  <a:lnTo>
                    <a:pt x="5" y="0"/>
                  </a:lnTo>
                  <a:lnTo>
                    <a:pt x="14" y="3"/>
                  </a:lnTo>
                  <a:lnTo>
                    <a:pt x="14" y="8"/>
                  </a:lnTo>
                  <a:lnTo>
                    <a:pt x="14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76360" y="48704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3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81040" y="486396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9" y="14"/>
                  </a:moveTo>
                  <a:lnTo>
                    <a:pt x="6" y="14"/>
                  </a:lnTo>
                  <a:lnTo>
                    <a:pt x="0" y="6"/>
                  </a:lnTo>
                  <a:lnTo>
                    <a:pt x="6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19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58720" y="486396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5" y="19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3"/>
                  </a:lnTo>
                  <a:lnTo>
                    <a:pt x="5" y="0"/>
                  </a:lnTo>
                  <a:lnTo>
                    <a:pt x="8" y="3"/>
                  </a:lnTo>
                  <a:lnTo>
                    <a:pt x="10" y="8"/>
                  </a:lnTo>
                  <a:lnTo>
                    <a:pt x="8" y="16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57280" y="485460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8" y="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79600" y="483552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0" y="0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63400" y="484668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8" y="0"/>
                  </a:moveTo>
                  <a:lnTo>
                    <a:pt x="16" y="0"/>
                  </a:lnTo>
                  <a:lnTo>
                    <a:pt x="19" y="10"/>
                  </a:lnTo>
                  <a:lnTo>
                    <a:pt x="16" y="14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60520" y="483552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5" y="0"/>
                  </a:moveTo>
                  <a:lnTo>
                    <a:pt x="10" y="0"/>
                  </a:lnTo>
                  <a:lnTo>
                    <a:pt x="10" y="3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44680" y="484812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11" y="0"/>
                  </a:moveTo>
                  <a:lnTo>
                    <a:pt x="16" y="6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1" y="19"/>
                  </a:lnTo>
                  <a:lnTo>
                    <a:pt x="3" y="12"/>
                  </a:lnTo>
                  <a:lnTo>
                    <a:pt x="0" y="9"/>
                  </a:lnTo>
                  <a:lnTo>
                    <a:pt x="3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74560" y="484668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6" y="0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92200" y="484812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5" y="0"/>
                  </a:moveTo>
                  <a:lnTo>
                    <a:pt x="14" y="6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82480" y="485460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3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971640" y="481968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58" y="63"/>
                  </a:moveTo>
                  <a:lnTo>
                    <a:pt x="38" y="63"/>
                  </a:lnTo>
                  <a:lnTo>
                    <a:pt x="25" y="34"/>
                  </a:lnTo>
                  <a:lnTo>
                    <a:pt x="8" y="12"/>
                  </a:lnTo>
                  <a:lnTo>
                    <a:pt x="0" y="0"/>
                  </a:lnTo>
                  <a:lnTo>
                    <a:pt x="38" y="12"/>
                  </a:lnTo>
                  <a:lnTo>
                    <a:pt x="38" y="34"/>
                  </a:lnTo>
                  <a:lnTo>
                    <a:pt x="58" y="63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905040" y="4829040"/>
              <a:ext cx="65520" cy="68760"/>
            </a:xfrm>
            <a:custGeom>
              <a:avLst/>
              <a:gdLst/>
              <a:ahLst/>
              <a:rect l="0" t="0" r="r" b="b"/>
              <a:pathLst>
                <a:path w="182" h="191">
                  <a:moveTo>
                    <a:pt x="91" y="0"/>
                  </a:moveTo>
                  <a:lnTo>
                    <a:pt x="108" y="5"/>
                  </a:lnTo>
                  <a:lnTo>
                    <a:pt x="129" y="8"/>
                  </a:lnTo>
                  <a:lnTo>
                    <a:pt x="141" y="17"/>
                  </a:lnTo>
                  <a:lnTo>
                    <a:pt x="156" y="29"/>
                  </a:lnTo>
                  <a:lnTo>
                    <a:pt x="165" y="40"/>
                  </a:lnTo>
                  <a:lnTo>
                    <a:pt x="176" y="59"/>
                  </a:lnTo>
                  <a:lnTo>
                    <a:pt x="182" y="76"/>
                  </a:lnTo>
                  <a:lnTo>
                    <a:pt x="182" y="97"/>
                  </a:lnTo>
                  <a:lnTo>
                    <a:pt x="182" y="114"/>
                  </a:lnTo>
                  <a:lnTo>
                    <a:pt x="176" y="132"/>
                  </a:lnTo>
                  <a:lnTo>
                    <a:pt x="165" y="144"/>
                  </a:lnTo>
                  <a:lnTo>
                    <a:pt x="156" y="162"/>
                  </a:lnTo>
                  <a:lnTo>
                    <a:pt x="141" y="174"/>
                  </a:lnTo>
                  <a:lnTo>
                    <a:pt x="129" y="182"/>
                  </a:lnTo>
                  <a:lnTo>
                    <a:pt x="108" y="185"/>
                  </a:lnTo>
                  <a:lnTo>
                    <a:pt x="91" y="191"/>
                  </a:lnTo>
                  <a:lnTo>
                    <a:pt x="76" y="185"/>
                  </a:lnTo>
                  <a:lnTo>
                    <a:pt x="56" y="182"/>
                  </a:lnTo>
                  <a:lnTo>
                    <a:pt x="43" y="174"/>
                  </a:lnTo>
                  <a:lnTo>
                    <a:pt x="26" y="162"/>
                  </a:lnTo>
                  <a:lnTo>
                    <a:pt x="20" y="144"/>
                  </a:lnTo>
                  <a:lnTo>
                    <a:pt x="8" y="132"/>
                  </a:lnTo>
                  <a:lnTo>
                    <a:pt x="2" y="114"/>
                  </a:lnTo>
                  <a:lnTo>
                    <a:pt x="0" y="97"/>
                  </a:lnTo>
                  <a:lnTo>
                    <a:pt x="2" y="76"/>
                  </a:lnTo>
                  <a:lnTo>
                    <a:pt x="8" y="59"/>
                  </a:lnTo>
                  <a:lnTo>
                    <a:pt x="20" y="40"/>
                  </a:lnTo>
                  <a:lnTo>
                    <a:pt x="26" y="29"/>
                  </a:lnTo>
                  <a:lnTo>
                    <a:pt x="43" y="17"/>
                  </a:lnTo>
                  <a:lnTo>
                    <a:pt x="56" y="8"/>
                  </a:lnTo>
                  <a:lnTo>
                    <a:pt x="76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1e1e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917640" y="4842000"/>
              <a:ext cx="41760" cy="44640"/>
            </a:xfrm>
            <a:custGeom>
              <a:avLst/>
              <a:gdLst/>
              <a:ahLst/>
              <a:rect l="0" t="0" r="r" b="b"/>
              <a:pathLst>
                <a:path w="116" h="124">
                  <a:moveTo>
                    <a:pt x="56" y="0"/>
                  </a:moveTo>
                  <a:lnTo>
                    <a:pt x="82" y="3"/>
                  </a:lnTo>
                  <a:lnTo>
                    <a:pt x="97" y="15"/>
                  </a:lnTo>
                  <a:lnTo>
                    <a:pt x="108" y="36"/>
                  </a:lnTo>
                  <a:lnTo>
                    <a:pt x="116" y="64"/>
                  </a:lnTo>
                  <a:lnTo>
                    <a:pt x="108" y="88"/>
                  </a:lnTo>
                  <a:lnTo>
                    <a:pt x="97" y="103"/>
                  </a:lnTo>
                  <a:lnTo>
                    <a:pt x="82" y="118"/>
                  </a:lnTo>
                  <a:lnTo>
                    <a:pt x="56" y="124"/>
                  </a:lnTo>
                  <a:lnTo>
                    <a:pt x="34" y="118"/>
                  </a:lnTo>
                  <a:lnTo>
                    <a:pt x="19" y="103"/>
                  </a:lnTo>
                  <a:lnTo>
                    <a:pt x="8" y="88"/>
                  </a:lnTo>
                  <a:lnTo>
                    <a:pt x="0" y="64"/>
                  </a:lnTo>
                  <a:lnTo>
                    <a:pt x="8" y="36"/>
                  </a:lnTo>
                  <a:lnTo>
                    <a:pt x="19" y="15"/>
                  </a:lnTo>
                  <a:lnTo>
                    <a:pt x="34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930240" y="48560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23" y="0"/>
                  </a:moveTo>
                  <a:lnTo>
                    <a:pt x="32" y="0"/>
                  </a:lnTo>
                  <a:lnTo>
                    <a:pt x="41" y="8"/>
                  </a:lnTo>
                  <a:lnTo>
                    <a:pt x="44" y="18"/>
                  </a:lnTo>
                  <a:lnTo>
                    <a:pt x="50" y="26"/>
                  </a:lnTo>
                  <a:lnTo>
                    <a:pt x="44" y="32"/>
                  </a:lnTo>
                  <a:lnTo>
                    <a:pt x="41" y="41"/>
                  </a:lnTo>
                  <a:lnTo>
                    <a:pt x="32" y="4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8" y="41"/>
                  </a:lnTo>
                  <a:lnTo>
                    <a:pt x="5" y="32"/>
                  </a:lnTo>
                  <a:lnTo>
                    <a:pt x="0" y="26"/>
                  </a:lnTo>
                  <a:lnTo>
                    <a:pt x="5" y="18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946080" y="488628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6" y="19"/>
                  </a:moveTo>
                  <a:lnTo>
                    <a:pt x="4" y="16"/>
                  </a:lnTo>
                  <a:lnTo>
                    <a:pt x="0" y="9"/>
                  </a:lnTo>
                  <a:lnTo>
                    <a:pt x="4" y="6"/>
                  </a:lnTo>
                  <a:lnTo>
                    <a:pt x="6" y="0"/>
                  </a:lnTo>
                  <a:lnTo>
                    <a:pt x="9" y="6"/>
                  </a:lnTo>
                  <a:lnTo>
                    <a:pt x="14" y="9"/>
                  </a:lnTo>
                  <a:lnTo>
                    <a:pt x="9" y="16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932040" y="487512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3" y="10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958680" y="4870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0" y="19"/>
                  </a:moveTo>
                  <a:lnTo>
                    <a:pt x="3" y="16"/>
                  </a:lnTo>
                  <a:lnTo>
                    <a:pt x="0" y="9"/>
                  </a:lnTo>
                  <a:lnTo>
                    <a:pt x="3" y="6"/>
                  </a:lnTo>
                  <a:lnTo>
                    <a:pt x="10" y="0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6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925560" y="488628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9" y="19"/>
                  </a:moveTo>
                  <a:lnTo>
                    <a:pt x="2" y="16"/>
                  </a:lnTo>
                  <a:lnTo>
                    <a:pt x="0" y="9"/>
                  </a:lnTo>
                  <a:lnTo>
                    <a:pt x="2" y="6"/>
                  </a:lnTo>
                  <a:lnTo>
                    <a:pt x="9" y="0"/>
                  </a:lnTo>
                  <a:lnTo>
                    <a:pt x="12" y="6"/>
                  </a:lnTo>
                  <a:lnTo>
                    <a:pt x="19" y="9"/>
                  </a:lnTo>
                  <a:lnTo>
                    <a:pt x="12" y="1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949320" y="486720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8" y="10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923760" y="486720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6" y="10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941400" y="487512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0" y="10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911160" y="487044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9" y="19"/>
                  </a:moveTo>
                  <a:lnTo>
                    <a:pt x="6" y="16"/>
                  </a:lnTo>
                  <a:lnTo>
                    <a:pt x="0" y="9"/>
                  </a:lnTo>
                  <a:lnTo>
                    <a:pt x="6" y="6"/>
                  </a:lnTo>
                  <a:lnTo>
                    <a:pt x="9" y="0"/>
                  </a:lnTo>
                  <a:lnTo>
                    <a:pt x="12" y="6"/>
                  </a:lnTo>
                  <a:lnTo>
                    <a:pt x="19" y="9"/>
                  </a:lnTo>
                  <a:lnTo>
                    <a:pt x="12" y="1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911160" y="485136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9" y="0"/>
                  </a:moveTo>
                  <a:lnTo>
                    <a:pt x="12" y="2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9" y="14"/>
                  </a:lnTo>
                  <a:lnTo>
                    <a:pt x="6" y="9"/>
                  </a:lnTo>
                  <a:lnTo>
                    <a:pt x="0" y="6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941400" y="484812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0" y="0"/>
                  </a:moveTo>
                  <a:lnTo>
                    <a:pt x="14" y="6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0" y="19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958680" y="485136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0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0" y="14"/>
                  </a:lnTo>
                  <a:lnTo>
                    <a:pt x="3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946080" y="483696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6" y="0"/>
                  </a:moveTo>
                  <a:lnTo>
                    <a:pt x="9" y="2"/>
                  </a:lnTo>
                  <a:lnTo>
                    <a:pt x="14" y="6"/>
                  </a:lnTo>
                  <a:lnTo>
                    <a:pt x="9" y="9"/>
                  </a:lnTo>
                  <a:lnTo>
                    <a:pt x="6" y="14"/>
                  </a:lnTo>
                  <a:lnTo>
                    <a:pt x="4" y="9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923760" y="48560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3" y="0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3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932040" y="484812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3" y="0"/>
                  </a:moveTo>
                  <a:lnTo>
                    <a:pt x="14" y="6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925560" y="483696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9" y="0"/>
                  </a:moveTo>
                  <a:lnTo>
                    <a:pt x="12" y="2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9" y="14"/>
                  </a:lnTo>
                  <a:lnTo>
                    <a:pt x="2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949320" y="48560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8" y="0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8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85960" y="4794120"/>
              <a:ext cx="116280" cy="38520"/>
            </a:xfrm>
            <a:custGeom>
              <a:avLst/>
              <a:gdLst/>
              <a:ahLst/>
              <a:rect l="0" t="0" r="r" b="b"/>
              <a:pathLst>
                <a:path w="323" h="107">
                  <a:moveTo>
                    <a:pt x="323" y="61"/>
                  </a:moveTo>
                  <a:lnTo>
                    <a:pt x="312" y="66"/>
                  </a:lnTo>
                  <a:lnTo>
                    <a:pt x="306" y="87"/>
                  </a:lnTo>
                  <a:lnTo>
                    <a:pt x="280" y="87"/>
                  </a:lnTo>
                  <a:lnTo>
                    <a:pt x="240" y="75"/>
                  </a:lnTo>
                  <a:lnTo>
                    <a:pt x="226" y="66"/>
                  </a:lnTo>
                  <a:lnTo>
                    <a:pt x="202" y="55"/>
                  </a:lnTo>
                  <a:lnTo>
                    <a:pt x="173" y="43"/>
                  </a:lnTo>
                  <a:lnTo>
                    <a:pt x="144" y="43"/>
                  </a:lnTo>
                  <a:lnTo>
                    <a:pt x="118" y="43"/>
                  </a:lnTo>
                  <a:lnTo>
                    <a:pt x="88" y="55"/>
                  </a:lnTo>
                  <a:lnTo>
                    <a:pt x="61" y="66"/>
                  </a:lnTo>
                  <a:lnTo>
                    <a:pt x="40" y="87"/>
                  </a:lnTo>
                  <a:lnTo>
                    <a:pt x="32" y="99"/>
                  </a:lnTo>
                  <a:lnTo>
                    <a:pt x="0" y="107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40" y="22"/>
                  </a:lnTo>
                  <a:lnTo>
                    <a:pt x="49" y="20"/>
                  </a:lnTo>
                  <a:lnTo>
                    <a:pt x="55" y="14"/>
                  </a:lnTo>
                  <a:lnTo>
                    <a:pt x="64" y="11"/>
                  </a:lnTo>
                  <a:lnTo>
                    <a:pt x="76" y="5"/>
                  </a:lnTo>
                  <a:lnTo>
                    <a:pt x="88" y="2"/>
                  </a:lnTo>
                  <a:lnTo>
                    <a:pt x="100" y="2"/>
                  </a:lnTo>
                  <a:lnTo>
                    <a:pt x="112" y="0"/>
                  </a:lnTo>
                  <a:lnTo>
                    <a:pt x="129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4" y="2"/>
                  </a:lnTo>
                  <a:lnTo>
                    <a:pt x="205" y="2"/>
                  </a:lnTo>
                  <a:lnTo>
                    <a:pt x="217" y="5"/>
                  </a:lnTo>
                  <a:lnTo>
                    <a:pt x="223" y="5"/>
                  </a:lnTo>
                  <a:lnTo>
                    <a:pt x="229" y="11"/>
                  </a:lnTo>
                  <a:lnTo>
                    <a:pt x="238" y="11"/>
                  </a:lnTo>
                  <a:lnTo>
                    <a:pt x="240" y="14"/>
                  </a:lnTo>
                  <a:lnTo>
                    <a:pt x="250" y="20"/>
                  </a:lnTo>
                  <a:lnTo>
                    <a:pt x="256" y="22"/>
                  </a:lnTo>
                  <a:lnTo>
                    <a:pt x="262" y="22"/>
                  </a:lnTo>
                  <a:lnTo>
                    <a:pt x="268" y="25"/>
                  </a:lnTo>
                  <a:lnTo>
                    <a:pt x="282" y="61"/>
                  </a:lnTo>
                  <a:lnTo>
                    <a:pt x="323" y="61"/>
                  </a:lnTo>
                  <a:close/>
                </a:path>
              </a:pathLst>
            </a:custGeom>
            <a:solidFill>
              <a:srgbClr val="bd855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941400" y="49100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941400" y="49100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573120" y="480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573120" y="480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>
              <a:off x="579600" y="480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V="1">
              <a:off x="579600" y="480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577800" y="49086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577800" y="49086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577800" y="480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577800" y="480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938160" y="4805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938160" y="4805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941400" y="4805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941400" y="4805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941400" y="480996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941400" y="480996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V="1">
              <a:off x="584280" y="480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584280" y="48020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9120" y="485784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9120" y="485784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77800" y="491004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77800" y="491004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984240" y="48672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984240" y="48672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80920" y="48704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80920" y="48704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H="1">
              <a:off x="880920" y="48672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H="1">
              <a:off x="880920" y="48672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H="1">
              <a:off x="984240" y="48704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984240" y="48704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5880" y="48690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15880" y="48690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619200" y="485784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>
              <a:off x="619200" y="485784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982800" y="4876920"/>
              <a:ext cx="2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>
              <a:off x="982800" y="4876920"/>
              <a:ext cx="2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568440" y="48020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568440" y="48020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934920" y="49118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H="1">
              <a:off x="934920" y="49118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614520" y="4875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>
              <a:off x="614520" y="4875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82720" y="48769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82720" y="48769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V="1">
              <a:off x="946080" y="49100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946080" y="49100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569880" y="49068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569880" y="49068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V="1">
              <a:off x="950760" y="4805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V="1">
              <a:off x="950760" y="4805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 flipV="1">
              <a:off x="950760" y="49100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V="1">
              <a:off x="950760" y="49100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936720" y="4805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V="1">
              <a:off x="936720" y="4805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 flipH="1">
              <a:off x="614520" y="48690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H="1">
              <a:off x="614520" y="48690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V="1">
              <a:off x="936720" y="49100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936720" y="49100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982800" y="48578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982800" y="48578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15880" y="4875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15880" y="4875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>
              <a:off x="619200" y="485136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H="1">
              <a:off x="619200" y="485136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V="1">
              <a:off x="573120" y="490680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573120" y="490680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V="1">
              <a:off x="579600" y="490680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579600" y="490680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82720" y="48798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82720" y="48798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952560" y="48085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V="1">
              <a:off x="952560" y="48085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927000" y="4809960"/>
              <a:ext cx="3240" cy="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927000" y="4809960"/>
              <a:ext cx="3240" cy="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982800" y="4875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>
              <a:off x="982800" y="4875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17680" y="487836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17680" y="487836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>
              <a:off x="880920" y="48625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H="1">
              <a:off x="880920" y="48625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>
              <a:off x="882720" y="48560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882720" y="48560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>
              <a:off x="519120" y="486720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H="1">
              <a:off x="519120" y="486720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14520" y="48610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14520" y="48610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515880" y="48610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515880" y="48610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19200" y="486720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19200" y="486720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984240" y="48625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984240" y="48625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80920" y="4875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80920" y="4875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882720" y="48578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882720" y="48578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20560" y="485136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20560" y="485136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982800" y="487980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982800" y="487980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565200" y="48052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565200" y="48052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614520" y="487836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H="1">
              <a:off x="614520" y="487836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587520" y="48052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587520" y="48052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517680" y="485460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 flipH="1">
              <a:off x="517680" y="485460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 flipV="1">
              <a:off x="928800" y="49086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 flipV="1">
              <a:off x="928800" y="49086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14520" y="48546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14520" y="48546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954000" y="49086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954000" y="49086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949320" y="49118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949320" y="49118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23800" y="484200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23800" y="484200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H="1">
              <a:off x="614520" y="488160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H="1">
              <a:off x="614520" y="488160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982800" y="48560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982800" y="48560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22360" y="484344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22360" y="484344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87400" y="484812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87400" y="484812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19120" y="48816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19120" y="48816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84160" y="4884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84160" y="4884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85720" y="490860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85720" y="490860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57280" y="48099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57280" y="48099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V="1">
              <a:off x="561960" y="49053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V="1">
              <a:off x="561960" y="49053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585720" y="48099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585720" y="48099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V="1">
              <a:off x="587520" y="49068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587520" y="49068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927000" y="491184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H="1">
              <a:off x="927000" y="491184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 flipV="1">
              <a:off x="565200" y="4906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H="1" flipV="1">
              <a:off x="565200" y="4906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V="1">
              <a:off x="928800" y="4808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V="1">
              <a:off x="928800" y="4808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981000" y="48513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981000" y="48513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 flipV="1">
              <a:off x="954000" y="480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 flipV="1">
              <a:off x="954000" y="480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H="1">
              <a:off x="981000" y="4884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H="1">
              <a:off x="981000" y="4884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H="1">
              <a:off x="617400" y="4843440"/>
              <a:ext cx="50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617400" y="4843440"/>
              <a:ext cx="50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957240" y="4906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V="1">
              <a:off x="957240" y="4906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 flipV="1">
              <a:off x="923760" y="49068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923760" y="49068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H="1">
              <a:off x="588960" y="480996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588960" y="480996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54040" y="4809960"/>
              <a:ext cx="14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54040" y="4809960"/>
              <a:ext cx="14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979560" y="4848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979560" y="4848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12720" y="4846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12720" y="4846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19120" y="488484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19120" y="488484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554040" y="49086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H="1">
              <a:off x="554040" y="49086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923760" y="48099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V="1">
              <a:off x="923760" y="48099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88960" y="49086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88960" y="49086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550800" y="490680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550800" y="490680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92200" y="4906800"/>
              <a:ext cx="14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92200" y="4906800"/>
              <a:ext cx="14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H="1">
              <a:off x="885960" y="484812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H="1">
              <a:off x="885960" y="484812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 flipV="1">
              <a:off x="958680" y="48099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 flipV="1">
              <a:off x="958680" y="48099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957240" y="49100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957240" y="49100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 flipV="1">
              <a:off x="961920" y="48099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961920" y="48099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920880" y="48099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920880" y="48099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917640" y="4910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H="1">
              <a:off x="917640" y="4910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50800" y="481320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50800" y="481320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H="1">
              <a:off x="592200" y="4813200"/>
              <a:ext cx="14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H="1">
              <a:off x="592200" y="4813200"/>
              <a:ext cx="14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H="1">
              <a:off x="960480" y="48164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H="1">
              <a:off x="960480" y="48164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23800" y="48369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23800" y="48369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912960" y="4816440"/>
              <a:ext cx="28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912960" y="4816440"/>
              <a:ext cx="28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46120" y="4813200"/>
              <a:ext cx="468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46120" y="4813200"/>
              <a:ext cx="468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95440" y="481320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95440" y="481320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546120" y="490536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546120" y="490536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981000" y="488628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981000" y="488628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523800" y="48830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523800" y="48830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92200" y="49053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92200" y="49053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 flipV="1">
              <a:off x="614520" y="4879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H="1" flipV="1">
              <a:off x="614520" y="4879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979560" y="48880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V="1">
              <a:off x="979560" y="48880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960480" y="490860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960480" y="490860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H="1">
              <a:off x="914400" y="49086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H="1">
              <a:off x="914400" y="49086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H="1">
              <a:off x="981000" y="4838760"/>
              <a:ext cx="64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981000" y="4838760"/>
              <a:ext cx="64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614520" y="483696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H="1">
              <a:off x="614520" y="483696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H="1">
              <a:off x="890640" y="4886280"/>
              <a:ext cx="612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>
              <a:off x="890640" y="4886280"/>
              <a:ext cx="612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90640" y="4838760"/>
              <a:ext cx="612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90640" y="4838760"/>
              <a:ext cx="612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H="1" flipV="1">
              <a:off x="885960" y="4888080"/>
              <a:ext cx="2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H="1" flipV="1">
              <a:off x="885960" y="4888080"/>
              <a:ext cx="2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14520" y="488304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14520" y="488304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H="1">
              <a:off x="892080" y="488952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892080" y="488952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979560" y="488952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979560" y="488952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H="1">
              <a:off x="612720" y="48355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H="1">
              <a:off x="612720" y="48355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25600" y="483552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25600" y="483552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H="1">
              <a:off x="979560" y="483696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979560" y="483696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12720" y="488628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12720" y="488628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H="1">
              <a:off x="542880" y="490392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H="1">
              <a:off x="542880" y="490392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H="1">
              <a:off x="525600" y="488628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H="1">
              <a:off x="525600" y="488628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963720" y="4905360"/>
              <a:ext cx="32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963720" y="4905360"/>
              <a:ext cx="32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96880" y="490392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96880" y="490392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92080" y="483696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92080" y="483696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H="1">
              <a:off x="911160" y="4905360"/>
              <a:ext cx="32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H="1">
              <a:off x="911160" y="4905360"/>
              <a:ext cx="32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H="1">
              <a:off x="596880" y="48164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H="1">
              <a:off x="596880" y="48164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42880" y="48164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42880" y="48164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963720" y="4818240"/>
              <a:ext cx="468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H="1">
              <a:off x="963720" y="4818240"/>
              <a:ext cx="468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909720" y="4818240"/>
              <a:ext cx="468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909720" y="4818240"/>
              <a:ext cx="468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523800" y="48369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H="1">
              <a:off x="523800" y="48369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H="1">
              <a:off x="977760" y="4832280"/>
              <a:ext cx="64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H="1">
              <a:off x="977760" y="4832280"/>
              <a:ext cx="64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08040" y="48369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08040" y="48369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93880" y="4832280"/>
              <a:ext cx="612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93880" y="4832280"/>
              <a:ext cx="612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H="1">
              <a:off x="976320" y="482904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976320" y="482904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H="1">
              <a:off x="906480" y="490392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>
              <a:off x="906480" y="490392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971640" y="49006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V="1">
              <a:off x="971640" y="49006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>
              <a:off x="530280" y="489276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H="1">
              <a:off x="530280" y="489276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H="1">
              <a:off x="896760" y="489420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H="1">
              <a:off x="896760" y="489420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06600" y="483228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6600" y="483228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09480" y="48927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09480" y="48927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41440" y="481824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1440" y="481824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H="1">
              <a:off x="598320" y="4818240"/>
              <a:ext cx="504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598320" y="4818240"/>
              <a:ext cx="504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98320" y="4902120"/>
              <a:ext cx="50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98320" y="4902120"/>
              <a:ext cx="50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30280" y="48290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30280" y="48290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96760" y="482904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96760" y="482904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974880" y="489420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974880" y="489420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>
              <a:off x="541440" y="49021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 flipH="1">
              <a:off x="541440" y="49021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906480" y="481968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906480" y="481968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528480" y="488952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528480" y="488952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 flipH="1">
              <a:off x="966960" y="481968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966960" y="481968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H="1" flipV="1">
              <a:off x="890640" y="489600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 flipV="1">
              <a:off x="890640" y="489600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H="1">
              <a:off x="538200" y="489888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H="1">
              <a:off x="538200" y="489888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900000" y="4824360"/>
              <a:ext cx="50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900000" y="4824360"/>
              <a:ext cx="50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01560" y="489888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01560" y="489888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H="1">
              <a:off x="977760" y="489276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977760" y="489276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34960" y="482292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34960" y="482292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H="1">
              <a:off x="971640" y="482436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H="1">
              <a:off x="971640" y="482436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01560" y="48276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01560" y="48276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 flipV="1">
              <a:off x="611280" y="488952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 flipV="1">
              <a:off x="611280" y="488952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603360" y="481968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>
              <a:off x="603360" y="481968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38200" y="481968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38200" y="481968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>
              <a:off x="903240" y="490212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>
              <a:off x="903240" y="490212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608040" y="482436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H="1">
              <a:off x="608040" y="482436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969840" y="49021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969840" y="49021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900000" y="482760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900000" y="482760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31720" y="482436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31720" y="482436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>
              <a:off x="973080" y="482760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973080" y="482760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>
              <a:off x="969840" y="48229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H="1">
              <a:off x="969840" y="48229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903240" y="482292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903240" y="482292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533520" y="489420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533520" y="489420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H="1">
              <a:off x="900000" y="48974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H="1">
              <a:off x="900000" y="48974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3360" y="489744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03360" y="489744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H="1">
              <a:off x="534960" y="489744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H="1">
              <a:off x="534960" y="489744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H="1">
              <a:off x="901800" y="4898880"/>
              <a:ext cx="468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901800" y="4898880"/>
              <a:ext cx="468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971640" y="489888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971640" y="489888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973080" y="489744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973080" y="489744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08040" y="489420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08040" y="489420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0" name=""/>
          <p:cNvGrpSpPr/>
          <p:nvPr/>
        </p:nvGrpSpPr>
        <p:grpSpPr>
          <a:xfrm>
            <a:off x="7756560" y="3154320"/>
            <a:ext cx="1077840" cy="1825560"/>
            <a:chOff x="7756560" y="3154320"/>
            <a:chExt cx="1077840" cy="1825560"/>
          </a:xfrm>
        </p:grpSpPr>
        <p:sp>
          <p:nvSpPr>
            <p:cNvPr id="3071" name=""/>
            <p:cNvSpPr txBox="1"/>
            <p:nvPr/>
          </p:nvSpPr>
          <p:spPr>
            <a:xfrm>
              <a:off x="7756560" y="4599000"/>
              <a:ext cx="107784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loitation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sion Nod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 txBox="1"/>
            <p:nvPr/>
          </p:nvSpPr>
          <p:spPr>
            <a:xfrm>
              <a:off x="7888320" y="3622680"/>
              <a:ext cx="94464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ion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3" name="" descr=""/>
            <p:cNvPicPr/>
            <p:nvPr/>
          </p:nvPicPr>
          <p:blipFill>
            <a:blip r:embed="rId14"/>
            <a:stretch/>
          </p:blipFill>
          <p:spPr>
            <a:xfrm>
              <a:off x="8291520" y="4202280"/>
              <a:ext cx="349200" cy="38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4" name=""/>
            <p:cNvGrpSpPr/>
            <p:nvPr/>
          </p:nvGrpSpPr>
          <p:grpSpPr>
            <a:xfrm>
              <a:off x="8123400" y="3448080"/>
              <a:ext cx="534960" cy="217800"/>
              <a:chOff x="8123400" y="3448080"/>
              <a:chExt cx="534960" cy="217800"/>
            </a:xfrm>
          </p:grpSpPr>
          <p:sp>
            <p:nvSpPr>
              <p:cNvPr id="3075" name=""/>
              <p:cNvSpPr/>
              <p:nvPr/>
            </p:nvSpPr>
            <p:spPr>
              <a:xfrm>
                <a:off x="8126280" y="3448080"/>
                <a:ext cx="368640" cy="162360"/>
              </a:xfrm>
              <a:custGeom>
                <a:avLst/>
                <a:gdLst/>
                <a:ahLst/>
                <a:rect l="0" t="0" r="r" b="b"/>
                <a:pathLst>
                  <a:path w="1024" h="451">
                    <a:moveTo>
                      <a:pt x="532" y="0"/>
                    </a:moveTo>
                    <a:lnTo>
                      <a:pt x="969" y="0"/>
                    </a:lnTo>
                    <a:lnTo>
                      <a:pt x="972" y="2"/>
                    </a:lnTo>
                    <a:lnTo>
                      <a:pt x="980" y="2"/>
                    </a:lnTo>
                    <a:lnTo>
                      <a:pt x="983" y="2"/>
                    </a:lnTo>
                    <a:lnTo>
                      <a:pt x="989" y="8"/>
                    </a:lnTo>
                    <a:lnTo>
                      <a:pt x="992" y="11"/>
                    </a:lnTo>
                    <a:lnTo>
                      <a:pt x="992" y="17"/>
                    </a:lnTo>
                    <a:lnTo>
                      <a:pt x="995" y="23"/>
                    </a:lnTo>
                    <a:lnTo>
                      <a:pt x="1012" y="145"/>
                    </a:lnTo>
                    <a:lnTo>
                      <a:pt x="1024" y="165"/>
                    </a:lnTo>
                    <a:lnTo>
                      <a:pt x="1024" y="221"/>
                    </a:lnTo>
                    <a:lnTo>
                      <a:pt x="1012" y="221"/>
                    </a:lnTo>
                    <a:lnTo>
                      <a:pt x="1012" y="451"/>
                    </a:lnTo>
                    <a:lnTo>
                      <a:pt x="524" y="451"/>
                    </a:lnTo>
                    <a:lnTo>
                      <a:pt x="508" y="451"/>
                    </a:lnTo>
                    <a:lnTo>
                      <a:pt x="494" y="451"/>
                    </a:lnTo>
                    <a:lnTo>
                      <a:pt x="479" y="448"/>
                    </a:lnTo>
                    <a:lnTo>
                      <a:pt x="462" y="442"/>
                    </a:lnTo>
                    <a:lnTo>
                      <a:pt x="447" y="440"/>
                    </a:lnTo>
                    <a:lnTo>
                      <a:pt x="436" y="431"/>
                    </a:lnTo>
                    <a:lnTo>
                      <a:pt x="427" y="422"/>
                    </a:lnTo>
                    <a:lnTo>
                      <a:pt x="419" y="410"/>
                    </a:lnTo>
                    <a:lnTo>
                      <a:pt x="416" y="401"/>
                    </a:lnTo>
                    <a:lnTo>
                      <a:pt x="413" y="390"/>
                    </a:lnTo>
                    <a:lnTo>
                      <a:pt x="375" y="315"/>
                    </a:lnTo>
                    <a:lnTo>
                      <a:pt x="375" y="312"/>
                    </a:lnTo>
                    <a:lnTo>
                      <a:pt x="445" y="312"/>
                    </a:lnTo>
                    <a:lnTo>
                      <a:pt x="462" y="366"/>
                    </a:lnTo>
                    <a:lnTo>
                      <a:pt x="462" y="369"/>
                    </a:lnTo>
                    <a:lnTo>
                      <a:pt x="468" y="375"/>
                    </a:lnTo>
                    <a:lnTo>
                      <a:pt x="471" y="375"/>
                    </a:lnTo>
                    <a:lnTo>
                      <a:pt x="476" y="378"/>
                    </a:lnTo>
                    <a:lnTo>
                      <a:pt x="479" y="381"/>
                    </a:lnTo>
                    <a:lnTo>
                      <a:pt x="482" y="387"/>
                    </a:lnTo>
                    <a:lnTo>
                      <a:pt x="488" y="387"/>
                    </a:lnTo>
                    <a:lnTo>
                      <a:pt x="494" y="387"/>
                    </a:lnTo>
                    <a:lnTo>
                      <a:pt x="628" y="387"/>
                    </a:lnTo>
                    <a:lnTo>
                      <a:pt x="642" y="401"/>
                    </a:lnTo>
                    <a:lnTo>
                      <a:pt x="778" y="401"/>
                    </a:lnTo>
                    <a:lnTo>
                      <a:pt x="792" y="387"/>
                    </a:lnTo>
                    <a:lnTo>
                      <a:pt x="963" y="387"/>
                    </a:lnTo>
                    <a:lnTo>
                      <a:pt x="972" y="387"/>
                    </a:lnTo>
                    <a:lnTo>
                      <a:pt x="980" y="378"/>
                    </a:lnTo>
                    <a:lnTo>
                      <a:pt x="983" y="375"/>
                    </a:lnTo>
                    <a:lnTo>
                      <a:pt x="983" y="366"/>
                    </a:lnTo>
                    <a:lnTo>
                      <a:pt x="983" y="348"/>
                    </a:lnTo>
                    <a:lnTo>
                      <a:pt x="992" y="348"/>
                    </a:lnTo>
                    <a:lnTo>
                      <a:pt x="992" y="333"/>
                    </a:lnTo>
                    <a:lnTo>
                      <a:pt x="983" y="333"/>
                    </a:lnTo>
                    <a:lnTo>
                      <a:pt x="983" y="230"/>
                    </a:lnTo>
                    <a:lnTo>
                      <a:pt x="992" y="230"/>
                    </a:lnTo>
                    <a:lnTo>
                      <a:pt x="992" y="212"/>
                    </a:lnTo>
                    <a:lnTo>
                      <a:pt x="983" y="212"/>
                    </a:lnTo>
                    <a:lnTo>
                      <a:pt x="983" y="197"/>
                    </a:lnTo>
                    <a:lnTo>
                      <a:pt x="963" y="52"/>
                    </a:lnTo>
                    <a:lnTo>
                      <a:pt x="963" y="44"/>
                    </a:lnTo>
                    <a:lnTo>
                      <a:pt x="960" y="38"/>
                    </a:lnTo>
                    <a:lnTo>
                      <a:pt x="957" y="32"/>
                    </a:lnTo>
                    <a:lnTo>
                      <a:pt x="946" y="32"/>
                    </a:lnTo>
                    <a:lnTo>
                      <a:pt x="737" y="32"/>
                    </a:lnTo>
                    <a:lnTo>
                      <a:pt x="671" y="32"/>
                    </a:lnTo>
                    <a:lnTo>
                      <a:pt x="471" y="32"/>
                    </a:lnTo>
                    <a:lnTo>
                      <a:pt x="459" y="32"/>
                    </a:lnTo>
                    <a:lnTo>
                      <a:pt x="456" y="41"/>
                    </a:lnTo>
                    <a:lnTo>
                      <a:pt x="450" y="44"/>
                    </a:lnTo>
                    <a:lnTo>
                      <a:pt x="450" y="52"/>
                    </a:lnTo>
                    <a:lnTo>
                      <a:pt x="404" y="197"/>
                    </a:lnTo>
                    <a:lnTo>
                      <a:pt x="0" y="200"/>
                    </a:lnTo>
                    <a:lnTo>
                      <a:pt x="0" y="186"/>
                    </a:lnTo>
                    <a:lnTo>
                      <a:pt x="2" y="171"/>
                    </a:lnTo>
                    <a:lnTo>
                      <a:pt x="2" y="165"/>
                    </a:lnTo>
                    <a:lnTo>
                      <a:pt x="5" y="159"/>
                    </a:lnTo>
                    <a:lnTo>
                      <a:pt x="11" y="153"/>
                    </a:lnTo>
                    <a:lnTo>
                      <a:pt x="14" y="147"/>
                    </a:lnTo>
                    <a:lnTo>
                      <a:pt x="23" y="145"/>
                    </a:lnTo>
                    <a:lnTo>
                      <a:pt x="31" y="145"/>
                    </a:lnTo>
                    <a:lnTo>
                      <a:pt x="57" y="133"/>
                    </a:lnTo>
                    <a:lnTo>
                      <a:pt x="83" y="124"/>
                    </a:lnTo>
                    <a:lnTo>
                      <a:pt x="109" y="115"/>
                    </a:lnTo>
                    <a:lnTo>
                      <a:pt x="132" y="102"/>
                    </a:lnTo>
                    <a:lnTo>
                      <a:pt x="161" y="94"/>
                    </a:lnTo>
                    <a:lnTo>
                      <a:pt x="184" y="85"/>
                    </a:lnTo>
                    <a:lnTo>
                      <a:pt x="213" y="76"/>
                    </a:lnTo>
                    <a:lnTo>
                      <a:pt x="236" y="64"/>
                    </a:lnTo>
                    <a:lnTo>
                      <a:pt x="265" y="58"/>
                    </a:lnTo>
                    <a:lnTo>
                      <a:pt x="289" y="49"/>
                    </a:lnTo>
                    <a:lnTo>
                      <a:pt x="317" y="41"/>
                    </a:lnTo>
                    <a:lnTo>
                      <a:pt x="341" y="32"/>
                    </a:lnTo>
                    <a:lnTo>
                      <a:pt x="364" y="23"/>
                    </a:lnTo>
                    <a:lnTo>
                      <a:pt x="393" y="17"/>
                    </a:lnTo>
                    <a:lnTo>
                      <a:pt x="419" y="11"/>
                    </a:lnTo>
                    <a:lnTo>
                      <a:pt x="445" y="2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8126280" y="3517920"/>
                <a:ext cx="162360" cy="54360"/>
              </a:xfrm>
              <a:custGeom>
                <a:avLst/>
                <a:gdLst/>
                <a:ahLst/>
                <a:rect l="0" t="0" r="r" b="b"/>
                <a:pathLst>
                  <a:path w="451" h="151">
                    <a:moveTo>
                      <a:pt x="0" y="2"/>
                    </a:moveTo>
                    <a:lnTo>
                      <a:pt x="410" y="0"/>
                    </a:lnTo>
                    <a:lnTo>
                      <a:pt x="451" y="116"/>
                    </a:lnTo>
                    <a:lnTo>
                      <a:pt x="381" y="116"/>
                    </a:lnTo>
                    <a:lnTo>
                      <a:pt x="378" y="106"/>
                    </a:lnTo>
                    <a:lnTo>
                      <a:pt x="372" y="103"/>
                    </a:lnTo>
                    <a:lnTo>
                      <a:pt x="370" y="95"/>
                    </a:lnTo>
                    <a:lnTo>
                      <a:pt x="367" y="89"/>
                    </a:lnTo>
                    <a:lnTo>
                      <a:pt x="361" y="86"/>
                    </a:lnTo>
                    <a:lnTo>
                      <a:pt x="358" y="86"/>
                    </a:lnTo>
                    <a:lnTo>
                      <a:pt x="355" y="83"/>
                    </a:lnTo>
                    <a:lnTo>
                      <a:pt x="349" y="83"/>
                    </a:lnTo>
                    <a:lnTo>
                      <a:pt x="336" y="74"/>
                    </a:lnTo>
                    <a:lnTo>
                      <a:pt x="325" y="68"/>
                    </a:lnTo>
                    <a:lnTo>
                      <a:pt x="313" y="65"/>
                    </a:lnTo>
                    <a:lnTo>
                      <a:pt x="295" y="65"/>
                    </a:lnTo>
                    <a:lnTo>
                      <a:pt x="284" y="62"/>
                    </a:lnTo>
                    <a:lnTo>
                      <a:pt x="272" y="62"/>
                    </a:lnTo>
                    <a:lnTo>
                      <a:pt x="258" y="62"/>
                    </a:lnTo>
                    <a:lnTo>
                      <a:pt x="246" y="62"/>
                    </a:lnTo>
                    <a:lnTo>
                      <a:pt x="228" y="62"/>
                    </a:lnTo>
                    <a:lnTo>
                      <a:pt x="217" y="62"/>
                    </a:lnTo>
                    <a:lnTo>
                      <a:pt x="199" y="62"/>
                    </a:lnTo>
                    <a:lnTo>
                      <a:pt x="187" y="65"/>
                    </a:lnTo>
                    <a:lnTo>
                      <a:pt x="176" y="65"/>
                    </a:lnTo>
                    <a:lnTo>
                      <a:pt x="161" y="68"/>
                    </a:lnTo>
                    <a:lnTo>
                      <a:pt x="149" y="74"/>
                    </a:lnTo>
                    <a:lnTo>
                      <a:pt x="132" y="77"/>
                    </a:lnTo>
                    <a:lnTo>
                      <a:pt x="84" y="151"/>
                    </a:lnTo>
                    <a:lnTo>
                      <a:pt x="0" y="151"/>
                    </a:lnTo>
                    <a:lnTo>
                      <a:pt x="0" y="3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8383680" y="3459240"/>
                <a:ext cx="97200" cy="127440"/>
              </a:xfrm>
              <a:custGeom>
                <a:avLst/>
                <a:gdLst/>
                <a:ahLst/>
                <a:rect l="0" t="0" r="r" b="b"/>
                <a:pathLst>
                  <a:path w="270" h="354">
                    <a:moveTo>
                      <a:pt x="79" y="354"/>
                    </a:moveTo>
                    <a:lnTo>
                      <a:pt x="23" y="354"/>
                    </a:lnTo>
                    <a:lnTo>
                      <a:pt x="14" y="354"/>
                    </a:lnTo>
                    <a:lnTo>
                      <a:pt x="8" y="345"/>
                    </a:lnTo>
                    <a:lnTo>
                      <a:pt x="2" y="343"/>
                    </a:lnTo>
                    <a:lnTo>
                      <a:pt x="0" y="334"/>
                    </a:lnTo>
                    <a:lnTo>
                      <a:pt x="0" y="20"/>
                    </a:lnTo>
                    <a:lnTo>
                      <a:pt x="2" y="11"/>
                    </a:lnTo>
                    <a:lnTo>
                      <a:pt x="8" y="8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233" y="0"/>
                    </a:lnTo>
                    <a:lnTo>
                      <a:pt x="244" y="0"/>
                    </a:lnTo>
                    <a:lnTo>
                      <a:pt x="247" y="5"/>
                    </a:lnTo>
                    <a:lnTo>
                      <a:pt x="250" y="11"/>
                    </a:lnTo>
                    <a:lnTo>
                      <a:pt x="250" y="20"/>
                    </a:lnTo>
                    <a:lnTo>
                      <a:pt x="270" y="165"/>
                    </a:lnTo>
                    <a:lnTo>
                      <a:pt x="270" y="180"/>
                    </a:lnTo>
                    <a:lnTo>
                      <a:pt x="256" y="180"/>
                    </a:lnTo>
                    <a:lnTo>
                      <a:pt x="244" y="189"/>
                    </a:lnTo>
                    <a:lnTo>
                      <a:pt x="256" y="197"/>
                    </a:lnTo>
                    <a:lnTo>
                      <a:pt x="270" y="197"/>
                    </a:lnTo>
                    <a:lnTo>
                      <a:pt x="270" y="301"/>
                    </a:lnTo>
                    <a:lnTo>
                      <a:pt x="256" y="301"/>
                    </a:lnTo>
                    <a:lnTo>
                      <a:pt x="244" y="310"/>
                    </a:lnTo>
                    <a:lnTo>
                      <a:pt x="256" y="316"/>
                    </a:lnTo>
                    <a:lnTo>
                      <a:pt x="270" y="316"/>
                    </a:lnTo>
                    <a:lnTo>
                      <a:pt x="270" y="334"/>
                    </a:lnTo>
                    <a:lnTo>
                      <a:pt x="270" y="343"/>
                    </a:lnTo>
                    <a:lnTo>
                      <a:pt x="268" y="345"/>
                    </a:lnTo>
                    <a:lnTo>
                      <a:pt x="259" y="354"/>
                    </a:lnTo>
                    <a:lnTo>
                      <a:pt x="250" y="354"/>
                    </a:lnTo>
                    <a:lnTo>
                      <a:pt x="79" y="354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8369280" y="3459240"/>
                <a:ext cx="24120" cy="127440"/>
              </a:xfrm>
              <a:custGeom>
                <a:avLst/>
                <a:gdLst/>
                <a:ahLst/>
                <a:rect l="0" t="0" r="r" b="b"/>
                <a:pathLst>
                  <a:path w="67" h="354">
                    <a:moveTo>
                      <a:pt x="67" y="354"/>
                    </a:moveTo>
                    <a:lnTo>
                      <a:pt x="0" y="354"/>
                    </a:lnTo>
                    <a:lnTo>
                      <a:pt x="8" y="354"/>
                    </a:lnTo>
                    <a:lnTo>
                      <a:pt x="14" y="345"/>
                    </a:lnTo>
                    <a:lnTo>
                      <a:pt x="20" y="343"/>
                    </a:lnTo>
                    <a:lnTo>
                      <a:pt x="20" y="334"/>
                    </a:lnTo>
                    <a:lnTo>
                      <a:pt x="20" y="316"/>
                    </a:lnTo>
                    <a:lnTo>
                      <a:pt x="25" y="316"/>
                    </a:lnTo>
                    <a:lnTo>
                      <a:pt x="25" y="301"/>
                    </a:lnTo>
                    <a:lnTo>
                      <a:pt x="20" y="301"/>
                    </a:lnTo>
                    <a:lnTo>
                      <a:pt x="20" y="197"/>
                    </a:lnTo>
                    <a:lnTo>
                      <a:pt x="25" y="197"/>
                    </a:lnTo>
                    <a:lnTo>
                      <a:pt x="25" y="180"/>
                    </a:lnTo>
                    <a:lnTo>
                      <a:pt x="20" y="180"/>
                    </a:lnTo>
                    <a:lnTo>
                      <a:pt x="20" y="20"/>
                    </a:lnTo>
                    <a:lnTo>
                      <a:pt x="20" y="11"/>
                    </a:lnTo>
                    <a:lnTo>
                      <a:pt x="14" y="5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67" y="0"/>
                    </a:lnTo>
                    <a:lnTo>
                      <a:pt x="58" y="0"/>
                    </a:lnTo>
                    <a:lnTo>
                      <a:pt x="52" y="8"/>
                    </a:lnTo>
                    <a:lnTo>
                      <a:pt x="47" y="11"/>
                    </a:lnTo>
                    <a:lnTo>
                      <a:pt x="44" y="20"/>
                    </a:lnTo>
                    <a:lnTo>
                      <a:pt x="44" y="334"/>
                    </a:lnTo>
                    <a:lnTo>
                      <a:pt x="47" y="343"/>
                    </a:lnTo>
                    <a:lnTo>
                      <a:pt x="52" y="345"/>
                    </a:lnTo>
                    <a:lnTo>
                      <a:pt x="58" y="354"/>
                    </a:lnTo>
                    <a:lnTo>
                      <a:pt x="67" y="354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272440" y="3459240"/>
                <a:ext cx="105120" cy="127440"/>
              </a:xfrm>
              <a:custGeom>
                <a:avLst/>
                <a:gdLst/>
                <a:ahLst/>
                <a:rect l="0" t="0" r="r" b="b"/>
                <a:pathLst>
                  <a:path w="292" h="354">
                    <a:moveTo>
                      <a:pt x="271" y="354"/>
                    </a:moveTo>
                    <a:lnTo>
                      <a:pt x="91" y="354"/>
                    </a:lnTo>
                    <a:lnTo>
                      <a:pt x="85" y="354"/>
                    </a:lnTo>
                    <a:lnTo>
                      <a:pt x="79" y="354"/>
                    </a:lnTo>
                    <a:lnTo>
                      <a:pt x="76" y="348"/>
                    </a:lnTo>
                    <a:lnTo>
                      <a:pt x="73" y="345"/>
                    </a:lnTo>
                    <a:lnTo>
                      <a:pt x="67" y="343"/>
                    </a:lnTo>
                    <a:lnTo>
                      <a:pt x="64" y="343"/>
                    </a:lnTo>
                    <a:lnTo>
                      <a:pt x="58" y="337"/>
                    </a:lnTo>
                    <a:lnTo>
                      <a:pt x="58" y="334"/>
                    </a:lnTo>
                    <a:lnTo>
                      <a:pt x="41" y="281"/>
                    </a:lnTo>
                    <a:lnTo>
                      <a:pt x="0" y="165"/>
                    </a:lnTo>
                    <a:lnTo>
                      <a:pt x="47" y="20"/>
                    </a:lnTo>
                    <a:lnTo>
                      <a:pt x="47" y="11"/>
                    </a:lnTo>
                    <a:lnTo>
                      <a:pt x="52" y="8"/>
                    </a:lnTo>
                    <a:lnTo>
                      <a:pt x="55" y="0"/>
                    </a:lnTo>
                    <a:lnTo>
                      <a:pt x="67" y="0"/>
                    </a:lnTo>
                    <a:lnTo>
                      <a:pt x="271" y="0"/>
                    </a:lnTo>
                    <a:lnTo>
                      <a:pt x="283" y="0"/>
                    </a:lnTo>
                    <a:lnTo>
                      <a:pt x="286" y="5"/>
                    </a:lnTo>
                    <a:lnTo>
                      <a:pt x="292" y="11"/>
                    </a:lnTo>
                    <a:lnTo>
                      <a:pt x="292" y="20"/>
                    </a:lnTo>
                    <a:lnTo>
                      <a:pt x="292" y="180"/>
                    </a:lnTo>
                    <a:lnTo>
                      <a:pt x="274" y="180"/>
                    </a:lnTo>
                    <a:lnTo>
                      <a:pt x="262" y="189"/>
                    </a:lnTo>
                    <a:lnTo>
                      <a:pt x="274" y="197"/>
                    </a:lnTo>
                    <a:lnTo>
                      <a:pt x="292" y="197"/>
                    </a:lnTo>
                    <a:lnTo>
                      <a:pt x="292" y="301"/>
                    </a:lnTo>
                    <a:lnTo>
                      <a:pt x="274" y="301"/>
                    </a:lnTo>
                    <a:lnTo>
                      <a:pt x="262" y="310"/>
                    </a:lnTo>
                    <a:lnTo>
                      <a:pt x="274" y="316"/>
                    </a:lnTo>
                    <a:lnTo>
                      <a:pt x="292" y="316"/>
                    </a:lnTo>
                    <a:lnTo>
                      <a:pt x="292" y="334"/>
                    </a:lnTo>
                    <a:lnTo>
                      <a:pt x="292" y="343"/>
                    </a:lnTo>
                    <a:lnTo>
                      <a:pt x="286" y="345"/>
                    </a:lnTo>
                    <a:lnTo>
                      <a:pt x="280" y="354"/>
                    </a:lnTo>
                    <a:lnTo>
                      <a:pt x="271" y="354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56520" y="3541680"/>
                <a:ext cx="120960" cy="49680"/>
              </a:xfrm>
              <a:custGeom>
                <a:avLst/>
                <a:gdLst/>
                <a:ahLst/>
                <a:rect l="0" t="0" r="r" b="b"/>
                <a:pathLst>
                  <a:path w="336" h="138">
                    <a:moveTo>
                      <a:pt x="336" y="138"/>
                    </a:moveTo>
                    <a:lnTo>
                      <a:pt x="304" y="138"/>
                    </a:lnTo>
                    <a:lnTo>
                      <a:pt x="301" y="127"/>
                    </a:lnTo>
                    <a:lnTo>
                      <a:pt x="283" y="97"/>
                    </a:lnTo>
                    <a:lnTo>
                      <a:pt x="269" y="80"/>
                    </a:lnTo>
                    <a:lnTo>
                      <a:pt x="254" y="72"/>
                    </a:lnTo>
                    <a:lnTo>
                      <a:pt x="242" y="60"/>
                    </a:lnTo>
                    <a:lnTo>
                      <a:pt x="219" y="46"/>
                    </a:lnTo>
                    <a:lnTo>
                      <a:pt x="193" y="40"/>
                    </a:lnTo>
                    <a:lnTo>
                      <a:pt x="163" y="35"/>
                    </a:lnTo>
                    <a:lnTo>
                      <a:pt x="134" y="40"/>
                    </a:lnTo>
                    <a:lnTo>
                      <a:pt x="101" y="46"/>
                    </a:lnTo>
                    <a:lnTo>
                      <a:pt x="78" y="60"/>
                    </a:lnTo>
                    <a:lnTo>
                      <a:pt x="58" y="80"/>
                    </a:lnTo>
                    <a:lnTo>
                      <a:pt x="26" y="83"/>
                    </a:lnTo>
                    <a:lnTo>
                      <a:pt x="0" y="86"/>
                    </a:lnTo>
                    <a:lnTo>
                      <a:pt x="46" y="14"/>
                    </a:lnTo>
                    <a:lnTo>
                      <a:pt x="64" y="11"/>
                    </a:lnTo>
                    <a:lnTo>
                      <a:pt x="75" y="5"/>
                    </a:lnTo>
                    <a:lnTo>
                      <a:pt x="90" y="2"/>
                    </a:lnTo>
                    <a:lnTo>
                      <a:pt x="101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42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10" y="2"/>
                    </a:lnTo>
                    <a:lnTo>
                      <a:pt x="228" y="2"/>
                    </a:lnTo>
                    <a:lnTo>
                      <a:pt x="239" y="5"/>
                    </a:lnTo>
                    <a:lnTo>
                      <a:pt x="251" y="11"/>
                    </a:lnTo>
                    <a:lnTo>
                      <a:pt x="263" y="19"/>
                    </a:lnTo>
                    <a:lnTo>
                      <a:pt x="269" y="19"/>
                    </a:lnTo>
                    <a:lnTo>
                      <a:pt x="272" y="22"/>
                    </a:lnTo>
                    <a:lnTo>
                      <a:pt x="274" y="22"/>
                    </a:lnTo>
                    <a:lnTo>
                      <a:pt x="280" y="25"/>
                    </a:lnTo>
                    <a:lnTo>
                      <a:pt x="283" y="31"/>
                    </a:lnTo>
                    <a:lnTo>
                      <a:pt x="286" y="40"/>
                    </a:lnTo>
                    <a:lnTo>
                      <a:pt x="292" y="43"/>
                    </a:lnTo>
                    <a:lnTo>
                      <a:pt x="295" y="52"/>
                    </a:lnTo>
                    <a:lnTo>
                      <a:pt x="295" y="55"/>
                    </a:lnTo>
                    <a:lnTo>
                      <a:pt x="333" y="127"/>
                    </a:lnTo>
                    <a:lnTo>
                      <a:pt x="336" y="138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602560" y="353052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08" y="41"/>
                    </a:moveTo>
                    <a:lnTo>
                      <a:pt x="108" y="74"/>
                    </a:lnTo>
                    <a:lnTo>
                      <a:pt x="116" y="89"/>
                    </a:lnTo>
                    <a:lnTo>
                      <a:pt x="105" y="89"/>
                    </a:lnTo>
                    <a:lnTo>
                      <a:pt x="76" y="89"/>
                    </a:lnTo>
                    <a:lnTo>
                      <a:pt x="62" y="53"/>
                    </a:lnTo>
                    <a:lnTo>
                      <a:pt x="56" y="50"/>
                    </a:lnTo>
                    <a:lnTo>
                      <a:pt x="51" y="50"/>
                    </a:lnTo>
                    <a:lnTo>
                      <a:pt x="45" y="48"/>
                    </a:lnTo>
                    <a:lnTo>
                      <a:pt x="37" y="41"/>
                    </a:lnTo>
                    <a:lnTo>
                      <a:pt x="34" y="38"/>
                    </a:lnTo>
                    <a:lnTo>
                      <a:pt x="25" y="38"/>
                    </a:lnTo>
                    <a:lnTo>
                      <a:pt x="19" y="32"/>
                    </a:lnTo>
                    <a:lnTo>
                      <a:pt x="13" y="32"/>
                    </a:lnTo>
                    <a:lnTo>
                      <a:pt x="0" y="0"/>
                    </a:lnTo>
                    <a:lnTo>
                      <a:pt x="84" y="14"/>
                    </a:lnTo>
                    <a:lnTo>
                      <a:pt x="94" y="17"/>
                    </a:lnTo>
                    <a:lnTo>
                      <a:pt x="99" y="26"/>
                    </a:lnTo>
                    <a:lnTo>
                      <a:pt x="108" y="41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494560" y="3506760"/>
                <a:ext cx="114840" cy="46440"/>
              </a:xfrm>
              <a:custGeom>
                <a:avLst/>
                <a:gdLst/>
                <a:ahLst/>
                <a:rect l="0" t="0" r="r" b="b"/>
                <a:pathLst>
                  <a:path w="319" h="129">
                    <a:moveTo>
                      <a:pt x="0" y="0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23" y="2"/>
                    </a:lnTo>
                    <a:lnTo>
                      <a:pt x="32" y="2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5"/>
                    </a:lnTo>
                    <a:lnTo>
                      <a:pt x="68" y="5"/>
                    </a:lnTo>
                    <a:lnTo>
                      <a:pt x="77" y="5"/>
                    </a:lnTo>
                    <a:lnTo>
                      <a:pt x="87" y="5"/>
                    </a:lnTo>
                    <a:lnTo>
                      <a:pt x="95" y="5"/>
                    </a:lnTo>
                    <a:lnTo>
                      <a:pt x="98" y="11"/>
                    </a:lnTo>
                    <a:lnTo>
                      <a:pt x="107" y="11"/>
                    </a:lnTo>
                    <a:lnTo>
                      <a:pt x="116" y="11"/>
                    </a:lnTo>
                    <a:lnTo>
                      <a:pt x="122" y="11"/>
                    </a:lnTo>
                    <a:lnTo>
                      <a:pt x="131" y="35"/>
                    </a:lnTo>
                    <a:lnTo>
                      <a:pt x="140" y="47"/>
                    </a:lnTo>
                    <a:lnTo>
                      <a:pt x="152" y="53"/>
                    </a:lnTo>
                    <a:lnTo>
                      <a:pt x="304" y="67"/>
                    </a:lnTo>
                    <a:lnTo>
                      <a:pt x="319" y="100"/>
                    </a:lnTo>
                    <a:lnTo>
                      <a:pt x="307" y="96"/>
                    </a:lnTo>
                    <a:lnTo>
                      <a:pt x="295" y="96"/>
                    </a:lnTo>
                    <a:lnTo>
                      <a:pt x="283" y="94"/>
                    </a:lnTo>
                    <a:lnTo>
                      <a:pt x="272" y="94"/>
                    </a:lnTo>
                    <a:lnTo>
                      <a:pt x="260" y="94"/>
                    </a:lnTo>
                    <a:lnTo>
                      <a:pt x="229" y="94"/>
                    </a:lnTo>
                    <a:lnTo>
                      <a:pt x="211" y="94"/>
                    </a:lnTo>
                    <a:lnTo>
                      <a:pt x="199" y="96"/>
                    </a:lnTo>
                    <a:lnTo>
                      <a:pt x="187" y="96"/>
                    </a:lnTo>
                    <a:lnTo>
                      <a:pt x="176" y="100"/>
                    </a:lnTo>
                    <a:lnTo>
                      <a:pt x="164" y="106"/>
                    </a:lnTo>
                    <a:lnTo>
                      <a:pt x="155" y="109"/>
                    </a:lnTo>
                    <a:lnTo>
                      <a:pt x="149" y="115"/>
                    </a:lnTo>
                    <a:lnTo>
                      <a:pt x="140" y="118"/>
                    </a:lnTo>
                    <a:lnTo>
                      <a:pt x="134" y="126"/>
                    </a:lnTo>
                    <a:lnTo>
                      <a:pt x="131" y="129"/>
                    </a:lnTo>
                    <a:lnTo>
                      <a:pt x="101" y="129"/>
                    </a:lnTo>
                    <a:lnTo>
                      <a:pt x="87" y="121"/>
                    </a:lnTo>
                    <a:lnTo>
                      <a:pt x="95" y="109"/>
                    </a:lnTo>
                    <a:lnTo>
                      <a:pt x="110" y="106"/>
                    </a:lnTo>
                    <a:lnTo>
                      <a:pt x="134" y="82"/>
                    </a:lnTo>
                    <a:lnTo>
                      <a:pt x="140" y="73"/>
                    </a:lnTo>
                    <a:lnTo>
                      <a:pt x="134" y="64"/>
                    </a:lnTo>
                    <a:lnTo>
                      <a:pt x="128" y="53"/>
                    </a:lnTo>
                    <a:lnTo>
                      <a:pt x="116" y="47"/>
                    </a:lnTo>
                    <a:lnTo>
                      <a:pt x="107" y="56"/>
                    </a:lnTo>
                    <a:lnTo>
                      <a:pt x="84" y="76"/>
                    </a:lnTo>
                    <a:lnTo>
                      <a:pt x="77" y="94"/>
                    </a:lnTo>
                    <a:lnTo>
                      <a:pt x="68" y="10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528040" y="3557520"/>
                <a:ext cx="108360" cy="108360"/>
              </a:xfrm>
              <a:custGeom>
                <a:avLst/>
                <a:gdLst/>
                <a:ahLst/>
                <a:rect l="0" t="0" r="r" b="b"/>
                <a:pathLst>
                  <a:path w="301" h="301">
                    <a:moveTo>
                      <a:pt x="26" y="231"/>
                    </a:moveTo>
                    <a:lnTo>
                      <a:pt x="11" y="207"/>
                    </a:lnTo>
                    <a:lnTo>
                      <a:pt x="23" y="204"/>
                    </a:lnTo>
                    <a:lnTo>
                      <a:pt x="11" y="207"/>
                    </a:lnTo>
                    <a:lnTo>
                      <a:pt x="2" y="178"/>
                    </a:lnTo>
                    <a:lnTo>
                      <a:pt x="0" y="152"/>
                    </a:lnTo>
                    <a:lnTo>
                      <a:pt x="2" y="123"/>
                    </a:lnTo>
                    <a:lnTo>
                      <a:pt x="2" y="117"/>
                    </a:lnTo>
                    <a:lnTo>
                      <a:pt x="11" y="91"/>
                    </a:lnTo>
                    <a:lnTo>
                      <a:pt x="26" y="64"/>
                    </a:lnTo>
                    <a:lnTo>
                      <a:pt x="35" y="55"/>
                    </a:lnTo>
                    <a:lnTo>
                      <a:pt x="44" y="43"/>
                    </a:lnTo>
                    <a:lnTo>
                      <a:pt x="53" y="52"/>
                    </a:lnTo>
                    <a:lnTo>
                      <a:pt x="44" y="43"/>
                    </a:lnTo>
                    <a:lnTo>
                      <a:pt x="65" y="23"/>
                    </a:lnTo>
                    <a:lnTo>
                      <a:pt x="93" y="11"/>
                    </a:lnTo>
                    <a:lnTo>
                      <a:pt x="122" y="0"/>
                    </a:lnTo>
                    <a:lnTo>
                      <a:pt x="149" y="0"/>
                    </a:lnTo>
                    <a:lnTo>
                      <a:pt x="179" y="0"/>
                    </a:lnTo>
                    <a:lnTo>
                      <a:pt x="208" y="11"/>
                    </a:lnTo>
                    <a:lnTo>
                      <a:pt x="233" y="23"/>
                    </a:lnTo>
                    <a:lnTo>
                      <a:pt x="248" y="32"/>
                    </a:lnTo>
                    <a:lnTo>
                      <a:pt x="257" y="43"/>
                    </a:lnTo>
                    <a:lnTo>
                      <a:pt x="248" y="52"/>
                    </a:lnTo>
                    <a:lnTo>
                      <a:pt x="257" y="43"/>
                    </a:lnTo>
                    <a:lnTo>
                      <a:pt x="275" y="64"/>
                    </a:lnTo>
                    <a:lnTo>
                      <a:pt x="289" y="91"/>
                    </a:lnTo>
                    <a:lnTo>
                      <a:pt x="298" y="117"/>
                    </a:lnTo>
                    <a:lnTo>
                      <a:pt x="301" y="152"/>
                    </a:lnTo>
                    <a:lnTo>
                      <a:pt x="298" y="178"/>
                    </a:lnTo>
                    <a:lnTo>
                      <a:pt x="289" y="207"/>
                    </a:lnTo>
                    <a:lnTo>
                      <a:pt x="278" y="204"/>
                    </a:lnTo>
                    <a:lnTo>
                      <a:pt x="289" y="207"/>
                    </a:lnTo>
                    <a:lnTo>
                      <a:pt x="275" y="231"/>
                    </a:lnTo>
                    <a:lnTo>
                      <a:pt x="266" y="229"/>
                    </a:lnTo>
                    <a:lnTo>
                      <a:pt x="275" y="231"/>
                    </a:lnTo>
                    <a:lnTo>
                      <a:pt x="257" y="258"/>
                    </a:lnTo>
                    <a:lnTo>
                      <a:pt x="233" y="272"/>
                    </a:lnTo>
                    <a:lnTo>
                      <a:pt x="208" y="290"/>
                    </a:lnTo>
                    <a:lnTo>
                      <a:pt x="179" y="298"/>
                    </a:lnTo>
                    <a:lnTo>
                      <a:pt x="149" y="301"/>
                    </a:lnTo>
                    <a:lnTo>
                      <a:pt x="122" y="298"/>
                    </a:lnTo>
                    <a:lnTo>
                      <a:pt x="93" y="290"/>
                    </a:lnTo>
                    <a:lnTo>
                      <a:pt x="65" y="272"/>
                    </a:lnTo>
                    <a:lnTo>
                      <a:pt x="44" y="258"/>
                    </a:lnTo>
                    <a:lnTo>
                      <a:pt x="26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163000" y="3552840"/>
                <a:ext cx="106560" cy="109800"/>
              </a:xfrm>
              <a:custGeom>
                <a:avLst/>
                <a:gdLst/>
                <a:ahLst/>
                <a:rect l="0" t="0" r="r" b="b"/>
                <a:pathLst>
                  <a:path w="296" h="305">
                    <a:moveTo>
                      <a:pt x="253" y="47"/>
                    </a:moveTo>
                    <a:lnTo>
                      <a:pt x="267" y="64"/>
                    </a:lnTo>
                    <a:lnTo>
                      <a:pt x="284" y="94"/>
                    </a:lnTo>
                    <a:lnTo>
                      <a:pt x="287" y="106"/>
                    </a:lnTo>
                    <a:lnTo>
                      <a:pt x="290" y="124"/>
                    </a:lnTo>
                    <a:lnTo>
                      <a:pt x="296" y="154"/>
                    </a:lnTo>
                    <a:lnTo>
                      <a:pt x="290" y="187"/>
                    </a:lnTo>
                    <a:lnTo>
                      <a:pt x="284" y="210"/>
                    </a:lnTo>
                    <a:lnTo>
                      <a:pt x="270" y="207"/>
                    </a:lnTo>
                    <a:lnTo>
                      <a:pt x="284" y="210"/>
                    </a:lnTo>
                    <a:lnTo>
                      <a:pt x="267" y="240"/>
                    </a:lnTo>
                    <a:lnTo>
                      <a:pt x="258" y="231"/>
                    </a:lnTo>
                    <a:lnTo>
                      <a:pt x="267" y="240"/>
                    </a:lnTo>
                    <a:lnTo>
                      <a:pt x="253" y="260"/>
                    </a:lnTo>
                    <a:lnTo>
                      <a:pt x="226" y="281"/>
                    </a:lnTo>
                    <a:lnTo>
                      <a:pt x="203" y="293"/>
                    </a:lnTo>
                    <a:lnTo>
                      <a:pt x="177" y="302"/>
                    </a:lnTo>
                    <a:lnTo>
                      <a:pt x="147" y="305"/>
                    </a:lnTo>
                    <a:lnTo>
                      <a:pt x="118" y="302"/>
                    </a:lnTo>
                    <a:lnTo>
                      <a:pt x="86" y="293"/>
                    </a:lnTo>
                    <a:lnTo>
                      <a:pt x="63" y="281"/>
                    </a:lnTo>
                    <a:lnTo>
                      <a:pt x="43" y="260"/>
                    </a:lnTo>
                    <a:lnTo>
                      <a:pt x="28" y="240"/>
                    </a:lnTo>
                    <a:lnTo>
                      <a:pt x="34" y="231"/>
                    </a:lnTo>
                    <a:lnTo>
                      <a:pt x="28" y="240"/>
                    </a:lnTo>
                    <a:lnTo>
                      <a:pt x="11" y="210"/>
                    </a:lnTo>
                    <a:lnTo>
                      <a:pt x="2" y="187"/>
                    </a:lnTo>
                    <a:lnTo>
                      <a:pt x="0" y="154"/>
                    </a:lnTo>
                    <a:lnTo>
                      <a:pt x="2" y="124"/>
                    </a:lnTo>
                    <a:lnTo>
                      <a:pt x="11" y="100"/>
                    </a:lnTo>
                    <a:lnTo>
                      <a:pt x="20" y="103"/>
                    </a:lnTo>
                    <a:lnTo>
                      <a:pt x="11" y="100"/>
                    </a:lnTo>
                    <a:lnTo>
                      <a:pt x="11" y="94"/>
                    </a:lnTo>
                    <a:lnTo>
                      <a:pt x="28" y="64"/>
                    </a:lnTo>
                    <a:lnTo>
                      <a:pt x="31" y="59"/>
                    </a:lnTo>
                    <a:lnTo>
                      <a:pt x="43" y="47"/>
                    </a:lnTo>
                    <a:lnTo>
                      <a:pt x="52" y="53"/>
                    </a:lnTo>
                    <a:lnTo>
                      <a:pt x="43" y="47"/>
                    </a:lnTo>
                    <a:lnTo>
                      <a:pt x="63" y="26"/>
                    </a:lnTo>
                    <a:lnTo>
                      <a:pt x="86" y="11"/>
                    </a:lnTo>
                    <a:lnTo>
                      <a:pt x="118" y="5"/>
                    </a:lnTo>
                    <a:lnTo>
                      <a:pt x="147" y="0"/>
                    </a:lnTo>
                    <a:lnTo>
                      <a:pt x="177" y="5"/>
                    </a:lnTo>
                    <a:lnTo>
                      <a:pt x="203" y="11"/>
                    </a:lnTo>
                    <a:lnTo>
                      <a:pt x="226" y="26"/>
                    </a:lnTo>
                    <a:lnTo>
                      <a:pt x="238" y="38"/>
                    </a:lnTo>
                    <a:lnTo>
                      <a:pt x="253" y="47"/>
                    </a:lnTo>
                    <a:close/>
                  </a:path>
                </a:pathLst>
              </a:custGeom>
              <a:solidFill>
                <a:srgbClr val="f0f0f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537400" y="3510000"/>
                <a:ext cx="105120" cy="35280"/>
              </a:xfrm>
              <a:custGeom>
                <a:avLst/>
                <a:gdLst/>
                <a:ahLst/>
                <a:rect l="0" t="0" r="r" b="b"/>
                <a:pathLst>
                  <a:path w="292" h="98">
                    <a:moveTo>
                      <a:pt x="0" y="0"/>
                    </a:moveTo>
                    <a:lnTo>
                      <a:pt x="17" y="2"/>
                    </a:lnTo>
                    <a:lnTo>
                      <a:pt x="38" y="8"/>
                    </a:lnTo>
                    <a:lnTo>
                      <a:pt x="52" y="8"/>
                    </a:lnTo>
                    <a:lnTo>
                      <a:pt x="70" y="11"/>
                    </a:lnTo>
                    <a:lnTo>
                      <a:pt x="85" y="14"/>
                    </a:lnTo>
                    <a:lnTo>
                      <a:pt x="105" y="20"/>
                    </a:lnTo>
                    <a:lnTo>
                      <a:pt x="120" y="23"/>
                    </a:lnTo>
                    <a:lnTo>
                      <a:pt x="138" y="29"/>
                    </a:lnTo>
                    <a:lnTo>
                      <a:pt x="153" y="32"/>
                    </a:lnTo>
                    <a:lnTo>
                      <a:pt x="171" y="35"/>
                    </a:lnTo>
                    <a:lnTo>
                      <a:pt x="186" y="35"/>
                    </a:lnTo>
                    <a:lnTo>
                      <a:pt x="203" y="44"/>
                    </a:lnTo>
                    <a:lnTo>
                      <a:pt x="218" y="50"/>
                    </a:lnTo>
                    <a:lnTo>
                      <a:pt x="236" y="53"/>
                    </a:lnTo>
                    <a:lnTo>
                      <a:pt x="256" y="56"/>
                    </a:lnTo>
                    <a:lnTo>
                      <a:pt x="271" y="62"/>
                    </a:lnTo>
                    <a:lnTo>
                      <a:pt x="283" y="71"/>
                    </a:lnTo>
                    <a:lnTo>
                      <a:pt x="292" y="77"/>
                    </a:lnTo>
                    <a:lnTo>
                      <a:pt x="292" y="98"/>
                    </a:lnTo>
                    <a:lnTo>
                      <a:pt x="283" y="83"/>
                    </a:lnTo>
                    <a:lnTo>
                      <a:pt x="277" y="74"/>
                    </a:lnTo>
                    <a:lnTo>
                      <a:pt x="268" y="71"/>
                    </a:lnTo>
                    <a:lnTo>
                      <a:pt x="180" y="56"/>
                    </a:lnTo>
                    <a:lnTo>
                      <a:pt x="29" y="41"/>
                    </a:lnTo>
                    <a:lnTo>
                      <a:pt x="17" y="35"/>
                    </a:lnTo>
                    <a:lnTo>
                      <a:pt x="8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174160" y="3567240"/>
                <a:ext cx="79560" cy="84600"/>
              </a:xfrm>
              <a:custGeom>
                <a:avLst/>
                <a:gdLst/>
                <a:ahLst/>
                <a:rect l="0" t="0" r="r" b="b"/>
                <a:pathLst>
                  <a:path w="221" h="235">
                    <a:moveTo>
                      <a:pt x="114" y="0"/>
                    </a:moveTo>
                    <a:lnTo>
                      <a:pt x="133" y="0"/>
                    </a:lnTo>
                    <a:lnTo>
                      <a:pt x="156" y="8"/>
                    </a:lnTo>
                    <a:lnTo>
                      <a:pt x="176" y="20"/>
                    </a:lnTo>
                    <a:lnTo>
                      <a:pt x="190" y="32"/>
                    </a:lnTo>
                    <a:lnTo>
                      <a:pt x="201" y="47"/>
                    </a:lnTo>
                    <a:lnTo>
                      <a:pt x="215" y="69"/>
                    </a:lnTo>
                    <a:lnTo>
                      <a:pt x="218" y="89"/>
                    </a:lnTo>
                    <a:lnTo>
                      <a:pt x="221" y="116"/>
                    </a:lnTo>
                    <a:lnTo>
                      <a:pt x="218" y="140"/>
                    </a:lnTo>
                    <a:lnTo>
                      <a:pt x="215" y="160"/>
                    </a:lnTo>
                    <a:lnTo>
                      <a:pt x="201" y="182"/>
                    </a:lnTo>
                    <a:lnTo>
                      <a:pt x="190" y="200"/>
                    </a:lnTo>
                    <a:lnTo>
                      <a:pt x="176" y="215"/>
                    </a:lnTo>
                    <a:lnTo>
                      <a:pt x="156" y="223"/>
                    </a:lnTo>
                    <a:lnTo>
                      <a:pt x="133" y="232"/>
                    </a:lnTo>
                    <a:lnTo>
                      <a:pt x="114" y="235"/>
                    </a:lnTo>
                    <a:lnTo>
                      <a:pt x="90" y="232"/>
                    </a:lnTo>
                    <a:lnTo>
                      <a:pt x="70" y="223"/>
                    </a:lnTo>
                    <a:lnTo>
                      <a:pt x="50" y="215"/>
                    </a:lnTo>
                    <a:lnTo>
                      <a:pt x="33" y="200"/>
                    </a:lnTo>
                    <a:lnTo>
                      <a:pt x="22" y="182"/>
                    </a:lnTo>
                    <a:lnTo>
                      <a:pt x="11" y="160"/>
                    </a:lnTo>
                    <a:lnTo>
                      <a:pt x="2" y="140"/>
                    </a:lnTo>
                    <a:lnTo>
                      <a:pt x="0" y="116"/>
                    </a:lnTo>
                    <a:lnTo>
                      <a:pt x="2" y="89"/>
                    </a:lnTo>
                    <a:lnTo>
                      <a:pt x="11" y="69"/>
                    </a:lnTo>
                    <a:lnTo>
                      <a:pt x="22" y="47"/>
                    </a:lnTo>
                    <a:lnTo>
                      <a:pt x="33" y="32"/>
                    </a:lnTo>
                    <a:lnTo>
                      <a:pt x="50" y="20"/>
                    </a:lnTo>
                    <a:lnTo>
                      <a:pt x="70" y="8"/>
                    </a:lnTo>
                    <a:lnTo>
                      <a:pt x="9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540640" y="3570120"/>
                <a:ext cx="82800" cy="82800"/>
              </a:xfrm>
              <a:custGeom>
                <a:avLst/>
                <a:gdLst/>
                <a:ahLst/>
                <a:rect l="0" t="0" r="r" b="b"/>
                <a:pathLst>
                  <a:path w="230" h="230">
                    <a:moveTo>
                      <a:pt x="113" y="0"/>
                    </a:moveTo>
                    <a:lnTo>
                      <a:pt x="140" y="0"/>
                    </a:lnTo>
                    <a:lnTo>
                      <a:pt x="161" y="5"/>
                    </a:lnTo>
                    <a:lnTo>
                      <a:pt x="179" y="14"/>
                    </a:lnTo>
                    <a:lnTo>
                      <a:pt x="197" y="32"/>
                    </a:lnTo>
                    <a:lnTo>
                      <a:pt x="209" y="47"/>
                    </a:lnTo>
                    <a:lnTo>
                      <a:pt x="221" y="68"/>
                    </a:lnTo>
                    <a:lnTo>
                      <a:pt x="230" y="89"/>
                    </a:lnTo>
                    <a:lnTo>
                      <a:pt x="230" y="117"/>
                    </a:lnTo>
                    <a:lnTo>
                      <a:pt x="230" y="140"/>
                    </a:lnTo>
                    <a:lnTo>
                      <a:pt x="221" y="161"/>
                    </a:lnTo>
                    <a:lnTo>
                      <a:pt x="209" y="182"/>
                    </a:lnTo>
                    <a:lnTo>
                      <a:pt x="197" y="197"/>
                    </a:lnTo>
                    <a:lnTo>
                      <a:pt x="179" y="212"/>
                    </a:lnTo>
                    <a:lnTo>
                      <a:pt x="161" y="224"/>
                    </a:lnTo>
                    <a:lnTo>
                      <a:pt x="140" y="227"/>
                    </a:lnTo>
                    <a:lnTo>
                      <a:pt x="113" y="230"/>
                    </a:lnTo>
                    <a:lnTo>
                      <a:pt x="95" y="227"/>
                    </a:lnTo>
                    <a:lnTo>
                      <a:pt x="68" y="224"/>
                    </a:lnTo>
                    <a:lnTo>
                      <a:pt x="47" y="212"/>
                    </a:lnTo>
                    <a:lnTo>
                      <a:pt x="32" y="197"/>
                    </a:lnTo>
                    <a:lnTo>
                      <a:pt x="20" y="182"/>
                    </a:lnTo>
                    <a:lnTo>
                      <a:pt x="8" y="161"/>
                    </a:lnTo>
                    <a:lnTo>
                      <a:pt x="2" y="140"/>
                    </a:lnTo>
                    <a:lnTo>
                      <a:pt x="0" y="117"/>
                    </a:lnTo>
                    <a:lnTo>
                      <a:pt x="2" y="89"/>
                    </a:lnTo>
                    <a:lnTo>
                      <a:pt x="8" y="68"/>
                    </a:lnTo>
                    <a:lnTo>
                      <a:pt x="20" y="47"/>
                    </a:lnTo>
                    <a:lnTo>
                      <a:pt x="32" y="32"/>
                    </a:lnTo>
                    <a:lnTo>
                      <a:pt x="47" y="14"/>
                    </a:lnTo>
                    <a:lnTo>
                      <a:pt x="68" y="5"/>
                    </a:lnTo>
                    <a:lnTo>
                      <a:pt x="95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8489880" y="3525840"/>
                <a:ext cx="51120" cy="84600"/>
              </a:xfrm>
              <a:custGeom>
                <a:avLst/>
                <a:gdLst/>
                <a:ahLst/>
                <a:rect l="0" t="0" r="r" b="b"/>
                <a:pathLst>
                  <a:path w="142" h="235">
                    <a:moveTo>
                      <a:pt x="142" y="75"/>
                    </a:moveTo>
                    <a:lnTo>
                      <a:pt x="109" y="150"/>
                    </a:lnTo>
                    <a:lnTo>
                      <a:pt x="77" y="214"/>
                    </a:lnTo>
                    <a:lnTo>
                      <a:pt x="67" y="235"/>
                    </a:lnTo>
                    <a:lnTo>
                      <a:pt x="0" y="2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80" y="50"/>
                    </a:lnTo>
                    <a:lnTo>
                      <a:pt x="80" y="53"/>
                    </a:lnTo>
                    <a:lnTo>
                      <a:pt x="95" y="63"/>
                    </a:lnTo>
                    <a:lnTo>
                      <a:pt x="98" y="66"/>
                    </a:lnTo>
                    <a:lnTo>
                      <a:pt x="112" y="75"/>
                    </a:lnTo>
                    <a:lnTo>
                      <a:pt x="142" y="75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8394840" y="3470400"/>
                <a:ext cx="76680" cy="41760"/>
              </a:xfrm>
              <a:custGeom>
                <a:avLst/>
                <a:gdLst/>
                <a:ahLst/>
                <a:rect l="0" t="0" r="r" b="b"/>
                <a:pathLst>
                  <a:path w="213" h="116">
                    <a:moveTo>
                      <a:pt x="2" y="8"/>
                    </a:moveTo>
                    <a:lnTo>
                      <a:pt x="2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87" y="0"/>
                    </a:lnTo>
                    <a:lnTo>
                      <a:pt x="193" y="2"/>
                    </a:lnTo>
                    <a:lnTo>
                      <a:pt x="196" y="2"/>
                    </a:lnTo>
                    <a:lnTo>
                      <a:pt x="202" y="8"/>
                    </a:lnTo>
                    <a:lnTo>
                      <a:pt x="202" y="11"/>
                    </a:lnTo>
                    <a:lnTo>
                      <a:pt x="204" y="14"/>
                    </a:lnTo>
                    <a:lnTo>
                      <a:pt x="213" y="102"/>
                    </a:lnTo>
                    <a:lnTo>
                      <a:pt x="213" y="108"/>
                    </a:lnTo>
                    <a:lnTo>
                      <a:pt x="207" y="113"/>
                    </a:lnTo>
                    <a:lnTo>
                      <a:pt x="204" y="116"/>
                    </a:lnTo>
                    <a:lnTo>
                      <a:pt x="196" y="116"/>
                    </a:lnTo>
                    <a:lnTo>
                      <a:pt x="14" y="116"/>
                    </a:lnTo>
                    <a:lnTo>
                      <a:pt x="8" y="116"/>
                    </a:lnTo>
                    <a:lnTo>
                      <a:pt x="2" y="113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8399520" y="3471840"/>
                <a:ext cx="68760" cy="36720"/>
              </a:xfrm>
              <a:custGeom>
                <a:avLst/>
                <a:gdLst/>
                <a:ahLst/>
                <a:rect l="0" t="0" r="r" b="b"/>
                <a:pathLst>
                  <a:path w="191" h="102">
                    <a:moveTo>
                      <a:pt x="180" y="102"/>
                    </a:moveTo>
                    <a:lnTo>
                      <a:pt x="11" y="102"/>
                    </a:lnTo>
                    <a:lnTo>
                      <a:pt x="5" y="102"/>
                    </a:lnTo>
                    <a:lnTo>
                      <a:pt x="2" y="99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171" y="0"/>
                    </a:lnTo>
                    <a:lnTo>
                      <a:pt x="174" y="2"/>
                    </a:lnTo>
                    <a:lnTo>
                      <a:pt x="180" y="2"/>
                    </a:lnTo>
                    <a:lnTo>
                      <a:pt x="183" y="5"/>
                    </a:lnTo>
                    <a:lnTo>
                      <a:pt x="183" y="11"/>
                    </a:lnTo>
                    <a:lnTo>
                      <a:pt x="191" y="90"/>
                    </a:lnTo>
                    <a:lnTo>
                      <a:pt x="191" y="96"/>
                    </a:lnTo>
                    <a:lnTo>
                      <a:pt x="188" y="99"/>
                    </a:lnTo>
                    <a:lnTo>
                      <a:pt x="183" y="102"/>
                    </a:lnTo>
                    <a:lnTo>
                      <a:pt x="18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396280" y="3467160"/>
                <a:ext cx="70200" cy="5040"/>
              </a:xfrm>
              <a:custGeom>
                <a:avLst/>
                <a:gdLst/>
                <a:ahLst/>
                <a:rect l="0" t="0" r="r" b="b"/>
                <a:pathLst>
                  <a:path w="195" h="14">
                    <a:moveTo>
                      <a:pt x="0" y="14"/>
                    </a:moveTo>
                    <a:lnTo>
                      <a:pt x="11" y="0"/>
                    </a:lnTo>
                    <a:lnTo>
                      <a:pt x="180" y="0"/>
                    </a:lnTo>
                    <a:lnTo>
                      <a:pt x="195" y="14"/>
                    </a:lnTo>
                    <a:lnTo>
                      <a:pt x="189" y="9"/>
                    </a:lnTo>
                    <a:lnTo>
                      <a:pt x="186" y="9"/>
                    </a:lnTo>
                    <a:lnTo>
                      <a:pt x="180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299440" y="3470400"/>
                <a:ext cx="66960" cy="41760"/>
              </a:xfrm>
              <a:custGeom>
                <a:avLst/>
                <a:gdLst/>
                <a:ahLst/>
                <a:rect l="0" t="0" r="r" b="b"/>
                <a:pathLst>
                  <a:path w="186" h="116">
                    <a:moveTo>
                      <a:pt x="2" y="8"/>
                    </a:moveTo>
                    <a:lnTo>
                      <a:pt x="8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71" y="0"/>
                    </a:lnTo>
                    <a:lnTo>
                      <a:pt x="174" y="2"/>
                    </a:lnTo>
                    <a:lnTo>
                      <a:pt x="180" y="2"/>
                    </a:lnTo>
                    <a:lnTo>
                      <a:pt x="183" y="11"/>
                    </a:lnTo>
                    <a:lnTo>
                      <a:pt x="183" y="14"/>
                    </a:lnTo>
                    <a:lnTo>
                      <a:pt x="186" y="102"/>
                    </a:lnTo>
                    <a:lnTo>
                      <a:pt x="186" y="108"/>
                    </a:lnTo>
                    <a:lnTo>
                      <a:pt x="186" y="113"/>
                    </a:lnTo>
                    <a:lnTo>
                      <a:pt x="183" y="116"/>
                    </a:lnTo>
                    <a:lnTo>
                      <a:pt x="174" y="116"/>
                    </a:lnTo>
                    <a:lnTo>
                      <a:pt x="11" y="116"/>
                    </a:lnTo>
                    <a:lnTo>
                      <a:pt x="8" y="116"/>
                    </a:lnTo>
                    <a:lnTo>
                      <a:pt x="2" y="113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8182080" y="3576600"/>
                <a:ext cx="66960" cy="65520"/>
              </a:xfrm>
              <a:custGeom>
                <a:avLst/>
                <a:gdLst/>
                <a:ahLst/>
                <a:rect l="0" t="0" r="r" b="b"/>
                <a:pathLst>
                  <a:path w="186" h="182">
                    <a:moveTo>
                      <a:pt x="96" y="0"/>
                    </a:moveTo>
                    <a:lnTo>
                      <a:pt x="111" y="0"/>
                    </a:lnTo>
                    <a:lnTo>
                      <a:pt x="129" y="8"/>
                    </a:lnTo>
                    <a:lnTo>
                      <a:pt x="144" y="17"/>
                    </a:lnTo>
                    <a:lnTo>
                      <a:pt x="162" y="22"/>
                    </a:lnTo>
                    <a:lnTo>
                      <a:pt x="171" y="40"/>
                    </a:lnTo>
                    <a:lnTo>
                      <a:pt x="177" y="52"/>
                    </a:lnTo>
                    <a:lnTo>
                      <a:pt x="183" y="72"/>
                    </a:lnTo>
                    <a:lnTo>
                      <a:pt x="186" y="89"/>
                    </a:lnTo>
                    <a:lnTo>
                      <a:pt x="183" y="110"/>
                    </a:lnTo>
                    <a:lnTo>
                      <a:pt x="177" y="124"/>
                    </a:lnTo>
                    <a:lnTo>
                      <a:pt x="171" y="142"/>
                    </a:lnTo>
                    <a:lnTo>
                      <a:pt x="162" y="154"/>
                    </a:lnTo>
                    <a:lnTo>
                      <a:pt x="144" y="165"/>
                    </a:lnTo>
                    <a:lnTo>
                      <a:pt x="129" y="174"/>
                    </a:lnTo>
                    <a:lnTo>
                      <a:pt x="111" y="177"/>
                    </a:lnTo>
                    <a:lnTo>
                      <a:pt x="96" y="182"/>
                    </a:lnTo>
                    <a:lnTo>
                      <a:pt x="74" y="177"/>
                    </a:lnTo>
                    <a:lnTo>
                      <a:pt x="59" y="174"/>
                    </a:lnTo>
                    <a:lnTo>
                      <a:pt x="41" y="165"/>
                    </a:lnTo>
                    <a:lnTo>
                      <a:pt x="29" y="154"/>
                    </a:lnTo>
                    <a:lnTo>
                      <a:pt x="17" y="142"/>
                    </a:lnTo>
                    <a:lnTo>
                      <a:pt x="8" y="124"/>
                    </a:lnTo>
                    <a:lnTo>
                      <a:pt x="5" y="110"/>
                    </a:lnTo>
                    <a:lnTo>
                      <a:pt x="0" y="89"/>
                    </a:lnTo>
                    <a:lnTo>
                      <a:pt x="5" y="72"/>
                    </a:lnTo>
                    <a:lnTo>
                      <a:pt x="8" y="52"/>
                    </a:lnTo>
                    <a:lnTo>
                      <a:pt x="17" y="40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9" y="8"/>
                    </a:lnTo>
                    <a:lnTo>
                      <a:pt x="74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8299440" y="3467160"/>
                <a:ext cx="65520" cy="5040"/>
              </a:xfrm>
              <a:custGeom>
                <a:avLst/>
                <a:gdLst/>
                <a:ahLst/>
                <a:rect l="0" t="0" r="r" b="b"/>
                <a:pathLst>
                  <a:path w="182" h="14">
                    <a:moveTo>
                      <a:pt x="0" y="14"/>
                    </a:moveTo>
                    <a:lnTo>
                      <a:pt x="11" y="0"/>
                    </a:lnTo>
                    <a:lnTo>
                      <a:pt x="173" y="0"/>
                    </a:lnTo>
                    <a:lnTo>
                      <a:pt x="182" y="9"/>
                    </a:lnTo>
                    <a:lnTo>
                      <a:pt x="176" y="9"/>
                    </a:lnTo>
                    <a:lnTo>
                      <a:pt x="173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8302680" y="3471840"/>
                <a:ext cx="62280" cy="36720"/>
              </a:xfrm>
              <a:custGeom>
                <a:avLst/>
                <a:gdLst/>
                <a:ahLst/>
                <a:rect l="0" t="0" r="r" b="b"/>
                <a:pathLst>
                  <a:path w="173" h="102">
                    <a:moveTo>
                      <a:pt x="162" y="102"/>
                    </a:moveTo>
                    <a:lnTo>
                      <a:pt x="11" y="102"/>
                    </a:lnTo>
                    <a:lnTo>
                      <a:pt x="5" y="102"/>
                    </a:lnTo>
                    <a:lnTo>
                      <a:pt x="2" y="99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159" y="0"/>
                    </a:lnTo>
                    <a:lnTo>
                      <a:pt x="162" y="2"/>
                    </a:lnTo>
                    <a:lnTo>
                      <a:pt x="165" y="2"/>
                    </a:lnTo>
                    <a:lnTo>
                      <a:pt x="165" y="5"/>
                    </a:lnTo>
                    <a:lnTo>
                      <a:pt x="171" y="11"/>
                    </a:lnTo>
                    <a:lnTo>
                      <a:pt x="173" y="90"/>
                    </a:lnTo>
                    <a:lnTo>
                      <a:pt x="173" y="96"/>
                    </a:lnTo>
                    <a:lnTo>
                      <a:pt x="171" y="99"/>
                    </a:lnTo>
                    <a:lnTo>
                      <a:pt x="165" y="102"/>
                    </a:lnTo>
                    <a:lnTo>
                      <a:pt x="162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8353440" y="3586320"/>
                <a:ext cx="59040" cy="5040"/>
              </a:xfrm>
              <a:custGeom>
                <a:avLst/>
                <a:gdLst/>
                <a:ahLst/>
                <a:rect l="0" t="0" r="r" b="b"/>
                <a:pathLst>
                  <a:path w="164" h="14">
                    <a:moveTo>
                      <a:pt x="164" y="0"/>
                    </a:moveTo>
                    <a:lnTo>
                      <a:pt x="149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8123400" y="3570120"/>
                <a:ext cx="55800" cy="19440"/>
              </a:xfrm>
              <a:custGeom>
                <a:avLst/>
                <a:gdLst/>
                <a:ahLst/>
                <a:rect l="0" t="0" r="r" b="b"/>
                <a:pathLst>
                  <a:path w="155" h="54">
                    <a:moveTo>
                      <a:pt x="95" y="5"/>
                    </a:moveTo>
                    <a:lnTo>
                      <a:pt x="122" y="2"/>
                    </a:lnTo>
                    <a:lnTo>
                      <a:pt x="155" y="0"/>
                    </a:lnTo>
                    <a:lnTo>
                      <a:pt x="143" y="11"/>
                    </a:lnTo>
                    <a:lnTo>
                      <a:pt x="140" y="18"/>
                    </a:lnTo>
                    <a:lnTo>
                      <a:pt x="122" y="49"/>
                    </a:lnTo>
                    <a:lnTo>
                      <a:pt x="122" y="54"/>
                    </a:lnTo>
                    <a:lnTo>
                      <a:pt x="29" y="54"/>
                    </a:lnTo>
                    <a:lnTo>
                      <a:pt x="8" y="46"/>
                    </a:lnTo>
                    <a:lnTo>
                      <a:pt x="0" y="33"/>
                    </a:lnTo>
                    <a:lnTo>
                      <a:pt x="0" y="18"/>
                    </a:lnTo>
                    <a:lnTo>
                      <a:pt x="8" y="5"/>
                    </a:lnTo>
                    <a:lnTo>
                      <a:pt x="95" y="5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8194680" y="3586320"/>
                <a:ext cx="41760" cy="44640"/>
              </a:xfrm>
              <a:custGeom>
                <a:avLst/>
                <a:gdLst/>
                <a:ahLst/>
                <a:rect l="0" t="0" r="r" b="b"/>
                <a:pathLst>
                  <a:path w="116" h="124">
                    <a:moveTo>
                      <a:pt x="61" y="0"/>
                    </a:moveTo>
                    <a:lnTo>
                      <a:pt x="81" y="6"/>
                    </a:lnTo>
                    <a:lnTo>
                      <a:pt x="102" y="18"/>
                    </a:lnTo>
                    <a:lnTo>
                      <a:pt x="113" y="33"/>
                    </a:lnTo>
                    <a:lnTo>
                      <a:pt x="116" y="60"/>
                    </a:lnTo>
                    <a:lnTo>
                      <a:pt x="113" y="85"/>
                    </a:lnTo>
                    <a:lnTo>
                      <a:pt x="102" y="106"/>
                    </a:lnTo>
                    <a:lnTo>
                      <a:pt x="81" y="118"/>
                    </a:lnTo>
                    <a:lnTo>
                      <a:pt x="61" y="124"/>
                    </a:lnTo>
                    <a:lnTo>
                      <a:pt x="38" y="118"/>
                    </a:lnTo>
                    <a:lnTo>
                      <a:pt x="17" y="106"/>
                    </a:lnTo>
                    <a:lnTo>
                      <a:pt x="5" y="85"/>
                    </a:lnTo>
                    <a:lnTo>
                      <a:pt x="0" y="60"/>
                    </a:lnTo>
                    <a:lnTo>
                      <a:pt x="5" y="33"/>
                    </a:lnTo>
                    <a:lnTo>
                      <a:pt x="17" y="18"/>
                    </a:lnTo>
                    <a:lnTo>
                      <a:pt x="38" y="6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8645400" y="3570120"/>
                <a:ext cx="12960" cy="30600"/>
              </a:xfrm>
              <a:custGeom>
                <a:avLst/>
                <a:gdLst/>
                <a:ahLst/>
                <a:rect l="0" t="0" r="r" b="b"/>
                <a:pathLst>
                  <a:path w="36" h="85">
                    <a:moveTo>
                      <a:pt x="5" y="77"/>
                    </a:moveTo>
                    <a:lnTo>
                      <a:pt x="19" y="74"/>
                    </a:lnTo>
                    <a:lnTo>
                      <a:pt x="1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7"/>
                    </a:lnTo>
                    <a:lnTo>
                      <a:pt x="28" y="85"/>
                    </a:lnTo>
                    <a:lnTo>
                      <a:pt x="10" y="85"/>
                    </a:lnTo>
                    <a:lnTo>
                      <a:pt x="5" y="77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248680" y="3525840"/>
                <a:ext cx="24120" cy="19440"/>
              </a:xfrm>
              <a:custGeom>
                <a:avLst/>
                <a:gdLst/>
                <a:ahLst/>
                <a:rect l="0" t="0" r="r" b="b"/>
                <a:pathLst>
                  <a:path w="67" h="54">
                    <a:moveTo>
                      <a:pt x="44" y="0"/>
                    </a:moveTo>
                    <a:lnTo>
                      <a:pt x="7" y="0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25" y="46"/>
                    </a:lnTo>
                    <a:lnTo>
                      <a:pt x="27" y="51"/>
                    </a:lnTo>
                    <a:lnTo>
                      <a:pt x="36" y="54"/>
                    </a:lnTo>
                    <a:lnTo>
                      <a:pt x="64" y="54"/>
                    </a:lnTo>
                    <a:lnTo>
                      <a:pt x="67" y="51"/>
                    </a:lnTo>
                    <a:lnTo>
                      <a:pt x="67" y="46"/>
                    </a:lnTo>
                    <a:lnTo>
                      <a:pt x="56" y="8"/>
                    </a:lnTo>
                    <a:lnTo>
                      <a:pt x="54" y="5"/>
                    </a:lnTo>
                    <a:lnTo>
                      <a:pt x="49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8518680" y="3576600"/>
                <a:ext cx="22680" cy="25920"/>
              </a:xfrm>
              <a:custGeom>
                <a:avLst/>
                <a:gdLst/>
                <a:ahLst/>
                <a:rect l="0" t="0" r="r" b="b"/>
                <a:pathLst>
                  <a:path w="63" h="72">
                    <a:moveTo>
                      <a:pt x="31" y="8"/>
                    </a:moveTo>
                    <a:lnTo>
                      <a:pt x="63" y="0"/>
                    </a:lnTo>
                    <a:lnTo>
                      <a:pt x="55" y="8"/>
                    </a:lnTo>
                    <a:lnTo>
                      <a:pt x="40" y="36"/>
                    </a:lnTo>
                    <a:lnTo>
                      <a:pt x="31" y="63"/>
                    </a:lnTo>
                    <a:lnTo>
                      <a:pt x="31" y="69"/>
                    </a:lnTo>
                    <a:lnTo>
                      <a:pt x="0" y="72"/>
                    </a:lnTo>
                    <a:lnTo>
                      <a:pt x="31" y="8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8518680" y="3524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17" y="72"/>
                    </a:moveTo>
                    <a:lnTo>
                      <a:pt x="14" y="69"/>
                    </a:lnTo>
                    <a:lnTo>
                      <a:pt x="27" y="58"/>
                    </a:lnTo>
                    <a:lnTo>
                      <a:pt x="33" y="58"/>
                    </a:lnTo>
                    <a:lnTo>
                      <a:pt x="39" y="46"/>
                    </a:lnTo>
                    <a:lnTo>
                      <a:pt x="53" y="29"/>
                    </a:lnTo>
                    <a:lnTo>
                      <a:pt x="60" y="26"/>
                    </a:lnTo>
                    <a:lnTo>
                      <a:pt x="60" y="20"/>
                    </a:lnTo>
                    <a:lnTo>
                      <a:pt x="50" y="16"/>
                    </a:lnTo>
                    <a:lnTo>
                      <a:pt x="48" y="16"/>
                    </a:lnTo>
                    <a:lnTo>
                      <a:pt x="42" y="16"/>
                    </a:lnTo>
                    <a:lnTo>
                      <a:pt x="27" y="34"/>
                    </a:lnTo>
                    <a:lnTo>
                      <a:pt x="14" y="37"/>
                    </a:lnTo>
                    <a:lnTo>
                      <a:pt x="14" y="48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8" y="46"/>
                    </a:lnTo>
                    <a:lnTo>
                      <a:pt x="14" y="29"/>
                    </a:lnTo>
                    <a:lnTo>
                      <a:pt x="39" y="8"/>
                    </a:lnTo>
                    <a:lnTo>
                      <a:pt x="48" y="0"/>
                    </a:lnTo>
                    <a:lnTo>
                      <a:pt x="60" y="5"/>
                    </a:lnTo>
                    <a:lnTo>
                      <a:pt x="66" y="16"/>
                    </a:lnTo>
                    <a:lnTo>
                      <a:pt x="72" y="26"/>
                    </a:lnTo>
                    <a:lnTo>
                      <a:pt x="66" y="34"/>
                    </a:lnTo>
                    <a:lnTo>
                      <a:pt x="42" y="58"/>
                    </a:lnTo>
                    <a:lnTo>
                      <a:pt x="27" y="61"/>
                    </a:lnTo>
                    <a:lnTo>
                      <a:pt x="17" y="72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8142120" y="3525840"/>
                <a:ext cx="22680" cy="22680"/>
              </a:xfrm>
              <a:custGeom>
                <a:avLst/>
                <a:gdLst/>
                <a:ahLst/>
                <a:rect l="0" t="0" r="r" b="b"/>
                <a:pathLst>
                  <a:path w="63" h="63">
                    <a:moveTo>
                      <a:pt x="14" y="0"/>
                    </a:moveTo>
                    <a:lnTo>
                      <a:pt x="55" y="0"/>
                    </a:lnTo>
                    <a:lnTo>
                      <a:pt x="58" y="0"/>
                    </a:lnTo>
                    <a:lnTo>
                      <a:pt x="63" y="8"/>
                    </a:lnTo>
                    <a:lnTo>
                      <a:pt x="63" y="21"/>
                    </a:lnTo>
                    <a:lnTo>
                      <a:pt x="63" y="27"/>
                    </a:lnTo>
                    <a:lnTo>
                      <a:pt x="58" y="33"/>
                    </a:lnTo>
                    <a:lnTo>
                      <a:pt x="45" y="54"/>
                    </a:lnTo>
                    <a:lnTo>
                      <a:pt x="43" y="60"/>
                    </a:lnTo>
                    <a:lnTo>
                      <a:pt x="34" y="63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8637480" y="3589200"/>
                <a:ext cx="14760" cy="8280"/>
              </a:xfrm>
              <a:custGeom>
                <a:avLst/>
                <a:gdLst/>
                <a:ahLst/>
                <a:rect l="0" t="0" r="r" b="b"/>
                <a:pathLst>
                  <a:path w="41" h="23">
                    <a:moveTo>
                      <a:pt x="0" y="0"/>
                    </a:moveTo>
                    <a:lnTo>
                      <a:pt x="41" y="0"/>
                    </a:lnTo>
                    <a:lnTo>
                      <a:pt x="41" y="20"/>
                    </a:lnTo>
                    <a:lnTo>
                      <a:pt x="23" y="23"/>
                    </a:lnTo>
                    <a:lnTo>
                      <a:pt x="18" y="23"/>
                    </a:lnTo>
                    <a:lnTo>
                      <a:pt x="4" y="2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8207280" y="3597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25" y="0"/>
                    </a:moveTo>
                    <a:lnTo>
                      <a:pt x="34" y="6"/>
                    </a:lnTo>
                    <a:lnTo>
                      <a:pt x="41" y="9"/>
                    </a:lnTo>
                    <a:lnTo>
                      <a:pt x="47" y="19"/>
                    </a:lnTo>
                    <a:lnTo>
                      <a:pt x="50" y="29"/>
                    </a:lnTo>
                    <a:lnTo>
                      <a:pt x="47" y="42"/>
                    </a:lnTo>
                    <a:lnTo>
                      <a:pt x="41" y="45"/>
                    </a:lnTo>
                    <a:lnTo>
                      <a:pt x="34" y="54"/>
                    </a:lnTo>
                    <a:lnTo>
                      <a:pt x="25" y="54"/>
                    </a:lnTo>
                    <a:lnTo>
                      <a:pt x="13" y="54"/>
                    </a:lnTo>
                    <a:lnTo>
                      <a:pt x="6" y="45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6" y="9"/>
                    </a:lnTo>
                    <a:lnTo>
                      <a:pt x="13" y="6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8136000" y="3560760"/>
                <a:ext cx="16200" cy="6840"/>
              </a:xfrm>
              <a:custGeom>
                <a:avLst/>
                <a:gdLst/>
                <a:ahLst/>
                <a:rect l="0" t="0" r="r" b="b"/>
                <a:pathLst>
                  <a:path w="45" h="19">
                    <a:moveTo>
                      <a:pt x="45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45" y="1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8639280" y="3571920"/>
                <a:ext cx="3600" cy="18000"/>
              </a:xfrm>
              <a:custGeom>
                <a:avLst/>
                <a:gdLst/>
                <a:ahLst/>
                <a:rect l="0" t="0" r="r" b="b"/>
                <a:pathLst>
                  <a:path w="10" h="50">
                    <a:moveTo>
                      <a:pt x="0" y="0"/>
                    </a:moveTo>
                    <a:lnTo>
                      <a:pt x="10" y="0"/>
                    </a:lnTo>
                    <a:lnTo>
                      <a:pt x="1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8629560" y="3571920"/>
                <a:ext cx="9720" cy="18000"/>
              </a:xfrm>
              <a:custGeom>
                <a:avLst/>
                <a:gdLst/>
                <a:ahLst/>
                <a:rect l="0" t="0" r="r" b="b"/>
                <a:pathLst>
                  <a:path w="27" h="50">
                    <a:moveTo>
                      <a:pt x="27" y="0"/>
                    </a:moveTo>
                    <a:lnTo>
                      <a:pt x="27" y="50"/>
                    </a:lnTo>
                    <a:lnTo>
                      <a:pt x="21" y="50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8518680" y="3537000"/>
                <a:ext cx="14760" cy="11520"/>
              </a:xfrm>
              <a:custGeom>
                <a:avLst/>
                <a:gdLst/>
                <a:ahLst/>
                <a:rect l="0" t="0" r="r" b="b"/>
                <a:pathLst>
                  <a:path w="41" h="32">
                    <a:moveTo>
                      <a:pt x="16" y="32"/>
                    </a:moveTo>
                    <a:lnTo>
                      <a:pt x="0" y="25"/>
                    </a:lnTo>
                    <a:lnTo>
                      <a:pt x="16" y="13"/>
                    </a:lnTo>
                    <a:lnTo>
                      <a:pt x="16" y="2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5" y="13"/>
                    </a:lnTo>
                    <a:lnTo>
                      <a:pt x="41" y="11"/>
                    </a:lnTo>
                    <a:lnTo>
                      <a:pt x="35" y="21"/>
                    </a:lnTo>
                    <a:lnTo>
                      <a:pt x="28" y="21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8453520" y="3495600"/>
                <a:ext cx="11520" cy="12960"/>
              </a:xfrm>
              <a:custGeom>
                <a:avLst/>
                <a:gdLst/>
                <a:ahLst/>
                <a:rect l="0" t="0" r="r" b="b"/>
                <a:pathLst>
                  <a:path w="32" h="36">
                    <a:moveTo>
                      <a:pt x="32" y="36"/>
                    </a:moveTo>
                    <a:lnTo>
                      <a:pt x="26" y="36"/>
                    </a:lnTo>
                    <a:lnTo>
                      <a:pt x="26" y="11"/>
                    </a:lnTo>
                    <a:lnTo>
                      <a:pt x="10" y="36"/>
                    </a:lnTo>
                    <a:lnTo>
                      <a:pt x="0" y="36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2" y="2"/>
                    </a:lnTo>
                    <a:lnTo>
                      <a:pt x="32" y="8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f0f0f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8470800" y="356724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w="32" h="14">
                    <a:moveTo>
                      <a:pt x="25" y="0"/>
                    </a:moveTo>
                    <a:lnTo>
                      <a:pt x="32" y="0"/>
                    </a:lnTo>
                    <a:lnTo>
                      <a:pt x="32" y="14"/>
                    </a:lnTo>
                    <a:lnTo>
                      <a:pt x="11" y="14"/>
                    </a:lnTo>
                    <a:lnTo>
                      <a:pt x="0" y="8"/>
                    </a:lnTo>
                    <a:lnTo>
                      <a:pt x="11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8364600" y="356724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30" y="0"/>
                    </a:moveTo>
                    <a:lnTo>
                      <a:pt x="36" y="0"/>
                    </a:lnTo>
                    <a:lnTo>
                      <a:pt x="36" y="14"/>
                    </a:lnTo>
                    <a:lnTo>
                      <a:pt x="11" y="14"/>
                    </a:lnTo>
                    <a:lnTo>
                      <a:pt x="0" y="8"/>
                    </a:lnTo>
                    <a:lnTo>
                      <a:pt x="11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8470800" y="352440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w="32" h="14">
                    <a:moveTo>
                      <a:pt x="25" y="0"/>
                    </a:moveTo>
                    <a:lnTo>
                      <a:pt x="32" y="0"/>
                    </a:lnTo>
                    <a:lnTo>
                      <a:pt x="32" y="14"/>
                    </a:lnTo>
                    <a:lnTo>
                      <a:pt x="11" y="14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8364600" y="352440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30" y="0"/>
                    </a:moveTo>
                    <a:lnTo>
                      <a:pt x="36" y="0"/>
                    </a:lnTo>
                    <a:lnTo>
                      <a:pt x="36" y="14"/>
                    </a:lnTo>
                    <a:lnTo>
                      <a:pt x="11" y="14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8643960" y="3576600"/>
                <a:ext cx="8280" cy="12960"/>
              </a:xfrm>
              <a:custGeom>
                <a:avLst/>
                <a:gdLst/>
                <a:ahLst/>
                <a:rect l="0" t="0" r="r" b="b"/>
                <a:pathLst>
                  <a:path w="23" h="36">
                    <a:moveTo>
                      <a:pt x="23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36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8528040" y="3529080"/>
                <a:ext cx="11520" cy="12960"/>
              </a:xfrm>
              <a:custGeom>
                <a:avLst/>
                <a:gdLst/>
                <a:ahLst/>
                <a:rect l="0" t="0" r="r" b="b"/>
                <a:pathLst>
                  <a:path w="32" h="36">
                    <a:moveTo>
                      <a:pt x="0" y="20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32" y="3"/>
                    </a:lnTo>
                    <a:lnTo>
                      <a:pt x="32" y="9"/>
                    </a:lnTo>
                    <a:lnTo>
                      <a:pt x="27" y="12"/>
                    </a:lnTo>
                    <a:lnTo>
                      <a:pt x="12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8123400" y="3519360"/>
                <a:ext cx="3600" cy="9720"/>
              </a:xfrm>
              <a:custGeom>
                <a:avLst/>
                <a:gdLst/>
                <a:ahLst/>
                <a:rect l="0" t="0" r="r" b="b"/>
                <a:pathLst>
                  <a:path w="10" h="27">
                    <a:moveTo>
                      <a:pt x="10" y="0"/>
                    </a:moveTo>
                    <a:lnTo>
                      <a:pt x="10" y="27"/>
                    </a:lnTo>
                    <a:lnTo>
                      <a:pt x="0" y="24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00e2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8642520" y="357192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w="27" h="14">
                    <a:moveTo>
                      <a:pt x="2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8288280" y="3541680"/>
                <a:ext cx="9720" cy="8280"/>
              </a:xfrm>
              <a:custGeom>
                <a:avLst/>
                <a:gdLst/>
                <a:ahLst/>
                <a:rect l="0" t="0" r="r" b="b"/>
                <a:pathLst>
                  <a:path w="27" h="23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7" y="2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8393040" y="354168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w="19" h="23">
                    <a:moveTo>
                      <a:pt x="19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9" y="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8628120" y="3541680"/>
                <a:ext cx="9720" cy="6840"/>
              </a:xfrm>
              <a:custGeom>
                <a:avLst/>
                <a:gdLst/>
                <a:ahLst/>
                <a:rect l="0" t="0" r="r" b="b"/>
                <a:pathLst>
                  <a:path w="27" h="19">
                    <a:moveTo>
                      <a:pt x="15" y="0"/>
                    </a:moveTo>
                    <a:lnTo>
                      <a:pt x="21" y="0"/>
                    </a:lnTo>
                    <a:lnTo>
                      <a:pt x="27" y="6"/>
                    </a:lnTo>
                    <a:lnTo>
                      <a:pt x="21" y="13"/>
                    </a:lnTo>
                    <a:lnTo>
                      <a:pt x="15" y="19"/>
                    </a:lnTo>
                    <a:lnTo>
                      <a:pt x="5" y="13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8639280" y="3570120"/>
                <a:ext cx="6840" cy="1800"/>
              </a:xfrm>
              <a:custGeom>
                <a:avLst/>
                <a:gdLst/>
                <a:ahLst/>
                <a:rect l="0" t="0" r="r" b="b"/>
                <a:pathLst>
                  <a:path w="19" h="5">
                    <a:moveTo>
                      <a:pt x="0" y="5"/>
                    </a:moveTo>
                    <a:lnTo>
                      <a:pt x="19" y="0"/>
                    </a:lnTo>
                    <a:lnTo>
                      <a:pt x="1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8207280" y="361620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w="19" h="19">
                    <a:moveTo>
                      <a:pt x="8" y="19"/>
                    </a:moveTo>
                    <a:lnTo>
                      <a:pt x="3" y="19"/>
                    </a:lnTo>
                    <a:lnTo>
                      <a:pt x="0" y="11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9" y="11"/>
                    </a:lnTo>
                    <a:lnTo>
                      <a:pt x="16" y="19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8223120" y="363060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10" y="14"/>
                    </a:moveTo>
                    <a:lnTo>
                      <a:pt x="3" y="11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11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8188200" y="361620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w="19" h="14">
                    <a:moveTo>
                      <a:pt x="11" y="14"/>
                    </a:moveTo>
                    <a:lnTo>
                      <a:pt x="3" y="14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11" y="0"/>
                    </a:lnTo>
                    <a:lnTo>
                      <a:pt x="16" y="2"/>
                    </a:lnTo>
                    <a:lnTo>
                      <a:pt x="19" y="5"/>
                    </a:lnTo>
                    <a:lnTo>
                      <a:pt x="16" y="14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8202600" y="363060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w="19" h="14">
                    <a:moveTo>
                      <a:pt x="8" y="14"/>
                    </a:moveTo>
                    <a:lnTo>
                      <a:pt x="3" y="11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19" y="5"/>
                    </a:lnTo>
                    <a:lnTo>
                      <a:pt x="16" y="11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236080" y="361620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w="19" h="14">
                    <a:moveTo>
                      <a:pt x="8" y="14"/>
                    </a:moveTo>
                    <a:lnTo>
                      <a:pt x="0" y="14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14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8218440" y="361620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3" y="19"/>
                    </a:moveTo>
                    <a:lnTo>
                      <a:pt x="0" y="1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" y="0"/>
                    </a:lnTo>
                    <a:lnTo>
                      <a:pt x="14" y="11"/>
                    </a:lnTo>
                    <a:lnTo>
                      <a:pt x="14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224920" y="36115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w="19" h="14">
                    <a:moveTo>
                      <a:pt x="9" y="14"/>
                    </a:moveTo>
                    <a:lnTo>
                      <a:pt x="6" y="1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8201160" y="361152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6" y="14"/>
                    </a:moveTo>
                    <a:lnTo>
                      <a:pt x="0" y="11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4" y="5"/>
                    </a:lnTo>
                    <a:lnTo>
                      <a:pt x="10" y="11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199360" y="36003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w="19" h="14">
                    <a:moveTo>
                      <a:pt x="11" y="0"/>
                    </a:moveTo>
                    <a:lnTo>
                      <a:pt x="16" y="0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1" y="14"/>
                    </a:lnTo>
                    <a:lnTo>
                      <a:pt x="3" y="14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8223120" y="35812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10" y="0"/>
                    </a:moveTo>
                    <a:lnTo>
                      <a:pt x="14" y="0"/>
                    </a:lnTo>
                    <a:lnTo>
                      <a:pt x="14" y="3"/>
                    </a:lnTo>
                    <a:lnTo>
                      <a:pt x="14" y="14"/>
                    </a:lnTo>
                    <a:lnTo>
                      <a:pt x="10" y="14"/>
                    </a:lnTo>
                    <a:lnTo>
                      <a:pt x="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207280" y="3594240"/>
                <a:ext cx="6840" cy="3600"/>
              </a:xfrm>
              <a:custGeom>
                <a:avLst/>
                <a:gdLst/>
                <a:ahLst/>
                <a:rect l="0" t="0" r="r" b="b"/>
                <a:pathLst>
                  <a:path w="19" h="10">
                    <a:moveTo>
                      <a:pt x="8" y="0"/>
                    </a:moveTo>
                    <a:lnTo>
                      <a:pt x="16" y="0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8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202600" y="35812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6" y="0"/>
                    </a:moveTo>
                    <a:lnTo>
                      <a:pt x="14" y="0"/>
                    </a:lnTo>
                    <a:lnTo>
                      <a:pt x="14" y="3"/>
                    </a:lnTo>
                    <a:lnTo>
                      <a:pt x="14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188200" y="359568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w="19" h="14">
                    <a:moveTo>
                      <a:pt x="11" y="0"/>
                    </a:moveTo>
                    <a:lnTo>
                      <a:pt x="16" y="4"/>
                    </a:lnTo>
                    <a:lnTo>
                      <a:pt x="19" y="6"/>
                    </a:lnTo>
                    <a:lnTo>
                      <a:pt x="16" y="9"/>
                    </a:lnTo>
                    <a:lnTo>
                      <a:pt x="11" y="14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3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8217000" y="3594240"/>
                <a:ext cx="6840" cy="3600"/>
              </a:xfrm>
              <a:custGeom>
                <a:avLst/>
                <a:gdLst/>
                <a:ahLst/>
                <a:rect l="0" t="0" r="r" b="b"/>
                <a:pathLst>
                  <a:path w="19" h="10">
                    <a:moveTo>
                      <a:pt x="9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8236080" y="359568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w="19" h="14">
                    <a:moveTo>
                      <a:pt x="8" y="0"/>
                    </a:move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8" y="14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8226360" y="360036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3" y="0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8616960" y="3567240"/>
                <a:ext cx="20880" cy="22680"/>
              </a:xfrm>
              <a:custGeom>
                <a:avLst/>
                <a:gdLst/>
                <a:ahLst/>
                <a:rect l="0" t="0" r="r" b="b"/>
                <a:pathLst>
                  <a:path w="58" h="63">
                    <a:moveTo>
                      <a:pt x="58" y="63"/>
                    </a:moveTo>
                    <a:lnTo>
                      <a:pt x="38" y="63"/>
                    </a:lnTo>
                    <a:lnTo>
                      <a:pt x="25" y="3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38" y="12"/>
                    </a:lnTo>
                    <a:lnTo>
                      <a:pt x="38" y="34"/>
                    </a:lnTo>
                    <a:lnTo>
                      <a:pt x="58" y="63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8548560" y="3576600"/>
                <a:ext cx="65520" cy="68760"/>
              </a:xfrm>
              <a:custGeom>
                <a:avLst/>
                <a:gdLst/>
                <a:ahLst/>
                <a:rect l="0" t="0" r="r" b="b"/>
                <a:pathLst>
                  <a:path w="182" h="191">
                    <a:moveTo>
                      <a:pt x="91" y="0"/>
                    </a:moveTo>
                    <a:lnTo>
                      <a:pt x="108" y="5"/>
                    </a:lnTo>
                    <a:lnTo>
                      <a:pt x="129" y="8"/>
                    </a:lnTo>
                    <a:lnTo>
                      <a:pt x="141" y="17"/>
                    </a:lnTo>
                    <a:lnTo>
                      <a:pt x="156" y="29"/>
                    </a:lnTo>
                    <a:lnTo>
                      <a:pt x="165" y="40"/>
                    </a:lnTo>
                    <a:lnTo>
                      <a:pt x="176" y="59"/>
                    </a:lnTo>
                    <a:lnTo>
                      <a:pt x="182" y="76"/>
                    </a:lnTo>
                    <a:lnTo>
                      <a:pt x="182" y="97"/>
                    </a:lnTo>
                    <a:lnTo>
                      <a:pt x="182" y="114"/>
                    </a:lnTo>
                    <a:lnTo>
                      <a:pt x="176" y="132"/>
                    </a:lnTo>
                    <a:lnTo>
                      <a:pt x="165" y="144"/>
                    </a:lnTo>
                    <a:lnTo>
                      <a:pt x="156" y="162"/>
                    </a:lnTo>
                    <a:lnTo>
                      <a:pt x="141" y="174"/>
                    </a:lnTo>
                    <a:lnTo>
                      <a:pt x="129" y="182"/>
                    </a:lnTo>
                    <a:lnTo>
                      <a:pt x="108" y="185"/>
                    </a:lnTo>
                    <a:lnTo>
                      <a:pt x="91" y="191"/>
                    </a:lnTo>
                    <a:lnTo>
                      <a:pt x="76" y="185"/>
                    </a:lnTo>
                    <a:lnTo>
                      <a:pt x="56" y="182"/>
                    </a:lnTo>
                    <a:lnTo>
                      <a:pt x="43" y="174"/>
                    </a:lnTo>
                    <a:lnTo>
                      <a:pt x="26" y="162"/>
                    </a:lnTo>
                    <a:lnTo>
                      <a:pt x="20" y="144"/>
                    </a:lnTo>
                    <a:lnTo>
                      <a:pt x="8" y="132"/>
                    </a:lnTo>
                    <a:lnTo>
                      <a:pt x="2" y="114"/>
                    </a:lnTo>
                    <a:lnTo>
                      <a:pt x="0" y="97"/>
                    </a:lnTo>
                    <a:lnTo>
                      <a:pt x="2" y="76"/>
                    </a:lnTo>
                    <a:lnTo>
                      <a:pt x="8" y="59"/>
                    </a:lnTo>
                    <a:lnTo>
                      <a:pt x="20" y="40"/>
                    </a:lnTo>
                    <a:lnTo>
                      <a:pt x="26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6" y="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8559720" y="3589200"/>
                <a:ext cx="44640" cy="44640"/>
              </a:xfrm>
              <a:custGeom>
                <a:avLst/>
                <a:gdLst/>
                <a:ahLst/>
                <a:rect l="0" t="0" r="r" b="b"/>
                <a:pathLst>
                  <a:path w="124" h="124">
                    <a:moveTo>
                      <a:pt x="60" y="0"/>
                    </a:moveTo>
                    <a:lnTo>
                      <a:pt x="88" y="3"/>
                    </a:lnTo>
                    <a:lnTo>
                      <a:pt x="103" y="15"/>
                    </a:lnTo>
                    <a:lnTo>
                      <a:pt x="115" y="36"/>
                    </a:lnTo>
                    <a:lnTo>
                      <a:pt x="124" y="64"/>
                    </a:lnTo>
                    <a:lnTo>
                      <a:pt x="115" y="88"/>
                    </a:lnTo>
                    <a:lnTo>
                      <a:pt x="103" y="103"/>
                    </a:lnTo>
                    <a:lnTo>
                      <a:pt x="88" y="118"/>
                    </a:lnTo>
                    <a:lnTo>
                      <a:pt x="60" y="124"/>
                    </a:lnTo>
                    <a:lnTo>
                      <a:pt x="36" y="118"/>
                    </a:lnTo>
                    <a:lnTo>
                      <a:pt x="21" y="103"/>
                    </a:lnTo>
                    <a:lnTo>
                      <a:pt x="9" y="88"/>
                    </a:lnTo>
                    <a:lnTo>
                      <a:pt x="0" y="64"/>
                    </a:lnTo>
                    <a:lnTo>
                      <a:pt x="9" y="36"/>
                    </a:lnTo>
                    <a:lnTo>
                      <a:pt x="21" y="15"/>
                    </a:lnTo>
                    <a:lnTo>
                      <a:pt x="36" y="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8572680" y="3602160"/>
                <a:ext cx="18000" cy="18000"/>
              </a:xfrm>
              <a:custGeom>
                <a:avLst/>
                <a:gdLst/>
                <a:ahLst/>
                <a:rect l="0" t="0" r="r" b="b"/>
                <a:pathLst>
                  <a:path w="50" h="50">
                    <a:moveTo>
                      <a:pt x="23" y="0"/>
                    </a:moveTo>
                    <a:lnTo>
                      <a:pt x="32" y="0"/>
                    </a:lnTo>
                    <a:lnTo>
                      <a:pt x="41" y="8"/>
                    </a:lnTo>
                    <a:lnTo>
                      <a:pt x="44" y="18"/>
                    </a:lnTo>
                    <a:lnTo>
                      <a:pt x="50" y="26"/>
                    </a:lnTo>
                    <a:lnTo>
                      <a:pt x="44" y="32"/>
                    </a:lnTo>
                    <a:lnTo>
                      <a:pt x="41" y="41"/>
                    </a:lnTo>
                    <a:lnTo>
                      <a:pt x="32" y="44"/>
                    </a:lnTo>
                    <a:lnTo>
                      <a:pt x="23" y="50"/>
                    </a:lnTo>
                    <a:lnTo>
                      <a:pt x="18" y="44"/>
                    </a:lnTo>
                    <a:lnTo>
                      <a:pt x="8" y="41"/>
                    </a:lnTo>
                    <a:lnTo>
                      <a:pt x="5" y="32"/>
                    </a:lnTo>
                    <a:lnTo>
                      <a:pt x="0" y="26"/>
                    </a:lnTo>
                    <a:lnTo>
                      <a:pt x="5" y="18"/>
                    </a:lnTo>
                    <a:lnTo>
                      <a:pt x="8" y="8"/>
                    </a:lnTo>
                    <a:lnTo>
                      <a:pt x="18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8589960" y="363384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6" y="14"/>
                    </a:moveTo>
                    <a:lnTo>
                      <a:pt x="4" y="12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9" y="12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8574120" y="362124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3" y="14"/>
                    </a:moveTo>
                    <a:lnTo>
                      <a:pt x="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8604360" y="3616200"/>
                <a:ext cx="5040" cy="8280"/>
              </a:xfrm>
              <a:custGeom>
                <a:avLst/>
                <a:gdLst/>
                <a:ahLst/>
                <a:rect l="0" t="0" r="r" b="b"/>
                <a:pathLst>
                  <a:path w="14" h="23">
                    <a:moveTo>
                      <a:pt x="10" y="23"/>
                    </a:moveTo>
                    <a:lnTo>
                      <a:pt x="3" y="19"/>
                    </a:lnTo>
                    <a:lnTo>
                      <a:pt x="0" y="12"/>
                    </a:lnTo>
                    <a:lnTo>
                      <a:pt x="3" y="7"/>
                    </a:lnTo>
                    <a:lnTo>
                      <a:pt x="10" y="0"/>
                    </a:lnTo>
                    <a:lnTo>
                      <a:pt x="14" y="7"/>
                    </a:lnTo>
                    <a:lnTo>
                      <a:pt x="14" y="12"/>
                    </a:lnTo>
                    <a:lnTo>
                      <a:pt x="14" y="19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8569440" y="363384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6" y="14"/>
                    </a:moveTo>
                    <a:lnTo>
                      <a:pt x="2" y="12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9" y="12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8591400" y="361476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w="14" h="5">
                    <a:moveTo>
                      <a:pt x="10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8567640" y="361476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w="14" h="5">
                    <a:moveTo>
                      <a:pt x="6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8585280" y="362124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10" y="14"/>
                    </a:moveTo>
                    <a:lnTo>
                      <a:pt x="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8555040" y="3616200"/>
                <a:ext cx="5040" cy="8280"/>
              </a:xfrm>
              <a:custGeom>
                <a:avLst/>
                <a:gdLst/>
                <a:ahLst/>
                <a:rect l="0" t="0" r="r" b="b"/>
                <a:pathLst>
                  <a:path w="14" h="23">
                    <a:moveTo>
                      <a:pt x="6" y="23"/>
                    </a:moveTo>
                    <a:lnTo>
                      <a:pt x="4" y="19"/>
                    </a:lnTo>
                    <a:lnTo>
                      <a:pt x="0" y="12"/>
                    </a:lnTo>
                    <a:lnTo>
                      <a:pt x="4" y="7"/>
                    </a:lnTo>
                    <a:lnTo>
                      <a:pt x="6" y="0"/>
                    </a:lnTo>
                    <a:lnTo>
                      <a:pt x="9" y="7"/>
                    </a:lnTo>
                    <a:lnTo>
                      <a:pt x="14" y="12"/>
                    </a:lnTo>
                    <a:lnTo>
                      <a:pt x="9" y="1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8555040" y="359712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6" y="0"/>
                    </a:moveTo>
                    <a:lnTo>
                      <a:pt x="9" y="2"/>
                    </a:lnTo>
                    <a:lnTo>
                      <a:pt x="14" y="9"/>
                    </a:lnTo>
                    <a:lnTo>
                      <a:pt x="9" y="12"/>
                    </a:lnTo>
                    <a:lnTo>
                      <a:pt x="6" y="19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8585280" y="35956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10" y="0"/>
                    </a:moveTo>
                    <a:lnTo>
                      <a:pt x="14" y="4"/>
                    </a:lnTo>
                    <a:lnTo>
                      <a:pt x="14" y="6"/>
                    </a:lnTo>
                    <a:lnTo>
                      <a:pt x="14" y="9"/>
                    </a:lnTo>
                    <a:lnTo>
                      <a:pt x="10" y="14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8604360" y="359712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10" y="0"/>
                    </a:moveTo>
                    <a:lnTo>
                      <a:pt x="14" y="2"/>
                    </a:lnTo>
                    <a:lnTo>
                      <a:pt x="14" y="9"/>
                    </a:lnTo>
                    <a:lnTo>
                      <a:pt x="14" y="12"/>
                    </a:lnTo>
                    <a:lnTo>
                      <a:pt x="10" y="19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3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8589960" y="358308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6" y="0"/>
                    </a:moveTo>
                    <a:lnTo>
                      <a:pt x="9" y="2"/>
                    </a:lnTo>
                    <a:lnTo>
                      <a:pt x="14" y="9"/>
                    </a:lnTo>
                    <a:lnTo>
                      <a:pt x="9" y="12"/>
                    </a:lnTo>
                    <a:lnTo>
                      <a:pt x="6" y="19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8567640" y="360216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3" y="0"/>
                    </a:moveTo>
                    <a:lnTo>
                      <a:pt x="14" y="6"/>
                    </a:lnTo>
                    <a:lnTo>
                      <a:pt x="14" y="9"/>
                    </a:lnTo>
                    <a:lnTo>
                      <a:pt x="14" y="12"/>
                    </a:lnTo>
                    <a:lnTo>
                      <a:pt x="3" y="19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8574120" y="35956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w="14" h="14">
                    <a:moveTo>
                      <a:pt x="3" y="0"/>
                    </a:moveTo>
                    <a:lnTo>
                      <a:pt x="14" y="4"/>
                    </a:lnTo>
                    <a:lnTo>
                      <a:pt x="14" y="6"/>
                    </a:lnTo>
                    <a:lnTo>
                      <a:pt x="14" y="9"/>
                    </a:lnTo>
                    <a:lnTo>
                      <a:pt x="3" y="14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8569440" y="358308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6" y="0"/>
                    </a:moveTo>
                    <a:lnTo>
                      <a:pt x="9" y="2"/>
                    </a:lnTo>
                    <a:lnTo>
                      <a:pt x="14" y="9"/>
                    </a:lnTo>
                    <a:lnTo>
                      <a:pt x="9" y="12"/>
                    </a:lnTo>
                    <a:lnTo>
                      <a:pt x="6" y="19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8591400" y="360216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10" y="0"/>
                    </a:moveTo>
                    <a:lnTo>
                      <a:pt x="14" y="6"/>
                    </a:lnTo>
                    <a:lnTo>
                      <a:pt x="14" y="9"/>
                    </a:lnTo>
                    <a:lnTo>
                      <a:pt x="14" y="12"/>
                    </a:lnTo>
                    <a:lnTo>
                      <a:pt x="10" y="19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8529480" y="3541680"/>
                <a:ext cx="114840" cy="38520"/>
              </a:xfrm>
              <a:custGeom>
                <a:avLst/>
                <a:gdLst/>
                <a:ahLst/>
                <a:rect l="0" t="0" r="r" b="b"/>
                <a:pathLst>
                  <a:path w="319" h="107">
                    <a:moveTo>
                      <a:pt x="319" y="61"/>
                    </a:moveTo>
                    <a:lnTo>
                      <a:pt x="307" y="66"/>
                    </a:lnTo>
                    <a:lnTo>
                      <a:pt x="302" y="87"/>
                    </a:lnTo>
                    <a:lnTo>
                      <a:pt x="276" y="87"/>
                    </a:lnTo>
                    <a:lnTo>
                      <a:pt x="237" y="75"/>
                    </a:lnTo>
                    <a:lnTo>
                      <a:pt x="223" y="66"/>
                    </a:lnTo>
                    <a:lnTo>
                      <a:pt x="200" y="55"/>
                    </a:lnTo>
                    <a:lnTo>
                      <a:pt x="171" y="43"/>
                    </a:lnTo>
                    <a:lnTo>
                      <a:pt x="142" y="43"/>
                    </a:lnTo>
                    <a:lnTo>
                      <a:pt x="116" y="43"/>
                    </a:lnTo>
                    <a:lnTo>
                      <a:pt x="87" y="55"/>
                    </a:lnTo>
                    <a:lnTo>
                      <a:pt x="60" y="66"/>
                    </a:lnTo>
                    <a:lnTo>
                      <a:pt x="40" y="87"/>
                    </a:lnTo>
                    <a:lnTo>
                      <a:pt x="31" y="99"/>
                    </a:lnTo>
                    <a:lnTo>
                      <a:pt x="0" y="107"/>
                    </a:lnTo>
                    <a:lnTo>
                      <a:pt x="31" y="35"/>
                    </a:lnTo>
                    <a:lnTo>
                      <a:pt x="34" y="32"/>
                    </a:lnTo>
                    <a:lnTo>
                      <a:pt x="40" y="22"/>
                    </a:lnTo>
                    <a:lnTo>
                      <a:pt x="49" y="20"/>
                    </a:lnTo>
                    <a:lnTo>
                      <a:pt x="54" y="14"/>
                    </a:lnTo>
                    <a:lnTo>
                      <a:pt x="63" y="11"/>
                    </a:lnTo>
                    <a:lnTo>
                      <a:pt x="75" y="5"/>
                    </a:lnTo>
                    <a:lnTo>
                      <a:pt x="87" y="2"/>
                    </a:lnTo>
                    <a:lnTo>
                      <a:pt x="99" y="2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56" y="0"/>
                    </a:lnTo>
                    <a:lnTo>
                      <a:pt x="168" y="0"/>
                    </a:lnTo>
                    <a:lnTo>
                      <a:pt x="179" y="0"/>
                    </a:lnTo>
                    <a:lnTo>
                      <a:pt x="191" y="2"/>
                    </a:lnTo>
                    <a:lnTo>
                      <a:pt x="203" y="2"/>
                    </a:lnTo>
                    <a:lnTo>
                      <a:pt x="214" y="5"/>
                    </a:lnTo>
                    <a:lnTo>
                      <a:pt x="220" y="5"/>
                    </a:lnTo>
                    <a:lnTo>
                      <a:pt x="226" y="11"/>
                    </a:lnTo>
                    <a:lnTo>
                      <a:pt x="234" y="11"/>
                    </a:lnTo>
                    <a:lnTo>
                      <a:pt x="237" y="14"/>
                    </a:lnTo>
                    <a:lnTo>
                      <a:pt x="247" y="20"/>
                    </a:lnTo>
                    <a:lnTo>
                      <a:pt x="253" y="22"/>
                    </a:lnTo>
                    <a:lnTo>
                      <a:pt x="258" y="22"/>
                    </a:lnTo>
                    <a:lnTo>
                      <a:pt x="264" y="25"/>
                    </a:lnTo>
                    <a:lnTo>
                      <a:pt x="279" y="61"/>
                    </a:lnTo>
                    <a:lnTo>
                      <a:pt x="319" y="61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flipV="1">
                <a:off x="8585280" y="3656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V="1">
                <a:off x="8585280" y="3656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8217000" y="35496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V="1">
                <a:off x="8217000" y="35496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8223120" y="35496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8223120" y="35496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8220240" y="365436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8220240" y="365436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8220240" y="35496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8220240" y="35496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8582040" y="35528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8582040" y="35528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8585280" y="35528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8585280" y="35528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H="1">
                <a:off x="8585280" y="35575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8585280" y="35575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8228160" y="35496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8228160" y="35496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8163000" y="3605040"/>
                <a:ext cx="3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8163000" y="3605040"/>
                <a:ext cx="3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8220240" y="3656160"/>
                <a:ext cx="46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8220240" y="3656160"/>
                <a:ext cx="46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8628120" y="36147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8628120" y="36147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8524800" y="36162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8524800" y="36162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H="1">
                <a:off x="8524800" y="36147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H="1">
                <a:off x="8524800" y="36147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H="1">
                <a:off x="8628120" y="36162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H="1">
                <a:off x="8628120" y="36162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159760" y="36162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159760" y="36162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 flipH="1">
                <a:off x="8263080" y="3605040"/>
                <a:ext cx="46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H="1">
                <a:off x="8263080" y="3605040"/>
                <a:ext cx="46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H="1">
                <a:off x="8626320" y="362412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flipH="1">
                <a:off x="8626320" y="362412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flipV="1">
                <a:off x="8211960" y="35496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flipV="1">
                <a:off x="8211960" y="35496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flipH="1">
                <a:off x="8577360" y="3659040"/>
                <a:ext cx="32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flipH="1">
                <a:off x="8577360" y="3659040"/>
                <a:ext cx="32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H="1">
                <a:off x="8258040" y="362124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H="1">
                <a:off x="8258040" y="362124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8526600" y="3624120"/>
                <a:ext cx="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8526600" y="3624120"/>
                <a:ext cx="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8589960" y="3656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V="1">
                <a:off x="8589960" y="3656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V="1">
                <a:off x="8213760" y="365292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V="1">
                <a:off x="8213760" y="365292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V="1">
                <a:off x="8593200" y="35528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flipV="1">
                <a:off x="8593200" y="35528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flipV="1">
                <a:off x="8593200" y="3656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V="1">
                <a:off x="8593200" y="3656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V="1">
                <a:off x="8578800" y="35528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flipV="1">
                <a:off x="8578800" y="35528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H="1">
                <a:off x="8258040" y="361620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H="1">
                <a:off x="8258040" y="361620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flipV="1">
                <a:off x="8578800" y="3656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flipV="1">
                <a:off x="8578800" y="36561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8626320" y="360504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8626320" y="360504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8159760" y="362124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159760" y="362124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H="1">
                <a:off x="8263080" y="3597120"/>
                <a:ext cx="46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H="1">
                <a:off x="8263080" y="3597120"/>
                <a:ext cx="46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flipV="1">
                <a:off x="8217000" y="365292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flipV="1">
                <a:off x="8217000" y="365292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V="1">
                <a:off x="8223120" y="365292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flipV="1">
                <a:off x="8223120" y="365292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8526600" y="3627360"/>
                <a:ext cx="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8526600" y="3627360"/>
                <a:ext cx="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V="1">
                <a:off x="8596440" y="3556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V="1">
                <a:off x="8596440" y="3556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8570880" y="355752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8570880" y="355752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H="1">
                <a:off x="8626320" y="362124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H="1">
                <a:off x="8626320" y="362124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8161200" y="3625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8161200" y="3625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H="1">
                <a:off x="8524800" y="36100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H="1">
                <a:off x="8524800" y="36100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8526600" y="360216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flipH="1">
                <a:off x="8526600" y="360216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>
                <a:off x="8163000" y="361476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8163000" y="361476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258040" y="360828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258040" y="360828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8159760" y="36082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H="1">
                <a:off x="8159760" y="36082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8263080" y="361476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8263080" y="361476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8628120" y="36100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628120" y="36100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8524800" y="362124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8524800" y="362124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 flipH="1">
                <a:off x="8526600" y="360504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8526600" y="360504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163000" y="3597120"/>
                <a:ext cx="3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8163000" y="3597120"/>
                <a:ext cx="3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8626320" y="362736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 flipH="1">
                <a:off x="8626320" y="362736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V="1">
                <a:off x="8209080" y="35528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V="1">
                <a:off x="8209080" y="35528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H="1">
                <a:off x="8258040" y="362592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H="1">
                <a:off x="8258040" y="362592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8231040" y="355284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8231040" y="355284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H="1">
                <a:off x="8161200" y="3600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H="1">
                <a:off x="8161200" y="3600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V="1">
                <a:off x="8572680" y="365436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8572680" y="365436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8258040" y="360036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8258040" y="360036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V="1">
                <a:off x="8599320" y="36543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8599320" y="36543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8591400" y="3659040"/>
                <a:ext cx="18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8591400" y="3659040"/>
                <a:ext cx="18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66240" y="358920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66240" y="358920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H="1">
                <a:off x="8258040" y="36291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H="1">
                <a:off x="8258040" y="36291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8626320" y="36021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8626320" y="360216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8164440" y="3591000"/>
                <a:ext cx="6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8164440" y="3591000"/>
                <a:ext cx="6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8531280" y="359568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8531280" y="359568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8163000" y="36291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8163000" y="36291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8528040" y="363204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8528040" y="363204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8229600" y="365436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8229600" y="365436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8199360" y="35575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8199360" y="35575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V="1">
                <a:off x="8205840" y="36529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8205840" y="36529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H="1">
                <a:off x="8229600" y="35575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H="1">
                <a:off x="8229600" y="35575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V="1">
                <a:off x="8231040" y="365292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231040" y="365292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H="1">
                <a:off x="8570880" y="3659040"/>
                <a:ext cx="18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8570880" y="3659040"/>
                <a:ext cx="18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 flipH="1" flipV="1">
                <a:off x="8209080" y="36529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 flipH="1" flipV="1">
                <a:off x="8209080" y="36529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V="1">
                <a:off x="8572680" y="3556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V="1">
                <a:off x="8572680" y="3556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8626320" y="35971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8626320" y="35971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 flipH="1" flipV="1">
                <a:off x="8599320" y="35560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 flipH="1" flipV="1">
                <a:off x="8599320" y="35560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8626320" y="36320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 flipH="1">
                <a:off x="8626320" y="36320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 flipH="1">
                <a:off x="8261280" y="359100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8261280" y="359100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 flipV="1">
                <a:off x="8602560" y="36529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 flipV="1">
                <a:off x="8602560" y="36529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 flipV="1">
                <a:off x="8567640" y="36529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 flipH="1" flipV="1">
                <a:off x="8567640" y="36529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 flipH="1">
                <a:off x="8232840" y="35575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8232840" y="35575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8197920" y="35575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8197920" y="35575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8624880" y="35956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8624880" y="35956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8256600" y="3594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8256600" y="3594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8163000" y="363204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8163000" y="363204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8197920" y="365436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H="1">
                <a:off x="8197920" y="365436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 flipV="1">
                <a:off x="8567640" y="35575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V="1">
                <a:off x="8567640" y="35575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8232840" y="365436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8232840" y="365436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8194680" y="3652920"/>
                <a:ext cx="32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>
                <a:off x="8194680" y="3652920"/>
                <a:ext cx="32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8236080" y="365292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36080" y="365292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8529480" y="35956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8529480" y="359568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 flipV="1">
                <a:off x="8604360" y="35575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 flipV="1">
                <a:off x="8604360" y="35575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8602560" y="3656160"/>
                <a:ext cx="32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8602560" y="3656160"/>
                <a:ext cx="32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 flipV="1">
                <a:off x="8607600" y="35575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 flipV="1">
                <a:off x="8607600" y="35575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V="1">
                <a:off x="8564400" y="35575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V="1">
                <a:off x="8564400" y="35575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8559720" y="3656160"/>
                <a:ext cx="32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8559720" y="3656160"/>
                <a:ext cx="32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8194680" y="356076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8194680" y="356076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8236080" y="35607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8236080" y="35607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H="1">
                <a:off x="8605800" y="3562200"/>
                <a:ext cx="3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8605800" y="3562200"/>
                <a:ext cx="3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8167680" y="358308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8167680" y="358308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8555040" y="3562200"/>
                <a:ext cx="3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8555040" y="3562200"/>
                <a:ext cx="3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8190000" y="356076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8190000" y="356076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H="1">
                <a:off x="8238960" y="35607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H="1">
                <a:off x="8238960" y="35607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8190000" y="365292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>
                <a:off x="8190000" y="365292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8626320" y="3633840"/>
                <a:ext cx="5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8626320" y="3633840"/>
                <a:ext cx="5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 flipH="1">
                <a:off x="8167680" y="36306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 flipH="1">
                <a:off x="8167680" y="36306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236080" y="365292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236080" y="365292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 flipH="1" flipV="1">
                <a:off x="8258040" y="3627360"/>
                <a:ext cx="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 flipV="1">
                <a:off x="8258040" y="3627360"/>
                <a:ext cx="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V="1">
                <a:off x="8624880" y="3633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 flipV="1">
                <a:off x="8624880" y="3633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605800" y="365436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605800" y="365436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 flipH="1">
                <a:off x="8556480" y="3654360"/>
                <a:ext cx="18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8556480" y="3654360"/>
                <a:ext cx="18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H="1">
                <a:off x="8626320" y="3586320"/>
                <a:ext cx="5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 flipH="1">
                <a:off x="8626320" y="3586320"/>
                <a:ext cx="5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8258040" y="3583080"/>
                <a:ext cx="5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H="1">
                <a:off x="8258040" y="3583080"/>
                <a:ext cx="5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 flipH="1">
                <a:off x="8534520" y="36338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8534520" y="36338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8534520" y="358632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534520" y="358632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 flipV="1">
                <a:off x="8529480" y="36338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H="1" flipV="1">
                <a:off x="8529480" y="36338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258040" y="3630600"/>
                <a:ext cx="5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258040" y="3630600"/>
                <a:ext cx="5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H="1">
                <a:off x="8535960" y="363528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 flipH="1">
                <a:off x="8535960" y="363528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8624880" y="363528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8624880" y="363528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H="1">
                <a:off x="8256600" y="35812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8256600" y="35812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169120" y="3581280"/>
                <a:ext cx="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8169120" y="3581280"/>
                <a:ext cx="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H="1">
                <a:off x="8624880" y="358308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 flipH="1">
                <a:off x="8624880" y="358308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8256600" y="36338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8256600" y="36338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H="1">
                <a:off x="8186760" y="36511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H="1">
                <a:off x="8186760" y="36511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H="1">
                <a:off x="8169120" y="3633840"/>
                <a:ext cx="5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H="1">
                <a:off x="8169120" y="3633840"/>
                <a:ext cx="5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8609040" y="365292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8609040" y="365292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8242200" y="36511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8242200" y="36511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8535960" y="358308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8535960" y="358308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H="1">
                <a:off x="8555040" y="365292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H="1">
                <a:off x="8555040" y="365292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H="1">
                <a:off x="8242200" y="35622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H="1">
                <a:off x="8242200" y="35622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8186760" y="35622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8186760" y="35622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>
                <a:off x="8609040" y="356400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H="1">
                <a:off x="8609040" y="356400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8553600" y="3564000"/>
                <a:ext cx="28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8553600" y="3564000"/>
                <a:ext cx="28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H="1">
                <a:off x="8166240" y="3583080"/>
                <a:ext cx="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 flipH="1">
                <a:off x="8166240" y="3583080"/>
                <a:ext cx="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 flipH="1">
                <a:off x="8623440" y="357984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 flipH="1">
                <a:off x="8623440" y="357984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51920" y="3583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51920" y="3583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535960" y="3579840"/>
                <a:ext cx="6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535960" y="3579840"/>
                <a:ext cx="6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H="1">
                <a:off x="8621640" y="35766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H="1">
                <a:off x="8621640" y="35766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H="1">
                <a:off x="8550360" y="365112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H="1">
                <a:off x="8550360" y="365112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8615520" y="364824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V="1">
                <a:off x="8615520" y="364824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H="1">
                <a:off x="8174160" y="363852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>
                <a:off x="8174160" y="363852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>
                <a:off x="8539200" y="364176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H="1">
                <a:off x="8539200" y="364176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8250120" y="3579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8250120" y="3579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8251920" y="363852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8251920" y="363852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8183520" y="356400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8183520" y="356400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H="1">
                <a:off x="8244000" y="356400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H="1">
                <a:off x="8244000" y="356400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8244000" y="364968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8244000" y="364968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8174160" y="357660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8174160" y="357660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8539200" y="35766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8539200" y="35766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8620200" y="364176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8620200" y="364176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H="1">
                <a:off x="8183520" y="364968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 flipH="1">
                <a:off x="8183520" y="364968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8550360" y="356724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550360" y="356724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 flipV="1">
                <a:off x="8172360" y="363528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 flipV="1">
                <a:off x="8172360" y="363528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flipH="1">
                <a:off x="8610480" y="3567240"/>
                <a:ext cx="5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 flipH="1">
                <a:off x="8610480" y="3567240"/>
                <a:ext cx="5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 flipH="1" flipV="1">
                <a:off x="8534520" y="3643200"/>
                <a:ext cx="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flipH="1" flipV="1">
                <a:off x="8534520" y="3643200"/>
                <a:ext cx="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flipH="1">
                <a:off x="8182080" y="364644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flipH="1">
                <a:off x="8182080" y="364644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8543880" y="357192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8543880" y="357192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8247240" y="364644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8247240" y="364644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flipH="1" flipV="1">
                <a:off x="8623440" y="363852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flipH="1" flipV="1">
                <a:off x="8623440" y="363852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8178840" y="35701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8178840" y="35701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flipH="1">
                <a:off x="8616960" y="357192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 flipH="1">
                <a:off x="8616960" y="357192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8247240" y="35751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8247240" y="35751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flipH="1" flipV="1">
                <a:off x="8253360" y="363528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H="1" flipV="1">
                <a:off x="8253360" y="363528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8248680" y="35672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8248680" y="3567240"/>
                <a:ext cx="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8182080" y="356724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8182080" y="356724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H="1">
                <a:off x="8547120" y="364968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H="1">
                <a:off x="8547120" y="364968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>
                <a:off x="8251920" y="357192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H="1">
                <a:off x="8251920" y="357192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8613720" y="364968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8613720" y="364968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8542440" y="357516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8542440" y="357516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8175600" y="357192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8175600" y="3571920"/>
                <a:ext cx="3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H="1">
                <a:off x="8618400" y="3575160"/>
                <a:ext cx="5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H="1">
                <a:off x="8618400" y="3575160"/>
                <a:ext cx="5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8613720" y="35701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H="1">
                <a:off x="8613720" y="357012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8547120" y="357012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8547120" y="357012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8177040" y="3641760"/>
                <a:ext cx="5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8177040" y="3641760"/>
                <a:ext cx="5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8542440" y="364500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H="1">
                <a:off x="8542440" y="3645000"/>
                <a:ext cx="4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8248680" y="36450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8248680" y="36450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H="1">
                <a:off x="8178840" y="36450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>
                <a:off x="8178840" y="364500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8545680" y="364644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H="1">
                <a:off x="8545680" y="364644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8615520" y="364644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8615520" y="3646440"/>
                <a:ext cx="4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8618400" y="3645000"/>
                <a:ext cx="5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8618400" y="3645000"/>
                <a:ext cx="5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8251920" y="364176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8251920" y="364176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0" name=""/>
            <p:cNvSpPr txBox="1"/>
            <p:nvPr/>
          </p:nvSpPr>
          <p:spPr>
            <a:xfrm>
              <a:off x="8001000" y="3154320"/>
              <a:ext cx="792000" cy="23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d at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1" name=""/>
          <p:cNvSpPr/>
          <p:nvPr/>
        </p:nvSpPr>
        <p:spPr>
          <a:xfrm flipV="1">
            <a:off x="2305080" y="3946680"/>
            <a:ext cx="1430280" cy="17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 flipH="1" flipV="1">
            <a:off x="4554360" y="4151160"/>
            <a:ext cx="924120" cy="1150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 txBox="1"/>
          <p:nvPr/>
        </p:nvSpPr>
        <p:spPr>
          <a:xfrm>
            <a:off x="7292880" y="5886360"/>
            <a:ext cx="16527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6858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ctical Systems/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6858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S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CS/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6858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6858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JM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2255760" y="3249720"/>
            <a:ext cx="145728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 flipV="1">
            <a:off x="2282760" y="3859200"/>
            <a:ext cx="1411200" cy="878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2271600" y="2390760"/>
            <a:ext cx="1498680" cy="132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7" name="" descr=""/>
          <p:cNvPicPr/>
          <p:nvPr/>
        </p:nvPicPr>
        <p:blipFill>
          <a:blip r:embed="rId15"/>
          <a:stretch/>
        </p:blipFill>
        <p:spPr>
          <a:xfrm>
            <a:off x="1784520" y="2981160"/>
            <a:ext cx="396720" cy="463680"/>
          </a:xfrm>
          <a:prstGeom prst="rect">
            <a:avLst/>
          </a:prstGeom>
          <a:ln w="0">
            <a:noFill/>
          </a:ln>
        </p:spPr>
      </p:pic>
      <p:sp>
        <p:nvSpPr>
          <p:cNvPr id="3528" name=""/>
          <p:cNvSpPr/>
          <p:nvPr/>
        </p:nvSpPr>
        <p:spPr>
          <a:xfrm>
            <a:off x="1409760" y="1344600"/>
            <a:ext cx="1247760" cy="4927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3244680" y="3808440"/>
            <a:ext cx="1735200" cy="2082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3468600" y="1255680"/>
            <a:ext cx="2848320" cy="2553120"/>
          </a:xfrm>
          <a:custGeom>
            <a:avLst/>
            <a:gdLst/>
            <a:ahLst/>
            <a:rect l="0" t="0" r="r" b="b"/>
            <a:pathLst>
              <a:path fill="none" w="7912" h="7092">
                <a:moveTo>
                  <a:pt x="2775" y="7092"/>
                </a:moveTo>
                <a:lnTo>
                  <a:pt x="2775" y="3281"/>
                </a:lnTo>
                <a:lnTo>
                  <a:pt x="0" y="3281"/>
                </a:lnTo>
                <a:lnTo>
                  <a:pt x="0" y="176"/>
                </a:lnTo>
                <a:lnTo>
                  <a:pt x="0" y="0"/>
                </a:lnTo>
                <a:lnTo>
                  <a:pt x="7912" y="0"/>
                </a:lnTo>
                <a:lnTo>
                  <a:pt x="7912" y="4340"/>
                </a:lnTo>
                <a:lnTo>
                  <a:pt x="5170" y="4340"/>
                </a:lnTo>
                <a:lnTo>
                  <a:pt x="5170" y="7092"/>
                </a:lnTo>
                <a:lnTo>
                  <a:pt x="2775" y="709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DD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3454560" y="2128680"/>
            <a:ext cx="648000" cy="1448280"/>
          </a:xfrm>
          <a:custGeom>
            <a:avLst/>
            <a:gdLst/>
            <a:ahLst/>
            <a:rect l="0" t="0" r="r" b="b"/>
            <a:pathLst>
              <a:path w="1800" h="4023">
                <a:moveTo>
                  <a:pt x="599" y="0"/>
                </a:moveTo>
                <a:lnTo>
                  <a:pt x="1199" y="0"/>
                </a:lnTo>
                <a:lnTo>
                  <a:pt x="1199" y="2816"/>
                </a:lnTo>
                <a:lnTo>
                  <a:pt x="1800" y="2816"/>
                </a:lnTo>
                <a:lnTo>
                  <a:pt x="899" y="4023"/>
                </a:lnTo>
                <a:lnTo>
                  <a:pt x="0" y="2816"/>
                </a:lnTo>
                <a:lnTo>
                  <a:pt x="599" y="2816"/>
                </a:lnTo>
                <a:lnTo>
                  <a:pt x="599" y="0"/>
                </a:lnTo>
                <a:close/>
              </a:path>
            </a:pathLst>
          </a:custGeom>
          <a:gradFill rotWithShape="0">
            <a:gsLst>
              <a:gs pos="0">
                <a:srgbClr val="8901f3"/>
              </a:gs>
              <a:gs pos="100000">
                <a:srgbClr val="a033f5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013600" y="2319480"/>
            <a:ext cx="635400" cy="1232280"/>
          </a:xfrm>
          <a:custGeom>
            <a:avLst/>
            <a:gdLst/>
            <a:ahLst/>
            <a:rect l="0" t="0" r="r" b="b"/>
            <a:pathLst>
              <a:path w="1765" h="3423">
                <a:moveTo>
                  <a:pt x="588" y="0"/>
                </a:moveTo>
                <a:lnTo>
                  <a:pt x="1175" y="0"/>
                </a:lnTo>
                <a:lnTo>
                  <a:pt x="1175" y="2396"/>
                </a:lnTo>
                <a:lnTo>
                  <a:pt x="1765" y="2396"/>
                </a:lnTo>
                <a:lnTo>
                  <a:pt x="882" y="3423"/>
                </a:lnTo>
                <a:lnTo>
                  <a:pt x="0" y="2396"/>
                </a:lnTo>
                <a:lnTo>
                  <a:pt x="588" y="2396"/>
                </a:lnTo>
                <a:lnTo>
                  <a:pt x="588" y="0"/>
                </a:lnTo>
                <a:close/>
              </a:path>
            </a:pathLst>
          </a:custGeom>
          <a:gradFill rotWithShape="0">
            <a:gsLst>
              <a:gs pos="0">
                <a:srgbClr val="290048"/>
              </a:gs>
              <a:gs pos="100000">
                <a:srgbClr val="8901f3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5076720" y="2306520"/>
            <a:ext cx="660600" cy="1270440"/>
          </a:xfrm>
          <a:custGeom>
            <a:avLst/>
            <a:gdLst/>
            <a:ahLst/>
            <a:rect l="0" t="0" r="r" b="b"/>
            <a:pathLst>
              <a:path w="1835" h="3529">
                <a:moveTo>
                  <a:pt x="610" y="0"/>
                </a:moveTo>
                <a:lnTo>
                  <a:pt x="1222" y="0"/>
                </a:lnTo>
                <a:lnTo>
                  <a:pt x="1222" y="2470"/>
                </a:lnTo>
                <a:lnTo>
                  <a:pt x="1835" y="2470"/>
                </a:lnTo>
                <a:lnTo>
                  <a:pt x="918" y="3529"/>
                </a:lnTo>
                <a:lnTo>
                  <a:pt x="0" y="2470"/>
                </a:lnTo>
                <a:lnTo>
                  <a:pt x="610" y="2470"/>
                </a:lnTo>
                <a:lnTo>
                  <a:pt x="610" y="0"/>
                </a:lnTo>
                <a:close/>
              </a:path>
            </a:pathLst>
          </a:cu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1193760" y="1843200"/>
            <a:ext cx="7302600" cy="4953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290048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 txBox="1"/>
          <p:nvPr/>
        </p:nvSpPr>
        <p:spPr>
          <a:xfrm>
            <a:off x="4595760" y="3573360"/>
            <a:ext cx="1873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ONUS Pilo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 txBox="1"/>
          <p:nvPr/>
        </p:nvSpPr>
        <p:spPr>
          <a:xfrm>
            <a:off x="4448160" y="3903840"/>
            <a:ext cx="222732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 algn="ctr">
              <a:lnSpc>
                <a:spcPct val="85000"/>
              </a:lnSpc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Joint Ope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 node OCO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ONUS WFA’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nchor des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sed GBS comm. satellite OCO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actical comm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fusion (GOB, MO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fusion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view of battlefield (includes NOB, AO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applications (e.g., joint fires coordina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GCCS 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efined 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4465800" y="3560760"/>
            <a:ext cx="2133720" cy="3228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4465800" y="3890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 txBox="1"/>
          <p:nvPr/>
        </p:nvSpPr>
        <p:spPr>
          <a:xfrm>
            <a:off x="6718320" y="3903840"/>
            <a:ext cx="229392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 algn="ctr">
              <a:lnSpc>
                <a:spcPct val="85000"/>
              </a:lnSpc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Enhanced Capa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d IDS and WF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sion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pplications database and common query langu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efined 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1" name=""/>
          <p:cNvGrpSpPr/>
          <p:nvPr/>
        </p:nvGrpSpPr>
        <p:grpSpPr>
          <a:xfrm>
            <a:off x="6700680" y="3560760"/>
            <a:ext cx="2235240" cy="1741320"/>
            <a:chOff x="6700680" y="3560760"/>
            <a:chExt cx="2235240" cy="1741320"/>
          </a:xfrm>
        </p:grpSpPr>
        <p:sp>
          <p:nvSpPr>
            <p:cNvPr id="3542" name=""/>
            <p:cNvSpPr txBox="1"/>
            <p:nvPr/>
          </p:nvSpPr>
          <p:spPr>
            <a:xfrm>
              <a:off x="6811920" y="3573360"/>
              <a:ext cx="2011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al Operational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700680" y="3560760"/>
              <a:ext cx="223524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700680" y="3890880"/>
              <a:ext cx="223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"/>
          <p:cNvSpPr txBox="1"/>
          <p:nvPr/>
        </p:nvSpPr>
        <p:spPr>
          <a:xfrm>
            <a:off x="0" y="4162320"/>
            <a:ext cx="966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 txBox="1"/>
          <p:nvPr/>
        </p:nvSpPr>
        <p:spPr>
          <a:xfrm>
            <a:off x="17640" y="2548080"/>
            <a:ext cx="7351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 txBox="1"/>
          <p:nvPr/>
        </p:nvSpPr>
        <p:spPr>
          <a:xfrm>
            <a:off x="0" y="1957320"/>
            <a:ext cx="12524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 txBox="1"/>
          <p:nvPr/>
        </p:nvSpPr>
        <p:spPr>
          <a:xfrm>
            <a:off x="922320" y="2960640"/>
            <a:ext cx="1335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Initial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o 2 AD &amp; US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 txBox="1"/>
          <p:nvPr/>
        </p:nvSpPr>
        <p:spPr>
          <a:xfrm>
            <a:off x="2239920" y="2960640"/>
            <a:ext cx="123336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ask Force X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 txBox="1"/>
          <p:nvPr/>
        </p:nvSpPr>
        <p:spPr>
          <a:xfrm>
            <a:off x="4268880" y="2960640"/>
            <a:ext cx="836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OCO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 txBox="1"/>
          <p:nvPr/>
        </p:nvSpPr>
        <p:spPr>
          <a:xfrm>
            <a:off x="6162840" y="2832120"/>
            <a:ext cx="11700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UAV Broad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 txBox="1"/>
          <p:nvPr/>
        </p:nvSpPr>
        <p:spPr>
          <a:xfrm>
            <a:off x="1784520" y="1941480"/>
            <a:ext cx="82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 txBox="1"/>
          <p:nvPr/>
        </p:nvSpPr>
        <p:spPr>
          <a:xfrm>
            <a:off x="4130640" y="1941480"/>
            <a:ext cx="901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se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 txBox="1"/>
          <p:nvPr/>
        </p:nvSpPr>
        <p:spPr>
          <a:xfrm>
            <a:off x="6459480" y="1941480"/>
            <a:ext cx="979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se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 flipH="1" flipV="1">
            <a:off x="2476440" y="1836720"/>
            <a:ext cx="1638360" cy="495360"/>
          </a:xfrm>
          <a:prstGeom prst="line">
            <a:avLst/>
          </a:prstGeom>
          <a:ln w="25560">
            <a:solidFill>
              <a:srgbClr val="ffffff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H="1" flipV="1">
            <a:off x="5130720" y="1836720"/>
            <a:ext cx="444600" cy="495360"/>
          </a:xfrm>
          <a:prstGeom prst="line">
            <a:avLst/>
          </a:prstGeom>
          <a:ln w="25560">
            <a:solidFill>
              <a:srgbClr val="ffffff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 txBox="1"/>
          <p:nvPr/>
        </p:nvSpPr>
        <p:spPr>
          <a:xfrm>
            <a:off x="2370240" y="3573360"/>
            <a:ext cx="174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US Pilo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 txBox="1"/>
          <p:nvPr/>
        </p:nvSpPr>
        <p:spPr>
          <a:xfrm>
            <a:off x="2073240" y="3932280"/>
            <a:ext cx="24685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85000"/>
              </a:lnSpc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Joint Maneuver Fo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 node at AHP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COM IP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WFA’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sed GBS comm. satell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sed enemy/friendly pic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O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viewer of imag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, SIGINT, terrain,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CS and MCS oper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 terrain/image mission rehears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P SAR exploi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efined 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2103480" y="3890880"/>
            <a:ext cx="2252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2108160" y="3564000"/>
            <a:ext cx="2247840" cy="3090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6191280" y="2346480"/>
            <a:ext cx="0" cy="679320"/>
          </a:xfrm>
          <a:prstGeom prst="line">
            <a:avLst/>
          </a:prstGeom>
          <a:ln w="12600">
            <a:solidFill>
              <a:srgbClr val="00ae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5145120" y="2346480"/>
            <a:ext cx="0" cy="514080"/>
          </a:xfrm>
          <a:prstGeom prst="line">
            <a:avLst/>
          </a:prstGeom>
          <a:ln w="12600">
            <a:solidFill>
              <a:srgbClr val="063de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3160800" y="2346480"/>
            <a:ext cx="0" cy="544320"/>
          </a:xfrm>
          <a:prstGeom prst="line">
            <a:avLst/>
          </a:prstGeom>
          <a:ln w="12600">
            <a:solidFill>
              <a:srgbClr val="063de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2022480" y="2346480"/>
            <a:ext cx="0" cy="582480"/>
          </a:xfrm>
          <a:prstGeom prst="line">
            <a:avLst/>
          </a:prstGeom>
          <a:ln w="12600">
            <a:solidFill>
              <a:srgbClr val="063de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 txBox="1"/>
          <p:nvPr/>
        </p:nvSpPr>
        <p:spPr>
          <a:xfrm>
            <a:off x="2287440" y="2657520"/>
            <a:ext cx="9158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Join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2843280" y="2338560"/>
            <a:ext cx="0" cy="312480"/>
          </a:xfrm>
          <a:prstGeom prst="line">
            <a:avLst/>
          </a:prstGeom>
          <a:ln w="12600">
            <a:solidFill>
              <a:srgbClr val="00ae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 txBox="1"/>
          <p:nvPr/>
        </p:nvSpPr>
        <p:spPr>
          <a:xfrm>
            <a:off x="128520" y="5962680"/>
            <a:ext cx="1212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Primary De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 txBox="1"/>
          <p:nvPr/>
        </p:nvSpPr>
        <p:spPr>
          <a:xfrm>
            <a:off x="128520" y="6229440"/>
            <a:ext cx="1314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Secondary De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9" name=""/>
          <p:cNvGrpSpPr/>
          <p:nvPr/>
        </p:nvGrpSpPr>
        <p:grpSpPr>
          <a:xfrm>
            <a:off x="1193760" y="1308240"/>
            <a:ext cx="7294680" cy="376200"/>
            <a:chOff x="1193760" y="1308240"/>
            <a:chExt cx="7294680" cy="376200"/>
          </a:xfrm>
        </p:grpSpPr>
        <p:sp>
          <p:nvSpPr>
            <p:cNvPr id="3570" name=""/>
            <p:cNvSpPr txBox="1"/>
            <p:nvPr/>
          </p:nvSpPr>
          <p:spPr>
            <a:xfrm>
              <a:off x="1620720" y="1308240"/>
              <a:ext cx="598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Y9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 txBox="1"/>
            <p:nvPr/>
          </p:nvSpPr>
          <p:spPr>
            <a:xfrm>
              <a:off x="3081240" y="1308240"/>
              <a:ext cx="598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Y9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 txBox="1"/>
            <p:nvPr/>
          </p:nvSpPr>
          <p:spPr>
            <a:xfrm>
              <a:off x="4541760" y="1308240"/>
              <a:ext cx="598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Y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 txBox="1"/>
            <p:nvPr/>
          </p:nvSpPr>
          <p:spPr>
            <a:xfrm>
              <a:off x="6002280" y="1308240"/>
              <a:ext cx="598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Y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 txBox="1"/>
            <p:nvPr/>
          </p:nvSpPr>
          <p:spPr>
            <a:xfrm>
              <a:off x="7462800" y="1308240"/>
              <a:ext cx="598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Y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2654280" y="15318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4114800" y="1544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5575320" y="15318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 flipV="1">
              <a:off x="7035840" y="15318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V="1">
              <a:off x="8488440" y="1544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 flipV="1">
              <a:off x="1193760" y="15318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1" name=""/>
          <p:cNvSpPr/>
          <p:nvPr/>
        </p:nvSpPr>
        <p:spPr>
          <a:xfrm flipH="1">
            <a:off x="4691160" y="2860560"/>
            <a:ext cx="449280" cy="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 flipV="1">
            <a:off x="4703760" y="2860560"/>
            <a:ext cx="0" cy="10188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 txBox="1"/>
          <p:nvPr/>
        </p:nvSpPr>
        <p:spPr>
          <a:xfrm>
            <a:off x="4057560" y="2428920"/>
            <a:ext cx="73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4054320" y="2314440"/>
            <a:ext cx="0" cy="387360"/>
          </a:xfrm>
          <a:prstGeom prst="line">
            <a:avLst/>
          </a:prstGeom>
          <a:ln w="12600">
            <a:solidFill>
              <a:srgbClr val="063de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"/>
          <p:cNvSpPr txBox="1"/>
          <p:nvPr/>
        </p:nvSpPr>
        <p:spPr>
          <a:xfrm>
            <a:off x="1255680" y="0"/>
            <a:ext cx="6140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ense Dissemination Service (D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 txBox="1"/>
          <p:nvPr/>
        </p:nvSpPr>
        <p:spPr>
          <a:xfrm>
            <a:off x="127080" y="3780000"/>
            <a:ext cx="437508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DS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digital imagery to SIOP tasked U&amp;S commands &amp; multiservice tactical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ssing segment accepts imagery data, compresses it, sorts it on a user basis, encrypts its, and transmits it via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mission segment - Relays imagery and process control data over terrestrial and satellite (DSCS and COMSAT) commun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 segment expands the compressed imagery, archives it, records it on film, sends it to a softcop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 txBox="1"/>
          <p:nvPr/>
        </p:nvSpPr>
        <p:spPr>
          <a:xfrm>
            <a:off x="4589640" y="3780000"/>
            <a:ext cx="4410000" cy="26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FITS TO G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DS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e as a pathfinder for IM and BM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ages large data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ndles big number of large data files that come in “burst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s archive and retrieval for “user pul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 flipH="1">
            <a:off x="127080" y="1155600"/>
            <a:ext cx="88898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H="1">
            <a:off x="130320" y="3646440"/>
            <a:ext cx="88898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538520" y="1208160"/>
            <a:ext cx="0" cy="5497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 txBox="1"/>
          <p:nvPr/>
        </p:nvSpPr>
        <p:spPr>
          <a:xfrm>
            <a:off x="5516640" y="1488960"/>
            <a:ext cx="21924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DS PO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t Fy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BS JPO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 Col Ho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DS 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5005 (15) Apr 94, “DDS is an operational program which disseminates near-original quality digital imagery to the SIOP tasked U&amp;S commands and multiservice vice tactical users in near real tim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nse Dissemination Program Offic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, acquire, operationally support, and maintain the Defense Dissemin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 follow-on system studies and technology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4" name="" descr=""/>
          <p:cNvPicPr/>
          <p:nvPr/>
        </p:nvPicPr>
        <p:blipFill>
          <a:blip r:embed="rId1"/>
          <a:stretch/>
        </p:blipFill>
        <p:spPr>
          <a:xfrm>
            <a:off x="1179360" y="584280"/>
            <a:ext cx="6700680" cy="6273720"/>
          </a:xfrm>
          <a:prstGeom prst="rect">
            <a:avLst/>
          </a:prstGeom>
          <a:ln w="0">
            <a:noFill/>
          </a:ln>
        </p:spPr>
      </p:pic>
      <p:sp>
        <p:nvSpPr>
          <p:cNvPr id="3595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ense Dissemination Service (D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2138400" y="2451240"/>
            <a:ext cx="53546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5842080" y="722160"/>
            <a:ext cx="21384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744480" y="638280"/>
            <a:ext cx="5248440" cy="88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1463760" y="1406520"/>
            <a:ext cx="903240" cy="56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3987720" y="6519960"/>
            <a:ext cx="111924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142920" y="987480"/>
            <a:ext cx="8889840" cy="0"/>
          </a:xfrm>
          <a:prstGeom prst="line">
            <a:avLst/>
          </a:prstGeom>
          <a:ln w="507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"/>
          <p:cNvSpPr txBox="1"/>
          <p:nvPr/>
        </p:nvSpPr>
        <p:spPr>
          <a:xfrm>
            <a:off x="1289160" y="160200"/>
            <a:ext cx="6140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grated Broadcas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127080" y="3780000"/>
            <a:ext cx="4375080" cy="27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BS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S is the migration of the TDDS, TIBS, and TRIXS Intelligence Broadcasts to a single system of systems that envisions using GBS when appropriate in the long term for its high data rate transmissions and UHF for its low data rate trans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 txBox="1"/>
          <p:nvPr/>
        </p:nvSpPr>
        <p:spPr>
          <a:xfrm>
            <a:off x="4589640" y="3780000"/>
            <a:ext cx="4410000" cy="27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FITS TO G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e as pathfinder for Broadcast Management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olidating inputs to one output data 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aging (or re-packaging) data to common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oritizing data to go on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 integrated into DII (like G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 “user pull”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ntually transition (~2000) from UHF broadcast to G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 flipH="1">
            <a:off x="127080" y="1155600"/>
            <a:ext cx="88898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30320" y="3646440"/>
            <a:ext cx="88898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4538520" y="1208160"/>
            <a:ext cx="0" cy="5497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 txBox="1"/>
          <p:nvPr/>
        </p:nvSpPr>
        <p:spPr>
          <a:xfrm>
            <a:off x="5516640" y="1488960"/>
            <a:ext cx="21924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BS PO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CDR John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BS JPO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 Col Ho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233280" y="2058840"/>
            <a:ext cx="4037400" cy="1403640"/>
          </a:xfrm>
          <a:custGeom>
            <a:avLst/>
            <a:gdLst/>
            <a:ahLst/>
            <a:rect l="0" t="0" r="r" b="b"/>
            <a:pathLst>
              <a:path fill="none" w="11215" h="3899">
                <a:moveTo>
                  <a:pt x="0" y="0"/>
                </a:moveTo>
                <a:lnTo>
                  <a:pt x="0" y="3899"/>
                </a:lnTo>
                <a:lnTo>
                  <a:pt x="11192" y="3874"/>
                </a:lnTo>
                <a:lnTo>
                  <a:pt x="11215" y="0"/>
                </a:lnTo>
                <a:lnTo>
                  <a:pt x="0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2948040" y="2347920"/>
            <a:ext cx="1322640" cy="852840"/>
          </a:xfrm>
          <a:custGeom>
            <a:avLst/>
            <a:gdLst/>
            <a:ahLst/>
            <a:rect l="0" t="0" r="r" b="b"/>
            <a:pathLst>
              <a:path w="3674" h="2369">
                <a:moveTo>
                  <a:pt x="3674" y="0"/>
                </a:moveTo>
                <a:lnTo>
                  <a:pt x="3492" y="55"/>
                </a:lnTo>
                <a:lnTo>
                  <a:pt x="3346" y="77"/>
                </a:lnTo>
                <a:lnTo>
                  <a:pt x="3237" y="99"/>
                </a:lnTo>
                <a:lnTo>
                  <a:pt x="3092" y="187"/>
                </a:lnTo>
                <a:lnTo>
                  <a:pt x="2983" y="209"/>
                </a:lnTo>
                <a:lnTo>
                  <a:pt x="2837" y="275"/>
                </a:lnTo>
                <a:lnTo>
                  <a:pt x="2728" y="319"/>
                </a:lnTo>
                <a:lnTo>
                  <a:pt x="2619" y="363"/>
                </a:lnTo>
                <a:lnTo>
                  <a:pt x="2474" y="429"/>
                </a:lnTo>
                <a:lnTo>
                  <a:pt x="2365" y="495"/>
                </a:lnTo>
                <a:lnTo>
                  <a:pt x="2219" y="539"/>
                </a:lnTo>
                <a:lnTo>
                  <a:pt x="2074" y="561"/>
                </a:lnTo>
                <a:lnTo>
                  <a:pt x="1928" y="583"/>
                </a:lnTo>
                <a:lnTo>
                  <a:pt x="1782" y="627"/>
                </a:lnTo>
                <a:lnTo>
                  <a:pt x="1672" y="649"/>
                </a:lnTo>
                <a:lnTo>
                  <a:pt x="1563" y="693"/>
                </a:lnTo>
                <a:lnTo>
                  <a:pt x="1454" y="715"/>
                </a:lnTo>
                <a:lnTo>
                  <a:pt x="1163" y="759"/>
                </a:lnTo>
                <a:lnTo>
                  <a:pt x="981" y="781"/>
                </a:lnTo>
                <a:lnTo>
                  <a:pt x="872" y="848"/>
                </a:lnTo>
                <a:lnTo>
                  <a:pt x="872" y="936"/>
                </a:lnTo>
                <a:lnTo>
                  <a:pt x="981" y="980"/>
                </a:lnTo>
                <a:lnTo>
                  <a:pt x="1091" y="980"/>
                </a:lnTo>
                <a:lnTo>
                  <a:pt x="1200" y="980"/>
                </a:lnTo>
                <a:lnTo>
                  <a:pt x="1163" y="1046"/>
                </a:lnTo>
                <a:lnTo>
                  <a:pt x="1018" y="1090"/>
                </a:lnTo>
                <a:lnTo>
                  <a:pt x="945" y="1156"/>
                </a:lnTo>
                <a:lnTo>
                  <a:pt x="872" y="1245"/>
                </a:lnTo>
                <a:lnTo>
                  <a:pt x="763" y="1289"/>
                </a:lnTo>
                <a:lnTo>
                  <a:pt x="654" y="1355"/>
                </a:lnTo>
                <a:lnTo>
                  <a:pt x="763" y="1421"/>
                </a:lnTo>
                <a:lnTo>
                  <a:pt x="836" y="1487"/>
                </a:lnTo>
                <a:lnTo>
                  <a:pt x="727" y="1509"/>
                </a:lnTo>
                <a:lnTo>
                  <a:pt x="581" y="1553"/>
                </a:lnTo>
                <a:lnTo>
                  <a:pt x="472" y="1598"/>
                </a:lnTo>
                <a:lnTo>
                  <a:pt x="363" y="1664"/>
                </a:lnTo>
                <a:lnTo>
                  <a:pt x="218" y="1708"/>
                </a:lnTo>
                <a:lnTo>
                  <a:pt x="145" y="1774"/>
                </a:lnTo>
                <a:lnTo>
                  <a:pt x="36" y="1840"/>
                </a:lnTo>
                <a:lnTo>
                  <a:pt x="0" y="1906"/>
                </a:lnTo>
                <a:lnTo>
                  <a:pt x="0" y="1972"/>
                </a:lnTo>
                <a:lnTo>
                  <a:pt x="36" y="2038"/>
                </a:lnTo>
                <a:lnTo>
                  <a:pt x="109" y="2104"/>
                </a:lnTo>
                <a:lnTo>
                  <a:pt x="218" y="2170"/>
                </a:lnTo>
                <a:lnTo>
                  <a:pt x="327" y="2214"/>
                </a:lnTo>
                <a:lnTo>
                  <a:pt x="327" y="2280"/>
                </a:lnTo>
                <a:lnTo>
                  <a:pt x="327" y="2346"/>
                </a:lnTo>
                <a:lnTo>
                  <a:pt x="327" y="2369"/>
                </a:lnTo>
                <a:lnTo>
                  <a:pt x="3674" y="2369"/>
                </a:lnTo>
                <a:lnTo>
                  <a:pt x="3674" y="0"/>
                </a:lnTo>
                <a:close/>
              </a:path>
            </a:pathLst>
          </a:custGeom>
          <a:solidFill>
            <a:srgbClr val="804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3073320" y="3192480"/>
            <a:ext cx="1197360" cy="270360"/>
          </a:xfrm>
          <a:custGeom>
            <a:avLst/>
            <a:gdLst/>
            <a:ahLst/>
            <a:rect l="0" t="0" r="r" b="b"/>
            <a:pathLst>
              <a:path w="3326" h="751">
                <a:moveTo>
                  <a:pt x="0" y="35"/>
                </a:moveTo>
                <a:lnTo>
                  <a:pt x="17" y="89"/>
                </a:lnTo>
                <a:lnTo>
                  <a:pt x="89" y="160"/>
                </a:lnTo>
                <a:lnTo>
                  <a:pt x="196" y="178"/>
                </a:lnTo>
                <a:lnTo>
                  <a:pt x="250" y="178"/>
                </a:lnTo>
                <a:lnTo>
                  <a:pt x="321" y="178"/>
                </a:lnTo>
                <a:lnTo>
                  <a:pt x="411" y="178"/>
                </a:lnTo>
                <a:lnTo>
                  <a:pt x="518" y="178"/>
                </a:lnTo>
                <a:lnTo>
                  <a:pt x="572" y="178"/>
                </a:lnTo>
                <a:lnTo>
                  <a:pt x="607" y="233"/>
                </a:lnTo>
                <a:lnTo>
                  <a:pt x="661" y="304"/>
                </a:lnTo>
                <a:lnTo>
                  <a:pt x="697" y="393"/>
                </a:lnTo>
                <a:lnTo>
                  <a:pt x="715" y="447"/>
                </a:lnTo>
                <a:lnTo>
                  <a:pt x="822" y="518"/>
                </a:lnTo>
                <a:lnTo>
                  <a:pt x="912" y="554"/>
                </a:lnTo>
                <a:lnTo>
                  <a:pt x="1002" y="573"/>
                </a:lnTo>
                <a:lnTo>
                  <a:pt x="1073" y="573"/>
                </a:lnTo>
                <a:lnTo>
                  <a:pt x="1127" y="573"/>
                </a:lnTo>
                <a:lnTo>
                  <a:pt x="1180" y="591"/>
                </a:lnTo>
                <a:lnTo>
                  <a:pt x="1234" y="591"/>
                </a:lnTo>
                <a:lnTo>
                  <a:pt x="1288" y="644"/>
                </a:lnTo>
                <a:lnTo>
                  <a:pt x="1341" y="680"/>
                </a:lnTo>
                <a:lnTo>
                  <a:pt x="1395" y="715"/>
                </a:lnTo>
                <a:lnTo>
                  <a:pt x="1448" y="715"/>
                </a:lnTo>
                <a:lnTo>
                  <a:pt x="1520" y="751"/>
                </a:lnTo>
                <a:lnTo>
                  <a:pt x="3326" y="751"/>
                </a:lnTo>
                <a:lnTo>
                  <a:pt x="3326" y="0"/>
                </a:lnTo>
                <a:lnTo>
                  <a:pt x="0" y="35"/>
                </a:lnTo>
                <a:close/>
              </a:path>
            </a:pathLst>
          </a:custGeom>
          <a:solidFill>
            <a:srgbClr val="804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258120" y="1900080"/>
            <a:ext cx="4011840" cy="154080"/>
          </a:xfrm>
          <a:custGeom>
            <a:avLst/>
            <a:gdLst/>
            <a:ahLst/>
            <a:rect l="0" t="0" r="r" b="b"/>
            <a:pathLst>
              <a:path fill="none" w="11144" h="428">
                <a:moveTo>
                  <a:pt x="11144" y="428"/>
                </a:moveTo>
                <a:lnTo>
                  <a:pt x="11144" y="428"/>
                </a:lnTo>
                <a:cubicBezTo>
                  <a:pt x="10571" y="309"/>
                  <a:pt x="9833" y="210"/>
                  <a:pt x="8981" y="137"/>
                </a:cubicBezTo>
                <a:cubicBezTo>
                  <a:pt x="7930" y="47"/>
                  <a:pt x="6738" y="0"/>
                  <a:pt x="5525" y="0"/>
                </a:cubicBezTo>
                <a:cubicBezTo>
                  <a:pt x="4311" y="0"/>
                  <a:pt x="3119" y="47"/>
                  <a:pt x="2069" y="137"/>
                </a:cubicBezTo>
                <a:cubicBezTo>
                  <a:pt x="1263" y="206"/>
                  <a:pt x="559" y="299"/>
                  <a:pt x="0" y="409"/>
                </a:cubicBez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1711440" y="1425600"/>
            <a:ext cx="114840" cy="86040"/>
          </a:xfrm>
          <a:custGeom>
            <a:avLst/>
            <a:gdLst/>
            <a:ahLst/>
            <a:rect l="0" t="0" r="r" b="b"/>
            <a:pathLst>
              <a:path w="319" h="239">
                <a:moveTo>
                  <a:pt x="34" y="15"/>
                </a:moveTo>
                <a:lnTo>
                  <a:pt x="0" y="63"/>
                </a:lnTo>
                <a:lnTo>
                  <a:pt x="11" y="116"/>
                </a:lnTo>
                <a:lnTo>
                  <a:pt x="11" y="149"/>
                </a:lnTo>
                <a:lnTo>
                  <a:pt x="28" y="170"/>
                </a:lnTo>
                <a:lnTo>
                  <a:pt x="51" y="202"/>
                </a:lnTo>
                <a:lnTo>
                  <a:pt x="114" y="239"/>
                </a:lnTo>
                <a:lnTo>
                  <a:pt x="262" y="186"/>
                </a:lnTo>
                <a:lnTo>
                  <a:pt x="319" y="143"/>
                </a:lnTo>
                <a:lnTo>
                  <a:pt x="313" y="100"/>
                </a:lnTo>
                <a:lnTo>
                  <a:pt x="285" y="68"/>
                </a:lnTo>
                <a:lnTo>
                  <a:pt x="262" y="42"/>
                </a:lnTo>
                <a:lnTo>
                  <a:pt x="245" y="21"/>
                </a:lnTo>
                <a:lnTo>
                  <a:pt x="199" y="15"/>
                </a:lnTo>
                <a:lnTo>
                  <a:pt x="159" y="10"/>
                </a:lnTo>
                <a:lnTo>
                  <a:pt x="91" y="0"/>
                </a:lnTo>
                <a:lnTo>
                  <a:pt x="34" y="15"/>
                </a:lnTo>
                <a:close/>
              </a:path>
            </a:pathLst>
          </a:cu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1776240" y="1482840"/>
            <a:ext cx="85680" cy="52560"/>
          </a:xfrm>
          <a:prstGeom prst="ellipse">
            <a:avLst/>
          </a:prstGeom>
          <a:solidFill>
            <a:srgbClr val="2c3b95"/>
          </a:solidFill>
          <a:ln w="0">
            <a:noFill/>
          </a:ln>
        </p:spPr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1606680" y="1417680"/>
            <a:ext cx="414720" cy="146520"/>
          </a:xfrm>
          <a:custGeom>
            <a:avLst/>
            <a:gdLst/>
            <a:ahLst/>
            <a:rect l="0" t="0" r="r" b="b"/>
            <a:pathLst>
              <a:path w="1152" h="407">
                <a:moveTo>
                  <a:pt x="0" y="289"/>
                </a:moveTo>
                <a:lnTo>
                  <a:pt x="141" y="407"/>
                </a:lnTo>
                <a:lnTo>
                  <a:pt x="1152" y="90"/>
                </a:lnTo>
                <a:lnTo>
                  <a:pt x="948" y="0"/>
                </a:lnTo>
                <a:lnTo>
                  <a:pt x="0" y="289"/>
                </a:lnTo>
                <a:close/>
              </a:path>
            </a:pathLst>
          </a:custGeom>
          <a:solidFill>
            <a:srgbClr val="a0b0b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1830240" y="1465200"/>
            <a:ext cx="46080" cy="4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1797120" y="1425600"/>
            <a:ext cx="87840" cy="76680"/>
          </a:xfrm>
          <a:custGeom>
            <a:avLst/>
            <a:gdLst/>
            <a:ahLst/>
            <a:rect l="0" t="0" r="r" b="b"/>
            <a:pathLst>
              <a:path w="244" h="213">
                <a:moveTo>
                  <a:pt x="83" y="0"/>
                </a:moveTo>
                <a:lnTo>
                  <a:pt x="244" y="0"/>
                </a:lnTo>
                <a:lnTo>
                  <a:pt x="72" y="213"/>
                </a:lnTo>
                <a:lnTo>
                  <a:pt x="0" y="155"/>
                </a:lnTo>
                <a:lnTo>
                  <a:pt x="83" y="0"/>
                </a:lnTo>
                <a:close/>
              </a:path>
            </a:pathLst>
          </a:custGeom>
          <a:solidFill>
            <a:srgbClr val="2c3b95"/>
          </a:solidFill>
          <a:ln w="0">
            <a:noFill/>
          </a:ln>
        </p:spPr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1776240" y="1482840"/>
            <a:ext cx="47520" cy="4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1739880" y="1450800"/>
            <a:ext cx="47520" cy="4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3494160" y="1441440"/>
            <a:ext cx="114840" cy="86040"/>
          </a:xfrm>
          <a:custGeom>
            <a:avLst/>
            <a:gdLst/>
            <a:ahLst/>
            <a:rect l="0" t="0" r="r" b="b"/>
            <a:pathLst>
              <a:path w="319" h="239">
                <a:moveTo>
                  <a:pt x="285" y="15"/>
                </a:moveTo>
                <a:lnTo>
                  <a:pt x="319" y="63"/>
                </a:lnTo>
                <a:lnTo>
                  <a:pt x="308" y="116"/>
                </a:lnTo>
                <a:lnTo>
                  <a:pt x="308" y="149"/>
                </a:lnTo>
                <a:lnTo>
                  <a:pt x="291" y="170"/>
                </a:lnTo>
                <a:lnTo>
                  <a:pt x="268" y="202"/>
                </a:lnTo>
                <a:lnTo>
                  <a:pt x="205" y="239"/>
                </a:lnTo>
                <a:lnTo>
                  <a:pt x="56" y="186"/>
                </a:lnTo>
                <a:lnTo>
                  <a:pt x="0" y="143"/>
                </a:lnTo>
                <a:lnTo>
                  <a:pt x="5" y="100"/>
                </a:lnTo>
                <a:lnTo>
                  <a:pt x="34" y="68"/>
                </a:lnTo>
                <a:lnTo>
                  <a:pt x="56" y="42"/>
                </a:lnTo>
                <a:lnTo>
                  <a:pt x="73" y="21"/>
                </a:lnTo>
                <a:lnTo>
                  <a:pt x="120" y="15"/>
                </a:lnTo>
                <a:lnTo>
                  <a:pt x="159" y="10"/>
                </a:lnTo>
                <a:lnTo>
                  <a:pt x="227" y="0"/>
                </a:lnTo>
                <a:lnTo>
                  <a:pt x="285" y="15"/>
                </a:lnTo>
                <a:close/>
              </a:path>
            </a:pathLst>
          </a:cu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3457440" y="1498680"/>
            <a:ext cx="85680" cy="52560"/>
          </a:xfrm>
          <a:prstGeom prst="ellipse">
            <a:avLst/>
          </a:prstGeom>
          <a:solidFill>
            <a:srgbClr val="2c3b95"/>
          </a:solidFill>
          <a:ln w="0">
            <a:noFill/>
          </a:ln>
        </p:spPr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3298680" y="1433520"/>
            <a:ext cx="414720" cy="146520"/>
          </a:xfrm>
          <a:custGeom>
            <a:avLst/>
            <a:gdLst/>
            <a:ahLst/>
            <a:rect l="0" t="0" r="r" b="b"/>
            <a:pathLst>
              <a:path w="1152" h="407">
                <a:moveTo>
                  <a:pt x="1152" y="289"/>
                </a:moveTo>
                <a:lnTo>
                  <a:pt x="1011" y="407"/>
                </a:lnTo>
                <a:lnTo>
                  <a:pt x="0" y="90"/>
                </a:lnTo>
                <a:lnTo>
                  <a:pt x="204" y="0"/>
                </a:lnTo>
                <a:lnTo>
                  <a:pt x="1152" y="289"/>
                </a:lnTo>
                <a:close/>
              </a:path>
            </a:pathLst>
          </a:custGeom>
          <a:solidFill>
            <a:srgbClr val="a0b0b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3443400" y="1481040"/>
            <a:ext cx="47520" cy="4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435480" y="1441440"/>
            <a:ext cx="87840" cy="76680"/>
          </a:xfrm>
          <a:custGeom>
            <a:avLst/>
            <a:gdLst/>
            <a:ahLst/>
            <a:rect l="0" t="0" r="r" b="b"/>
            <a:pathLst>
              <a:path w="244" h="213">
                <a:moveTo>
                  <a:pt x="160" y="0"/>
                </a:moveTo>
                <a:lnTo>
                  <a:pt x="0" y="0"/>
                </a:lnTo>
                <a:lnTo>
                  <a:pt x="171" y="213"/>
                </a:lnTo>
                <a:lnTo>
                  <a:pt x="244" y="155"/>
                </a:lnTo>
                <a:lnTo>
                  <a:pt x="160" y="0"/>
                </a:lnTo>
                <a:close/>
              </a:path>
            </a:pathLst>
          </a:custGeom>
          <a:solidFill>
            <a:srgbClr val="2c3b95"/>
          </a:solidFill>
          <a:ln w="0">
            <a:noFill/>
          </a:ln>
        </p:spPr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497400" y="1498680"/>
            <a:ext cx="46080" cy="4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3533760" y="1467000"/>
            <a:ext cx="46080" cy="4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233280" y="2379600"/>
            <a:ext cx="203400" cy="489240"/>
          </a:xfrm>
          <a:custGeom>
            <a:avLst/>
            <a:gdLst/>
            <a:ahLst/>
            <a:rect l="0" t="0" r="r" b="b"/>
            <a:pathLst>
              <a:path w="565" h="1359">
                <a:moveTo>
                  <a:pt x="541" y="0"/>
                </a:moveTo>
                <a:lnTo>
                  <a:pt x="353" y="22"/>
                </a:lnTo>
                <a:lnTo>
                  <a:pt x="283" y="44"/>
                </a:lnTo>
                <a:lnTo>
                  <a:pt x="211" y="66"/>
                </a:lnTo>
                <a:lnTo>
                  <a:pt x="141" y="66"/>
                </a:lnTo>
                <a:lnTo>
                  <a:pt x="70" y="66"/>
                </a:lnTo>
                <a:lnTo>
                  <a:pt x="0" y="111"/>
                </a:lnTo>
                <a:lnTo>
                  <a:pt x="0" y="1336"/>
                </a:lnTo>
                <a:lnTo>
                  <a:pt x="70" y="1336"/>
                </a:lnTo>
                <a:lnTo>
                  <a:pt x="164" y="1336"/>
                </a:lnTo>
                <a:lnTo>
                  <a:pt x="258" y="1359"/>
                </a:lnTo>
                <a:lnTo>
                  <a:pt x="330" y="1314"/>
                </a:lnTo>
                <a:lnTo>
                  <a:pt x="377" y="1247"/>
                </a:lnTo>
                <a:lnTo>
                  <a:pt x="424" y="1158"/>
                </a:lnTo>
                <a:lnTo>
                  <a:pt x="447" y="1092"/>
                </a:lnTo>
                <a:lnTo>
                  <a:pt x="447" y="1025"/>
                </a:lnTo>
                <a:lnTo>
                  <a:pt x="447" y="936"/>
                </a:lnTo>
                <a:lnTo>
                  <a:pt x="471" y="847"/>
                </a:lnTo>
                <a:lnTo>
                  <a:pt x="494" y="758"/>
                </a:lnTo>
                <a:lnTo>
                  <a:pt x="541" y="691"/>
                </a:lnTo>
                <a:lnTo>
                  <a:pt x="565" y="623"/>
                </a:lnTo>
                <a:lnTo>
                  <a:pt x="565" y="534"/>
                </a:lnTo>
                <a:lnTo>
                  <a:pt x="565" y="445"/>
                </a:lnTo>
                <a:lnTo>
                  <a:pt x="565" y="378"/>
                </a:lnTo>
                <a:lnTo>
                  <a:pt x="565" y="311"/>
                </a:lnTo>
                <a:lnTo>
                  <a:pt x="565" y="222"/>
                </a:lnTo>
                <a:lnTo>
                  <a:pt x="565" y="155"/>
                </a:lnTo>
                <a:lnTo>
                  <a:pt x="565" y="89"/>
                </a:lnTo>
                <a:lnTo>
                  <a:pt x="565" y="0"/>
                </a:lnTo>
                <a:lnTo>
                  <a:pt x="541" y="0"/>
                </a:lnTo>
                <a:close/>
              </a:path>
            </a:pathLst>
          </a:custGeom>
          <a:solidFill>
            <a:srgbClr val="804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920880" y="2352600"/>
            <a:ext cx="397080" cy="113040"/>
          </a:xfrm>
          <a:custGeom>
            <a:avLst/>
            <a:gdLst/>
            <a:ahLst/>
            <a:rect l="0" t="0" r="r" b="b"/>
            <a:pathLst>
              <a:path w="1103" h="314">
                <a:moveTo>
                  <a:pt x="0" y="59"/>
                </a:moveTo>
                <a:lnTo>
                  <a:pt x="157" y="0"/>
                </a:lnTo>
                <a:lnTo>
                  <a:pt x="157" y="56"/>
                </a:lnTo>
                <a:lnTo>
                  <a:pt x="978" y="56"/>
                </a:lnTo>
                <a:lnTo>
                  <a:pt x="1103" y="148"/>
                </a:lnTo>
                <a:lnTo>
                  <a:pt x="1029" y="176"/>
                </a:lnTo>
                <a:lnTo>
                  <a:pt x="1097" y="255"/>
                </a:lnTo>
                <a:lnTo>
                  <a:pt x="1032" y="289"/>
                </a:lnTo>
                <a:lnTo>
                  <a:pt x="838" y="289"/>
                </a:lnTo>
                <a:lnTo>
                  <a:pt x="838" y="314"/>
                </a:lnTo>
                <a:lnTo>
                  <a:pt x="0" y="314"/>
                </a:lnTo>
                <a:lnTo>
                  <a:pt x="0" y="59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976320" y="2235240"/>
            <a:ext cx="448200" cy="186120"/>
          </a:xfrm>
          <a:custGeom>
            <a:avLst/>
            <a:gdLst/>
            <a:ahLst/>
            <a:rect l="0" t="0" r="r" b="b"/>
            <a:pathLst>
              <a:path w="1245" h="517">
                <a:moveTo>
                  <a:pt x="0" y="328"/>
                </a:moveTo>
                <a:lnTo>
                  <a:pt x="0" y="382"/>
                </a:lnTo>
                <a:lnTo>
                  <a:pt x="818" y="382"/>
                </a:lnTo>
                <a:lnTo>
                  <a:pt x="950" y="475"/>
                </a:lnTo>
                <a:lnTo>
                  <a:pt x="1102" y="489"/>
                </a:lnTo>
                <a:lnTo>
                  <a:pt x="1108" y="517"/>
                </a:lnTo>
                <a:lnTo>
                  <a:pt x="1215" y="478"/>
                </a:lnTo>
                <a:lnTo>
                  <a:pt x="1245" y="305"/>
                </a:lnTo>
                <a:lnTo>
                  <a:pt x="1245" y="186"/>
                </a:lnTo>
                <a:lnTo>
                  <a:pt x="1197" y="167"/>
                </a:lnTo>
                <a:lnTo>
                  <a:pt x="1221" y="0"/>
                </a:lnTo>
                <a:lnTo>
                  <a:pt x="956" y="0"/>
                </a:lnTo>
                <a:lnTo>
                  <a:pt x="668" y="133"/>
                </a:lnTo>
                <a:lnTo>
                  <a:pt x="716" y="178"/>
                </a:lnTo>
                <a:lnTo>
                  <a:pt x="540" y="238"/>
                </a:lnTo>
                <a:lnTo>
                  <a:pt x="320" y="224"/>
                </a:lnTo>
                <a:lnTo>
                  <a:pt x="125" y="224"/>
                </a:lnTo>
                <a:lnTo>
                  <a:pt x="83" y="286"/>
                </a:lnTo>
                <a:lnTo>
                  <a:pt x="0" y="328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1403280" y="2236680"/>
            <a:ext cx="167040" cy="95760"/>
          </a:xfrm>
          <a:custGeom>
            <a:avLst/>
            <a:gdLst/>
            <a:ahLst/>
            <a:rect l="0" t="0" r="r" b="b"/>
            <a:pathLst>
              <a:path w="464" h="266">
                <a:moveTo>
                  <a:pt x="29" y="0"/>
                </a:moveTo>
                <a:lnTo>
                  <a:pt x="464" y="0"/>
                </a:lnTo>
                <a:lnTo>
                  <a:pt x="446" y="64"/>
                </a:lnTo>
                <a:lnTo>
                  <a:pt x="368" y="79"/>
                </a:lnTo>
                <a:lnTo>
                  <a:pt x="248" y="266"/>
                </a:lnTo>
                <a:lnTo>
                  <a:pt x="53" y="266"/>
                </a:lnTo>
                <a:lnTo>
                  <a:pt x="53" y="182"/>
                </a:lnTo>
                <a:lnTo>
                  <a:pt x="0" y="163"/>
                </a:lnTo>
                <a:lnTo>
                  <a:pt x="29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44640" bIns="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1492200" y="2203560"/>
            <a:ext cx="125640" cy="128880"/>
          </a:xfrm>
          <a:custGeom>
            <a:avLst/>
            <a:gdLst/>
            <a:ahLst/>
            <a:rect l="0" t="0" r="r" b="b"/>
            <a:pathLst>
              <a:path w="349" h="358">
                <a:moveTo>
                  <a:pt x="217" y="93"/>
                </a:moveTo>
                <a:lnTo>
                  <a:pt x="349" y="0"/>
                </a:lnTo>
                <a:lnTo>
                  <a:pt x="349" y="327"/>
                </a:lnTo>
                <a:lnTo>
                  <a:pt x="223" y="358"/>
                </a:lnTo>
                <a:lnTo>
                  <a:pt x="0" y="355"/>
                </a:lnTo>
                <a:lnTo>
                  <a:pt x="120" y="174"/>
                </a:lnTo>
                <a:lnTo>
                  <a:pt x="205" y="157"/>
                </a:lnTo>
                <a:lnTo>
                  <a:pt x="217" y="93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1617840" y="2131920"/>
            <a:ext cx="263880" cy="187560"/>
          </a:xfrm>
          <a:custGeom>
            <a:avLst/>
            <a:gdLst/>
            <a:ahLst/>
            <a:rect l="0" t="0" r="r" b="b"/>
            <a:pathLst>
              <a:path w="733" h="521">
                <a:moveTo>
                  <a:pt x="0" y="202"/>
                </a:moveTo>
                <a:lnTo>
                  <a:pt x="0" y="521"/>
                </a:lnTo>
                <a:lnTo>
                  <a:pt x="175" y="475"/>
                </a:lnTo>
                <a:lnTo>
                  <a:pt x="187" y="433"/>
                </a:lnTo>
                <a:lnTo>
                  <a:pt x="733" y="246"/>
                </a:lnTo>
                <a:lnTo>
                  <a:pt x="703" y="177"/>
                </a:lnTo>
                <a:lnTo>
                  <a:pt x="608" y="157"/>
                </a:lnTo>
                <a:lnTo>
                  <a:pt x="542" y="8"/>
                </a:lnTo>
                <a:lnTo>
                  <a:pt x="396" y="27"/>
                </a:lnTo>
                <a:lnTo>
                  <a:pt x="318" y="0"/>
                </a:lnTo>
                <a:lnTo>
                  <a:pt x="175" y="53"/>
                </a:lnTo>
                <a:lnTo>
                  <a:pt x="0" y="202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1417680" y="2324160"/>
            <a:ext cx="255960" cy="66960"/>
          </a:xfrm>
          <a:custGeom>
            <a:avLst/>
            <a:gdLst/>
            <a:ahLst/>
            <a:rect l="0" t="0" r="r" b="b"/>
            <a:pathLst>
              <a:path w="711" h="186">
                <a:moveTo>
                  <a:pt x="17" y="21"/>
                </a:moveTo>
                <a:lnTo>
                  <a:pt x="427" y="21"/>
                </a:lnTo>
                <a:lnTo>
                  <a:pt x="528" y="0"/>
                </a:lnTo>
                <a:lnTo>
                  <a:pt x="577" y="49"/>
                </a:lnTo>
                <a:lnTo>
                  <a:pt x="511" y="79"/>
                </a:lnTo>
                <a:lnTo>
                  <a:pt x="607" y="158"/>
                </a:lnTo>
                <a:lnTo>
                  <a:pt x="711" y="158"/>
                </a:lnTo>
                <a:lnTo>
                  <a:pt x="559" y="186"/>
                </a:lnTo>
                <a:lnTo>
                  <a:pt x="421" y="124"/>
                </a:lnTo>
                <a:lnTo>
                  <a:pt x="0" y="124"/>
                </a:lnTo>
                <a:lnTo>
                  <a:pt x="17" y="21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1535040" y="2368440"/>
            <a:ext cx="52920" cy="30600"/>
          </a:xfrm>
          <a:custGeom>
            <a:avLst/>
            <a:gdLst/>
            <a:ahLst/>
            <a:rect l="0" t="0" r="r" b="b"/>
            <a:pathLst>
              <a:path w="147" h="85">
                <a:moveTo>
                  <a:pt x="0" y="0"/>
                </a:moveTo>
                <a:lnTo>
                  <a:pt x="98" y="0"/>
                </a:lnTo>
                <a:lnTo>
                  <a:pt x="147" y="25"/>
                </a:lnTo>
                <a:lnTo>
                  <a:pt x="91" y="80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411200" y="2368440"/>
            <a:ext cx="124200" cy="38520"/>
          </a:xfrm>
          <a:custGeom>
            <a:avLst/>
            <a:gdLst/>
            <a:ahLst/>
            <a:rect l="0" t="0" r="r" b="b"/>
            <a:pathLst>
              <a:path w="345" h="107">
                <a:moveTo>
                  <a:pt x="17" y="0"/>
                </a:moveTo>
                <a:lnTo>
                  <a:pt x="345" y="0"/>
                </a:lnTo>
                <a:lnTo>
                  <a:pt x="345" y="85"/>
                </a:lnTo>
                <a:lnTo>
                  <a:pt x="0" y="107"/>
                </a:lnTo>
                <a:lnTo>
                  <a:pt x="17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268280" y="2406600"/>
            <a:ext cx="108360" cy="95760"/>
          </a:xfrm>
          <a:custGeom>
            <a:avLst/>
            <a:gdLst/>
            <a:ahLst/>
            <a:rect l="0" t="0" r="r" b="b"/>
            <a:pathLst>
              <a:path w="301" h="266">
                <a:moveTo>
                  <a:pt x="138" y="0"/>
                </a:moveTo>
                <a:lnTo>
                  <a:pt x="65" y="29"/>
                </a:lnTo>
                <a:lnTo>
                  <a:pt x="129" y="106"/>
                </a:lnTo>
                <a:lnTo>
                  <a:pt x="65" y="143"/>
                </a:lnTo>
                <a:lnTo>
                  <a:pt x="0" y="183"/>
                </a:lnTo>
                <a:lnTo>
                  <a:pt x="129" y="266"/>
                </a:lnTo>
                <a:lnTo>
                  <a:pt x="262" y="183"/>
                </a:lnTo>
                <a:lnTo>
                  <a:pt x="301" y="90"/>
                </a:lnTo>
                <a:lnTo>
                  <a:pt x="253" y="85"/>
                </a:lnTo>
                <a:lnTo>
                  <a:pt x="298" y="37"/>
                </a:lnTo>
                <a:lnTo>
                  <a:pt x="289" y="11"/>
                </a:lnTo>
                <a:lnTo>
                  <a:pt x="138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44640" bIns="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1222200" y="2455920"/>
            <a:ext cx="82800" cy="68760"/>
          </a:xfrm>
          <a:custGeom>
            <a:avLst/>
            <a:gdLst/>
            <a:ahLst/>
            <a:rect l="0" t="0" r="r" b="b"/>
            <a:pathLst>
              <a:path w="230" h="191">
                <a:moveTo>
                  <a:pt x="197" y="0"/>
                </a:moveTo>
                <a:lnTo>
                  <a:pt x="0" y="0"/>
                </a:lnTo>
                <a:lnTo>
                  <a:pt x="0" y="191"/>
                </a:lnTo>
                <a:lnTo>
                  <a:pt x="191" y="191"/>
                </a:lnTo>
                <a:lnTo>
                  <a:pt x="230" y="161"/>
                </a:lnTo>
                <a:lnTo>
                  <a:pt x="132" y="101"/>
                </a:lnTo>
                <a:lnTo>
                  <a:pt x="135" y="49"/>
                </a:lnTo>
                <a:lnTo>
                  <a:pt x="197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984240" y="2467080"/>
            <a:ext cx="308160" cy="92520"/>
          </a:xfrm>
          <a:custGeom>
            <a:avLst/>
            <a:gdLst/>
            <a:ahLst/>
            <a:rect l="0" t="0" r="r" b="b"/>
            <a:pathLst>
              <a:path w="856" h="257">
                <a:moveTo>
                  <a:pt x="0" y="0"/>
                </a:moveTo>
                <a:lnTo>
                  <a:pt x="665" y="0"/>
                </a:lnTo>
                <a:lnTo>
                  <a:pt x="665" y="159"/>
                </a:lnTo>
                <a:lnTo>
                  <a:pt x="856" y="159"/>
                </a:lnTo>
                <a:lnTo>
                  <a:pt x="749" y="257"/>
                </a:lnTo>
                <a:lnTo>
                  <a:pt x="522" y="230"/>
                </a:lnTo>
                <a:lnTo>
                  <a:pt x="448" y="101"/>
                </a:lnTo>
                <a:lnTo>
                  <a:pt x="420" y="71"/>
                </a:lnTo>
                <a:lnTo>
                  <a:pt x="256" y="47"/>
                </a:lnTo>
                <a:lnTo>
                  <a:pt x="0" y="104"/>
                </a:lnTo>
                <a:lnTo>
                  <a:pt x="0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366840" y="2382840"/>
            <a:ext cx="233640" cy="176400"/>
          </a:xfrm>
          <a:custGeom>
            <a:avLst/>
            <a:gdLst/>
            <a:ahLst/>
            <a:rect l="0" t="0" r="r" b="b"/>
            <a:pathLst>
              <a:path w="649" h="490">
                <a:moveTo>
                  <a:pt x="119" y="0"/>
                </a:moveTo>
                <a:lnTo>
                  <a:pt x="173" y="16"/>
                </a:lnTo>
                <a:lnTo>
                  <a:pt x="262" y="2"/>
                </a:lnTo>
                <a:lnTo>
                  <a:pt x="649" y="2"/>
                </a:lnTo>
                <a:lnTo>
                  <a:pt x="649" y="295"/>
                </a:lnTo>
                <a:lnTo>
                  <a:pt x="410" y="446"/>
                </a:lnTo>
                <a:lnTo>
                  <a:pt x="0" y="490"/>
                </a:lnTo>
                <a:lnTo>
                  <a:pt x="29" y="418"/>
                </a:lnTo>
                <a:lnTo>
                  <a:pt x="119" y="366"/>
                </a:lnTo>
                <a:lnTo>
                  <a:pt x="119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600120" y="2371680"/>
            <a:ext cx="321120" cy="152640"/>
          </a:xfrm>
          <a:custGeom>
            <a:avLst/>
            <a:gdLst/>
            <a:ahLst/>
            <a:rect l="0" t="0" r="r" b="b"/>
            <a:pathLst>
              <a:path w="892" h="424">
                <a:moveTo>
                  <a:pt x="0" y="28"/>
                </a:moveTo>
                <a:lnTo>
                  <a:pt x="332" y="28"/>
                </a:lnTo>
                <a:lnTo>
                  <a:pt x="458" y="56"/>
                </a:lnTo>
                <a:lnTo>
                  <a:pt x="646" y="56"/>
                </a:lnTo>
                <a:lnTo>
                  <a:pt x="892" y="0"/>
                </a:lnTo>
                <a:lnTo>
                  <a:pt x="892" y="183"/>
                </a:lnTo>
                <a:lnTo>
                  <a:pt x="856" y="192"/>
                </a:lnTo>
                <a:lnTo>
                  <a:pt x="737" y="305"/>
                </a:lnTo>
                <a:lnTo>
                  <a:pt x="671" y="305"/>
                </a:lnTo>
                <a:lnTo>
                  <a:pt x="452" y="424"/>
                </a:lnTo>
                <a:lnTo>
                  <a:pt x="380" y="393"/>
                </a:lnTo>
                <a:lnTo>
                  <a:pt x="273" y="407"/>
                </a:lnTo>
                <a:lnTo>
                  <a:pt x="0" y="302"/>
                </a:lnTo>
                <a:lnTo>
                  <a:pt x="0" y="28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63560" y="2440080"/>
            <a:ext cx="383040" cy="135360"/>
          </a:xfrm>
          <a:custGeom>
            <a:avLst/>
            <a:gdLst/>
            <a:ahLst/>
            <a:rect l="0" t="0" r="r" b="b"/>
            <a:pathLst>
              <a:path w="1064" h="376">
                <a:moveTo>
                  <a:pt x="438" y="0"/>
                </a:moveTo>
                <a:lnTo>
                  <a:pt x="408" y="0"/>
                </a:lnTo>
                <a:lnTo>
                  <a:pt x="283" y="114"/>
                </a:lnTo>
                <a:lnTo>
                  <a:pt x="211" y="114"/>
                </a:lnTo>
                <a:lnTo>
                  <a:pt x="0" y="230"/>
                </a:lnTo>
                <a:lnTo>
                  <a:pt x="92" y="351"/>
                </a:lnTo>
                <a:lnTo>
                  <a:pt x="420" y="376"/>
                </a:lnTo>
                <a:lnTo>
                  <a:pt x="507" y="346"/>
                </a:lnTo>
                <a:lnTo>
                  <a:pt x="602" y="257"/>
                </a:lnTo>
                <a:lnTo>
                  <a:pt x="626" y="249"/>
                </a:lnTo>
                <a:lnTo>
                  <a:pt x="1064" y="177"/>
                </a:lnTo>
                <a:lnTo>
                  <a:pt x="1034" y="143"/>
                </a:lnTo>
                <a:lnTo>
                  <a:pt x="865" y="117"/>
                </a:lnTo>
                <a:lnTo>
                  <a:pt x="620" y="177"/>
                </a:lnTo>
                <a:lnTo>
                  <a:pt x="620" y="72"/>
                </a:lnTo>
                <a:lnTo>
                  <a:pt x="438" y="72"/>
                </a:lnTo>
                <a:lnTo>
                  <a:pt x="438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39720" y="2503440"/>
            <a:ext cx="611640" cy="103680"/>
          </a:xfrm>
          <a:custGeom>
            <a:avLst/>
            <a:gdLst/>
            <a:ahLst/>
            <a:rect l="0" t="0" r="r" b="b"/>
            <a:pathLst>
              <a:path w="1699" h="288">
                <a:moveTo>
                  <a:pt x="0" y="287"/>
                </a:moveTo>
                <a:lnTo>
                  <a:pt x="53" y="260"/>
                </a:lnTo>
                <a:lnTo>
                  <a:pt x="432" y="176"/>
                </a:lnTo>
                <a:lnTo>
                  <a:pt x="763" y="201"/>
                </a:lnTo>
                <a:lnTo>
                  <a:pt x="852" y="171"/>
                </a:lnTo>
                <a:lnTo>
                  <a:pt x="957" y="75"/>
                </a:lnTo>
                <a:lnTo>
                  <a:pt x="1407" y="0"/>
                </a:lnTo>
                <a:lnTo>
                  <a:pt x="1485" y="128"/>
                </a:lnTo>
                <a:lnTo>
                  <a:pt x="1699" y="154"/>
                </a:lnTo>
                <a:lnTo>
                  <a:pt x="1592" y="214"/>
                </a:lnTo>
                <a:lnTo>
                  <a:pt x="1664" y="288"/>
                </a:lnTo>
                <a:lnTo>
                  <a:pt x="0" y="287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68200" y="2481120"/>
            <a:ext cx="525960" cy="133560"/>
          </a:xfrm>
          <a:custGeom>
            <a:avLst/>
            <a:gdLst/>
            <a:ahLst/>
            <a:rect l="0" t="0" r="r" b="b"/>
            <a:pathLst>
              <a:path w="1461" h="371">
                <a:moveTo>
                  <a:pt x="0" y="371"/>
                </a:moveTo>
                <a:lnTo>
                  <a:pt x="83" y="273"/>
                </a:lnTo>
                <a:lnTo>
                  <a:pt x="276" y="214"/>
                </a:lnTo>
                <a:lnTo>
                  <a:pt x="678" y="174"/>
                </a:lnTo>
                <a:lnTo>
                  <a:pt x="922" y="25"/>
                </a:lnTo>
                <a:lnTo>
                  <a:pt x="922" y="0"/>
                </a:lnTo>
                <a:lnTo>
                  <a:pt x="1194" y="101"/>
                </a:lnTo>
                <a:lnTo>
                  <a:pt x="1301" y="84"/>
                </a:lnTo>
                <a:lnTo>
                  <a:pt x="1366" y="115"/>
                </a:lnTo>
                <a:lnTo>
                  <a:pt x="1461" y="236"/>
                </a:lnTo>
                <a:lnTo>
                  <a:pt x="1089" y="318"/>
                </a:lnTo>
                <a:lnTo>
                  <a:pt x="1035" y="346"/>
                </a:lnTo>
                <a:lnTo>
                  <a:pt x="306" y="346"/>
                </a:lnTo>
                <a:lnTo>
                  <a:pt x="306" y="371"/>
                </a:lnTo>
                <a:lnTo>
                  <a:pt x="0" y="371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216000" y="2606760"/>
            <a:ext cx="616320" cy="73440"/>
          </a:xfrm>
          <a:custGeom>
            <a:avLst/>
            <a:gdLst/>
            <a:ahLst/>
            <a:rect l="0" t="0" r="r" b="b"/>
            <a:pathLst>
              <a:path w="1712" h="204">
                <a:moveTo>
                  <a:pt x="152" y="22"/>
                </a:moveTo>
                <a:lnTo>
                  <a:pt x="451" y="22"/>
                </a:lnTo>
                <a:lnTo>
                  <a:pt x="451" y="0"/>
                </a:lnTo>
                <a:lnTo>
                  <a:pt x="1712" y="0"/>
                </a:lnTo>
                <a:lnTo>
                  <a:pt x="1689" y="44"/>
                </a:lnTo>
                <a:lnTo>
                  <a:pt x="1184" y="145"/>
                </a:lnTo>
                <a:lnTo>
                  <a:pt x="1136" y="204"/>
                </a:lnTo>
                <a:lnTo>
                  <a:pt x="0" y="204"/>
                </a:lnTo>
                <a:lnTo>
                  <a:pt x="152" y="22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23880" y="2606760"/>
            <a:ext cx="643320" cy="117720"/>
          </a:xfrm>
          <a:custGeom>
            <a:avLst/>
            <a:gdLst/>
            <a:ahLst/>
            <a:rect l="0" t="0" r="r" b="b"/>
            <a:pathLst>
              <a:path w="1787" h="327">
                <a:moveTo>
                  <a:pt x="575" y="0"/>
                </a:moveTo>
                <a:lnTo>
                  <a:pt x="1710" y="0"/>
                </a:lnTo>
                <a:lnTo>
                  <a:pt x="1787" y="100"/>
                </a:lnTo>
                <a:lnTo>
                  <a:pt x="1591" y="200"/>
                </a:lnTo>
                <a:lnTo>
                  <a:pt x="1307" y="242"/>
                </a:lnTo>
                <a:lnTo>
                  <a:pt x="1194" y="327"/>
                </a:lnTo>
                <a:lnTo>
                  <a:pt x="917" y="186"/>
                </a:lnTo>
                <a:lnTo>
                  <a:pt x="697" y="186"/>
                </a:lnTo>
                <a:lnTo>
                  <a:pt x="658" y="157"/>
                </a:lnTo>
                <a:lnTo>
                  <a:pt x="360" y="157"/>
                </a:lnTo>
                <a:lnTo>
                  <a:pt x="250" y="205"/>
                </a:lnTo>
                <a:lnTo>
                  <a:pt x="0" y="205"/>
                </a:lnTo>
                <a:lnTo>
                  <a:pt x="47" y="145"/>
                </a:lnTo>
                <a:lnTo>
                  <a:pt x="551" y="47"/>
                </a:lnTo>
                <a:lnTo>
                  <a:pt x="575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703440" y="2664000"/>
            <a:ext cx="351360" cy="141480"/>
          </a:xfrm>
          <a:custGeom>
            <a:avLst/>
            <a:gdLst/>
            <a:ahLst/>
            <a:rect l="0" t="0" r="r" b="b"/>
            <a:pathLst>
              <a:path w="976" h="393">
                <a:moveTo>
                  <a:pt x="38" y="47"/>
                </a:moveTo>
                <a:lnTo>
                  <a:pt x="140" y="0"/>
                </a:lnTo>
                <a:lnTo>
                  <a:pt x="439" y="0"/>
                </a:lnTo>
                <a:lnTo>
                  <a:pt x="471" y="27"/>
                </a:lnTo>
                <a:lnTo>
                  <a:pt x="698" y="27"/>
                </a:lnTo>
                <a:lnTo>
                  <a:pt x="976" y="167"/>
                </a:lnTo>
                <a:lnTo>
                  <a:pt x="722" y="292"/>
                </a:lnTo>
                <a:lnTo>
                  <a:pt x="531" y="322"/>
                </a:lnTo>
                <a:lnTo>
                  <a:pt x="507" y="393"/>
                </a:lnTo>
                <a:lnTo>
                  <a:pt x="409" y="311"/>
                </a:lnTo>
                <a:lnTo>
                  <a:pt x="0" y="85"/>
                </a:lnTo>
                <a:lnTo>
                  <a:pt x="38" y="47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547560" y="2679840"/>
            <a:ext cx="338400" cy="178200"/>
          </a:xfrm>
          <a:custGeom>
            <a:avLst/>
            <a:gdLst/>
            <a:ahLst/>
            <a:rect l="0" t="0" r="r" b="b"/>
            <a:pathLst>
              <a:path w="940" h="495">
                <a:moveTo>
                  <a:pt x="0" y="0"/>
                </a:moveTo>
                <a:lnTo>
                  <a:pt x="472" y="0"/>
                </a:lnTo>
                <a:lnTo>
                  <a:pt x="432" y="38"/>
                </a:lnTo>
                <a:lnTo>
                  <a:pt x="841" y="265"/>
                </a:lnTo>
                <a:lnTo>
                  <a:pt x="940" y="347"/>
                </a:lnTo>
                <a:lnTo>
                  <a:pt x="818" y="495"/>
                </a:lnTo>
                <a:lnTo>
                  <a:pt x="169" y="495"/>
                </a:lnTo>
                <a:lnTo>
                  <a:pt x="104" y="434"/>
                </a:lnTo>
                <a:lnTo>
                  <a:pt x="68" y="355"/>
                </a:lnTo>
                <a:lnTo>
                  <a:pt x="134" y="312"/>
                </a:lnTo>
                <a:lnTo>
                  <a:pt x="0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324000" y="2679840"/>
            <a:ext cx="273240" cy="186120"/>
          </a:xfrm>
          <a:custGeom>
            <a:avLst/>
            <a:gdLst/>
            <a:ahLst/>
            <a:rect l="0" t="0" r="r" b="b"/>
            <a:pathLst>
              <a:path w="759" h="517">
                <a:moveTo>
                  <a:pt x="154" y="0"/>
                </a:moveTo>
                <a:lnTo>
                  <a:pt x="631" y="0"/>
                </a:lnTo>
                <a:lnTo>
                  <a:pt x="759" y="316"/>
                </a:lnTo>
                <a:lnTo>
                  <a:pt x="697" y="358"/>
                </a:lnTo>
                <a:lnTo>
                  <a:pt x="726" y="433"/>
                </a:lnTo>
                <a:lnTo>
                  <a:pt x="196" y="433"/>
                </a:lnTo>
                <a:lnTo>
                  <a:pt x="187" y="505"/>
                </a:lnTo>
                <a:lnTo>
                  <a:pt x="0" y="517"/>
                </a:lnTo>
                <a:lnTo>
                  <a:pt x="5" y="372"/>
                </a:lnTo>
                <a:lnTo>
                  <a:pt x="154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90600" y="2835360"/>
            <a:ext cx="586080" cy="240120"/>
          </a:xfrm>
          <a:custGeom>
            <a:avLst/>
            <a:gdLst/>
            <a:ahLst/>
            <a:rect l="0" t="0" r="r" b="b"/>
            <a:pathLst>
              <a:path w="1628" h="667">
                <a:moveTo>
                  <a:pt x="5" y="0"/>
                </a:moveTo>
                <a:lnTo>
                  <a:pt x="542" y="0"/>
                </a:lnTo>
                <a:lnTo>
                  <a:pt x="613" y="67"/>
                </a:lnTo>
                <a:lnTo>
                  <a:pt x="1261" y="67"/>
                </a:lnTo>
                <a:lnTo>
                  <a:pt x="1279" y="125"/>
                </a:lnTo>
                <a:lnTo>
                  <a:pt x="1508" y="320"/>
                </a:lnTo>
                <a:lnTo>
                  <a:pt x="1598" y="461"/>
                </a:lnTo>
                <a:lnTo>
                  <a:pt x="1628" y="558"/>
                </a:lnTo>
                <a:lnTo>
                  <a:pt x="1401" y="659"/>
                </a:lnTo>
                <a:lnTo>
                  <a:pt x="1213" y="667"/>
                </a:lnTo>
                <a:lnTo>
                  <a:pt x="1160" y="464"/>
                </a:lnTo>
                <a:lnTo>
                  <a:pt x="1100" y="467"/>
                </a:lnTo>
                <a:lnTo>
                  <a:pt x="915" y="344"/>
                </a:lnTo>
                <a:lnTo>
                  <a:pt x="957" y="242"/>
                </a:lnTo>
                <a:lnTo>
                  <a:pt x="751" y="131"/>
                </a:lnTo>
                <a:lnTo>
                  <a:pt x="476" y="163"/>
                </a:lnTo>
                <a:lnTo>
                  <a:pt x="265" y="75"/>
                </a:lnTo>
                <a:lnTo>
                  <a:pt x="0" y="72"/>
                </a:lnTo>
                <a:lnTo>
                  <a:pt x="5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H="1">
            <a:off x="334800" y="1557360"/>
            <a:ext cx="1243080" cy="342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334800" y="1860480"/>
            <a:ext cx="59040" cy="39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H="1" flipV="1">
            <a:off x="317520" y="1932120"/>
            <a:ext cx="152280" cy="40788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612720" y="1628640"/>
            <a:ext cx="998640" cy="72720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908000" y="1581120"/>
            <a:ext cx="887760" cy="61128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2033640" y="1476360"/>
            <a:ext cx="2190600" cy="544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H="1" flipV="1">
            <a:off x="4157640" y="1973160"/>
            <a:ext cx="66600" cy="47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1865160" y="2371680"/>
            <a:ext cx="2359080" cy="736560"/>
          </a:xfrm>
          <a:prstGeom prst="ellipse">
            <a:avLst/>
          </a:prstGeom>
          <a:noFill/>
          <a:ln w="25560">
            <a:solidFill>
              <a:srgbClr val="b3b9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625840" y="2516040"/>
            <a:ext cx="1590840" cy="463680"/>
          </a:xfrm>
          <a:prstGeom prst="ellipse">
            <a:avLst/>
          </a:prstGeom>
          <a:noFill/>
          <a:ln w="25560">
            <a:solidFill>
              <a:srgbClr val="b3b9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 flipH="1">
            <a:off x="1928880" y="1573200"/>
            <a:ext cx="1474560" cy="10429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1928880" y="2563920"/>
            <a:ext cx="25200" cy="5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606840" y="1604880"/>
            <a:ext cx="609480" cy="1090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540240" y="1608120"/>
            <a:ext cx="210960" cy="1079640"/>
          </a:xfrm>
          <a:prstGeom prst="line">
            <a:avLst/>
          </a:prstGeom>
          <a:ln w="12600">
            <a:solidFill>
              <a:srgbClr val="00279f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 txBox="1"/>
          <p:nvPr/>
        </p:nvSpPr>
        <p:spPr>
          <a:xfrm>
            <a:off x="1855800" y="1344600"/>
            <a:ext cx="71748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Global/Thea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 txBox="1"/>
          <p:nvPr/>
        </p:nvSpPr>
        <p:spPr>
          <a:xfrm>
            <a:off x="2870280" y="1363680"/>
            <a:ext cx="71748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eater/Glob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 txBox="1"/>
          <p:nvPr/>
        </p:nvSpPr>
        <p:spPr>
          <a:xfrm>
            <a:off x="858960" y="2733840"/>
            <a:ext cx="2629080" cy="1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119"/>
              </a:spcBef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(JTIDS, OTCIXS, TIBS, and OTH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 txBox="1"/>
          <p:nvPr/>
        </p:nvSpPr>
        <p:spPr>
          <a:xfrm>
            <a:off x="2637000" y="2889360"/>
            <a:ext cx="166356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600" spc="-1" strike="noStrike">
                <a:solidFill>
                  <a:srgbClr val="b3b900"/>
                </a:solidFill>
                <a:latin typeface="ARIAL"/>
                <a:ea typeface="ARIAL"/>
              </a:rPr>
              <a:t>Corps / ME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 txBox="1"/>
          <p:nvPr/>
        </p:nvSpPr>
        <p:spPr>
          <a:xfrm>
            <a:off x="1146240" y="2658960"/>
            <a:ext cx="18860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600" spc="-1" strike="noStrike">
                <a:solidFill>
                  <a:srgbClr val="b3b900"/>
                </a:solidFill>
                <a:latin typeface="ARIAL"/>
                <a:ea typeface="ARIAL"/>
              </a:rPr>
              <a:t>Theater Network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H="1" flipV="1">
            <a:off x="4203720" y="2592360"/>
            <a:ext cx="7920" cy="87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9" name=""/>
          <p:cNvGrpSpPr/>
          <p:nvPr/>
        </p:nvGrpSpPr>
        <p:grpSpPr>
          <a:xfrm>
            <a:off x="4017960" y="2583000"/>
            <a:ext cx="82800" cy="55800"/>
            <a:chOff x="4017960" y="2583000"/>
            <a:chExt cx="82800" cy="55800"/>
          </a:xfrm>
        </p:grpSpPr>
        <p:sp>
          <p:nvSpPr>
            <p:cNvPr id="3670" name=""/>
            <p:cNvSpPr/>
            <p:nvPr/>
          </p:nvSpPr>
          <p:spPr>
            <a:xfrm>
              <a:off x="4019400" y="2583000"/>
              <a:ext cx="81360" cy="24120"/>
            </a:xfrm>
            <a:custGeom>
              <a:avLst/>
              <a:gdLst/>
              <a:ahLst/>
              <a:rect l="0" t="0" r="r" b="b"/>
              <a:pathLst>
                <a:path w="226" h="67">
                  <a:moveTo>
                    <a:pt x="0" y="34"/>
                  </a:moveTo>
                  <a:lnTo>
                    <a:pt x="95" y="0"/>
                  </a:lnTo>
                  <a:lnTo>
                    <a:pt x="226" y="27"/>
                  </a:lnTo>
                  <a:lnTo>
                    <a:pt x="148" y="6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4017960" y="2595600"/>
              <a:ext cx="54360" cy="43200"/>
            </a:xfrm>
            <a:custGeom>
              <a:avLst/>
              <a:gdLst/>
              <a:ahLst/>
              <a:rect l="0" t="0" r="r" b="b"/>
              <a:pathLst>
                <a:path w="151" h="120">
                  <a:moveTo>
                    <a:pt x="0" y="0"/>
                  </a:moveTo>
                  <a:lnTo>
                    <a:pt x="0" y="80"/>
                  </a:lnTo>
                  <a:lnTo>
                    <a:pt x="151" y="120"/>
                  </a:lnTo>
                  <a:lnTo>
                    <a:pt x="151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4071960" y="2593800"/>
              <a:ext cx="28800" cy="43200"/>
            </a:xfrm>
            <a:custGeom>
              <a:avLst/>
              <a:gdLst/>
              <a:ahLst/>
              <a:rect l="0" t="0" r="r" b="b"/>
              <a:pathLst>
                <a:path w="80" h="120">
                  <a:moveTo>
                    <a:pt x="5" y="39"/>
                  </a:moveTo>
                  <a:lnTo>
                    <a:pt x="80" y="0"/>
                  </a:lnTo>
                  <a:lnTo>
                    <a:pt x="80" y="80"/>
                  </a:lnTo>
                  <a:lnTo>
                    <a:pt x="0" y="12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3" name=""/>
          <p:cNvGrpSpPr/>
          <p:nvPr/>
        </p:nvGrpSpPr>
        <p:grpSpPr>
          <a:xfrm>
            <a:off x="3886200" y="2517120"/>
            <a:ext cx="201600" cy="104040"/>
            <a:chOff x="3886200" y="2517120"/>
            <a:chExt cx="201600" cy="104040"/>
          </a:xfrm>
        </p:grpSpPr>
        <p:sp>
          <p:nvSpPr>
            <p:cNvPr id="3674" name=""/>
            <p:cNvSpPr/>
            <p:nvPr/>
          </p:nvSpPr>
          <p:spPr>
            <a:xfrm>
              <a:off x="3984480" y="2517120"/>
              <a:ext cx="101880" cy="36000"/>
            </a:xfrm>
            <a:custGeom>
              <a:avLst/>
              <a:gdLst/>
              <a:ahLst/>
              <a:rect l="0" t="0" r="r" b="b"/>
              <a:pathLst>
                <a:path w="283" h="100">
                  <a:moveTo>
                    <a:pt x="0" y="0"/>
                  </a:moveTo>
                  <a:lnTo>
                    <a:pt x="0" y="100"/>
                  </a:lnTo>
                  <a:lnTo>
                    <a:pt x="0" y="100"/>
                  </a:lnTo>
                  <a:cubicBezTo>
                    <a:pt x="50" y="100"/>
                    <a:pt x="98" y="95"/>
                    <a:pt x="142" y="87"/>
                  </a:cubicBezTo>
                  <a:cubicBezTo>
                    <a:pt x="185" y="78"/>
                    <a:pt x="220" y="65"/>
                    <a:pt x="245" y="50"/>
                  </a:cubicBezTo>
                  <a:cubicBezTo>
                    <a:pt x="270" y="35"/>
                    <a:pt x="283" y="18"/>
                    <a:pt x="28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919680" y="2585160"/>
              <a:ext cx="101880" cy="36000"/>
            </a:xfrm>
            <a:custGeom>
              <a:avLst/>
              <a:gdLst/>
              <a:ahLst/>
              <a:rect l="0" t="0" r="r" b="b"/>
              <a:pathLst>
                <a:path w="283" h="100">
                  <a:moveTo>
                    <a:pt x="28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13" y="35"/>
                    <a:pt x="38" y="50"/>
                  </a:cubicBezTo>
                  <a:cubicBezTo>
                    <a:pt x="63" y="65"/>
                    <a:pt x="98" y="78"/>
                    <a:pt x="142" y="87"/>
                  </a:cubicBezTo>
                  <a:cubicBezTo>
                    <a:pt x="185" y="95"/>
                    <a:pt x="233" y="100"/>
                    <a:pt x="283" y="100"/>
                  </a:cubicBezTo>
                  <a:lnTo>
                    <a:pt x="28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 flipV="1">
              <a:off x="3957480" y="2610000"/>
              <a:ext cx="73080" cy="10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H="1">
              <a:off x="4051440" y="2521080"/>
              <a:ext cx="612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998880" y="2595600"/>
              <a:ext cx="3672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886200" y="2535120"/>
              <a:ext cx="20160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954600" y="2525760"/>
              <a:ext cx="46440" cy="41760"/>
            </a:xfrm>
            <a:custGeom>
              <a:avLst/>
              <a:gdLst/>
              <a:ahLst/>
              <a:rect l="0" t="0" r="r" b="b"/>
              <a:pathLst>
                <a:path w="129" h="116">
                  <a:moveTo>
                    <a:pt x="106" y="116"/>
                  </a:moveTo>
                  <a:lnTo>
                    <a:pt x="0" y="0"/>
                  </a:lnTo>
                  <a:lnTo>
                    <a:pt x="129" y="92"/>
                  </a:lnTo>
                  <a:lnTo>
                    <a:pt x="106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1" name=""/>
          <p:cNvSpPr/>
          <p:nvPr/>
        </p:nvSpPr>
        <p:spPr>
          <a:xfrm>
            <a:off x="3139920" y="3006720"/>
            <a:ext cx="55800" cy="57600"/>
          </a:xfrm>
          <a:custGeom>
            <a:avLst/>
            <a:gdLst/>
            <a:ahLst/>
            <a:rect l="0" t="0" r="r" b="b"/>
            <a:pathLst>
              <a:path w="155" h="160">
                <a:moveTo>
                  <a:pt x="0" y="160"/>
                </a:moveTo>
                <a:lnTo>
                  <a:pt x="0" y="52"/>
                </a:lnTo>
                <a:lnTo>
                  <a:pt x="155" y="0"/>
                </a:lnTo>
                <a:lnTo>
                  <a:pt x="155" y="97"/>
                </a:lnTo>
                <a:lnTo>
                  <a:pt x="0" y="1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3106800" y="3019320"/>
            <a:ext cx="33840" cy="44640"/>
          </a:xfrm>
          <a:custGeom>
            <a:avLst/>
            <a:gdLst/>
            <a:ahLst/>
            <a:rect l="0" t="0" r="r" b="b"/>
            <a:pathLst>
              <a:path w="94" h="124">
                <a:moveTo>
                  <a:pt x="94" y="14"/>
                </a:moveTo>
                <a:lnTo>
                  <a:pt x="0" y="0"/>
                </a:lnTo>
                <a:lnTo>
                  <a:pt x="0" y="110"/>
                </a:lnTo>
                <a:lnTo>
                  <a:pt x="94" y="124"/>
                </a:lnTo>
                <a:lnTo>
                  <a:pt x="94" y="1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3106800" y="3003480"/>
            <a:ext cx="89280" cy="22680"/>
          </a:xfrm>
          <a:custGeom>
            <a:avLst/>
            <a:gdLst/>
            <a:ahLst/>
            <a:rect l="0" t="0" r="r" b="b"/>
            <a:pathLst>
              <a:path w="248" h="63">
                <a:moveTo>
                  <a:pt x="0" y="49"/>
                </a:moveTo>
                <a:lnTo>
                  <a:pt x="143" y="0"/>
                </a:lnTo>
                <a:lnTo>
                  <a:pt x="248" y="10"/>
                </a:lnTo>
                <a:lnTo>
                  <a:pt x="94" y="63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3182760" y="2935440"/>
            <a:ext cx="9720" cy="12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flipH="1" flipV="1">
            <a:off x="3201840" y="2935440"/>
            <a:ext cx="16200" cy="12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H="1" flipV="1">
            <a:off x="3198960" y="2935440"/>
            <a:ext cx="9360" cy="12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flipV="1">
            <a:off x="3184560" y="3017880"/>
            <a:ext cx="20520" cy="20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3187800" y="2981160"/>
            <a:ext cx="1404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flipH="1" flipV="1">
            <a:off x="3184560" y="3014640"/>
            <a:ext cx="22320" cy="2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flipH="1" flipV="1">
            <a:off x="3189240" y="2976480"/>
            <a:ext cx="1440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flipV="1">
            <a:off x="3195720" y="29052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3189240" y="2900520"/>
            <a:ext cx="12600" cy="7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flipH="1">
            <a:off x="3173400" y="2909880"/>
            <a:ext cx="1440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3205080" y="2909880"/>
            <a:ext cx="972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206880" y="2903400"/>
            <a:ext cx="1260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3205080" y="2892600"/>
            <a:ext cx="1764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flipV="1">
            <a:off x="3200400" y="2881440"/>
            <a:ext cx="6480" cy="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flipH="1" flipV="1">
            <a:off x="3176640" y="2889360"/>
            <a:ext cx="1116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H="1">
            <a:off x="3164040" y="2901960"/>
            <a:ext cx="1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0" name=""/>
          <p:cNvGrpSpPr/>
          <p:nvPr/>
        </p:nvGrpSpPr>
        <p:grpSpPr>
          <a:xfrm>
            <a:off x="3666960" y="2816280"/>
            <a:ext cx="182880" cy="108000"/>
            <a:chOff x="3666960" y="2816280"/>
            <a:chExt cx="182880" cy="108000"/>
          </a:xfrm>
        </p:grpSpPr>
        <p:sp>
          <p:nvSpPr>
            <p:cNvPr id="3701" name=""/>
            <p:cNvSpPr/>
            <p:nvPr/>
          </p:nvSpPr>
          <p:spPr>
            <a:xfrm>
              <a:off x="3745080" y="2889360"/>
              <a:ext cx="28440" cy="349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808440" y="2865600"/>
              <a:ext cx="28440" cy="334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666960" y="2825640"/>
              <a:ext cx="181440" cy="93960"/>
            </a:xfrm>
            <a:custGeom>
              <a:avLst/>
              <a:gdLst/>
              <a:ahLst/>
              <a:rect l="0" t="0" r="r" b="b"/>
              <a:pathLst>
                <a:path w="504" h="261">
                  <a:moveTo>
                    <a:pt x="504" y="80"/>
                  </a:moveTo>
                  <a:lnTo>
                    <a:pt x="504" y="137"/>
                  </a:lnTo>
                  <a:lnTo>
                    <a:pt x="458" y="146"/>
                  </a:lnTo>
                  <a:lnTo>
                    <a:pt x="423" y="155"/>
                  </a:lnTo>
                  <a:lnTo>
                    <a:pt x="408" y="174"/>
                  </a:lnTo>
                  <a:lnTo>
                    <a:pt x="297" y="214"/>
                  </a:lnTo>
                  <a:lnTo>
                    <a:pt x="274" y="203"/>
                  </a:lnTo>
                  <a:lnTo>
                    <a:pt x="238" y="220"/>
                  </a:lnTo>
                  <a:lnTo>
                    <a:pt x="235" y="240"/>
                  </a:lnTo>
                  <a:lnTo>
                    <a:pt x="175" y="261"/>
                  </a:lnTo>
                  <a:lnTo>
                    <a:pt x="0" y="205"/>
                  </a:lnTo>
                  <a:lnTo>
                    <a:pt x="0" y="149"/>
                  </a:lnTo>
                  <a:lnTo>
                    <a:pt x="175" y="199"/>
                  </a:lnTo>
                  <a:lnTo>
                    <a:pt x="175" y="254"/>
                  </a:lnTo>
                  <a:lnTo>
                    <a:pt x="175" y="193"/>
                  </a:lnTo>
                  <a:lnTo>
                    <a:pt x="200" y="162"/>
                  </a:lnTo>
                  <a:lnTo>
                    <a:pt x="291" y="137"/>
                  </a:lnTo>
                  <a:lnTo>
                    <a:pt x="291" y="61"/>
                  </a:lnTo>
                  <a:lnTo>
                    <a:pt x="504" y="0"/>
                  </a:lnTo>
                  <a:lnTo>
                    <a:pt x="504" y="80"/>
                  </a:lnTo>
                  <a:close/>
                </a:path>
              </a:pathLst>
            </a:custGeom>
            <a:solidFill>
              <a:srgbClr val="3a3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668760" y="2835360"/>
              <a:ext cx="111600" cy="43200"/>
            </a:xfrm>
            <a:custGeom>
              <a:avLst/>
              <a:gdLst/>
              <a:ahLst/>
              <a:rect l="0" t="0" r="r" b="b"/>
              <a:pathLst>
                <a:path w="310" h="120">
                  <a:moveTo>
                    <a:pt x="0" y="120"/>
                  </a:moveTo>
                  <a:lnTo>
                    <a:pt x="18" y="99"/>
                  </a:lnTo>
                  <a:lnTo>
                    <a:pt x="54" y="83"/>
                  </a:lnTo>
                  <a:lnTo>
                    <a:pt x="118" y="66"/>
                  </a:lnTo>
                  <a:lnTo>
                    <a:pt x="144" y="0"/>
                  </a:lnTo>
                  <a:lnTo>
                    <a:pt x="310" y="30"/>
                  </a:lnTo>
                  <a:lnTo>
                    <a:pt x="284" y="107"/>
                  </a:lnTo>
                  <a:lnTo>
                    <a:pt x="115" y="6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708360" y="2816280"/>
              <a:ext cx="141480" cy="30600"/>
            </a:xfrm>
            <a:custGeom>
              <a:avLst/>
              <a:gdLst/>
              <a:ahLst/>
              <a:rect l="0" t="0" r="r" b="b"/>
              <a:pathLst>
                <a:path w="393" h="85">
                  <a:moveTo>
                    <a:pt x="0" y="47"/>
                  </a:moveTo>
                  <a:lnTo>
                    <a:pt x="175" y="85"/>
                  </a:lnTo>
                  <a:lnTo>
                    <a:pt x="393" y="26"/>
                  </a:lnTo>
                  <a:lnTo>
                    <a:pt x="185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67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668760" y="2859120"/>
              <a:ext cx="100440" cy="35280"/>
            </a:xfrm>
            <a:custGeom>
              <a:avLst/>
              <a:gdLst/>
              <a:ahLst/>
              <a:rect l="0" t="0" r="r" b="b"/>
              <a:pathLst>
                <a:path w="279" h="98">
                  <a:moveTo>
                    <a:pt x="0" y="52"/>
                  </a:moveTo>
                  <a:lnTo>
                    <a:pt x="166" y="98"/>
                  </a:lnTo>
                  <a:lnTo>
                    <a:pt x="192" y="62"/>
                  </a:lnTo>
                  <a:lnTo>
                    <a:pt x="279" y="41"/>
                  </a:lnTo>
                  <a:lnTo>
                    <a:pt x="115" y="0"/>
                  </a:lnTo>
                  <a:lnTo>
                    <a:pt x="52" y="15"/>
                  </a:lnTo>
                  <a:lnTo>
                    <a:pt x="15" y="3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67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670200" y="2884320"/>
              <a:ext cx="936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713040" y="2898720"/>
              <a:ext cx="936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9" name=""/>
          <p:cNvGrpSpPr/>
          <p:nvPr/>
        </p:nvGrpSpPr>
        <p:grpSpPr>
          <a:xfrm>
            <a:off x="3727440" y="2776680"/>
            <a:ext cx="73440" cy="54000"/>
            <a:chOff x="3727440" y="2776680"/>
            <a:chExt cx="73440" cy="54000"/>
          </a:xfrm>
        </p:grpSpPr>
        <p:sp>
          <p:nvSpPr>
            <p:cNvPr id="3710" name=""/>
            <p:cNvSpPr/>
            <p:nvPr/>
          </p:nvSpPr>
          <p:spPr>
            <a:xfrm>
              <a:off x="3765600" y="2801880"/>
              <a:ext cx="35280" cy="20880"/>
            </a:xfrm>
            <a:custGeom>
              <a:avLst/>
              <a:gdLst/>
              <a:ahLst/>
              <a:rect l="0" t="0" r="r" b="b"/>
              <a:pathLst>
                <a:path w="98" h="58">
                  <a:moveTo>
                    <a:pt x="0" y="0"/>
                  </a:moveTo>
                  <a:lnTo>
                    <a:pt x="0" y="58"/>
                  </a:lnTo>
                  <a:lnTo>
                    <a:pt x="0" y="58"/>
                  </a:lnTo>
                  <a:cubicBezTo>
                    <a:pt x="17" y="58"/>
                    <a:pt x="34" y="55"/>
                    <a:pt x="49" y="50"/>
                  </a:cubicBezTo>
                  <a:cubicBezTo>
                    <a:pt x="64" y="45"/>
                    <a:pt x="76" y="38"/>
                    <a:pt x="85" y="29"/>
                  </a:cubicBezTo>
                  <a:cubicBezTo>
                    <a:pt x="93" y="20"/>
                    <a:pt x="98" y="10"/>
                    <a:pt x="9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732120" y="2810520"/>
              <a:ext cx="35280" cy="20160"/>
            </a:xfrm>
            <a:custGeom>
              <a:avLst/>
              <a:gdLst/>
              <a:ahLst/>
              <a:rect l="0" t="0" r="r" b="b"/>
              <a:pathLst>
                <a:path w="98" h="56">
                  <a:moveTo>
                    <a:pt x="98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"/>
                    <a:pt x="5" y="19"/>
                    <a:pt x="13" y="28"/>
                  </a:cubicBezTo>
                  <a:cubicBezTo>
                    <a:pt x="22" y="37"/>
                    <a:pt x="34" y="44"/>
                    <a:pt x="49" y="48"/>
                  </a:cubicBezTo>
                  <a:cubicBezTo>
                    <a:pt x="64" y="53"/>
                    <a:pt x="81" y="56"/>
                    <a:pt x="98" y="56"/>
                  </a:cubicBez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727440" y="2797200"/>
              <a:ext cx="7128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V="1">
              <a:off x="3738600" y="2778120"/>
              <a:ext cx="1440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 flipV="1">
              <a:off x="3751200" y="2776680"/>
              <a:ext cx="4464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3753000" y="2776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6" name=""/>
          <p:cNvSpPr/>
          <p:nvPr/>
        </p:nvSpPr>
        <p:spPr>
          <a:xfrm flipV="1">
            <a:off x="3814920" y="2741760"/>
            <a:ext cx="0" cy="8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V="1">
            <a:off x="3184560" y="2397240"/>
            <a:ext cx="210960" cy="455400"/>
          </a:xfrm>
          <a:prstGeom prst="line">
            <a:avLst/>
          </a:prstGeom>
          <a:ln w="12600">
            <a:solidFill>
              <a:srgbClr val="00ae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3463920" y="2405160"/>
            <a:ext cx="325440" cy="323640"/>
          </a:xfrm>
          <a:prstGeom prst="line">
            <a:avLst/>
          </a:prstGeom>
          <a:ln w="12600">
            <a:solidFill>
              <a:srgbClr val="00ae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3919680" y="2690640"/>
            <a:ext cx="351000" cy="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 txBox="1"/>
          <p:nvPr/>
        </p:nvSpPr>
        <p:spPr>
          <a:xfrm>
            <a:off x="3890880" y="2738520"/>
            <a:ext cx="407880" cy="1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RIX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284040" y="2397240"/>
            <a:ext cx="557280" cy="166680"/>
          </a:xfrm>
          <a:prstGeom prst="ellipse">
            <a:avLst/>
          </a:prstGeom>
          <a:solidFill>
            <a:srgbClr val="804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425520" y="2389320"/>
            <a:ext cx="200160" cy="3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514440" y="23684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35" y="147"/>
                </a:moveTo>
                <a:lnTo>
                  <a:pt x="76" y="0"/>
                </a:lnTo>
                <a:lnTo>
                  <a:pt x="0" y="136"/>
                </a:lnTo>
                <a:lnTo>
                  <a:pt x="35" y="1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422280" y="2394720"/>
            <a:ext cx="101880" cy="36000"/>
          </a:xfrm>
          <a:custGeom>
            <a:avLst/>
            <a:gdLst/>
            <a:ahLst/>
            <a:rect l="0" t="0" r="r" b="b"/>
            <a:pathLst>
              <a:path fill="none" w="283" h="100">
                <a:moveTo>
                  <a:pt x="0" y="0"/>
                </a:moveTo>
                <a:lnTo>
                  <a:pt x="0" y="0"/>
                </a:lnTo>
                <a:cubicBezTo>
                  <a:pt x="0" y="18"/>
                  <a:pt x="13" y="35"/>
                  <a:pt x="38" y="50"/>
                </a:cubicBezTo>
                <a:cubicBezTo>
                  <a:pt x="63" y="65"/>
                  <a:pt x="98" y="78"/>
                  <a:pt x="142" y="87"/>
                </a:cubicBezTo>
                <a:cubicBezTo>
                  <a:pt x="185" y="95"/>
                  <a:pt x="233" y="100"/>
                  <a:pt x="283" y="10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513360" y="2425680"/>
            <a:ext cx="101160" cy="36720"/>
          </a:xfrm>
          <a:custGeom>
            <a:avLst/>
            <a:gdLst/>
            <a:ahLst/>
            <a:rect l="0" t="0" r="r" b="b"/>
            <a:pathLst>
              <a:path fill="none" w="281" h="102">
                <a:moveTo>
                  <a:pt x="0" y="102"/>
                </a:moveTo>
                <a:lnTo>
                  <a:pt x="0" y="102"/>
                </a:lnTo>
                <a:cubicBezTo>
                  <a:pt x="49" y="102"/>
                  <a:pt x="98" y="97"/>
                  <a:pt x="141" y="88"/>
                </a:cubicBezTo>
                <a:cubicBezTo>
                  <a:pt x="183" y="79"/>
                  <a:pt x="219" y="67"/>
                  <a:pt x="243" y="51"/>
                </a:cubicBezTo>
                <a:cubicBezTo>
                  <a:pt x="268" y="35"/>
                  <a:pt x="281" y="18"/>
                  <a:pt x="28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515880" y="2454120"/>
            <a:ext cx="68400" cy="2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446040" y="2409840"/>
            <a:ext cx="3672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 flipH="1">
            <a:off x="506520" y="2449440"/>
            <a:ext cx="28440" cy="2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457200" y="2460600"/>
            <a:ext cx="81360" cy="24120"/>
          </a:xfrm>
          <a:custGeom>
            <a:avLst/>
            <a:gdLst/>
            <a:ahLst/>
            <a:rect l="0" t="0" r="r" b="b"/>
            <a:pathLst>
              <a:path w="226" h="67">
                <a:moveTo>
                  <a:pt x="226" y="34"/>
                </a:moveTo>
                <a:lnTo>
                  <a:pt x="131" y="0"/>
                </a:lnTo>
                <a:lnTo>
                  <a:pt x="0" y="27"/>
                </a:lnTo>
                <a:lnTo>
                  <a:pt x="77" y="67"/>
                </a:lnTo>
                <a:lnTo>
                  <a:pt x="226" y="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485640" y="2475000"/>
            <a:ext cx="54360" cy="41760"/>
          </a:xfrm>
          <a:custGeom>
            <a:avLst/>
            <a:gdLst/>
            <a:ahLst/>
            <a:rect l="0" t="0" r="r" b="b"/>
            <a:pathLst>
              <a:path w="151" h="116">
                <a:moveTo>
                  <a:pt x="151" y="0"/>
                </a:moveTo>
                <a:lnTo>
                  <a:pt x="151" y="77"/>
                </a:lnTo>
                <a:lnTo>
                  <a:pt x="0" y="116"/>
                </a:lnTo>
                <a:lnTo>
                  <a:pt x="0" y="27"/>
                </a:lnTo>
                <a:lnTo>
                  <a:pt x="15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455760" y="2471760"/>
            <a:ext cx="30600" cy="43200"/>
          </a:xfrm>
          <a:custGeom>
            <a:avLst/>
            <a:gdLst/>
            <a:ahLst/>
            <a:rect l="0" t="0" r="r" b="b"/>
            <a:pathLst>
              <a:path w="85" h="120">
                <a:moveTo>
                  <a:pt x="79" y="39"/>
                </a:moveTo>
                <a:lnTo>
                  <a:pt x="0" y="0"/>
                </a:lnTo>
                <a:lnTo>
                  <a:pt x="0" y="80"/>
                </a:lnTo>
                <a:lnTo>
                  <a:pt x="85" y="120"/>
                </a:lnTo>
                <a:lnTo>
                  <a:pt x="79" y="3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3459240" y="2335320"/>
            <a:ext cx="92520" cy="24120"/>
          </a:xfrm>
          <a:custGeom>
            <a:avLst/>
            <a:gdLst/>
            <a:ahLst/>
            <a:rect l="0" t="0" r="r" b="b"/>
            <a:pathLst>
              <a:path w="257" h="67">
                <a:moveTo>
                  <a:pt x="257" y="67"/>
                </a:moveTo>
                <a:lnTo>
                  <a:pt x="13" y="0"/>
                </a:lnTo>
                <a:lnTo>
                  <a:pt x="0" y="60"/>
                </a:lnTo>
                <a:lnTo>
                  <a:pt x="257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3259080" y="2351160"/>
            <a:ext cx="303480" cy="27360"/>
          </a:xfrm>
          <a:custGeom>
            <a:avLst/>
            <a:gdLst/>
            <a:ahLst/>
            <a:rect l="0" t="0" r="r" b="b"/>
            <a:pathLst>
              <a:path w="843" h="76">
                <a:moveTo>
                  <a:pt x="816" y="21"/>
                </a:moveTo>
                <a:lnTo>
                  <a:pt x="843" y="45"/>
                </a:lnTo>
                <a:lnTo>
                  <a:pt x="677" y="76"/>
                </a:lnTo>
                <a:lnTo>
                  <a:pt x="313" y="55"/>
                </a:lnTo>
                <a:lnTo>
                  <a:pt x="0" y="13"/>
                </a:lnTo>
                <a:lnTo>
                  <a:pt x="170" y="0"/>
                </a:lnTo>
                <a:lnTo>
                  <a:pt x="552" y="21"/>
                </a:lnTo>
                <a:lnTo>
                  <a:pt x="816" y="21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3346560" y="2332080"/>
            <a:ext cx="117720" cy="27360"/>
          </a:xfrm>
          <a:custGeom>
            <a:avLst/>
            <a:gdLst/>
            <a:ahLst/>
            <a:rect l="0" t="0" r="r" b="b"/>
            <a:pathLst>
              <a:path w="327" h="76">
                <a:moveTo>
                  <a:pt x="327" y="3"/>
                </a:moveTo>
                <a:lnTo>
                  <a:pt x="282" y="0"/>
                </a:lnTo>
                <a:lnTo>
                  <a:pt x="0" y="59"/>
                </a:lnTo>
                <a:lnTo>
                  <a:pt x="313" y="76"/>
                </a:lnTo>
                <a:lnTo>
                  <a:pt x="327" y="3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3206880" y="2319480"/>
            <a:ext cx="93960" cy="36720"/>
          </a:xfrm>
          <a:custGeom>
            <a:avLst/>
            <a:gdLst/>
            <a:ahLst/>
            <a:rect l="0" t="0" r="r" b="b"/>
            <a:pathLst>
              <a:path w="261" h="102">
                <a:moveTo>
                  <a:pt x="261" y="92"/>
                </a:moveTo>
                <a:lnTo>
                  <a:pt x="125" y="0"/>
                </a:lnTo>
                <a:lnTo>
                  <a:pt x="0" y="3"/>
                </a:lnTo>
                <a:lnTo>
                  <a:pt x="135" y="102"/>
                </a:lnTo>
                <a:lnTo>
                  <a:pt x="261" y="92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3378240" y="2365200"/>
            <a:ext cx="92520" cy="11520"/>
          </a:xfrm>
          <a:custGeom>
            <a:avLst/>
            <a:gdLst/>
            <a:ahLst/>
            <a:rect l="0" t="0" r="r" b="b"/>
            <a:pathLst>
              <a:path w="257" h="32">
                <a:moveTo>
                  <a:pt x="257" y="32"/>
                </a:moveTo>
                <a:lnTo>
                  <a:pt x="203" y="3"/>
                </a:lnTo>
                <a:lnTo>
                  <a:pt x="31" y="0"/>
                </a:lnTo>
                <a:lnTo>
                  <a:pt x="0" y="21"/>
                </a:lnTo>
                <a:lnTo>
                  <a:pt x="257" y="3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3376440" y="2374920"/>
            <a:ext cx="44640" cy="12960"/>
          </a:xfrm>
          <a:custGeom>
            <a:avLst/>
            <a:gdLst/>
            <a:ahLst/>
            <a:rect l="0" t="0" r="r" b="b"/>
            <a:pathLst>
              <a:path w="124" h="36">
                <a:moveTo>
                  <a:pt x="55" y="0"/>
                </a:moveTo>
                <a:lnTo>
                  <a:pt x="47" y="13"/>
                </a:lnTo>
                <a:lnTo>
                  <a:pt x="0" y="27"/>
                </a:lnTo>
                <a:lnTo>
                  <a:pt x="8" y="35"/>
                </a:lnTo>
                <a:lnTo>
                  <a:pt x="124" y="36"/>
                </a:lnTo>
                <a:lnTo>
                  <a:pt x="112" y="21"/>
                </a:lnTo>
                <a:lnTo>
                  <a:pt x="80" y="10"/>
                </a:lnTo>
                <a:lnTo>
                  <a:pt x="86" y="0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3170160" y="2311560"/>
            <a:ext cx="120960" cy="9720"/>
          </a:xfrm>
          <a:custGeom>
            <a:avLst/>
            <a:gdLst/>
            <a:ahLst/>
            <a:rect l="0" t="0" r="r" b="b"/>
            <a:pathLst>
              <a:path w="336" h="27">
                <a:moveTo>
                  <a:pt x="336" y="23"/>
                </a:moveTo>
                <a:lnTo>
                  <a:pt x="45" y="27"/>
                </a:lnTo>
                <a:lnTo>
                  <a:pt x="40" y="11"/>
                </a:lnTo>
                <a:lnTo>
                  <a:pt x="0" y="11"/>
                </a:lnTo>
                <a:lnTo>
                  <a:pt x="126" y="0"/>
                </a:lnTo>
                <a:lnTo>
                  <a:pt x="281" y="0"/>
                </a:lnTo>
                <a:lnTo>
                  <a:pt x="336" y="23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3222720" y="2320920"/>
            <a:ext cx="47520" cy="3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1320840" y="2556000"/>
            <a:ext cx="287640" cy="54360"/>
          </a:xfrm>
          <a:custGeom>
            <a:avLst/>
            <a:gdLst/>
            <a:ahLst/>
            <a:rect l="0" t="0" r="r" b="b"/>
            <a:pathLst>
              <a:path w="799" h="151">
                <a:moveTo>
                  <a:pt x="799" y="120"/>
                </a:moveTo>
                <a:lnTo>
                  <a:pt x="618" y="95"/>
                </a:lnTo>
                <a:lnTo>
                  <a:pt x="593" y="64"/>
                </a:lnTo>
                <a:lnTo>
                  <a:pt x="230" y="64"/>
                </a:lnTo>
                <a:lnTo>
                  <a:pt x="181" y="56"/>
                </a:lnTo>
                <a:lnTo>
                  <a:pt x="115" y="0"/>
                </a:lnTo>
                <a:lnTo>
                  <a:pt x="0" y="0"/>
                </a:lnTo>
                <a:lnTo>
                  <a:pt x="82" y="72"/>
                </a:lnTo>
                <a:lnTo>
                  <a:pt x="16" y="87"/>
                </a:lnTo>
                <a:lnTo>
                  <a:pt x="230" y="151"/>
                </a:lnTo>
                <a:lnTo>
                  <a:pt x="461" y="151"/>
                </a:lnTo>
                <a:lnTo>
                  <a:pt x="412" y="136"/>
                </a:lnTo>
                <a:lnTo>
                  <a:pt x="799" y="12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1755720" y="2338560"/>
            <a:ext cx="321120" cy="54360"/>
          </a:xfrm>
          <a:custGeom>
            <a:avLst/>
            <a:gdLst/>
            <a:ahLst/>
            <a:rect l="0" t="0" r="r" b="b"/>
            <a:pathLst>
              <a:path w="892" h="151">
                <a:moveTo>
                  <a:pt x="892" y="81"/>
                </a:moveTo>
                <a:lnTo>
                  <a:pt x="860" y="96"/>
                </a:lnTo>
                <a:lnTo>
                  <a:pt x="830" y="124"/>
                </a:lnTo>
                <a:lnTo>
                  <a:pt x="814" y="151"/>
                </a:lnTo>
                <a:lnTo>
                  <a:pt x="13" y="151"/>
                </a:lnTo>
                <a:lnTo>
                  <a:pt x="0" y="118"/>
                </a:lnTo>
                <a:lnTo>
                  <a:pt x="161" y="118"/>
                </a:lnTo>
                <a:lnTo>
                  <a:pt x="161" y="93"/>
                </a:lnTo>
                <a:lnTo>
                  <a:pt x="209" y="93"/>
                </a:lnTo>
                <a:lnTo>
                  <a:pt x="211" y="56"/>
                </a:lnTo>
                <a:lnTo>
                  <a:pt x="218" y="56"/>
                </a:lnTo>
                <a:lnTo>
                  <a:pt x="218" y="92"/>
                </a:lnTo>
                <a:lnTo>
                  <a:pt x="272" y="92"/>
                </a:lnTo>
                <a:lnTo>
                  <a:pt x="272" y="77"/>
                </a:lnTo>
                <a:lnTo>
                  <a:pt x="334" y="77"/>
                </a:lnTo>
                <a:lnTo>
                  <a:pt x="334" y="107"/>
                </a:lnTo>
                <a:lnTo>
                  <a:pt x="371" y="107"/>
                </a:lnTo>
                <a:lnTo>
                  <a:pt x="371" y="37"/>
                </a:lnTo>
                <a:lnTo>
                  <a:pt x="378" y="37"/>
                </a:lnTo>
                <a:lnTo>
                  <a:pt x="378" y="81"/>
                </a:lnTo>
                <a:lnTo>
                  <a:pt x="392" y="81"/>
                </a:lnTo>
                <a:lnTo>
                  <a:pt x="392" y="108"/>
                </a:lnTo>
                <a:lnTo>
                  <a:pt x="406" y="108"/>
                </a:lnTo>
                <a:lnTo>
                  <a:pt x="406" y="80"/>
                </a:lnTo>
                <a:lnTo>
                  <a:pt x="465" y="80"/>
                </a:lnTo>
                <a:lnTo>
                  <a:pt x="465" y="65"/>
                </a:lnTo>
                <a:lnTo>
                  <a:pt x="475" y="65"/>
                </a:lnTo>
                <a:lnTo>
                  <a:pt x="475" y="34"/>
                </a:lnTo>
                <a:lnTo>
                  <a:pt x="465" y="34"/>
                </a:lnTo>
                <a:lnTo>
                  <a:pt x="465" y="19"/>
                </a:lnTo>
                <a:lnTo>
                  <a:pt x="479" y="17"/>
                </a:lnTo>
                <a:lnTo>
                  <a:pt x="479" y="0"/>
                </a:lnTo>
                <a:lnTo>
                  <a:pt x="486" y="1"/>
                </a:lnTo>
                <a:lnTo>
                  <a:pt x="486" y="17"/>
                </a:lnTo>
                <a:lnTo>
                  <a:pt x="514" y="17"/>
                </a:lnTo>
                <a:lnTo>
                  <a:pt x="516" y="22"/>
                </a:lnTo>
                <a:lnTo>
                  <a:pt x="500" y="25"/>
                </a:lnTo>
                <a:lnTo>
                  <a:pt x="502" y="31"/>
                </a:lnTo>
                <a:lnTo>
                  <a:pt x="539" y="31"/>
                </a:lnTo>
                <a:lnTo>
                  <a:pt x="539" y="20"/>
                </a:lnTo>
                <a:lnTo>
                  <a:pt x="555" y="20"/>
                </a:lnTo>
                <a:lnTo>
                  <a:pt x="555" y="28"/>
                </a:lnTo>
                <a:lnTo>
                  <a:pt x="553" y="28"/>
                </a:lnTo>
                <a:lnTo>
                  <a:pt x="553" y="34"/>
                </a:lnTo>
                <a:lnTo>
                  <a:pt x="544" y="37"/>
                </a:lnTo>
                <a:lnTo>
                  <a:pt x="521" y="37"/>
                </a:lnTo>
                <a:lnTo>
                  <a:pt x="507" y="51"/>
                </a:lnTo>
                <a:lnTo>
                  <a:pt x="511" y="62"/>
                </a:lnTo>
                <a:lnTo>
                  <a:pt x="578" y="62"/>
                </a:lnTo>
                <a:lnTo>
                  <a:pt x="578" y="20"/>
                </a:lnTo>
                <a:lnTo>
                  <a:pt x="587" y="20"/>
                </a:lnTo>
                <a:lnTo>
                  <a:pt x="587" y="62"/>
                </a:lnTo>
                <a:lnTo>
                  <a:pt x="601" y="60"/>
                </a:lnTo>
                <a:lnTo>
                  <a:pt x="590" y="83"/>
                </a:lnTo>
                <a:lnTo>
                  <a:pt x="590" y="105"/>
                </a:lnTo>
                <a:lnTo>
                  <a:pt x="622" y="105"/>
                </a:lnTo>
                <a:lnTo>
                  <a:pt x="622" y="96"/>
                </a:lnTo>
                <a:lnTo>
                  <a:pt x="610" y="98"/>
                </a:lnTo>
                <a:lnTo>
                  <a:pt x="610" y="90"/>
                </a:lnTo>
                <a:lnTo>
                  <a:pt x="652" y="90"/>
                </a:lnTo>
                <a:lnTo>
                  <a:pt x="631" y="95"/>
                </a:lnTo>
                <a:lnTo>
                  <a:pt x="631" y="104"/>
                </a:lnTo>
                <a:lnTo>
                  <a:pt x="676" y="104"/>
                </a:lnTo>
                <a:lnTo>
                  <a:pt x="676" y="93"/>
                </a:lnTo>
                <a:lnTo>
                  <a:pt x="663" y="93"/>
                </a:lnTo>
                <a:lnTo>
                  <a:pt x="663" y="84"/>
                </a:lnTo>
                <a:lnTo>
                  <a:pt x="720" y="84"/>
                </a:lnTo>
                <a:lnTo>
                  <a:pt x="720" y="93"/>
                </a:lnTo>
                <a:lnTo>
                  <a:pt x="692" y="93"/>
                </a:lnTo>
                <a:lnTo>
                  <a:pt x="694" y="102"/>
                </a:lnTo>
                <a:lnTo>
                  <a:pt x="892" y="81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1806480" y="1601640"/>
            <a:ext cx="139680" cy="70992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805120" y="2685960"/>
            <a:ext cx="321120" cy="54360"/>
          </a:xfrm>
          <a:custGeom>
            <a:avLst/>
            <a:gdLst/>
            <a:ahLst/>
            <a:rect l="0" t="0" r="r" b="b"/>
            <a:pathLst>
              <a:path w="892" h="151">
                <a:moveTo>
                  <a:pt x="0" y="81"/>
                </a:moveTo>
                <a:lnTo>
                  <a:pt x="32" y="96"/>
                </a:lnTo>
                <a:lnTo>
                  <a:pt x="62" y="124"/>
                </a:lnTo>
                <a:lnTo>
                  <a:pt x="78" y="151"/>
                </a:lnTo>
                <a:lnTo>
                  <a:pt x="878" y="151"/>
                </a:lnTo>
                <a:lnTo>
                  <a:pt x="892" y="118"/>
                </a:lnTo>
                <a:lnTo>
                  <a:pt x="731" y="118"/>
                </a:lnTo>
                <a:lnTo>
                  <a:pt x="731" y="93"/>
                </a:lnTo>
                <a:lnTo>
                  <a:pt x="683" y="93"/>
                </a:lnTo>
                <a:lnTo>
                  <a:pt x="681" y="56"/>
                </a:lnTo>
                <a:lnTo>
                  <a:pt x="674" y="56"/>
                </a:lnTo>
                <a:lnTo>
                  <a:pt x="674" y="92"/>
                </a:lnTo>
                <a:lnTo>
                  <a:pt x="620" y="92"/>
                </a:lnTo>
                <a:lnTo>
                  <a:pt x="620" y="77"/>
                </a:lnTo>
                <a:lnTo>
                  <a:pt x="558" y="77"/>
                </a:lnTo>
                <a:lnTo>
                  <a:pt x="558" y="107"/>
                </a:lnTo>
                <a:lnTo>
                  <a:pt x="521" y="107"/>
                </a:lnTo>
                <a:lnTo>
                  <a:pt x="521" y="37"/>
                </a:lnTo>
                <a:lnTo>
                  <a:pt x="514" y="37"/>
                </a:lnTo>
                <a:lnTo>
                  <a:pt x="514" y="81"/>
                </a:lnTo>
                <a:lnTo>
                  <a:pt x="500" y="81"/>
                </a:lnTo>
                <a:lnTo>
                  <a:pt x="500" y="108"/>
                </a:lnTo>
                <a:lnTo>
                  <a:pt x="486" y="108"/>
                </a:lnTo>
                <a:lnTo>
                  <a:pt x="486" y="80"/>
                </a:lnTo>
                <a:lnTo>
                  <a:pt x="426" y="80"/>
                </a:lnTo>
                <a:lnTo>
                  <a:pt x="426" y="65"/>
                </a:lnTo>
                <a:lnTo>
                  <a:pt x="417" y="65"/>
                </a:lnTo>
                <a:lnTo>
                  <a:pt x="417" y="34"/>
                </a:lnTo>
                <a:lnTo>
                  <a:pt x="426" y="34"/>
                </a:lnTo>
                <a:lnTo>
                  <a:pt x="426" y="19"/>
                </a:lnTo>
                <a:lnTo>
                  <a:pt x="413" y="17"/>
                </a:lnTo>
                <a:lnTo>
                  <a:pt x="413" y="0"/>
                </a:lnTo>
                <a:lnTo>
                  <a:pt x="406" y="1"/>
                </a:lnTo>
                <a:lnTo>
                  <a:pt x="406" y="17"/>
                </a:lnTo>
                <a:lnTo>
                  <a:pt x="378" y="17"/>
                </a:lnTo>
                <a:lnTo>
                  <a:pt x="376" y="22"/>
                </a:lnTo>
                <a:lnTo>
                  <a:pt x="392" y="25"/>
                </a:lnTo>
                <a:lnTo>
                  <a:pt x="389" y="31"/>
                </a:lnTo>
                <a:lnTo>
                  <a:pt x="353" y="31"/>
                </a:lnTo>
                <a:lnTo>
                  <a:pt x="353" y="20"/>
                </a:lnTo>
                <a:lnTo>
                  <a:pt x="337" y="20"/>
                </a:lnTo>
                <a:lnTo>
                  <a:pt x="337" y="28"/>
                </a:lnTo>
                <a:lnTo>
                  <a:pt x="339" y="28"/>
                </a:lnTo>
                <a:lnTo>
                  <a:pt x="339" y="34"/>
                </a:lnTo>
                <a:lnTo>
                  <a:pt x="348" y="37"/>
                </a:lnTo>
                <a:lnTo>
                  <a:pt x="371" y="37"/>
                </a:lnTo>
                <a:lnTo>
                  <a:pt x="385" y="51"/>
                </a:lnTo>
                <a:lnTo>
                  <a:pt x="380" y="62"/>
                </a:lnTo>
                <a:lnTo>
                  <a:pt x="314" y="62"/>
                </a:lnTo>
                <a:lnTo>
                  <a:pt x="314" y="20"/>
                </a:lnTo>
                <a:lnTo>
                  <a:pt x="304" y="20"/>
                </a:lnTo>
                <a:lnTo>
                  <a:pt x="304" y="62"/>
                </a:lnTo>
                <a:lnTo>
                  <a:pt x="291" y="60"/>
                </a:lnTo>
                <a:lnTo>
                  <a:pt x="302" y="83"/>
                </a:lnTo>
                <a:lnTo>
                  <a:pt x="302" y="105"/>
                </a:lnTo>
                <a:lnTo>
                  <a:pt x="270" y="105"/>
                </a:lnTo>
                <a:lnTo>
                  <a:pt x="270" y="96"/>
                </a:lnTo>
                <a:lnTo>
                  <a:pt x="281" y="98"/>
                </a:lnTo>
                <a:lnTo>
                  <a:pt x="281" y="90"/>
                </a:lnTo>
                <a:lnTo>
                  <a:pt x="240" y="90"/>
                </a:lnTo>
                <a:lnTo>
                  <a:pt x="261" y="95"/>
                </a:lnTo>
                <a:lnTo>
                  <a:pt x="261" y="104"/>
                </a:lnTo>
                <a:lnTo>
                  <a:pt x="216" y="104"/>
                </a:lnTo>
                <a:lnTo>
                  <a:pt x="216" y="93"/>
                </a:lnTo>
                <a:lnTo>
                  <a:pt x="228" y="93"/>
                </a:lnTo>
                <a:lnTo>
                  <a:pt x="228" y="84"/>
                </a:lnTo>
                <a:lnTo>
                  <a:pt x="172" y="84"/>
                </a:lnTo>
                <a:lnTo>
                  <a:pt x="172" y="93"/>
                </a:lnTo>
                <a:lnTo>
                  <a:pt x="200" y="93"/>
                </a:lnTo>
                <a:lnTo>
                  <a:pt x="197" y="102"/>
                </a:lnTo>
                <a:lnTo>
                  <a:pt x="0" y="81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4" name=""/>
          <p:cNvGrpSpPr/>
          <p:nvPr/>
        </p:nvGrpSpPr>
        <p:grpSpPr>
          <a:xfrm>
            <a:off x="3390840" y="2673360"/>
            <a:ext cx="216000" cy="114480"/>
            <a:chOff x="3390840" y="2673360"/>
            <a:chExt cx="216000" cy="114480"/>
          </a:xfrm>
        </p:grpSpPr>
        <p:sp>
          <p:nvSpPr>
            <p:cNvPr id="3745" name=""/>
            <p:cNvSpPr/>
            <p:nvPr/>
          </p:nvSpPr>
          <p:spPr>
            <a:xfrm>
              <a:off x="3495600" y="2673360"/>
              <a:ext cx="223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390840" y="267660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446" y="173"/>
                  </a:moveTo>
                  <a:lnTo>
                    <a:pt x="446" y="159"/>
                  </a:lnTo>
                  <a:lnTo>
                    <a:pt x="439" y="147"/>
                  </a:lnTo>
                  <a:lnTo>
                    <a:pt x="395" y="127"/>
                  </a:lnTo>
                  <a:lnTo>
                    <a:pt x="388" y="108"/>
                  </a:lnTo>
                  <a:lnTo>
                    <a:pt x="355" y="98"/>
                  </a:lnTo>
                  <a:lnTo>
                    <a:pt x="328" y="110"/>
                  </a:lnTo>
                  <a:lnTo>
                    <a:pt x="244" y="102"/>
                  </a:lnTo>
                  <a:lnTo>
                    <a:pt x="81" y="65"/>
                  </a:lnTo>
                  <a:lnTo>
                    <a:pt x="68" y="14"/>
                  </a:lnTo>
                  <a:lnTo>
                    <a:pt x="31" y="0"/>
                  </a:lnTo>
                  <a:lnTo>
                    <a:pt x="28" y="16"/>
                  </a:lnTo>
                  <a:lnTo>
                    <a:pt x="48" y="24"/>
                  </a:lnTo>
                  <a:lnTo>
                    <a:pt x="55" y="83"/>
                  </a:lnTo>
                  <a:lnTo>
                    <a:pt x="0" y="92"/>
                  </a:lnTo>
                  <a:lnTo>
                    <a:pt x="35" y="102"/>
                  </a:lnTo>
                  <a:lnTo>
                    <a:pt x="77" y="98"/>
                  </a:lnTo>
                  <a:lnTo>
                    <a:pt x="124" y="98"/>
                  </a:lnTo>
                  <a:lnTo>
                    <a:pt x="199" y="132"/>
                  </a:lnTo>
                  <a:lnTo>
                    <a:pt x="446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498840" y="2736720"/>
              <a:ext cx="648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522600" y="2736720"/>
              <a:ext cx="648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3459240" y="2687760"/>
              <a:ext cx="139680" cy="5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3562200" y="2725560"/>
              <a:ext cx="44640" cy="18000"/>
            </a:xfrm>
            <a:custGeom>
              <a:avLst/>
              <a:gdLst/>
              <a:ahLst/>
              <a:rect l="0" t="0" r="r" b="b"/>
              <a:pathLst>
                <a:path w="124" h="50">
                  <a:moveTo>
                    <a:pt x="98" y="50"/>
                  </a:moveTo>
                  <a:lnTo>
                    <a:pt x="124" y="44"/>
                  </a:lnTo>
                  <a:lnTo>
                    <a:pt x="13" y="0"/>
                  </a:lnTo>
                  <a:lnTo>
                    <a:pt x="0" y="8"/>
                  </a:lnTo>
                  <a:lnTo>
                    <a:pt x="98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3452760" y="2687760"/>
              <a:ext cx="44640" cy="18000"/>
            </a:xfrm>
            <a:custGeom>
              <a:avLst/>
              <a:gdLst/>
              <a:ahLst/>
              <a:rect l="0" t="0" r="r" b="b"/>
              <a:pathLst>
                <a:path w="124" h="50">
                  <a:moveTo>
                    <a:pt x="98" y="50"/>
                  </a:moveTo>
                  <a:lnTo>
                    <a:pt x="124" y="44"/>
                  </a:lnTo>
                  <a:lnTo>
                    <a:pt x="13" y="0"/>
                  </a:lnTo>
                  <a:lnTo>
                    <a:pt x="0" y="8"/>
                  </a:lnTo>
                  <a:lnTo>
                    <a:pt x="98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2" name=""/>
            <p:cNvGrpSpPr/>
            <p:nvPr/>
          </p:nvGrpSpPr>
          <p:grpSpPr>
            <a:xfrm>
              <a:off x="3473280" y="2700360"/>
              <a:ext cx="101880" cy="27360"/>
              <a:chOff x="3473280" y="2700360"/>
              <a:chExt cx="101880" cy="27360"/>
            </a:xfrm>
          </p:grpSpPr>
          <p:sp>
            <p:nvSpPr>
              <p:cNvPr id="3753" name=""/>
              <p:cNvSpPr/>
              <p:nvPr/>
            </p:nvSpPr>
            <p:spPr>
              <a:xfrm flipH="1">
                <a:off x="3475080" y="2701800"/>
                <a:ext cx="100080" cy="2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548160" y="27003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72" y="3"/>
                    </a:moveTo>
                    <a:lnTo>
                      <a:pt x="44" y="0"/>
                    </a:lnTo>
                    <a:lnTo>
                      <a:pt x="0" y="10"/>
                    </a:lnTo>
                    <a:lnTo>
                      <a:pt x="32" y="14"/>
                    </a:lnTo>
                    <a:lnTo>
                      <a:pt x="72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473280" y="2722680"/>
                <a:ext cx="27360" cy="5040"/>
              </a:xfrm>
              <a:custGeom>
                <a:avLst/>
                <a:gdLst/>
                <a:ahLst/>
                <a:rect l="0" t="0" r="r" b="b"/>
                <a:pathLst>
                  <a:path w="76" h="14">
                    <a:moveTo>
                      <a:pt x="0" y="10"/>
                    </a:moveTo>
                    <a:lnTo>
                      <a:pt x="29" y="14"/>
                    </a:lnTo>
                    <a:lnTo>
                      <a:pt x="76" y="3"/>
                    </a:lnTo>
                    <a:lnTo>
                      <a:pt x="4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6" name=""/>
          <p:cNvSpPr/>
          <p:nvPr/>
        </p:nvSpPr>
        <p:spPr>
          <a:xfrm>
            <a:off x="3429000" y="2413080"/>
            <a:ext cx="17640" cy="247680"/>
          </a:xfrm>
          <a:prstGeom prst="line">
            <a:avLst/>
          </a:prstGeom>
          <a:ln w="12600">
            <a:solidFill>
              <a:srgbClr val="00ae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1847880" y="1577880"/>
            <a:ext cx="347760" cy="91440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1768320" y="1622520"/>
            <a:ext cx="582480" cy="16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 txBox="1"/>
          <p:nvPr/>
        </p:nvSpPr>
        <p:spPr>
          <a:xfrm>
            <a:off x="1793880" y="1611360"/>
            <a:ext cx="54756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DDS 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ADIXS-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2817720" y="2106720"/>
            <a:ext cx="11160" cy="7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1" name=""/>
          <p:cNvGrpSpPr/>
          <p:nvPr/>
        </p:nvGrpSpPr>
        <p:grpSpPr>
          <a:xfrm>
            <a:off x="2666880" y="2197080"/>
            <a:ext cx="392040" cy="142560"/>
            <a:chOff x="2666880" y="2197080"/>
            <a:chExt cx="392040" cy="142560"/>
          </a:xfrm>
        </p:grpSpPr>
        <p:sp>
          <p:nvSpPr>
            <p:cNvPr id="3762" name=""/>
            <p:cNvSpPr/>
            <p:nvPr/>
          </p:nvSpPr>
          <p:spPr>
            <a:xfrm>
              <a:off x="2790720" y="2233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6" y="17"/>
                  </a:moveTo>
                  <a:lnTo>
                    <a:pt x="18" y="0"/>
                  </a:lnTo>
                  <a:lnTo>
                    <a:pt x="54" y="11"/>
                  </a:lnTo>
                  <a:lnTo>
                    <a:pt x="48" y="45"/>
                  </a:lnTo>
                  <a:lnTo>
                    <a:pt x="8" y="42"/>
                  </a:lnTo>
                  <a:lnTo>
                    <a:pt x="0" y="31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743200" y="2201760"/>
              <a:ext cx="52920" cy="46440"/>
            </a:xfrm>
            <a:custGeom>
              <a:avLst/>
              <a:gdLst/>
              <a:ahLst/>
              <a:rect l="0" t="0" r="r" b="b"/>
              <a:pathLst>
                <a:path w="147" h="129">
                  <a:moveTo>
                    <a:pt x="39" y="129"/>
                  </a:moveTo>
                  <a:lnTo>
                    <a:pt x="17" y="115"/>
                  </a:lnTo>
                  <a:lnTo>
                    <a:pt x="50" y="117"/>
                  </a:lnTo>
                  <a:lnTo>
                    <a:pt x="0" y="0"/>
                  </a:lnTo>
                  <a:lnTo>
                    <a:pt x="45" y="8"/>
                  </a:lnTo>
                  <a:lnTo>
                    <a:pt x="147" y="125"/>
                  </a:lnTo>
                  <a:lnTo>
                    <a:pt x="39" y="1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741760" y="2197080"/>
              <a:ext cx="30600" cy="8280"/>
            </a:xfrm>
            <a:custGeom>
              <a:avLst/>
              <a:gdLst/>
              <a:ahLst/>
              <a:rect l="0" t="0" r="r" b="b"/>
              <a:pathLst>
                <a:path w="85" h="23">
                  <a:moveTo>
                    <a:pt x="0" y="0"/>
                  </a:moveTo>
                  <a:lnTo>
                    <a:pt x="85" y="15"/>
                  </a:lnTo>
                  <a:lnTo>
                    <a:pt x="49" y="23"/>
                  </a:lnTo>
                  <a:lnTo>
                    <a:pt x="1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749680" y="2205000"/>
              <a:ext cx="2196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6" name=""/>
            <p:cNvGrpSpPr/>
            <p:nvPr/>
          </p:nvGrpSpPr>
          <p:grpSpPr>
            <a:xfrm>
              <a:off x="2943360" y="2238480"/>
              <a:ext cx="39600" cy="22680"/>
              <a:chOff x="2943360" y="2238480"/>
              <a:chExt cx="39600" cy="22680"/>
            </a:xfrm>
          </p:grpSpPr>
          <p:sp>
            <p:nvSpPr>
              <p:cNvPr id="3767" name=""/>
              <p:cNvSpPr/>
              <p:nvPr/>
            </p:nvSpPr>
            <p:spPr>
              <a:xfrm>
                <a:off x="2943360" y="2238480"/>
                <a:ext cx="36720" cy="22680"/>
              </a:xfrm>
              <a:custGeom>
                <a:avLst/>
                <a:gdLst/>
                <a:ahLst/>
                <a:rect l="0" t="0" r="r" b="b"/>
                <a:pathLst>
                  <a:path w="102" h="63">
                    <a:moveTo>
                      <a:pt x="102" y="25"/>
                    </a:moveTo>
                    <a:lnTo>
                      <a:pt x="85" y="21"/>
                    </a:lnTo>
                    <a:lnTo>
                      <a:pt x="78" y="1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2" y="51"/>
                    </a:lnTo>
                    <a:lnTo>
                      <a:pt x="76" y="63"/>
                    </a:lnTo>
                    <a:lnTo>
                      <a:pt x="93" y="55"/>
                    </a:lnTo>
                    <a:lnTo>
                      <a:pt x="102" y="2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2970360" y="2246400"/>
                <a:ext cx="12600" cy="1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"/>
            <p:cNvGrpSpPr/>
            <p:nvPr/>
          </p:nvGrpSpPr>
          <p:grpSpPr>
            <a:xfrm>
              <a:off x="2946240" y="2260440"/>
              <a:ext cx="41400" cy="24120"/>
              <a:chOff x="2946240" y="2260440"/>
              <a:chExt cx="41400" cy="24120"/>
            </a:xfrm>
          </p:grpSpPr>
          <p:sp>
            <p:nvSpPr>
              <p:cNvPr id="3770" name=""/>
              <p:cNvSpPr/>
              <p:nvPr/>
            </p:nvSpPr>
            <p:spPr>
              <a:xfrm>
                <a:off x="2946240" y="2260440"/>
                <a:ext cx="38520" cy="24120"/>
              </a:xfrm>
              <a:custGeom>
                <a:avLst/>
                <a:gdLst/>
                <a:ahLst/>
                <a:rect l="0" t="0" r="r" b="b"/>
                <a:pathLst>
                  <a:path w="107" h="67">
                    <a:moveTo>
                      <a:pt x="107" y="26"/>
                    </a:moveTo>
                    <a:lnTo>
                      <a:pt x="89" y="22"/>
                    </a:lnTo>
                    <a:lnTo>
                      <a:pt x="83" y="1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34" y="53"/>
                    </a:lnTo>
                    <a:lnTo>
                      <a:pt x="79" y="67"/>
                    </a:lnTo>
                    <a:lnTo>
                      <a:pt x="98" y="58"/>
                    </a:lnTo>
                    <a:lnTo>
                      <a:pt x="107" y="2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2975040" y="2270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2901960" y="2216160"/>
              <a:ext cx="51120" cy="66960"/>
            </a:xfrm>
            <a:custGeom>
              <a:avLst/>
              <a:gdLst/>
              <a:ahLst/>
              <a:rect l="0" t="0" r="r" b="b"/>
              <a:pathLst>
                <a:path w="142" h="186">
                  <a:moveTo>
                    <a:pt x="0" y="151"/>
                  </a:moveTo>
                  <a:lnTo>
                    <a:pt x="34" y="94"/>
                  </a:lnTo>
                  <a:lnTo>
                    <a:pt x="58" y="34"/>
                  </a:lnTo>
                  <a:lnTo>
                    <a:pt x="65" y="0"/>
                  </a:lnTo>
                  <a:lnTo>
                    <a:pt x="105" y="4"/>
                  </a:lnTo>
                  <a:lnTo>
                    <a:pt x="122" y="30"/>
                  </a:lnTo>
                  <a:lnTo>
                    <a:pt x="142" y="18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666880" y="2238480"/>
              <a:ext cx="383040" cy="89280"/>
            </a:xfrm>
            <a:custGeom>
              <a:avLst/>
              <a:gdLst/>
              <a:ahLst/>
              <a:rect l="0" t="0" r="r" b="b"/>
              <a:pathLst>
                <a:path w="1064" h="248">
                  <a:moveTo>
                    <a:pt x="911" y="144"/>
                  </a:moveTo>
                  <a:lnTo>
                    <a:pt x="754" y="108"/>
                  </a:lnTo>
                  <a:lnTo>
                    <a:pt x="529" y="55"/>
                  </a:lnTo>
                  <a:lnTo>
                    <a:pt x="318" y="12"/>
                  </a:lnTo>
                  <a:lnTo>
                    <a:pt x="247" y="2"/>
                  </a:lnTo>
                  <a:lnTo>
                    <a:pt x="159" y="0"/>
                  </a:lnTo>
                  <a:lnTo>
                    <a:pt x="0" y="12"/>
                  </a:lnTo>
                  <a:lnTo>
                    <a:pt x="28" y="27"/>
                  </a:lnTo>
                  <a:lnTo>
                    <a:pt x="192" y="25"/>
                  </a:lnTo>
                  <a:lnTo>
                    <a:pt x="236" y="47"/>
                  </a:lnTo>
                  <a:lnTo>
                    <a:pt x="288" y="69"/>
                  </a:lnTo>
                  <a:lnTo>
                    <a:pt x="406" y="108"/>
                  </a:lnTo>
                  <a:lnTo>
                    <a:pt x="465" y="129"/>
                  </a:lnTo>
                  <a:lnTo>
                    <a:pt x="735" y="199"/>
                  </a:lnTo>
                  <a:lnTo>
                    <a:pt x="889" y="231"/>
                  </a:lnTo>
                  <a:lnTo>
                    <a:pt x="996" y="248"/>
                  </a:lnTo>
                  <a:lnTo>
                    <a:pt x="1036" y="244"/>
                  </a:lnTo>
                  <a:lnTo>
                    <a:pt x="1064" y="231"/>
                  </a:lnTo>
                  <a:lnTo>
                    <a:pt x="1045" y="208"/>
                  </a:lnTo>
                  <a:lnTo>
                    <a:pt x="999" y="177"/>
                  </a:lnTo>
                  <a:lnTo>
                    <a:pt x="948" y="155"/>
                  </a:lnTo>
                  <a:lnTo>
                    <a:pt x="911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682720" y="2281320"/>
              <a:ext cx="262440" cy="39960"/>
            </a:xfrm>
            <a:custGeom>
              <a:avLst/>
              <a:gdLst/>
              <a:ahLst/>
              <a:rect l="0" t="0" r="r" b="b"/>
              <a:pathLst>
                <a:path w="729" h="111">
                  <a:moveTo>
                    <a:pt x="420" y="0"/>
                  </a:moveTo>
                  <a:lnTo>
                    <a:pt x="462" y="31"/>
                  </a:lnTo>
                  <a:lnTo>
                    <a:pt x="374" y="57"/>
                  </a:lnTo>
                  <a:lnTo>
                    <a:pt x="315" y="65"/>
                  </a:lnTo>
                  <a:lnTo>
                    <a:pt x="193" y="80"/>
                  </a:lnTo>
                  <a:lnTo>
                    <a:pt x="0" y="90"/>
                  </a:lnTo>
                  <a:lnTo>
                    <a:pt x="34" y="111"/>
                  </a:lnTo>
                  <a:lnTo>
                    <a:pt x="475" y="98"/>
                  </a:lnTo>
                  <a:lnTo>
                    <a:pt x="587" y="90"/>
                  </a:lnTo>
                  <a:lnTo>
                    <a:pt x="729" y="80"/>
                  </a:lnTo>
                  <a:lnTo>
                    <a:pt x="503" y="18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5" name=""/>
            <p:cNvGrpSpPr/>
            <p:nvPr/>
          </p:nvGrpSpPr>
          <p:grpSpPr>
            <a:xfrm>
              <a:off x="2833560" y="2317680"/>
              <a:ext cx="44640" cy="19440"/>
              <a:chOff x="2833560" y="2317680"/>
              <a:chExt cx="44640" cy="19440"/>
            </a:xfrm>
          </p:grpSpPr>
          <p:sp>
            <p:nvSpPr>
              <p:cNvPr id="3776" name=""/>
              <p:cNvSpPr/>
              <p:nvPr/>
            </p:nvSpPr>
            <p:spPr>
              <a:xfrm>
                <a:off x="2833560" y="2317680"/>
                <a:ext cx="38520" cy="18000"/>
              </a:xfrm>
              <a:custGeom>
                <a:avLst/>
                <a:gdLst/>
                <a:ahLst/>
                <a:rect l="0" t="0" r="r" b="b"/>
                <a:pathLst>
                  <a:path w="107" h="50">
                    <a:moveTo>
                      <a:pt x="46" y="50"/>
                    </a:moveTo>
                    <a:lnTo>
                      <a:pt x="0" y="27"/>
                    </a:lnTo>
                    <a:lnTo>
                      <a:pt x="15" y="18"/>
                    </a:lnTo>
                    <a:lnTo>
                      <a:pt x="15" y="2"/>
                    </a:lnTo>
                    <a:lnTo>
                      <a:pt x="86" y="0"/>
                    </a:lnTo>
                    <a:lnTo>
                      <a:pt x="107" y="27"/>
                    </a:lnTo>
                    <a:lnTo>
                      <a:pt x="46" y="5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2836800" y="2319480"/>
                <a:ext cx="41400" cy="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2859120" y="2325600"/>
                <a:ext cx="1584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2762280" y="2319480"/>
              <a:ext cx="44280" cy="20160"/>
              <a:chOff x="2762280" y="2319480"/>
              <a:chExt cx="44280" cy="20160"/>
            </a:xfrm>
          </p:grpSpPr>
          <p:sp>
            <p:nvSpPr>
              <p:cNvPr id="3780" name=""/>
              <p:cNvSpPr/>
              <p:nvPr/>
            </p:nvSpPr>
            <p:spPr>
              <a:xfrm>
                <a:off x="2762280" y="2319480"/>
                <a:ext cx="38520" cy="16200"/>
              </a:xfrm>
              <a:custGeom>
                <a:avLst/>
                <a:gdLst/>
                <a:ahLst/>
                <a:rect l="0" t="0" r="r" b="b"/>
                <a:pathLst>
                  <a:path w="107" h="45">
                    <a:moveTo>
                      <a:pt x="46" y="45"/>
                    </a:moveTo>
                    <a:lnTo>
                      <a:pt x="0" y="25"/>
                    </a:lnTo>
                    <a:lnTo>
                      <a:pt x="15" y="16"/>
                    </a:lnTo>
                    <a:lnTo>
                      <a:pt x="15" y="2"/>
                    </a:lnTo>
                    <a:lnTo>
                      <a:pt x="86" y="0"/>
                    </a:lnTo>
                    <a:lnTo>
                      <a:pt x="107" y="25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2763720" y="2320920"/>
                <a:ext cx="42840" cy="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2787480" y="2330280"/>
                <a:ext cx="1584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3" name=""/>
            <p:cNvSpPr/>
            <p:nvPr/>
          </p:nvSpPr>
          <p:spPr>
            <a:xfrm>
              <a:off x="2854440" y="2289240"/>
              <a:ext cx="111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008160" y="2313000"/>
              <a:ext cx="111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948040" y="2301840"/>
              <a:ext cx="172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039120" y="2314080"/>
              <a:ext cx="19800" cy="7200"/>
            </a:xfrm>
            <a:custGeom>
              <a:avLst/>
              <a:gdLst/>
              <a:ahLst/>
              <a:rect l="0" t="0" r="r" b="b"/>
              <a:pathLst>
                <a:path w="55" h="20">
                  <a:moveTo>
                    <a:pt x="0" y="3"/>
                  </a:moveTo>
                  <a:lnTo>
                    <a:pt x="0" y="20"/>
                  </a:lnTo>
                  <a:lnTo>
                    <a:pt x="0" y="20"/>
                  </a:lnTo>
                  <a:cubicBezTo>
                    <a:pt x="10" y="20"/>
                    <a:pt x="19" y="19"/>
                    <a:pt x="27" y="18"/>
                  </a:cubicBezTo>
                  <a:cubicBezTo>
                    <a:pt x="36" y="16"/>
                    <a:pt x="43" y="14"/>
                    <a:pt x="48" y="12"/>
                  </a:cubicBezTo>
                  <a:cubicBezTo>
                    <a:pt x="53" y="9"/>
                    <a:pt x="55" y="6"/>
                    <a:pt x="55" y="3"/>
                  </a:cubicBezTo>
                  <a:cubicBezTo>
                    <a:pt x="55" y="2"/>
                    <a:pt x="55" y="1"/>
                    <a:pt x="54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978280" y="2309760"/>
              <a:ext cx="4428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025800" y="2314440"/>
              <a:ext cx="111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9" name=""/>
          <p:cNvSpPr/>
          <p:nvPr/>
        </p:nvSpPr>
        <p:spPr>
          <a:xfrm>
            <a:off x="2025720" y="2562120"/>
            <a:ext cx="486000" cy="28800"/>
          </a:xfrm>
          <a:custGeom>
            <a:avLst/>
            <a:gdLst/>
            <a:ahLst/>
            <a:rect l="0" t="0" r="r" b="b"/>
            <a:pathLst>
              <a:path w="1350" h="80">
                <a:moveTo>
                  <a:pt x="1350" y="0"/>
                </a:moveTo>
                <a:lnTo>
                  <a:pt x="1284" y="21"/>
                </a:lnTo>
                <a:lnTo>
                  <a:pt x="1254" y="52"/>
                </a:lnTo>
                <a:lnTo>
                  <a:pt x="1247" y="80"/>
                </a:lnTo>
                <a:lnTo>
                  <a:pt x="29" y="80"/>
                </a:lnTo>
                <a:lnTo>
                  <a:pt x="29" y="14"/>
                </a:lnTo>
                <a:lnTo>
                  <a:pt x="0" y="14"/>
                </a:lnTo>
                <a:lnTo>
                  <a:pt x="0" y="2"/>
                </a:lnTo>
                <a:lnTo>
                  <a:pt x="135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2184480" y="2500200"/>
            <a:ext cx="35280" cy="62280"/>
          </a:xfrm>
          <a:custGeom>
            <a:avLst/>
            <a:gdLst/>
            <a:ahLst/>
            <a:rect l="0" t="0" r="r" b="b"/>
            <a:pathLst>
              <a:path w="98" h="173">
                <a:moveTo>
                  <a:pt x="70" y="169"/>
                </a:moveTo>
                <a:lnTo>
                  <a:pt x="70" y="141"/>
                </a:lnTo>
                <a:lnTo>
                  <a:pt x="98" y="119"/>
                </a:lnTo>
                <a:lnTo>
                  <a:pt x="98" y="98"/>
                </a:lnTo>
                <a:lnTo>
                  <a:pt x="44" y="98"/>
                </a:lnTo>
                <a:lnTo>
                  <a:pt x="44" y="75"/>
                </a:lnTo>
                <a:lnTo>
                  <a:pt x="60" y="70"/>
                </a:lnTo>
                <a:lnTo>
                  <a:pt x="17" y="54"/>
                </a:lnTo>
                <a:lnTo>
                  <a:pt x="17" y="0"/>
                </a:lnTo>
                <a:lnTo>
                  <a:pt x="14" y="56"/>
                </a:lnTo>
                <a:lnTo>
                  <a:pt x="14" y="96"/>
                </a:lnTo>
                <a:lnTo>
                  <a:pt x="0" y="96"/>
                </a:lnTo>
                <a:lnTo>
                  <a:pt x="0" y="173"/>
                </a:lnTo>
                <a:lnTo>
                  <a:pt x="70" y="16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2286000" y="25750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2092320" y="257508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 flipH="1">
            <a:off x="2287440" y="1573200"/>
            <a:ext cx="1163880" cy="934920"/>
          </a:xfrm>
          <a:prstGeom prst="line">
            <a:avLst/>
          </a:prstGeom>
          <a:ln w="12600">
            <a:solidFill>
              <a:srgbClr val="00279f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3654360" y="1604880"/>
            <a:ext cx="328680" cy="879480"/>
          </a:xfrm>
          <a:prstGeom prst="line">
            <a:avLst/>
          </a:prstGeom>
          <a:ln w="12600">
            <a:solidFill>
              <a:srgbClr val="00279f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 txBox="1"/>
          <p:nvPr/>
        </p:nvSpPr>
        <p:spPr>
          <a:xfrm>
            <a:off x="1536840" y="1344600"/>
            <a:ext cx="34128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" spc="-1" strike="noStrike">
                <a:solidFill>
                  <a:srgbClr val="00ae00"/>
                </a:solidFill>
                <a:latin typeface="ARIAL"/>
                <a:ea typeface="ARIAL"/>
              </a:rPr>
              <a:t>UH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 txBox="1"/>
          <p:nvPr/>
        </p:nvSpPr>
        <p:spPr>
          <a:xfrm>
            <a:off x="3516480" y="1389240"/>
            <a:ext cx="34128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" spc="-1" strike="noStrike">
                <a:solidFill>
                  <a:srgbClr val="00ae00"/>
                </a:solidFill>
                <a:latin typeface="ARIAL"/>
                <a:ea typeface="ARIAL"/>
              </a:rPr>
              <a:t>UH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7" name="" descr=""/>
          <p:cNvPicPr/>
          <p:nvPr/>
        </p:nvPicPr>
        <p:blipFill>
          <a:blip r:embed="rId1"/>
          <a:stretch/>
        </p:blipFill>
        <p:spPr>
          <a:xfrm>
            <a:off x="1371600" y="1947960"/>
            <a:ext cx="312840" cy="84240"/>
          </a:xfrm>
          <a:prstGeom prst="rect">
            <a:avLst/>
          </a:prstGeom>
          <a:ln w="0">
            <a:noFill/>
          </a:ln>
        </p:spPr>
      </p:pic>
      <p:sp>
        <p:nvSpPr>
          <p:cNvPr id="3798" name=""/>
          <p:cNvSpPr/>
          <p:nvPr/>
        </p:nvSpPr>
        <p:spPr>
          <a:xfrm flipV="1">
            <a:off x="2994120" y="1589040"/>
            <a:ext cx="477720" cy="608040"/>
          </a:xfrm>
          <a:prstGeom prst="line">
            <a:avLst/>
          </a:prstGeom>
          <a:ln w="12600">
            <a:solidFill>
              <a:srgbClr val="00279f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9" name=""/>
          <p:cNvGrpSpPr/>
          <p:nvPr/>
        </p:nvGrpSpPr>
        <p:grpSpPr>
          <a:xfrm>
            <a:off x="3324240" y="1650960"/>
            <a:ext cx="452520" cy="214560"/>
            <a:chOff x="3324240" y="1650960"/>
            <a:chExt cx="452520" cy="214560"/>
          </a:xfrm>
        </p:grpSpPr>
        <p:sp>
          <p:nvSpPr>
            <p:cNvPr id="3800" name=""/>
            <p:cNvSpPr/>
            <p:nvPr/>
          </p:nvSpPr>
          <p:spPr>
            <a:xfrm>
              <a:off x="3324240" y="1650960"/>
              <a:ext cx="45252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 txBox="1"/>
            <p:nvPr/>
          </p:nvSpPr>
          <p:spPr>
            <a:xfrm>
              <a:off x="3370320" y="1700280"/>
              <a:ext cx="35712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B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2" name=""/>
          <p:cNvSpPr txBox="1"/>
          <p:nvPr/>
        </p:nvSpPr>
        <p:spPr>
          <a:xfrm>
            <a:off x="4056120" y="3362400"/>
            <a:ext cx="26820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S 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ssion of an Integrated Broadcast Service is to resolve the uncoordinated proliferation of “stovepiped” intelligence broadcasts by providing the tactical commander with integrated time-sensitive tact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 the integration of several intelligence broadcasts into a system of systems, and migrating tactical terminals and receivers into a single related Joint Tactical Terminal (JTT)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Intelligence Broadcas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87480" y="3141720"/>
            <a:ext cx="8961840" cy="3196080"/>
          </a:xfrm>
          <a:custGeom>
            <a:avLst/>
            <a:gdLst/>
            <a:ahLst/>
            <a:rect l="0" t="0" r="r" b="b"/>
            <a:pathLst>
              <a:path w="24894" h="8878">
                <a:moveTo>
                  <a:pt x="0" y="0"/>
                </a:moveTo>
                <a:lnTo>
                  <a:pt x="0" y="8878"/>
                </a:lnTo>
                <a:lnTo>
                  <a:pt x="24842" y="8821"/>
                </a:lnTo>
                <a:lnTo>
                  <a:pt x="24894" y="0"/>
                </a:lnTo>
                <a:lnTo>
                  <a:pt x="0" y="0"/>
                </a:lnTo>
                <a:close/>
              </a:path>
            </a:pathLst>
          </a:custGeom>
          <a:solidFill>
            <a:srgbClr val="b5fef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6113520" y="3800520"/>
            <a:ext cx="2935800" cy="1938600"/>
          </a:xfrm>
          <a:custGeom>
            <a:avLst/>
            <a:gdLst/>
            <a:ahLst/>
            <a:rect l="0" t="0" r="r" b="b"/>
            <a:pathLst>
              <a:path w="8155" h="5385">
                <a:moveTo>
                  <a:pt x="8155" y="0"/>
                </a:moveTo>
                <a:lnTo>
                  <a:pt x="7751" y="125"/>
                </a:lnTo>
                <a:lnTo>
                  <a:pt x="7429" y="175"/>
                </a:lnTo>
                <a:lnTo>
                  <a:pt x="7186" y="225"/>
                </a:lnTo>
                <a:lnTo>
                  <a:pt x="6863" y="425"/>
                </a:lnTo>
                <a:lnTo>
                  <a:pt x="6621" y="475"/>
                </a:lnTo>
                <a:lnTo>
                  <a:pt x="6298" y="626"/>
                </a:lnTo>
                <a:lnTo>
                  <a:pt x="6055" y="726"/>
                </a:lnTo>
                <a:lnTo>
                  <a:pt x="5813" y="826"/>
                </a:lnTo>
                <a:lnTo>
                  <a:pt x="5490" y="976"/>
                </a:lnTo>
                <a:lnTo>
                  <a:pt x="5248" y="1126"/>
                </a:lnTo>
                <a:lnTo>
                  <a:pt x="4925" y="1227"/>
                </a:lnTo>
                <a:lnTo>
                  <a:pt x="4602" y="1277"/>
                </a:lnTo>
                <a:lnTo>
                  <a:pt x="4279" y="1327"/>
                </a:lnTo>
                <a:lnTo>
                  <a:pt x="3956" y="1427"/>
                </a:lnTo>
                <a:lnTo>
                  <a:pt x="3714" y="1477"/>
                </a:lnTo>
                <a:lnTo>
                  <a:pt x="3472" y="1577"/>
                </a:lnTo>
                <a:lnTo>
                  <a:pt x="3230" y="1627"/>
                </a:lnTo>
                <a:lnTo>
                  <a:pt x="2584" y="1727"/>
                </a:lnTo>
                <a:lnTo>
                  <a:pt x="2180" y="1778"/>
                </a:lnTo>
                <a:lnTo>
                  <a:pt x="1937" y="1928"/>
                </a:lnTo>
                <a:lnTo>
                  <a:pt x="1937" y="2128"/>
                </a:lnTo>
                <a:lnTo>
                  <a:pt x="2180" y="2228"/>
                </a:lnTo>
                <a:lnTo>
                  <a:pt x="2422" y="2228"/>
                </a:lnTo>
                <a:lnTo>
                  <a:pt x="2665" y="2228"/>
                </a:lnTo>
                <a:lnTo>
                  <a:pt x="2584" y="2379"/>
                </a:lnTo>
                <a:lnTo>
                  <a:pt x="2261" y="2479"/>
                </a:lnTo>
                <a:lnTo>
                  <a:pt x="2099" y="2629"/>
                </a:lnTo>
                <a:lnTo>
                  <a:pt x="1937" y="2830"/>
                </a:lnTo>
                <a:lnTo>
                  <a:pt x="1695" y="2931"/>
                </a:lnTo>
                <a:lnTo>
                  <a:pt x="1453" y="3081"/>
                </a:lnTo>
                <a:lnTo>
                  <a:pt x="1695" y="3231"/>
                </a:lnTo>
                <a:lnTo>
                  <a:pt x="1856" y="3381"/>
                </a:lnTo>
                <a:lnTo>
                  <a:pt x="1614" y="3431"/>
                </a:lnTo>
                <a:lnTo>
                  <a:pt x="1291" y="3532"/>
                </a:lnTo>
                <a:lnTo>
                  <a:pt x="1049" y="3632"/>
                </a:lnTo>
                <a:lnTo>
                  <a:pt x="807" y="3782"/>
                </a:lnTo>
                <a:lnTo>
                  <a:pt x="484" y="3882"/>
                </a:lnTo>
                <a:lnTo>
                  <a:pt x="322" y="4032"/>
                </a:lnTo>
                <a:lnTo>
                  <a:pt x="80" y="4183"/>
                </a:lnTo>
                <a:lnTo>
                  <a:pt x="0" y="4333"/>
                </a:lnTo>
                <a:lnTo>
                  <a:pt x="0" y="4483"/>
                </a:lnTo>
                <a:lnTo>
                  <a:pt x="80" y="4633"/>
                </a:lnTo>
                <a:lnTo>
                  <a:pt x="242" y="4784"/>
                </a:lnTo>
                <a:lnTo>
                  <a:pt x="484" y="4934"/>
                </a:lnTo>
                <a:lnTo>
                  <a:pt x="726" y="5034"/>
                </a:lnTo>
                <a:lnTo>
                  <a:pt x="726" y="5184"/>
                </a:lnTo>
                <a:lnTo>
                  <a:pt x="726" y="5335"/>
                </a:lnTo>
                <a:lnTo>
                  <a:pt x="726" y="5385"/>
                </a:lnTo>
                <a:lnTo>
                  <a:pt x="8155" y="5385"/>
                </a:lnTo>
                <a:lnTo>
                  <a:pt x="8155" y="0"/>
                </a:lnTo>
                <a:close/>
              </a:path>
            </a:pathLst>
          </a:custGeom>
          <a:solidFill>
            <a:srgbClr val="804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6391440" y="5721480"/>
            <a:ext cx="2657880" cy="616320"/>
          </a:xfrm>
          <a:custGeom>
            <a:avLst/>
            <a:gdLst/>
            <a:ahLst/>
            <a:rect l="0" t="0" r="r" b="b"/>
            <a:pathLst>
              <a:path w="7383" h="1712">
                <a:moveTo>
                  <a:pt x="0" y="81"/>
                </a:moveTo>
                <a:lnTo>
                  <a:pt x="39" y="203"/>
                </a:lnTo>
                <a:lnTo>
                  <a:pt x="198" y="366"/>
                </a:lnTo>
                <a:lnTo>
                  <a:pt x="436" y="407"/>
                </a:lnTo>
                <a:lnTo>
                  <a:pt x="555" y="407"/>
                </a:lnTo>
                <a:lnTo>
                  <a:pt x="714" y="407"/>
                </a:lnTo>
                <a:lnTo>
                  <a:pt x="912" y="407"/>
                </a:lnTo>
                <a:lnTo>
                  <a:pt x="1150" y="407"/>
                </a:lnTo>
                <a:lnTo>
                  <a:pt x="1270" y="407"/>
                </a:lnTo>
                <a:lnTo>
                  <a:pt x="1349" y="530"/>
                </a:lnTo>
                <a:lnTo>
                  <a:pt x="1468" y="693"/>
                </a:lnTo>
                <a:lnTo>
                  <a:pt x="1547" y="897"/>
                </a:lnTo>
                <a:lnTo>
                  <a:pt x="1587" y="1019"/>
                </a:lnTo>
                <a:lnTo>
                  <a:pt x="1825" y="1182"/>
                </a:lnTo>
                <a:lnTo>
                  <a:pt x="2025" y="1263"/>
                </a:lnTo>
                <a:lnTo>
                  <a:pt x="2223" y="1305"/>
                </a:lnTo>
                <a:lnTo>
                  <a:pt x="2382" y="1305"/>
                </a:lnTo>
                <a:lnTo>
                  <a:pt x="2501" y="1305"/>
                </a:lnTo>
                <a:lnTo>
                  <a:pt x="2620" y="1346"/>
                </a:lnTo>
                <a:lnTo>
                  <a:pt x="2739" y="1346"/>
                </a:lnTo>
                <a:lnTo>
                  <a:pt x="2858" y="1468"/>
                </a:lnTo>
                <a:lnTo>
                  <a:pt x="2977" y="1550"/>
                </a:lnTo>
                <a:lnTo>
                  <a:pt x="3096" y="1631"/>
                </a:lnTo>
                <a:lnTo>
                  <a:pt x="3215" y="1631"/>
                </a:lnTo>
                <a:lnTo>
                  <a:pt x="3374" y="1712"/>
                </a:lnTo>
                <a:lnTo>
                  <a:pt x="7383" y="1712"/>
                </a:lnTo>
                <a:lnTo>
                  <a:pt x="7383" y="0"/>
                </a:lnTo>
                <a:lnTo>
                  <a:pt x="0" y="81"/>
                </a:lnTo>
                <a:close/>
              </a:path>
            </a:pathLst>
          </a:custGeom>
          <a:solidFill>
            <a:srgbClr val="804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141840" y="2779560"/>
            <a:ext cx="8906760" cy="838440"/>
          </a:xfrm>
          <a:custGeom>
            <a:avLst/>
            <a:gdLst/>
            <a:ahLst/>
            <a:rect l="0" t="0" r="r" b="b"/>
            <a:pathLst>
              <a:path w="24741" h="2329">
                <a:moveTo>
                  <a:pt x="12266" y="2329"/>
                </a:moveTo>
                <a:lnTo>
                  <a:pt x="24741" y="972"/>
                </a:lnTo>
                <a:lnTo>
                  <a:pt x="24741" y="972"/>
                </a:lnTo>
                <a:cubicBezTo>
                  <a:pt x="23469" y="703"/>
                  <a:pt x="21832" y="478"/>
                  <a:pt x="19940" y="312"/>
                </a:cubicBezTo>
                <a:cubicBezTo>
                  <a:pt x="17607" y="108"/>
                  <a:pt x="14960" y="0"/>
                  <a:pt x="12266" y="0"/>
                </a:cubicBezTo>
                <a:cubicBezTo>
                  <a:pt x="9573" y="0"/>
                  <a:pt x="6926" y="108"/>
                  <a:pt x="4593" y="312"/>
                </a:cubicBezTo>
                <a:cubicBezTo>
                  <a:pt x="2804" y="469"/>
                  <a:pt x="1242" y="679"/>
                  <a:pt x="0" y="929"/>
                </a:cubicBezTo>
                <a:lnTo>
                  <a:pt x="12266" y="2329"/>
                </a:lnTo>
                <a:close/>
              </a:path>
            </a:pathLst>
          </a:custGeom>
          <a:solidFill>
            <a:srgbClr val="b5fef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3368520" y="1697040"/>
            <a:ext cx="254520" cy="197280"/>
          </a:xfrm>
          <a:custGeom>
            <a:avLst/>
            <a:gdLst/>
            <a:ahLst/>
            <a:rect l="0" t="0" r="r" b="b"/>
            <a:pathLst>
              <a:path w="707" h="548">
                <a:moveTo>
                  <a:pt x="75" y="36"/>
                </a:moveTo>
                <a:lnTo>
                  <a:pt x="0" y="146"/>
                </a:lnTo>
                <a:lnTo>
                  <a:pt x="25" y="268"/>
                </a:lnTo>
                <a:lnTo>
                  <a:pt x="25" y="341"/>
                </a:lnTo>
                <a:lnTo>
                  <a:pt x="62" y="389"/>
                </a:lnTo>
                <a:lnTo>
                  <a:pt x="113" y="463"/>
                </a:lnTo>
                <a:lnTo>
                  <a:pt x="252" y="548"/>
                </a:lnTo>
                <a:lnTo>
                  <a:pt x="581" y="427"/>
                </a:lnTo>
                <a:lnTo>
                  <a:pt x="707" y="329"/>
                </a:lnTo>
                <a:lnTo>
                  <a:pt x="694" y="231"/>
                </a:lnTo>
                <a:lnTo>
                  <a:pt x="631" y="158"/>
                </a:lnTo>
                <a:lnTo>
                  <a:pt x="581" y="97"/>
                </a:lnTo>
                <a:lnTo>
                  <a:pt x="543" y="48"/>
                </a:lnTo>
                <a:lnTo>
                  <a:pt x="441" y="36"/>
                </a:lnTo>
                <a:lnTo>
                  <a:pt x="353" y="24"/>
                </a:lnTo>
                <a:lnTo>
                  <a:pt x="202" y="0"/>
                </a:lnTo>
                <a:lnTo>
                  <a:pt x="75" y="36"/>
                </a:lnTo>
                <a:close/>
              </a:path>
            </a:pathLst>
          </a:cu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3513240" y="1827360"/>
            <a:ext cx="190440" cy="119160"/>
          </a:xfrm>
          <a:prstGeom prst="ellipse">
            <a:avLst/>
          </a:prstGeom>
          <a:solidFill>
            <a:srgbClr val="2c3b9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3137040" y="1677960"/>
            <a:ext cx="921240" cy="335160"/>
          </a:xfrm>
          <a:custGeom>
            <a:avLst/>
            <a:gdLst/>
            <a:ahLst/>
            <a:rect l="0" t="0" r="r" b="b"/>
            <a:pathLst>
              <a:path w="2559" h="931">
                <a:moveTo>
                  <a:pt x="0" y="662"/>
                </a:moveTo>
                <a:lnTo>
                  <a:pt x="314" y="931"/>
                </a:lnTo>
                <a:lnTo>
                  <a:pt x="2559" y="208"/>
                </a:lnTo>
                <a:lnTo>
                  <a:pt x="2106" y="0"/>
                </a:lnTo>
                <a:lnTo>
                  <a:pt x="0" y="662"/>
                </a:lnTo>
                <a:close/>
              </a:path>
            </a:pathLst>
          </a:custGeom>
          <a:solidFill>
            <a:srgbClr val="a0b0b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3632040" y="1787400"/>
            <a:ext cx="10332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3557520" y="1697040"/>
            <a:ext cx="195480" cy="174960"/>
          </a:xfrm>
          <a:custGeom>
            <a:avLst/>
            <a:gdLst/>
            <a:ahLst/>
            <a:rect l="0" t="0" r="r" b="b"/>
            <a:pathLst>
              <a:path w="543" h="486">
                <a:moveTo>
                  <a:pt x="184" y="0"/>
                </a:moveTo>
                <a:lnTo>
                  <a:pt x="543" y="0"/>
                </a:lnTo>
                <a:lnTo>
                  <a:pt x="160" y="486"/>
                </a:lnTo>
                <a:lnTo>
                  <a:pt x="0" y="355"/>
                </a:lnTo>
                <a:lnTo>
                  <a:pt x="184" y="0"/>
                </a:lnTo>
                <a:close/>
              </a:path>
            </a:pathLst>
          </a:custGeom>
          <a:solidFill>
            <a:srgbClr val="2c3b9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3513240" y="1827360"/>
            <a:ext cx="10476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3430440" y="1757520"/>
            <a:ext cx="10476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7326360" y="1733400"/>
            <a:ext cx="254520" cy="197280"/>
          </a:xfrm>
          <a:custGeom>
            <a:avLst/>
            <a:gdLst/>
            <a:ahLst/>
            <a:rect l="0" t="0" r="r" b="b"/>
            <a:pathLst>
              <a:path w="707" h="548">
                <a:moveTo>
                  <a:pt x="631" y="36"/>
                </a:moveTo>
                <a:lnTo>
                  <a:pt x="707" y="146"/>
                </a:lnTo>
                <a:lnTo>
                  <a:pt x="682" y="268"/>
                </a:lnTo>
                <a:lnTo>
                  <a:pt x="682" y="341"/>
                </a:lnTo>
                <a:lnTo>
                  <a:pt x="644" y="389"/>
                </a:lnTo>
                <a:lnTo>
                  <a:pt x="594" y="463"/>
                </a:lnTo>
                <a:lnTo>
                  <a:pt x="454" y="548"/>
                </a:lnTo>
                <a:lnTo>
                  <a:pt x="125" y="427"/>
                </a:lnTo>
                <a:lnTo>
                  <a:pt x="0" y="329"/>
                </a:lnTo>
                <a:lnTo>
                  <a:pt x="12" y="231"/>
                </a:lnTo>
                <a:lnTo>
                  <a:pt x="75" y="158"/>
                </a:lnTo>
                <a:lnTo>
                  <a:pt x="125" y="97"/>
                </a:lnTo>
                <a:lnTo>
                  <a:pt x="163" y="48"/>
                </a:lnTo>
                <a:lnTo>
                  <a:pt x="265" y="36"/>
                </a:lnTo>
                <a:lnTo>
                  <a:pt x="353" y="24"/>
                </a:lnTo>
                <a:lnTo>
                  <a:pt x="504" y="0"/>
                </a:lnTo>
                <a:lnTo>
                  <a:pt x="631" y="36"/>
                </a:lnTo>
                <a:close/>
              </a:path>
            </a:pathLst>
          </a:cu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7245360" y="1863720"/>
            <a:ext cx="190440" cy="119160"/>
          </a:xfrm>
          <a:prstGeom prst="ellipse">
            <a:avLst/>
          </a:prstGeom>
          <a:solidFill>
            <a:srgbClr val="2c3b9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6891480" y="1714680"/>
            <a:ext cx="921240" cy="335160"/>
          </a:xfrm>
          <a:custGeom>
            <a:avLst/>
            <a:gdLst/>
            <a:ahLst/>
            <a:rect l="0" t="0" r="r" b="b"/>
            <a:pathLst>
              <a:path w="2559" h="931">
                <a:moveTo>
                  <a:pt x="2559" y="662"/>
                </a:moveTo>
                <a:lnTo>
                  <a:pt x="2244" y="931"/>
                </a:lnTo>
                <a:lnTo>
                  <a:pt x="0" y="208"/>
                </a:lnTo>
                <a:lnTo>
                  <a:pt x="453" y="0"/>
                </a:lnTo>
                <a:lnTo>
                  <a:pt x="2559" y="662"/>
                </a:lnTo>
                <a:close/>
              </a:path>
            </a:pathLst>
          </a:custGeom>
          <a:solidFill>
            <a:srgbClr val="a0b0b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7213680" y="1824120"/>
            <a:ext cx="10476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7196040" y="1733400"/>
            <a:ext cx="195480" cy="174960"/>
          </a:xfrm>
          <a:custGeom>
            <a:avLst/>
            <a:gdLst/>
            <a:ahLst/>
            <a:rect l="0" t="0" r="r" b="b"/>
            <a:pathLst>
              <a:path w="543" h="486">
                <a:moveTo>
                  <a:pt x="358" y="0"/>
                </a:moveTo>
                <a:lnTo>
                  <a:pt x="0" y="0"/>
                </a:lnTo>
                <a:lnTo>
                  <a:pt x="383" y="486"/>
                </a:lnTo>
                <a:lnTo>
                  <a:pt x="543" y="355"/>
                </a:lnTo>
                <a:lnTo>
                  <a:pt x="358" y="0"/>
                </a:lnTo>
                <a:close/>
              </a:path>
            </a:pathLst>
          </a:custGeom>
          <a:solidFill>
            <a:srgbClr val="2c3b9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7331040" y="1863720"/>
            <a:ext cx="10476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7413480" y="1793880"/>
            <a:ext cx="10476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2700000"/>
          </a:gradFill>
          <a:ln w="12600">
            <a:solidFill>
              <a:srgbClr val="919191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85680" y="3873600"/>
            <a:ext cx="451080" cy="1109880"/>
          </a:xfrm>
          <a:custGeom>
            <a:avLst/>
            <a:gdLst/>
            <a:ahLst/>
            <a:rect l="0" t="0" r="r" b="b"/>
            <a:pathLst>
              <a:path w="1253" h="3083">
                <a:moveTo>
                  <a:pt x="1201" y="0"/>
                </a:moveTo>
                <a:lnTo>
                  <a:pt x="783" y="50"/>
                </a:lnTo>
                <a:lnTo>
                  <a:pt x="627" y="101"/>
                </a:lnTo>
                <a:lnTo>
                  <a:pt x="469" y="151"/>
                </a:lnTo>
                <a:lnTo>
                  <a:pt x="313" y="151"/>
                </a:lnTo>
                <a:lnTo>
                  <a:pt x="156" y="151"/>
                </a:lnTo>
                <a:lnTo>
                  <a:pt x="0" y="252"/>
                </a:lnTo>
                <a:lnTo>
                  <a:pt x="0" y="3032"/>
                </a:lnTo>
                <a:lnTo>
                  <a:pt x="156" y="3032"/>
                </a:lnTo>
                <a:lnTo>
                  <a:pt x="365" y="3032"/>
                </a:lnTo>
                <a:lnTo>
                  <a:pt x="573" y="3083"/>
                </a:lnTo>
                <a:lnTo>
                  <a:pt x="731" y="2982"/>
                </a:lnTo>
                <a:lnTo>
                  <a:pt x="835" y="2830"/>
                </a:lnTo>
                <a:lnTo>
                  <a:pt x="940" y="2628"/>
                </a:lnTo>
                <a:lnTo>
                  <a:pt x="992" y="2477"/>
                </a:lnTo>
                <a:lnTo>
                  <a:pt x="992" y="2325"/>
                </a:lnTo>
                <a:lnTo>
                  <a:pt x="992" y="2123"/>
                </a:lnTo>
                <a:lnTo>
                  <a:pt x="1044" y="1921"/>
                </a:lnTo>
                <a:lnTo>
                  <a:pt x="1096" y="1719"/>
                </a:lnTo>
                <a:lnTo>
                  <a:pt x="1201" y="1567"/>
                </a:lnTo>
                <a:lnTo>
                  <a:pt x="1253" y="1414"/>
                </a:lnTo>
                <a:lnTo>
                  <a:pt x="1253" y="1212"/>
                </a:lnTo>
                <a:lnTo>
                  <a:pt x="1253" y="1010"/>
                </a:lnTo>
                <a:lnTo>
                  <a:pt x="1253" y="859"/>
                </a:lnTo>
                <a:lnTo>
                  <a:pt x="1253" y="707"/>
                </a:lnTo>
                <a:lnTo>
                  <a:pt x="1253" y="505"/>
                </a:lnTo>
                <a:lnTo>
                  <a:pt x="1253" y="353"/>
                </a:lnTo>
                <a:lnTo>
                  <a:pt x="1253" y="202"/>
                </a:lnTo>
                <a:lnTo>
                  <a:pt x="1253" y="0"/>
                </a:lnTo>
                <a:lnTo>
                  <a:pt x="1201" y="0"/>
                </a:lnTo>
                <a:close/>
              </a:path>
            </a:pathLst>
          </a:custGeom>
          <a:solidFill>
            <a:srgbClr val="804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1611360" y="3808440"/>
            <a:ext cx="884520" cy="259200"/>
          </a:xfrm>
          <a:custGeom>
            <a:avLst/>
            <a:gdLst/>
            <a:ahLst/>
            <a:rect l="0" t="0" r="r" b="b"/>
            <a:pathLst>
              <a:path w="2457" h="720">
                <a:moveTo>
                  <a:pt x="0" y="136"/>
                </a:moveTo>
                <a:lnTo>
                  <a:pt x="350" y="0"/>
                </a:lnTo>
                <a:lnTo>
                  <a:pt x="350" y="130"/>
                </a:lnTo>
                <a:lnTo>
                  <a:pt x="2179" y="130"/>
                </a:lnTo>
                <a:lnTo>
                  <a:pt x="2457" y="341"/>
                </a:lnTo>
                <a:lnTo>
                  <a:pt x="2291" y="404"/>
                </a:lnTo>
                <a:lnTo>
                  <a:pt x="2443" y="587"/>
                </a:lnTo>
                <a:lnTo>
                  <a:pt x="2298" y="663"/>
                </a:lnTo>
                <a:lnTo>
                  <a:pt x="1867" y="663"/>
                </a:lnTo>
                <a:lnTo>
                  <a:pt x="1867" y="720"/>
                </a:lnTo>
                <a:lnTo>
                  <a:pt x="0" y="720"/>
                </a:lnTo>
                <a:lnTo>
                  <a:pt x="0" y="136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1735200" y="3541680"/>
            <a:ext cx="993960" cy="422640"/>
          </a:xfrm>
          <a:custGeom>
            <a:avLst/>
            <a:gdLst/>
            <a:ahLst/>
            <a:rect l="0" t="0" r="r" b="b"/>
            <a:pathLst>
              <a:path w="2761" h="1174">
                <a:moveTo>
                  <a:pt x="0" y="744"/>
                </a:moveTo>
                <a:lnTo>
                  <a:pt x="0" y="868"/>
                </a:lnTo>
                <a:lnTo>
                  <a:pt x="1814" y="868"/>
                </a:lnTo>
                <a:lnTo>
                  <a:pt x="2106" y="1079"/>
                </a:lnTo>
                <a:lnTo>
                  <a:pt x="2443" y="1111"/>
                </a:lnTo>
                <a:lnTo>
                  <a:pt x="2456" y="1174"/>
                </a:lnTo>
                <a:lnTo>
                  <a:pt x="2695" y="1085"/>
                </a:lnTo>
                <a:lnTo>
                  <a:pt x="2761" y="693"/>
                </a:lnTo>
                <a:lnTo>
                  <a:pt x="2761" y="423"/>
                </a:lnTo>
                <a:lnTo>
                  <a:pt x="2655" y="379"/>
                </a:lnTo>
                <a:lnTo>
                  <a:pt x="2708" y="0"/>
                </a:lnTo>
                <a:lnTo>
                  <a:pt x="2119" y="0"/>
                </a:lnTo>
                <a:lnTo>
                  <a:pt x="1483" y="302"/>
                </a:lnTo>
                <a:lnTo>
                  <a:pt x="1589" y="404"/>
                </a:lnTo>
                <a:lnTo>
                  <a:pt x="1198" y="541"/>
                </a:lnTo>
                <a:lnTo>
                  <a:pt x="708" y="509"/>
                </a:lnTo>
                <a:lnTo>
                  <a:pt x="278" y="509"/>
                </a:lnTo>
                <a:lnTo>
                  <a:pt x="185" y="649"/>
                </a:lnTo>
                <a:lnTo>
                  <a:pt x="0" y="744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2684520" y="3544920"/>
            <a:ext cx="370080" cy="217800"/>
          </a:xfrm>
          <a:custGeom>
            <a:avLst/>
            <a:gdLst/>
            <a:ahLst/>
            <a:rect l="0" t="0" r="r" b="b"/>
            <a:pathLst>
              <a:path w="1028" h="605">
                <a:moveTo>
                  <a:pt x="66" y="0"/>
                </a:moveTo>
                <a:lnTo>
                  <a:pt x="1028" y="0"/>
                </a:lnTo>
                <a:lnTo>
                  <a:pt x="988" y="147"/>
                </a:lnTo>
                <a:lnTo>
                  <a:pt x="816" y="179"/>
                </a:lnTo>
                <a:lnTo>
                  <a:pt x="551" y="605"/>
                </a:lnTo>
                <a:lnTo>
                  <a:pt x="119" y="605"/>
                </a:lnTo>
                <a:lnTo>
                  <a:pt x="119" y="416"/>
                </a:lnTo>
                <a:lnTo>
                  <a:pt x="0" y="371"/>
                </a:lnTo>
                <a:lnTo>
                  <a:pt x="66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2881440" y="3468600"/>
            <a:ext cx="278280" cy="294120"/>
          </a:xfrm>
          <a:custGeom>
            <a:avLst/>
            <a:gdLst/>
            <a:ahLst/>
            <a:rect l="0" t="0" r="r" b="b"/>
            <a:pathLst>
              <a:path w="773" h="817">
                <a:moveTo>
                  <a:pt x="479" y="214"/>
                </a:moveTo>
                <a:lnTo>
                  <a:pt x="773" y="0"/>
                </a:lnTo>
                <a:lnTo>
                  <a:pt x="773" y="747"/>
                </a:lnTo>
                <a:lnTo>
                  <a:pt x="493" y="817"/>
                </a:lnTo>
                <a:lnTo>
                  <a:pt x="0" y="811"/>
                </a:lnTo>
                <a:lnTo>
                  <a:pt x="267" y="399"/>
                </a:lnTo>
                <a:lnTo>
                  <a:pt x="453" y="361"/>
                </a:lnTo>
                <a:lnTo>
                  <a:pt x="479" y="214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3159000" y="3308400"/>
            <a:ext cx="586080" cy="427320"/>
          </a:xfrm>
          <a:custGeom>
            <a:avLst/>
            <a:gdLst/>
            <a:ahLst/>
            <a:rect l="0" t="0" r="r" b="b"/>
            <a:pathLst>
              <a:path w="1628" h="1187">
                <a:moveTo>
                  <a:pt x="0" y="461"/>
                </a:moveTo>
                <a:lnTo>
                  <a:pt x="0" y="1187"/>
                </a:lnTo>
                <a:lnTo>
                  <a:pt x="390" y="1082"/>
                </a:lnTo>
                <a:lnTo>
                  <a:pt x="416" y="986"/>
                </a:lnTo>
                <a:lnTo>
                  <a:pt x="1628" y="562"/>
                </a:lnTo>
                <a:lnTo>
                  <a:pt x="1562" y="403"/>
                </a:lnTo>
                <a:lnTo>
                  <a:pt x="1350" y="359"/>
                </a:lnTo>
                <a:lnTo>
                  <a:pt x="1204" y="19"/>
                </a:lnTo>
                <a:lnTo>
                  <a:pt x="880" y="63"/>
                </a:lnTo>
                <a:lnTo>
                  <a:pt x="707" y="0"/>
                </a:lnTo>
                <a:lnTo>
                  <a:pt x="390" y="120"/>
                </a:lnTo>
                <a:lnTo>
                  <a:pt x="0" y="461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2717640" y="3743280"/>
            <a:ext cx="567000" cy="154440"/>
          </a:xfrm>
          <a:custGeom>
            <a:avLst/>
            <a:gdLst/>
            <a:ahLst/>
            <a:rect l="0" t="0" r="r" b="b"/>
            <a:pathLst>
              <a:path w="1575" h="429">
                <a:moveTo>
                  <a:pt x="39" y="50"/>
                </a:moveTo>
                <a:lnTo>
                  <a:pt x="946" y="50"/>
                </a:lnTo>
                <a:lnTo>
                  <a:pt x="1171" y="0"/>
                </a:lnTo>
                <a:lnTo>
                  <a:pt x="1277" y="115"/>
                </a:lnTo>
                <a:lnTo>
                  <a:pt x="1132" y="184"/>
                </a:lnTo>
                <a:lnTo>
                  <a:pt x="1343" y="366"/>
                </a:lnTo>
                <a:lnTo>
                  <a:pt x="1575" y="366"/>
                </a:lnTo>
                <a:lnTo>
                  <a:pt x="1237" y="429"/>
                </a:lnTo>
                <a:lnTo>
                  <a:pt x="933" y="286"/>
                </a:lnTo>
                <a:lnTo>
                  <a:pt x="0" y="286"/>
                </a:lnTo>
                <a:lnTo>
                  <a:pt x="39" y="5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2978280" y="3844800"/>
            <a:ext cx="114840" cy="68760"/>
          </a:xfrm>
          <a:custGeom>
            <a:avLst/>
            <a:gdLst/>
            <a:ahLst/>
            <a:rect l="0" t="0" r="r" b="b"/>
            <a:pathLst>
              <a:path w="319" h="191">
                <a:moveTo>
                  <a:pt x="0" y="0"/>
                </a:moveTo>
                <a:lnTo>
                  <a:pt x="212" y="0"/>
                </a:lnTo>
                <a:lnTo>
                  <a:pt x="319" y="55"/>
                </a:lnTo>
                <a:lnTo>
                  <a:pt x="199" y="178"/>
                </a:lnTo>
                <a:lnTo>
                  <a:pt x="0" y="191"/>
                </a:lnTo>
                <a:lnTo>
                  <a:pt x="0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2703600" y="3844800"/>
            <a:ext cx="275040" cy="87840"/>
          </a:xfrm>
          <a:custGeom>
            <a:avLst/>
            <a:gdLst/>
            <a:ahLst/>
            <a:rect l="0" t="0" r="r" b="b"/>
            <a:pathLst>
              <a:path w="764" h="244">
                <a:moveTo>
                  <a:pt x="39" y="0"/>
                </a:moveTo>
                <a:lnTo>
                  <a:pt x="764" y="0"/>
                </a:lnTo>
                <a:lnTo>
                  <a:pt x="764" y="194"/>
                </a:lnTo>
                <a:lnTo>
                  <a:pt x="0" y="244"/>
                </a:lnTo>
                <a:lnTo>
                  <a:pt x="39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2386080" y="3932280"/>
            <a:ext cx="238320" cy="217800"/>
          </a:xfrm>
          <a:custGeom>
            <a:avLst/>
            <a:gdLst/>
            <a:ahLst/>
            <a:rect l="0" t="0" r="r" b="b"/>
            <a:pathLst>
              <a:path w="662" h="605">
                <a:moveTo>
                  <a:pt x="304" y="0"/>
                </a:moveTo>
                <a:lnTo>
                  <a:pt x="145" y="66"/>
                </a:lnTo>
                <a:lnTo>
                  <a:pt x="284" y="241"/>
                </a:lnTo>
                <a:lnTo>
                  <a:pt x="145" y="325"/>
                </a:lnTo>
                <a:lnTo>
                  <a:pt x="0" y="417"/>
                </a:lnTo>
                <a:lnTo>
                  <a:pt x="284" y="605"/>
                </a:lnTo>
                <a:lnTo>
                  <a:pt x="576" y="417"/>
                </a:lnTo>
                <a:lnTo>
                  <a:pt x="662" y="203"/>
                </a:lnTo>
                <a:lnTo>
                  <a:pt x="556" y="193"/>
                </a:lnTo>
                <a:lnTo>
                  <a:pt x="655" y="85"/>
                </a:lnTo>
                <a:lnTo>
                  <a:pt x="636" y="25"/>
                </a:lnTo>
                <a:lnTo>
                  <a:pt x="304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2282760" y="4046400"/>
            <a:ext cx="182880" cy="152640"/>
          </a:xfrm>
          <a:custGeom>
            <a:avLst/>
            <a:gdLst/>
            <a:ahLst/>
            <a:rect l="0" t="0" r="r" b="b"/>
            <a:pathLst>
              <a:path w="508" h="424">
                <a:moveTo>
                  <a:pt x="435" y="0"/>
                </a:moveTo>
                <a:lnTo>
                  <a:pt x="0" y="0"/>
                </a:lnTo>
                <a:lnTo>
                  <a:pt x="0" y="424"/>
                </a:lnTo>
                <a:lnTo>
                  <a:pt x="422" y="424"/>
                </a:lnTo>
                <a:lnTo>
                  <a:pt x="508" y="357"/>
                </a:lnTo>
                <a:lnTo>
                  <a:pt x="290" y="225"/>
                </a:lnTo>
                <a:lnTo>
                  <a:pt x="297" y="107"/>
                </a:lnTo>
                <a:lnTo>
                  <a:pt x="435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1755720" y="4068720"/>
            <a:ext cx="682920" cy="211320"/>
          </a:xfrm>
          <a:custGeom>
            <a:avLst/>
            <a:gdLst/>
            <a:ahLst/>
            <a:rect l="0" t="0" r="r" b="b"/>
            <a:pathLst>
              <a:path w="1897" h="587">
                <a:moveTo>
                  <a:pt x="0" y="0"/>
                </a:moveTo>
                <a:lnTo>
                  <a:pt x="1474" y="0"/>
                </a:lnTo>
                <a:lnTo>
                  <a:pt x="1474" y="365"/>
                </a:lnTo>
                <a:lnTo>
                  <a:pt x="1897" y="365"/>
                </a:lnTo>
                <a:lnTo>
                  <a:pt x="1659" y="587"/>
                </a:lnTo>
                <a:lnTo>
                  <a:pt x="1157" y="524"/>
                </a:lnTo>
                <a:lnTo>
                  <a:pt x="992" y="231"/>
                </a:lnTo>
                <a:lnTo>
                  <a:pt x="931" y="161"/>
                </a:lnTo>
                <a:lnTo>
                  <a:pt x="568" y="107"/>
                </a:lnTo>
                <a:lnTo>
                  <a:pt x="0" y="237"/>
                </a:lnTo>
                <a:lnTo>
                  <a:pt x="0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384120" y="3876840"/>
            <a:ext cx="516240" cy="405000"/>
          </a:xfrm>
          <a:custGeom>
            <a:avLst/>
            <a:gdLst/>
            <a:ahLst/>
            <a:rect l="0" t="0" r="r" b="b"/>
            <a:pathLst>
              <a:path w="1434" h="1125">
                <a:moveTo>
                  <a:pt x="264" y="0"/>
                </a:moveTo>
                <a:lnTo>
                  <a:pt x="383" y="38"/>
                </a:lnTo>
                <a:lnTo>
                  <a:pt x="581" y="6"/>
                </a:lnTo>
                <a:lnTo>
                  <a:pt x="1434" y="6"/>
                </a:lnTo>
                <a:lnTo>
                  <a:pt x="1434" y="677"/>
                </a:lnTo>
                <a:lnTo>
                  <a:pt x="905" y="1023"/>
                </a:lnTo>
                <a:lnTo>
                  <a:pt x="0" y="1125"/>
                </a:lnTo>
                <a:lnTo>
                  <a:pt x="66" y="960"/>
                </a:lnTo>
                <a:lnTo>
                  <a:pt x="264" y="839"/>
                </a:lnTo>
                <a:lnTo>
                  <a:pt x="264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903240" y="3854520"/>
            <a:ext cx="708480" cy="344880"/>
          </a:xfrm>
          <a:custGeom>
            <a:avLst/>
            <a:gdLst/>
            <a:ahLst/>
            <a:rect l="0" t="0" r="r" b="b"/>
            <a:pathLst>
              <a:path w="1968" h="958">
                <a:moveTo>
                  <a:pt x="0" y="63"/>
                </a:moveTo>
                <a:lnTo>
                  <a:pt x="733" y="63"/>
                </a:lnTo>
                <a:lnTo>
                  <a:pt x="1010" y="126"/>
                </a:lnTo>
                <a:lnTo>
                  <a:pt x="1426" y="126"/>
                </a:lnTo>
                <a:lnTo>
                  <a:pt x="1968" y="0"/>
                </a:lnTo>
                <a:lnTo>
                  <a:pt x="1968" y="416"/>
                </a:lnTo>
                <a:lnTo>
                  <a:pt x="1889" y="435"/>
                </a:lnTo>
                <a:lnTo>
                  <a:pt x="1625" y="688"/>
                </a:lnTo>
                <a:lnTo>
                  <a:pt x="1480" y="688"/>
                </a:lnTo>
                <a:lnTo>
                  <a:pt x="997" y="958"/>
                </a:lnTo>
                <a:lnTo>
                  <a:pt x="839" y="889"/>
                </a:lnTo>
                <a:lnTo>
                  <a:pt x="601" y="920"/>
                </a:lnTo>
                <a:lnTo>
                  <a:pt x="0" y="682"/>
                </a:lnTo>
                <a:lnTo>
                  <a:pt x="0" y="63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262160" y="4010040"/>
            <a:ext cx="851400" cy="308160"/>
          </a:xfrm>
          <a:custGeom>
            <a:avLst/>
            <a:gdLst/>
            <a:ahLst/>
            <a:rect l="0" t="0" r="r" b="b"/>
            <a:pathLst>
              <a:path w="2365" h="856">
                <a:moveTo>
                  <a:pt x="974" y="0"/>
                </a:moveTo>
                <a:lnTo>
                  <a:pt x="908" y="0"/>
                </a:lnTo>
                <a:lnTo>
                  <a:pt x="629" y="259"/>
                </a:lnTo>
                <a:lnTo>
                  <a:pt x="470" y="259"/>
                </a:lnTo>
                <a:lnTo>
                  <a:pt x="0" y="523"/>
                </a:lnTo>
                <a:lnTo>
                  <a:pt x="205" y="799"/>
                </a:lnTo>
                <a:lnTo>
                  <a:pt x="934" y="856"/>
                </a:lnTo>
                <a:lnTo>
                  <a:pt x="1126" y="786"/>
                </a:lnTo>
                <a:lnTo>
                  <a:pt x="1338" y="587"/>
                </a:lnTo>
                <a:lnTo>
                  <a:pt x="1391" y="568"/>
                </a:lnTo>
                <a:lnTo>
                  <a:pt x="2365" y="402"/>
                </a:lnTo>
                <a:lnTo>
                  <a:pt x="2299" y="326"/>
                </a:lnTo>
                <a:lnTo>
                  <a:pt x="1922" y="266"/>
                </a:lnTo>
                <a:lnTo>
                  <a:pt x="1378" y="402"/>
                </a:lnTo>
                <a:lnTo>
                  <a:pt x="1378" y="164"/>
                </a:lnTo>
                <a:lnTo>
                  <a:pt x="974" y="164"/>
                </a:lnTo>
                <a:lnTo>
                  <a:pt x="974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990720" y="4152960"/>
            <a:ext cx="1356120" cy="235440"/>
          </a:xfrm>
          <a:custGeom>
            <a:avLst/>
            <a:gdLst/>
            <a:ahLst/>
            <a:rect l="0" t="0" r="r" b="b"/>
            <a:pathLst>
              <a:path w="3767" h="654">
                <a:moveTo>
                  <a:pt x="0" y="651"/>
                </a:moveTo>
                <a:lnTo>
                  <a:pt x="118" y="590"/>
                </a:lnTo>
                <a:lnTo>
                  <a:pt x="958" y="400"/>
                </a:lnTo>
                <a:lnTo>
                  <a:pt x="1692" y="458"/>
                </a:lnTo>
                <a:lnTo>
                  <a:pt x="1890" y="388"/>
                </a:lnTo>
                <a:lnTo>
                  <a:pt x="2121" y="170"/>
                </a:lnTo>
                <a:lnTo>
                  <a:pt x="3120" y="0"/>
                </a:lnTo>
                <a:lnTo>
                  <a:pt x="3292" y="292"/>
                </a:lnTo>
                <a:lnTo>
                  <a:pt x="3767" y="349"/>
                </a:lnTo>
                <a:lnTo>
                  <a:pt x="3530" y="487"/>
                </a:lnTo>
                <a:lnTo>
                  <a:pt x="3688" y="654"/>
                </a:lnTo>
                <a:lnTo>
                  <a:pt x="0" y="651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163440" y="4103640"/>
            <a:ext cx="1168920" cy="303480"/>
          </a:xfrm>
          <a:custGeom>
            <a:avLst/>
            <a:gdLst/>
            <a:ahLst/>
            <a:rect l="0" t="0" r="r" b="b"/>
            <a:pathLst>
              <a:path w="3247" h="843">
                <a:moveTo>
                  <a:pt x="0" y="843"/>
                </a:moveTo>
                <a:lnTo>
                  <a:pt x="185" y="621"/>
                </a:lnTo>
                <a:lnTo>
                  <a:pt x="614" y="485"/>
                </a:lnTo>
                <a:lnTo>
                  <a:pt x="1508" y="395"/>
                </a:lnTo>
                <a:lnTo>
                  <a:pt x="2050" y="56"/>
                </a:lnTo>
                <a:lnTo>
                  <a:pt x="2050" y="0"/>
                </a:lnTo>
                <a:lnTo>
                  <a:pt x="2652" y="231"/>
                </a:lnTo>
                <a:lnTo>
                  <a:pt x="2890" y="193"/>
                </a:lnTo>
                <a:lnTo>
                  <a:pt x="3036" y="262"/>
                </a:lnTo>
                <a:lnTo>
                  <a:pt x="3247" y="536"/>
                </a:lnTo>
                <a:lnTo>
                  <a:pt x="2420" y="722"/>
                </a:lnTo>
                <a:lnTo>
                  <a:pt x="2301" y="786"/>
                </a:lnTo>
                <a:lnTo>
                  <a:pt x="680" y="786"/>
                </a:lnTo>
                <a:lnTo>
                  <a:pt x="680" y="843"/>
                </a:lnTo>
                <a:lnTo>
                  <a:pt x="0" y="843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49320" y="4387680"/>
            <a:ext cx="1365480" cy="167040"/>
          </a:xfrm>
          <a:custGeom>
            <a:avLst/>
            <a:gdLst/>
            <a:ahLst/>
            <a:rect l="0" t="0" r="r" b="b"/>
            <a:pathLst>
              <a:path w="3793" h="464">
                <a:moveTo>
                  <a:pt x="336" y="50"/>
                </a:moveTo>
                <a:lnTo>
                  <a:pt x="997" y="50"/>
                </a:lnTo>
                <a:lnTo>
                  <a:pt x="997" y="0"/>
                </a:lnTo>
                <a:lnTo>
                  <a:pt x="3793" y="0"/>
                </a:lnTo>
                <a:lnTo>
                  <a:pt x="3740" y="100"/>
                </a:lnTo>
                <a:lnTo>
                  <a:pt x="2623" y="331"/>
                </a:lnTo>
                <a:lnTo>
                  <a:pt x="2518" y="464"/>
                </a:lnTo>
                <a:lnTo>
                  <a:pt x="0" y="464"/>
                </a:lnTo>
                <a:lnTo>
                  <a:pt x="336" y="5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954000" y="4389480"/>
            <a:ext cx="1429200" cy="267120"/>
          </a:xfrm>
          <a:custGeom>
            <a:avLst/>
            <a:gdLst/>
            <a:ahLst/>
            <a:rect l="0" t="0" r="r" b="b"/>
            <a:pathLst>
              <a:path w="3970" h="742">
                <a:moveTo>
                  <a:pt x="1277" y="0"/>
                </a:moveTo>
                <a:lnTo>
                  <a:pt x="3798" y="0"/>
                </a:lnTo>
                <a:lnTo>
                  <a:pt x="3970" y="228"/>
                </a:lnTo>
                <a:lnTo>
                  <a:pt x="3534" y="453"/>
                </a:lnTo>
                <a:lnTo>
                  <a:pt x="2904" y="548"/>
                </a:lnTo>
                <a:lnTo>
                  <a:pt x="2653" y="742"/>
                </a:lnTo>
                <a:lnTo>
                  <a:pt x="2038" y="422"/>
                </a:lnTo>
                <a:lnTo>
                  <a:pt x="1548" y="422"/>
                </a:lnTo>
                <a:lnTo>
                  <a:pt x="1462" y="358"/>
                </a:lnTo>
                <a:lnTo>
                  <a:pt x="800" y="358"/>
                </a:lnTo>
                <a:lnTo>
                  <a:pt x="555" y="466"/>
                </a:lnTo>
                <a:lnTo>
                  <a:pt x="0" y="466"/>
                </a:lnTo>
                <a:lnTo>
                  <a:pt x="105" y="330"/>
                </a:lnTo>
                <a:lnTo>
                  <a:pt x="1224" y="107"/>
                </a:lnTo>
                <a:lnTo>
                  <a:pt x="1277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1131840" y="4518000"/>
            <a:ext cx="776520" cy="321120"/>
          </a:xfrm>
          <a:custGeom>
            <a:avLst/>
            <a:gdLst/>
            <a:ahLst/>
            <a:rect l="0" t="0" r="r" b="b"/>
            <a:pathLst>
              <a:path w="2157" h="892">
                <a:moveTo>
                  <a:pt x="85" y="107"/>
                </a:moveTo>
                <a:lnTo>
                  <a:pt x="309" y="0"/>
                </a:lnTo>
                <a:lnTo>
                  <a:pt x="969" y="0"/>
                </a:lnTo>
                <a:lnTo>
                  <a:pt x="1041" y="62"/>
                </a:lnTo>
                <a:lnTo>
                  <a:pt x="1544" y="62"/>
                </a:lnTo>
                <a:lnTo>
                  <a:pt x="2157" y="381"/>
                </a:lnTo>
                <a:lnTo>
                  <a:pt x="1596" y="661"/>
                </a:lnTo>
                <a:lnTo>
                  <a:pt x="1174" y="732"/>
                </a:lnTo>
                <a:lnTo>
                  <a:pt x="1122" y="892"/>
                </a:lnTo>
                <a:lnTo>
                  <a:pt x="903" y="707"/>
                </a:lnTo>
                <a:lnTo>
                  <a:pt x="0" y="195"/>
                </a:lnTo>
                <a:lnTo>
                  <a:pt x="85" y="107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785880" y="4556160"/>
            <a:ext cx="751320" cy="405000"/>
          </a:xfrm>
          <a:custGeom>
            <a:avLst/>
            <a:gdLst/>
            <a:ahLst/>
            <a:rect l="0" t="0" r="r" b="b"/>
            <a:pathLst>
              <a:path w="2087" h="1125">
                <a:moveTo>
                  <a:pt x="0" y="0"/>
                </a:moveTo>
                <a:lnTo>
                  <a:pt x="1047" y="0"/>
                </a:lnTo>
                <a:lnTo>
                  <a:pt x="961" y="88"/>
                </a:lnTo>
                <a:lnTo>
                  <a:pt x="1869" y="602"/>
                </a:lnTo>
                <a:lnTo>
                  <a:pt x="2087" y="789"/>
                </a:lnTo>
                <a:lnTo>
                  <a:pt x="1816" y="1125"/>
                </a:lnTo>
                <a:lnTo>
                  <a:pt x="377" y="1125"/>
                </a:lnTo>
                <a:lnTo>
                  <a:pt x="231" y="986"/>
                </a:lnTo>
                <a:lnTo>
                  <a:pt x="152" y="808"/>
                </a:lnTo>
                <a:lnTo>
                  <a:pt x="297" y="710"/>
                </a:lnTo>
                <a:lnTo>
                  <a:pt x="0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285840" y="4554360"/>
            <a:ext cx="608400" cy="422640"/>
          </a:xfrm>
          <a:custGeom>
            <a:avLst/>
            <a:gdLst/>
            <a:ahLst/>
            <a:rect l="0" t="0" r="r" b="b"/>
            <a:pathLst>
              <a:path w="1690" h="1174">
                <a:moveTo>
                  <a:pt x="344" y="0"/>
                </a:moveTo>
                <a:lnTo>
                  <a:pt x="1406" y="0"/>
                </a:lnTo>
                <a:lnTo>
                  <a:pt x="1690" y="718"/>
                </a:lnTo>
                <a:lnTo>
                  <a:pt x="1551" y="813"/>
                </a:lnTo>
                <a:lnTo>
                  <a:pt x="1618" y="982"/>
                </a:lnTo>
                <a:lnTo>
                  <a:pt x="438" y="982"/>
                </a:lnTo>
                <a:lnTo>
                  <a:pt x="417" y="1146"/>
                </a:lnTo>
                <a:lnTo>
                  <a:pt x="0" y="1174"/>
                </a:lnTo>
                <a:lnTo>
                  <a:pt x="13" y="845"/>
                </a:lnTo>
                <a:lnTo>
                  <a:pt x="344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436680" y="4908600"/>
            <a:ext cx="1298880" cy="546480"/>
          </a:xfrm>
          <a:custGeom>
            <a:avLst/>
            <a:gdLst/>
            <a:ahLst/>
            <a:rect l="0" t="0" r="r" b="b"/>
            <a:pathLst>
              <a:path w="3608" h="1518">
                <a:moveTo>
                  <a:pt x="13" y="0"/>
                </a:moveTo>
                <a:lnTo>
                  <a:pt x="1202" y="0"/>
                </a:lnTo>
                <a:lnTo>
                  <a:pt x="1360" y="152"/>
                </a:lnTo>
                <a:lnTo>
                  <a:pt x="2795" y="152"/>
                </a:lnTo>
                <a:lnTo>
                  <a:pt x="2835" y="286"/>
                </a:lnTo>
                <a:lnTo>
                  <a:pt x="3343" y="729"/>
                </a:lnTo>
                <a:lnTo>
                  <a:pt x="3542" y="1050"/>
                </a:lnTo>
                <a:lnTo>
                  <a:pt x="3608" y="1270"/>
                </a:lnTo>
                <a:lnTo>
                  <a:pt x="3106" y="1499"/>
                </a:lnTo>
                <a:lnTo>
                  <a:pt x="2689" y="1518"/>
                </a:lnTo>
                <a:lnTo>
                  <a:pt x="2570" y="1056"/>
                </a:lnTo>
                <a:lnTo>
                  <a:pt x="2438" y="1063"/>
                </a:lnTo>
                <a:lnTo>
                  <a:pt x="2029" y="783"/>
                </a:lnTo>
                <a:lnTo>
                  <a:pt x="2121" y="551"/>
                </a:lnTo>
                <a:lnTo>
                  <a:pt x="1664" y="298"/>
                </a:lnTo>
                <a:lnTo>
                  <a:pt x="1057" y="372"/>
                </a:lnTo>
                <a:lnTo>
                  <a:pt x="587" y="171"/>
                </a:lnTo>
                <a:lnTo>
                  <a:pt x="0" y="165"/>
                </a:lnTo>
                <a:lnTo>
                  <a:pt x="13" y="0"/>
                </a:lnTo>
                <a:close/>
              </a:path>
            </a:pathLst>
          </a:custGeom>
          <a:solidFill>
            <a:srgbClr val="804c00"/>
          </a:solidFill>
          <a:ln w="12600">
            <a:solidFill>
              <a:srgbClr val="f6bf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 flipH="1">
            <a:off x="311040" y="1996920"/>
            <a:ext cx="2760840" cy="782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 flipV="1">
            <a:off x="311040" y="2689200"/>
            <a:ext cx="131760" cy="90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 flipH="1" flipV="1">
            <a:off x="274680" y="2852640"/>
            <a:ext cx="336600" cy="92880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 flipV="1">
            <a:off x="930240" y="2160720"/>
            <a:ext cx="2216160" cy="165708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3803760" y="2050920"/>
            <a:ext cx="1971720" cy="139392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4084560" y="1814400"/>
            <a:ext cx="4862520" cy="12384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 flipH="1" flipV="1">
            <a:off x="8798040" y="2944800"/>
            <a:ext cx="149040" cy="1080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3710160" y="3854520"/>
            <a:ext cx="5237280" cy="1674720"/>
          </a:xfrm>
          <a:prstGeom prst="ellipse">
            <a:avLst/>
          </a:prstGeom>
          <a:noFill/>
          <a:ln w="25560">
            <a:solidFill>
              <a:srgbClr val="b3b9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5398920" y="4183200"/>
            <a:ext cx="3530520" cy="1055520"/>
          </a:xfrm>
          <a:prstGeom prst="ellipse">
            <a:avLst/>
          </a:prstGeom>
          <a:noFill/>
          <a:ln w="25560">
            <a:solidFill>
              <a:srgbClr val="b3b9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 flipH="1">
            <a:off x="3851280" y="2033640"/>
            <a:ext cx="3274920" cy="2376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3851280" y="4290840"/>
            <a:ext cx="55440" cy="128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7577280" y="2106720"/>
            <a:ext cx="1352520" cy="2485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7427880" y="2116080"/>
            <a:ext cx="468360" cy="2457360"/>
          </a:xfrm>
          <a:prstGeom prst="line">
            <a:avLst/>
          </a:prstGeom>
          <a:ln w="12600">
            <a:solidFill>
              <a:srgbClr val="00279f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 txBox="1"/>
          <p:nvPr/>
        </p:nvSpPr>
        <p:spPr>
          <a:xfrm>
            <a:off x="3800520" y="1479600"/>
            <a:ext cx="1073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/The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 txBox="1"/>
          <p:nvPr/>
        </p:nvSpPr>
        <p:spPr>
          <a:xfrm>
            <a:off x="6053040" y="1521000"/>
            <a:ext cx="1073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ater/Glob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3081240" y="4735440"/>
            <a:ext cx="2629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119"/>
              </a:spcBef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JTIDS, OTCIXS, TIBS, and 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 txBox="1"/>
          <p:nvPr/>
        </p:nvSpPr>
        <p:spPr>
          <a:xfrm>
            <a:off x="6438960" y="5091120"/>
            <a:ext cx="1663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b3b900"/>
                </a:solidFill>
                <a:latin typeface="ARIAL"/>
                <a:ea typeface="ARIAL"/>
              </a:rPr>
              <a:t>Corps / M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3263760" y="4565520"/>
            <a:ext cx="18860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b3b900"/>
                </a:solidFill>
                <a:latin typeface="ARIAL"/>
                <a:ea typeface="ARIAL"/>
              </a:rPr>
              <a:t>Theater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 flipH="1" flipV="1">
            <a:off x="8901000" y="4356000"/>
            <a:ext cx="19080" cy="200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6" name=""/>
          <p:cNvGrpSpPr/>
          <p:nvPr/>
        </p:nvGrpSpPr>
        <p:grpSpPr>
          <a:xfrm>
            <a:off x="8488440" y="4332240"/>
            <a:ext cx="185760" cy="128880"/>
            <a:chOff x="8488440" y="4332240"/>
            <a:chExt cx="185760" cy="128880"/>
          </a:xfrm>
        </p:grpSpPr>
        <p:sp>
          <p:nvSpPr>
            <p:cNvPr id="3867" name=""/>
            <p:cNvSpPr/>
            <p:nvPr/>
          </p:nvSpPr>
          <p:spPr>
            <a:xfrm>
              <a:off x="8493120" y="4332240"/>
              <a:ext cx="178200" cy="55800"/>
            </a:xfrm>
            <a:custGeom>
              <a:avLst/>
              <a:gdLst/>
              <a:ahLst/>
              <a:rect l="0" t="0" r="r" b="b"/>
              <a:pathLst>
                <a:path w="495" h="155">
                  <a:moveTo>
                    <a:pt x="0" y="78"/>
                  </a:moveTo>
                  <a:lnTo>
                    <a:pt x="208" y="0"/>
                  </a:lnTo>
                  <a:lnTo>
                    <a:pt x="495" y="64"/>
                  </a:lnTo>
                  <a:lnTo>
                    <a:pt x="325" y="155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8488440" y="4363920"/>
              <a:ext cx="120960" cy="97200"/>
            </a:xfrm>
            <a:custGeom>
              <a:avLst/>
              <a:gdLst/>
              <a:ahLst/>
              <a:rect l="0" t="0" r="r" b="b"/>
              <a:pathLst>
                <a:path w="336" h="270">
                  <a:moveTo>
                    <a:pt x="0" y="0"/>
                  </a:moveTo>
                  <a:lnTo>
                    <a:pt x="0" y="180"/>
                  </a:lnTo>
                  <a:lnTo>
                    <a:pt x="336" y="270"/>
                  </a:lnTo>
                  <a:lnTo>
                    <a:pt x="336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610480" y="4359240"/>
              <a:ext cx="63720" cy="97200"/>
            </a:xfrm>
            <a:custGeom>
              <a:avLst/>
              <a:gdLst/>
              <a:ahLst/>
              <a:rect l="0" t="0" r="r" b="b"/>
              <a:pathLst>
                <a:path w="177" h="270">
                  <a:moveTo>
                    <a:pt x="12" y="90"/>
                  </a:moveTo>
                  <a:lnTo>
                    <a:pt x="177" y="0"/>
                  </a:lnTo>
                  <a:lnTo>
                    <a:pt x="177" y="180"/>
                  </a:lnTo>
                  <a:lnTo>
                    <a:pt x="0" y="270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0" name=""/>
          <p:cNvGrpSpPr/>
          <p:nvPr/>
        </p:nvGrpSpPr>
        <p:grpSpPr>
          <a:xfrm>
            <a:off x="8196120" y="4183920"/>
            <a:ext cx="446040" cy="238680"/>
            <a:chOff x="8196120" y="4183920"/>
            <a:chExt cx="446040" cy="238680"/>
          </a:xfrm>
        </p:grpSpPr>
        <p:sp>
          <p:nvSpPr>
            <p:cNvPr id="3871" name=""/>
            <p:cNvSpPr/>
            <p:nvPr/>
          </p:nvSpPr>
          <p:spPr>
            <a:xfrm>
              <a:off x="8415360" y="4183920"/>
              <a:ext cx="225720" cy="82080"/>
            </a:xfrm>
            <a:custGeom>
              <a:avLst/>
              <a:gdLst/>
              <a:ahLst/>
              <a:rect l="0" t="0" r="r" b="b"/>
              <a:pathLst>
                <a:path w="627" h="228">
                  <a:moveTo>
                    <a:pt x="0" y="0"/>
                  </a:moveTo>
                  <a:lnTo>
                    <a:pt x="0" y="228"/>
                  </a:lnTo>
                  <a:lnTo>
                    <a:pt x="0" y="228"/>
                  </a:lnTo>
                  <a:cubicBezTo>
                    <a:pt x="110" y="228"/>
                    <a:pt x="218" y="217"/>
                    <a:pt x="314" y="197"/>
                  </a:cubicBezTo>
                  <a:cubicBezTo>
                    <a:pt x="409" y="177"/>
                    <a:pt x="488" y="149"/>
                    <a:pt x="543" y="114"/>
                  </a:cubicBezTo>
                  <a:cubicBezTo>
                    <a:pt x="598" y="79"/>
                    <a:pt x="627" y="40"/>
                    <a:pt x="62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8272440" y="4338720"/>
              <a:ext cx="225720" cy="82800"/>
            </a:xfrm>
            <a:custGeom>
              <a:avLst/>
              <a:gdLst/>
              <a:ahLst/>
              <a:rect l="0" t="0" r="r" b="b"/>
              <a:pathLst>
                <a:path w="627" h="230">
                  <a:moveTo>
                    <a:pt x="62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40"/>
                    <a:pt x="29" y="80"/>
                    <a:pt x="84" y="115"/>
                  </a:cubicBezTo>
                  <a:cubicBezTo>
                    <a:pt x="139" y="150"/>
                    <a:pt x="218" y="179"/>
                    <a:pt x="314" y="199"/>
                  </a:cubicBezTo>
                  <a:cubicBezTo>
                    <a:pt x="409" y="219"/>
                    <a:pt x="517" y="230"/>
                    <a:pt x="627" y="230"/>
                  </a:cubicBezTo>
                  <a:lnTo>
                    <a:pt x="62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V="1">
              <a:off x="8356680" y="4395960"/>
              <a:ext cx="158760" cy="26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 flipH="1">
              <a:off x="8564400" y="4191120"/>
              <a:ext cx="1296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8447040" y="4361040"/>
              <a:ext cx="79560" cy="1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8196120" y="4226040"/>
              <a:ext cx="4460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346960" y="4205160"/>
              <a:ext cx="105120" cy="92520"/>
            </a:xfrm>
            <a:custGeom>
              <a:avLst/>
              <a:gdLst/>
              <a:ahLst/>
              <a:rect l="0" t="0" r="r" b="b"/>
              <a:pathLst>
                <a:path w="292" h="257">
                  <a:moveTo>
                    <a:pt x="239" y="257"/>
                  </a:moveTo>
                  <a:lnTo>
                    <a:pt x="0" y="0"/>
                  </a:lnTo>
                  <a:lnTo>
                    <a:pt x="292" y="203"/>
                  </a:lnTo>
                  <a:lnTo>
                    <a:pt x="239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8" name=""/>
          <p:cNvSpPr/>
          <p:nvPr/>
        </p:nvSpPr>
        <p:spPr>
          <a:xfrm>
            <a:off x="6541920" y="5299200"/>
            <a:ext cx="124200" cy="128880"/>
          </a:xfrm>
          <a:custGeom>
            <a:avLst/>
            <a:gdLst/>
            <a:ahLst/>
            <a:rect l="0" t="0" r="r" b="b"/>
            <a:pathLst>
              <a:path w="345" h="358">
                <a:moveTo>
                  <a:pt x="0" y="358"/>
                </a:moveTo>
                <a:lnTo>
                  <a:pt x="0" y="116"/>
                </a:lnTo>
                <a:lnTo>
                  <a:pt x="345" y="0"/>
                </a:lnTo>
                <a:lnTo>
                  <a:pt x="345" y="218"/>
                </a:lnTo>
                <a:lnTo>
                  <a:pt x="0" y="35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6464160" y="5329080"/>
            <a:ext cx="78120" cy="98640"/>
          </a:xfrm>
          <a:custGeom>
            <a:avLst/>
            <a:gdLst/>
            <a:ahLst/>
            <a:rect l="0" t="0" r="r" b="b"/>
            <a:pathLst>
              <a:path w="217" h="274">
                <a:moveTo>
                  <a:pt x="217" y="31"/>
                </a:moveTo>
                <a:lnTo>
                  <a:pt x="0" y="0"/>
                </a:lnTo>
                <a:lnTo>
                  <a:pt x="0" y="243"/>
                </a:lnTo>
                <a:lnTo>
                  <a:pt x="217" y="274"/>
                </a:lnTo>
                <a:lnTo>
                  <a:pt x="217" y="3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6464160" y="5291280"/>
            <a:ext cx="201960" cy="51120"/>
          </a:xfrm>
          <a:custGeom>
            <a:avLst/>
            <a:gdLst/>
            <a:ahLst/>
            <a:rect l="0" t="0" r="r" b="b"/>
            <a:pathLst>
              <a:path w="561" h="142">
                <a:moveTo>
                  <a:pt x="0" y="110"/>
                </a:moveTo>
                <a:lnTo>
                  <a:pt x="324" y="0"/>
                </a:lnTo>
                <a:lnTo>
                  <a:pt x="561" y="23"/>
                </a:lnTo>
                <a:lnTo>
                  <a:pt x="211" y="142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 flipV="1">
            <a:off x="6634080" y="5137200"/>
            <a:ext cx="22320" cy="284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 flipH="1" flipV="1">
            <a:off x="6675480" y="5137200"/>
            <a:ext cx="36360" cy="28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 flipH="1" flipV="1">
            <a:off x="6670800" y="5137200"/>
            <a:ext cx="19080" cy="29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 flipV="1">
            <a:off x="6638760" y="5324400"/>
            <a:ext cx="4464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 flipV="1">
            <a:off x="6647040" y="5241960"/>
            <a:ext cx="31680" cy="33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 flipH="1" flipV="1">
            <a:off x="6638760" y="5319720"/>
            <a:ext cx="4932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 flipH="1" flipV="1">
            <a:off x="6649920" y="5229360"/>
            <a:ext cx="3024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 flipV="1">
            <a:off x="6664320" y="506880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6651720" y="5057640"/>
            <a:ext cx="23760" cy="17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6615000" y="5078520"/>
            <a:ext cx="320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6683400" y="5078520"/>
            <a:ext cx="23760" cy="1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6688080" y="5065560"/>
            <a:ext cx="27000" cy="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 flipV="1">
            <a:off x="6683400" y="5038560"/>
            <a:ext cx="3960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 flipV="1">
            <a:off x="6672240" y="5014800"/>
            <a:ext cx="14400" cy="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 flipH="1" flipV="1">
            <a:off x="6620040" y="5032440"/>
            <a:ext cx="25200" cy="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 flipH="1">
            <a:off x="6591240" y="506268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"/>
          <p:cNvGrpSpPr/>
          <p:nvPr/>
        </p:nvGrpSpPr>
        <p:grpSpPr>
          <a:xfrm>
            <a:off x="7709040" y="4865760"/>
            <a:ext cx="405000" cy="245880"/>
            <a:chOff x="7709040" y="4865760"/>
            <a:chExt cx="405000" cy="245880"/>
          </a:xfrm>
        </p:grpSpPr>
        <p:sp>
          <p:nvSpPr>
            <p:cNvPr id="3898" name=""/>
            <p:cNvSpPr/>
            <p:nvPr/>
          </p:nvSpPr>
          <p:spPr>
            <a:xfrm>
              <a:off x="7883640" y="5033880"/>
              <a:ext cx="63360" cy="777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8024760" y="4976640"/>
              <a:ext cx="60480" cy="763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7709040" y="4886280"/>
              <a:ext cx="403560" cy="216360"/>
            </a:xfrm>
            <a:custGeom>
              <a:avLst/>
              <a:gdLst/>
              <a:ahLst/>
              <a:rect l="0" t="0" r="r" b="b"/>
              <a:pathLst>
                <a:path w="1121" h="601">
                  <a:moveTo>
                    <a:pt x="1121" y="186"/>
                  </a:moveTo>
                  <a:lnTo>
                    <a:pt x="1121" y="315"/>
                  </a:lnTo>
                  <a:lnTo>
                    <a:pt x="1018" y="336"/>
                  </a:lnTo>
                  <a:lnTo>
                    <a:pt x="939" y="357"/>
                  </a:lnTo>
                  <a:lnTo>
                    <a:pt x="905" y="400"/>
                  </a:lnTo>
                  <a:lnTo>
                    <a:pt x="661" y="494"/>
                  </a:lnTo>
                  <a:lnTo>
                    <a:pt x="611" y="468"/>
                  </a:lnTo>
                  <a:lnTo>
                    <a:pt x="528" y="508"/>
                  </a:lnTo>
                  <a:lnTo>
                    <a:pt x="521" y="554"/>
                  </a:lnTo>
                  <a:lnTo>
                    <a:pt x="387" y="601"/>
                  </a:lnTo>
                  <a:lnTo>
                    <a:pt x="0" y="473"/>
                  </a:lnTo>
                  <a:lnTo>
                    <a:pt x="0" y="343"/>
                  </a:lnTo>
                  <a:lnTo>
                    <a:pt x="387" y="458"/>
                  </a:lnTo>
                  <a:lnTo>
                    <a:pt x="387" y="587"/>
                  </a:lnTo>
                  <a:lnTo>
                    <a:pt x="387" y="443"/>
                  </a:lnTo>
                  <a:lnTo>
                    <a:pt x="445" y="372"/>
                  </a:lnTo>
                  <a:lnTo>
                    <a:pt x="647" y="315"/>
                  </a:lnTo>
                  <a:lnTo>
                    <a:pt x="647" y="142"/>
                  </a:lnTo>
                  <a:lnTo>
                    <a:pt x="1121" y="0"/>
                  </a:lnTo>
                  <a:lnTo>
                    <a:pt x="1121" y="186"/>
                  </a:lnTo>
                  <a:close/>
                </a:path>
              </a:pathLst>
            </a:custGeom>
            <a:solidFill>
              <a:srgbClr val="3a3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715160" y="4908600"/>
              <a:ext cx="248040" cy="100440"/>
            </a:xfrm>
            <a:custGeom>
              <a:avLst/>
              <a:gdLst/>
              <a:ahLst/>
              <a:rect l="0" t="0" r="r" b="b"/>
              <a:pathLst>
                <a:path w="689" h="279">
                  <a:moveTo>
                    <a:pt x="0" y="279"/>
                  </a:moveTo>
                  <a:lnTo>
                    <a:pt x="40" y="232"/>
                  </a:lnTo>
                  <a:lnTo>
                    <a:pt x="121" y="193"/>
                  </a:lnTo>
                  <a:lnTo>
                    <a:pt x="263" y="152"/>
                  </a:lnTo>
                  <a:lnTo>
                    <a:pt x="321" y="0"/>
                  </a:lnTo>
                  <a:lnTo>
                    <a:pt x="689" y="72"/>
                  </a:lnTo>
                  <a:lnTo>
                    <a:pt x="632" y="251"/>
                  </a:lnTo>
                  <a:lnTo>
                    <a:pt x="256" y="152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7800840" y="4865760"/>
              <a:ext cx="313200" cy="68760"/>
            </a:xfrm>
            <a:custGeom>
              <a:avLst/>
              <a:gdLst/>
              <a:ahLst/>
              <a:rect l="0" t="0" r="r" b="b"/>
              <a:pathLst>
                <a:path w="870" h="191">
                  <a:moveTo>
                    <a:pt x="0" y="106"/>
                  </a:moveTo>
                  <a:lnTo>
                    <a:pt x="389" y="191"/>
                  </a:lnTo>
                  <a:lnTo>
                    <a:pt x="870" y="59"/>
                  </a:lnTo>
                  <a:lnTo>
                    <a:pt x="411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767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7715160" y="4964040"/>
              <a:ext cx="221040" cy="81360"/>
            </a:xfrm>
            <a:custGeom>
              <a:avLst/>
              <a:gdLst/>
              <a:ahLst/>
              <a:rect l="0" t="0" r="r" b="b"/>
              <a:pathLst>
                <a:path w="614" h="226">
                  <a:moveTo>
                    <a:pt x="0" y="119"/>
                  </a:moveTo>
                  <a:lnTo>
                    <a:pt x="366" y="226"/>
                  </a:lnTo>
                  <a:lnTo>
                    <a:pt x="424" y="143"/>
                  </a:lnTo>
                  <a:lnTo>
                    <a:pt x="614" y="98"/>
                  </a:lnTo>
                  <a:lnTo>
                    <a:pt x="253" y="0"/>
                  </a:lnTo>
                  <a:lnTo>
                    <a:pt x="115" y="35"/>
                  </a:lnTo>
                  <a:lnTo>
                    <a:pt x="33" y="76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767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716960" y="5021280"/>
              <a:ext cx="237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7813800" y="5052960"/>
              <a:ext cx="2052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6" name=""/>
          <p:cNvGrpSpPr/>
          <p:nvPr/>
        </p:nvGrpSpPr>
        <p:grpSpPr>
          <a:xfrm>
            <a:off x="7845480" y="4775040"/>
            <a:ext cx="162360" cy="124560"/>
            <a:chOff x="7845480" y="4775040"/>
            <a:chExt cx="162360" cy="124560"/>
          </a:xfrm>
        </p:grpSpPr>
        <p:sp>
          <p:nvSpPr>
            <p:cNvPr id="3907" name=""/>
            <p:cNvSpPr/>
            <p:nvPr/>
          </p:nvSpPr>
          <p:spPr>
            <a:xfrm>
              <a:off x="7930440" y="4833000"/>
              <a:ext cx="77400" cy="45720"/>
            </a:xfrm>
            <a:custGeom>
              <a:avLst/>
              <a:gdLst/>
              <a:ahLst/>
              <a:rect l="0" t="0" r="r" b="b"/>
              <a:pathLst>
                <a:path w="215" h="127">
                  <a:moveTo>
                    <a:pt x="0" y="0"/>
                  </a:moveTo>
                  <a:lnTo>
                    <a:pt x="0" y="127"/>
                  </a:lnTo>
                  <a:lnTo>
                    <a:pt x="0" y="127"/>
                  </a:lnTo>
                  <a:cubicBezTo>
                    <a:pt x="38" y="127"/>
                    <a:pt x="75" y="121"/>
                    <a:pt x="108" y="110"/>
                  </a:cubicBezTo>
                  <a:cubicBezTo>
                    <a:pt x="140" y="99"/>
                    <a:pt x="167" y="83"/>
                    <a:pt x="186" y="63"/>
                  </a:cubicBezTo>
                  <a:cubicBezTo>
                    <a:pt x="205" y="44"/>
                    <a:pt x="215" y="22"/>
                    <a:pt x="21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7856640" y="4853880"/>
              <a:ext cx="77400" cy="45720"/>
            </a:xfrm>
            <a:custGeom>
              <a:avLst/>
              <a:gdLst/>
              <a:ahLst/>
              <a:rect l="0" t="0" r="r" b="b"/>
              <a:pathLst>
                <a:path w="215" h="127">
                  <a:moveTo>
                    <a:pt x="21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22"/>
                    <a:pt x="10" y="44"/>
                    <a:pt x="29" y="64"/>
                  </a:cubicBezTo>
                  <a:cubicBezTo>
                    <a:pt x="48" y="83"/>
                    <a:pt x="75" y="99"/>
                    <a:pt x="108" y="110"/>
                  </a:cubicBezTo>
                  <a:cubicBezTo>
                    <a:pt x="140" y="121"/>
                    <a:pt x="177" y="127"/>
                    <a:pt x="215" y="127"/>
                  </a:cubicBezTo>
                  <a:lnTo>
                    <a:pt x="21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7845480" y="4822920"/>
              <a:ext cx="157320" cy="4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 flipV="1">
              <a:off x="7869240" y="4778280"/>
              <a:ext cx="31680" cy="93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H="1" flipV="1">
              <a:off x="7897680" y="4775040"/>
              <a:ext cx="9684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7900920" y="4775040"/>
              <a:ext cx="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3" name=""/>
          <p:cNvSpPr/>
          <p:nvPr/>
        </p:nvSpPr>
        <p:spPr>
          <a:xfrm flipV="1">
            <a:off x="8039160" y="4697280"/>
            <a:ext cx="0" cy="187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 flipV="1">
            <a:off x="6638760" y="3909960"/>
            <a:ext cx="468360" cy="1036800"/>
          </a:xfrm>
          <a:prstGeom prst="line">
            <a:avLst/>
          </a:prstGeom>
          <a:ln w="12600">
            <a:solidFill>
              <a:srgbClr val="00ae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7257960" y="3927600"/>
            <a:ext cx="722520" cy="738000"/>
          </a:xfrm>
          <a:prstGeom prst="line">
            <a:avLst/>
          </a:prstGeom>
          <a:ln w="12600">
            <a:solidFill>
              <a:srgbClr val="00ae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8272440" y="4578480"/>
            <a:ext cx="77616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 txBox="1"/>
          <p:nvPr/>
        </p:nvSpPr>
        <p:spPr>
          <a:xfrm>
            <a:off x="8307360" y="4584600"/>
            <a:ext cx="7081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IX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162000" y="5111640"/>
            <a:ext cx="4186080" cy="103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 txBox="1"/>
          <p:nvPr/>
        </p:nvSpPr>
        <p:spPr>
          <a:xfrm>
            <a:off x="187200" y="5222880"/>
            <a:ext cx="418140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hough TRAP, TIBS, and TRIXS UHF broadcasts support the NRT needs of global, theater, and local users, they are hindered by a lack of interoperability, commonality and standardiz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198360" y="3909960"/>
            <a:ext cx="1239840" cy="380880"/>
          </a:xfrm>
          <a:prstGeom prst="ellipse">
            <a:avLst/>
          </a:prstGeom>
          <a:solidFill>
            <a:srgbClr val="804c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512640" y="3892680"/>
            <a:ext cx="44604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712800" y="3846600"/>
            <a:ext cx="57600" cy="120960"/>
          </a:xfrm>
          <a:custGeom>
            <a:avLst/>
            <a:gdLst/>
            <a:ahLst/>
            <a:rect l="0" t="0" r="r" b="b"/>
            <a:pathLst>
              <a:path w="160" h="336">
                <a:moveTo>
                  <a:pt x="73" y="336"/>
                </a:moveTo>
                <a:lnTo>
                  <a:pt x="160" y="0"/>
                </a:lnTo>
                <a:lnTo>
                  <a:pt x="0" y="310"/>
                </a:lnTo>
                <a:lnTo>
                  <a:pt x="73" y="3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504720" y="3904560"/>
            <a:ext cx="225720" cy="82080"/>
          </a:xfrm>
          <a:custGeom>
            <a:avLst/>
            <a:gdLst/>
            <a:ahLst/>
            <a:rect l="0" t="0" r="r" b="b"/>
            <a:pathLst>
              <a:path fill="none" w="627" h="228">
                <a:moveTo>
                  <a:pt x="0" y="0"/>
                </a:moveTo>
                <a:lnTo>
                  <a:pt x="0" y="0"/>
                </a:lnTo>
                <a:cubicBezTo>
                  <a:pt x="0" y="40"/>
                  <a:pt x="29" y="79"/>
                  <a:pt x="84" y="114"/>
                </a:cubicBezTo>
                <a:cubicBezTo>
                  <a:pt x="139" y="149"/>
                  <a:pt x="218" y="177"/>
                  <a:pt x="314" y="197"/>
                </a:cubicBezTo>
                <a:cubicBezTo>
                  <a:pt x="409" y="217"/>
                  <a:pt x="517" y="228"/>
                  <a:pt x="627" y="228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708840" y="3975840"/>
            <a:ext cx="225000" cy="82080"/>
          </a:xfrm>
          <a:custGeom>
            <a:avLst/>
            <a:gdLst/>
            <a:ahLst/>
            <a:rect l="0" t="0" r="r" b="b"/>
            <a:pathLst>
              <a:path fill="none" w="625" h="228">
                <a:moveTo>
                  <a:pt x="0" y="228"/>
                </a:moveTo>
                <a:lnTo>
                  <a:pt x="0" y="228"/>
                </a:lnTo>
                <a:cubicBezTo>
                  <a:pt x="110" y="228"/>
                  <a:pt x="217" y="217"/>
                  <a:pt x="313" y="197"/>
                </a:cubicBezTo>
                <a:cubicBezTo>
                  <a:pt x="408" y="177"/>
                  <a:pt x="486" y="149"/>
                  <a:pt x="541" y="114"/>
                </a:cubicBezTo>
                <a:cubicBezTo>
                  <a:pt x="596" y="79"/>
                  <a:pt x="625" y="40"/>
                  <a:pt x="62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712800" y="4043520"/>
            <a:ext cx="15408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560520" y="3940200"/>
            <a:ext cx="79200" cy="11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H="1">
            <a:off x="693720" y="4029120"/>
            <a:ext cx="63360" cy="4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585720" y="4054320"/>
            <a:ext cx="178200" cy="55800"/>
          </a:xfrm>
          <a:custGeom>
            <a:avLst/>
            <a:gdLst/>
            <a:ahLst/>
            <a:rect l="0" t="0" r="r" b="b"/>
            <a:pathLst>
              <a:path w="495" h="155">
                <a:moveTo>
                  <a:pt x="495" y="78"/>
                </a:moveTo>
                <a:lnTo>
                  <a:pt x="286" y="0"/>
                </a:lnTo>
                <a:lnTo>
                  <a:pt x="0" y="64"/>
                </a:lnTo>
                <a:lnTo>
                  <a:pt x="169" y="155"/>
                </a:lnTo>
                <a:lnTo>
                  <a:pt x="495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646200" y="4086360"/>
            <a:ext cx="122760" cy="97200"/>
          </a:xfrm>
          <a:custGeom>
            <a:avLst/>
            <a:gdLst/>
            <a:ahLst/>
            <a:rect l="0" t="0" r="r" b="b"/>
            <a:pathLst>
              <a:path w="341" h="270">
                <a:moveTo>
                  <a:pt x="341" y="0"/>
                </a:moveTo>
                <a:lnTo>
                  <a:pt x="341" y="180"/>
                </a:lnTo>
                <a:lnTo>
                  <a:pt x="0" y="270"/>
                </a:lnTo>
                <a:lnTo>
                  <a:pt x="0" y="64"/>
                </a:lnTo>
                <a:lnTo>
                  <a:pt x="34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581040" y="4081320"/>
            <a:ext cx="65520" cy="97200"/>
          </a:xfrm>
          <a:custGeom>
            <a:avLst/>
            <a:gdLst/>
            <a:ahLst/>
            <a:rect l="0" t="0" r="r" b="b"/>
            <a:pathLst>
              <a:path w="182" h="270">
                <a:moveTo>
                  <a:pt x="169" y="90"/>
                </a:moveTo>
                <a:lnTo>
                  <a:pt x="0" y="0"/>
                </a:lnTo>
                <a:lnTo>
                  <a:pt x="0" y="180"/>
                </a:lnTo>
                <a:lnTo>
                  <a:pt x="182" y="270"/>
                </a:lnTo>
                <a:lnTo>
                  <a:pt x="169" y="9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7246800" y="3771720"/>
            <a:ext cx="205200" cy="51120"/>
          </a:xfrm>
          <a:custGeom>
            <a:avLst/>
            <a:gdLst/>
            <a:ahLst/>
            <a:rect l="0" t="0" r="r" b="b"/>
            <a:pathLst>
              <a:path w="570" h="142">
                <a:moveTo>
                  <a:pt x="570" y="142"/>
                </a:moveTo>
                <a:lnTo>
                  <a:pt x="29" y="0"/>
                </a:lnTo>
                <a:lnTo>
                  <a:pt x="0" y="127"/>
                </a:lnTo>
                <a:lnTo>
                  <a:pt x="570" y="1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6805440" y="3807000"/>
            <a:ext cx="671760" cy="62280"/>
          </a:xfrm>
          <a:custGeom>
            <a:avLst/>
            <a:gdLst/>
            <a:ahLst/>
            <a:rect l="0" t="0" r="r" b="b"/>
            <a:pathLst>
              <a:path w="1866" h="173">
                <a:moveTo>
                  <a:pt x="1806" y="47"/>
                </a:moveTo>
                <a:lnTo>
                  <a:pt x="1866" y="102"/>
                </a:lnTo>
                <a:lnTo>
                  <a:pt x="1499" y="173"/>
                </a:lnTo>
                <a:lnTo>
                  <a:pt x="694" y="126"/>
                </a:lnTo>
                <a:lnTo>
                  <a:pt x="0" y="31"/>
                </a:lnTo>
                <a:lnTo>
                  <a:pt x="377" y="0"/>
                </a:lnTo>
                <a:lnTo>
                  <a:pt x="1221" y="47"/>
                </a:lnTo>
                <a:lnTo>
                  <a:pt x="1806" y="47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6999120" y="3762360"/>
            <a:ext cx="260640" cy="60840"/>
          </a:xfrm>
          <a:custGeom>
            <a:avLst/>
            <a:gdLst/>
            <a:ahLst/>
            <a:rect l="0" t="0" r="r" b="b"/>
            <a:pathLst>
              <a:path w="724" h="169">
                <a:moveTo>
                  <a:pt x="724" y="7"/>
                </a:moveTo>
                <a:lnTo>
                  <a:pt x="625" y="0"/>
                </a:lnTo>
                <a:lnTo>
                  <a:pt x="0" y="131"/>
                </a:lnTo>
                <a:lnTo>
                  <a:pt x="694" y="169"/>
                </a:lnTo>
                <a:lnTo>
                  <a:pt x="724" y="7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6686640" y="3733920"/>
            <a:ext cx="208440" cy="82800"/>
          </a:xfrm>
          <a:custGeom>
            <a:avLst/>
            <a:gdLst/>
            <a:ahLst/>
            <a:rect l="0" t="0" r="r" b="b"/>
            <a:pathLst>
              <a:path w="579" h="230">
                <a:moveTo>
                  <a:pt x="579" y="208"/>
                </a:moveTo>
                <a:lnTo>
                  <a:pt x="279" y="0"/>
                </a:lnTo>
                <a:lnTo>
                  <a:pt x="0" y="7"/>
                </a:lnTo>
                <a:lnTo>
                  <a:pt x="299" y="230"/>
                </a:lnTo>
                <a:lnTo>
                  <a:pt x="579" y="208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7068960" y="3838680"/>
            <a:ext cx="205200" cy="25920"/>
          </a:xfrm>
          <a:custGeom>
            <a:avLst/>
            <a:gdLst/>
            <a:ahLst/>
            <a:rect l="0" t="0" r="r" b="b"/>
            <a:pathLst>
              <a:path w="570" h="72">
                <a:moveTo>
                  <a:pt x="570" y="72"/>
                </a:moveTo>
                <a:lnTo>
                  <a:pt x="451" y="7"/>
                </a:lnTo>
                <a:lnTo>
                  <a:pt x="69" y="0"/>
                </a:lnTo>
                <a:lnTo>
                  <a:pt x="0" y="48"/>
                </a:lnTo>
                <a:lnTo>
                  <a:pt x="570" y="7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7066080" y="3859200"/>
            <a:ext cx="97200" cy="28800"/>
          </a:xfrm>
          <a:custGeom>
            <a:avLst/>
            <a:gdLst/>
            <a:ahLst/>
            <a:rect l="0" t="0" r="r" b="b"/>
            <a:pathLst>
              <a:path w="270" h="80">
                <a:moveTo>
                  <a:pt x="122" y="0"/>
                </a:moveTo>
                <a:lnTo>
                  <a:pt x="103" y="30"/>
                </a:lnTo>
                <a:lnTo>
                  <a:pt x="0" y="61"/>
                </a:lnTo>
                <a:lnTo>
                  <a:pt x="19" y="77"/>
                </a:lnTo>
                <a:lnTo>
                  <a:pt x="270" y="80"/>
                </a:lnTo>
                <a:lnTo>
                  <a:pt x="245" y="47"/>
                </a:lnTo>
                <a:lnTo>
                  <a:pt x="173" y="24"/>
                </a:lnTo>
                <a:lnTo>
                  <a:pt x="186" y="0"/>
                </a:lnTo>
                <a:lnTo>
                  <a:pt x="12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6608880" y="3716280"/>
            <a:ext cx="265320" cy="20880"/>
          </a:xfrm>
          <a:custGeom>
            <a:avLst/>
            <a:gdLst/>
            <a:ahLst/>
            <a:rect l="0" t="0" r="r" b="b"/>
            <a:pathLst>
              <a:path w="737" h="58">
                <a:moveTo>
                  <a:pt x="737" y="50"/>
                </a:moveTo>
                <a:lnTo>
                  <a:pt x="99" y="58"/>
                </a:lnTo>
                <a:lnTo>
                  <a:pt x="89" y="24"/>
                </a:lnTo>
                <a:lnTo>
                  <a:pt x="0" y="24"/>
                </a:lnTo>
                <a:lnTo>
                  <a:pt x="278" y="0"/>
                </a:lnTo>
                <a:lnTo>
                  <a:pt x="618" y="0"/>
                </a:lnTo>
                <a:lnTo>
                  <a:pt x="737" y="5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6723000" y="3738600"/>
            <a:ext cx="106560" cy="7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2502000" y="4273560"/>
            <a:ext cx="638640" cy="120960"/>
          </a:xfrm>
          <a:custGeom>
            <a:avLst/>
            <a:gdLst/>
            <a:ahLst/>
            <a:rect l="0" t="0" r="r" b="b"/>
            <a:pathLst>
              <a:path w="1774" h="336">
                <a:moveTo>
                  <a:pt x="1774" y="265"/>
                </a:moveTo>
                <a:lnTo>
                  <a:pt x="1372" y="212"/>
                </a:lnTo>
                <a:lnTo>
                  <a:pt x="1316" y="141"/>
                </a:lnTo>
                <a:lnTo>
                  <a:pt x="512" y="141"/>
                </a:lnTo>
                <a:lnTo>
                  <a:pt x="402" y="123"/>
                </a:lnTo>
                <a:lnTo>
                  <a:pt x="255" y="0"/>
                </a:lnTo>
                <a:lnTo>
                  <a:pt x="0" y="0"/>
                </a:lnTo>
                <a:lnTo>
                  <a:pt x="182" y="158"/>
                </a:lnTo>
                <a:lnTo>
                  <a:pt x="36" y="195"/>
                </a:lnTo>
                <a:lnTo>
                  <a:pt x="512" y="336"/>
                </a:lnTo>
                <a:lnTo>
                  <a:pt x="1024" y="336"/>
                </a:lnTo>
                <a:lnTo>
                  <a:pt x="914" y="300"/>
                </a:lnTo>
                <a:lnTo>
                  <a:pt x="1774" y="265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3467160" y="3774960"/>
            <a:ext cx="711720" cy="125640"/>
          </a:xfrm>
          <a:custGeom>
            <a:avLst/>
            <a:gdLst/>
            <a:ahLst/>
            <a:rect l="0" t="0" r="r" b="b"/>
            <a:pathLst>
              <a:path w="1977" h="349">
                <a:moveTo>
                  <a:pt x="1977" y="189"/>
                </a:moveTo>
                <a:lnTo>
                  <a:pt x="1906" y="223"/>
                </a:lnTo>
                <a:lnTo>
                  <a:pt x="1839" y="286"/>
                </a:lnTo>
                <a:lnTo>
                  <a:pt x="1803" y="349"/>
                </a:lnTo>
                <a:lnTo>
                  <a:pt x="30" y="349"/>
                </a:lnTo>
                <a:lnTo>
                  <a:pt x="0" y="272"/>
                </a:lnTo>
                <a:lnTo>
                  <a:pt x="357" y="272"/>
                </a:lnTo>
                <a:lnTo>
                  <a:pt x="357" y="216"/>
                </a:lnTo>
                <a:lnTo>
                  <a:pt x="464" y="216"/>
                </a:lnTo>
                <a:lnTo>
                  <a:pt x="469" y="128"/>
                </a:lnTo>
                <a:lnTo>
                  <a:pt x="484" y="128"/>
                </a:lnTo>
                <a:lnTo>
                  <a:pt x="484" y="213"/>
                </a:lnTo>
                <a:lnTo>
                  <a:pt x="603" y="213"/>
                </a:lnTo>
                <a:lnTo>
                  <a:pt x="603" y="178"/>
                </a:lnTo>
                <a:lnTo>
                  <a:pt x="741" y="178"/>
                </a:lnTo>
                <a:lnTo>
                  <a:pt x="741" y="248"/>
                </a:lnTo>
                <a:lnTo>
                  <a:pt x="822" y="248"/>
                </a:lnTo>
                <a:lnTo>
                  <a:pt x="822" y="87"/>
                </a:lnTo>
                <a:lnTo>
                  <a:pt x="838" y="87"/>
                </a:lnTo>
                <a:lnTo>
                  <a:pt x="838" y="189"/>
                </a:lnTo>
                <a:lnTo>
                  <a:pt x="868" y="189"/>
                </a:lnTo>
                <a:lnTo>
                  <a:pt x="868" y="251"/>
                </a:lnTo>
                <a:lnTo>
                  <a:pt x="899" y="251"/>
                </a:lnTo>
                <a:lnTo>
                  <a:pt x="899" y="185"/>
                </a:lnTo>
                <a:lnTo>
                  <a:pt x="1032" y="185"/>
                </a:lnTo>
                <a:lnTo>
                  <a:pt x="1032" y="149"/>
                </a:lnTo>
                <a:lnTo>
                  <a:pt x="1052" y="149"/>
                </a:lnTo>
                <a:lnTo>
                  <a:pt x="1052" y="80"/>
                </a:lnTo>
                <a:lnTo>
                  <a:pt x="1032" y="80"/>
                </a:lnTo>
                <a:lnTo>
                  <a:pt x="1032" y="45"/>
                </a:lnTo>
                <a:lnTo>
                  <a:pt x="1062" y="41"/>
                </a:lnTo>
                <a:lnTo>
                  <a:pt x="1062" y="0"/>
                </a:lnTo>
                <a:lnTo>
                  <a:pt x="1078" y="3"/>
                </a:lnTo>
                <a:lnTo>
                  <a:pt x="1078" y="41"/>
                </a:lnTo>
                <a:lnTo>
                  <a:pt x="1139" y="41"/>
                </a:lnTo>
                <a:lnTo>
                  <a:pt x="1144" y="52"/>
                </a:lnTo>
                <a:lnTo>
                  <a:pt x="1108" y="59"/>
                </a:lnTo>
                <a:lnTo>
                  <a:pt x="1113" y="73"/>
                </a:lnTo>
                <a:lnTo>
                  <a:pt x="1195" y="73"/>
                </a:lnTo>
                <a:lnTo>
                  <a:pt x="1195" y="48"/>
                </a:lnTo>
                <a:lnTo>
                  <a:pt x="1231" y="48"/>
                </a:lnTo>
                <a:lnTo>
                  <a:pt x="1231" y="66"/>
                </a:lnTo>
                <a:lnTo>
                  <a:pt x="1226" y="66"/>
                </a:lnTo>
                <a:lnTo>
                  <a:pt x="1226" y="80"/>
                </a:lnTo>
                <a:lnTo>
                  <a:pt x="1205" y="87"/>
                </a:lnTo>
                <a:lnTo>
                  <a:pt x="1154" y="87"/>
                </a:lnTo>
                <a:lnTo>
                  <a:pt x="1124" y="118"/>
                </a:lnTo>
                <a:lnTo>
                  <a:pt x="1134" y="142"/>
                </a:lnTo>
                <a:lnTo>
                  <a:pt x="1282" y="142"/>
                </a:lnTo>
                <a:lnTo>
                  <a:pt x="1282" y="48"/>
                </a:lnTo>
                <a:lnTo>
                  <a:pt x="1302" y="48"/>
                </a:lnTo>
                <a:lnTo>
                  <a:pt x="1302" y="142"/>
                </a:lnTo>
                <a:lnTo>
                  <a:pt x="1333" y="139"/>
                </a:lnTo>
                <a:lnTo>
                  <a:pt x="1307" y="192"/>
                </a:lnTo>
                <a:lnTo>
                  <a:pt x="1307" y="244"/>
                </a:lnTo>
                <a:lnTo>
                  <a:pt x="1379" y="244"/>
                </a:lnTo>
                <a:lnTo>
                  <a:pt x="1379" y="223"/>
                </a:lnTo>
                <a:lnTo>
                  <a:pt x="1353" y="227"/>
                </a:lnTo>
                <a:lnTo>
                  <a:pt x="1353" y="210"/>
                </a:lnTo>
                <a:lnTo>
                  <a:pt x="1445" y="210"/>
                </a:lnTo>
                <a:lnTo>
                  <a:pt x="1399" y="220"/>
                </a:lnTo>
                <a:lnTo>
                  <a:pt x="1399" y="241"/>
                </a:lnTo>
                <a:lnTo>
                  <a:pt x="1497" y="241"/>
                </a:lnTo>
                <a:lnTo>
                  <a:pt x="1497" y="216"/>
                </a:lnTo>
                <a:lnTo>
                  <a:pt x="1471" y="216"/>
                </a:lnTo>
                <a:lnTo>
                  <a:pt x="1471" y="196"/>
                </a:lnTo>
                <a:lnTo>
                  <a:pt x="1594" y="196"/>
                </a:lnTo>
                <a:lnTo>
                  <a:pt x="1594" y="216"/>
                </a:lnTo>
                <a:lnTo>
                  <a:pt x="1533" y="216"/>
                </a:lnTo>
                <a:lnTo>
                  <a:pt x="1538" y="237"/>
                </a:lnTo>
                <a:lnTo>
                  <a:pt x="1977" y="189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3578400" y="2100240"/>
            <a:ext cx="312480" cy="161460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5797440" y="4567320"/>
            <a:ext cx="711720" cy="125640"/>
          </a:xfrm>
          <a:custGeom>
            <a:avLst/>
            <a:gdLst/>
            <a:ahLst/>
            <a:rect l="0" t="0" r="r" b="b"/>
            <a:pathLst>
              <a:path w="1977" h="349">
                <a:moveTo>
                  <a:pt x="0" y="189"/>
                </a:moveTo>
                <a:lnTo>
                  <a:pt x="71" y="223"/>
                </a:lnTo>
                <a:lnTo>
                  <a:pt x="137" y="286"/>
                </a:lnTo>
                <a:lnTo>
                  <a:pt x="173" y="349"/>
                </a:lnTo>
                <a:lnTo>
                  <a:pt x="1946" y="349"/>
                </a:lnTo>
                <a:lnTo>
                  <a:pt x="1977" y="272"/>
                </a:lnTo>
                <a:lnTo>
                  <a:pt x="1620" y="272"/>
                </a:lnTo>
                <a:lnTo>
                  <a:pt x="1620" y="216"/>
                </a:lnTo>
                <a:lnTo>
                  <a:pt x="1513" y="216"/>
                </a:lnTo>
                <a:lnTo>
                  <a:pt x="1507" y="128"/>
                </a:lnTo>
                <a:lnTo>
                  <a:pt x="1492" y="128"/>
                </a:lnTo>
                <a:lnTo>
                  <a:pt x="1492" y="213"/>
                </a:lnTo>
                <a:lnTo>
                  <a:pt x="1374" y="213"/>
                </a:lnTo>
                <a:lnTo>
                  <a:pt x="1374" y="178"/>
                </a:lnTo>
                <a:lnTo>
                  <a:pt x="1236" y="178"/>
                </a:lnTo>
                <a:lnTo>
                  <a:pt x="1236" y="248"/>
                </a:lnTo>
                <a:lnTo>
                  <a:pt x="1154" y="248"/>
                </a:lnTo>
                <a:lnTo>
                  <a:pt x="1154" y="87"/>
                </a:lnTo>
                <a:lnTo>
                  <a:pt x="1139" y="87"/>
                </a:lnTo>
                <a:lnTo>
                  <a:pt x="1139" y="189"/>
                </a:lnTo>
                <a:lnTo>
                  <a:pt x="1108" y="189"/>
                </a:lnTo>
                <a:lnTo>
                  <a:pt x="1108" y="251"/>
                </a:lnTo>
                <a:lnTo>
                  <a:pt x="1078" y="251"/>
                </a:lnTo>
                <a:lnTo>
                  <a:pt x="1078" y="185"/>
                </a:lnTo>
                <a:lnTo>
                  <a:pt x="945" y="185"/>
                </a:lnTo>
                <a:lnTo>
                  <a:pt x="945" y="149"/>
                </a:lnTo>
                <a:lnTo>
                  <a:pt x="924" y="149"/>
                </a:lnTo>
                <a:lnTo>
                  <a:pt x="924" y="80"/>
                </a:lnTo>
                <a:lnTo>
                  <a:pt x="945" y="80"/>
                </a:lnTo>
                <a:lnTo>
                  <a:pt x="945" y="45"/>
                </a:lnTo>
                <a:lnTo>
                  <a:pt x="914" y="41"/>
                </a:lnTo>
                <a:lnTo>
                  <a:pt x="914" y="0"/>
                </a:lnTo>
                <a:lnTo>
                  <a:pt x="899" y="3"/>
                </a:lnTo>
                <a:lnTo>
                  <a:pt x="899" y="41"/>
                </a:lnTo>
                <a:lnTo>
                  <a:pt x="838" y="41"/>
                </a:lnTo>
                <a:lnTo>
                  <a:pt x="833" y="52"/>
                </a:lnTo>
                <a:lnTo>
                  <a:pt x="868" y="59"/>
                </a:lnTo>
                <a:lnTo>
                  <a:pt x="863" y="73"/>
                </a:lnTo>
                <a:lnTo>
                  <a:pt x="782" y="73"/>
                </a:lnTo>
                <a:lnTo>
                  <a:pt x="782" y="48"/>
                </a:lnTo>
                <a:lnTo>
                  <a:pt x="746" y="48"/>
                </a:lnTo>
                <a:lnTo>
                  <a:pt x="746" y="66"/>
                </a:lnTo>
                <a:lnTo>
                  <a:pt x="751" y="66"/>
                </a:lnTo>
                <a:lnTo>
                  <a:pt x="751" y="80"/>
                </a:lnTo>
                <a:lnTo>
                  <a:pt x="771" y="87"/>
                </a:lnTo>
                <a:lnTo>
                  <a:pt x="822" y="87"/>
                </a:lnTo>
                <a:lnTo>
                  <a:pt x="853" y="118"/>
                </a:lnTo>
                <a:lnTo>
                  <a:pt x="843" y="142"/>
                </a:lnTo>
                <a:lnTo>
                  <a:pt x="695" y="142"/>
                </a:lnTo>
                <a:lnTo>
                  <a:pt x="695" y="48"/>
                </a:lnTo>
                <a:lnTo>
                  <a:pt x="674" y="48"/>
                </a:lnTo>
                <a:lnTo>
                  <a:pt x="674" y="142"/>
                </a:lnTo>
                <a:lnTo>
                  <a:pt x="644" y="139"/>
                </a:lnTo>
                <a:lnTo>
                  <a:pt x="669" y="192"/>
                </a:lnTo>
                <a:lnTo>
                  <a:pt x="669" y="244"/>
                </a:lnTo>
                <a:lnTo>
                  <a:pt x="598" y="244"/>
                </a:lnTo>
                <a:lnTo>
                  <a:pt x="598" y="223"/>
                </a:lnTo>
                <a:lnTo>
                  <a:pt x="623" y="227"/>
                </a:lnTo>
                <a:lnTo>
                  <a:pt x="623" y="210"/>
                </a:lnTo>
                <a:lnTo>
                  <a:pt x="531" y="210"/>
                </a:lnTo>
                <a:lnTo>
                  <a:pt x="577" y="220"/>
                </a:lnTo>
                <a:lnTo>
                  <a:pt x="577" y="241"/>
                </a:lnTo>
                <a:lnTo>
                  <a:pt x="479" y="241"/>
                </a:lnTo>
                <a:lnTo>
                  <a:pt x="479" y="216"/>
                </a:lnTo>
                <a:lnTo>
                  <a:pt x="506" y="216"/>
                </a:lnTo>
                <a:lnTo>
                  <a:pt x="506" y="196"/>
                </a:lnTo>
                <a:lnTo>
                  <a:pt x="382" y="196"/>
                </a:lnTo>
                <a:lnTo>
                  <a:pt x="382" y="216"/>
                </a:lnTo>
                <a:lnTo>
                  <a:pt x="444" y="216"/>
                </a:lnTo>
                <a:lnTo>
                  <a:pt x="439" y="237"/>
                </a:lnTo>
                <a:lnTo>
                  <a:pt x="0" y="189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3" name=""/>
          <p:cNvGrpSpPr/>
          <p:nvPr/>
        </p:nvGrpSpPr>
        <p:grpSpPr>
          <a:xfrm>
            <a:off x="7099200" y="4540320"/>
            <a:ext cx="478080" cy="262080"/>
            <a:chOff x="7099200" y="4540320"/>
            <a:chExt cx="478080" cy="262080"/>
          </a:xfrm>
        </p:grpSpPr>
        <p:sp>
          <p:nvSpPr>
            <p:cNvPr id="3944" name=""/>
            <p:cNvSpPr/>
            <p:nvPr/>
          </p:nvSpPr>
          <p:spPr>
            <a:xfrm>
              <a:off x="7327800" y="4540320"/>
              <a:ext cx="52560" cy="262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7099200" y="4546440"/>
              <a:ext cx="352800" cy="141480"/>
            </a:xfrm>
            <a:custGeom>
              <a:avLst/>
              <a:gdLst/>
              <a:ahLst/>
              <a:rect l="0" t="0" r="r" b="b"/>
              <a:pathLst>
                <a:path w="980" h="393">
                  <a:moveTo>
                    <a:pt x="980" y="393"/>
                  </a:moveTo>
                  <a:lnTo>
                    <a:pt x="980" y="360"/>
                  </a:lnTo>
                  <a:lnTo>
                    <a:pt x="966" y="331"/>
                  </a:lnTo>
                  <a:lnTo>
                    <a:pt x="868" y="289"/>
                  </a:lnTo>
                  <a:lnTo>
                    <a:pt x="854" y="246"/>
                  </a:lnTo>
                  <a:lnTo>
                    <a:pt x="781" y="223"/>
                  </a:lnTo>
                  <a:lnTo>
                    <a:pt x="721" y="251"/>
                  </a:lnTo>
                  <a:lnTo>
                    <a:pt x="536" y="232"/>
                  </a:lnTo>
                  <a:lnTo>
                    <a:pt x="180" y="146"/>
                  </a:lnTo>
                  <a:lnTo>
                    <a:pt x="150" y="33"/>
                  </a:lnTo>
                  <a:lnTo>
                    <a:pt x="68" y="0"/>
                  </a:lnTo>
                  <a:lnTo>
                    <a:pt x="63" y="37"/>
                  </a:lnTo>
                  <a:lnTo>
                    <a:pt x="107" y="56"/>
                  </a:lnTo>
                  <a:lnTo>
                    <a:pt x="121" y="189"/>
                  </a:lnTo>
                  <a:lnTo>
                    <a:pt x="0" y="209"/>
                  </a:lnTo>
                  <a:lnTo>
                    <a:pt x="77" y="232"/>
                  </a:lnTo>
                  <a:lnTo>
                    <a:pt x="170" y="223"/>
                  </a:lnTo>
                  <a:lnTo>
                    <a:pt x="273" y="223"/>
                  </a:lnTo>
                  <a:lnTo>
                    <a:pt x="439" y="298"/>
                  </a:lnTo>
                  <a:lnTo>
                    <a:pt x="980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337520" y="4683240"/>
              <a:ext cx="14400" cy="3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7388280" y="4684680"/>
              <a:ext cx="14400" cy="3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7248600" y="4573440"/>
              <a:ext cx="311040" cy="12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7478640" y="4660920"/>
              <a:ext cx="98640" cy="39960"/>
            </a:xfrm>
            <a:custGeom>
              <a:avLst/>
              <a:gdLst/>
              <a:ahLst/>
              <a:rect l="0" t="0" r="r" b="b"/>
              <a:pathLst>
                <a:path w="274" h="111">
                  <a:moveTo>
                    <a:pt x="215" y="111"/>
                  </a:moveTo>
                  <a:lnTo>
                    <a:pt x="274" y="96"/>
                  </a:lnTo>
                  <a:lnTo>
                    <a:pt x="29" y="0"/>
                  </a:lnTo>
                  <a:lnTo>
                    <a:pt x="0" y="19"/>
                  </a:lnTo>
                  <a:lnTo>
                    <a:pt x="215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7234200" y="4573440"/>
              <a:ext cx="98640" cy="39960"/>
            </a:xfrm>
            <a:custGeom>
              <a:avLst/>
              <a:gdLst/>
              <a:ahLst/>
              <a:rect l="0" t="0" r="r" b="b"/>
              <a:pathLst>
                <a:path w="274" h="111">
                  <a:moveTo>
                    <a:pt x="215" y="111"/>
                  </a:moveTo>
                  <a:lnTo>
                    <a:pt x="274" y="96"/>
                  </a:lnTo>
                  <a:lnTo>
                    <a:pt x="29" y="0"/>
                  </a:lnTo>
                  <a:lnTo>
                    <a:pt x="0" y="19"/>
                  </a:lnTo>
                  <a:lnTo>
                    <a:pt x="215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1" name=""/>
            <p:cNvGrpSpPr/>
            <p:nvPr/>
          </p:nvGrpSpPr>
          <p:grpSpPr>
            <a:xfrm>
              <a:off x="7281720" y="4600440"/>
              <a:ext cx="223920" cy="64080"/>
              <a:chOff x="7281720" y="4600440"/>
              <a:chExt cx="223920" cy="64080"/>
            </a:xfrm>
          </p:grpSpPr>
          <p:sp>
            <p:nvSpPr>
              <p:cNvPr id="3952" name=""/>
              <p:cNvSpPr/>
              <p:nvPr/>
            </p:nvSpPr>
            <p:spPr>
              <a:xfrm flipH="1">
                <a:off x="7284960" y="4605480"/>
                <a:ext cx="22068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443720" y="4600440"/>
                <a:ext cx="60840" cy="11520"/>
              </a:xfrm>
              <a:custGeom>
                <a:avLst/>
                <a:gdLst/>
                <a:ahLst/>
                <a:rect l="0" t="0" r="r" b="b"/>
                <a:pathLst>
                  <a:path w="169" h="32">
                    <a:moveTo>
                      <a:pt x="169" y="10"/>
                    </a:moveTo>
                    <a:lnTo>
                      <a:pt x="104" y="0"/>
                    </a:lnTo>
                    <a:lnTo>
                      <a:pt x="0" y="22"/>
                    </a:lnTo>
                    <a:lnTo>
                      <a:pt x="74" y="32"/>
                    </a:lnTo>
                    <a:lnTo>
                      <a:pt x="16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281720" y="4653000"/>
                <a:ext cx="59040" cy="11520"/>
              </a:xfrm>
              <a:custGeom>
                <a:avLst/>
                <a:gdLst/>
                <a:ahLst/>
                <a:rect l="0" t="0" r="r" b="b"/>
                <a:pathLst>
                  <a:path w="164" h="32">
                    <a:moveTo>
                      <a:pt x="0" y="22"/>
                    </a:moveTo>
                    <a:lnTo>
                      <a:pt x="62" y="32"/>
                    </a:lnTo>
                    <a:lnTo>
                      <a:pt x="164" y="10"/>
                    </a:lnTo>
                    <a:lnTo>
                      <a:pt x="9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55" name=""/>
          <p:cNvSpPr/>
          <p:nvPr/>
        </p:nvSpPr>
        <p:spPr>
          <a:xfrm>
            <a:off x="7183440" y="3944880"/>
            <a:ext cx="36360" cy="565200"/>
          </a:xfrm>
          <a:prstGeom prst="line">
            <a:avLst/>
          </a:prstGeom>
          <a:ln w="12600">
            <a:solidFill>
              <a:srgbClr val="00ae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3672000" y="2046240"/>
            <a:ext cx="769680" cy="208116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3494160" y="2147760"/>
            <a:ext cx="1295280" cy="3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 txBox="1"/>
          <p:nvPr/>
        </p:nvSpPr>
        <p:spPr>
          <a:xfrm>
            <a:off x="3625920" y="2147760"/>
            <a:ext cx="1033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DD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DIXS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5824440" y="3247920"/>
            <a:ext cx="23760" cy="20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0" name=""/>
          <p:cNvGrpSpPr/>
          <p:nvPr/>
        </p:nvGrpSpPr>
        <p:grpSpPr>
          <a:xfrm>
            <a:off x="5489640" y="3454560"/>
            <a:ext cx="871560" cy="325440"/>
            <a:chOff x="5489640" y="3454560"/>
            <a:chExt cx="871560" cy="325440"/>
          </a:xfrm>
        </p:grpSpPr>
        <p:sp>
          <p:nvSpPr>
            <p:cNvPr id="3961" name=""/>
            <p:cNvSpPr/>
            <p:nvPr/>
          </p:nvSpPr>
          <p:spPr>
            <a:xfrm>
              <a:off x="5764320" y="3538440"/>
              <a:ext cx="41760" cy="36720"/>
            </a:xfrm>
            <a:custGeom>
              <a:avLst/>
              <a:gdLst/>
              <a:ahLst/>
              <a:rect l="0" t="0" r="r" b="b"/>
              <a:pathLst>
                <a:path w="116" h="102">
                  <a:moveTo>
                    <a:pt x="14" y="40"/>
                  </a:moveTo>
                  <a:lnTo>
                    <a:pt x="39" y="0"/>
                  </a:lnTo>
                  <a:lnTo>
                    <a:pt x="116" y="25"/>
                  </a:lnTo>
                  <a:lnTo>
                    <a:pt x="102" y="102"/>
                  </a:lnTo>
                  <a:lnTo>
                    <a:pt x="19" y="97"/>
                  </a:lnTo>
                  <a:lnTo>
                    <a:pt x="0" y="71"/>
                  </a:lnTo>
                  <a:lnTo>
                    <a:pt x="14" y="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657760" y="3463920"/>
              <a:ext cx="117720" cy="108360"/>
            </a:xfrm>
            <a:custGeom>
              <a:avLst/>
              <a:gdLst/>
              <a:ahLst/>
              <a:rect l="0" t="0" r="r" b="b"/>
              <a:pathLst>
                <a:path w="327" h="301">
                  <a:moveTo>
                    <a:pt x="86" y="301"/>
                  </a:moveTo>
                  <a:lnTo>
                    <a:pt x="38" y="267"/>
                  </a:lnTo>
                  <a:lnTo>
                    <a:pt x="110" y="272"/>
                  </a:lnTo>
                  <a:lnTo>
                    <a:pt x="0" y="0"/>
                  </a:lnTo>
                  <a:lnTo>
                    <a:pt x="100" y="19"/>
                  </a:lnTo>
                  <a:lnTo>
                    <a:pt x="327" y="292"/>
                  </a:lnTo>
                  <a:lnTo>
                    <a:pt x="86" y="30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654520" y="3454560"/>
              <a:ext cx="68760" cy="19440"/>
            </a:xfrm>
            <a:custGeom>
              <a:avLst/>
              <a:gdLst/>
              <a:ahLst/>
              <a:rect l="0" t="0" r="r" b="b"/>
              <a:pathLst>
                <a:path w="191" h="54">
                  <a:moveTo>
                    <a:pt x="0" y="0"/>
                  </a:moveTo>
                  <a:lnTo>
                    <a:pt x="191" y="36"/>
                  </a:lnTo>
                  <a:lnTo>
                    <a:pt x="110" y="54"/>
                  </a:lnTo>
                  <a:lnTo>
                    <a:pt x="23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675400" y="3471840"/>
              <a:ext cx="47520" cy="9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6103800" y="3549600"/>
              <a:ext cx="86040" cy="51120"/>
              <a:chOff x="6103800" y="3549600"/>
              <a:chExt cx="86040" cy="51120"/>
            </a:xfrm>
          </p:grpSpPr>
          <p:sp>
            <p:nvSpPr>
              <p:cNvPr id="3966" name=""/>
              <p:cNvSpPr/>
              <p:nvPr/>
            </p:nvSpPr>
            <p:spPr>
              <a:xfrm>
                <a:off x="6103800" y="3549600"/>
                <a:ext cx="79560" cy="51120"/>
              </a:xfrm>
              <a:custGeom>
                <a:avLst/>
                <a:gdLst/>
                <a:ahLst/>
                <a:rect l="0" t="0" r="r" b="b"/>
                <a:pathLst>
                  <a:path w="221" h="142">
                    <a:moveTo>
                      <a:pt x="221" y="56"/>
                    </a:moveTo>
                    <a:lnTo>
                      <a:pt x="183" y="47"/>
                    </a:lnTo>
                    <a:lnTo>
                      <a:pt x="169" y="28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0" y="113"/>
                    </a:lnTo>
                    <a:lnTo>
                      <a:pt x="165" y="142"/>
                    </a:lnTo>
                    <a:lnTo>
                      <a:pt x="202" y="123"/>
                    </a:lnTo>
                    <a:lnTo>
                      <a:pt x="221" y="5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162840" y="3567240"/>
                <a:ext cx="27000" cy="31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6111720" y="3598920"/>
              <a:ext cx="88920" cy="54360"/>
              <a:chOff x="6111720" y="3598920"/>
              <a:chExt cx="88920" cy="54360"/>
            </a:xfrm>
          </p:grpSpPr>
          <p:sp>
            <p:nvSpPr>
              <p:cNvPr id="3969" name=""/>
              <p:cNvSpPr/>
              <p:nvPr/>
            </p:nvSpPr>
            <p:spPr>
              <a:xfrm>
                <a:off x="6111720" y="3598920"/>
                <a:ext cx="82800" cy="54360"/>
              </a:xfrm>
              <a:custGeom>
                <a:avLst/>
                <a:gdLst/>
                <a:ahLst/>
                <a:rect l="0" t="0" r="r" b="b"/>
                <a:pathLst>
                  <a:path w="230" h="151">
                    <a:moveTo>
                      <a:pt x="230" y="60"/>
                    </a:moveTo>
                    <a:lnTo>
                      <a:pt x="191" y="50"/>
                    </a:lnTo>
                    <a:lnTo>
                      <a:pt x="176" y="29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73" y="121"/>
                    </a:lnTo>
                    <a:lnTo>
                      <a:pt x="171" y="151"/>
                    </a:lnTo>
                    <a:lnTo>
                      <a:pt x="210" y="131"/>
                    </a:lnTo>
                    <a:lnTo>
                      <a:pt x="23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6173640" y="3621240"/>
                <a:ext cx="27000" cy="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1" name=""/>
            <p:cNvSpPr/>
            <p:nvPr/>
          </p:nvSpPr>
          <p:spPr>
            <a:xfrm>
              <a:off x="6012000" y="3498840"/>
              <a:ext cx="113040" cy="151200"/>
            </a:xfrm>
            <a:custGeom>
              <a:avLst/>
              <a:gdLst/>
              <a:ahLst/>
              <a:rect l="0" t="0" r="r" b="b"/>
              <a:pathLst>
                <a:path w="314" h="420">
                  <a:moveTo>
                    <a:pt x="0" y="342"/>
                  </a:moveTo>
                  <a:lnTo>
                    <a:pt x="77" y="212"/>
                  </a:lnTo>
                  <a:lnTo>
                    <a:pt x="130" y="78"/>
                  </a:lnTo>
                  <a:lnTo>
                    <a:pt x="144" y="0"/>
                  </a:lnTo>
                  <a:lnTo>
                    <a:pt x="232" y="9"/>
                  </a:lnTo>
                  <a:lnTo>
                    <a:pt x="270" y="68"/>
                  </a:lnTo>
                  <a:lnTo>
                    <a:pt x="314" y="42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489640" y="3549600"/>
              <a:ext cx="849600" cy="203400"/>
            </a:xfrm>
            <a:custGeom>
              <a:avLst/>
              <a:gdLst/>
              <a:ahLst/>
              <a:rect l="0" t="0" r="r" b="b"/>
              <a:pathLst>
                <a:path w="2360" h="565">
                  <a:moveTo>
                    <a:pt x="2019" y="329"/>
                  </a:moveTo>
                  <a:lnTo>
                    <a:pt x="1674" y="245"/>
                  </a:lnTo>
                  <a:lnTo>
                    <a:pt x="1172" y="127"/>
                  </a:lnTo>
                  <a:lnTo>
                    <a:pt x="705" y="29"/>
                  </a:lnTo>
                  <a:lnTo>
                    <a:pt x="549" y="4"/>
                  </a:lnTo>
                  <a:lnTo>
                    <a:pt x="355" y="0"/>
                  </a:lnTo>
                  <a:lnTo>
                    <a:pt x="0" y="29"/>
                  </a:lnTo>
                  <a:lnTo>
                    <a:pt x="63" y="63"/>
                  </a:lnTo>
                  <a:lnTo>
                    <a:pt x="428" y="58"/>
                  </a:lnTo>
                  <a:lnTo>
                    <a:pt x="525" y="107"/>
                  </a:lnTo>
                  <a:lnTo>
                    <a:pt x="637" y="157"/>
                  </a:lnTo>
                  <a:lnTo>
                    <a:pt x="899" y="245"/>
                  </a:lnTo>
                  <a:lnTo>
                    <a:pt x="1031" y="295"/>
                  </a:lnTo>
                  <a:lnTo>
                    <a:pt x="1630" y="452"/>
                  </a:lnTo>
                  <a:lnTo>
                    <a:pt x="1971" y="526"/>
                  </a:lnTo>
                  <a:lnTo>
                    <a:pt x="2209" y="565"/>
                  </a:lnTo>
                  <a:lnTo>
                    <a:pt x="2296" y="555"/>
                  </a:lnTo>
                  <a:lnTo>
                    <a:pt x="2360" y="526"/>
                  </a:lnTo>
                  <a:lnTo>
                    <a:pt x="2316" y="472"/>
                  </a:lnTo>
                  <a:lnTo>
                    <a:pt x="2214" y="403"/>
                  </a:lnTo>
                  <a:lnTo>
                    <a:pt x="2102" y="354"/>
                  </a:lnTo>
                  <a:lnTo>
                    <a:pt x="2019" y="3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524560" y="3646440"/>
              <a:ext cx="584640" cy="92520"/>
            </a:xfrm>
            <a:custGeom>
              <a:avLst/>
              <a:gdLst/>
              <a:ahLst/>
              <a:rect l="0" t="0" r="r" b="b"/>
              <a:pathLst>
                <a:path w="1624" h="257">
                  <a:moveTo>
                    <a:pt x="936" y="0"/>
                  </a:moveTo>
                  <a:lnTo>
                    <a:pt x="1029" y="73"/>
                  </a:lnTo>
                  <a:lnTo>
                    <a:pt x="834" y="131"/>
                  </a:lnTo>
                  <a:lnTo>
                    <a:pt x="702" y="150"/>
                  </a:lnTo>
                  <a:lnTo>
                    <a:pt x="429" y="184"/>
                  </a:lnTo>
                  <a:lnTo>
                    <a:pt x="0" y="209"/>
                  </a:lnTo>
                  <a:lnTo>
                    <a:pt x="77" y="257"/>
                  </a:lnTo>
                  <a:lnTo>
                    <a:pt x="1058" y="228"/>
                  </a:lnTo>
                  <a:lnTo>
                    <a:pt x="1308" y="209"/>
                  </a:lnTo>
                  <a:lnTo>
                    <a:pt x="1624" y="184"/>
                  </a:lnTo>
                  <a:lnTo>
                    <a:pt x="1121" y="43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4" name=""/>
            <p:cNvGrpSpPr/>
            <p:nvPr/>
          </p:nvGrpSpPr>
          <p:grpSpPr>
            <a:xfrm>
              <a:off x="5859360" y="3732120"/>
              <a:ext cx="100080" cy="41400"/>
              <a:chOff x="5859360" y="3732120"/>
              <a:chExt cx="100080" cy="41400"/>
            </a:xfrm>
          </p:grpSpPr>
          <p:sp>
            <p:nvSpPr>
              <p:cNvPr id="3975" name=""/>
              <p:cNvSpPr/>
              <p:nvPr/>
            </p:nvSpPr>
            <p:spPr>
              <a:xfrm>
                <a:off x="5859360" y="3732120"/>
                <a:ext cx="86040" cy="38520"/>
              </a:xfrm>
              <a:custGeom>
                <a:avLst/>
                <a:gdLst/>
                <a:ahLst/>
                <a:rect l="0" t="0" r="r" b="b"/>
                <a:pathLst>
                  <a:path w="239" h="107">
                    <a:moveTo>
                      <a:pt x="102" y="107"/>
                    </a:moveTo>
                    <a:lnTo>
                      <a:pt x="0" y="58"/>
                    </a:lnTo>
                    <a:lnTo>
                      <a:pt x="34" y="39"/>
                    </a:lnTo>
                    <a:lnTo>
                      <a:pt x="34" y="4"/>
                    </a:lnTo>
                    <a:lnTo>
                      <a:pt x="190" y="0"/>
                    </a:lnTo>
                    <a:lnTo>
                      <a:pt x="239" y="58"/>
                    </a:lnTo>
                    <a:lnTo>
                      <a:pt x="102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5867280" y="3735360"/>
                <a:ext cx="92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5915160" y="3749760"/>
                <a:ext cx="38160" cy="22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5700600" y="3733920"/>
              <a:ext cx="101880" cy="46080"/>
              <a:chOff x="5700600" y="3733920"/>
              <a:chExt cx="101880" cy="46080"/>
            </a:xfrm>
          </p:grpSpPr>
          <p:sp>
            <p:nvSpPr>
              <p:cNvPr id="3979" name=""/>
              <p:cNvSpPr/>
              <p:nvPr/>
            </p:nvSpPr>
            <p:spPr>
              <a:xfrm>
                <a:off x="5700600" y="3733920"/>
                <a:ext cx="86040" cy="38520"/>
              </a:xfrm>
              <a:custGeom>
                <a:avLst/>
                <a:gdLst/>
                <a:ahLst/>
                <a:rect l="0" t="0" r="r" b="b"/>
                <a:pathLst>
                  <a:path w="239" h="107">
                    <a:moveTo>
                      <a:pt x="102" y="107"/>
                    </a:moveTo>
                    <a:lnTo>
                      <a:pt x="0" y="58"/>
                    </a:lnTo>
                    <a:lnTo>
                      <a:pt x="34" y="39"/>
                    </a:lnTo>
                    <a:lnTo>
                      <a:pt x="34" y="4"/>
                    </a:lnTo>
                    <a:lnTo>
                      <a:pt x="190" y="0"/>
                    </a:lnTo>
                    <a:lnTo>
                      <a:pt x="239" y="58"/>
                    </a:lnTo>
                    <a:lnTo>
                      <a:pt x="102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5705640" y="3738600"/>
                <a:ext cx="9684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59280" y="3757680"/>
                <a:ext cx="33480" cy="22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2" name=""/>
            <p:cNvSpPr/>
            <p:nvPr/>
          </p:nvSpPr>
          <p:spPr>
            <a:xfrm>
              <a:off x="5905440" y="3665520"/>
              <a:ext cx="2376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248520" y="3718080"/>
              <a:ext cx="2556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113520" y="3695760"/>
              <a:ext cx="3960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6316560" y="3722040"/>
              <a:ext cx="44640" cy="16920"/>
            </a:xfrm>
            <a:custGeom>
              <a:avLst/>
              <a:gdLst/>
              <a:ahLst/>
              <a:rect l="0" t="0" r="r" b="b"/>
              <a:pathLst>
                <a:path w="124" h="47">
                  <a:moveTo>
                    <a:pt x="0" y="8"/>
                  </a:moveTo>
                  <a:lnTo>
                    <a:pt x="0" y="47"/>
                  </a:lnTo>
                  <a:lnTo>
                    <a:pt x="0" y="47"/>
                  </a:lnTo>
                  <a:cubicBezTo>
                    <a:pt x="22" y="47"/>
                    <a:pt x="43" y="45"/>
                    <a:pt x="62" y="42"/>
                  </a:cubicBezTo>
                  <a:cubicBezTo>
                    <a:pt x="81" y="38"/>
                    <a:pt x="96" y="34"/>
                    <a:pt x="107" y="28"/>
                  </a:cubicBezTo>
                  <a:cubicBezTo>
                    <a:pt x="118" y="22"/>
                    <a:pt x="124" y="15"/>
                    <a:pt x="124" y="8"/>
                  </a:cubicBezTo>
                  <a:cubicBezTo>
                    <a:pt x="124" y="6"/>
                    <a:pt x="123" y="3"/>
                    <a:pt x="121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180120" y="3713040"/>
              <a:ext cx="9828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284880" y="3722760"/>
              <a:ext cx="27000" cy="1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4067280" y="4287960"/>
            <a:ext cx="1076760" cy="65520"/>
          </a:xfrm>
          <a:custGeom>
            <a:avLst/>
            <a:gdLst/>
            <a:ahLst/>
            <a:rect l="0" t="0" r="r" b="b"/>
            <a:pathLst>
              <a:path w="2991" h="182">
                <a:moveTo>
                  <a:pt x="2991" y="0"/>
                </a:moveTo>
                <a:lnTo>
                  <a:pt x="2845" y="48"/>
                </a:lnTo>
                <a:lnTo>
                  <a:pt x="2779" y="117"/>
                </a:lnTo>
                <a:lnTo>
                  <a:pt x="2763" y="182"/>
                </a:lnTo>
                <a:lnTo>
                  <a:pt x="65" y="182"/>
                </a:lnTo>
                <a:lnTo>
                  <a:pt x="65" y="31"/>
                </a:lnTo>
                <a:lnTo>
                  <a:pt x="0" y="31"/>
                </a:lnTo>
                <a:lnTo>
                  <a:pt x="0" y="5"/>
                </a:lnTo>
                <a:lnTo>
                  <a:pt x="2991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4419720" y="4146480"/>
            <a:ext cx="78120" cy="141480"/>
          </a:xfrm>
          <a:custGeom>
            <a:avLst/>
            <a:gdLst/>
            <a:ahLst/>
            <a:rect l="0" t="0" r="r" b="b"/>
            <a:pathLst>
              <a:path w="217" h="393">
                <a:moveTo>
                  <a:pt x="156" y="382"/>
                </a:moveTo>
                <a:lnTo>
                  <a:pt x="156" y="319"/>
                </a:lnTo>
                <a:lnTo>
                  <a:pt x="217" y="271"/>
                </a:lnTo>
                <a:lnTo>
                  <a:pt x="217" y="223"/>
                </a:lnTo>
                <a:lnTo>
                  <a:pt x="99" y="223"/>
                </a:lnTo>
                <a:lnTo>
                  <a:pt x="99" y="169"/>
                </a:lnTo>
                <a:lnTo>
                  <a:pt x="133" y="159"/>
                </a:lnTo>
                <a:lnTo>
                  <a:pt x="38" y="121"/>
                </a:lnTo>
                <a:lnTo>
                  <a:pt x="38" y="0"/>
                </a:lnTo>
                <a:lnTo>
                  <a:pt x="33" y="127"/>
                </a:lnTo>
                <a:lnTo>
                  <a:pt x="33" y="218"/>
                </a:lnTo>
                <a:lnTo>
                  <a:pt x="0" y="218"/>
                </a:lnTo>
                <a:lnTo>
                  <a:pt x="0" y="393"/>
                </a:lnTo>
                <a:lnTo>
                  <a:pt x="156" y="38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4643280" y="4314960"/>
            <a:ext cx="11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4213080" y="431496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 flipH="1">
            <a:off x="4648320" y="2033640"/>
            <a:ext cx="2581200" cy="2130480"/>
          </a:xfrm>
          <a:prstGeom prst="line">
            <a:avLst/>
          </a:prstGeom>
          <a:ln w="12600">
            <a:solidFill>
              <a:srgbClr val="00279f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7680240" y="2106720"/>
            <a:ext cx="731880" cy="2003400"/>
          </a:xfrm>
          <a:prstGeom prst="line">
            <a:avLst/>
          </a:prstGeom>
          <a:ln w="12600">
            <a:solidFill>
              <a:srgbClr val="00279f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 txBox="1"/>
          <p:nvPr/>
        </p:nvSpPr>
        <p:spPr>
          <a:xfrm>
            <a:off x="3165480" y="1525680"/>
            <a:ext cx="3938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800" spc="-1" strike="noStrike">
                <a:solidFill>
                  <a:srgbClr val="00ae00"/>
                </a:solidFill>
                <a:latin typeface="ARIAL"/>
                <a:ea typeface="ARIAL"/>
              </a:rPr>
              <a:t>UH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 txBox="1"/>
          <p:nvPr/>
        </p:nvSpPr>
        <p:spPr>
          <a:xfrm>
            <a:off x="7558200" y="1625760"/>
            <a:ext cx="3938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800" spc="-1" strike="noStrike">
                <a:solidFill>
                  <a:srgbClr val="00ae00"/>
                </a:solidFill>
                <a:latin typeface="ARIAL"/>
                <a:ea typeface="ARIAL"/>
              </a:rPr>
              <a:t>UH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6" name="" descr=""/>
          <p:cNvPicPr/>
          <p:nvPr/>
        </p:nvPicPr>
        <p:blipFill>
          <a:blip r:embed="rId1"/>
          <a:stretch/>
        </p:blipFill>
        <p:spPr>
          <a:xfrm>
            <a:off x="2614680" y="2887560"/>
            <a:ext cx="695160" cy="193680"/>
          </a:xfrm>
          <a:prstGeom prst="rect">
            <a:avLst/>
          </a:prstGeom>
          <a:ln w="0">
            <a:noFill/>
          </a:ln>
        </p:spPr>
      </p:pic>
      <p:sp>
        <p:nvSpPr>
          <p:cNvPr id="3997" name=""/>
          <p:cNvSpPr/>
          <p:nvPr/>
        </p:nvSpPr>
        <p:spPr>
          <a:xfrm flipV="1">
            <a:off x="6216480" y="2070000"/>
            <a:ext cx="1060560" cy="1384560"/>
          </a:xfrm>
          <a:prstGeom prst="line">
            <a:avLst/>
          </a:prstGeom>
          <a:ln w="12600">
            <a:solidFill>
              <a:srgbClr val="00279f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8" name=""/>
          <p:cNvGrpSpPr/>
          <p:nvPr/>
        </p:nvGrpSpPr>
        <p:grpSpPr>
          <a:xfrm>
            <a:off x="6948360" y="2211480"/>
            <a:ext cx="1004760" cy="271440"/>
            <a:chOff x="6948360" y="2211480"/>
            <a:chExt cx="1004760" cy="271440"/>
          </a:xfrm>
        </p:grpSpPr>
        <p:sp>
          <p:nvSpPr>
            <p:cNvPr id="3999" name=""/>
            <p:cNvSpPr/>
            <p:nvPr/>
          </p:nvSpPr>
          <p:spPr>
            <a:xfrm>
              <a:off x="6948360" y="2211480"/>
              <a:ext cx="1004760" cy="23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 txBox="1"/>
            <p:nvPr/>
          </p:nvSpPr>
          <p:spPr>
            <a:xfrm>
              <a:off x="7156440" y="2220840"/>
              <a:ext cx="58896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adcast Integration to 200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 txBox="1"/>
          <p:nvPr/>
        </p:nvSpPr>
        <p:spPr>
          <a:xfrm>
            <a:off x="1703520" y="1063800"/>
            <a:ext cx="57643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OADCAST INTEGRATION TO 200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3" name=""/>
          <p:cNvGrpSpPr/>
          <p:nvPr/>
        </p:nvGrpSpPr>
        <p:grpSpPr>
          <a:xfrm>
            <a:off x="325440" y="1152360"/>
            <a:ext cx="8593200" cy="5340960"/>
            <a:chOff x="325440" y="1152360"/>
            <a:chExt cx="8593200" cy="5340960"/>
          </a:xfrm>
        </p:grpSpPr>
        <p:grpSp>
          <p:nvGrpSpPr>
            <p:cNvPr id="4004" name=""/>
            <p:cNvGrpSpPr/>
            <p:nvPr/>
          </p:nvGrpSpPr>
          <p:grpSpPr>
            <a:xfrm>
              <a:off x="6955560" y="1247760"/>
              <a:ext cx="1928520" cy="5245560"/>
              <a:chOff x="6955560" y="1247760"/>
              <a:chExt cx="1928520" cy="5245560"/>
            </a:xfrm>
          </p:grpSpPr>
          <p:sp>
            <p:nvSpPr>
              <p:cNvPr id="4005" name=""/>
              <p:cNvSpPr/>
              <p:nvPr/>
            </p:nvSpPr>
            <p:spPr>
              <a:xfrm>
                <a:off x="6956280" y="1247760"/>
                <a:ext cx="1926720" cy="2622240"/>
              </a:xfrm>
              <a:custGeom>
                <a:avLst/>
                <a:gdLst/>
                <a:ahLst/>
                <a:rect l="0" t="0" r="r" b="b"/>
                <a:pathLst>
                  <a:path w="5352" h="7284">
                    <a:moveTo>
                      <a:pt x="5352" y="7284"/>
                    </a:moveTo>
                    <a:lnTo>
                      <a:pt x="5352" y="0"/>
                    </a:lnTo>
                    <a:lnTo>
                      <a:pt x="5352" y="0"/>
                    </a:lnTo>
                    <a:cubicBezTo>
                      <a:pt x="4413" y="0"/>
                      <a:pt x="3490" y="337"/>
                      <a:pt x="2676" y="976"/>
                    </a:cubicBezTo>
                    <a:cubicBezTo>
                      <a:pt x="1862" y="1615"/>
                      <a:pt x="1187" y="2535"/>
                      <a:pt x="717" y="3642"/>
                    </a:cubicBezTo>
                    <a:cubicBezTo>
                      <a:pt x="247" y="4749"/>
                      <a:pt x="0" y="6005"/>
                      <a:pt x="0" y="7284"/>
                    </a:cubicBezTo>
                    <a:lnTo>
                      <a:pt x="5352" y="7284"/>
                    </a:lnTo>
                    <a:close/>
                  </a:path>
                </a:pathLst>
              </a:custGeom>
              <a:solidFill>
                <a:srgbClr val="e3b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955560" y="3873600"/>
                <a:ext cx="1928520" cy="2619720"/>
              </a:xfrm>
              <a:custGeom>
                <a:avLst/>
                <a:gdLst/>
                <a:ahLst/>
                <a:rect l="0" t="0" r="r" b="b"/>
                <a:pathLst>
                  <a:path w="5357" h="7277">
                    <a:moveTo>
                      <a:pt x="0" y="7277"/>
                    </a:moveTo>
                    <a:lnTo>
                      <a:pt x="5357" y="7277"/>
                    </a:lnTo>
                    <a:lnTo>
                      <a:pt x="5357" y="7277"/>
                    </a:lnTo>
                    <a:lnTo>
                      <a:pt x="5357" y="7277"/>
                    </a:lnTo>
                    <a:cubicBezTo>
                      <a:pt x="5357" y="6000"/>
                      <a:pt x="5109" y="4745"/>
                      <a:pt x="4639" y="3638"/>
                    </a:cubicBezTo>
                    <a:cubicBezTo>
                      <a:pt x="4169" y="2532"/>
                      <a:pt x="3493" y="1614"/>
                      <a:pt x="2678" y="975"/>
                    </a:cubicBezTo>
                    <a:cubicBezTo>
                      <a:pt x="1864" y="336"/>
                      <a:pt x="940" y="0"/>
                      <a:pt x="0" y="0"/>
                    </a:cubicBezTo>
                    <a:lnTo>
                      <a:pt x="0" y="7277"/>
                    </a:lnTo>
                    <a:close/>
                  </a:path>
                </a:pathLst>
              </a:custGeom>
              <a:solidFill>
                <a:srgbClr val="e3b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7" name=""/>
            <p:cNvGrpSpPr/>
            <p:nvPr/>
          </p:nvGrpSpPr>
          <p:grpSpPr>
            <a:xfrm>
              <a:off x="7174800" y="2898720"/>
              <a:ext cx="1743840" cy="1986480"/>
              <a:chOff x="7174800" y="2898720"/>
              <a:chExt cx="1743840" cy="1986480"/>
            </a:xfrm>
          </p:grpSpPr>
          <p:grpSp>
            <p:nvGrpSpPr>
              <p:cNvPr id="4008" name=""/>
              <p:cNvGrpSpPr/>
              <p:nvPr/>
            </p:nvGrpSpPr>
            <p:grpSpPr>
              <a:xfrm>
                <a:off x="7174800" y="2898720"/>
                <a:ext cx="1709280" cy="1986480"/>
                <a:chOff x="7174800" y="2898720"/>
                <a:chExt cx="1709280" cy="1986480"/>
              </a:xfrm>
            </p:grpSpPr>
            <p:sp>
              <p:nvSpPr>
                <p:cNvPr id="4009" name=""/>
                <p:cNvSpPr/>
                <p:nvPr/>
              </p:nvSpPr>
              <p:spPr>
                <a:xfrm>
                  <a:off x="7175520" y="2898720"/>
                  <a:ext cx="1708560" cy="993240"/>
                </a:xfrm>
                <a:custGeom>
                  <a:avLst/>
                  <a:gdLst/>
                  <a:ahLst/>
                  <a:rect l="0" t="0" r="r" b="b"/>
                  <a:pathLst>
                    <a:path w="4746" h="2759">
                      <a:moveTo>
                        <a:pt x="4746" y="2759"/>
                      </a:moveTo>
                      <a:lnTo>
                        <a:pt x="4746" y="0"/>
                      </a:lnTo>
                      <a:lnTo>
                        <a:pt x="4746" y="0"/>
                      </a:lnTo>
                      <a:cubicBezTo>
                        <a:pt x="3913" y="0"/>
                        <a:pt x="3094" y="127"/>
                        <a:pt x="2373" y="370"/>
                      </a:cubicBezTo>
                      <a:cubicBezTo>
                        <a:pt x="1652" y="612"/>
                        <a:pt x="1052" y="960"/>
                        <a:pt x="636" y="1380"/>
                      </a:cubicBezTo>
                      <a:cubicBezTo>
                        <a:pt x="219" y="1799"/>
                        <a:pt x="0" y="2275"/>
                        <a:pt x="0" y="2759"/>
                      </a:cubicBezTo>
                      <a:lnTo>
                        <a:pt x="4746" y="2759"/>
                      </a:lnTo>
                      <a:close/>
                    </a:path>
                  </a:pathLst>
                </a:custGeom>
                <a:solidFill>
                  <a:srgbClr val="c4fffc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7174800" y="3892680"/>
                  <a:ext cx="1709280" cy="992520"/>
                </a:xfrm>
                <a:custGeom>
                  <a:avLst/>
                  <a:gdLst/>
                  <a:ahLst/>
                  <a:rect l="0" t="0" r="r" b="b"/>
                  <a:pathLst>
                    <a:path w="4748" h="2757">
                      <a:moveTo>
                        <a:pt x="0" y="2757"/>
                      </a:moveTo>
                      <a:lnTo>
                        <a:pt x="4748" y="2757"/>
                      </a:lnTo>
                      <a:lnTo>
                        <a:pt x="4748" y="2757"/>
                      </a:lnTo>
                      <a:lnTo>
                        <a:pt x="4748" y="2757"/>
                      </a:lnTo>
                      <a:cubicBezTo>
                        <a:pt x="4748" y="2273"/>
                        <a:pt x="4529" y="1798"/>
                        <a:pt x="4112" y="1378"/>
                      </a:cubicBezTo>
                      <a:cubicBezTo>
                        <a:pt x="3695" y="959"/>
                        <a:pt x="3096" y="611"/>
                        <a:pt x="2374" y="369"/>
                      </a:cubicBezTo>
                      <a:cubicBezTo>
                        <a:pt x="1652" y="127"/>
                        <a:pt x="833" y="0"/>
                        <a:pt x="0" y="0"/>
                      </a:cubicBezTo>
                      <a:lnTo>
                        <a:pt x="0" y="2757"/>
                      </a:lnTo>
                      <a:close/>
                    </a:path>
                  </a:pathLst>
                </a:custGeom>
                <a:solidFill>
                  <a:srgbClr val="c4fffc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1" name=""/>
              <p:cNvSpPr/>
              <p:nvPr/>
            </p:nvSpPr>
            <p:spPr>
              <a:xfrm>
                <a:off x="7419960" y="3224160"/>
                <a:ext cx="1457280" cy="4762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419960" y="4083120"/>
                <a:ext cx="1457280" cy="4762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 txBox="1"/>
              <p:nvPr/>
            </p:nvSpPr>
            <p:spPr>
              <a:xfrm>
                <a:off x="7629480" y="3338640"/>
                <a:ext cx="1181160" cy="28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roadca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 txBox="1"/>
              <p:nvPr/>
            </p:nvSpPr>
            <p:spPr>
              <a:xfrm>
                <a:off x="7650000" y="4192560"/>
                <a:ext cx="1028880" cy="28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wo-W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 txBox="1"/>
              <p:nvPr/>
            </p:nvSpPr>
            <p:spPr>
              <a:xfrm>
                <a:off x="7915320" y="3681360"/>
                <a:ext cx="10033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676767"/>
                    </a:solidFill>
                    <a:latin typeface="ARIAL"/>
                    <a:ea typeface="ARIAL"/>
                  </a:rPr>
                  <a:t>Non-GB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676767"/>
                    </a:solidFill>
                    <a:latin typeface="ARIAL"/>
                    <a:ea typeface="ARIAL"/>
                  </a:rPr>
                  <a:t>SATC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>
              <a:off x="6145560" y="4251600"/>
              <a:ext cx="1283400" cy="306360"/>
            </a:xfrm>
            <a:custGeom>
              <a:avLst/>
              <a:gdLst/>
              <a:ahLst/>
              <a:rect l="0" t="0" r="r" b="b"/>
              <a:pathLst>
                <a:path fill="none" w="3565" h="851">
                  <a:moveTo>
                    <a:pt x="0" y="0"/>
                  </a:moveTo>
                  <a:lnTo>
                    <a:pt x="0" y="0"/>
                  </a:lnTo>
                  <a:cubicBezTo>
                    <a:pt x="59" y="50"/>
                    <a:pt x="126" y="98"/>
                    <a:pt x="201" y="145"/>
                  </a:cubicBezTo>
                  <a:cubicBezTo>
                    <a:pt x="542" y="360"/>
                    <a:pt x="1032" y="538"/>
                    <a:pt x="1622" y="662"/>
                  </a:cubicBezTo>
                  <a:cubicBezTo>
                    <a:pt x="2213" y="786"/>
                    <a:pt x="2882" y="851"/>
                    <a:pt x="3564" y="851"/>
                  </a:cubicBezTo>
                  <a:lnTo>
                    <a:pt x="3565" y="851"/>
                  </a:ln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118200" y="3530880"/>
              <a:ext cx="1308960" cy="184320"/>
            </a:xfrm>
            <a:custGeom>
              <a:avLst/>
              <a:gdLst/>
              <a:ahLst/>
              <a:rect l="0" t="0" r="r" b="b"/>
              <a:pathLst>
                <a:path fill="none" w="3636" h="512">
                  <a:moveTo>
                    <a:pt x="0" y="512"/>
                  </a:moveTo>
                  <a:lnTo>
                    <a:pt x="0" y="512"/>
                  </a:lnTo>
                  <a:lnTo>
                    <a:pt x="1" y="512"/>
                  </a:lnTo>
                  <a:cubicBezTo>
                    <a:pt x="696" y="512"/>
                    <a:pt x="1379" y="473"/>
                    <a:pt x="1981" y="398"/>
                  </a:cubicBezTo>
                  <a:cubicBezTo>
                    <a:pt x="2583" y="324"/>
                    <a:pt x="3083" y="216"/>
                    <a:pt x="3431" y="87"/>
                  </a:cubicBezTo>
                  <a:cubicBezTo>
                    <a:pt x="3507" y="59"/>
                    <a:pt x="3576" y="30"/>
                    <a:pt x="3636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6071400" y="4936680"/>
              <a:ext cx="1394280" cy="902520"/>
            </a:xfrm>
            <a:custGeom>
              <a:avLst/>
              <a:gdLst/>
              <a:ahLst/>
              <a:rect l="0" t="0" r="r" b="b"/>
              <a:pathLst>
                <a:path fill="none" w="3873" h="2507">
                  <a:moveTo>
                    <a:pt x="0" y="0"/>
                  </a:moveTo>
                  <a:lnTo>
                    <a:pt x="0" y="0"/>
                  </a:lnTo>
                  <a:cubicBezTo>
                    <a:pt x="65" y="147"/>
                    <a:pt x="138" y="290"/>
                    <a:pt x="219" y="429"/>
                  </a:cubicBezTo>
                  <a:cubicBezTo>
                    <a:pt x="589" y="1061"/>
                    <a:pt x="1122" y="1585"/>
                    <a:pt x="1763" y="1950"/>
                  </a:cubicBezTo>
                  <a:cubicBezTo>
                    <a:pt x="2405" y="2315"/>
                    <a:pt x="3132" y="2507"/>
                    <a:pt x="3873" y="2507"/>
                  </a:cubicBezTo>
                  <a:lnTo>
                    <a:pt x="3873" y="2507"/>
                  </a:ln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6081120" y="2684160"/>
              <a:ext cx="1439280" cy="792720"/>
            </a:xfrm>
            <a:custGeom>
              <a:avLst/>
              <a:gdLst/>
              <a:ahLst/>
              <a:rect l="0" t="0" r="r" b="b"/>
              <a:pathLst>
                <a:path fill="none" w="3998" h="2202">
                  <a:moveTo>
                    <a:pt x="0" y="2202"/>
                  </a:moveTo>
                  <a:lnTo>
                    <a:pt x="0" y="2202"/>
                  </a:lnTo>
                  <a:lnTo>
                    <a:pt x="0" y="2202"/>
                  </a:lnTo>
                  <a:cubicBezTo>
                    <a:pt x="765" y="2202"/>
                    <a:pt x="1516" y="2033"/>
                    <a:pt x="2178" y="1713"/>
                  </a:cubicBezTo>
                  <a:cubicBezTo>
                    <a:pt x="2840" y="1392"/>
                    <a:pt x="3390" y="932"/>
                    <a:pt x="3772" y="377"/>
                  </a:cubicBezTo>
                  <a:cubicBezTo>
                    <a:pt x="3856" y="255"/>
                    <a:pt x="3931" y="129"/>
                    <a:pt x="3998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060880" y="4438800"/>
              <a:ext cx="884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V="1">
              <a:off x="3220920" y="1324080"/>
              <a:ext cx="0" cy="4686120"/>
            </a:xfrm>
            <a:prstGeom prst="line">
              <a:avLst/>
            </a:prstGeom>
            <a:ln w="76320">
              <a:solidFill>
                <a:srgbClr val="00279f"/>
              </a:solidFill>
              <a:custDash>
                <a:ds d="16509" sp="16509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 flipV="1">
              <a:off x="5691240" y="1338120"/>
              <a:ext cx="0" cy="4672080"/>
            </a:xfrm>
            <a:prstGeom prst="line">
              <a:avLst/>
            </a:prstGeom>
            <a:ln w="76320">
              <a:solidFill>
                <a:srgbClr val="00279f"/>
              </a:solidFill>
              <a:custDash>
                <a:ds d="16509" sp="16509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 txBox="1"/>
            <p:nvPr/>
          </p:nvSpPr>
          <p:spPr>
            <a:xfrm>
              <a:off x="1290600" y="1152360"/>
              <a:ext cx="1373040" cy="66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1" i="1" lang="en-US" sz="2400" spc="-1" strike="noStrike">
                  <a:solidFill>
                    <a:srgbClr val="0000fd"/>
                  </a:solidFill>
                  <a:latin typeface="ARIAL"/>
                  <a:ea typeface="ARIAL"/>
                </a:rPr>
                <a:t>Current </a:t>
              </a:r>
              <a:r>
                <a:rPr b="1" i="1" lang="en-US" sz="1800" spc="-1" strike="noStrike">
                  <a:solidFill>
                    <a:srgbClr val="0000fd"/>
                  </a:solidFill>
                  <a:latin typeface="ARIAL"/>
                  <a:ea typeface="ARIAL"/>
                </a:rPr>
                <a:t>(FY96-9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855880" y="3929040"/>
              <a:ext cx="1225440" cy="0"/>
            </a:xfrm>
            <a:prstGeom prst="line">
              <a:avLst/>
            </a:prstGeom>
            <a:ln w="38160">
              <a:solidFill>
                <a:srgbClr val="000000"/>
              </a:solidFill>
              <a:custDash>
                <a:ds d="33019" sp="33019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268280" y="3929040"/>
              <a:ext cx="1568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281240" y="4791240"/>
              <a:ext cx="2055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335400" y="4456080"/>
              <a:ext cx="644760" cy="352800"/>
            </a:xfrm>
            <a:custGeom>
              <a:avLst/>
              <a:gdLst/>
              <a:ahLst/>
              <a:rect l="0" t="0" r="r" b="b"/>
              <a:pathLst>
                <a:path fill="none" w="1791" h="980">
                  <a:moveTo>
                    <a:pt x="0" y="980"/>
                  </a:moveTo>
                  <a:lnTo>
                    <a:pt x="0" y="980"/>
                  </a:lnTo>
                  <a:cubicBezTo>
                    <a:pt x="314" y="980"/>
                    <a:pt x="623" y="935"/>
                    <a:pt x="896" y="849"/>
                  </a:cubicBezTo>
                  <a:cubicBezTo>
                    <a:pt x="1168" y="763"/>
                    <a:pt x="1394" y="639"/>
                    <a:pt x="1551" y="490"/>
                  </a:cubicBezTo>
                  <a:cubicBezTo>
                    <a:pt x="1708" y="341"/>
                    <a:pt x="1791" y="172"/>
                    <a:pt x="1791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3947400" y="4081320"/>
              <a:ext cx="247320" cy="356040"/>
            </a:xfrm>
            <a:custGeom>
              <a:avLst/>
              <a:gdLst/>
              <a:ahLst/>
              <a:rect l="0" t="0" r="r" b="b"/>
              <a:pathLst>
                <a:path fill="none" w="687" h="989">
                  <a:moveTo>
                    <a:pt x="0" y="989"/>
                  </a:moveTo>
                  <a:lnTo>
                    <a:pt x="0" y="989"/>
                  </a:lnTo>
                  <a:cubicBezTo>
                    <a:pt x="121" y="989"/>
                    <a:pt x="239" y="943"/>
                    <a:pt x="344" y="856"/>
                  </a:cubicBezTo>
                  <a:cubicBezTo>
                    <a:pt x="448" y="770"/>
                    <a:pt x="535" y="645"/>
                    <a:pt x="595" y="494"/>
                  </a:cubicBezTo>
                  <a:cubicBezTo>
                    <a:pt x="655" y="344"/>
                    <a:pt x="687" y="174"/>
                    <a:pt x="687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1281240" y="306396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2640" bIns="-62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330720" y="3045600"/>
              <a:ext cx="657720" cy="350280"/>
            </a:xfrm>
            <a:custGeom>
              <a:avLst/>
              <a:gdLst/>
              <a:ahLst/>
              <a:rect l="0" t="0" r="r" b="b"/>
              <a:pathLst>
                <a:path fill="none" w="1827" h="973">
                  <a:moveTo>
                    <a:pt x="0" y="0"/>
                  </a:moveTo>
                  <a:lnTo>
                    <a:pt x="0" y="0"/>
                  </a:lnTo>
                  <a:cubicBezTo>
                    <a:pt x="0" y="171"/>
                    <a:pt x="84" y="339"/>
                    <a:pt x="245" y="487"/>
                  </a:cubicBezTo>
                  <a:cubicBezTo>
                    <a:pt x="405" y="634"/>
                    <a:pt x="636" y="757"/>
                    <a:pt x="914" y="843"/>
                  </a:cubicBezTo>
                  <a:cubicBezTo>
                    <a:pt x="1191" y="928"/>
                    <a:pt x="1506" y="973"/>
                    <a:pt x="1827" y="973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263600" y="2306520"/>
              <a:ext cx="1438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396200" y="1830240"/>
              <a:ext cx="1189080" cy="110664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4d72ca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7454880" y="4819680"/>
              <a:ext cx="1190520" cy="117144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4d72ca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 txBox="1"/>
            <p:nvPr/>
          </p:nvSpPr>
          <p:spPr>
            <a:xfrm>
              <a:off x="6127920" y="3705120"/>
              <a:ext cx="1333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Data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 txBox="1"/>
            <p:nvPr/>
          </p:nvSpPr>
          <p:spPr>
            <a:xfrm>
              <a:off x="6219720" y="4111560"/>
              <a:ext cx="100980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acti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 txBox="1"/>
            <p:nvPr/>
          </p:nvSpPr>
          <p:spPr>
            <a:xfrm>
              <a:off x="7446960" y="2241720"/>
              <a:ext cx="10350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G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 txBox="1"/>
            <p:nvPr/>
          </p:nvSpPr>
          <p:spPr>
            <a:xfrm>
              <a:off x="7415280" y="5132520"/>
              <a:ext cx="127620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103480" y="3214800"/>
              <a:ext cx="0" cy="1468440"/>
            </a:xfrm>
            <a:prstGeom prst="line">
              <a:avLst/>
            </a:prstGeom>
            <a:ln w="25560">
              <a:solidFill>
                <a:srgbClr val="714400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727360" y="3252960"/>
              <a:ext cx="0" cy="552240"/>
            </a:xfrm>
            <a:prstGeom prst="line">
              <a:avLst/>
            </a:prstGeom>
            <a:ln w="25560">
              <a:solidFill>
                <a:srgbClr val="714400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727360" y="3987720"/>
              <a:ext cx="0" cy="704880"/>
            </a:xfrm>
            <a:prstGeom prst="line">
              <a:avLst/>
            </a:prstGeom>
            <a:ln w="25560">
              <a:solidFill>
                <a:srgbClr val="714400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2397240" y="4908600"/>
              <a:ext cx="0" cy="662040"/>
            </a:xfrm>
            <a:prstGeom prst="line">
              <a:avLst/>
            </a:prstGeom>
            <a:ln w="25560">
              <a:solidFill>
                <a:srgbClr val="714400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2397240" y="2460600"/>
              <a:ext cx="0" cy="552600"/>
            </a:xfrm>
            <a:prstGeom prst="line">
              <a:avLst/>
            </a:prstGeom>
            <a:ln w="25560">
              <a:solidFill>
                <a:srgbClr val="714400"/>
              </a:solidFill>
              <a:custDash>
                <a:ds d="49296" sp="49296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 txBox="1"/>
            <p:nvPr/>
          </p:nvSpPr>
          <p:spPr>
            <a:xfrm>
              <a:off x="1409760" y="3728880"/>
              <a:ext cx="1257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 a t a       F e e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 txBox="1"/>
            <p:nvPr/>
          </p:nvSpPr>
          <p:spPr>
            <a:xfrm>
              <a:off x="2468520" y="3295800"/>
              <a:ext cx="557280" cy="45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 txBox="1"/>
            <p:nvPr/>
          </p:nvSpPr>
          <p:spPr>
            <a:xfrm>
              <a:off x="2139840" y="2579760"/>
              <a:ext cx="557280" cy="45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 txBox="1"/>
            <p:nvPr/>
          </p:nvSpPr>
          <p:spPr>
            <a:xfrm>
              <a:off x="2468520" y="4140360"/>
              <a:ext cx="557280" cy="45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 txBox="1"/>
            <p:nvPr/>
          </p:nvSpPr>
          <p:spPr>
            <a:xfrm>
              <a:off x="2139840" y="5070600"/>
              <a:ext cx="557280" cy="45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 txBox="1"/>
            <p:nvPr/>
          </p:nvSpPr>
          <p:spPr>
            <a:xfrm>
              <a:off x="398520" y="2154240"/>
              <a:ext cx="9144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 txBox="1"/>
            <p:nvPr/>
          </p:nvSpPr>
          <p:spPr>
            <a:xfrm>
              <a:off x="398520" y="2917800"/>
              <a:ext cx="9144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D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 txBox="1"/>
            <p:nvPr/>
          </p:nvSpPr>
          <p:spPr>
            <a:xfrm>
              <a:off x="398520" y="3643200"/>
              <a:ext cx="167652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O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 txBox="1"/>
            <p:nvPr/>
          </p:nvSpPr>
          <p:spPr>
            <a:xfrm>
              <a:off x="398520" y="4597560"/>
              <a:ext cx="9144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 txBox="1"/>
            <p:nvPr/>
          </p:nvSpPr>
          <p:spPr>
            <a:xfrm>
              <a:off x="325440" y="5437080"/>
              <a:ext cx="9144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X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365200" y="2349360"/>
              <a:ext cx="78120" cy="163800"/>
            </a:xfrm>
            <a:custGeom>
              <a:avLst/>
              <a:gdLst/>
              <a:ahLst/>
              <a:rect l="0" t="0" r="r" b="b"/>
              <a:pathLst>
                <a:path w="217" h="455">
                  <a:moveTo>
                    <a:pt x="128" y="0"/>
                  </a:moveTo>
                  <a:lnTo>
                    <a:pt x="0" y="455"/>
                  </a:lnTo>
                  <a:lnTo>
                    <a:pt x="117" y="328"/>
                  </a:lnTo>
                  <a:lnTo>
                    <a:pt x="217" y="446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144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685960" y="3962520"/>
              <a:ext cx="78120" cy="163800"/>
            </a:xfrm>
            <a:custGeom>
              <a:avLst/>
              <a:gdLst/>
              <a:ahLst/>
              <a:rect l="0" t="0" r="r" b="b"/>
              <a:pathLst>
                <a:path w="217" h="455">
                  <a:moveTo>
                    <a:pt x="128" y="0"/>
                  </a:moveTo>
                  <a:lnTo>
                    <a:pt x="0" y="455"/>
                  </a:lnTo>
                  <a:lnTo>
                    <a:pt x="117" y="328"/>
                  </a:lnTo>
                  <a:lnTo>
                    <a:pt x="217" y="446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144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071800" y="3094200"/>
              <a:ext cx="78120" cy="163800"/>
            </a:xfrm>
            <a:custGeom>
              <a:avLst/>
              <a:gdLst/>
              <a:ahLst/>
              <a:rect l="0" t="0" r="r" b="b"/>
              <a:pathLst>
                <a:path w="217" h="455">
                  <a:moveTo>
                    <a:pt x="128" y="0"/>
                  </a:moveTo>
                  <a:lnTo>
                    <a:pt x="0" y="455"/>
                  </a:lnTo>
                  <a:lnTo>
                    <a:pt x="117" y="328"/>
                  </a:lnTo>
                  <a:lnTo>
                    <a:pt x="217" y="446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144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695680" y="3094200"/>
              <a:ext cx="78120" cy="163800"/>
            </a:xfrm>
            <a:custGeom>
              <a:avLst/>
              <a:gdLst/>
              <a:ahLst/>
              <a:rect l="0" t="0" r="r" b="b"/>
              <a:pathLst>
                <a:path w="217" h="455">
                  <a:moveTo>
                    <a:pt x="128" y="0"/>
                  </a:moveTo>
                  <a:lnTo>
                    <a:pt x="0" y="455"/>
                  </a:lnTo>
                  <a:lnTo>
                    <a:pt x="117" y="328"/>
                  </a:lnTo>
                  <a:lnTo>
                    <a:pt x="217" y="446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144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365200" y="4822920"/>
              <a:ext cx="78120" cy="162360"/>
            </a:xfrm>
            <a:custGeom>
              <a:avLst/>
              <a:gdLst/>
              <a:ahLst/>
              <a:rect l="0" t="0" r="r" b="b"/>
              <a:pathLst>
                <a:path w="217" h="451">
                  <a:moveTo>
                    <a:pt x="128" y="0"/>
                  </a:moveTo>
                  <a:lnTo>
                    <a:pt x="0" y="451"/>
                  </a:lnTo>
                  <a:lnTo>
                    <a:pt x="117" y="324"/>
                  </a:lnTo>
                  <a:lnTo>
                    <a:pt x="217" y="442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144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676600" y="3743280"/>
              <a:ext cx="78120" cy="162360"/>
            </a:xfrm>
            <a:custGeom>
              <a:avLst/>
              <a:gdLst/>
              <a:ahLst/>
              <a:rect l="0" t="0" r="r" b="b"/>
              <a:pathLst>
                <a:path w="217" h="451">
                  <a:moveTo>
                    <a:pt x="128" y="451"/>
                  </a:moveTo>
                  <a:lnTo>
                    <a:pt x="0" y="0"/>
                  </a:lnTo>
                  <a:lnTo>
                    <a:pt x="117" y="126"/>
                  </a:lnTo>
                  <a:lnTo>
                    <a:pt x="217" y="8"/>
                  </a:lnTo>
                  <a:lnTo>
                    <a:pt x="128" y="451"/>
                  </a:lnTo>
                  <a:close/>
                </a:path>
              </a:pathLst>
            </a:custGeom>
            <a:solidFill>
              <a:srgbClr val="7144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676600" y="4583160"/>
              <a:ext cx="78120" cy="162360"/>
            </a:xfrm>
            <a:custGeom>
              <a:avLst/>
              <a:gdLst/>
              <a:ahLst/>
              <a:rect l="0" t="0" r="r" b="b"/>
              <a:pathLst>
                <a:path w="217" h="451">
                  <a:moveTo>
                    <a:pt x="128" y="451"/>
                  </a:moveTo>
                  <a:lnTo>
                    <a:pt x="0" y="0"/>
                  </a:lnTo>
                  <a:lnTo>
                    <a:pt x="117" y="126"/>
                  </a:lnTo>
                  <a:lnTo>
                    <a:pt x="217" y="8"/>
                  </a:lnTo>
                  <a:lnTo>
                    <a:pt x="128" y="451"/>
                  </a:lnTo>
                  <a:close/>
                </a:path>
              </a:pathLst>
            </a:custGeom>
            <a:solidFill>
              <a:srgbClr val="7144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062080" y="4564080"/>
              <a:ext cx="79560" cy="162360"/>
            </a:xfrm>
            <a:custGeom>
              <a:avLst/>
              <a:gdLst/>
              <a:ahLst/>
              <a:rect l="0" t="0" r="r" b="b"/>
              <a:pathLst>
                <a:path w="221" h="451">
                  <a:moveTo>
                    <a:pt x="131" y="451"/>
                  </a:moveTo>
                  <a:lnTo>
                    <a:pt x="0" y="0"/>
                  </a:lnTo>
                  <a:lnTo>
                    <a:pt x="119" y="126"/>
                  </a:lnTo>
                  <a:lnTo>
                    <a:pt x="221" y="8"/>
                  </a:lnTo>
                  <a:lnTo>
                    <a:pt x="131" y="451"/>
                  </a:lnTo>
                  <a:close/>
                </a:path>
              </a:pathLst>
            </a:custGeom>
            <a:solidFill>
              <a:srgbClr val="7144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 txBox="1"/>
            <p:nvPr/>
          </p:nvSpPr>
          <p:spPr>
            <a:xfrm>
              <a:off x="6173640" y="3041640"/>
              <a:ext cx="100980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3193200" y="2297160"/>
              <a:ext cx="1049040" cy="865440"/>
            </a:xfrm>
            <a:custGeom>
              <a:avLst/>
              <a:gdLst/>
              <a:ahLst/>
              <a:rect l="0" t="0" r="r" b="b"/>
              <a:pathLst>
                <a:path fill="none" w="2914" h="2404">
                  <a:moveTo>
                    <a:pt x="2914" y="2404"/>
                  </a:moveTo>
                  <a:lnTo>
                    <a:pt x="2914" y="2404"/>
                  </a:lnTo>
                  <a:lnTo>
                    <a:pt x="2914" y="2404"/>
                  </a:lnTo>
                  <a:cubicBezTo>
                    <a:pt x="2914" y="1982"/>
                    <a:pt x="2779" y="1567"/>
                    <a:pt x="2524" y="1202"/>
                  </a:cubicBezTo>
                  <a:cubicBezTo>
                    <a:pt x="2268" y="837"/>
                    <a:pt x="1900" y="533"/>
                    <a:pt x="1457" y="322"/>
                  </a:cubicBezTo>
                  <a:cubicBezTo>
                    <a:pt x="1014" y="111"/>
                    <a:pt x="512" y="0"/>
                    <a:pt x="0" y="0"/>
                  </a:cubicBezTo>
                </a:path>
              </a:pathLst>
            </a:custGeom>
            <a:ln w="38160">
              <a:solidFill>
                <a:srgbClr val="000000"/>
              </a:solidFill>
              <a:custDash>
                <a:ds d="33019" sp="33019"/>
              </a:custDash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263600" y="5589720"/>
              <a:ext cx="1986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165480" y="4904640"/>
              <a:ext cx="970200" cy="694800"/>
            </a:xfrm>
            <a:custGeom>
              <a:avLst/>
              <a:gdLst/>
              <a:ahLst/>
              <a:rect l="0" t="0" r="r" b="b"/>
              <a:pathLst>
                <a:path fill="none" w="2695" h="1930">
                  <a:moveTo>
                    <a:pt x="0" y="1930"/>
                  </a:moveTo>
                  <a:lnTo>
                    <a:pt x="0" y="1930"/>
                  </a:lnTo>
                  <a:cubicBezTo>
                    <a:pt x="473" y="1930"/>
                    <a:pt x="938" y="1841"/>
                    <a:pt x="1348" y="1671"/>
                  </a:cubicBezTo>
                  <a:cubicBezTo>
                    <a:pt x="1757" y="1502"/>
                    <a:pt x="2097" y="1258"/>
                    <a:pt x="2334" y="965"/>
                  </a:cubicBezTo>
                  <a:cubicBezTo>
                    <a:pt x="2570" y="672"/>
                    <a:pt x="2695" y="339"/>
                    <a:pt x="2695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112280" y="4238640"/>
              <a:ext cx="226440" cy="654480"/>
            </a:xfrm>
            <a:custGeom>
              <a:avLst/>
              <a:gdLst/>
              <a:ahLst/>
              <a:rect l="0" t="0" r="r" b="b"/>
              <a:pathLst>
                <a:path fill="none" w="629" h="1818">
                  <a:moveTo>
                    <a:pt x="0" y="1818"/>
                  </a:moveTo>
                  <a:lnTo>
                    <a:pt x="0" y="1818"/>
                  </a:lnTo>
                  <a:cubicBezTo>
                    <a:pt x="110" y="1818"/>
                    <a:pt x="219" y="1734"/>
                    <a:pt x="315" y="1574"/>
                  </a:cubicBezTo>
                  <a:cubicBezTo>
                    <a:pt x="410" y="1415"/>
                    <a:pt x="490" y="1185"/>
                    <a:pt x="545" y="909"/>
                  </a:cubicBezTo>
                  <a:cubicBezTo>
                    <a:pt x="600" y="633"/>
                    <a:pt x="629" y="319"/>
                    <a:pt x="629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 txBox="1"/>
            <p:nvPr/>
          </p:nvSpPr>
          <p:spPr>
            <a:xfrm>
              <a:off x="6273720" y="4540320"/>
              <a:ext cx="6285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 txBox="1"/>
            <p:nvPr/>
          </p:nvSpPr>
          <p:spPr>
            <a:xfrm>
              <a:off x="3513240" y="1219320"/>
              <a:ext cx="2174760" cy="67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0000"/>
                </a:lnSpc>
                <a:spcBef>
                  <a:spcPts val="1199"/>
                </a:spcBef>
              </a:pPr>
              <a:r>
                <a:rPr b="1" i="1" lang="en-US" sz="2400" spc="-1" strike="noStrike">
                  <a:solidFill>
                    <a:srgbClr val="0000fd"/>
                  </a:solidFill>
                  <a:latin typeface="ARIAL"/>
                  <a:ea typeface="ARIAL"/>
                </a:rPr>
                <a:t>Tran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fd"/>
                  </a:solidFill>
                  <a:latin typeface="ARIAL"/>
                  <a:ea typeface="ARIAL"/>
                </a:rPr>
                <a:t>(FY98-99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 txBox="1"/>
            <p:nvPr/>
          </p:nvSpPr>
          <p:spPr>
            <a:xfrm>
              <a:off x="5900760" y="1219320"/>
              <a:ext cx="1785960" cy="66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1" i="1" lang="en-US" sz="2400" spc="-1" strike="noStrike">
                  <a:solidFill>
                    <a:srgbClr val="0000fd"/>
                  </a:solidFill>
                  <a:latin typeface="ARIAL"/>
                  <a:ea typeface="ARIAL"/>
                </a:rPr>
                <a:t>Objective              </a:t>
              </a:r>
              <a:r>
                <a:rPr b="1" i="1" lang="en-US" sz="1800" spc="-1" strike="noStrike">
                  <a:solidFill>
                    <a:srgbClr val="0000fd"/>
                  </a:solidFill>
                  <a:latin typeface="ARIAL"/>
                  <a:ea typeface="ARIAL"/>
                </a:rPr>
                <a:t>(FY00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712960" y="230184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custDash>
                <a:ds d="33019" sp="33019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948120" y="3413880"/>
              <a:ext cx="247320" cy="350280"/>
            </a:xfrm>
            <a:custGeom>
              <a:avLst/>
              <a:gdLst/>
              <a:ahLst/>
              <a:rect l="0" t="0" r="r" b="b"/>
              <a:pathLst>
                <a:path fill="none" w="687" h="973">
                  <a:moveTo>
                    <a:pt x="0" y="0"/>
                  </a:moveTo>
                  <a:lnTo>
                    <a:pt x="0" y="0"/>
                  </a:lnTo>
                  <a:cubicBezTo>
                    <a:pt x="0" y="171"/>
                    <a:pt x="32" y="339"/>
                    <a:pt x="92" y="487"/>
                  </a:cubicBezTo>
                  <a:cubicBezTo>
                    <a:pt x="152" y="634"/>
                    <a:pt x="239" y="757"/>
                    <a:pt x="344" y="843"/>
                  </a:cubicBezTo>
                  <a:cubicBezTo>
                    <a:pt x="448" y="928"/>
                    <a:pt x="566" y="973"/>
                    <a:pt x="687" y="973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4238640" y="3261600"/>
              <a:ext cx="249480" cy="350280"/>
            </a:xfrm>
            <a:custGeom>
              <a:avLst/>
              <a:gdLst/>
              <a:ahLst/>
              <a:rect l="0" t="0" r="r" b="b"/>
              <a:pathLst>
                <a:path fill="none" w="693" h="973">
                  <a:moveTo>
                    <a:pt x="0" y="0"/>
                  </a:moveTo>
                  <a:lnTo>
                    <a:pt x="0" y="0"/>
                  </a:lnTo>
                  <a:cubicBezTo>
                    <a:pt x="0" y="171"/>
                    <a:pt x="32" y="339"/>
                    <a:pt x="93" y="487"/>
                  </a:cubicBezTo>
                  <a:cubicBezTo>
                    <a:pt x="154" y="634"/>
                    <a:pt x="241" y="757"/>
                    <a:pt x="347" y="843"/>
                  </a:cubicBezTo>
                  <a:cubicBezTo>
                    <a:pt x="452" y="928"/>
                    <a:pt x="571" y="973"/>
                    <a:pt x="693" y="973"/>
                  </a:cubicBezTo>
                </a:path>
              </a:pathLst>
            </a:custGeom>
            <a:ln w="38160">
              <a:solidFill>
                <a:srgbClr val="000000"/>
              </a:solidFill>
              <a:custDash>
                <a:ds d="33019" sp="33019"/>
              </a:custDash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775040" y="4438800"/>
              <a:ext cx="878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 txBox="1"/>
            <p:nvPr/>
          </p:nvSpPr>
          <p:spPr>
            <a:xfrm>
              <a:off x="5916600" y="3836880"/>
              <a:ext cx="314280" cy="20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742000" y="3373560"/>
              <a:ext cx="430200" cy="106848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26396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768920" y="3381480"/>
              <a:ext cx="1201680" cy="10638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26396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4630680" y="3376440"/>
              <a:ext cx="277920" cy="1068480"/>
            </a:xfrm>
            <a:prstGeom prst="ellipse">
              <a:avLst/>
            </a:prstGeom>
            <a:gradFill rotWithShape="0">
              <a:gsLst>
                <a:gs pos="0">
                  <a:srgbClr val="1d2a4b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V="1">
              <a:off x="4346640" y="4245120"/>
              <a:ext cx="430200" cy="9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54720" bIns="-54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4575240" y="3598920"/>
              <a:ext cx="204840" cy="6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57960" bIns="-5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4200480" y="3747960"/>
              <a:ext cx="576360" cy="3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0840" bIns="-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V="1">
              <a:off x="4191120" y="4095720"/>
              <a:ext cx="585720" cy="6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 txBox="1"/>
            <p:nvPr/>
          </p:nvSpPr>
          <p:spPr>
            <a:xfrm>
              <a:off x="4811760" y="3619440"/>
              <a:ext cx="1271520" cy="60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I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“</a:t>
              </a: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ystem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ystem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772160" y="3381480"/>
              <a:ext cx="1187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 txBox="1"/>
            <p:nvPr/>
          </p:nvSpPr>
          <p:spPr>
            <a:xfrm>
              <a:off x="8364600" y="1496880"/>
              <a:ext cx="44460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ilosophy for Broadcas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BS should meet the NRT requirements for global, theater and local users.  Specifically, it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data in a common formatted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medium-independent - utilize any appropriate portion of the Defense Information Infrastructure (D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compatible with existing UHF migration receivers (MATT and CTT) when retrofitted with Common IB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 advantage of emerging high data rate comm paths (e.g. - G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adaptable to other technological adv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responsive to user queries and verific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We Have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90600" y="2705040"/>
            <a:ext cx="927720" cy="867240"/>
            <a:chOff x="1290600" y="2705040"/>
            <a:chExt cx="927720" cy="867240"/>
          </a:xfrm>
        </p:grpSpPr>
        <p:sp>
          <p:nvSpPr>
            <p:cNvPr id="199" name=""/>
            <p:cNvSpPr/>
            <p:nvPr/>
          </p:nvSpPr>
          <p:spPr>
            <a:xfrm>
              <a:off x="1952640" y="2778120"/>
              <a:ext cx="36720" cy="87840"/>
            </a:xfrm>
            <a:custGeom>
              <a:avLst/>
              <a:gdLst/>
              <a:ahLst/>
              <a:rect l="0" t="0" r="r" b="b"/>
              <a:pathLst>
                <a:path w="102" h="244">
                  <a:moveTo>
                    <a:pt x="102" y="225"/>
                  </a:moveTo>
                  <a:lnTo>
                    <a:pt x="102" y="225"/>
                  </a:lnTo>
                  <a:lnTo>
                    <a:pt x="32" y="0"/>
                  </a:lnTo>
                  <a:lnTo>
                    <a:pt x="0" y="19"/>
                  </a:lnTo>
                  <a:lnTo>
                    <a:pt x="66" y="244"/>
                  </a:lnTo>
                  <a:lnTo>
                    <a:pt x="102" y="225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6120" y="2873520"/>
              <a:ext cx="41760" cy="84600"/>
            </a:xfrm>
            <a:custGeom>
              <a:avLst/>
              <a:gdLst/>
              <a:ahLst/>
              <a:rect l="0" t="0" r="r" b="b"/>
              <a:pathLst>
                <a:path w="116" h="235">
                  <a:moveTo>
                    <a:pt x="116" y="217"/>
                  </a:moveTo>
                  <a:lnTo>
                    <a:pt x="116" y="217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116" y="21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2480" y="2965320"/>
              <a:ext cx="38520" cy="86040"/>
            </a:xfrm>
            <a:custGeom>
              <a:avLst/>
              <a:gdLst/>
              <a:ahLst/>
              <a:rect l="0" t="0" r="r" b="b"/>
              <a:pathLst>
                <a:path w="107" h="239">
                  <a:moveTo>
                    <a:pt x="107" y="225"/>
                  </a:moveTo>
                  <a:lnTo>
                    <a:pt x="107" y="225"/>
                  </a:lnTo>
                  <a:lnTo>
                    <a:pt x="40" y="0"/>
                  </a:lnTo>
                  <a:lnTo>
                    <a:pt x="0" y="14"/>
                  </a:lnTo>
                  <a:lnTo>
                    <a:pt x="63" y="239"/>
                  </a:lnTo>
                  <a:lnTo>
                    <a:pt x="107" y="225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54160" y="3060720"/>
              <a:ext cx="38520" cy="86040"/>
            </a:xfrm>
            <a:custGeom>
              <a:avLst/>
              <a:gdLst/>
              <a:ahLst/>
              <a:rect l="0" t="0" r="r" b="b"/>
              <a:pathLst>
                <a:path w="107" h="239">
                  <a:moveTo>
                    <a:pt x="107" y="220"/>
                  </a:moveTo>
                  <a:lnTo>
                    <a:pt x="107" y="220"/>
                  </a:lnTo>
                  <a:lnTo>
                    <a:pt x="45" y="0"/>
                  </a:lnTo>
                  <a:lnTo>
                    <a:pt x="0" y="14"/>
                  </a:lnTo>
                  <a:lnTo>
                    <a:pt x="66" y="239"/>
                  </a:lnTo>
                  <a:lnTo>
                    <a:pt x="107" y="22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87640" y="3154320"/>
              <a:ext cx="33840" cy="86040"/>
            </a:xfrm>
            <a:custGeom>
              <a:avLst/>
              <a:gdLst/>
              <a:ahLst/>
              <a:rect l="0" t="0" r="r" b="b"/>
              <a:pathLst>
                <a:path w="94" h="239">
                  <a:moveTo>
                    <a:pt x="94" y="225"/>
                  </a:moveTo>
                  <a:lnTo>
                    <a:pt x="94" y="225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57" y="239"/>
                  </a:lnTo>
                  <a:lnTo>
                    <a:pt x="54" y="239"/>
                  </a:lnTo>
                  <a:lnTo>
                    <a:pt x="94" y="225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14640" y="3251160"/>
              <a:ext cx="35280" cy="86040"/>
            </a:xfrm>
            <a:custGeom>
              <a:avLst/>
              <a:gdLst/>
              <a:ahLst/>
              <a:rect l="0" t="0" r="r" b="b"/>
              <a:pathLst>
                <a:path w="98" h="239">
                  <a:moveTo>
                    <a:pt x="98" y="225"/>
                  </a:moveTo>
                  <a:lnTo>
                    <a:pt x="98" y="225"/>
                  </a:lnTo>
                  <a:lnTo>
                    <a:pt x="42" y="0"/>
                  </a:lnTo>
                  <a:lnTo>
                    <a:pt x="0" y="14"/>
                  </a:lnTo>
                  <a:lnTo>
                    <a:pt x="59" y="239"/>
                  </a:lnTo>
                  <a:lnTo>
                    <a:pt x="98" y="225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66760" y="2989440"/>
              <a:ext cx="76680" cy="63720"/>
            </a:xfrm>
            <a:custGeom>
              <a:avLst/>
              <a:gdLst/>
              <a:ahLst/>
              <a:rect l="0" t="0" r="r" b="b"/>
              <a:pathLst>
                <a:path w="213" h="177">
                  <a:moveTo>
                    <a:pt x="31" y="177"/>
                  </a:moveTo>
                  <a:lnTo>
                    <a:pt x="31" y="177"/>
                  </a:lnTo>
                  <a:lnTo>
                    <a:pt x="213" y="39"/>
                  </a:lnTo>
                  <a:lnTo>
                    <a:pt x="186" y="0"/>
                  </a:lnTo>
                  <a:lnTo>
                    <a:pt x="0" y="137"/>
                  </a:lnTo>
                  <a:lnTo>
                    <a:pt x="31" y="17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3051000"/>
              <a:ext cx="82800" cy="62280"/>
            </a:xfrm>
            <a:custGeom>
              <a:avLst/>
              <a:gdLst/>
              <a:ahLst/>
              <a:rect l="0" t="0" r="r" b="b"/>
              <a:pathLst>
                <a:path w="230" h="173">
                  <a:moveTo>
                    <a:pt x="32" y="173"/>
                  </a:moveTo>
                  <a:lnTo>
                    <a:pt x="32" y="173"/>
                  </a:lnTo>
                  <a:lnTo>
                    <a:pt x="230" y="39"/>
                  </a:lnTo>
                  <a:lnTo>
                    <a:pt x="197" y="0"/>
                  </a:lnTo>
                  <a:lnTo>
                    <a:pt x="0" y="138"/>
                  </a:lnTo>
                  <a:lnTo>
                    <a:pt x="32" y="173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98640" y="3112920"/>
              <a:ext cx="79560" cy="63720"/>
            </a:xfrm>
            <a:custGeom>
              <a:avLst/>
              <a:gdLst/>
              <a:ahLst/>
              <a:rect l="0" t="0" r="r" b="b"/>
              <a:pathLst>
                <a:path w="221" h="177">
                  <a:moveTo>
                    <a:pt x="31" y="177"/>
                  </a:moveTo>
                  <a:lnTo>
                    <a:pt x="31" y="177"/>
                  </a:lnTo>
                  <a:lnTo>
                    <a:pt x="221" y="35"/>
                  </a:lnTo>
                  <a:lnTo>
                    <a:pt x="189" y="0"/>
                  </a:lnTo>
                  <a:lnTo>
                    <a:pt x="0" y="142"/>
                  </a:lnTo>
                  <a:lnTo>
                    <a:pt x="31" y="17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19440" y="3176640"/>
              <a:ext cx="76680" cy="59040"/>
            </a:xfrm>
            <a:custGeom>
              <a:avLst/>
              <a:gdLst/>
              <a:ahLst/>
              <a:rect l="0" t="0" r="r" b="b"/>
              <a:pathLst>
                <a:path w="213" h="164">
                  <a:moveTo>
                    <a:pt x="26" y="164"/>
                  </a:moveTo>
                  <a:lnTo>
                    <a:pt x="26" y="164"/>
                  </a:lnTo>
                  <a:lnTo>
                    <a:pt x="213" y="34"/>
                  </a:lnTo>
                  <a:lnTo>
                    <a:pt x="182" y="0"/>
                  </a:lnTo>
                  <a:lnTo>
                    <a:pt x="0" y="129"/>
                  </a:lnTo>
                  <a:lnTo>
                    <a:pt x="26" y="164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33400" y="3235320"/>
              <a:ext cx="81360" cy="63720"/>
            </a:xfrm>
            <a:custGeom>
              <a:avLst/>
              <a:gdLst/>
              <a:ahLst/>
              <a:rect l="0" t="0" r="r" b="b"/>
              <a:pathLst>
                <a:path w="226" h="177">
                  <a:moveTo>
                    <a:pt x="28" y="177"/>
                  </a:moveTo>
                  <a:lnTo>
                    <a:pt x="28" y="177"/>
                  </a:lnTo>
                  <a:lnTo>
                    <a:pt x="226" y="36"/>
                  </a:lnTo>
                  <a:lnTo>
                    <a:pt x="198" y="0"/>
                  </a:lnTo>
                  <a:lnTo>
                    <a:pt x="0" y="136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50960" y="3294000"/>
              <a:ext cx="78120" cy="62280"/>
            </a:xfrm>
            <a:custGeom>
              <a:avLst/>
              <a:gdLst/>
              <a:ahLst/>
              <a:rect l="0" t="0" r="r" b="b"/>
              <a:pathLst>
                <a:path w="217" h="173">
                  <a:moveTo>
                    <a:pt x="27" y="173"/>
                  </a:moveTo>
                  <a:lnTo>
                    <a:pt x="27" y="173"/>
                  </a:lnTo>
                  <a:lnTo>
                    <a:pt x="217" y="39"/>
                  </a:lnTo>
                  <a:lnTo>
                    <a:pt x="190" y="0"/>
                  </a:lnTo>
                  <a:lnTo>
                    <a:pt x="0" y="134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65280" y="3354480"/>
              <a:ext cx="81360" cy="62280"/>
            </a:xfrm>
            <a:custGeom>
              <a:avLst/>
              <a:gdLst/>
              <a:ahLst/>
              <a:rect l="0" t="0" r="r" b="b"/>
              <a:pathLst>
                <a:path w="226" h="173">
                  <a:moveTo>
                    <a:pt x="28" y="173"/>
                  </a:moveTo>
                  <a:lnTo>
                    <a:pt x="28" y="173"/>
                  </a:lnTo>
                  <a:lnTo>
                    <a:pt x="226" y="39"/>
                  </a:lnTo>
                  <a:lnTo>
                    <a:pt x="198" y="0"/>
                  </a:lnTo>
                  <a:lnTo>
                    <a:pt x="0" y="134"/>
                  </a:lnTo>
                  <a:lnTo>
                    <a:pt x="28" y="173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82840" y="3414600"/>
              <a:ext cx="78120" cy="59040"/>
            </a:xfrm>
            <a:custGeom>
              <a:avLst/>
              <a:gdLst/>
              <a:ahLst/>
              <a:rect l="0" t="0" r="r" b="b"/>
              <a:pathLst>
                <a:path w="217" h="164">
                  <a:moveTo>
                    <a:pt x="27" y="164"/>
                  </a:moveTo>
                  <a:lnTo>
                    <a:pt x="31" y="164"/>
                  </a:lnTo>
                  <a:lnTo>
                    <a:pt x="217" y="38"/>
                  </a:lnTo>
                  <a:lnTo>
                    <a:pt x="190" y="0"/>
                  </a:lnTo>
                  <a:lnTo>
                    <a:pt x="0" y="129"/>
                  </a:lnTo>
                  <a:lnTo>
                    <a:pt x="27" y="164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2240" y="3249720"/>
              <a:ext cx="78120" cy="59040"/>
            </a:xfrm>
            <a:custGeom>
              <a:avLst/>
              <a:gdLst/>
              <a:ahLst/>
              <a:rect l="0" t="0" r="r" b="b"/>
              <a:pathLst>
                <a:path w="217" h="164">
                  <a:moveTo>
                    <a:pt x="189" y="0"/>
                  </a:moveTo>
                  <a:lnTo>
                    <a:pt x="189" y="0"/>
                  </a:lnTo>
                  <a:lnTo>
                    <a:pt x="0" y="129"/>
                  </a:lnTo>
                  <a:lnTo>
                    <a:pt x="27" y="164"/>
                  </a:lnTo>
                  <a:lnTo>
                    <a:pt x="217" y="34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1440" y="3186000"/>
              <a:ext cx="82800" cy="63720"/>
            </a:xfrm>
            <a:custGeom>
              <a:avLst/>
              <a:gdLst/>
              <a:ahLst/>
              <a:rect l="0" t="0" r="r" b="b"/>
              <a:pathLst>
                <a:path w="230" h="177">
                  <a:moveTo>
                    <a:pt x="201" y="0"/>
                  </a:moveTo>
                  <a:lnTo>
                    <a:pt x="201" y="0"/>
                  </a:lnTo>
                  <a:lnTo>
                    <a:pt x="0" y="142"/>
                  </a:lnTo>
                  <a:lnTo>
                    <a:pt x="29" y="177"/>
                  </a:lnTo>
                  <a:lnTo>
                    <a:pt x="230" y="39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5680" y="3125880"/>
              <a:ext cx="82800" cy="60840"/>
            </a:xfrm>
            <a:custGeom>
              <a:avLst/>
              <a:gdLst/>
              <a:ahLst/>
              <a:rect l="0" t="0" r="r" b="b"/>
              <a:pathLst>
                <a:path w="230" h="169">
                  <a:moveTo>
                    <a:pt x="197" y="0"/>
                  </a:moveTo>
                  <a:lnTo>
                    <a:pt x="197" y="0"/>
                  </a:lnTo>
                  <a:lnTo>
                    <a:pt x="0" y="130"/>
                  </a:lnTo>
                  <a:lnTo>
                    <a:pt x="28" y="169"/>
                  </a:lnTo>
                  <a:lnTo>
                    <a:pt x="230" y="34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09560" y="3065400"/>
              <a:ext cx="79560" cy="60840"/>
            </a:xfrm>
            <a:custGeom>
              <a:avLst/>
              <a:gdLst/>
              <a:ahLst/>
              <a:rect l="0" t="0" r="r" b="b"/>
              <a:pathLst>
                <a:path w="221" h="169">
                  <a:moveTo>
                    <a:pt x="193" y="0"/>
                  </a:moveTo>
                  <a:lnTo>
                    <a:pt x="193" y="0"/>
                  </a:lnTo>
                  <a:lnTo>
                    <a:pt x="0" y="135"/>
                  </a:lnTo>
                  <a:lnTo>
                    <a:pt x="32" y="169"/>
                  </a:lnTo>
                  <a:lnTo>
                    <a:pt x="221" y="34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92360" y="3002040"/>
              <a:ext cx="82800" cy="63720"/>
            </a:xfrm>
            <a:custGeom>
              <a:avLst/>
              <a:gdLst/>
              <a:ahLst/>
              <a:rect l="0" t="0" r="r" b="b"/>
              <a:pathLst>
                <a:path w="230" h="177">
                  <a:moveTo>
                    <a:pt x="196" y="0"/>
                  </a:moveTo>
                  <a:lnTo>
                    <a:pt x="196" y="4"/>
                  </a:lnTo>
                  <a:lnTo>
                    <a:pt x="0" y="141"/>
                  </a:lnTo>
                  <a:lnTo>
                    <a:pt x="28" y="177"/>
                  </a:lnTo>
                  <a:lnTo>
                    <a:pt x="230" y="4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76240" y="2943360"/>
              <a:ext cx="81360" cy="62280"/>
            </a:xfrm>
            <a:custGeom>
              <a:avLst/>
              <a:gdLst/>
              <a:ahLst/>
              <a:rect l="0" t="0" r="r" b="b"/>
              <a:pathLst>
                <a:path w="226" h="173">
                  <a:moveTo>
                    <a:pt x="199" y="0"/>
                  </a:moveTo>
                  <a:lnTo>
                    <a:pt x="199" y="0"/>
                  </a:lnTo>
                  <a:lnTo>
                    <a:pt x="0" y="134"/>
                  </a:lnTo>
                  <a:lnTo>
                    <a:pt x="32" y="173"/>
                  </a:lnTo>
                  <a:lnTo>
                    <a:pt x="226" y="3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60480" y="2886120"/>
              <a:ext cx="84600" cy="59040"/>
            </a:xfrm>
            <a:custGeom>
              <a:avLst/>
              <a:gdLst/>
              <a:ahLst/>
              <a:rect l="0" t="0" r="r" b="b"/>
              <a:pathLst>
                <a:path w="235" h="164">
                  <a:moveTo>
                    <a:pt x="207" y="0"/>
                  </a:moveTo>
                  <a:lnTo>
                    <a:pt x="207" y="0"/>
                  </a:lnTo>
                  <a:lnTo>
                    <a:pt x="0" y="126"/>
                  </a:lnTo>
                  <a:lnTo>
                    <a:pt x="28" y="164"/>
                  </a:lnTo>
                  <a:lnTo>
                    <a:pt x="235" y="37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47960" y="2827440"/>
              <a:ext cx="78120" cy="60840"/>
            </a:xfrm>
            <a:custGeom>
              <a:avLst/>
              <a:gdLst/>
              <a:ahLst/>
              <a:rect l="0" t="0" r="r" b="b"/>
              <a:pathLst>
                <a:path w="217" h="169">
                  <a:moveTo>
                    <a:pt x="189" y="0"/>
                  </a:moveTo>
                  <a:lnTo>
                    <a:pt x="189" y="0"/>
                  </a:lnTo>
                  <a:lnTo>
                    <a:pt x="0" y="129"/>
                  </a:lnTo>
                  <a:lnTo>
                    <a:pt x="27" y="169"/>
                  </a:lnTo>
                  <a:lnTo>
                    <a:pt x="217" y="39"/>
                  </a:lnTo>
                  <a:lnTo>
                    <a:pt x="212" y="39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84480" y="3332160"/>
              <a:ext cx="33840" cy="19440"/>
            </a:xfrm>
            <a:custGeom>
              <a:avLst/>
              <a:gdLst/>
              <a:ahLst/>
              <a:rect l="0" t="0" r="r" b="b"/>
              <a:pathLst>
                <a:path w="94" h="54">
                  <a:moveTo>
                    <a:pt x="7" y="54"/>
                  </a:moveTo>
                  <a:lnTo>
                    <a:pt x="94" y="5"/>
                  </a:lnTo>
                  <a:lnTo>
                    <a:pt x="87" y="0"/>
                  </a:lnTo>
                  <a:lnTo>
                    <a:pt x="0" y="49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609edb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0600" y="2705040"/>
              <a:ext cx="903600" cy="867240"/>
            </a:xfrm>
            <a:custGeom>
              <a:avLst/>
              <a:gdLst/>
              <a:ahLst/>
              <a:rect l="0" t="0" r="r" b="b"/>
              <a:pathLst>
                <a:path w="2510" h="2409">
                  <a:moveTo>
                    <a:pt x="0" y="1207"/>
                  </a:moveTo>
                  <a:lnTo>
                    <a:pt x="0" y="1175"/>
                  </a:lnTo>
                  <a:lnTo>
                    <a:pt x="0" y="1148"/>
                  </a:lnTo>
                  <a:lnTo>
                    <a:pt x="5" y="1120"/>
                  </a:lnTo>
                  <a:lnTo>
                    <a:pt x="5" y="1088"/>
                  </a:lnTo>
                  <a:lnTo>
                    <a:pt x="10" y="1061"/>
                  </a:lnTo>
                  <a:lnTo>
                    <a:pt x="16" y="1034"/>
                  </a:lnTo>
                  <a:lnTo>
                    <a:pt x="16" y="1007"/>
                  </a:lnTo>
                  <a:lnTo>
                    <a:pt x="21" y="985"/>
                  </a:lnTo>
                  <a:lnTo>
                    <a:pt x="27" y="958"/>
                  </a:lnTo>
                  <a:lnTo>
                    <a:pt x="32" y="926"/>
                  </a:lnTo>
                  <a:lnTo>
                    <a:pt x="38" y="904"/>
                  </a:lnTo>
                  <a:lnTo>
                    <a:pt x="49" y="877"/>
                  </a:lnTo>
                  <a:lnTo>
                    <a:pt x="54" y="850"/>
                  </a:lnTo>
                  <a:lnTo>
                    <a:pt x="65" y="823"/>
                  </a:lnTo>
                  <a:lnTo>
                    <a:pt x="71" y="801"/>
                  </a:lnTo>
                  <a:lnTo>
                    <a:pt x="81" y="774"/>
                  </a:lnTo>
                  <a:lnTo>
                    <a:pt x="92" y="747"/>
                  </a:lnTo>
                  <a:lnTo>
                    <a:pt x="98" y="726"/>
                  </a:lnTo>
                  <a:lnTo>
                    <a:pt x="109" y="698"/>
                  </a:lnTo>
                  <a:lnTo>
                    <a:pt x="120" y="677"/>
                  </a:lnTo>
                  <a:lnTo>
                    <a:pt x="136" y="655"/>
                  </a:lnTo>
                  <a:lnTo>
                    <a:pt x="147" y="634"/>
                  </a:lnTo>
                  <a:lnTo>
                    <a:pt x="158" y="606"/>
                  </a:lnTo>
                  <a:lnTo>
                    <a:pt x="174" y="584"/>
                  </a:lnTo>
                  <a:lnTo>
                    <a:pt x="191" y="562"/>
                  </a:lnTo>
                  <a:lnTo>
                    <a:pt x="202" y="541"/>
                  </a:lnTo>
                  <a:lnTo>
                    <a:pt x="218" y="519"/>
                  </a:lnTo>
                  <a:lnTo>
                    <a:pt x="235" y="497"/>
                  </a:lnTo>
                  <a:lnTo>
                    <a:pt x="251" y="476"/>
                  </a:lnTo>
                  <a:lnTo>
                    <a:pt x="267" y="459"/>
                  </a:lnTo>
                  <a:lnTo>
                    <a:pt x="284" y="438"/>
                  </a:lnTo>
                  <a:lnTo>
                    <a:pt x="300" y="416"/>
                  </a:lnTo>
                  <a:lnTo>
                    <a:pt x="317" y="394"/>
                  </a:lnTo>
                  <a:lnTo>
                    <a:pt x="333" y="378"/>
                  </a:lnTo>
                  <a:lnTo>
                    <a:pt x="355" y="362"/>
                  </a:lnTo>
                  <a:lnTo>
                    <a:pt x="377" y="340"/>
                  </a:lnTo>
                  <a:lnTo>
                    <a:pt x="393" y="324"/>
                  </a:lnTo>
                  <a:lnTo>
                    <a:pt x="415" y="308"/>
                  </a:lnTo>
                  <a:lnTo>
                    <a:pt x="431" y="292"/>
                  </a:lnTo>
                  <a:lnTo>
                    <a:pt x="453" y="270"/>
                  </a:lnTo>
                  <a:lnTo>
                    <a:pt x="475" y="254"/>
                  </a:lnTo>
                  <a:lnTo>
                    <a:pt x="497" y="238"/>
                  </a:lnTo>
                  <a:lnTo>
                    <a:pt x="519" y="221"/>
                  </a:lnTo>
                  <a:lnTo>
                    <a:pt x="541" y="211"/>
                  </a:lnTo>
                  <a:lnTo>
                    <a:pt x="563" y="194"/>
                  </a:lnTo>
                  <a:lnTo>
                    <a:pt x="584" y="183"/>
                  </a:lnTo>
                  <a:lnTo>
                    <a:pt x="612" y="167"/>
                  </a:lnTo>
                  <a:lnTo>
                    <a:pt x="634" y="156"/>
                  </a:lnTo>
                  <a:lnTo>
                    <a:pt x="655" y="140"/>
                  </a:lnTo>
                  <a:lnTo>
                    <a:pt x="683" y="129"/>
                  </a:lnTo>
                  <a:lnTo>
                    <a:pt x="710" y="113"/>
                  </a:lnTo>
                  <a:lnTo>
                    <a:pt x="732" y="108"/>
                  </a:lnTo>
                  <a:lnTo>
                    <a:pt x="759" y="97"/>
                  </a:lnTo>
                  <a:lnTo>
                    <a:pt x="781" y="86"/>
                  </a:lnTo>
                  <a:lnTo>
                    <a:pt x="809" y="75"/>
                  </a:lnTo>
                  <a:lnTo>
                    <a:pt x="836" y="64"/>
                  </a:lnTo>
                  <a:lnTo>
                    <a:pt x="858" y="59"/>
                  </a:lnTo>
                  <a:lnTo>
                    <a:pt x="885" y="48"/>
                  </a:lnTo>
                  <a:lnTo>
                    <a:pt x="912" y="43"/>
                  </a:lnTo>
                  <a:lnTo>
                    <a:pt x="940" y="37"/>
                  </a:lnTo>
                  <a:lnTo>
                    <a:pt x="967" y="32"/>
                  </a:lnTo>
                  <a:lnTo>
                    <a:pt x="994" y="27"/>
                  </a:lnTo>
                  <a:lnTo>
                    <a:pt x="1022" y="21"/>
                  </a:lnTo>
                  <a:lnTo>
                    <a:pt x="1055" y="16"/>
                  </a:lnTo>
                  <a:lnTo>
                    <a:pt x="1082" y="10"/>
                  </a:lnTo>
                  <a:lnTo>
                    <a:pt x="1109" y="10"/>
                  </a:lnTo>
                  <a:lnTo>
                    <a:pt x="1137" y="5"/>
                  </a:lnTo>
                  <a:lnTo>
                    <a:pt x="1169" y="5"/>
                  </a:lnTo>
                  <a:lnTo>
                    <a:pt x="1197" y="0"/>
                  </a:lnTo>
                  <a:lnTo>
                    <a:pt x="1224" y="0"/>
                  </a:lnTo>
                  <a:lnTo>
                    <a:pt x="1258" y="0"/>
                  </a:lnTo>
                  <a:lnTo>
                    <a:pt x="1285" y="0"/>
                  </a:lnTo>
                  <a:lnTo>
                    <a:pt x="1312" y="0"/>
                  </a:lnTo>
                  <a:lnTo>
                    <a:pt x="1340" y="5"/>
                  </a:lnTo>
                  <a:lnTo>
                    <a:pt x="1373" y="5"/>
                  </a:lnTo>
                  <a:lnTo>
                    <a:pt x="1400" y="10"/>
                  </a:lnTo>
                  <a:lnTo>
                    <a:pt x="1427" y="10"/>
                  </a:lnTo>
                  <a:lnTo>
                    <a:pt x="1460" y="16"/>
                  </a:lnTo>
                  <a:lnTo>
                    <a:pt x="1487" y="21"/>
                  </a:lnTo>
                  <a:lnTo>
                    <a:pt x="1509" y="27"/>
                  </a:lnTo>
                  <a:lnTo>
                    <a:pt x="1537" y="32"/>
                  </a:lnTo>
                  <a:lnTo>
                    <a:pt x="1564" y="37"/>
                  </a:lnTo>
                  <a:lnTo>
                    <a:pt x="1597" y="43"/>
                  </a:lnTo>
                  <a:lnTo>
                    <a:pt x="1624" y="48"/>
                  </a:lnTo>
                  <a:lnTo>
                    <a:pt x="1646" y="59"/>
                  </a:lnTo>
                  <a:lnTo>
                    <a:pt x="1673" y="64"/>
                  </a:lnTo>
                  <a:lnTo>
                    <a:pt x="1701" y="75"/>
                  </a:lnTo>
                  <a:lnTo>
                    <a:pt x="1728" y="86"/>
                  </a:lnTo>
                  <a:lnTo>
                    <a:pt x="1755" y="97"/>
                  </a:lnTo>
                  <a:lnTo>
                    <a:pt x="1777" y="108"/>
                  </a:lnTo>
                  <a:lnTo>
                    <a:pt x="1804" y="113"/>
                  </a:lnTo>
                  <a:lnTo>
                    <a:pt x="1826" y="129"/>
                  </a:lnTo>
                  <a:lnTo>
                    <a:pt x="1848" y="140"/>
                  </a:lnTo>
                  <a:lnTo>
                    <a:pt x="1876" y="156"/>
                  </a:lnTo>
                  <a:lnTo>
                    <a:pt x="1897" y="167"/>
                  </a:lnTo>
                  <a:lnTo>
                    <a:pt x="1925" y="183"/>
                  </a:lnTo>
                  <a:lnTo>
                    <a:pt x="1947" y="194"/>
                  </a:lnTo>
                  <a:lnTo>
                    <a:pt x="1968" y="211"/>
                  </a:lnTo>
                  <a:lnTo>
                    <a:pt x="1990" y="221"/>
                  </a:lnTo>
                  <a:lnTo>
                    <a:pt x="2012" y="238"/>
                  </a:lnTo>
                  <a:lnTo>
                    <a:pt x="2034" y="254"/>
                  </a:lnTo>
                  <a:lnTo>
                    <a:pt x="2056" y="270"/>
                  </a:lnTo>
                  <a:lnTo>
                    <a:pt x="2072" y="292"/>
                  </a:lnTo>
                  <a:lnTo>
                    <a:pt x="2100" y="308"/>
                  </a:lnTo>
                  <a:lnTo>
                    <a:pt x="2116" y="324"/>
                  </a:lnTo>
                  <a:lnTo>
                    <a:pt x="2138" y="340"/>
                  </a:lnTo>
                  <a:lnTo>
                    <a:pt x="2154" y="362"/>
                  </a:lnTo>
                  <a:lnTo>
                    <a:pt x="2171" y="378"/>
                  </a:lnTo>
                  <a:lnTo>
                    <a:pt x="2193" y="394"/>
                  </a:lnTo>
                  <a:lnTo>
                    <a:pt x="2209" y="416"/>
                  </a:lnTo>
                  <a:lnTo>
                    <a:pt x="2225" y="438"/>
                  </a:lnTo>
                  <a:lnTo>
                    <a:pt x="2242" y="459"/>
                  </a:lnTo>
                  <a:lnTo>
                    <a:pt x="2258" y="476"/>
                  </a:lnTo>
                  <a:lnTo>
                    <a:pt x="2275" y="497"/>
                  </a:lnTo>
                  <a:lnTo>
                    <a:pt x="2291" y="519"/>
                  </a:lnTo>
                  <a:lnTo>
                    <a:pt x="2307" y="541"/>
                  </a:lnTo>
                  <a:lnTo>
                    <a:pt x="2324" y="562"/>
                  </a:lnTo>
                  <a:lnTo>
                    <a:pt x="2335" y="584"/>
                  </a:lnTo>
                  <a:lnTo>
                    <a:pt x="2346" y="606"/>
                  </a:lnTo>
                  <a:lnTo>
                    <a:pt x="2362" y="634"/>
                  </a:lnTo>
                  <a:lnTo>
                    <a:pt x="2373" y="655"/>
                  </a:lnTo>
                  <a:lnTo>
                    <a:pt x="2384" y="677"/>
                  </a:lnTo>
                  <a:lnTo>
                    <a:pt x="2395" y="698"/>
                  </a:lnTo>
                  <a:lnTo>
                    <a:pt x="2406" y="726"/>
                  </a:lnTo>
                  <a:lnTo>
                    <a:pt x="2417" y="747"/>
                  </a:lnTo>
                  <a:lnTo>
                    <a:pt x="2428" y="774"/>
                  </a:lnTo>
                  <a:lnTo>
                    <a:pt x="2439" y="801"/>
                  </a:lnTo>
                  <a:lnTo>
                    <a:pt x="2449" y="823"/>
                  </a:lnTo>
                  <a:lnTo>
                    <a:pt x="2455" y="850"/>
                  </a:lnTo>
                  <a:lnTo>
                    <a:pt x="2466" y="877"/>
                  </a:lnTo>
                  <a:lnTo>
                    <a:pt x="2471" y="904"/>
                  </a:lnTo>
                  <a:lnTo>
                    <a:pt x="2477" y="926"/>
                  </a:lnTo>
                  <a:lnTo>
                    <a:pt x="2482" y="958"/>
                  </a:lnTo>
                  <a:lnTo>
                    <a:pt x="2488" y="985"/>
                  </a:lnTo>
                  <a:lnTo>
                    <a:pt x="2493" y="1007"/>
                  </a:lnTo>
                  <a:lnTo>
                    <a:pt x="2499" y="1034"/>
                  </a:lnTo>
                  <a:lnTo>
                    <a:pt x="2499" y="1061"/>
                  </a:lnTo>
                  <a:lnTo>
                    <a:pt x="2504" y="1088"/>
                  </a:lnTo>
                  <a:lnTo>
                    <a:pt x="2504" y="1120"/>
                  </a:lnTo>
                  <a:lnTo>
                    <a:pt x="2504" y="1148"/>
                  </a:lnTo>
                  <a:lnTo>
                    <a:pt x="2510" y="1175"/>
                  </a:lnTo>
                  <a:lnTo>
                    <a:pt x="2510" y="1207"/>
                  </a:lnTo>
                  <a:lnTo>
                    <a:pt x="2510" y="1229"/>
                  </a:lnTo>
                  <a:lnTo>
                    <a:pt x="2504" y="1261"/>
                  </a:lnTo>
                  <a:lnTo>
                    <a:pt x="2504" y="1288"/>
                  </a:lnTo>
                  <a:lnTo>
                    <a:pt x="2504" y="1315"/>
                  </a:lnTo>
                  <a:lnTo>
                    <a:pt x="2499" y="1342"/>
                  </a:lnTo>
                  <a:lnTo>
                    <a:pt x="2499" y="1369"/>
                  </a:lnTo>
                  <a:lnTo>
                    <a:pt x="2493" y="1396"/>
                  </a:lnTo>
                  <a:lnTo>
                    <a:pt x="2488" y="1423"/>
                  </a:lnTo>
                  <a:lnTo>
                    <a:pt x="2482" y="1456"/>
                  </a:lnTo>
                  <a:lnTo>
                    <a:pt x="2477" y="1478"/>
                  </a:lnTo>
                  <a:lnTo>
                    <a:pt x="2471" y="1505"/>
                  </a:lnTo>
                  <a:lnTo>
                    <a:pt x="2466" y="1532"/>
                  </a:lnTo>
                  <a:lnTo>
                    <a:pt x="2455" y="1559"/>
                  </a:lnTo>
                  <a:lnTo>
                    <a:pt x="2449" y="1580"/>
                  </a:lnTo>
                  <a:lnTo>
                    <a:pt x="2439" y="1607"/>
                  </a:lnTo>
                  <a:lnTo>
                    <a:pt x="2428" y="1634"/>
                  </a:lnTo>
                  <a:lnTo>
                    <a:pt x="2417" y="1656"/>
                  </a:lnTo>
                  <a:lnTo>
                    <a:pt x="2406" y="1683"/>
                  </a:lnTo>
                  <a:lnTo>
                    <a:pt x="2395" y="1705"/>
                  </a:lnTo>
                  <a:lnTo>
                    <a:pt x="2384" y="1732"/>
                  </a:lnTo>
                  <a:lnTo>
                    <a:pt x="2373" y="1754"/>
                  </a:lnTo>
                  <a:lnTo>
                    <a:pt x="2362" y="1781"/>
                  </a:lnTo>
                  <a:lnTo>
                    <a:pt x="2346" y="1802"/>
                  </a:lnTo>
                  <a:lnTo>
                    <a:pt x="2335" y="1825"/>
                  </a:lnTo>
                  <a:lnTo>
                    <a:pt x="2324" y="1847"/>
                  </a:lnTo>
                  <a:lnTo>
                    <a:pt x="2307" y="1868"/>
                  </a:lnTo>
                  <a:lnTo>
                    <a:pt x="2291" y="1890"/>
                  </a:lnTo>
                  <a:lnTo>
                    <a:pt x="2275" y="1911"/>
                  </a:lnTo>
                  <a:lnTo>
                    <a:pt x="2258" y="1933"/>
                  </a:lnTo>
                  <a:lnTo>
                    <a:pt x="2242" y="1955"/>
                  </a:lnTo>
                  <a:lnTo>
                    <a:pt x="2225" y="1976"/>
                  </a:lnTo>
                  <a:lnTo>
                    <a:pt x="2209" y="1993"/>
                  </a:lnTo>
                  <a:lnTo>
                    <a:pt x="2193" y="2014"/>
                  </a:lnTo>
                  <a:lnTo>
                    <a:pt x="2171" y="2030"/>
                  </a:lnTo>
                  <a:lnTo>
                    <a:pt x="2154" y="2052"/>
                  </a:lnTo>
                  <a:lnTo>
                    <a:pt x="2138" y="2068"/>
                  </a:lnTo>
                  <a:lnTo>
                    <a:pt x="2116" y="2085"/>
                  </a:lnTo>
                  <a:lnTo>
                    <a:pt x="2100" y="2106"/>
                  </a:lnTo>
                  <a:lnTo>
                    <a:pt x="2072" y="2122"/>
                  </a:lnTo>
                  <a:lnTo>
                    <a:pt x="2056" y="2139"/>
                  </a:lnTo>
                  <a:lnTo>
                    <a:pt x="2034" y="2155"/>
                  </a:lnTo>
                  <a:lnTo>
                    <a:pt x="2012" y="2171"/>
                  </a:lnTo>
                  <a:lnTo>
                    <a:pt x="1990" y="2187"/>
                  </a:lnTo>
                  <a:lnTo>
                    <a:pt x="1968" y="2204"/>
                  </a:lnTo>
                  <a:lnTo>
                    <a:pt x="1947" y="2214"/>
                  </a:lnTo>
                  <a:lnTo>
                    <a:pt x="1925" y="2231"/>
                  </a:lnTo>
                  <a:lnTo>
                    <a:pt x="1897" y="2241"/>
                  </a:lnTo>
                  <a:lnTo>
                    <a:pt x="1876" y="2258"/>
                  </a:lnTo>
                  <a:lnTo>
                    <a:pt x="1848" y="2269"/>
                  </a:lnTo>
                  <a:lnTo>
                    <a:pt x="1826" y="2279"/>
                  </a:lnTo>
                  <a:lnTo>
                    <a:pt x="1804" y="2296"/>
                  </a:lnTo>
                  <a:lnTo>
                    <a:pt x="1777" y="2306"/>
                  </a:lnTo>
                  <a:lnTo>
                    <a:pt x="1755" y="2317"/>
                  </a:lnTo>
                  <a:lnTo>
                    <a:pt x="1728" y="2323"/>
                  </a:lnTo>
                  <a:lnTo>
                    <a:pt x="1701" y="2333"/>
                  </a:lnTo>
                  <a:lnTo>
                    <a:pt x="1673" y="2344"/>
                  </a:lnTo>
                  <a:lnTo>
                    <a:pt x="1646" y="2350"/>
                  </a:lnTo>
                  <a:lnTo>
                    <a:pt x="1624" y="2361"/>
                  </a:lnTo>
                  <a:lnTo>
                    <a:pt x="1597" y="2366"/>
                  </a:lnTo>
                  <a:lnTo>
                    <a:pt x="1564" y="2371"/>
                  </a:lnTo>
                  <a:lnTo>
                    <a:pt x="1537" y="2377"/>
                  </a:lnTo>
                  <a:lnTo>
                    <a:pt x="1509" y="2382"/>
                  </a:lnTo>
                  <a:lnTo>
                    <a:pt x="1487" y="2393"/>
                  </a:lnTo>
                  <a:lnTo>
                    <a:pt x="1460" y="2393"/>
                  </a:lnTo>
                  <a:lnTo>
                    <a:pt x="1427" y="2398"/>
                  </a:lnTo>
                  <a:lnTo>
                    <a:pt x="1400" y="2404"/>
                  </a:lnTo>
                  <a:lnTo>
                    <a:pt x="1373" y="2404"/>
                  </a:lnTo>
                  <a:lnTo>
                    <a:pt x="1340" y="2409"/>
                  </a:lnTo>
                  <a:lnTo>
                    <a:pt x="1312" y="2409"/>
                  </a:lnTo>
                  <a:lnTo>
                    <a:pt x="1285" y="2409"/>
                  </a:lnTo>
                  <a:lnTo>
                    <a:pt x="1224" y="2409"/>
                  </a:lnTo>
                  <a:lnTo>
                    <a:pt x="1197" y="2409"/>
                  </a:lnTo>
                  <a:lnTo>
                    <a:pt x="1169" y="2409"/>
                  </a:lnTo>
                  <a:lnTo>
                    <a:pt x="1137" y="2404"/>
                  </a:lnTo>
                  <a:lnTo>
                    <a:pt x="1109" y="2404"/>
                  </a:lnTo>
                  <a:lnTo>
                    <a:pt x="1082" y="2398"/>
                  </a:lnTo>
                  <a:lnTo>
                    <a:pt x="1055" y="2393"/>
                  </a:lnTo>
                  <a:lnTo>
                    <a:pt x="1022" y="2393"/>
                  </a:lnTo>
                  <a:lnTo>
                    <a:pt x="994" y="2382"/>
                  </a:lnTo>
                  <a:lnTo>
                    <a:pt x="967" y="2377"/>
                  </a:lnTo>
                  <a:lnTo>
                    <a:pt x="940" y="2371"/>
                  </a:lnTo>
                  <a:lnTo>
                    <a:pt x="912" y="2366"/>
                  </a:lnTo>
                  <a:lnTo>
                    <a:pt x="885" y="2361"/>
                  </a:lnTo>
                  <a:lnTo>
                    <a:pt x="858" y="2350"/>
                  </a:lnTo>
                  <a:lnTo>
                    <a:pt x="836" y="2344"/>
                  </a:lnTo>
                  <a:lnTo>
                    <a:pt x="809" y="2333"/>
                  </a:lnTo>
                  <a:lnTo>
                    <a:pt x="781" y="2323"/>
                  </a:lnTo>
                  <a:lnTo>
                    <a:pt x="759" y="2317"/>
                  </a:lnTo>
                  <a:lnTo>
                    <a:pt x="732" y="2306"/>
                  </a:lnTo>
                  <a:lnTo>
                    <a:pt x="710" y="2296"/>
                  </a:lnTo>
                  <a:lnTo>
                    <a:pt x="683" y="2279"/>
                  </a:lnTo>
                  <a:lnTo>
                    <a:pt x="655" y="2269"/>
                  </a:lnTo>
                  <a:lnTo>
                    <a:pt x="634" y="2258"/>
                  </a:lnTo>
                  <a:lnTo>
                    <a:pt x="612" y="2241"/>
                  </a:lnTo>
                  <a:lnTo>
                    <a:pt x="584" y="2231"/>
                  </a:lnTo>
                  <a:lnTo>
                    <a:pt x="563" y="2214"/>
                  </a:lnTo>
                  <a:lnTo>
                    <a:pt x="541" y="2204"/>
                  </a:lnTo>
                  <a:lnTo>
                    <a:pt x="519" y="2187"/>
                  </a:lnTo>
                  <a:lnTo>
                    <a:pt x="497" y="2171"/>
                  </a:lnTo>
                  <a:lnTo>
                    <a:pt x="475" y="2155"/>
                  </a:lnTo>
                  <a:lnTo>
                    <a:pt x="453" y="2139"/>
                  </a:lnTo>
                  <a:lnTo>
                    <a:pt x="431" y="2122"/>
                  </a:lnTo>
                  <a:lnTo>
                    <a:pt x="415" y="2106"/>
                  </a:lnTo>
                  <a:lnTo>
                    <a:pt x="393" y="2085"/>
                  </a:lnTo>
                  <a:lnTo>
                    <a:pt x="377" y="2068"/>
                  </a:lnTo>
                  <a:lnTo>
                    <a:pt x="355" y="2052"/>
                  </a:lnTo>
                  <a:lnTo>
                    <a:pt x="333" y="2030"/>
                  </a:lnTo>
                  <a:lnTo>
                    <a:pt x="317" y="2014"/>
                  </a:lnTo>
                  <a:lnTo>
                    <a:pt x="300" y="1993"/>
                  </a:lnTo>
                  <a:lnTo>
                    <a:pt x="284" y="1976"/>
                  </a:lnTo>
                  <a:lnTo>
                    <a:pt x="267" y="1955"/>
                  </a:lnTo>
                  <a:lnTo>
                    <a:pt x="251" y="1933"/>
                  </a:lnTo>
                  <a:lnTo>
                    <a:pt x="235" y="1911"/>
                  </a:lnTo>
                  <a:lnTo>
                    <a:pt x="218" y="1890"/>
                  </a:lnTo>
                  <a:lnTo>
                    <a:pt x="202" y="1868"/>
                  </a:lnTo>
                  <a:lnTo>
                    <a:pt x="191" y="1847"/>
                  </a:lnTo>
                  <a:lnTo>
                    <a:pt x="174" y="1825"/>
                  </a:lnTo>
                  <a:lnTo>
                    <a:pt x="158" y="1802"/>
                  </a:lnTo>
                  <a:lnTo>
                    <a:pt x="147" y="1781"/>
                  </a:lnTo>
                  <a:lnTo>
                    <a:pt x="136" y="1754"/>
                  </a:lnTo>
                  <a:lnTo>
                    <a:pt x="120" y="1732"/>
                  </a:lnTo>
                  <a:lnTo>
                    <a:pt x="109" y="1705"/>
                  </a:lnTo>
                  <a:lnTo>
                    <a:pt x="98" y="1683"/>
                  </a:lnTo>
                  <a:lnTo>
                    <a:pt x="92" y="1656"/>
                  </a:lnTo>
                  <a:lnTo>
                    <a:pt x="81" y="1634"/>
                  </a:lnTo>
                  <a:lnTo>
                    <a:pt x="71" y="1607"/>
                  </a:lnTo>
                  <a:lnTo>
                    <a:pt x="65" y="1580"/>
                  </a:lnTo>
                  <a:lnTo>
                    <a:pt x="54" y="1559"/>
                  </a:lnTo>
                  <a:lnTo>
                    <a:pt x="49" y="1532"/>
                  </a:lnTo>
                  <a:lnTo>
                    <a:pt x="38" y="1505"/>
                  </a:lnTo>
                  <a:lnTo>
                    <a:pt x="32" y="1478"/>
                  </a:lnTo>
                  <a:lnTo>
                    <a:pt x="27" y="1456"/>
                  </a:lnTo>
                  <a:lnTo>
                    <a:pt x="21" y="1423"/>
                  </a:lnTo>
                  <a:lnTo>
                    <a:pt x="16" y="1396"/>
                  </a:lnTo>
                  <a:lnTo>
                    <a:pt x="16" y="1369"/>
                  </a:lnTo>
                  <a:lnTo>
                    <a:pt x="10" y="1342"/>
                  </a:lnTo>
                  <a:lnTo>
                    <a:pt x="5" y="1315"/>
                  </a:lnTo>
                  <a:lnTo>
                    <a:pt x="5" y="1288"/>
                  </a:lnTo>
                  <a:lnTo>
                    <a:pt x="0" y="1261"/>
                  </a:lnTo>
                  <a:lnTo>
                    <a:pt x="0" y="1229"/>
                  </a:lnTo>
                  <a:lnTo>
                    <a:pt x="0" y="1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95280" y="2708280"/>
              <a:ext cx="894240" cy="862200"/>
            </a:xfrm>
            <a:custGeom>
              <a:avLst/>
              <a:gdLst/>
              <a:ahLst/>
              <a:rect l="0" t="0" r="r" b="b"/>
              <a:pathLst>
                <a:path w="2484" h="2395">
                  <a:moveTo>
                    <a:pt x="0" y="1198"/>
                  </a:moveTo>
                  <a:lnTo>
                    <a:pt x="0" y="1164"/>
                  </a:lnTo>
                  <a:lnTo>
                    <a:pt x="0" y="1137"/>
                  </a:lnTo>
                  <a:lnTo>
                    <a:pt x="0" y="1110"/>
                  </a:lnTo>
                  <a:lnTo>
                    <a:pt x="5" y="1078"/>
                  </a:lnTo>
                  <a:lnTo>
                    <a:pt x="10" y="1050"/>
                  </a:lnTo>
                  <a:lnTo>
                    <a:pt x="10" y="1023"/>
                  </a:lnTo>
                  <a:lnTo>
                    <a:pt x="16" y="996"/>
                  </a:lnTo>
                  <a:lnTo>
                    <a:pt x="21" y="969"/>
                  </a:lnTo>
                  <a:lnTo>
                    <a:pt x="27" y="942"/>
                  </a:lnTo>
                  <a:lnTo>
                    <a:pt x="32" y="915"/>
                  </a:lnTo>
                  <a:lnTo>
                    <a:pt x="38" y="888"/>
                  </a:lnTo>
                  <a:lnTo>
                    <a:pt x="43" y="861"/>
                  </a:lnTo>
                  <a:lnTo>
                    <a:pt x="54" y="839"/>
                  </a:lnTo>
                  <a:lnTo>
                    <a:pt x="60" y="812"/>
                  </a:lnTo>
                  <a:lnTo>
                    <a:pt x="70" y="785"/>
                  </a:lnTo>
                  <a:lnTo>
                    <a:pt x="81" y="758"/>
                  </a:lnTo>
                  <a:lnTo>
                    <a:pt x="87" y="736"/>
                  </a:lnTo>
                  <a:lnTo>
                    <a:pt x="98" y="709"/>
                  </a:lnTo>
                  <a:lnTo>
                    <a:pt x="109" y="688"/>
                  </a:lnTo>
                  <a:lnTo>
                    <a:pt x="125" y="666"/>
                  </a:lnTo>
                  <a:lnTo>
                    <a:pt x="136" y="639"/>
                  </a:lnTo>
                  <a:lnTo>
                    <a:pt x="147" y="617"/>
                  </a:lnTo>
                  <a:lnTo>
                    <a:pt x="163" y="590"/>
                  </a:lnTo>
                  <a:lnTo>
                    <a:pt x="174" y="568"/>
                  </a:lnTo>
                  <a:lnTo>
                    <a:pt x="190" y="547"/>
                  </a:lnTo>
                  <a:lnTo>
                    <a:pt x="207" y="525"/>
                  </a:lnTo>
                  <a:lnTo>
                    <a:pt x="218" y="503"/>
                  </a:lnTo>
                  <a:lnTo>
                    <a:pt x="234" y="482"/>
                  </a:lnTo>
                  <a:lnTo>
                    <a:pt x="250" y="465"/>
                  </a:lnTo>
                  <a:lnTo>
                    <a:pt x="267" y="444"/>
                  </a:lnTo>
                  <a:lnTo>
                    <a:pt x="283" y="422"/>
                  </a:lnTo>
                  <a:lnTo>
                    <a:pt x="300" y="400"/>
                  </a:lnTo>
                  <a:lnTo>
                    <a:pt x="321" y="384"/>
                  </a:lnTo>
                  <a:lnTo>
                    <a:pt x="338" y="362"/>
                  </a:lnTo>
                  <a:lnTo>
                    <a:pt x="360" y="346"/>
                  </a:lnTo>
                  <a:lnTo>
                    <a:pt x="376" y="325"/>
                  </a:lnTo>
                  <a:lnTo>
                    <a:pt x="398" y="308"/>
                  </a:lnTo>
                  <a:lnTo>
                    <a:pt x="420" y="292"/>
                  </a:lnTo>
                  <a:lnTo>
                    <a:pt x="436" y="270"/>
                  </a:lnTo>
                  <a:lnTo>
                    <a:pt x="458" y="254"/>
                  </a:lnTo>
                  <a:lnTo>
                    <a:pt x="480" y="243"/>
                  </a:lnTo>
                  <a:lnTo>
                    <a:pt x="501" y="227"/>
                  </a:lnTo>
                  <a:lnTo>
                    <a:pt x="523" y="211"/>
                  </a:lnTo>
                  <a:lnTo>
                    <a:pt x="551" y="195"/>
                  </a:lnTo>
                  <a:lnTo>
                    <a:pt x="572" y="184"/>
                  </a:lnTo>
                  <a:lnTo>
                    <a:pt x="594" y="167"/>
                  </a:lnTo>
                  <a:lnTo>
                    <a:pt x="616" y="157"/>
                  </a:lnTo>
                  <a:lnTo>
                    <a:pt x="639" y="140"/>
                  </a:lnTo>
                  <a:lnTo>
                    <a:pt x="666" y="130"/>
                  </a:lnTo>
                  <a:lnTo>
                    <a:pt x="693" y="119"/>
                  </a:lnTo>
                  <a:lnTo>
                    <a:pt x="715" y="102"/>
                  </a:lnTo>
                  <a:lnTo>
                    <a:pt x="743" y="92"/>
                  </a:lnTo>
                  <a:lnTo>
                    <a:pt x="764" y="86"/>
                  </a:lnTo>
                  <a:lnTo>
                    <a:pt x="792" y="75"/>
                  </a:lnTo>
                  <a:lnTo>
                    <a:pt x="819" y="65"/>
                  </a:lnTo>
                  <a:lnTo>
                    <a:pt x="846" y="59"/>
                  </a:lnTo>
                  <a:lnTo>
                    <a:pt x="874" y="48"/>
                  </a:lnTo>
                  <a:lnTo>
                    <a:pt x="901" y="43"/>
                  </a:lnTo>
                  <a:lnTo>
                    <a:pt x="928" y="32"/>
                  </a:lnTo>
                  <a:lnTo>
                    <a:pt x="955" y="27"/>
                  </a:lnTo>
                  <a:lnTo>
                    <a:pt x="983" y="21"/>
                  </a:lnTo>
                  <a:lnTo>
                    <a:pt x="1010" y="16"/>
                  </a:lnTo>
                  <a:lnTo>
                    <a:pt x="1037" y="10"/>
                  </a:lnTo>
                  <a:lnTo>
                    <a:pt x="1070" y="10"/>
                  </a:lnTo>
                  <a:lnTo>
                    <a:pt x="1097" y="5"/>
                  </a:lnTo>
                  <a:lnTo>
                    <a:pt x="1125" y="5"/>
                  </a:lnTo>
                  <a:lnTo>
                    <a:pt x="1152" y="0"/>
                  </a:lnTo>
                  <a:lnTo>
                    <a:pt x="1185" y="0"/>
                  </a:lnTo>
                  <a:lnTo>
                    <a:pt x="1212" y="0"/>
                  </a:lnTo>
                  <a:lnTo>
                    <a:pt x="1272" y="0"/>
                  </a:lnTo>
                  <a:lnTo>
                    <a:pt x="1299" y="0"/>
                  </a:lnTo>
                  <a:lnTo>
                    <a:pt x="1326" y="0"/>
                  </a:lnTo>
                  <a:lnTo>
                    <a:pt x="1359" y="5"/>
                  </a:lnTo>
                  <a:lnTo>
                    <a:pt x="1392" y="5"/>
                  </a:lnTo>
                  <a:lnTo>
                    <a:pt x="1414" y="10"/>
                  </a:lnTo>
                  <a:lnTo>
                    <a:pt x="1446" y="10"/>
                  </a:lnTo>
                  <a:lnTo>
                    <a:pt x="1474" y="16"/>
                  </a:lnTo>
                  <a:lnTo>
                    <a:pt x="1501" y="21"/>
                  </a:lnTo>
                  <a:lnTo>
                    <a:pt x="1528" y="27"/>
                  </a:lnTo>
                  <a:lnTo>
                    <a:pt x="1556" y="32"/>
                  </a:lnTo>
                  <a:lnTo>
                    <a:pt x="1583" y="43"/>
                  </a:lnTo>
                  <a:lnTo>
                    <a:pt x="1610" y="48"/>
                  </a:lnTo>
                  <a:lnTo>
                    <a:pt x="1637" y="59"/>
                  </a:lnTo>
                  <a:lnTo>
                    <a:pt x="1665" y="65"/>
                  </a:lnTo>
                  <a:lnTo>
                    <a:pt x="1687" y="75"/>
                  </a:lnTo>
                  <a:lnTo>
                    <a:pt x="1714" y="86"/>
                  </a:lnTo>
                  <a:lnTo>
                    <a:pt x="1741" y="92"/>
                  </a:lnTo>
                  <a:lnTo>
                    <a:pt x="1768" y="102"/>
                  </a:lnTo>
                  <a:lnTo>
                    <a:pt x="1790" y="119"/>
                  </a:lnTo>
                  <a:lnTo>
                    <a:pt x="1817" y="130"/>
                  </a:lnTo>
                  <a:lnTo>
                    <a:pt x="1839" y="140"/>
                  </a:lnTo>
                  <a:lnTo>
                    <a:pt x="1861" y="157"/>
                  </a:lnTo>
                  <a:lnTo>
                    <a:pt x="1889" y="167"/>
                  </a:lnTo>
                  <a:lnTo>
                    <a:pt x="1911" y="184"/>
                  </a:lnTo>
                  <a:lnTo>
                    <a:pt x="1939" y="195"/>
                  </a:lnTo>
                  <a:lnTo>
                    <a:pt x="1960" y="211"/>
                  </a:lnTo>
                  <a:lnTo>
                    <a:pt x="1982" y="227"/>
                  </a:lnTo>
                  <a:lnTo>
                    <a:pt x="2004" y="243"/>
                  </a:lnTo>
                  <a:lnTo>
                    <a:pt x="2020" y="254"/>
                  </a:lnTo>
                  <a:lnTo>
                    <a:pt x="2042" y="270"/>
                  </a:lnTo>
                  <a:lnTo>
                    <a:pt x="2064" y="292"/>
                  </a:lnTo>
                  <a:lnTo>
                    <a:pt x="2086" y="308"/>
                  </a:lnTo>
                  <a:lnTo>
                    <a:pt x="2108" y="325"/>
                  </a:lnTo>
                  <a:lnTo>
                    <a:pt x="2124" y="346"/>
                  </a:lnTo>
                  <a:lnTo>
                    <a:pt x="2146" y="362"/>
                  </a:lnTo>
                  <a:lnTo>
                    <a:pt x="2162" y="384"/>
                  </a:lnTo>
                  <a:lnTo>
                    <a:pt x="2179" y="400"/>
                  </a:lnTo>
                  <a:lnTo>
                    <a:pt x="2195" y="422"/>
                  </a:lnTo>
                  <a:lnTo>
                    <a:pt x="2211" y="444"/>
                  </a:lnTo>
                  <a:lnTo>
                    <a:pt x="2233" y="465"/>
                  </a:lnTo>
                  <a:lnTo>
                    <a:pt x="2244" y="482"/>
                  </a:lnTo>
                  <a:lnTo>
                    <a:pt x="2266" y="503"/>
                  </a:lnTo>
                  <a:lnTo>
                    <a:pt x="2282" y="525"/>
                  </a:lnTo>
                  <a:lnTo>
                    <a:pt x="2293" y="547"/>
                  </a:lnTo>
                  <a:lnTo>
                    <a:pt x="2310" y="568"/>
                  </a:lnTo>
                  <a:lnTo>
                    <a:pt x="2320" y="590"/>
                  </a:lnTo>
                  <a:lnTo>
                    <a:pt x="2337" y="617"/>
                  </a:lnTo>
                  <a:lnTo>
                    <a:pt x="2348" y="639"/>
                  </a:lnTo>
                  <a:lnTo>
                    <a:pt x="2359" y="666"/>
                  </a:lnTo>
                  <a:lnTo>
                    <a:pt x="2370" y="688"/>
                  </a:lnTo>
                  <a:lnTo>
                    <a:pt x="2381" y="709"/>
                  </a:lnTo>
                  <a:lnTo>
                    <a:pt x="2391" y="736"/>
                  </a:lnTo>
                  <a:lnTo>
                    <a:pt x="2402" y="758"/>
                  </a:lnTo>
                  <a:lnTo>
                    <a:pt x="2413" y="785"/>
                  </a:lnTo>
                  <a:lnTo>
                    <a:pt x="2424" y="812"/>
                  </a:lnTo>
                  <a:lnTo>
                    <a:pt x="2435" y="839"/>
                  </a:lnTo>
                  <a:lnTo>
                    <a:pt x="2441" y="861"/>
                  </a:lnTo>
                  <a:lnTo>
                    <a:pt x="2446" y="888"/>
                  </a:lnTo>
                  <a:lnTo>
                    <a:pt x="2451" y="915"/>
                  </a:lnTo>
                  <a:lnTo>
                    <a:pt x="2462" y="942"/>
                  </a:lnTo>
                  <a:lnTo>
                    <a:pt x="2462" y="969"/>
                  </a:lnTo>
                  <a:lnTo>
                    <a:pt x="2468" y="996"/>
                  </a:lnTo>
                  <a:lnTo>
                    <a:pt x="2473" y="1023"/>
                  </a:lnTo>
                  <a:lnTo>
                    <a:pt x="2479" y="1050"/>
                  </a:lnTo>
                  <a:lnTo>
                    <a:pt x="2479" y="1078"/>
                  </a:lnTo>
                  <a:lnTo>
                    <a:pt x="2484" y="1110"/>
                  </a:lnTo>
                  <a:lnTo>
                    <a:pt x="2484" y="1137"/>
                  </a:lnTo>
                  <a:lnTo>
                    <a:pt x="2484" y="1164"/>
                  </a:lnTo>
                  <a:lnTo>
                    <a:pt x="2484" y="1198"/>
                  </a:lnTo>
                  <a:lnTo>
                    <a:pt x="2484" y="1225"/>
                  </a:lnTo>
                  <a:lnTo>
                    <a:pt x="2484" y="1252"/>
                  </a:lnTo>
                  <a:lnTo>
                    <a:pt x="2484" y="1284"/>
                  </a:lnTo>
                  <a:lnTo>
                    <a:pt x="2479" y="1312"/>
                  </a:lnTo>
                  <a:lnTo>
                    <a:pt x="2479" y="1339"/>
                  </a:lnTo>
                  <a:lnTo>
                    <a:pt x="2473" y="1366"/>
                  </a:lnTo>
                  <a:lnTo>
                    <a:pt x="2468" y="1393"/>
                  </a:lnTo>
                  <a:lnTo>
                    <a:pt x="2462" y="1414"/>
                  </a:lnTo>
                  <a:lnTo>
                    <a:pt x="2462" y="1447"/>
                  </a:lnTo>
                  <a:lnTo>
                    <a:pt x="2451" y="1474"/>
                  </a:lnTo>
                  <a:lnTo>
                    <a:pt x="2446" y="1501"/>
                  </a:lnTo>
                  <a:lnTo>
                    <a:pt x="2441" y="1523"/>
                  </a:lnTo>
                  <a:lnTo>
                    <a:pt x="2435" y="1550"/>
                  </a:lnTo>
                  <a:lnTo>
                    <a:pt x="2424" y="1577"/>
                  </a:lnTo>
                  <a:lnTo>
                    <a:pt x="2413" y="1604"/>
                  </a:lnTo>
                  <a:lnTo>
                    <a:pt x="2402" y="1631"/>
                  </a:lnTo>
                  <a:lnTo>
                    <a:pt x="2391" y="1653"/>
                  </a:lnTo>
                  <a:lnTo>
                    <a:pt x="2381" y="1674"/>
                  </a:lnTo>
                  <a:lnTo>
                    <a:pt x="2370" y="1702"/>
                  </a:lnTo>
                  <a:lnTo>
                    <a:pt x="2359" y="1723"/>
                  </a:lnTo>
                  <a:lnTo>
                    <a:pt x="2348" y="1750"/>
                  </a:lnTo>
                  <a:lnTo>
                    <a:pt x="2337" y="1777"/>
                  </a:lnTo>
                  <a:lnTo>
                    <a:pt x="2320" y="1794"/>
                  </a:lnTo>
                  <a:lnTo>
                    <a:pt x="2310" y="1821"/>
                  </a:lnTo>
                  <a:lnTo>
                    <a:pt x="2293" y="1842"/>
                  </a:lnTo>
                  <a:lnTo>
                    <a:pt x="2282" y="1864"/>
                  </a:lnTo>
                  <a:lnTo>
                    <a:pt x="2266" y="1886"/>
                  </a:lnTo>
                  <a:lnTo>
                    <a:pt x="2244" y="1907"/>
                  </a:lnTo>
                  <a:lnTo>
                    <a:pt x="2233" y="1929"/>
                  </a:lnTo>
                  <a:lnTo>
                    <a:pt x="2211" y="1951"/>
                  </a:lnTo>
                  <a:lnTo>
                    <a:pt x="2195" y="1967"/>
                  </a:lnTo>
                  <a:lnTo>
                    <a:pt x="2179" y="1989"/>
                  </a:lnTo>
                  <a:lnTo>
                    <a:pt x="2162" y="2010"/>
                  </a:lnTo>
                  <a:lnTo>
                    <a:pt x="2146" y="2027"/>
                  </a:lnTo>
                  <a:lnTo>
                    <a:pt x="2124" y="2043"/>
                  </a:lnTo>
                  <a:lnTo>
                    <a:pt x="2108" y="2065"/>
                  </a:lnTo>
                  <a:lnTo>
                    <a:pt x="2086" y="2086"/>
                  </a:lnTo>
                  <a:lnTo>
                    <a:pt x="2064" y="2102"/>
                  </a:lnTo>
                  <a:lnTo>
                    <a:pt x="2042" y="2119"/>
                  </a:lnTo>
                  <a:lnTo>
                    <a:pt x="2020" y="2135"/>
                  </a:lnTo>
                  <a:lnTo>
                    <a:pt x="2004" y="2151"/>
                  </a:lnTo>
                  <a:lnTo>
                    <a:pt x="1982" y="2162"/>
                  </a:lnTo>
                  <a:lnTo>
                    <a:pt x="1960" y="2178"/>
                  </a:lnTo>
                  <a:lnTo>
                    <a:pt x="1939" y="2195"/>
                  </a:lnTo>
                  <a:lnTo>
                    <a:pt x="1911" y="2211"/>
                  </a:lnTo>
                  <a:lnTo>
                    <a:pt x="1889" y="2222"/>
                  </a:lnTo>
                  <a:lnTo>
                    <a:pt x="1861" y="2238"/>
                  </a:lnTo>
                  <a:lnTo>
                    <a:pt x="1839" y="2249"/>
                  </a:lnTo>
                  <a:lnTo>
                    <a:pt x="1817" y="2260"/>
                  </a:lnTo>
                  <a:lnTo>
                    <a:pt x="1790" y="2276"/>
                  </a:lnTo>
                  <a:lnTo>
                    <a:pt x="1768" y="2287"/>
                  </a:lnTo>
                  <a:lnTo>
                    <a:pt x="1741" y="2297"/>
                  </a:lnTo>
                  <a:lnTo>
                    <a:pt x="1714" y="2308"/>
                  </a:lnTo>
                  <a:lnTo>
                    <a:pt x="1687" y="2314"/>
                  </a:lnTo>
                  <a:lnTo>
                    <a:pt x="1665" y="2325"/>
                  </a:lnTo>
                  <a:lnTo>
                    <a:pt x="1637" y="2330"/>
                  </a:lnTo>
                  <a:lnTo>
                    <a:pt x="1610" y="2341"/>
                  </a:lnTo>
                  <a:lnTo>
                    <a:pt x="1583" y="2346"/>
                  </a:lnTo>
                  <a:lnTo>
                    <a:pt x="1556" y="2357"/>
                  </a:lnTo>
                  <a:lnTo>
                    <a:pt x="1528" y="2362"/>
                  </a:lnTo>
                  <a:lnTo>
                    <a:pt x="1501" y="2368"/>
                  </a:lnTo>
                  <a:lnTo>
                    <a:pt x="1474" y="2373"/>
                  </a:lnTo>
                  <a:lnTo>
                    <a:pt x="1446" y="2379"/>
                  </a:lnTo>
                  <a:lnTo>
                    <a:pt x="1414" y="2384"/>
                  </a:lnTo>
                  <a:lnTo>
                    <a:pt x="1392" y="2384"/>
                  </a:lnTo>
                  <a:lnTo>
                    <a:pt x="1359" y="2390"/>
                  </a:lnTo>
                  <a:lnTo>
                    <a:pt x="1326" y="2390"/>
                  </a:lnTo>
                  <a:lnTo>
                    <a:pt x="1299" y="2390"/>
                  </a:lnTo>
                  <a:lnTo>
                    <a:pt x="1272" y="2390"/>
                  </a:lnTo>
                  <a:lnTo>
                    <a:pt x="1245" y="2395"/>
                  </a:lnTo>
                  <a:lnTo>
                    <a:pt x="1212" y="2390"/>
                  </a:lnTo>
                  <a:lnTo>
                    <a:pt x="1185" y="2390"/>
                  </a:lnTo>
                  <a:lnTo>
                    <a:pt x="1152" y="2390"/>
                  </a:lnTo>
                  <a:lnTo>
                    <a:pt x="1125" y="2390"/>
                  </a:lnTo>
                  <a:lnTo>
                    <a:pt x="1097" y="2384"/>
                  </a:lnTo>
                  <a:lnTo>
                    <a:pt x="1070" y="2384"/>
                  </a:lnTo>
                  <a:lnTo>
                    <a:pt x="1037" y="2379"/>
                  </a:lnTo>
                  <a:lnTo>
                    <a:pt x="1010" y="2373"/>
                  </a:lnTo>
                  <a:lnTo>
                    <a:pt x="983" y="2368"/>
                  </a:lnTo>
                  <a:lnTo>
                    <a:pt x="955" y="2362"/>
                  </a:lnTo>
                  <a:lnTo>
                    <a:pt x="928" y="2357"/>
                  </a:lnTo>
                  <a:lnTo>
                    <a:pt x="901" y="2346"/>
                  </a:lnTo>
                  <a:lnTo>
                    <a:pt x="874" y="2341"/>
                  </a:lnTo>
                  <a:lnTo>
                    <a:pt x="846" y="2330"/>
                  </a:lnTo>
                  <a:lnTo>
                    <a:pt x="819" y="2325"/>
                  </a:lnTo>
                  <a:lnTo>
                    <a:pt x="792" y="2314"/>
                  </a:lnTo>
                  <a:lnTo>
                    <a:pt x="764" y="2308"/>
                  </a:lnTo>
                  <a:lnTo>
                    <a:pt x="743" y="2297"/>
                  </a:lnTo>
                  <a:lnTo>
                    <a:pt x="715" y="2287"/>
                  </a:lnTo>
                  <a:lnTo>
                    <a:pt x="693" y="2276"/>
                  </a:lnTo>
                  <a:lnTo>
                    <a:pt x="666" y="2260"/>
                  </a:lnTo>
                  <a:lnTo>
                    <a:pt x="639" y="2249"/>
                  </a:lnTo>
                  <a:lnTo>
                    <a:pt x="616" y="2238"/>
                  </a:lnTo>
                  <a:lnTo>
                    <a:pt x="594" y="2222"/>
                  </a:lnTo>
                  <a:lnTo>
                    <a:pt x="572" y="2211"/>
                  </a:lnTo>
                  <a:lnTo>
                    <a:pt x="551" y="2195"/>
                  </a:lnTo>
                  <a:lnTo>
                    <a:pt x="523" y="2178"/>
                  </a:lnTo>
                  <a:lnTo>
                    <a:pt x="501" y="2162"/>
                  </a:lnTo>
                  <a:lnTo>
                    <a:pt x="480" y="2151"/>
                  </a:lnTo>
                  <a:lnTo>
                    <a:pt x="458" y="2135"/>
                  </a:lnTo>
                  <a:lnTo>
                    <a:pt x="436" y="2119"/>
                  </a:lnTo>
                  <a:lnTo>
                    <a:pt x="420" y="2102"/>
                  </a:lnTo>
                  <a:lnTo>
                    <a:pt x="398" y="2086"/>
                  </a:lnTo>
                  <a:lnTo>
                    <a:pt x="376" y="2065"/>
                  </a:lnTo>
                  <a:lnTo>
                    <a:pt x="360" y="2043"/>
                  </a:lnTo>
                  <a:lnTo>
                    <a:pt x="338" y="2027"/>
                  </a:lnTo>
                  <a:lnTo>
                    <a:pt x="321" y="2010"/>
                  </a:lnTo>
                  <a:lnTo>
                    <a:pt x="300" y="1989"/>
                  </a:lnTo>
                  <a:lnTo>
                    <a:pt x="283" y="1967"/>
                  </a:lnTo>
                  <a:lnTo>
                    <a:pt x="267" y="1951"/>
                  </a:lnTo>
                  <a:lnTo>
                    <a:pt x="250" y="1929"/>
                  </a:lnTo>
                  <a:lnTo>
                    <a:pt x="234" y="1907"/>
                  </a:lnTo>
                  <a:lnTo>
                    <a:pt x="218" y="1886"/>
                  </a:lnTo>
                  <a:lnTo>
                    <a:pt x="207" y="1864"/>
                  </a:lnTo>
                  <a:lnTo>
                    <a:pt x="190" y="1842"/>
                  </a:lnTo>
                  <a:lnTo>
                    <a:pt x="174" y="1821"/>
                  </a:lnTo>
                  <a:lnTo>
                    <a:pt x="163" y="1794"/>
                  </a:lnTo>
                  <a:lnTo>
                    <a:pt x="147" y="1777"/>
                  </a:lnTo>
                  <a:lnTo>
                    <a:pt x="136" y="1750"/>
                  </a:lnTo>
                  <a:lnTo>
                    <a:pt x="125" y="1723"/>
                  </a:lnTo>
                  <a:lnTo>
                    <a:pt x="109" y="1702"/>
                  </a:lnTo>
                  <a:lnTo>
                    <a:pt x="98" y="1674"/>
                  </a:lnTo>
                  <a:lnTo>
                    <a:pt x="87" y="1653"/>
                  </a:lnTo>
                  <a:lnTo>
                    <a:pt x="81" y="1631"/>
                  </a:lnTo>
                  <a:lnTo>
                    <a:pt x="70" y="1604"/>
                  </a:lnTo>
                  <a:lnTo>
                    <a:pt x="60" y="1577"/>
                  </a:lnTo>
                  <a:lnTo>
                    <a:pt x="54" y="1550"/>
                  </a:lnTo>
                  <a:lnTo>
                    <a:pt x="43" y="1523"/>
                  </a:lnTo>
                  <a:lnTo>
                    <a:pt x="38" y="1501"/>
                  </a:lnTo>
                  <a:lnTo>
                    <a:pt x="32" y="1474"/>
                  </a:lnTo>
                  <a:lnTo>
                    <a:pt x="27" y="1447"/>
                  </a:lnTo>
                  <a:lnTo>
                    <a:pt x="21" y="1414"/>
                  </a:lnTo>
                  <a:lnTo>
                    <a:pt x="16" y="1393"/>
                  </a:lnTo>
                  <a:lnTo>
                    <a:pt x="10" y="1366"/>
                  </a:lnTo>
                  <a:lnTo>
                    <a:pt x="10" y="1339"/>
                  </a:lnTo>
                  <a:lnTo>
                    <a:pt x="5" y="1312"/>
                  </a:lnTo>
                  <a:lnTo>
                    <a:pt x="0" y="1284"/>
                  </a:lnTo>
                  <a:lnTo>
                    <a:pt x="0" y="1252"/>
                  </a:lnTo>
                  <a:lnTo>
                    <a:pt x="0" y="1225"/>
                  </a:lnTo>
                  <a:lnTo>
                    <a:pt x="0" y="1198"/>
                  </a:lnTo>
                  <a:close/>
                </a:path>
              </a:pathLst>
            </a:custGeom>
            <a:solidFill>
              <a:srgbClr val="070a0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00320" y="2711520"/>
              <a:ext cx="887760" cy="854280"/>
            </a:xfrm>
            <a:custGeom>
              <a:avLst/>
              <a:gdLst/>
              <a:ahLst/>
              <a:rect l="0" t="0" r="r" b="b"/>
              <a:pathLst>
                <a:path w="2466" h="2373">
                  <a:moveTo>
                    <a:pt x="0" y="1189"/>
                  </a:moveTo>
                  <a:lnTo>
                    <a:pt x="0" y="1156"/>
                  </a:lnTo>
                  <a:lnTo>
                    <a:pt x="0" y="1129"/>
                  </a:lnTo>
                  <a:lnTo>
                    <a:pt x="0" y="1102"/>
                  </a:lnTo>
                  <a:lnTo>
                    <a:pt x="0" y="1070"/>
                  </a:lnTo>
                  <a:lnTo>
                    <a:pt x="5" y="1043"/>
                  </a:lnTo>
                  <a:lnTo>
                    <a:pt x="10" y="1015"/>
                  </a:lnTo>
                  <a:lnTo>
                    <a:pt x="10" y="988"/>
                  </a:lnTo>
                  <a:lnTo>
                    <a:pt x="16" y="967"/>
                  </a:lnTo>
                  <a:lnTo>
                    <a:pt x="21" y="940"/>
                  </a:lnTo>
                  <a:lnTo>
                    <a:pt x="27" y="907"/>
                  </a:lnTo>
                  <a:lnTo>
                    <a:pt x="38" y="886"/>
                  </a:lnTo>
                  <a:lnTo>
                    <a:pt x="43" y="859"/>
                  </a:lnTo>
                  <a:lnTo>
                    <a:pt x="49" y="832"/>
                  </a:lnTo>
                  <a:lnTo>
                    <a:pt x="59" y="805"/>
                  </a:lnTo>
                  <a:lnTo>
                    <a:pt x="65" y="783"/>
                  </a:lnTo>
                  <a:lnTo>
                    <a:pt x="76" y="756"/>
                  </a:lnTo>
                  <a:lnTo>
                    <a:pt x="87" y="729"/>
                  </a:lnTo>
                  <a:lnTo>
                    <a:pt x="98" y="707"/>
                  </a:lnTo>
                  <a:lnTo>
                    <a:pt x="109" y="680"/>
                  </a:lnTo>
                  <a:lnTo>
                    <a:pt x="119" y="659"/>
                  </a:lnTo>
                  <a:lnTo>
                    <a:pt x="130" y="637"/>
                  </a:lnTo>
                  <a:lnTo>
                    <a:pt x="141" y="616"/>
                  </a:lnTo>
                  <a:lnTo>
                    <a:pt x="158" y="589"/>
                  </a:lnTo>
                  <a:lnTo>
                    <a:pt x="174" y="567"/>
                  </a:lnTo>
                  <a:lnTo>
                    <a:pt x="185" y="545"/>
                  </a:lnTo>
                  <a:lnTo>
                    <a:pt x="201" y="524"/>
                  </a:lnTo>
                  <a:lnTo>
                    <a:pt x="218" y="502"/>
                  </a:lnTo>
                  <a:lnTo>
                    <a:pt x="234" y="480"/>
                  </a:lnTo>
                  <a:lnTo>
                    <a:pt x="245" y="464"/>
                  </a:lnTo>
                  <a:lnTo>
                    <a:pt x="261" y="443"/>
                  </a:lnTo>
                  <a:lnTo>
                    <a:pt x="278" y="421"/>
                  </a:lnTo>
                  <a:lnTo>
                    <a:pt x="294" y="399"/>
                  </a:lnTo>
                  <a:lnTo>
                    <a:pt x="316" y="383"/>
                  </a:lnTo>
                  <a:lnTo>
                    <a:pt x="338" y="362"/>
                  </a:lnTo>
                  <a:lnTo>
                    <a:pt x="354" y="345"/>
                  </a:lnTo>
                  <a:lnTo>
                    <a:pt x="370" y="329"/>
                  </a:lnTo>
                  <a:lnTo>
                    <a:pt x="392" y="308"/>
                  </a:lnTo>
                  <a:lnTo>
                    <a:pt x="414" y="291"/>
                  </a:lnTo>
                  <a:lnTo>
                    <a:pt x="430" y="275"/>
                  </a:lnTo>
                  <a:lnTo>
                    <a:pt x="452" y="259"/>
                  </a:lnTo>
                  <a:lnTo>
                    <a:pt x="474" y="243"/>
                  </a:lnTo>
                  <a:lnTo>
                    <a:pt x="496" y="226"/>
                  </a:lnTo>
                  <a:lnTo>
                    <a:pt x="518" y="210"/>
                  </a:lnTo>
                  <a:lnTo>
                    <a:pt x="545" y="199"/>
                  </a:lnTo>
                  <a:lnTo>
                    <a:pt x="567" y="183"/>
                  </a:lnTo>
                  <a:lnTo>
                    <a:pt x="588" y="167"/>
                  </a:lnTo>
                  <a:lnTo>
                    <a:pt x="610" y="156"/>
                  </a:lnTo>
                  <a:lnTo>
                    <a:pt x="632" y="145"/>
                  </a:lnTo>
                  <a:lnTo>
                    <a:pt x="659" y="129"/>
                  </a:lnTo>
                  <a:lnTo>
                    <a:pt x="687" y="118"/>
                  </a:lnTo>
                  <a:lnTo>
                    <a:pt x="708" y="108"/>
                  </a:lnTo>
                  <a:lnTo>
                    <a:pt x="736" y="97"/>
                  </a:lnTo>
                  <a:lnTo>
                    <a:pt x="758" y="86"/>
                  </a:lnTo>
                  <a:lnTo>
                    <a:pt x="785" y="75"/>
                  </a:lnTo>
                  <a:lnTo>
                    <a:pt x="812" y="64"/>
                  </a:lnTo>
                  <a:lnTo>
                    <a:pt x="834" y="59"/>
                  </a:lnTo>
                  <a:lnTo>
                    <a:pt x="861" y="54"/>
                  </a:lnTo>
                  <a:lnTo>
                    <a:pt x="888" y="43"/>
                  </a:lnTo>
                  <a:lnTo>
                    <a:pt x="916" y="37"/>
                  </a:lnTo>
                  <a:lnTo>
                    <a:pt x="943" y="32"/>
                  </a:lnTo>
                  <a:lnTo>
                    <a:pt x="970" y="27"/>
                  </a:lnTo>
                  <a:lnTo>
                    <a:pt x="998" y="21"/>
                  </a:lnTo>
                  <a:lnTo>
                    <a:pt x="1030" y="16"/>
                  </a:lnTo>
                  <a:lnTo>
                    <a:pt x="1058" y="10"/>
                  </a:lnTo>
                  <a:lnTo>
                    <a:pt x="1085" y="10"/>
                  </a:lnTo>
                  <a:lnTo>
                    <a:pt x="1112" y="5"/>
                  </a:lnTo>
                  <a:lnTo>
                    <a:pt x="1145" y="5"/>
                  </a:lnTo>
                  <a:lnTo>
                    <a:pt x="1172" y="5"/>
                  </a:lnTo>
                  <a:lnTo>
                    <a:pt x="1199" y="0"/>
                  </a:lnTo>
                  <a:lnTo>
                    <a:pt x="1232" y="0"/>
                  </a:lnTo>
                  <a:lnTo>
                    <a:pt x="1260" y="0"/>
                  </a:lnTo>
                  <a:lnTo>
                    <a:pt x="1288" y="5"/>
                  </a:lnTo>
                  <a:lnTo>
                    <a:pt x="1315" y="5"/>
                  </a:lnTo>
                  <a:lnTo>
                    <a:pt x="1348" y="5"/>
                  </a:lnTo>
                  <a:lnTo>
                    <a:pt x="1375" y="10"/>
                  </a:lnTo>
                  <a:lnTo>
                    <a:pt x="1402" y="10"/>
                  </a:lnTo>
                  <a:lnTo>
                    <a:pt x="1435" y="16"/>
                  </a:lnTo>
                  <a:lnTo>
                    <a:pt x="1462" y="21"/>
                  </a:lnTo>
                  <a:lnTo>
                    <a:pt x="1484" y="27"/>
                  </a:lnTo>
                  <a:lnTo>
                    <a:pt x="1511" y="32"/>
                  </a:lnTo>
                  <a:lnTo>
                    <a:pt x="1538" y="37"/>
                  </a:lnTo>
                  <a:lnTo>
                    <a:pt x="1571" y="43"/>
                  </a:lnTo>
                  <a:lnTo>
                    <a:pt x="1598" y="54"/>
                  </a:lnTo>
                  <a:lnTo>
                    <a:pt x="1620" y="59"/>
                  </a:lnTo>
                  <a:lnTo>
                    <a:pt x="1647" y="64"/>
                  </a:lnTo>
                  <a:lnTo>
                    <a:pt x="1675" y="75"/>
                  </a:lnTo>
                  <a:lnTo>
                    <a:pt x="1697" y="86"/>
                  </a:lnTo>
                  <a:lnTo>
                    <a:pt x="1729" y="97"/>
                  </a:lnTo>
                  <a:lnTo>
                    <a:pt x="1751" y="108"/>
                  </a:lnTo>
                  <a:lnTo>
                    <a:pt x="1778" y="118"/>
                  </a:lnTo>
                  <a:lnTo>
                    <a:pt x="1800" y="129"/>
                  </a:lnTo>
                  <a:lnTo>
                    <a:pt x="1822" y="145"/>
                  </a:lnTo>
                  <a:lnTo>
                    <a:pt x="1849" y="156"/>
                  </a:lnTo>
                  <a:lnTo>
                    <a:pt x="1871" y="167"/>
                  </a:lnTo>
                  <a:lnTo>
                    <a:pt x="1898" y="183"/>
                  </a:lnTo>
                  <a:lnTo>
                    <a:pt x="1920" y="199"/>
                  </a:lnTo>
                  <a:lnTo>
                    <a:pt x="1942" y="210"/>
                  </a:lnTo>
                  <a:lnTo>
                    <a:pt x="1964" y="226"/>
                  </a:lnTo>
                  <a:lnTo>
                    <a:pt x="1986" y="243"/>
                  </a:lnTo>
                  <a:lnTo>
                    <a:pt x="2007" y="259"/>
                  </a:lnTo>
                  <a:lnTo>
                    <a:pt x="2024" y="275"/>
                  </a:lnTo>
                  <a:lnTo>
                    <a:pt x="2046" y="291"/>
                  </a:lnTo>
                  <a:lnTo>
                    <a:pt x="2067" y="308"/>
                  </a:lnTo>
                  <a:lnTo>
                    <a:pt x="2089" y="329"/>
                  </a:lnTo>
                  <a:lnTo>
                    <a:pt x="2106" y="345"/>
                  </a:lnTo>
                  <a:lnTo>
                    <a:pt x="2122" y="362"/>
                  </a:lnTo>
                  <a:lnTo>
                    <a:pt x="2144" y="383"/>
                  </a:lnTo>
                  <a:lnTo>
                    <a:pt x="2160" y="399"/>
                  </a:lnTo>
                  <a:lnTo>
                    <a:pt x="2176" y="421"/>
                  </a:lnTo>
                  <a:lnTo>
                    <a:pt x="2193" y="443"/>
                  </a:lnTo>
                  <a:lnTo>
                    <a:pt x="2209" y="464"/>
                  </a:lnTo>
                  <a:lnTo>
                    <a:pt x="2226" y="480"/>
                  </a:lnTo>
                  <a:lnTo>
                    <a:pt x="2242" y="502"/>
                  </a:lnTo>
                  <a:lnTo>
                    <a:pt x="2258" y="524"/>
                  </a:lnTo>
                  <a:lnTo>
                    <a:pt x="2275" y="545"/>
                  </a:lnTo>
                  <a:lnTo>
                    <a:pt x="2286" y="567"/>
                  </a:lnTo>
                  <a:lnTo>
                    <a:pt x="2302" y="589"/>
                  </a:lnTo>
                  <a:lnTo>
                    <a:pt x="2313" y="616"/>
                  </a:lnTo>
                  <a:lnTo>
                    <a:pt x="2329" y="637"/>
                  </a:lnTo>
                  <a:lnTo>
                    <a:pt x="2340" y="659"/>
                  </a:lnTo>
                  <a:lnTo>
                    <a:pt x="2351" y="680"/>
                  </a:lnTo>
                  <a:lnTo>
                    <a:pt x="2362" y="707"/>
                  </a:lnTo>
                  <a:lnTo>
                    <a:pt x="2373" y="729"/>
                  </a:lnTo>
                  <a:lnTo>
                    <a:pt x="2384" y="756"/>
                  </a:lnTo>
                  <a:lnTo>
                    <a:pt x="2389" y="783"/>
                  </a:lnTo>
                  <a:lnTo>
                    <a:pt x="2400" y="805"/>
                  </a:lnTo>
                  <a:lnTo>
                    <a:pt x="2411" y="832"/>
                  </a:lnTo>
                  <a:lnTo>
                    <a:pt x="2416" y="859"/>
                  </a:lnTo>
                  <a:lnTo>
                    <a:pt x="2427" y="886"/>
                  </a:lnTo>
                  <a:lnTo>
                    <a:pt x="2433" y="907"/>
                  </a:lnTo>
                  <a:lnTo>
                    <a:pt x="2438" y="940"/>
                  </a:lnTo>
                  <a:lnTo>
                    <a:pt x="2444" y="967"/>
                  </a:lnTo>
                  <a:lnTo>
                    <a:pt x="2449" y="988"/>
                  </a:lnTo>
                  <a:lnTo>
                    <a:pt x="2455" y="1015"/>
                  </a:lnTo>
                  <a:lnTo>
                    <a:pt x="2455" y="1043"/>
                  </a:lnTo>
                  <a:lnTo>
                    <a:pt x="2460" y="1070"/>
                  </a:lnTo>
                  <a:lnTo>
                    <a:pt x="2460" y="1102"/>
                  </a:lnTo>
                  <a:lnTo>
                    <a:pt x="2466" y="1129"/>
                  </a:lnTo>
                  <a:lnTo>
                    <a:pt x="2466" y="1156"/>
                  </a:lnTo>
                  <a:lnTo>
                    <a:pt x="2466" y="1189"/>
                  </a:lnTo>
                  <a:lnTo>
                    <a:pt x="2466" y="1211"/>
                  </a:lnTo>
                  <a:lnTo>
                    <a:pt x="2466" y="1243"/>
                  </a:lnTo>
                  <a:lnTo>
                    <a:pt x="2460" y="1270"/>
                  </a:lnTo>
                  <a:lnTo>
                    <a:pt x="2460" y="1298"/>
                  </a:lnTo>
                  <a:lnTo>
                    <a:pt x="2455" y="1325"/>
                  </a:lnTo>
                  <a:lnTo>
                    <a:pt x="2455" y="1352"/>
                  </a:lnTo>
                  <a:lnTo>
                    <a:pt x="2449" y="1379"/>
                  </a:lnTo>
                  <a:lnTo>
                    <a:pt x="2444" y="1406"/>
                  </a:lnTo>
                  <a:lnTo>
                    <a:pt x="2438" y="1438"/>
                  </a:lnTo>
                  <a:lnTo>
                    <a:pt x="2433" y="1460"/>
                  </a:lnTo>
                  <a:lnTo>
                    <a:pt x="2427" y="1487"/>
                  </a:lnTo>
                  <a:lnTo>
                    <a:pt x="2416" y="1514"/>
                  </a:lnTo>
                  <a:lnTo>
                    <a:pt x="2411" y="1541"/>
                  </a:lnTo>
                  <a:lnTo>
                    <a:pt x="2400" y="1562"/>
                  </a:lnTo>
                  <a:lnTo>
                    <a:pt x="2389" y="1589"/>
                  </a:lnTo>
                  <a:lnTo>
                    <a:pt x="2384" y="1616"/>
                  </a:lnTo>
                  <a:lnTo>
                    <a:pt x="2373" y="1638"/>
                  </a:lnTo>
                  <a:lnTo>
                    <a:pt x="2362" y="1665"/>
                  </a:lnTo>
                  <a:lnTo>
                    <a:pt x="2351" y="1687"/>
                  </a:lnTo>
                  <a:lnTo>
                    <a:pt x="2340" y="1714"/>
                  </a:lnTo>
                  <a:lnTo>
                    <a:pt x="2329" y="1735"/>
                  </a:lnTo>
                  <a:lnTo>
                    <a:pt x="2313" y="1762"/>
                  </a:lnTo>
                  <a:lnTo>
                    <a:pt x="2302" y="1784"/>
                  </a:lnTo>
                  <a:lnTo>
                    <a:pt x="2286" y="1805"/>
                  </a:lnTo>
                  <a:lnTo>
                    <a:pt x="2275" y="1827"/>
                  </a:lnTo>
                  <a:lnTo>
                    <a:pt x="2258" y="1849"/>
                  </a:lnTo>
                  <a:lnTo>
                    <a:pt x="2242" y="1870"/>
                  </a:lnTo>
                  <a:lnTo>
                    <a:pt x="2226" y="1892"/>
                  </a:lnTo>
                  <a:lnTo>
                    <a:pt x="2209" y="1914"/>
                  </a:lnTo>
                  <a:lnTo>
                    <a:pt x="2193" y="1935"/>
                  </a:lnTo>
                  <a:lnTo>
                    <a:pt x="2176" y="1951"/>
                  </a:lnTo>
                  <a:lnTo>
                    <a:pt x="2160" y="1973"/>
                  </a:lnTo>
                  <a:lnTo>
                    <a:pt x="2144" y="1995"/>
                  </a:lnTo>
                  <a:lnTo>
                    <a:pt x="2122" y="2011"/>
                  </a:lnTo>
                  <a:lnTo>
                    <a:pt x="2106" y="2027"/>
                  </a:lnTo>
                  <a:lnTo>
                    <a:pt x="2089" y="2049"/>
                  </a:lnTo>
                  <a:lnTo>
                    <a:pt x="2067" y="2065"/>
                  </a:lnTo>
                  <a:lnTo>
                    <a:pt x="2046" y="2087"/>
                  </a:lnTo>
                  <a:lnTo>
                    <a:pt x="2024" y="2097"/>
                  </a:lnTo>
                  <a:lnTo>
                    <a:pt x="2007" y="2119"/>
                  </a:lnTo>
                  <a:lnTo>
                    <a:pt x="1986" y="2130"/>
                  </a:lnTo>
                  <a:lnTo>
                    <a:pt x="1964" y="2146"/>
                  </a:lnTo>
                  <a:lnTo>
                    <a:pt x="1942" y="2162"/>
                  </a:lnTo>
                  <a:lnTo>
                    <a:pt x="1920" y="2178"/>
                  </a:lnTo>
                  <a:lnTo>
                    <a:pt x="1898" y="2189"/>
                  </a:lnTo>
                  <a:lnTo>
                    <a:pt x="1871" y="2205"/>
                  </a:lnTo>
                  <a:lnTo>
                    <a:pt x="1849" y="2216"/>
                  </a:lnTo>
                  <a:lnTo>
                    <a:pt x="1822" y="2227"/>
                  </a:lnTo>
                  <a:lnTo>
                    <a:pt x="1800" y="2243"/>
                  </a:lnTo>
                  <a:lnTo>
                    <a:pt x="1778" y="2254"/>
                  </a:lnTo>
                  <a:lnTo>
                    <a:pt x="1751" y="2265"/>
                  </a:lnTo>
                  <a:lnTo>
                    <a:pt x="1729" y="2276"/>
                  </a:lnTo>
                  <a:lnTo>
                    <a:pt x="1697" y="2286"/>
                  </a:lnTo>
                  <a:lnTo>
                    <a:pt x="1675" y="2297"/>
                  </a:lnTo>
                  <a:lnTo>
                    <a:pt x="1647" y="2308"/>
                  </a:lnTo>
                  <a:lnTo>
                    <a:pt x="1620" y="2313"/>
                  </a:lnTo>
                  <a:lnTo>
                    <a:pt x="1598" y="2324"/>
                  </a:lnTo>
                  <a:lnTo>
                    <a:pt x="1571" y="2330"/>
                  </a:lnTo>
                  <a:lnTo>
                    <a:pt x="1538" y="2335"/>
                  </a:lnTo>
                  <a:lnTo>
                    <a:pt x="1511" y="2341"/>
                  </a:lnTo>
                  <a:lnTo>
                    <a:pt x="1484" y="2351"/>
                  </a:lnTo>
                  <a:lnTo>
                    <a:pt x="1462" y="2351"/>
                  </a:lnTo>
                  <a:lnTo>
                    <a:pt x="1435" y="2357"/>
                  </a:lnTo>
                  <a:lnTo>
                    <a:pt x="1402" y="2362"/>
                  </a:lnTo>
                  <a:lnTo>
                    <a:pt x="1375" y="2368"/>
                  </a:lnTo>
                  <a:lnTo>
                    <a:pt x="1348" y="2368"/>
                  </a:lnTo>
                  <a:lnTo>
                    <a:pt x="1315" y="2373"/>
                  </a:lnTo>
                  <a:lnTo>
                    <a:pt x="1288" y="2373"/>
                  </a:lnTo>
                  <a:lnTo>
                    <a:pt x="1260" y="2373"/>
                  </a:lnTo>
                  <a:lnTo>
                    <a:pt x="1199" y="2373"/>
                  </a:lnTo>
                  <a:lnTo>
                    <a:pt x="1172" y="2373"/>
                  </a:lnTo>
                  <a:lnTo>
                    <a:pt x="1145" y="2373"/>
                  </a:lnTo>
                  <a:lnTo>
                    <a:pt x="1112" y="2368"/>
                  </a:lnTo>
                  <a:lnTo>
                    <a:pt x="1085" y="2368"/>
                  </a:lnTo>
                  <a:lnTo>
                    <a:pt x="1058" y="2362"/>
                  </a:lnTo>
                  <a:lnTo>
                    <a:pt x="1030" y="2357"/>
                  </a:lnTo>
                  <a:lnTo>
                    <a:pt x="998" y="2351"/>
                  </a:lnTo>
                  <a:lnTo>
                    <a:pt x="970" y="2351"/>
                  </a:lnTo>
                  <a:lnTo>
                    <a:pt x="943" y="2341"/>
                  </a:lnTo>
                  <a:lnTo>
                    <a:pt x="916" y="2335"/>
                  </a:lnTo>
                  <a:lnTo>
                    <a:pt x="888" y="2330"/>
                  </a:lnTo>
                  <a:lnTo>
                    <a:pt x="861" y="2324"/>
                  </a:lnTo>
                  <a:lnTo>
                    <a:pt x="834" y="2313"/>
                  </a:lnTo>
                  <a:lnTo>
                    <a:pt x="812" y="2308"/>
                  </a:lnTo>
                  <a:lnTo>
                    <a:pt x="785" y="2297"/>
                  </a:lnTo>
                  <a:lnTo>
                    <a:pt x="758" y="2286"/>
                  </a:lnTo>
                  <a:lnTo>
                    <a:pt x="736" y="2276"/>
                  </a:lnTo>
                  <a:lnTo>
                    <a:pt x="708" y="2265"/>
                  </a:lnTo>
                  <a:lnTo>
                    <a:pt x="687" y="2254"/>
                  </a:lnTo>
                  <a:lnTo>
                    <a:pt x="659" y="2243"/>
                  </a:lnTo>
                  <a:lnTo>
                    <a:pt x="632" y="2227"/>
                  </a:lnTo>
                  <a:lnTo>
                    <a:pt x="610" y="2216"/>
                  </a:lnTo>
                  <a:lnTo>
                    <a:pt x="588" y="2205"/>
                  </a:lnTo>
                  <a:lnTo>
                    <a:pt x="567" y="2189"/>
                  </a:lnTo>
                  <a:lnTo>
                    <a:pt x="545" y="2178"/>
                  </a:lnTo>
                  <a:lnTo>
                    <a:pt x="518" y="2162"/>
                  </a:lnTo>
                  <a:lnTo>
                    <a:pt x="496" y="2146"/>
                  </a:lnTo>
                  <a:lnTo>
                    <a:pt x="474" y="2130"/>
                  </a:lnTo>
                  <a:lnTo>
                    <a:pt x="452" y="2119"/>
                  </a:lnTo>
                  <a:lnTo>
                    <a:pt x="430" y="2097"/>
                  </a:lnTo>
                  <a:lnTo>
                    <a:pt x="414" y="2087"/>
                  </a:lnTo>
                  <a:lnTo>
                    <a:pt x="392" y="2065"/>
                  </a:lnTo>
                  <a:lnTo>
                    <a:pt x="370" y="2049"/>
                  </a:lnTo>
                  <a:lnTo>
                    <a:pt x="354" y="2027"/>
                  </a:lnTo>
                  <a:lnTo>
                    <a:pt x="338" y="2011"/>
                  </a:lnTo>
                  <a:lnTo>
                    <a:pt x="316" y="1995"/>
                  </a:lnTo>
                  <a:lnTo>
                    <a:pt x="294" y="1973"/>
                  </a:lnTo>
                  <a:lnTo>
                    <a:pt x="278" y="1951"/>
                  </a:lnTo>
                  <a:lnTo>
                    <a:pt x="261" y="1935"/>
                  </a:lnTo>
                  <a:lnTo>
                    <a:pt x="245" y="1914"/>
                  </a:lnTo>
                  <a:lnTo>
                    <a:pt x="234" y="1892"/>
                  </a:lnTo>
                  <a:lnTo>
                    <a:pt x="218" y="1870"/>
                  </a:lnTo>
                  <a:lnTo>
                    <a:pt x="201" y="1849"/>
                  </a:lnTo>
                  <a:lnTo>
                    <a:pt x="185" y="1827"/>
                  </a:lnTo>
                  <a:lnTo>
                    <a:pt x="174" y="1805"/>
                  </a:lnTo>
                  <a:lnTo>
                    <a:pt x="158" y="1784"/>
                  </a:lnTo>
                  <a:lnTo>
                    <a:pt x="141" y="1762"/>
                  </a:lnTo>
                  <a:lnTo>
                    <a:pt x="130" y="1735"/>
                  </a:lnTo>
                  <a:lnTo>
                    <a:pt x="119" y="1714"/>
                  </a:lnTo>
                  <a:lnTo>
                    <a:pt x="109" y="1687"/>
                  </a:lnTo>
                  <a:lnTo>
                    <a:pt x="98" y="1665"/>
                  </a:lnTo>
                  <a:lnTo>
                    <a:pt x="87" y="1638"/>
                  </a:lnTo>
                  <a:lnTo>
                    <a:pt x="76" y="1616"/>
                  </a:lnTo>
                  <a:lnTo>
                    <a:pt x="65" y="1589"/>
                  </a:lnTo>
                  <a:lnTo>
                    <a:pt x="59" y="1562"/>
                  </a:lnTo>
                  <a:lnTo>
                    <a:pt x="49" y="1541"/>
                  </a:lnTo>
                  <a:lnTo>
                    <a:pt x="43" y="1514"/>
                  </a:lnTo>
                  <a:lnTo>
                    <a:pt x="38" y="1487"/>
                  </a:lnTo>
                  <a:lnTo>
                    <a:pt x="27" y="1460"/>
                  </a:lnTo>
                  <a:lnTo>
                    <a:pt x="21" y="1438"/>
                  </a:lnTo>
                  <a:lnTo>
                    <a:pt x="16" y="1406"/>
                  </a:lnTo>
                  <a:lnTo>
                    <a:pt x="10" y="1379"/>
                  </a:lnTo>
                  <a:lnTo>
                    <a:pt x="10" y="1352"/>
                  </a:lnTo>
                  <a:lnTo>
                    <a:pt x="5" y="1325"/>
                  </a:lnTo>
                  <a:lnTo>
                    <a:pt x="0" y="1298"/>
                  </a:lnTo>
                  <a:lnTo>
                    <a:pt x="0" y="1270"/>
                  </a:lnTo>
                  <a:lnTo>
                    <a:pt x="0" y="1243"/>
                  </a:lnTo>
                  <a:lnTo>
                    <a:pt x="0" y="1211"/>
                  </a:lnTo>
                  <a:lnTo>
                    <a:pt x="0" y="1189"/>
                  </a:lnTo>
                  <a:close/>
                </a:path>
              </a:pathLst>
            </a:custGeom>
            <a:solidFill>
              <a:srgbClr val="0f141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01760" y="2716200"/>
              <a:ext cx="881280" cy="848160"/>
            </a:xfrm>
            <a:custGeom>
              <a:avLst/>
              <a:gdLst/>
              <a:ahLst/>
              <a:rect l="0" t="0" r="r" b="b"/>
              <a:pathLst>
                <a:path w="2448" h="2356">
                  <a:moveTo>
                    <a:pt x="0" y="1178"/>
                  </a:moveTo>
                  <a:lnTo>
                    <a:pt x="0" y="1145"/>
                  </a:lnTo>
                  <a:lnTo>
                    <a:pt x="0" y="1118"/>
                  </a:lnTo>
                  <a:lnTo>
                    <a:pt x="5" y="1091"/>
                  </a:lnTo>
                  <a:lnTo>
                    <a:pt x="5" y="1064"/>
                  </a:lnTo>
                  <a:lnTo>
                    <a:pt x="5" y="1032"/>
                  </a:lnTo>
                  <a:lnTo>
                    <a:pt x="10" y="1010"/>
                  </a:lnTo>
                  <a:lnTo>
                    <a:pt x="16" y="983"/>
                  </a:lnTo>
                  <a:lnTo>
                    <a:pt x="21" y="956"/>
                  </a:lnTo>
                  <a:lnTo>
                    <a:pt x="27" y="929"/>
                  </a:lnTo>
                  <a:lnTo>
                    <a:pt x="32" y="902"/>
                  </a:lnTo>
                  <a:lnTo>
                    <a:pt x="38" y="875"/>
                  </a:lnTo>
                  <a:lnTo>
                    <a:pt x="43" y="848"/>
                  </a:lnTo>
                  <a:lnTo>
                    <a:pt x="49" y="821"/>
                  </a:lnTo>
                  <a:lnTo>
                    <a:pt x="59" y="800"/>
                  </a:lnTo>
                  <a:lnTo>
                    <a:pt x="70" y="773"/>
                  </a:lnTo>
                  <a:lnTo>
                    <a:pt x="76" y="746"/>
                  </a:lnTo>
                  <a:lnTo>
                    <a:pt x="87" y="724"/>
                  </a:lnTo>
                  <a:lnTo>
                    <a:pt x="98" y="697"/>
                  </a:lnTo>
                  <a:lnTo>
                    <a:pt x="109" y="676"/>
                  </a:lnTo>
                  <a:lnTo>
                    <a:pt x="119" y="654"/>
                  </a:lnTo>
                  <a:lnTo>
                    <a:pt x="130" y="627"/>
                  </a:lnTo>
                  <a:lnTo>
                    <a:pt x="147" y="605"/>
                  </a:lnTo>
                  <a:lnTo>
                    <a:pt x="158" y="583"/>
                  </a:lnTo>
                  <a:lnTo>
                    <a:pt x="174" y="556"/>
                  </a:lnTo>
                  <a:lnTo>
                    <a:pt x="190" y="540"/>
                  </a:lnTo>
                  <a:lnTo>
                    <a:pt x="201" y="518"/>
                  </a:lnTo>
                  <a:lnTo>
                    <a:pt x="218" y="496"/>
                  </a:lnTo>
                  <a:lnTo>
                    <a:pt x="234" y="475"/>
                  </a:lnTo>
                  <a:lnTo>
                    <a:pt x="250" y="459"/>
                  </a:lnTo>
                  <a:lnTo>
                    <a:pt x="267" y="437"/>
                  </a:lnTo>
                  <a:lnTo>
                    <a:pt x="283" y="415"/>
                  </a:lnTo>
                  <a:lnTo>
                    <a:pt x="299" y="394"/>
                  </a:lnTo>
                  <a:lnTo>
                    <a:pt x="316" y="378"/>
                  </a:lnTo>
                  <a:lnTo>
                    <a:pt x="337" y="356"/>
                  </a:lnTo>
                  <a:lnTo>
                    <a:pt x="354" y="340"/>
                  </a:lnTo>
                  <a:lnTo>
                    <a:pt x="376" y="318"/>
                  </a:lnTo>
                  <a:lnTo>
                    <a:pt x="392" y="302"/>
                  </a:lnTo>
                  <a:lnTo>
                    <a:pt x="414" y="286"/>
                  </a:lnTo>
                  <a:lnTo>
                    <a:pt x="430" y="270"/>
                  </a:lnTo>
                  <a:lnTo>
                    <a:pt x="452" y="253"/>
                  </a:lnTo>
                  <a:lnTo>
                    <a:pt x="474" y="237"/>
                  </a:lnTo>
                  <a:lnTo>
                    <a:pt x="496" y="221"/>
                  </a:lnTo>
                  <a:lnTo>
                    <a:pt x="517" y="205"/>
                  </a:lnTo>
                  <a:lnTo>
                    <a:pt x="539" y="194"/>
                  </a:lnTo>
                  <a:lnTo>
                    <a:pt x="566" y="178"/>
                  </a:lnTo>
                  <a:lnTo>
                    <a:pt x="583" y="167"/>
                  </a:lnTo>
                  <a:lnTo>
                    <a:pt x="610" y="151"/>
                  </a:lnTo>
                  <a:lnTo>
                    <a:pt x="632" y="140"/>
                  </a:lnTo>
                  <a:lnTo>
                    <a:pt x="654" y="129"/>
                  </a:lnTo>
                  <a:lnTo>
                    <a:pt x="681" y="118"/>
                  </a:lnTo>
                  <a:lnTo>
                    <a:pt x="708" y="108"/>
                  </a:lnTo>
                  <a:lnTo>
                    <a:pt x="730" y="91"/>
                  </a:lnTo>
                  <a:lnTo>
                    <a:pt x="757" y="81"/>
                  </a:lnTo>
                  <a:lnTo>
                    <a:pt x="779" y="75"/>
                  </a:lnTo>
                  <a:lnTo>
                    <a:pt x="806" y="64"/>
                  </a:lnTo>
                  <a:lnTo>
                    <a:pt x="833" y="54"/>
                  </a:lnTo>
                  <a:lnTo>
                    <a:pt x="861" y="48"/>
                  </a:lnTo>
                  <a:lnTo>
                    <a:pt x="888" y="43"/>
                  </a:lnTo>
                  <a:lnTo>
                    <a:pt x="915" y="32"/>
                  </a:lnTo>
                  <a:lnTo>
                    <a:pt x="937" y="27"/>
                  </a:lnTo>
                  <a:lnTo>
                    <a:pt x="964" y="21"/>
                  </a:lnTo>
                  <a:lnTo>
                    <a:pt x="992" y="16"/>
                  </a:lnTo>
                  <a:lnTo>
                    <a:pt x="1024" y="10"/>
                  </a:lnTo>
                  <a:lnTo>
                    <a:pt x="1051" y="10"/>
                  </a:lnTo>
                  <a:lnTo>
                    <a:pt x="1079" y="5"/>
                  </a:lnTo>
                  <a:lnTo>
                    <a:pt x="1106" y="5"/>
                  </a:lnTo>
                  <a:lnTo>
                    <a:pt x="1139" y="0"/>
                  </a:lnTo>
                  <a:lnTo>
                    <a:pt x="1166" y="0"/>
                  </a:lnTo>
                  <a:lnTo>
                    <a:pt x="1193" y="0"/>
                  </a:lnTo>
                  <a:lnTo>
                    <a:pt x="1254" y="0"/>
                  </a:lnTo>
                  <a:lnTo>
                    <a:pt x="1281" y="0"/>
                  </a:lnTo>
                  <a:lnTo>
                    <a:pt x="1309" y="0"/>
                  </a:lnTo>
                  <a:lnTo>
                    <a:pt x="1336" y="5"/>
                  </a:lnTo>
                  <a:lnTo>
                    <a:pt x="1369" y="5"/>
                  </a:lnTo>
                  <a:lnTo>
                    <a:pt x="1396" y="10"/>
                  </a:lnTo>
                  <a:lnTo>
                    <a:pt x="1423" y="10"/>
                  </a:lnTo>
                  <a:lnTo>
                    <a:pt x="1450" y="16"/>
                  </a:lnTo>
                  <a:lnTo>
                    <a:pt x="1478" y="21"/>
                  </a:lnTo>
                  <a:lnTo>
                    <a:pt x="1505" y="27"/>
                  </a:lnTo>
                  <a:lnTo>
                    <a:pt x="1532" y="32"/>
                  </a:lnTo>
                  <a:lnTo>
                    <a:pt x="1559" y="43"/>
                  </a:lnTo>
                  <a:lnTo>
                    <a:pt x="1587" y="48"/>
                  </a:lnTo>
                  <a:lnTo>
                    <a:pt x="1614" y="54"/>
                  </a:lnTo>
                  <a:lnTo>
                    <a:pt x="1641" y="64"/>
                  </a:lnTo>
                  <a:lnTo>
                    <a:pt x="1663" y="75"/>
                  </a:lnTo>
                  <a:lnTo>
                    <a:pt x="1690" y="81"/>
                  </a:lnTo>
                  <a:lnTo>
                    <a:pt x="1717" y="91"/>
                  </a:lnTo>
                  <a:lnTo>
                    <a:pt x="1739" y="108"/>
                  </a:lnTo>
                  <a:lnTo>
                    <a:pt x="1767" y="118"/>
                  </a:lnTo>
                  <a:lnTo>
                    <a:pt x="1788" y="129"/>
                  </a:lnTo>
                  <a:lnTo>
                    <a:pt x="1816" y="140"/>
                  </a:lnTo>
                  <a:lnTo>
                    <a:pt x="1837" y="151"/>
                  </a:lnTo>
                  <a:lnTo>
                    <a:pt x="1859" y="167"/>
                  </a:lnTo>
                  <a:lnTo>
                    <a:pt x="1881" y="178"/>
                  </a:lnTo>
                  <a:lnTo>
                    <a:pt x="1908" y="194"/>
                  </a:lnTo>
                  <a:lnTo>
                    <a:pt x="1930" y="205"/>
                  </a:lnTo>
                  <a:lnTo>
                    <a:pt x="1952" y="221"/>
                  </a:lnTo>
                  <a:lnTo>
                    <a:pt x="1974" y="237"/>
                  </a:lnTo>
                  <a:lnTo>
                    <a:pt x="1995" y="253"/>
                  </a:lnTo>
                  <a:lnTo>
                    <a:pt x="2012" y="270"/>
                  </a:lnTo>
                  <a:lnTo>
                    <a:pt x="2034" y="286"/>
                  </a:lnTo>
                  <a:lnTo>
                    <a:pt x="2050" y="302"/>
                  </a:lnTo>
                  <a:lnTo>
                    <a:pt x="2077" y="318"/>
                  </a:lnTo>
                  <a:lnTo>
                    <a:pt x="2094" y="340"/>
                  </a:lnTo>
                  <a:lnTo>
                    <a:pt x="2110" y="356"/>
                  </a:lnTo>
                  <a:lnTo>
                    <a:pt x="2132" y="378"/>
                  </a:lnTo>
                  <a:lnTo>
                    <a:pt x="2148" y="394"/>
                  </a:lnTo>
                  <a:lnTo>
                    <a:pt x="2164" y="415"/>
                  </a:lnTo>
                  <a:lnTo>
                    <a:pt x="2181" y="437"/>
                  </a:lnTo>
                  <a:lnTo>
                    <a:pt x="2197" y="459"/>
                  </a:lnTo>
                  <a:lnTo>
                    <a:pt x="2214" y="475"/>
                  </a:lnTo>
                  <a:lnTo>
                    <a:pt x="2230" y="496"/>
                  </a:lnTo>
                  <a:lnTo>
                    <a:pt x="2246" y="518"/>
                  </a:lnTo>
                  <a:lnTo>
                    <a:pt x="2263" y="540"/>
                  </a:lnTo>
                  <a:lnTo>
                    <a:pt x="2273" y="556"/>
                  </a:lnTo>
                  <a:lnTo>
                    <a:pt x="2290" y="583"/>
                  </a:lnTo>
                  <a:lnTo>
                    <a:pt x="2301" y="605"/>
                  </a:lnTo>
                  <a:lnTo>
                    <a:pt x="2312" y="627"/>
                  </a:lnTo>
                  <a:lnTo>
                    <a:pt x="2328" y="654"/>
                  </a:lnTo>
                  <a:lnTo>
                    <a:pt x="2339" y="676"/>
                  </a:lnTo>
                  <a:lnTo>
                    <a:pt x="2350" y="697"/>
                  </a:lnTo>
                  <a:lnTo>
                    <a:pt x="2355" y="724"/>
                  </a:lnTo>
                  <a:lnTo>
                    <a:pt x="2366" y="746"/>
                  </a:lnTo>
                  <a:lnTo>
                    <a:pt x="2377" y="773"/>
                  </a:lnTo>
                  <a:lnTo>
                    <a:pt x="2388" y="800"/>
                  </a:lnTo>
                  <a:lnTo>
                    <a:pt x="2393" y="821"/>
                  </a:lnTo>
                  <a:lnTo>
                    <a:pt x="2404" y="848"/>
                  </a:lnTo>
                  <a:lnTo>
                    <a:pt x="2410" y="875"/>
                  </a:lnTo>
                  <a:lnTo>
                    <a:pt x="2421" y="902"/>
                  </a:lnTo>
                  <a:lnTo>
                    <a:pt x="2421" y="929"/>
                  </a:lnTo>
                  <a:lnTo>
                    <a:pt x="2426" y="956"/>
                  </a:lnTo>
                  <a:lnTo>
                    <a:pt x="2432" y="983"/>
                  </a:lnTo>
                  <a:lnTo>
                    <a:pt x="2437" y="1010"/>
                  </a:lnTo>
                  <a:lnTo>
                    <a:pt x="2442" y="1032"/>
                  </a:lnTo>
                  <a:lnTo>
                    <a:pt x="2442" y="1064"/>
                  </a:lnTo>
                  <a:lnTo>
                    <a:pt x="2448" y="1091"/>
                  </a:lnTo>
                  <a:lnTo>
                    <a:pt x="2448" y="1118"/>
                  </a:lnTo>
                  <a:lnTo>
                    <a:pt x="2448" y="1145"/>
                  </a:lnTo>
                  <a:lnTo>
                    <a:pt x="2448" y="1178"/>
                  </a:lnTo>
                  <a:lnTo>
                    <a:pt x="2448" y="1199"/>
                  </a:lnTo>
                  <a:lnTo>
                    <a:pt x="2448" y="1232"/>
                  </a:lnTo>
                  <a:lnTo>
                    <a:pt x="2448" y="1259"/>
                  </a:lnTo>
                  <a:lnTo>
                    <a:pt x="2442" y="1286"/>
                  </a:lnTo>
                  <a:lnTo>
                    <a:pt x="2442" y="1313"/>
                  </a:lnTo>
                  <a:lnTo>
                    <a:pt x="2437" y="1340"/>
                  </a:lnTo>
                  <a:lnTo>
                    <a:pt x="2432" y="1367"/>
                  </a:lnTo>
                  <a:lnTo>
                    <a:pt x="2426" y="1394"/>
                  </a:lnTo>
                  <a:lnTo>
                    <a:pt x="2421" y="1421"/>
                  </a:lnTo>
                  <a:lnTo>
                    <a:pt x="2421" y="1448"/>
                  </a:lnTo>
                  <a:lnTo>
                    <a:pt x="2410" y="1475"/>
                  </a:lnTo>
                  <a:lnTo>
                    <a:pt x="2404" y="1502"/>
                  </a:lnTo>
                  <a:lnTo>
                    <a:pt x="2393" y="1524"/>
                  </a:lnTo>
                  <a:lnTo>
                    <a:pt x="2388" y="1551"/>
                  </a:lnTo>
                  <a:lnTo>
                    <a:pt x="2377" y="1578"/>
                  </a:lnTo>
                  <a:lnTo>
                    <a:pt x="2366" y="1605"/>
                  </a:lnTo>
                  <a:lnTo>
                    <a:pt x="2355" y="1626"/>
                  </a:lnTo>
                  <a:lnTo>
                    <a:pt x="2350" y="1648"/>
                  </a:lnTo>
                  <a:lnTo>
                    <a:pt x="2339" y="1675"/>
                  </a:lnTo>
                  <a:lnTo>
                    <a:pt x="2328" y="1696"/>
                  </a:lnTo>
                  <a:lnTo>
                    <a:pt x="2312" y="1718"/>
                  </a:lnTo>
                  <a:lnTo>
                    <a:pt x="2301" y="1745"/>
                  </a:lnTo>
                  <a:lnTo>
                    <a:pt x="2290" y="1768"/>
                  </a:lnTo>
                  <a:lnTo>
                    <a:pt x="2273" y="1789"/>
                  </a:lnTo>
                  <a:lnTo>
                    <a:pt x="2263" y="1811"/>
                  </a:lnTo>
                  <a:lnTo>
                    <a:pt x="2246" y="1832"/>
                  </a:lnTo>
                  <a:lnTo>
                    <a:pt x="2230" y="1854"/>
                  </a:lnTo>
                  <a:lnTo>
                    <a:pt x="2214" y="1876"/>
                  </a:lnTo>
                  <a:lnTo>
                    <a:pt x="2197" y="1897"/>
                  </a:lnTo>
                  <a:lnTo>
                    <a:pt x="2181" y="1919"/>
                  </a:lnTo>
                  <a:lnTo>
                    <a:pt x="2164" y="1935"/>
                  </a:lnTo>
                  <a:lnTo>
                    <a:pt x="2148" y="1957"/>
                  </a:lnTo>
                  <a:lnTo>
                    <a:pt x="2132" y="1973"/>
                  </a:lnTo>
                  <a:lnTo>
                    <a:pt x="2110" y="1994"/>
                  </a:lnTo>
                  <a:lnTo>
                    <a:pt x="2094" y="2011"/>
                  </a:lnTo>
                  <a:lnTo>
                    <a:pt x="2077" y="2032"/>
                  </a:lnTo>
                  <a:lnTo>
                    <a:pt x="2050" y="2048"/>
                  </a:lnTo>
                  <a:lnTo>
                    <a:pt x="2034" y="2065"/>
                  </a:lnTo>
                  <a:lnTo>
                    <a:pt x="2012" y="2081"/>
                  </a:lnTo>
                  <a:lnTo>
                    <a:pt x="1995" y="2102"/>
                  </a:lnTo>
                  <a:lnTo>
                    <a:pt x="1974" y="2113"/>
                  </a:lnTo>
                  <a:lnTo>
                    <a:pt x="1952" y="2129"/>
                  </a:lnTo>
                  <a:lnTo>
                    <a:pt x="1930" y="2146"/>
                  </a:lnTo>
                  <a:lnTo>
                    <a:pt x="1908" y="2156"/>
                  </a:lnTo>
                  <a:lnTo>
                    <a:pt x="1881" y="2173"/>
                  </a:lnTo>
                  <a:lnTo>
                    <a:pt x="1859" y="2189"/>
                  </a:lnTo>
                  <a:lnTo>
                    <a:pt x="1837" y="2200"/>
                  </a:lnTo>
                  <a:lnTo>
                    <a:pt x="1816" y="2210"/>
                  </a:lnTo>
                  <a:lnTo>
                    <a:pt x="1788" y="2227"/>
                  </a:lnTo>
                  <a:lnTo>
                    <a:pt x="1767" y="2237"/>
                  </a:lnTo>
                  <a:lnTo>
                    <a:pt x="1739" y="2248"/>
                  </a:lnTo>
                  <a:lnTo>
                    <a:pt x="1717" y="2259"/>
                  </a:lnTo>
                  <a:lnTo>
                    <a:pt x="1690" y="2270"/>
                  </a:lnTo>
                  <a:lnTo>
                    <a:pt x="1663" y="2281"/>
                  </a:lnTo>
                  <a:lnTo>
                    <a:pt x="1641" y="2286"/>
                  </a:lnTo>
                  <a:lnTo>
                    <a:pt x="1614" y="2297"/>
                  </a:lnTo>
                  <a:lnTo>
                    <a:pt x="1587" y="2302"/>
                  </a:lnTo>
                  <a:lnTo>
                    <a:pt x="1559" y="2313"/>
                  </a:lnTo>
                  <a:lnTo>
                    <a:pt x="1532" y="2318"/>
                  </a:lnTo>
                  <a:lnTo>
                    <a:pt x="1505" y="2324"/>
                  </a:lnTo>
                  <a:lnTo>
                    <a:pt x="1478" y="2329"/>
                  </a:lnTo>
                  <a:lnTo>
                    <a:pt x="1450" y="2335"/>
                  </a:lnTo>
                  <a:lnTo>
                    <a:pt x="1423" y="2340"/>
                  </a:lnTo>
                  <a:lnTo>
                    <a:pt x="1396" y="2340"/>
                  </a:lnTo>
                  <a:lnTo>
                    <a:pt x="1369" y="2345"/>
                  </a:lnTo>
                  <a:lnTo>
                    <a:pt x="1336" y="2351"/>
                  </a:lnTo>
                  <a:lnTo>
                    <a:pt x="1309" y="2351"/>
                  </a:lnTo>
                  <a:lnTo>
                    <a:pt x="1281" y="2351"/>
                  </a:lnTo>
                  <a:lnTo>
                    <a:pt x="1254" y="2351"/>
                  </a:lnTo>
                  <a:lnTo>
                    <a:pt x="1227" y="2356"/>
                  </a:lnTo>
                  <a:lnTo>
                    <a:pt x="1193" y="2351"/>
                  </a:lnTo>
                  <a:lnTo>
                    <a:pt x="1166" y="2351"/>
                  </a:lnTo>
                  <a:lnTo>
                    <a:pt x="1139" y="2351"/>
                  </a:lnTo>
                  <a:lnTo>
                    <a:pt x="1106" y="2351"/>
                  </a:lnTo>
                  <a:lnTo>
                    <a:pt x="1079" y="2345"/>
                  </a:lnTo>
                  <a:lnTo>
                    <a:pt x="1051" y="2340"/>
                  </a:lnTo>
                  <a:lnTo>
                    <a:pt x="1024" y="2340"/>
                  </a:lnTo>
                  <a:lnTo>
                    <a:pt x="992" y="2335"/>
                  </a:lnTo>
                  <a:lnTo>
                    <a:pt x="964" y="2329"/>
                  </a:lnTo>
                  <a:lnTo>
                    <a:pt x="937" y="2324"/>
                  </a:lnTo>
                  <a:lnTo>
                    <a:pt x="915" y="2318"/>
                  </a:lnTo>
                  <a:lnTo>
                    <a:pt x="888" y="2313"/>
                  </a:lnTo>
                  <a:lnTo>
                    <a:pt x="861" y="2302"/>
                  </a:lnTo>
                  <a:lnTo>
                    <a:pt x="833" y="2297"/>
                  </a:lnTo>
                  <a:lnTo>
                    <a:pt x="806" y="2286"/>
                  </a:lnTo>
                  <a:lnTo>
                    <a:pt x="779" y="2281"/>
                  </a:lnTo>
                  <a:lnTo>
                    <a:pt x="757" y="2270"/>
                  </a:lnTo>
                  <a:lnTo>
                    <a:pt x="730" y="2259"/>
                  </a:lnTo>
                  <a:lnTo>
                    <a:pt x="708" y="2248"/>
                  </a:lnTo>
                  <a:lnTo>
                    <a:pt x="681" y="2237"/>
                  </a:lnTo>
                  <a:lnTo>
                    <a:pt x="654" y="2227"/>
                  </a:lnTo>
                  <a:lnTo>
                    <a:pt x="632" y="2210"/>
                  </a:lnTo>
                  <a:lnTo>
                    <a:pt x="610" y="2200"/>
                  </a:lnTo>
                  <a:lnTo>
                    <a:pt x="583" y="2189"/>
                  </a:lnTo>
                  <a:lnTo>
                    <a:pt x="566" y="2173"/>
                  </a:lnTo>
                  <a:lnTo>
                    <a:pt x="539" y="2156"/>
                  </a:lnTo>
                  <a:lnTo>
                    <a:pt x="517" y="2146"/>
                  </a:lnTo>
                  <a:lnTo>
                    <a:pt x="496" y="2129"/>
                  </a:lnTo>
                  <a:lnTo>
                    <a:pt x="474" y="2113"/>
                  </a:lnTo>
                  <a:lnTo>
                    <a:pt x="452" y="2102"/>
                  </a:lnTo>
                  <a:lnTo>
                    <a:pt x="430" y="2081"/>
                  </a:lnTo>
                  <a:lnTo>
                    <a:pt x="414" y="2065"/>
                  </a:lnTo>
                  <a:lnTo>
                    <a:pt x="392" y="2048"/>
                  </a:lnTo>
                  <a:lnTo>
                    <a:pt x="376" y="2032"/>
                  </a:lnTo>
                  <a:lnTo>
                    <a:pt x="354" y="2011"/>
                  </a:lnTo>
                  <a:lnTo>
                    <a:pt x="337" y="1994"/>
                  </a:lnTo>
                  <a:lnTo>
                    <a:pt x="316" y="1973"/>
                  </a:lnTo>
                  <a:lnTo>
                    <a:pt x="299" y="1957"/>
                  </a:lnTo>
                  <a:lnTo>
                    <a:pt x="283" y="1935"/>
                  </a:lnTo>
                  <a:lnTo>
                    <a:pt x="267" y="1919"/>
                  </a:lnTo>
                  <a:lnTo>
                    <a:pt x="250" y="1897"/>
                  </a:lnTo>
                  <a:lnTo>
                    <a:pt x="234" y="1876"/>
                  </a:lnTo>
                  <a:lnTo>
                    <a:pt x="218" y="1854"/>
                  </a:lnTo>
                  <a:lnTo>
                    <a:pt x="201" y="1832"/>
                  </a:lnTo>
                  <a:lnTo>
                    <a:pt x="190" y="1811"/>
                  </a:lnTo>
                  <a:lnTo>
                    <a:pt x="174" y="1789"/>
                  </a:lnTo>
                  <a:lnTo>
                    <a:pt x="158" y="1768"/>
                  </a:lnTo>
                  <a:lnTo>
                    <a:pt x="147" y="1745"/>
                  </a:lnTo>
                  <a:lnTo>
                    <a:pt x="130" y="1718"/>
                  </a:lnTo>
                  <a:lnTo>
                    <a:pt x="119" y="1696"/>
                  </a:lnTo>
                  <a:lnTo>
                    <a:pt x="109" y="1675"/>
                  </a:lnTo>
                  <a:lnTo>
                    <a:pt x="98" y="1648"/>
                  </a:lnTo>
                  <a:lnTo>
                    <a:pt x="87" y="1626"/>
                  </a:lnTo>
                  <a:lnTo>
                    <a:pt x="76" y="1605"/>
                  </a:lnTo>
                  <a:lnTo>
                    <a:pt x="70" y="1578"/>
                  </a:lnTo>
                  <a:lnTo>
                    <a:pt x="59" y="1551"/>
                  </a:lnTo>
                  <a:lnTo>
                    <a:pt x="49" y="1524"/>
                  </a:lnTo>
                  <a:lnTo>
                    <a:pt x="43" y="1502"/>
                  </a:lnTo>
                  <a:lnTo>
                    <a:pt x="38" y="1475"/>
                  </a:lnTo>
                  <a:lnTo>
                    <a:pt x="32" y="1448"/>
                  </a:lnTo>
                  <a:lnTo>
                    <a:pt x="27" y="1421"/>
                  </a:lnTo>
                  <a:lnTo>
                    <a:pt x="21" y="1394"/>
                  </a:lnTo>
                  <a:lnTo>
                    <a:pt x="16" y="1367"/>
                  </a:lnTo>
                  <a:lnTo>
                    <a:pt x="10" y="1340"/>
                  </a:lnTo>
                  <a:lnTo>
                    <a:pt x="5" y="1313"/>
                  </a:lnTo>
                  <a:lnTo>
                    <a:pt x="5" y="1286"/>
                  </a:lnTo>
                  <a:lnTo>
                    <a:pt x="5" y="1259"/>
                  </a:lnTo>
                  <a:lnTo>
                    <a:pt x="0" y="1232"/>
                  </a:lnTo>
                  <a:lnTo>
                    <a:pt x="0" y="1199"/>
                  </a:lnTo>
                  <a:lnTo>
                    <a:pt x="0" y="1178"/>
                  </a:lnTo>
                  <a:close/>
                </a:path>
              </a:pathLst>
            </a:custGeom>
            <a:solidFill>
              <a:srgbClr val="161e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05000" y="2717640"/>
              <a:ext cx="875160" cy="843480"/>
            </a:xfrm>
            <a:custGeom>
              <a:avLst/>
              <a:gdLst/>
              <a:ahLst/>
              <a:rect l="0" t="0" r="r" b="b"/>
              <a:pathLst>
                <a:path w="2431" h="2343">
                  <a:moveTo>
                    <a:pt x="0" y="1174"/>
                  </a:moveTo>
                  <a:lnTo>
                    <a:pt x="0" y="1142"/>
                  </a:lnTo>
                  <a:lnTo>
                    <a:pt x="0" y="1114"/>
                  </a:lnTo>
                  <a:lnTo>
                    <a:pt x="0" y="1087"/>
                  </a:lnTo>
                  <a:lnTo>
                    <a:pt x="0" y="1055"/>
                  </a:lnTo>
                  <a:lnTo>
                    <a:pt x="5" y="1028"/>
                  </a:lnTo>
                  <a:lnTo>
                    <a:pt x="10" y="1001"/>
                  </a:lnTo>
                  <a:lnTo>
                    <a:pt x="10" y="974"/>
                  </a:lnTo>
                  <a:lnTo>
                    <a:pt x="16" y="952"/>
                  </a:lnTo>
                  <a:lnTo>
                    <a:pt x="21" y="925"/>
                  </a:lnTo>
                  <a:lnTo>
                    <a:pt x="27" y="893"/>
                  </a:lnTo>
                  <a:lnTo>
                    <a:pt x="38" y="871"/>
                  </a:lnTo>
                  <a:lnTo>
                    <a:pt x="43" y="844"/>
                  </a:lnTo>
                  <a:lnTo>
                    <a:pt x="49" y="817"/>
                  </a:lnTo>
                  <a:lnTo>
                    <a:pt x="59" y="790"/>
                  </a:lnTo>
                  <a:lnTo>
                    <a:pt x="65" y="768"/>
                  </a:lnTo>
                  <a:lnTo>
                    <a:pt x="76" y="741"/>
                  </a:lnTo>
                  <a:lnTo>
                    <a:pt x="87" y="714"/>
                  </a:lnTo>
                  <a:lnTo>
                    <a:pt x="98" y="693"/>
                  </a:lnTo>
                  <a:lnTo>
                    <a:pt x="108" y="666"/>
                  </a:lnTo>
                  <a:lnTo>
                    <a:pt x="119" y="644"/>
                  </a:lnTo>
                  <a:lnTo>
                    <a:pt x="136" y="622"/>
                  </a:lnTo>
                  <a:lnTo>
                    <a:pt x="147" y="601"/>
                  </a:lnTo>
                  <a:lnTo>
                    <a:pt x="163" y="573"/>
                  </a:lnTo>
                  <a:lnTo>
                    <a:pt x="174" y="551"/>
                  </a:lnTo>
                  <a:lnTo>
                    <a:pt x="190" y="529"/>
                  </a:lnTo>
                  <a:lnTo>
                    <a:pt x="201" y="508"/>
                  </a:lnTo>
                  <a:lnTo>
                    <a:pt x="217" y="486"/>
                  </a:lnTo>
                  <a:lnTo>
                    <a:pt x="234" y="465"/>
                  </a:lnTo>
                  <a:lnTo>
                    <a:pt x="250" y="448"/>
                  </a:lnTo>
                  <a:lnTo>
                    <a:pt x="266" y="427"/>
                  </a:lnTo>
                  <a:lnTo>
                    <a:pt x="283" y="405"/>
                  </a:lnTo>
                  <a:lnTo>
                    <a:pt x="299" y="383"/>
                  </a:lnTo>
                  <a:lnTo>
                    <a:pt x="321" y="367"/>
                  </a:lnTo>
                  <a:lnTo>
                    <a:pt x="343" y="351"/>
                  </a:lnTo>
                  <a:lnTo>
                    <a:pt x="359" y="329"/>
                  </a:lnTo>
                  <a:lnTo>
                    <a:pt x="375" y="313"/>
                  </a:lnTo>
                  <a:lnTo>
                    <a:pt x="397" y="297"/>
                  </a:lnTo>
                  <a:lnTo>
                    <a:pt x="419" y="281"/>
                  </a:lnTo>
                  <a:lnTo>
                    <a:pt x="441" y="264"/>
                  </a:lnTo>
                  <a:lnTo>
                    <a:pt x="457" y="243"/>
                  </a:lnTo>
                  <a:lnTo>
                    <a:pt x="479" y="227"/>
                  </a:lnTo>
                  <a:lnTo>
                    <a:pt x="506" y="216"/>
                  </a:lnTo>
                  <a:lnTo>
                    <a:pt x="528" y="200"/>
                  </a:lnTo>
                  <a:lnTo>
                    <a:pt x="550" y="183"/>
                  </a:lnTo>
                  <a:lnTo>
                    <a:pt x="572" y="173"/>
                  </a:lnTo>
                  <a:lnTo>
                    <a:pt x="593" y="156"/>
                  </a:lnTo>
                  <a:lnTo>
                    <a:pt x="616" y="146"/>
                  </a:lnTo>
                  <a:lnTo>
                    <a:pt x="643" y="135"/>
                  </a:lnTo>
                  <a:lnTo>
                    <a:pt x="671" y="118"/>
                  </a:lnTo>
                  <a:lnTo>
                    <a:pt x="692" y="113"/>
                  </a:lnTo>
                  <a:lnTo>
                    <a:pt x="720" y="102"/>
                  </a:lnTo>
                  <a:lnTo>
                    <a:pt x="741" y="86"/>
                  </a:lnTo>
                  <a:lnTo>
                    <a:pt x="769" y="75"/>
                  </a:lnTo>
                  <a:lnTo>
                    <a:pt x="796" y="70"/>
                  </a:lnTo>
                  <a:lnTo>
                    <a:pt x="818" y="59"/>
                  </a:lnTo>
                  <a:lnTo>
                    <a:pt x="845" y="48"/>
                  </a:lnTo>
                  <a:lnTo>
                    <a:pt x="872" y="43"/>
                  </a:lnTo>
                  <a:lnTo>
                    <a:pt x="899" y="37"/>
                  </a:lnTo>
                  <a:lnTo>
                    <a:pt x="927" y="32"/>
                  </a:lnTo>
                  <a:lnTo>
                    <a:pt x="954" y="27"/>
                  </a:lnTo>
                  <a:lnTo>
                    <a:pt x="981" y="21"/>
                  </a:lnTo>
                  <a:lnTo>
                    <a:pt x="1014" y="16"/>
                  </a:lnTo>
                  <a:lnTo>
                    <a:pt x="1041" y="10"/>
                  </a:lnTo>
                  <a:lnTo>
                    <a:pt x="1068" y="5"/>
                  </a:lnTo>
                  <a:lnTo>
                    <a:pt x="1096" y="5"/>
                  </a:lnTo>
                  <a:lnTo>
                    <a:pt x="1128" y="5"/>
                  </a:lnTo>
                  <a:lnTo>
                    <a:pt x="1155" y="0"/>
                  </a:lnTo>
                  <a:lnTo>
                    <a:pt x="1183" y="0"/>
                  </a:lnTo>
                  <a:lnTo>
                    <a:pt x="1215" y="0"/>
                  </a:lnTo>
                  <a:lnTo>
                    <a:pt x="1243" y="0"/>
                  </a:lnTo>
                  <a:lnTo>
                    <a:pt x="1270" y="0"/>
                  </a:lnTo>
                  <a:lnTo>
                    <a:pt x="1297" y="5"/>
                  </a:lnTo>
                  <a:lnTo>
                    <a:pt x="1330" y="5"/>
                  </a:lnTo>
                  <a:lnTo>
                    <a:pt x="1357" y="5"/>
                  </a:lnTo>
                  <a:lnTo>
                    <a:pt x="1384" y="10"/>
                  </a:lnTo>
                  <a:lnTo>
                    <a:pt x="1417" y="16"/>
                  </a:lnTo>
                  <a:lnTo>
                    <a:pt x="1444" y="21"/>
                  </a:lnTo>
                  <a:lnTo>
                    <a:pt x="1466" y="27"/>
                  </a:lnTo>
                  <a:lnTo>
                    <a:pt x="1493" y="32"/>
                  </a:lnTo>
                  <a:lnTo>
                    <a:pt x="1520" y="37"/>
                  </a:lnTo>
                  <a:lnTo>
                    <a:pt x="1553" y="43"/>
                  </a:lnTo>
                  <a:lnTo>
                    <a:pt x="1580" y="48"/>
                  </a:lnTo>
                  <a:lnTo>
                    <a:pt x="1602" y="59"/>
                  </a:lnTo>
                  <a:lnTo>
                    <a:pt x="1629" y="70"/>
                  </a:lnTo>
                  <a:lnTo>
                    <a:pt x="1657" y="75"/>
                  </a:lnTo>
                  <a:lnTo>
                    <a:pt x="1678" y="86"/>
                  </a:lnTo>
                  <a:lnTo>
                    <a:pt x="1711" y="102"/>
                  </a:lnTo>
                  <a:lnTo>
                    <a:pt x="1733" y="113"/>
                  </a:lnTo>
                  <a:lnTo>
                    <a:pt x="1760" y="118"/>
                  </a:lnTo>
                  <a:lnTo>
                    <a:pt x="1782" y="135"/>
                  </a:lnTo>
                  <a:lnTo>
                    <a:pt x="1804" y="146"/>
                  </a:lnTo>
                  <a:lnTo>
                    <a:pt x="1832" y="156"/>
                  </a:lnTo>
                  <a:lnTo>
                    <a:pt x="1854" y="173"/>
                  </a:lnTo>
                  <a:lnTo>
                    <a:pt x="1876" y="183"/>
                  </a:lnTo>
                  <a:lnTo>
                    <a:pt x="1903" y="200"/>
                  </a:lnTo>
                  <a:lnTo>
                    <a:pt x="1919" y="216"/>
                  </a:lnTo>
                  <a:lnTo>
                    <a:pt x="1946" y="227"/>
                  </a:lnTo>
                  <a:lnTo>
                    <a:pt x="1963" y="243"/>
                  </a:lnTo>
                  <a:lnTo>
                    <a:pt x="1985" y="264"/>
                  </a:lnTo>
                  <a:lnTo>
                    <a:pt x="2006" y="281"/>
                  </a:lnTo>
                  <a:lnTo>
                    <a:pt x="2028" y="297"/>
                  </a:lnTo>
                  <a:lnTo>
                    <a:pt x="2044" y="313"/>
                  </a:lnTo>
                  <a:lnTo>
                    <a:pt x="2066" y="329"/>
                  </a:lnTo>
                  <a:lnTo>
                    <a:pt x="2088" y="351"/>
                  </a:lnTo>
                  <a:lnTo>
                    <a:pt x="2104" y="367"/>
                  </a:lnTo>
                  <a:lnTo>
                    <a:pt x="2121" y="383"/>
                  </a:lnTo>
                  <a:lnTo>
                    <a:pt x="2137" y="405"/>
                  </a:lnTo>
                  <a:lnTo>
                    <a:pt x="2153" y="427"/>
                  </a:lnTo>
                  <a:lnTo>
                    <a:pt x="2175" y="448"/>
                  </a:lnTo>
                  <a:lnTo>
                    <a:pt x="2192" y="465"/>
                  </a:lnTo>
                  <a:lnTo>
                    <a:pt x="2208" y="486"/>
                  </a:lnTo>
                  <a:lnTo>
                    <a:pt x="2224" y="508"/>
                  </a:lnTo>
                  <a:lnTo>
                    <a:pt x="2241" y="529"/>
                  </a:lnTo>
                  <a:lnTo>
                    <a:pt x="2251" y="551"/>
                  </a:lnTo>
                  <a:lnTo>
                    <a:pt x="2262" y="573"/>
                  </a:lnTo>
                  <a:lnTo>
                    <a:pt x="2279" y="601"/>
                  </a:lnTo>
                  <a:lnTo>
                    <a:pt x="2290" y="622"/>
                  </a:lnTo>
                  <a:lnTo>
                    <a:pt x="2301" y="644"/>
                  </a:lnTo>
                  <a:lnTo>
                    <a:pt x="2317" y="666"/>
                  </a:lnTo>
                  <a:lnTo>
                    <a:pt x="2328" y="693"/>
                  </a:lnTo>
                  <a:lnTo>
                    <a:pt x="2339" y="714"/>
                  </a:lnTo>
                  <a:lnTo>
                    <a:pt x="2344" y="741"/>
                  </a:lnTo>
                  <a:lnTo>
                    <a:pt x="2355" y="768"/>
                  </a:lnTo>
                  <a:lnTo>
                    <a:pt x="2366" y="790"/>
                  </a:lnTo>
                  <a:lnTo>
                    <a:pt x="2371" y="817"/>
                  </a:lnTo>
                  <a:lnTo>
                    <a:pt x="2382" y="844"/>
                  </a:lnTo>
                  <a:lnTo>
                    <a:pt x="2388" y="871"/>
                  </a:lnTo>
                  <a:lnTo>
                    <a:pt x="2399" y="893"/>
                  </a:lnTo>
                  <a:lnTo>
                    <a:pt x="2404" y="925"/>
                  </a:lnTo>
                  <a:lnTo>
                    <a:pt x="2409" y="952"/>
                  </a:lnTo>
                  <a:lnTo>
                    <a:pt x="2415" y="974"/>
                  </a:lnTo>
                  <a:lnTo>
                    <a:pt x="2415" y="1001"/>
                  </a:lnTo>
                  <a:lnTo>
                    <a:pt x="2420" y="1028"/>
                  </a:lnTo>
                  <a:lnTo>
                    <a:pt x="2426" y="1055"/>
                  </a:lnTo>
                  <a:lnTo>
                    <a:pt x="2426" y="1087"/>
                  </a:lnTo>
                  <a:lnTo>
                    <a:pt x="2431" y="1114"/>
                  </a:lnTo>
                  <a:lnTo>
                    <a:pt x="2431" y="1142"/>
                  </a:lnTo>
                  <a:lnTo>
                    <a:pt x="2431" y="1174"/>
                  </a:lnTo>
                  <a:lnTo>
                    <a:pt x="2431" y="1196"/>
                  </a:lnTo>
                  <a:lnTo>
                    <a:pt x="2431" y="1228"/>
                  </a:lnTo>
                  <a:lnTo>
                    <a:pt x="2426" y="1255"/>
                  </a:lnTo>
                  <a:lnTo>
                    <a:pt x="2426" y="1282"/>
                  </a:lnTo>
                  <a:lnTo>
                    <a:pt x="2420" y="1309"/>
                  </a:lnTo>
                  <a:lnTo>
                    <a:pt x="2415" y="1336"/>
                  </a:lnTo>
                  <a:lnTo>
                    <a:pt x="2415" y="1363"/>
                  </a:lnTo>
                  <a:lnTo>
                    <a:pt x="2409" y="1390"/>
                  </a:lnTo>
                  <a:lnTo>
                    <a:pt x="2404" y="1423"/>
                  </a:lnTo>
                  <a:lnTo>
                    <a:pt x="2399" y="1444"/>
                  </a:lnTo>
                  <a:lnTo>
                    <a:pt x="2388" y="1471"/>
                  </a:lnTo>
                  <a:lnTo>
                    <a:pt x="2382" y="1498"/>
                  </a:lnTo>
                  <a:lnTo>
                    <a:pt x="2371" y="1525"/>
                  </a:lnTo>
                  <a:lnTo>
                    <a:pt x="2366" y="1547"/>
                  </a:lnTo>
                  <a:lnTo>
                    <a:pt x="2355" y="1574"/>
                  </a:lnTo>
                  <a:lnTo>
                    <a:pt x="2344" y="1601"/>
                  </a:lnTo>
                  <a:lnTo>
                    <a:pt x="2339" y="1623"/>
                  </a:lnTo>
                  <a:lnTo>
                    <a:pt x="2328" y="1650"/>
                  </a:lnTo>
                  <a:lnTo>
                    <a:pt x="2317" y="1671"/>
                  </a:lnTo>
                  <a:lnTo>
                    <a:pt x="2301" y="1699"/>
                  </a:lnTo>
                  <a:lnTo>
                    <a:pt x="2290" y="1720"/>
                  </a:lnTo>
                  <a:lnTo>
                    <a:pt x="2279" y="1747"/>
                  </a:lnTo>
                  <a:lnTo>
                    <a:pt x="2262" y="1770"/>
                  </a:lnTo>
                  <a:lnTo>
                    <a:pt x="2251" y="1791"/>
                  </a:lnTo>
                  <a:lnTo>
                    <a:pt x="2241" y="1813"/>
                  </a:lnTo>
                  <a:lnTo>
                    <a:pt x="2224" y="1835"/>
                  </a:lnTo>
                  <a:lnTo>
                    <a:pt x="2208" y="1856"/>
                  </a:lnTo>
                  <a:lnTo>
                    <a:pt x="2192" y="1878"/>
                  </a:lnTo>
                  <a:lnTo>
                    <a:pt x="2175" y="1900"/>
                  </a:lnTo>
                  <a:lnTo>
                    <a:pt x="2153" y="1916"/>
                  </a:lnTo>
                  <a:lnTo>
                    <a:pt x="2137" y="1937"/>
                  </a:lnTo>
                  <a:lnTo>
                    <a:pt x="2121" y="1959"/>
                  </a:lnTo>
                  <a:lnTo>
                    <a:pt x="2104" y="1975"/>
                  </a:lnTo>
                  <a:lnTo>
                    <a:pt x="2088" y="1997"/>
                  </a:lnTo>
                  <a:lnTo>
                    <a:pt x="2066" y="2013"/>
                  </a:lnTo>
                  <a:lnTo>
                    <a:pt x="2044" y="2029"/>
                  </a:lnTo>
                  <a:lnTo>
                    <a:pt x="2028" y="2046"/>
                  </a:lnTo>
                  <a:lnTo>
                    <a:pt x="2006" y="2067"/>
                  </a:lnTo>
                  <a:lnTo>
                    <a:pt x="1985" y="2083"/>
                  </a:lnTo>
                  <a:lnTo>
                    <a:pt x="1963" y="2100"/>
                  </a:lnTo>
                  <a:lnTo>
                    <a:pt x="1946" y="2116"/>
                  </a:lnTo>
                  <a:lnTo>
                    <a:pt x="1919" y="2132"/>
                  </a:lnTo>
                  <a:lnTo>
                    <a:pt x="1903" y="2143"/>
                  </a:lnTo>
                  <a:lnTo>
                    <a:pt x="1876" y="2159"/>
                  </a:lnTo>
                  <a:lnTo>
                    <a:pt x="1854" y="2175"/>
                  </a:lnTo>
                  <a:lnTo>
                    <a:pt x="1832" y="2186"/>
                  </a:lnTo>
                  <a:lnTo>
                    <a:pt x="1804" y="2197"/>
                  </a:lnTo>
                  <a:lnTo>
                    <a:pt x="1782" y="2213"/>
                  </a:lnTo>
                  <a:lnTo>
                    <a:pt x="1760" y="2224"/>
                  </a:lnTo>
                  <a:lnTo>
                    <a:pt x="1733" y="2235"/>
                  </a:lnTo>
                  <a:lnTo>
                    <a:pt x="1711" y="2246"/>
                  </a:lnTo>
                  <a:lnTo>
                    <a:pt x="1678" y="2257"/>
                  </a:lnTo>
                  <a:lnTo>
                    <a:pt x="1657" y="2267"/>
                  </a:lnTo>
                  <a:lnTo>
                    <a:pt x="1629" y="2273"/>
                  </a:lnTo>
                  <a:lnTo>
                    <a:pt x="1602" y="2284"/>
                  </a:lnTo>
                  <a:lnTo>
                    <a:pt x="1580" y="2294"/>
                  </a:lnTo>
                  <a:lnTo>
                    <a:pt x="1553" y="2300"/>
                  </a:lnTo>
                  <a:lnTo>
                    <a:pt x="1520" y="2305"/>
                  </a:lnTo>
                  <a:lnTo>
                    <a:pt x="1493" y="2311"/>
                  </a:lnTo>
                  <a:lnTo>
                    <a:pt x="1466" y="2321"/>
                  </a:lnTo>
                  <a:lnTo>
                    <a:pt x="1444" y="2321"/>
                  </a:lnTo>
                  <a:lnTo>
                    <a:pt x="1417" y="2327"/>
                  </a:lnTo>
                  <a:lnTo>
                    <a:pt x="1384" y="2332"/>
                  </a:lnTo>
                  <a:lnTo>
                    <a:pt x="1357" y="2338"/>
                  </a:lnTo>
                  <a:lnTo>
                    <a:pt x="1330" y="2338"/>
                  </a:lnTo>
                  <a:lnTo>
                    <a:pt x="1297" y="2338"/>
                  </a:lnTo>
                  <a:lnTo>
                    <a:pt x="1270" y="2343"/>
                  </a:lnTo>
                  <a:lnTo>
                    <a:pt x="1243" y="2343"/>
                  </a:lnTo>
                  <a:lnTo>
                    <a:pt x="1183" y="2343"/>
                  </a:lnTo>
                  <a:lnTo>
                    <a:pt x="1155" y="2343"/>
                  </a:lnTo>
                  <a:lnTo>
                    <a:pt x="1128" y="2338"/>
                  </a:lnTo>
                  <a:lnTo>
                    <a:pt x="1096" y="2338"/>
                  </a:lnTo>
                  <a:lnTo>
                    <a:pt x="1068" y="2338"/>
                  </a:lnTo>
                  <a:lnTo>
                    <a:pt x="1041" y="2332"/>
                  </a:lnTo>
                  <a:lnTo>
                    <a:pt x="1014" y="2327"/>
                  </a:lnTo>
                  <a:lnTo>
                    <a:pt x="981" y="2321"/>
                  </a:lnTo>
                  <a:lnTo>
                    <a:pt x="954" y="2321"/>
                  </a:lnTo>
                  <a:lnTo>
                    <a:pt x="927" y="2311"/>
                  </a:lnTo>
                  <a:lnTo>
                    <a:pt x="899" y="2305"/>
                  </a:lnTo>
                  <a:lnTo>
                    <a:pt x="872" y="2300"/>
                  </a:lnTo>
                  <a:lnTo>
                    <a:pt x="845" y="2294"/>
                  </a:lnTo>
                  <a:lnTo>
                    <a:pt x="818" y="2284"/>
                  </a:lnTo>
                  <a:lnTo>
                    <a:pt x="796" y="2273"/>
                  </a:lnTo>
                  <a:lnTo>
                    <a:pt x="769" y="2267"/>
                  </a:lnTo>
                  <a:lnTo>
                    <a:pt x="741" y="2257"/>
                  </a:lnTo>
                  <a:lnTo>
                    <a:pt x="720" y="2246"/>
                  </a:lnTo>
                  <a:lnTo>
                    <a:pt x="692" y="2235"/>
                  </a:lnTo>
                  <a:lnTo>
                    <a:pt x="671" y="2224"/>
                  </a:lnTo>
                  <a:lnTo>
                    <a:pt x="643" y="2213"/>
                  </a:lnTo>
                  <a:lnTo>
                    <a:pt x="616" y="2197"/>
                  </a:lnTo>
                  <a:lnTo>
                    <a:pt x="593" y="2186"/>
                  </a:lnTo>
                  <a:lnTo>
                    <a:pt x="572" y="2175"/>
                  </a:lnTo>
                  <a:lnTo>
                    <a:pt x="550" y="2159"/>
                  </a:lnTo>
                  <a:lnTo>
                    <a:pt x="528" y="2143"/>
                  </a:lnTo>
                  <a:lnTo>
                    <a:pt x="506" y="2132"/>
                  </a:lnTo>
                  <a:lnTo>
                    <a:pt x="479" y="2116"/>
                  </a:lnTo>
                  <a:lnTo>
                    <a:pt x="457" y="2100"/>
                  </a:lnTo>
                  <a:lnTo>
                    <a:pt x="441" y="2083"/>
                  </a:lnTo>
                  <a:lnTo>
                    <a:pt x="419" y="2067"/>
                  </a:lnTo>
                  <a:lnTo>
                    <a:pt x="397" y="2046"/>
                  </a:lnTo>
                  <a:lnTo>
                    <a:pt x="375" y="2029"/>
                  </a:lnTo>
                  <a:lnTo>
                    <a:pt x="359" y="2013"/>
                  </a:lnTo>
                  <a:lnTo>
                    <a:pt x="343" y="1997"/>
                  </a:lnTo>
                  <a:lnTo>
                    <a:pt x="321" y="1975"/>
                  </a:lnTo>
                  <a:lnTo>
                    <a:pt x="299" y="1959"/>
                  </a:lnTo>
                  <a:lnTo>
                    <a:pt x="283" y="1937"/>
                  </a:lnTo>
                  <a:lnTo>
                    <a:pt x="266" y="1916"/>
                  </a:lnTo>
                  <a:lnTo>
                    <a:pt x="250" y="1900"/>
                  </a:lnTo>
                  <a:lnTo>
                    <a:pt x="234" y="1878"/>
                  </a:lnTo>
                  <a:lnTo>
                    <a:pt x="217" y="1856"/>
                  </a:lnTo>
                  <a:lnTo>
                    <a:pt x="201" y="1835"/>
                  </a:lnTo>
                  <a:lnTo>
                    <a:pt x="190" y="1813"/>
                  </a:lnTo>
                  <a:lnTo>
                    <a:pt x="174" y="1791"/>
                  </a:lnTo>
                  <a:lnTo>
                    <a:pt x="163" y="1770"/>
                  </a:lnTo>
                  <a:lnTo>
                    <a:pt x="147" y="1747"/>
                  </a:lnTo>
                  <a:lnTo>
                    <a:pt x="136" y="1720"/>
                  </a:lnTo>
                  <a:lnTo>
                    <a:pt x="119" y="1699"/>
                  </a:lnTo>
                  <a:lnTo>
                    <a:pt x="108" y="1671"/>
                  </a:lnTo>
                  <a:lnTo>
                    <a:pt x="98" y="1650"/>
                  </a:lnTo>
                  <a:lnTo>
                    <a:pt x="87" y="1623"/>
                  </a:lnTo>
                  <a:lnTo>
                    <a:pt x="76" y="1601"/>
                  </a:lnTo>
                  <a:lnTo>
                    <a:pt x="65" y="1574"/>
                  </a:lnTo>
                  <a:lnTo>
                    <a:pt x="59" y="1547"/>
                  </a:lnTo>
                  <a:lnTo>
                    <a:pt x="49" y="1525"/>
                  </a:lnTo>
                  <a:lnTo>
                    <a:pt x="43" y="1498"/>
                  </a:lnTo>
                  <a:lnTo>
                    <a:pt x="38" y="1471"/>
                  </a:lnTo>
                  <a:lnTo>
                    <a:pt x="27" y="1444"/>
                  </a:lnTo>
                  <a:lnTo>
                    <a:pt x="21" y="1423"/>
                  </a:lnTo>
                  <a:lnTo>
                    <a:pt x="16" y="1390"/>
                  </a:lnTo>
                  <a:lnTo>
                    <a:pt x="10" y="1363"/>
                  </a:lnTo>
                  <a:lnTo>
                    <a:pt x="10" y="1336"/>
                  </a:lnTo>
                  <a:lnTo>
                    <a:pt x="5" y="1309"/>
                  </a:lnTo>
                  <a:lnTo>
                    <a:pt x="0" y="1282"/>
                  </a:lnTo>
                  <a:lnTo>
                    <a:pt x="0" y="1255"/>
                  </a:lnTo>
                  <a:lnTo>
                    <a:pt x="0" y="1228"/>
                  </a:lnTo>
                  <a:lnTo>
                    <a:pt x="0" y="1196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2128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08240" y="2719440"/>
              <a:ext cx="868680" cy="840240"/>
            </a:xfrm>
            <a:custGeom>
              <a:avLst/>
              <a:gdLst/>
              <a:ahLst/>
              <a:rect l="0" t="0" r="r" b="b"/>
              <a:pathLst>
                <a:path w="2413" h="2334">
                  <a:moveTo>
                    <a:pt x="0" y="1170"/>
                  </a:moveTo>
                  <a:lnTo>
                    <a:pt x="0" y="1137"/>
                  </a:lnTo>
                  <a:lnTo>
                    <a:pt x="0" y="1110"/>
                  </a:lnTo>
                  <a:lnTo>
                    <a:pt x="0" y="1083"/>
                  </a:lnTo>
                  <a:lnTo>
                    <a:pt x="5" y="1056"/>
                  </a:lnTo>
                  <a:lnTo>
                    <a:pt x="5" y="1023"/>
                  </a:lnTo>
                  <a:lnTo>
                    <a:pt x="10" y="1002"/>
                  </a:lnTo>
                  <a:lnTo>
                    <a:pt x="16" y="975"/>
                  </a:lnTo>
                  <a:lnTo>
                    <a:pt x="21" y="948"/>
                  </a:lnTo>
                  <a:lnTo>
                    <a:pt x="27" y="921"/>
                  </a:lnTo>
                  <a:lnTo>
                    <a:pt x="32" y="894"/>
                  </a:lnTo>
                  <a:lnTo>
                    <a:pt x="38" y="866"/>
                  </a:lnTo>
                  <a:lnTo>
                    <a:pt x="43" y="839"/>
                  </a:lnTo>
                  <a:lnTo>
                    <a:pt x="54" y="812"/>
                  </a:lnTo>
                  <a:lnTo>
                    <a:pt x="59" y="791"/>
                  </a:lnTo>
                  <a:lnTo>
                    <a:pt x="70" y="764"/>
                  </a:lnTo>
                  <a:lnTo>
                    <a:pt x="76" y="737"/>
                  </a:lnTo>
                  <a:lnTo>
                    <a:pt x="92" y="715"/>
                  </a:lnTo>
                  <a:lnTo>
                    <a:pt x="98" y="688"/>
                  </a:lnTo>
                  <a:lnTo>
                    <a:pt x="108" y="666"/>
                  </a:lnTo>
                  <a:lnTo>
                    <a:pt x="119" y="645"/>
                  </a:lnTo>
                  <a:lnTo>
                    <a:pt x="136" y="618"/>
                  </a:lnTo>
                  <a:lnTo>
                    <a:pt x="147" y="601"/>
                  </a:lnTo>
                  <a:lnTo>
                    <a:pt x="163" y="573"/>
                  </a:lnTo>
                  <a:lnTo>
                    <a:pt x="174" y="552"/>
                  </a:lnTo>
                  <a:lnTo>
                    <a:pt x="190" y="530"/>
                  </a:lnTo>
                  <a:lnTo>
                    <a:pt x="206" y="508"/>
                  </a:lnTo>
                  <a:lnTo>
                    <a:pt x="217" y="487"/>
                  </a:lnTo>
                  <a:lnTo>
                    <a:pt x="234" y="465"/>
                  </a:lnTo>
                  <a:lnTo>
                    <a:pt x="250" y="449"/>
                  </a:lnTo>
                  <a:lnTo>
                    <a:pt x="266" y="427"/>
                  </a:lnTo>
                  <a:lnTo>
                    <a:pt x="283" y="405"/>
                  </a:lnTo>
                  <a:lnTo>
                    <a:pt x="299" y="384"/>
                  </a:lnTo>
                  <a:lnTo>
                    <a:pt x="321" y="368"/>
                  </a:lnTo>
                  <a:lnTo>
                    <a:pt x="343" y="346"/>
                  </a:lnTo>
                  <a:lnTo>
                    <a:pt x="359" y="330"/>
                  </a:lnTo>
                  <a:lnTo>
                    <a:pt x="381" y="313"/>
                  </a:lnTo>
                  <a:lnTo>
                    <a:pt x="397" y="297"/>
                  </a:lnTo>
                  <a:lnTo>
                    <a:pt x="419" y="281"/>
                  </a:lnTo>
                  <a:lnTo>
                    <a:pt x="441" y="265"/>
                  </a:lnTo>
                  <a:lnTo>
                    <a:pt x="457" y="243"/>
                  </a:lnTo>
                  <a:lnTo>
                    <a:pt x="484" y="227"/>
                  </a:lnTo>
                  <a:lnTo>
                    <a:pt x="500" y="216"/>
                  </a:lnTo>
                  <a:lnTo>
                    <a:pt x="528" y="200"/>
                  </a:lnTo>
                  <a:lnTo>
                    <a:pt x="549" y="184"/>
                  </a:lnTo>
                  <a:lnTo>
                    <a:pt x="571" y="173"/>
                  </a:lnTo>
                  <a:lnTo>
                    <a:pt x="593" y="162"/>
                  </a:lnTo>
                  <a:lnTo>
                    <a:pt x="615" y="146"/>
                  </a:lnTo>
                  <a:lnTo>
                    <a:pt x="637" y="135"/>
                  </a:lnTo>
                  <a:lnTo>
                    <a:pt x="664" y="124"/>
                  </a:lnTo>
                  <a:lnTo>
                    <a:pt x="691" y="113"/>
                  </a:lnTo>
                  <a:lnTo>
                    <a:pt x="713" y="102"/>
                  </a:lnTo>
                  <a:lnTo>
                    <a:pt x="740" y="92"/>
                  </a:lnTo>
                  <a:lnTo>
                    <a:pt x="762" y="81"/>
                  </a:lnTo>
                  <a:lnTo>
                    <a:pt x="789" y="70"/>
                  </a:lnTo>
                  <a:lnTo>
                    <a:pt x="816" y="59"/>
                  </a:lnTo>
                  <a:lnTo>
                    <a:pt x="843" y="54"/>
                  </a:lnTo>
                  <a:lnTo>
                    <a:pt x="871" y="48"/>
                  </a:lnTo>
                  <a:lnTo>
                    <a:pt x="898" y="37"/>
                  </a:lnTo>
                  <a:lnTo>
                    <a:pt x="920" y="32"/>
                  </a:lnTo>
                  <a:lnTo>
                    <a:pt x="947" y="27"/>
                  </a:lnTo>
                  <a:lnTo>
                    <a:pt x="974" y="21"/>
                  </a:lnTo>
                  <a:lnTo>
                    <a:pt x="1007" y="16"/>
                  </a:lnTo>
                  <a:lnTo>
                    <a:pt x="1034" y="16"/>
                  </a:lnTo>
                  <a:lnTo>
                    <a:pt x="1061" y="10"/>
                  </a:lnTo>
                  <a:lnTo>
                    <a:pt x="1088" y="5"/>
                  </a:lnTo>
                  <a:lnTo>
                    <a:pt x="1121" y="5"/>
                  </a:lnTo>
                  <a:lnTo>
                    <a:pt x="1148" y="5"/>
                  </a:lnTo>
                  <a:lnTo>
                    <a:pt x="1176" y="0"/>
                  </a:lnTo>
                  <a:lnTo>
                    <a:pt x="1237" y="0"/>
                  </a:lnTo>
                  <a:lnTo>
                    <a:pt x="1264" y="5"/>
                  </a:lnTo>
                  <a:lnTo>
                    <a:pt x="1291" y="5"/>
                  </a:lnTo>
                  <a:lnTo>
                    <a:pt x="1318" y="5"/>
                  </a:lnTo>
                  <a:lnTo>
                    <a:pt x="1351" y="10"/>
                  </a:lnTo>
                  <a:lnTo>
                    <a:pt x="1378" y="16"/>
                  </a:lnTo>
                  <a:lnTo>
                    <a:pt x="1405" y="16"/>
                  </a:lnTo>
                  <a:lnTo>
                    <a:pt x="1433" y="21"/>
                  </a:lnTo>
                  <a:lnTo>
                    <a:pt x="1460" y="27"/>
                  </a:lnTo>
                  <a:lnTo>
                    <a:pt x="1487" y="32"/>
                  </a:lnTo>
                  <a:lnTo>
                    <a:pt x="1514" y="37"/>
                  </a:lnTo>
                  <a:lnTo>
                    <a:pt x="1541" y="48"/>
                  </a:lnTo>
                  <a:lnTo>
                    <a:pt x="1569" y="54"/>
                  </a:lnTo>
                  <a:lnTo>
                    <a:pt x="1596" y="59"/>
                  </a:lnTo>
                  <a:lnTo>
                    <a:pt x="1623" y="70"/>
                  </a:lnTo>
                  <a:lnTo>
                    <a:pt x="1645" y="81"/>
                  </a:lnTo>
                  <a:lnTo>
                    <a:pt x="1672" y="92"/>
                  </a:lnTo>
                  <a:lnTo>
                    <a:pt x="1699" y="102"/>
                  </a:lnTo>
                  <a:lnTo>
                    <a:pt x="1721" y="113"/>
                  </a:lnTo>
                  <a:lnTo>
                    <a:pt x="1748" y="124"/>
                  </a:lnTo>
                  <a:lnTo>
                    <a:pt x="1770" y="135"/>
                  </a:lnTo>
                  <a:lnTo>
                    <a:pt x="1797" y="146"/>
                  </a:lnTo>
                  <a:lnTo>
                    <a:pt x="1819" y="162"/>
                  </a:lnTo>
                  <a:lnTo>
                    <a:pt x="1841" y="173"/>
                  </a:lnTo>
                  <a:lnTo>
                    <a:pt x="1863" y="184"/>
                  </a:lnTo>
                  <a:lnTo>
                    <a:pt x="1890" y="200"/>
                  </a:lnTo>
                  <a:lnTo>
                    <a:pt x="1912" y="216"/>
                  </a:lnTo>
                  <a:lnTo>
                    <a:pt x="1933" y="227"/>
                  </a:lnTo>
                  <a:lnTo>
                    <a:pt x="1950" y="243"/>
                  </a:lnTo>
                  <a:lnTo>
                    <a:pt x="1972" y="265"/>
                  </a:lnTo>
                  <a:lnTo>
                    <a:pt x="1993" y="281"/>
                  </a:lnTo>
                  <a:lnTo>
                    <a:pt x="2015" y="297"/>
                  </a:lnTo>
                  <a:lnTo>
                    <a:pt x="2031" y="313"/>
                  </a:lnTo>
                  <a:lnTo>
                    <a:pt x="2053" y="330"/>
                  </a:lnTo>
                  <a:lnTo>
                    <a:pt x="2070" y="346"/>
                  </a:lnTo>
                  <a:lnTo>
                    <a:pt x="2091" y="368"/>
                  </a:lnTo>
                  <a:lnTo>
                    <a:pt x="2108" y="384"/>
                  </a:lnTo>
                  <a:lnTo>
                    <a:pt x="2124" y="405"/>
                  </a:lnTo>
                  <a:lnTo>
                    <a:pt x="2140" y="427"/>
                  </a:lnTo>
                  <a:lnTo>
                    <a:pt x="2162" y="449"/>
                  </a:lnTo>
                  <a:lnTo>
                    <a:pt x="2173" y="465"/>
                  </a:lnTo>
                  <a:lnTo>
                    <a:pt x="2189" y="487"/>
                  </a:lnTo>
                  <a:lnTo>
                    <a:pt x="2206" y="508"/>
                  </a:lnTo>
                  <a:lnTo>
                    <a:pt x="2222" y="530"/>
                  </a:lnTo>
                  <a:lnTo>
                    <a:pt x="2238" y="552"/>
                  </a:lnTo>
                  <a:lnTo>
                    <a:pt x="2249" y="573"/>
                  </a:lnTo>
                  <a:lnTo>
                    <a:pt x="2266" y="601"/>
                  </a:lnTo>
                  <a:lnTo>
                    <a:pt x="2276" y="618"/>
                  </a:lnTo>
                  <a:lnTo>
                    <a:pt x="2287" y="645"/>
                  </a:lnTo>
                  <a:lnTo>
                    <a:pt x="2298" y="666"/>
                  </a:lnTo>
                  <a:lnTo>
                    <a:pt x="2309" y="688"/>
                  </a:lnTo>
                  <a:lnTo>
                    <a:pt x="2320" y="715"/>
                  </a:lnTo>
                  <a:lnTo>
                    <a:pt x="2331" y="737"/>
                  </a:lnTo>
                  <a:lnTo>
                    <a:pt x="2342" y="764"/>
                  </a:lnTo>
                  <a:lnTo>
                    <a:pt x="2353" y="791"/>
                  </a:lnTo>
                  <a:lnTo>
                    <a:pt x="2358" y="812"/>
                  </a:lnTo>
                  <a:lnTo>
                    <a:pt x="2364" y="839"/>
                  </a:lnTo>
                  <a:lnTo>
                    <a:pt x="2375" y="866"/>
                  </a:lnTo>
                  <a:lnTo>
                    <a:pt x="2380" y="894"/>
                  </a:lnTo>
                  <a:lnTo>
                    <a:pt x="2385" y="921"/>
                  </a:lnTo>
                  <a:lnTo>
                    <a:pt x="2391" y="948"/>
                  </a:lnTo>
                  <a:lnTo>
                    <a:pt x="2396" y="975"/>
                  </a:lnTo>
                  <a:lnTo>
                    <a:pt x="2402" y="1002"/>
                  </a:lnTo>
                  <a:lnTo>
                    <a:pt x="2407" y="1023"/>
                  </a:lnTo>
                  <a:lnTo>
                    <a:pt x="2407" y="1056"/>
                  </a:lnTo>
                  <a:lnTo>
                    <a:pt x="2413" y="1083"/>
                  </a:lnTo>
                  <a:lnTo>
                    <a:pt x="2413" y="1110"/>
                  </a:lnTo>
                  <a:lnTo>
                    <a:pt x="2413" y="1137"/>
                  </a:lnTo>
                  <a:lnTo>
                    <a:pt x="2413" y="1170"/>
                  </a:lnTo>
                  <a:lnTo>
                    <a:pt x="2413" y="1191"/>
                  </a:lnTo>
                  <a:lnTo>
                    <a:pt x="2413" y="1224"/>
                  </a:lnTo>
                  <a:lnTo>
                    <a:pt x="2413" y="1251"/>
                  </a:lnTo>
                  <a:lnTo>
                    <a:pt x="2407" y="1278"/>
                  </a:lnTo>
                  <a:lnTo>
                    <a:pt x="2407" y="1305"/>
                  </a:lnTo>
                  <a:lnTo>
                    <a:pt x="2402" y="1332"/>
                  </a:lnTo>
                  <a:lnTo>
                    <a:pt x="2396" y="1359"/>
                  </a:lnTo>
                  <a:lnTo>
                    <a:pt x="2391" y="1386"/>
                  </a:lnTo>
                  <a:lnTo>
                    <a:pt x="2385" y="1413"/>
                  </a:lnTo>
                  <a:lnTo>
                    <a:pt x="2380" y="1440"/>
                  </a:lnTo>
                  <a:lnTo>
                    <a:pt x="2375" y="1467"/>
                  </a:lnTo>
                  <a:lnTo>
                    <a:pt x="2364" y="1494"/>
                  </a:lnTo>
                  <a:lnTo>
                    <a:pt x="2358" y="1516"/>
                  </a:lnTo>
                  <a:lnTo>
                    <a:pt x="2353" y="1543"/>
                  </a:lnTo>
                  <a:lnTo>
                    <a:pt x="2342" y="1570"/>
                  </a:lnTo>
                  <a:lnTo>
                    <a:pt x="2331" y="1592"/>
                  </a:lnTo>
                  <a:lnTo>
                    <a:pt x="2320" y="1619"/>
                  </a:lnTo>
                  <a:lnTo>
                    <a:pt x="2309" y="1640"/>
                  </a:lnTo>
                  <a:lnTo>
                    <a:pt x="2298" y="1668"/>
                  </a:lnTo>
                  <a:lnTo>
                    <a:pt x="2287" y="1689"/>
                  </a:lnTo>
                  <a:lnTo>
                    <a:pt x="2276" y="1711"/>
                  </a:lnTo>
                  <a:lnTo>
                    <a:pt x="2266" y="1738"/>
                  </a:lnTo>
                  <a:lnTo>
                    <a:pt x="2249" y="1761"/>
                  </a:lnTo>
                  <a:lnTo>
                    <a:pt x="2238" y="1782"/>
                  </a:lnTo>
                  <a:lnTo>
                    <a:pt x="2222" y="1804"/>
                  </a:lnTo>
                  <a:lnTo>
                    <a:pt x="2206" y="1825"/>
                  </a:lnTo>
                  <a:lnTo>
                    <a:pt x="2189" y="1847"/>
                  </a:lnTo>
                  <a:lnTo>
                    <a:pt x="2173" y="1869"/>
                  </a:lnTo>
                  <a:lnTo>
                    <a:pt x="2162" y="1890"/>
                  </a:lnTo>
                  <a:lnTo>
                    <a:pt x="2140" y="1912"/>
                  </a:lnTo>
                  <a:lnTo>
                    <a:pt x="2124" y="1928"/>
                  </a:lnTo>
                  <a:lnTo>
                    <a:pt x="2108" y="1950"/>
                  </a:lnTo>
                  <a:lnTo>
                    <a:pt x="2091" y="1966"/>
                  </a:lnTo>
                  <a:lnTo>
                    <a:pt x="2070" y="1988"/>
                  </a:lnTo>
                  <a:lnTo>
                    <a:pt x="2053" y="2004"/>
                  </a:lnTo>
                  <a:lnTo>
                    <a:pt x="2031" y="2020"/>
                  </a:lnTo>
                  <a:lnTo>
                    <a:pt x="2015" y="2037"/>
                  </a:lnTo>
                  <a:lnTo>
                    <a:pt x="1993" y="2058"/>
                  </a:lnTo>
                  <a:lnTo>
                    <a:pt x="1972" y="2074"/>
                  </a:lnTo>
                  <a:lnTo>
                    <a:pt x="1950" y="2091"/>
                  </a:lnTo>
                  <a:lnTo>
                    <a:pt x="1933" y="2107"/>
                  </a:lnTo>
                  <a:lnTo>
                    <a:pt x="1912" y="2118"/>
                  </a:lnTo>
                  <a:lnTo>
                    <a:pt x="1890" y="2134"/>
                  </a:lnTo>
                  <a:lnTo>
                    <a:pt x="1863" y="2150"/>
                  </a:lnTo>
                  <a:lnTo>
                    <a:pt x="1841" y="2161"/>
                  </a:lnTo>
                  <a:lnTo>
                    <a:pt x="1819" y="2177"/>
                  </a:lnTo>
                  <a:lnTo>
                    <a:pt x="1797" y="2188"/>
                  </a:lnTo>
                  <a:lnTo>
                    <a:pt x="1770" y="2199"/>
                  </a:lnTo>
                  <a:lnTo>
                    <a:pt x="1748" y="2210"/>
                  </a:lnTo>
                  <a:lnTo>
                    <a:pt x="1721" y="2226"/>
                  </a:lnTo>
                  <a:lnTo>
                    <a:pt x="1699" y="2237"/>
                  </a:lnTo>
                  <a:lnTo>
                    <a:pt x="1672" y="2248"/>
                  </a:lnTo>
                  <a:lnTo>
                    <a:pt x="1645" y="2258"/>
                  </a:lnTo>
                  <a:lnTo>
                    <a:pt x="1623" y="2264"/>
                  </a:lnTo>
                  <a:lnTo>
                    <a:pt x="1596" y="2275"/>
                  </a:lnTo>
                  <a:lnTo>
                    <a:pt x="1569" y="2280"/>
                  </a:lnTo>
                  <a:lnTo>
                    <a:pt x="1541" y="2291"/>
                  </a:lnTo>
                  <a:lnTo>
                    <a:pt x="1514" y="2296"/>
                  </a:lnTo>
                  <a:lnTo>
                    <a:pt x="1487" y="2302"/>
                  </a:lnTo>
                  <a:lnTo>
                    <a:pt x="1460" y="2307"/>
                  </a:lnTo>
                  <a:lnTo>
                    <a:pt x="1433" y="2313"/>
                  </a:lnTo>
                  <a:lnTo>
                    <a:pt x="1405" y="2318"/>
                  </a:lnTo>
                  <a:lnTo>
                    <a:pt x="1378" y="2323"/>
                  </a:lnTo>
                  <a:lnTo>
                    <a:pt x="1351" y="2323"/>
                  </a:lnTo>
                  <a:lnTo>
                    <a:pt x="1318" y="2329"/>
                  </a:lnTo>
                  <a:lnTo>
                    <a:pt x="1291" y="2329"/>
                  </a:lnTo>
                  <a:lnTo>
                    <a:pt x="1264" y="2329"/>
                  </a:lnTo>
                  <a:lnTo>
                    <a:pt x="1237" y="2334"/>
                  </a:lnTo>
                  <a:lnTo>
                    <a:pt x="1209" y="2334"/>
                  </a:lnTo>
                  <a:lnTo>
                    <a:pt x="1176" y="2334"/>
                  </a:lnTo>
                  <a:lnTo>
                    <a:pt x="1148" y="2329"/>
                  </a:lnTo>
                  <a:lnTo>
                    <a:pt x="1121" y="2329"/>
                  </a:lnTo>
                  <a:lnTo>
                    <a:pt x="1088" y="2329"/>
                  </a:lnTo>
                  <a:lnTo>
                    <a:pt x="1061" y="2323"/>
                  </a:lnTo>
                  <a:lnTo>
                    <a:pt x="1034" y="2323"/>
                  </a:lnTo>
                  <a:lnTo>
                    <a:pt x="1007" y="2318"/>
                  </a:lnTo>
                  <a:lnTo>
                    <a:pt x="974" y="2313"/>
                  </a:lnTo>
                  <a:lnTo>
                    <a:pt x="947" y="2307"/>
                  </a:lnTo>
                  <a:lnTo>
                    <a:pt x="920" y="2302"/>
                  </a:lnTo>
                  <a:lnTo>
                    <a:pt x="898" y="2296"/>
                  </a:lnTo>
                  <a:lnTo>
                    <a:pt x="871" y="2291"/>
                  </a:lnTo>
                  <a:lnTo>
                    <a:pt x="843" y="2280"/>
                  </a:lnTo>
                  <a:lnTo>
                    <a:pt x="816" y="2275"/>
                  </a:lnTo>
                  <a:lnTo>
                    <a:pt x="789" y="2264"/>
                  </a:lnTo>
                  <a:lnTo>
                    <a:pt x="762" y="2258"/>
                  </a:lnTo>
                  <a:lnTo>
                    <a:pt x="740" y="2248"/>
                  </a:lnTo>
                  <a:lnTo>
                    <a:pt x="713" y="2237"/>
                  </a:lnTo>
                  <a:lnTo>
                    <a:pt x="691" y="2226"/>
                  </a:lnTo>
                  <a:lnTo>
                    <a:pt x="664" y="2210"/>
                  </a:lnTo>
                  <a:lnTo>
                    <a:pt x="637" y="2199"/>
                  </a:lnTo>
                  <a:lnTo>
                    <a:pt x="615" y="2188"/>
                  </a:lnTo>
                  <a:lnTo>
                    <a:pt x="593" y="2177"/>
                  </a:lnTo>
                  <a:lnTo>
                    <a:pt x="571" y="2161"/>
                  </a:lnTo>
                  <a:lnTo>
                    <a:pt x="549" y="2150"/>
                  </a:lnTo>
                  <a:lnTo>
                    <a:pt x="528" y="2134"/>
                  </a:lnTo>
                  <a:lnTo>
                    <a:pt x="500" y="2118"/>
                  </a:lnTo>
                  <a:lnTo>
                    <a:pt x="484" y="2107"/>
                  </a:lnTo>
                  <a:lnTo>
                    <a:pt x="457" y="2091"/>
                  </a:lnTo>
                  <a:lnTo>
                    <a:pt x="441" y="2074"/>
                  </a:lnTo>
                  <a:lnTo>
                    <a:pt x="419" y="2058"/>
                  </a:lnTo>
                  <a:lnTo>
                    <a:pt x="397" y="2037"/>
                  </a:lnTo>
                  <a:lnTo>
                    <a:pt x="381" y="2020"/>
                  </a:lnTo>
                  <a:lnTo>
                    <a:pt x="359" y="2004"/>
                  </a:lnTo>
                  <a:lnTo>
                    <a:pt x="343" y="1988"/>
                  </a:lnTo>
                  <a:lnTo>
                    <a:pt x="321" y="1966"/>
                  </a:lnTo>
                  <a:lnTo>
                    <a:pt x="299" y="1950"/>
                  </a:lnTo>
                  <a:lnTo>
                    <a:pt x="283" y="1928"/>
                  </a:lnTo>
                  <a:lnTo>
                    <a:pt x="266" y="1912"/>
                  </a:lnTo>
                  <a:lnTo>
                    <a:pt x="250" y="1890"/>
                  </a:lnTo>
                  <a:lnTo>
                    <a:pt x="234" y="1869"/>
                  </a:lnTo>
                  <a:lnTo>
                    <a:pt x="217" y="1847"/>
                  </a:lnTo>
                  <a:lnTo>
                    <a:pt x="206" y="1825"/>
                  </a:lnTo>
                  <a:lnTo>
                    <a:pt x="190" y="1804"/>
                  </a:lnTo>
                  <a:lnTo>
                    <a:pt x="174" y="1782"/>
                  </a:lnTo>
                  <a:lnTo>
                    <a:pt x="163" y="1761"/>
                  </a:lnTo>
                  <a:lnTo>
                    <a:pt x="147" y="1738"/>
                  </a:lnTo>
                  <a:lnTo>
                    <a:pt x="136" y="1711"/>
                  </a:lnTo>
                  <a:lnTo>
                    <a:pt x="119" y="1689"/>
                  </a:lnTo>
                  <a:lnTo>
                    <a:pt x="108" y="1668"/>
                  </a:lnTo>
                  <a:lnTo>
                    <a:pt x="98" y="1640"/>
                  </a:lnTo>
                  <a:lnTo>
                    <a:pt x="92" y="1619"/>
                  </a:lnTo>
                  <a:lnTo>
                    <a:pt x="76" y="1592"/>
                  </a:lnTo>
                  <a:lnTo>
                    <a:pt x="70" y="1570"/>
                  </a:lnTo>
                  <a:lnTo>
                    <a:pt x="59" y="1543"/>
                  </a:lnTo>
                  <a:lnTo>
                    <a:pt x="54" y="1516"/>
                  </a:lnTo>
                  <a:lnTo>
                    <a:pt x="43" y="1494"/>
                  </a:lnTo>
                  <a:lnTo>
                    <a:pt x="38" y="1467"/>
                  </a:lnTo>
                  <a:lnTo>
                    <a:pt x="32" y="1440"/>
                  </a:lnTo>
                  <a:lnTo>
                    <a:pt x="27" y="1413"/>
                  </a:lnTo>
                  <a:lnTo>
                    <a:pt x="21" y="1386"/>
                  </a:lnTo>
                  <a:lnTo>
                    <a:pt x="16" y="1359"/>
                  </a:lnTo>
                  <a:lnTo>
                    <a:pt x="10" y="1332"/>
                  </a:lnTo>
                  <a:lnTo>
                    <a:pt x="5" y="1305"/>
                  </a:lnTo>
                  <a:lnTo>
                    <a:pt x="5" y="1278"/>
                  </a:lnTo>
                  <a:lnTo>
                    <a:pt x="0" y="1251"/>
                  </a:lnTo>
                  <a:lnTo>
                    <a:pt x="0" y="1224"/>
                  </a:lnTo>
                  <a:lnTo>
                    <a:pt x="0" y="1191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28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09680" y="2724120"/>
              <a:ext cx="865440" cy="830520"/>
            </a:xfrm>
            <a:custGeom>
              <a:avLst/>
              <a:gdLst/>
              <a:ahLst/>
              <a:rect l="0" t="0" r="r" b="b"/>
              <a:pathLst>
                <a:path w="2404" h="2307">
                  <a:moveTo>
                    <a:pt x="0" y="1156"/>
                  </a:moveTo>
                  <a:lnTo>
                    <a:pt x="0" y="1123"/>
                  </a:lnTo>
                  <a:lnTo>
                    <a:pt x="5" y="1096"/>
                  </a:lnTo>
                  <a:lnTo>
                    <a:pt x="5" y="1069"/>
                  </a:lnTo>
                  <a:lnTo>
                    <a:pt x="10" y="1037"/>
                  </a:lnTo>
                  <a:lnTo>
                    <a:pt x="10" y="1010"/>
                  </a:lnTo>
                  <a:lnTo>
                    <a:pt x="16" y="983"/>
                  </a:lnTo>
                  <a:lnTo>
                    <a:pt x="16" y="956"/>
                  </a:lnTo>
                  <a:lnTo>
                    <a:pt x="21" y="934"/>
                  </a:lnTo>
                  <a:lnTo>
                    <a:pt x="27" y="907"/>
                  </a:lnTo>
                  <a:lnTo>
                    <a:pt x="32" y="874"/>
                  </a:lnTo>
                  <a:lnTo>
                    <a:pt x="43" y="853"/>
                  </a:lnTo>
                  <a:lnTo>
                    <a:pt x="49" y="826"/>
                  </a:lnTo>
                  <a:lnTo>
                    <a:pt x="54" y="799"/>
                  </a:lnTo>
                  <a:lnTo>
                    <a:pt x="65" y="772"/>
                  </a:lnTo>
                  <a:lnTo>
                    <a:pt x="76" y="750"/>
                  </a:lnTo>
                  <a:lnTo>
                    <a:pt x="87" y="723"/>
                  </a:lnTo>
                  <a:lnTo>
                    <a:pt x="92" y="696"/>
                  </a:lnTo>
                  <a:lnTo>
                    <a:pt x="103" y="675"/>
                  </a:lnTo>
                  <a:lnTo>
                    <a:pt x="114" y="648"/>
                  </a:lnTo>
                  <a:lnTo>
                    <a:pt x="130" y="626"/>
                  </a:lnTo>
                  <a:lnTo>
                    <a:pt x="141" y="604"/>
                  </a:lnTo>
                  <a:lnTo>
                    <a:pt x="152" y="583"/>
                  </a:lnTo>
                  <a:lnTo>
                    <a:pt x="168" y="556"/>
                  </a:lnTo>
                  <a:lnTo>
                    <a:pt x="185" y="534"/>
                  </a:lnTo>
                  <a:lnTo>
                    <a:pt x="196" y="513"/>
                  </a:lnTo>
                  <a:lnTo>
                    <a:pt x="212" y="491"/>
                  </a:lnTo>
                  <a:lnTo>
                    <a:pt x="228" y="469"/>
                  </a:lnTo>
                  <a:lnTo>
                    <a:pt x="245" y="448"/>
                  </a:lnTo>
                  <a:lnTo>
                    <a:pt x="261" y="432"/>
                  </a:lnTo>
                  <a:lnTo>
                    <a:pt x="277" y="410"/>
                  </a:lnTo>
                  <a:lnTo>
                    <a:pt x="294" y="388"/>
                  </a:lnTo>
                  <a:lnTo>
                    <a:pt x="316" y="372"/>
                  </a:lnTo>
                  <a:lnTo>
                    <a:pt x="332" y="351"/>
                  </a:lnTo>
                  <a:lnTo>
                    <a:pt x="348" y="334"/>
                  </a:lnTo>
                  <a:lnTo>
                    <a:pt x="370" y="318"/>
                  </a:lnTo>
                  <a:lnTo>
                    <a:pt x="386" y="297"/>
                  </a:lnTo>
                  <a:lnTo>
                    <a:pt x="408" y="280"/>
                  </a:lnTo>
                  <a:lnTo>
                    <a:pt x="430" y="264"/>
                  </a:lnTo>
                  <a:lnTo>
                    <a:pt x="452" y="248"/>
                  </a:lnTo>
                  <a:lnTo>
                    <a:pt x="468" y="232"/>
                  </a:lnTo>
                  <a:lnTo>
                    <a:pt x="495" y="216"/>
                  </a:lnTo>
                  <a:lnTo>
                    <a:pt x="517" y="199"/>
                  </a:lnTo>
                  <a:lnTo>
                    <a:pt x="539" y="189"/>
                  </a:lnTo>
                  <a:lnTo>
                    <a:pt x="561" y="172"/>
                  </a:lnTo>
                  <a:lnTo>
                    <a:pt x="583" y="162"/>
                  </a:lnTo>
                  <a:lnTo>
                    <a:pt x="604" y="145"/>
                  </a:lnTo>
                  <a:lnTo>
                    <a:pt x="632" y="135"/>
                  </a:lnTo>
                  <a:lnTo>
                    <a:pt x="659" y="124"/>
                  </a:lnTo>
                  <a:lnTo>
                    <a:pt x="681" y="113"/>
                  </a:lnTo>
                  <a:lnTo>
                    <a:pt x="708" y="102"/>
                  </a:lnTo>
                  <a:lnTo>
                    <a:pt x="730" y="91"/>
                  </a:lnTo>
                  <a:lnTo>
                    <a:pt x="757" y="81"/>
                  </a:lnTo>
                  <a:lnTo>
                    <a:pt x="784" y="70"/>
                  </a:lnTo>
                  <a:lnTo>
                    <a:pt x="806" y="59"/>
                  </a:lnTo>
                  <a:lnTo>
                    <a:pt x="833" y="54"/>
                  </a:lnTo>
                  <a:lnTo>
                    <a:pt x="861" y="43"/>
                  </a:lnTo>
                  <a:lnTo>
                    <a:pt x="888" y="37"/>
                  </a:lnTo>
                  <a:lnTo>
                    <a:pt x="915" y="32"/>
                  </a:lnTo>
                  <a:lnTo>
                    <a:pt x="942" y="27"/>
                  </a:lnTo>
                  <a:lnTo>
                    <a:pt x="970" y="21"/>
                  </a:lnTo>
                  <a:lnTo>
                    <a:pt x="997" y="16"/>
                  </a:lnTo>
                  <a:lnTo>
                    <a:pt x="1029" y="10"/>
                  </a:lnTo>
                  <a:lnTo>
                    <a:pt x="1057" y="10"/>
                  </a:lnTo>
                  <a:lnTo>
                    <a:pt x="1084" y="5"/>
                  </a:lnTo>
                  <a:lnTo>
                    <a:pt x="1117" y="0"/>
                  </a:lnTo>
                  <a:lnTo>
                    <a:pt x="1144" y="0"/>
                  </a:lnTo>
                  <a:lnTo>
                    <a:pt x="1171" y="0"/>
                  </a:lnTo>
                  <a:lnTo>
                    <a:pt x="1205" y="0"/>
                  </a:lnTo>
                  <a:lnTo>
                    <a:pt x="1232" y="0"/>
                  </a:lnTo>
                  <a:lnTo>
                    <a:pt x="1259" y="0"/>
                  </a:lnTo>
                  <a:lnTo>
                    <a:pt x="1287" y="0"/>
                  </a:lnTo>
                  <a:lnTo>
                    <a:pt x="1319" y="5"/>
                  </a:lnTo>
                  <a:lnTo>
                    <a:pt x="1347" y="10"/>
                  </a:lnTo>
                  <a:lnTo>
                    <a:pt x="1374" y="10"/>
                  </a:lnTo>
                  <a:lnTo>
                    <a:pt x="1407" y="16"/>
                  </a:lnTo>
                  <a:lnTo>
                    <a:pt x="1434" y="21"/>
                  </a:lnTo>
                  <a:lnTo>
                    <a:pt x="1456" y="27"/>
                  </a:lnTo>
                  <a:lnTo>
                    <a:pt x="1483" y="32"/>
                  </a:lnTo>
                  <a:lnTo>
                    <a:pt x="1510" y="37"/>
                  </a:lnTo>
                  <a:lnTo>
                    <a:pt x="1543" y="43"/>
                  </a:lnTo>
                  <a:lnTo>
                    <a:pt x="1570" y="54"/>
                  </a:lnTo>
                  <a:lnTo>
                    <a:pt x="1592" y="59"/>
                  </a:lnTo>
                  <a:lnTo>
                    <a:pt x="1619" y="70"/>
                  </a:lnTo>
                  <a:lnTo>
                    <a:pt x="1646" y="81"/>
                  </a:lnTo>
                  <a:lnTo>
                    <a:pt x="1668" y="91"/>
                  </a:lnTo>
                  <a:lnTo>
                    <a:pt x="1701" y="102"/>
                  </a:lnTo>
                  <a:lnTo>
                    <a:pt x="1723" y="113"/>
                  </a:lnTo>
                  <a:lnTo>
                    <a:pt x="1744" y="124"/>
                  </a:lnTo>
                  <a:lnTo>
                    <a:pt x="1772" y="135"/>
                  </a:lnTo>
                  <a:lnTo>
                    <a:pt x="1793" y="145"/>
                  </a:lnTo>
                  <a:lnTo>
                    <a:pt x="1815" y="162"/>
                  </a:lnTo>
                  <a:lnTo>
                    <a:pt x="1842" y="172"/>
                  </a:lnTo>
                  <a:lnTo>
                    <a:pt x="1864" y="189"/>
                  </a:lnTo>
                  <a:lnTo>
                    <a:pt x="1886" y="199"/>
                  </a:lnTo>
                  <a:lnTo>
                    <a:pt x="1908" y="216"/>
                  </a:lnTo>
                  <a:lnTo>
                    <a:pt x="1930" y="232"/>
                  </a:lnTo>
                  <a:lnTo>
                    <a:pt x="1951" y="248"/>
                  </a:lnTo>
                  <a:lnTo>
                    <a:pt x="1973" y="264"/>
                  </a:lnTo>
                  <a:lnTo>
                    <a:pt x="1995" y="280"/>
                  </a:lnTo>
                  <a:lnTo>
                    <a:pt x="2011" y="297"/>
                  </a:lnTo>
                  <a:lnTo>
                    <a:pt x="2033" y="318"/>
                  </a:lnTo>
                  <a:lnTo>
                    <a:pt x="2055" y="334"/>
                  </a:lnTo>
                  <a:lnTo>
                    <a:pt x="2071" y="351"/>
                  </a:lnTo>
                  <a:lnTo>
                    <a:pt x="2088" y="372"/>
                  </a:lnTo>
                  <a:lnTo>
                    <a:pt x="2110" y="388"/>
                  </a:lnTo>
                  <a:lnTo>
                    <a:pt x="2126" y="410"/>
                  </a:lnTo>
                  <a:lnTo>
                    <a:pt x="2142" y="432"/>
                  </a:lnTo>
                  <a:lnTo>
                    <a:pt x="2159" y="448"/>
                  </a:lnTo>
                  <a:lnTo>
                    <a:pt x="2175" y="469"/>
                  </a:lnTo>
                  <a:lnTo>
                    <a:pt x="2191" y="491"/>
                  </a:lnTo>
                  <a:lnTo>
                    <a:pt x="2202" y="513"/>
                  </a:lnTo>
                  <a:lnTo>
                    <a:pt x="2219" y="534"/>
                  </a:lnTo>
                  <a:lnTo>
                    <a:pt x="2235" y="556"/>
                  </a:lnTo>
                  <a:lnTo>
                    <a:pt x="2251" y="583"/>
                  </a:lnTo>
                  <a:lnTo>
                    <a:pt x="2262" y="604"/>
                  </a:lnTo>
                  <a:lnTo>
                    <a:pt x="2273" y="626"/>
                  </a:lnTo>
                  <a:lnTo>
                    <a:pt x="2284" y="648"/>
                  </a:lnTo>
                  <a:lnTo>
                    <a:pt x="2295" y="675"/>
                  </a:lnTo>
                  <a:lnTo>
                    <a:pt x="2311" y="696"/>
                  </a:lnTo>
                  <a:lnTo>
                    <a:pt x="2317" y="723"/>
                  </a:lnTo>
                  <a:lnTo>
                    <a:pt x="2328" y="750"/>
                  </a:lnTo>
                  <a:lnTo>
                    <a:pt x="2338" y="772"/>
                  </a:lnTo>
                  <a:lnTo>
                    <a:pt x="2344" y="799"/>
                  </a:lnTo>
                  <a:lnTo>
                    <a:pt x="2355" y="826"/>
                  </a:lnTo>
                  <a:lnTo>
                    <a:pt x="2360" y="853"/>
                  </a:lnTo>
                  <a:lnTo>
                    <a:pt x="2366" y="874"/>
                  </a:lnTo>
                  <a:lnTo>
                    <a:pt x="2371" y="907"/>
                  </a:lnTo>
                  <a:lnTo>
                    <a:pt x="2377" y="934"/>
                  </a:lnTo>
                  <a:lnTo>
                    <a:pt x="2387" y="956"/>
                  </a:lnTo>
                  <a:lnTo>
                    <a:pt x="2393" y="983"/>
                  </a:lnTo>
                  <a:lnTo>
                    <a:pt x="2393" y="1010"/>
                  </a:lnTo>
                  <a:lnTo>
                    <a:pt x="2398" y="1037"/>
                  </a:lnTo>
                  <a:lnTo>
                    <a:pt x="2398" y="1069"/>
                  </a:lnTo>
                  <a:lnTo>
                    <a:pt x="2398" y="1096"/>
                  </a:lnTo>
                  <a:lnTo>
                    <a:pt x="2404" y="1123"/>
                  </a:lnTo>
                  <a:lnTo>
                    <a:pt x="2404" y="1156"/>
                  </a:lnTo>
                  <a:lnTo>
                    <a:pt x="2404" y="1178"/>
                  </a:lnTo>
                  <a:lnTo>
                    <a:pt x="2398" y="1210"/>
                  </a:lnTo>
                  <a:lnTo>
                    <a:pt x="2398" y="1237"/>
                  </a:lnTo>
                  <a:lnTo>
                    <a:pt x="2398" y="1264"/>
                  </a:lnTo>
                  <a:lnTo>
                    <a:pt x="2393" y="1291"/>
                  </a:lnTo>
                  <a:lnTo>
                    <a:pt x="2393" y="1318"/>
                  </a:lnTo>
                  <a:lnTo>
                    <a:pt x="2387" y="1345"/>
                  </a:lnTo>
                  <a:lnTo>
                    <a:pt x="2377" y="1372"/>
                  </a:lnTo>
                  <a:lnTo>
                    <a:pt x="2371" y="1405"/>
                  </a:lnTo>
                  <a:lnTo>
                    <a:pt x="2366" y="1426"/>
                  </a:lnTo>
                  <a:lnTo>
                    <a:pt x="2360" y="1453"/>
                  </a:lnTo>
                  <a:lnTo>
                    <a:pt x="2355" y="1480"/>
                  </a:lnTo>
                  <a:lnTo>
                    <a:pt x="2344" y="1507"/>
                  </a:lnTo>
                  <a:lnTo>
                    <a:pt x="2338" y="1529"/>
                  </a:lnTo>
                  <a:lnTo>
                    <a:pt x="2328" y="1556"/>
                  </a:lnTo>
                  <a:lnTo>
                    <a:pt x="2317" y="1583"/>
                  </a:lnTo>
                  <a:lnTo>
                    <a:pt x="2311" y="1605"/>
                  </a:lnTo>
                  <a:lnTo>
                    <a:pt x="2295" y="1632"/>
                  </a:lnTo>
                  <a:lnTo>
                    <a:pt x="2284" y="1653"/>
                  </a:lnTo>
                  <a:lnTo>
                    <a:pt x="2273" y="1680"/>
                  </a:lnTo>
                  <a:lnTo>
                    <a:pt x="2262" y="1702"/>
                  </a:lnTo>
                  <a:lnTo>
                    <a:pt x="2251" y="1723"/>
                  </a:lnTo>
                  <a:lnTo>
                    <a:pt x="2235" y="1750"/>
                  </a:lnTo>
                  <a:lnTo>
                    <a:pt x="2219" y="1772"/>
                  </a:lnTo>
                  <a:lnTo>
                    <a:pt x="2202" y="1794"/>
                  </a:lnTo>
                  <a:lnTo>
                    <a:pt x="2191" y="1815"/>
                  </a:lnTo>
                  <a:lnTo>
                    <a:pt x="2175" y="1831"/>
                  </a:lnTo>
                  <a:lnTo>
                    <a:pt x="2159" y="1853"/>
                  </a:lnTo>
                  <a:lnTo>
                    <a:pt x="2142" y="1875"/>
                  </a:lnTo>
                  <a:lnTo>
                    <a:pt x="2126" y="1896"/>
                  </a:lnTo>
                  <a:lnTo>
                    <a:pt x="2110" y="1918"/>
                  </a:lnTo>
                  <a:lnTo>
                    <a:pt x="2088" y="1934"/>
                  </a:lnTo>
                  <a:lnTo>
                    <a:pt x="2071" y="1956"/>
                  </a:lnTo>
                  <a:lnTo>
                    <a:pt x="2055" y="1972"/>
                  </a:lnTo>
                  <a:lnTo>
                    <a:pt x="2033" y="1988"/>
                  </a:lnTo>
                  <a:lnTo>
                    <a:pt x="2011" y="2010"/>
                  </a:lnTo>
                  <a:lnTo>
                    <a:pt x="1995" y="2026"/>
                  </a:lnTo>
                  <a:lnTo>
                    <a:pt x="1973" y="2042"/>
                  </a:lnTo>
                  <a:lnTo>
                    <a:pt x="1951" y="2058"/>
                  </a:lnTo>
                  <a:lnTo>
                    <a:pt x="1930" y="2075"/>
                  </a:lnTo>
                  <a:lnTo>
                    <a:pt x="1908" y="2091"/>
                  </a:lnTo>
                  <a:lnTo>
                    <a:pt x="1886" y="2107"/>
                  </a:lnTo>
                  <a:lnTo>
                    <a:pt x="1864" y="2118"/>
                  </a:lnTo>
                  <a:lnTo>
                    <a:pt x="1842" y="2134"/>
                  </a:lnTo>
                  <a:lnTo>
                    <a:pt x="1815" y="2150"/>
                  </a:lnTo>
                  <a:lnTo>
                    <a:pt x="1793" y="2161"/>
                  </a:lnTo>
                  <a:lnTo>
                    <a:pt x="1772" y="2172"/>
                  </a:lnTo>
                  <a:lnTo>
                    <a:pt x="1744" y="2183"/>
                  </a:lnTo>
                  <a:lnTo>
                    <a:pt x="1723" y="2193"/>
                  </a:lnTo>
                  <a:lnTo>
                    <a:pt x="1701" y="2210"/>
                  </a:lnTo>
                  <a:lnTo>
                    <a:pt x="1668" y="2220"/>
                  </a:lnTo>
                  <a:lnTo>
                    <a:pt x="1646" y="2231"/>
                  </a:lnTo>
                  <a:lnTo>
                    <a:pt x="1619" y="2237"/>
                  </a:lnTo>
                  <a:lnTo>
                    <a:pt x="1592" y="2247"/>
                  </a:lnTo>
                  <a:lnTo>
                    <a:pt x="1570" y="2253"/>
                  </a:lnTo>
                  <a:lnTo>
                    <a:pt x="1543" y="2264"/>
                  </a:lnTo>
                  <a:lnTo>
                    <a:pt x="1510" y="2269"/>
                  </a:lnTo>
                  <a:lnTo>
                    <a:pt x="1483" y="2274"/>
                  </a:lnTo>
                  <a:lnTo>
                    <a:pt x="1456" y="2280"/>
                  </a:lnTo>
                  <a:lnTo>
                    <a:pt x="1434" y="2285"/>
                  </a:lnTo>
                  <a:lnTo>
                    <a:pt x="1407" y="2291"/>
                  </a:lnTo>
                  <a:lnTo>
                    <a:pt x="1374" y="2296"/>
                  </a:lnTo>
                  <a:lnTo>
                    <a:pt x="1347" y="2301"/>
                  </a:lnTo>
                  <a:lnTo>
                    <a:pt x="1319" y="2301"/>
                  </a:lnTo>
                  <a:lnTo>
                    <a:pt x="1287" y="2307"/>
                  </a:lnTo>
                  <a:lnTo>
                    <a:pt x="1259" y="2307"/>
                  </a:lnTo>
                  <a:lnTo>
                    <a:pt x="1232" y="2307"/>
                  </a:lnTo>
                  <a:lnTo>
                    <a:pt x="1171" y="2307"/>
                  </a:lnTo>
                  <a:lnTo>
                    <a:pt x="1144" y="2307"/>
                  </a:lnTo>
                  <a:lnTo>
                    <a:pt x="1117" y="2307"/>
                  </a:lnTo>
                  <a:lnTo>
                    <a:pt x="1084" y="2301"/>
                  </a:lnTo>
                  <a:lnTo>
                    <a:pt x="1057" y="2301"/>
                  </a:lnTo>
                  <a:lnTo>
                    <a:pt x="1029" y="2296"/>
                  </a:lnTo>
                  <a:lnTo>
                    <a:pt x="997" y="2291"/>
                  </a:lnTo>
                  <a:lnTo>
                    <a:pt x="970" y="2285"/>
                  </a:lnTo>
                  <a:lnTo>
                    <a:pt x="942" y="2280"/>
                  </a:lnTo>
                  <a:lnTo>
                    <a:pt x="915" y="2274"/>
                  </a:lnTo>
                  <a:lnTo>
                    <a:pt x="888" y="2269"/>
                  </a:lnTo>
                  <a:lnTo>
                    <a:pt x="861" y="2264"/>
                  </a:lnTo>
                  <a:lnTo>
                    <a:pt x="833" y="2253"/>
                  </a:lnTo>
                  <a:lnTo>
                    <a:pt x="806" y="2247"/>
                  </a:lnTo>
                  <a:lnTo>
                    <a:pt x="784" y="2237"/>
                  </a:lnTo>
                  <a:lnTo>
                    <a:pt x="757" y="2231"/>
                  </a:lnTo>
                  <a:lnTo>
                    <a:pt x="730" y="2220"/>
                  </a:lnTo>
                  <a:lnTo>
                    <a:pt x="708" y="2210"/>
                  </a:lnTo>
                  <a:lnTo>
                    <a:pt x="681" y="2193"/>
                  </a:lnTo>
                  <a:lnTo>
                    <a:pt x="659" y="2183"/>
                  </a:lnTo>
                  <a:lnTo>
                    <a:pt x="632" y="2172"/>
                  </a:lnTo>
                  <a:lnTo>
                    <a:pt x="604" y="2161"/>
                  </a:lnTo>
                  <a:lnTo>
                    <a:pt x="583" y="2150"/>
                  </a:lnTo>
                  <a:lnTo>
                    <a:pt x="561" y="2134"/>
                  </a:lnTo>
                  <a:lnTo>
                    <a:pt x="539" y="2118"/>
                  </a:lnTo>
                  <a:lnTo>
                    <a:pt x="517" y="2107"/>
                  </a:lnTo>
                  <a:lnTo>
                    <a:pt x="495" y="2091"/>
                  </a:lnTo>
                  <a:lnTo>
                    <a:pt x="468" y="2075"/>
                  </a:lnTo>
                  <a:lnTo>
                    <a:pt x="452" y="2058"/>
                  </a:lnTo>
                  <a:lnTo>
                    <a:pt x="430" y="2042"/>
                  </a:lnTo>
                  <a:lnTo>
                    <a:pt x="408" y="2026"/>
                  </a:lnTo>
                  <a:lnTo>
                    <a:pt x="386" y="2010"/>
                  </a:lnTo>
                  <a:lnTo>
                    <a:pt x="370" y="1988"/>
                  </a:lnTo>
                  <a:lnTo>
                    <a:pt x="348" y="1972"/>
                  </a:lnTo>
                  <a:lnTo>
                    <a:pt x="332" y="1956"/>
                  </a:lnTo>
                  <a:lnTo>
                    <a:pt x="316" y="1934"/>
                  </a:lnTo>
                  <a:lnTo>
                    <a:pt x="294" y="1918"/>
                  </a:lnTo>
                  <a:lnTo>
                    <a:pt x="277" y="1896"/>
                  </a:lnTo>
                  <a:lnTo>
                    <a:pt x="261" y="1875"/>
                  </a:lnTo>
                  <a:lnTo>
                    <a:pt x="245" y="1853"/>
                  </a:lnTo>
                  <a:lnTo>
                    <a:pt x="228" y="1831"/>
                  </a:lnTo>
                  <a:lnTo>
                    <a:pt x="212" y="1815"/>
                  </a:lnTo>
                  <a:lnTo>
                    <a:pt x="196" y="1794"/>
                  </a:lnTo>
                  <a:lnTo>
                    <a:pt x="185" y="1772"/>
                  </a:lnTo>
                  <a:lnTo>
                    <a:pt x="168" y="1750"/>
                  </a:lnTo>
                  <a:lnTo>
                    <a:pt x="152" y="1723"/>
                  </a:lnTo>
                  <a:lnTo>
                    <a:pt x="141" y="1702"/>
                  </a:lnTo>
                  <a:lnTo>
                    <a:pt x="130" y="1680"/>
                  </a:lnTo>
                  <a:lnTo>
                    <a:pt x="114" y="1653"/>
                  </a:lnTo>
                  <a:lnTo>
                    <a:pt x="103" y="1632"/>
                  </a:lnTo>
                  <a:lnTo>
                    <a:pt x="92" y="1605"/>
                  </a:lnTo>
                  <a:lnTo>
                    <a:pt x="87" y="1583"/>
                  </a:lnTo>
                  <a:lnTo>
                    <a:pt x="76" y="1556"/>
                  </a:lnTo>
                  <a:lnTo>
                    <a:pt x="65" y="1529"/>
                  </a:lnTo>
                  <a:lnTo>
                    <a:pt x="54" y="1507"/>
                  </a:lnTo>
                  <a:lnTo>
                    <a:pt x="49" y="1480"/>
                  </a:lnTo>
                  <a:lnTo>
                    <a:pt x="43" y="1453"/>
                  </a:lnTo>
                  <a:lnTo>
                    <a:pt x="32" y="1426"/>
                  </a:lnTo>
                  <a:lnTo>
                    <a:pt x="27" y="1405"/>
                  </a:lnTo>
                  <a:lnTo>
                    <a:pt x="21" y="1372"/>
                  </a:lnTo>
                  <a:lnTo>
                    <a:pt x="16" y="1345"/>
                  </a:lnTo>
                  <a:lnTo>
                    <a:pt x="16" y="1318"/>
                  </a:lnTo>
                  <a:lnTo>
                    <a:pt x="10" y="1291"/>
                  </a:lnTo>
                  <a:lnTo>
                    <a:pt x="10" y="1264"/>
                  </a:lnTo>
                  <a:lnTo>
                    <a:pt x="5" y="1237"/>
                  </a:lnTo>
                  <a:lnTo>
                    <a:pt x="5" y="1210"/>
                  </a:lnTo>
                  <a:lnTo>
                    <a:pt x="0" y="1178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303d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4360" y="2727360"/>
              <a:ext cx="856080" cy="825840"/>
            </a:xfrm>
            <a:custGeom>
              <a:avLst/>
              <a:gdLst/>
              <a:ahLst/>
              <a:rect l="0" t="0" r="r" b="b"/>
              <a:pathLst>
                <a:path w="2378" h="2294">
                  <a:moveTo>
                    <a:pt x="0" y="1146"/>
                  </a:moveTo>
                  <a:lnTo>
                    <a:pt x="0" y="1114"/>
                  </a:lnTo>
                  <a:lnTo>
                    <a:pt x="0" y="1087"/>
                  </a:lnTo>
                  <a:lnTo>
                    <a:pt x="5" y="1059"/>
                  </a:lnTo>
                  <a:lnTo>
                    <a:pt x="5" y="1032"/>
                  </a:lnTo>
                  <a:lnTo>
                    <a:pt x="5" y="1000"/>
                  </a:lnTo>
                  <a:lnTo>
                    <a:pt x="10" y="978"/>
                  </a:lnTo>
                  <a:lnTo>
                    <a:pt x="16" y="951"/>
                  </a:lnTo>
                  <a:lnTo>
                    <a:pt x="21" y="924"/>
                  </a:lnTo>
                  <a:lnTo>
                    <a:pt x="27" y="897"/>
                  </a:lnTo>
                  <a:lnTo>
                    <a:pt x="32" y="870"/>
                  </a:lnTo>
                  <a:lnTo>
                    <a:pt x="38" y="843"/>
                  </a:lnTo>
                  <a:lnTo>
                    <a:pt x="43" y="816"/>
                  </a:lnTo>
                  <a:lnTo>
                    <a:pt x="54" y="789"/>
                  </a:lnTo>
                  <a:lnTo>
                    <a:pt x="59" y="767"/>
                  </a:lnTo>
                  <a:lnTo>
                    <a:pt x="70" y="740"/>
                  </a:lnTo>
                  <a:lnTo>
                    <a:pt x="81" y="713"/>
                  </a:lnTo>
                  <a:lnTo>
                    <a:pt x="92" y="692"/>
                  </a:lnTo>
                  <a:lnTo>
                    <a:pt x="103" y="670"/>
                  </a:lnTo>
                  <a:lnTo>
                    <a:pt x="114" y="643"/>
                  </a:lnTo>
                  <a:lnTo>
                    <a:pt x="125" y="621"/>
                  </a:lnTo>
                  <a:lnTo>
                    <a:pt x="141" y="600"/>
                  </a:lnTo>
                  <a:lnTo>
                    <a:pt x="152" y="578"/>
                  </a:lnTo>
                  <a:lnTo>
                    <a:pt x="163" y="551"/>
                  </a:lnTo>
                  <a:lnTo>
                    <a:pt x="179" y="529"/>
                  </a:lnTo>
                  <a:lnTo>
                    <a:pt x="195" y="508"/>
                  </a:lnTo>
                  <a:lnTo>
                    <a:pt x="206" y="486"/>
                  </a:lnTo>
                  <a:lnTo>
                    <a:pt x="222" y="465"/>
                  </a:lnTo>
                  <a:lnTo>
                    <a:pt x="239" y="443"/>
                  </a:lnTo>
                  <a:lnTo>
                    <a:pt x="255" y="427"/>
                  </a:lnTo>
                  <a:lnTo>
                    <a:pt x="271" y="405"/>
                  </a:lnTo>
                  <a:lnTo>
                    <a:pt x="288" y="383"/>
                  </a:lnTo>
                  <a:lnTo>
                    <a:pt x="310" y="367"/>
                  </a:lnTo>
                  <a:lnTo>
                    <a:pt x="326" y="346"/>
                  </a:lnTo>
                  <a:lnTo>
                    <a:pt x="348" y="329"/>
                  </a:lnTo>
                  <a:lnTo>
                    <a:pt x="364" y="313"/>
                  </a:lnTo>
                  <a:lnTo>
                    <a:pt x="386" y="292"/>
                  </a:lnTo>
                  <a:lnTo>
                    <a:pt x="402" y="275"/>
                  </a:lnTo>
                  <a:lnTo>
                    <a:pt x="424" y="259"/>
                  </a:lnTo>
                  <a:lnTo>
                    <a:pt x="440" y="243"/>
                  </a:lnTo>
                  <a:lnTo>
                    <a:pt x="467" y="232"/>
                  </a:lnTo>
                  <a:lnTo>
                    <a:pt x="489" y="210"/>
                  </a:lnTo>
                  <a:lnTo>
                    <a:pt x="511" y="200"/>
                  </a:lnTo>
                  <a:lnTo>
                    <a:pt x="533" y="183"/>
                  </a:lnTo>
                  <a:lnTo>
                    <a:pt x="554" y="167"/>
                  </a:lnTo>
                  <a:lnTo>
                    <a:pt x="576" y="156"/>
                  </a:lnTo>
                  <a:lnTo>
                    <a:pt x="599" y="140"/>
                  </a:lnTo>
                  <a:lnTo>
                    <a:pt x="626" y="129"/>
                  </a:lnTo>
                  <a:lnTo>
                    <a:pt x="648" y="118"/>
                  </a:lnTo>
                  <a:lnTo>
                    <a:pt x="675" y="108"/>
                  </a:lnTo>
                  <a:lnTo>
                    <a:pt x="697" y="97"/>
                  </a:lnTo>
                  <a:lnTo>
                    <a:pt x="724" y="86"/>
                  </a:lnTo>
                  <a:lnTo>
                    <a:pt x="746" y="75"/>
                  </a:lnTo>
                  <a:lnTo>
                    <a:pt x="773" y="64"/>
                  </a:lnTo>
                  <a:lnTo>
                    <a:pt x="800" y="54"/>
                  </a:lnTo>
                  <a:lnTo>
                    <a:pt x="827" y="48"/>
                  </a:lnTo>
                  <a:lnTo>
                    <a:pt x="854" y="43"/>
                  </a:lnTo>
                  <a:lnTo>
                    <a:pt x="882" y="37"/>
                  </a:lnTo>
                  <a:lnTo>
                    <a:pt x="903" y="27"/>
                  </a:lnTo>
                  <a:lnTo>
                    <a:pt x="931" y="21"/>
                  </a:lnTo>
                  <a:lnTo>
                    <a:pt x="958" y="16"/>
                  </a:lnTo>
                  <a:lnTo>
                    <a:pt x="990" y="10"/>
                  </a:lnTo>
                  <a:lnTo>
                    <a:pt x="1018" y="10"/>
                  </a:lnTo>
                  <a:lnTo>
                    <a:pt x="1045" y="5"/>
                  </a:lnTo>
                  <a:lnTo>
                    <a:pt x="1072" y="0"/>
                  </a:lnTo>
                  <a:lnTo>
                    <a:pt x="1105" y="0"/>
                  </a:lnTo>
                  <a:lnTo>
                    <a:pt x="1132" y="0"/>
                  </a:lnTo>
                  <a:lnTo>
                    <a:pt x="1159" y="0"/>
                  </a:lnTo>
                  <a:lnTo>
                    <a:pt x="1219" y="0"/>
                  </a:lnTo>
                  <a:lnTo>
                    <a:pt x="1246" y="0"/>
                  </a:lnTo>
                  <a:lnTo>
                    <a:pt x="1273" y="0"/>
                  </a:lnTo>
                  <a:lnTo>
                    <a:pt x="1300" y="0"/>
                  </a:lnTo>
                  <a:lnTo>
                    <a:pt x="1333" y="5"/>
                  </a:lnTo>
                  <a:lnTo>
                    <a:pt x="1360" y="10"/>
                  </a:lnTo>
                  <a:lnTo>
                    <a:pt x="1387" y="10"/>
                  </a:lnTo>
                  <a:lnTo>
                    <a:pt x="1415" y="16"/>
                  </a:lnTo>
                  <a:lnTo>
                    <a:pt x="1442" y="21"/>
                  </a:lnTo>
                  <a:lnTo>
                    <a:pt x="1469" y="27"/>
                  </a:lnTo>
                  <a:lnTo>
                    <a:pt x="1496" y="37"/>
                  </a:lnTo>
                  <a:lnTo>
                    <a:pt x="1523" y="43"/>
                  </a:lnTo>
                  <a:lnTo>
                    <a:pt x="1551" y="48"/>
                  </a:lnTo>
                  <a:lnTo>
                    <a:pt x="1578" y="54"/>
                  </a:lnTo>
                  <a:lnTo>
                    <a:pt x="1605" y="64"/>
                  </a:lnTo>
                  <a:lnTo>
                    <a:pt x="1627" y="75"/>
                  </a:lnTo>
                  <a:lnTo>
                    <a:pt x="1654" y="86"/>
                  </a:lnTo>
                  <a:lnTo>
                    <a:pt x="1681" y="97"/>
                  </a:lnTo>
                  <a:lnTo>
                    <a:pt x="1703" y="108"/>
                  </a:lnTo>
                  <a:lnTo>
                    <a:pt x="1730" y="118"/>
                  </a:lnTo>
                  <a:lnTo>
                    <a:pt x="1752" y="129"/>
                  </a:lnTo>
                  <a:lnTo>
                    <a:pt x="1774" y="140"/>
                  </a:lnTo>
                  <a:lnTo>
                    <a:pt x="1802" y="156"/>
                  </a:lnTo>
                  <a:lnTo>
                    <a:pt x="1824" y="167"/>
                  </a:lnTo>
                  <a:lnTo>
                    <a:pt x="1845" y="183"/>
                  </a:lnTo>
                  <a:lnTo>
                    <a:pt x="1873" y="200"/>
                  </a:lnTo>
                  <a:lnTo>
                    <a:pt x="1889" y="210"/>
                  </a:lnTo>
                  <a:lnTo>
                    <a:pt x="1911" y="232"/>
                  </a:lnTo>
                  <a:lnTo>
                    <a:pt x="1932" y="243"/>
                  </a:lnTo>
                  <a:lnTo>
                    <a:pt x="1954" y="259"/>
                  </a:lnTo>
                  <a:lnTo>
                    <a:pt x="1976" y="275"/>
                  </a:lnTo>
                  <a:lnTo>
                    <a:pt x="1992" y="292"/>
                  </a:lnTo>
                  <a:lnTo>
                    <a:pt x="2014" y="313"/>
                  </a:lnTo>
                  <a:lnTo>
                    <a:pt x="2036" y="329"/>
                  </a:lnTo>
                  <a:lnTo>
                    <a:pt x="2052" y="346"/>
                  </a:lnTo>
                  <a:lnTo>
                    <a:pt x="2074" y="367"/>
                  </a:lnTo>
                  <a:lnTo>
                    <a:pt x="2090" y="383"/>
                  </a:lnTo>
                  <a:lnTo>
                    <a:pt x="2106" y="405"/>
                  </a:lnTo>
                  <a:lnTo>
                    <a:pt x="2123" y="427"/>
                  </a:lnTo>
                  <a:lnTo>
                    <a:pt x="2139" y="443"/>
                  </a:lnTo>
                  <a:lnTo>
                    <a:pt x="2155" y="465"/>
                  </a:lnTo>
                  <a:lnTo>
                    <a:pt x="2166" y="486"/>
                  </a:lnTo>
                  <a:lnTo>
                    <a:pt x="2183" y="508"/>
                  </a:lnTo>
                  <a:lnTo>
                    <a:pt x="2199" y="529"/>
                  </a:lnTo>
                  <a:lnTo>
                    <a:pt x="2215" y="551"/>
                  </a:lnTo>
                  <a:lnTo>
                    <a:pt x="2226" y="578"/>
                  </a:lnTo>
                  <a:lnTo>
                    <a:pt x="2237" y="600"/>
                  </a:lnTo>
                  <a:lnTo>
                    <a:pt x="2253" y="621"/>
                  </a:lnTo>
                  <a:lnTo>
                    <a:pt x="2264" y="643"/>
                  </a:lnTo>
                  <a:lnTo>
                    <a:pt x="2275" y="670"/>
                  </a:lnTo>
                  <a:lnTo>
                    <a:pt x="2286" y="692"/>
                  </a:lnTo>
                  <a:lnTo>
                    <a:pt x="2297" y="713"/>
                  </a:lnTo>
                  <a:lnTo>
                    <a:pt x="2308" y="740"/>
                  </a:lnTo>
                  <a:lnTo>
                    <a:pt x="2313" y="767"/>
                  </a:lnTo>
                  <a:lnTo>
                    <a:pt x="2324" y="789"/>
                  </a:lnTo>
                  <a:lnTo>
                    <a:pt x="2329" y="816"/>
                  </a:lnTo>
                  <a:lnTo>
                    <a:pt x="2340" y="843"/>
                  </a:lnTo>
                  <a:lnTo>
                    <a:pt x="2346" y="870"/>
                  </a:lnTo>
                  <a:lnTo>
                    <a:pt x="2351" y="897"/>
                  </a:lnTo>
                  <a:lnTo>
                    <a:pt x="2357" y="924"/>
                  </a:lnTo>
                  <a:lnTo>
                    <a:pt x="2362" y="951"/>
                  </a:lnTo>
                  <a:lnTo>
                    <a:pt x="2367" y="978"/>
                  </a:lnTo>
                  <a:lnTo>
                    <a:pt x="2373" y="1000"/>
                  </a:lnTo>
                  <a:lnTo>
                    <a:pt x="2373" y="1032"/>
                  </a:lnTo>
                  <a:lnTo>
                    <a:pt x="2378" y="1059"/>
                  </a:lnTo>
                  <a:lnTo>
                    <a:pt x="2378" y="1087"/>
                  </a:lnTo>
                  <a:lnTo>
                    <a:pt x="2378" y="1114"/>
                  </a:lnTo>
                  <a:lnTo>
                    <a:pt x="2378" y="1146"/>
                  </a:lnTo>
                  <a:lnTo>
                    <a:pt x="2378" y="1169"/>
                  </a:lnTo>
                  <a:lnTo>
                    <a:pt x="2378" y="1201"/>
                  </a:lnTo>
                  <a:lnTo>
                    <a:pt x="2378" y="1228"/>
                  </a:lnTo>
                  <a:lnTo>
                    <a:pt x="2373" y="1255"/>
                  </a:lnTo>
                  <a:lnTo>
                    <a:pt x="2373" y="1282"/>
                  </a:lnTo>
                  <a:lnTo>
                    <a:pt x="2367" y="1309"/>
                  </a:lnTo>
                  <a:lnTo>
                    <a:pt x="2362" y="1336"/>
                  </a:lnTo>
                  <a:lnTo>
                    <a:pt x="2357" y="1363"/>
                  </a:lnTo>
                  <a:lnTo>
                    <a:pt x="2351" y="1390"/>
                  </a:lnTo>
                  <a:lnTo>
                    <a:pt x="2346" y="1417"/>
                  </a:lnTo>
                  <a:lnTo>
                    <a:pt x="2340" y="1444"/>
                  </a:lnTo>
                  <a:lnTo>
                    <a:pt x="2329" y="1472"/>
                  </a:lnTo>
                  <a:lnTo>
                    <a:pt x="2324" y="1493"/>
                  </a:lnTo>
                  <a:lnTo>
                    <a:pt x="2313" y="1520"/>
                  </a:lnTo>
                  <a:lnTo>
                    <a:pt x="2308" y="1547"/>
                  </a:lnTo>
                  <a:lnTo>
                    <a:pt x="2297" y="1569"/>
                  </a:lnTo>
                  <a:lnTo>
                    <a:pt x="2286" y="1596"/>
                  </a:lnTo>
                  <a:lnTo>
                    <a:pt x="2275" y="1618"/>
                  </a:lnTo>
                  <a:lnTo>
                    <a:pt x="2264" y="1645"/>
                  </a:lnTo>
                  <a:lnTo>
                    <a:pt x="2253" y="1666"/>
                  </a:lnTo>
                  <a:lnTo>
                    <a:pt x="2237" y="1688"/>
                  </a:lnTo>
                  <a:lnTo>
                    <a:pt x="2226" y="1715"/>
                  </a:lnTo>
                  <a:lnTo>
                    <a:pt x="2215" y="1737"/>
                  </a:lnTo>
                  <a:lnTo>
                    <a:pt x="2199" y="1758"/>
                  </a:lnTo>
                  <a:lnTo>
                    <a:pt x="2183" y="1780"/>
                  </a:lnTo>
                  <a:lnTo>
                    <a:pt x="2166" y="1801"/>
                  </a:lnTo>
                  <a:lnTo>
                    <a:pt x="2155" y="1823"/>
                  </a:lnTo>
                  <a:lnTo>
                    <a:pt x="2139" y="1839"/>
                  </a:lnTo>
                  <a:lnTo>
                    <a:pt x="2123" y="1866"/>
                  </a:lnTo>
                  <a:lnTo>
                    <a:pt x="2106" y="1883"/>
                  </a:lnTo>
                  <a:lnTo>
                    <a:pt x="2090" y="1904"/>
                  </a:lnTo>
                  <a:lnTo>
                    <a:pt x="2074" y="1920"/>
                  </a:lnTo>
                  <a:lnTo>
                    <a:pt x="2052" y="1942"/>
                  </a:lnTo>
                  <a:lnTo>
                    <a:pt x="2036" y="1958"/>
                  </a:lnTo>
                  <a:lnTo>
                    <a:pt x="2014" y="1974"/>
                  </a:lnTo>
                  <a:lnTo>
                    <a:pt x="1992" y="1996"/>
                  </a:lnTo>
                  <a:lnTo>
                    <a:pt x="1976" y="2012"/>
                  </a:lnTo>
                  <a:lnTo>
                    <a:pt x="1954" y="2029"/>
                  </a:lnTo>
                  <a:lnTo>
                    <a:pt x="1932" y="2045"/>
                  </a:lnTo>
                  <a:lnTo>
                    <a:pt x="1911" y="2061"/>
                  </a:lnTo>
                  <a:lnTo>
                    <a:pt x="1889" y="2077"/>
                  </a:lnTo>
                  <a:lnTo>
                    <a:pt x="1873" y="2093"/>
                  </a:lnTo>
                  <a:lnTo>
                    <a:pt x="1845" y="2104"/>
                  </a:lnTo>
                  <a:lnTo>
                    <a:pt x="1824" y="2120"/>
                  </a:lnTo>
                  <a:lnTo>
                    <a:pt x="1802" y="2131"/>
                  </a:lnTo>
                  <a:lnTo>
                    <a:pt x="1774" y="2148"/>
                  </a:lnTo>
                  <a:lnTo>
                    <a:pt x="1752" y="2158"/>
                  </a:lnTo>
                  <a:lnTo>
                    <a:pt x="1730" y="2169"/>
                  </a:lnTo>
                  <a:lnTo>
                    <a:pt x="1703" y="2180"/>
                  </a:lnTo>
                  <a:lnTo>
                    <a:pt x="1681" y="2196"/>
                  </a:lnTo>
                  <a:lnTo>
                    <a:pt x="1654" y="2202"/>
                  </a:lnTo>
                  <a:lnTo>
                    <a:pt x="1627" y="2212"/>
                  </a:lnTo>
                  <a:lnTo>
                    <a:pt x="1605" y="2223"/>
                  </a:lnTo>
                  <a:lnTo>
                    <a:pt x="1578" y="2234"/>
                  </a:lnTo>
                  <a:lnTo>
                    <a:pt x="1551" y="2239"/>
                  </a:lnTo>
                  <a:lnTo>
                    <a:pt x="1523" y="2245"/>
                  </a:lnTo>
                  <a:lnTo>
                    <a:pt x="1496" y="2256"/>
                  </a:lnTo>
                  <a:lnTo>
                    <a:pt x="1469" y="2261"/>
                  </a:lnTo>
                  <a:lnTo>
                    <a:pt x="1442" y="2267"/>
                  </a:lnTo>
                  <a:lnTo>
                    <a:pt x="1415" y="2272"/>
                  </a:lnTo>
                  <a:lnTo>
                    <a:pt x="1387" y="2277"/>
                  </a:lnTo>
                  <a:lnTo>
                    <a:pt x="1360" y="2283"/>
                  </a:lnTo>
                  <a:lnTo>
                    <a:pt x="1333" y="2283"/>
                  </a:lnTo>
                  <a:lnTo>
                    <a:pt x="1300" y="2288"/>
                  </a:lnTo>
                  <a:lnTo>
                    <a:pt x="1273" y="2288"/>
                  </a:lnTo>
                  <a:lnTo>
                    <a:pt x="1246" y="2294"/>
                  </a:lnTo>
                  <a:lnTo>
                    <a:pt x="1219" y="2294"/>
                  </a:lnTo>
                  <a:lnTo>
                    <a:pt x="1192" y="2294"/>
                  </a:lnTo>
                  <a:lnTo>
                    <a:pt x="1159" y="2294"/>
                  </a:lnTo>
                  <a:lnTo>
                    <a:pt x="1132" y="2294"/>
                  </a:lnTo>
                  <a:lnTo>
                    <a:pt x="1105" y="2288"/>
                  </a:lnTo>
                  <a:lnTo>
                    <a:pt x="1072" y="2288"/>
                  </a:lnTo>
                  <a:lnTo>
                    <a:pt x="1045" y="2283"/>
                  </a:lnTo>
                  <a:lnTo>
                    <a:pt x="1018" y="2283"/>
                  </a:lnTo>
                  <a:lnTo>
                    <a:pt x="990" y="2277"/>
                  </a:lnTo>
                  <a:lnTo>
                    <a:pt x="958" y="2272"/>
                  </a:lnTo>
                  <a:lnTo>
                    <a:pt x="931" y="2267"/>
                  </a:lnTo>
                  <a:lnTo>
                    <a:pt x="903" y="2261"/>
                  </a:lnTo>
                  <a:lnTo>
                    <a:pt x="882" y="2256"/>
                  </a:lnTo>
                  <a:lnTo>
                    <a:pt x="854" y="2245"/>
                  </a:lnTo>
                  <a:lnTo>
                    <a:pt x="827" y="2239"/>
                  </a:lnTo>
                  <a:lnTo>
                    <a:pt x="800" y="2234"/>
                  </a:lnTo>
                  <a:lnTo>
                    <a:pt x="773" y="2223"/>
                  </a:lnTo>
                  <a:lnTo>
                    <a:pt x="746" y="2212"/>
                  </a:lnTo>
                  <a:lnTo>
                    <a:pt x="724" y="2202"/>
                  </a:lnTo>
                  <a:lnTo>
                    <a:pt x="697" y="2196"/>
                  </a:lnTo>
                  <a:lnTo>
                    <a:pt x="675" y="2180"/>
                  </a:lnTo>
                  <a:lnTo>
                    <a:pt x="648" y="2169"/>
                  </a:lnTo>
                  <a:lnTo>
                    <a:pt x="626" y="2158"/>
                  </a:lnTo>
                  <a:lnTo>
                    <a:pt x="599" y="2148"/>
                  </a:lnTo>
                  <a:lnTo>
                    <a:pt x="576" y="2131"/>
                  </a:lnTo>
                  <a:lnTo>
                    <a:pt x="554" y="2120"/>
                  </a:lnTo>
                  <a:lnTo>
                    <a:pt x="533" y="2104"/>
                  </a:lnTo>
                  <a:lnTo>
                    <a:pt x="511" y="2093"/>
                  </a:lnTo>
                  <a:lnTo>
                    <a:pt x="489" y="2077"/>
                  </a:lnTo>
                  <a:lnTo>
                    <a:pt x="467" y="2061"/>
                  </a:lnTo>
                  <a:lnTo>
                    <a:pt x="440" y="2045"/>
                  </a:lnTo>
                  <a:lnTo>
                    <a:pt x="424" y="2029"/>
                  </a:lnTo>
                  <a:lnTo>
                    <a:pt x="402" y="2012"/>
                  </a:lnTo>
                  <a:lnTo>
                    <a:pt x="386" y="1996"/>
                  </a:lnTo>
                  <a:lnTo>
                    <a:pt x="364" y="1974"/>
                  </a:lnTo>
                  <a:lnTo>
                    <a:pt x="348" y="1958"/>
                  </a:lnTo>
                  <a:lnTo>
                    <a:pt x="326" y="1942"/>
                  </a:lnTo>
                  <a:lnTo>
                    <a:pt x="310" y="1920"/>
                  </a:lnTo>
                  <a:lnTo>
                    <a:pt x="288" y="1904"/>
                  </a:lnTo>
                  <a:lnTo>
                    <a:pt x="271" y="1883"/>
                  </a:lnTo>
                  <a:lnTo>
                    <a:pt x="255" y="1866"/>
                  </a:lnTo>
                  <a:lnTo>
                    <a:pt x="239" y="1839"/>
                  </a:lnTo>
                  <a:lnTo>
                    <a:pt x="222" y="1823"/>
                  </a:lnTo>
                  <a:lnTo>
                    <a:pt x="206" y="1801"/>
                  </a:lnTo>
                  <a:lnTo>
                    <a:pt x="195" y="1780"/>
                  </a:lnTo>
                  <a:lnTo>
                    <a:pt x="179" y="1758"/>
                  </a:lnTo>
                  <a:lnTo>
                    <a:pt x="163" y="1737"/>
                  </a:lnTo>
                  <a:lnTo>
                    <a:pt x="152" y="1715"/>
                  </a:lnTo>
                  <a:lnTo>
                    <a:pt x="141" y="1688"/>
                  </a:lnTo>
                  <a:lnTo>
                    <a:pt x="125" y="1666"/>
                  </a:lnTo>
                  <a:lnTo>
                    <a:pt x="114" y="1645"/>
                  </a:lnTo>
                  <a:lnTo>
                    <a:pt x="103" y="1618"/>
                  </a:lnTo>
                  <a:lnTo>
                    <a:pt x="92" y="1596"/>
                  </a:lnTo>
                  <a:lnTo>
                    <a:pt x="81" y="1569"/>
                  </a:lnTo>
                  <a:lnTo>
                    <a:pt x="70" y="1547"/>
                  </a:lnTo>
                  <a:lnTo>
                    <a:pt x="59" y="1520"/>
                  </a:lnTo>
                  <a:lnTo>
                    <a:pt x="54" y="1493"/>
                  </a:lnTo>
                  <a:lnTo>
                    <a:pt x="43" y="1472"/>
                  </a:lnTo>
                  <a:lnTo>
                    <a:pt x="38" y="1444"/>
                  </a:lnTo>
                  <a:lnTo>
                    <a:pt x="32" y="1417"/>
                  </a:lnTo>
                  <a:lnTo>
                    <a:pt x="27" y="1390"/>
                  </a:lnTo>
                  <a:lnTo>
                    <a:pt x="21" y="1363"/>
                  </a:lnTo>
                  <a:lnTo>
                    <a:pt x="16" y="1336"/>
                  </a:lnTo>
                  <a:lnTo>
                    <a:pt x="10" y="1309"/>
                  </a:lnTo>
                  <a:lnTo>
                    <a:pt x="5" y="1282"/>
                  </a:lnTo>
                  <a:lnTo>
                    <a:pt x="5" y="1255"/>
                  </a:lnTo>
                  <a:lnTo>
                    <a:pt x="5" y="1228"/>
                  </a:lnTo>
                  <a:lnTo>
                    <a:pt x="0" y="1201"/>
                  </a:lnTo>
                  <a:lnTo>
                    <a:pt x="0" y="1169"/>
                  </a:lnTo>
                  <a:lnTo>
                    <a:pt x="0" y="1146"/>
                  </a:lnTo>
                  <a:close/>
                </a:path>
              </a:pathLst>
            </a:custGeom>
            <a:solidFill>
              <a:srgbClr val="3a474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16160" y="2728800"/>
              <a:ext cx="851400" cy="821160"/>
            </a:xfrm>
            <a:custGeom>
              <a:avLst/>
              <a:gdLst/>
              <a:ahLst/>
              <a:rect l="0" t="0" r="r" b="b"/>
              <a:pathLst>
                <a:path w="2365" h="2281">
                  <a:moveTo>
                    <a:pt x="0" y="1143"/>
                  </a:moveTo>
                  <a:lnTo>
                    <a:pt x="5" y="1111"/>
                  </a:lnTo>
                  <a:lnTo>
                    <a:pt x="5" y="1084"/>
                  </a:lnTo>
                  <a:lnTo>
                    <a:pt x="5" y="1056"/>
                  </a:lnTo>
                  <a:lnTo>
                    <a:pt x="5" y="1024"/>
                  </a:lnTo>
                  <a:lnTo>
                    <a:pt x="10" y="997"/>
                  </a:lnTo>
                  <a:lnTo>
                    <a:pt x="16" y="970"/>
                  </a:lnTo>
                  <a:lnTo>
                    <a:pt x="16" y="943"/>
                  </a:lnTo>
                  <a:lnTo>
                    <a:pt x="21" y="921"/>
                  </a:lnTo>
                  <a:lnTo>
                    <a:pt x="32" y="894"/>
                  </a:lnTo>
                  <a:lnTo>
                    <a:pt x="38" y="862"/>
                  </a:lnTo>
                  <a:lnTo>
                    <a:pt x="43" y="834"/>
                  </a:lnTo>
                  <a:lnTo>
                    <a:pt x="48" y="813"/>
                  </a:lnTo>
                  <a:lnTo>
                    <a:pt x="54" y="786"/>
                  </a:lnTo>
                  <a:lnTo>
                    <a:pt x="65" y="759"/>
                  </a:lnTo>
                  <a:lnTo>
                    <a:pt x="76" y="737"/>
                  </a:lnTo>
                  <a:lnTo>
                    <a:pt x="86" y="710"/>
                  </a:lnTo>
                  <a:lnTo>
                    <a:pt x="92" y="688"/>
                  </a:lnTo>
                  <a:lnTo>
                    <a:pt x="108" y="661"/>
                  </a:lnTo>
                  <a:lnTo>
                    <a:pt x="119" y="634"/>
                  </a:lnTo>
                  <a:lnTo>
                    <a:pt x="130" y="612"/>
                  </a:lnTo>
                  <a:lnTo>
                    <a:pt x="146" y="591"/>
                  </a:lnTo>
                  <a:lnTo>
                    <a:pt x="157" y="568"/>
                  </a:lnTo>
                  <a:lnTo>
                    <a:pt x="168" y="541"/>
                  </a:lnTo>
                  <a:lnTo>
                    <a:pt x="184" y="519"/>
                  </a:lnTo>
                  <a:lnTo>
                    <a:pt x="201" y="498"/>
                  </a:lnTo>
                  <a:lnTo>
                    <a:pt x="211" y="476"/>
                  </a:lnTo>
                  <a:lnTo>
                    <a:pt x="228" y="460"/>
                  </a:lnTo>
                  <a:lnTo>
                    <a:pt x="244" y="438"/>
                  </a:lnTo>
                  <a:lnTo>
                    <a:pt x="260" y="416"/>
                  </a:lnTo>
                  <a:lnTo>
                    <a:pt x="277" y="400"/>
                  </a:lnTo>
                  <a:lnTo>
                    <a:pt x="298" y="379"/>
                  </a:lnTo>
                  <a:lnTo>
                    <a:pt x="315" y="357"/>
                  </a:lnTo>
                  <a:lnTo>
                    <a:pt x="336" y="341"/>
                  </a:lnTo>
                  <a:lnTo>
                    <a:pt x="353" y="319"/>
                  </a:lnTo>
                  <a:lnTo>
                    <a:pt x="374" y="303"/>
                  </a:lnTo>
                  <a:lnTo>
                    <a:pt x="391" y="287"/>
                  </a:lnTo>
                  <a:lnTo>
                    <a:pt x="412" y="270"/>
                  </a:lnTo>
                  <a:lnTo>
                    <a:pt x="434" y="254"/>
                  </a:lnTo>
                  <a:lnTo>
                    <a:pt x="456" y="238"/>
                  </a:lnTo>
                  <a:lnTo>
                    <a:pt x="478" y="222"/>
                  </a:lnTo>
                  <a:lnTo>
                    <a:pt x="499" y="205"/>
                  </a:lnTo>
                  <a:lnTo>
                    <a:pt x="521" y="189"/>
                  </a:lnTo>
                  <a:lnTo>
                    <a:pt x="543" y="173"/>
                  </a:lnTo>
                  <a:lnTo>
                    <a:pt x="565" y="162"/>
                  </a:lnTo>
                  <a:lnTo>
                    <a:pt x="586" y="151"/>
                  </a:lnTo>
                  <a:lnTo>
                    <a:pt x="614" y="135"/>
                  </a:lnTo>
                  <a:lnTo>
                    <a:pt x="642" y="124"/>
                  </a:lnTo>
                  <a:lnTo>
                    <a:pt x="663" y="113"/>
                  </a:lnTo>
                  <a:lnTo>
                    <a:pt x="691" y="102"/>
                  </a:lnTo>
                  <a:lnTo>
                    <a:pt x="712" y="92"/>
                  </a:lnTo>
                  <a:lnTo>
                    <a:pt x="739" y="81"/>
                  </a:lnTo>
                  <a:lnTo>
                    <a:pt x="767" y="70"/>
                  </a:lnTo>
                  <a:lnTo>
                    <a:pt x="788" y="64"/>
                  </a:lnTo>
                  <a:lnTo>
                    <a:pt x="816" y="54"/>
                  </a:lnTo>
                  <a:lnTo>
                    <a:pt x="843" y="43"/>
                  </a:lnTo>
                  <a:lnTo>
                    <a:pt x="870" y="37"/>
                  </a:lnTo>
                  <a:lnTo>
                    <a:pt x="897" y="32"/>
                  </a:lnTo>
                  <a:lnTo>
                    <a:pt x="924" y="27"/>
                  </a:lnTo>
                  <a:lnTo>
                    <a:pt x="951" y="21"/>
                  </a:lnTo>
                  <a:lnTo>
                    <a:pt x="979" y="16"/>
                  </a:lnTo>
                  <a:lnTo>
                    <a:pt x="1011" y="10"/>
                  </a:lnTo>
                  <a:lnTo>
                    <a:pt x="1038" y="5"/>
                  </a:lnTo>
                  <a:lnTo>
                    <a:pt x="1065" y="5"/>
                  </a:lnTo>
                  <a:lnTo>
                    <a:pt x="1098" y="0"/>
                  </a:lnTo>
                  <a:lnTo>
                    <a:pt x="1125" y="0"/>
                  </a:lnTo>
                  <a:lnTo>
                    <a:pt x="1152" y="0"/>
                  </a:lnTo>
                  <a:lnTo>
                    <a:pt x="1185" y="0"/>
                  </a:lnTo>
                  <a:lnTo>
                    <a:pt x="1212" y="0"/>
                  </a:lnTo>
                  <a:lnTo>
                    <a:pt x="1239" y="0"/>
                  </a:lnTo>
                  <a:lnTo>
                    <a:pt x="1267" y="0"/>
                  </a:lnTo>
                  <a:lnTo>
                    <a:pt x="1299" y="5"/>
                  </a:lnTo>
                  <a:lnTo>
                    <a:pt x="1326" y="5"/>
                  </a:lnTo>
                  <a:lnTo>
                    <a:pt x="1353" y="10"/>
                  </a:lnTo>
                  <a:lnTo>
                    <a:pt x="1386" y="16"/>
                  </a:lnTo>
                  <a:lnTo>
                    <a:pt x="1413" y="21"/>
                  </a:lnTo>
                  <a:lnTo>
                    <a:pt x="1435" y="27"/>
                  </a:lnTo>
                  <a:lnTo>
                    <a:pt x="1462" y="32"/>
                  </a:lnTo>
                  <a:lnTo>
                    <a:pt x="1489" y="37"/>
                  </a:lnTo>
                  <a:lnTo>
                    <a:pt x="1522" y="43"/>
                  </a:lnTo>
                  <a:lnTo>
                    <a:pt x="1549" y="54"/>
                  </a:lnTo>
                  <a:lnTo>
                    <a:pt x="1571" y="64"/>
                  </a:lnTo>
                  <a:lnTo>
                    <a:pt x="1598" y="70"/>
                  </a:lnTo>
                  <a:lnTo>
                    <a:pt x="1625" y="81"/>
                  </a:lnTo>
                  <a:lnTo>
                    <a:pt x="1647" y="92"/>
                  </a:lnTo>
                  <a:lnTo>
                    <a:pt x="1679" y="102"/>
                  </a:lnTo>
                  <a:lnTo>
                    <a:pt x="1701" y="113"/>
                  </a:lnTo>
                  <a:lnTo>
                    <a:pt x="1723" y="124"/>
                  </a:lnTo>
                  <a:lnTo>
                    <a:pt x="1750" y="135"/>
                  </a:lnTo>
                  <a:lnTo>
                    <a:pt x="1772" y="151"/>
                  </a:lnTo>
                  <a:lnTo>
                    <a:pt x="1795" y="162"/>
                  </a:lnTo>
                  <a:lnTo>
                    <a:pt x="1816" y="173"/>
                  </a:lnTo>
                  <a:lnTo>
                    <a:pt x="1843" y="189"/>
                  </a:lnTo>
                  <a:lnTo>
                    <a:pt x="1865" y="205"/>
                  </a:lnTo>
                  <a:lnTo>
                    <a:pt x="1887" y="222"/>
                  </a:lnTo>
                  <a:lnTo>
                    <a:pt x="1909" y="238"/>
                  </a:lnTo>
                  <a:lnTo>
                    <a:pt x="1930" y="254"/>
                  </a:lnTo>
                  <a:lnTo>
                    <a:pt x="1952" y="270"/>
                  </a:lnTo>
                  <a:lnTo>
                    <a:pt x="1968" y="287"/>
                  </a:lnTo>
                  <a:lnTo>
                    <a:pt x="1990" y="303"/>
                  </a:lnTo>
                  <a:lnTo>
                    <a:pt x="2006" y="319"/>
                  </a:lnTo>
                  <a:lnTo>
                    <a:pt x="2028" y="341"/>
                  </a:lnTo>
                  <a:lnTo>
                    <a:pt x="2050" y="357"/>
                  </a:lnTo>
                  <a:lnTo>
                    <a:pt x="2066" y="379"/>
                  </a:lnTo>
                  <a:lnTo>
                    <a:pt x="2083" y="400"/>
                  </a:lnTo>
                  <a:lnTo>
                    <a:pt x="2099" y="416"/>
                  </a:lnTo>
                  <a:lnTo>
                    <a:pt x="2115" y="438"/>
                  </a:lnTo>
                  <a:lnTo>
                    <a:pt x="2131" y="460"/>
                  </a:lnTo>
                  <a:lnTo>
                    <a:pt x="2148" y="476"/>
                  </a:lnTo>
                  <a:lnTo>
                    <a:pt x="2164" y="498"/>
                  </a:lnTo>
                  <a:lnTo>
                    <a:pt x="2180" y="519"/>
                  </a:lnTo>
                  <a:lnTo>
                    <a:pt x="2197" y="541"/>
                  </a:lnTo>
                  <a:lnTo>
                    <a:pt x="2208" y="568"/>
                  </a:lnTo>
                  <a:lnTo>
                    <a:pt x="2224" y="591"/>
                  </a:lnTo>
                  <a:lnTo>
                    <a:pt x="2235" y="612"/>
                  </a:lnTo>
                  <a:lnTo>
                    <a:pt x="2246" y="634"/>
                  </a:lnTo>
                  <a:lnTo>
                    <a:pt x="2256" y="661"/>
                  </a:lnTo>
                  <a:lnTo>
                    <a:pt x="2267" y="688"/>
                  </a:lnTo>
                  <a:lnTo>
                    <a:pt x="2278" y="710"/>
                  </a:lnTo>
                  <a:lnTo>
                    <a:pt x="2289" y="737"/>
                  </a:lnTo>
                  <a:lnTo>
                    <a:pt x="2294" y="759"/>
                  </a:lnTo>
                  <a:lnTo>
                    <a:pt x="2305" y="786"/>
                  </a:lnTo>
                  <a:lnTo>
                    <a:pt x="2311" y="813"/>
                  </a:lnTo>
                  <a:lnTo>
                    <a:pt x="2322" y="834"/>
                  </a:lnTo>
                  <a:lnTo>
                    <a:pt x="2327" y="862"/>
                  </a:lnTo>
                  <a:lnTo>
                    <a:pt x="2333" y="894"/>
                  </a:lnTo>
                  <a:lnTo>
                    <a:pt x="2338" y="921"/>
                  </a:lnTo>
                  <a:lnTo>
                    <a:pt x="2343" y="943"/>
                  </a:lnTo>
                  <a:lnTo>
                    <a:pt x="2349" y="970"/>
                  </a:lnTo>
                  <a:lnTo>
                    <a:pt x="2354" y="997"/>
                  </a:lnTo>
                  <a:lnTo>
                    <a:pt x="2354" y="1024"/>
                  </a:lnTo>
                  <a:lnTo>
                    <a:pt x="2360" y="1056"/>
                  </a:lnTo>
                  <a:lnTo>
                    <a:pt x="2360" y="1084"/>
                  </a:lnTo>
                  <a:lnTo>
                    <a:pt x="2365" y="1111"/>
                  </a:lnTo>
                  <a:lnTo>
                    <a:pt x="2365" y="1143"/>
                  </a:lnTo>
                  <a:lnTo>
                    <a:pt x="2365" y="1165"/>
                  </a:lnTo>
                  <a:lnTo>
                    <a:pt x="2360" y="1197"/>
                  </a:lnTo>
                  <a:lnTo>
                    <a:pt x="2360" y="1224"/>
                  </a:lnTo>
                  <a:lnTo>
                    <a:pt x="2354" y="1251"/>
                  </a:lnTo>
                  <a:lnTo>
                    <a:pt x="2354" y="1279"/>
                  </a:lnTo>
                  <a:lnTo>
                    <a:pt x="2349" y="1306"/>
                  </a:lnTo>
                  <a:lnTo>
                    <a:pt x="2343" y="1333"/>
                  </a:lnTo>
                  <a:lnTo>
                    <a:pt x="2338" y="1360"/>
                  </a:lnTo>
                  <a:lnTo>
                    <a:pt x="2333" y="1392"/>
                  </a:lnTo>
                  <a:lnTo>
                    <a:pt x="2327" y="1414"/>
                  </a:lnTo>
                  <a:lnTo>
                    <a:pt x="2322" y="1441"/>
                  </a:lnTo>
                  <a:lnTo>
                    <a:pt x="2311" y="1468"/>
                  </a:lnTo>
                  <a:lnTo>
                    <a:pt x="2305" y="1495"/>
                  </a:lnTo>
                  <a:lnTo>
                    <a:pt x="2294" y="1517"/>
                  </a:lnTo>
                  <a:lnTo>
                    <a:pt x="2289" y="1544"/>
                  </a:lnTo>
                  <a:lnTo>
                    <a:pt x="2278" y="1571"/>
                  </a:lnTo>
                  <a:lnTo>
                    <a:pt x="2267" y="1593"/>
                  </a:lnTo>
                  <a:lnTo>
                    <a:pt x="2256" y="1620"/>
                  </a:lnTo>
                  <a:lnTo>
                    <a:pt x="2246" y="1641"/>
                  </a:lnTo>
                  <a:lnTo>
                    <a:pt x="2235" y="1663"/>
                  </a:lnTo>
                  <a:lnTo>
                    <a:pt x="2224" y="1690"/>
                  </a:lnTo>
                  <a:lnTo>
                    <a:pt x="2208" y="1713"/>
                  </a:lnTo>
                  <a:lnTo>
                    <a:pt x="2197" y="1740"/>
                  </a:lnTo>
                  <a:lnTo>
                    <a:pt x="2180" y="1761"/>
                  </a:lnTo>
                  <a:lnTo>
                    <a:pt x="2164" y="1778"/>
                  </a:lnTo>
                  <a:lnTo>
                    <a:pt x="2148" y="1799"/>
                  </a:lnTo>
                  <a:lnTo>
                    <a:pt x="2131" y="1821"/>
                  </a:lnTo>
                  <a:lnTo>
                    <a:pt x="2115" y="1843"/>
                  </a:lnTo>
                  <a:lnTo>
                    <a:pt x="2099" y="1864"/>
                  </a:lnTo>
                  <a:lnTo>
                    <a:pt x="2083" y="1886"/>
                  </a:lnTo>
                  <a:lnTo>
                    <a:pt x="2066" y="1902"/>
                  </a:lnTo>
                  <a:lnTo>
                    <a:pt x="2050" y="1924"/>
                  </a:lnTo>
                  <a:lnTo>
                    <a:pt x="2028" y="1940"/>
                  </a:lnTo>
                  <a:lnTo>
                    <a:pt x="2006" y="1962"/>
                  </a:lnTo>
                  <a:lnTo>
                    <a:pt x="1990" y="1978"/>
                  </a:lnTo>
                  <a:lnTo>
                    <a:pt x="1968" y="1994"/>
                  </a:lnTo>
                  <a:lnTo>
                    <a:pt x="1952" y="2011"/>
                  </a:lnTo>
                  <a:lnTo>
                    <a:pt x="1930" y="2032"/>
                  </a:lnTo>
                  <a:lnTo>
                    <a:pt x="1909" y="2048"/>
                  </a:lnTo>
                  <a:lnTo>
                    <a:pt x="1887" y="2065"/>
                  </a:lnTo>
                  <a:lnTo>
                    <a:pt x="1865" y="2076"/>
                  </a:lnTo>
                  <a:lnTo>
                    <a:pt x="1843" y="2092"/>
                  </a:lnTo>
                  <a:lnTo>
                    <a:pt x="1816" y="2108"/>
                  </a:lnTo>
                  <a:lnTo>
                    <a:pt x="1795" y="2119"/>
                  </a:lnTo>
                  <a:lnTo>
                    <a:pt x="1772" y="2130"/>
                  </a:lnTo>
                  <a:lnTo>
                    <a:pt x="1750" y="2146"/>
                  </a:lnTo>
                  <a:lnTo>
                    <a:pt x="1723" y="2157"/>
                  </a:lnTo>
                  <a:lnTo>
                    <a:pt x="1701" y="2168"/>
                  </a:lnTo>
                  <a:lnTo>
                    <a:pt x="1679" y="2178"/>
                  </a:lnTo>
                  <a:lnTo>
                    <a:pt x="1647" y="2195"/>
                  </a:lnTo>
                  <a:lnTo>
                    <a:pt x="1625" y="2200"/>
                  </a:lnTo>
                  <a:lnTo>
                    <a:pt x="1598" y="2211"/>
                  </a:lnTo>
                  <a:lnTo>
                    <a:pt x="1571" y="2222"/>
                  </a:lnTo>
                  <a:lnTo>
                    <a:pt x="1549" y="2233"/>
                  </a:lnTo>
                  <a:lnTo>
                    <a:pt x="1522" y="2238"/>
                  </a:lnTo>
                  <a:lnTo>
                    <a:pt x="1489" y="2243"/>
                  </a:lnTo>
                  <a:lnTo>
                    <a:pt x="1462" y="2254"/>
                  </a:lnTo>
                  <a:lnTo>
                    <a:pt x="1435" y="2254"/>
                  </a:lnTo>
                  <a:lnTo>
                    <a:pt x="1413" y="2265"/>
                  </a:lnTo>
                  <a:lnTo>
                    <a:pt x="1386" y="2265"/>
                  </a:lnTo>
                  <a:lnTo>
                    <a:pt x="1353" y="2270"/>
                  </a:lnTo>
                  <a:lnTo>
                    <a:pt x="1326" y="2276"/>
                  </a:lnTo>
                  <a:lnTo>
                    <a:pt x="1299" y="2276"/>
                  </a:lnTo>
                  <a:lnTo>
                    <a:pt x="1267" y="2281"/>
                  </a:lnTo>
                  <a:lnTo>
                    <a:pt x="1239" y="2281"/>
                  </a:lnTo>
                  <a:lnTo>
                    <a:pt x="1212" y="2281"/>
                  </a:lnTo>
                  <a:lnTo>
                    <a:pt x="1152" y="2281"/>
                  </a:lnTo>
                  <a:lnTo>
                    <a:pt x="1125" y="2281"/>
                  </a:lnTo>
                  <a:lnTo>
                    <a:pt x="1098" y="2281"/>
                  </a:lnTo>
                  <a:lnTo>
                    <a:pt x="1065" y="2276"/>
                  </a:lnTo>
                  <a:lnTo>
                    <a:pt x="1038" y="2276"/>
                  </a:lnTo>
                  <a:lnTo>
                    <a:pt x="1011" y="2270"/>
                  </a:lnTo>
                  <a:lnTo>
                    <a:pt x="979" y="2265"/>
                  </a:lnTo>
                  <a:lnTo>
                    <a:pt x="951" y="2265"/>
                  </a:lnTo>
                  <a:lnTo>
                    <a:pt x="924" y="2254"/>
                  </a:lnTo>
                  <a:lnTo>
                    <a:pt x="897" y="2254"/>
                  </a:lnTo>
                  <a:lnTo>
                    <a:pt x="870" y="2243"/>
                  </a:lnTo>
                  <a:lnTo>
                    <a:pt x="843" y="2238"/>
                  </a:lnTo>
                  <a:lnTo>
                    <a:pt x="816" y="2233"/>
                  </a:lnTo>
                  <a:lnTo>
                    <a:pt x="788" y="2222"/>
                  </a:lnTo>
                  <a:lnTo>
                    <a:pt x="767" y="2211"/>
                  </a:lnTo>
                  <a:lnTo>
                    <a:pt x="739" y="2200"/>
                  </a:lnTo>
                  <a:lnTo>
                    <a:pt x="712" y="2195"/>
                  </a:lnTo>
                  <a:lnTo>
                    <a:pt x="691" y="2178"/>
                  </a:lnTo>
                  <a:lnTo>
                    <a:pt x="663" y="2168"/>
                  </a:lnTo>
                  <a:lnTo>
                    <a:pt x="642" y="2157"/>
                  </a:lnTo>
                  <a:lnTo>
                    <a:pt x="614" y="2146"/>
                  </a:lnTo>
                  <a:lnTo>
                    <a:pt x="586" y="2130"/>
                  </a:lnTo>
                  <a:lnTo>
                    <a:pt x="565" y="2119"/>
                  </a:lnTo>
                  <a:lnTo>
                    <a:pt x="543" y="2108"/>
                  </a:lnTo>
                  <a:lnTo>
                    <a:pt x="521" y="2092"/>
                  </a:lnTo>
                  <a:lnTo>
                    <a:pt x="499" y="2076"/>
                  </a:lnTo>
                  <a:lnTo>
                    <a:pt x="478" y="2065"/>
                  </a:lnTo>
                  <a:lnTo>
                    <a:pt x="456" y="2048"/>
                  </a:lnTo>
                  <a:lnTo>
                    <a:pt x="434" y="2032"/>
                  </a:lnTo>
                  <a:lnTo>
                    <a:pt x="412" y="2011"/>
                  </a:lnTo>
                  <a:lnTo>
                    <a:pt x="391" y="1994"/>
                  </a:lnTo>
                  <a:lnTo>
                    <a:pt x="374" y="1978"/>
                  </a:lnTo>
                  <a:lnTo>
                    <a:pt x="353" y="1962"/>
                  </a:lnTo>
                  <a:lnTo>
                    <a:pt x="336" y="1940"/>
                  </a:lnTo>
                  <a:lnTo>
                    <a:pt x="315" y="1924"/>
                  </a:lnTo>
                  <a:lnTo>
                    <a:pt x="298" y="1902"/>
                  </a:lnTo>
                  <a:lnTo>
                    <a:pt x="277" y="1886"/>
                  </a:lnTo>
                  <a:lnTo>
                    <a:pt x="260" y="1864"/>
                  </a:lnTo>
                  <a:lnTo>
                    <a:pt x="244" y="1843"/>
                  </a:lnTo>
                  <a:lnTo>
                    <a:pt x="228" y="1821"/>
                  </a:lnTo>
                  <a:lnTo>
                    <a:pt x="211" y="1799"/>
                  </a:lnTo>
                  <a:lnTo>
                    <a:pt x="201" y="1778"/>
                  </a:lnTo>
                  <a:lnTo>
                    <a:pt x="184" y="1761"/>
                  </a:lnTo>
                  <a:lnTo>
                    <a:pt x="168" y="1740"/>
                  </a:lnTo>
                  <a:lnTo>
                    <a:pt x="157" y="1713"/>
                  </a:lnTo>
                  <a:lnTo>
                    <a:pt x="146" y="1690"/>
                  </a:lnTo>
                  <a:lnTo>
                    <a:pt x="130" y="1663"/>
                  </a:lnTo>
                  <a:lnTo>
                    <a:pt x="119" y="1641"/>
                  </a:lnTo>
                  <a:lnTo>
                    <a:pt x="108" y="1620"/>
                  </a:lnTo>
                  <a:lnTo>
                    <a:pt x="92" y="1593"/>
                  </a:lnTo>
                  <a:lnTo>
                    <a:pt x="86" y="1571"/>
                  </a:lnTo>
                  <a:lnTo>
                    <a:pt x="76" y="1544"/>
                  </a:lnTo>
                  <a:lnTo>
                    <a:pt x="65" y="1517"/>
                  </a:lnTo>
                  <a:lnTo>
                    <a:pt x="54" y="1495"/>
                  </a:lnTo>
                  <a:lnTo>
                    <a:pt x="48" y="1468"/>
                  </a:lnTo>
                  <a:lnTo>
                    <a:pt x="43" y="1441"/>
                  </a:lnTo>
                  <a:lnTo>
                    <a:pt x="38" y="1414"/>
                  </a:lnTo>
                  <a:lnTo>
                    <a:pt x="32" y="1392"/>
                  </a:lnTo>
                  <a:lnTo>
                    <a:pt x="21" y="1360"/>
                  </a:lnTo>
                  <a:lnTo>
                    <a:pt x="16" y="1333"/>
                  </a:lnTo>
                  <a:lnTo>
                    <a:pt x="16" y="1306"/>
                  </a:lnTo>
                  <a:lnTo>
                    <a:pt x="10" y="1279"/>
                  </a:lnTo>
                  <a:lnTo>
                    <a:pt x="5" y="1251"/>
                  </a:lnTo>
                  <a:lnTo>
                    <a:pt x="5" y="1224"/>
                  </a:lnTo>
                  <a:lnTo>
                    <a:pt x="5" y="1197"/>
                  </a:lnTo>
                  <a:lnTo>
                    <a:pt x="5" y="1165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42515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20840" y="2732040"/>
              <a:ext cx="843480" cy="816480"/>
            </a:xfrm>
            <a:custGeom>
              <a:avLst/>
              <a:gdLst/>
              <a:ahLst/>
              <a:rect l="0" t="0" r="r" b="b"/>
              <a:pathLst>
                <a:path w="2343" h="2268">
                  <a:moveTo>
                    <a:pt x="0" y="1137"/>
                  </a:moveTo>
                  <a:lnTo>
                    <a:pt x="0" y="1104"/>
                  </a:lnTo>
                  <a:lnTo>
                    <a:pt x="0" y="1077"/>
                  </a:lnTo>
                  <a:lnTo>
                    <a:pt x="0" y="1050"/>
                  </a:lnTo>
                  <a:lnTo>
                    <a:pt x="5" y="1023"/>
                  </a:lnTo>
                  <a:lnTo>
                    <a:pt x="5" y="990"/>
                  </a:lnTo>
                  <a:lnTo>
                    <a:pt x="10" y="969"/>
                  </a:lnTo>
                  <a:lnTo>
                    <a:pt x="16" y="936"/>
                  </a:lnTo>
                  <a:lnTo>
                    <a:pt x="21" y="915"/>
                  </a:lnTo>
                  <a:lnTo>
                    <a:pt x="27" y="888"/>
                  </a:lnTo>
                  <a:lnTo>
                    <a:pt x="32" y="861"/>
                  </a:lnTo>
                  <a:lnTo>
                    <a:pt x="38" y="834"/>
                  </a:lnTo>
                  <a:lnTo>
                    <a:pt x="43" y="807"/>
                  </a:lnTo>
                  <a:lnTo>
                    <a:pt x="54" y="779"/>
                  </a:lnTo>
                  <a:lnTo>
                    <a:pt x="65" y="758"/>
                  </a:lnTo>
                  <a:lnTo>
                    <a:pt x="70" y="731"/>
                  </a:lnTo>
                  <a:lnTo>
                    <a:pt x="81" y="704"/>
                  </a:lnTo>
                  <a:lnTo>
                    <a:pt x="92" y="682"/>
                  </a:lnTo>
                  <a:lnTo>
                    <a:pt x="103" y="660"/>
                  </a:lnTo>
                  <a:lnTo>
                    <a:pt x="114" y="633"/>
                  </a:lnTo>
                  <a:lnTo>
                    <a:pt x="124" y="612"/>
                  </a:lnTo>
                  <a:lnTo>
                    <a:pt x="141" y="590"/>
                  </a:lnTo>
                  <a:lnTo>
                    <a:pt x="152" y="569"/>
                  </a:lnTo>
                  <a:lnTo>
                    <a:pt x="168" y="540"/>
                  </a:lnTo>
                  <a:lnTo>
                    <a:pt x="179" y="519"/>
                  </a:lnTo>
                  <a:lnTo>
                    <a:pt x="195" y="497"/>
                  </a:lnTo>
                  <a:lnTo>
                    <a:pt x="211" y="476"/>
                  </a:lnTo>
                  <a:lnTo>
                    <a:pt x="222" y="454"/>
                  </a:lnTo>
                  <a:lnTo>
                    <a:pt x="239" y="438"/>
                  </a:lnTo>
                  <a:lnTo>
                    <a:pt x="260" y="416"/>
                  </a:lnTo>
                  <a:lnTo>
                    <a:pt x="277" y="400"/>
                  </a:lnTo>
                  <a:lnTo>
                    <a:pt x="293" y="378"/>
                  </a:lnTo>
                  <a:lnTo>
                    <a:pt x="309" y="357"/>
                  </a:lnTo>
                  <a:lnTo>
                    <a:pt x="331" y="340"/>
                  </a:lnTo>
                  <a:lnTo>
                    <a:pt x="347" y="319"/>
                  </a:lnTo>
                  <a:lnTo>
                    <a:pt x="369" y="302"/>
                  </a:lnTo>
                  <a:lnTo>
                    <a:pt x="385" y="286"/>
                  </a:lnTo>
                  <a:lnTo>
                    <a:pt x="407" y="270"/>
                  </a:lnTo>
                  <a:lnTo>
                    <a:pt x="429" y="254"/>
                  </a:lnTo>
                  <a:lnTo>
                    <a:pt x="450" y="238"/>
                  </a:lnTo>
                  <a:lnTo>
                    <a:pt x="472" y="221"/>
                  </a:lnTo>
                  <a:lnTo>
                    <a:pt x="494" y="205"/>
                  </a:lnTo>
                  <a:lnTo>
                    <a:pt x="516" y="189"/>
                  </a:lnTo>
                  <a:lnTo>
                    <a:pt x="537" y="178"/>
                  </a:lnTo>
                  <a:lnTo>
                    <a:pt x="559" y="162"/>
                  </a:lnTo>
                  <a:lnTo>
                    <a:pt x="581" y="151"/>
                  </a:lnTo>
                  <a:lnTo>
                    <a:pt x="609" y="140"/>
                  </a:lnTo>
                  <a:lnTo>
                    <a:pt x="631" y="124"/>
                  </a:lnTo>
                  <a:lnTo>
                    <a:pt x="658" y="113"/>
                  </a:lnTo>
                  <a:lnTo>
                    <a:pt x="680" y="102"/>
                  </a:lnTo>
                  <a:lnTo>
                    <a:pt x="707" y="91"/>
                  </a:lnTo>
                  <a:lnTo>
                    <a:pt x="729" y="81"/>
                  </a:lnTo>
                  <a:lnTo>
                    <a:pt x="756" y="75"/>
                  </a:lnTo>
                  <a:lnTo>
                    <a:pt x="783" y="64"/>
                  </a:lnTo>
                  <a:lnTo>
                    <a:pt x="810" y="54"/>
                  </a:lnTo>
                  <a:lnTo>
                    <a:pt x="837" y="48"/>
                  </a:lnTo>
                  <a:lnTo>
                    <a:pt x="864" y="37"/>
                  </a:lnTo>
                  <a:lnTo>
                    <a:pt x="886" y="32"/>
                  </a:lnTo>
                  <a:lnTo>
                    <a:pt x="913" y="27"/>
                  </a:lnTo>
                  <a:lnTo>
                    <a:pt x="940" y="21"/>
                  </a:lnTo>
                  <a:lnTo>
                    <a:pt x="973" y="16"/>
                  </a:lnTo>
                  <a:lnTo>
                    <a:pt x="1000" y="10"/>
                  </a:lnTo>
                  <a:lnTo>
                    <a:pt x="1027" y="10"/>
                  </a:lnTo>
                  <a:lnTo>
                    <a:pt x="1054" y="5"/>
                  </a:lnTo>
                  <a:lnTo>
                    <a:pt x="1087" y="5"/>
                  </a:lnTo>
                  <a:lnTo>
                    <a:pt x="1114" y="5"/>
                  </a:lnTo>
                  <a:lnTo>
                    <a:pt x="1141" y="0"/>
                  </a:lnTo>
                  <a:lnTo>
                    <a:pt x="1201" y="0"/>
                  </a:lnTo>
                  <a:lnTo>
                    <a:pt x="1228" y="5"/>
                  </a:lnTo>
                  <a:lnTo>
                    <a:pt x="1255" y="5"/>
                  </a:lnTo>
                  <a:lnTo>
                    <a:pt x="1283" y="5"/>
                  </a:lnTo>
                  <a:lnTo>
                    <a:pt x="1315" y="10"/>
                  </a:lnTo>
                  <a:lnTo>
                    <a:pt x="1342" y="10"/>
                  </a:lnTo>
                  <a:lnTo>
                    <a:pt x="1370" y="16"/>
                  </a:lnTo>
                  <a:lnTo>
                    <a:pt x="1397" y="21"/>
                  </a:lnTo>
                  <a:lnTo>
                    <a:pt x="1424" y="27"/>
                  </a:lnTo>
                  <a:lnTo>
                    <a:pt x="1451" y="32"/>
                  </a:lnTo>
                  <a:lnTo>
                    <a:pt x="1478" y="37"/>
                  </a:lnTo>
                  <a:lnTo>
                    <a:pt x="1505" y="48"/>
                  </a:lnTo>
                  <a:lnTo>
                    <a:pt x="1533" y="54"/>
                  </a:lnTo>
                  <a:lnTo>
                    <a:pt x="1560" y="64"/>
                  </a:lnTo>
                  <a:lnTo>
                    <a:pt x="1587" y="75"/>
                  </a:lnTo>
                  <a:lnTo>
                    <a:pt x="1609" y="81"/>
                  </a:lnTo>
                  <a:lnTo>
                    <a:pt x="1636" y="91"/>
                  </a:lnTo>
                  <a:lnTo>
                    <a:pt x="1663" y="102"/>
                  </a:lnTo>
                  <a:lnTo>
                    <a:pt x="1685" y="113"/>
                  </a:lnTo>
                  <a:lnTo>
                    <a:pt x="1712" y="124"/>
                  </a:lnTo>
                  <a:lnTo>
                    <a:pt x="1734" y="140"/>
                  </a:lnTo>
                  <a:lnTo>
                    <a:pt x="1755" y="151"/>
                  </a:lnTo>
                  <a:lnTo>
                    <a:pt x="1783" y="162"/>
                  </a:lnTo>
                  <a:lnTo>
                    <a:pt x="1805" y="178"/>
                  </a:lnTo>
                  <a:lnTo>
                    <a:pt x="1827" y="189"/>
                  </a:lnTo>
                  <a:lnTo>
                    <a:pt x="1849" y="205"/>
                  </a:lnTo>
                  <a:lnTo>
                    <a:pt x="1870" y="221"/>
                  </a:lnTo>
                  <a:lnTo>
                    <a:pt x="1892" y="238"/>
                  </a:lnTo>
                  <a:lnTo>
                    <a:pt x="1914" y="254"/>
                  </a:lnTo>
                  <a:lnTo>
                    <a:pt x="1936" y="270"/>
                  </a:lnTo>
                  <a:lnTo>
                    <a:pt x="1952" y="286"/>
                  </a:lnTo>
                  <a:lnTo>
                    <a:pt x="1974" y="302"/>
                  </a:lnTo>
                  <a:lnTo>
                    <a:pt x="1990" y="319"/>
                  </a:lnTo>
                  <a:lnTo>
                    <a:pt x="2012" y="340"/>
                  </a:lnTo>
                  <a:lnTo>
                    <a:pt x="2033" y="357"/>
                  </a:lnTo>
                  <a:lnTo>
                    <a:pt x="2050" y="378"/>
                  </a:lnTo>
                  <a:lnTo>
                    <a:pt x="2066" y="400"/>
                  </a:lnTo>
                  <a:lnTo>
                    <a:pt x="2082" y="416"/>
                  </a:lnTo>
                  <a:lnTo>
                    <a:pt x="2099" y="438"/>
                  </a:lnTo>
                  <a:lnTo>
                    <a:pt x="2115" y="454"/>
                  </a:lnTo>
                  <a:lnTo>
                    <a:pt x="2131" y="476"/>
                  </a:lnTo>
                  <a:lnTo>
                    <a:pt x="2147" y="497"/>
                  </a:lnTo>
                  <a:lnTo>
                    <a:pt x="2158" y="519"/>
                  </a:lnTo>
                  <a:lnTo>
                    <a:pt x="2175" y="540"/>
                  </a:lnTo>
                  <a:lnTo>
                    <a:pt x="2191" y="569"/>
                  </a:lnTo>
                  <a:lnTo>
                    <a:pt x="2202" y="590"/>
                  </a:lnTo>
                  <a:lnTo>
                    <a:pt x="2218" y="612"/>
                  </a:lnTo>
                  <a:lnTo>
                    <a:pt x="2229" y="633"/>
                  </a:lnTo>
                  <a:lnTo>
                    <a:pt x="2240" y="660"/>
                  </a:lnTo>
                  <a:lnTo>
                    <a:pt x="2251" y="682"/>
                  </a:lnTo>
                  <a:lnTo>
                    <a:pt x="2256" y="704"/>
                  </a:lnTo>
                  <a:lnTo>
                    <a:pt x="2267" y="731"/>
                  </a:lnTo>
                  <a:lnTo>
                    <a:pt x="2278" y="758"/>
                  </a:lnTo>
                  <a:lnTo>
                    <a:pt x="2289" y="779"/>
                  </a:lnTo>
                  <a:lnTo>
                    <a:pt x="2294" y="807"/>
                  </a:lnTo>
                  <a:lnTo>
                    <a:pt x="2300" y="834"/>
                  </a:lnTo>
                  <a:lnTo>
                    <a:pt x="2310" y="861"/>
                  </a:lnTo>
                  <a:lnTo>
                    <a:pt x="2316" y="888"/>
                  </a:lnTo>
                  <a:lnTo>
                    <a:pt x="2321" y="915"/>
                  </a:lnTo>
                  <a:lnTo>
                    <a:pt x="2327" y="936"/>
                  </a:lnTo>
                  <a:lnTo>
                    <a:pt x="2327" y="969"/>
                  </a:lnTo>
                  <a:lnTo>
                    <a:pt x="2332" y="990"/>
                  </a:lnTo>
                  <a:lnTo>
                    <a:pt x="2338" y="1023"/>
                  </a:lnTo>
                  <a:lnTo>
                    <a:pt x="2338" y="1050"/>
                  </a:lnTo>
                  <a:lnTo>
                    <a:pt x="2338" y="1077"/>
                  </a:lnTo>
                  <a:lnTo>
                    <a:pt x="2338" y="1104"/>
                  </a:lnTo>
                  <a:lnTo>
                    <a:pt x="2343" y="1137"/>
                  </a:lnTo>
                  <a:lnTo>
                    <a:pt x="2338" y="1158"/>
                  </a:lnTo>
                  <a:lnTo>
                    <a:pt x="2338" y="1191"/>
                  </a:lnTo>
                  <a:lnTo>
                    <a:pt x="2338" y="1218"/>
                  </a:lnTo>
                  <a:lnTo>
                    <a:pt x="2338" y="1245"/>
                  </a:lnTo>
                  <a:lnTo>
                    <a:pt x="2332" y="1272"/>
                  </a:lnTo>
                  <a:lnTo>
                    <a:pt x="2327" y="1299"/>
                  </a:lnTo>
                  <a:lnTo>
                    <a:pt x="2327" y="1326"/>
                  </a:lnTo>
                  <a:lnTo>
                    <a:pt x="2321" y="1353"/>
                  </a:lnTo>
                  <a:lnTo>
                    <a:pt x="2316" y="1380"/>
                  </a:lnTo>
                  <a:lnTo>
                    <a:pt x="2310" y="1407"/>
                  </a:lnTo>
                  <a:lnTo>
                    <a:pt x="2300" y="1434"/>
                  </a:lnTo>
                  <a:lnTo>
                    <a:pt x="2294" y="1461"/>
                  </a:lnTo>
                  <a:lnTo>
                    <a:pt x="2289" y="1483"/>
                  </a:lnTo>
                  <a:lnTo>
                    <a:pt x="2278" y="1510"/>
                  </a:lnTo>
                  <a:lnTo>
                    <a:pt x="2267" y="1537"/>
                  </a:lnTo>
                  <a:lnTo>
                    <a:pt x="2256" y="1558"/>
                  </a:lnTo>
                  <a:lnTo>
                    <a:pt x="2251" y="1585"/>
                  </a:lnTo>
                  <a:lnTo>
                    <a:pt x="2240" y="1607"/>
                  </a:lnTo>
                  <a:lnTo>
                    <a:pt x="2229" y="1634"/>
                  </a:lnTo>
                  <a:lnTo>
                    <a:pt x="2218" y="1656"/>
                  </a:lnTo>
                  <a:lnTo>
                    <a:pt x="2202" y="1677"/>
                  </a:lnTo>
                  <a:lnTo>
                    <a:pt x="2191" y="1706"/>
                  </a:lnTo>
                  <a:lnTo>
                    <a:pt x="2175" y="1727"/>
                  </a:lnTo>
                  <a:lnTo>
                    <a:pt x="2158" y="1749"/>
                  </a:lnTo>
                  <a:lnTo>
                    <a:pt x="2147" y="1770"/>
                  </a:lnTo>
                  <a:lnTo>
                    <a:pt x="2131" y="1792"/>
                  </a:lnTo>
                  <a:lnTo>
                    <a:pt x="2115" y="1808"/>
                  </a:lnTo>
                  <a:lnTo>
                    <a:pt x="2099" y="1830"/>
                  </a:lnTo>
                  <a:lnTo>
                    <a:pt x="2082" y="1852"/>
                  </a:lnTo>
                  <a:lnTo>
                    <a:pt x="2066" y="1873"/>
                  </a:lnTo>
                  <a:lnTo>
                    <a:pt x="2050" y="1895"/>
                  </a:lnTo>
                  <a:lnTo>
                    <a:pt x="2033" y="1911"/>
                  </a:lnTo>
                  <a:lnTo>
                    <a:pt x="2012" y="1927"/>
                  </a:lnTo>
                  <a:lnTo>
                    <a:pt x="1990" y="1949"/>
                  </a:lnTo>
                  <a:lnTo>
                    <a:pt x="1974" y="1965"/>
                  </a:lnTo>
                  <a:lnTo>
                    <a:pt x="1952" y="1981"/>
                  </a:lnTo>
                  <a:lnTo>
                    <a:pt x="1936" y="1998"/>
                  </a:lnTo>
                  <a:lnTo>
                    <a:pt x="1914" y="2014"/>
                  </a:lnTo>
                  <a:lnTo>
                    <a:pt x="1892" y="2035"/>
                  </a:lnTo>
                  <a:lnTo>
                    <a:pt x="1870" y="2046"/>
                  </a:lnTo>
                  <a:lnTo>
                    <a:pt x="1849" y="2063"/>
                  </a:lnTo>
                  <a:lnTo>
                    <a:pt x="1827" y="2079"/>
                  </a:lnTo>
                  <a:lnTo>
                    <a:pt x="1805" y="2095"/>
                  </a:lnTo>
                  <a:lnTo>
                    <a:pt x="1783" y="2106"/>
                  </a:lnTo>
                  <a:lnTo>
                    <a:pt x="1755" y="2117"/>
                  </a:lnTo>
                  <a:lnTo>
                    <a:pt x="1734" y="2133"/>
                  </a:lnTo>
                  <a:lnTo>
                    <a:pt x="1712" y="2144"/>
                  </a:lnTo>
                  <a:lnTo>
                    <a:pt x="1685" y="2154"/>
                  </a:lnTo>
                  <a:lnTo>
                    <a:pt x="1663" y="2165"/>
                  </a:lnTo>
                  <a:lnTo>
                    <a:pt x="1636" y="2176"/>
                  </a:lnTo>
                  <a:lnTo>
                    <a:pt x="1609" y="2187"/>
                  </a:lnTo>
                  <a:lnTo>
                    <a:pt x="1587" y="2198"/>
                  </a:lnTo>
                  <a:lnTo>
                    <a:pt x="1560" y="2203"/>
                  </a:lnTo>
                  <a:lnTo>
                    <a:pt x="1533" y="2214"/>
                  </a:lnTo>
                  <a:lnTo>
                    <a:pt x="1505" y="2225"/>
                  </a:lnTo>
                  <a:lnTo>
                    <a:pt x="1478" y="2230"/>
                  </a:lnTo>
                  <a:lnTo>
                    <a:pt x="1451" y="2236"/>
                  </a:lnTo>
                  <a:lnTo>
                    <a:pt x="1424" y="2241"/>
                  </a:lnTo>
                  <a:lnTo>
                    <a:pt x="1397" y="2246"/>
                  </a:lnTo>
                  <a:lnTo>
                    <a:pt x="1370" y="2252"/>
                  </a:lnTo>
                  <a:lnTo>
                    <a:pt x="1342" y="2257"/>
                  </a:lnTo>
                  <a:lnTo>
                    <a:pt x="1315" y="2257"/>
                  </a:lnTo>
                  <a:lnTo>
                    <a:pt x="1283" y="2263"/>
                  </a:lnTo>
                  <a:lnTo>
                    <a:pt x="1255" y="2263"/>
                  </a:lnTo>
                  <a:lnTo>
                    <a:pt x="1228" y="2263"/>
                  </a:lnTo>
                  <a:lnTo>
                    <a:pt x="1201" y="2268"/>
                  </a:lnTo>
                  <a:lnTo>
                    <a:pt x="1141" y="2268"/>
                  </a:lnTo>
                  <a:lnTo>
                    <a:pt x="1114" y="2263"/>
                  </a:lnTo>
                  <a:lnTo>
                    <a:pt x="1087" y="2263"/>
                  </a:lnTo>
                  <a:lnTo>
                    <a:pt x="1054" y="2263"/>
                  </a:lnTo>
                  <a:lnTo>
                    <a:pt x="1027" y="2257"/>
                  </a:lnTo>
                  <a:lnTo>
                    <a:pt x="1000" y="2257"/>
                  </a:lnTo>
                  <a:lnTo>
                    <a:pt x="973" y="2252"/>
                  </a:lnTo>
                  <a:lnTo>
                    <a:pt x="940" y="2246"/>
                  </a:lnTo>
                  <a:lnTo>
                    <a:pt x="913" y="2241"/>
                  </a:lnTo>
                  <a:lnTo>
                    <a:pt x="886" y="2236"/>
                  </a:lnTo>
                  <a:lnTo>
                    <a:pt x="864" y="2230"/>
                  </a:lnTo>
                  <a:lnTo>
                    <a:pt x="837" y="2225"/>
                  </a:lnTo>
                  <a:lnTo>
                    <a:pt x="810" y="2214"/>
                  </a:lnTo>
                  <a:lnTo>
                    <a:pt x="783" y="2203"/>
                  </a:lnTo>
                  <a:lnTo>
                    <a:pt x="756" y="2198"/>
                  </a:lnTo>
                  <a:lnTo>
                    <a:pt x="729" y="2187"/>
                  </a:lnTo>
                  <a:lnTo>
                    <a:pt x="707" y="2176"/>
                  </a:lnTo>
                  <a:lnTo>
                    <a:pt x="680" y="2165"/>
                  </a:lnTo>
                  <a:lnTo>
                    <a:pt x="658" y="2154"/>
                  </a:lnTo>
                  <a:lnTo>
                    <a:pt x="631" y="2144"/>
                  </a:lnTo>
                  <a:lnTo>
                    <a:pt x="609" y="2133"/>
                  </a:lnTo>
                  <a:lnTo>
                    <a:pt x="581" y="2117"/>
                  </a:lnTo>
                  <a:lnTo>
                    <a:pt x="559" y="2106"/>
                  </a:lnTo>
                  <a:lnTo>
                    <a:pt x="537" y="2095"/>
                  </a:lnTo>
                  <a:lnTo>
                    <a:pt x="516" y="2079"/>
                  </a:lnTo>
                  <a:lnTo>
                    <a:pt x="494" y="2063"/>
                  </a:lnTo>
                  <a:lnTo>
                    <a:pt x="472" y="2046"/>
                  </a:lnTo>
                  <a:lnTo>
                    <a:pt x="450" y="2035"/>
                  </a:lnTo>
                  <a:lnTo>
                    <a:pt x="429" y="2014"/>
                  </a:lnTo>
                  <a:lnTo>
                    <a:pt x="407" y="1998"/>
                  </a:lnTo>
                  <a:lnTo>
                    <a:pt x="385" y="1981"/>
                  </a:lnTo>
                  <a:lnTo>
                    <a:pt x="369" y="1965"/>
                  </a:lnTo>
                  <a:lnTo>
                    <a:pt x="347" y="1949"/>
                  </a:lnTo>
                  <a:lnTo>
                    <a:pt x="331" y="1927"/>
                  </a:lnTo>
                  <a:lnTo>
                    <a:pt x="309" y="1911"/>
                  </a:lnTo>
                  <a:lnTo>
                    <a:pt x="293" y="1895"/>
                  </a:lnTo>
                  <a:lnTo>
                    <a:pt x="277" y="1873"/>
                  </a:lnTo>
                  <a:lnTo>
                    <a:pt x="260" y="1852"/>
                  </a:lnTo>
                  <a:lnTo>
                    <a:pt x="239" y="1830"/>
                  </a:lnTo>
                  <a:lnTo>
                    <a:pt x="222" y="1808"/>
                  </a:lnTo>
                  <a:lnTo>
                    <a:pt x="211" y="1792"/>
                  </a:lnTo>
                  <a:lnTo>
                    <a:pt x="195" y="1770"/>
                  </a:lnTo>
                  <a:lnTo>
                    <a:pt x="179" y="1749"/>
                  </a:lnTo>
                  <a:lnTo>
                    <a:pt x="168" y="1727"/>
                  </a:lnTo>
                  <a:lnTo>
                    <a:pt x="152" y="1706"/>
                  </a:lnTo>
                  <a:lnTo>
                    <a:pt x="141" y="1677"/>
                  </a:lnTo>
                  <a:lnTo>
                    <a:pt x="124" y="1656"/>
                  </a:lnTo>
                  <a:lnTo>
                    <a:pt x="114" y="1634"/>
                  </a:lnTo>
                  <a:lnTo>
                    <a:pt x="103" y="1607"/>
                  </a:lnTo>
                  <a:lnTo>
                    <a:pt x="92" y="1585"/>
                  </a:lnTo>
                  <a:lnTo>
                    <a:pt x="81" y="1558"/>
                  </a:lnTo>
                  <a:lnTo>
                    <a:pt x="70" y="1537"/>
                  </a:lnTo>
                  <a:lnTo>
                    <a:pt x="65" y="1510"/>
                  </a:lnTo>
                  <a:lnTo>
                    <a:pt x="54" y="1483"/>
                  </a:lnTo>
                  <a:lnTo>
                    <a:pt x="43" y="1461"/>
                  </a:lnTo>
                  <a:lnTo>
                    <a:pt x="38" y="1434"/>
                  </a:lnTo>
                  <a:lnTo>
                    <a:pt x="32" y="1407"/>
                  </a:lnTo>
                  <a:lnTo>
                    <a:pt x="27" y="1380"/>
                  </a:lnTo>
                  <a:lnTo>
                    <a:pt x="21" y="1353"/>
                  </a:lnTo>
                  <a:lnTo>
                    <a:pt x="16" y="1326"/>
                  </a:lnTo>
                  <a:lnTo>
                    <a:pt x="10" y="1299"/>
                  </a:lnTo>
                  <a:lnTo>
                    <a:pt x="5" y="1272"/>
                  </a:lnTo>
                  <a:lnTo>
                    <a:pt x="5" y="1245"/>
                  </a:lnTo>
                  <a:lnTo>
                    <a:pt x="0" y="1218"/>
                  </a:lnTo>
                  <a:lnTo>
                    <a:pt x="0" y="1191"/>
                  </a:lnTo>
                  <a:lnTo>
                    <a:pt x="0" y="1158"/>
                  </a:lnTo>
                  <a:lnTo>
                    <a:pt x="0" y="1137"/>
                  </a:lnTo>
                  <a:close/>
                </a:path>
              </a:pathLst>
            </a:custGeom>
            <a:solidFill>
              <a:srgbClr val="495b5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22280" y="2736720"/>
              <a:ext cx="838440" cy="805320"/>
            </a:xfrm>
            <a:custGeom>
              <a:avLst/>
              <a:gdLst/>
              <a:ahLst/>
              <a:rect l="0" t="0" r="r" b="b"/>
              <a:pathLst>
                <a:path w="2329" h="2237">
                  <a:moveTo>
                    <a:pt x="0" y="1121"/>
                  </a:moveTo>
                  <a:lnTo>
                    <a:pt x="0" y="1089"/>
                  </a:lnTo>
                  <a:lnTo>
                    <a:pt x="5" y="1062"/>
                  </a:lnTo>
                  <a:lnTo>
                    <a:pt x="5" y="1035"/>
                  </a:lnTo>
                  <a:lnTo>
                    <a:pt x="5" y="1003"/>
                  </a:lnTo>
                  <a:lnTo>
                    <a:pt x="10" y="976"/>
                  </a:lnTo>
                  <a:lnTo>
                    <a:pt x="16" y="949"/>
                  </a:lnTo>
                  <a:lnTo>
                    <a:pt x="16" y="922"/>
                  </a:lnTo>
                  <a:lnTo>
                    <a:pt x="21" y="900"/>
                  </a:lnTo>
                  <a:lnTo>
                    <a:pt x="27" y="873"/>
                  </a:lnTo>
                  <a:lnTo>
                    <a:pt x="32" y="841"/>
                  </a:lnTo>
                  <a:lnTo>
                    <a:pt x="43" y="814"/>
                  </a:lnTo>
                  <a:lnTo>
                    <a:pt x="48" y="792"/>
                  </a:lnTo>
                  <a:lnTo>
                    <a:pt x="59" y="765"/>
                  </a:lnTo>
                  <a:lnTo>
                    <a:pt x="65" y="739"/>
                  </a:lnTo>
                  <a:lnTo>
                    <a:pt x="76" y="717"/>
                  </a:lnTo>
                  <a:lnTo>
                    <a:pt x="87" y="690"/>
                  </a:lnTo>
                  <a:lnTo>
                    <a:pt x="97" y="669"/>
                  </a:lnTo>
                  <a:lnTo>
                    <a:pt x="108" y="642"/>
                  </a:lnTo>
                  <a:lnTo>
                    <a:pt x="119" y="620"/>
                  </a:lnTo>
                  <a:lnTo>
                    <a:pt x="136" y="593"/>
                  </a:lnTo>
                  <a:lnTo>
                    <a:pt x="146" y="572"/>
                  </a:lnTo>
                  <a:lnTo>
                    <a:pt x="157" y="549"/>
                  </a:lnTo>
                  <a:lnTo>
                    <a:pt x="174" y="522"/>
                  </a:lnTo>
                  <a:lnTo>
                    <a:pt x="184" y="501"/>
                  </a:lnTo>
                  <a:lnTo>
                    <a:pt x="201" y="479"/>
                  </a:lnTo>
                  <a:lnTo>
                    <a:pt x="217" y="457"/>
                  </a:lnTo>
                  <a:lnTo>
                    <a:pt x="233" y="441"/>
                  </a:lnTo>
                  <a:lnTo>
                    <a:pt x="250" y="420"/>
                  </a:lnTo>
                  <a:lnTo>
                    <a:pt x="266" y="404"/>
                  </a:lnTo>
                  <a:lnTo>
                    <a:pt x="288" y="382"/>
                  </a:lnTo>
                  <a:lnTo>
                    <a:pt x="304" y="360"/>
                  </a:lnTo>
                  <a:lnTo>
                    <a:pt x="320" y="339"/>
                  </a:lnTo>
                  <a:lnTo>
                    <a:pt x="342" y="323"/>
                  </a:lnTo>
                  <a:lnTo>
                    <a:pt x="359" y="307"/>
                  </a:lnTo>
                  <a:lnTo>
                    <a:pt x="380" y="290"/>
                  </a:lnTo>
                  <a:lnTo>
                    <a:pt x="397" y="269"/>
                  </a:lnTo>
                  <a:lnTo>
                    <a:pt x="418" y="253"/>
                  </a:lnTo>
                  <a:lnTo>
                    <a:pt x="440" y="242"/>
                  </a:lnTo>
                  <a:lnTo>
                    <a:pt x="462" y="226"/>
                  </a:lnTo>
                  <a:lnTo>
                    <a:pt x="484" y="210"/>
                  </a:lnTo>
                  <a:lnTo>
                    <a:pt x="505" y="188"/>
                  </a:lnTo>
                  <a:lnTo>
                    <a:pt x="527" y="177"/>
                  </a:lnTo>
                  <a:lnTo>
                    <a:pt x="549" y="161"/>
                  </a:lnTo>
                  <a:lnTo>
                    <a:pt x="576" y="150"/>
                  </a:lnTo>
                  <a:lnTo>
                    <a:pt x="598" y="140"/>
                  </a:lnTo>
                  <a:lnTo>
                    <a:pt x="625" y="123"/>
                  </a:lnTo>
                  <a:lnTo>
                    <a:pt x="647" y="113"/>
                  </a:lnTo>
                  <a:lnTo>
                    <a:pt x="674" y="102"/>
                  </a:lnTo>
                  <a:lnTo>
                    <a:pt x="696" y="91"/>
                  </a:lnTo>
                  <a:lnTo>
                    <a:pt x="723" y="80"/>
                  </a:lnTo>
                  <a:lnTo>
                    <a:pt x="750" y="70"/>
                  </a:lnTo>
                  <a:lnTo>
                    <a:pt x="772" y="64"/>
                  </a:lnTo>
                  <a:lnTo>
                    <a:pt x="799" y="53"/>
                  </a:lnTo>
                  <a:lnTo>
                    <a:pt x="826" y="48"/>
                  </a:lnTo>
                  <a:lnTo>
                    <a:pt x="854" y="37"/>
                  </a:lnTo>
                  <a:lnTo>
                    <a:pt x="881" y="32"/>
                  </a:lnTo>
                  <a:lnTo>
                    <a:pt x="908" y="26"/>
                  </a:lnTo>
                  <a:lnTo>
                    <a:pt x="935" y="21"/>
                  </a:lnTo>
                  <a:lnTo>
                    <a:pt x="962" y="16"/>
                  </a:lnTo>
                  <a:lnTo>
                    <a:pt x="995" y="10"/>
                  </a:lnTo>
                  <a:lnTo>
                    <a:pt x="1022" y="5"/>
                  </a:lnTo>
                  <a:lnTo>
                    <a:pt x="1049" y="5"/>
                  </a:lnTo>
                  <a:lnTo>
                    <a:pt x="1077" y="0"/>
                  </a:lnTo>
                  <a:lnTo>
                    <a:pt x="1109" y="0"/>
                  </a:lnTo>
                  <a:lnTo>
                    <a:pt x="1136" y="0"/>
                  </a:lnTo>
                  <a:lnTo>
                    <a:pt x="1197" y="0"/>
                  </a:lnTo>
                  <a:lnTo>
                    <a:pt x="1225" y="0"/>
                  </a:lnTo>
                  <a:lnTo>
                    <a:pt x="1252" y="0"/>
                  </a:lnTo>
                  <a:lnTo>
                    <a:pt x="1284" y="5"/>
                  </a:lnTo>
                  <a:lnTo>
                    <a:pt x="1312" y="5"/>
                  </a:lnTo>
                  <a:lnTo>
                    <a:pt x="1339" y="10"/>
                  </a:lnTo>
                  <a:lnTo>
                    <a:pt x="1371" y="16"/>
                  </a:lnTo>
                  <a:lnTo>
                    <a:pt x="1399" y="21"/>
                  </a:lnTo>
                  <a:lnTo>
                    <a:pt x="1426" y="26"/>
                  </a:lnTo>
                  <a:lnTo>
                    <a:pt x="1448" y="32"/>
                  </a:lnTo>
                  <a:lnTo>
                    <a:pt x="1475" y="37"/>
                  </a:lnTo>
                  <a:lnTo>
                    <a:pt x="1507" y="48"/>
                  </a:lnTo>
                  <a:lnTo>
                    <a:pt x="1535" y="53"/>
                  </a:lnTo>
                  <a:lnTo>
                    <a:pt x="1556" y="64"/>
                  </a:lnTo>
                  <a:lnTo>
                    <a:pt x="1584" y="70"/>
                  </a:lnTo>
                  <a:lnTo>
                    <a:pt x="1611" y="80"/>
                  </a:lnTo>
                  <a:lnTo>
                    <a:pt x="1633" y="91"/>
                  </a:lnTo>
                  <a:lnTo>
                    <a:pt x="1665" y="102"/>
                  </a:lnTo>
                  <a:lnTo>
                    <a:pt x="1687" y="113"/>
                  </a:lnTo>
                  <a:lnTo>
                    <a:pt x="1709" y="123"/>
                  </a:lnTo>
                  <a:lnTo>
                    <a:pt x="1736" y="140"/>
                  </a:lnTo>
                  <a:lnTo>
                    <a:pt x="1758" y="150"/>
                  </a:lnTo>
                  <a:lnTo>
                    <a:pt x="1779" y="161"/>
                  </a:lnTo>
                  <a:lnTo>
                    <a:pt x="1801" y="177"/>
                  </a:lnTo>
                  <a:lnTo>
                    <a:pt x="1823" y="188"/>
                  </a:lnTo>
                  <a:lnTo>
                    <a:pt x="1850" y="210"/>
                  </a:lnTo>
                  <a:lnTo>
                    <a:pt x="1872" y="226"/>
                  </a:lnTo>
                  <a:lnTo>
                    <a:pt x="1894" y="242"/>
                  </a:lnTo>
                  <a:lnTo>
                    <a:pt x="1915" y="253"/>
                  </a:lnTo>
                  <a:lnTo>
                    <a:pt x="1932" y="269"/>
                  </a:lnTo>
                  <a:lnTo>
                    <a:pt x="1953" y="290"/>
                  </a:lnTo>
                  <a:lnTo>
                    <a:pt x="1975" y="307"/>
                  </a:lnTo>
                  <a:lnTo>
                    <a:pt x="1992" y="323"/>
                  </a:lnTo>
                  <a:lnTo>
                    <a:pt x="2013" y="339"/>
                  </a:lnTo>
                  <a:lnTo>
                    <a:pt x="2030" y="360"/>
                  </a:lnTo>
                  <a:lnTo>
                    <a:pt x="2051" y="382"/>
                  </a:lnTo>
                  <a:lnTo>
                    <a:pt x="2068" y="404"/>
                  </a:lnTo>
                  <a:lnTo>
                    <a:pt x="2084" y="420"/>
                  </a:lnTo>
                  <a:lnTo>
                    <a:pt x="2100" y="441"/>
                  </a:lnTo>
                  <a:lnTo>
                    <a:pt x="2117" y="457"/>
                  </a:lnTo>
                  <a:lnTo>
                    <a:pt x="2128" y="479"/>
                  </a:lnTo>
                  <a:lnTo>
                    <a:pt x="2144" y="501"/>
                  </a:lnTo>
                  <a:lnTo>
                    <a:pt x="2160" y="522"/>
                  </a:lnTo>
                  <a:lnTo>
                    <a:pt x="2177" y="549"/>
                  </a:lnTo>
                  <a:lnTo>
                    <a:pt x="2187" y="572"/>
                  </a:lnTo>
                  <a:lnTo>
                    <a:pt x="2198" y="593"/>
                  </a:lnTo>
                  <a:lnTo>
                    <a:pt x="2215" y="620"/>
                  </a:lnTo>
                  <a:lnTo>
                    <a:pt x="2225" y="642"/>
                  </a:lnTo>
                  <a:lnTo>
                    <a:pt x="2236" y="669"/>
                  </a:lnTo>
                  <a:lnTo>
                    <a:pt x="2247" y="690"/>
                  </a:lnTo>
                  <a:lnTo>
                    <a:pt x="2253" y="717"/>
                  </a:lnTo>
                  <a:lnTo>
                    <a:pt x="2264" y="739"/>
                  </a:lnTo>
                  <a:lnTo>
                    <a:pt x="2274" y="765"/>
                  </a:lnTo>
                  <a:lnTo>
                    <a:pt x="2280" y="792"/>
                  </a:lnTo>
                  <a:lnTo>
                    <a:pt x="2291" y="814"/>
                  </a:lnTo>
                  <a:lnTo>
                    <a:pt x="2296" y="841"/>
                  </a:lnTo>
                  <a:lnTo>
                    <a:pt x="2302" y="873"/>
                  </a:lnTo>
                  <a:lnTo>
                    <a:pt x="2307" y="900"/>
                  </a:lnTo>
                  <a:lnTo>
                    <a:pt x="2313" y="922"/>
                  </a:lnTo>
                  <a:lnTo>
                    <a:pt x="2318" y="949"/>
                  </a:lnTo>
                  <a:lnTo>
                    <a:pt x="2323" y="976"/>
                  </a:lnTo>
                  <a:lnTo>
                    <a:pt x="2323" y="1003"/>
                  </a:lnTo>
                  <a:lnTo>
                    <a:pt x="2329" y="1035"/>
                  </a:lnTo>
                  <a:lnTo>
                    <a:pt x="2329" y="1062"/>
                  </a:lnTo>
                  <a:lnTo>
                    <a:pt x="2329" y="1089"/>
                  </a:lnTo>
                  <a:lnTo>
                    <a:pt x="2329" y="1121"/>
                  </a:lnTo>
                  <a:lnTo>
                    <a:pt x="2329" y="1143"/>
                  </a:lnTo>
                  <a:lnTo>
                    <a:pt x="2329" y="1175"/>
                  </a:lnTo>
                  <a:lnTo>
                    <a:pt x="2329" y="1202"/>
                  </a:lnTo>
                  <a:lnTo>
                    <a:pt x="2323" y="1229"/>
                  </a:lnTo>
                  <a:lnTo>
                    <a:pt x="2323" y="1256"/>
                  </a:lnTo>
                  <a:lnTo>
                    <a:pt x="2318" y="1283"/>
                  </a:lnTo>
                  <a:lnTo>
                    <a:pt x="2313" y="1310"/>
                  </a:lnTo>
                  <a:lnTo>
                    <a:pt x="2307" y="1337"/>
                  </a:lnTo>
                  <a:lnTo>
                    <a:pt x="2302" y="1369"/>
                  </a:lnTo>
                  <a:lnTo>
                    <a:pt x="2296" y="1390"/>
                  </a:lnTo>
                  <a:lnTo>
                    <a:pt x="2291" y="1417"/>
                  </a:lnTo>
                  <a:lnTo>
                    <a:pt x="2280" y="1444"/>
                  </a:lnTo>
                  <a:lnTo>
                    <a:pt x="2274" y="1471"/>
                  </a:lnTo>
                  <a:lnTo>
                    <a:pt x="2264" y="1493"/>
                  </a:lnTo>
                  <a:lnTo>
                    <a:pt x="2253" y="1520"/>
                  </a:lnTo>
                  <a:lnTo>
                    <a:pt x="2247" y="1547"/>
                  </a:lnTo>
                  <a:lnTo>
                    <a:pt x="2236" y="1568"/>
                  </a:lnTo>
                  <a:lnTo>
                    <a:pt x="2225" y="1595"/>
                  </a:lnTo>
                  <a:lnTo>
                    <a:pt x="2215" y="1617"/>
                  </a:lnTo>
                  <a:lnTo>
                    <a:pt x="2198" y="1638"/>
                  </a:lnTo>
                  <a:lnTo>
                    <a:pt x="2187" y="1665"/>
                  </a:lnTo>
                  <a:lnTo>
                    <a:pt x="2177" y="1688"/>
                  </a:lnTo>
                  <a:lnTo>
                    <a:pt x="2160" y="1709"/>
                  </a:lnTo>
                  <a:lnTo>
                    <a:pt x="2144" y="1736"/>
                  </a:lnTo>
                  <a:lnTo>
                    <a:pt x="2128" y="1752"/>
                  </a:lnTo>
                  <a:lnTo>
                    <a:pt x="2117" y="1774"/>
                  </a:lnTo>
                  <a:lnTo>
                    <a:pt x="2100" y="1795"/>
                  </a:lnTo>
                  <a:lnTo>
                    <a:pt x="2084" y="1817"/>
                  </a:lnTo>
                  <a:lnTo>
                    <a:pt x="2068" y="1839"/>
                  </a:lnTo>
                  <a:lnTo>
                    <a:pt x="2051" y="1860"/>
                  </a:lnTo>
                  <a:lnTo>
                    <a:pt x="2030" y="1876"/>
                  </a:lnTo>
                  <a:lnTo>
                    <a:pt x="2013" y="1898"/>
                  </a:lnTo>
                  <a:lnTo>
                    <a:pt x="1992" y="1914"/>
                  </a:lnTo>
                  <a:lnTo>
                    <a:pt x="1975" y="1930"/>
                  </a:lnTo>
                  <a:lnTo>
                    <a:pt x="1953" y="1952"/>
                  </a:lnTo>
                  <a:lnTo>
                    <a:pt x="1932" y="1968"/>
                  </a:lnTo>
                  <a:lnTo>
                    <a:pt x="1915" y="1984"/>
                  </a:lnTo>
                  <a:lnTo>
                    <a:pt x="1894" y="2000"/>
                  </a:lnTo>
                  <a:lnTo>
                    <a:pt x="1872" y="2016"/>
                  </a:lnTo>
                  <a:lnTo>
                    <a:pt x="1850" y="2033"/>
                  </a:lnTo>
                  <a:lnTo>
                    <a:pt x="1823" y="2049"/>
                  </a:lnTo>
                  <a:lnTo>
                    <a:pt x="1801" y="2059"/>
                  </a:lnTo>
                  <a:lnTo>
                    <a:pt x="1779" y="2076"/>
                  </a:lnTo>
                  <a:lnTo>
                    <a:pt x="1758" y="2086"/>
                  </a:lnTo>
                  <a:lnTo>
                    <a:pt x="1736" y="2097"/>
                  </a:lnTo>
                  <a:lnTo>
                    <a:pt x="1709" y="2113"/>
                  </a:lnTo>
                  <a:lnTo>
                    <a:pt x="1687" y="2124"/>
                  </a:lnTo>
                  <a:lnTo>
                    <a:pt x="1665" y="2135"/>
                  </a:lnTo>
                  <a:lnTo>
                    <a:pt x="1633" y="2146"/>
                  </a:lnTo>
                  <a:lnTo>
                    <a:pt x="1611" y="2156"/>
                  </a:lnTo>
                  <a:lnTo>
                    <a:pt x="1584" y="2167"/>
                  </a:lnTo>
                  <a:lnTo>
                    <a:pt x="1556" y="2178"/>
                  </a:lnTo>
                  <a:lnTo>
                    <a:pt x="1535" y="2183"/>
                  </a:lnTo>
                  <a:lnTo>
                    <a:pt x="1507" y="2194"/>
                  </a:lnTo>
                  <a:lnTo>
                    <a:pt x="1475" y="2200"/>
                  </a:lnTo>
                  <a:lnTo>
                    <a:pt x="1448" y="2205"/>
                  </a:lnTo>
                  <a:lnTo>
                    <a:pt x="1426" y="2210"/>
                  </a:lnTo>
                  <a:lnTo>
                    <a:pt x="1399" y="2216"/>
                  </a:lnTo>
                  <a:lnTo>
                    <a:pt x="1371" y="2226"/>
                  </a:lnTo>
                  <a:lnTo>
                    <a:pt x="1339" y="2226"/>
                  </a:lnTo>
                  <a:lnTo>
                    <a:pt x="1312" y="2232"/>
                  </a:lnTo>
                  <a:lnTo>
                    <a:pt x="1284" y="2232"/>
                  </a:lnTo>
                  <a:lnTo>
                    <a:pt x="1252" y="2237"/>
                  </a:lnTo>
                  <a:lnTo>
                    <a:pt x="1225" y="2237"/>
                  </a:lnTo>
                  <a:lnTo>
                    <a:pt x="1197" y="2237"/>
                  </a:lnTo>
                  <a:lnTo>
                    <a:pt x="1136" y="2237"/>
                  </a:lnTo>
                  <a:lnTo>
                    <a:pt x="1109" y="2237"/>
                  </a:lnTo>
                  <a:lnTo>
                    <a:pt x="1077" y="2237"/>
                  </a:lnTo>
                  <a:lnTo>
                    <a:pt x="1049" y="2232"/>
                  </a:lnTo>
                  <a:lnTo>
                    <a:pt x="1022" y="2232"/>
                  </a:lnTo>
                  <a:lnTo>
                    <a:pt x="995" y="2226"/>
                  </a:lnTo>
                  <a:lnTo>
                    <a:pt x="962" y="2226"/>
                  </a:lnTo>
                  <a:lnTo>
                    <a:pt x="935" y="2216"/>
                  </a:lnTo>
                  <a:lnTo>
                    <a:pt x="908" y="2210"/>
                  </a:lnTo>
                  <a:lnTo>
                    <a:pt x="881" y="2205"/>
                  </a:lnTo>
                  <a:lnTo>
                    <a:pt x="854" y="2200"/>
                  </a:lnTo>
                  <a:lnTo>
                    <a:pt x="826" y="2194"/>
                  </a:lnTo>
                  <a:lnTo>
                    <a:pt x="799" y="2183"/>
                  </a:lnTo>
                  <a:lnTo>
                    <a:pt x="772" y="2178"/>
                  </a:lnTo>
                  <a:lnTo>
                    <a:pt x="750" y="2167"/>
                  </a:lnTo>
                  <a:lnTo>
                    <a:pt x="723" y="2156"/>
                  </a:lnTo>
                  <a:lnTo>
                    <a:pt x="696" y="2146"/>
                  </a:lnTo>
                  <a:lnTo>
                    <a:pt x="674" y="2135"/>
                  </a:lnTo>
                  <a:lnTo>
                    <a:pt x="647" y="2124"/>
                  </a:lnTo>
                  <a:lnTo>
                    <a:pt x="625" y="2113"/>
                  </a:lnTo>
                  <a:lnTo>
                    <a:pt x="598" y="2097"/>
                  </a:lnTo>
                  <a:lnTo>
                    <a:pt x="576" y="2086"/>
                  </a:lnTo>
                  <a:lnTo>
                    <a:pt x="549" y="2076"/>
                  </a:lnTo>
                  <a:lnTo>
                    <a:pt x="527" y="2059"/>
                  </a:lnTo>
                  <a:lnTo>
                    <a:pt x="505" y="2049"/>
                  </a:lnTo>
                  <a:lnTo>
                    <a:pt x="484" y="2033"/>
                  </a:lnTo>
                  <a:lnTo>
                    <a:pt x="462" y="2016"/>
                  </a:lnTo>
                  <a:lnTo>
                    <a:pt x="440" y="2000"/>
                  </a:lnTo>
                  <a:lnTo>
                    <a:pt x="418" y="1984"/>
                  </a:lnTo>
                  <a:lnTo>
                    <a:pt x="397" y="1968"/>
                  </a:lnTo>
                  <a:lnTo>
                    <a:pt x="380" y="1952"/>
                  </a:lnTo>
                  <a:lnTo>
                    <a:pt x="359" y="1930"/>
                  </a:lnTo>
                  <a:lnTo>
                    <a:pt x="342" y="1914"/>
                  </a:lnTo>
                  <a:lnTo>
                    <a:pt x="320" y="1898"/>
                  </a:lnTo>
                  <a:lnTo>
                    <a:pt x="304" y="1876"/>
                  </a:lnTo>
                  <a:lnTo>
                    <a:pt x="288" y="1860"/>
                  </a:lnTo>
                  <a:lnTo>
                    <a:pt x="266" y="1839"/>
                  </a:lnTo>
                  <a:lnTo>
                    <a:pt x="250" y="1817"/>
                  </a:lnTo>
                  <a:lnTo>
                    <a:pt x="233" y="1795"/>
                  </a:lnTo>
                  <a:lnTo>
                    <a:pt x="217" y="1774"/>
                  </a:lnTo>
                  <a:lnTo>
                    <a:pt x="201" y="1752"/>
                  </a:lnTo>
                  <a:lnTo>
                    <a:pt x="184" y="1736"/>
                  </a:lnTo>
                  <a:lnTo>
                    <a:pt x="174" y="1709"/>
                  </a:lnTo>
                  <a:lnTo>
                    <a:pt x="157" y="1688"/>
                  </a:lnTo>
                  <a:lnTo>
                    <a:pt x="146" y="1665"/>
                  </a:lnTo>
                  <a:lnTo>
                    <a:pt x="136" y="1638"/>
                  </a:lnTo>
                  <a:lnTo>
                    <a:pt x="119" y="1617"/>
                  </a:lnTo>
                  <a:lnTo>
                    <a:pt x="108" y="1595"/>
                  </a:lnTo>
                  <a:lnTo>
                    <a:pt x="97" y="1568"/>
                  </a:lnTo>
                  <a:lnTo>
                    <a:pt x="87" y="1547"/>
                  </a:lnTo>
                  <a:lnTo>
                    <a:pt x="76" y="1520"/>
                  </a:lnTo>
                  <a:lnTo>
                    <a:pt x="65" y="1493"/>
                  </a:lnTo>
                  <a:lnTo>
                    <a:pt x="59" y="1471"/>
                  </a:lnTo>
                  <a:lnTo>
                    <a:pt x="48" y="1444"/>
                  </a:lnTo>
                  <a:lnTo>
                    <a:pt x="43" y="1417"/>
                  </a:lnTo>
                  <a:lnTo>
                    <a:pt x="32" y="1390"/>
                  </a:lnTo>
                  <a:lnTo>
                    <a:pt x="27" y="1369"/>
                  </a:lnTo>
                  <a:lnTo>
                    <a:pt x="21" y="1337"/>
                  </a:lnTo>
                  <a:lnTo>
                    <a:pt x="16" y="1310"/>
                  </a:lnTo>
                  <a:lnTo>
                    <a:pt x="16" y="1283"/>
                  </a:lnTo>
                  <a:lnTo>
                    <a:pt x="10" y="1256"/>
                  </a:lnTo>
                  <a:lnTo>
                    <a:pt x="5" y="1229"/>
                  </a:lnTo>
                  <a:lnTo>
                    <a:pt x="5" y="1202"/>
                  </a:lnTo>
                  <a:lnTo>
                    <a:pt x="5" y="1175"/>
                  </a:lnTo>
                  <a:lnTo>
                    <a:pt x="0" y="1143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54686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25520" y="2738520"/>
              <a:ext cx="832320" cy="802080"/>
            </a:xfrm>
            <a:custGeom>
              <a:avLst/>
              <a:gdLst/>
              <a:ahLst/>
              <a:rect l="0" t="0" r="r" b="b"/>
              <a:pathLst>
                <a:path w="2312" h="2228">
                  <a:moveTo>
                    <a:pt x="0" y="1117"/>
                  </a:moveTo>
                  <a:lnTo>
                    <a:pt x="0" y="1084"/>
                  </a:lnTo>
                  <a:lnTo>
                    <a:pt x="0" y="1057"/>
                  </a:lnTo>
                  <a:lnTo>
                    <a:pt x="5" y="1030"/>
                  </a:lnTo>
                  <a:lnTo>
                    <a:pt x="5" y="1003"/>
                  </a:lnTo>
                  <a:lnTo>
                    <a:pt x="5" y="971"/>
                  </a:lnTo>
                  <a:lnTo>
                    <a:pt x="10" y="949"/>
                  </a:lnTo>
                  <a:lnTo>
                    <a:pt x="16" y="917"/>
                  </a:lnTo>
                  <a:lnTo>
                    <a:pt x="21" y="896"/>
                  </a:lnTo>
                  <a:lnTo>
                    <a:pt x="27" y="869"/>
                  </a:lnTo>
                  <a:lnTo>
                    <a:pt x="32" y="842"/>
                  </a:lnTo>
                  <a:lnTo>
                    <a:pt x="38" y="815"/>
                  </a:lnTo>
                  <a:lnTo>
                    <a:pt x="48" y="788"/>
                  </a:lnTo>
                  <a:lnTo>
                    <a:pt x="54" y="761"/>
                  </a:lnTo>
                  <a:lnTo>
                    <a:pt x="65" y="739"/>
                  </a:lnTo>
                  <a:lnTo>
                    <a:pt x="70" y="712"/>
                  </a:lnTo>
                  <a:lnTo>
                    <a:pt x="86" y="685"/>
                  </a:lnTo>
                  <a:lnTo>
                    <a:pt x="97" y="664"/>
                  </a:lnTo>
                  <a:lnTo>
                    <a:pt x="108" y="642"/>
                  </a:lnTo>
                  <a:lnTo>
                    <a:pt x="119" y="615"/>
                  </a:lnTo>
                  <a:lnTo>
                    <a:pt x="130" y="594"/>
                  </a:lnTo>
                  <a:lnTo>
                    <a:pt x="141" y="572"/>
                  </a:lnTo>
                  <a:lnTo>
                    <a:pt x="157" y="549"/>
                  </a:lnTo>
                  <a:lnTo>
                    <a:pt x="168" y="523"/>
                  </a:lnTo>
                  <a:lnTo>
                    <a:pt x="184" y="501"/>
                  </a:lnTo>
                  <a:lnTo>
                    <a:pt x="201" y="479"/>
                  </a:lnTo>
                  <a:lnTo>
                    <a:pt x="212" y="458"/>
                  </a:lnTo>
                  <a:lnTo>
                    <a:pt x="228" y="442"/>
                  </a:lnTo>
                  <a:lnTo>
                    <a:pt x="244" y="420"/>
                  </a:lnTo>
                  <a:lnTo>
                    <a:pt x="260" y="404"/>
                  </a:lnTo>
                  <a:lnTo>
                    <a:pt x="282" y="382"/>
                  </a:lnTo>
                  <a:lnTo>
                    <a:pt x="299" y="366"/>
                  </a:lnTo>
                  <a:lnTo>
                    <a:pt x="315" y="339"/>
                  </a:lnTo>
                  <a:lnTo>
                    <a:pt x="331" y="323"/>
                  </a:lnTo>
                  <a:lnTo>
                    <a:pt x="353" y="307"/>
                  </a:lnTo>
                  <a:lnTo>
                    <a:pt x="375" y="291"/>
                  </a:lnTo>
                  <a:lnTo>
                    <a:pt x="391" y="274"/>
                  </a:lnTo>
                  <a:lnTo>
                    <a:pt x="413" y="258"/>
                  </a:lnTo>
                  <a:lnTo>
                    <a:pt x="434" y="242"/>
                  </a:lnTo>
                  <a:lnTo>
                    <a:pt x="456" y="226"/>
                  </a:lnTo>
                  <a:lnTo>
                    <a:pt x="478" y="210"/>
                  </a:lnTo>
                  <a:lnTo>
                    <a:pt x="500" y="194"/>
                  </a:lnTo>
                  <a:lnTo>
                    <a:pt x="521" y="177"/>
                  </a:lnTo>
                  <a:lnTo>
                    <a:pt x="543" y="167"/>
                  </a:lnTo>
                  <a:lnTo>
                    <a:pt x="565" y="150"/>
                  </a:lnTo>
                  <a:lnTo>
                    <a:pt x="593" y="140"/>
                  </a:lnTo>
                  <a:lnTo>
                    <a:pt x="620" y="129"/>
                  </a:lnTo>
                  <a:lnTo>
                    <a:pt x="642" y="113"/>
                  </a:lnTo>
                  <a:lnTo>
                    <a:pt x="664" y="102"/>
                  </a:lnTo>
                  <a:lnTo>
                    <a:pt x="691" y="97"/>
                  </a:lnTo>
                  <a:lnTo>
                    <a:pt x="713" y="86"/>
                  </a:lnTo>
                  <a:lnTo>
                    <a:pt x="740" y="75"/>
                  </a:lnTo>
                  <a:lnTo>
                    <a:pt x="767" y="64"/>
                  </a:lnTo>
                  <a:lnTo>
                    <a:pt x="794" y="59"/>
                  </a:lnTo>
                  <a:lnTo>
                    <a:pt x="821" y="48"/>
                  </a:lnTo>
                  <a:lnTo>
                    <a:pt x="849" y="43"/>
                  </a:lnTo>
                  <a:lnTo>
                    <a:pt x="870" y="32"/>
                  </a:lnTo>
                  <a:lnTo>
                    <a:pt x="898" y="26"/>
                  </a:lnTo>
                  <a:lnTo>
                    <a:pt x="925" y="21"/>
                  </a:lnTo>
                  <a:lnTo>
                    <a:pt x="957" y="16"/>
                  </a:lnTo>
                  <a:lnTo>
                    <a:pt x="985" y="10"/>
                  </a:lnTo>
                  <a:lnTo>
                    <a:pt x="1012" y="10"/>
                  </a:lnTo>
                  <a:lnTo>
                    <a:pt x="1039" y="5"/>
                  </a:lnTo>
                  <a:lnTo>
                    <a:pt x="1072" y="5"/>
                  </a:lnTo>
                  <a:lnTo>
                    <a:pt x="1099" y="0"/>
                  </a:lnTo>
                  <a:lnTo>
                    <a:pt x="1126" y="0"/>
                  </a:lnTo>
                  <a:lnTo>
                    <a:pt x="1186" y="0"/>
                  </a:lnTo>
                  <a:lnTo>
                    <a:pt x="1213" y="0"/>
                  </a:lnTo>
                  <a:lnTo>
                    <a:pt x="1240" y="5"/>
                  </a:lnTo>
                  <a:lnTo>
                    <a:pt x="1267" y="5"/>
                  </a:lnTo>
                  <a:lnTo>
                    <a:pt x="1300" y="10"/>
                  </a:lnTo>
                  <a:lnTo>
                    <a:pt x="1327" y="10"/>
                  </a:lnTo>
                  <a:lnTo>
                    <a:pt x="1354" y="16"/>
                  </a:lnTo>
                  <a:lnTo>
                    <a:pt x="1381" y="21"/>
                  </a:lnTo>
                  <a:lnTo>
                    <a:pt x="1409" y="26"/>
                  </a:lnTo>
                  <a:lnTo>
                    <a:pt x="1436" y="32"/>
                  </a:lnTo>
                  <a:lnTo>
                    <a:pt x="1463" y="43"/>
                  </a:lnTo>
                  <a:lnTo>
                    <a:pt x="1490" y="48"/>
                  </a:lnTo>
                  <a:lnTo>
                    <a:pt x="1517" y="59"/>
                  </a:lnTo>
                  <a:lnTo>
                    <a:pt x="1545" y="64"/>
                  </a:lnTo>
                  <a:lnTo>
                    <a:pt x="1572" y="75"/>
                  </a:lnTo>
                  <a:lnTo>
                    <a:pt x="1594" y="86"/>
                  </a:lnTo>
                  <a:lnTo>
                    <a:pt x="1621" y="97"/>
                  </a:lnTo>
                  <a:lnTo>
                    <a:pt x="1648" y="102"/>
                  </a:lnTo>
                  <a:lnTo>
                    <a:pt x="1670" y="113"/>
                  </a:lnTo>
                  <a:lnTo>
                    <a:pt x="1697" y="129"/>
                  </a:lnTo>
                  <a:lnTo>
                    <a:pt x="1719" y="140"/>
                  </a:lnTo>
                  <a:lnTo>
                    <a:pt x="1741" y="150"/>
                  </a:lnTo>
                  <a:lnTo>
                    <a:pt x="1769" y="167"/>
                  </a:lnTo>
                  <a:lnTo>
                    <a:pt x="1785" y="177"/>
                  </a:lnTo>
                  <a:lnTo>
                    <a:pt x="1812" y="194"/>
                  </a:lnTo>
                  <a:lnTo>
                    <a:pt x="1834" y="210"/>
                  </a:lnTo>
                  <a:lnTo>
                    <a:pt x="1855" y="226"/>
                  </a:lnTo>
                  <a:lnTo>
                    <a:pt x="1877" y="242"/>
                  </a:lnTo>
                  <a:lnTo>
                    <a:pt x="1899" y="258"/>
                  </a:lnTo>
                  <a:lnTo>
                    <a:pt x="1915" y="274"/>
                  </a:lnTo>
                  <a:lnTo>
                    <a:pt x="1937" y="291"/>
                  </a:lnTo>
                  <a:lnTo>
                    <a:pt x="1953" y="307"/>
                  </a:lnTo>
                  <a:lnTo>
                    <a:pt x="1975" y="323"/>
                  </a:lnTo>
                  <a:lnTo>
                    <a:pt x="1997" y="339"/>
                  </a:lnTo>
                  <a:lnTo>
                    <a:pt x="2013" y="366"/>
                  </a:lnTo>
                  <a:lnTo>
                    <a:pt x="2029" y="382"/>
                  </a:lnTo>
                  <a:lnTo>
                    <a:pt x="2046" y="404"/>
                  </a:lnTo>
                  <a:lnTo>
                    <a:pt x="2068" y="420"/>
                  </a:lnTo>
                  <a:lnTo>
                    <a:pt x="2078" y="442"/>
                  </a:lnTo>
                  <a:lnTo>
                    <a:pt x="2095" y="458"/>
                  </a:lnTo>
                  <a:lnTo>
                    <a:pt x="2111" y="479"/>
                  </a:lnTo>
                  <a:lnTo>
                    <a:pt x="2127" y="501"/>
                  </a:lnTo>
                  <a:lnTo>
                    <a:pt x="2138" y="523"/>
                  </a:lnTo>
                  <a:lnTo>
                    <a:pt x="2155" y="549"/>
                  </a:lnTo>
                  <a:lnTo>
                    <a:pt x="2171" y="572"/>
                  </a:lnTo>
                  <a:lnTo>
                    <a:pt x="2182" y="594"/>
                  </a:lnTo>
                  <a:lnTo>
                    <a:pt x="2193" y="615"/>
                  </a:lnTo>
                  <a:lnTo>
                    <a:pt x="2203" y="642"/>
                  </a:lnTo>
                  <a:lnTo>
                    <a:pt x="2220" y="664"/>
                  </a:lnTo>
                  <a:lnTo>
                    <a:pt x="2225" y="685"/>
                  </a:lnTo>
                  <a:lnTo>
                    <a:pt x="2236" y="712"/>
                  </a:lnTo>
                  <a:lnTo>
                    <a:pt x="2247" y="739"/>
                  </a:lnTo>
                  <a:lnTo>
                    <a:pt x="2258" y="761"/>
                  </a:lnTo>
                  <a:lnTo>
                    <a:pt x="2263" y="788"/>
                  </a:lnTo>
                  <a:lnTo>
                    <a:pt x="2269" y="815"/>
                  </a:lnTo>
                  <a:lnTo>
                    <a:pt x="2280" y="842"/>
                  </a:lnTo>
                  <a:lnTo>
                    <a:pt x="2285" y="869"/>
                  </a:lnTo>
                  <a:lnTo>
                    <a:pt x="2290" y="896"/>
                  </a:lnTo>
                  <a:lnTo>
                    <a:pt x="2296" y="917"/>
                  </a:lnTo>
                  <a:lnTo>
                    <a:pt x="2301" y="949"/>
                  </a:lnTo>
                  <a:lnTo>
                    <a:pt x="2301" y="971"/>
                  </a:lnTo>
                  <a:lnTo>
                    <a:pt x="2307" y="1003"/>
                  </a:lnTo>
                  <a:lnTo>
                    <a:pt x="2307" y="1030"/>
                  </a:lnTo>
                  <a:lnTo>
                    <a:pt x="2307" y="1057"/>
                  </a:lnTo>
                  <a:lnTo>
                    <a:pt x="2312" y="1084"/>
                  </a:lnTo>
                  <a:lnTo>
                    <a:pt x="2312" y="1117"/>
                  </a:lnTo>
                  <a:lnTo>
                    <a:pt x="2312" y="1138"/>
                  </a:lnTo>
                  <a:lnTo>
                    <a:pt x="2307" y="1171"/>
                  </a:lnTo>
                  <a:lnTo>
                    <a:pt x="2307" y="1198"/>
                  </a:lnTo>
                  <a:lnTo>
                    <a:pt x="2307" y="1224"/>
                  </a:lnTo>
                  <a:lnTo>
                    <a:pt x="2301" y="1251"/>
                  </a:lnTo>
                  <a:lnTo>
                    <a:pt x="2301" y="1278"/>
                  </a:lnTo>
                  <a:lnTo>
                    <a:pt x="2296" y="1305"/>
                  </a:lnTo>
                  <a:lnTo>
                    <a:pt x="2290" y="1332"/>
                  </a:lnTo>
                  <a:lnTo>
                    <a:pt x="2285" y="1359"/>
                  </a:lnTo>
                  <a:lnTo>
                    <a:pt x="2280" y="1386"/>
                  </a:lnTo>
                  <a:lnTo>
                    <a:pt x="2269" y="1413"/>
                  </a:lnTo>
                  <a:lnTo>
                    <a:pt x="2263" y="1440"/>
                  </a:lnTo>
                  <a:lnTo>
                    <a:pt x="2258" y="1462"/>
                  </a:lnTo>
                  <a:lnTo>
                    <a:pt x="2247" y="1489"/>
                  </a:lnTo>
                  <a:lnTo>
                    <a:pt x="2236" y="1516"/>
                  </a:lnTo>
                  <a:lnTo>
                    <a:pt x="2225" y="1537"/>
                  </a:lnTo>
                  <a:lnTo>
                    <a:pt x="2220" y="1564"/>
                  </a:lnTo>
                  <a:lnTo>
                    <a:pt x="2203" y="1586"/>
                  </a:lnTo>
                  <a:lnTo>
                    <a:pt x="2193" y="1607"/>
                  </a:lnTo>
                  <a:lnTo>
                    <a:pt x="2182" y="1634"/>
                  </a:lnTo>
                  <a:lnTo>
                    <a:pt x="2171" y="1656"/>
                  </a:lnTo>
                  <a:lnTo>
                    <a:pt x="2155" y="1678"/>
                  </a:lnTo>
                  <a:lnTo>
                    <a:pt x="2138" y="1705"/>
                  </a:lnTo>
                  <a:lnTo>
                    <a:pt x="2127" y="1727"/>
                  </a:lnTo>
                  <a:lnTo>
                    <a:pt x="2111" y="1749"/>
                  </a:lnTo>
                  <a:lnTo>
                    <a:pt x="2095" y="1770"/>
                  </a:lnTo>
                  <a:lnTo>
                    <a:pt x="2078" y="1786"/>
                  </a:lnTo>
                  <a:lnTo>
                    <a:pt x="2068" y="1808"/>
                  </a:lnTo>
                  <a:lnTo>
                    <a:pt x="2046" y="1824"/>
                  </a:lnTo>
                  <a:lnTo>
                    <a:pt x="2029" y="1851"/>
                  </a:lnTo>
                  <a:lnTo>
                    <a:pt x="2013" y="1867"/>
                  </a:lnTo>
                  <a:lnTo>
                    <a:pt x="1997" y="1889"/>
                  </a:lnTo>
                  <a:lnTo>
                    <a:pt x="1975" y="1905"/>
                  </a:lnTo>
                  <a:lnTo>
                    <a:pt x="1953" y="1921"/>
                  </a:lnTo>
                  <a:lnTo>
                    <a:pt x="1937" y="1937"/>
                  </a:lnTo>
                  <a:lnTo>
                    <a:pt x="1915" y="1959"/>
                  </a:lnTo>
                  <a:lnTo>
                    <a:pt x="1899" y="1975"/>
                  </a:lnTo>
                  <a:lnTo>
                    <a:pt x="1877" y="1986"/>
                  </a:lnTo>
                  <a:lnTo>
                    <a:pt x="1855" y="2007"/>
                  </a:lnTo>
                  <a:lnTo>
                    <a:pt x="1834" y="2024"/>
                  </a:lnTo>
                  <a:lnTo>
                    <a:pt x="1812" y="2040"/>
                  </a:lnTo>
                  <a:lnTo>
                    <a:pt x="1785" y="2050"/>
                  </a:lnTo>
                  <a:lnTo>
                    <a:pt x="1769" y="2061"/>
                  </a:lnTo>
                  <a:lnTo>
                    <a:pt x="1741" y="2077"/>
                  </a:lnTo>
                  <a:lnTo>
                    <a:pt x="1719" y="2088"/>
                  </a:lnTo>
                  <a:lnTo>
                    <a:pt x="1697" y="2099"/>
                  </a:lnTo>
                  <a:lnTo>
                    <a:pt x="1670" y="2115"/>
                  </a:lnTo>
                  <a:lnTo>
                    <a:pt x="1648" y="2126"/>
                  </a:lnTo>
                  <a:lnTo>
                    <a:pt x="1621" y="2137"/>
                  </a:lnTo>
                  <a:lnTo>
                    <a:pt x="1594" y="2148"/>
                  </a:lnTo>
                  <a:lnTo>
                    <a:pt x="1572" y="2153"/>
                  </a:lnTo>
                  <a:lnTo>
                    <a:pt x="1545" y="2164"/>
                  </a:lnTo>
                  <a:lnTo>
                    <a:pt x="1517" y="2174"/>
                  </a:lnTo>
                  <a:lnTo>
                    <a:pt x="1490" y="2180"/>
                  </a:lnTo>
                  <a:lnTo>
                    <a:pt x="1463" y="2191"/>
                  </a:lnTo>
                  <a:lnTo>
                    <a:pt x="1436" y="2196"/>
                  </a:lnTo>
                  <a:lnTo>
                    <a:pt x="1409" y="2201"/>
                  </a:lnTo>
                  <a:lnTo>
                    <a:pt x="1381" y="2207"/>
                  </a:lnTo>
                  <a:lnTo>
                    <a:pt x="1354" y="2212"/>
                  </a:lnTo>
                  <a:lnTo>
                    <a:pt x="1327" y="2218"/>
                  </a:lnTo>
                  <a:lnTo>
                    <a:pt x="1300" y="2223"/>
                  </a:lnTo>
                  <a:lnTo>
                    <a:pt x="1267" y="2223"/>
                  </a:lnTo>
                  <a:lnTo>
                    <a:pt x="1240" y="2223"/>
                  </a:lnTo>
                  <a:lnTo>
                    <a:pt x="1213" y="2228"/>
                  </a:lnTo>
                  <a:lnTo>
                    <a:pt x="1186" y="2228"/>
                  </a:lnTo>
                  <a:lnTo>
                    <a:pt x="1126" y="2228"/>
                  </a:lnTo>
                  <a:lnTo>
                    <a:pt x="1099" y="2228"/>
                  </a:lnTo>
                  <a:lnTo>
                    <a:pt x="1072" y="2223"/>
                  </a:lnTo>
                  <a:lnTo>
                    <a:pt x="1039" y="2223"/>
                  </a:lnTo>
                  <a:lnTo>
                    <a:pt x="1012" y="2223"/>
                  </a:lnTo>
                  <a:lnTo>
                    <a:pt x="985" y="2218"/>
                  </a:lnTo>
                  <a:lnTo>
                    <a:pt x="957" y="2212"/>
                  </a:lnTo>
                  <a:lnTo>
                    <a:pt x="925" y="2207"/>
                  </a:lnTo>
                  <a:lnTo>
                    <a:pt x="898" y="2201"/>
                  </a:lnTo>
                  <a:lnTo>
                    <a:pt x="870" y="2196"/>
                  </a:lnTo>
                  <a:lnTo>
                    <a:pt x="849" y="2191"/>
                  </a:lnTo>
                  <a:lnTo>
                    <a:pt x="821" y="2180"/>
                  </a:lnTo>
                  <a:lnTo>
                    <a:pt x="794" y="2174"/>
                  </a:lnTo>
                  <a:lnTo>
                    <a:pt x="767" y="2164"/>
                  </a:lnTo>
                  <a:lnTo>
                    <a:pt x="740" y="2153"/>
                  </a:lnTo>
                  <a:lnTo>
                    <a:pt x="713" y="2148"/>
                  </a:lnTo>
                  <a:lnTo>
                    <a:pt x="691" y="2137"/>
                  </a:lnTo>
                  <a:lnTo>
                    <a:pt x="664" y="2126"/>
                  </a:lnTo>
                  <a:lnTo>
                    <a:pt x="642" y="2115"/>
                  </a:lnTo>
                  <a:lnTo>
                    <a:pt x="620" y="2099"/>
                  </a:lnTo>
                  <a:lnTo>
                    <a:pt x="593" y="2088"/>
                  </a:lnTo>
                  <a:lnTo>
                    <a:pt x="565" y="2077"/>
                  </a:lnTo>
                  <a:lnTo>
                    <a:pt x="543" y="2061"/>
                  </a:lnTo>
                  <a:lnTo>
                    <a:pt x="521" y="2050"/>
                  </a:lnTo>
                  <a:lnTo>
                    <a:pt x="500" y="2040"/>
                  </a:lnTo>
                  <a:lnTo>
                    <a:pt x="478" y="2024"/>
                  </a:lnTo>
                  <a:lnTo>
                    <a:pt x="456" y="2007"/>
                  </a:lnTo>
                  <a:lnTo>
                    <a:pt x="434" y="1986"/>
                  </a:lnTo>
                  <a:lnTo>
                    <a:pt x="413" y="1975"/>
                  </a:lnTo>
                  <a:lnTo>
                    <a:pt x="391" y="1959"/>
                  </a:lnTo>
                  <a:lnTo>
                    <a:pt x="375" y="1937"/>
                  </a:lnTo>
                  <a:lnTo>
                    <a:pt x="353" y="1921"/>
                  </a:lnTo>
                  <a:lnTo>
                    <a:pt x="331" y="1905"/>
                  </a:lnTo>
                  <a:lnTo>
                    <a:pt x="315" y="1889"/>
                  </a:lnTo>
                  <a:lnTo>
                    <a:pt x="299" y="1867"/>
                  </a:lnTo>
                  <a:lnTo>
                    <a:pt x="282" y="1851"/>
                  </a:lnTo>
                  <a:lnTo>
                    <a:pt x="260" y="1824"/>
                  </a:lnTo>
                  <a:lnTo>
                    <a:pt x="244" y="1808"/>
                  </a:lnTo>
                  <a:lnTo>
                    <a:pt x="228" y="1786"/>
                  </a:lnTo>
                  <a:lnTo>
                    <a:pt x="212" y="1770"/>
                  </a:lnTo>
                  <a:lnTo>
                    <a:pt x="201" y="1749"/>
                  </a:lnTo>
                  <a:lnTo>
                    <a:pt x="184" y="1727"/>
                  </a:lnTo>
                  <a:lnTo>
                    <a:pt x="168" y="1705"/>
                  </a:lnTo>
                  <a:lnTo>
                    <a:pt x="157" y="1678"/>
                  </a:lnTo>
                  <a:lnTo>
                    <a:pt x="141" y="1656"/>
                  </a:lnTo>
                  <a:lnTo>
                    <a:pt x="130" y="1634"/>
                  </a:lnTo>
                  <a:lnTo>
                    <a:pt x="119" y="1607"/>
                  </a:lnTo>
                  <a:lnTo>
                    <a:pt x="108" y="1586"/>
                  </a:lnTo>
                  <a:lnTo>
                    <a:pt x="97" y="1564"/>
                  </a:lnTo>
                  <a:lnTo>
                    <a:pt x="86" y="1537"/>
                  </a:lnTo>
                  <a:lnTo>
                    <a:pt x="70" y="1516"/>
                  </a:lnTo>
                  <a:lnTo>
                    <a:pt x="65" y="1489"/>
                  </a:lnTo>
                  <a:lnTo>
                    <a:pt x="54" y="1462"/>
                  </a:lnTo>
                  <a:lnTo>
                    <a:pt x="48" y="1440"/>
                  </a:lnTo>
                  <a:lnTo>
                    <a:pt x="38" y="1413"/>
                  </a:lnTo>
                  <a:lnTo>
                    <a:pt x="32" y="1386"/>
                  </a:lnTo>
                  <a:lnTo>
                    <a:pt x="27" y="1359"/>
                  </a:lnTo>
                  <a:lnTo>
                    <a:pt x="21" y="1332"/>
                  </a:lnTo>
                  <a:lnTo>
                    <a:pt x="16" y="1305"/>
                  </a:lnTo>
                  <a:lnTo>
                    <a:pt x="10" y="1278"/>
                  </a:lnTo>
                  <a:lnTo>
                    <a:pt x="5" y="1251"/>
                  </a:lnTo>
                  <a:lnTo>
                    <a:pt x="5" y="1224"/>
                  </a:lnTo>
                  <a:lnTo>
                    <a:pt x="5" y="1198"/>
                  </a:lnTo>
                  <a:lnTo>
                    <a:pt x="0" y="1171"/>
                  </a:lnTo>
                  <a:lnTo>
                    <a:pt x="0" y="1138"/>
                  </a:lnTo>
                  <a:lnTo>
                    <a:pt x="0" y="1117"/>
                  </a:lnTo>
                  <a:close/>
                </a:path>
              </a:pathLst>
            </a:custGeom>
            <a:solidFill>
              <a:srgbClr val="5b72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27320" y="2739960"/>
              <a:ext cx="827280" cy="798840"/>
            </a:xfrm>
            <a:custGeom>
              <a:avLst/>
              <a:gdLst/>
              <a:ahLst/>
              <a:rect l="0" t="0" r="r" b="b"/>
              <a:pathLst>
                <a:path w="2298" h="2219">
                  <a:moveTo>
                    <a:pt x="0" y="1110"/>
                  </a:moveTo>
                  <a:lnTo>
                    <a:pt x="0" y="1076"/>
                  </a:lnTo>
                  <a:lnTo>
                    <a:pt x="5" y="1049"/>
                  </a:lnTo>
                  <a:lnTo>
                    <a:pt x="5" y="1022"/>
                  </a:lnTo>
                  <a:lnTo>
                    <a:pt x="5" y="990"/>
                  </a:lnTo>
                  <a:lnTo>
                    <a:pt x="10" y="962"/>
                  </a:lnTo>
                  <a:lnTo>
                    <a:pt x="16" y="935"/>
                  </a:lnTo>
                  <a:lnTo>
                    <a:pt x="16" y="908"/>
                  </a:lnTo>
                  <a:lnTo>
                    <a:pt x="21" y="887"/>
                  </a:lnTo>
                  <a:lnTo>
                    <a:pt x="27" y="860"/>
                  </a:lnTo>
                  <a:lnTo>
                    <a:pt x="38" y="827"/>
                  </a:lnTo>
                  <a:lnTo>
                    <a:pt x="43" y="800"/>
                  </a:lnTo>
                  <a:lnTo>
                    <a:pt x="48" y="779"/>
                  </a:lnTo>
                  <a:lnTo>
                    <a:pt x="59" y="751"/>
                  </a:lnTo>
                  <a:lnTo>
                    <a:pt x="65" y="724"/>
                  </a:lnTo>
                  <a:lnTo>
                    <a:pt x="81" y="703"/>
                  </a:lnTo>
                  <a:lnTo>
                    <a:pt x="87" y="676"/>
                  </a:lnTo>
                  <a:lnTo>
                    <a:pt x="97" y="654"/>
                  </a:lnTo>
                  <a:lnTo>
                    <a:pt x="114" y="627"/>
                  </a:lnTo>
                  <a:lnTo>
                    <a:pt x="125" y="605"/>
                  </a:lnTo>
                  <a:lnTo>
                    <a:pt x="136" y="578"/>
                  </a:lnTo>
                  <a:lnTo>
                    <a:pt x="146" y="557"/>
                  </a:lnTo>
                  <a:lnTo>
                    <a:pt x="163" y="535"/>
                  </a:lnTo>
                  <a:lnTo>
                    <a:pt x="174" y="508"/>
                  </a:lnTo>
                  <a:lnTo>
                    <a:pt x="190" y="486"/>
                  </a:lnTo>
                  <a:lnTo>
                    <a:pt x="206" y="470"/>
                  </a:lnTo>
                  <a:lnTo>
                    <a:pt x="217" y="449"/>
                  </a:lnTo>
                  <a:lnTo>
                    <a:pt x="239" y="427"/>
                  </a:lnTo>
                  <a:lnTo>
                    <a:pt x="255" y="405"/>
                  </a:lnTo>
                  <a:lnTo>
                    <a:pt x="272" y="389"/>
                  </a:lnTo>
                  <a:lnTo>
                    <a:pt x="288" y="367"/>
                  </a:lnTo>
                  <a:lnTo>
                    <a:pt x="310" y="346"/>
                  </a:lnTo>
                  <a:lnTo>
                    <a:pt x="326" y="330"/>
                  </a:lnTo>
                  <a:lnTo>
                    <a:pt x="348" y="308"/>
                  </a:lnTo>
                  <a:lnTo>
                    <a:pt x="364" y="292"/>
                  </a:lnTo>
                  <a:lnTo>
                    <a:pt x="386" y="275"/>
                  </a:lnTo>
                  <a:lnTo>
                    <a:pt x="402" y="259"/>
                  </a:lnTo>
                  <a:lnTo>
                    <a:pt x="430" y="243"/>
                  </a:lnTo>
                  <a:lnTo>
                    <a:pt x="446" y="227"/>
                  </a:lnTo>
                  <a:lnTo>
                    <a:pt x="468" y="210"/>
                  </a:lnTo>
                  <a:lnTo>
                    <a:pt x="489" y="194"/>
                  </a:lnTo>
                  <a:lnTo>
                    <a:pt x="511" y="178"/>
                  </a:lnTo>
                  <a:lnTo>
                    <a:pt x="538" y="167"/>
                  </a:lnTo>
                  <a:lnTo>
                    <a:pt x="560" y="151"/>
                  </a:lnTo>
                  <a:lnTo>
                    <a:pt x="582" y="140"/>
                  </a:lnTo>
                  <a:lnTo>
                    <a:pt x="609" y="124"/>
                  </a:lnTo>
                  <a:lnTo>
                    <a:pt x="631" y="113"/>
                  </a:lnTo>
                  <a:lnTo>
                    <a:pt x="658" y="102"/>
                  </a:lnTo>
                  <a:lnTo>
                    <a:pt x="680" y="91"/>
                  </a:lnTo>
                  <a:lnTo>
                    <a:pt x="707" y="81"/>
                  </a:lnTo>
                  <a:lnTo>
                    <a:pt x="734" y="75"/>
                  </a:lnTo>
                  <a:lnTo>
                    <a:pt x="756" y="64"/>
                  </a:lnTo>
                  <a:lnTo>
                    <a:pt x="783" y="54"/>
                  </a:lnTo>
                  <a:lnTo>
                    <a:pt x="811" y="48"/>
                  </a:lnTo>
                  <a:lnTo>
                    <a:pt x="838" y="43"/>
                  </a:lnTo>
                  <a:lnTo>
                    <a:pt x="865" y="32"/>
                  </a:lnTo>
                  <a:lnTo>
                    <a:pt x="892" y="27"/>
                  </a:lnTo>
                  <a:lnTo>
                    <a:pt x="920" y="21"/>
                  </a:lnTo>
                  <a:lnTo>
                    <a:pt x="947" y="16"/>
                  </a:lnTo>
                  <a:lnTo>
                    <a:pt x="979" y="10"/>
                  </a:lnTo>
                  <a:lnTo>
                    <a:pt x="1007" y="5"/>
                  </a:lnTo>
                  <a:lnTo>
                    <a:pt x="1034" y="5"/>
                  </a:lnTo>
                  <a:lnTo>
                    <a:pt x="1061" y="0"/>
                  </a:lnTo>
                  <a:lnTo>
                    <a:pt x="1088" y="0"/>
                  </a:lnTo>
                  <a:lnTo>
                    <a:pt x="1121" y="0"/>
                  </a:lnTo>
                  <a:lnTo>
                    <a:pt x="1182" y="0"/>
                  </a:lnTo>
                  <a:lnTo>
                    <a:pt x="1209" y="0"/>
                  </a:lnTo>
                  <a:lnTo>
                    <a:pt x="1236" y="0"/>
                  </a:lnTo>
                  <a:lnTo>
                    <a:pt x="1269" y="5"/>
                  </a:lnTo>
                  <a:lnTo>
                    <a:pt x="1296" y="5"/>
                  </a:lnTo>
                  <a:lnTo>
                    <a:pt x="1323" y="10"/>
                  </a:lnTo>
                  <a:lnTo>
                    <a:pt x="1356" y="16"/>
                  </a:lnTo>
                  <a:lnTo>
                    <a:pt x="1383" y="21"/>
                  </a:lnTo>
                  <a:lnTo>
                    <a:pt x="1411" y="27"/>
                  </a:lnTo>
                  <a:lnTo>
                    <a:pt x="1432" y="32"/>
                  </a:lnTo>
                  <a:lnTo>
                    <a:pt x="1460" y="43"/>
                  </a:lnTo>
                  <a:lnTo>
                    <a:pt x="1492" y="48"/>
                  </a:lnTo>
                  <a:lnTo>
                    <a:pt x="1519" y="54"/>
                  </a:lnTo>
                  <a:lnTo>
                    <a:pt x="1541" y="64"/>
                  </a:lnTo>
                  <a:lnTo>
                    <a:pt x="1568" y="75"/>
                  </a:lnTo>
                  <a:lnTo>
                    <a:pt x="1596" y="81"/>
                  </a:lnTo>
                  <a:lnTo>
                    <a:pt x="1617" y="91"/>
                  </a:lnTo>
                  <a:lnTo>
                    <a:pt x="1650" y="102"/>
                  </a:lnTo>
                  <a:lnTo>
                    <a:pt x="1672" y="113"/>
                  </a:lnTo>
                  <a:lnTo>
                    <a:pt x="1694" y="124"/>
                  </a:lnTo>
                  <a:lnTo>
                    <a:pt x="1721" y="140"/>
                  </a:lnTo>
                  <a:lnTo>
                    <a:pt x="1743" y="151"/>
                  </a:lnTo>
                  <a:lnTo>
                    <a:pt x="1764" y="167"/>
                  </a:lnTo>
                  <a:lnTo>
                    <a:pt x="1786" y="178"/>
                  </a:lnTo>
                  <a:lnTo>
                    <a:pt x="1808" y="194"/>
                  </a:lnTo>
                  <a:lnTo>
                    <a:pt x="1835" y="210"/>
                  </a:lnTo>
                  <a:lnTo>
                    <a:pt x="1857" y="227"/>
                  </a:lnTo>
                  <a:lnTo>
                    <a:pt x="1879" y="243"/>
                  </a:lnTo>
                  <a:lnTo>
                    <a:pt x="1895" y="259"/>
                  </a:lnTo>
                  <a:lnTo>
                    <a:pt x="1917" y="275"/>
                  </a:lnTo>
                  <a:lnTo>
                    <a:pt x="1939" y="292"/>
                  </a:lnTo>
                  <a:lnTo>
                    <a:pt x="1955" y="308"/>
                  </a:lnTo>
                  <a:lnTo>
                    <a:pt x="1977" y="330"/>
                  </a:lnTo>
                  <a:lnTo>
                    <a:pt x="1999" y="346"/>
                  </a:lnTo>
                  <a:lnTo>
                    <a:pt x="2015" y="367"/>
                  </a:lnTo>
                  <a:lnTo>
                    <a:pt x="2031" y="389"/>
                  </a:lnTo>
                  <a:lnTo>
                    <a:pt x="2048" y="405"/>
                  </a:lnTo>
                  <a:lnTo>
                    <a:pt x="2064" y="427"/>
                  </a:lnTo>
                  <a:lnTo>
                    <a:pt x="2080" y="449"/>
                  </a:lnTo>
                  <a:lnTo>
                    <a:pt x="2097" y="470"/>
                  </a:lnTo>
                  <a:lnTo>
                    <a:pt x="2113" y="486"/>
                  </a:lnTo>
                  <a:lnTo>
                    <a:pt x="2124" y="508"/>
                  </a:lnTo>
                  <a:lnTo>
                    <a:pt x="2140" y="535"/>
                  </a:lnTo>
                  <a:lnTo>
                    <a:pt x="2151" y="557"/>
                  </a:lnTo>
                  <a:lnTo>
                    <a:pt x="2167" y="578"/>
                  </a:lnTo>
                  <a:lnTo>
                    <a:pt x="2184" y="605"/>
                  </a:lnTo>
                  <a:lnTo>
                    <a:pt x="2195" y="627"/>
                  </a:lnTo>
                  <a:lnTo>
                    <a:pt x="2200" y="654"/>
                  </a:lnTo>
                  <a:lnTo>
                    <a:pt x="2216" y="676"/>
                  </a:lnTo>
                  <a:lnTo>
                    <a:pt x="2222" y="703"/>
                  </a:lnTo>
                  <a:lnTo>
                    <a:pt x="2233" y="724"/>
                  </a:lnTo>
                  <a:lnTo>
                    <a:pt x="2244" y="751"/>
                  </a:lnTo>
                  <a:lnTo>
                    <a:pt x="2249" y="779"/>
                  </a:lnTo>
                  <a:lnTo>
                    <a:pt x="2260" y="800"/>
                  </a:lnTo>
                  <a:lnTo>
                    <a:pt x="2265" y="827"/>
                  </a:lnTo>
                  <a:lnTo>
                    <a:pt x="2271" y="860"/>
                  </a:lnTo>
                  <a:lnTo>
                    <a:pt x="2276" y="887"/>
                  </a:lnTo>
                  <a:lnTo>
                    <a:pt x="2282" y="908"/>
                  </a:lnTo>
                  <a:lnTo>
                    <a:pt x="2287" y="935"/>
                  </a:lnTo>
                  <a:lnTo>
                    <a:pt x="2293" y="962"/>
                  </a:lnTo>
                  <a:lnTo>
                    <a:pt x="2293" y="990"/>
                  </a:lnTo>
                  <a:lnTo>
                    <a:pt x="2298" y="1022"/>
                  </a:lnTo>
                  <a:lnTo>
                    <a:pt x="2298" y="1049"/>
                  </a:lnTo>
                  <a:lnTo>
                    <a:pt x="2298" y="1076"/>
                  </a:lnTo>
                  <a:lnTo>
                    <a:pt x="2298" y="1110"/>
                  </a:lnTo>
                  <a:lnTo>
                    <a:pt x="2298" y="1131"/>
                  </a:lnTo>
                  <a:lnTo>
                    <a:pt x="2298" y="1164"/>
                  </a:lnTo>
                  <a:lnTo>
                    <a:pt x="2298" y="1191"/>
                  </a:lnTo>
                  <a:lnTo>
                    <a:pt x="2293" y="1218"/>
                  </a:lnTo>
                  <a:lnTo>
                    <a:pt x="2293" y="1245"/>
                  </a:lnTo>
                  <a:lnTo>
                    <a:pt x="2287" y="1272"/>
                  </a:lnTo>
                  <a:lnTo>
                    <a:pt x="2282" y="1299"/>
                  </a:lnTo>
                  <a:lnTo>
                    <a:pt x="2276" y="1326"/>
                  </a:lnTo>
                  <a:lnTo>
                    <a:pt x="2271" y="1358"/>
                  </a:lnTo>
                  <a:lnTo>
                    <a:pt x="2265" y="1385"/>
                  </a:lnTo>
                  <a:lnTo>
                    <a:pt x="2260" y="1407"/>
                  </a:lnTo>
                  <a:lnTo>
                    <a:pt x="2249" y="1434"/>
                  </a:lnTo>
                  <a:lnTo>
                    <a:pt x="2244" y="1461"/>
                  </a:lnTo>
                  <a:lnTo>
                    <a:pt x="2233" y="1483"/>
                  </a:lnTo>
                  <a:lnTo>
                    <a:pt x="2222" y="1510"/>
                  </a:lnTo>
                  <a:lnTo>
                    <a:pt x="2216" y="1537"/>
                  </a:lnTo>
                  <a:lnTo>
                    <a:pt x="2200" y="1559"/>
                  </a:lnTo>
                  <a:lnTo>
                    <a:pt x="2195" y="1586"/>
                  </a:lnTo>
                  <a:lnTo>
                    <a:pt x="2184" y="1607"/>
                  </a:lnTo>
                  <a:lnTo>
                    <a:pt x="2167" y="1629"/>
                  </a:lnTo>
                  <a:lnTo>
                    <a:pt x="2151" y="1656"/>
                  </a:lnTo>
                  <a:lnTo>
                    <a:pt x="2140" y="1678"/>
                  </a:lnTo>
                  <a:lnTo>
                    <a:pt x="2124" y="1699"/>
                  </a:lnTo>
                  <a:lnTo>
                    <a:pt x="2113" y="1721"/>
                  </a:lnTo>
                  <a:lnTo>
                    <a:pt x="2097" y="1743"/>
                  </a:lnTo>
                  <a:lnTo>
                    <a:pt x="2080" y="1764"/>
                  </a:lnTo>
                  <a:lnTo>
                    <a:pt x="2064" y="1786"/>
                  </a:lnTo>
                  <a:lnTo>
                    <a:pt x="2048" y="1807"/>
                  </a:lnTo>
                  <a:lnTo>
                    <a:pt x="2031" y="1829"/>
                  </a:lnTo>
                  <a:lnTo>
                    <a:pt x="2015" y="1845"/>
                  </a:lnTo>
                  <a:lnTo>
                    <a:pt x="1999" y="1867"/>
                  </a:lnTo>
                  <a:lnTo>
                    <a:pt x="1977" y="1883"/>
                  </a:lnTo>
                  <a:lnTo>
                    <a:pt x="1955" y="1905"/>
                  </a:lnTo>
                  <a:lnTo>
                    <a:pt x="1939" y="1921"/>
                  </a:lnTo>
                  <a:lnTo>
                    <a:pt x="1917" y="1937"/>
                  </a:lnTo>
                  <a:lnTo>
                    <a:pt x="1895" y="1954"/>
                  </a:lnTo>
                  <a:lnTo>
                    <a:pt x="1879" y="1970"/>
                  </a:lnTo>
                  <a:lnTo>
                    <a:pt x="1857" y="1986"/>
                  </a:lnTo>
                  <a:lnTo>
                    <a:pt x="1835" y="2002"/>
                  </a:lnTo>
                  <a:lnTo>
                    <a:pt x="1808" y="2018"/>
                  </a:lnTo>
                  <a:lnTo>
                    <a:pt x="1786" y="2035"/>
                  </a:lnTo>
                  <a:lnTo>
                    <a:pt x="1764" y="2045"/>
                  </a:lnTo>
                  <a:lnTo>
                    <a:pt x="1743" y="2062"/>
                  </a:lnTo>
                  <a:lnTo>
                    <a:pt x="1721" y="2073"/>
                  </a:lnTo>
                  <a:lnTo>
                    <a:pt x="1694" y="2089"/>
                  </a:lnTo>
                  <a:lnTo>
                    <a:pt x="1672" y="2100"/>
                  </a:lnTo>
                  <a:lnTo>
                    <a:pt x="1650" y="2110"/>
                  </a:lnTo>
                  <a:lnTo>
                    <a:pt x="1617" y="2121"/>
                  </a:lnTo>
                  <a:lnTo>
                    <a:pt x="1596" y="2132"/>
                  </a:lnTo>
                  <a:lnTo>
                    <a:pt x="1568" y="2143"/>
                  </a:lnTo>
                  <a:lnTo>
                    <a:pt x="1541" y="2148"/>
                  </a:lnTo>
                  <a:lnTo>
                    <a:pt x="1519" y="2159"/>
                  </a:lnTo>
                  <a:lnTo>
                    <a:pt x="1492" y="2170"/>
                  </a:lnTo>
                  <a:lnTo>
                    <a:pt x="1460" y="2175"/>
                  </a:lnTo>
                  <a:lnTo>
                    <a:pt x="1432" y="2181"/>
                  </a:lnTo>
                  <a:lnTo>
                    <a:pt x="1411" y="2192"/>
                  </a:lnTo>
                  <a:lnTo>
                    <a:pt x="1383" y="2197"/>
                  </a:lnTo>
                  <a:lnTo>
                    <a:pt x="1356" y="2197"/>
                  </a:lnTo>
                  <a:lnTo>
                    <a:pt x="1323" y="2202"/>
                  </a:lnTo>
                  <a:lnTo>
                    <a:pt x="1296" y="2208"/>
                  </a:lnTo>
                  <a:lnTo>
                    <a:pt x="1269" y="2208"/>
                  </a:lnTo>
                  <a:lnTo>
                    <a:pt x="1236" y="2213"/>
                  </a:lnTo>
                  <a:lnTo>
                    <a:pt x="1209" y="2213"/>
                  </a:lnTo>
                  <a:lnTo>
                    <a:pt x="1182" y="2219"/>
                  </a:lnTo>
                  <a:lnTo>
                    <a:pt x="1121" y="2219"/>
                  </a:lnTo>
                  <a:lnTo>
                    <a:pt x="1088" y="2213"/>
                  </a:lnTo>
                  <a:lnTo>
                    <a:pt x="1061" y="2213"/>
                  </a:lnTo>
                  <a:lnTo>
                    <a:pt x="1034" y="2208"/>
                  </a:lnTo>
                  <a:lnTo>
                    <a:pt x="1007" y="2208"/>
                  </a:lnTo>
                  <a:lnTo>
                    <a:pt x="979" y="2202"/>
                  </a:lnTo>
                  <a:lnTo>
                    <a:pt x="947" y="2197"/>
                  </a:lnTo>
                  <a:lnTo>
                    <a:pt x="920" y="2197"/>
                  </a:lnTo>
                  <a:lnTo>
                    <a:pt x="892" y="2192"/>
                  </a:lnTo>
                  <a:lnTo>
                    <a:pt x="865" y="2181"/>
                  </a:lnTo>
                  <a:lnTo>
                    <a:pt x="838" y="2175"/>
                  </a:lnTo>
                  <a:lnTo>
                    <a:pt x="811" y="2170"/>
                  </a:lnTo>
                  <a:lnTo>
                    <a:pt x="783" y="2159"/>
                  </a:lnTo>
                  <a:lnTo>
                    <a:pt x="756" y="2148"/>
                  </a:lnTo>
                  <a:lnTo>
                    <a:pt x="734" y="2143"/>
                  </a:lnTo>
                  <a:lnTo>
                    <a:pt x="707" y="2132"/>
                  </a:lnTo>
                  <a:lnTo>
                    <a:pt x="680" y="2121"/>
                  </a:lnTo>
                  <a:lnTo>
                    <a:pt x="658" y="2110"/>
                  </a:lnTo>
                  <a:lnTo>
                    <a:pt x="631" y="2100"/>
                  </a:lnTo>
                  <a:lnTo>
                    <a:pt x="609" y="2089"/>
                  </a:lnTo>
                  <a:lnTo>
                    <a:pt x="582" y="2073"/>
                  </a:lnTo>
                  <a:lnTo>
                    <a:pt x="560" y="2062"/>
                  </a:lnTo>
                  <a:lnTo>
                    <a:pt x="538" y="2045"/>
                  </a:lnTo>
                  <a:lnTo>
                    <a:pt x="511" y="2035"/>
                  </a:lnTo>
                  <a:lnTo>
                    <a:pt x="489" y="2018"/>
                  </a:lnTo>
                  <a:lnTo>
                    <a:pt x="468" y="2002"/>
                  </a:lnTo>
                  <a:lnTo>
                    <a:pt x="446" y="1986"/>
                  </a:lnTo>
                  <a:lnTo>
                    <a:pt x="430" y="1970"/>
                  </a:lnTo>
                  <a:lnTo>
                    <a:pt x="402" y="1954"/>
                  </a:lnTo>
                  <a:lnTo>
                    <a:pt x="386" y="1937"/>
                  </a:lnTo>
                  <a:lnTo>
                    <a:pt x="364" y="1921"/>
                  </a:lnTo>
                  <a:lnTo>
                    <a:pt x="348" y="1905"/>
                  </a:lnTo>
                  <a:lnTo>
                    <a:pt x="326" y="1883"/>
                  </a:lnTo>
                  <a:lnTo>
                    <a:pt x="310" y="1867"/>
                  </a:lnTo>
                  <a:lnTo>
                    <a:pt x="288" y="1845"/>
                  </a:lnTo>
                  <a:lnTo>
                    <a:pt x="272" y="1829"/>
                  </a:lnTo>
                  <a:lnTo>
                    <a:pt x="255" y="1807"/>
                  </a:lnTo>
                  <a:lnTo>
                    <a:pt x="239" y="1786"/>
                  </a:lnTo>
                  <a:lnTo>
                    <a:pt x="217" y="1764"/>
                  </a:lnTo>
                  <a:lnTo>
                    <a:pt x="206" y="1743"/>
                  </a:lnTo>
                  <a:lnTo>
                    <a:pt x="190" y="1721"/>
                  </a:lnTo>
                  <a:lnTo>
                    <a:pt x="174" y="1699"/>
                  </a:lnTo>
                  <a:lnTo>
                    <a:pt x="163" y="1678"/>
                  </a:lnTo>
                  <a:lnTo>
                    <a:pt x="146" y="1656"/>
                  </a:lnTo>
                  <a:lnTo>
                    <a:pt x="136" y="1629"/>
                  </a:lnTo>
                  <a:lnTo>
                    <a:pt x="125" y="1607"/>
                  </a:lnTo>
                  <a:lnTo>
                    <a:pt x="114" y="1586"/>
                  </a:lnTo>
                  <a:lnTo>
                    <a:pt x="97" y="1559"/>
                  </a:lnTo>
                  <a:lnTo>
                    <a:pt x="87" y="1537"/>
                  </a:lnTo>
                  <a:lnTo>
                    <a:pt x="81" y="1510"/>
                  </a:lnTo>
                  <a:lnTo>
                    <a:pt x="65" y="1483"/>
                  </a:lnTo>
                  <a:lnTo>
                    <a:pt x="59" y="1461"/>
                  </a:lnTo>
                  <a:lnTo>
                    <a:pt x="48" y="1434"/>
                  </a:lnTo>
                  <a:lnTo>
                    <a:pt x="43" y="1407"/>
                  </a:lnTo>
                  <a:lnTo>
                    <a:pt x="38" y="1385"/>
                  </a:lnTo>
                  <a:lnTo>
                    <a:pt x="27" y="1358"/>
                  </a:lnTo>
                  <a:lnTo>
                    <a:pt x="21" y="1326"/>
                  </a:lnTo>
                  <a:lnTo>
                    <a:pt x="16" y="1299"/>
                  </a:lnTo>
                  <a:lnTo>
                    <a:pt x="16" y="1272"/>
                  </a:lnTo>
                  <a:lnTo>
                    <a:pt x="10" y="1245"/>
                  </a:lnTo>
                  <a:lnTo>
                    <a:pt x="5" y="1218"/>
                  </a:lnTo>
                  <a:lnTo>
                    <a:pt x="5" y="1191"/>
                  </a:lnTo>
                  <a:lnTo>
                    <a:pt x="5" y="1164"/>
                  </a:lnTo>
                  <a:lnTo>
                    <a:pt x="0" y="1131"/>
                  </a:lnTo>
                  <a:lnTo>
                    <a:pt x="0" y="1110"/>
                  </a:lnTo>
                  <a:close/>
                </a:path>
              </a:pathLst>
            </a:custGeom>
            <a:solidFill>
              <a:srgbClr val="637a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33440" y="2743200"/>
              <a:ext cx="819360" cy="790920"/>
            </a:xfrm>
            <a:custGeom>
              <a:avLst/>
              <a:gdLst/>
              <a:ahLst/>
              <a:rect l="0" t="0" r="r" b="b"/>
              <a:pathLst>
                <a:path w="2276" h="2197">
                  <a:moveTo>
                    <a:pt x="0" y="1101"/>
                  </a:moveTo>
                  <a:lnTo>
                    <a:pt x="0" y="1068"/>
                  </a:lnTo>
                  <a:lnTo>
                    <a:pt x="0" y="1041"/>
                  </a:lnTo>
                  <a:lnTo>
                    <a:pt x="5" y="1014"/>
                  </a:lnTo>
                  <a:lnTo>
                    <a:pt x="5" y="987"/>
                  </a:lnTo>
                  <a:lnTo>
                    <a:pt x="5" y="955"/>
                  </a:lnTo>
                  <a:lnTo>
                    <a:pt x="10" y="933"/>
                  </a:lnTo>
                  <a:lnTo>
                    <a:pt x="16" y="901"/>
                  </a:lnTo>
                  <a:lnTo>
                    <a:pt x="21" y="879"/>
                  </a:lnTo>
                  <a:lnTo>
                    <a:pt x="27" y="852"/>
                  </a:lnTo>
                  <a:lnTo>
                    <a:pt x="32" y="825"/>
                  </a:lnTo>
                  <a:lnTo>
                    <a:pt x="38" y="798"/>
                  </a:lnTo>
                  <a:lnTo>
                    <a:pt x="48" y="771"/>
                  </a:lnTo>
                  <a:lnTo>
                    <a:pt x="54" y="749"/>
                  </a:lnTo>
                  <a:lnTo>
                    <a:pt x="65" y="723"/>
                  </a:lnTo>
                  <a:lnTo>
                    <a:pt x="76" y="696"/>
                  </a:lnTo>
                  <a:lnTo>
                    <a:pt x="86" y="669"/>
                  </a:lnTo>
                  <a:lnTo>
                    <a:pt x="97" y="647"/>
                  </a:lnTo>
                  <a:lnTo>
                    <a:pt x="108" y="625"/>
                  </a:lnTo>
                  <a:lnTo>
                    <a:pt x="119" y="598"/>
                  </a:lnTo>
                  <a:lnTo>
                    <a:pt x="130" y="577"/>
                  </a:lnTo>
                  <a:lnTo>
                    <a:pt x="146" y="555"/>
                  </a:lnTo>
                  <a:lnTo>
                    <a:pt x="157" y="534"/>
                  </a:lnTo>
                  <a:lnTo>
                    <a:pt x="168" y="507"/>
                  </a:lnTo>
                  <a:lnTo>
                    <a:pt x="184" y="485"/>
                  </a:lnTo>
                  <a:lnTo>
                    <a:pt x="200" y="464"/>
                  </a:lnTo>
                  <a:lnTo>
                    <a:pt x="217" y="442"/>
                  </a:lnTo>
                  <a:lnTo>
                    <a:pt x="233" y="426"/>
                  </a:lnTo>
                  <a:lnTo>
                    <a:pt x="249" y="404"/>
                  </a:lnTo>
                  <a:lnTo>
                    <a:pt x="266" y="388"/>
                  </a:lnTo>
                  <a:lnTo>
                    <a:pt x="282" y="366"/>
                  </a:lnTo>
                  <a:lnTo>
                    <a:pt x="304" y="350"/>
                  </a:lnTo>
                  <a:lnTo>
                    <a:pt x="320" y="329"/>
                  </a:lnTo>
                  <a:lnTo>
                    <a:pt x="336" y="312"/>
                  </a:lnTo>
                  <a:lnTo>
                    <a:pt x="358" y="291"/>
                  </a:lnTo>
                  <a:lnTo>
                    <a:pt x="380" y="275"/>
                  </a:lnTo>
                  <a:lnTo>
                    <a:pt x="396" y="258"/>
                  </a:lnTo>
                  <a:lnTo>
                    <a:pt x="423" y="242"/>
                  </a:lnTo>
                  <a:lnTo>
                    <a:pt x="439" y="226"/>
                  </a:lnTo>
                  <a:lnTo>
                    <a:pt x="461" y="210"/>
                  </a:lnTo>
                  <a:lnTo>
                    <a:pt x="483" y="199"/>
                  </a:lnTo>
                  <a:lnTo>
                    <a:pt x="505" y="183"/>
                  </a:lnTo>
                  <a:lnTo>
                    <a:pt x="526" y="167"/>
                  </a:lnTo>
                  <a:lnTo>
                    <a:pt x="548" y="156"/>
                  </a:lnTo>
                  <a:lnTo>
                    <a:pt x="575" y="140"/>
                  </a:lnTo>
                  <a:lnTo>
                    <a:pt x="602" y="129"/>
                  </a:lnTo>
                  <a:lnTo>
                    <a:pt x="624" y="118"/>
                  </a:lnTo>
                  <a:lnTo>
                    <a:pt x="646" y="107"/>
                  </a:lnTo>
                  <a:lnTo>
                    <a:pt x="673" y="97"/>
                  </a:lnTo>
                  <a:lnTo>
                    <a:pt x="695" y="86"/>
                  </a:lnTo>
                  <a:lnTo>
                    <a:pt x="722" y="75"/>
                  </a:lnTo>
                  <a:lnTo>
                    <a:pt x="749" y="64"/>
                  </a:lnTo>
                  <a:lnTo>
                    <a:pt x="776" y="59"/>
                  </a:lnTo>
                  <a:lnTo>
                    <a:pt x="803" y="48"/>
                  </a:lnTo>
                  <a:lnTo>
                    <a:pt x="830" y="43"/>
                  </a:lnTo>
                  <a:lnTo>
                    <a:pt x="852" y="37"/>
                  </a:lnTo>
                  <a:lnTo>
                    <a:pt x="879" y="32"/>
                  </a:lnTo>
                  <a:lnTo>
                    <a:pt x="906" y="21"/>
                  </a:lnTo>
                  <a:lnTo>
                    <a:pt x="939" y="16"/>
                  </a:lnTo>
                  <a:lnTo>
                    <a:pt x="966" y="10"/>
                  </a:lnTo>
                  <a:lnTo>
                    <a:pt x="993" y="10"/>
                  </a:lnTo>
                  <a:lnTo>
                    <a:pt x="1020" y="5"/>
                  </a:lnTo>
                  <a:lnTo>
                    <a:pt x="1053" y="5"/>
                  </a:lnTo>
                  <a:lnTo>
                    <a:pt x="1080" y="0"/>
                  </a:lnTo>
                  <a:lnTo>
                    <a:pt x="1107" y="0"/>
                  </a:lnTo>
                  <a:lnTo>
                    <a:pt x="1168" y="0"/>
                  </a:lnTo>
                  <a:lnTo>
                    <a:pt x="1195" y="0"/>
                  </a:lnTo>
                  <a:lnTo>
                    <a:pt x="1222" y="5"/>
                  </a:lnTo>
                  <a:lnTo>
                    <a:pt x="1250" y="5"/>
                  </a:lnTo>
                  <a:lnTo>
                    <a:pt x="1282" y="10"/>
                  </a:lnTo>
                  <a:lnTo>
                    <a:pt x="1309" y="10"/>
                  </a:lnTo>
                  <a:lnTo>
                    <a:pt x="1336" y="16"/>
                  </a:lnTo>
                  <a:lnTo>
                    <a:pt x="1364" y="21"/>
                  </a:lnTo>
                  <a:lnTo>
                    <a:pt x="1391" y="32"/>
                  </a:lnTo>
                  <a:lnTo>
                    <a:pt x="1418" y="37"/>
                  </a:lnTo>
                  <a:lnTo>
                    <a:pt x="1445" y="43"/>
                  </a:lnTo>
                  <a:lnTo>
                    <a:pt x="1472" y="48"/>
                  </a:lnTo>
                  <a:lnTo>
                    <a:pt x="1499" y="59"/>
                  </a:lnTo>
                  <a:lnTo>
                    <a:pt x="1526" y="64"/>
                  </a:lnTo>
                  <a:lnTo>
                    <a:pt x="1554" y="75"/>
                  </a:lnTo>
                  <a:lnTo>
                    <a:pt x="1575" y="86"/>
                  </a:lnTo>
                  <a:lnTo>
                    <a:pt x="1603" y="97"/>
                  </a:lnTo>
                  <a:lnTo>
                    <a:pt x="1630" y="107"/>
                  </a:lnTo>
                  <a:lnTo>
                    <a:pt x="1651" y="118"/>
                  </a:lnTo>
                  <a:lnTo>
                    <a:pt x="1673" y="129"/>
                  </a:lnTo>
                  <a:lnTo>
                    <a:pt x="1700" y="140"/>
                  </a:lnTo>
                  <a:lnTo>
                    <a:pt x="1722" y="156"/>
                  </a:lnTo>
                  <a:lnTo>
                    <a:pt x="1744" y="167"/>
                  </a:lnTo>
                  <a:lnTo>
                    <a:pt x="1765" y="183"/>
                  </a:lnTo>
                  <a:lnTo>
                    <a:pt x="1787" y="199"/>
                  </a:lnTo>
                  <a:lnTo>
                    <a:pt x="1814" y="210"/>
                  </a:lnTo>
                  <a:lnTo>
                    <a:pt x="1836" y="226"/>
                  </a:lnTo>
                  <a:lnTo>
                    <a:pt x="1858" y="242"/>
                  </a:lnTo>
                  <a:lnTo>
                    <a:pt x="1874" y="258"/>
                  </a:lnTo>
                  <a:lnTo>
                    <a:pt x="1896" y="275"/>
                  </a:lnTo>
                  <a:lnTo>
                    <a:pt x="1912" y="291"/>
                  </a:lnTo>
                  <a:lnTo>
                    <a:pt x="1934" y="312"/>
                  </a:lnTo>
                  <a:lnTo>
                    <a:pt x="1950" y="329"/>
                  </a:lnTo>
                  <a:lnTo>
                    <a:pt x="1972" y="350"/>
                  </a:lnTo>
                  <a:lnTo>
                    <a:pt x="1994" y="366"/>
                  </a:lnTo>
                  <a:lnTo>
                    <a:pt x="2010" y="388"/>
                  </a:lnTo>
                  <a:lnTo>
                    <a:pt x="2026" y="404"/>
                  </a:lnTo>
                  <a:lnTo>
                    <a:pt x="2042" y="426"/>
                  </a:lnTo>
                  <a:lnTo>
                    <a:pt x="2059" y="442"/>
                  </a:lnTo>
                  <a:lnTo>
                    <a:pt x="2075" y="464"/>
                  </a:lnTo>
                  <a:lnTo>
                    <a:pt x="2086" y="485"/>
                  </a:lnTo>
                  <a:lnTo>
                    <a:pt x="2102" y="507"/>
                  </a:lnTo>
                  <a:lnTo>
                    <a:pt x="2113" y="534"/>
                  </a:lnTo>
                  <a:lnTo>
                    <a:pt x="2129" y="555"/>
                  </a:lnTo>
                  <a:lnTo>
                    <a:pt x="2146" y="577"/>
                  </a:lnTo>
                  <a:lnTo>
                    <a:pt x="2156" y="598"/>
                  </a:lnTo>
                  <a:lnTo>
                    <a:pt x="2167" y="625"/>
                  </a:lnTo>
                  <a:lnTo>
                    <a:pt x="2178" y="647"/>
                  </a:lnTo>
                  <a:lnTo>
                    <a:pt x="2189" y="669"/>
                  </a:lnTo>
                  <a:lnTo>
                    <a:pt x="2200" y="696"/>
                  </a:lnTo>
                  <a:lnTo>
                    <a:pt x="2211" y="723"/>
                  </a:lnTo>
                  <a:lnTo>
                    <a:pt x="2216" y="749"/>
                  </a:lnTo>
                  <a:lnTo>
                    <a:pt x="2227" y="771"/>
                  </a:lnTo>
                  <a:lnTo>
                    <a:pt x="2232" y="798"/>
                  </a:lnTo>
                  <a:lnTo>
                    <a:pt x="2243" y="825"/>
                  </a:lnTo>
                  <a:lnTo>
                    <a:pt x="2249" y="852"/>
                  </a:lnTo>
                  <a:lnTo>
                    <a:pt x="2254" y="879"/>
                  </a:lnTo>
                  <a:lnTo>
                    <a:pt x="2260" y="901"/>
                  </a:lnTo>
                  <a:lnTo>
                    <a:pt x="2260" y="933"/>
                  </a:lnTo>
                  <a:lnTo>
                    <a:pt x="2265" y="955"/>
                  </a:lnTo>
                  <a:lnTo>
                    <a:pt x="2270" y="987"/>
                  </a:lnTo>
                  <a:lnTo>
                    <a:pt x="2270" y="1014"/>
                  </a:lnTo>
                  <a:lnTo>
                    <a:pt x="2270" y="1041"/>
                  </a:lnTo>
                  <a:lnTo>
                    <a:pt x="2276" y="1068"/>
                  </a:lnTo>
                  <a:lnTo>
                    <a:pt x="2276" y="1101"/>
                  </a:lnTo>
                  <a:lnTo>
                    <a:pt x="2276" y="1123"/>
                  </a:lnTo>
                  <a:lnTo>
                    <a:pt x="2270" y="1155"/>
                  </a:lnTo>
                  <a:lnTo>
                    <a:pt x="2270" y="1182"/>
                  </a:lnTo>
                  <a:lnTo>
                    <a:pt x="2270" y="1209"/>
                  </a:lnTo>
                  <a:lnTo>
                    <a:pt x="2265" y="1236"/>
                  </a:lnTo>
                  <a:lnTo>
                    <a:pt x="2260" y="1263"/>
                  </a:lnTo>
                  <a:lnTo>
                    <a:pt x="2260" y="1290"/>
                  </a:lnTo>
                  <a:lnTo>
                    <a:pt x="2254" y="1317"/>
                  </a:lnTo>
                  <a:lnTo>
                    <a:pt x="2249" y="1344"/>
                  </a:lnTo>
                  <a:lnTo>
                    <a:pt x="2243" y="1371"/>
                  </a:lnTo>
                  <a:lnTo>
                    <a:pt x="2232" y="1398"/>
                  </a:lnTo>
                  <a:lnTo>
                    <a:pt x="2227" y="1425"/>
                  </a:lnTo>
                  <a:lnTo>
                    <a:pt x="2216" y="1447"/>
                  </a:lnTo>
                  <a:lnTo>
                    <a:pt x="2211" y="1474"/>
                  </a:lnTo>
                  <a:lnTo>
                    <a:pt x="2200" y="1500"/>
                  </a:lnTo>
                  <a:lnTo>
                    <a:pt x="2189" y="1522"/>
                  </a:lnTo>
                  <a:lnTo>
                    <a:pt x="2178" y="1549"/>
                  </a:lnTo>
                  <a:lnTo>
                    <a:pt x="2167" y="1571"/>
                  </a:lnTo>
                  <a:lnTo>
                    <a:pt x="2156" y="1592"/>
                  </a:lnTo>
                  <a:lnTo>
                    <a:pt x="2146" y="1619"/>
                  </a:lnTo>
                  <a:lnTo>
                    <a:pt x="2129" y="1641"/>
                  </a:lnTo>
                  <a:lnTo>
                    <a:pt x="2113" y="1662"/>
                  </a:lnTo>
                  <a:lnTo>
                    <a:pt x="2102" y="1684"/>
                  </a:lnTo>
                  <a:lnTo>
                    <a:pt x="2086" y="1711"/>
                  </a:lnTo>
                  <a:lnTo>
                    <a:pt x="2075" y="1727"/>
                  </a:lnTo>
                  <a:lnTo>
                    <a:pt x="2059" y="1749"/>
                  </a:lnTo>
                  <a:lnTo>
                    <a:pt x="2042" y="1770"/>
                  </a:lnTo>
                  <a:lnTo>
                    <a:pt x="2026" y="1792"/>
                  </a:lnTo>
                  <a:lnTo>
                    <a:pt x="2010" y="1808"/>
                  </a:lnTo>
                  <a:lnTo>
                    <a:pt x="1994" y="1830"/>
                  </a:lnTo>
                  <a:lnTo>
                    <a:pt x="1972" y="1851"/>
                  </a:lnTo>
                  <a:lnTo>
                    <a:pt x="1950" y="1867"/>
                  </a:lnTo>
                  <a:lnTo>
                    <a:pt x="1934" y="1889"/>
                  </a:lnTo>
                  <a:lnTo>
                    <a:pt x="1912" y="1905"/>
                  </a:lnTo>
                  <a:lnTo>
                    <a:pt x="1896" y="1921"/>
                  </a:lnTo>
                  <a:lnTo>
                    <a:pt x="1874" y="1938"/>
                  </a:lnTo>
                  <a:lnTo>
                    <a:pt x="1858" y="1954"/>
                  </a:lnTo>
                  <a:lnTo>
                    <a:pt x="1836" y="1970"/>
                  </a:lnTo>
                  <a:lnTo>
                    <a:pt x="1814" y="1986"/>
                  </a:lnTo>
                  <a:lnTo>
                    <a:pt x="1787" y="2002"/>
                  </a:lnTo>
                  <a:lnTo>
                    <a:pt x="1765" y="2018"/>
                  </a:lnTo>
                  <a:lnTo>
                    <a:pt x="1744" y="2029"/>
                  </a:lnTo>
                  <a:lnTo>
                    <a:pt x="1722" y="2045"/>
                  </a:lnTo>
                  <a:lnTo>
                    <a:pt x="1700" y="2056"/>
                  </a:lnTo>
                  <a:lnTo>
                    <a:pt x="1673" y="2067"/>
                  </a:lnTo>
                  <a:lnTo>
                    <a:pt x="1651" y="2078"/>
                  </a:lnTo>
                  <a:lnTo>
                    <a:pt x="1630" y="2094"/>
                  </a:lnTo>
                  <a:lnTo>
                    <a:pt x="1603" y="2099"/>
                  </a:lnTo>
                  <a:lnTo>
                    <a:pt x="1575" y="2110"/>
                  </a:lnTo>
                  <a:lnTo>
                    <a:pt x="1554" y="2121"/>
                  </a:lnTo>
                  <a:lnTo>
                    <a:pt x="1526" y="2132"/>
                  </a:lnTo>
                  <a:lnTo>
                    <a:pt x="1499" y="2137"/>
                  </a:lnTo>
                  <a:lnTo>
                    <a:pt x="1472" y="2148"/>
                  </a:lnTo>
                  <a:lnTo>
                    <a:pt x="1445" y="2159"/>
                  </a:lnTo>
                  <a:lnTo>
                    <a:pt x="1418" y="2164"/>
                  </a:lnTo>
                  <a:lnTo>
                    <a:pt x="1391" y="2170"/>
                  </a:lnTo>
                  <a:lnTo>
                    <a:pt x="1364" y="2175"/>
                  </a:lnTo>
                  <a:lnTo>
                    <a:pt x="1336" y="2180"/>
                  </a:lnTo>
                  <a:lnTo>
                    <a:pt x="1309" y="2186"/>
                  </a:lnTo>
                  <a:lnTo>
                    <a:pt x="1282" y="2186"/>
                  </a:lnTo>
                  <a:lnTo>
                    <a:pt x="1250" y="2191"/>
                  </a:lnTo>
                  <a:lnTo>
                    <a:pt x="1222" y="2191"/>
                  </a:lnTo>
                  <a:lnTo>
                    <a:pt x="1195" y="2197"/>
                  </a:lnTo>
                  <a:lnTo>
                    <a:pt x="1168" y="2197"/>
                  </a:lnTo>
                  <a:lnTo>
                    <a:pt x="1107" y="2197"/>
                  </a:lnTo>
                  <a:lnTo>
                    <a:pt x="1080" y="2197"/>
                  </a:lnTo>
                  <a:lnTo>
                    <a:pt x="1053" y="2191"/>
                  </a:lnTo>
                  <a:lnTo>
                    <a:pt x="1020" y="2191"/>
                  </a:lnTo>
                  <a:lnTo>
                    <a:pt x="993" y="2186"/>
                  </a:lnTo>
                  <a:lnTo>
                    <a:pt x="966" y="2186"/>
                  </a:lnTo>
                  <a:lnTo>
                    <a:pt x="939" y="2180"/>
                  </a:lnTo>
                  <a:lnTo>
                    <a:pt x="906" y="2175"/>
                  </a:lnTo>
                  <a:lnTo>
                    <a:pt x="879" y="2170"/>
                  </a:lnTo>
                  <a:lnTo>
                    <a:pt x="852" y="2164"/>
                  </a:lnTo>
                  <a:lnTo>
                    <a:pt x="830" y="2159"/>
                  </a:lnTo>
                  <a:lnTo>
                    <a:pt x="803" y="2148"/>
                  </a:lnTo>
                  <a:lnTo>
                    <a:pt x="776" y="2137"/>
                  </a:lnTo>
                  <a:lnTo>
                    <a:pt x="749" y="2132"/>
                  </a:lnTo>
                  <a:lnTo>
                    <a:pt x="722" y="2121"/>
                  </a:lnTo>
                  <a:lnTo>
                    <a:pt x="695" y="2110"/>
                  </a:lnTo>
                  <a:lnTo>
                    <a:pt x="673" y="2099"/>
                  </a:lnTo>
                  <a:lnTo>
                    <a:pt x="646" y="2094"/>
                  </a:lnTo>
                  <a:lnTo>
                    <a:pt x="624" y="2078"/>
                  </a:lnTo>
                  <a:lnTo>
                    <a:pt x="602" y="2067"/>
                  </a:lnTo>
                  <a:lnTo>
                    <a:pt x="575" y="2056"/>
                  </a:lnTo>
                  <a:lnTo>
                    <a:pt x="548" y="2045"/>
                  </a:lnTo>
                  <a:lnTo>
                    <a:pt x="526" y="2029"/>
                  </a:lnTo>
                  <a:lnTo>
                    <a:pt x="505" y="2018"/>
                  </a:lnTo>
                  <a:lnTo>
                    <a:pt x="483" y="2002"/>
                  </a:lnTo>
                  <a:lnTo>
                    <a:pt x="461" y="1986"/>
                  </a:lnTo>
                  <a:lnTo>
                    <a:pt x="439" y="1970"/>
                  </a:lnTo>
                  <a:lnTo>
                    <a:pt x="423" y="1954"/>
                  </a:lnTo>
                  <a:lnTo>
                    <a:pt x="396" y="1938"/>
                  </a:lnTo>
                  <a:lnTo>
                    <a:pt x="380" y="1921"/>
                  </a:lnTo>
                  <a:lnTo>
                    <a:pt x="358" y="1905"/>
                  </a:lnTo>
                  <a:lnTo>
                    <a:pt x="336" y="1889"/>
                  </a:lnTo>
                  <a:lnTo>
                    <a:pt x="320" y="1867"/>
                  </a:lnTo>
                  <a:lnTo>
                    <a:pt x="304" y="1851"/>
                  </a:lnTo>
                  <a:lnTo>
                    <a:pt x="282" y="1830"/>
                  </a:lnTo>
                  <a:lnTo>
                    <a:pt x="266" y="1808"/>
                  </a:lnTo>
                  <a:lnTo>
                    <a:pt x="249" y="1792"/>
                  </a:lnTo>
                  <a:lnTo>
                    <a:pt x="233" y="1770"/>
                  </a:lnTo>
                  <a:lnTo>
                    <a:pt x="217" y="1749"/>
                  </a:lnTo>
                  <a:lnTo>
                    <a:pt x="200" y="1727"/>
                  </a:lnTo>
                  <a:lnTo>
                    <a:pt x="184" y="1711"/>
                  </a:lnTo>
                  <a:lnTo>
                    <a:pt x="168" y="1684"/>
                  </a:lnTo>
                  <a:lnTo>
                    <a:pt x="157" y="1662"/>
                  </a:lnTo>
                  <a:lnTo>
                    <a:pt x="146" y="1641"/>
                  </a:lnTo>
                  <a:lnTo>
                    <a:pt x="130" y="1619"/>
                  </a:lnTo>
                  <a:lnTo>
                    <a:pt x="119" y="1592"/>
                  </a:lnTo>
                  <a:lnTo>
                    <a:pt x="108" y="1571"/>
                  </a:lnTo>
                  <a:lnTo>
                    <a:pt x="97" y="1549"/>
                  </a:lnTo>
                  <a:lnTo>
                    <a:pt x="86" y="1522"/>
                  </a:lnTo>
                  <a:lnTo>
                    <a:pt x="76" y="1500"/>
                  </a:lnTo>
                  <a:lnTo>
                    <a:pt x="65" y="1474"/>
                  </a:lnTo>
                  <a:lnTo>
                    <a:pt x="54" y="1447"/>
                  </a:lnTo>
                  <a:lnTo>
                    <a:pt x="48" y="1425"/>
                  </a:lnTo>
                  <a:lnTo>
                    <a:pt x="38" y="1398"/>
                  </a:lnTo>
                  <a:lnTo>
                    <a:pt x="32" y="1371"/>
                  </a:lnTo>
                  <a:lnTo>
                    <a:pt x="27" y="1344"/>
                  </a:lnTo>
                  <a:lnTo>
                    <a:pt x="21" y="1317"/>
                  </a:lnTo>
                  <a:lnTo>
                    <a:pt x="16" y="1290"/>
                  </a:lnTo>
                  <a:lnTo>
                    <a:pt x="10" y="1263"/>
                  </a:lnTo>
                  <a:lnTo>
                    <a:pt x="5" y="1236"/>
                  </a:lnTo>
                  <a:lnTo>
                    <a:pt x="5" y="1209"/>
                  </a:lnTo>
                  <a:lnTo>
                    <a:pt x="5" y="1182"/>
                  </a:lnTo>
                  <a:lnTo>
                    <a:pt x="0" y="1155"/>
                  </a:lnTo>
                  <a:lnTo>
                    <a:pt x="0" y="1123"/>
                  </a:lnTo>
                  <a:lnTo>
                    <a:pt x="0" y="1101"/>
                  </a:lnTo>
                  <a:close/>
                </a:path>
              </a:pathLst>
            </a:custGeom>
            <a:solidFill>
              <a:srgbClr val="6b878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35240" y="2747880"/>
              <a:ext cx="811440" cy="783000"/>
            </a:xfrm>
            <a:custGeom>
              <a:avLst/>
              <a:gdLst/>
              <a:ahLst/>
              <a:rect l="0" t="0" r="r" b="b"/>
              <a:pathLst>
                <a:path w="2254" h="2175">
                  <a:moveTo>
                    <a:pt x="0" y="1090"/>
                  </a:moveTo>
                  <a:lnTo>
                    <a:pt x="0" y="1058"/>
                  </a:lnTo>
                  <a:lnTo>
                    <a:pt x="5" y="1031"/>
                  </a:lnTo>
                  <a:lnTo>
                    <a:pt x="5" y="1004"/>
                  </a:lnTo>
                  <a:lnTo>
                    <a:pt x="5" y="972"/>
                  </a:lnTo>
                  <a:lnTo>
                    <a:pt x="10" y="945"/>
                  </a:lnTo>
                  <a:lnTo>
                    <a:pt x="16" y="918"/>
                  </a:lnTo>
                  <a:lnTo>
                    <a:pt x="21" y="891"/>
                  </a:lnTo>
                  <a:lnTo>
                    <a:pt x="27" y="869"/>
                  </a:lnTo>
                  <a:lnTo>
                    <a:pt x="32" y="842"/>
                  </a:lnTo>
                  <a:lnTo>
                    <a:pt x="37" y="810"/>
                  </a:lnTo>
                  <a:lnTo>
                    <a:pt x="43" y="783"/>
                  </a:lnTo>
                  <a:lnTo>
                    <a:pt x="48" y="761"/>
                  </a:lnTo>
                  <a:lnTo>
                    <a:pt x="65" y="734"/>
                  </a:lnTo>
                  <a:lnTo>
                    <a:pt x="70" y="707"/>
                  </a:lnTo>
                  <a:lnTo>
                    <a:pt x="81" y="686"/>
                  </a:lnTo>
                  <a:lnTo>
                    <a:pt x="92" y="659"/>
                  </a:lnTo>
                  <a:lnTo>
                    <a:pt x="102" y="637"/>
                  </a:lnTo>
                  <a:lnTo>
                    <a:pt x="113" y="610"/>
                  </a:lnTo>
                  <a:lnTo>
                    <a:pt x="124" y="589"/>
                  </a:lnTo>
                  <a:lnTo>
                    <a:pt x="135" y="567"/>
                  </a:lnTo>
                  <a:lnTo>
                    <a:pt x="151" y="539"/>
                  </a:lnTo>
                  <a:lnTo>
                    <a:pt x="162" y="517"/>
                  </a:lnTo>
                  <a:lnTo>
                    <a:pt x="178" y="496"/>
                  </a:lnTo>
                  <a:lnTo>
                    <a:pt x="189" y="469"/>
                  </a:lnTo>
                  <a:lnTo>
                    <a:pt x="205" y="453"/>
                  </a:lnTo>
                  <a:lnTo>
                    <a:pt x="222" y="431"/>
                  </a:lnTo>
                  <a:lnTo>
                    <a:pt x="243" y="409"/>
                  </a:lnTo>
                  <a:lnTo>
                    <a:pt x="260" y="388"/>
                  </a:lnTo>
                  <a:lnTo>
                    <a:pt x="276" y="372"/>
                  </a:lnTo>
                  <a:lnTo>
                    <a:pt x="292" y="356"/>
                  </a:lnTo>
                  <a:lnTo>
                    <a:pt x="308" y="334"/>
                  </a:lnTo>
                  <a:lnTo>
                    <a:pt x="330" y="312"/>
                  </a:lnTo>
                  <a:lnTo>
                    <a:pt x="346" y="296"/>
                  </a:lnTo>
                  <a:lnTo>
                    <a:pt x="368" y="280"/>
                  </a:lnTo>
                  <a:lnTo>
                    <a:pt x="384" y="264"/>
                  </a:lnTo>
                  <a:lnTo>
                    <a:pt x="411" y="248"/>
                  </a:lnTo>
                  <a:lnTo>
                    <a:pt x="433" y="231"/>
                  </a:lnTo>
                  <a:lnTo>
                    <a:pt x="455" y="215"/>
                  </a:lnTo>
                  <a:lnTo>
                    <a:pt x="476" y="199"/>
                  </a:lnTo>
                  <a:lnTo>
                    <a:pt x="492" y="183"/>
                  </a:lnTo>
                  <a:lnTo>
                    <a:pt x="520" y="167"/>
                  </a:lnTo>
                  <a:lnTo>
                    <a:pt x="541" y="156"/>
                  </a:lnTo>
                  <a:lnTo>
                    <a:pt x="563" y="140"/>
                  </a:lnTo>
                  <a:lnTo>
                    <a:pt x="590" y="129"/>
                  </a:lnTo>
                  <a:lnTo>
                    <a:pt x="612" y="118"/>
                  </a:lnTo>
                  <a:lnTo>
                    <a:pt x="639" y="107"/>
                  </a:lnTo>
                  <a:lnTo>
                    <a:pt x="660" y="97"/>
                  </a:lnTo>
                  <a:lnTo>
                    <a:pt x="687" y="86"/>
                  </a:lnTo>
                  <a:lnTo>
                    <a:pt x="715" y="75"/>
                  </a:lnTo>
                  <a:lnTo>
                    <a:pt x="736" y="64"/>
                  </a:lnTo>
                  <a:lnTo>
                    <a:pt x="763" y="53"/>
                  </a:lnTo>
                  <a:lnTo>
                    <a:pt x="790" y="48"/>
                  </a:lnTo>
                  <a:lnTo>
                    <a:pt x="817" y="43"/>
                  </a:lnTo>
                  <a:lnTo>
                    <a:pt x="845" y="32"/>
                  </a:lnTo>
                  <a:lnTo>
                    <a:pt x="872" y="26"/>
                  </a:lnTo>
                  <a:lnTo>
                    <a:pt x="899" y="21"/>
                  </a:lnTo>
                  <a:lnTo>
                    <a:pt x="926" y="16"/>
                  </a:lnTo>
                  <a:lnTo>
                    <a:pt x="958" y="10"/>
                  </a:lnTo>
                  <a:lnTo>
                    <a:pt x="985" y="5"/>
                  </a:lnTo>
                  <a:lnTo>
                    <a:pt x="1012" y="5"/>
                  </a:lnTo>
                  <a:lnTo>
                    <a:pt x="1040" y="0"/>
                  </a:lnTo>
                  <a:lnTo>
                    <a:pt x="1067" y="0"/>
                  </a:lnTo>
                  <a:lnTo>
                    <a:pt x="1099" y="0"/>
                  </a:lnTo>
                  <a:lnTo>
                    <a:pt x="1160" y="0"/>
                  </a:lnTo>
                  <a:lnTo>
                    <a:pt x="1187" y="0"/>
                  </a:lnTo>
                  <a:lnTo>
                    <a:pt x="1214" y="0"/>
                  </a:lnTo>
                  <a:lnTo>
                    <a:pt x="1246" y="5"/>
                  </a:lnTo>
                  <a:lnTo>
                    <a:pt x="1273" y="5"/>
                  </a:lnTo>
                  <a:lnTo>
                    <a:pt x="1301" y="10"/>
                  </a:lnTo>
                  <a:lnTo>
                    <a:pt x="1333" y="16"/>
                  </a:lnTo>
                  <a:lnTo>
                    <a:pt x="1360" y="21"/>
                  </a:lnTo>
                  <a:lnTo>
                    <a:pt x="1387" y="26"/>
                  </a:lnTo>
                  <a:lnTo>
                    <a:pt x="1409" y="32"/>
                  </a:lnTo>
                  <a:lnTo>
                    <a:pt x="1436" y="43"/>
                  </a:lnTo>
                  <a:lnTo>
                    <a:pt x="1468" y="48"/>
                  </a:lnTo>
                  <a:lnTo>
                    <a:pt x="1496" y="53"/>
                  </a:lnTo>
                  <a:lnTo>
                    <a:pt x="1517" y="64"/>
                  </a:lnTo>
                  <a:lnTo>
                    <a:pt x="1544" y="75"/>
                  </a:lnTo>
                  <a:lnTo>
                    <a:pt x="1571" y="86"/>
                  </a:lnTo>
                  <a:lnTo>
                    <a:pt x="1593" y="97"/>
                  </a:lnTo>
                  <a:lnTo>
                    <a:pt x="1620" y="107"/>
                  </a:lnTo>
                  <a:lnTo>
                    <a:pt x="1647" y="118"/>
                  </a:lnTo>
                  <a:lnTo>
                    <a:pt x="1669" y="129"/>
                  </a:lnTo>
                  <a:lnTo>
                    <a:pt x="1696" y="140"/>
                  </a:lnTo>
                  <a:lnTo>
                    <a:pt x="1718" y="156"/>
                  </a:lnTo>
                  <a:lnTo>
                    <a:pt x="1739" y="167"/>
                  </a:lnTo>
                  <a:lnTo>
                    <a:pt x="1761" y="183"/>
                  </a:lnTo>
                  <a:lnTo>
                    <a:pt x="1783" y="199"/>
                  </a:lnTo>
                  <a:lnTo>
                    <a:pt x="1810" y="215"/>
                  </a:lnTo>
                  <a:lnTo>
                    <a:pt x="1826" y="231"/>
                  </a:lnTo>
                  <a:lnTo>
                    <a:pt x="1848" y="248"/>
                  </a:lnTo>
                  <a:lnTo>
                    <a:pt x="1869" y="264"/>
                  </a:lnTo>
                  <a:lnTo>
                    <a:pt x="1891" y="280"/>
                  </a:lnTo>
                  <a:lnTo>
                    <a:pt x="1907" y="296"/>
                  </a:lnTo>
                  <a:lnTo>
                    <a:pt x="1929" y="312"/>
                  </a:lnTo>
                  <a:lnTo>
                    <a:pt x="1945" y="334"/>
                  </a:lnTo>
                  <a:lnTo>
                    <a:pt x="1967" y="356"/>
                  </a:lnTo>
                  <a:lnTo>
                    <a:pt x="1983" y="372"/>
                  </a:lnTo>
                  <a:lnTo>
                    <a:pt x="1999" y="388"/>
                  </a:lnTo>
                  <a:lnTo>
                    <a:pt x="2016" y="409"/>
                  </a:lnTo>
                  <a:lnTo>
                    <a:pt x="2032" y="431"/>
                  </a:lnTo>
                  <a:lnTo>
                    <a:pt x="2048" y="453"/>
                  </a:lnTo>
                  <a:lnTo>
                    <a:pt x="2064" y="469"/>
                  </a:lnTo>
                  <a:lnTo>
                    <a:pt x="2081" y="496"/>
                  </a:lnTo>
                  <a:lnTo>
                    <a:pt x="2091" y="517"/>
                  </a:lnTo>
                  <a:lnTo>
                    <a:pt x="2108" y="539"/>
                  </a:lnTo>
                  <a:lnTo>
                    <a:pt x="2118" y="567"/>
                  </a:lnTo>
                  <a:lnTo>
                    <a:pt x="2135" y="589"/>
                  </a:lnTo>
                  <a:lnTo>
                    <a:pt x="2146" y="610"/>
                  </a:lnTo>
                  <a:lnTo>
                    <a:pt x="2156" y="637"/>
                  </a:lnTo>
                  <a:lnTo>
                    <a:pt x="2167" y="659"/>
                  </a:lnTo>
                  <a:lnTo>
                    <a:pt x="2178" y="686"/>
                  </a:lnTo>
                  <a:lnTo>
                    <a:pt x="2189" y="707"/>
                  </a:lnTo>
                  <a:lnTo>
                    <a:pt x="2200" y="734"/>
                  </a:lnTo>
                  <a:lnTo>
                    <a:pt x="2205" y="761"/>
                  </a:lnTo>
                  <a:lnTo>
                    <a:pt x="2211" y="783"/>
                  </a:lnTo>
                  <a:lnTo>
                    <a:pt x="2221" y="810"/>
                  </a:lnTo>
                  <a:lnTo>
                    <a:pt x="2227" y="842"/>
                  </a:lnTo>
                  <a:lnTo>
                    <a:pt x="2232" y="869"/>
                  </a:lnTo>
                  <a:lnTo>
                    <a:pt x="2238" y="891"/>
                  </a:lnTo>
                  <a:lnTo>
                    <a:pt x="2243" y="918"/>
                  </a:lnTo>
                  <a:lnTo>
                    <a:pt x="2248" y="945"/>
                  </a:lnTo>
                  <a:lnTo>
                    <a:pt x="2248" y="972"/>
                  </a:lnTo>
                  <a:lnTo>
                    <a:pt x="2248" y="1004"/>
                  </a:lnTo>
                  <a:lnTo>
                    <a:pt x="2254" y="1031"/>
                  </a:lnTo>
                  <a:lnTo>
                    <a:pt x="2254" y="1058"/>
                  </a:lnTo>
                  <a:lnTo>
                    <a:pt x="2254" y="1090"/>
                  </a:lnTo>
                  <a:lnTo>
                    <a:pt x="2254" y="1112"/>
                  </a:lnTo>
                  <a:lnTo>
                    <a:pt x="2254" y="1144"/>
                  </a:lnTo>
                  <a:lnTo>
                    <a:pt x="2248" y="1171"/>
                  </a:lnTo>
                  <a:lnTo>
                    <a:pt x="2248" y="1198"/>
                  </a:lnTo>
                  <a:lnTo>
                    <a:pt x="2248" y="1225"/>
                  </a:lnTo>
                  <a:lnTo>
                    <a:pt x="2243" y="1252"/>
                  </a:lnTo>
                  <a:lnTo>
                    <a:pt x="2238" y="1284"/>
                  </a:lnTo>
                  <a:lnTo>
                    <a:pt x="2232" y="1306"/>
                  </a:lnTo>
                  <a:lnTo>
                    <a:pt x="2227" y="1338"/>
                  </a:lnTo>
                  <a:lnTo>
                    <a:pt x="2221" y="1365"/>
                  </a:lnTo>
                  <a:lnTo>
                    <a:pt x="2211" y="1387"/>
                  </a:lnTo>
                  <a:lnTo>
                    <a:pt x="2205" y="1414"/>
                  </a:lnTo>
                  <a:lnTo>
                    <a:pt x="2200" y="1441"/>
                  </a:lnTo>
                  <a:lnTo>
                    <a:pt x="2189" y="1462"/>
                  </a:lnTo>
                  <a:lnTo>
                    <a:pt x="2178" y="1489"/>
                  </a:lnTo>
                  <a:lnTo>
                    <a:pt x="2167" y="1516"/>
                  </a:lnTo>
                  <a:lnTo>
                    <a:pt x="2156" y="1538"/>
                  </a:lnTo>
                  <a:lnTo>
                    <a:pt x="2146" y="1565"/>
                  </a:lnTo>
                  <a:lnTo>
                    <a:pt x="2135" y="1586"/>
                  </a:lnTo>
                  <a:lnTo>
                    <a:pt x="2118" y="1608"/>
                  </a:lnTo>
                  <a:lnTo>
                    <a:pt x="2108" y="1636"/>
                  </a:lnTo>
                  <a:lnTo>
                    <a:pt x="2091" y="1658"/>
                  </a:lnTo>
                  <a:lnTo>
                    <a:pt x="2081" y="1679"/>
                  </a:lnTo>
                  <a:lnTo>
                    <a:pt x="2064" y="1701"/>
                  </a:lnTo>
                  <a:lnTo>
                    <a:pt x="2048" y="1722"/>
                  </a:lnTo>
                  <a:lnTo>
                    <a:pt x="2032" y="1744"/>
                  </a:lnTo>
                  <a:lnTo>
                    <a:pt x="2016" y="1766"/>
                  </a:lnTo>
                  <a:lnTo>
                    <a:pt x="1999" y="1782"/>
                  </a:lnTo>
                  <a:lnTo>
                    <a:pt x="1983" y="1803"/>
                  </a:lnTo>
                  <a:lnTo>
                    <a:pt x="1967" y="1825"/>
                  </a:lnTo>
                  <a:lnTo>
                    <a:pt x="1945" y="1841"/>
                  </a:lnTo>
                  <a:lnTo>
                    <a:pt x="1929" y="1863"/>
                  </a:lnTo>
                  <a:lnTo>
                    <a:pt x="1907" y="1879"/>
                  </a:lnTo>
                  <a:lnTo>
                    <a:pt x="1891" y="1895"/>
                  </a:lnTo>
                  <a:lnTo>
                    <a:pt x="1869" y="1917"/>
                  </a:lnTo>
                  <a:lnTo>
                    <a:pt x="1848" y="1933"/>
                  </a:lnTo>
                  <a:lnTo>
                    <a:pt x="1826" y="1949"/>
                  </a:lnTo>
                  <a:lnTo>
                    <a:pt x="1810" y="1960"/>
                  </a:lnTo>
                  <a:lnTo>
                    <a:pt x="1783" y="1981"/>
                  </a:lnTo>
                  <a:lnTo>
                    <a:pt x="1761" y="1992"/>
                  </a:lnTo>
                  <a:lnTo>
                    <a:pt x="1739" y="2008"/>
                  </a:lnTo>
                  <a:lnTo>
                    <a:pt x="1718" y="2024"/>
                  </a:lnTo>
                  <a:lnTo>
                    <a:pt x="1696" y="2035"/>
                  </a:lnTo>
                  <a:lnTo>
                    <a:pt x="1669" y="2046"/>
                  </a:lnTo>
                  <a:lnTo>
                    <a:pt x="1647" y="2062"/>
                  </a:lnTo>
                  <a:lnTo>
                    <a:pt x="1620" y="2073"/>
                  </a:lnTo>
                  <a:lnTo>
                    <a:pt x="1593" y="2084"/>
                  </a:lnTo>
                  <a:lnTo>
                    <a:pt x="1571" y="2095"/>
                  </a:lnTo>
                  <a:lnTo>
                    <a:pt x="1544" y="2100"/>
                  </a:lnTo>
                  <a:lnTo>
                    <a:pt x="1517" y="2111"/>
                  </a:lnTo>
                  <a:lnTo>
                    <a:pt x="1496" y="2122"/>
                  </a:lnTo>
                  <a:lnTo>
                    <a:pt x="1468" y="2127"/>
                  </a:lnTo>
                  <a:lnTo>
                    <a:pt x="1436" y="2138"/>
                  </a:lnTo>
                  <a:lnTo>
                    <a:pt x="1409" y="2143"/>
                  </a:lnTo>
                  <a:lnTo>
                    <a:pt x="1387" y="2149"/>
                  </a:lnTo>
                  <a:lnTo>
                    <a:pt x="1360" y="2154"/>
                  </a:lnTo>
                  <a:lnTo>
                    <a:pt x="1333" y="2159"/>
                  </a:lnTo>
                  <a:lnTo>
                    <a:pt x="1301" y="2165"/>
                  </a:lnTo>
                  <a:lnTo>
                    <a:pt x="1273" y="2170"/>
                  </a:lnTo>
                  <a:lnTo>
                    <a:pt x="1246" y="2175"/>
                  </a:lnTo>
                  <a:lnTo>
                    <a:pt x="1214" y="2175"/>
                  </a:lnTo>
                  <a:lnTo>
                    <a:pt x="1187" y="2175"/>
                  </a:lnTo>
                  <a:lnTo>
                    <a:pt x="1160" y="2175"/>
                  </a:lnTo>
                  <a:lnTo>
                    <a:pt x="1099" y="2175"/>
                  </a:lnTo>
                  <a:lnTo>
                    <a:pt x="1067" y="2175"/>
                  </a:lnTo>
                  <a:lnTo>
                    <a:pt x="1040" y="2175"/>
                  </a:lnTo>
                  <a:lnTo>
                    <a:pt x="1012" y="2175"/>
                  </a:lnTo>
                  <a:lnTo>
                    <a:pt x="985" y="2170"/>
                  </a:lnTo>
                  <a:lnTo>
                    <a:pt x="958" y="2165"/>
                  </a:lnTo>
                  <a:lnTo>
                    <a:pt x="926" y="2159"/>
                  </a:lnTo>
                  <a:lnTo>
                    <a:pt x="899" y="2154"/>
                  </a:lnTo>
                  <a:lnTo>
                    <a:pt x="872" y="2149"/>
                  </a:lnTo>
                  <a:lnTo>
                    <a:pt x="845" y="2143"/>
                  </a:lnTo>
                  <a:lnTo>
                    <a:pt x="817" y="2138"/>
                  </a:lnTo>
                  <a:lnTo>
                    <a:pt x="790" y="2127"/>
                  </a:lnTo>
                  <a:lnTo>
                    <a:pt x="763" y="2122"/>
                  </a:lnTo>
                  <a:lnTo>
                    <a:pt x="736" y="2111"/>
                  </a:lnTo>
                  <a:lnTo>
                    <a:pt x="715" y="2100"/>
                  </a:lnTo>
                  <a:lnTo>
                    <a:pt x="687" y="2095"/>
                  </a:lnTo>
                  <a:lnTo>
                    <a:pt x="660" y="2084"/>
                  </a:lnTo>
                  <a:lnTo>
                    <a:pt x="639" y="2073"/>
                  </a:lnTo>
                  <a:lnTo>
                    <a:pt x="612" y="2062"/>
                  </a:lnTo>
                  <a:lnTo>
                    <a:pt x="590" y="2046"/>
                  </a:lnTo>
                  <a:lnTo>
                    <a:pt x="563" y="2035"/>
                  </a:lnTo>
                  <a:lnTo>
                    <a:pt x="541" y="2024"/>
                  </a:lnTo>
                  <a:lnTo>
                    <a:pt x="520" y="2008"/>
                  </a:lnTo>
                  <a:lnTo>
                    <a:pt x="492" y="1992"/>
                  </a:lnTo>
                  <a:lnTo>
                    <a:pt x="476" y="1981"/>
                  </a:lnTo>
                  <a:lnTo>
                    <a:pt x="455" y="1960"/>
                  </a:lnTo>
                  <a:lnTo>
                    <a:pt x="433" y="1949"/>
                  </a:lnTo>
                  <a:lnTo>
                    <a:pt x="411" y="1933"/>
                  </a:lnTo>
                  <a:lnTo>
                    <a:pt x="384" y="1917"/>
                  </a:lnTo>
                  <a:lnTo>
                    <a:pt x="368" y="1895"/>
                  </a:lnTo>
                  <a:lnTo>
                    <a:pt x="346" y="1879"/>
                  </a:lnTo>
                  <a:lnTo>
                    <a:pt x="330" y="1863"/>
                  </a:lnTo>
                  <a:lnTo>
                    <a:pt x="308" y="1841"/>
                  </a:lnTo>
                  <a:lnTo>
                    <a:pt x="292" y="1825"/>
                  </a:lnTo>
                  <a:lnTo>
                    <a:pt x="276" y="1803"/>
                  </a:lnTo>
                  <a:lnTo>
                    <a:pt x="260" y="1782"/>
                  </a:lnTo>
                  <a:lnTo>
                    <a:pt x="243" y="1766"/>
                  </a:lnTo>
                  <a:lnTo>
                    <a:pt x="222" y="1744"/>
                  </a:lnTo>
                  <a:lnTo>
                    <a:pt x="205" y="1722"/>
                  </a:lnTo>
                  <a:lnTo>
                    <a:pt x="189" y="1701"/>
                  </a:lnTo>
                  <a:lnTo>
                    <a:pt x="178" y="1679"/>
                  </a:lnTo>
                  <a:lnTo>
                    <a:pt x="162" y="1658"/>
                  </a:lnTo>
                  <a:lnTo>
                    <a:pt x="151" y="1636"/>
                  </a:lnTo>
                  <a:lnTo>
                    <a:pt x="135" y="1608"/>
                  </a:lnTo>
                  <a:lnTo>
                    <a:pt x="124" y="1586"/>
                  </a:lnTo>
                  <a:lnTo>
                    <a:pt x="113" y="1565"/>
                  </a:lnTo>
                  <a:lnTo>
                    <a:pt x="102" y="1538"/>
                  </a:lnTo>
                  <a:lnTo>
                    <a:pt x="92" y="1516"/>
                  </a:lnTo>
                  <a:lnTo>
                    <a:pt x="81" y="1489"/>
                  </a:lnTo>
                  <a:lnTo>
                    <a:pt x="70" y="1462"/>
                  </a:lnTo>
                  <a:lnTo>
                    <a:pt x="65" y="1441"/>
                  </a:lnTo>
                  <a:lnTo>
                    <a:pt x="48" y="1414"/>
                  </a:lnTo>
                  <a:lnTo>
                    <a:pt x="43" y="1387"/>
                  </a:lnTo>
                  <a:lnTo>
                    <a:pt x="37" y="1365"/>
                  </a:lnTo>
                  <a:lnTo>
                    <a:pt x="32" y="1338"/>
                  </a:lnTo>
                  <a:lnTo>
                    <a:pt x="27" y="1306"/>
                  </a:lnTo>
                  <a:lnTo>
                    <a:pt x="21" y="1284"/>
                  </a:lnTo>
                  <a:lnTo>
                    <a:pt x="16" y="1252"/>
                  </a:lnTo>
                  <a:lnTo>
                    <a:pt x="10" y="1225"/>
                  </a:lnTo>
                  <a:lnTo>
                    <a:pt x="5" y="1198"/>
                  </a:lnTo>
                  <a:lnTo>
                    <a:pt x="5" y="1171"/>
                  </a:lnTo>
                  <a:lnTo>
                    <a:pt x="5" y="1144"/>
                  </a:lnTo>
                  <a:lnTo>
                    <a:pt x="0" y="1112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72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38120" y="2749680"/>
              <a:ext cx="806760" cy="778320"/>
            </a:xfrm>
            <a:custGeom>
              <a:avLst/>
              <a:gdLst/>
              <a:ahLst/>
              <a:rect l="0" t="0" r="r" b="b"/>
              <a:pathLst>
                <a:path w="2241" h="2162">
                  <a:moveTo>
                    <a:pt x="0" y="1084"/>
                  </a:moveTo>
                  <a:lnTo>
                    <a:pt x="0" y="1051"/>
                  </a:lnTo>
                  <a:lnTo>
                    <a:pt x="0" y="1024"/>
                  </a:lnTo>
                  <a:lnTo>
                    <a:pt x="0" y="997"/>
                  </a:lnTo>
                  <a:lnTo>
                    <a:pt x="5" y="970"/>
                  </a:lnTo>
                  <a:lnTo>
                    <a:pt x="10" y="938"/>
                  </a:lnTo>
                  <a:lnTo>
                    <a:pt x="10" y="917"/>
                  </a:lnTo>
                  <a:lnTo>
                    <a:pt x="16" y="884"/>
                  </a:lnTo>
                  <a:lnTo>
                    <a:pt x="21" y="863"/>
                  </a:lnTo>
                  <a:lnTo>
                    <a:pt x="27" y="836"/>
                  </a:lnTo>
                  <a:lnTo>
                    <a:pt x="32" y="809"/>
                  </a:lnTo>
                  <a:lnTo>
                    <a:pt x="37" y="782"/>
                  </a:lnTo>
                  <a:lnTo>
                    <a:pt x="54" y="755"/>
                  </a:lnTo>
                  <a:lnTo>
                    <a:pt x="59" y="733"/>
                  </a:lnTo>
                  <a:lnTo>
                    <a:pt x="70" y="706"/>
                  </a:lnTo>
                  <a:lnTo>
                    <a:pt x="75" y="679"/>
                  </a:lnTo>
                  <a:lnTo>
                    <a:pt x="86" y="653"/>
                  </a:lnTo>
                  <a:lnTo>
                    <a:pt x="97" y="631"/>
                  </a:lnTo>
                  <a:lnTo>
                    <a:pt x="108" y="609"/>
                  </a:lnTo>
                  <a:lnTo>
                    <a:pt x="119" y="588"/>
                  </a:lnTo>
                  <a:lnTo>
                    <a:pt x="135" y="561"/>
                  </a:lnTo>
                  <a:lnTo>
                    <a:pt x="146" y="538"/>
                  </a:lnTo>
                  <a:lnTo>
                    <a:pt x="162" y="517"/>
                  </a:lnTo>
                  <a:lnTo>
                    <a:pt x="173" y="490"/>
                  </a:lnTo>
                  <a:lnTo>
                    <a:pt x="189" y="474"/>
                  </a:lnTo>
                  <a:lnTo>
                    <a:pt x="206" y="452"/>
                  </a:lnTo>
                  <a:lnTo>
                    <a:pt x="216" y="431"/>
                  </a:lnTo>
                  <a:lnTo>
                    <a:pt x="238" y="409"/>
                  </a:lnTo>
                  <a:lnTo>
                    <a:pt x="254" y="387"/>
                  </a:lnTo>
                  <a:lnTo>
                    <a:pt x="271" y="371"/>
                  </a:lnTo>
                  <a:lnTo>
                    <a:pt x="287" y="350"/>
                  </a:lnTo>
                  <a:lnTo>
                    <a:pt x="303" y="334"/>
                  </a:lnTo>
                  <a:lnTo>
                    <a:pt x="325" y="312"/>
                  </a:lnTo>
                  <a:lnTo>
                    <a:pt x="341" y="296"/>
                  </a:lnTo>
                  <a:lnTo>
                    <a:pt x="363" y="280"/>
                  </a:lnTo>
                  <a:lnTo>
                    <a:pt x="379" y="264"/>
                  </a:lnTo>
                  <a:lnTo>
                    <a:pt x="406" y="247"/>
                  </a:lnTo>
                  <a:lnTo>
                    <a:pt x="428" y="231"/>
                  </a:lnTo>
                  <a:lnTo>
                    <a:pt x="444" y="215"/>
                  </a:lnTo>
                  <a:lnTo>
                    <a:pt x="466" y="199"/>
                  </a:lnTo>
                  <a:lnTo>
                    <a:pt x="488" y="183"/>
                  </a:lnTo>
                  <a:lnTo>
                    <a:pt x="509" y="172"/>
                  </a:lnTo>
                  <a:lnTo>
                    <a:pt x="536" y="156"/>
                  </a:lnTo>
                  <a:lnTo>
                    <a:pt x="558" y="140"/>
                  </a:lnTo>
                  <a:lnTo>
                    <a:pt x="585" y="129"/>
                  </a:lnTo>
                  <a:lnTo>
                    <a:pt x="607" y="118"/>
                  </a:lnTo>
                  <a:lnTo>
                    <a:pt x="629" y="107"/>
                  </a:lnTo>
                  <a:lnTo>
                    <a:pt x="656" y="96"/>
                  </a:lnTo>
                  <a:lnTo>
                    <a:pt x="678" y="86"/>
                  </a:lnTo>
                  <a:lnTo>
                    <a:pt x="705" y="75"/>
                  </a:lnTo>
                  <a:lnTo>
                    <a:pt x="732" y="64"/>
                  </a:lnTo>
                  <a:lnTo>
                    <a:pt x="759" y="59"/>
                  </a:lnTo>
                  <a:lnTo>
                    <a:pt x="786" y="48"/>
                  </a:lnTo>
                  <a:lnTo>
                    <a:pt x="813" y="43"/>
                  </a:lnTo>
                  <a:lnTo>
                    <a:pt x="835" y="37"/>
                  </a:lnTo>
                  <a:lnTo>
                    <a:pt x="862" y="32"/>
                  </a:lnTo>
                  <a:lnTo>
                    <a:pt x="889" y="26"/>
                  </a:lnTo>
                  <a:lnTo>
                    <a:pt x="922" y="21"/>
                  </a:lnTo>
                  <a:lnTo>
                    <a:pt x="949" y="16"/>
                  </a:lnTo>
                  <a:lnTo>
                    <a:pt x="976" y="10"/>
                  </a:lnTo>
                  <a:lnTo>
                    <a:pt x="1003" y="5"/>
                  </a:lnTo>
                  <a:lnTo>
                    <a:pt x="1035" y="5"/>
                  </a:lnTo>
                  <a:lnTo>
                    <a:pt x="1063" y="0"/>
                  </a:lnTo>
                  <a:lnTo>
                    <a:pt x="1090" y="0"/>
                  </a:lnTo>
                  <a:lnTo>
                    <a:pt x="1150" y="0"/>
                  </a:lnTo>
                  <a:lnTo>
                    <a:pt x="1178" y="0"/>
                  </a:lnTo>
                  <a:lnTo>
                    <a:pt x="1205" y="5"/>
                  </a:lnTo>
                  <a:lnTo>
                    <a:pt x="1232" y="5"/>
                  </a:lnTo>
                  <a:lnTo>
                    <a:pt x="1264" y="10"/>
                  </a:lnTo>
                  <a:lnTo>
                    <a:pt x="1291" y="16"/>
                  </a:lnTo>
                  <a:lnTo>
                    <a:pt x="1319" y="21"/>
                  </a:lnTo>
                  <a:lnTo>
                    <a:pt x="1346" y="26"/>
                  </a:lnTo>
                  <a:lnTo>
                    <a:pt x="1373" y="32"/>
                  </a:lnTo>
                  <a:lnTo>
                    <a:pt x="1400" y="37"/>
                  </a:lnTo>
                  <a:lnTo>
                    <a:pt x="1427" y="43"/>
                  </a:lnTo>
                  <a:lnTo>
                    <a:pt x="1454" y="48"/>
                  </a:lnTo>
                  <a:lnTo>
                    <a:pt x="1481" y="59"/>
                  </a:lnTo>
                  <a:lnTo>
                    <a:pt x="1508" y="64"/>
                  </a:lnTo>
                  <a:lnTo>
                    <a:pt x="1536" y="75"/>
                  </a:lnTo>
                  <a:lnTo>
                    <a:pt x="1557" y="86"/>
                  </a:lnTo>
                  <a:lnTo>
                    <a:pt x="1584" y="96"/>
                  </a:lnTo>
                  <a:lnTo>
                    <a:pt x="1611" y="107"/>
                  </a:lnTo>
                  <a:lnTo>
                    <a:pt x="1633" y="118"/>
                  </a:lnTo>
                  <a:lnTo>
                    <a:pt x="1655" y="129"/>
                  </a:lnTo>
                  <a:lnTo>
                    <a:pt x="1682" y="140"/>
                  </a:lnTo>
                  <a:lnTo>
                    <a:pt x="1704" y="156"/>
                  </a:lnTo>
                  <a:lnTo>
                    <a:pt x="1725" y="172"/>
                  </a:lnTo>
                  <a:lnTo>
                    <a:pt x="1747" y="183"/>
                  </a:lnTo>
                  <a:lnTo>
                    <a:pt x="1769" y="199"/>
                  </a:lnTo>
                  <a:lnTo>
                    <a:pt x="1796" y="215"/>
                  </a:lnTo>
                  <a:lnTo>
                    <a:pt x="1818" y="231"/>
                  </a:lnTo>
                  <a:lnTo>
                    <a:pt x="1834" y="247"/>
                  </a:lnTo>
                  <a:lnTo>
                    <a:pt x="1856" y="264"/>
                  </a:lnTo>
                  <a:lnTo>
                    <a:pt x="1877" y="280"/>
                  </a:lnTo>
                  <a:lnTo>
                    <a:pt x="1893" y="296"/>
                  </a:lnTo>
                  <a:lnTo>
                    <a:pt x="1915" y="312"/>
                  </a:lnTo>
                  <a:lnTo>
                    <a:pt x="1931" y="334"/>
                  </a:lnTo>
                  <a:lnTo>
                    <a:pt x="1953" y="350"/>
                  </a:lnTo>
                  <a:lnTo>
                    <a:pt x="1969" y="371"/>
                  </a:lnTo>
                  <a:lnTo>
                    <a:pt x="1986" y="387"/>
                  </a:lnTo>
                  <a:lnTo>
                    <a:pt x="2002" y="409"/>
                  </a:lnTo>
                  <a:lnTo>
                    <a:pt x="2018" y="431"/>
                  </a:lnTo>
                  <a:lnTo>
                    <a:pt x="2035" y="452"/>
                  </a:lnTo>
                  <a:lnTo>
                    <a:pt x="2051" y="474"/>
                  </a:lnTo>
                  <a:lnTo>
                    <a:pt x="2067" y="490"/>
                  </a:lnTo>
                  <a:lnTo>
                    <a:pt x="2078" y="517"/>
                  </a:lnTo>
                  <a:lnTo>
                    <a:pt x="2094" y="538"/>
                  </a:lnTo>
                  <a:lnTo>
                    <a:pt x="2105" y="561"/>
                  </a:lnTo>
                  <a:lnTo>
                    <a:pt x="2116" y="588"/>
                  </a:lnTo>
                  <a:lnTo>
                    <a:pt x="2132" y="609"/>
                  </a:lnTo>
                  <a:lnTo>
                    <a:pt x="2143" y="631"/>
                  </a:lnTo>
                  <a:lnTo>
                    <a:pt x="2154" y="653"/>
                  </a:lnTo>
                  <a:lnTo>
                    <a:pt x="2165" y="679"/>
                  </a:lnTo>
                  <a:lnTo>
                    <a:pt x="2170" y="706"/>
                  </a:lnTo>
                  <a:lnTo>
                    <a:pt x="2181" y="733"/>
                  </a:lnTo>
                  <a:lnTo>
                    <a:pt x="2192" y="755"/>
                  </a:lnTo>
                  <a:lnTo>
                    <a:pt x="2197" y="782"/>
                  </a:lnTo>
                  <a:lnTo>
                    <a:pt x="2203" y="809"/>
                  </a:lnTo>
                  <a:lnTo>
                    <a:pt x="2208" y="836"/>
                  </a:lnTo>
                  <a:lnTo>
                    <a:pt x="2219" y="863"/>
                  </a:lnTo>
                  <a:lnTo>
                    <a:pt x="2224" y="884"/>
                  </a:lnTo>
                  <a:lnTo>
                    <a:pt x="2224" y="917"/>
                  </a:lnTo>
                  <a:lnTo>
                    <a:pt x="2230" y="938"/>
                  </a:lnTo>
                  <a:lnTo>
                    <a:pt x="2235" y="970"/>
                  </a:lnTo>
                  <a:lnTo>
                    <a:pt x="2235" y="997"/>
                  </a:lnTo>
                  <a:lnTo>
                    <a:pt x="2235" y="1024"/>
                  </a:lnTo>
                  <a:lnTo>
                    <a:pt x="2241" y="1051"/>
                  </a:lnTo>
                  <a:lnTo>
                    <a:pt x="2241" y="1084"/>
                  </a:lnTo>
                  <a:lnTo>
                    <a:pt x="2241" y="1105"/>
                  </a:lnTo>
                  <a:lnTo>
                    <a:pt x="2235" y="1137"/>
                  </a:lnTo>
                  <a:lnTo>
                    <a:pt x="2235" y="1164"/>
                  </a:lnTo>
                  <a:lnTo>
                    <a:pt x="2235" y="1191"/>
                  </a:lnTo>
                  <a:lnTo>
                    <a:pt x="2230" y="1218"/>
                  </a:lnTo>
                  <a:lnTo>
                    <a:pt x="2224" y="1245"/>
                  </a:lnTo>
                  <a:lnTo>
                    <a:pt x="2224" y="1272"/>
                  </a:lnTo>
                  <a:lnTo>
                    <a:pt x="2219" y="1299"/>
                  </a:lnTo>
                  <a:lnTo>
                    <a:pt x="2208" y="1326"/>
                  </a:lnTo>
                  <a:lnTo>
                    <a:pt x="2203" y="1353"/>
                  </a:lnTo>
                  <a:lnTo>
                    <a:pt x="2197" y="1380"/>
                  </a:lnTo>
                  <a:lnTo>
                    <a:pt x="2192" y="1407"/>
                  </a:lnTo>
                  <a:lnTo>
                    <a:pt x="2181" y="1428"/>
                  </a:lnTo>
                  <a:lnTo>
                    <a:pt x="2170" y="1455"/>
                  </a:lnTo>
                  <a:lnTo>
                    <a:pt x="2165" y="1482"/>
                  </a:lnTo>
                  <a:lnTo>
                    <a:pt x="2154" y="1504"/>
                  </a:lnTo>
                  <a:lnTo>
                    <a:pt x="2143" y="1531"/>
                  </a:lnTo>
                  <a:lnTo>
                    <a:pt x="2132" y="1552"/>
                  </a:lnTo>
                  <a:lnTo>
                    <a:pt x="2116" y="1574"/>
                  </a:lnTo>
                  <a:lnTo>
                    <a:pt x="2105" y="1595"/>
                  </a:lnTo>
                  <a:lnTo>
                    <a:pt x="2094" y="1623"/>
                  </a:lnTo>
                  <a:lnTo>
                    <a:pt x="2078" y="1645"/>
                  </a:lnTo>
                  <a:lnTo>
                    <a:pt x="2067" y="1667"/>
                  </a:lnTo>
                  <a:lnTo>
                    <a:pt x="2051" y="1688"/>
                  </a:lnTo>
                  <a:lnTo>
                    <a:pt x="2035" y="1710"/>
                  </a:lnTo>
                  <a:lnTo>
                    <a:pt x="2018" y="1731"/>
                  </a:lnTo>
                  <a:lnTo>
                    <a:pt x="2002" y="1753"/>
                  </a:lnTo>
                  <a:lnTo>
                    <a:pt x="1986" y="1774"/>
                  </a:lnTo>
                  <a:lnTo>
                    <a:pt x="1969" y="1790"/>
                  </a:lnTo>
                  <a:lnTo>
                    <a:pt x="1953" y="1812"/>
                  </a:lnTo>
                  <a:lnTo>
                    <a:pt x="1931" y="1828"/>
                  </a:lnTo>
                  <a:lnTo>
                    <a:pt x="1915" y="1850"/>
                  </a:lnTo>
                  <a:lnTo>
                    <a:pt x="1893" y="1866"/>
                  </a:lnTo>
                  <a:lnTo>
                    <a:pt x="1877" y="1882"/>
                  </a:lnTo>
                  <a:lnTo>
                    <a:pt x="1856" y="1898"/>
                  </a:lnTo>
                  <a:lnTo>
                    <a:pt x="1834" y="1914"/>
                  </a:lnTo>
                  <a:lnTo>
                    <a:pt x="1818" y="1936"/>
                  </a:lnTo>
                  <a:lnTo>
                    <a:pt x="1796" y="1947"/>
                  </a:lnTo>
                  <a:lnTo>
                    <a:pt x="1769" y="1968"/>
                  </a:lnTo>
                  <a:lnTo>
                    <a:pt x="1747" y="1979"/>
                  </a:lnTo>
                  <a:lnTo>
                    <a:pt x="1725" y="1995"/>
                  </a:lnTo>
                  <a:lnTo>
                    <a:pt x="1704" y="2006"/>
                  </a:lnTo>
                  <a:lnTo>
                    <a:pt x="1682" y="2022"/>
                  </a:lnTo>
                  <a:lnTo>
                    <a:pt x="1655" y="2033"/>
                  </a:lnTo>
                  <a:lnTo>
                    <a:pt x="1633" y="2044"/>
                  </a:lnTo>
                  <a:lnTo>
                    <a:pt x="1611" y="2054"/>
                  </a:lnTo>
                  <a:lnTo>
                    <a:pt x="1584" y="2065"/>
                  </a:lnTo>
                  <a:lnTo>
                    <a:pt x="1557" y="2076"/>
                  </a:lnTo>
                  <a:lnTo>
                    <a:pt x="1536" y="2087"/>
                  </a:lnTo>
                  <a:lnTo>
                    <a:pt x="1508" y="2098"/>
                  </a:lnTo>
                  <a:lnTo>
                    <a:pt x="1481" y="2103"/>
                  </a:lnTo>
                  <a:lnTo>
                    <a:pt x="1454" y="2114"/>
                  </a:lnTo>
                  <a:lnTo>
                    <a:pt x="1427" y="2119"/>
                  </a:lnTo>
                  <a:lnTo>
                    <a:pt x="1400" y="2130"/>
                  </a:lnTo>
                  <a:lnTo>
                    <a:pt x="1373" y="2135"/>
                  </a:lnTo>
                  <a:lnTo>
                    <a:pt x="1346" y="2141"/>
                  </a:lnTo>
                  <a:lnTo>
                    <a:pt x="1319" y="2146"/>
                  </a:lnTo>
                  <a:lnTo>
                    <a:pt x="1291" y="2151"/>
                  </a:lnTo>
                  <a:lnTo>
                    <a:pt x="1264" y="2151"/>
                  </a:lnTo>
                  <a:lnTo>
                    <a:pt x="1232" y="2157"/>
                  </a:lnTo>
                  <a:lnTo>
                    <a:pt x="1205" y="2157"/>
                  </a:lnTo>
                  <a:lnTo>
                    <a:pt x="1178" y="2162"/>
                  </a:lnTo>
                  <a:lnTo>
                    <a:pt x="1150" y="2162"/>
                  </a:lnTo>
                  <a:lnTo>
                    <a:pt x="1090" y="2162"/>
                  </a:lnTo>
                  <a:lnTo>
                    <a:pt x="1063" y="2162"/>
                  </a:lnTo>
                  <a:lnTo>
                    <a:pt x="1035" y="2157"/>
                  </a:lnTo>
                  <a:lnTo>
                    <a:pt x="1003" y="2157"/>
                  </a:lnTo>
                  <a:lnTo>
                    <a:pt x="976" y="2151"/>
                  </a:lnTo>
                  <a:lnTo>
                    <a:pt x="949" y="2151"/>
                  </a:lnTo>
                  <a:lnTo>
                    <a:pt x="922" y="2146"/>
                  </a:lnTo>
                  <a:lnTo>
                    <a:pt x="889" y="2141"/>
                  </a:lnTo>
                  <a:lnTo>
                    <a:pt x="862" y="2135"/>
                  </a:lnTo>
                  <a:lnTo>
                    <a:pt x="835" y="2130"/>
                  </a:lnTo>
                  <a:lnTo>
                    <a:pt x="813" y="2119"/>
                  </a:lnTo>
                  <a:lnTo>
                    <a:pt x="786" y="2114"/>
                  </a:lnTo>
                  <a:lnTo>
                    <a:pt x="759" y="2103"/>
                  </a:lnTo>
                  <a:lnTo>
                    <a:pt x="732" y="2098"/>
                  </a:lnTo>
                  <a:lnTo>
                    <a:pt x="705" y="2087"/>
                  </a:lnTo>
                  <a:lnTo>
                    <a:pt x="678" y="2076"/>
                  </a:lnTo>
                  <a:lnTo>
                    <a:pt x="656" y="2065"/>
                  </a:lnTo>
                  <a:lnTo>
                    <a:pt x="629" y="2054"/>
                  </a:lnTo>
                  <a:lnTo>
                    <a:pt x="607" y="2044"/>
                  </a:lnTo>
                  <a:lnTo>
                    <a:pt x="585" y="2033"/>
                  </a:lnTo>
                  <a:lnTo>
                    <a:pt x="558" y="2022"/>
                  </a:lnTo>
                  <a:lnTo>
                    <a:pt x="536" y="2006"/>
                  </a:lnTo>
                  <a:lnTo>
                    <a:pt x="509" y="1995"/>
                  </a:lnTo>
                  <a:lnTo>
                    <a:pt x="488" y="1979"/>
                  </a:lnTo>
                  <a:lnTo>
                    <a:pt x="466" y="1968"/>
                  </a:lnTo>
                  <a:lnTo>
                    <a:pt x="444" y="1947"/>
                  </a:lnTo>
                  <a:lnTo>
                    <a:pt x="428" y="1936"/>
                  </a:lnTo>
                  <a:lnTo>
                    <a:pt x="406" y="1914"/>
                  </a:lnTo>
                  <a:lnTo>
                    <a:pt x="379" y="1898"/>
                  </a:lnTo>
                  <a:lnTo>
                    <a:pt x="363" y="1882"/>
                  </a:lnTo>
                  <a:lnTo>
                    <a:pt x="341" y="1866"/>
                  </a:lnTo>
                  <a:lnTo>
                    <a:pt x="325" y="1850"/>
                  </a:lnTo>
                  <a:lnTo>
                    <a:pt x="303" y="1828"/>
                  </a:lnTo>
                  <a:lnTo>
                    <a:pt x="287" y="1812"/>
                  </a:lnTo>
                  <a:lnTo>
                    <a:pt x="271" y="1790"/>
                  </a:lnTo>
                  <a:lnTo>
                    <a:pt x="254" y="1774"/>
                  </a:lnTo>
                  <a:lnTo>
                    <a:pt x="238" y="1753"/>
                  </a:lnTo>
                  <a:lnTo>
                    <a:pt x="216" y="1731"/>
                  </a:lnTo>
                  <a:lnTo>
                    <a:pt x="206" y="1710"/>
                  </a:lnTo>
                  <a:lnTo>
                    <a:pt x="189" y="1688"/>
                  </a:lnTo>
                  <a:lnTo>
                    <a:pt x="173" y="1667"/>
                  </a:lnTo>
                  <a:lnTo>
                    <a:pt x="162" y="1645"/>
                  </a:lnTo>
                  <a:lnTo>
                    <a:pt x="146" y="1623"/>
                  </a:lnTo>
                  <a:lnTo>
                    <a:pt x="135" y="1595"/>
                  </a:lnTo>
                  <a:lnTo>
                    <a:pt x="119" y="1574"/>
                  </a:lnTo>
                  <a:lnTo>
                    <a:pt x="108" y="1552"/>
                  </a:lnTo>
                  <a:lnTo>
                    <a:pt x="97" y="1531"/>
                  </a:lnTo>
                  <a:lnTo>
                    <a:pt x="86" y="1504"/>
                  </a:lnTo>
                  <a:lnTo>
                    <a:pt x="75" y="1482"/>
                  </a:lnTo>
                  <a:lnTo>
                    <a:pt x="70" y="1455"/>
                  </a:lnTo>
                  <a:lnTo>
                    <a:pt x="59" y="1428"/>
                  </a:lnTo>
                  <a:lnTo>
                    <a:pt x="54" y="1407"/>
                  </a:lnTo>
                  <a:lnTo>
                    <a:pt x="37" y="1380"/>
                  </a:lnTo>
                  <a:lnTo>
                    <a:pt x="32" y="1353"/>
                  </a:lnTo>
                  <a:lnTo>
                    <a:pt x="27" y="1326"/>
                  </a:lnTo>
                  <a:lnTo>
                    <a:pt x="21" y="1299"/>
                  </a:lnTo>
                  <a:lnTo>
                    <a:pt x="16" y="1272"/>
                  </a:lnTo>
                  <a:lnTo>
                    <a:pt x="10" y="1245"/>
                  </a:lnTo>
                  <a:lnTo>
                    <a:pt x="10" y="1218"/>
                  </a:lnTo>
                  <a:lnTo>
                    <a:pt x="5" y="1191"/>
                  </a:lnTo>
                  <a:lnTo>
                    <a:pt x="0" y="1164"/>
                  </a:lnTo>
                  <a:lnTo>
                    <a:pt x="0" y="1137"/>
                  </a:lnTo>
                  <a:lnTo>
                    <a:pt x="0" y="1105"/>
                  </a:lnTo>
                  <a:lnTo>
                    <a:pt x="0" y="1084"/>
                  </a:lnTo>
                  <a:close/>
                </a:path>
              </a:pathLst>
            </a:custGeom>
            <a:solidFill>
              <a:srgbClr val="7c9b9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3160" y="2754360"/>
              <a:ext cx="798840" cy="771840"/>
            </a:xfrm>
            <a:custGeom>
              <a:avLst/>
              <a:gdLst/>
              <a:ahLst/>
              <a:rect l="0" t="0" r="r" b="b"/>
              <a:pathLst>
                <a:path w="2219" h="2144">
                  <a:moveTo>
                    <a:pt x="0" y="1071"/>
                  </a:moveTo>
                  <a:lnTo>
                    <a:pt x="0" y="1039"/>
                  </a:lnTo>
                  <a:lnTo>
                    <a:pt x="0" y="1012"/>
                  </a:lnTo>
                  <a:lnTo>
                    <a:pt x="0" y="985"/>
                  </a:lnTo>
                  <a:lnTo>
                    <a:pt x="0" y="953"/>
                  </a:lnTo>
                  <a:lnTo>
                    <a:pt x="5" y="926"/>
                  </a:lnTo>
                  <a:lnTo>
                    <a:pt x="10" y="899"/>
                  </a:lnTo>
                  <a:lnTo>
                    <a:pt x="16" y="872"/>
                  </a:lnTo>
                  <a:lnTo>
                    <a:pt x="16" y="850"/>
                  </a:lnTo>
                  <a:lnTo>
                    <a:pt x="27" y="823"/>
                  </a:lnTo>
                  <a:lnTo>
                    <a:pt x="32" y="791"/>
                  </a:lnTo>
                  <a:lnTo>
                    <a:pt x="43" y="764"/>
                  </a:lnTo>
                  <a:lnTo>
                    <a:pt x="48" y="743"/>
                  </a:lnTo>
                  <a:lnTo>
                    <a:pt x="59" y="716"/>
                  </a:lnTo>
                  <a:lnTo>
                    <a:pt x="65" y="694"/>
                  </a:lnTo>
                  <a:lnTo>
                    <a:pt x="75" y="667"/>
                  </a:lnTo>
                  <a:lnTo>
                    <a:pt x="86" y="640"/>
                  </a:lnTo>
                  <a:lnTo>
                    <a:pt x="97" y="619"/>
                  </a:lnTo>
                  <a:lnTo>
                    <a:pt x="108" y="592"/>
                  </a:lnTo>
                  <a:lnTo>
                    <a:pt x="119" y="570"/>
                  </a:lnTo>
                  <a:lnTo>
                    <a:pt x="135" y="549"/>
                  </a:lnTo>
                  <a:lnTo>
                    <a:pt x="146" y="522"/>
                  </a:lnTo>
                  <a:lnTo>
                    <a:pt x="162" y="500"/>
                  </a:lnTo>
                  <a:lnTo>
                    <a:pt x="173" y="479"/>
                  </a:lnTo>
                  <a:lnTo>
                    <a:pt x="189" y="457"/>
                  </a:lnTo>
                  <a:lnTo>
                    <a:pt x="206" y="436"/>
                  </a:lnTo>
                  <a:lnTo>
                    <a:pt x="222" y="414"/>
                  </a:lnTo>
                  <a:lnTo>
                    <a:pt x="238" y="393"/>
                  </a:lnTo>
                  <a:lnTo>
                    <a:pt x="254" y="376"/>
                  </a:lnTo>
                  <a:lnTo>
                    <a:pt x="276" y="360"/>
                  </a:lnTo>
                  <a:lnTo>
                    <a:pt x="292" y="339"/>
                  </a:lnTo>
                  <a:lnTo>
                    <a:pt x="309" y="323"/>
                  </a:lnTo>
                  <a:lnTo>
                    <a:pt x="330" y="301"/>
                  </a:lnTo>
                  <a:lnTo>
                    <a:pt x="347" y="280"/>
                  </a:lnTo>
                  <a:lnTo>
                    <a:pt x="368" y="263"/>
                  </a:lnTo>
                  <a:lnTo>
                    <a:pt x="390" y="247"/>
                  </a:lnTo>
                  <a:lnTo>
                    <a:pt x="412" y="231"/>
                  </a:lnTo>
                  <a:lnTo>
                    <a:pt x="433" y="215"/>
                  </a:lnTo>
                  <a:lnTo>
                    <a:pt x="455" y="199"/>
                  </a:lnTo>
                  <a:lnTo>
                    <a:pt x="477" y="188"/>
                  </a:lnTo>
                  <a:lnTo>
                    <a:pt x="498" y="172"/>
                  </a:lnTo>
                  <a:lnTo>
                    <a:pt x="520" y="161"/>
                  </a:lnTo>
                  <a:lnTo>
                    <a:pt x="542" y="140"/>
                  </a:lnTo>
                  <a:lnTo>
                    <a:pt x="569" y="129"/>
                  </a:lnTo>
                  <a:lnTo>
                    <a:pt x="591" y="118"/>
                  </a:lnTo>
                  <a:lnTo>
                    <a:pt x="618" y="107"/>
                  </a:lnTo>
                  <a:lnTo>
                    <a:pt x="639" y="96"/>
                  </a:lnTo>
                  <a:lnTo>
                    <a:pt x="667" y="86"/>
                  </a:lnTo>
                  <a:lnTo>
                    <a:pt x="694" y="75"/>
                  </a:lnTo>
                  <a:lnTo>
                    <a:pt x="715" y="64"/>
                  </a:lnTo>
                  <a:lnTo>
                    <a:pt x="742" y="53"/>
                  </a:lnTo>
                  <a:lnTo>
                    <a:pt x="770" y="48"/>
                  </a:lnTo>
                  <a:lnTo>
                    <a:pt x="797" y="43"/>
                  </a:lnTo>
                  <a:lnTo>
                    <a:pt x="824" y="32"/>
                  </a:lnTo>
                  <a:lnTo>
                    <a:pt x="851" y="26"/>
                  </a:lnTo>
                  <a:lnTo>
                    <a:pt x="878" y="21"/>
                  </a:lnTo>
                  <a:lnTo>
                    <a:pt x="905" y="16"/>
                  </a:lnTo>
                  <a:lnTo>
                    <a:pt x="938" y="10"/>
                  </a:lnTo>
                  <a:lnTo>
                    <a:pt x="965" y="10"/>
                  </a:lnTo>
                  <a:lnTo>
                    <a:pt x="992" y="5"/>
                  </a:lnTo>
                  <a:lnTo>
                    <a:pt x="1019" y="5"/>
                  </a:lnTo>
                  <a:lnTo>
                    <a:pt x="1046" y="0"/>
                  </a:lnTo>
                  <a:lnTo>
                    <a:pt x="1079" y="0"/>
                  </a:lnTo>
                  <a:lnTo>
                    <a:pt x="1139" y="0"/>
                  </a:lnTo>
                  <a:lnTo>
                    <a:pt x="1166" y="0"/>
                  </a:lnTo>
                  <a:lnTo>
                    <a:pt x="1194" y="5"/>
                  </a:lnTo>
                  <a:lnTo>
                    <a:pt x="1226" y="5"/>
                  </a:lnTo>
                  <a:lnTo>
                    <a:pt x="1253" y="10"/>
                  </a:lnTo>
                  <a:lnTo>
                    <a:pt x="1280" y="10"/>
                  </a:lnTo>
                  <a:lnTo>
                    <a:pt x="1313" y="16"/>
                  </a:lnTo>
                  <a:lnTo>
                    <a:pt x="1340" y="21"/>
                  </a:lnTo>
                  <a:lnTo>
                    <a:pt x="1367" y="26"/>
                  </a:lnTo>
                  <a:lnTo>
                    <a:pt x="1389" y="32"/>
                  </a:lnTo>
                  <a:lnTo>
                    <a:pt x="1416" y="43"/>
                  </a:lnTo>
                  <a:lnTo>
                    <a:pt x="1448" y="48"/>
                  </a:lnTo>
                  <a:lnTo>
                    <a:pt x="1476" y="53"/>
                  </a:lnTo>
                  <a:lnTo>
                    <a:pt x="1497" y="64"/>
                  </a:lnTo>
                  <a:lnTo>
                    <a:pt x="1524" y="75"/>
                  </a:lnTo>
                  <a:lnTo>
                    <a:pt x="1552" y="86"/>
                  </a:lnTo>
                  <a:lnTo>
                    <a:pt x="1573" y="96"/>
                  </a:lnTo>
                  <a:lnTo>
                    <a:pt x="1600" y="107"/>
                  </a:lnTo>
                  <a:lnTo>
                    <a:pt x="1627" y="118"/>
                  </a:lnTo>
                  <a:lnTo>
                    <a:pt x="1649" y="129"/>
                  </a:lnTo>
                  <a:lnTo>
                    <a:pt x="1671" y="140"/>
                  </a:lnTo>
                  <a:lnTo>
                    <a:pt x="1698" y="161"/>
                  </a:lnTo>
                  <a:lnTo>
                    <a:pt x="1720" y="172"/>
                  </a:lnTo>
                  <a:lnTo>
                    <a:pt x="1741" y="188"/>
                  </a:lnTo>
                  <a:lnTo>
                    <a:pt x="1763" y="199"/>
                  </a:lnTo>
                  <a:lnTo>
                    <a:pt x="1785" y="215"/>
                  </a:lnTo>
                  <a:lnTo>
                    <a:pt x="1806" y="231"/>
                  </a:lnTo>
                  <a:lnTo>
                    <a:pt x="1828" y="247"/>
                  </a:lnTo>
                  <a:lnTo>
                    <a:pt x="1850" y="263"/>
                  </a:lnTo>
                  <a:lnTo>
                    <a:pt x="1866" y="280"/>
                  </a:lnTo>
                  <a:lnTo>
                    <a:pt x="1888" y="301"/>
                  </a:lnTo>
                  <a:lnTo>
                    <a:pt x="1904" y="323"/>
                  </a:lnTo>
                  <a:lnTo>
                    <a:pt x="1926" y="339"/>
                  </a:lnTo>
                  <a:lnTo>
                    <a:pt x="1947" y="360"/>
                  </a:lnTo>
                  <a:lnTo>
                    <a:pt x="1964" y="376"/>
                  </a:lnTo>
                  <a:lnTo>
                    <a:pt x="1980" y="393"/>
                  </a:lnTo>
                  <a:lnTo>
                    <a:pt x="1996" y="414"/>
                  </a:lnTo>
                  <a:lnTo>
                    <a:pt x="2013" y="436"/>
                  </a:lnTo>
                  <a:lnTo>
                    <a:pt x="2029" y="457"/>
                  </a:lnTo>
                  <a:lnTo>
                    <a:pt x="2040" y="479"/>
                  </a:lnTo>
                  <a:lnTo>
                    <a:pt x="2056" y="500"/>
                  </a:lnTo>
                  <a:lnTo>
                    <a:pt x="2067" y="522"/>
                  </a:lnTo>
                  <a:lnTo>
                    <a:pt x="2083" y="549"/>
                  </a:lnTo>
                  <a:lnTo>
                    <a:pt x="2094" y="570"/>
                  </a:lnTo>
                  <a:lnTo>
                    <a:pt x="2105" y="592"/>
                  </a:lnTo>
                  <a:lnTo>
                    <a:pt x="2121" y="619"/>
                  </a:lnTo>
                  <a:lnTo>
                    <a:pt x="2132" y="640"/>
                  </a:lnTo>
                  <a:lnTo>
                    <a:pt x="2143" y="667"/>
                  </a:lnTo>
                  <a:lnTo>
                    <a:pt x="2154" y="694"/>
                  </a:lnTo>
                  <a:lnTo>
                    <a:pt x="2159" y="716"/>
                  </a:lnTo>
                  <a:lnTo>
                    <a:pt x="2170" y="743"/>
                  </a:lnTo>
                  <a:lnTo>
                    <a:pt x="2175" y="764"/>
                  </a:lnTo>
                  <a:lnTo>
                    <a:pt x="2186" y="791"/>
                  </a:lnTo>
                  <a:lnTo>
                    <a:pt x="2191" y="823"/>
                  </a:lnTo>
                  <a:lnTo>
                    <a:pt x="2197" y="850"/>
                  </a:lnTo>
                  <a:lnTo>
                    <a:pt x="2202" y="872"/>
                  </a:lnTo>
                  <a:lnTo>
                    <a:pt x="2208" y="899"/>
                  </a:lnTo>
                  <a:lnTo>
                    <a:pt x="2213" y="926"/>
                  </a:lnTo>
                  <a:lnTo>
                    <a:pt x="2213" y="953"/>
                  </a:lnTo>
                  <a:lnTo>
                    <a:pt x="2213" y="985"/>
                  </a:lnTo>
                  <a:lnTo>
                    <a:pt x="2219" y="1012"/>
                  </a:lnTo>
                  <a:lnTo>
                    <a:pt x="2219" y="1039"/>
                  </a:lnTo>
                  <a:lnTo>
                    <a:pt x="2219" y="1071"/>
                  </a:lnTo>
                  <a:lnTo>
                    <a:pt x="2219" y="1094"/>
                  </a:lnTo>
                  <a:lnTo>
                    <a:pt x="2219" y="1126"/>
                  </a:lnTo>
                  <a:lnTo>
                    <a:pt x="2213" y="1153"/>
                  </a:lnTo>
                  <a:lnTo>
                    <a:pt x="2213" y="1185"/>
                  </a:lnTo>
                  <a:lnTo>
                    <a:pt x="2213" y="1207"/>
                  </a:lnTo>
                  <a:lnTo>
                    <a:pt x="2208" y="1234"/>
                  </a:lnTo>
                  <a:lnTo>
                    <a:pt x="2202" y="1266"/>
                  </a:lnTo>
                  <a:lnTo>
                    <a:pt x="2197" y="1287"/>
                  </a:lnTo>
                  <a:lnTo>
                    <a:pt x="2191" y="1320"/>
                  </a:lnTo>
                  <a:lnTo>
                    <a:pt x="2186" y="1347"/>
                  </a:lnTo>
                  <a:lnTo>
                    <a:pt x="2175" y="1368"/>
                  </a:lnTo>
                  <a:lnTo>
                    <a:pt x="2170" y="1395"/>
                  </a:lnTo>
                  <a:lnTo>
                    <a:pt x="2159" y="1422"/>
                  </a:lnTo>
                  <a:lnTo>
                    <a:pt x="2154" y="1444"/>
                  </a:lnTo>
                  <a:lnTo>
                    <a:pt x="2143" y="1471"/>
                  </a:lnTo>
                  <a:lnTo>
                    <a:pt x="2132" y="1497"/>
                  </a:lnTo>
                  <a:lnTo>
                    <a:pt x="2121" y="1519"/>
                  </a:lnTo>
                  <a:lnTo>
                    <a:pt x="2105" y="1546"/>
                  </a:lnTo>
                  <a:lnTo>
                    <a:pt x="2094" y="1567"/>
                  </a:lnTo>
                  <a:lnTo>
                    <a:pt x="2083" y="1589"/>
                  </a:lnTo>
                  <a:lnTo>
                    <a:pt x="2067" y="1611"/>
                  </a:lnTo>
                  <a:lnTo>
                    <a:pt x="2056" y="1637"/>
                  </a:lnTo>
                  <a:lnTo>
                    <a:pt x="2040" y="1659"/>
                  </a:lnTo>
                  <a:lnTo>
                    <a:pt x="2029" y="1681"/>
                  </a:lnTo>
                  <a:lnTo>
                    <a:pt x="2013" y="1702"/>
                  </a:lnTo>
                  <a:lnTo>
                    <a:pt x="1996" y="1724"/>
                  </a:lnTo>
                  <a:lnTo>
                    <a:pt x="1980" y="1740"/>
                  </a:lnTo>
                  <a:lnTo>
                    <a:pt x="1964" y="1761"/>
                  </a:lnTo>
                  <a:lnTo>
                    <a:pt x="1947" y="1783"/>
                  </a:lnTo>
                  <a:lnTo>
                    <a:pt x="1926" y="1804"/>
                  </a:lnTo>
                  <a:lnTo>
                    <a:pt x="1904" y="1821"/>
                  </a:lnTo>
                  <a:lnTo>
                    <a:pt x="1888" y="1842"/>
                  </a:lnTo>
                  <a:lnTo>
                    <a:pt x="1866" y="1858"/>
                  </a:lnTo>
                  <a:lnTo>
                    <a:pt x="1850" y="1874"/>
                  </a:lnTo>
                  <a:lnTo>
                    <a:pt x="1828" y="1891"/>
                  </a:lnTo>
                  <a:lnTo>
                    <a:pt x="1806" y="1907"/>
                  </a:lnTo>
                  <a:lnTo>
                    <a:pt x="1785" y="1923"/>
                  </a:lnTo>
                  <a:lnTo>
                    <a:pt x="1763" y="1939"/>
                  </a:lnTo>
                  <a:lnTo>
                    <a:pt x="1741" y="1955"/>
                  </a:lnTo>
                  <a:lnTo>
                    <a:pt x="1720" y="1971"/>
                  </a:lnTo>
                  <a:lnTo>
                    <a:pt x="1698" y="1982"/>
                  </a:lnTo>
                  <a:lnTo>
                    <a:pt x="1671" y="1998"/>
                  </a:lnTo>
                  <a:lnTo>
                    <a:pt x="1649" y="2009"/>
                  </a:lnTo>
                  <a:lnTo>
                    <a:pt x="1627" y="2020"/>
                  </a:lnTo>
                  <a:lnTo>
                    <a:pt x="1600" y="2031"/>
                  </a:lnTo>
                  <a:lnTo>
                    <a:pt x="1573" y="2041"/>
                  </a:lnTo>
                  <a:lnTo>
                    <a:pt x="1552" y="2052"/>
                  </a:lnTo>
                  <a:lnTo>
                    <a:pt x="1524" y="2063"/>
                  </a:lnTo>
                  <a:lnTo>
                    <a:pt x="1497" y="2074"/>
                  </a:lnTo>
                  <a:lnTo>
                    <a:pt x="1476" y="2084"/>
                  </a:lnTo>
                  <a:lnTo>
                    <a:pt x="1448" y="2090"/>
                  </a:lnTo>
                  <a:lnTo>
                    <a:pt x="1416" y="2101"/>
                  </a:lnTo>
                  <a:lnTo>
                    <a:pt x="1389" y="2106"/>
                  </a:lnTo>
                  <a:lnTo>
                    <a:pt x="1367" y="2117"/>
                  </a:lnTo>
                  <a:lnTo>
                    <a:pt x="1340" y="2117"/>
                  </a:lnTo>
                  <a:lnTo>
                    <a:pt x="1313" y="2122"/>
                  </a:lnTo>
                  <a:lnTo>
                    <a:pt x="1280" y="2127"/>
                  </a:lnTo>
                  <a:lnTo>
                    <a:pt x="1253" y="2133"/>
                  </a:lnTo>
                  <a:lnTo>
                    <a:pt x="1226" y="2133"/>
                  </a:lnTo>
                  <a:lnTo>
                    <a:pt x="1194" y="2138"/>
                  </a:lnTo>
                  <a:lnTo>
                    <a:pt x="1166" y="2138"/>
                  </a:lnTo>
                  <a:lnTo>
                    <a:pt x="1139" y="2144"/>
                  </a:lnTo>
                  <a:lnTo>
                    <a:pt x="1079" y="2144"/>
                  </a:lnTo>
                  <a:lnTo>
                    <a:pt x="1046" y="2138"/>
                  </a:lnTo>
                  <a:lnTo>
                    <a:pt x="1019" y="2138"/>
                  </a:lnTo>
                  <a:lnTo>
                    <a:pt x="992" y="2133"/>
                  </a:lnTo>
                  <a:lnTo>
                    <a:pt x="965" y="2133"/>
                  </a:lnTo>
                  <a:lnTo>
                    <a:pt x="938" y="2127"/>
                  </a:lnTo>
                  <a:lnTo>
                    <a:pt x="905" y="2122"/>
                  </a:lnTo>
                  <a:lnTo>
                    <a:pt x="878" y="2117"/>
                  </a:lnTo>
                  <a:lnTo>
                    <a:pt x="851" y="2117"/>
                  </a:lnTo>
                  <a:lnTo>
                    <a:pt x="824" y="2106"/>
                  </a:lnTo>
                  <a:lnTo>
                    <a:pt x="797" y="2101"/>
                  </a:lnTo>
                  <a:lnTo>
                    <a:pt x="770" y="2090"/>
                  </a:lnTo>
                  <a:lnTo>
                    <a:pt x="742" y="2084"/>
                  </a:lnTo>
                  <a:lnTo>
                    <a:pt x="715" y="2074"/>
                  </a:lnTo>
                  <a:lnTo>
                    <a:pt x="694" y="2063"/>
                  </a:lnTo>
                  <a:lnTo>
                    <a:pt x="667" y="2052"/>
                  </a:lnTo>
                  <a:lnTo>
                    <a:pt x="639" y="2041"/>
                  </a:lnTo>
                  <a:lnTo>
                    <a:pt x="618" y="2031"/>
                  </a:lnTo>
                  <a:lnTo>
                    <a:pt x="591" y="2020"/>
                  </a:lnTo>
                  <a:lnTo>
                    <a:pt x="569" y="2009"/>
                  </a:lnTo>
                  <a:lnTo>
                    <a:pt x="542" y="1998"/>
                  </a:lnTo>
                  <a:lnTo>
                    <a:pt x="520" y="1982"/>
                  </a:lnTo>
                  <a:lnTo>
                    <a:pt x="498" y="1971"/>
                  </a:lnTo>
                  <a:lnTo>
                    <a:pt x="477" y="1955"/>
                  </a:lnTo>
                  <a:lnTo>
                    <a:pt x="455" y="1939"/>
                  </a:lnTo>
                  <a:lnTo>
                    <a:pt x="433" y="1923"/>
                  </a:lnTo>
                  <a:lnTo>
                    <a:pt x="412" y="1907"/>
                  </a:lnTo>
                  <a:lnTo>
                    <a:pt x="390" y="1891"/>
                  </a:lnTo>
                  <a:lnTo>
                    <a:pt x="368" y="1874"/>
                  </a:lnTo>
                  <a:lnTo>
                    <a:pt x="347" y="1858"/>
                  </a:lnTo>
                  <a:lnTo>
                    <a:pt x="330" y="1842"/>
                  </a:lnTo>
                  <a:lnTo>
                    <a:pt x="309" y="1821"/>
                  </a:lnTo>
                  <a:lnTo>
                    <a:pt x="292" y="1804"/>
                  </a:lnTo>
                  <a:lnTo>
                    <a:pt x="276" y="1783"/>
                  </a:lnTo>
                  <a:lnTo>
                    <a:pt x="254" y="1761"/>
                  </a:lnTo>
                  <a:lnTo>
                    <a:pt x="238" y="1740"/>
                  </a:lnTo>
                  <a:lnTo>
                    <a:pt x="222" y="1724"/>
                  </a:lnTo>
                  <a:lnTo>
                    <a:pt x="206" y="1702"/>
                  </a:lnTo>
                  <a:lnTo>
                    <a:pt x="189" y="1681"/>
                  </a:lnTo>
                  <a:lnTo>
                    <a:pt x="173" y="1659"/>
                  </a:lnTo>
                  <a:lnTo>
                    <a:pt x="162" y="1637"/>
                  </a:lnTo>
                  <a:lnTo>
                    <a:pt x="146" y="1611"/>
                  </a:lnTo>
                  <a:lnTo>
                    <a:pt x="135" y="1589"/>
                  </a:lnTo>
                  <a:lnTo>
                    <a:pt x="119" y="1567"/>
                  </a:lnTo>
                  <a:lnTo>
                    <a:pt x="108" y="1546"/>
                  </a:lnTo>
                  <a:lnTo>
                    <a:pt x="97" y="1519"/>
                  </a:lnTo>
                  <a:lnTo>
                    <a:pt x="86" y="1497"/>
                  </a:lnTo>
                  <a:lnTo>
                    <a:pt x="75" y="1471"/>
                  </a:lnTo>
                  <a:lnTo>
                    <a:pt x="65" y="1444"/>
                  </a:lnTo>
                  <a:lnTo>
                    <a:pt x="59" y="1422"/>
                  </a:lnTo>
                  <a:lnTo>
                    <a:pt x="48" y="1395"/>
                  </a:lnTo>
                  <a:lnTo>
                    <a:pt x="43" y="1368"/>
                  </a:lnTo>
                  <a:lnTo>
                    <a:pt x="32" y="1347"/>
                  </a:lnTo>
                  <a:lnTo>
                    <a:pt x="27" y="1320"/>
                  </a:lnTo>
                  <a:lnTo>
                    <a:pt x="16" y="1287"/>
                  </a:lnTo>
                  <a:lnTo>
                    <a:pt x="16" y="1266"/>
                  </a:lnTo>
                  <a:lnTo>
                    <a:pt x="10" y="1234"/>
                  </a:lnTo>
                  <a:lnTo>
                    <a:pt x="5" y="1207"/>
                  </a:lnTo>
                  <a:lnTo>
                    <a:pt x="0" y="1185"/>
                  </a:lnTo>
                  <a:lnTo>
                    <a:pt x="0" y="1153"/>
                  </a:lnTo>
                  <a:lnTo>
                    <a:pt x="0" y="1126"/>
                  </a:lnTo>
                  <a:lnTo>
                    <a:pt x="0" y="1094"/>
                  </a:lnTo>
                  <a:lnTo>
                    <a:pt x="0" y="1071"/>
                  </a:lnTo>
                  <a:close/>
                </a:path>
              </a:pathLst>
            </a:custGeom>
            <a:solidFill>
              <a:srgbClr val="84a5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44600" y="2757600"/>
              <a:ext cx="795600" cy="765360"/>
            </a:xfrm>
            <a:custGeom>
              <a:avLst/>
              <a:gdLst/>
              <a:ahLst/>
              <a:rect l="0" t="0" r="r" b="b"/>
              <a:pathLst>
                <a:path w="2210" h="2126">
                  <a:moveTo>
                    <a:pt x="0" y="1062"/>
                  </a:moveTo>
                  <a:lnTo>
                    <a:pt x="0" y="1030"/>
                  </a:lnTo>
                  <a:lnTo>
                    <a:pt x="0" y="1003"/>
                  </a:lnTo>
                  <a:lnTo>
                    <a:pt x="5" y="976"/>
                  </a:lnTo>
                  <a:lnTo>
                    <a:pt x="5" y="949"/>
                  </a:lnTo>
                  <a:lnTo>
                    <a:pt x="10" y="917"/>
                  </a:lnTo>
                  <a:lnTo>
                    <a:pt x="10" y="895"/>
                  </a:lnTo>
                  <a:lnTo>
                    <a:pt x="16" y="863"/>
                  </a:lnTo>
                  <a:lnTo>
                    <a:pt x="21" y="841"/>
                  </a:lnTo>
                  <a:lnTo>
                    <a:pt x="27" y="814"/>
                  </a:lnTo>
                  <a:lnTo>
                    <a:pt x="37" y="787"/>
                  </a:lnTo>
                  <a:lnTo>
                    <a:pt x="43" y="760"/>
                  </a:lnTo>
                  <a:lnTo>
                    <a:pt x="54" y="733"/>
                  </a:lnTo>
                  <a:lnTo>
                    <a:pt x="59" y="712"/>
                  </a:lnTo>
                  <a:lnTo>
                    <a:pt x="70" y="685"/>
                  </a:lnTo>
                  <a:lnTo>
                    <a:pt x="81" y="658"/>
                  </a:lnTo>
                  <a:lnTo>
                    <a:pt x="86" y="631"/>
                  </a:lnTo>
                  <a:lnTo>
                    <a:pt x="97" y="609"/>
                  </a:lnTo>
                  <a:lnTo>
                    <a:pt x="113" y="588"/>
                  </a:lnTo>
                  <a:lnTo>
                    <a:pt x="124" y="566"/>
                  </a:lnTo>
                  <a:lnTo>
                    <a:pt x="135" y="539"/>
                  </a:lnTo>
                  <a:lnTo>
                    <a:pt x="146" y="517"/>
                  </a:lnTo>
                  <a:lnTo>
                    <a:pt x="162" y="496"/>
                  </a:lnTo>
                  <a:lnTo>
                    <a:pt x="173" y="474"/>
                  </a:lnTo>
                  <a:lnTo>
                    <a:pt x="189" y="453"/>
                  </a:lnTo>
                  <a:lnTo>
                    <a:pt x="206" y="431"/>
                  </a:lnTo>
                  <a:lnTo>
                    <a:pt x="227" y="409"/>
                  </a:lnTo>
                  <a:lnTo>
                    <a:pt x="238" y="388"/>
                  </a:lnTo>
                  <a:lnTo>
                    <a:pt x="260" y="366"/>
                  </a:lnTo>
                  <a:lnTo>
                    <a:pt x="276" y="350"/>
                  </a:lnTo>
                  <a:lnTo>
                    <a:pt x="293" y="334"/>
                  </a:lnTo>
                  <a:lnTo>
                    <a:pt x="309" y="312"/>
                  </a:lnTo>
                  <a:lnTo>
                    <a:pt x="331" y="296"/>
                  </a:lnTo>
                  <a:lnTo>
                    <a:pt x="347" y="280"/>
                  </a:lnTo>
                  <a:lnTo>
                    <a:pt x="369" y="258"/>
                  </a:lnTo>
                  <a:lnTo>
                    <a:pt x="390" y="242"/>
                  </a:lnTo>
                  <a:lnTo>
                    <a:pt x="412" y="226"/>
                  </a:lnTo>
                  <a:lnTo>
                    <a:pt x="434" y="210"/>
                  </a:lnTo>
                  <a:lnTo>
                    <a:pt x="455" y="199"/>
                  </a:lnTo>
                  <a:lnTo>
                    <a:pt x="472" y="183"/>
                  </a:lnTo>
                  <a:lnTo>
                    <a:pt x="499" y="167"/>
                  </a:lnTo>
                  <a:lnTo>
                    <a:pt x="521" y="156"/>
                  </a:lnTo>
                  <a:lnTo>
                    <a:pt x="542" y="140"/>
                  </a:lnTo>
                  <a:lnTo>
                    <a:pt x="569" y="124"/>
                  </a:lnTo>
                  <a:lnTo>
                    <a:pt x="591" y="113"/>
                  </a:lnTo>
                  <a:lnTo>
                    <a:pt x="613" y="102"/>
                  </a:lnTo>
                  <a:lnTo>
                    <a:pt x="640" y="91"/>
                  </a:lnTo>
                  <a:lnTo>
                    <a:pt x="662" y="80"/>
                  </a:lnTo>
                  <a:lnTo>
                    <a:pt x="689" y="70"/>
                  </a:lnTo>
                  <a:lnTo>
                    <a:pt x="716" y="59"/>
                  </a:lnTo>
                  <a:lnTo>
                    <a:pt x="743" y="53"/>
                  </a:lnTo>
                  <a:lnTo>
                    <a:pt x="770" y="43"/>
                  </a:lnTo>
                  <a:lnTo>
                    <a:pt x="797" y="37"/>
                  </a:lnTo>
                  <a:lnTo>
                    <a:pt x="819" y="32"/>
                  </a:lnTo>
                  <a:lnTo>
                    <a:pt x="846" y="21"/>
                  </a:lnTo>
                  <a:lnTo>
                    <a:pt x="873" y="21"/>
                  </a:lnTo>
                  <a:lnTo>
                    <a:pt x="906" y="16"/>
                  </a:lnTo>
                  <a:lnTo>
                    <a:pt x="933" y="10"/>
                  </a:lnTo>
                  <a:lnTo>
                    <a:pt x="960" y="5"/>
                  </a:lnTo>
                  <a:lnTo>
                    <a:pt x="987" y="5"/>
                  </a:lnTo>
                  <a:lnTo>
                    <a:pt x="1020" y="0"/>
                  </a:lnTo>
                  <a:lnTo>
                    <a:pt x="1047" y="0"/>
                  </a:lnTo>
                  <a:lnTo>
                    <a:pt x="1074" y="0"/>
                  </a:lnTo>
                  <a:lnTo>
                    <a:pt x="1135" y="0"/>
                  </a:lnTo>
                  <a:lnTo>
                    <a:pt x="1162" y="0"/>
                  </a:lnTo>
                  <a:lnTo>
                    <a:pt x="1189" y="0"/>
                  </a:lnTo>
                  <a:lnTo>
                    <a:pt x="1216" y="5"/>
                  </a:lnTo>
                  <a:lnTo>
                    <a:pt x="1249" y="5"/>
                  </a:lnTo>
                  <a:lnTo>
                    <a:pt x="1276" y="10"/>
                  </a:lnTo>
                  <a:lnTo>
                    <a:pt x="1303" y="16"/>
                  </a:lnTo>
                  <a:lnTo>
                    <a:pt x="1330" y="21"/>
                  </a:lnTo>
                  <a:lnTo>
                    <a:pt x="1358" y="21"/>
                  </a:lnTo>
                  <a:lnTo>
                    <a:pt x="1385" y="32"/>
                  </a:lnTo>
                  <a:lnTo>
                    <a:pt x="1412" y="37"/>
                  </a:lnTo>
                  <a:lnTo>
                    <a:pt x="1439" y="43"/>
                  </a:lnTo>
                  <a:lnTo>
                    <a:pt x="1466" y="53"/>
                  </a:lnTo>
                  <a:lnTo>
                    <a:pt x="1493" y="59"/>
                  </a:lnTo>
                  <a:lnTo>
                    <a:pt x="1520" y="70"/>
                  </a:lnTo>
                  <a:lnTo>
                    <a:pt x="1542" y="80"/>
                  </a:lnTo>
                  <a:lnTo>
                    <a:pt x="1569" y="91"/>
                  </a:lnTo>
                  <a:lnTo>
                    <a:pt x="1596" y="102"/>
                  </a:lnTo>
                  <a:lnTo>
                    <a:pt x="1618" y="113"/>
                  </a:lnTo>
                  <a:lnTo>
                    <a:pt x="1640" y="124"/>
                  </a:lnTo>
                  <a:lnTo>
                    <a:pt x="1662" y="140"/>
                  </a:lnTo>
                  <a:lnTo>
                    <a:pt x="1689" y="156"/>
                  </a:lnTo>
                  <a:lnTo>
                    <a:pt x="1710" y="167"/>
                  </a:lnTo>
                  <a:lnTo>
                    <a:pt x="1732" y="183"/>
                  </a:lnTo>
                  <a:lnTo>
                    <a:pt x="1754" y="199"/>
                  </a:lnTo>
                  <a:lnTo>
                    <a:pt x="1776" y="210"/>
                  </a:lnTo>
                  <a:lnTo>
                    <a:pt x="1797" y="226"/>
                  </a:lnTo>
                  <a:lnTo>
                    <a:pt x="1819" y="242"/>
                  </a:lnTo>
                  <a:lnTo>
                    <a:pt x="1841" y="258"/>
                  </a:lnTo>
                  <a:lnTo>
                    <a:pt x="1857" y="280"/>
                  </a:lnTo>
                  <a:lnTo>
                    <a:pt x="1879" y="296"/>
                  </a:lnTo>
                  <a:lnTo>
                    <a:pt x="1895" y="312"/>
                  </a:lnTo>
                  <a:lnTo>
                    <a:pt x="1917" y="334"/>
                  </a:lnTo>
                  <a:lnTo>
                    <a:pt x="1933" y="350"/>
                  </a:lnTo>
                  <a:lnTo>
                    <a:pt x="1949" y="366"/>
                  </a:lnTo>
                  <a:lnTo>
                    <a:pt x="1966" y="388"/>
                  </a:lnTo>
                  <a:lnTo>
                    <a:pt x="1987" y="409"/>
                  </a:lnTo>
                  <a:lnTo>
                    <a:pt x="1998" y="431"/>
                  </a:lnTo>
                  <a:lnTo>
                    <a:pt x="2014" y="453"/>
                  </a:lnTo>
                  <a:lnTo>
                    <a:pt x="2031" y="474"/>
                  </a:lnTo>
                  <a:lnTo>
                    <a:pt x="2041" y="496"/>
                  </a:lnTo>
                  <a:lnTo>
                    <a:pt x="2058" y="517"/>
                  </a:lnTo>
                  <a:lnTo>
                    <a:pt x="2069" y="539"/>
                  </a:lnTo>
                  <a:lnTo>
                    <a:pt x="2085" y="566"/>
                  </a:lnTo>
                  <a:lnTo>
                    <a:pt x="2096" y="588"/>
                  </a:lnTo>
                  <a:lnTo>
                    <a:pt x="2112" y="609"/>
                  </a:lnTo>
                  <a:lnTo>
                    <a:pt x="2123" y="631"/>
                  </a:lnTo>
                  <a:lnTo>
                    <a:pt x="2134" y="658"/>
                  </a:lnTo>
                  <a:lnTo>
                    <a:pt x="2139" y="685"/>
                  </a:lnTo>
                  <a:lnTo>
                    <a:pt x="2150" y="712"/>
                  </a:lnTo>
                  <a:lnTo>
                    <a:pt x="2155" y="733"/>
                  </a:lnTo>
                  <a:lnTo>
                    <a:pt x="2166" y="760"/>
                  </a:lnTo>
                  <a:lnTo>
                    <a:pt x="2172" y="787"/>
                  </a:lnTo>
                  <a:lnTo>
                    <a:pt x="2177" y="814"/>
                  </a:lnTo>
                  <a:lnTo>
                    <a:pt x="2188" y="841"/>
                  </a:lnTo>
                  <a:lnTo>
                    <a:pt x="2188" y="863"/>
                  </a:lnTo>
                  <a:lnTo>
                    <a:pt x="2193" y="895"/>
                  </a:lnTo>
                  <a:lnTo>
                    <a:pt x="2199" y="917"/>
                  </a:lnTo>
                  <a:lnTo>
                    <a:pt x="2204" y="949"/>
                  </a:lnTo>
                  <a:lnTo>
                    <a:pt x="2204" y="976"/>
                  </a:lnTo>
                  <a:lnTo>
                    <a:pt x="2204" y="1003"/>
                  </a:lnTo>
                  <a:lnTo>
                    <a:pt x="2210" y="1030"/>
                  </a:lnTo>
                  <a:lnTo>
                    <a:pt x="2210" y="1062"/>
                  </a:lnTo>
                  <a:lnTo>
                    <a:pt x="2210" y="1085"/>
                  </a:lnTo>
                  <a:lnTo>
                    <a:pt x="2204" y="1117"/>
                  </a:lnTo>
                  <a:lnTo>
                    <a:pt x="2204" y="1144"/>
                  </a:lnTo>
                  <a:lnTo>
                    <a:pt x="2204" y="1171"/>
                  </a:lnTo>
                  <a:lnTo>
                    <a:pt x="2199" y="1198"/>
                  </a:lnTo>
                  <a:lnTo>
                    <a:pt x="2193" y="1225"/>
                  </a:lnTo>
                  <a:lnTo>
                    <a:pt x="2188" y="1252"/>
                  </a:lnTo>
                  <a:lnTo>
                    <a:pt x="2188" y="1279"/>
                  </a:lnTo>
                  <a:lnTo>
                    <a:pt x="2177" y="1306"/>
                  </a:lnTo>
                  <a:lnTo>
                    <a:pt x="2172" y="1333"/>
                  </a:lnTo>
                  <a:lnTo>
                    <a:pt x="2166" y="1360"/>
                  </a:lnTo>
                  <a:lnTo>
                    <a:pt x="2155" y="1387"/>
                  </a:lnTo>
                  <a:lnTo>
                    <a:pt x="2150" y="1408"/>
                  </a:lnTo>
                  <a:lnTo>
                    <a:pt x="2139" y="1435"/>
                  </a:lnTo>
                  <a:lnTo>
                    <a:pt x="2134" y="1462"/>
                  </a:lnTo>
                  <a:lnTo>
                    <a:pt x="2123" y="1484"/>
                  </a:lnTo>
                  <a:lnTo>
                    <a:pt x="2112" y="1511"/>
                  </a:lnTo>
                  <a:lnTo>
                    <a:pt x="2096" y="1533"/>
                  </a:lnTo>
                  <a:lnTo>
                    <a:pt x="2085" y="1554"/>
                  </a:lnTo>
                  <a:lnTo>
                    <a:pt x="2069" y="1576"/>
                  </a:lnTo>
                  <a:lnTo>
                    <a:pt x="2058" y="1603"/>
                  </a:lnTo>
                  <a:lnTo>
                    <a:pt x="2041" y="1624"/>
                  </a:lnTo>
                  <a:lnTo>
                    <a:pt x="2031" y="1646"/>
                  </a:lnTo>
                  <a:lnTo>
                    <a:pt x="2014" y="1667"/>
                  </a:lnTo>
                  <a:lnTo>
                    <a:pt x="1998" y="1689"/>
                  </a:lnTo>
                  <a:lnTo>
                    <a:pt x="1987" y="1711"/>
                  </a:lnTo>
                  <a:lnTo>
                    <a:pt x="1966" y="1732"/>
                  </a:lnTo>
                  <a:lnTo>
                    <a:pt x="1949" y="1748"/>
                  </a:lnTo>
                  <a:lnTo>
                    <a:pt x="1933" y="1770"/>
                  </a:lnTo>
                  <a:lnTo>
                    <a:pt x="1917" y="1792"/>
                  </a:lnTo>
                  <a:lnTo>
                    <a:pt x="1895" y="1808"/>
                  </a:lnTo>
                  <a:lnTo>
                    <a:pt x="1879" y="1824"/>
                  </a:lnTo>
                  <a:lnTo>
                    <a:pt x="1857" y="1845"/>
                  </a:lnTo>
                  <a:lnTo>
                    <a:pt x="1841" y="1862"/>
                  </a:lnTo>
                  <a:lnTo>
                    <a:pt x="1819" y="1878"/>
                  </a:lnTo>
                  <a:lnTo>
                    <a:pt x="1797" y="1894"/>
                  </a:lnTo>
                  <a:lnTo>
                    <a:pt x="1776" y="1910"/>
                  </a:lnTo>
                  <a:lnTo>
                    <a:pt x="1754" y="1926"/>
                  </a:lnTo>
                  <a:lnTo>
                    <a:pt x="1732" y="1937"/>
                  </a:lnTo>
                  <a:lnTo>
                    <a:pt x="1710" y="1953"/>
                  </a:lnTo>
                  <a:lnTo>
                    <a:pt x="1689" y="1970"/>
                  </a:lnTo>
                  <a:lnTo>
                    <a:pt x="1662" y="1986"/>
                  </a:lnTo>
                  <a:lnTo>
                    <a:pt x="1640" y="1997"/>
                  </a:lnTo>
                  <a:lnTo>
                    <a:pt x="1618" y="2007"/>
                  </a:lnTo>
                  <a:lnTo>
                    <a:pt x="1596" y="2018"/>
                  </a:lnTo>
                  <a:lnTo>
                    <a:pt x="1569" y="2029"/>
                  </a:lnTo>
                  <a:lnTo>
                    <a:pt x="1542" y="2040"/>
                  </a:lnTo>
                  <a:lnTo>
                    <a:pt x="1520" y="2050"/>
                  </a:lnTo>
                  <a:lnTo>
                    <a:pt x="1493" y="2061"/>
                  </a:lnTo>
                  <a:lnTo>
                    <a:pt x="1466" y="2067"/>
                  </a:lnTo>
                  <a:lnTo>
                    <a:pt x="1439" y="2077"/>
                  </a:lnTo>
                  <a:lnTo>
                    <a:pt x="1412" y="2083"/>
                  </a:lnTo>
                  <a:lnTo>
                    <a:pt x="1385" y="2088"/>
                  </a:lnTo>
                  <a:lnTo>
                    <a:pt x="1358" y="2099"/>
                  </a:lnTo>
                  <a:lnTo>
                    <a:pt x="1330" y="2104"/>
                  </a:lnTo>
                  <a:lnTo>
                    <a:pt x="1303" y="2110"/>
                  </a:lnTo>
                  <a:lnTo>
                    <a:pt x="1276" y="2115"/>
                  </a:lnTo>
                  <a:lnTo>
                    <a:pt x="1249" y="2115"/>
                  </a:lnTo>
                  <a:lnTo>
                    <a:pt x="1216" y="2121"/>
                  </a:lnTo>
                  <a:lnTo>
                    <a:pt x="1189" y="2121"/>
                  </a:lnTo>
                  <a:lnTo>
                    <a:pt x="1162" y="2126"/>
                  </a:lnTo>
                  <a:lnTo>
                    <a:pt x="1135" y="2126"/>
                  </a:lnTo>
                  <a:lnTo>
                    <a:pt x="1074" y="2126"/>
                  </a:lnTo>
                  <a:lnTo>
                    <a:pt x="1047" y="2126"/>
                  </a:lnTo>
                  <a:lnTo>
                    <a:pt x="1020" y="2121"/>
                  </a:lnTo>
                  <a:lnTo>
                    <a:pt x="987" y="2121"/>
                  </a:lnTo>
                  <a:lnTo>
                    <a:pt x="960" y="2115"/>
                  </a:lnTo>
                  <a:lnTo>
                    <a:pt x="933" y="2115"/>
                  </a:lnTo>
                  <a:lnTo>
                    <a:pt x="906" y="2110"/>
                  </a:lnTo>
                  <a:lnTo>
                    <a:pt x="873" y="2104"/>
                  </a:lnTo>
                  <a:lnTo>
                    <a:pt x="846" y="2099"/>
                  </a:lnTo>
                  <a:lnTo>
                    <a:pt x="819" y="2088"/>
                  </a:lnTo>
                  <a:lnTo>
                    <a:pt x="797" y="2083"/>
                  </a:lnTo>
                  <a:lnTo>
                    <a:pt x="770" y="2077"/>
                  </a:lnTo>
                  <a:lnTo>
                    <a:pt x="743" y="2067"/>
                  </a:lnTo>
                  <a:lnTo>
                    <a:pt x="716" y="2061"/>
                  </a:lnTo>
                  <a:lnTo>
                    <a:pt x="689" y="2050"/>
                  </a:lnTo>
                  <a:lnTo>
                    <a:pt x="662" y="2040"/>
                  </a:lnTo>
                  <a:lnTo>
                    <a:pt x="640" y="2029"/>
                  </a:lnTo>
                  <a:lnTo>
                    <a:pt x="613" y="2018"/>
                  </a:lnTo>
                  <a:lnTo>
                    <a:pt x="591" y="2007"/>
                  </a:lnTo>
                  <a:lnTo>
                    <a:pt x="569" y="1997"/>
                  </a:lnTo>
                  <a:lnTo>
                    <a:pt x="542" y="1986"/>
                  </a:lnTo>
                  <a:lnTo>
                    <a:pt x="521" y="1970"/>
                  </a:lnTo>
                  <a:lnTo>
                    <a:pt x="499" y="1953"/>
                  </a:lnTo>
                  <a:lnTo>
                    <a:pt x="472" y="1937"/>
                  </a:lnTo>
                  <a:lnTo>
                    <a:pt x="455" y="1926"/>
                  </a:lnTo>
                  <a:lnTo>
                    <a:pt x="434" y="1910"/>
                  </a:lnTo>
                  <a:lnTo>
                    <a:pt x="412" y="1894"/>
                  </a:lnTo>
                  <a:lnTo>
                    <a:pt x="390" y="1878"/>
                  </a:lnTo>
                  <a:lnTo>
                    <a:pt x="369" y="1862"/>
                  </a:lnTo>
                  <a:lnTo>
                    <a:pt x="347" y="1845"/>
                  </a:lnTo>
                  <a:lnTo>
                    <a:pt x="331" y="1824"/>
                  </a:lnTo>
                  <a:lnTo>
                    <a:pt x="309" y="1808"/>
                  </a:lnTo>
                  <a:lnTo>
                    <a:pt x="293" y="1792"/>
                  </a:lnTo>
                  <a:lnTo>
                    <a:pt x="276" y="1770"/>
                  </a:lnTo>
                  <a:lnTo>
                    <a:pt x="260" y="1748"/>
                  </a:lnTo>
                  <a:lnTo>
                    <a:pt x="238" y="1732"/>
                  </a:lnTo>
                  <a:lnTo>
                    <a:pt x="227" y="1711"/>
                  </a:lnTo>
                  <a:lnTo>
                    <a:pt x="206" y="1689"/>
                  </a:lnTo>
                  <a:lnTo>
                    <a:pt x="189" y="1667"/>
                  </a:lnTo>
                  <a:lnTo>
                    <a:pt x="173" y="1646"/>
                  </a:lnTo>
                  <a:lnTo>
                    <a:pt x="162" y="1624"/>
                  </a:lnTo>
                  <a:lnTo>
                    <a:pt x="146" y="1603"/>
                  </a:lnTo>
                  <a:lnTo>
                    <a:pt x="135" y="1576"/>
                  </a:lnTo>
                  <a:lnTo>
                    <a:pt x="124" y="1554"/>
                  </a:lnTo>
                  <a:lnTo>
                    <a:pt x="113" y="1533"/>
                  </a:lnTo>
                  <a:lnTo>
                    <a:pt x="97" y="1511"/>
                  </a:lnTo>
                  <a:lnTo>
                    <a:pt x="86" y="1484"/>
                  </a:lnTo>
                  <a:lnTo>
                    <a:pt x="81" y="1462"/>
                  </a:lnTo>
                  <a:lnTo>
                    <a:pt x="70" y="1435"/>
                  </a:lnTo>
                  <a:lnTo>
                    <a:pt x="59" y="1408"/>
                  </a:lnTo>
                  <a:lnTo>
                    <a:pt x="54" y="1387"/>
                  </a:lnTo>
                  <a:lnTo>
                    <a:pt x="43" y="1360"/>
                  </a:lnTo>
                  <a:lnTo>
                    <a:pt x="37" y="1333"/>
                  </a:lnTo>
                  <a:lnTo>
                    <a:pt x="27" y="1306"/>
                  </a:lnTo>
                  <a:lnTo>
                    <a:pt x="21" y="1279"/>
                  </a:lnTo>
                  <a:lnTo>
                    <a:pt x="16" y="1252"/>
                  </a:lnTo>
                  <a:lnTo>
                    <a:pt x="10" y="1225"/>
                  </a:lnTo>
                  <a:lnTo>
                    <a:pt x="10" y="1198"/>
                  </a:lnTo>
                  <a:lnTo>
                    <a:pt x="5" y="1171"/>
                  </a:lnTo>
                  <a:lnTo>
                    <a:pt x="5" y="1144"/>
                  </a:lnTo>
                  <a:lnTo>
                    <a:pt x="0" y="1117"/>
                  </a:lnTo>
                  <a:lnTo>
                    <a:pt x="0" y="1085"/>
                  </a:lnTo>
                  <a:lnTo>
                    <a:pt x="0" y="1062"/>
                  </a:lnTo>
                  <a:close/>
                </a:path>
              </a:pathLst>
            </a:custGeom>
            <a:solidFill>
              <a:srgbClr val="8eaf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6040" y="2759040"/>
              <a:ext cx="789480" cy="762480"/>
            </a:xfrm>
            <a:custGeom>
              <a:avLst/>
              <a:gdLst/>
              <a:ahLst/>
              <a:rect l="0" t="0" r="r" b="b"/>
              <a:pathLst>
                <a:path w="2193" h="2118">
                  <a:moveTo>
                    <a:pt x="0" y="1059"/>
                  </a:moveTo>
                  <a:lnTo>
                    <a:pt x="5" y="1026"/>
                  </a:lnTo>
                  <a:lnTo>
                    <a:pt x="5" y="999"/>
                  </a:lnTo>
                  <a:lnTo>
                    <a:pt x="5" y="972"/>
                  </a:lnTo>
                  <a:lnTo>
                    <a:pt x="5" y="940"/>
                  </a:lnTo>
                  <a:lnTo>
                    <a:pt x="10" y="913"/>
                  </a:lnTo>
                  <a:lnTo>
                    <a:pt x="16" y="886"/>
                  </a:lnTo>
                  <a:lnTo>
                    <a:pt x="21" y="859"/>
                  </a:lnTo>
                  <a:lnTo>
                    <a:pt x="27" y="837"/>
                  </a:lnTo>
                  <a:lnTo>
                    <a:pt x="32" y="810"/>
                  </a:lnTo>
                  <a:lnTo>
                    <a:pt x="37" y="778"/>
                  </a:lnTo>
                  <a:lnTo>
                    <a:pt x="48" y="751"/>
                  </a:lnTo>
                  <a:lnTo>
                    <a:pt x="54" y="729"/>
                  </a:lnTo>
                  <a:lnTo>
                    <a:pt x="65" y="702"/>
                  </a:lnTo>
                  <a:lnTo>
                    <a:pt x="75" y="681"/>
                  </a:lnTo>
                  <a:lnTo>
                    <a:pt x="81" y="654"/>
                  </a:lnTo>
                  <a:lnTo>
                    <a:pt x="92" y="627"/>
                  </a:lnTo>
                  <a:lnTo>
                    <a:pt x="103" y="605"/>
                  </a:lnTo>
                  <a:lnTo>
                    <a:pt x="113" y="578"/>
                  </a:lnTo>
                  <a:lnTo>
                    <a:pt x="130" y="557"/>
                  </a:lnTo>
                  <a:lnTo>
                    <a:pt x="141" y="535"/>
                  </a:lnTo>
                  <a:lnTo>
                    <a:pt x="151" y="507"/>
                  </a:lnTo>
                  <a:lnTo>
                    <a:pt x="168" y="491"/>
                  </a:lnTo>
                  <a:lnTo>
                    <a:pt x="184" y="464"/>
                  </a:lnTo>
                  <a:lnTo>
                    <a:pt x="195" y="442"/>
                  </a:lnTo>
                  <a:lnTo>
                    <a:pt x="216" y="421"/>
                  </a:lnTo>
                  <a:lnTo>
                    <a:pt x="233" y="399"/>
                  </a:lnTo>
                  <a:lnTo>
                    <a:pt x="249" y="383"/>
                  </a:lnTo>
                  <a:lnTo>
                    <a:pt x="265" y="361"/>
                  </a:lnTo>
                  <a:lnTo>
                    <a:pt x="282" y="345"/>
                  </a:lnTo>
                  <a:lnTo>
                    <a:pt x="303" y="323"/>
                  </a:lnTo>
                  <a:lnTo>
                    <a:pt x="320" y="307"/>
                  </a:lnTo>
                  <a:lnTo>
                    <a:pt x="341" y="286"/>
                  </a:lnTo>
                  <a:lnTo>
                    <a:pt x="358" y="269"/>
                  </a:lnTo>
                  <a:lnTo>
                    <a:pt x="379" y="253"/>
                  </a:lnTo>
                  <a:lnTo>
                    <a:pt x="401" y="237"/>
                  </a:lnTo>
                  <a:lnTo>
                    <a:pt x="423" y="221"/>
                  </a:lnTo>
                  <a:lnTo>
                    <a:pt x="444" y="205"/>
                  </a:lnTo>
                  <a:lnTo>
                    <a:pt x="466" y="188"/>
                  </a:lnTo>
                  <a:lnTo>
                    <a:pt x="488" y="178"/>
                  </a:lnTo>
                  <a:lnTo>
                    <a:pt x="509" y="161"/>
                  </a:lnTo>
                  <a:lnTo>
                    <a:pt x="531" y="145"/>
                  </a:lnTo>
                  <a:lnTo>
                    <a:pt x="559" y="129"/>
                  </a:lnTo>
                  <a:lnTo>
                    <a:pt x="581" y="118"/>
                  </a:lnTo>
                  <a:lnTo>
                    <a:pt x="608" y="107"/>
                  </a:lnTo>
                  <a:lnTo>
                    <a:pt x="630" y="97"/>
                  </a:lnTo>
                  <a:lnTo>
                    <a:pt x="657" y="86"/>
                  </a:lnTo>
                  <a:lnTo>
                    <a:pt x="684" y="75"/>
                  </a:lnTo>
                  <a:lnTo>
                    <a:pt x="706" y="64"/>
                  </a:lnTo>
                  <a:lnTo>
                    <a:pt x="733" y="53"/>
                  </a:lnTo>
                  <a:lnTo>
                    <a:pt x="760" y="48"/>
                  </a:lnTo>
                  <a:lnTo>
                    <a:pt x="787" y="43"/>
                  </a:lnTo>
                  <a:lnTo>
                    <a:pt x="814" y="32"/>
                  </a:lnTo>
                  <a:lnTo>
                    <a:pt x="841" y="26"/>
                  </a:lnTo>
                  <a:lnTo>
                    <a:pt x="868" y="21"/>
                  </a:lnTo>
                  <a:lnTo>
                    <a:pt x="896" y="16"/>
                  </a:lnTo>
                  <a:lnTo>
                    <a:pt x="928" y="10"/>
                  </a:lnTo>
                  <a:lnTo>
                    <a:pt x="955" y="10"/>
                  </a:lnTo>
                  <a:lnTo>
                    <a:pt x="982" y="5"/>
                  </a:lnTo>
                  <a:lnTo>
                    <a:pt x="1010" y="5"/>
                  </a:lnTo>
                  <a:lnTo>
                    <a:pt x="1037" y="0"/>
                  </a:lnTo>
                  <a:lnTo>
                    <a:pt x="1069" y="0"/>
                  </a:lnTo>
                  <a:lnTo>
                    <a:pt x="1129" y="0"/>
                  </a:lnTo>
                  <a:lnTo>
                    <a:pt x="1156" y="0"/>
                  </a:lnTo>
                  <a:lnTo>
                    <a:pt x="1183" y="5"/>
                  </a:lnTo>
                  <a:lnTo>
                    <a:pt x="1216" y="5"/>
                  </a:lnTo>
                  <a:lnTo>
                    <a:pt x="1243" y="10"/>
                  </a:lnTo>
                  <a:lnTo>
                    <a:pt x="1270" y="10"/>
                  </a:lnTo>
                  <a:lnTo>
                    <a:pt x="1302" y="16"/>
                  </a:lnTo>
                  <a:lnTo>
                    <a:pt x="1330" y="21"/>
                  </a:lnTo>
                  <a:lnTo>
                    <a:pt x="1357" y="26"/>
                  </a:lnTo>
                  <a:lnTo>
                    <a:pt x="1378" y="32"/>
                  </a:lnTo>
                  <a:lnTo>
                    <a:pt x="1406" y="43"/>
                  </a:lnTo>
                  <a:lnTo>
                    <a:pt x="1438" y="48"/>
                  </a:lnTo>
                  <a:lnTo>
                    <a:pt x="1465" y="53"/>
                  </a:lnTo>
                  <a:lnTo>
                    <a:pt x="1487" y="64"/>
                  </a:lnTo>
                  <a:lnTo>
                    <a:pt x="1514" y="75"/>
                  </a:lnTo>
                  <a:lnTo>
                    <a:pt x="1541" y="86"/>
                  </a:lnTo>
                  <a:lnTo>
                    <a:pt x="1563" y="97"/>
                  </a:lnTo>
                  <a:lnTo>
                    <a:pt x="1590" y="107"/>
                  </a:lnTo>
                  <a:lnTo>
                    <a:pt x="1612" y="118"/>
                  </a:lnTo>
                  <a:lnTo>
                    <a:pt x="1639" y="129"/>
                  </a:lnTo>
                  <a:lnTo>
                    <a:pt x="1661" y="145"/>
                  </a:lnTo>
                  <a:lnTo>
                    <a:pt x="1683" y="161"/>
                  </a:lnTo>
                  <a:lnTo>
                    <a:pt x="1710" y="178"/>
                  </a:lnTo>
                  <a:lnTo>
                    <a:pt x="1732" y="188"/>
                  </a:lnTo>
                  <a:lnTo>
                    <a:pt x="1754" y="205"/>
                  </a:lnTo>
                  <a:lnTo>
                    <a:pt x="1775" y="221"/>
                  </a:lnTo>
                  <a:lnTo>
                    <a:pt x="1797" y="237"/>
                  </a:lnTo>
                  <a:lnTo>
                    <a:pt x="1819" y="253"/>
                  </a:lnTo>
                  <a:lnTo>
                    <a:pt x="1835" y="269"/>
                  </a:lnTo>
                  <a:lnTo>
                    <a:pt x="1857" y="286"/>
                  </a:lnTo>
                  <a:lnTo>
                    <a:pt x="1873" y="307"/>
                  </a:lnTo>
                  <a:lnTo>
                    <a:pt x="1895" y="323"/>
                  </a:lnTo>
                  <a:lnTo>
                    <a:pt x="1911" y="345"/>
                  </a:lnTo>
                  <a:lnTo>
                    <a:pt x="1933" y="361"/>
                  </a:lnTo>
                  <a:lnTo>
                    <a:pt x="1949" y="383"/>
                  </a:lnTo>
                  <a:lnTo>
                    <a:pt x="1965" y="399"/>
                  </a:lnTo>
                  <a:lnTo>
                    <a:pt x="1982" y="421"/>
                  </a:lnTo>
                  <a:lnTo>
                    <a:pt x="1998" y="442"/>
                  </a:lnTo>
                  <a:lnTo>
                    <a:pt x="2014" y="464"/>
                  </a:lnTo>
                  <a:lnTo>
                    <a:pt x="2025" y="491"/>
                  </a:lnTo>
                  <a:lnTo>
                    <a:pt x="2041" y="507"/>
                  </a:lnTo>
                  <a:lnTo>
                    <a:pt x="2058" y="535"/>
                  </a:lnTo>
                  <a:lnTo>
                    <a:pt x="2068" y="557"/>
                  </a:lnTo>
                  <a:lnTo>
                    <a:pt x="2079" y="578"/>
                  </a:lnTo>
                  <a:lnTo>
                    <a:pt x="2090" y="605"/>
                  </a:lnTo>
                  <a:lnTo>
                    <a:pt x="2106" y="627"/>
                  </a:lnTo>
                  <a:lnTo>
                    <a:pt x="2117" y="654"/>
                  </a:lnTo>
                  <a:lnTo>
                    <a:pt x="2128" y="681"/>
                  </a:lnTo>
                  <a:lnTo>
                    <a:pt x="2133" y="702"/>
                  </a:lnTo>
                  <a:lnTo>
                    <a:pt x="2144" y="729"/>
                  </a:lnTo>
                  <a:lnTo>
                    <a:pt x="2150" y="751"/>
                  </a:lnTo>
                  <a:lnTo>
                    <a:pt x="2161" y="778"/>
                  </a:lnTo>
                  <a:lnTo>
                    <a:pt x="2166" y="810"/>
                  </a:lnTo>
                  <a:lnTo>
                    <a:pt x="2171" y="837"/>
                  </a:lnTo>
                  <a:lnTo>
                    <a:pt x="2177" y="859"/>
                  </a:lnTo>
                  <a:lnTo>
                    <a:pt x="2182" y="886"/>
                  </a:lnTo>
                  <a:lnTo>
                    <a:pt x="2182" y="913"/>
                  </a:lnTo>
                  <a:lnTo>
                    <a:pt x="2188" y="940"/>
                  </a:lnTo>
                  <a:lnTo>
                    <a:pt x="2188" y="972"/>
                  </a:lnTo>
                  <a:lnTo>
                    <a:pt x="2193" y="999"/>
                  </a:lnTo>
                  <a:lnTo>
                    <a:pt x="2193" y="1026"/>
                  </a:lnTo>
                  <a:lnTo>
                    <a:pt x="2193" y="1059"/>
                  </a:lnTo>
                  <a:lnTo>
                    <a:pt x="2193" y="1080"/>
                  </a:lnTo>
                  <a:lnTo>
                    <a:pt x="2193" y="1113"/>
                  </a:lnTo>
                  <a:lnTo>
                    <a:pt x="2188" y="1140"/>
                  </a:lnTo>
                  <a:lnTo>
                    <a:pt x="2188" y="1172"/>
                  </a:lnTo>
                  <a:lnTo>
                    <a:pt x="2182" y="1199"/>
                  </a:lnTo>
                  <a:lnTo>
                    <a:pt x="2182" y="1221"/>
                  </a:lnTo>
                  <a:lnTo>
                    <a:pt x="2177" y="1253"/>
                  </a:lnTo>
                  <a:lnTo>
                    <a:pt x="2171" y="1275"/>
                  </a:lnTo>
                  <a:lnTo>
                    <a:pt x="2166" y="1307"/>
                  </a:lnTo>
                  <a:lnTo>
                    <a:pt x="2161" y="1334"/>
                  </a:lnTo>
                  <a:lnTo>
                    <a:pt x="2150" y="1356"/>
                  </a:lnTo>
                  <a:lnTo>
                    <a:pt x="2144" y="1383"/>
                  </a:lnTo>
                  <a:lnTo>
                    <a:pt x="2133" y="1410"/>
                  </a:lnTo>
                  <a:lnTo>
                    <a:pt x="2128" y="1431"/>
                  </a:lnTo>
                  <a:lnTo>
                    <a:pt x="2117" y="1458"/>
                  </a:lnTo>
                  <a:lnTo>
                    <a:pt x="2106" y="1485"/>
                  </a:lnTo>
                  <a:lnTo>
                    <a:pt x="2090" y="1507"/>
                  </a:lnTo>
                  <a:lnTo>
                    <a:pt x="2079" y="1529"/>
                  </a:lnTo>
                  <a:lnTo>
                    <a:pt x="2068" y="1556"/>
                  </a:lnTo>
                  <a:lnTo>
                    <a:pt x="2058" y="1577"/>
                  </a:lnTo>
                  <a:lnTo>
                    <a:pt x="2041" y="1600"/>
                  </a:lnTo>
                  <a:lnTo>
                    <a:pt x="2025" y="1627"/>
                  </a:lnTo>
                  <a:lnTo>
                    <a:pt x="2014" y="1648"/>
                  </a:lnTo>
                  <a:lnTo>
                    <a:pt x="1998" y="1670"/>
                  </a:lnTo>
                  <a:lnTo>
                    <a:pt x="1982" y="1692"/>
                  </a:lnTo>
                  <a:lnTo>
                    <a:pt x="1965" y="1713"/>
                  </a:lnTo>
                  <a:lnTo>
                    <a:pt x="1949" y="1729"/>
                  </a:lnTo>
                  <a:lnTo>
                    <a:pt x="1933" y="1751"/>
                  </a:lnTo>
                  <a:lnTo>
                    <a:pt x="1911" y="1767"/>
                  </a:lnTo>
                  <a:lnTo>
                    <a:pt x="1895" y="1789"/>
                  </a:lnTo>
                  <a:lnTo>
                    <a:pt x="1873" y="1810"/>
                  </a:lnTo>
                  <a:lnTo>
                    <a:pt x="1857" y="1827"/>
                  </a:lnTo>
                  <a:lnTo>
                    <a:pt x="1835" y="1843"/>
                  </a:lnTo>
                  <a:lnTo>
                    <a:pt x="1819" y="1859"/>
                  </a:lnTo>
                  <a:lnTo>
                    <a:pt x="1797" y="1875"/>
                  </a:lnTo>
                  <a:lnTo>
                    <a:pt x="1775" y="1891"/>
                  </a:lnTo>
                  <a:lnTo>
                    <a:pt x="1754" y="1908"/>
                  </a:lnTo>
                  <a:lnTo>
                    <a:pt x="1732" y="1924"/>
                  </a:lnTo>
                  <a:lnTo>
                    <a:pt x="1710" y="1940"/>
                  </a:lnTo>
                  <a:lnTo>
                    <a:pt x="1683" y="1956"/>
                  </a:lnTo>
                  <a:lnTo>
                    <a:pt x="1661" y="1967"/>
                  </a:lnTo>
                  <a:lnTo>
                    <a:pt x="1639" y="1983"/>
                  </a:lnTo>
                  <a:lnTo>
                    <a:pt x="1612" y="1994"/>
                  </a:lnTo>
                  <a:lnTo>
                    <a:pt x="1590" y="2005"/>
                  </a:lnTo>
                  <a:lnTo>
                    <a:pt x="1563" y="2016"/>
                  </a:lnTo>
                  <a:lnTo>
                    <a:pt x="1541" y="2026"/>
                  </a:lnTo>
                  <a:lnTo>
                    <a:pt x="1514" y="2037"/>
                  </a:lnTo>
                  <a:lnTo>
                    <a:pt x="1487" y="2048"/>
                  </a:lnTo>
                  <a:lnTo>
                    <a:pt x="1465" y="2059"/>
                  </a:lnTo>
                  <a:lnTo>
                    <a:pt x="1438" y="2064"/>
                  </a:lnTo>
                  <a:lnTo>
                    <a:pt x="1406" y="2070"/>
                  </a:lnTo>
                  <a:lnTo>
                    <a:pt x="1378" y="2080"/>
                  </a:lnTo>
                  <a:lnTo>
                    <a:pt x="1357" y="2086"/>
                  </a:lnTo>
                  <a:lnTo>
                    <a:pt x="1330" y="2091"/>
                  </a:lnTo>
                  <a:lnTo>
                    <a:pt x="1302" y="2097"/>
                  </a:lnTo>
                  <a:lnTo>
                    <a:pt x="1270" y="2102"/>
                  </a:lnTo>
                  <a:lnTo>
                    <a:pt x="1243" y="2107"/>
                  </a:lnTo>
                  <a:lnTo>
                    <a:pt x="1216" y="2107"/>
                  </a:lnTo>
                  <a:lnTo>
                    <a:pt x="1183" y="2113"/>
                  </a:lnTo>
                  <a:lnTo>
                    <a:pt x="1156" y="2113"/>
                  </a:lnTo>
                  <a:lnTo>
                    <a:pt x="1129" y="2113"/>
                  </a:lnTo>
                  <a:lnTo>
                    <a:pt x="1102" y="2118"/>
                  </a:lnTo>
                  <a:lnTo>
                    <a:pt x="1069" y="2113"/>
                  </a:lnTo>
                  <a:lnTo>
                    <a:pt x="1037" y="2113"/>
                  </a:lnTo>
                  <a:lnTo>
                    <a:pt x="1010" y="2113"/>
                  </a:lnTo>
                  <a:lnTo>
                    <a:pt x="982" y="2107"/>
                  </a:lnTo>
                  <a:lnTo>
                    <a:pt x="955" y="2107"/>
                  </a:lnTo>
                  <a:lnTo>
                    <a:pt x="928" y="2102"/>
                  </a:lnTo>
                  <a:lnTo>
                    <a:pt x="896" y="2097"/>
                  </a:lnTo>
                  <a:lnTo>
                    <a:pt x="868" y="2091"/>
                  </a:lnTo>
                  <a:lnTo>
                    <a:pt x="841" y="2086"/>
                  </a:lnTo>
                  <a:lnTo>
                    <a:pt x="814" y="2080"/>
                  </a:lnTo>
                  <a:lnTo>
                    <a:pt x="787" y="2070"/>
                  </a:lnTo>
                  <a:lnTo>
                    <a:pt x="760" y="2064"/>
                  </a:lnTo>
                  <a:lnTo>
                    <a:pt x="733" y="2059"/>
                  </a:lnTo>
                  <a:lnTo>
                    <a:pt x="706" y="2048"/>
                  </a:lnTo>
                  <a:lnTo>
                    <a:pt x="684" y="2037"/>
                  </a:lnTo>
                  <a:lnTo>
                    <a:pt x="657" y="2026"/>
                  </a:lnTo>
                  <a:lnTo>
                    <a:pt x="630" y="2016"/>
                  </a:lnTo>
                  <a:lnTo>
                    <a:pt x="608" y="2005"/>
                  </a:lnTo>
                  <a:lnTo>
                    <a:pt x="581" y="1994"/>
                  </a:lnTo>
                  <a:lnTo>
                    <a:pt x="559" y="1983"/>
                  </a:lnTo>
                  <a:lnTo>
                    <a:pt x="531" y="1967"/>
                  </a:lnTo>
                  <a:lnTo>
                    <a:pt x="509" y="1956"/>
                  </a:lnTo>
                  <a:lnTo>
                    <a:pt x="488" y="1940"/>
                  </a:lnTo>
                  <a:lnTo>
                    <a:pt x="466" y="1924"/>
                  </a:lnTo>
                  <a:lnTo>
                    <a:pt x="444" y="1908"/>
                  </a:lnTo>
                  <a:lnTo>
                    <a:pt x="423" y="1891"/>
                  </a:lnTo>
                  <a:lnTo>
                    <a:pt x="401" y="1875"/>
                  </a:lnTo>
                  <a:lnTo>
                    <a:pt x="379" y="1859"/>
                  </a:lnTo>
                  <a:lnTo>
                    <a:pt x="358" y="1843"/>
                  </a:lnTo>
                  <a:lnTo>
                    <a:pt x="341" y="1827"/>
                  </a:lnTo>
                  <a:lnTo>
                    <a:pt x="320" y="1810"/>
                  </a:lnTo>
                  <a:lnTo>
                    <a:pt x="303" y="1789"/>
                  </a:lnTo>
                  <a:lnTo>
                    <a:pt x="282" y="1767"/>
                  </a:lnTo>
                  <a:lnTo>
                    <a:pt x="265" y="1751"/>
                  </a:lnTo>
                  <a:lnTo>
                    <a:pt x="249" y="1729"/>
                  </a:lnTo>
                  <a:lnTo>
                    <a:pt x="233" y="1713"/>
                  </a:lnTo>
                  <a:lnTo>
                    <a:pt x="216" y="1692"/>
                  </a:lnTo>
                  <a:lnTo>
                    <a:pt x="195" y="1670"/>
                  </a:lnTo>
                  <a:lnTo>
                    <a:pt x="184" y="1648"/>
                  </a:lnTo>
                  <a:lnTo>
                    <a:pt x="168" y="1627"/>
                  </a:lnTo>
                  <a:lnTo>
                    <a:pt x="151" y="1600"/>
                  </a:lnTo>
                  <a:lnTo>
                    <a:pt x="141" y="1577"/>
                  </a:lnTo>
                  <a:lnTo>
                    <a:pt x="130" y="1556"/>
                  </a:lnTo>
                  <a:lnTo>
                    <a:pt x="113" y="1529"/>
                  </a:lnTo>
                  <a:lnTo>
                    <a:pt x="103" y="1507"/>
                  </a:lnTo>
                  <a:lnTo>
                    <a:pt x="92" y="1485"/>
                  </a:lnTo>
                  <a:lnTo>
                    <a:pt x="81" y="1458"/>
                  </a:lnTo>
                  <a:lnTo>
                    <a:pt x="75" y="1431"/>
                  </a:lnTo>
                  <a:lnTo>
                    <a:pt x="65" y="1410"/>
                  </a:lnTo>
                  <a:lnTo>
                    <a:pt x="54" y="1383"/>
                  </a:lnTo>
                  <a:lnTo>
                    <a:pt x="48" y="1356"/>
                  </a:lnTo>
                  <a:lnTo>
                    <a:pt x="37" y="1334"/>
                  </a:lnTo>
                  <a:lnTo>
                    <a:pt x="32" y="1307"/>
                  </a:lnTo>
                  <a:lnTo>
                    <a:pt x="27" y="1275"/>
                  </a:lnTo>
                  <a:lnTo>
                    <a:pt x="21" y="1253"/>
                  </a:lnTo>
                  <a:lnTo>
                    <a:pt x="16" y="1221"/>
                  </a:lnTo>
                  <a:lnTo>
                    <a:pt x="10" y="1199"/>
                  </a:lnTo>
                  <a:lnTo>
                    <a:pt x="5" y="1172"/>
                  </a:lnTo>
                  <a:lnTo>
                    <a:pt x="5" y="1140"/>
                  </a:lnTo>
                  <a:lnTo>
                    <a:pt x="5" y="1113"/>
                  </a:lnTo>
                  <a:lnTo>
                    <a:pt x="5" y="1080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96ba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2520" y="2760840"/>
              <a:ext cx="778320" cy="757440"/>
            </a:xfrm>
            <a:custGeom>
              <a:avLst/>
              <a:gdLst/>
              <a:ahLst/>
              <a:rect l="0" t="0" r="r" b="b"/>
              <a:pathLst>
                <a:path w="2162" h="2104">
                  <a:moveTo>
                    <a:pt x="0" y="1055"/>
                  </a:moveTo>
                  <a:lnTo>
                    <a:pt x="0" y="1021"/>
                  </a:lnTo>
                  <a:lnTo>
                    <a:pt x="0" y="994"/>
                  </a:lnTo>
                  <a:lnTo>
                    <a:pt x="0" y="967"/>
                  </a:lnTo>
                  <a:lnTo>
                    <a:pt x="5" y="940"/>
                  </a:lnTo>
                  <a:lnTo>
                    <a:pt x="10" y="908"/>
                  </a:lnTo>
                  <a:lnTo>
                    <a:pt x="10" y="881"/>
                  </a:lnTo>
                  <a:lnTo>
                    <a:pt x="21" y="854"/>
                  </a:lnTo>
                  <a:lnTo>
                    <a:pt x="27" y="832"/>
                  </a:lnTo>
                  <a:lnTo>
                    <a:pt x="32" y="805"/>
                  </a:lnTo>
                  <a:lnTo>
                    <a:pt x="37" y="778"/>
                  </a:lnTo>
                  <a:lnTo>
                    <a:pt x="43" y="751"/>
                  </a:lnTo>
                  <a:lnTo>
                    <a:pt x="54" y="724"/>
                  </a:lnTo>
                  <a:lnTo>
                    <a:pt x="59" y="702"/>
                  </a:lnTo>
                  <a:lnTo>
                    <a:pt x="70" y="675"/>
                  </a:lnTo>
                  <a:lnTo>
                    <a:pt x="81" y="648"/>
                  </a:lnTo>
                  <a:lnTo>
                    <a:pt x="91" y="621"/>
                  </a:lnTo>
                  <a:lnTo>
                    <a:pt x="102" y="600"/>
                  </a:lnTo>
                  <a:lnTo>
                    <a:pt x="113" y="578"/>
                  </a:lnTo>
                  <a:lnTo>
                    <a:pt x="124" y="556"/>
                  </a:lnTo>
                  <a:lnTo>
                    <a:pt x="135" y="529"/>
                  </a:lnTo>
                  <a:lnTo>
                    <a:pt x="151" y="508"/>
                  </a:lnTo>
                  <a:lnTo>
                    <a:pt x="162" y="486"/>
                  </a:lnTo>
                  <a:lnTo>
                    <a:pt x="178" y="465"/>
                  </a:lnTo>
                  <a:lnTo>
                    <a:pt x="194" y="443"/>
                  </a:lnTo>
                  <a:lnTo>
                    <a:pt x="210" y="421"/>
                  </a:lnTo>
                  <a:lnTo>
                    <a:pt x="226" y="400"/>
                  </a:lnTo>
                  <a:lnTo>
                    <a:pt x="243" y="378"/>
                  </a:lnTo>
                  <a:lnTo>
                    <a:pt x="259" y="362"/>
                  </a:lnTo>
                  <a:lnTo>
                    <a:pt x="280" y="340"/>
                  </a:lnTo>
                  <a:lnTo>
                    <a:pt x="297" y="324"/>
                  </a:lnTo>
                  <a:lnTo>
                    <a:pt x="313" y="308"/>
                  </a:lnTo>
                  <a:lnTo>
                    <a:pt x="334" y="286"/>
                  </a:lnTo>
                  <a:lnTo>
                    <a:pt x="351" y="270"/>
                  </a:lnTo>
                  <a:lnTo>
                    <a:pt x="372" y="254"/>
                  </a:lnTo>
                  <a:lnTo>
                    <a:pt x="394" y="237"/>
                  </a:lnTo>
                  <a:lnTo>
                    <a:pt x="415" y="221"/>
                  </a:lnTo>
                  <a:lnTo>
                    <a:pt x="437" y="205"/>
                  </a:lnTo>
                  <a:lnTo>
                    <a:pt x="459" y="189"/>
                  </a:lnTo>
                  <a:lnTo>
                    <a:pt x="480" y="178"/>
                  </a:lnTo>
                  <a:lnTo>
                    <a:pt x="502" y="162"/>
                  </a:lnTo>
                  <a:lnTo>
                    <a:pt x="523" y="151"/>
                  </a:lnTo>
                  <a:lnTo>
                    <a:pt x="551" y="135"/>
                  </a:lnTo>
                  <a:lnTo>
                    <a:pt x="573" y="118"/>
                  </a:lnTo>
                  <a:lnTo>
                    <a:pt x="595" y="108"/>
                  </a:lnTo>
                  <a:lnTo>
                    <a:pt x="622" y="97"/>
                  </a:lnTo>
                  <a:lnTo>
                    <a:pt x="643" y="86"/>
                  </a:lnTo>
                  <a:lnTo>
                    <a:pt x="670" y="75"/>
                  </a:lnTo>
                  <a:lnTo>
                    <a:pt x="697" y="70"/>
                  </a:lnTo>
                  <a:lnTo>
                    <a:pt x="724" y="59"/>
                  </a:lnTo>
                  <a:lnTo>
                    <a:pt x="751" y="48"/>
                  </a:lnTo>
                  <a:lnTo>
                    <a:pt x="778" y="43"/>
                  </a:lnTo>
                  <a:lnTo>
                    <a:pt x="800" y="37"/>
                  </a:lnTo>
                  <a:lnTo>
                    <a:pt x="827" y="32"/>
                  </a:lnTo>
                  <a:lnTo>
                    <a:pt x="854" y="27"/>
                  </a:lnTo>
                  <a:lnTo>
                    <a:pt x="886" y="21"/>
                  </a:lnTo>
                  <a:lnTo>
                    <a:pt x="913" y="16"/>
                  </a:lnTo>
                  <a:lnTo>
                    <a:pt x="940" y="10"/>
                  </a:lnTo>
                  <a:lnTo>
                    <a:pt x="967" y="10"/>
                  </a:lnTo>
                  <a:lnTo>
                    <a:pt x="1000" y="5"/>
                  </a:lnTo>
                  <a:lnTo>
                    <a:pt x="1027" y="5"/>
                  </a:lnTo>
                  <a:lnTo>
                    <a:pt x="1054" y="5"/>
                  </a:lnTo>
                  <a:lnTo>
                    <a:pt x="1086" y="0"/>
                  </a:lnTo>
                  <a:lnTo>
                    <a:pt x="1113" y="5"/>
                  </a:lnTo>
                  <a:lnTo>
                    <a:pt x="1140" y="5"/>
                  </a:lnTo>
                  <a:lnTo>
                    <a:pt x="1167" y="5"/>
                  </a:lnTo>
                  <a:lnTo>
                    <a:pt x="1194" y="10"/>
                  </a:lnTo>
                  <a:lnTo>
                    <a:pt x="1227" y="10"/>
                  </a:lnTo>
                  <a:lnTo>
                    <a:pt x="1254" y="16"/>
                  </a:lnTo>
                  <a:lnTo>
                    <a:pt x="1281" y="21"/>
                  </a:lnTo>
                  <a:lnTo>
                    <a:pt x="1308" y="27"/>
                  </a:lnTo>
                  <a:lnTo>
                    <a:pt x="1335" y="32"/>
                  </a:lnTo>
                  <a:lnTo>
                    <a:pt x="1362" y="37"/>
                  </a:lnTo>
                  <a:lnTo>
                    <a:pt x="1389" y="43"/>
                  </a:lnTo>
                  <a:lnTo>
                    <a:pt x="1416" y="48"/>
                  </a:lnTo>
                  <a:lnTo>
                    <a:pt x="1443" y="59"/>
                  </a:lnTo>
                  <a:lnTo>
                    <a:pt x="1470" y="70"/>
                  </a:lnTo>
                  <a:lnTo>
                    <a:pt x="1491" y="75"/>
                  </a:lnTo>
                  <a:lnTo>
                    <a:pt x="1518" y="86"/>
                  </a:lnTo>
                  <a:lnTo>
                    <a:pt x="1545" y="97"/>
                  </a:lnTo>
                  <a:lnTo>
                    <a:pt x="1572" y="108"/>
                  </a:lnTo>
                  <a:lnTo>
                    <a:pt x="1594" y="118"/>
                  </a:lnTo>
                  <a:lnTo>
                    <a:pt x="1616" y="135"/>
                  </a:lnTo>
                  <a:lnTo>
                    <a:pt x="1638" y="151"/>
                  </a:lnTo>
                  <a:lnTo>
                    <a:pt x="1665" y="162"/>
                  </a:lnTo>
                  <a:lnTo>
                    <a:pt x="1687" y="178"/>
                  </a:lnTo>
                  <a:lnTo>
                    <a:pt x="1709" y="189"/>
                  </a:lnTo>
                  <a:lnTo>
                    <a:pt x="1730" y="205"/>
                  </a:lnTo>
                  <a:lnTo>
                    <a:pt x="1752" y="221"/>
                  </a:lnTo>
                  <a:lnTo>
                    <a:pt x="1773" y="237"/>
                  </a:lnTo>
                  <a:lnTo>
                    <a:pt x="1795" y="254"/>
                  </a:lnTo>
                  <a:lnTo>
                    <a:pt x="1811" y="270"/>
                  </a:lnTo>
                  <a:lnTo>
                    <a:pt x="1833" y="286"/>
                  </a:lnTo>
                  <a:lnTo>
                    <a:pt x="1849" y="308"/>
                  </a:lnTo>
                  <a:lnTo>
                    <a:pt x="1871" y="324"/>
                  </a:lnTo>
                  <a:lnTo>
                    <a:pt x="1887" y="340"/>
                  </a:lnTo>
                  <a:lnTo>
                    <a:pt x="1903" y="362"/>
                  </a:lnTo>
                  <a:lnTo>
                    <a:pt x="1925" y="378"/>
                  </a:lnTo>
                  <a:lnTo>
                    <a:pt x="1941" y="400"/>
                  </a:lnTo>
                  <a:lnTo>
                    <a:pt x="1957" y="421"/>
                  </a:lnTo>
                  <a:lnTo>
                    <a:pt x="1973" y="443"/>
                  </a:lnTo>
                  <a:lnTo>
                    <a:pt x="1989" y="465"/>
                  </a:lnTo>
                  <a:lnTo>
                    <a:pt x="2000" y="486"/>
                  </a:lnTo>
                  <a:lnTo>
                    <a:pt x="2016" y="508"/>
                  </a:lnTo>
                  <a:lnTo>
                    <a:pt x="2027" y="529"/>
                  </a:lnTo>
                  <a:lnTo>
                    <a:pt x="2038" y="556"/>
                  </a:lnTo>
                  <a:lnTo>
                    <a:pt x="2054" y="578"/>
                  </a:lnTo>
                  <a:lnTo>
                    <a:pt x="2065" y="600"/>
                  </a:lnTo>
                  <a:lnTo>
                    <a:pt x="2076" y="621"/>
                  </a:lnTo>
                  <a:lnTo>
                    <a:pt x="2087" y="648"/>
                  </a:lnTo>
                  <a:lnTo>
                    <a:pt x="2097" y="675"/>
                  </a:lnTo>
                  <a:lnTo>
                    <a:pt x="2108" y="702"/>
                  </a:lnTo>
                  <a:lnTo>
                    <a:pt x="2114" y="724"/>
                  </a:lnTo>
                  <a:lnTo>
                    <a:pt x="2124" y="751"/>
                  </a:lnTo>
                  <a:lnTo>
                    <a:pt x="2130" y="778"/>
                  </a:lnTo>
                  <a:lnTo>
                    <a:pt x="2135" y="805"/>
                  </a:lnTo>
                  <a:lnTo>
                    <a:pt x="2146" y="832"/>
                  </a:lnTo>
                  <a:lnTo>
                    <a:pt x="2146" y="854"/>
                  </a:lnTo>
                  <a:lnTo>
                    <a:pt x="2151" y="881"/>
                  </a:lnTo>
                  <a:lnTo>
                    <a:pt x="2157" y="908"/>
                  </a:lnTo>
                  <a:lnTo>
                    <a:pt x="2162" y="940"/>
                  </a:lnTo>
                  <a:lnTo>
                    <a:pt x="2162" y="967"/>
                  </a:lnTo>
                  <a:lnTo>
                    <a:pt x="2162" y="994"/>
                  </a:lnTo>
                  <a:lnTo>
                    <a:pt x="2162" y="1021"/>
                  </a:lnTo>
                  <a:lnTo>
                    <a:pt x="2162" y="1055"/>
                  </a:lnTo>
                  <a:lnTo>
                    <a:pt x="2162" y="1077"/>
                  </a:lnTo>
                  <a:lnTo>
                    <a:pt x="2162" y="1109"/>
                  </a:lnTo>
                  <a:lnTo>
                    <a:pt x="2162" y="1136"/>
                  </a:lnTo>
                  <a:lnTo>
                    <a:pt x="2162" y="1163"/>
                  </a:lnTo>
                  <a:lnTo>
                    <a:pt x="2157" y="1190"/>
                  </a:lnTo>
                  <a:lnTo>
                    <a:pt x="2151" y="1217"/>
                  </a:lnTo>
                  <a:lnTo>
                    <a:pt x="2146" y="1244"/>
                  </a:lnTo>
                  <a:lnTo>
                    <a:pt x="2146" y="1271"/>
                  </a:lnTo>
                  <a:lnTo>
                    <a:pt x="2135" y="1298"/>
                  </a:lnTo>
                  <a:lnTo>
                    <a:pt x="2130" y="1325"/>
                  </a:lnTo>
                  <a:lnTo>
                    <a:pt x="2124" y="1352"/>
                  </a:lnTo>
                  <a:lnTo>
                    <a:pt x="2114" y="1379"/>
                  </a:lnTo>
                  <a:lnTo>
                    <a:pt x="2108" y="1401"/>
                  </a:lnTo>
                  <a:lnTo>
                    <a:pt x="2097" y="1428"/>
                  </a:lnTo>
                  <a:lnTo>
                    <a:pt x="2087" y="1455"/>
                  </a:lnTo>
                  <a:lnTo>
                    <a:pt x="2076" y="1477"/>
                  </a:lnTo>
                  <a:lnTo>
                    <a:pt x="2065" y="1504"/>
                  </a:lnTo>
                  <a:lnTo>
                    <a:pt x="2054" y="1525"/>
                  </a:lnTo>
                  <a:lnTo>
                    <a:pt x="2038" y="1547"/>
                  </a:lnTo>
                  <a:lnTo>
                    <a:pt x="2027" y="1569"/>
                  </a:lnTo>
                  <a:lnTo>
                    <a:pt x="2016" y="1596"/>
                  </a:lnTo>
                  <a:lnTo>
                    <a:pt x="2000" y="1617"/>
                  </a:lnTo>
                  <a:lnTo>
                    <a:pt x="1989" y="1639"/>
                  </a:lnTo>
                  <a:lnTo>
                    <a:pt x="1973" y="1661"/>
                  </a:lnTo>
                  <a:lnTo>
                    <a:pt x="1957" y="1682"/>
                  </a:lnTo>
                  <a:lnTo>
                    <a:pt x="1941" y="1704"/>
                  </a:lnTo>
                  <a:lnTo>
                    <a:pt x="1925" y="1720"/>
                  </a:lnTo>
                  <a:lnTo>
                    <a:pt x="1903" y="1742"/>
                  </a:lnTo>
                  <a:lnTo>
                    <a:pt x="1887" y="1758"/>
                  </a:lnTo>
                  <a:lnTo>
                    <a:pt x="1871" y="1779"/>
                  </a:lnTo>
                  <a:lnTo>
                    <a:pt x="1849" y="1801"/>
                  </a:lnTo>
                  <a:lnTo>
                    <a:pt x="1833" y="1817"/>
                  </a:lnTo>
                  <a:lnTo>
                    <a:pt x="1811" y="1834"/>
                  </a:lnTo>
                  <a:lnTo>
                    <a:pt x="1795" y="1850"/>
                  </a:lnTo>
                  <a:lnTo>
                    <a:pt x="1773" y="1866"/>
                  </a:lnTo>
                  <a:lnTo>
                    <a:pt x="1752" y="1882"/>
                  </a:lnTo>
                  <a:lnTo>
                    <a:pt x="1730" y="1898"/>
                  </a:lnTo>
                  <a:lnTo>
                    <a:pt x="1709" y="1915"/>
                  </a:lnTo>
                  <a:lnTo>
                    <a:pt x="1687" y="1925"/>
                  </a:lnTo>
                  <a:lnTo>
                    <a:pt x="1665" y="1947"/>
                  </a:lnTo>
                  <a:lnTo>
                    <a:pt x="1638" y="1958"/>
                  </a:lnTo>
                  <a:lnTo>
                    <a:pt x="1616" y="1974"/>
                  </a:lnTo>
                  <a:lnTo>
                    <a:pt x="1594" y="1985"/>
                  </a:lnTo>
                  <a:lnTo>
                    <a:pt x="1572" y="1996"/>
                  </a:lnTo>
                  <a:lnTo>
                    <a:pt x="1545" y="2007"/>
                  </a:lnTo>
                  <a:lnTo>
                    <a:pt x="1518" y="2017"/>
                  </a:lnTo>
                  <a:lnTo>
                    <a:pt x="1491" y="2028"/>
                  </a:lnTo>
                  <a:lnTo>
                    <a:pt x="1470" y="2034"/>
                  </a:lnTo>
                  <a:lnTo>
                    <a:pt x="1443" y="2044"/>
                  </a:lnTo>
                  <a:lnTo>
                    <a:pt x="1416" y="2055"/>
                  </a:lnTo>
                  <a:lnTo>
                    <a:pt x="1389" y="2061"/>
                  </a:lnTo>
                  <a:lnTo>
                    <a:pt x="1362" y="2066"/>
                  </a:lnTo>
                  <a:lnTo>
                    <a:pt x="1335" y="2071"/>
                  </a:lnTo>
                  <a:lnTo>
                    <a:pt x="1308" y="2077"/>
                  </a:lnTo>
                  <a:lnTo>
                    <a:pt x="1281" y="2088"/>
                  </a:lnTo>
                  <a:lnTo>
                    <a:pt x="1254" y="2088"/>
                  </a:lnTo>
                  <a:lnTo>
                    <a:pt x="1227" y="2093"/>
                  </a:lnTo>
                  <a:lnTo>
                    <a:pt x="1194" y="2099"/>
                  </a:lnTo>
                  <a:lnTo>
                    <a:pt x="1167" y="2104"/>
                  </a:lnTo>
                  <a:lnTo>
                    <a:pt x="1140" y="2104"/>
                  </a:lnTo>
                  <a:lnTo>
                    <a:pt x="1113" y="2104"/>
                  </a:lnTo>
                  <a:lnTo>
                    <a:pt x="1054" y="2104"/>
                  </a:lnTo>
                  <a:lnTo>
                    <a:pt x="1027" y="2104"/>
                  </a:lnTo>
                  <a:lnTo>
                    <a:pt x="1000" y="2104"/>
                  </a:lnTo>
                  <a:lnTo>
                    <a:pt x="967" y="2099"/>
                  </a:lnTo>
                  <a:lnTo>
                    <a:pt x="940" y="2093"/>
                  </a:lnTo>
                  <a:lnTo>
                    <a:pt x="913" y="2088"/>
                  </a:lnTo>
                  <a:lnTo>
                    <a:pt x="886" y="2088"/>
                  </a:lnTo>
                  <a:lnTo>
                    <a:pt x="854" y="2077"/>
                  </a:lnTo>
                  <a:lnTo>
                    <a:pt x="827" y="2071"/>
                  </a:lnTo>
                  <a:lnTo>
                    <a:pt x="800" y="2066"/>
                  </a:lnTo>
                  <a:lnTo>
                    <a:pt x="778" y="2061"/>
                  </a:lnTo>
                  <a:lnTo>
                    <a:pt x="751" y="2055"/>
                  </a:lnTo>
                  <a:lnTo>
                    <a:pt x="724" y="2044"/>
                  </a:lnTo>
                  <a:lnTo>
                    <a:pt x="697" y="2034"/>
                  </a:lnTo>
                  <a:lnTo>
                    <a:pt x="670" y="2028"/>
                  </a:lnTo>
                  <a:lnTo>
                    <a:pt x="643" y="2017"/>
                  </a:lnTo>
                  <a:lnTo>
                    <a:pt x="622" y="2007"/>
                  </a:lnTo>
                  <a:lnTo>
                    <a:pt x="595" y="1996"/>
                  </a:lnTo>
                  <a:lnTo>
                    <a:pt x="573" y="1985"/>
                  </a:lnTo>
                  <a:lnTo>
                    <a:pt x="551" y="1974"/>
                  </a:lnTo>
                  <a:lnTo>
                    <a:pt x="523" y="1958"/>
                  </a:lnTo>
                  <a:lnTo>
                    <a:pt x="502" y="1947"/>
                  </a:lnTo>
                  <a:lnTo>
                    <a:pt x="480" y="1925"/>
                  </a:lnTo>
                  <a:lnTo>
                    <a:pt x="459" y="1915"/>
                  </a:lnTo>
                  <a:lnTo>
                    <a:pt x="437" y="1898"/>
                  </a:lnTo>
                  <a:lnTo>
                    <a:pt x="415" y="1882"/>
                  </a:lnTo>
                  <a:lnTo>
                    <a:pt x="394" y="1866"/>
                  </a:lnTo>
                  <a:lnTo>
                    <a:pt x="372" y="1850"/>
                  </a:lnTo>
                  <a:lnTo>
                    <a:pt x="351" y="1834"/>
                  </a:lnTo>
                  <a:lnTo>
                    <a:pt x="334" y="1817"/>
                  </a:lnTo>
                  <a:lnTo>
                    <a:pt x="313" y="1801"/>
                  </a:lnTo>
                  <a:lnTo>
                    <a:pt x="297" y="1779"/>
                  </a:lnTo>
                  <a:lnTo>
                    <a:pt x="280" y="1758"/>
                  </a:lnTo>
                  <a:lnTo>
                    <a:pt x="259" y="1742"/>
                  </a:lnTo>
                  <a:lnTo>
                    <a:pt x="243" y="1720"/>
                  </a:lnTo>
                  <a:lnTo>
                    <a:pt x="226" y="1704"/>
                  </a:lnTo>
                  <a:lnTo>
                    <a:pt x="210" y="1682"/>
                  </a:lnTo>
                  <a:lnTo>
                    <a:pt x="194" y="1661"/>
                  </a:lnTo>
                  <a:lnTo>
                    <a:pt x="178" y="1639"/>
                  </a:lnTo>
                  <a:lnTo>
                    <a:pt x="162" y="1617"/>
                  </a:lnTo>
                  <a:lnTo>
                    <a:pt x="151" y="1596"/>
                  </a:lnTo>
                  <a:lnTo>
                    <a:pt x="135" y="1569"/>
                  </a:lnTo>
                  <a:lnTo>
                    <a:pt x="124" y="1547"/>
                  </a:lnTo>
                  <a:lnTo>
                    <a:pt x="113" y="1525"/>
                  </a:lnTo>
                  <a:lnTo>
                    <a:pt x="102" y="1504"/>
                  </a:lnTo>
                  <a:lnTo>
                    <a:pt x="91" y="1477"/>
                  </a:lnTo>
                  <a:lnTo>
                    <a:pt x="81" y="1455"/>
                  </a:lnTo>
                  <a:lnTo>
                    <a:pt x="70" y="1428"/>
                  </a:lnTo>
                  <a:lnTo>
                    <a:pt x="59" y="1401"/>
                  </a:lnTo>
                  <a:lnTo>
                    <a:pt x="54" y="1379"/>
                  </a:lnTo>
                  <a:lnTo>
                    <a:pt x="43" y="1352"/>
                  </a:lnTo>
                  <a:lnTo>
                    <a:pt x="37" y="1325"/>
                  </a:lnTo>
                  <a:lnTo>
                    <a:pt x="32" y="1298"/>
                  </a:lnTo>
                  <a:lnTo>
                    <a:pt x="27" y="1271"/>
                  </a:lnTo>
                  <a:lnTo>
                    <a:pt x="21" y="1244"/>
                  </a:lnTo>
                  <a:lnTo>
                    <a:pt x="10" y="1217"/>
                  </a:lnTo>
                  <a:lnTo>
                    <a:pt x="10" y="1190"/>
                  </a:lnTo>
                  <a:lnTo>
                    <a:pt x="5" y="1163"/>
                  </a:lnTo>
                  <a:lnTo>
                    <a:pt x="0" y="1136"/>
                  </a:lnTo>
                  <a:lnTo>
                    <a:pt x="0" y="1109"/>
                  </a:lnTo>
                  <a:lnTo>
                    <a:pt x="0" y="1077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9ec4c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0520" y="307332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12"/>
                  </a:moveTo>
                  <a:lnTo>
                    <a:pt x="12" y="2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53960" y="2766960"/>
              <a:ext cx="776520" cy="748080"/>
            </a:xfrm>
            <a:custGeom>
              <a:avLst/>
              <a:gdLst/>
              <a:ahLst/>
              <a:rect l="0" t="0" r="r" b="b"/>
              <a:pathLst>
                <a:path w="2157" h="2078">
                  <a:moveTo>
                    <a:pt x="0" y="1039"/>
                  </a:moveTo>
                  <a:lnTo>
                    <a:pt x="0" y="1007"/>
                  </a:lnTo>
                  <a:lnTo>
                    <a:pt x="0" y="980"/>
                  </a:lnTo>
                  <a:lnTo>
                    <a:pt x="5" y="953"/>
                  </a:lnTo>
                  <a:lnTo>
                    <a:pt x="5" y="926"/>
                  </a:lnTo>
                  <a:lnTo>
                    <a:pt x="10" y="899"/>
                  </a:lnTo>
                  <a:lnTo>
                    <a:pt x="16" y="872"/>
                  </a:lnTo>
                  <a:lnTo>
                    <a:pt x="21" y="845"/>
                  </a:lnTo>
                  <a:lnTo>
                    <a:pt x="27" y="818"/>
                  </a:lnTo>
                  <a:lnTo>
                    <a:pt x="32" y="791"/>
                  </a:lnTo>
                  <a:lnTo>
                    <a:pt x="37" y="765"/>
                  </a:lnTo>
                  <a:lnTo>
                    <a:pt x="48" y="738"/>
                  </a:lnTo>
                  <a:lnTo>
                    <a:pt x="54" y="711"/>
                  </a:lnTo>
                  <a:lnTo>
                    <a:pt x="59" y="689"/>
                  </a:lnTo>
                  <a:lnTo>
                    <a:pt x="70" y="662"/>
                  </a:lnTo>
                  <a:lnTo>
                    <a:pt x="81" y="641"/>
                  </a:lnTo>
                  <a:lnTo>
                    <a:pt x="91" y="619"/>
                  </a:lnTo>
                  <a:lnTo>
                    <a:pt x="102" y="592"/>
                  </a:lnTo>
                  <a:lnTo>
                    <a:pt x="113" y="565"/>
                  </a:lnTo>
                  <a:lnTo>
                    <a:pt x="124" y="544"/>
                  </a:lnTo>
                  <a:lnTo>
                    <a:pt x="135" y="522"/>
                  </a:lnTo>
                  <a:lnTo>
                    <a:pt x="151" y="500"/>
                  </a:lnTo>
                  <a:lnTo>
                    <a:pt x="167" y="478"/>
                  </a:lnTo>
                  <a:lnTo>
                    <a:pt x="178" y="457"/>
                  </a:lnTo>
                  <a:lnTo>
                    <a:pt x="194" y="435"/>
                  </a:lnTo>
                  <a:lnTo>
                    <a:pt x="210" y="414"/>
                  </a:lnTo>
                  <a:lnTo>
                    <a:pt x="226" y="392"/>
                  </a:lnTo>
                  <a:lnTo>
                    <a:pt x="243" y="371"/>
                  </a:lnTo>
                  <a:lnTo>
                    <a:pt x="259" y="355"/>
                  </a:lnTo>
                  <a:lnTo>
                    <a:pt x="281" y="333"/>
                  </a:lnTo>
                  <a:lnTo>
                    <a:pt x="297" y="317"/>
                  </a:lnTo>
                  <a:lnTo>
                    <a:pt x="313" y="301"/>
                  </a:lnTo>
                  <a:lnTo>
                    <a:pt x="335" y="279"/>
                  </a:lnTo>
                  <a:lnTo>
                    <a:pt x="351" y="263"/>
                  </a:lnTo>
                  <a:lnTo>
                    <a:pt x="372" y="247"/>
                  </a:lnTo>
                  <a:lnTo>
                    <a:pt x="394" y="231"/>
                  </a:lnTo>
                  <a:lnTo>
                    <a:pt x="416" y="215"/>
                  </a:lnTo>
                  <a:lnTo>
                    <a:pt x="437" y="199"/>
                  </a:lnTo>
                  <a:lnTo>
                    <a:pt x="453" y="182"/>
                  </a:lnTo>
                  <a:lnTo>
                    <a:pt x="480" y="166"/>
                  </a:lnTo>
                  <a:lnTo>
                    <a:pt x="502" y="156"/>
                  </a:lnTo>
                  <a:lnTo>
                    <a:pt x="524" y="145"/>
                  </a:lnTo>
                  <a:lnTo>
                    <a:pt x="551" y="129"/>
                  </a:lnTo>
                  <a:lnTo>
                    <a:pt x="572" y="112"/>
                  </a:lnTo>
                  <a:lnTo>
                    <a:pt x="594" y="102"/>
                  </a:lnTo>
                  <a:lnTo>
                    <a:pt x="621" y="91"/>
                  </a:lnTo>
                  <a:lnTo>
                    <a:pt x="643" y="80"/>
                  </a:lnTo>
                  <a:lnTo>
                    <a:pt x="670" y="69"/>
                  </a:lnTo>
                  <a:lnTo>
                    <a:pt x="691" y="64"/>
                  </a:lnTo>
                  <a:lnTo>
                    <a:pt x="718" y="53"/>
                  </a:lnTo>
                  <a:lnTo>
                    <a:pt x="745" y="48"/>
                  </a:lnTo>
                  <a:lnTo>
                    <a:pt x="772" y="37"/>
                  </a:lnTo>
                  <a:lnTo>
                    <a:pt x="799" y="32"/>
                  </a:lnTo>
                  <a:lnTo>
                    <a:pt x="826" y="26"/>
                  </a:lnTo>
                  <a:lnTo>
                    <a:pt x="853" y="21"/>
                  </a:lnTo>
                  <a:lnTo>
                    <a:pt x="880" y="16"/>
                  </a:lnTo>
                  <a:lnTo>
                    <a:pt x="907" y="10"/>
                  </a:lnTo>
                  <a:lnTo>
                    <a:pt x="934" y="5"/>
                  </a:lnTo>
                  <a:lnTo>
                    <a:pt x="961" y="0"/>
                  </a:lnTo>
                  <a:lnTo>
                    <a:pt x="994" y="0"/>
                  </a:lnTo>
                  <a:lnTo>
                    <a:pt x="1021" y="0"/>
                  </a:lnTo>
                  <a:lnTo>
                    <a:pt x="1048" y="0"/>
                  </a:lnTo>
                  <a:lnTo>
                    <a:pt x="1108" y="0"/>
                  </a:lnTo>
                  <a:lnTo>
                    <a:pt x="1135" y="0"/>
                  </a:lnTo>
                  <a:lnTo>
                    <a:pt x="1162" y="0"/>
                  </a:lnTo>
                  <a:lnTo>
                    <a:pt x="1189" y="0"/>
                  </a:lnTo>
                  <a:lnTo>
                    <a:pt x="1222" y="5"/>
                  </a:lnTo>
                  <a:lnTo>
                    <a:pt x="1249" y="10"/>
                  </a:lnTo>
                  <a:lnTo>
                    <a:pt x="1276" y="16"/>
                  </a:lnTo>
                  <a:lnTo>
                    <a:pt x="1303" y="21"/>
                  </a:lnTo>
                  <a:lnTo>
                    <a:pt x="1330" y="26"/>
                  </a:lnTo>
                  <a:lnTo>
                    <a:pt x="1357" y="32"/>
                  </a:lnTo>
                  <a:lnTo>
                    <a:pt x="1384" y="37"/>
                  </a:lnTo>
                  <a:lnTo>
                    <a:pt x="1411" y="48"/>
                  </a:lnTo>
                  <a:lnTo>
                    <a:pt x="1438" y="53"/>
                  </a:lnTo>
                  <a:lnTo>
                    <a:pt x="1465" y="64"/>
                  </a:lnTo>
                  <a:lnTo>
                    <a:pt x="1487" y="69"/>
                  </a:lnTo>
                  <a:lnTo>
                    <a:pt x="1514" y="80"/>
                  </a:lnTo>
                  <a:lnTo>
                    <a:pt x="1535" y="91"/>
                  </a:lnTo>
                  <a:lnTo>
                    <a:pt x="1557" y="102"/>
                  </a:lnTo>
                  <a:lnTo>
                    <a:pt x="1584" y="112"/>
                  </a:lnTo>
                  <a:lnTo>
                    <a:pt x="1611" y="129"/>
                  </a:lnTo>
                  <a:lnTo>
                    <a:pt x="1633" y="145"/>
                  </a:lnTo>
                  <a:lnTo>
                    <a:pt x="1654" y="156"/>
                  </a:lnTo>
                  <a:lnTo>
                    <a:pt x="1676" y="166"/>
                  </a:lnTo>
                  <a:lnTo>
                    <a:pt x="1697" y="182"/>
                  </a:lnTo>
                  <a:lnTo>
                    <a:pt x="1719" y="199"/>
                  </a:lnTo>
                  <a:lnTo>
                    <a:pt x="1741" y="215"/>
                  </a:lnTo>
                  <a:lnTo>
                    <a:pt x="1762" y="231"/>
                  </a:lnTo>
                  <a:lnTo>
                    <a:pt x="1784" y="247"/>
                  </a:lnTo>
                  <a:lnTo>
                    <a:pt x="1806" y="263"/>
                  </a:lnTo>
                  <a:lnTo>
                    <a:pt x="1822" y="279"/>
                  </a:lnTo>
                  <a:lnTo>
                    <a:pt x="1843" y="301"/>
                  </a:lnTo>
                  <a:lnTo>
                    <a:pt x="1860" y="317"/>
                  </a:lnTo>
                  <a:lnTo>
                    <a:pt x="1876" y="333"/>
                  </a:lnTo>
                  <a:lnTo>
                    <a:pt x="1892" y="355"/>
                  </a:lnTo>
                  <a:lnTo>
                    <a:pt x="1914" y="371"/>
                  </a:lnTo>
                  <a:lnTo>
                    <a:pt x="1930" y="392"/>
                  </a:lnTo>
                  <a:lnTo>
                    <a:pt x="1946" y="414"/>
                  </a:lnTo>
                  <a:lnTo>
                    <a:pt x="1962" y="435"/>
                  </a:lnTo>
                  <a:lnTo>
                    <a:pt x="1973" y="457"/>
                  </a:lnTo>
                  <a:lnTo>
                    <a:pt x="1989" y="478"/>
                  </a:lnTo>
                  <a:lnTo>
                    <a:pt x="2006" y="500"/>
                  </a:lnTo>
                  <a:lnTo>
                    <a:pt x="2016" y="522"/>
                  </a:lnTo>
                  <a:lnTo>
                    <a:pt x="2033" y="544"/>
                  </a:lnTo>
                  <a:lnTo>
                    <a:pt x="2043" y="565"/>
                  </a:lnTo>
                  <a:lnTo>
                    <a:pt x="2054" y="592"/>
                  </a:lnTo>
                  <a:lnTo>
                    <a:pt x="2065" y="619"/>
                  </a:lnTo>
                  <a:lnTo>
                    <a:pt x="2076" y="641"/>
                  </a:lnTo>
                  <a:lnTo>
                    <a:pt x="2087" y="662"/>
                  </a:lnTo>
                  <a:lnTo>
                    <a:pt x="2097" y="689"/>
                  </a:lnTo>
                  <a:lnTo>
                    <a:pt x="2103" y="711"/>
                  </a:lnTo>
                  <a:lnTo>
                    <a:pt x="2114" y="738"/>
                  </a:lnTo>
                  <a:lnTo>
                    <a:pt x="2119" y="765"/>
                  </a:lnTo>
                  <a:lnTo>
                    <a:pt x="2124" y="791"/>
                  </a:lnTo>
                  <a:lnTo>
                    <a:pt x="2130" y="818"/>
                  </a:lnTo>
                  <a:lnTo>
                    <a:pt x="2135" y="845"/>
                  </a:lnTo>
                  <a:lnTo>
                    <a:pt x="2141" y="872"/>
                  </a:lnTo>
                  <a:lnTo>
                    <a:pt x="2146" y="899"/>
                  </a:lnTo>
                  <a:lnTo>
                    <a:pt x="2146" y="926"/>
                  </a:lnTo>
                  <a:lnTo>
                    <a:pt x="2151" y="953"/>
                  </a:lnTo>
                  <a:lnTo>
                    <a:pt x="2151" y="980"/>
                  </a:lnTo>
                  <a:lnTo>
                    <a:pt x="2157" y="1007"/>
                  </a:lnTo>
                  <a:lnTo>
                    <a:pt x="2157" y="1039"/>
                  </a:lnTo>
                  <a:lnTo>
                    <a:pt x="2157" y="1061"/>
                  </a:lnTo>
                  <a:lnTo>
                    <a:pt x="2151" y="1093"/>
                  </a:lnTo>
                  <a:lnTo>
                    <a:pt x="2151" y="1120"/>
                  </a:lnTo>
                  <a:lnTo>
                    <a:pt x="2146" y="1147"/>
                  </a:lnTo>
                  <a:lnTo>
                    <a:pt x="2146" y="1174"/>
                  </a:lnTo>
                  <a:lnTo>
                    <a:pt x="2141" y="1200"/>
                  </a:lnTo>
                  <a:lnTo>
                    <a:pt x="2135" y="1227"/>
                  </a:lnTo>
                  <a:lnTo>
                    <a:pt x="2130" y="1254"/>
                  </a:lnTo>
                  <a:lnTo>
                    <a:pt x="2124" y="1281"/>
                  </a:lnTo>
                  <a:lnTo>
                    <a:pt x="2119" y="1308"/>
                  </a:lnTo>
                  <a:lnTo>
                    <a:pt x="2114" y="1330"/>
                  </a:lnTo>
                  <a:lnTo>
                    <a:pt x="2103" y="1356"/>
                  </a:lnTo>
                  <a:lnTo>
                    <a:pt x="2097" y="1383"/>
                  </a:lnTo>
                  <a:lnTo>
                    <a:pt x="2087" y="1405"/>
                  </a:lnTo>
                  <a:lnTo>
                    <a:pt x="2076" y="1432"/>
                  </a:lnTo>
                  <a:lnTo>
                    <a:pt x="2065" y="1459"/>
                  </a:lnTo>
                  <a:lnTo>
                    <a:pt x="2054" y="1480"/>
                  </a:lnTo>
                  <a:lnTo>
                    <a:pt x="2043" y="1502"/>
                  </a:lnTo>
                  <a:lnTo>
                    <a:pt x="2033" y="1523"/>
                  </a:lnTo>
                  <a:lnTo>
                    <a:pt x="2016" y="1550"/>
                  </a:lnTo>
                  <a:lnTo>
                    <a:pt x="2006" y="1573"/>
                  </a:lnTo>
                  <a:lnTo>
                    <a:pt x="1989" y="1594"/>
                  </a:lnTo>
                  <a:lnTo>
                    <a:pt x="1973" y="1616"/>
                  </a:lnTo>
                  <a:lnTo>
                    <a:pt x="1962" y="1637"/>
                  </a:lnTo>
                  <a:lnTo>
                    <a:pt x="1946" y="1659"/>
                  </a:lnTo>
                  <a:lnTo>
                    <a:pt x="1930" y="1680"/>
                  </a:lnTo>
                  <a:lnTo>
                    <a:pt x="1914" y="1702"/>
                  </a:lnTo>
                  <a:lnTo>
                    <a:pt x="1892" y="1718"/>
                  </a:lnTo>
                  <a:lnTo>
                    <a:pt x="1876" y="1739"/>
                  </a:lnTo>
                  <a:lnTo>
                    <a:pt x="1860" y="1756"/>
                  </a:lnTo>
                  <a:lnTo>
                    <a:pt x="1843" y="1777"/>
                  </a:lnTo>
                  <a:lnTo>
                    <a:pt x="1822" y="1793"/>
                  </a:lnTo>
                  <a:lnTo>
                    <a:pt x="1806" y="1809"/>
                  </a:lnTo>
                  <a:lnTo>
                    <a:pt x="1784" y="1826"/>
                  </a:lnTo>
                  <a:lnTo>
                    <a:pt x="1762" y="1847"/>
                  </a:lnTo>
                  <a:lnTo>
                    <a:pt x="1741" y="1858"/>
                  </a:lnTo>
                  <a:lnTo>
                    <a:pt x="1719" y="1874"/>
                  </a:lnTo>
                  <a:lnTo>
                    <a:pt x="1697" y="1890"/>
                  </a:lnTo>
                  <a:lnTo>
                    <a:pt x="1676" y="1906"/>
                  </a:lnTo>
                  <a:lnTo>
                    <a:pt x="1654" y="1922"/>
                  </a:lnTo>
                  <a:lnTo>
                    <a:pt x="1633" y="1933"/>
                  </a:lnTo>
                  <a:lnTo>
                    <a:pt x="1611" y="1944"/>
                  </a:lnTo>
                  <a:lnTo>
                    <a:pt x="1584" y="1960"/>
                  </a:lnTo>
                  <a:lnTo>
                    <a:pt x="1557" y="1971"/>
                  </a:lnTo>
                  <a:lnTo>
                    <a:pt x="1535" y="1982"/>
                  </a:lnTo>
                  <a:lnTo>
                    <a:pt x="1514" y="1992"/>
                  </a:lnTo>
                  <a:lnTo>
                    <a:pt x="1487" y="2003"/>
                  </a:lnTo>
                  <a:lnTo>
                    <a:pt x="1465" y="2014"/>
                  </a:lnTo>
                  <a:lnTo>
                    <a:pt x="1438" y="2019"/>
                  </a:lnTo>
                  <a:lnTo>
                    <a:pt x="1411" y="2030"/>
                  </a:lnTo>
                  <a:lnTo>
                    <a:pt x="1384" y="2035"/>
                  </a:lnTo>
                  <a:lnTo>
                    <a:pt x="1357" y="2041"/>
                  </a:lnTo>
                  <a:lnTo>
                    <a:pt x="1330" y="2052"/>
                  </a:lnTo>
                  <a:lnTo>
                    <a:pt x="1303" y="2052"/>
                  </a:lnTo>
                  <a:lnTo>
                    <a:pt x="1276" y="2057"/>
                  </a:lnTo>
                  <a:lnTo>
                    <a:pt x="1249" y="2062"/>
                  </a:lnTo>
                  <a:lnTo>
                    <a:pt x="1222" y="2068"/>
                  </a:lnTo>
                  <a:lnTo>
                    <a:pt x="1189" y="2073"/>
                  </a:lnTo>
                  <a:lnTo>
                    <a:pt x="1162" y="2073"/>
                  </a:lnTo>
                  <a:lnTo>
                    <a:pt x="1135" y="2073"/>
                  </a:lnTo>
                  <a:lnTo>
                    <a:pt x="1108" y="2078"/>
                  </a:lnTo>
                  <a:lnTo>
                    <a:pt x="1048" y="2078"/>
                  </a:lnTo>
                  <a:lnTo>
                    <a:pt x="1021" y="2073"/>
                  </a:lnTo>
                  <a:lnTo>
                    <a:pt x="994" y="2073"/>
                  </a:lnTo>
                  <a:lnTo>
                    <a:pt x="961" y="2073"/>
                  </a:lnTo>
                  <a:lnTo>
                    <a:pt x="934" y="2068"/>
                  </a:lnTo>
                  <a:lnTo>
                    <a:pt x="907" y="2062"/>
                  </a:lnTo>
                  <a:lnTo>
                    <a:pt x="880" y="2057"/>
                  </a:lnTo>
                  <a:lnTo>
                    <a:pt x="853" y="2052"/>
                  </a:lnTo>
                  <a:lnTo>
                    <a:pt x="826" y="2052"/>
                  </a:lnTo>
                  <a:lnTo>
                    <a:pt x="799" y="2041"/>
                  </a:lnTo>
                  <a:lnTo>
                    <a:pt x="772" y="2035"/>
                  </a:lnTo>
                  <a:lnTo>
                    <a:pt x="745" y="2030"/>
                  </a:lnTo>
                  <a:lnTo>
                    <a:pt x="718" y="2019"/>
                  </a:lnTo>
                  <a:lnTo>
                    <a:pt x="691" y="2014"/>
                  </a:lnTo>
                  <a:lnTo>
                    <a:pt x="670" y="2003"/>
                  </a:lnTo>
                  <a:lnTo>
                    <a:pt x="643" y="1992"/>
                  </a:lnTo>
                  <a:lnTo>
                    <a:pt x="621" y="1982"/>
                  </a:lnTo>
                  <a:lnTo>
                    <a:pt x="594" y="1971"/>
                  </a:lnTo>
                  <a:lnTo>
                    <a:pt x="572" y="1960"/>
                  </a:lnTo>
                  <a:lnTo>
                    <a:pt x="551" y="1944"/>
                  </a:lnTo>
                  <a:lnTo>
                    <a:pt x="524" y="1933"/>
                  </a:lnTo>
                  <a:lnTo>
                    <a:pt x="502" y="1922"/>
                  </a:lnTo>
                  <a:lnTo>
                    <a:pt x="480" y="1906"/>
                  </a:lnTo>
                  <a:lnTo>
                    <a:pt x="453" y="1890"/>
                  </a:lnTo>
                  <a:lnTo>
                    <a:pt x="437" y="1874"/>
                  </a:lnTo>
                  <a:lnTo>
                    <a:pt x="416" y="1858"/>
                  </a:lnTo>
                  <a:lnTo>
                    <a:pt x="394" y="1847"/>
                  </a:lnTo>
                  <a:lnTo>
                    <a:pt x="372" y="1826"/>
                  </a:lnTo>
                  <a:lnTo>
                    <a:pt x="351" y="1809"/>
                  </a:lnTo>
                  <a:lnTo>
                    <a:pt x="335" y="1793"/>
                  </a:lnTo>
                  <a:lnTo>
                    <a:pt x="313" y="1777"/>
                  </a:lnTo>
                  <a:lnTo>
                    <a:pt x="297" y="1756"/>
                  </a:lnTo>
                  <a:lnTo>
                    <a:pt x="281" y="1739"/>
                  </a:lnTo>
                  <a:lnTo>
                    <a:pt x="259" y="1718"/>
                  </a:lnTo>
                  <a:lnTo>
                    <a:pt x="243" y="1702"/>
                  </a:lnTo>
                  <a:lnTo>
                    <a:pt x="226" y="1680"/>
                  </a:lnTo>
                  <a:lnTo>
                    <a:pt x="210" y="1659"/>
                  </a:lnTo>
                  <a:lnTo>
                    <a:pt x="194" y="1637"/>
                  </a:lnTo>
                  <a:lnTo>
                    <a:pt x="178" y="1616"/>
                  </a:lnTo>
                  <a:lnTo>
                    <a:pt x="167" y="1594"/>
                  </a:lnTo>
                  <a:lnTo>
                    <a:pt x="151" y="1573"/>
                  </a:lnTo>
                  <a:lnTo>
                    <a:pt x="135" y="1550"/>
                  </a:lnTo>
                  <a:lnTo>
                    <a:pt x="124" y="1523"/>
                  </a:lnTo>
                  <a:lnTo>
                    <a:pt x="113" y="1502"/>
                  </a:lnTo>
                  <a:lnTo>
                    <a:pt x="102" y="1480"/>
                  </a:lnTo>
                  <a:lnTo>
                    <a:pt x="91" y="1459"/>
                  </a:lnTo>
                  <a:lnTo>
                    <a:pt x="81" y="1432"/>
                  </a:lnTo>
                  <a:lnTo>
                    <a:pt x="70" y="1405"/>
                  </a:lnTo>
                  <a:lnTo>
                    <a:pt x="59" y="1383"/>
                  </a:lnTo>
                  <a:lnTo>
                    <a:pt x="54" y="1356"/>
                  </a:lnTo>
                  <a:lnTo>
                    <a:pt x="48" y="1330"/>
                  </a:lnTo>
                  <a:lnTo>
                    <a:pt x="37" y="1308"/>
                  </a:lnTo>
                  <a:lnTo>
                    <a:pt x="32" y="1281"/>
                  </a:lnTo>
                  <a:lnTo>
                    <a:pt x="27" y="1254"/>
                  </a:lnTo>
                  <a:lnTo>
                    <a:pt x="21" y="1227"/>
                  </a:lnTo>
                  <a:lnTo>
                    <a:pt x="16" y="1200"/>
                  </a:lnTo>
                  <a:lnTo>
                    <a:pt x="10" y="1174"/>
                  </a:lnTo>
                  <a:lnTo>
                    <a:pt x="5" y="1147"/>
                  </a:lnTo>
                  <a:lnTo>
                    <a:pt x="5" y="1120"/>
                  </a:lnTo>
                  <a:lnTo>
                    <a:pt x="0" y="1093"/>
                  </a:lnTo>
                  <a:lnTo>
                    <a:pt x="0" y="1061"/>
                  </a:lnTo>
                  <a:lnTo>
                    <a:pt x="0" y="10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3960" y="2768760"/>
              <a:ext cx="771840" cy="743400"/>
            </a:xfrm>
            <a:custGeom>
              <a:avLst/>
              <a:gdLst/>
              <a:ahLst/>
              <a:rect l="0" t="0" r="r" b="b"/>
              <a:pathLst>
                <a:path w="2144" h="2065">
                  <a:moveTo>
                    <a:pt x="0" y="1032"/>
                  </a:moveTo>
                  <a:lnTo>
                    <a:pt x="0" y="1000"/>
                  </a:lnTo>
                  <a:lnTo>
                    <a:pt x="5" y="973"/>
                  </a:lnTo>
                  <a:lnTo>
                    <a:pt x="5" y="946"/>
                  </a:lnTo>
                  <a:lnTo>
                    <a:pt x="10" y="920"/>
                  </a:lnTo>
                  <a:lnTo>
                    <a:pt x="16" y="887"/>
                  </a:lnTo>
                  <a:lnTo>
                    <a:pt x="16" y="860"/>
                  </a:lnTo>
                  <a:lnTo>
                    <a:pt x="21" y="834"/>
                  </a:lnTo>
                  <a:lnTo>
                    <a:pt x="27" y="812"/>
                  </a:lnTo>
                  <a:lnTo>
                    <a:pt x="32" y="785"/>
                  </a:lnTo>
                  <a:lnTo>
                    <a:pt x="37" y="753"/>
                  </a:lnTo>
                  <a:lnTo>
                    <a:pt x="48" y="731"/>
                  </a:lnTo>
                  <a:lnTo>
                    <a:pt x="54" y="705"/>
                  </a:lnTo>
                  <a:lnTo>
                    <a:pt x="64" y="678"/>
                  </a:lnTo>
                  <a:lnTo>
                    <a:pt x="70" y="656"/>
                  </a:lnTo>
                  <a:lnTo>
                    <a:pt x="81" y="629"/>
                  </a:lnTo>
                  <a:lnTo>
                    <a:pt x="92" y="602"/>
                  </a:lnTo>
                  <a:lnTo>
                    <a:pt x="102" y="581"/>
                  </a:lnTo>
                  <a:lnTo>
                    <a:pt x="119" y="559"/>
                  </a:lnTo>
                  <a:lnTo>
                    <a:pt x="129" y="538"/>
                  </a:lnTo>
                  <a:lnTo>
                    <a:pt x="140" y="510"/>
                  </a:lnTo>
                  <a:lnTo>
                    <a:pt x="156" y="489"/>
                  </a:lnTo>
                  <a:lnTo>
                    <a:pt x="167" y="467"/>
                  </a:lnTo>
                  <a:lnTo>
                    <a:pt x="184" y="446"/>
                  </a:lnTo>
                  <a:lnTo>
                    <a:pt x="200" y="424"/>
                  </a:lnTo>
                  <a:lnTo>
                    <a:pt x="216" y="403"/>
                  </a:lnTo>
                  <a:lnTo>
                    <a:pt x="232" y="381"/>
                  </a:lnTo>
                  <a:lnTo>
                    <a:pt x="248" y="360"/>
                  </a:lnTo>
                  <a:lnTo>
                    <a:pt x="270" y="343"/>
                  </a:lnTo>
                  <a:lnTo>
                    <a:pt x="286" y="322"/>
                  </a:lnTo>
                  <a:lnTo>
                    <a:pt x="303" y="306"/>
                  </a:lnTo>
                  <a:lnTo>
                    <a:pt x="319" y="290"/>
                  </a:lnTo>
                  <a:lnTo>
                    <a:pt x="340" y="268"/>
                  </a:lnTo>
                  <a:lnTo>
                    <a:pt x="362" y="252"/>
                  </a:lnTo>
                  <a:lnTo>
                    <a:pt x="384" y="236"/>
                  </a:lnTo>
                  <a:lnTo>
                    <a:pt x="405" y="220"/>
                  </a:lnTo>
                  <a:lnTo>
                    <a:pt x="427" y="204"/>
                  </a:lnTo>
                  <a:lnTo>
                    <a:pt x="443" y="188"/>
                  </a:lnTo>
                  <a:lnTo>
                    <a:pt x="470" y="177"/>
                  </a:lnTo>
                  <a:lnTo>
                    <a:pt x="492" y="161"/>
                  </a:lnTo>
                  <a:lnTo>
                    <a:pt x="514" y="145"/>
                  </a:lnTo>
                  <a:lnTo>
                    <a:pt x="541" y="134"/>
                  </a:lnTo>
                  <a:lnTo>
                    <a:pt x="562" y="123"/>
                  </a:lnTo>
                  <a:lnTo>
                    <a:pt x="584" y="107"/>
                  </a:lnTo>
                  <a:lnTo>
                    <a:pt x="611" y="96"/>
                  </a:lnTo>
                  <a:lnTo>
                    <a:pt x="633" y="85"/>
                  </a:lnTo>
                  <a:lnTo>
                    <a:pt x="660" y="75"/>
                  </a:lnTo>
                  <a:lnTo>
                    <a:pt x="687" y="64"/>
                  </a:lnTo>
                  <a:lnTo>
                    <a:pt x="714" y="53"/>
                  </a:lnTo>
                  <a:lnTo>
                    <a:pt x="736" y="48"/>
                  </a:lnTo>
                  <a:lnTo>
                    <a:pt x="763" y="42"/>
                  </a:lnTo>
                  <a:lnTo>
                    <a:pt x="790" y="32"/>
                  </a:lnTo>
                  <a:lnTo>
                    <a:pt x="817" y="26"/>
                  </a:lnTo>
                  <a:lnTo>
                    <a:pt x="844" y="21"/>
                  </a:lnTo>
                  <a:lnTo>
                    <a:pt x="871" y="16"/>
                  </a:lnTo>
                  <a:lnTo>
                    <a:pt x="903" y="10"/>
                  </a:lnTo>
                  <a:lnTo>
                    <a:pt x="930" y="5"/>
                  </a:lnTo>
                  <a:lnTo>
                    <a:pt x="957" y="5"/>
                  </a:lnTo>
                  <a:lnTo>
                    <a:pt x="984" y="0"/>
                  </a:lnTo>
                  <a:lnTo>
                    <a:pt x="1012" y="0"/>
                  </a:lnTo>
                  <a:lnTo>
                    <a:pt x="1044" y="0"/>
                  </a:lnTo>
                  <a:lnTo>
                    <a:pt x="1105" y="0"/>
                  </a:lnTo>
                  <a:lnTo>
                    <a:pt x="1132" y="0"/>
                  </a:lnTo>
                  <a:lnTo>
                    <a:pt x="1159" y="0"/>
                  </a:lnTo>
                  <a:lnTo>
                    <a:pt x="1191" y="5"/>
                  </a:lnTo>
                  <a:lnTo>
                    <a:pt x="1218" y="5"/>
                  </a:lnTo>
                  <a:lnTo>
                    <a:pt x="1245" y="10"/>
                  </a:lnTo>
                  <a:lnTo>
                    <a:pt x="1272" y="16"/>
                  </a:lnTo>
                  <a:lnTo>
                    <a:pt x="1299" y="21"/>
                  </a:lnTo>
                  <a:lnTo>
                    <a:pt x="1326" y="26"/>
                  </a:lnTo>
                  <a:lnTo>
                    <a:pt x="1353" y="32"/>
                  </a:lnTo>
                  <a:lnTo>
                    <a:pt x="1381" y="42"/>
                  </a:lnTo>
                  <a:lnTo>
                    <a:pt x="1413" y="48"/>
                  </a:lnTo>
                  <a:lnTo>
                    <a:pt x="1435" y="53"/>
                  </a:lnTo>
                  <a:lnTo>
                    <a:pt x="1462" y="64"/>
                  </a:lnTo>
                  <a:lnTo>
                    <a:pt x="1489" y="75"/>
                  </a:lnTo>
                  <a:lnTo>
                    <a:pt x="1510" y="85"/>
                  </a:lnTo>
                  <a:lnTo>
                    <a:pt x="1537" y="96"/>
                  </a:lnTo>
                  <a:lnTo>
                    <a:pt x="1565" y="107"/>
                  </a:lnTo>
                  <a:lnTo>
                    <a:pt x="1586" y="123"/>
                  </a:lnTo>
                  <a:lnTo>
                    <a:pt x="1608" y="134"/>
                  </a:lnTo>
                  <a:lnTo>
                    <a:pt x="1635" y="145"/>
                  </a:lnTo>
                  <a:lnTo>
                    <a:pt x="1657" y="161"/>
                  </a:lnTo>
                  <a:lnTo>
                    <a:pt x="1678" y="177"/>
                  </a:lnTo>
                  <a:lnTo>
                    <a:pt x="1700" y="188"/>
                  </a:lnTo>
                  <a:lnTo>
                    <a:pt x="1721" y="204"/>
                  </a:lnTo>
                  <a:lnTo>
                    <a:pt x="1743" y="220"/>
                  </a:lnTo>
                  <a:lnTo>
                    <a:pt x="1765" y="236"/>
                  </a:lnTo>
                  <a:lnTo>
                    <a:pt x="1786" y="252"/>
                  </a:lnTo>
                  <a:lnTo>
                    <a:pt x="1808" y="268"/>
                  </a:lnTo>
                  <a:lnTo>
                    <a:pt x="1824" y="290"/>
                  </a:lnTo>
                  <a:lnTo>
                    <a:pt x="1846" y="306"/>
                  </a:lnTo>
                  <a:lnTo>
                    <a:pt x="1862" y="322"/>
                  </a:lnTo>
                  <a:lnTo>
                    <a:pt x="1878" y="343"/>
                  </a:lnTo>
                  <a:lnTo>
                    <a:pt x="1895" y="360"/>
                  </a:lnTo>
                  <a:lnTo>
                    <a:pt x="1916" y="381"/>
                  </a:lnTo>
                  <a:lnTo>
                    <a:pt x="1933" y="403"/>
                  </a:lnTo>
                  <a:lnTo>
                    <a:pt x="1949" y="424"/>
                  </a:lnTo>
                  <a:lnTo>
                    <a:pt x="1965" y="446"/>
                  </a:lnTo>
                  <a:lnTo>
                    <a:pt x="1976" y="467"/>
                  </a:lnTo>
                  <a:lnTo>
                    <a:pt x="1992" y="489"/>
                  </a:lnTo>
                  <a:lnTo>
                    <a:pt x="2003" y="510"/>
                  </a:lnTo>
                  <a:lnTo>
                    <a:pt x="2019" y="538"/>
                  </a:lnTo>
                  <a:lnTo>
                    <a:pt x="2030" y="559"/>
                  </a:lnTo>
                  <a:lnTo>
                    <a:pt x="2041" y="581"/>
                  </a:lnTo>
                  <a:lnTo>
                    <a:pt x="2052" y="602"/>
                  </a:lnTo>
                  <a:lnTo>
                    <a:pt x="2062" y="629"/>
                  </a:lnTo>
                  <a:lnTo>
                    <a:pt x="2079" y="656"/>
                  </a:lnTo>
                  <a:lnTo>
                    <a:pt x="2084" y="678"/>
                  </a:lnTo>
                  <a:lnTo>
                    <a:pt x="2095" y="705"/>
                  </a:lnTo>
                  <a:lnTo>
                    <a:pt x="2100" y="731"/>
                  </a:lnTo>
                  <a:lnTo>
                    <a:pt x="2111" y="753"/>
                  </a:lnTo>
                  <a:lnTo>
                    <a:pt x="2117" y="785"/>
                  </a:lnTo>
                  <a:lnTo>
                    <a:pt x="2122" y="812"/>
                  </a:lnTo>
                  <a:lnTo>
                    <a:pt x="2127" y="834"/>
                  </a:lnTo>
                  <a:lnTo>
                    <a:pt x="2133" y="860"/>
                  </a:lnTo>
                  <a:lnTo>
                    <a:pt x="2138" y="887"/>
                  </a:lnTo>
                  <a:lnTo>
                    <a:pt x="2138" y="920"/>
                  </a:lnTo>
                  <a:lnTo>
                    <a:pt x="2144" y="946"/>
                  </a:lnTo>
                  <a:lnTo>
                    <a:pt x="2144" y="973"/>
                  </a:lnTo>
                  <a:lnTo>
                    <a:pt x="2144" y="1000"/>
                  </a:lnTo>
                  <a:lnTo>
                    <a:pt x="2144" y="1032"/>
                  </a:lnTo>
                  <a:lnTo>
                    <a:pt x="2144" y="1059"/>
                  </a:lnTo>
                  <a:lnTo>
                    <a:pt x="2144" y="1086"/>
                  </a:lnTo>
                  <a:lnTo>
                    <a:pt x="2144" y="1118"/>
                  </a:lnTo>
                  <a:lnTo>
                    <a:pt x="2138" y="1145"/>
                  </a:lnTo>
                  <a:lnTo>
                    <a:pt x="2138" y="1172"/>
                  </a:lnTo>
                  <a:lnTo>
                    <a:pt x="2133" y="1194"/>
                  </a:lnTo>
                  <a:lnTo>
                    <a:pt x="2127" y="1226"/>
                  </a:lnTo>
                  <a:lnTo>
                    <a:pt x="2122" y="1247"/>
                  </a:lnTo>
                  <a:lnTo>
                    <a:pt x="2117" y="1280"/>
                  </a:lnTo>
                  <a:lnTo>
                    <a:pt x="2111" y="1301"/>
                  </a:lnTo>
                  <a:lnTo>
                    <a:pt x="2100" y="1328"/>
                  </a:lnTo>
                  <a:lnTo>
                    <a:pt x="2095" y="1355"/>
                  </a:lnTo>
                  <a:lnTo>
                    <a:pt x="2084" y="1376"/>
                  </a:lnTo>
                  <a:lnTo>
                    <a:pt x="2079" y="1403"/>
                  </a:lnTo>
                  <a:lnTo>
                    <a:pt x="2062" y="1430"/>
                  </a:lnTo>
                  <a:lnTo>
                    <a:pt x="2052" y="1457"/>
                  </a:lnTo>
                  <a:lnTo>
                    <a:pt x="2041" y="1478"/>
                  </a:lnTo>
                  <a:lnTo>
                    <a:pt x="2030" y="1500"/>
                  </a:lnTo>
                  <a:lnTo>
                    <a:pt x="2019" y="1527"/>
                  </a:lnTo>
                  <a:lnTo>
                    <a:pt x="2003" y="1548"/>
                  </a:lnTo>
                  <a:lnTo>
                    <a:pt x="1992" y="1571"/>
                  </a:lnTo>
                  <a:lnTo>
                    <a:pt x="1976" y="1592"/>
                  </a:lnTo>
                  <a:lnTo>
                    <a:pt x="1965" y="1614"/>
                  </a:lnTo>
                  <a:lnTo>
                    <a:pt x="1949" y="1635"/>
                  </a:lnTo>
                  <a:lnTo>
                    <a:pt x="1933" y="1657"/>
                  </a:lnTo>
                  <a:lnTo>
                    <a:pt x="1916" y="1678"/>
                  </a:lnTo>
                  <a:lnTo>
                    <a:pt x="1895" y="1700"/>
                  </a:lnTo>
                  <a:lnTo>
                    <a:pt x="1878" y="1716"/>
                  </a:lnTo>
                  <a:lnTo>
                    <a:pt x="1862" y="1737"/>
                  </a:lnTo>
                  <a:lnTo>
                    <a:pt x="1846" y="1759"/>
                  </a:lnTo>
                  <a:lnTo>
                    <a:pt x="1824" y="1775"/>
                  </a:lnTo>
                  <a:lnTo>
                    <a:pt x="1808" y="1791"/>
                  </a:lnTo>
                  <a:lnTo>
                    <a:pt x="1786" y="1807"/>
                  </a:lnTo>
                  <a:lnTo>
                    <a:pt x="1765" y="1823"/>
                  </a:lnTo>
                  <a:lnTo>
                    <a:pt x="1743" y="1840"/>
                  </a:lnTo>
                  <a:lnTo>
                    <a:pt x="1721" y="1856"/>
                  </a:lnTo>
                  <a:lnTo>
                    <a:pt x="1700" y="1872"/>
                  </a:lnTo>
                  <a:lnTo>
                    <a:pt x="1678" y="1888"/>
                  </a:lnTo>
                  <a:lnTo>
                    <a:pt x="1657" y="1899"/>
                  </a:lnTo>
                  <a:lnTo>
                    <a:pt x="1635" y="1915"/>
                  </a:lnTo>
                  <a:lnTo>
                    <a:pt x="1608" y="1931"/>
                  </a:lnTo>
                  <a:lnTo>
                    <a:pt x="1586" y="1942"/>
                  </a:lnTo>
                  <a:lnTo>
                    <a:pt x="1565" y="1952"/>
                  </a:lnTo>
                  <a:lnTo>
                    <a:pt x="1537" y="1969"/>
                  </a:lnTo>
                  <a:lnTo>
                    <a:pt x="1510" y="1974"/>
                  </a:lnTo>
                  <a:lnTo>
                    <a:pt x="1489" y="1990"/>
                  </a:lnTo>
                  <a:lnTo>
                    <a:pt x="1462" y="1995"/>
                  </a:lnTo>
                  <a:lnTo>
                    <a:pt x="1435" y="2006"/>
                  </a:lnTo>
                  <a:lnTo>
                    <a:pt x="1413" y="2012"/>
                  </a:lnTo>
                  <a:lnTo>
                    <a:pt x="1381" y="2022"/>
                  </a:lnTo>
                  <a:lnTo>
                    <a:pt x="1353" y="2028"/>
                  </a:lnTo>
                  <a:lnTo>
                    <a:pt x="1326" y="2033"/>
                  </a:lnTo>
                  <a:lnTo>
                    <a:pt x="1299" y="2038"/>
                  </a:lnTo>
                  <a:lnTo>
                    <a:pt x="1272" y="2044"/>
                  </a:lnTo>
                  <a:lnTo>
                    <a:pt x="1245" y="2049"/>
                  </a:lnTo>
                  <a:lnTo>
                    <a:pt x="1218" y="2055"/>
                  </a:lnTo>
                  <a:lnTo>
                    <a:pt x="1191" y="2060"/>
                  </a:lnTo>
                  <a:lnTo>
                    <a:pt x="1159" y="2060"/>
                  </a:lnTo>
                  <a:lnTo>
                    <a:pt x="1132" y="2060"/>
                  </a:lnTo>
                  <a:lnTo>
                    <a:pt x="1105" y="2065"/>
                  </a:lnTo>
                  <a:lnTo>
                    <a:pt x="1077" y="2065"/>
                  </a:lnTo>
                  <a:lnTo>
                    <a:pt x="1044" y="2065"/>
                  </a:lnTo>
                  <a:lnTo>
                    <a:pt x="1012" y="2060"/>
                  </a:lnTo>
                  <a:lnTo>
                    <a:pt x="984" y="2060"/>
                  </a:lnTo>
                  <a:lnTo>
                    <a:pt x="957" y="2060"/>
                  </a:lnTo>
                  <a:lnTo>
                    <a:pt x="930" y="2055"/>
                  </a:lnTo>
                  <a:lnTo>
                    <a:pt x="903" y="2049"/>
                  </a:lnTo>
                  <a:lnTo>
                    <a:pt x="871" y="2044"/>
                  </a:lnTo>
                  <a:lnTo>
                    <a:pt x="844" y="2038"/>
                  </a:lnTo>
                  <a:lnTo>
                    <a:pt x="817" y="2033"/>
                  </a:lnTo>
                  <a:lnTo>
                    <a:pt x="790" y="2028"/>
                  </a:lnTo>
                  <a:lnTo>
                    <a:pt x="763" y="2022"/>
                  </a:lnTo>
                  <a:lnTo>
                    <a:pt x="736" y="2012"/>
                  </a:lnTo>
                  <a:lnTo>
                    <a:pt x="714" y="2006"/>
                  </a:lnTo>
                  <a:lnTo>
                    <a:pt x="687" y="1995"/>
                  </a:lnTo>
                  <a:lnTo>
                    <a:pt x="660" y="1990"/>
                  </a:lnTo>
                  <a:lnTo>
                    <a:pt x="633" y="1974"/>
                  </a:lnTo>
                  <a:lnTo>
                    <a:pt x="611" y="1969"/>
                  </a:lnTo>
                  <a:lnTo>
                    <a:pt x="584" y="1952"/>
                  </a:lnTo>
                  <a:lnTo>
                    <a:pt x="562" y="1942"/>
                  </a:lnTo>
                  <a:lnTo>
                    <a:pt x="541" y="1931"/>
                  </a:lnTo>
                  <a:lnTo>
                    <a:pt x="514" y="1915"/>
                  </a:lnTo>
                  <a:lnTo>
                    <a:pt x="492" y="1899"/>
                  </a:lnTo>
                  <a:lnTo>
                    <a:pt x="470" y="1888"/>
                  </a:lnTo>
                  <a:lnTo>
                    <a:pt x="443" y="1872"/>
                  </a:lnTo>
                  <a:lnTo>
                    <a:pt x="427" y="1856"/>
                  </a:lnTo>
                  <a:lnTo>
                    <a:pt x="405" y="1840"/>
                  </a:lnTo>
                  <a:lnTo>
                    <a:pt x="384" y="1823"/>
                  </a:lnTo>
                  <a:lnTo>
                    <a:pt x="362" y="1807"/>
                  </a:lnTo>
                  <a:lnTo>
                    <a:pt x="340" y="1791"/>
                  </a:lnTo>
                  <a:lnTo>
                    <a:pt x="319" y="1775"/>
                  </a:lnTo>
                  <a:lnTo>
                    <a:pt x="303" y="1759"/>
                  </a:lnTo>
                  <a:lnTo>
                    <a:pt x="286" y="1737"/>
                  </a:lnTo>
                  <a:lnTo>
                    <a:pt x="270" y="1716"/>
                  </a:lnTo>
                  <a:lnTo>
                    <a:pt x="248" y="1700"/>
                  </a:lnTo>
                  <a:lnTo>
                    <a:pt x="232" y="1678"/>
                  </a:lnTo>
                  <a:lnTo>
                    <a:pt x="216" y="1657"/>
                  </a:lnTo>
                  <a:lnTo>
                    <a:pt x="200" y="1635"/>
                  </a:lnTo>
                  <a:lnTo>
                    <a:pt x="184" y="1614"/>
                  </a:lnTo>
                  <a:lnTo>
                    <a:pt x="167" y="1592"/>
                  </a:lnTo>
                  <a:lnTo>
                    <a:pt x="156" y="1571"/>
                  </a:lnTo>
                  <a:lnTo>
                    <a:pt x="140" y="1548"/>
                  </a:lnTo>
                  <a:lnTo>
                    <a:pt x="129" y="1527"/>
                  </a:lnTo>
                  <a:lnTo>
                    <a:pt x="119" y="1500"/>
                  </a:lnTo>
                  <a:lnTo>
                    <a:pt x="102" y="1478"/>
                  </a:lnTo>
                  <a:lnTo>
                    <a:pt x="92" y="1457"/>
                  </a:lnTo>
                  <a:lnTo>
                    <a:pt x="81" y="1430"/>
                  </a:lnTo>
                  <a:lnTo>
                    <a:pt x="70" y="1403"/>
                  </a:lnTo>
                  <a:lnTo>
                    <a:pt x="64" y="1376"/>
                  </a:lnTo>
                  <a:lnTo>
                    <a:pt x="54" y="1355"/>
                  </a:lnTo>
                  <a:lnTo>
                    <a:pt x="48" y="1328"/>
                  </a:lnTo>
                  <a:lnTo>
                    <a:pt x="37" y="1301"/>
                  </a:lnTo>
                  <a:lnTo>
                    <a:pt x="32" y="1280"/>
                  </a:lnTo>
                  <a:lnTo>
                    <a:pt x="27" y="1247"/>
                  </a:lnTo>
                  <a:lnTo>
                    <a:pt x="21" y="1226"/>
                  </a:lnTo>
                  <a:lnTo>
                    <a:pt x="16" y="1194"/>
                  </a:lnTo>
                  <a:lnTo>
                    <a:pt x="16" y="1172"/>
                  </a:lnTo>
                  <a:lnTo>
                    <a:pt x="10" y="1145"/>
                  </a:lnTo>
                  <a:lnTo>
                    <a:pt x="5" y="1118"/>
                  </a:lnTo>
                  <a:lnTo>
                    <a:pt x="5" y="1086"/>
                  </a:lnTo>
                  <a:lnTo>
                    <a:pt x="0" y="1059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36680" y="2747880"/>
              <a:ext cx="810000" cy="783000"/>
            </a:xfrm>
            <a:custGeom>
              <a:avLst/>
              <a:gdLst/>
              <a:ahLst/>
              <a:rect l="0" t="0" r="r" b="b"/>
              <a:pathLst>
                <a:path w="2250" h="2175">
                  <a:moveTo>
                    <a:pt x="0" y="1090"/>
                  </a:moveTo>
                  <a:lnTo>
                    <a:pt x="0" y="1058"/>
                  </a:lnTo>
                  <a:lnTo>
                    <a:pt x="0" y="1031"/>
                  </a:lnTo>
                  <a:lnTo>
                    <a:pt x="0" y="1004"/>
                  </a:lnTo>
                  <a:lnTo>
                    <a:pt x="5" y="972"/>
                  </a:lnTo>
                  <a:lnTo>
                    <a:pt x="5" y="945"/>
                  </a:lnTo>
                  <a:lnTo>
                    <a:pt x="10" y="918"/>
                  </a:lnTo>
                  <a:lnTo>
                    <a:pt x="16" y="891"/>
                  </a:lnTo>
                  <a:lnTo>
                    <a:pt x="21" y="869"/>
                  </a:lnTo>
                  <a:lnTo>
                    <a:pt x="27" y="842"/>
                  </a:lnTo>
                  <a:lnTo>
                    <a:pt x="32" y="810"/>
                  </a:lnTo>
                  <a:lnTo>
                    <a:pt x="37" y="788"/>
                  </a:lnTo>
                  <a:lnTo>
                    <a:pt x="48" y="761"/>
                  </a:lnTo>
                  <a:lnTo>
                    <a:pt x="59" y="734"/>
                  </a:lnTo>
                  <a:lnTo>
                    <a:pt x="65" y="713"/>
                  </a:lnTo>
                  <a:lnTo>
                    <a:pt x="75" y="686"/>
                  </a:lnTo>
                  <a:lnTo>
                    <a:pt x="86" y="659"/>
                  </a:lnTo>
                  <a:lnTo>
                    <a:pt x="97" y="637"/>
                  </a:lnTo>
                  <a:lnTo>
                    <a:pt x="108" y="610"/>
                  </a:lnTo>
                  <a:lnTo>
                    <a:pt x="119" y="589"/>
                  </a:lnTo>
                  <a:lnTo>
                    <a:pt x="135" y="567"/>
                  </a:lnTo>
                  <a:lnTo>
                    <a:pt x="146" y="539"/>
                  </a:lnTo>
                  <a:lnTo>
                    <a:pt x="157" y="517"/>
                  </a:lnTo>
                  <a:lnTo>
                    <a:pt x="173" y="496"/>
                  </a:lnTo>
                  <a:lnTo>
                    <a:pt x="189" y="474"/>
                  </a:lnTo>
                  <a:lnTo>
                    <a:pt x="205" y="453"/>
                  </a:lnTo>
                  <a:lnTo>
                    <a:pt x="216" y="431"/>
                  </a:lnTo>
                  <a:lnTo>
                    <a:pt x="238" y="409"/>
                  </a:lnTo>
                  <a:lnTo>
                    <a:pt x="254" y="393"/>
                  </a:lnTo>
                  <a:lnTo>
                    <a:pt x="270" y="372"/>
                  </a:lnTo>
                  <a:lnTo>
                    <a:pt x="287" y="356"/>
                  </a:lnTo>
                  <a:lnTo>
                    <a:pt x="308" y="334"/>
                  </a:lnTo>
                  <a:lnTo>
                    <a:pt x="325" y="312"/>
                  </a:lnTo>
                  <a:lnTo>
                    <a:pt x="341" y="296"/>
                  </a:lnTo>
                  <a:lnTo>
                    <a:pt x="363" y="280"/>
                  </a:lnTo>
                  <a:lnTo>
                    <a:pt x="384" y="264"/>
                  </a:lnTo>
                  <a:lnTo>
                    <a:pt x="406" y="248"/>
                  </a:lnTo>
                  <a:lnTo>
                    <a:pt x="428" y="231"/>
                  </a:lnTo>
                  <a:lnTo>
                    <a:pt x="449" y="215"/>
                  </a:lnTo>
                  <a:lnTo>
                    <a:pt x="471" y="199"/>
                  </a:lnTo>
                  <a:lnTo>
                    <a:pt x="493" y="183"/>
                  </a:lnTo>
                  <a:lnTo>
                    <a:pt x="514" y="167"/>
                  </a:lnTo>
                  <a:lnTo>
                    <a:pt x="536" y="156"/>
                  </a:lnTo>
                  <a:lnTo>
                    <a:pt x="558" y="140"/>
                  </a:lnTo>
                  <a:lnTo>
                    <a:pt x="586" y="129"/>
                  </a:lnTo>
                  <a:lnTo>
                    <a:pt x="613" y="118"/>
                  </a:lnTo>
                  <a:lnTo>
                    <a:pt x="635" y="107"/>
                  </a:lnTo>
                  <a:lnTo>
                    <a:pt x="662" y="97"/>
                  </a:lnTo>
                  <a:lnTo>
                    <a:pt x="683" y="86"/>
                  </a:lnTo>
                  <a:lnTo>
                    <a:pt x="710" y="75"/>
                  </a:lnTo>
                  <a:lnTo>
                    <a:pt x="732" y="64"/>
                  </a:lnTo>
                  <a:lnTo>
                    <a:pt x="759" y="59"/>
                  </a:lnTo>
                  <a:lnTo>
                    <a:pt x="786" y="48"/>
                  </a:lnTo>
                  <a:lnTo>
                    <a:pt x="813" y="43"/>
                  </a:lnTo>
                  <a:lnTo>
                    <a:pt x="840" y="32"/>
                  </a:lnTo>
                  <a:lnTo>
                    <a:pt x="868" y="26"/>
                  </a:lnTo>
                  <a:lnTo>
                    <a:pt x="895" y="21"/>
                  </a:lnTo>
                  <a:lnTo>
                    <a:pt x="922" y="16"/>
                  </a:lnTo>
                  <a:lnTo>
                    <a:pt x="954" y="10"/>
                  </a:lnTo>
                  <a:lnTo>
                    <a:pt x="981" y="5"/>
                  </a:lnTo>
                  <a:lnTo>
                    <a:pt x="1008" y="5"/>
                  </a:lnTo>
                  <a:lnTo>
                    <a:pt x="1041" y="0"/>
                  </a:lnTo>
                  <a:lnTo>
                    <a:pt x="1068" y="0"/>
                  </a:lnTo>
                  <a:lnTo>
                    <a:pt x="1095" y="0"/>
                  </a:lnTo>
                  <a:lnTo>
                    <a:pt x="1155" y="0"/>
                  </a:lnTo>
                  <a:lnTo>
                    <a:pt x="1182" y="0"/>
                  </a:lnTo>
                  <a:lnTo>
                    <a:pt x="1209" y="0"/>
                  </a:lnTo>
                  <a:lnTo>
                    <a:pt x="1241" y="5"/>
                  </a:lnTo>
                  <a:lnTo>
                    <a:pt x="1269" y="5"/>
                  </a:lnTo>
                  <a:lnTo>
                    <a:pt x="1296" y="10"/>
                  </a:lnTo>
                  <a:lnTo>
                    <a:pt x="1328" y="16"/>
                  </a:lnTo>
                  <a:lnTo>
                    <a:pt x="1355" y="21"/>
                  </a:lnTo>
                  <a:lnTo>
                    <a:pt x="1382" y="26"/>
                  </a:lnTo>
                  <a:lnTo>
                    <a:pt x="1404" y="32"/>
                  </a:lnTo>
                  <a:lnTo>
                    <a:pt x="1431" y="43"/>
                  </a:lnTo>
                  <a:lnTo>
                    <a:pt x="1464" y="48"/>
                  </a:lnTo>
                  <a:lnTo>
                    <a:pt x="1491" y="59"/>
                  </a:lnTo>
                  <a:lnTo>
                    <a:pt x="1512" y="64"/>
                  </a:lnTo>
                  <a:lnTo>
                    <a:pt x="1540" y="75"/>
                  </a:lnTo>
                  <a:lnTo>
                    <a:pt x="1567" y="86"/>
                  </a:lnTo>
                  <a:lnTo>
                    <a:pt x="1588" y="97"/>
                  </a:lnTo>
                  <a:lnTo>
                    <a:pt x="1615" y="107"/>
                  </a:lnTo>
                  <a:lnTo>
                    <a:pt x="1643" y="118"/>
                  </a:lnTo>
                  <a:lnTo>
                    <a:pt x="1664" y="129"/>
                  </a:lnTo>
                  <a:lnTo>
                    <a:pt x="1692" y="140"/>
                  </a:lnTo>
                  <a:lnTo>
                    <a:pt x="1714" y="156"/>
                  </a:lnTo>
                  <a:lnTo>
                    <a:pt x="1736" y="167"/>
                  </a:lnTo>
                  <a:lnTo>
                    <a:pt x="1757" y="183"/>
                  </a:lnTo>
                  <a:lnTo>
                    <a:pt x="1779" y="199"/>
                  </a:lnTo>
                  <a:lnTo>
                    <a:pt x="1806" y="215"/>
                  </a:lnTo>
                  <a:lnTo>
                    <a:pt x="1822" y="231"/>
                  </a:lnTo>
                  <a:lnTo>
                    <a:pt x="1844" y="248"/>
                  </a:lnTo>
                  <a:lnTo>
                    <a:pt x="1866" y="264"/>
                  </a:lnTo>
                  <a:lnTo>
                    <a:pt x="1887" y="280"/>
                  </a:lnTo>
                  <a:lnTo>
                    <a:pt x="1904" y="296"/>
                  </a:lnTo>
                  <a:lnTo>
                    <a:pt x="1925" y="312"/>
                  </a:lnTo>
                  <a:lnTo>
                    <a:pt x="1942" y="334"/>
                  </a:lnTo>
                  <a:lnTo>
                    <a:pt x="1963" y="356"/>
                  </a:lnTo>
                  <a:lnTo>
                    <a:pt x="1980" y="372"/>
                  </a:lnTo>
                  <a:lnTo>
                    <a:pt x="1996" y="393"/>
                  </a:lnTo>
                  <a:lnTo>
                    <a:pt x="2012" y="409"/>
                  </a:lnTo>
                  <a:lnTo>
                    <a:pt x="2028" y="431"/>
                  </a:lnTo>
                  <a:lnTo>
                    <a:pt x="2045" y="453"/>
                  </a:lnTo>
                  <a:lnTo>
                    <a:pt x="2061" y="474"/>
                  </a:lnTo>
                  <a:lnTo>
                    <a:pt x="2077" y="496"/>
                  </a:lnTo>
                  <a:lnTo>
                    <a:pt x="2088" y="517"/>
                  </a:lnTo>
                  <a:lnTo>
                    <a:pt x="2099" y="539"/>
                  </a:lnTo>
                  <a:lnTo>
                    <a:pt x="2115" y="567"/>
                  </a:lnTo>
                  <a:lnTo>
                    <a:pt x="2131" y="589"/>
                  </a:lnTo>
                  <a:lnTo>
                    <a:pt x="2142" y="610"/>
                  </a:lnTo>
                  <a:lnTo>
                    <a:pt x="2153" y="637"/>
                  </a:lnTo>
                  <a:lnTo>
                    <a:pt x="2164" y="659"/>
                  </a:lnTo>
                  <a:lnTo>
                    <a:pt x="2175" y="686"/>
                  </a:lnTo>
                  <a:lnTo>
                    <a:pt x="2185" y="713"/>
                  </a:lnTo>
                  <a:lnTo>
                    <a:pt x="2191" y="734"/>
                  </a:lnTo>
                  <a:lnTo>
                    <a:pt x="2202" y="761"/>
                  </a:lnTo>
                  <a:lnTo>
                    <a:pt x="2207" y="788"/>
                  </a:lnTo>
                  <a:lnTo>
                    <a:pt x="2213" y="810"/>
                  </a:lnTo>
                  <a:lnTo>
                    <a:pt x="2223" y="842"/>
                  </a:lnTo>
                  <a:lnTo>
                    <a:pt x="2229" y="869"/>
                  </a:lnTo>
                  <a:lnTo>
                    <a:pt x="2234" y="891"/>
                  </a:lnTo>
                  <a:lnTo>
                    <a:pt x="2240" y="918"/>
                  </a:lnTo>
                  <a:lnTo>
                    <a:pt x="2240" y="945"/>
                  </a:lnTo>
                  <a:lnTo>
                    <a:pt x="2245" y="972"/>
                  </a:lnTo>
                  <a:lnTo>
                    <a:pt x="2245" y="1004"/>
                  </a:lnTo>
                  <a:lnTo>
                    <a:pt x="2250" y="1031"/>
                  </a:lnTo>
                  <a:lnTo>
                    <a:pt x="2250" y="1058"/>
                  </a:lnTo>
                  <a:lnTo>
                    <a:pt x="2250" y="1090"/>
                  </a:lnTo>
                  <a:lnTo>
                    <a:pt x="2250" y="1112"/>
                  </a:lnTo>
                  <a:lnTo>
                    <a:pt x="2250" y="1144"/>
                  </a:lnTo>
                  <a:lnTo>
                    <a:pt x="2245" y="1171"/>
                  </a:lnTo>
                  <a:lnTo>
                    <a:pt x="2245" y="1198"/>
                  </a:lnTo>
                  <a:lnTo>
                    <a:pt x="2240" y="1225"/>
                  </a:lnTo>
                  <a:lnTo>
                    <a:pt x="2240" y="1252"/>
                  </a:lnTo>
                  <a:lnTo>
                    <a:pt x="2234" y="1279"/>
                  </a:lnTo>
                  <a:lnTo>
                    <a:pt x="2229" y="1306"/>
                  </a:lnTo>
                  <a:lnTo>
                    <a:pt x="2223" y="1338"/>
                  </a:lnTo>
                  <a:lnTo>
                    <a:pt x="2213" y="1360"/>
                  </a:lnTo>
                  <a:lnTo>
                    <a:pt x="2207" y="1387"/>
                  </a:lnTo>
                  <a:lnTo>
                    <a:pt x="2202" y="1414"/>
                  </a:lnTo>
                  <a:lnTo>
                    <a:pt x="2191" y="1441"/>
                  </a:lnTo>
                  <a:lnTo>
                    <a:pt x="2185" y="1462"/>
                  </a:lnTo>
                  <a:lnTo>
                    <a:pt x="2175" y="1489"/>
                  </a:lnTo>
                  <a:lnTo>
                    <a:pt x="2164" y="1516"/>
                  </a:lnTo>
                  <a:lnTo>
                    <a:pt x="2153" y="1538"/>
                  </a:lnTo>
                  <a:lnTo>
                    <a:pt x="2142" y="1560"/>
                  </a:lnTo>
                  <a:lnTo>
                    <a:pt x="2131" y="1586"/>
                  </a:lnTo>
                  <a:lnTo>
                    <a:pt x="2115" y="1608"/>
                  </a:lnTo>
                  <a:lnTo>
                    <a:pt x="2099" y="1630"/>
                  </a:lnTo>
                  <a:lnTo>
                    <a:pt x="2088" y="1658"/>
                  </a:lnTo>
                  <a:lnTo>
                    <a:pt x="2077" y="1679"/>
                  </a:lnTo>
                  <a:lnTo>
                    <a:pt x="2061" y="1701"/>
                  </a:lnTo>
                  <a:lnTo>
                    <a:pt x="2045" y="1722"/>
                  </a:lnTo>
                  <a:lnTo>
                    <a:pt x="2028" y="1744"/>
                  </a:lnTo>
                  <a:lnTo>
                    <a:pt x="2012" y="1760"/>
                  </a:lnTo>
                  <a:lnTo>
                    <a:pt x="1996" y="1782"/>
                  </a:lnTo>
                  <a:lnTo>
                    <a:pt x="1980" y="1803"/>
                  </a:lnTo>
                  <a:lnTo>
                    <a:pt x="1963" y="1825"/>
                  </a:lnTo>
                  <a:lnTo>
                    <a:pt x="1942" y="1841"/>
                  </a:lnTo>
                  <a:lnTo>
                    <a:pt x="1925" y="1863"/>
                  </a:lnTo>
                  <a:lnTo>
                    <a:pt x="1904" y="1879"/>
                  </a:lnTo>
                  <a:lnTo>
                    <a:pt x="1887" y="1895"/>
                  </a:lnTo>
                  <a:lnTo>
                    <a:pt x="1866" y="1911"/>
                  </a:lnTo>
                  <a:lnTo>
                    <a:pt x="1844" y="1927"/>
                  </a:lnTo>
                  <a:lnTo>
                    <a:pt x="1822" y="1944"/>
                  </a:lnTo>
                  <a:lnTo>
                    <a:pt x="1806" y="1960"/>
                  </a:lnTo>
                  <a:lnTo>
                    <a:pt x="1779" y="1981"/>
                  </a:lnTo>
                  <a:lnTo>
                    <a:pt x="1757" y="1992"/>
                  </a:lnTo>
                  <a:lnTo>
                    <a:pt x="1736" y="2008"/>
                  </a:lnTo>
                  <a:lnTo>
                    <a:pt x="1714" y="2019"/>
                  </a:lnTo>
                  <a:lnTo>
                    <a:pt x="1692" y="2035"/>
                  </a:lnTo>
                  <a:lnTo>
                    <a:pt x="1664" y="2046"/>
                  </a:lnTo>
                  <a:lnTo>
                    <a:pt x="1643" y="2057"/>
                  </a:lnTo>
                  <a:lnTo>
                    <a:pt x="1615" y="2068"/>
                  </a:lnTo>
                  <a:lnTo>
                    <a:pt x="1588" y="2084"/>
                  </a:lnTo>
                  <a:lnTo>
                    <a:pt x="1567" y="2089"/>
                  </a:lnTo>
                  <a:lnTo>
                    <a:pt x="1540" y="2100"/>
                  </a:lnTo>
                  <a:lnTo>
                    <a:pt x="1512" y="2111"/>
                  </a:lnTo>
                  <a:lnTo>
                    <a:pt x="1491" y="2122"/>
                  </a:lnTo>
                  <a:lnTo>
                    <a:pt x="1464" y="2127"/>
                  </a:lnTo>
                  <a:lnTo>
                    <a:pt x="1431" y="2138"/>
                  </a:lnTo>
                  <a:lnTo>
                    <a:pt x="1404" y="2143"/>
                  </a:lnTo>
                  <a:lnTo>
                    <a:pt x="1382" y="2149"/>
                  </a:lnTo>
                  <a:lnTo>
                    <a:pt x="1355" y="2154"/>
                  </a:lnTo>
                  <a:lnTo>
                    <a:pt x="1328" y="2159"/>
                  </a:lnTo>
                  <a:lnTo>
                    <a:pt x="1296" y="2165"/>
                  </a:lnTo>
                  <a:lnTo>
                    <a:pt x="1269" y="2170"/>
                  </a:lnTo>
                  <a:lnTo>
                    <a:pt x="1241" y="2170"/>
                  </a:lnTo>
                  <a:lnTo>
                    <a:pt x="1209" y="2175"/>
                  </a:lnTo>
                  <a:lnTo>
                    <a:pt x="1182" y="2175"/>
                  </a:lnTo>
                  <a:lnTo>
                    <a:pt x="1155" y="2175"/>
                  </a:lnTo>
                  <a:lnTo>
                    <a:pt x="1128" y="2175"/>
                  </a:lnTo>
                  <a:lnTo>
                    <a:pt x="1095" y="2175"/>
                  </a:lnTo>
                  <a:lnTo>
                    <a:pt x="1068" y="2175"/>
                  </a:lnTo>
                  <a:lnTo>
                    <a:pt x="1041" y="2175"/>
                  </a:lnTo>
                  <a:lnTo>
                    <a:pt x="1008" y="2170"/>
                  </a:lnTo>
                  <a:lnTo>
                    <a:pt x="981" y="2170"/>
                  </a:lnTo>
                  <a:lnTo>
                    <a:pt x="954" y="2165"/>
                  </a:lnTo>
                  <a:lnTo>
                    <a:pt x="922" y="2159"/>
                  </a:lnTo>
                  <a:lnTo>
                    <a:pt x="895" y="2154"/>
                  </a:lnTo>
                  <a:lnTo>
                    <a:pt x="868" y="2149"/>
                  </a:lnTo>
                  <a:lnTo>
                    <a:pt x="840" y="2143"/>
                  </a:lnTo>
                  <a:lnTo>
                    <a:pt x="813" y="2138"/>
                  </a:lnTo>
                  <a:lnTo>
                    <a:pt x="786" y="2127"/>
                  </a:lnTo>
                  <a:lnTo>
                    <a:pt x="759" y="2122"/>
                  </a:lnTo>
                  <a:lnTo>
                    <a:pt x="732" y="2111"/>
                  </a:lnTo>
                  <a:lnTo>
                    <a:pt x="710" y="2100"/>
                  </a:lnTo>
                  <a:lnTo>
                    <a:pt x="683" y="2089"/>
                  </a:lnTo>
                  <a:lnTo>
                    <a:pt x="662" y="2084"/>
                  </a:lnTo>
                  <a:lnTo>
                    <a:pt x="635" y="2068"/>
                  </a:lnTo>
                  <a:lnTo>
                    <a:pt x="613" y="2057"/>
                  </a:lnTo>
                  <a:lnTo>
                    <a:pt x="586" y="2046"/>
                  </a:lnTo>
                  <a:lnTo>
                    <a:pt x="558" y="2035"/>
                  </a:lnTo>
                  <a:lnTo>
                    <a:pt x="536" y="2019"/>
                  </a:lnTo>
                  <a:lnTo>
                    <a:pt x="514" y="2008"/>
                  </a:lnTo>
                  <a:lnTo>
                    <a:pt x="493" y="1992"/>
                  </a:lnTo>
                  <a:lnTo>
                    <a:pt x="471" y="1981"/>
                  </a:lnTo>
                  <a:lnTo>
                    <a:pt x="449" y="1960"/>
                  </a:lnTo>
                  <a:lnTo>
                    <a:pt x="428" y="1944"/>
                  </a:lnTo>
                  <a:lnTo>
                    <a:pt x="406" y="1927"/>
                  </a:lnTo>
                  <a:lnTo>
                    <a:pt x="384" y="1911"/>
                  </a:lnTo>
                  <a:lnTo>
                    <a:pt x="363" y="1895"/>
                  </a:lnTo>
                  <a:lnTo>
                    <a:pt x="341" y="1879"/>
                  </a:lnTo>
                  <a:lnTo>
                    <a:pt x="325" y="1863"/>
                  </a:lnTo>
                  <a:lnTo>
                    <a:pt x="308" y="1841"/>
                  </a:lnTo>
                  <a:lnTo>
                    <a:pt x="287" y="1825"/>
                  </a:lnTo>
                  <a:lnTo>
                    <a:pt x="270" y="1803"/>
                  </a:lnTo>
                  <a:lnTo>
                    <a:pt x="254" y="1782"/>
                  </a:lnTo>
                  <a:lnTo>
                    <a:pt x="238" y="1760"/>
                  </a:lnTo>
                  <a:lnTo>
                    <a:pt x="216" y="1744"/>
                  </a:lnTo>
                  <a:lnTo>
                    <a:pt x="205" y="1722"/>
                  </a:lnTo>
                  <a:lnTo>
                    <a:pt x="189" y="1701"/>
                  </a:lnTo>
                  <a:lnTo>
                    <a:pt x="173" y="1679"/>
                  </a:lnTo>
                  <a:lnTo>
                    <a:pt x="157" y="1658"/>
                  </a:lnTo>
                  <a:lnTo>
                    <a:pt x="146" y="1630"/>
                  </a:lnTo>
                  <a:lnTo>
                    <a:pt x="135" y="1608"/>
                  </a:lnTo>
                  <a:lnTo>
                    <a:pt x="119" y="1586"/>
                  </a:lnTo>
                  <a:lnTo>
                    <a:pt x="108" y="1560"/>
                  </a:lnTo>
                  <a:lnTo>
                    <a:pt x="97" y="1538"/>
                  </a:lnTo>
                  <a:lnTo>
                    <a:pt x="86" y="1516"/>
                  </a:lnTo>
                  <a:lnTo>
                    <a:pt x="75" y="1489"/>
                  </a:lnTo>
                  <a:lnTo>
                    <a:pt x="65" y="1462"/>
                  </a:lnTo>
                  <a:lnTo>
                    <a:pt x="59" y="1441"/>
                  </a:lnTo>
                  <a:lnTo>
                    <a:pt x="48" y="1414"/>
                  </a:lnTo>
                  <a:lnTo>
                    <a:pt x="37" y="1387"/>
                  </a:lnTo>
                  <a:lnTo>
                    <a:pt x="32" y="1360"/>
                  </a:lnTo>
                  <a:lnTo>
                    <a:pt x="27" y="1338"/>
                  </a:lnTo>
                  <a:lnTo>
                    <a:pt x="21" y="1306"/>
                  </a:lnTo>
                  <a:lnTo>
                    <a:pt x="16" y="1279"/>
                  </a:lnTo>
                  <a:lnTo>
                    <a:pt x="10" y="1252"/>
                  </a:lnTo>
                  <a:lnTo>
                    <a:pt x="5" y="1225"/>
                  </a:lnTo>
                  <a:lnTo>
                    <a:pt x="5" y="1198"/>
                  </a:lnTo>
                  <a:lnTo>
                    <a:pt x="0" y="1171"/>
                  </a:lnTo>
                  <a:lnTo>
                    <a:pt x="0" y="1144"/>
                  </a:lnTo>
                  <a:lnTo>
                    <a:pt x="0" y="1112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0726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46040" y="2754360"/>
              <a:ext cx="794160" cy="765360"/>
            </a:xfrm>
            <a:custGeom>
              <a:avLst/>
              <a:gdLst/>
              <a:ahLst/>
              <a:rect l="0" t="0" r="r" b="b"/>
              <a:pathLst>
                <a:path w="2206" h="2126">
                  <a:moveTo>
                    <a:pt x="0" y="1062"/>
                  </a:moveTo>
                  <a:lnTo>
                    <a:pt x="0" y="1035"/>
                  </a:lnTo>
                  <a:lnTo>
                    <a:pt x="0" y="1003"/>
                  </a:lnTo>
                  <a:lnTo>
                    <a:pt x="0" y="976"/>
                  </a:lnTo>
                  <a:lnTo>
                    <a:pt x="5" y="949"/>
                  </a:lnTo>
                  <a:lnTo>
                    <a:pt x="5" y="922"/>
                  </a:lnTo>
                  <a:lnTo>
                    <a:pt x="10" y="895"/>
                  </a:lnTo>
                  <a:lnTo>
                    <a:pt x="16" y="868"/>
                  </a:lnTo>
                  <a:lnTo>
                    <a:pt x="21" y="841"/>
                  </a:lnTo>
                  <a:lnTo>
                    <a:pt x="27" y="814"/>
                  </a:lnTo>
                  <a:lnTo>
                    <a:pt x="38" y="787"/>
                  </a:lnTo>
                  <a:lnTo>
                    <a:pt x="43" y="760"/>
                  </a:lnTo>
                  <a:lnTo>
                    <a:pt x="48" y="739"/>
                  </a:lnTo>
                  <a:lnTo>
                    <a:pt x="59" y="712"/>
                  </a:lnTo>
                  <a:lnTo>
                    <a:pt x="70" y="690"/>
                  </a:lnTo>
                  <a:lnTo>
                    <a:pt x="76" y="663"/>
                  </a:lnTo>
                  <a:lnTo>
                    <a:pt x="86" y="636"/>
                  </a:lnTo>
                  <a:lnTo>
                    <a:pt x="97" y="614"/>
                  </a:lnTo>
                  <a:lnTo>
                    <a:pt x="108" y="588"/>
                  </a:lnTo>
                  <a:lnTo>
                    <a:pt x="119" y="566"/>
                  </a:lnTo>
                  <a:lnTo>
                    <a:pt x="135" y="544"/>
                  </a:lnTo>
                  <a:lnTo>
                    <a:pt x="146" y="523"/>
                  </a:lnTo>
                  <a:lnTo>
                    <a:pt x="162" y="501"/>
                  </a:lnTo>
                  <a:lnTo>
                    <a:pt x="173" y="474"/>
                  </a:lnTo>
                  <a:lnTo>
                    <a:pt x="190" y="453"/>
                  </a:lnTo>
                  <a:lnTo>
                    <a:pt x="206" y="431"/>
                  </a:lnTo>
                  <a:lnTo>
                    <a:pt x="222" y="409"/>
                  </a:lnTo>
                  <a:lnTo>
                    <a:pt x="238" y="393"/>
                  </a:lnTo>
                  <a:lnTo>
                    <a:pt x="255" y="372"/>
                  </a:lnTo>
                  <a:lnTo>
                    <a:pt x="271" y="356"/>
                  </a:lnTo>
                  <a:lnTo>
                    <a:pt x="293" y="334"/>
                  </a:lnTo>
                  <a:lnTo>
                    <a:pt x="309" y="312"/>
                  </a:lnTo>
                  <a:lnTo>
                    <a:pt x="331" y="296"/>
                  </a:lnTo>
                  <a:lnTo>
                    <a:pt x="347" y="280"/>
                  </a:lnTo>
                  <a:lnTo>
                    <a:pt x="369" y="264"/>
                  </a:lnTo>
                  <a:lnTo>
                    <a:pt x="391" y="248"/>
                  </a:lnTo>
                  <a:lnTo>
                    <a:pt x="407" y="231"/>
                  </a:lnTo>
                  <a:lnTo>
                    <a:pt x="429" y="215"/>
                  </a:lnTo>
                  <a:lnTo>
                    <a:pt x="450" y="199"/>
                  </a:lnTo>
                  <a:lnTo>
                    <a:pt x="472" y="183"/>
                  </a:lnTo>
                  <a:lnTo>
                    <a:pt x="494" y="172"/>
                  </a:lnTo>
                  <a:lnTo>
                    <a:pt x="521" y="156"/>
                  </a:lnTo>
                  <a:lnTo>
                    <a:pt x="537" y="140"/>
                  </a:lnTo>
                  <a:lnTo>
                    <a:pt x="565" y="129"/>
                  </a:lnTo>
                  <a:lnTo>
                    <a:pt x="592" y="118"/>
                  </a:lnTo>
                  <a:lnTo>
                    <a:pt x="614" y="102"/>
                  </a:lnTo>
                  <a:lnTo>
                    <a:pt x="641" y="91"/>
                  </a:lnTo>
                  <a:lnTo>
                    <a:pt x="663" y="80"/>
                  </a:lnTo>
                  <a:lnTo>
                    <a:pt x="690" y="70"/>
                  </a:lnTo>
                  <a:lnTo>
                    <a:pt x="712" y="64"/>
                  </a:lnTo>
                  <a:lnTo>
                    <a:pt x="739" y="53"/>
                  </a:lnTo>
                  <a:lnTo>
                    <a:pt x="766" y="48"/>
                  </a:lnTo>
                  <a:lnTo>
                    <a:pt x="793" y="37"/>
                  </a:lnTo>
                  <a:lnTo>
                    <a:pt x="821" y="32"/>
                  </a:lnTo>
                  <a:lnTo>
                    <a:pt x="848" y="26"/>
                  </a:lnTo>
                  <a:lnTo>
                    <a:pt x="875" y="21"/>
                  </a:lnTo>
                  <a:lnTo>
                    <a:pt x="902" y="16"/>
                  </a:lnTo>
                  <a:lnTo>
                    <a:pt x="929" y="10"/>
                  </a:lnTo>
                  <a:lnTo>
                    <a:pt x="962" y="10"/>
                  </a:lnTo>
                  <a:lnTo>
                    <a:pt x="989" y="5"/>
                  </a:lnTo>
                  <a:lnTo>
                    <a:pt x="1016" y="5"/>
                  </a:lnTo>
                  <a:lnTo>
                    <a:pt x="1043" y="0"/>
                  </a:lnTo>
                  <a:lnTo>
                    <a:pt x="1076" y="0"/>
                  </a:lnTo>
                  <a:lnTo>
                    <a:pt x="1136" y="0"/>
                  </a:lnTo>
                  <a:lnTo>
                    <a:pt x="1157" y="0"/>
                  </a:lnTo>
                  <a:lnTo>
                    <a:pt x="1190" y="5"/>
                  </a:lnTo>
                  <a:lnTo>
                    <a:pt x="1217" y="5"/>
                  </a:lnTo>
                  <a:lnTo>
                    <a:pt x="1250" y="10"/>
                  </a:lnTo>
                  <a:lnTo>
                    <a:pt x="1277" y="10"/>
                  </a:lnTo>
                  <a:lnTo>
                    <a:pt x="1304" y="16"/>
                  </a:lnTo>
                  <a:lnTo>
                    <a:pt x="1331" y="21"/>
                  </a:lnTo>
                  <a:lnTo>
                    <a:pt x="1358" y="26"/>
                  </a:lnTo>
                  <a:lnTo>
                    <a:pt x="1385" y="32"/>
                  </a:lnTo>
                  <a:lnTo>
                    <a:pt x="1412" y="37"/>
                  </a:lnTo>
                  <a:lnTo>
                    <a:pt x="1440" y="48"/>
                  </a:lnTo>
                  <a:lnTo>
                    <a:pt x="1467" y="53"/>
                  </a:lnTo>
                  <a:lnTo>
                    <a:pt x="1489" y="64"/>
                  </a:lnTo>
                  <a:lnTo>
                    <a:pt x="1516" y="70"/>
                  </a:lnTo>
                  <a:lnTo>
                    <a:pt x="1543" y="80"/>
                  </a:lnTo>
                  <a:lnTo>
                    <a:pt x="1565" y="91"/>
                  </a:lnTo>
                  <a:lnTo>
                    <a:pt x="1592" y="102"/>
                  </a:lnTo>
                  <a:lnTo>
                    <a:pt x="1613" y="118"/>
                  </a:lnTo>
                  <a:lnTo>
                    <a:pt x="1641" y="129"/>
                  </a:lnTo>
                  <a:lnTo>
                    <a:pt x="1663" y="140"/>
                  </a:lnTo>
                  <a:lnTo>
                    <a:pt x="1685" y="156"/>
                  </a:lnTo>
                  <a:lnTo>
                    <a:pt x="1712" y="172"/>
                  </a:lnTo>
                  <a:lnTo>
                    <a:pt x="1728" y="183"/>
                  </a:lnTo>
                  <a:lnTo>
                    <a:pt x="1756" y="199"/>
                  </a:lnTo>
                  <a:lnTo>
                    <a:pt x="1777" y="215"/>
                  </a:lnTo>
                  <a:lnTo>
                    <a:pt x="1799" y="231"/>
                  </a:lnTo>
                  <a:lnTo>
                    <a:pt x="1821" y="248"/>
                  </a:lnTo>
                  <a:lnTo>
                    <a:pt x="1837" y="264"/>
                  </a:lnTo>
                  <a:lnTo>
                    <a:pt x="1859" y="280"/>
                  </a:lnTo>
                  <a:lnTo>
                    <a:pt x="1875" y="296"/>
                  </a:lnTo>
                  <a:lnTo>
                    <a:pt x="1897" y="312"/>
                  </a:lnTo>
                  <a:lnTo>
                    <a:pt x="1913" y="334"/>
                  </a:lnTo>
                  <a:lnTo>
                    <a:pt x="1935" y="356"/>
                  </a:lnTo>
                  <a:lnTo>
                    <a:pt x="1951" y="372"/>
                  </a:lnTo>
                  <a:lnTo>
                    <a:pt x="1967" y="393"/>
                  </a:lnTo>
                  <a:lnTo>
                    <a:pt x="1984" y="409"/>
                  </a:lnTo>
                  <a:lnTo>
                    <a:pt x="2000" y="431"/>
                  </a:lnTo>
                  <a:lnTo>
                    <a:pt x="2016" y="453"/>
                  </a:lnTo>
                  <a:lnTo>
                    <a:pt x="2033" y="474"/>
                  </a:lnTo>
                  <a:lnTo>
                    <a:pt x="2043" y="501"/>
                  </a:lnTo>
                  <a:lnTo>
                    <a:pt x="2060" y="523"/>
                  </a:lnTo>
                  <a:lnTo>
                    <a:pt x="2071" y="544"/>
                  </a:lnTo>
                  <a:lnTo>
                    <a:pt x="2081" y="566"/>
                  </a:lnTo>
                  <a:lnTo>
                    <a:pt x="2098" y="588"/>
                  </a:lnTo>
                  <a:lnTo>
                    <a:pt x="2109" y="614"/>
                  </a:lnTo>
                  <a:lnTo>
                    <a:pt x="2119" y="636"/>
                  </a:lnTo>
                  <a:lnTo>
                    <a:pt x="2130" y="663"/>
                  </a:lnTo>
                  <a:lnTo>
                    <a:pt x="2141" y="690"/>
                  </a:lnTo>
                  <a:lnTo>
                    <a:pt x="2147" y="712"/>
                  </a:lnTo>
                  <a:lnTo>
                    <a:pt x="2157" y="739"/>
                  </a:lnTo>
                  <a:lnTo>
                    <a:pt x="2168" y="760"/>
                  </a:lnTo>
                  <a:lnTo>
                    <a:pt x="2174" y="787"/>
                  </a:lnTo>
                  <a:lnTo>
                    <a:pt x="2179" y="814"/>
                  </a:lnTo>
                  <a:lnTo>
                    <a:pt x="2185" y="841"/>
                  </a:lnTo>
                  <a:lnTo>
                    <a:pt x="2190" y="868"/>
                  </a:lnTo>
                  <a:lnTo>
                    <a:pt x="2195" y="895"/>
                  </a:lnTo>
                  <a:lnTo>
                    <a:pt x="2201" y="922"/>
                  </a:lnTo>
                  <a:lnTo>
                    <a:pt x="2201" y="949"/>
                  </a:lnTo>
                  <a:lnTo>
                    <a:pt x="2206" y="976"/>
                  </a:lnTo>
                  <a:lnTo>
                    <a:pt x="2206" y="1003"/>
                  </a:lnTo>
                  <a:lnTo>
                    <a:pt x="2206" y="1035"/>
                  </a:lnTo>
                  <a:lnTo>
                    <a:pt x="2206" y="1062"/>
                  </a:lnTo>
                  <a:lnTo>
                    <a:pt x="2206" y="1090"/>
                  </a:lnTo>
                  <a:lnTo>
                    <a:pt x="2206" y="1117"/>
                  </a:lnTo>
                  <a:lnTo>
                    <a:pt x="2206" y="1150"/>
                  </a:lnTo>
                  <a:lnTo>
                    <a:pt x="2201" y="1177"/>
                  </a:lnTo>
                  <a:lnTo>
                    <a:pt x="2201" y="1204"/>
                  </a:lnTo>
                  <a:lnTo>
                    <a:pt x="2195" y="1230"/>
                  </a:lnTo>
                  <a:lnTo>
                    <a:pt x="2190" y="1252"/>
                  </a:lnTo>
                  <a:lnTo>
                    <a:pt x="2185" y="1279"/>
                  </a:lnTo>
                  <a:lnTo>
                    <a:pt x="2179" y="1311"/>
                  </a:lnTo>
                  <a:lnTo>
                    <a:pt x="2174" y="1333"/>
                  </a:lnTo>
                  <a:lnTo>
                    <a:pt x="2168" y="1360"/>
                  </a:lnTo>
                  <a:lnTo>
                    <a:pt x="2157" y="1387"/>
                  </a:lnTo>
                  <a:lnTo>
                    <a:pt x="2147" y="1408"/>
                  </a:lnTo>
                  <a:lnTo>
                    <a:pt x="2141" y="1435"/>
                  </a:lnTo>
                  <a:lnTo>
                    <a:pt x="2130" y="1462"/>
                  </a:lnTo>
                  <a:lnTo>
                    <a:pt x="2119" y="1484"/>
                  </a:lnTo>
                  <a:lnTo>
                    <a:pt x="2109" y="1511"/>
                  </a:lnTo>
                  <a:lnTo>
                    <a:pt x="2098" y="1533"/>
                  </a:lnTo>
                  <a:lnTo>
                    <a:pt x="2081" y="1560"/>
                  </a:lnTo>
                  <a:lnTo>
                    <a:pt x="2071" y="1581"/>
                  </a:lnTo>
                  <a:lnTo>
                    <a:pt x="2060" y="1603"/>
                  </a:lnTo>
                  <a:lnTo>
                    <a:pt x="2043" y="1630"/>
                  </a:lnTo>
                  <a:lnTo>
                    <a:pt x="2033" y="1651"/>
                  </a:lnTo>
                  <a:lnTo>
                    <a:pt x="2016" y="1667"/>
                  </a:lnTo>
                  <a:lnTo>
                    <a:pt x="2000" y="1689"/>
                  </a:lnTo>
                  <a:lnTo>
                    <a:pt x="1984" y="1711"/>
                  </a:lnTo>
                  <a:lnTo>
                    <a:pt x="1967" y="1732"/>
                  </a:lnTo>
                  <a:lnTo>
                    <a:pt x="1951" y="1748"/>
                  </a:lnTo>
                  <a:lnTo>
                    <a:pt x="1935" y="1770"/>
                  </a:lnTo>
                  <a:lnTo>
                    <a:pt x="1913" y="1792"/>
                  </a:lnTo>
                  <a:lnTo>
                    <a:pt x="1897" y="1813"/>
                  </a:lnTo>
                  <a:lnTo>
                    <a:pt x="1875" y="1829"/>
                  </a:lnTo>
                  <a:lnTo>
                    <a:pt x="1859" y="1845"/>
                  </a:lnTo>
                  <a:lnTo>
                    <a:pt x="1837" y="1862"/>
                  </a:lnTo>
                  <a:lnTo>
                    <a:pt x="1821" y="1878"/>
                  </a:lnTo>
                  <a:lnTo>
                    <a:pt x="1799" y="1894"/>
                  </a:lnTo>
                  <a:lnTo>
                    <a:pt x="1777" y="1910"/>
                  </a:lnTo>
                  <a:lnTo>
                    <a:pt x="1756" y="1926"/>
                  </a:lnTo>
                  <a:lnTo>
                    <a:pt x="1728" y="1943"/>
                  </a:lnTo>
                  <a:lnTo>
                    <a:pt x="1712" y="1959"/>
                  </a:lnTo>
                  <a:lnTo>
                    <a:pt x="1685" y="1970"/>
                  </a:lnTo>
                  <a:lnTo>
                    <a:pt x="1663" y="1986"/>
                  </a:lnTo>
                  <a:lnTo>
                    <a:pt x="1641" y="1997"/>
                  </a:lnTo>
                  <a:lnTo>
                    <a:pt x="1613" y="2007"/>
                  </a:lnTo>
                  <a:lnTo>
                    <a:pt x="1592" y="2018"/>
                  </a:lnTo>
                  <a:lnTo>
                    <a:pt x="1565" y="2034"/>
                  </a:lnTo>
                  <a:lnTo>
                    <a:pt x="1543" y="2040"/>
                  </a:lnTo>
                  <a:lnTo>
                    <a:pt x="1516" y="2050"/>
                  </a:lnTo>
                  <a:lnTo>
                    <a:pt x="1489" y="2061"/>
                  </a:lnTo>
                  <a:lnTo>
                    <a:pt x="1467" y="2072"/>
                  </a:lnTo>
                  <a:lnTo>
                    <a:pt x="1440" y="2077"/>
                  </a:lnTo>
                  <a:lnTo>
                    <a:pt x="1412" y="2083"/>
                  </a:lnTo>
                  <a:lnTo>
                    <a:pt x="1385" y="2094"/>
                  </a:lnTo>
                  <a:lnTo>
                    <a:pt x="1358" y="2099"/>
                  </a:lnTo>
                  <a:lnTo>
                    <a:pt x="1331" y="2104"/>
                  </a:lnTo>
                  <a:lnTo>
                    <a:pt x="1304" y="2110"/>
                  </a:lnTo>
                  <a:lnTo>
                    <a:pt x="1277" y="2115"/>
                  </a:lnTo>
                  <a:lnTo>
                    <a:pt x="1250" y="2121"/>
                  </a:lnTo>
                  <a:lnTo>
                    <a:pt x="1217" y="2121"/>
                  </a:lnTo>
                  <a:lnTo>
                    <a:pt x="1190" y="2126"/>
                  </a:lnTo>
                  <a:lnTo>
                    <a:pt x="1157" y="2126"/>
                  </a:lnTo>
                  <a:lnTo>
                    <a:pt x="1136" y="2126"/>
                  </a:lnTo>
                  <a:lnTo>
                    <a:pt x="1103" y="2126"/>
                  </a:lnTo>
                  <a:lnTo>
                    <a:pt x="1076" y="2126"/>
                  </a:lnTo>
                  <a:lnTo>
                    <a:pt x="1043" y="2126"/>
                  </a:lnTo>
                  <a:lnTo>
                    <a:pt x="1016" y="2126"/>
                  </a:lnTo>
                  <a:lnTo>
                    <a:pt x="989" y="2121"/>
                  </a:lnTo>
                  <a:lnTo>
                    <a:pt x="962" y="2121"/>
                  </a:lnTo>
                  <a:lnTo>
                    <a:pt x="929" y="2115"/>
                  </a:lnTo>
                  <a:lnTo>
                    <a:pt x="902" y="2110"/>
                  </a:lnTo>
                  <a:lnTo>
                    <a:pt x="875" y="2104"/>
                  </a:lnTo>
                  <a:lnTo>
                    <a:pt x="848" y="2099"/>
                  </a:lnTo>
                  <a:lnTo>
                    <a:pt x="821" y="2094"/>
                  </a:lnTo>
                  <a:lnTo>
                    <a:pt x="793" y="2083"/>
                  </a:lnTo>
                  <a:lnTo>
                    <a:pt x="766" y="2077"/>
                  </a:lnTo>
                  <a:lnTo>
                    <a:pt x="739" y="2072"/>
                  </a:lnTo>
                  <a:lnTo>
                    <a:pt x="712" y="2061"/>
                  </a:lnTo>
                  <a:lnTo>
                    <a:pt x="690" y="2050"/>
                  </a:lnTo>
                  <a:lnTo>
                    <a:pt x="663" y="2040"/>
                  </a:lnTo>
                  <a:lnTo>
                    <a:pt x="641" y="2034"/>
                  </a:lnTo>
                  <a:lnTo>
                    <a:pt x="614" y="2018"/>
                  </a:lnTo>
                  <a:lnTo>
                    <a:pt x="592" y="2007"/>
                  </a:lnTo>
                  <a:lnTo>
                    <a:pt x="565" y="1997"/>
                  </a:lnTo>
                  <a:lnTo>
                    <a:pt x="537" y="1986"/>
                  </a:lnTo>
                  <a:lnTo>
                    <a:pt x="521" y="1970"/>
                  </a:lnTo>
                  <a:lnTo>
                    <a:pt x="494" y="1959"/>
                  </a:lnTo>
                  <a:lnTo>
                    <a:pt x="472" y="1943"/>
                  </a:lnTo>
                  <a:lnTo>
                    <a:pt x="450" y="1926"/>
                  </a:lnTo>
                  <a:lnTo>
                    <a:pt x="429" y="1910"/>
                  </a:lnTo>
                  <a:lnTo>
                    <a:pt x="407" y="1894"/>
                  </a:lnTo>
                  <a:lnTo>
                    <a:pt x="391" y="1878"/>
                  </a:lnTo>
                  <a:lnTo>
                    <a:pt x="369" y="1862"/>
                  </a:lnTo>
                  <a:lnTo>
                    <a:pt x="347" y="1845"/>
                  </a:lnTo>
                  <a:lnTo>
                    <a:pt x="331" y="1829"/>
                  </a:lnTo>
                  <a:lnTo>
                    <a:pt x="309" y="1813"/>
                  </a:lnTo>
                  <a:lnTo>
                    <a:pt x="293" y="1792"/>
                  </a:lnTo>
                  <a:lnTo>
                    <a:pt x="271" y="1770"/>
                  </a:lnTo>
                  <a:lnTo>
                    <a:pt x="255" y="1748"/>
                  </a:lnTo>
                  <a:lnTo>
                    <a:pt x="238" y="1732"/>
                  </a:lnTo>
                  <a:lnTo>
                    <a:pt x="222" y="1711"/>
                  </a:lnTo>
                  <a:lnTo>
                    <a:pt x="206" y="1689"/>
                  </a:lnTo>
                  <a:lnTo>
                    <a:pt x="190" y="1667"/>
                  </a:lnTo>
                  <a:lnTo>
                    <a:pt x="173" y="1651"/>
                  </a:lnTo>
                  <a:lnTo>
                    <a:pt x="162" y="1630"/>
                  </a:lnTo>
                  <a:lnTo>
                    <a:pt x="146" y="1603"/>
                  </a:lnTo>
                  <a:lnTo>
                    <a:pt x="135" y="1581"/>
                  </a:lnTo>
                  <a:lnTo>
                    <a:pt x="119" y="1560"/>
                  </a:lnTo>
                  <a:lnTo>
                    <a:pt x="108" y="1533"/>
                  </a:lnTo>
                  <a:lnTo>
                    <a:pt x="97" y="1511"/>
                  </a:lnTo>
                  <a:lnTo>
                    <a:pt x="86" y="1484"/>
                  </a:lnTo>
                  <a:lnTo>
                    <a:pt x="76" y="1462"/>
                  </a:lnTo>
                  <a:lnTo>
                    <a:pt x="70" y="1435"/>
                  </a:lnTo>
                  <a:lnTo>
                    <a:pt x="59" y="1408"/>
                  </a:lnTo>
                  <a:lnTo>
                    <a:pt x="48" y="1387"/>
                  </a:lnTo>
                  <a:lnTo>
                    <a:pt x="43" y="1360"/>
                  </a:lnTo>
                  <a:lnTo>
                    <a:pt x="38" y="1333"/>
                  </a:lnTo>
                  <a:lnTo>
                    <a:pt x="27" y="1311"/>
                  </a:lnTo>
                  <a:lnTo>
                    <a:pt x="21" y="1279"/>
                  </a:lnTo>
                  <a:lnTo>
                    <a:pt x="16" y="1252"/>
                  </a:lnTo>
                  <a:lnTo>
                    <a:pt x="10" y="1230"/>
                  </a:lnTo>
                  <a:lnTo>
                    <a:pt x="5" y="1204"/>
                  </a:lnTo>
                  <a:lnTo>
                    <a:pt x="5" y="1177"/>
                  </a:lnTo>
                  <a:lnTo>
                    <a:pt x="0" y="1150"/>
                  </a:lnTo>
                  <a:lnTo>
                    <a:pt x="0" y="1117"/>
                  </a:lnTo>
                  <a:lnTo>
                    <a:pt x="0" y="1090"/>
                  </a:lnTo>
                  <a:lnTo>
                    <a:pt x="0" y="1062"/>
                  </a:lnTo>
                  <a:close/>
                </a:path>
              </a:pathLst>
            </a:custGeom>
            <a:solidFill>
              <a:srgbClr val="0a28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55760" y="2759040"/>
              <a:ext cx="775080" cy="748080"/>
            </a:xfrm>
            <a:custGeom>
              <a:avLst/>
              <a:gdLst/>
              <a:ahLst/>
              <a:rect l="0" t="0" r="r" b="b"/>
              <a:pathLst>
                <a:path w="2153" h="2078">
                  <a:moveTo>
                    <a:pt x="0" y="1036"/>
                  </a:moveTo>
                  <a:lnTo>
                    <a:pt x="0" y="1009"/>
                  </a:lnTo>
                  <a:lnTo>
                    <a:pt x="0" y="982"/>
                  </a:lnTo>
                  <a:lnTo>
                    <a:pt x="5" y="950"/>
                  </a:lnTo>
                  <a:lnTo>
                    <a:pt x="5" y="923"/>
                  </a:lnTo>
                  <a:lnTo>
                    <a:pt x="10" y="896"/>
                  </a:lnTo>
                  <a:lnTo>
                    <a:pt x="10" y="869"/>
                  </a:lnTo>
                  <a:lnTo>
                    <a:pt x="16" y="842"/>
                  </a:lnTo>
                  <a:lnTo>
                    <a:pt x="21" y="815"/>
                  </a:lnTo>
                  <a:lnTo>
                    <a:pt x="27" y="788"/>
                  </a:lnTo>
                  <a:lnTo>
                    <a:pt x="37" y="761"/>
                  </a:lnTo>
                  <a:lnTo>
                    <a:pt x="43" y="734"/>
                  </a:lnTo>
                  <a:lnTo>
                    <a:pt x="48" y="713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1" y="637"/>
                  </a:lnTo>
                  <a:lnTo>
                    <a:pt x="86" y="610"/>
                  </a:lnTo>
                  <a:lnTo>
                    <a:pt x="102" y="583"/>
                  </a:lnTo>
                  <a:lnTo>
                    <a:pt x="113" y="562"/>
                  </a:lnTo>
                  <a:lnTo>
                    <a:pt x="124" y="540"/>
                  </a:lnTo>
                  <a:lnTo>
                    <a:pt x="135" y="512"/>
                  </a:lnTo>
                  <a:lnTo>
                    <a:pt x="151" y="490"/>
                  </a:lnTo>
                  <a:lnTo>
                    <a:pt x="168" y="469"/>
                  </a:lnTo>
                  <a:lnTo>
                    <a:pt x="184" y="447"/>
                  </a:lnTo>
                  <a:lnTo>
                    <a:pt x="200" y="426"/>
                  </a:lnTo>
                  <a:lnTo>
                    <a:pt x="211" y="404"/>
                  </a:lnTo>
                  <a:lnTo>
                    <a:pt x="233" y="383"/>
                  </a:lnTo>
                  <a:lnTo>
                    <a:pt x="249" y="361"/>
                  </a:lnTo>
                  <a:lnTo>
                    <a:pt x="265" y="345"/>
                  </a:lnTo>
                  <a:lnTo>
                    <a:pt x="281" y="329"/>
                  </a:lnTo>
                  <a:lnTo>
                    <a:pt x="303" y="307"/>
                  </a:lnTo>
                  <a:lnTo>
                    <a:pt x="319" y="291"/>
                  </a:lnTo>
                  <a:lnTo>
                    <a:pt x="341" y="269"/>
                  </a:lnTo>
                  <a:lnTo>
                    <a:pt x="363" y="253"/>
                  </a:lnTo>
                  <a:lnTo>
                    <a:pt x="379" y="237"/>
                  </a:lnTo>
                  <a:lnTo>
                    <a:pt x="401" y="221"/>
                  </a:lnTo>
                  <a:lnTo>
                    <a:pt x="422" y="205"/>
                  </a:lnTo>
                  <a:lnTo>
                    <a:pt x="444" y="188"/>
                  </a:lnTo>
                  <a:lnTo>
                    <a:pt x="466" y="178"/>
                  </a:lnTo>
                  <a:lnTo>
                    <a:pt x="487" y="161"/>
                  </a:lnTo>
                  <a:lnTo>
                    <a:pt x="509" y="145"/>
                  </a:lnTo>
                  <a:lnTo>
                    <a:pt x="536" y="129"/>
                  </a:lnTo>
                  <a:lnTo>
                    <a:pt x="559" y="118"/>
                  </a:lnTo>
                  <a:lnTo>
                    <a:pt x="586" y="107"/>
                  </a:lnTo>
                  <a:lnTo>
                    <a:pt x="608" y="97"/>
                  </a:lnTo>
                  <a:lnTo>
                    <a:pt x="635" y="86"/>
                  </a:lnTo>
                  <a:lnTo>
                    <a:pt x="656" y="75"/>
                  </a:lnTo>
                  <a:lnTo>
                    <a:pt x="683" y="64"/>
                  </a:lnTo>
                  <a:lnTo>
                    <a:pt x="711" y="53"/>
                  </a:lnTo>
                  <a:lnTo>
                    <a:pt x="738" y="48"/>
                  </a:lnTo>
                  <a:lnTo>
                    <a:pt x="765" y="37"/>
                  </a:lnTo>
                  <a:lnTo>
                    <a:pt x="792" y="32"/>
                  </a:lnTo>
                  <a:lnTo>
                    <a:pt x="819" y="26"/>
                  </a:lnTo>
                  <a:lnTo>
                    <a:pt x="846" y="21"/>
                  </a:lnTo>
                  <a:lnTo>
                    <a:pt x="879" y="16"/>
                  </a:lnTo>
                  <a:lnTo>
                    <a:pt x="906" y="10"/>
                  </a:lnTo>
                  <a:lnTo>
                    <a:pt x="933" y="5"/>
                  </a:lnTo>
                  <a:lnTo>
                    <a:pt x="960" y="5"/>
                  </a:lnTo>
                  <a:lnTo>
                    <a:pt x="987" y="0"/>
                  </a:lnTo>
                  <a:lnTo>
                    <a:pt x="1014" y="0"/>
                  </a:lnTo>
                  <a:lnTo>
                    <a:pt x="1047" y="0"/>
                  </a:lnTo>
                  <a:lnTo>
                    <a:pt x="1106" y="0"/>
                  </a:lnTo>
                  <a:lnTo>
                    <a:pt x="1133" y="0"/>
                  </a:lnTo>
                  <a:lnTo>
                    <a:pt x="1160" y="0"/>
                  </a:lnTo>
                  <a:lnTo>
                    <a:pt x="1193" y="5"/>
                  </a:lnTo>
                  <a:lnTo>
                    <a:pt x="1220" y="5"/>
                  </a:lnTo>
                  <a:lnTo>
                    <a:pt x="1247" y="10"/>
                  </a:lnTo>
                  <a:lnTo>
                    <a:pt x="1274" y="16"/>
                  </a:lnTo>
                  <a:lnTo>
                    <a:pt x="1307" y="21"/>
                  </a:lnTo>
                  <a:lnTo>
                    <a:pt x="1334" y="26"/>
                  </a:lnTo>
                  <a:lnTo>
                    <a:pt x="1361" y="32"/>
                  </a:lnTo>
                  <a:lnTo>
                    <a:pt x="1388" y="37"/>
                  </a:lnTo>
                  <a:lnTo>
                    <a:pt x="1415" y="48"/>
                  </a:lnTo>
                  <a:lnTo>
                    <a:pt x="1437" y="53"/>
                  </a:lnTo>
                  <a:lnTo>
                    <a:pt x="1464" y="64"/>
                  </a:lnTo>
                  <a:lnTo>
                    <a:pt x="1491" y="75"/>
                  </a:lnTo>
                  <a:lnTo>
                    <a:pt x="1513" y="86"/>
                  </a:lnTo>
                  <a:lnTo>
                    <a:pt x="1540" y="97"/>
                  </a:lnTo>
                  <a:lnTo>
                    <a:pt x="1567" y="107"/>
                  </a:lnTo>
                  <a:lnTo>
                    <a:pt x="1589" y="118"/>
                  </a:lnTo>
                  <a:lnTo>
                    <a:pt x="1617" y="129"/>
                  </a:lnTo>
                  <a:lnTo>
                    <a:pt x="1638" y="145"/>
                  </a:lnTo>
                  <a:lnTo>
                    <a:pt x="1660" y="161"/>
                  </a:lnTo>
                  <a:lnTo>
                    <a:pt x="1682" y="178"/>
                  </a:lnTo>
                  <a:lnTo>
                    <a:pt x="1704" y="188"/>
                  </a:lnTo>
                  <a:lnTo>
                    <a:pt x="1731" y="205"/>
                  </a:lnTo>
                  <a:lnTo>
                    <a:pt x="1752" y="221"/>
                  </a:lnTo>
                  <a:lnTo>
                    <a:pt x="1774" y="237"/>
                  </a:lnTo>
                  <a:lnTo>
                    <a:pt x="1790" y="253"/>
                  </a:lnTo>
                  <a:lnTo>
                    <a:pt x="1812" y="269"/>
                  </a:lnTo>
                  <a:lnTo>
                    <a:pt x="1834" y="291"/>
                  </a:lnTo>
                  <a:lnTo>
                    <a:pt x="1850" y="307"/>
                  </a:lnTo>
                  <a:lnTo>
                    <a:pt x="1866" y="329"/>
                  </a:lnTo>
                  <a:lnTo>
                    <a:pt x="1888" y="345"/>
                  </a:lnTo>
                  <a:lnTo>
                    <a:pt x="1910" y="361"/>
                  </a:lnTo>
                  <a:lnTo>
                    <a:pt x="1926" y="383"/>
                  </a:lnTo>
                  <a:lnTo>
                    <a:pt x="1942" y="404"/>
                  </a:lnTo>
                  <a:lnTo>
                    <a:pt x="1953" y="426"/>
                  </a:lnTo>
                  <a:lnTo>
                    <a:pt x="1969" y="447"/>
                  </a:lnTo>
                  <a:lnTo>
                    <a:pt x="1985" y="469"/>
                  </a:lnTo>
                  <a:lnTo>
                    <a:pt x="2002" y="490"/>
                  </a:lnTo>
                  <a:lnTo>
                    <a:pt x="2013" y="512"/>
                  </a:lnTo>
                  <a:lnTo>
                    <a:pt x="2029" y="540"/>
                  </a:lnTo>
                  <a:lnTo>
                    <a:pt x="2040" y="562"/>
                  </a:lnTo>
                  <a:lnTo>
                    <a:pt x="2050" y="583"/>
                  </a:lnTo>
                  <a:lnTo>
                    <a:pt x="2061" y="610"/>
                  </a:lnTo>
                  <a:lnTo>
                    <a:pt x="2078" y="637"/>
                  </a:lnTo>
                  <a:lnTo>
                    <a:pt x="2083" y="659"/>
                  </a:lnTo>
                  <a:lnTo>
                    <a:pt x="2094" y="686"/>
                  </a:lnTo>
                  <a:lnTo>
                    <a:pt x="2105" y="713"/>
                  </a:lnTo>
                  <a:lnTo>
                    <a:pt x="2110" y="734"/>
                  </a:lnTo>
                  <a:lnTo>
                    <a:pt x="2116" y="761"/>
                  </a:lnTo>
                  <a:lnTo>
                    <a:pt x="2126" y="788"/>
                  </a:lnTo>
                  <a:lnTo>
                    <a:pt x="2132" y="815"/>
                  </a:lnTo>
                  <a:lnTo>
                    <a:pt x="2137" y="842"/>
                  </a:lnTo>
                  <a:lnTo>
                    <a:pt x="2143" y="869"/>
                  </a:lnTo>
                  <a:lnTo>
                    <a:pt x="2143" y="896"/>
                  </a:lnTo>
                  <a:lnTo>
                    <a:pt x="2148" y="923"/>
                  </a:lnTo>
                  <a:lnTo>
                    <a:pt x="2153" y="950"/>
                  </a:lnTo>
                  <a:lnTo>
                    <a:pt x="2153" y="982"/>
                  </a:lnTo>
                  <a:lnTo>
                    <a:pt x="2153" y="1009"/>
                  </a:lnTo>
                  <a:lnTo>
                    <a:pt x="2153" y="1036"/>
                  </a:lnTo>
                  <a:lnTo>
                    <a:pt x="2153" y="1063"/>
                  </a:lnTo>
                  <a:lnTo>
                    <a:pt x="2153" y="1096"/>
                  </a:lnTo>
                  <a:lnTo>
                    <a:pt x="2153" y="1123"/>
                  </a:lnTo>
                  <a:lnTo>
                    <a:pt x="2148" y="1150"/>
                  </a:lnTo>
                  <a:lnTo>
                    <a:pt x="2143" y="1182"/>
                  </a:lnTo>
                  <a:lnTo>
                    <a:pt x="2143" y="1204"/>
                  </a:lnTo>
                  <a:lnTo>
                    <a:pt x="2137" y="1231"/>
                  </a:lnTo>
                  <a:lnTo>
                    <a:pt x="2132" y="1257"/>
                  </a:lnTo>
                  <a:lnTo>
                    <a:pt x="2126" y="1290"/>
                  </a:lnTo>
                  <a:lnTo>
                    <a:pt x="2116" y="1311"/>
                  </a:lnTo>
                  <a:lnTo>
                    <a:pt x="2110" y="1338"/>
                  </a:lnTo>
                  <a:lnTo>
                    <a:pt x="2105" y="1365"/>
                  </a:lnTo>
                  <a:lnTo>
                    <a:pt x="2094" y="1387"/>
                  </a:lnTo>
                  <a:lnTo>
                    <a:pt x="2083" y="1414"/>
                  </a:lnTo>
                  <a:lnTo>
                    <a:pt x="2078" y="1441"/>
                  </a:lnTo>
                  <a:lnTo>
                    <a:pt x="2061" y="1468"/>
                  </a:lnTo>
                  <a:lnTo>
                    <a:pt x="2050" y="1489"/>
                  </a:lnTo>
                  <a:lnTo>
                    <a:pt x="2040" y="1511"/>
                  </a:lnTo>
                  <a:lnTo>
                    <a:pt x="2029" y="1538"/>
                  </a:lnTo>
                  <a:lnTo>
                    <a:pt x="2013" y="1561"/>
                  </a:lnTo>
                  <a:lnTo>
                    <a:pt x="2002" y="1582"/>
                  </a:lnTo>
                  <a:lnTo>
                    <a:pt x="1985" y="1604"/>
                  </a:lnTo>
                  <a:lnTo>
                    <a:pt x="1969" y="1631"/>
                  </a:lnTo>
                  <a:lnTo>
                    <a:pt x="1953" y="1652"/>
                  </a:lnTo>
                  <a:lnTo>
                    <a:pt x="1942" y="1674"/>
                  </a:lnTo>
                  <a:lnTo>
                    <a:pt x="1926" y="1690"/>
                  </a:lnTo>
                  <a:lnTo>
                    <a:pt x="1910" y="1712"/>
                  </a:lnTo>
                  <a:lnTo>
                    <a:pt x="1888" y="1728"/>
                  </a:lnTo>
                  <a:lnTo>
                    <a:pt x="1866" y="1749"/>
                  </a:lnTo>
                  <a:lnTo>
                    <a:pt x="1850" y="1766"/>
                  </a:lnTo>
                  <a:lnTo>
                    <a:pt x="1834" y="1787"/>
                  </a:lnTo>
                  <a:lnTo>
                    <a:pt x="1812" y="1809"/>
                  </a:lnTo>
                  <a:lnTo>
                    <a:pt x="1790" y="1825"/>
                  </a:lnTo>
                  <a:lnTo>
                    <a:pt x="1774" y="1841"/>
                  </a:lnTo>
                  <a:lnTo>
                    <a:pt x="1752" y="1857"/>
                  </a:lnTo>
                  <a:lnTo>
                    <a:pt x="1731" y="1873"/>
                  </a:lnTo>
                  <a:lnTo>
                    <a:pt x="1704" y="1890"/>
                  </a:lnTo>
                  <a:lnTo>
                    <a:pt x="1682" y="1900"/>
                  </a:lnTo>
                  <a:lnTo>
                    <a:pt x="1660" y="1917"/>
                  </a:lnTo>
                  <a:lnTo>
                    <a:pt x="1638" y="1927"/>
                  </a:lnTo>
                  <a:lnTo>
                    <a:pt x="1617" y="1944"/>
                  </a:lnTo>
                  <a:lnTo>
                    <a:pt x="1589" y="1960"/>
                  </a:lnTo>
                  <a:lnTo>
                    <a:pt x="1567" y="1971"/>
                  </a:lnTo>
                  <a:lnTo>
                    <a:pt x="1540" y="1981"/>
                  </a:lnTo>
                  <a:lnTo>
                    <a:pt x="1513" y="1992"/>
                  </a:lnTo>
                  <a:lnTo>
                    <a:pt x="1491" y="2003"/>
                  </a:lnTo>
                  <a:lnTo>
                    <a:pt x="1464" y="2014"/>
                  </a:lnTo>
                  <a:lnTo>
                    <a:pt x="1437" y="2019"/>
                  </a:lnTo>
                  <a:lnTo>
                    <a:pt x="1415" y="2030"/>
                  </a:lnTo>
                  <a:lnTo>
                    <a:pt x="1388" y="2035"/>
                  </a:lnTo>
                  <a:lnTo>
                    <a:pt x="1361" y="2046"/>
                  </a:lnTo>
                  <a:lnTo>
                    <a:pt x="1334" y="2052"/>
                  </a:lnTo>
                  <a:lnTo>
                    <a:pt x="1307" y="2057"/>
                  </a:lnTo>
                  <a:lnTo>
                    <a:pt x="1274" y="2062"/>
                  </a:lnTo>
                  <a:lnTo>
                    <a:pt x="1247" y="2068"/>
                  </a:lnTo>
                  <a:lnTo>
                    <a:pt x="1220" y="2073"/>
                  </a:lnTo>
                  <a:lnTo>
                    <a:pt x="1193" y="2073"/>
                  </a:lnTo>
                  <a:lnTo>
                    <a:pt x="1160" y="2078"/>
                  </a:lnTo>
                  <a:lnTo>
                    <a:pt x="1133" y="2078"/>
                  </a:lnTo>
                  <a:lnTo>
                    <a:pt x="1106" y="2078"/>
                  </a:lnTo>
                  <a:lnTo>
                    <a:pt x="1079" y="2078"/>
                  </a:lnTo>
                  <a:lnTo>
                    <a:pt x="1047" y="2078"/>
                  </a:lnTo>
                  <a:lnTo>
                    <a:pt x="1014" y="2078"/>
                  </a:lnTo>
                  <a:lnTo>
                    <a:pt x="987" y="2078"/>
                  </a:lnTo>
                  <a:lnTo>
                    <a:pt x="960" y="2073"/>
                  </a:lnTo>
                  <a:lnTo>
                    <a:pt x="933" y="2073"/>
                  </a:lnTo>
                  <a:lnTo>
                    <a:pt x="906" y="2068"/>
                  </a:lnTo>
                  <a:lnTo>
                    <a:pt x="879" y="2062"/>
                  </a:lnTo>
                  <a:lnTo>
                    <a:pt x="846" y="2057"/>
                  </a:lnTo>
                  <a:lnTo>
                    <a:pt x="819" y="2052"/>
                  </a:lnTo>
                  <a:lnTo>
                    <a:pt x="792" y="2046"/>
                  </a:lnTo>
                  <a:lnTo>
                    <a:pt x="765" y="2035"/>
                  </a:lnTo>
                  <a:lnTo>
                    <a:pt x="738" y="2030"/>
                  </a:lnTo>
                  <a:lnTo>
                    <a:pt x="711" y="2019"/>
                  </a:lnTo>
                  <a:lnTo>
                    <a:pt x="683" y="2014"/>
                  </a:lnTo>
                  <a:lnTo>
                    <a:pt x="656" y="2003"/>
                  </a:lnTo>
                  <a:lnTo>
                    <a:pt x="635" y="1992"/>
                  </a:lnTo>
                  <a:lnTo>
                    <a:pt x="608" y="1981"/>
                  </a:lnTo>
                  <a:lnTo>
                    <a:pt x="586" y="1971"/>
                  </a:lnTo>
                  <a:lnTo>
                    <a:pt x="559" y="1960"/>
                  </a:lnTo>
                  <a:lnTo>
                    <a:pt x="536" y="1944"/>
                  </a:lnTo>
                  <a:lnTo>
                    <a:pt x="509" y="1927"/>
                  </a:lnTo>
                  <a:lnTo>
                    <a:pt x="487" y="1917"/>
                  </a:lnTo>
                  <a:lnTo>
                    <a:pt x="466" y="1900"/>
                  </a:lnTo>
                  <a:lnTo>
                    <a:pt x="444" y="1890"/>
                  </a:lnTo>
                  <a:lnTo>
                    <a:pt x="422" y="1873"/>
                  </a:lnTo>
                  <a:lnTo>
                    <a:pt x="401" y="1857"/>
                  </a:lnTo>
                  <a:lnTo>
                    <a:pt x="379" y="1841"/>
                  </a:lnTo>
                  <a:lnTo>
                    <a:pt x="363" y="1825"/>
                  </a:lnTo>
                  <a:lnTo>
                    <a:pt x="341" y="1809"/>
                  </a:lnTo>
                  <a:lnTo>
                    <a:pt x="319" y="1787"/>
                  </a:lnTo>
                  <a:lnTo>
                    <a:pt x="303" y="1766"/>
                  </a:lnTo>
                  <a:lnTo>
                    <a:pt x="281" y="1749"/>
                  </a:lnTo>
                  <a:lnTo>
                    <a:pt x="265" y="1728"/>
                  </a:lnTo>
                  <a:lnTo>
                    <a:pt x="249" y="1712"/>
                  </a:lnTo>
                  <a:lnTo>
                    <a:pt x="233" y="1690"/>
                  </a:lnTo>
                  <a:lnTo>
                    <a:pt x="211" y="1674"/>
                  </a:lnTo>
                  <a:lnTo>
                    <a:pt x="200" y="1652"/>
                  </a:lnTo>
                  <a:lnTo>
                    <a:pt x="184" y="1631"/>
                  </a:lnTo>
                  <a:lnTo>
                    <a:pt x="168" y="1604"/>
                  </a:lnTo>
                  <a:lnTo>
                    <a:pt x="151" y="1582"/>
                  </a:lnTo>
                  <a:lnTo>
                    <a:pt x="135" y="1561"/>
                  </a:lnTo>
                  <a:lnTo>
                    <a:pt x="124" y="1538"/>
                  </a:lnTo>
                  <a:lnTo>
                    <a:pt x="113" y="1511"/>
                  </a:lnTo>
                  <a:lnTo>
                    <a:pt x="102" y="1489"/>
                  </a:lnTo>
                  <a:lnTo>
                    <a:pt x="86" y="1468"/>
                  </a:lnTo>
                  <a:lnTo>
                    <a:pt x="81" y="1441"/>
                  </a:lnTo>
                  <a:lnTo>
                    <a:pt x="70" y="1414"/>
                  </a:lnTo>
                  <a:lnTo>
                    <a:pt x="59" y="1387"/>
                  </a:lnTo>
                  <a:lnTo>
                    <a:pt x="48" y="1365"/>
                  </a:lnTo>
                  <a:lnTo>
                    <a:pt x="43" y="1338"/>
                  </a:lnTo>
                  <a:lnTo>
                    <a:pt x="37" y="1311"/>
                  </a:lnTo>
                  <a:lnTo>
                    <a:pt x="27" y="1290"/>
                  </a:lnTo>
                  <a:lnTo>
                    <a:pt x="21" y="1257"/>
                  </a:lnTo>
                  <a:lnTo>
                    <a:pt x="16" y="1231"/>
                  </a:lnTo>
                  <a:lnTo>
                    <a:pt x="10" y="1204"/>
                  </a:lnTo>
                  <a:lnTo>
                    <a:pt x="10" y="1182"/>
                  </a:lnTo>
                  <a:lnTo>
                    <a:pt x="5" y="1150"/>
                  </a:lnTo>
                  <a:lnTo>
                    <a:pt x="5" y="1123"/>
                  </a:lnTo>
                  <a:lnTo>
                    <a:pt x="0" y="1096"/>
                  </a:lnTo>
                  <a:lnTo>
                    <a:pt x="0" y="1063"/>
                  </a:lnTo>
                  <a:lnTo>
                    <a:pt x="0" y="1036"/>
                  </a:lnTo>
                  <a:close/>
                </a:path>
              </a:pathLst>
            </a:custGeom>
            <a:solidFill>
              <a:srgbClr val="0c2d7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6920" y="2765520"/>
              <a:ext cx="756000" cy="732240"/>
            </a:xfrm>
            <a:custGeom>
              <a:avLst/>
              <a:gdLst/>
              <a:ahLst/>
              <a:rect l="0" t="0" r="r" b="b"/>
              <a:pathLst>
                <a:path w="2100" h="2034">
                  <a:moveTo>
                    <a:pt x="0" y="1017"/>
                  </a:moveTo>
                  <a:lnTo>
                    <a:pt x="0" y="985"/>
                  </a:lnTo>
                  <a:lnTo>
                    <a:pt x="0" y="958"/>
                  </a:lnTo>
                  <a:lnTo>
                    <a:pt x="0" y="931"/>
                  </a:lnTo>
                  <a:lnTo>
                    <a:pt x="5" y="904"/>
                  </a:lnTo>
                  <a:lnTo>
                    <a:pt x="5" y="877"/>
                  </a:lnTo>
                  <a:lnTo>
                    <a:pt x="10" y="850"/>
                  </a:lnTo>
                  <a:lnTo>
                    <a:pt x="16" y="823"/>
                  </a:lnTo>
                  <a:lnTo>
                    <a:pt x="21" y="796"/>
                  </a:lnTo>
                  <a:lnTo>
                    <a:pt x="27" y="764"/>
                  </a:lnTo>
                  <a:lnTo>
                    <a:pt x="32" y="743"/>
                  </a:lnTo>
                  <a:lnTo>
                    <a:pt x="43" y="716"/>
                  </a:lnTo>
                  <a:lnTo>
                    <a:pt x="48" y="689"/>
                  </a:lnTo>
                  <a:lnTo>
                    <a:pt x="59" y="667"/>
                  </a:lnTo>
                  <a:lnTo>
                    <a:pt x="70" y="640"/>
                  </a:lnTo>
                  <a:lnTo>
                    <a:pt x="75" y="614"/>
                  </a:lnTo>
                  <a:lnTo>
                    <a:pt x="91" y="592"/>
                  </a:lnTo>
                  <a:lnTo>
                    <a:pt x="102" y="565"/>
                  </a:lnTo>
                  <a:lnTo>
                    <a:pt x="113" y="544"/>
                  </a:lnTo>
                  <a:lnTo>
                    <a:pt x="124" y="522"/>
                  </a:lnTo>
                  <a:lnTo>
                    <a:pt x="135" y="500"/>
                  </a:lnTo>
                  <a:lnTo>
                    <a:pt x="151" y="478"/>
                  </a:lnTo>
                  <a:lnTo>
                    <a:pt x="167" y="451"/>
                  </a:lnTo>
                  <a:lnTo>
                    <a:pt x="183" y="430"/>
                  </a:lnTo>
                  <a:lnTo>
                    <a:pt x="200" y="408"/>
                  </a:lnTo>
                  <a:lnTo>
                    <a:pt x="216" y="387"/>
                  </a:lnTo>
                  <a:lnTo>
                    <a:pt x="232" y="371"/>
                  </a:lnTo>
                  <a:lnTo>
                    <a:pt x="248" y="349"/>
                  </a:lnTo>
                  <a:lnTo>
                    <a:pt x="265" y="333"/>
                  </a:lnTo>
                  <a:lnTo>
                    <a:pt x="281" y="311"/>
                  </a:lnTo>
                  <a:lnTo>
                    <a:pt x="302" y="295"/>
                  </a:lnTo>
                  <a:lnTo>
                    <a:pt x="324" y="274"/>
                  </a:lnTo>
                  <a:lnTo>
                    <a:pt x="340" y="258"/>
                  </a:lnTo>
                  <a:lnTo>
                    <a:pt x="362" y="242"/>
                  </a:lnTo>
                  <a:lnTo>
                    <a:pt x="384" y="225"/>
                  </a:lnTo>
                  <a:lnTo>
                    <a:pt x="405" y="209"/>
                  </a:lnTo>
                  <a:lnTo>
                    <a:pt x="427" y="193"/>
                  </a:lnTo>
                  <a:lnTo>
                    <a:pt x="443" y="177"/>
                  </a:lnTo>
                  <a:lnTo>
                    <a:pt x="470" y="166"/>
                  </a:lnTo>
                  <a:lnTo>
                    <a:pt x="492" y="150"/>
                  </a:lnTo>
                  <a:lnTo>
                    <a:pt x="513" y="139"/>
                  </a:lnTo>
                  <a:lnTo>
                    <a:pt x="540" y="123"/>
                  </a:lnTo>
                  <a:lnTo>
                    <a:pt x="562" y="112"/>
                  </a:lnTo>
                  <a:lnTo>
                    <a:pt x="589" y="102"/>
                  </a:lnTo>
                  <a:lnTo>
                    <a:pt x="611" y="86"/>
                  </a:lnTo>
                  <a:lnTo>
                    <a:pt x="632" y="80"/>
                  </a:lnTo>
                  <a:lnTo>
                    <a:pt x="660" y="69"/>
                  </a:lnTo>
                  <a:lnTo>
                    <a:pt x="687" y="59"/>
                  </a:lnTo>
                  <a:lnTo>
                    <a:pt x="714" y="48"/>
                  </a:lnTo>
                  <a:lnTo>
                    <a:pt x="741" y="43"/>
                  </a:lnTo>
                  <a:lnTo>
                    <a:pt x="768" y="37"/>
                  </a:lnTo>
                  <a:lnTo>
                    <a:pt x="795" y="26"/>
                  </a:lnTo>
                  <a:lnTo>
                    <a:pt x="822" y="21"/>
                  </a:lnTo>
                  <a:lnTo>
                    <a:pt x="849" y="16"/>
                  </a:lnTo>
                  <a:lnTo>
                    <a:pt x="876" y="16"/>
                  </a:lnTo>
                  <a:lnTo>
                    <a:pt x="903" y="10"/>
                  </a:lnTo>
                  <a:lnTo>
                    <a:pt x="935" y="5"/>
                  </a:lnTo>
                  <a:lnTo>
                    <a:pt x="962" y="5"/>
                  </a:lnTo>
                  <a:lnTo>
                    <a:pt x="990" y="0"/>
                  </a:lnTo>
                  <a:lnTo>
                    <a:pt x="1022" y="0"/>
                  </a:lnTo>
                  <a:lnTo>
                    <a:pt x="1049" y="0"/>
                  </a:lnTo>
                  <a:lnTo>
                    <a:pt x="1077" y="0"/>
                  </a:lnTo>
                  <a:lnTo>
                    <a:pt x="1104" y="0"/>
                  </a:lnTo>
                  <a:lnTo>
                    <a:pt x="1137" y="5"/>
                  </a:lnTo>
                  <a:lnTo>
                    <a:pt x="1164" y="5"/>
                  </a:lnTo>
                  <a:lnTo>
                    <a:pt x="1196" y="10"/>
                  </a:lnTo>
                  <a:lnTo>
                    <a:pt x="1223" y="16"/>
                  </a:lnTo>
                  <a:lnTo>
                    <a:pt x="1250" y="16"/>
                  </a:lnTo>
                  <a:lnTo>
                    <a:pt x="1277" y="21"/>
                  </a:lnTo>
                  <a:lnTo>
                    <a:pt x="1304" y="26"/>
                  </a:lnTo>
                  <a:lnTo>
                    <a:pt x="1331" y="37"/>
                  </a:lnTo>
                  <a:lnTo>
                    <a:pt x="1358" y="43"/>
                  </a:lnTo>
                  <a:lnTo>
                    <a:pt x="1385" y="48"/>
                  </a:lnTo>
                  <a:lnTo>
                    <a:pt x="1407" y="59"/>
                  </a:lnTo>
                  <a:lnTo>
                    <a:pt x="1434" y="69"/>
                  </a:lnTo>
                  <a:lnTo>
                    <a:pt x="1461" y="80"/>
                  </a:lnTo>
                  <a:lnTo>
                    <a:pt x="1483" y="86"/>
                  </a:lnTo>
                  <a:lnTo>
                    <a:pt x="1510" y="102"/>
                  </a:lnTo>
                  <a:lnTo>
                    <a:pt x="1537" y="112"/>
                  </a:lnTo>
                  <a:lnTo>
                    <a:pt x="1559" y="123"/>
                  </a:lnTo>
                  <a:lnTo>
                    <a:pt x="1586" y="139"/>
                  </a:lnTo>
                  <a:lnTo>
                    <a:pt x="1607" y="150"/>
                  </a:lnTo>
                  <a:lnTo>
                    <a:pt x="1629" y="166"/>
                  </a:lnTo>
                  <a:lnTo>
                    <a:pt x="1651" y="177"/>
                  </a:lnTo>
                  <a:lnTo>
                    <a:pt x="1672" y="193"/>
                  </a:lnTo>
                  <a:lnTo>
                    <a:pt x="1694" y="209"/>
                  </a:lnTo>
                  <a:lnTo>
                    <a:pt x="1715" y="225"/>
                  </a:lnTo>
                  <a:lnTo>
                    <a:pt x="1737" y="242"/>
                  </a:lnTo>
                  <a:lnTo>
                    <a:pt x="1759" y="258"/>
                  </a:lnTo>
                  <a:lnTo>
                    <a:pt x="1775" y="274"/>
                  </a:lnTo>
                  <a:lnTo>
                    <a:pt x="1797" y="295"/>
                  </a:lnTo>
                  <a:lnTo>
                    <a:pt x="1813" y="311"/>
                  </a:lnTo>
                  <a:lnTo>
                    <a:pt x="1834" y="333"/>
                  </a:lnTo>
                  <a:lnTo>
                    <a:pt x="1851" y="349"/>
                  </a:lnTo>
                  <a:lnTo>
                    <a:pt x="1867" y="371"/>
                  </a:lnTo>
                  <a:lnTo>
                    <a:pt x="1883" y="387"/>
                  </a:lnTo>
                  <a:lnTo>
                    <a:pt x="1899" y="408"/>
                  </a:lnTo>
                  <a:lnTo>
                    <a:pt x="1916" y="430"/>
                  </a:lnTo>
                  <a:lnTo>
                    <a:pt x="1932" y="451"/>
                  </a:lnTo>
                  <a:lnTo>
                    <a:pt x="1943" y="478"/>
                  </a:lnTo>
                  <a:lnTo>
                    <a:pt x="1959" y="500"/>
                  </a:lnTo>
                  <a:lnTo>
                    <a:pt x="1970" y="522"/>
                  </a:lnTo>
                  <a:lnTo>
                    <a:pt x="1986" y="544"/>
                  </a:lnTo>
                  <a:lnTo>
                    <a:pt x="1997" y="565"/>
                  </a:lnTo>
                  <a:lnTo>
                    <a:pt x="2008" y="592"/>
                  </a:lnTo>
                  <a:lnTo>
                    <a:pt x="2018" y="614"/>
                  </a:lnTo>
                  <a:lnTo>
                    <a:pt x="2029" y="640"/>
                  </a:lnTo>
                  <a:lnTo>
                    <a:pt x="2035" y="667"/>
                  </a:lnTo>
                  <a:lnTo>
                    <a:pt x="2045" y="689"/>
                  </a:lnTo>
                  <a:lnTo>
                    <a:pt x="2056" y="716"/>
                  </a:lnTo>
                  <a:lnTo>
                    <a:pt x="2067" y="743"/>
                  </a:lnTo>
                  <a:lnTo>
                    <a:pt x="2072" y="764"/>
                  </a:lnTo>
                  <a:lnTo>
                    <a:pt x="2078" y="796"/>
                  </a:lnTo>
                  <a:lnTo>
                    <a:pt x="2083" y="823"/>
                  </a:lnTo>
                  <a:lnTo>
                    <a:pt x="2089" y="850"/>
                  </a:lnTo>
                  <a:lnTo>
                    <a:pt x="2089" y="877"/>
                  </a:lnTo>
                  <a:lnTo>
                    <a:pt x="2094" y="904"/>
                  </a:lnTo>
                  <a:lnTo>
                    <a:pt x="2100" y="931"/>
                  </a:lnTo>
                  <a:lnTo>
                    <a:pt x="2100" y="958"/>
                  </a:lnTo>
                  <a:lnTo>
                    <a:pt x="2100" y="985"/>
                  </a:lnTo>
                  <a:lnTo>
                    <a:pt x="2100" y="1017"/>
                  </a:lnTo>
                  <a:lnTo>
                    <a:pt x="2100" y="1044"/>
                  </a:lnTo>
                  <a:lnTo>
                    <a:pt x="2100" y="1071"/>
                  </a:lnTo>
                  <a:lnTo>
                    <a:pt x="2100" y="1098"/>
                  </a:lnTo>
                  <a:lnTo>
                    <a:pt x="2094" y="1130"/>
                  </a:lnTo>
                  <a:lnTo>
                    <a:pt x="2089" y="1157"/>
                  </a:lnTo>
                  <a:lnTo>
                    <a:pt x="2089" y="1184"/>
                  </a:lnTo>
                  <a:lnTo>
                    <a:pt x="2083" y="1211"/>
                  </a:lnTo>
                  <a:lnTo>
                    <a:pt x="2078" y="1237"/>
                  </a:lnTo>
                  <a:lnTo>
                    <a:pt x="2072" y="1259"/>
                  </a:lnTo>
                  <a:lnTo>
                    <a:pt x="2067" y="1291"/>
                  </a:lnTo>
                  <a:lnTo>
                    <a:pt x="2056" y="1313"/>
                  </a:lnTo>
                  <a:lnTo>
                    <a:pt x="2045" y="1340"/>
                  </a:lnTo>
                  <a:lnTo>
                    <a:pt x="2035" y="1367"/>
                  </a:lnTo>
                  <a:lnTo>
                    <a:pt x="2029" y="1388"/>
                  </a:lnTo>
                  <a:lnTo>
                    <a:pt x="2018" y="1415"/>
                  </a:lnTo>
                  <a:lnTo>
                    <a:pt x="2008" y="1442"/>
                  </a:lnTo>
                  <a:lnTo>
                    <a:pt x="1997" y="1463"/>
                  </a:lnTo>
                  <a:lnTo>
                    <a:pt x="1986" y="1485"/>
                  </a:lnTo>
                  <a:lnTo>
                    <a:pt x="1970" y="1512"/>
                  </a:lnTo>
                  <a:lnTo>
                    <a:pt x="1959" y="1529"/>
                  </a:lnTo>
                  <a:lnTo>
                    <a:pt x="1943" y="1556"/>
                  </a:lnTo>
                  <a:lnTo>
                    <a:pt x="1932" y="1577"/>
                  </a:lnTo>
                  <a:lnTo>
                    <a:pt x="1916" y="1599"/>
                  </a:lnTo>
                  <a:lnTo>
                    <a:pt x="1899" y="1620"/>
                  </a:lnTo>
                  <a:lnTo>
                    <a:pt x="1883" y="1642"/>
                  </a:lnTo>
                  <a:lnTo>
                    <a:pt x="1867" y="1663"/>
                  </a:lnTo>
                  <a:lnTo>
                    <a:pt x="1851" y="1679"/>
                  </a:lnTo>
                  <a:lnTo>
                    <a:pt x="1834" y="1701"/>
                  </a:lnTo>
                  <a:lnTo>
                    <a:pt x="1813" y="1717"/>
                  </a:lnTo>
                  <a:lnTo>
                    <a:pt x="1797" y="1739"/>
                  </a:lnTo>
                  <a:lnTo>
                    <a:pt x="1775" y="1755"/>
                  </a:lnTo>
                  <a:lnTo>
                    <a:pt x="1759" y="1776"/>
                  </a:lnTo>
                  <a:lnTo>
                    <a:pt x="1737" y="1792"/>
                  </a:lnTo>
                  <a:lnTo>
                    <a:pt x="1715" y="1809"/>
                  </a:lnTo>
                  <a:lnTo>
                    <a:pt x="1694" y="1825"/>
                  </a:lnTo>
                  <a:lnTo>
                    <a:pt x="1672" y="1835"/>
                  </a:lnTo>
                  <a:lnTo>
                    <a:pt x="1651" y="1852"/>
                  </a:lnTo>
                  <a:lnTo>
                    <a:pt x="1629" y="1868"/>
                  </a:lnTo>
                  <a:lnTo>
                    <a:pt x="1607" y="1884"/>
                  </a:lnTo>
                  <a:lnTo>
                    <a:pt x="1586" y="1895"/>
                  </a:lnTo>
                  <a:lnTo>
                    <a:pt x="1559" y="1905"/>
                  </a:lnTo>
                  <a:lnTo>
                    <a:pt x="1537" y="1921"/>
                  </a:lnTo>
                  <a:lnTo>
                    <a:pt x="1510" y="1932"/>
                  </a:lnTo>
                  <a:lnTo>
                    <a:pt x="1483" y="1943"/>
                  </a:lnTo>
                  <a:lnTo>
                    <a:pt x="1461" y="1954"/>
                  </a:lnTo>
                  <a:lnTo>
                    <a:pt x="1434" y="1964"/>
                  </a:lnTo>
                  <a:lnTo>
                    <a:pt x="1407" y="1975"/>
                  </a:lnTo>
                  <a:lnTo>
                    <a:pt x="1385" y="1981"/>
                  </a:lnTo>
                  <a:lnTo>
                    <a:pt x="1358" y="1991"/>
                  </a:lnTo>
                  <a:lnTo>
                    <a:pt x="1331" y="1997"/>
                  </a:lnTo>
                  <a:lnTo>
                    <a:pt x="1304" y="2002"/>
                  </a:lnTo>
                  <a:lnTo>
                    <a:pt x="1277" y="2007"/>
                  </a:lnTo>
                  <a:lnTo>
                    <a:pt x="1250" y="2013"/>
                  </a:lnTo>
                  <a:lnTo>
                    <a:pt x="1223" y="2018"/>
                  </a:lnTo>
                  <a:lnTo>
                    <a:pt x="1196" y="2024"/>
                  </a:lnTo>
                  <a:lnTo>
                    <a:pt x="1164" y="2024"/>
                  </a:lnTo>
                  <a:lnTo>
                    <a:pt x="1137" y="2029"/>
                  </a:lnTo>
                  <a:lnTo>
                    <a:pt x="1104" y="2029"/>
                  </a:lnTo>
                  <a:lnTo>
                    <a:pt x="1077" y="2034"/>
                  </a:lnTo>
                  <a:lnTo>
                    <a:pt x="1049" y="2034"/>
                  </a:lnTo>
                  <a:lnTo>
                    <a:pt x="1022" y="2034"/>
                  </a:lnTo>
                  <a:lnTo>
                    <a:pt x="990" y="2029"/>
                  </a:lnTo>
                  <a:lnTo>
                    <a:pt x="962" y="2029"/>
                  </a:lnTo>
                  <a:lnTo>
                    <a:pt x="935" y="2024"/>
                  </a:lnTo>
                  <a:lnTo>
                    <a:pt x="903" y="2024"/>
                  </a:lnTo>
                  <a:lnTo>
                    <a:pt x="876" y="2018"/>
                  </a:lnTo>
                  <a:lnTo>
                    <a:pt x="849" y="2013"/>
                  </a:lnTo>
                  <a:lnTo>
                    <a:pt x="822" y="2007"/>
                  </a:lnTo>
                  <a:lnTo>
                    <a:pt x="795" y="2002"/>
                  </a:lnTo>
                  <a:lnTo>
                    <a:pt x="768" y="1997"/>
                  </a:lnTo>
                  <a:lnTo>
                    <a:pt x="741" y="1991"/>
                  </a:lnTo>
                  <a:lnTo>
                    <a:pt x="714" y="1981"/>
                  </a:lnTo>
                  <a:lnTo>
                    <a:pt x="687" y="1975"/>
                  </a:lnTo>
                  <a:lnTo>
                    <a:pt x="660" y="1964"/>
                  </a:lnTo>
                  <a:lnTo>
                    <a:pt x="632" y="1954"/>
                  </a:lnTo>
                  <a:lnTo>
                    <a:pt x="611" y="1943"/>
                  </a:lnTo>
                  <a:lnTo>
                    <a:pt x="589" y="1932"/>
                  </a:lnTo>
                  <a:lnTo>
                    <a:pt x="562" y="1921"/>
                  </a:lnTo>
                  <a:lnTo>
                    <a:pt x="540" y="1905"/>
                  </a:lnTo>
                  <a:lnTo>
                    <a:pt x="513" y="1895"/>
                  </a:lnTo>
                  <a:lnTo>
                    <a:pt x="492" y="1884"/>
                  </a:lnTo>
                  <a:lnTo>
                    <a:pt x="470" y="1868"/>
                  </a:lnTo>
                  <a:lnTo>
                    <a:pt x="443" y="1852"/>
                  </a:lnTo>
                  <a:lnTo>
                    <a:pt x="427" y="1835"/>
                  </a:lnTo>
                  <a:lnTo>
                    <a:pt x="405" y="1825"/>
                  </a:lnTo>
                  <a:lnTo>
                    <a:pt x="384" y="1809"/>
                  </a:lnTo>
                  <a:lnTo>
                    <a:pt x="362" y="1792"/>
                  </a:lnTo>
                  <a:lnTo>
                    <a:pt x="340" y="1776"/>
                  </a:lnTo>
                  <a:lnTo>
                    <a:pt x="324" y="1755"/>
                  </a:lnTo>
                  <a:lnTo>
                    <a:pt x="302" y="1739"/>
                  </a:lnTo>
                  <a:lnTo>
                    <a:pt x="281" y="1717"/>
                  </a:lnTo>
                  <a:lnTo>
                    <a:pt x="265" y="1701"/>
                  </a:lnTo>
                  <a:lnTo>
                    <a:pt x="248" y="1679"/>
                  </a:lnTo>
                  <a:lnTo>
                    <a:pt x="232" y="1663"/>
                  </a:lnTo>
                  <a:lnTo>
                    <a:pt x="216" y="1642"/>
                  </a:lnTo>
                  <a:lnTo>
                    <a:pt x="200" y="1620"/>
                  </a:lnTo>
                  <a:lnTo>
                    <a:pt x="183" y="1599"/>
                  </a:lnTo>
                  <a:lnTo>
                    <a:pt x="167" y="1577"/>
                  </a:lnTo>
                  <a:lnTo>
                    <a:pt x="151" y="1556"/>
                  </a:lnTo>
                  <a:lnTo>
                    <a:pt x="135" y="1529"/>
                  </a:lnTo>
                  <a:lnTo>
                    <a:pt x="124" y="1512"/>
                  </a:lnTo>
                  <a:lnTo>
                    <a:pt x="113" y="1485"/>
                  </a:lnTo>
                  <a:lnTo>
                    <a:pt x="102" y="1463"/>
                  </a:lnTo>
                  <a:lnTo>
                    <a:pt x="91" y="1442"/>
                  </a:lnTo>
                  <a:lnTo>
                    <a:pt x="75" y="1415"/>
                  </a:lnTo>
                  <a:lnTo>
                    <a:pt x="70" y="1388"/>
                  </a:lnTo>
                  <a:lnTo>
                    <a:pt x="59" y="1367"/>
                  </a:lnTo>
                  <a:lnTo>
                    <a:pt x="48" y="1340"/>
                  </a:lnTo>
                  <a:lnTo>
                    <a:pt x="43" y="1313"/>
                  </a:lnTo>
                  <a:lnTo>
                    <a:pt x="32" y="1291"/>
                  </a:lnTo>
                  <a:lnTo>
                    <a:pt x="27" y="1259"/>
                  </a:lnTo>
                  <a:lnTo>
                    <a:pt x="21" y="1237"/>
                  </a:lnTo>
                  <a:lnTo>
                    <a:pt x="16" y="1211"/>
                  </a:lnTo>
                  <a:lnTo>
                    <a:pt x="10" y="1184"/>
                  </a:lnTo>
                  <a:lnTo>
                    <a:pt x="5" y="1157"/>
                  </a:lnTo>
                  <a:lnTo>
                    <a:pt x="5" y="1130"/>
                  </a:lnTo>
                  <a:lnTo>
                    <a:pt x="0" y="1098"/>
                  </a:lnTo>
                  <a:lnTo>
                    <a:pt x="0" y="1071"/>
                  </a:lnTo>
                  <a:lnTo>
                    <a:pt x="0" y="1044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11337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4840" y="2768760"/>
              <a:ext cx="740160" cy="717840"/>
            </a:xfrm>
            <a:custGeom>
              <a:avLst/>
              <a:gdLst/>
              <a:ahLst/>
              <a:rect l="0" t="0" r="r" b="b"/>
              <a:pathLst>
                <a:path w="2056" h="1994">
                  <a:moveTo>
                    <a:pt x="0" y="996"/>
                  </a:moveTo>
                  <a:lnTo>
                    <a:pt x="5" y="969"/>
                  </a:lnTo>
                  <a:lnTo>
                    <a:pt x="5" y="942"/>
                  </a:lnTo>
                  <a:lnTo>
                    <a:pt x="5" y="910"/>
                  </a:lnTo>
                  <a:lnTo>
                    <a:pt x="10" y="883"/>
                  </a:lnTo>
                  <a:lnTo>
                    <a:pt x="10" y="856"/>
                  </a:lnTo>
                  <a:lnTo>
                    <a:pt x="16" y="829"/>
                  </a:lnTo>
                  <a:lnTo>
                    <a:pt x="21" y="802"/>
                  </a:lnTo>
                  <a:lnTo>
                    <a:pt x="27" y="775"/>
                  </a:lnTo>
                  <a:lnTo>
                    <a:pt x="32" y="748"/>
                  </a:lnTo>
                  <a:lnTo>
                    <a:pt x="37" y="721"/>
                  </a:lnTo>
                  <a:lnTo>
                    <a:pt x="48" y="700"/>
                  </a:lnTo>
                  <a:lnTo>
                    <a:pt x="54" y="673"/>
                  </a:lnTo>
                  <a:lnTo>
                    <a:pt x="64" y="651"/>
                  </a:lnTo>
                  <a:lnTo>
                    <a:pt x="75" y="624"/>
                  </a:lnTo>
                  <a:lnTo>
                    <a:pt x="81" y="597"/>
                  </a:lnTo>
                  <a:lnTo>
                    <a:pt x="91" y="576"/>
                  </a:lnTo>
                  <a:lnTo>
                    <a:pt x="108" y="549"/>
                  </a:lnTo>
                  <a:lnTo>
                    <a:pt x="118" y="527"/>
                  </a:lnTo>
                  <a:lnTo>
                    <a:pt x="135" y="506"/>
                  </a:lnTo>
                  <a:lnTo>
                    <a:pt x="146" y="484"/>
                  </a:lnTo>
                  <a:lnTo>
                    <a:pt x="162" y="463"/>
                  </a:lnTo>
                  <a:lnTo>
                    <a:pt x="173" y="436"/>
                  </a:lnTo>
                  <a:lnTo>
                    <a:pt x="189" y="414"/>
                  </a:lnTo>
                  <a:lnTo>
                    <a:pt x="205" y="393"/>
                  </a:lnTo>
                  <a:lnTo>
                    <a:pt x="221" y="377"/>
                  </a:lnTo>
                  <a:lnTo>
                    <a:pt x="237" y="355"/>
                  </a:lnTo>
                  <a:lnTo>
                    <a:pt x="254" y="333"/>
                  </a:lnTo>
                  <a:lnTo>
                    <a:pt x="270" y="317"/>
                  </a:lnTo>
                  <a:lnTo>
                    <a:pt x="292" y="301"/>
                  </a:lnTo>
                  <a:lnTo>
                    <a:pt x="308" y="285"/>
                  </a:lnTo>
                  <a:lnTo>
                    <a:pt x="329" y="263"/>
                  </a:lnTo>
                  <a:lnTo>
                    <a:pt x="351" y="247"/>
                  </a:lnTo>
                  <a:lnTo>
                    <a:pt x="367" y="231"/>
                  </a:lnTo>
                  <a:lnTo>
                    <a:pt x="389" y="215"/>
                  </a:lnTo>
                  <a:lnTo>
                    <a:pt x="410" y="199"/>
                  </a:lnTo>
                  <a:lnTo>
                    <a:pt x="432" y="183"/>
                  </a:lnTo>
                  <a:lnTo>
                    <a:pt x="454" y="166"/>
                  </a:lnTo>
                  <a:lnTo>
                    <a:pt x="481" y="156"/>
                  </a:lnTo>
                  <a:lnTo>
                    <a:pt x="502" y="140"/>
                  </a:lnTo>
                  <a:lnTo>
                    <a:pt x="525" y="129"/>
                  </a:lnTo>
                  <a:lnTo>
                    <a:pt x="547" y="113"/>
                  </a:lnTo>
                  <a:lnTo>
                    <a:pt x="568" y="102"/>
                  </a:lnTo>
                  <a:lnTo>
                    <a:pt x="595" y="91"/>
                  </a:lnTo>
                  <a:lnTo>
                    <a:pt x="622" y="80"/>
                  </a:lnTo>
                  <a:lnTo>
                    <a:pt x="649" y="70"/>
                  </a:lnTo>
                  <a:lnTo>
                    <a:pt x="671" y="59"/>
                  </a:lnTo>
                  <a:lnTo>
                    <a:pt x="698" y="53"/>
                  </a:lnTo>
                  <a:lnTo>
                    <a:pt x="725" y="43"/>
                  </a:lnTo>
                  <a:lnTo>
                    <a:pt x="752" y="37"/>
                  </a:lnTo>
                  <a:lnTo>
                    <a:pt x="774" y="32"/>
                  </a:lnTo>
                  <a:lnTo>
                    <a:pt x="801" y="26"/>
                  </a:lnTo>
                  <a:lnTo>
                    <a:pt x="833" y="21"/>
                  </a:lnTo>
                  <a:lnTo>
                    <a:pt x="860" y="16"/>
                  </a:lnTo>
                  <a:lnTo>
                    <a:pt x="887" y="10"/>
                  </a:lnTo>
                  <a:lnTo>
                    <a:pt x="914" y="10"/>
                  </a:lnTo>
                  <a:lnTo>
                    <a:pt x="941" y="5"/>
                  </a:lnTo>
                  <a:lnTo>
                    <a:pt x="974" y="5"/>
                  </a:lnTo>
                  <a:lnTo>
                    <a:pt x="1001" y="5"/>
                  </a:lnTo>
                  <a:lnTo>
                    <a:pt x="1033" y="0"/>
                  </a:lnTo>
                  <a:lnTo>
                    <a:pt x="1060" y="5"/>
                  </a:lnTo>
                  <a:lnTo>
                    <a:pt x="1087" y="5"/>
                  </a:lnTo>
                  <a:lnTo>
                    <a:pt x="1114" y="5"/>
                  </a:lnTo>
                  <a:lnTo>
                    <a:pt x="1142" y="10"/>
                  </a:lnTo>
                  <a:lnTo>
                    <a:pt x="1174" y="10"/>
                  </a:lnTo>
                  <a:lnTo>
                    <a:pt x="1201" y="16"/>
                  </a:lnTo>
                  <a:lnTo>
                    <a:pt x="1228" y="21"/>
                  </a:lnTo>
                  <a:lnTo>
                    <a:pt x="1255" y="26"/>
                  </a:lnTo>
                  <a:lnTo>
                    <a:pt x="1282" y="32"/>
                  </a:lnTo>
                  <a:lnTo>
                    <a:pt x="1309" y="37"/>
                  </a:lnTo>
                  <a:lnTo>
                    <a:pt x="1336" y="43"/>
                  </a:lnTo>
                  <a:lnTo>
                    <a:pt x="1363" y="53"/>
                  </a:lnTo>
                  <a:lnTo>
                    <a:pt x="1385" y="59"/>
                  </a:lnTo>
                  <a:lnTo>
                    <a:pt x="1412" y="70"/>
                  </a:lnTo>
                  <a:lnTo>
                    <a:pt x="1439" y="80"/>
                  </a:lnTo>
                  <a:lnTo>
                    <a:pt x="1461" y="91"/>
                  </a:lnTo>
                  <a:lnTo>
                    <a:pt x="1488" y="102"/>
                  </a:lnTo>
                  <a:lnTo>
                    <a:pt x="1515" y="113"/>
                  </a:lnTo>
                  <a:lnTo>
                    <a:pt x="1536" y="129"/>
                  </a:lnTo>
                  <a:lnTo>
                    <a:pt x="1559" y="140"/>
                  </a:lnTo>
                  <a:lnTo>
                    <a:pt x="1581" y="156"/>
                  </a:lnTo>
                  <a:lnTo>
                    <a:pt x="1602" y="166"/>
                  </a:lnTo>
                  <a:lnTo>
                    <a:pt x="1629" y="183"/>
                  </a:lnTo>
                  <a:lnTo>
                    <a:pt x="1645" y="199"/>
                  </a:lnTo>
                  <a:lnTo>
                    <a:pt x="1667" y="215"/>
                  </a:lnTo>
                  <a:lnTo>
                    <a:pt x="1689" y="231"/>
                  </a:lnTo>
                  <a:lnTo>
                    <a:pt x="1710" y="247"/>
                  </a:lnTo>
                  <a:lnTo>
                    <a:pt x="1732" y="263"/>
                  </a:lnTo>
                  <a:lnTo>
                    <a:pt x="1748" y="285"/>
                  </a:lnTo>
                  <a:lnTo>
                    <a:pt x="1770" y="301"/>
                  </a:lnTo>
                  <a:lnTo>
                    <a:pt x="1786" y="317"/>
                  </a:lnTo>
                  <a:lnTo>
                    <a:pt x="1802" y="333"/>
                  </a:lnTo>
                  <a:lnTo>
                    <a:pt x="1818" y="355"/>
                  </a:lnTo>
                  <a:lnTo>
                    <a:pt x="1835" y="377"/>
                  </a:lnTo>
                  <a:lnTo>
                    <a:pt x="1856" y="393"/>
                  </a:lnTo>
                  <a:lnTo>
                    <a:pt x="1873" y="414"/>
                  </a:lnTo>
                  <a:lnTo>
                    <a:pt x="1889" y="436"/>
                  </a:lnTo>
                  <a:lnTo>
                    <a:pt x="1900" y="463"/>
                  </a:lnTo>
                  <a:lnTo>
                    <a:pt x="1916" y="484"/>
                  </a:lnTo>
                  <a:lnTo>
                    <a:pt x="1927" y="506"/>
                  </a:lnTo>
                  <a:lnTo>
                    <a:pt x="1937" y="527"/>
                  </a:lnTo>
                  <a:lnTo>
                    <a:pt x="1954" y="549"/>
                  </a:lnTo>
                  <a:lnTo>
                    <a:pt x="1964" y="576"/>
                  </a:lnTo>
                  <a:lnTo>
                    <a:pt x="1975" y="597"/>
                  </a:lnTo>
                  <a:lnTo>
                    <a:pt x="1986" y="624"/>
                  </a:lnTo>
                  <a:lnTo>
                    <a:pt x="1992" y="651"/>
                  </a:lnTo>
                  <a:lnTo>
                    <a:pt x="2002" y="673"/>
                  </a:lnTo>
                  <a:lnTo>
                    <a:pt x="2013" y="700"/>
                  </a:lnTo>
                  <a:lnTo>
                    <a:pt x="2019" y="721"/>
                  </a:lnTo>
                  <a:lnTo>
                    <a:pt x="2029" y="748"/>
                  </a:lnTo>
                  <a:lnTo>
                    <a:pt x="2035" y="775"/>
                  </a:lnTo>
                  <a:lnTo>
                    <a:pt x="2040" y="802"/>
                  </a:lnTo>
                  <a:lnTo>
                    <a:pt x="2046" y="829"/>
                  </a:lnTo>
                  <a:lnTo>
                    <a:pt x="2046" y="856"/>
                  </a:lnTo>
                  <a:lnTo>
                    <a:pt x="2051" y="883"/>
                  </a:lnTo>
                  <a:lnTo>
                    <a:pt x="2056" y="910"/>
                  </a:lnTo>
                  <a:lnTo>
                    <a:pt x="2056" y="942"/>
                  </a:lnTo>
                  <a:lnTo>
                    <a:pt x="2056" y="969"/>
                  </a:lnTo>
                  <a:lnTo>
                    <a:pt x="2056" y="996"/>
                  </a:lnTo>
                  <a:lnTo>
                    <a:pt x="2056" y="1024"/>
                  </a:lnTo>
                  <a:lnTo>
                    <a:pt x="2056" y="1051"/>
                  </a:lnTo>
                  <a:lnTo>
                    <a:pt x="2056" y="1078"/>
                  </a:lnTo>
                  <a:lnTo>
                    <a:pt x="2051" y="1110"/>
                  </a:lnTo>
                  <a:lnTo>
                    <a:pt x="2046" y="1137"/>
                  </a:lnTo>
                  <a:lnTo>
                    <a:pt x="2046" y="1164"/>
                  </a:lnTo>
                  <a:lnTo>
                    <a:pt x="2040" y="1191"/>
                  </a:lnTo>
                  <a:lnTo>
                    <a:pt x="2035" y="1213"/>
                  </a:lnTo>
                  <a:lnTo>
                    <a:pt x="2029" y="1240"/>
                  </a:lnTo>
                  <a:lnTo>
                    <a:pt x="2019" y="1272"/>
                  </a:lnTo>
                  <a:lnTo>
                    <a:pt x="2013" y="1293"/>
                  </a:lnTo>
                  <a:lnTo>
                    <a:pt x="2002" y="1320"/>
                  </a:lnTo>
                  <a:lnTo>
                    <a:pt x="1992" y="1342"/>
                  </a:lnTo>
                  <a:lnTo>
                    <a:pt x="1986" y="1369"/>
                  </a:lnTo>
                  <a:lnTo>
                    <a:pt x="1975" y="1390"/>
                  </a:lnTo>
                  <a:lnTo>
                    <a:pt x="1964" y="1417"/>
                  </a:lnTo>
                  <a:lnTo>
                    <a:pt x="1954" y="1444"/>
                  </a:lnTo>
                  <a:lnTo>
                    <a:pt x="1937" y="1466"/>
                  </a:lnTo>
                  <a:lnTo>
                    <a:pt x="1927" y="1487"/>
                  </a:lnTo>
                  <a:lnTo>
                    <a:pt x="1916" y="1509"/>
                  </a:lnTo>
                  <a:lnTo>
                    <a:pt x="1900" y="1530"/>
                  </a:lnTo>
                  <a:lnTo>
                    <a:pt x="1889" y="1552"/>
                  </a:lnTo>
                  <a:lnTo>
                    <a:pt x="1873" y="1574"/>
                  </a:lnTo>
                  <a:lnTo>
                    <a:pt x="1856" y="1595"/>
                  </a:lnTo>
                  <a:lnTo>
                    <a:pt x="1835" y="1617"/>
                  </a:lnTo>
                  <a:lnTo>
                    <a:pt x="1818" y="1638"/>
                  </a:lnTo>
                  <a:lnTo>
                    <a:pt x="1802" y="1654"/>
                  </a:lnTo>
                  <a:lnTo>
                    <a:pt x="1786" y="1676"/>
                  </a:lnTo>
                  <a:lnTo>
                    <a:pt x="1770" y="1692"/>
                  </a:lnTo>
                  <a:lnTo>
                    <a:pt x="1748" y="1714"/>
                  </a:lnTo>
                  <a:lnTo>
                    <a:pt x="1732" y="1730"/>
                  </a:lnTo>
                  <a:lnTo>
                    <a:pt x="1710" y="1751"/>
                  </a:lnTo>
                  <a:lnTo>
                    <a:pt x="1689" y="1767"/>
                  </a:lnTo>
                  <a:lnTo>
                    <a:pt x="1667" y="1784"/>
                  </a:lnTo>
                  <a:lnTo>
                    <a:pt x="1645" y="1800"/>
                  </a:lnTo>
                  <a:lnTo>
                    <a:pt x="1629" y="1811"/>
                  </a:lnTo>
                  <a:lnTo>
                    <a:pt x="1602" y="1827"/>
                  </a:lnTo>
                  <a:lnTo>
                    <a:pt x="1581" y="1843"/>
                  </a:lnTo>
                  <a:lnTo>
                    <a:pt x="1559" y="1854"/>
                  </a:lnTo>
                  <a:lnTo>
                    <a:pt x="1536" y="1864"/>
                  </a:lnTo>
                  <a:lnTo>
                    <a:pt x="1515" y="1881"/>
                  </a:lnTo>
                  <a:lnTo>
                    <a:pt x="1488" y="1891"/>
                  </a:lnTo>
                  <a:lnTo>
                    <a:pt x="1461" y="1902"/>
                  </a:lnTo>
                  <a:lnTo>
                    <a:pt x="1439" y="1913"/>
                  </a:lnTo>
                  <a:lnTo>
                    <a:pt x="1412" y="1924"/>
                  </a:lnTo>
                  <a:lnTo>
                    <a:pt x="1385" y="1934"/>
                  </a:lnTo>
                  <a:lnTo>
                    <a:pt x="1363" y="1940"/>
                  </a:lnTo>
                  <a:lnTo>
                    <a:pt x="1336" y="1951"/>
                  </a:lnTo>
                  <a:lnTo>
                    <a:pt x="1309" y="1956"/>
                  </a:lnTo>
                  <a:lnTo>
                    <a:pt x="1282" y="1961"/>
                  </a:lnTo>
                  <a:lnTo>
                    <a:pt x="1255" y="1972"/>
                  </a:lnTo>
                  <a:lnTo>
                    <a:pt x="1228" y="1972"/>
                  </a:lnTo>
                  <a:lnTo>
                    <a:pt x="1201" y="1978"/>
                  </a:lnTo>
                  <a:lnTo>
                    <a:pt x="1174" y="1983"/>
                  </a:lnTo>
                  <a:lnTo>
                    <a:pt x="1142" y="1988"/>
                  </a:lnTo>
                  <a:lnTo>
                    <a:pt x="1114" y="1988"/>
                  </a:lnTo>
                  <a:lnTo>
                    <a:pt x="1087" y="1994"/>
                  </a:lnTo>
                  <a:lnTo>
                    <a:pt x="1060" y="1994"/>
                  </a:lnTo>
                  <a:lnTo>
                    <a:pt x="1033" y="1994"/>
                  </a:lnTo>
                  <a:lnTo>
                    <a:pt x="1001" y="1994"/>
                  </a:lnTo>
                  <a:lnTo>
                    <a:pt x="974" y="1994"/>
                  </a:lnTo>
                  <a:lnTo>
                    <a:pt x="941" y="1988"/>
                  </a:lnTo>
                  <a:lnTo>
                    <a:pt x="914" y="1988"/>
                  </a:lnTo>
                  <a:lnTo>
                    <a:pt x="887" y="1983"/>
                  </a:lnTo>
                  <a:lnTo>
                    <a:pt x="860" y="1978"/>
                  </a:lnTo>
                  <a:lnTo>
                    <a:pt x="833" y="1972"/>
                  </a:lnTo>
                  <a:lnTo>
                    <a:pt x="801" y="1972"/>
                  </a:lnTo>
                  <a:lnTo>
                    <a:pt x="774" y="1961"/>
                  </a:lnTo>
                  <a:lnTo>
                    <a:pt x="752" y="1956"/>
                  </a:lnTo>
                  <a:lnTo>
                    <a:pt x="725" y="1951"/>
                  </a:lnTo>
                  <a:lnTo>
                    <a:pt x="698" y="1940"/>
                  </a:lnTo>
                  <a:lnTo>
                    <a:pt x="671" y="1934"/>
                  </a:lnTo>
                  <a:lnTo>
                    <a:pt x="649" y="1924"/>
                  </a:lnTo>
                  <a:lnTo>
                    <a:pt x="622" y="1913"/>
                  </a:lnTo>
                  <a:lnTo>
                    <a:pt x="595" y="1902"/>
                  </a:lnTo>
                  <a:lnTo>
                    <a:pt x="568" y="1891"/>
                  </a:lnTo>
                  <a:lnTo>
                    <a:pt x="547" y="1881"/>
                  </a:lnTo>
                  <a:lnTo>
                    <a:pt x="525" y="1864"/>
                  </a:lnTo>
                  <a:lnTo>
                    <a:pt x="502" y="1854"/>
                  </a:lnTo>
                  <a:lnTo>
                    <a:pt x="481" y="1843"/>
                  </a:lnTo>
                  <a:lnTo>
                    <a:pt x="454" y="1827"/>
                  </a:lnTo>
                  <a:lnTo>
                    <a:pt x="432" y="1811"/>
                  </a:lnTo>
                  <a:lnTo>
                    <a:pt x="410" y="1800"/>
                  </a:lnTo>
                  <a:lnTo>
                    <a:pt x="389" y="1784"/>
                  </a:lnTo>
                  <a:lnTo>
                    <a:pt x="367" y="1767"/>
                  </a:lnTo>
                  <a:lnTo>
                    <a:pt x="351" y="1751"/>
                  </a:lnTo>
                  <a:lnTo>
                    <a:pt x="329" y="1730"/>
                  </a:lnTo>
                  <a:lnTo>
                    <a:pt x="308" y="1714"/>
                  </a:lnTo>
                  <a:lnTo>
                    <a:pt x="292" y="1692"/>
                  </a:lnTo>
                  <a:lnTo>
                    <a:pt x="270" y="1676"/>
                  </a:lnTo>
                  <a:lnTo>
                    <a:pt x="254" y="1654"/>
                  </a:lnTo>
                  <a:lnTo>
                    <a:pt x="237" y="1638"/>
                  </a:lnTo>
                  <a:lnTo>
                    <a:pt x="221" y="1617"/>
                  </a:lnTo>
                  <a:lnTo>
                    <a:pt x="205" y="1595"/>
                  </a:lnTo>
                  <a:lnTo>
                    <a:pt x="189" y="1574"/>
                  </a:lnTo>
                  <a:lnTo>
                    <a:pt x="173" y="1552"/>
                  </a:lnTo>
                  <a:lnTo>
                    <a:pt x="162" y="1530"/>
                  </a:lnTo>
                  <a:lnTo>
                    <a:pt x="146" y="1509"/>
                  </a:lnTo>
                  <a:lnTo>
                    <a:pt x="135" y="1487"/>
                  </a:lnTo>
                  <a:lnTo>
                    <a:pt x="118" y="1466"/>
                  </a:lnTo>
                  <a:lnTo>
                    <a:pt x="108" y="1444"/>
                  </a:lnTo>
                  <a:lnTo>
                    <a:pt x="91" y="1417"/>
                  </a:lnTo>
                  <a:lnTo>
                    <a:pt x="81" y="1390"/>
                  </a:lnTo>
                  <a:lnTo>
                    <a:pt x="75" y="1369"/>
                  </a:lnTo>
                  <a:lnTo>
                    <a:pt x="64" y="1342"/>
                  </a:lnTo>
                  <a:lnTo>
                    <a:pt x="54" y="1320"/>
                  </a:lnTo>
                  <a:lnTo>
                    <a:pt x="48" y="1293"/>
                  </a:lnTo>
                  <a:lnTo>
                    <a:pt x="37" y="1272"/>
                  </a:lnTo>
                  <a:lnTo>
                    <a:pt x="32" y="1240"/>
                  </a:lnTo>
                  <a:lnTo>
                    <a:pt x="27" y="1213"/>
                  </a:lnTo>
                  <a:lnTo>
                    <a:pt x="21" y="1191"/>
                  </a:lnTo>
                  <a:lnTo>
                    <a:pt x="16" y="1164"/>
                  </a:lnTo>
                  <a:lnTo>
                    <a:pt x="10" y="1137"/>
                  </a:lnTo>
                  <a:lnTo>
                    <a:pt x="10" y="1110"/>
                  </a:lnTo>
                  <a:lnTo>
                    <a:pt x="5" y="1078"/>
                  </a:lnTo>
                  <a:lnTo>
                    <a:pt x="5" y="1051"/>
                  </a:lnTo>
                  <a:lnTo>
                    <a:pt x="5" y="1024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1435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6000" y="2773440"/>
              <a:ext cx="724320" cy="700560"/>
            </a:xfrm>
            <a:custGeom>
              <a:avLst/>
              <a:gdLst/>
              <a:ahLst/>
              <a:rect l="0" t="0" r="r" b="b"/>
              <a:pathLst>
                <a:path w="2012" h="1946">
                  <a:moveTo>
                    <a:pt x="0" y="970"/>
                  </a:moveTo>
                  <a:lnTo>
                    <a:pt x="0" y="943"/>
                  </a:lnTo>
                  <a:lnTo>
                    <a:pt x="5" y="911"/>
                  </a:lnTo>
                  <a:lnTo>
                    <a:pt x="5" y="884"/>
                  </a:lnTo>
                  <a:lnTo>
                    <a:pt x="10" y="857"/>
                  </a:lnTo>
                  <a:lnTo>
                    <a:pt x="10" y="830"/>
                  </a:lnTo>
                  <a:lnTo>
                    <a:pt x="16" y="803"/>
                  </a:lnTo>
                  <a:lnTo>
                    <a:pt x="21" y="776"/>
                  </a:lnTo>
                  <a:lnTo>
                    <a:pt x="27" y="749"/>
                  </a:lnTo>
                  <a:lnTo>
                    <a:pt x="32" y="722"/>
                  </a:lnTo>
                  <a:lnTo>
                    <a:pt x="43" y="695"/>
                  </a:lnTo>
                  <a:lnTo>
                    <a:pt x="48" y="674"/>
                  </a:lnTo>
                  <a:lnTo>
                    <a:pt x="54" y="647"/>
                  </a:lnTo>
                  <a:lnTo>
                    <a:pt x="64" y="620"/>
                  </a:lnTo>
                  <a:lnTo>
                    <a:pt x="75" y="598"/>
                  </a:lnTo>
                  <a:lnTo>
                    <a:pt x="86" y="572"/>
                  </a:lnTo>
                  <a:lnTo>
                    <a:pt x="97" y="545"/>
                  </a:lnTo>
                  <a:lnTo>
                    <a:pt x="113" y="523"/>
                  </a:lnTo>
                  <a:lnTo>
                    <a:pt x="124" y="501"/>
                  </a:lnTo>
                  <a:lnTo>
                    <a:pt x="135" y="479"/>
                  </a:lnTo>
                  <a:lnTo>
                    <a:pt x="151" y="452"/>
                  </a:lnTo>
                  <a:lnTo>
                    <a:pt x="167" y="430"/>
                  </a:lnTo>
                  <a:lnTo>
                    <a:pt x="178" y="409"/>
                  </a:lnTo>
                  <a:lnTo>
                    <a:pt x="194" y="387"/>
                  </a:lnTo>
                  <a:lnTo>
                    <a:pt x="210" y="366"/>
                  </a:lnTo>
                  <a:lnTo>
                    <a:pt x="227" y="350"/>
                  </a:lnTo>
                  <a:lnTo>
                    <a:pt x="248" y="328"/>
                  </a:lnTo>
                  <a:lnTo>
                    <a:pt x="264" y="307"/>
                  </a:lnTo>
                  <a:lnTo>
                    <a:pt x="286" y="290"/>
                  </a:lnTo>
                  <a:lnTo>
                    <a:pt x="302" y="274"/>
                  </a:lnTo>
                  <a:lnTo>
                    <a:pt x="324" y="253"/>
                  </a:lnTo>
                  <a:lnTo>
                    <a:pt x="340" y="237"/>
                  </a:lnTo>
                  <a:lnTo>
                    <a:pt x="362" y="220"/>
                  </a:lnTo>
                  <a:lnTo>
                    <a:pt x="383" y="204"/>
                  </a:lnTo>
                  <a:lnTo>
                    <a:pt x="405" y="188"/>
                  </a:lnTo>
                  <a:lnTo>
                    <a:pt x="427" y="172"/>
                  </a:lnTo>
                  <a:lnTo>
                    <a:pt x="448" y="161"/>
                  </a:lnTo>
                  <a:lnTo>
                    <a:pt x="475" y="145"/>
                  </a:lnTo>
                  <a:lnTo>
                    <a:pt x="497" y="129"/>
                  </a:lnTo>
                  <a:lnTo>
                    <a:pt x="519" y="118"/>
                  </a:lnTo>
                  <a:lnTo>
                    <a:pt x="541" y="107"/>
                  </a:lnTo>
                  <a:lnTo>
                    <a:pt x="568" y="91"/>
                  </a:lnTo>
                  <a:lnTo>
                    <a:pt x="590" y="80"/>
                  </a:lnTo>
                  <a:lnTo>
                    <a:pt x="622" y="75"/>
                  </a:lnTo>
                  <a:lnTo>
                    <a:pt x="644" y="64"/>
                  </a:lnTo>
                  <a:lnTo>
                    <a:pt x="671" y="53"/>
                  </a:lnTo>
                  <a:lnTo>
                    <a:pt x="698" y="43"/>
                  </a:lnTo>
                  <a:lnTo>
                    <a:pt x="725" y="37"/>
                  </a:lnTo>
                  <a:lnTo>
                    <a:pt x="746" y="32"/>
                  </a:lnTo>
                  <a:lnTo>
                    <a:pt x="779" y="26"/>
                  </a:lnTo>
                  <a:lnTo>
                    <a:pt x="806" y="16"/>
                  </a:lnTo>
                  <a:lnTo>
                    <a:pt x="833" y="16"/>
                  </a:lnTo>
                  <a:lnTo>
                    <a:pt x="860" y="10"/>
                  </a:lnTo>
                  <a:lnTo>
                    <a:pt x="887" y="5"/>
                  </a:lnTo>
                  <a:lnTo>
                    <a:pt x="919" y="5"/>
                  </a:lnTo>
                  <a:lnTo>
                    <a:pt x="946" y="0"/>
                  </a:lnTo>
                  <a:lnTo>
                    <a:pt x="979" y="0"/>
                  </a:lnTo>
                  <a:lnTo>
                    <a:pt x="1006" y="0"/>
                  </a:lnTo>
                  <a:lnTo>
                    <a:pt x="1033" y="0"/>
                  </a:lnTo>
                  <a:lnTo>
                    <a:pt x="1065" y="0"/>
                  </a:lnTo>
                  <a:lnTo>
                    <a:pt x="1092" y="5"/>
                  </a:lnTo>
                  <a:lnTo>
                    <a:pt x="1119" y="5"/>
                  </a:lnTo>
                  <a:lnTo>
                    <a:pt x="1152" y="10"/>
                  </a:lnTo>
                  <a:lnTo>
                    <a:pt x="1179" y="16"/>
                  </a:lnTo>
                  <a:lnTo>
                    <a:pt x="1206" y="16"/>
                  </a:lnTo>
                  <a:lnTo>
                    <a:pt x="1233" y="26"/>
                  </a:lnTo>
                  <a:lnTo>
                    <a:pt x="1260" y="32"/>
                  </a:lnTo>
                  <a:lnTo>
                    <a:pt x="1287" y="37"/>
                  </a:lnTo>
                  <a:lnTo>
                    <a:pt x="1314" y="43"/>
                  </a:lnTo>
                  <a:lnTo>
                    <a:pt x="1341" y="53"/>
                  </a:lnTo>
                  <a:lnTo>
                    <a:pt x="1368" y="64"/>
                  </a:lnTo>
                  <a:lnTo>
                    <a:pt x="1390" y="75"/>
                  </a:lnTo>
                  <a:lnTo>
                    <a:pt x="1417" y="80"/>
                  </a:lnTo>
                  <a:lnTo>
                    <a:pt x="1444" y="91"/>
                  </a:lnTo>
                  <a:lnTo>
                    <a:pt x="1465" y="107"/>
                  </a:lnTo>
                  <a:lnTo>
                    <a:pt x="1492" y="118"/>
                  </a:lnTo>
                  <a:lnTo>
                    <a:pt x="1515" y="129"/>
                  </a:lnTo>
                  <a:lnTo>
                    <a:pt x="1542" y="145"/>
                  </a:lnTo>
                  <a:lnTo>
                    <a:pt x="1564" y="161"/>
                  </a:lnTo>
                  <a:lnTo>
                    <a:pt x="1585" y="172"/>
                  </a:lnTo>
                  <a:lnTo>
                    <a:pt x="1607" y="188"/>
                  </a:lnTo>
                  <a:lnTo>
                    <a:pt x="1629" y="204"/>
                  </a:lnTo>
                  <a:lnTo>
                    <a:pt x="1645" y="220"/>
                  </a:lnTo>
                  <a:lnTo>
                    <a:pt x="1672" y="237"/>
                  </a:lnTo>
                  <a:lnTo>
                    <a:pt x="1688" y="253"/>
                  </a:lnTo>
                  <a:lnTo>
                    <a:pt x="1710" y="274"/>
                  </a:lnTo>
                  <a:lnTo>
                    <a:pt x="1726" y="290"/>
                  </a:lnTo>
                  <a:lnTo>
                    <a:pt x="1747" y="307"/>
                  </a:lnTo>
                  <a:lnTo>
                    <a:pt x="1764" y="328"/>
                  </a:lnTo>
                  <a:lnTo>
                    <a:pt x="1780" y="350"/>
                  </a:lnTo>
                  <a:lnTo>
                    <a:pt x="1796" y="366"/>
                  </a:lnTo>
                  <a:lnTo>
                    <a:pt x="1812" y="387"/>
                  </a:lnTo>
                  <a:lnTo>
                    <a:pt x="1834" y="409"/>
                  </a:lnTo>
                  <a:lnTo>
                    <a:pt x="1845" y="430"/>
                  </a:lnTo>
                  <a:lnTo>
                    <a:pt x="1861" y="452"/>
                  </a:lnTo>
                  <a:lnTo>
                    <a:pt x="1872" y="479"/>
                  </a:lnTo>
                  <a:lnTo>
                    <a:pt x="1888" y="501"/>
                  </a:lnTo>
                  <a:lnTo>
                    <a:pt x="1899" y="523"/>
                  </a:lnTo>
                  <a:lnTo>
                    <a:pt x="1910" y="545"/>
                  </a:lnTo>
                  <a:lnTo>
                    <a:pt x="1926" y="572"/>
                  </a:lnTo>
                  <a:lnTo>
                    <a:pt x="1937" y="598"/>
                  </a:lnTo>
                  <a:lnTo>
                    <a:pt x="1942" y="620"/>
                  </a:lnTo>
                  <a:lnTo>
                    <a:pt x="1953" y="647"/>
                  </a:lnTo>
                  <a:lnTo>
                    <a:pt x="1964" y="674"/>
                  </a:lnTo>
                  <a:lnTo>
                    <a:pt x="1969" y="695"/>
                  </a:lnTo>
                  <a:lnTo>
                    <a:pt x="1974" y="722"/>
                  </a:lnTo>
                  <a:lnTo>
                    <a:pt x="1985" y="749"/>
                  </a:lnTo>
                  <a:lnTo>
                    <a:pt x="1991" y="776"/>
                  </a:lnTo>
                  <a:lnTo>
                    <a:pt x="1996" y="803"/>
                  </a:lnTo>
                  <a:lnTo>
                    <a:pt x="2002" y="830"/>
                  </a:lnTo>
                  <a:lnTo>
                    <a:pt x="2002" y="857"/>
                  </a:lnTo>
                  <a:lnTo>
                    <a:pt x="2007" y="884"/>
                  </a:lnTo>
                  <a:lnTo>
                    <a:pt x="2012" y="911"/>
                  </a:lnTo>
                  <a:lnTo>
                    <a:pt x="2012" y="943"/>
                  </a:lnTo>
                  <a:lnTo>
                    <a:pt x="2012" y="970"/>
                  </a:lnTo>
                  <a:lnTo>
                    <a:pt x="2012" y="1002"/>
                  </a:lnTo>
                  <a:lnTo>
                    <a:pt x="2012" y="1029"/>
                  </a:lnTo>
                  <a:lnTo>
                    <a:pt x="2007" y="1056"/>
                  </a:lnTo>
                  <a:lnTo>
                    <a:pt x="2002" y="1083"/>
                  </a:lnTo>
                  <a:lnTo>
                    <a:pt x="2002" y="1116"/>
                  </a:lnTo>
                  <a:lnTo>
                    <a:pt x="1996" y="1143"/>
                  </a:lnTo>
                  <a:lnTo>
                    <a:pt x="1991" y="1169"/>
                  </a:lnTo>
                  <a:lnTo>
                    <a:pt x="1985" y="1191"/>
                  </a:lnTo>
                  <a:lnTo>
                    <a:pt x="1974" y="1218"/>
                  </a:lnTo>
                  <a:lnTo>
                    <a:pt x="1969" y="1250"/>
                  </a:lnTo>
                  <a:lnTo>
                    <a:pt x="1964" y="1272"/>
                  </a:lnTo>
                  <a:lnTo>
                    <a:pt x="1953" y="1299"/>
                  </a:lnTo>
                  <a:lnTo>
                    <a:pt x="1942" y="1326"/>
                  </a:lnTo>
                  <a:lnTo>
                    <a:pt x="1937" y="1347"/>
                  </a:lnTo>
                  <a:lnTo>
                    <a:pt x="1926" y="1374"/>
                  </a:lnTo>
                  <a:lnTo>
                    <a:pt x="1910" y="1396"/>
                  </a:lnTo>
                  <a:lnTo>
                    <a:pt x="1899" y="1423"/>
                  </a:lnTo>
                  <a:lnTo>
                    <a:pt x="1888" y="1444"/>
                  </a:lnTo>
                  <a:lnTo>
                    <a:pt x="1872" y="1467"/>
                  </a:lnTo>
                  <a:lnTo>
                    <a:pt x="1861" y="1488"/>
                  </a:lnTo>
                  <a:lnTo>
                    <a:pt x="1845" y="1510"/>
                  </a:lnTo>
                  <a:lnTo>
                    <a:pt x="1834" y="1531"/>
                  </a:lnTo>
                  <a:lnTo>
                    <a:pt x="1812" y="1553"/>
                  </a:lnTo>
                  <a:lnTo>
                    <a:pt x="1796" y="1574"/>
                  </a:lnTo>
                  <a:lnTo>
                    <a:pt x="1780" y="1596"/>
                  </a:lnTo>
                  <a:lnTo>
                    <a:pt x="1764" y="1618"/>
                  </a:lnTo>
                  <a:lnTo>
                    <a:pt x="1747" y="1634"/>
                  </a:lnTo>
                  <a:lnTo>
                    <a:pt x="1726" y="1655"/>
                  </a:lnTo>
                  <a:lnTo>
                    <a:pt x="1710" y="1671"/>
                  </a:lnTo>
                  <a:lnTo>
                    <a:pt x="1688" y="1688"/>
                  </a:lnTo>
                  <a:lnTo>
                    <a:pt x="1672" y="1709"/>
                  </a:lnTo>
                  <a:lnTo>
                    <a:pt x="1645" y="1725"/>
                  </a:lnTo>
                  <a:lnTo>
                    <a:pt x="1629" y="1741"/>
                  </a:lnTo>
                  <a:lnTo>
                    <a:pt x="1607" y="1758"/>
                  </a:lnTo>
                  <a:lnTo>
                    <a:pt x="1585" y="1774"/>
                  </a:lnTo>
                  <a:lnTo>
                    <a:pt x="1564" y="1790"/>
                  </a:lnTo>
                  <a:lnTo>
                    <a:pt x="1542" y="1801"/>
                  </a:lnTo>
                  <a:lnTo>
                    <a:pt x="1515" y="1812"/>
                  </a:lnTo>
                  <a:lnTo>
                    <a:pt x="1492" y="1828"/>
                  </a:lnTo>
                  <a:lnTo>
                    <a:pt x="1465" y="1838"/>
                  </a:lnTo>
                  <a:lnTo>
                    <a:pt x="1444" y="1849"/>
                  </a:lnTo>
                  <a:lnTo>
                    <a:pt x="1417" y="1860"/>
                  </a:lnTo>
                  <a:lnTo>
                    <a:pt x="1390" y="1871"/>
                  </a:lnTo>
                  <a:lnTo>
                    <a:pt x="1368" y="1882"/>
                  </a:lnTo>
                  <a:lnTo>
                    <a:pt x="1341" y="1892"/>
                  </a:lnTo>
                  <a:lnTo>
                    <a:pt x="1314" y="1903"/>
                  </a:lnTo>
                  <a:lnTo>
                    <a:pt x="1287" y="1908"/>
                  </a:lnTo>
                  <a:lnTo>
                    <a:pt x="1260" y="1919"/>
                  </a:lnTo>
                  <a:lnTo>
                    <a:pt x="1233" y="1925"/>
                  </a:lnTo>
                  <a:lnTo>
                    <a:pt x="1206" y="1930"/>
                  </a:lnTo>
                  <a:lnTo>
                    <a:pt x="1179" y="1935"/>
                  </a:lnTo>
                  <a:lnTo>
                    <a:pt x="1152" y="1941"/>
                  </a:lnTo>
                  <a:lnTo>
                    <a:pt x="1119" y="1941"/>
                  </a:lnTo>
                  <a:lnTo>
                    <a:pt x="1092" y="1941"/>
                  </a:lnTo>
                  <a:lnTo>
                    <a:pt x="1065" y="1946"/>
                  </a:lnTo>
                  <a:lnTo>
                    <a:pt x="1033" y="1946"/>
                  </a:lnTo>
                  <a:lnTo>
                    <a:pt x="1006" y="1946"/>
                  </a:lnTo>
                  <a:lnTo>
                    <a:pt x="979" y="1946"/>
                  </a:lnTo>
                  <a:lnTo>
                    <a:pt x="946" y="1946"/>
                  </a:lnTo>
                  <a:lnTo>
                    <a:pt x="919" y="1941"/>
                  </a:lnTo>
                  <a:lnTo>
                    <a:pt x="887" y="1941"/>
                  </a:lnTo>
                  <a:lnTo>
                    <a:pt x="860" y="1941"/>
                  </a:lnTo>
                  <a:lnTo>
                    <a:pt x="833" y="1935"/>
                  </a:lnTo>
                  <a:lnTo>
                    <a:pt x="806" y="1930"/>
                  </a:lnTo>
                  <a:lnTo>
                    <a:pt x="779" y="1925"/>
                  </a:lnTo>
                  <a:lnTo>
                    <a:pt x="746" y="1919"/>
                  </a:lnTo>
                  <a:lnTo>
                    <a:pt x="725" y="1908"/>
                  </a:lnTo>
                  <a:lnTo>
                    <a:pt x="698" y="1903"/>
                  </a:lnTo>
                  <a:lnTo>
                    <a:pt x="671" y="1892"/>
                  </a:lnTo>
                  <a:lnTo>
                    <a:pt x="644" y="1882"/>
                  </a:lnTo>
                  <a:lnTo>
                    <a:pt x="622" y="1871"/>
                  </a:lnTo>
                  <a:lnTo>
                    <a:pt x="590" y="1860"/>
                  </a:lnTo>
                  <a:lnTo>
                    <a:pt x="568" y="1849"/>
                  </a:lnTo>
                  <a:lnTo>
                    <a:pt x="541" y="1838"/>
                  </a:lnTo>
                  <a:lnTo>
                    <a:pt x="519" y="1828"/>
                  </a:lnTo>
                  <a:lnTo>
                    <a:pt x="497" y="1812"/>
                  </a:lnTo>
                  <a:lnTo>
                    <a:pt x="475" y="1801"/>
                  </a:lnTo>
                  <a:lnTo>
                    <a:pt x="448" y="1790"/>
                  </a:lnTo>
                  <a:lnTo>
                    <a:pt x="427" y="1774"/>
                  </a:lnTo>
                  <a:lnTo>
                    <a:pt x="405" y="1758"/>
                  </a:lnTo>
                  <a:lnTo>
                    <a:pt x="383" y="1741"/>
                  </a:lnTo>
                  <a:lnTo>
                    <a:pt x="362" y="1725"/>
                  </a:lnTo>
                  <a:lnTo>
                    <a:pt x="340" y="1709"/>
                  </a:lnTo>
                  <a:lnTo>
                    <a:pt x="324" y="1688"/>
                  </a:lnTo>
                  <a:lnTo>
                    <a:pt x="302" y="1671"/>
                  </a:lnTo>
                  <a:lnTo>
                    <a:pt x="286" y="1655"/>
                  </a:lnTo>
                  <a:lnTo>
                    <a:pt x="264" y="1634"/>
                  </a:lnTo>
                  <a:lnTo>
                    <a:pt x="248" y="1618"/>
                  </a:lnTo>
                  <a:lnTo>
                    <a:pt x="227" y="1596"/>
                  </a:lnTo>
                  <a:lnTo>
                    <a:pt x="210" y="1574"/>
                  </a:lnTo>
                  <a:lnTo>
                    <a:pt x="194" y="1553"/>
                  </a:lnTo>
                  <a:lnTo>
                    <a:pt x="178" y="1531"/>
                  </a:lnTo>
                  <a:lnTo>
                    <a:pt x="167" y="1510"/>
                  </a:lnTo>
                  <a:lnTo>
                    <a:pt x="151" y="1488"/>
                  </a:lnTo>
                  <a:lnTo>
                    <a:pt x="135" y="1467"/>
                  </a:lnTo>
                  <a:lnTo>
                    <a:pt x="124" y="1444"/>
                  </a:lnTo>
                  <a:lnTo>
                    <a:pt x="113" y="1423"/>
                  </a:lnTo>
                  <a:lnTo>
                    <a:pt x="97" y="1396"/>
                  </a:lnTo>
                  <a:lnTo>
                    <a:pt x="86" y="1374"/>
                  </a:lnTo>
                  <a:lnTo>
                    <a:pt x="75" y="1347"/>
                  </a:lnTo>
                  <a:lnTo>
                    <a:pt x="64" y="1326"/>
                  </a:lnTo>
                  <a:lnTo>
                    <a:pt x="54" y="1299"/>
                  </a:lnTo>
                  <a:lnTo>
                    <a:pt x="48" y="1272"/>
                  </a:lnTo>
                  <a:lnTo>
                    <a:pt x="43" y="1250"/>
                  </a:lnTo>
                  <a:lnTo>
                    <a:pt x="32" y="1218"/>
                  </a:lnTo>
                  <a:lnTo>
                    <a:pt x="27" y="1191"/>
                  </a:lnTo>
                  <a:lnTo>
                    <a:pt x="21" y="1169"/>
                  </a:lnTo>
                  <a:lnTo>
                    <a:pt x="16" y="1143"/>
                  </a:lnTo>
                  <a:lnTo>
                    <a:pt x="10" y="1116"/>
                  </a:lnTo>
                  <a:lnTo>
                    <a:pt x="10" y="1083"/>
                  </a:lnTo>
                  <a:lnTo>
                    <a:pt x="5" y="1056"/>
                  </a:lnTo>
                  <a:lnTo>
                    <a:pt x="5" y="1029"/>
                  </a:lnTo>
                  <a:lnTo>
                    <a:pt x="0" y="1002"/>
                  </a:lnTo>
                  <a:lnTo>
                    <a:pt x="0" y="970"/>
                  </a:lnTo>
                  <a:close/>
                </a:path>
              </a:pathLst>
            </a:custGeom>
            <a:solidFill>
              <a:srgbClr val="16388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5360" y="2778120"/>
              <a:ext cx="703800" cy="686160"/>
            </a:xfrm>
            <a:custGeom>
              <a:avLst/>
              <a:gdLst/>
              <a:ahLst/>
              <a:rect l="0" t="0" r="r" b="b"/>
              <a:pathLst>
                <a:path w="1955" h="1906">
                  <a:moveTo>
                    <a:pt x="0" y="950"/>
                  </a:moveTo>
                  <a:lnTo>
                    <a:pt x="0" y="923"/>
                  </a:lnTo>
                  <a:lnTo>
                    <a:pt x="0" y="891"/>
                  </a:lnTo>
                  <a:lnTo>
                    <a:pt x="5" y="864"/>
                  </a:lnTo>
                  <a:lnTo>
                    <a:pt x="5" y="837"/>
                  </a:lnTo>
                  <a:lnTo>
                    <a:pt x="10" y="810"/>
                  </a:lnTo>
                  <a:lnTo>
                    <a:pt x="16" y="783"/>
                  </a:lnTo>
                  <a:lnTo>
                    <a:pt x="21" y="756"/>
                  </a:lnTo>
                  <a:lnTo>
                    <a:pt x="26" y="729"/>
                  </a:lnTo>
                  <a:lnTo>
                    <a:pt x="32" y="702"/>
                  </a:lnTo>
                  <a:lnTo>
                    <a:pt x="37" y="675"/>
                  </a:lnTo>
                  <a:lnTo>
                    <a:pt x="48" y="648"/>
                  </a:lnTo>
                  <a:lnTo>
                    <a:pt x="53" y="627"/>
                  </a:lnTo>
                  <a:lnTo>
                    <a:pt x="64" y="600"/>
                  </a:lnTo>
                  <a:lnTo>
                    <a:pt x="75" y="573"/>
                  </a:lnTo>
                  <a:lnTo>
                    <a:pt x="91" y="551"/>
                  </a:lnTo>
                  <a:lnTo>
                    <a:pt x="102" y="529"/>
                  </a:lnTo>
                  <a:lnTo>
                    <a:pt x="113" y="502"/>
                  </a:lnTo>
                  <a:lnTo>
                    <a:pt x="124" y="481"/>
                  </a:lnTo>
                  <a:lnTo>
                    <a:pt x="140" y="458"/>
                  </a:lnTo>
                  <a:lnTo>
                    <a:pt x="151" y="437"/>
                  </a:lnTo>
                  <a:lnTo>
                    <a:pt x="167" y="410"/>
                  </a:lnTo>
                  <a:lnTo>
                    <a:pt x="183" y="388"/>
                  </a:lnTo>
                  <a:lnTo>
                    <a:pt x="199" y="366"/>
                  </a:lnTo>
                  <a:lnTo>
                    <a:pt x="210" y="350"/>
                  </a:lnTo>
                  <a:lnTo>
                    <a:pt x="226" y="329"/>
                  </a:lnTo>
                  <a:lnTo>
                    <a:pt x="248" y="307"/>
                  </a:lnTo>
                  <a:lnTo>
                    <a:pt x="264" y="291"/>
                  </a:lnTo>
                  <a:lnTo>
                    <a:pt x="286" y="275"/>
                  </a:lnTo>
                  <a:lnTo>
                    <a:pt x="302" y="259"/>
                  </a:lnTo>
                  <a:lnTo>
                    <a:pt x="323" y="237"/>
                  </a:lnTo>
                  <a:lnTo>
                    <a:pt x="345" y="221"/>
                  </a:lnTo>
                  <a:lnTo>
                    <a:pt x="361" y="205"/>
                  </a:lnTo>
                  <a:lnTo>
                    <a:pt x="383" y="188"/>
                  </a:lnTo>
                  <a:lnTo>
                    <a:pt x="404" y="172"/>
                  </a:lnTo>
                  <a:lnTo>
                    <a:pt x="431" y="161"/>
                  </a:lnTo>
                  <a:lnTo>
                    <a:pt x="453" y="145"/>
                  </a:lnTo>
                  <a:lnTo>
                    <a:pt x="474" y="129"/>
                  </a:lnTo>
                  <a:lnTo>
                    <a:pt x="497" y="118"/>
                  </a:lnTo>
                  <a:lnTo>
                    <a:pt x="524" y="107"/>
                  </a:lnTo>
                  <a:lnTo>
                    <a:pt x="546" y="97"/>
                  </a:lnTo>
                  <a:lnTo>
                    <a:pt x="567" y="80"/>
                  </a:lnTo>
                  <a:lnTo>
                    <a:pt x="600" y="70"/>
                  </a:lnTo>
                  <a:lnTo>
                    <a:pt x="621" y="59"/>
                  </a:lnTo>
                  <a:lnTo>
                    <a:pt x="648" y="53"/>
                  </a:lnTo>
                  <a:lnTo>
                    <a:pt x="675" y="43"/>
                  </a:lnTo>
                  <a:lnTo>
                    <a:pt x="697" y="37"/>
                  </a:lnTo>
                  <a:lnTo>
                    <a:pt x="724" y="26"/>
                  </a:lnTo>
                  <a:lnTo>
                    <a:pt x="751" y="21"/>
                  </a:lnTo>
                  <a:lnTo>
                    <a:pt x="783" y="16"/>
                  </a:lnTo>
                  <a:lnTo>
                    <a:pt x="810" y="10"/>
                  </a:lnTo>
                  <a:lnTo>
                    <a:pt x="837" y="5"/>
                  </a:lnTo>
                  <a:lnTo>
                    <a:pt x="864" y="5"/>
                  </a:lnTo>
                  <a:lnTo>
                    <a:pt x="891" y="0"/>
                  </a:lnTo>
                  <a:lnTo>
                    <a:pt x="923" y="0"/>
                  </a:lnTo>
                  <a:lnTo>
                    <a:pt x="950" y="0"/>
                  </a:lnTo>
                  <a:lnTo>
                    <a:pt x="1010" y="0"/>
                  </a:lnTo>
                  <a:lnTo>
                    <a:pt x="1037" y="0"/>
                  </a:lnTo>
                  <a:lnTo>
                    <a:pt x="1064" y="0"/>
                  </a:lnTo>
                  <a:lnTo>
                    <a:pt x="1091" y="5"/>
                  </a:lnTo>
                  <a:lnTo>
                    <a:pt x="1123" y="5"/>
                  </a:lnTo>
                  <a:lnTo>
                    <a:pt x="1150" y="10"/>
                  </a:lnTo>
                  <a:lnTo>
                    <a:pt x="1177" y="16"/>
                  </a:lnTo>
                  <a:lnTo>
                    <a:pt x="1204" y="21"/>
                  </a:lnTo>
                  <a:lnTo>
                    <a:pt x="1231" y="26"/>
                  </a:lnTo>
                  <a:lnTo>
                    <a:pt x="1258" y="37"/>
                  </a:lnTo>
                  <a:lnTo>
                    <a:pt x="1285" y="43"/>
                  </a:lnTo>
                  <a:lnTo>
                    <a:pt x="1312" y="53"/>
                  </a:lnTo>
                  <a:lnTo>
                    <a:pt x="1339" y="59"/>
                  </a:lnTo>
                  <a:lnTo>
                    <a:pt x="1360" y="70"/>
                  </a:lnTo>
                  <a:lnTo>
                    <a:pt x="1387" y="80"/>
                  </a:lnTo>
                  <a:lnTo>
                    <a:pt x="1409" y="97"/>
                  </a:lnTo>
                  <a:lnTo>
                    <a:pt x="1436" y="107"/>
                  </a:lnTo>
                  <a:lnTo>
                    <a:pt x="1463" y="118"/>
                  </a:lnTo>
                  <a:lnTo>
                    <a:pt x="1486" y="129"/>
                  </a:lnTo>
                  <a:lnTo>
                    <a:pt x="1507" y="145"/>
                  </a:lnTo>
                  <a:lnTo>
                    <a:pt x="1529" y="161"/>
                  </a:lnTo>
                  <a:lnTo>
                    <a:pt x="1550" y="172"/>
                  </a:lnTo>
                  <a:lnTo>
                    <a:pt x="1572" y="188"/>
                  </a:lnTo>
                  <a:lnTo>
                    <a:pt x="1593" y="205"/>
                  </a:lnTo>
                  <a:lnTo>
                    <a:pt x="1615" y="221"/>
                  </a:lnTo>
                  <a:lnTo>
                    <a:pt x="1637" y="237"/>
                  </a:lnTo>
                  <a:lnTo>
                    <a:pt x="1658" y="259"/>
                  </a:lnTo>
                  <a:lnTo>
                    <a:pt x="1674" y="275"/>
                  </a:lnTo>
                  <a:lnTo>
                    <a:pt x="1691" y="291"/>
                  </a:lnTo>
                  <a:lnTo>
                    <a:pt x="1712" y="307"/>
                  </a:lnTo>
                  <a:lnTo>
                    <a:pt x="1728" y="329"/>
                  </a:lnTo>
                  <a:lnTo>
                    <a:pt x="1745" y="350"/>
                  </a:lnTo>
                  <a:lnTo>
                    <a:pt x="1761" y="366"/>
                  </a:lnTo>
                  <a:lnTo>
                    <a:pt x="1777" y="388"/>
                  </a:lnTo>
                  <a:lnTo>
                    <a:pt x="1793" y="410"/>
                  </a:lnTo>
                  <a:lnTo>
                    <a:pt x="1809" y="437"/>
                  </a:lnTo>
                  <a:lnTo>
                    <a:pt x="1820" y="458"/>
                  </a:lnTo>
                  <a:lnTo>
                    <a:pt x="1836" y="481"/>
                  </a:lnTo>
                  <a:lnTo>
                    <a:pt x="1847" y="502"/>
                  </a:lnTo>
                  <a:lnTo>
                    <a:pt x="1858" y="529"/>
                  </a:lnTo>
                  <a:lnTo>
                    <a:pt x="1869" y="551"/>
                  </a:lnTo>
                  <a:lnTo>
                    <a:pt x="1879" y="573"/>
                  </a:lnTo>
                  <a:lnTo>
                    <a:pt x="1890" y="600"/>
                  </a:lnTo>
                  <a:lnTo>
                    <a:pt x="1901" y="627"/>
                  </a:lnTo>
                  <a:lnTo>
                    <a:pt x="1912" y="648"/>
                  </a:lnTo>
                  <a:lnTo>
                    <a:pt x="1917" y="675"/>
                  </a:lnTo>
                  <a:lnTo>
                    <a:pt x="1923" y="702"/>
                  </a:lnTo>
                  <a:lnTo>
                    <a:pt x="1933" y="729"/>
                  </a:lnTo>
                  <a:lnTo>
                    <a:pt x="1933" y="756"/>
                  </a:lnTo>
                  <a:lnTo>
                    <a:pt x="1944" y="783"/>
                  </a:lnTo>
                  <a:lnTo>
                    <a:pt x="1944" y="810"/>
                  </a:lnTo>
                  <a:lnTo>
                    <a:pt x="1950" y="837"/>
                  </a:lnTo>
                  <a:lnTo>
                    <a:pt x="1955" y="864"/>
                  </a:lnTo>
                  <a:lnTo>
                    <a:pt x="1955" y="891"/>
                  </a:lnTo>
                  <a:lnTo>
                    <a:pt x="1955" y="923"/>
                  </a:lnTo>
                  <a:lnTo>
                    <a:pt x="1955" y="950"/>
                  </a:lnTo>
                  <a:lnTo>
                    <a:pt x="1955" y="977"/>
                  </a:lnTo>
                  <a:lnTo>
                    <a:pt x="1955" y="1004"/>
                  </a:lnTo>
                  <a:lnTo>
                    <a:pt x="1955" y="1031"/>
                  </a:lnTo>
                  <a:lnTo>
                    <a:pt x="1950" y="1058"/>
                  </a:lnTo>
                  <a:lnTo>
                    <a:pt x="1944" y="1091"/>
                  </a:lnTo>
                  <a:lnTo>
                    <a:pt x="1944" y="1118"/>
                  </a:lnTo>
                  <a:lnTo>
                    <a:pt x="1933" y="1145"/>
                  </a:lnTo>
                  <a:lnTo>
                    <a:pt x="1933" y="1172"/>
                  </a:lnTo>
                  <a:lnTo>
                    <a:pt x="1923" y="1199"/>
                  </a:lnTo>
                  <a:lnTo>
                    <a:pt x="1917" y="1220"/>
                  </a:lnTo>
                  <a:lnTo>
                    <a:pt x="1912" y="1253"/>
                  </a:lnTo>
                  <a:lnTo>
                    <a:pt x="1901" y="1274"/>
                  </a:lnTo>
                  <a:lnTo>
                    <a:pt x="1890" y="1301"/>
                  </a:lnTo>
                  <a:lnTo>
                    <a:pt x="1879" y="1323"/>
                  </a:lnTo>
                  <a:lnTo>
                    <a:pt x="1869" y="1350"/>
                  </a:lnTo>
                  <a:lnTo>
                    <a:pt x="1858" y="1371"/>
                  </a:lnTo>
                  <a:lnTo>
                    <a:pt x="1847" y="1398"/>
                  </a:lnTo>
                  <a:lnTo>
                    <a:pt x="1836" y="1420"/>
                  </a:lnTo>
                  <a:lnTo>
                    <a:pt x="1820" y="1442"/>
                  </a:lnTo>
                  <a:lnTo>
                    <a:pt x="1809" y="1464"/>
                  </a:lnTo>
                  <a:lnTo>
                    <a:pt x="1793" y="1486"/>
                  </a:lnTo>
                  <a:lnTo>
                    <a:pt x="1777" y="1507"/>
                  </a:lnTo>
                  <a:lnTo>
                    <a:pt x="1761" y="1529"/>
                  </a:lnTo>
                  <a:lnTo>
                    <a:pt x="1745" y="1550"/>
                  </a:lnTo>
                  <a:lnTo>
                    <a:pt x="1728" y="1572"/>
                  </a:lnTo>
                  <a:lnTo>
                    <a:pt x="1712" y="1588"/>
                  </a:lnTo>
                  <a:lnTo>
                    <a:pt x="1691" y="1610"/>
                  </a:lnTo>
                  <a:lnTo>
                    <a:pt x="1674" y="1626"/>
                  </a:lnTo>
                  <a:lnTo>
                    <a:pt x="1658" y="1647"/>
                  </a:lnTo>
                  <a:lnTo>
                    <a:pt x="1637" y="1664"/>
                  </a:lnTo>
                  <a:lnTo>
                    <a:pt x="1615" y="1680"/>
                  </a:lnTo>
                  <a:lnTo>
                    <a:pt x="1593" y="1696"/>
                  </a:lnTo>
                  <a:lnTo>
                    <a:pt x="1572" y="1712"/>
                  </a:lnTo>
                  <a:lnTo>
                    <a:pt x="1550" y="1728"/>
                  </a:lnTo>
                  <a:lnTo>
                    <a:pt x="1529" y="1745"/>
                  </a:lnTo>
                  <a:lnTo>
                    <a:pt x="1507" y="1755"/>
                  </a:lnTo>
                  <a:lnTo>
                    <a:pt x="1486" y="1772"/>
                  </a:lnTo>
                  <a:lnTo>
                    <a:pt x="1463" y="1782"/>
                  </a:lnTo>
                  <a:lnTo>
                    <a:pt x="1436" y="1799"/>
                  </a:lnTo>
                  <a:lnTo>
                    <a:pt x="1409" y="1809"/>
                  </a:lnTo>
                  <a:lnTo>
                    <a:pt x="1387" y="1820"/>
                  </a:lnTo>
                  <a:lnTo>
                    <a:pt x="1360" y="1831"/>
                  </a:lnTo>
                  <a:lnTo>
                    <a:pt x="1339" y="1836"/>
                  </a:lnTo>
                  <a:lnTo>
                    <a:pt x="1312" y="1847"/>
                  </a:lnTo>
                  <a:lnTo>
                    <a:pt x="1285" y="1858"/>
                  </a:lnTo>
                  <a:lnTo>
                    <a:pt x="1258" y="1863"/>
                  </a:lnTo>
                  <a:lnTo>
                    <a:pt x="1231" y="1869"/>
                  </a:lnTo>
                  <a:lnTo>
                    <a:pt x="1204" y="1874"/>
                  </a:lnTo>
                  <a:lnTo>
                    <a:pt x="1177" y="1885"/>
                  </a:lnTo>
                  <a:lnTo>
                    <a:pt x="1150" y="1890"/>
                  </a:lnTo>
                  <a:lnTo>
                    <a:pt x="1123" y="1896"/>
                  </a:lnTo>
                  <a:lnTo>
                    <a:pt x="1091" y="1901"/>
                  </a:lnTo>
                  <a:lnTo>
                    <a:pt x="1064" y="1901"/>
                  </a:lnTo>
                  <a:lnTo>
                    <a:pt x="1037" y="1901"/>
                  </a:lnTo>
                  <a:lnTo>
                    <a:pt x="1010" y="1906"/>
                  </a:lnTo>
                  <a:lnTo>
                    <a:pt x="983" y="1906"/>
                  </a:lnTo>
                  <a:lnTo>
                    <a:pt x="950" y="1906"/>
                  </a:lnTo>
                  <a:lnTo>
                    <a:pt x="923" y="1901"/>
                  </a:lnTo>
                  <a:lnTo>
                    <a:pt x="891" y="1901"/>
                  </a:lnTo>
                  <a:lnTo>
                    <a:pt x="864" y="1901"/>
                  </a:lnTo>
                  <a:lnTo>
                    <a:pt x="837" y="1896"/>
                  </a:lnTo>
                  <a:lnTo>
                    <a:pt x="810" y="1890"/>
                  </a:lnTo>
                  <a:lnTo>
                    <a:pt x="783" y="1885"/>
                  </a:lnTo>
                  <a:lnTo>
                    <a:pt x="751" y="1874"/>
                  </a:lnTo>
                  <a:lnTo>
                    <a:pt x="724" y="1869"/>
                  </a:lnTo>
                  <a:lnTo>
                    <a:pt x="697" y="1863"/>
                  </a:lnTo>
                  <a:lnTo>
                    <a:pt x="675" y="1858"/>
                  </a:lnTo>
                  <a:lnTo>
                    <a:pt x="648" y="1847"/>
                  </a:lnTo>
                  <a:lnTo>
                    <a:pt x="621" y="1836"/>
                  </a:lnTo>
                  <a:lnTo>
                    <a:pt x="600" y="1831"/>
                  </a:lnTo>
                  <a:lnTo>
                    <a:pt x="567" y="1820"/>
                  </a:lnTo>
                  <a:lnTo>
                    <a:pt x="546" y="1809"/>
                  </a:lnTo>
                  <a:lnTo>
                    <a:pt x="524" y="1799"/>
                  </a:lnTo>
                  <a:lnTo>
                    <a:pt x="497" y="1782"/>
                  </a:lnTo>
                  <a:lnTo>
                    <a:pt x="474" y="1772"/>
                  </a:lnTo>
                  <a:lnTo>
                    <a:pt x="453" y="1755"/>
                  </a:lnTo>
                  <a:lnTo>
                    <a:pt x="431" y="1745"/>
                  </a:lnTo>
                  <a:lnTo>
                    <a:pt x="404" y="1728"/>
                  </a:lnTo>
                  <a:lnTo>
                    <a:pt x="383" y="1712"/>
                  </a:lnTo>
                  <a:lnTo>
                    <a:pt x="361" y="1696"/>
                  </a:lnTo>
                  <a:lnTo>
                    <a:pt x="345" y="1680"/>
                  </a:lnTo>
                  <a:lnTo>
                    <a:pt x="323" y="1664"/>
                  </a:lnTo>
                  <a:lnTo>
                    <a:pt x="302" y="1647"/>
                  </a:lnTo>
                  <a:lnTo>
                    <a:pt x="286" y="1626"/>
                  </a:lnTo>
                  <a:lnTo>
                    <a:pt x="264" y="1610"/>
                  </a:lnTo>
                  <a:lnTo>
                    <a:pt x="248" y="1588"/>
                  </a:lnTo>
                  <a:lnTo>
                    <a:pt x="226" y="1572"/>
                  </a:lnTo>
                  <a:lnTo>
                    <a:pt x="210" y="1550"/>
                  </a:lnTo>
                  <a:lnTo>
                    <a:pt x="199" y="1529"/>
                  </a:lnTo>
                  <a:lnTo>
                    <a:pt x="183" y="1507"/>
                  </a:lnTo>
                  <a:lnTo>
                    <a:pt x="167" y="1486"/>
                  </a:lnTo>
                  <a:lnTo>
                    <a:pt x="151" y="1464"/>
                  </a:lnTo>
                  <a:lnTo>
                    <a:pt x="140" y="1442"/>
                  </a:lnTo>
                  <a:lnTo>
                    <a:pt x="124" y="1420"/>
                  </a:lnTo>
                  <a:lnTo>
                    <a:pt x="113" y="1398"/>
                  </a:lnTo>
                  <a:lnTo>
                    <a:pt x="102" y="1371"/>
                  </a:lnTo>
                  <a:lnTo>
                    <a:pt x="91" y="1350"/>
                  </a:lnTo>
                  <a:lnTo>
                    <a:pt x="75" y="1323"/>
                  </a:lnTo>
                  <a:lnTo>
                    <a:pt x="64" y="1301"/>
                  </a:lnTo>
                  <a:lnTo>
                    <a:pt x="53" y="1274"/>
                  </a:lnTo>
                  <a:lnTo>
                    <a:pt x="48" y="1253"/>
                  </a:lnTo>
                  <a:lnTo>
                    <a:pt x="37" y="1220"/>
                  </a:lnTo>
                  <a:lnTo>
                    <a:pt x="32" y="1199"/>
                  </a:lnTo>
                  <a:lnTo>
                    <a:pt x="26" y="1172"/>
                  </a:lnTo>
                  <a:lnTo>
                    <a:pt x="21" y="1145"/>
                  </a:lnTo>
                  <a:lnTo>
                    <a:pt x="16" y="1118"/>
                  </a:lnTo>
                  <a:lnTo>
                    <a:pt x="10" y="1091"/>
                  </a:lnTo>
                  <a:lnTo>
                    <a:pt x="5" y="1058"/>
                  </a:lnTo>
                  <a:lnTo>
                    <a:pt x="5" y="1031"/>
                  </a:lnTo>
                  <a:lnTo>
                    <a:pt x="0" y="1004"/>
                  </a:lnTo>
                  <a:lnTo>
                    <a:pt x="0" y="977"/>
                  </a:lnTo>
                  <a:lnTo>
                    <a:pt x="0" y="950"/>
                  </a:lnTo>
                  <a:close/>
                </a:path>
              </a:pathLst>
            </a:custGeom>
            <a:solidFill>
              <a:srgbClr val="1c3d8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6520" y="2782800"/>
              <a:ext cx="687600" cy="665640"/>
            </a:xfrm>
            <a:custGeom>
              <a:avLst/>
              <a:gdLst/>
              <a:ahLst/>
              <a:rect l="0" t="0" r="r" b="b"/>
              <a:pathLst>
                <a:path w="1910" h="1849">
                  <a:moveTo>
                    <a:pt x="0" y="924"/>
                  </a:moveTo>
                  <a:lnTo>
                    <a:pt x="0" y="897"/>
                  </a:lnTo>
                  <a:lnTo>
                    <a:pt x="0" y="865"/>
                  </a:lnTo>
                  <a:lnTo>
                    <a:pt x="5" y="844"/>
                  </a:lnTo>
                  <a:lnTo>
                    <a:pt x="5" y="812"/>
                  </a:lnTo>
                  <a:lnTo>
                    <a:pt x="10" y="785"/>
                  </a:lnTo>
                  <a:lnTo>
                    <a:pt x="10" y="763"/>
                  </a:lnTo>
                  <a:lnTo>
                    <a:pt x="21" y="736"/>
                  </a:lnTo>
                  <a:lnTo>
                    <a:pt x="27" y="704"/>
                  </a:lnTo>
                  <a:lnTo>
                    <a:pt x="32" y="683"/>
                  </a:lnTo>
                  <a:lnTo>
                    <a:pt x="37" y="656"/>
                  </a:lnTo>
                  <a:lnTo>
                    <a:pt x="48" y="629"/>
                  </a:lnTo>
                  <a:lnTo>
                    <a:pt x="59" y="607"/>
                  </a:lnTo>
                  <a:lnTo>
                    <a:pt x="70" y="581"/>
                  </a:lnTo>
                  <a:lnTo>
                    <a:pt x="75" y="554"/>
                  </a:lnTo>
                  <a:lnTo>
                    <a:pt x="86" y="532"/>
                  </a:lnTo>
                  <a:lnTo>
                    <a:pt x="102" y="505"/>
                  </a:lnTo>
                  <a:lnTo>
                    <a:pt x="113" y="484"/>
                  </a:lnTo>
                  <a:lnTo>
                    <a:pt x="124" y="461"/>
                  </a:lnTo>
                  <a:lnTo>
                    <a:pt x="140" y="440"/>
                  </a:lnTo>
                  <a:lnTo>
                    <a:pt x="151" y="418"/>
                  </a:lnTo>
                  <a:lnTo>
                    <a:pt x="167" y="392"/>
                  </a:lnTo>
                  <a:lnTo>
                    <a:pt x="183" y="370"/>
                  </a:lnTo>
                  <a:lnTo>
                    <a:pt x="194" y="354"/>
                  </a:lnTo>
                  <a:lnTo>
                    <a:pt x="216" y="333"/>
                  </a:lnTo>
                  <a:lnTo>
                    <a:pt x="232" y="316"/>
                  </a:lnTo>
                  <a:lnTo>
                    <a:pt x="248" y="295"/>
                  </a:lnTo>
                  <a:lnTo>
                    <a:pt x="270" y="279"/>
                  </a:lnTo>
                  <a:lnTo>
                    <a:pt x="286" y="257"/>
                  </a:lnTo>
                  <a:lnTo>
                    <a:pt x="308" y="241"/>
                  </a:lnTo>
                  <a:lnTo>
                    <a:pt x="324" y="225"/>
                  </a:lnTo>
                  <a:lnTo>
                    <a:pt x="346" y="209"/>
                  </a:lnTo>
                  <a:lnTo>
                    <a:pt x="367" y="193"/>
                  </a:lnTo>
                  <a:lnTo>
                    <a:pt x="389" y="177"/>
                  </a:lnTo>
                  <a:lnTo>
                    <a:pt x="411" y="161"/>
                  </a:lnTo>
                  <a:lnTo>
                    <a:pt x="432" y="150"/>
                  </a:lnTo>
                  <a:lnTo>
                    <a:pt x="454" y="134"/>
                  </a:lnTo>
                  <a:lnTo>
                    <a:pt x="481" y="123"/>
                  </a:lnTo>
                  <a:lnTo>
                    <a:pt x="503" y="112"/>
                  </a:lnTo>
                  <a:lnTo>
                    <a:pt x="524" y="96"/>
                  </a:lnTo>
                  <a:lnTo>
                    <a:pt x="551" y="85"/>
                  </a:lnTo>
                  <a:lnTo>
                    <a:pt x="573" y="75"/>
                  </a:lnTo>
                  <a:lnTo>
                    <a:pt x="600" y="64"/>
                  </a:lnTo>
                  <a:lnTo>
                    <a:pt x="627" y="53"/>
                  </a:lnTo>
                  <a:lnTo>
                    <a:pt x="649" y="48"/>
                  </a:lnTo>
                  <a:lnTo>
                    <a:pt x="676" y="37"/>
                  </a:lnTo>
                  <a:lnTo>
                    <a:pt x="703" y="32"/>
                  </a:lnTo>
                  <a:lnTo>
                    <a:pt x="730" y="26"/>
                  </a:lnTo>
                  <a:lnTo>
                    <a:pt x="757" y="21"/>
                  </a:lnTo>
                  <a:lnTo>
                    <a:pt x="789" y="16"/>
                  </a:lnTo>
                  <a:lnTo>
                    <a:pt x="816" y="10"/>
                  </a:lnTo>
                  <a:lnTo>
                    <a:pt x="843" y="5"/>
                  </a:lnTo>
                  <a:lnTo>
                    <a:pt x="870" y="5"/>
                  </a:lnTo>
                  <a:lnTo>
                    <a:pt x="897" y="0"/>
                  </a:lnTo>
                  <a:lnTo>
                    <a:pt x="930" y="0"/>
                  </a:lnTo>
                  <a:lnTo>
                    <a:pt x="985" y="0"/>
                  </a:lnTo>
                  <a:lnTo>
                    <a:pt x="1012" y="0"/>
                  </a:lnTo>
                  <a:lnTo>
                    <a:pt x="1039" y="5"/>
                  </a:lnTo>
                  <a:lnTo>
                    <a:pt x="1071" y="5"/>
                  </a:lnTo>
                  <a:lnTo>
                    <a:pt x="1099" y="10"/>
                  </a:lnTo>
                  <a:lnTo>
                    <a:pt x="1126" y="16"/>
                  </a:lnTo>
                  <a:lnTo>
                    <a:pt x="1153" y="21"/>
                  </a:lnTo>
                  <a:lnTo>
                    <a:pt x="1180" y="26"/>
                  </a:lnTo>
                  <a:lnTo>
                    <a:pt x="1207" y="32"/>
                  </a:lnTo>
                  <a:lnTo>
                    <a:pt x="1234" y="37"/>
                  </a:lnTo>
                  <a:lnTo>
                    <a:pt x="1261" y="48"/>
                  </a:lnTo>
                  <a:lnTo>
                    <a:pt x="1288" y="53"/>
                  </a:lnTo>
                  <a:lnTo>
                    <a:pt x="1315" y="64"/>
                  </a:lnTo>
                  <a:lnTo>
                    <a:pt x="1337" y="75"/>
                  </a:lnTo>
                  <a:lnTo>
                    <a:pt x="1364" y="85"/>
                  </a:lnTo>
                  <a:lnTo>
                    <a:pt x="1385" y="96"/>
                  </a:lnTo>
                  <a:lnTo>
                    <a:pt x="1407" y="112"/>
                  </a:lnTo>
                  <a:lnTo>
                    <a:pt x="1434" y="123"/>
                  </a:lnTo>
                  <a:lnTo>
                    <a:pt x="1456" y="134"/>
                  </a:lnTo>
                  <a:lnTo>
                    <a:pt x="1483" y="150"/>
                  </a:lnTo>
                  <a:lnTo>
                    <a:pt x="1504" y="161"/>
                  </a:lnTo>
                  <a:lnTo>
                    <a:pt x="1526" y="177"/>
                  </a:lnTo>
                  <a:lnTo>
                    <a:pt x="1547" y="193"/>
                  </a:lnTo>
                  <a:lnTo>
                    <a:pt x="1564" y="209"/>
                  </a:lnTo>
                  <a:lnTo>
                    <a:pt x="1585" y="225"/>
                  </a:lnTo>
                  <a:lnTo>
                    <a:pt x="1607" y="241"/>
                  </a:lnTo>
                  <a:lnTo>
                    <a:pt x="1629" y="257"/>
                  </a:lnTo>
                  <a:lnTo>
                    <a:pt x="1645" y="279"/>
                  </a:lnTo>
                  <a:lnTo>
                    <a:pt x="1661" y="295"/>
                  </a:lnTo>
                  <a:lnTo>
                    <a:pt x="1677" y="316"/>
                  </a:lnTo>
                  <a:lnTo>
                    <a:pt x="1699" y="333"/>
                  </a:lnTo>
                  <a:lnTo>
                    <a:pt x="1715" y="354"/>
                  </a:lnTo>
                  <a:lnTo>
                    <a:pt x="1731" y="370"/>
                  </a:lnTo>
                  <a:lnTo>
                    <a:pt x="1742" y="392"/>
                  </a:lnTo>
                  <a:lnTo>
                    <a:pt x="1758" y="418"/>
                  </a:lnTo>
                  <a:lnTo>
                    <a:pt x="1775" y="440"/>
                  </a:lnTo>
                  <a:lnTo>
                    <a:pt x="1791" y="461"/>
                  </a:lnTo>
                  <a:lnTo>
                    <a:pt x="1802" y="484"/>
                  </a:lnTo>
                  <a:lnTo>
                    <a:pt x="1813" y="505"/>
                  </a:lnTo>
                  <a:lnTo>
                    <a:pt x="1823" y="532"/>
                  </a:lnTo>
                  <a:lnTo>
                    <a:pt x="1834" y="554"/>
                  </a:lnTo>
                  <a:lnTo>
                    <a:pt x="1845" y="581"/>
                  </a:lnTo>
                  <a:lnTo>
                    <a:pt x="1856" y="607"/>
                  </a:lnTo>
                  <a:lnTo>
                    <a:pt x="1861" y="629"/>
                  </a:lnTo>
                  <a:lnTo>
                    <a:pt x="1872" y="656"/>
                  </a:lnTo>
                  <a:lnTo>
                    <a:pt x="1877" y="683"/>
                  </a:lnTo>
                  <a:lnTo>
                    <a:pt x="1888" y="704"/>
                  </a:lnTo>
                  <a:lnTo>
                    <a:pt x="1894" y="736"/>
                  </a:lnTo>
                  <a:lnTo>
                    <a:pt x="1899" y="763"/>
                  </a:lnTo>
                  <a:lnTo>
                    <a:pt x="1899" y="785"/>
                  </a:lnTo>
                  <a:lnTo>
                    <a:pt x="1904" y="812"/>
                  </a:lnTo>
                  <a:lnTo>
                    <a:pt x="1910" y="844"/>
                  </a:lnTo>
                  <a:lnTo>
                    <a:pt x="1910" y="865"/>
                  </a:lnTo>
                  <a:lnTo>
                    <a:pt x="1910" y="897"/>
                  </a:lnTo>
                  <a:lnTo>
                    <a:pt x="1910" y="924"/>
                  </a:lnTo>
                  <a:lnTo>
                    <a:pt x="1910" y="951"/>
                  </a:lnTo>
                  <a:lnTo>
                    <a:pt x="1910" y="983"/>
                  </a:lnTo>
                  <a:lnTo>
                    <a:pt x="1910" y="1010"/>
                  </a:lnTo>
                  <a:lnTo>
                    <a:pt x="1904" y="1037"/>
                  </a:lnTo>
                  <a:lnTo>
                    <a:pt x="1899" y="1064"/>
                  </a:lnTo>
                  <a:lnTo>
                    <a:pt x="1899" y="1091"/>
                  </a:lnTo>
                  <a:lnTo>
                    <a:pt x="1894" y="1118"/>
                  </a:lnTo>
                  <a:lnTo>
                    <a:pt x="1888" y="1145"/>
                  </a:lnTo>
                  <a:lnTo>
                    <a:pt x="1877" y="1166"/>
                  </a:lnTo>
                  <a:lnTo>
                    <a:pt x="1872" y="1193"/>
                  </a:lnTo>
                  <a:lnTo>
                    <a:pt x="1861" y="1220"/>
                  </a:lnTo>
                  <a:lnTo>
                    <a:pt x="1856" y="1247"/>
                  </a:lnTo>
                  <a:lnTo>
                    <a:pt x="1845" y="1273"/>
                  </a:lnTo>
                  <a:lnTo>
                    <a:pt x="1834" y="1295"/>
                  </a:lnTo>
                  <a:lnTo>
                    <a:pt x="1823" y="1316"/>
                  </a:lnTo>
                  <a:lnTo>
                    <a:pt x="1813" y="1343"/>
                  </a:lnTo>
                  <a:lnTo>
                    <a:pt x="1802" y="1365"/>
                  </a:lnTo>
                  <a:lnTo>
                    <a:pt x="1791" y="1393"/>
                  </a:lnTo>
                  <a:lnTo>
                    <a:pt x="1775" y="1414"/>
                  </a:lnTo>
                  <a:lnTo>
                    <a:pt x="1758" y="1436"/>
                  </a:lnTo>
                  <a:lnTo>
                    <a:pt x="1742" y="1457"/>
                  </a:lnTo>
                  <a:lnTo>
                    <a:pt x="1731" y="1473"/>
                  </a:lnTo>
                  <a:lnTo>
                    <a:pt x="1715" y="1495"/>
                  </a:lnTo>
                  <a:lnTo>
                    <a:pt x="1699" y="1516"/>
                  </a:lnTo>
                  <a:lnTo>
                    <a:pt x="1677" y="1532"/>
                  </a:lnTo>
                  <a:lnTo>
                    <a:pt x="1661" y="1559"/>
                  </a:lnTo>
                  <a:lnTo>
                    <a:pt x="1645" y="1575"/>
                  </a:lnTo>
                  <a:lnTo>
                    <a:pt x="1629" y="1591"/>
                  </a:lnTo>
                  <a:lnTo>
                    <a:pt x="1607" y="1613"/>
                  </a:lnTo>
                  <a:lnTo>
                    <a:pt x="1585" y="1629"/>
                  </a:lnTo>
                  <a:lnTo>
                    <a:pt x="1564" y="1645"/>
                  </a:lnTo>
                  <a:lnTo>
                    <a:pt x="1547" y="1661"/>
                  </a:lnTo>
                  <a:lnTo>
                    <a:pt x="1526" y="1677"/>
                  </a:lnTo>
                  <a:lnTo>
                    <a:pt x="1504" y="1688"/>
                  </a:lnTo>
                  <a:lnTo>
                    <a:pt x="1483" y="1704"/>
                  </a:lnTo>
                  <a:lnTo>
                    <a:pt x="1456" y="1720"/>
                  </a:lnTo>
                  <a:lnTo>
                    <a:pt x="1434" y="1731"/>
                  </a:lnTo>
                  <a:lnTo>
                    <a:pt x="1407" y="1742"/>
                  </a:lnTo>
                  <a:lnTo>
                    <a:pt x="1385" y="1758"/>
                  </a:lnTo>
                  <a:lnTo>
                    <a:pt x="1364" y="1769"/>
                  </a:lnTo>
                  <a:lnTo>
                    <a:pt x="1337" y="1779"/>
                  </a:lnTo>
                  <a:lnTo>
                    <a:pt x="1315" y="1790"/>
                  </a:lnTo>
                  <a:lnTo>
                    <a:pt x="1288" y="1795"/>
                  </a:lnTo>
                  <a:lnTo>
                    <a:pt x="1261" y="1806"/>
                  </a:lnTo>
                  <a:lnTo>
                    <a:pt x="1234" y="1812"/>
                  </a:lnTo>
                  <a:lnTo>
                    <a:pt x="1207" y="1817"/>
                  </a:lnTo>
                  <a:lnTo>
                    <a:pt x="1180" y="1828"/>
                  </a:lnTo>
                  <a:lnTo>
                    <a:pt x="1153" y="1833"/>
                  </a:lnTo>
                  <a:lnTo>
                    <a:pt x="1126" y="1838"/>
                  </a:lnTo>
                  <a:lnTo>
                    <a:pt x="1099" y="1838"/>
                  </a:lnTo>
                  <a:lnTo>
                    <a:pt x="1071" y="1844"/>
                  </a:lnTo>
                  <a:lnTo>
                    <a:pt x="1039" y="1849"/>
                  </a:lnTo>
                  <a:lnTo>
                    <a:pt x="1012" y="1849"/>
                  </a:lnTo>
                  <a:lnTo>
                    <a:pt x="985" y="1849"/>
                  </a:lnTo>
                  <a:lnTo>
                    <a:pt x="958" y="1849"/>
                  </a:lnTo>
                  <a:lnTo>
                    <a:pt x="930" y="1849"/>
                  </a:lnTo>
                  <a:lnTo>
                    <a:pt x="897" y="1849"/>
                  </a:lnTo>
                  <a:lnTo>
                    <a:pt x="870" y="1849"/>
                  </a:lnTo>
                  <a:lnTo>
                    <a:pt x="843" y="1844"/>
                  </a:lnTo>
                  <a:lnTo>
                    <a:pt x="816" y="1838"/>
                  </a:lnTo>
                  <a:lnTo>
                    <a:pt x="789" y="1838"/>
                  </a:lnTo>
                  <a:lnTo>
                    <a:pt x="757" y="1833"/>
                  </a:lnTo>
                  <a:lnTo>
                    <a:pt x="730" y="1828"/>
                  </a:lnTo>
                  <a:lnTo>
                    <a:pt x="703" y="1817"/>
                  </a:lnTo>
                  <a:lnTo>
                    <a:pt x="676" y="1812"/>
                  </a:lnTo>
                  <a:lnTo>
                    <a:pt x="649" y="1806"/>
                  </a:lnTo>
                  <a:lnTo>
                    <a:pt x="627" y="1795"/>
                  </a:lnTo>
                  <a:lnTo>
                    <a:pt x="600" y="1790"/>
                  </a:lnTo>
                  <a:lnTo>
                    <a:pt x="573" y="1779"/>
                  </a:lnTo>
                  <a:lnTo>
                    <a:pt x="551" y="1769"/>
                  </a:lnTo>
                  <a:lnTo>
                    <a:pt x="524" y="1758"/>
                  </a:lnTo>
                  <a:lnTo>
                    <a:pt x="503" y="1742"/>
                  </a:lnTo>
                  <a:lnTo>
                    <a:pt x="481" y="1731"/>
                  </a:lnTo>
                  <a:lnTo>
                    <a:pt x="454" y="1720"/>
                  </a:lnTo>
                  <a:lnTo>
                    <a:pt x="432" y="1704"/>
                  </a:lnTo>
                  <a:lnTo>
                    <a:pt x="411" y="1688"/>
                  </a:lnTo>
                  <a:lnTo>
                    <a:pt x="389" y="1677"/>
                  </a:lnTo>
                  <a:lnTo>
                    <a:pt x="367" y="1661"/>
                  </a:lnTo>
                  <a:lnTo>
                    <a:pt x="346" y="1645"/>
                  </a:lnTo>
                  <a:lnTo>
                    <a:pt x="324" y="1629"/>
                  </a:lnTo>
                  <a:lnTo>
                    <a:pt x="308" y="1613"/>
                  </a:lnTo>
                  <a:lnTo>
                    <a:pt x="286" y="1591"/>
                  </a:lnTo>
                  <a:lnTo>
                    <a:pt x="270" y="1575"/>
                  </a:lnTo>
                  <a:lnTo>
                    <a:pt x="248" y="1559"/>
                  </a:lnTo>
                  <a:lnTo>
                    <a:pt x="232" y="1532"/>
                  </a:lnTo>
                  <a:lnTo>
                    <a:pt x="216" y="1516"/>
                  </a:lnTo>
                  <a:lnTo>
                    <a:pt x="194" y="1495"/>
                  </a:lnTo>
                  <a:lnTo>
                    <a:pt x="183" y="1473"/>
                  </a:lnTo>
                  <a:lnTo>
                    <a:pt x="167" y="1457"/>
                  </a:lnTo>
                  <a:lnTo>
                    <a:pt x="151" y="1436"/>
                  </a:lnTo>
                  <a:lnTo>
                    <a:pt x="140" y="1414"/>
                  </a:lnTo>
                  <a:lnTo>
                    <a:pt x="124" y="1393"/>
                  </a:lnTo>
                  <a:lnTo>
                    <a:pt x="113" y="1365"/>
                  </a:lnTo>
                  <a:lnTo>
                    <a:pt x="102" y="1343"/>
                  </a:lnTo>
                  <a:lnTo>
                    <a:pt x="86" y="1316"/>
                  </a:lnTo>
                  <a:lnTo>
                    <a:pt x="75" y="1295"/>
                  </a:lnTo>
                  <a:lnTo>
                    <a:pt x="70" y="1273"/>
                  </a:lnTo>
                  <a:lnTo>
                    <a:pt x="59" y="1247"/>
                  </a:lnTo>
                  <a:lnTo>
                    <a:pt x="48" y="1220"/>
                  </a:lnTo>
                  <a:lnTo>
                    <a:pt x="37" y="1193"/>
                  </a:lnTo>
                  <a:lnTo>
                    <a:pt x="32" y="1166"/>
                  </a:lnTo>
                  <a:lnTo>
                    <a:pt x="27" y="1145"/>
                  </a:lnTo>
                  <a:lnTo>
                    <a:pt x="21" y="1118"/>
                  </a:lnTo>
                  <a:lnTo>
                    <a:pt x="10" y="1091"/>
                  </a:lnTo>
                  <a:lnTo>
                    <a:pt x="10" y="1064"/>
                  </a:lnTo>
                  <a:lnTo>
                    <a:pt x="5" y="1037"/>
                  </a:lnTo>
                  <a:lnTo>
                    <a:pt x="5" y="1010"/>
                  </a:lnTo>
                  <a:lnTo>
                    <a:pt x="0" y="983"/>
                  </a:lnTo>
                  <a:lnTo>
                    <a:pt x="0" y="951"/>
                  </a:lnTo>
                  <a:lnTo>
                    <a:pt x="0" y="924"/>
                  </a:lnTo>
                  <a:close/>
                </a:path>
              </a:pathLst>
            </a:custGeom>
            <a:solidFill>
              <a:srgbClr val="213f8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4440" y="2789280"/>
              <a:ext cx="670320" cy="649800"/>
            </a:xfrm>
            <a:custGeom>
              <a:avLst/>
              <a:gdLst/>
              <a:ahLst/>
              <a:rect l="0" t="0" r="r" b="b"/>
              <a:pathLst>
                <a:path w="1862" h="1805">
                  <a:moveTo>
                    <a:pt x="0" y="902"/>
                  </a:moveTo>
                  <a:lnTo>
                    <a:pt x="0" y="875"/>
                  </a:lnTo>
                  <a:lnTo>
                    <a:pt x="0" y="843"/>
                  </a:lnTo>
                  <a:lnTo>
                    <a:pt x="5" y="816"/>
                  </a:lnTo>
                  <a:lnTo>
                    <a:pt x="5" y="790"/>
                  </a:lnTo>
                  <a:lnTo>
                    <a:pt x="10" y="763"/>
                  </a:lnTo>
                  <a:lnTo>
                    <a:pt x="10" y="736"/>
                  </a:lnTo>
                  <a:lnTo>
                    <a:pt x="21" y="704"/>
                  </a:lnTo>
                  <a:lnTo>
                    <a:pt x="27" y="682"/>
                  </a:lnTo>
                  <a:lnTo>
                    <a:pt x="37" y="655"/>
                  </a:lnTo>
                  <a:lnTo>
                    <a:pt x="43" y="629"/>
                  </a:lnTo>
                  <a:lnTo>
                    <a:pt x="48" y="602"/>
                  </a:lnTo>
                  <a:lnTo>
                    <a:pt x="59" y="580"/>
                  </a:lnTo>
                  <a:lnTo>
                    <a:pt x="70" y="553"/>
                  </a:lnTo>
                  <a:lnTo>
                    <a:pt x="81" y="527"/>
                  </a:lnTo>
                  <a:lnTo>
                    <a:pt x="91" y="505"/>
                  </a:lnTo>
                  <a:lnTo>
                    <a:pt x="102" y="478"/>
                  </a:lnTo>
                  <a:lnTo>
                    <a:pt x="113" y="457"/>
                  </a:lnTo>
                  <a:lnTo>
                    <a:pt x="129" y="434"/>
                  </a:lnTo>
                  <a:lnTo>
                    <a:pt x="146" y="413"/>
                  </a:lnTo>
                  <a:lnTo>
                    <a:pt x="156" y="391"/>
                  </a:lnTo>
                  <a:lnTo>
                    <a:pt x="173" y="365"/>
                  </a:lnTo>
                  <a:lnTo>
                    <a:pt x="194" y="348"/>
                  </a:lnTo>
                  <a:lnTo>
                    <a:pt x="205" y="327"/>
                  </a:lnTo>
                  <a:lnTo>
                    <a:pt x="227" y="305"/>
                  </a:lnTo>
                  <a:lnTo>
                    <a:pt x="243" y="289"/>
                  </a:lnTo>
                  <a:lnTo>
                    <a:pt x="259" y="268"/>
                  </a:lnTo>
                  <a:lnTo>
                    <a:pt x="281" y="252"/>
                  </a:lnTo>
                  <a:lnTo>
                    <a:pt x="297" y="236"/>
                  </a:lnTo>
                  <a:lnTo>
                    <a:pt x="319" y="214"/>
                  </a:lnTo>
                  <a:lnTo>
                    <a:pt x="340" y="198"/>
                  </a:lnTo>
                  <a:lnTo>
                    <a:pt x="357" y="182"/>
                  </a:lnTo>
                  <a:lnTo>
                    <a:pt x="384" y="166"/>
                  </a:lnTo>
                  <a:lnTo>
                    <a:pt x="405" y="155"/>
                  </a:lnTo>
                  <a:lnTo>
                    <a:pt x="427" y="139"/>
                  </a:lnTo>
                  <a:lnTo>
                    <a:pt x="448" y="123"/>
                  </a:lnTo>
                  <a:lnTo>
                    <a:pt x="477" y="112"/>
                  </a:lnTo>
                  <a:lnTo>
                    <a:pt x="498" y="101"/>
                  </a:lnTo>
                  <a:lnTo>
                    <a:pt x="520" y="91"/>
                  </a:lnTo>
                  <a:lnTo>
                    <a:pt x="547" y="80"/>
                  </a:lnTo>
                  <a:lnTo>
                    <a:pt x="574" y="69"/>
                  </a:lnTo>
                  <a:lnTo>
                    <a:pt x="601" y="53"/>
                  </a:lnTo>
                  <a:lnTo>
                    <a:pt x="623" y="48"/>
                  </a:lnTo>
                  <a:lnTo>
                    <a:pt x="650" y="37"/>
                  </a:lnTo>
                  <a:lnTo>
                    <a:pt x="677" y="32"/>
                  </a:lnTo>
                  <a:lnTo>
                    <a:pt x="704" y="26"/>
                  </a:lnTo>
                  <a:lnTo>
                    <a:pt x="731" y="21"/>
                  </a:lnTo>
                  <a:lnTo>
                    <a:pt x="763" y="10"/>
                  </a:lnTo>
                  <a:lnTo>
                    <a:pt x="790" y="10"/>
                  </a:lnTo>
                  <a:lnTo>
                    <a:pt x="817" y="5"/>
                  </a:lnTo>
                  <a:lnTo>
                    <a:pt x="844" y="5"/>
                  </a:lnTo>
                  <a:lnTo>
                    <a:pt x="871" y="0"/>
                  </a:lnTo>
                  <a:lnTo>
                    <a:pt x="904" y="0"/>
                  </a:lnTo>
                  <a:lnTo>
                    <a:pt x="958" y="0"/>
                  </a:lnTo>
                  <a:lnTo>
                    <a:pt x="990" y="0"/>
                  </a:lnTo>
                  <a:lnTo>
                    <a:pt x="1018" y="5"/>
                  </a:lnTo>
                  <a:lnTo>
                    <a:pt x="1045" y="5"/>
                  </a:lnTo>
                  <a:lnTo>
                    <a:pt x="1077" y="10"/>
                  </a:lnTo>
                  <a:lnTo>
                    <a:pt x="1104" y="10"/>
                  </a:lnTo>
                  <a:lnTo>
                    <a:pt x="1131" y="21"/>
                  </a:lnTo>
                  <a:lnTo>
                    <a:pt x="1158" y="26"/>
                  </a:lnTo>
                  <a:lnTo>
                    <a:pt x="1185" y="32"/>
                  </a:lnTo>
                  <a:lnTo>
                    <a:pt x="1212" y="37"/>
                  </a:lnTo>
                  <a:lnTo>
                    <a:pt x="1239" y="48"/>
                  </a:lnTo>
                  <a:lnTo>
                    <a:pt x="1266" y="53"/>
                  </a:lnTo>
                  <a:lnTo>
                    <a:pt x="1293" y="69"/>
                  </a:lnTo>
                  <a:lnTo>
                    <a:pt x="1315" y="80"/>
                  </a:lnTo>
                  <a:lnTo>
                    <a:pt x="1342" y="91"/>
                  </a:lnTo>
                  <a:lnTo>
                    <a:pt x="1364" y="101"/>
                  </a:lnTo>
                  <a:lnTo>
                    <a:pt x="1385" y="112"/>
                  </a:lnTo>
                  <a:lnTo>
                    <a:pt x="1413" y="123"/>
                  </a:lnTo>
                  <a:lnTo>
                    <a:pt x="1440" y="139"/>
                  </a:lnTo>
                  <a:lnTo>
                    <a:pt x="1462" y="155"/>
                  </a:lnTo>
                  <a:lnTo>
                    <a:pt x="1484" y="166"/>
                  </a:lnTo>
                  <a:lnTo>
                    <a:pt x="1500" y="182"/>
                  </a:lnTo>
                  <a:lnTo>
                    <a:pt x="1522" y="198"/>
                  </a:lnTo>
                  <a:lnTo>
                    <a:pt x="1543" y="214"/>
                  </a:lnTo>
                  <a:lnTo>
                    <a:pt x="1565" y="236"/>
                  </a:lnTo>
                  <a:lnTo>
                    <a:pt x="1587" y="252"/>
                  </a:lnTo>
                  <a:lnTo>
                    <a:pt x="1603" y="268"/>
                  </a:lnTo>
                  <a:lnTo>
                    <a:pt x="1624" y="289"/>
                  </a:lnTo>
                  <a:lnTo>
                    <a:pt x="1641" y="305"/>
                  </a:lnTo>
                  <a:lnTo>
                    <a:pt x="1657" y="327"/>
                  </a:lnTo>
                  <a:lnTo>
                    <a:pt x="1673" y="348"/>
                  </a:lnTo>
                  <a:lnTo>
                    <a:pt x="1689" y="365"/>
                  </a:lnTo>
                  <a:lnTo>
                    <a:pt x="1706" y="391"/>
                  </a:lnTo>
                  <a:lnTo>
                    <a:pt x="1722" y="413"/>
                  </a:lnTo>
                  <a:lnTo>
                    <a:pt x="1733" y="434"/>
                  </a:lnTo>
                  <a:lnTo>
                    <a:pt x="1749" y="457"/>
                  </a:lnTo>
                  <a:lnTo>
                    <a:pt x="1760" y="478"/>
                  </a:lnTo>
                  <a:lnTo>
                    <a:pt x="1770" y="505"/>
                  </a:lnTo>
                  <a:lnTo>
                    <a:pt x="1787" y="527"/>
                  </a:lnTo>
                  <a:lnTo>
                    <a:pt x="1797" y="553"/>
                  </a:lnTo>
                  <a:lnTo>
                    <a:pt x="1803" y="580"/>
                  </a:lnTo>
                  <a:lnTo>
                    <a:pt x="1814" y="602"/>
                  </a:lnTo>
                  <a:lnTo>
                    <a:pt x="1825" y="629"/>
                  </a:lnTo>
                  <a:lnTo>
                    <a:pt x="1830" y="655"/>
                  </a:lnTo>
                  <a:lnTo>
                    <a:pt x="1835" y="682"/>
                  </a:lnTo>
                  <a:lnTo>
                    <a:pt x="1841" y="704"/>
                  </a:lnTo>
                  <a:lnTo>
                    <a:pt x="1846" y="736"/>
                  </a:lnTo>
                  <a:lnTo>
                    <a:pt x="1852" y="763"/>
                  </a:lnTo>
                  <a:lnTo>
                    <a:pt x="1857" y="790"/>
                  </a:lnTo>
                  <a:lnTo>
                    <a:pt x="1862" y="816"/>
                  </a:lnTo>
                  <a:lnTo>
                    <a:pt x="1862" y="843"/>
                  </a:lnTo>
                  <a:lnTo>
                    <a:pt x="1862" y="875"/>
                  </a:lnTo>
                  <a:lnTo>
                    <a:pt x="1862" y="902"/>
                  </a:lnTo>
                  <a:lnTo>
                    <a:pt x="1862" y="929"/>
                  </a:lnTo>
                  <a:lnTo>
                    <a:pt x="1862" y="956"/>
                  </a:lnTo>
                  <a:lnTo>
                    <a:pt x="1862" y="983"/>
                  </a:lnTo>
                  <a:lnTo>
                    <a:pt x="1857" y="1010"/>
                  </a:lnTo>
                  <a:lnTo>
                    <a:pt x="1852" y="1042"/>
                  </a:lnTo>
                  <a:lnTo>
                    <a:pt x="1846" y="1069"/>
                  </a:lnTo>
                  <a:lnTo>
                    <a:pt x="1841" y="1096"/>
                  </a:lnTo>
                  <a:lnTo>
                    <a:pt x="1835" y="1122"/>
                  </a:lnTo>
                  <a:lnTo>
                    <a:pt x="1830" y="1149"/>
                  </a:lnTo>
                  <a:lnTo>
                    <a:pt x="1825" y="1171"/>
                  </a:lnTo>
                  <a:lnTo>
                    <a:pt x="1814" y="1203"/>
                  </a:lnTo>
                  <a:lnTo>
                    <a:pt x="1803" y="1224"/>
                  </a:lnTo>
                  <a:lnTo>
                    <a:pt x="1797" y="1251"/>
                  </a:lnTo>
                  <a:lnTo>
                    <a:pt x="1787" y="1273"/>
                  </a:lnTo>
                  <a:lnTo>
                    <a:pt x="1770" y="1294"/>
                  </a:lnTo>
                  <a:lnTo>
                    <a:pt x="1760" y="1321"/>
                  </a:lnTo>
                  <a:lnTo>
                    <a:pt x="1749" y="1342"/>
                  </a:lnTo>
                  <a:lnTo>
                    <a:pt x="1733" y="1370"/>
                  </a:lnTo>
                  <a:lnTo>
                    <a:pt x="1722" y="1392"/>
                  </a:lnTo>
                  <a:lnTo>
                    <a:pt x="1706" y="1413"/>
                  </a:lnTo>
                  <a:lnTo>
                    <a:pt x="1689" y="1435"/>
                  </a:lnTo>
                  <a:lnTo>
                    <a:pt x="1673" y="1456"/>
                  </a:lnTo>
                  <a:lnTo>
                    <a:pt x="1657" y="1472"/>
                  </a:lnTo>
                  <a:lnTo>
                    <a:pt x="1641" y="1494"/>
                  </a:lnTo>
                  <a:lnTo>
                    <a:pt x="1624" y="1515"/>
                  </a:lnTo>
                  <a:lnTo>
                    <a:pt x="1603" y="1531"/>
                  </a:lnTo>
                  <a:lnTo>
                    <a:pt x="1587" y="1553"/>
                  </a:lnTo>
                  <a:lnTo>
                    <a:pt x="1565" y="1569"/>
                  </a:lnTo>
                  <a:lnTo>
                    <a:pt x="1543" y="1585"/>
                  </a:lnTo>
                  <a:lnTo>
                    <a:pt x="1522" y="1601"/>
                  </a:lnTo>
                  <a:lnTo>
                    <a:pt x="1500" y="1623"/>
                  </a:lnTo>
                  <a:lnTo>
                    <a:pt x="1484" y="1633"/>
                  </a:lnTo>
                  <a:lnTo>
                    <a:pt x="1462" y="1649"/>
                  </a:lnTo>
                  <a:lnTo>
                    <a:pt x="1440" y="1666"/>
                  </a:lnTo>
                  <a:lnTo>
                    <a:pt x="1413" y="1676"/>
                  </a:lnTo>
                  <a:lnTo>
                    <a:pt x="1385" y="1692"/>
                  </a:lnTo>
                  <a:lnTo>
                    <a:pt x="1364" y="1703"/>
                  </a:lnTo>
                  <a:lnTo>
                    <a:pt x="1342" y="1714"/>
                  </a:lnTo>
                  <a:lnTo>
                    <a:pt x="1315" y="1725"/>
                  </a:lnTo>
                  <a:lnTo>
                    <a:pt x="1293" y="1735"/>
                  </a:lnTo>
                  <a:lnTo>
                    <a:pt x="1266" y="1746"/>
                  </a:lnTo>
                  <a:lnTo>
                    <a:pt x="1239" y="1757"/>
                  </a:lnTo>
                  <a:lnTo>
                    <a:pt x="1212" y="1762"/>
                  </a:lnTo>
                  <a:lnTo>
                    <a:pt x="1185" y="1773"/>
                  </a:lnTo>
                  <a:lnTo>
                    <a:pt x="1158" y="1778"/>
                  </a:lnTo>
                  <a:lnTo>
                    <a:pt x="1131" y="1784"/>
                  </a:lnTo>
                  <a:lnTo>
                    <a:pt x="1104" y="1789"/>
                  </a:lnTo>
                  <a:lnTo>
                    <a:pt x="1077" y="1794"/>
                  </a:lnTo>
                  <a:lnTo>
                    <a:pt x="1045" y="1794"/>
                  </a:lnTo>
                  <a:lnTo>
                    <a:pt x="1018" y="1800"/>
                  </a:lnTo>
                  <a:lnTo>
                    <a:pt x="990" y="1800"/>
                  </a:lnTo>
                  <a:lnTo>
                    <a:pt x="958" y="1800"/>
                  </a:lnTo>
                  <a:lnTo>
                    <a:pt x="931" y="1805"/>
                  </a:lnTo>
                  <a:lnTo>
                    <a:pt x="904" y="1800"/>
                  </a:lnTo>
                  <a:lnTo>
                    <a:pt x="871" y="1800"/>
                  </a:lnTo>
                  <a:lnTo>
                    <a:pt x="844" y="1800"/>
                  </a:lnTo>
                  <a:lnTo>
                    <a:pt x="817" y="1794"/>
                  </a:lnTo>
                  <a:lnTo>
                    <a:pt x="790" y="1794"/>
                  </a:lnTo>
                  <a:lnTo>
                    <a:pt x="763" y="1789"/>
                  </a:lnTo>
                  <a:lnTo>
                    <a:pt x="731" y="1784"/>
                  </a:lnTo>
                  <a:lnTo>
                    <a:pt x="704" y="1778"/>
                  </a:lnTo>
                  <a:lnTo>
                    <a:pt x="677" y="1773"/>
                  </a:lnTo>
                  <a:lnTo>
                    <a:pt x="650" y="1762"/>
                  </a:lnTo>
                  <a:lnTo>
                    <a:pt x="623" y="1757"/>
                  </a:lnTo>
                  <a:lnTo>
                    <a:pt x="601" y="1746"/>
                  </a:lnTo>
                  <a:lnTo>
                    <a:pt x="574" y="1735"/>
                  </a:lnTo>
                  <a:lnTo>
                    <a:pt x="547" y="1725"/>
                  </a:lnTo>
                  <a:lnTo>
                    <a:pt x="520" y="1714"/>
                  </a:lnTo>
                  <a:lnTo>
                    <a:pt x="498" y="1703"/>
                  </a:lnTo>
                  <a:lnTo>
                    <a:pt x="477" y="1692"/>
                  </a:lnTo>
                  <a:lnTo>
                    <a:pt x="448" y="1676"/>
                  </a:lnTo>
                  <a:lnTo>
                    <a:pt x="427" y="1666"/>
                  </a:lnTo>
                  <a:lnTo>
                    <a:pt x="405" y="1649"/>
                  </a:lnTo>
                  <a:lnTo>
                    <a:pt x="384" y="1633"/>
                  </a:lnTo>
                  <a:lnTo>
                    <a:pt x="357" y="1623"/>
                  </a:lnTo>
                  <a:lnTo>
                    <a:pt x="340" y="1601"/>
                  </a:lnTo>
                  <a:lnTo>
                    <a:pt x="319" y="1585"/>
                  </a:lnTo>
                  <a:lnTo>
                    <a:pt x="297" y="1569"/>
                  </a:lnTo>
                  <a:lnTo>
                    <a:pt x="281" y="1553"/>
                  </a:lnTo>
                  <a:lnTo>
                    <a:pt x="259" y="1531"/>
                  </a:lnTo>
                  <a:lnTo>
                    <a:pt x="243" y="1515"/>
                  </a:lnTo>
                  <a:lnTo>
                    <a:pt x="227" y="1494"/>
                  </a:lnTo>
                  <a:lnTo>
                    <a:pt x="205" y="1472"/>
                  </a:lnTo>
                  <a:lnTo>
                    <a:pt x="194" y="1456"/>
                  </a:lnTo>
                  <a:lnTo>
                    <a:pt x="173" y="1435"/>
                  </a:lnTo>
                  <a:lnTo>
                    <a:pt x="156" y="1413"/>
                  </a:lnTo>
                  <a:lnTo>
                    <a:pt x="146" y="1392"/>
                  </a:lnTo>
                  <a:lnTo>
                    <a:pt x="129" y="1370"/>
                  </a:lnTo>
                  <a:lnTo>
                    <a:pt x="113" y="1342"/>
                  </a:lnTo>
                  <a:lnTo>
                    <a:pt x="102" y="1321"/>
                  </a:lnTo>
                  <a:lnTo>
                    <a:pt x="91" y="1294"/>
                  </a:lnTo>
                  <a:lnTo>
                    <a:pt x="81" y="1273"/>
                  </a:lnTo>
                  <a:lnTo>
                    <a:pt x="70" y="1251"/>
                  </a:lnTo>
                  <a:lnTo>
                    <a:pt x="59" y="1224"/>
                  </a:lnTo>
                  <a:lnTo>
                    <a:pt x="48" y="1203"/>
                  </a:lnTo>
                  <a:lnTo>
                    <a:pt x="43" y="1171"/>
                  </a:lnTo>
                  <a:lnTo>
                    <a:pt x="37" y="1149"/>
                  </a:lnTo>
                  <a:lnTo>
                    <a:pt x="27" y="1122"/>
                  </a:lnTo>
                  <a:lnTo>
                    <a:pt x="21" y="1096"/>
                  </a:lnTo>
                  <a:lnTo>
                    <a:pt x="10" y="1069"/>
                  </a:lnTo>
                  <a:lnTo>
                    <a:pt x="10" y="1042"/>
                  </a:lnTo>
                  <a:lnTo>
                    <a:pt x="5" y="1010"/>
                  </a:lnTo>
                  <a:lnTo>
                    <a:pt x="5" y="983"/>
                  </a:lnTo>
                  <a:lnTo>
                    <a:pt x="0" y="956"/>
                  </a:lnTo>
                  <a:lnTo>
                    <a:pt x="0" y="929"/>
                  </a:lnTo>
                  <a:lnTo>
                    <a:pt x="0" y="902"/>
                  </a:lnTo>
                  <a:close/>
                </a:path>
              </a:pathLst>
            </a:custGeom>
            <a:solidFill>
              <a:srgbClr val="26448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4160" y="2792520"/>
              <a:ext cx="654480" cy="635400"/>
            </a:xfrm>
            <a:custGeom>
              <a:avLst/>
              <a:gdLst/>
              <a:ahLst/>
              <a:rect l="0" t="0" r="r" b="b"/>
              <a:pathLst>
                <a:path w="1818" h="1765">
                  <a:moveTo>
                    <a:pt x="0" y="882"/>
                  </a:moveTo>
                  <a:lnTo>
                    <a:pt x="0" y="856"/>
                  </a:lnTo>
                  <a:lnTo>
                    <a:pt x="0" y="823"/>
                  </a:lnTo>
                  <a:lnTo>
                    <a:pt x="5" y="796"/>
                  </a:lnTo>
                  <a:lnTo>
                    <a:pt x="5" y="770"/>
                  </a:lnTo>
                  <a:lnTo>
                    <a:pt x="10" y="743"/>
                  </a:lnTo>
                  <a:lnTo>
                    <a:pt x="16" y="716"/>
                  </a:lnTo>
                  <a:lnTo>
                    <a:pt x="21" y="689"/>
                  </a:lnTo>
                  <a:lnTo>
                    <a:pt x="27" y="662"/>
                  </a:lnTo>
                  <a:lnTo>
                    <a:pt x="32" y="635"/>
                  </a:lnTo>
                  <a:lnTo>
                    <a:pt x="43" y="614"/>
                  </a:lnTo>
                  <a:lnTo>
                    <a:pt x="48" y="587"/>
                  </a:lnTo>
                  <a:lnTo>
                    <a:pt x="59" y="560"/>
                  </a:lnTo>
                  <a:lnTo>
                    <a:pt x="70" y="533"/>
                  </a:lnTo>
                  <a:lnTo>
                    <a:pt x="81" y="511"/>
                  </a:lnTo>
                  <a:lnTo>
                    <a:pt x="92" y="490"/>
                  </a:lnTo>
                  <a:lnTo>
                    <a:pt x="103" y="463"/>
                  </a:lnTo>
                  <a:lnTo>
                    <a:pt x="119" y="440"/>
                  </a:lnTo>
                  <a:lnTo>
                    <a:pt x="130" y="419"/>
                  </a:lnTo>
                  <a:lnTo>
                    <a:pt x="141" y="397"/>
                  </a:lnTo>
                  <a:lnTo>
                    <a:pt x="157" y="376"/>
                  </a:lnTo>
                  <a:lnTo>
                    <a:pt x="178" y="354"/>
                  </a:lnTo>
                  <a:lnTo>
                    <a:pt x="195" y="333"/>
                  </a:lnTo>
                  <a:lnTo>
                    <a:pt x="211" y="311"/>
                  </a:lnTo>
                  <a:lnTo>
                    <a:pt x="227" y="295"/>
                  </a:lnTo>
                  <a:lnTo>
                    <a:pt x="244" y="274"/>
                  </a:lnTo>
                  <a:lnTo>
                    <a:pt x="260" y="258"/>
                  </a:lnTo>
                  <a:lnTo>
                    <a:pt x="282" y="241"/>
                  </a:lnTo>
                  <a:lnTo>
                    <a:pt x="303" y="225"/>
                  </a:lnTo>
                  <a:lnTo>
                    <a:pt x="319" y="204"/>
                  </a:lnTo>
                  <a:lnTo>
                    <a:pt x="347" y="188"/>
                  </a:lnTo>
                  <a:lnTo>
                    <a:pt x="363" y="172"/>
                  </a:lnTo>
                  <a:lnTo>
                    <a:pt x="385" y="161"/>
                  </a:lnTo>
                  <a:lnTo>
                    <a:pt x="406" y="145"/>
                  </a:lnTo>
                  <a:lnTo>
                    <a:pt x="433" y="129"/>
                  </a:lnTo>
                  <a:lnTo>
                    <a:pt x="456" y="118"/>
                  </a:lnTo>
                  <a:lnTo>
                    <a:pt x="478" y="107"/>
                  </a:lnTo>
                  <a:lnTo>
                    <a:pt x="505" y="91"/>
                  </a:lnTo>
                  <a:lnTo>
                    <a:pt x="527" y="80"/>
                  </a:lnTo>
                  <a:lnTo>
                    <a:pt x="554" y="69"/>
                  </a:lnTo>
                  <a:lnTo>
                    <a:pt x="581" y="64"/>
                  </a:lnTo>
                  <a:lnTo>
                    <a:pt x="602" y="53"/>
                  </a:lnTo>
                  <a:lnTo>
                    <a:pt x="630" y="43"/>
                  </a:lnTo>
                  <a:lnTo>
                    <a:pt x="657" y="32"/>
                  </a:lnTo>
                  <a:lnTo>
                    <a:pt x="684" y="26"/>
                  </a:lnTo>
                  <a:lnTo>
                    <a:pt x="711" y="21"/>
                  </a:lnTo>
                  <a:lnTo>
                    <a:pt x="738" y="16"/>
                  </a:lnTo>
                  <a:lnTo>
                    <a:pt x="765" y="10"/>
                  </a:lnTo>
                  <a:lnTo>
                    <a:pt x="792" y="10"/>
                  </a:lnTo>
                  <a:lnTo>
                    <a:pt x="825" y="5"/>
                  </a:lnTo>
                  <a:lnTo>
                    <a:pt x="852" y="0"/>
                  </a:lnTo>
                  <a:lnTo>
                    <a:pt x="884" y="0"/>
                  </a:lnTo>
                  <a:lnTo>
                    <a:pt x="939" y="0"/>
                  </a:lnTo>
                  <a:lnTo>
                    <a:pt x="966" y="0"/>
                  </a:lnTo>
                  <a:lnTo>
                    <a:pt x="998" y="5"/>
                  </a:lnTo>
                  <a:lnTo>
                    <a:pt x="1020" y="10"/>
                  </a:lnTo>
                  <a:lnTo>
                    <a:pt x="1053" y="10"/>
                  </a:lnTo>
                  <a:lnTo>
                    <a:pt x="1080" y="16"/>
                  </a:lnTo>
                  <a:lnTo>
                    <a:pt x="1107" y="21"/>
                  </a:lnTo>
                  <a:lnTo>
                    <a:pt x="1134" y="26"/>
                  </a:lnTo>
                  <a:lnTo>
                    <a:pt x="1161" y="32"/>
                  </a:lnTo>
                  <a:lnTo>
                    <a:pt x="1188" y="43"/>
                  </a:lnTo>
                  <a:lnTo>
                    <a:pt x="1215" y="53"/>
                  </a:lnTo>
                  <a:lnTo>
                    <a:pt x="1242" y="64"/>
                  </a:lnTo>
                  <a:lnTo>
                    <a:pt x="1270" y="69"/>
                  </a:lnTo>
                  <a:lnTo>
                    <a:pt x="1291" y="80"/>
                  </a:lnTo>
                  <a:lnTo>
                    <a:pt x="1313" y="91"/>
                  </a:lnTo>
                  <a:lnTo>
                    <a:pt x="1340" y="107"/>
                  </a:lnTo>
                  <a:lnTo>
                    <a:pt x="1362" y="118"/>
                  </a:lnTo>
                  <a:lnTo>
                    <a:pt x="1390" y="129"/>
                  </a:lnTo>
                  <a:lnTo>
                    <a:pt x="1412" y="145"/>
                  </a:lnTo>
                  <a:lnTo>
                    <a:pt x="1433" y="161"/>
                  </a:lnTo>
                  <a:lnTo>
                    <a:pt x="1455" y="172"/>
                  </a:lnTo>
                  <a:lnTo>
                    <a:pt x="1477" y="188"/>
                  </a:lnTo>
                  <a:lnTo>
                    <a:pt x="1498" y="204"/>
                  </a:lnTo>
                  <a:lnTo>
                    <a:pt x="1515" y="225"/>
                  </a:lnTo>
                  <a:lnTo>
                    <a:pt x="1536" y="241"/>
                  </a:lnTo>
                  <a:lnTo>
                    <a:pt x="1558" y="258"/>
                  </a:lnTo>
                  <a:lnTo>
                    <a:pt x="1574" y="274"/>
                  </a:lnTo>
                  <a:lnTo>
                    <a:pt x="1596" y="295"/>
                  </a:lnTo>
                  <a:lnTo>
                    <a:pt x="1612" y="311"/>
                  </a:lnTo>
                  <a:lnTo>
                    <a:pt x="1628" y="333"/>
                  </a:lnTo>
                  <a:lnTo>
                    <a:pt x="1645" y="354"/>
                  </a:lnTo>
                  <a:lnTo>
                    <a:pt x="1661" y="376"/>
                  </a:lnTo>
                  <a:lnTo>
                    <a:pt x="1672" y="397"/>
                  </a:lnTo>
                  <a:lnTo>
                    <a:pt x="1688" y="419"/>
                  </a:lnTo>
                  <a:lnTo>
                    <a:pt x="1699" y="440"/>
                  </a:lnTo>
                  <a:lnTo>
                    <a:pt x="1715" y="463"/>
                  </a:lnTo>
                  <a:lnTo>
                    <a:pt x="1732" y="490"/>
                  </a:lnTo>
                  <a:lnTo>
                    <a:pt x="1742" y="511"/>
                  </a:lnTo>
                  <a:lnTo>
                    <a:pt x="1753" y="533"/>
                  </a:lnTo>
                  <a:lnTo>
                    <a:pt x="1764" y="560"/>
                  </a:lnTo>
                  <a:lnTo>
                    <a:pt x="1769" y="587"/>
                  </a:lnTo>
                  <a:lnTo>
                    <a:pt x="1780" y="614"/>
                  </a:lnTo>
                  <a:lnTo>
                    <a:pt x="1786" y="635"/>
                  </a:lnTo>
                  <a:lnTo>
                    <a:pt x="1797" y="662"/>
                  </a:lnTo>
                  <a:lnTo>
                    <a:pt x="1802" y="689"/>
                  </a:lnTo>
                  <a:lnTo>
                    <a:pt x="1807" y="716"/>
                  </a:lnTo>
                  <a:lnTo>
                    <a:pt x="1807" y="743"/>
                  </a:lnTo>
                  <a:lnTo>
                    <a:pt x="1813" y="770"/>
                  </a:lnTo>
                  <a:lnTo>
                    <a:pt x="1818" y="796"/>
                  </a:lnTo>
                  <a:lnTo>
                    <a:pt x="1818" y="823"/>
                  </a:lnTo>
                  <a:lnTo>
                    <a:pt x="1818" y="856"/>
                  </a:lnTo>
                  <a:lnTo>
                    <a:pt x="1818" y="882"/>
                  </a:lnTo>
                  <a:lnTo>
                    <a:pt x="1818" y="909"/>
                  </a:lnTo>
                  <a:lnTo>
                    <a:pt x="1818" y="942"/>
                  </a:lnTo>
                  <a:lnTo>
                    <a:pt x="1818" y="968"/>
                  </a:lnTo>
                  <a:lnTo>
                    <a:pt x="1813" y="995"/>
                  </a:lnTo>
                  <a:lnTo>
                    <a:pt x="1807" y="1022"/>
                  </a:lnTo>
                  <a:lnTo>
                    <a:pt x="1807" y="1049"/>
                  </a:lnTo>
                  <a:lnTo>
                    <a:pt x="1802" y="1076"/>
                  </a:lnTo>
                  <a:lnTo>
                    <a:pt x="1797" y="1103"/>
                  </a:lnTo>
                  <a:lnTo>
                    <a:pt x="1786" y="1130"/>
                  </a:lnTo>
                  <a:lnTo>
                    <a:pt x="1780" y="1151"/>
                  </a:lnTo>
                  <a:lnTo>
                    <a:pt x="1769" y="1178"/>
                  </a:lnTo>
                  <a:lnTo>
                    <a:pt x="1764" y="1205"/>
                  </a:lnTo>
                  <a:lnTo>
                    <a:pt x="1753" y="1232"/>
                  </a:lnTo>
                  <a:lnTo>
                    <a:pt x="1742" y="1254"/>
                  </a:lnTo>
                  <a:lnTo>
                    <a:pt x="1732" y="1275"/>
                  </a:lnTo>
                  <a:lnTo>
                    <a:pt x="1715" y="1302"/>
                  </a:lnTo>
                  <a:lnTo>
                    <a:pt x="1699" y="1323"/>
                  </a:lnTo>
                  <a:lnTo>
                    <a:pt x="1688" y="1346"/>
                  </a:lnTo>
                  <a:lnTo>
                    <a:pt x="1672" y="1373"/>
                  </a:lnTo>
                  <a:lnTo>
                    <a:pt x="1661" y="1394"/>
                  </a:lnTo>
                  <a:lnTo>
                    <a:pt x="1645" y="1410"/>
                  </a:lnTo>
                  <a:lnTo>
                    <a:pt x="1628" y="1432"/>
                  </a:lnTo>
                  <a:lnTo>
                    <a:pt x="1612" y="1453"/>
                  </a:lnTo>
                  <a:lnTo>
                    <a:pt x="1596" y="1470"/>
                  </a:lnTo>
                  <a:lnTo>
                    <a:pt x="1574" y="1491"/>
                  </a:lnTo>
                  <a:lnTo>
                    <a:pt x="1558" y="1507"/>
                  </a:lnTo>
                  <a:lnTo>
                    <a:pt x="1536" y="1529"/>
                  </a:lnTo>
                  <a:lnTo>
                    <a:pt x="1515" y="1545"/>
                  </a:lnTo>
                  <a:lnTo>
                    <a:pt x="1498" y="1561"/>
                  </a:lnTo>
                  <a:lnTo>
                    <a:pt x="1477" y="1577"/>
                  </a:lnTo>
                  <a:lnTo>
                    <a:pt x="1455" y="1593"/>
                  </a:lnTo>
                  <a:lnTo>
                    <a:pt x="1433" y="1609"/>
                  </a:lnTo>
                  <a:lnTo>
                    <a:pt x="1412" y="1626"/>
                  </a:lnTo>
                  <a:lnTo>
                    <a:pt x="1390" y="1636"/>
                  </a:lnTo>
                  <a:lnTo>
                    <a:pt x="1362" y="1652"/>
                  </a:lnTo>
                  <a:lnTo>
                    <a:pt x="1340" y="1663"/>
                  </a:lnTo>
                  <a:lnTo>
                    <a:pt x="1313" y="1679"/>
                  </a:lnTo>
                  <a:lnTo>
                    <a:pt x="1291" y="1690"/>
                  </a:lnTo>
                  <a:lnTo>
                    <a:pt x="1270" y="1701"/>
                  </a:lnTo>
                  <a:lnTo>
                    <a:pt x="1242" y="1706"/>
                  </a:lnTo>
                  <a:lnTo>
                    <a:pt x="1215" y="1717"/>
                  </a:lnTo>
                  <a:lnTo>
                    <a:pt x="1188" y="1728"/>
                  </a:lnTo>
                  <a:lnTo>
                    <a:pt x="1161" y="1733"/>
                  </a:lnTo>
                  <a:lnTo>
                    <a:pt x="1134" y="1739"/>
                  </a:lnTo>
                  <a:lnTo>
                    <a:pt x="1107" y="1744"/>
                  </a:lnTo>
                  <a:lnTo>
                    <a:pt x="1080" y="1749"/>
                  </a:lnTo>
                  <a:lnTo>
                    <a:pt x="1053" y="1755"/>
                  </a:lnTo>
                  <a:lnTo>
                    <a:pt x="1020" y="1760"/>
                  </a:lnTo>
                  <a:lnTo>
                    <a:pt x="998" y="1760"/>
                  </a:lnTo>
                  <a:lnTo>
                    <a:pt x="966" y="1765"/>
                  </a:lnTo>
                  <a:lnTo>
                    <a:pt x="939" y="1765"/>
                  </a:lnTo>
                  <a:lnTo>
                    <a:pt x="912" y="1765"/>
                  </a:lnTo>
                  <a:lnTo>
                    <a:pt x="884" y="1765"/>
                  </a:lnTo>
                  <a:lnTo>
                    <a:pt x="852" y="1765"/>
                  </a:lnTo>
                  <a:lnTo>
                    <a:pt x="825" y="1760"/>
                  </a:lnTo>
                  <a:lnTo>
                    <a:pt x="792" y="1760"/>
                  </a:lnTo>
                  <a:lnTo>
                    <a:pt x="765" y="1755"/>
                  </a:lnTo>
                  <a:lnTo>
                    <a:pt x="738" y="1749"/>
                  </a:lnTo>
                  <a:lnTo>
                    <a:pt x="711" y="1744"/>
                  </a:lnTo>
                  <a:lnTo>
                    <a:pt x="684" y="1739"/>
                  </a:lnTo>
                  <a:lnTo>
                    <a:pt x="657" y="1733"/>
                  </a:lnTo>
                  <a:lnTo>
                    <a:pt x="630" y="1728"/>
                  </a:lnTo>
                  <a:lnTo>
                    <a:pt x="602" y="1717"/>
                  </a:lnTo>
                  <a:lnTo>
                    <a:pt x="581" y="1706"/>
                  </a:lnTo>
                  <a:lnTo>
                    <a:pt x="554" y="1701"/>
                  </a:lnTo>
                  <a:lnTo>
                    <a:pt x="527" y="1690"/>
                  </a:lnTo>
                  <a:lnTo>
                    <a:pt x="505" y="1679"/>
                  </a:lnTo>
                  <a:lnTo>
                    <a:pt x="478" y="1663"/>
                  </a:lnTo>
                  <a:lnTo>
                    <a:pt x="456" y="1652"/>
                  </a:lnTo>
                  <a:lnTo>
                    <a:pt x="433" y="1636"/>
                  </a:lnTo>
                  <a:lnTo>
                    <a:pt x="406" y="1626"/>
                  </a:lnTo>
                  <a:lnTo>
                    <a:pt x="385" y="1609"/>
                  </a:lnTo>
                  <a:lnTo>
                    <a:pt x="363" y="1593"/>
                  </a:lnTo>
                  <a:lnTo>
                    <a:pt x="347" y="1577"/>
                  </a:lnTo>
                  <a:lnTo>
                    <a:pt x="319" y="1561"/>
                  </a:lnTo>
                  <a:lnTo>
                    <a:pt x="303" y="1545"/>
                  </a:lnTo>
                  <a:lnTo>
                    <a:pt x="282" y="1529"/>
                  </a:lnTo>
                  <a:lnTo>
                    <a:pt x="260" y="1507"/>
                  </a:lnTo>
                  <a:lnTo>
                    <a:pt x="244" y="1491"/>
                  </a:lnTo>
                  <a:lnTo>
                    <a:pt x="227" y="1470"/>
                  </a:lnTo>
                  <a:lnTo>
                    <a:pt x="211" y="1453"/>
                  </a:lnTo>
                  <a:lnTo>
                    <a:pt x="195" y="1432"/>
                  </a:lnTo>
                  <a:lnTo>
                    <a:pt x="178" y="1410"/>
                  </a:lnTo>
                  <a:lnTo>
                    <a:pt x="157" y="1394"/>
                  </a:lnTo>
                  <a:lnTo>
                    <a:pt x="141" y="1373"/>
                  </a:lnTo>
                  <a:lnTo>
                    <a:pt x="130" y="1346"/>
                  </a:lnTo>
                  <a:lnTo>
                    <a:pt x="119" y="1323"/>
                  </a:lnTo>
                  <a:lnTo>
                    <a:pt x="103" y="1302"/>
                  </a:lnTo>
                  <a:lnTo>
                    <a:pt x="92" y="1275"/>
                  </a:lnTo>
                  <a:lnTo>
                    <a:pt x="81" y="1254"/>
                  </a:lnTo>
                  <a:lnTo>
                    <a:pt x="70" y="1232"/>
                  </a:lnTo>
                  <a:lnTo>
                    <a:pt x="59" y="1205"/>
                  </a:lnTo>
                  <a:lnTo>
                    <a:pt x="48" y="1178"/>
                  </a:lnTo>
                  <a:lnTo>
                    <a:pt x="43" y="1151"/>
                  </a:lnTo>
                  <a:lnTo>
                    <a:pt x="32" y="1130"/>
                  </a:lnTo>
                  <a:lnTo>
                    <a:pt x="27" y="1103"/>
                  </a:lnTo>
                  <a:lnTo>
                    <a:pt x="21" y="1076"/>
                  </a:lnTo>
                  <a:lnTo>
                    <a:pt x="16" y="1049"/>
                  </a:lnTo>
                  <a:lnTo>
                    <a:pt x="10" y="1022"/>
                  </a:lnTo>
                  <a:lnTo>
                    <a:pt x="5" y="995"/>
                  </a:lnTo>
                  <a:lnTo>
                    <a:pt x="5" y="968"/>
                  </a:lnTo>
                  <a:lnTo>
                    <a:pt x="0" y="942"/>
                  </a:lnTo>
                  <a:lnTo>
                    <a:pt x="0" y="909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2847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33520" y="2800440"/>
              <a:ext cx="638640" cy="616320"/>
            </a:xfrm>
            <a:custGeom>
              <a:avLst/>
              <a:gdLst/>
              <a:ahLst/>
              <a:rect l="0" t="0" r="r" b="b"/>
              <a:pathLst>
                <a:path w="1774" h="1712">
                  <a:moveTo>
                    <a:pt x="0" y="853"/>
                  </a:moveTo>
                  <a:lnTo>
                    <a:pt x="0" y="826"/>
                  </a:lnTo>
                  <a:lnTo>
                    <a:pt x="0" y="800"/>
                  </a:lnTo>
                  <a:lnTo>
                    <a:pt x="5" y="773"/>
                  </a:lnTo>
                  <a:lnTo>
                    <a:pt x="5" y="741"/>
                  </a:lnTo>
                  <a:lnTo>
                    <a:pt x="10" y="719"/>
                  </a:lnTo>
                  <a:lnTo>
                    <a:pt x="16" y="692"/>
                  </a:lnTo>
                  <a:lnTo>
                    <a:pt x="21" y="660"/>
                  </a:lnTo>
                  <a:lnTo>
                    <a:pt x="27" y="639"/>
                  </a:lnTo>
                  <a:lnTo>
                    <a:pt x="32" y="612"/>
                  </a:lnTo>
                  <a:lnTo>
                    <a:pt x="43" y="585"/>
                  </a:lnTo>
                  <a:lnTo>
                    <a:pt x="54" y="564"/>
                  </a:lnTo>
                  <a:lnTo>
                    <a:pt x="59" y="537"/>
                  </a:lnTo>
                  <a:lnTo>
                    <a:pt x="70" y="510"/>
                  </a:lnTo>
                  <a:lnTo>
                    <a:pt x="81" y="489"/>
                  </a:lnTo>
                  <a:lnTo>
                    <a:pt x="92" y="462"/>
                  </a:lnTo>
                  <a:lnTo>
                    <a:pt x="103" y="440"/>
                  </a:lnTo>
                  <a:lnTo>
                    <a:pt x="119" y="418"/>
                  </a:lnTo>
                  <a:lnTo>
                    <a:pt x="130" y="396"/>
                  </a:lnTo>
                  <a:lnTo>
                    <a:pt x="146" y="375"/>
                  </a:lnTo>
                  <a:lnTo>
                    <a:pt x="162" y="353"/>
                  </a:lnTo>
                  <a:lnTo>
                    <a:pt x="178" y="332"/>
                  </a:lnTo>
                  <a:lnTo>
                    <a:pt x="195" y="311"/>
                  </a:lnTo>
                  <a:lnTo>
                    <a:pt x="211" y="289"/>
                  </a:lnTo>
                  <a:lnTo>
                    <a:pt x="227" y="273"/>
                  </a:lnTo>
                  <a:lnTo>
                    <a:pt x="249" y="252"/>
                  </a:lnTo>
                  <a:lnTo>
                    <a:pt x="265" y="235"/>
                  </a:lnTo>
                  <a:lnTo>
                    <a:pt x="287" y="219"/>
                  </a:lnTo>
                  <a:lnTo>
                    <a:pt x="303" y="203"/>
                  </a:lnTo>
                  <a:lnTo>
                    <a:pt x="325" y="187"/>
                  </a:lnTo>
                  <a:lnTo>
                    <a:pt x="346" y="171"/>
                  </a:lnTo>
                  <a:lnTo>
                    <a:pt x="368" y="155"/>
                  </a:lnTo>
                  <a:lnTo>
                    <a:pt x="390" y="139"/>
                  </a:lnTo>
                  <a:lnTo>
                    <a:pt x="412" y="128"/>
                  </a:lnTo>
                  <a:lnTo>
                    <a:pt x="433" y="112"/>
                  </a:lnTo>
                  <a:lnTo>
                    <a:pt x="461" y="101"/>
                  </a:lnTo>
                  <a:lnTo>
                    <a:pt x="483" y="91"/>
                  </a:lnTo>
                  <a:lnTo>
                    <a:pt x="510" y="80"/>
                  </a:lnTo>
                  <a:lnTo>
                    <a:pt x="532" y="69"/>
                  </a:lnTo>
                  <a:lnTo>
                    <a:pt x="559" y="58"/>
                  </a:lnTo>
                  <a:lnTo>
                    <a:pt x="586" y="48"/>
                  </a:lnTo>
                  <a:lnTo>
                    <a:pt x="608" y="42"/>
                  </a:lnTo>
                  <a:lnTo>
                    <a:pt x="635" y="32"/>
                  </a:lnTo>
                  <a:lnTo>
                    <a:pt x="662" y="21"/>
                  </a:lnTo>
                  <a:lnTo>
                    <a:pt x="689" y="16"/>
                  </a:lnTo>
                  <a:lnTo>
                    <a:pt x="716" y="10"/>
                  </a:lnTo>
                  <a:lnTo>
                    <a:pt x="743" y="10"/>
                  </a:lnTo>
                  <a:lnTo>
                    <a:pt x="770" y="5"/>
                  </a:lnTo>
                  <a:lnTo>
                    <a:pt x="797" y="0"/>
                  </a:lnTo>
                  <a:lnTo>
                    <a:pt x="830" y="0"/>
                  </a:lnTo>
                  <a:lnTo>
                    <a:pt x="857" y="0"/>
                  </a:lnTo>
                  <a:lnTo>
                    <a:pt x="917" y="0"/>
                  </a:lnTo>
                  <a:lnTo>
                    <a:pt x="944" y="0"/>
                  </a:lnTo>
                  <a:lnTo>
                    <a:pt x="971" y="0"/>
                  </a:lnTo>
                  <a:lnTo>
                    <a:pt x="998" y="5"/>
                  </a:lnTo>
                  <a:lnTo>
                    <a:pt x="1031" y="10"/>
                  </a:lnTo>
                  <a:lnTo>
                    <a:pt x="1058" y="10"/>
                  </a:lnTo>
                  <a:lnTo>
                    <a:pt x="1085" y="16"/>
                  </a:lnTo>
                  <a:lnTo>
                    <a:pt x="1106" y="21"/>
                  </a:lnTo>
                  <a:lnTo>
                    <a:pt x="1134" y="32"/>
                  </a:lnTo>
                  <a:lnTo>
                    <a:pt x="1161" y="42"/>
                  </a:lnTo>
                  <a:lnTo>
                    <a:pt x="1188" y="48"/>
                  </a:lnTo>
                  <a:lnTo>
                    <a:pt x="1215" y="58"/>
                  </a:lnTo>
                  <a:lnTo>
                    <a:pt x="1242" y="69"/>
                  </a:lnTo>
                  <a:lnTo>
                    <a:pt x="1264" y="80"/>
                  </a:lnTo>
                  <a:lnTo>
                    <a:pt x="1285" y="91"/>
                  </a:lnTo>
                  <a:lnTo>
                    <a:pt x="1312" y="101"/>
                  </a:lnTo>
                  <a:lnTo>
                    <a:pt x="1335" y="112"/>
                  </a:lnTo>
                  <a:lnTo>
                    <a:pt x="1362" y="128"/>
                  </a:lnTo>
                  <a:lnTo>
                    <a:pt x="1384" y="139"/>
                  </a:lnTo>
                  <a:lnTo>
                    <a:pt x="1406" y="155"/>
                  </a:lnTo>
                  <a:lnTo>
                    <a:pt x="1427" y="171"/>
                  </a:lnTo>
                  <a:lnTo>
                    <a:pt x="1449" y="187"/>
                  </a:lnTo>
                  <a:lnTo>
                    <a:pt x="1465" y="203"/>
                  </a:lnTo>
                  <a:lnTo>
                    <a:pt x="1487" y="219"/>
                  </a:lnTo>
                  <a:lnTo>
                    <a:pt x="1503" y="235"/>
                  </a:lnTo>
                  <a:lnTo>
                    <a:pt x="1525" y="252"/>
                  </a:lnTo>
                  <a:lnTo>
                    <a:pt x="1547" y="273"/>
                  </a:lnTo>
                  <a:lnTo>
                    <a:pt x="1563" y="289"/>
                  </a:lnTo>
                  <a:lnTo>
                    <a:pt x="1579" y="311"/>
                  </a:lnTo>
                  <a:lnTo>
                    <a:pt x="1595" y="332"/>
                  </a:lnTo>
                  <a:lnTo>
                    <a:pt x="1612" y="353"/>
                  </a:lnTo>
                  <a:lnTo>
                    <a:pt x="1622" y="375"/>
                  </a:lnTo>
                  <a:lnTo>
                    <a:pt x="1639" y="396"/>
                  </a:lnTo>
                  <a:lnTo>
                    <a:pt x="1655" y="418"/>
                  </a:lnTo>
                  <a:lnTo>
                    <a:pt x="1666" y="440"/>
                  </a:lnTo>
                  <a:lnTo>
                    <a:pt x="1677" y="462"/>
                  </a:lnTo>
                  <a:lnTo>
                    <a:pt x="1687" y="489"/>
                  </a:lnTo>
                  <a:lnTo>
                    <a:pt x="1704" y="510"/>
                  </a:lnTo>
                  <a:lnTo>
                    <a:pt x="1715" y="537"/>
                  </a:lnTo>
                  <a:lnTo>
                    <a:pt x="1720" y="564"/>
                  </a:lnTo>
                  <a:lnTo>
                    <a:pt x="1731" y="585"/>
                  </a:lnTo>
                  <a:lnTo>
                    <a:pt x="1742" y="612"/>
                  </a:lnTo>
                  <a:lnTo>
                    <a:pt x="1747" y="639"/>
                  </a:lnTo>
                  <a:lnTo>
                    <a:pt x="1753" y="660"/>
                  </a:lnTo>
                  <a:lnTo>
                    <a:pt x="1758" y="692"/>
                  </a:lnTo>
                  <a:lnTo>
                    <a:pt x="1763" y="719"/>
                  </a:lnTo>
                  <a:lnTo>
                    <a:pt x="1769" y="741"/>
                  </a:lnTo>
                  <a:lnTo>
                    <a:pt x="1769" y="773"/>
                  </a:lnTo>
                  <a:lnTo>
                    <a:pt x="1769" y="800"/>
                  </a:lnTo>
                  <a:lnTo>
                    <a:pt x="1774" y="826"/>
                  </a:lnTo>
                  <a:lnTo>
                    <a:pt x="1774" y="853"/>
                  </a:lnTo>
                  <a:lnTo>
                    <a:pt x="1774" y="885"/>
                  </a:lnTo>
                  <a:lnTo>
                    <a:pt x="1769" y="912"/>
                  </a:lnTo>
                  <a:lnTo>
                    <a:pt x="1769" y="939"/>
                  </a:lnTo>
                  <a:lnTo>
                    <a:pt x="1769" y="966"/>
                  </a:lnTo>
                  <a:lnTo>
                    <a:pt x="1763" y="993"/>
                  </a:lnTo>
                  <a:lnTo>
                    <a:pt x="1758" y="1020"/>
                  </a:lnTo>
                  <a:lnTo>
                    <a:pt x="1753" y="1046"/>
                  </a:lnTo>
                  <a:lnTo>
                    <a:pt x="1747" y="1073"/>
                  </a:lnTo>
                  <a:lnTo>
                    <a:pt x="1742" y="1100"/>
                  </a:lnTo>
                  <a:lnTo>
                    <a:pt x="1731" y="1121"/>
                  </a:lnTo>
                  <a:lnTo>
                    <a:pt x="1720" y="1148"/>
                  </a:lnTo>
                  <a:lnTo>
                    <a:pt x="1715" y="1175"/>
                  </a:lnTo>
                  <a:lnTo>
                    <a:pt x="1704" y="1197"/>
                  </a:lnTo>
                  <a:lnTo>
                    <a:pt x="1687" y="1223"/>
                  </a:lnTo>
                  <a:lnTo>
                    <a:pt x="1677" y="1245"/>
                  </a:lnTo>
                  <a:lnTo>
                    <a:pt x="1666" y="1266"/>
                  </a:lnTo>
                  <a:lnTo>
                    <a:pt x="1655" y="1289"/>
                  </a:lnTo>
                  <a:lnTo>
                    <a:pt x="1639" y="1310"/>
                  </a:lnTo>
                  <a:lnTo>
                    <a:pt x="1622" y="1337"/>
                  </a:lnTo>
                  <a:lnTo>
                    <a:pt x="1612" y="1358"/>
                  </a:lnTo>
                  <a:lnTo>
                    <a:pt x="1595" y="1380"/>
                  </a:lnTo>
                  <a:lnTo>
                    <a:pt x="1579" y="1396"/>
                  </a:lnTo>
                  <a:lnTo>
                    <a:pt x="1563" y="1417"/>
                  </a:lnTo>
                  <a:lnTo>
                    <a:pt x="1547" y="1439"/>
                  </a:lnTo>
                  <a:lnTo>
                    <a:pt x="1525" y="1455"/>
                  </a:lnTo>
                  <a:lnTo>
                    <a:pt x="1503" y="1471"/>
                  </a:lnTo>
                  <a:lnTo>
                    <a:pt x="1487" y="1487"/>
                  </a:lnTo>
                  <a:lnTo>
                    <a:pt x="1465" y="1509"/>
                  </a:lnTo>
                  <a:lnTo>
                    <a:pt x="1449" y="1525"/>
                  </a:lnTo>
                  <a:lnTo>
                    <a:pt x="1427" y="1541"/>
                  </a:lnTo>
                  <a:lnTo>
                    <a:pt x="1406" y="1557"/>
                  </a:lnTo>
                  <a:lnTo>
                    <a:pt x="1384" y="1573"/>
                  </a:lnTo>
                  <a:lnTo>
                    <a:pt x="1362" y="1584"/>
                  </a:lnTo>
                  <a:lnTo>
                    <a:pt x="1335" y="1600"/>
                  </a:lnTo>
                  <a:lnTo>
                    <a:pt x="1312" y="1611"/>
                  </a:lnTo>
                  <a:lnTo>
                    <a:pt x="1285" y="1621"/>
                  </a:lnTo>
                  <a:lnTo>
                    <a:pt x="1264" y="1632"/>
                  </a:lnTo>
                  <a:lnTo>
                    <a:pt x="1242" y="1643"/>
                  </a:lnTo>
                  <a:lnTo>
                    <a:pt x="1215" y="1653"/>
                  </a:lnTo>
                  <a:lnTo>
                    <a:pt x="1188" y="1664"/>
                  </a:lnTo>
                  <a:lnTo>
                    <a:pt x="1161" y="1675"/>
                  </a:lnTo>
                  <a:lnTo>
                    <a:pt x="1134" y="1680"/>
                  </a:lnTo>
                  <a:lnTo>
                    <a:pt x="1106" y="1686"/>
                  </a:lnTo>
                  <a:lnTo>
                    <a:pt x="1085" y="1691"/>
                  </a:lnTo>
                  <a:lnTo>
                    <a:pt x="1058" y="1696"/>
                  </a:lnTo>
                  <a:lnTo>
                    <a:pt x="1031" y="1702"/>
                  </a:lnTo>
                  <a:lnTo>
                    <a:pt x="998" y="1707"/>
                  </a:lnTo>
                  <a:lnTo>
                    <a:pt x="971" y="1712"/>
                  </a:lnTo>
                  <a:lnTo>
                    <a:pt x="944" y="1712"/>
                  </a:lnTo>
                  <a:lnTo>
                    <a:pt x="917" y="1712"/>
                  </a:lnTo>
                  <a:lnTo>
                    <a:pt x="884" y="1712"/>
                  </a:lnTo>
                  <a:lnTo>
                    <a:pt x="857" y="1712"/>
                  </a:lnTo>
                  <a:lnTo>
                    <a:pt x="830" y="1712"/>
                  </a:lnTo>
                  <a:lnTo>
                    <a:pt x="797" y="1712"/>
                  </a:lnTo>
                  <a:lnTo>
                    <a:pt x="770" y="1707"/>
                  </a:lnTo>
                  <a:lnTo>
                    <a:pt x="743" y="1702"/>
                  </a:lnTo>
                  <a:lnTo>
                    <a:pt x="716" y="1696"/>
                  </a:lnTo>
                  <a:lnTo>
                    <a:pt x="689" y="1691"/>
                  </a:lnTo>
                  <a:lnTo>
                    <a:pt x="662" y="1686"/>
                  </a:lnTo>
                  <a:lnTo>
                    <a:pt x="635" y="1680"/>
                  </a:lnTo>
                  <a:lnTo>
                    <a:pt x="608" y="1675"/>
                  </a:lnTo>
                  <a:lnTo>
                    <a:pt x="586" y="1664"/>
                  </a:lnTo>
                  <a:lnTo>
                    <a:pt x="559" y="1653"/>
                  </a:lnTo>
                  <a:lnTo>
                    <a:pt x="532" y="1643"/>
                  </a:lnTo>
                  <a:lnTo>
                    <a:pt x="510" y="1632"/>
                  </a:lnTo>
                  <a:lnTo>
                    <a:pt x="483" y="1621"/>
                  </a:lnTo>
                  <a:lnTo>
                    <a:pt x="461" y="1611"/>
                  </a:lnTo>
                  <a:lnTo>
                    <a:pt x="433" y="1600"/>
                  </a:lnTo>
                  <a:lnTo>
                    <a:pt x="412" y="1584"/>
                  </a:lnTo>
                  <a:lnTo>
                    <a:pt x="390" y="1573"/>
                  </a:lnTo>
                  <a:lnTo>
                    <a:pt x="368" y="1557"/>
                  </a:lnTo>
                  <a:lnTo>
                    <a:pt x="346" y="1541"/>
                  </a:lnTo>
                  <a:lnTo>
                    <a:pt x="325" y="1525"/>
                  </a:lnTo>
                  <a:lnTo>
                    <a:pt x="303" y="1509"/>
                  </a:lnTo>
                  <a:lnTo>
                    <a:pt x="287" y="1487"/>
                  </a:lnTo>
                  <a:lnTo>
                    <a:pt x="265" y="1471"/>
                  </a:lnTo>
                  <a:lnTo>
                    <a:pt x="249" y="1455"/>
                  </a:lnTo>
                  <a:lnTo>
                    <a:pt x="227" y="1439"/>
                  </a:lnTo>
                  <a:lnTo>
                    <a:pt x="211" y="1417"/>
                  </a:lnTo>
                  <a:lnTo>
                    <a:pt x="195" y="1396"/>
                  </a:lnTo>
                  <a:lnTo>
                    <a:pt x="178" y="1380"/>
                  </a:lnTo>
                  <a:lnTo>
                    <a:pt x="162" y="1358"/>
                  </a:lnTo>
                  <a:lnTo>
                    <a:pt x="146" y="1337"/>
                  </a:lnTo>
                  <a:lnTo>
                    <a:pt x="130" y="1310"/>
                  </a:lnTo>
                  <a:lnTo>
                    <a:pt x="119" y="1289"/>
                  </a:lnTo>
                  <a:lnTo>
                    <a:pt x="103" y="1266"/>
                  </a:lnTo>
                  <a:lnTo>
                    <a:pt x="92" y="1245"/>
                  </a:lnTo>
                  <a:lnTo>
                    <a:pt x="81" y="1223"/>
                  </a:lnTo>
                  <a:lnTo>
                    <a:pt x="70" y="1197"/>
                  </a:lnTo>
                  <a:lnTo>
                    <a:pt x="59" y="1175"/>
                  </a:lnTo>
                  <a:lnTo>
                    <a:pt x="54" y="1148"/>
                  </a:lnTo>
                  <a:lnTo>
                    <a:pt x="43" y="1121"/>
                  </a:lnTo>
                  <a:lnTo>
                    <a:pt x="32" y="1100"/>
                  </a:lnTo>
                  <a:lnTo>
                    <a:pt x="27" y="1073"/>
                  </a:lnTo>
                  <a:lnTo>
                    <a:pt x="21" y="1046"/>
                  </a:lnTo>
                  <a:lnTo>
                    <a:pt x="16" y="1020"/>
                  </a:lnTo>
                  <a:lnTo>
                    <a:pt x="10" y="993"/>
                  </a:lnTo>
                  <a:lnTo>
                    <a:pt x="5" y="966"/>
                  </a:lnTo>
                  <a:lnTo>
                    <a:pt x="5" y="939"/>
                  </a:lnTo>
                  <a:lnTo>
                    <a:pt x="0" y="912"/>
                  </a:lnTo>
                  <a:lnTo>
                    <a:pt x="0" y="885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2b4c9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1440" y="2803680"/>
              <a:ext cx="621000" cy="603720"/>
            </a:xfrm>
            <a:custGeom>
              <a:avLst/>
              <a:gdLst/>
              <a:ahLst/>
              <a:rect l="0" t="0" r="r" b="b"/>
              <a:pathLst>
                <a:path w="1725" h="1677">
                  <a:moveTo>
                    <a:pt x="0" y="838"/>
                  </a:moveTo>
                  <a:lnTo>
                    <a:pt x="0" y="806"/>
                  </a:lnTo>
                  <a:lnTo>
                    <a:pt x="0" y="779"/>
                  </a:lnTo>
                  <a:lnTo>
                    <a:pt x="5" y="752"/>
                  </a:lnTo>
                  <a:lnTo>
                    <a:pt x="5" y="726"/>
                  </a:lnTo>
                  <a:lnTo>
                    <a:pt x="10" y="699"/>
                  </a:lnTo>
                  <a:lnTo>
                    <a:pt x="16" y="672"/>
                  </a:lnTo>
                  <a:lnTo>
                    <a:pt x="21" y="645"/>
                  </a:lnTo>
                  <a:lnTo>
                    <a:pt x="27" y="618"/>
                  </a:lnTo>
                  <a:lnTo>
                    <a:pt x="37" y="591"/>
                  </a:lnTo>
                  <a:lnTo>
                    <a:pt x="43" y="564"/>
                  </a:lnTo>
                  <a:lnTo>
                    <a:pt x="54" y="543"/>
                  </a:lnTo>
                  <a:lnTo>
                    <a:pt x="65" y="516"/>
                  </a:lnTo>
                  <a:lnTo>
                    <a:pt x="70" y="489"/>
                  </a:lnTo>
                  <a:lnTo>
                    <a:pt x="86" y="468"/>
                  </a:lnTo>
                  <a:lnTo>
                    <a:pt x="97" y="446"/>
                  </a:lnTo>
                  <a:lnTo>
                    <a:pt x="113" y="418"/>
                  </a:lnTo>
                  <a:lnTo>
                    <a:pt x="124" y="397"/>
                  </a:lnTo>
                  <a:lnTo>
                    <a:pt x="140" y="375"/>
                  </a:lnTo>
                  <a:lnTo>
                    <a:pt x="157" y="354"/>
                  </a:lnTo>
                  <a:lnTo>
                    <a:pt x="168" y="332"/>
                  </a:lnTo>
                  <a:lnTo>
                    <a:pt x="184" y="311"/>
                  </a:lnTo>
                  <a:lnTo>
                    <a:pt x="200" y="290"/>
                  </a:lnTo>
                  <a:lnTo>
                    <a:pt x="222" y="273"/>
                  </a:lnTo>
                  <a:lnTo>
                    <a:pt x="238" y="252"/>
                  </a:lnTo>
                  <a:lnTo>
                    <a:pt x="260" y="236"/>
                  </a:lnTo>
                  <a:lnTo>
                    <a:pt x="276" y="220"/>
                  </a:lnTo>
                  <a:lnTo>
                    <a:pt x="298" y="204"/>
                  </a:lnTo>
                  <a:lnTo>
                    <a:pt x="319" y="187"/>
                  </a:lnTo>
                  <a:lnTo>
                    <a:pt x="341" y="166"/>
                  </a:lnTo>
                  <a:lnTo>
                    <a:pt x="363" y="150"/>
                  </a:lnTo>
                  <a:lnTo>
                    <a:pt x="384" y="139"/>
                  </a:lnTo>
                  <a:lnTo>
                    <a:pt x="406" y="123"/>
                  </a:lnTo>
                  <a:lnTo>
                    <a:pt x="428" y="112"/>
                  </a:lnTo>
                  <a:lnTo>
                    <a:pt x="455" y="102"/>
                  </a:lnTo>
                  <a:lnTo>
                    <a:pt x="482" y="85"/>
                  </a:lnTo>
                  <a:lnTo>
                    <a:pt x="504" y="75"/>
                  </a:lnTo>
                  <a:lnTo>
                    <a:pt x="531" y="64"/>
                  </a:lnTo>
                  <a:lnTo>
                    <a:pt x="553" y="59"/>
                  </a:lnTo>
                  <a:lnTo>
                    <a:pt x="580" y="48"/>
                  </a:lnTo>
                  <a:lnTo>
                    <a:pt x="607" y="37"/>
                  </a:lnTo>
                  <a:lnTo>
                    <a:pt x="634" y="32"/>
                  </a:lnTo>
                  <a:lnTo>
                    <a:pt x="661" y="26"/>
                  </a:lnTo>
                  <a:lnTo>
                    <a:pt x="688" y="16"/>
                  </a:lnTo>
                  <a:lnTo>
                    <a:pt x="715" y="10"/>
                  </a:lnTo>
                  <a:lnTo>
                    <a:pt x="748" y="10"/>
                  </a:lnTo>
                  <a:lnTo>
                    <a:pt x="775" y="5"/>
                  </a:lnTo>
                  <a:lnTo>
                    <a:pt x="802" y="5"/>
                  </a:lnTo>
                  <a:lnTo>
                    <a:pt x="834" y="0"/>
                  </a:lnTo>
                  <a:lnTo>
                    <a:pt x="890" y="0"/>
                  </a:lnTo>
                  <a:lnTo>
                    <a:pt x="917" y="5"/>
                  </a:lnTo>
                  <a:lnTo>
                    <a:pt x="949" y="5"/>
                  </a:lnTo>
                  <a:lnTo>
                    <a:pt x="976" y="10"/>
                  </a:lnTo>
                  <a:lnTo>
                    <a:pt x="1004" y="10"/>
                  </a:lnTo>
                  <a:lnTo>
                    <a:pt x="1031" y="16"/>
                  </a:lnTo>
                  <a:lnTo>
                    <a:pt x="1058" y="26"/>
                  </a:lnTo>
                  <a:lnTo>
                    <a:pt x="1085" y="32"/>
                  </a:lnTo>
                  <a:lnTo>
                    <a:pt x="1112" y="37"/>
                  </a:lnTo>
                  <a:lnTo>
                    <a:pt x="1139" y="48"/>
                  </a:lnTo>
                  <a:lnTo>
                    <a:pt x="1166" y="59"/>
                  </a:lnTo>
                  <a:lnTo>
                    <a:pt x="1193" y="64"/>
                  </a:lnTo>
                  <a:lnTo>
                    <a:pt x="1220" y="75"/>
                  </a:lnTo>
                  <a:lnTo>
                    <a:pt x="1242" y="85"/>
                  </a:lnTo>
                  <a:lnTo>
                    <a:pt x="1264" y="102"/>
                  </a:lnTo>
                  <a:lnTo>
                    <a:pt x="1291" y="112"/>
                  </a:lnTo>
                  <a:lnTo>
                    <a:pt x="1313" y="123"/>
                  </a:lnTo>
                  <a:lnTo>
                    <a:pt x="1340" y="139"/>
                  </a:lnTo>
                  <a:lnTo>
                    <a:pt x="1361" y="150"/>
                  </a:lnTo>
                  <a:lnTo>
                    <a:pt x="1383" y="166"/>
                  </a:lnTo>
                  <a:lnTo>
                    <a:pt x="1405" y="187"/>
                  </a:lnTo>
                  <a:lnTo>
                    <a:pt x="1421" y="204"/>
                  </a:lnTo>
                  <a:lnTo>
                    <a:pt x="1443" y="220"/>
                  </a:lnTo>
                  <a:lnTo>
                    <a:pt x="1459" y="236"/>
                  </a:lnTo>
                  <a:lnTo>
                    <a:pt x="1481" y="252"/>
                  </a:lnTo>
                  <a:lnTo>
                    <a:pt x="1502" y="273"/>
                  </a:lnTo>
                  <a:lnTo>
                    <a:pt x="1519" y="290"/>
                  </a:lnTo>
                  <a:lnTo>
                    <a:pt x="1535" y="311"/>
                  </a:lnTo>
                  <a:lnTo>
                    <a:pt x="1551" y="332"/>
                  </a:lnTo>
                  <a:lnTo>
                    <a:pt x="1567" y="354"/>
                  </a:lnTo>
                  <a:lnTo>
                    <a:pt x="1584" y="375"/>
                  </a:lnTo>
                  <a:lnTo>
                    <a:pt x="1600" y="397"/>
                  </a:lnTo>
                  <a:lnTo>
                    <a:pt x="1611" y="418"/>
                  </a:lnTo>
                  <a:lnTo>
                    <a:pt x="1627" y="446"/>
                  </a:lnTo>
                  <a:lnTo>
                    <a:pt x="1638" y="468"/>
                  </a:lnTo>
                  <a:lnTo>
                    <a:pt x="1649" y="489"/>
                  </a:lnTo>
                  <a:lnTo>
                    <a:pt x="1660" y="516"/>
                  </a:lnTo>
                  <a:lnTo>
                    <a:pt x="1670" y="543"/>
                  </a:lnTo>
                  <a:lnTo>
                    <a:pt x="1681" y="564"/>
                  </a:lnTo>
                  <a:lnTo>
                    <a:pt x="1687" y="591"/>
                  </a:lnTo>
                  <a:lnTo>
                    <a:pt x="1692" y="618"/>
                  </a:lnTo>
                  <a:lnTo>
                    <a:pt x="1703" y="645"/>
                  </a:lnTo>
                  <a:lnTo>
                    <a:pt x="1708" y="672"/>
                  </a:lnTo>
                  <a:lnTo>
                    <a:pt x="1714" y="699"/>
                  </a:lnTo>
                  <a:lnTo>
                    <a:pt x="1714" y="726"/>
                  </a:lnTo>
                  <a:lnTo>
                    <a:pt x="1719" y="752"/>
                  </a:lnTo>
                  <a:lnTo>
                    <a:pt x="1719" y="779"/>
                  </a:lnTo>
                  <a:lnTo>
                    <a:pt x="1725" y="806"/>
                  </a:lnTo>
                  <a:lnTo>
                    <a:pt x="1725" y="838"/>
                  </a:lnTo>
                  <a:lnTo>
                    <a:pt x="1725" y="865"/>
                  </a:lnTo>
                  <a:lnTo>
                    <a:pt x="1719" y="897"/>
                  </a:lnTo>
                  <a:lnTo>
                    <a:pt x="1719" y="924"/>
                  </a:lnTo>
                  <a:lnTo>
                    <a:pt x="1714" y="951"/>
                  </a:lnTo>
                  <a:lnTo>
                    <a:pt x="1714" y="978"/>
                  </a:lnTo>
                  <a:lnTo>
                    <a:pt x="1708" y="1005"/>
                  </a:lnTo>
                  <a:lnTo>
                    <a:pt x="1703" y="1032"/>
                  </a:lnTo>
                  <a:lnTo>
                    <a:pt x="1692" y="1059"/>
                  </a:lnTo>
                  <a:lnTo>
                    <a:pt x="1687" y="1085"/>
                  </a:lnTo>
                  <a:lnTo>
                    <a:pt x="1681" y="1107"/>
                  </a:lnTo>
                  <a:lnTo>
                    <a:pt x="1670" y="1134"/>
                  </a:lnTo>
                  <a:lnTo>
                    <a:pt x="1660" y="1161"/>
                  </a:lnTo>
                  <a:lnTo>
                    <a:pt x="1649" y="1182"/>
                  </a:lnTo>
                  <a:lnTo>
                    <a:pt x="1638" y="1209"/>
                  </a:lnTo>
                  <a:lnTo>
                    <a:pt x="1627" y="1230"/>
                  </a:lnTo>
                  <a:lnTo>
                    <a:pt x="1611" y="1257"/>
                  </a:lnTo>
                  <a:lnTo>
                    <a:pt x="1600" y="1280"/>
                  </a:lnTo>
                  <a:lnTo>
                    <a:pt x="1584" y="1301"/>
                  </a:lnTo>
                  <a:lnTo>
                    <a:pt x="1567" y="1323"/>
                  </a:lnTo>
                  <a:lnTo>
                    <a:pt x="1551" y="1344"/>
                  </a:lnTo>
                  <a:lnTo>
                    <a:pt x="1535" y="1366"/>
                  </a:lnTo>
                  <a:lnTo>
                    <a:pt x="1519" y="1382"/>
                  </a:lnTo>
                  <a:lnTo>
                    <a:pt x="1502" y="1403"/>
                  </a:lnTo>
                  <a:lnTo>
                    <a:pt x="1481" y="1419"/>
                  </a:lnTo>
                  <a:lnTo>
                    <a:pt x="1459" y="1441"/>
                  </a:lnTo>
                  <a:lnTo>
                    <a:pt x="1443" y="1457"/>
                  </a:lnTo>
                  <a:lnTo>
                    <a:pt x="1421" y="1478"/>
                  </a:lnTo>
                  <a:lnTo>
                    <a:pt x="1405" y="1495"/>
                  </a:lnTo>
                  <a:lnTo>
                    <a:pt x="1383" y="1511"/>
                  </a:lnTo>
                  <a:lnTo>
                    <a:pt x="1361" y="1527"/>
                  </a:lnTo>
                  <a:lnTo>
                    <a:pt x="1340" y="1543"/>
                  </a:lnTo>
                  <a:lnTo>
                    <a:pt x="1313" y="1554"/>
                  </a:lnTo>
                  <a:lnTo>
                    <a:pt x="1291" y="1564"/>
                  </a:lnTo>
                  <a:lnTo>
                    <a:pt x="1264" y="1581"/>
                  </a:lnTo>
                  <a:lnTo>
                    <a:pt x="1242" y="1591"/>
                  </a:lnTo>
                  <a:lnTo>
                    <a:pt x="1220" y="1602"/>
                  </a:lnTo>
                  <a:lnTo>
                    <a:pt x="1193" y="1613"/>
                  </a:lnTo>
                  <a:lnTo>
                    <a:pt x="1166" y="1623"/>
                  </a:lnTo>
                  <a:lnTo>
                    <a:pt x="1139" y="1629"/>
                  </a:lnTo>
                  <a:lnTo>
                    <a:pt x="1112" y="1640"/>
                  </a:lnTo>
                  <a:lnTo>
                    <a:pt x="1085" y="1650"/>
                  </a:lnTo>
                  <a:lnTo>
                    <a:pt x="1058" y="1656"/>
                  </a:lnTo>
                  <a:lnTo>
                    <a:pt x="1031" y="1661"/>
                  </a:lnTo>
                  <a:lnTo>
                    <a:pt x="1004" y="1666"/>
                  </a:lnTo>
                  <a:lnTo>
                    <a:pt x="976" y="1672"/>
                  </a:lnTo>
                  <a:lnTo>
                    <a:pt x="949" y="1672"/>
                  </a:lnTo>
                  <a:lnTo>
                    <a:pt x="917" y="1672"/>
                  </a:lnTo>
                  <a:lnTo>
                    <a:pt x="890" y="1677"/>
                  </a:lnTo>
                  <a:lnTo>
                    <a:pt x="863" y="1677"/>
                  </a:lnTo>
                  <a:lnTo>
                    <a:pt x="834" y="1677"/>
                  </a:lnTo>
                  <a:lnTo>
                    <a:pt x="802" y="1672"/>
                  </a:lnTo>
                  <a:lnTo>
                    <a:pt x="775" y="1672"/>
                  </a:lnTo>
                  <a:lnTo>
                    <a:pt x="748" y="1672"/>
                  </a:lnTo>
                  <a:lnTo>
                    <a:pt x="715" y="1666"/>
                  </a:lnTo>
                  <a:lnTo>
                    <a:pt x="688" y="1661"/>
                  </a:lnTo>
                  <a:lnTo>
                    <a:pt x="661" y="1656"/>
                  </a:lnTo>
                  <a:lnTo>
                    <a:pt x="634" y="1650"/>
                  </a:lnTo>
                  <a:lnTo>
                    <a:pt x="607" y="1640"/>
                  </a:lnTo>
                  <a:lnTo>
                    <a:pt x="580" y="1629"/>
                  </a:lnTo>
                  <a:lnTo>
                    <a:pt x="553" y="1623"/>
                  </a:lnTo>
                  <a:lnTo>
                    <a:pt x="531" y="1613"/>
                  </a:lnTo>
                  <a:lnTo>
                    <a:pt x="504" y="1602"/>
                  </a:lnTo>
                  <a:lnTo>
                    <a:pt x="482" y="1591"/>
                  </a:lnTo>
                  <a:lnTo>
                    <a:pt x="455" y="1581"/>
                  </a:lnTo>
                  <a:lnTo>
                    <a:pt x="428" y="1564"/>
                  </a:lnTo>
                  <a:lnTo>
                    <a:pt x="406" y="1554"/>
                  </a:lnTo>
                  <a:lnTo>
                    <a:pt x="384" y="1543"/>
                  </a:lnTo>
                  <a:lnTo>
                    <a:pt x="363" y="1527"/>
                  </a:lnTo>
                  <a:lnTo>
                    <a:pt x="341" y="1511"/>
                  </a:lnTo>
                  <a:lnTo>
                    <a:pt x="319" y="1495"/>
                  </a:lnTo>
                  <a:lnTo>
                    <a:pt x="298" y="1478"/>
                  </a:lnTo>
                  <a:lnTo>
                    <a:pt x="276" y="1457"/>
                  </a:lnTo>
                  <a:lnTo>
                    <a:pt x="260" y="1441"/>
                  </a:lnTo>
                  <a:lnTo>
                    <a:pt x="238" y="1419"/>
                  </a:lnTo>
                  <a:lnTo>
                    <a:pt x="222" y="1403"/>
                  </a:lnTo>
                  <a:lnTo>
                    <a:pt x="200" y="1382"/>
                  </a:lnTo>
                  <a:lnTo>
                    <a:pt x="184" y="1366"/>
                  </a:lnTo>
                  <a:lnTo>
                    <a:pt x="168" y="1344"/>
                  </a:lnTo>
                  <a:lnTo>
                    <a:pt x="157" y="1323"/>
                  </a:lnTo>
                  <a:lnTo>
                    <a:pt x="140" y="1301"/>
                  </a:lnTo>
                  <a:lnTo>
                    <a:pt x="124" y="1280"/>
                  </a:lnTo>
                  <a:lnTo>
                    <a:pt x="113" y="1257"/>
                  </a:lnTo>
                  <a:lnTo>
                    <a:pt x="97" y="1230"/>
                  </a:lnTo>
                  <a:lnTo>
                    <a:pt x="86" y="1209"/>
                  </a:lnTo>
                  <a:lnTo>
                    <a:pt x="70" y="1182"/>
                  </a:lnTo>
                  <a:lnTo>
                    <a:pt x="65" y="1161"/>
                  </a:lnTo>
                  <a:lnTo>
                    <a:pt x="54" y="1134"/>
                  </a:lnTo>
                  <a:lnTo>
                    <a:pt x="43" y="1107"/>
                  </a:lnTo>
                  <a:lnTo>
                    <a:pt x="37" y="1085"/>
                  </a:lnTo>
                  <a:lnTo>
                    <a:pt x="27" y="1059"/>
                  </a:lnTo>
                  <a:lnTo>
                    <a:pt x="21" y="1032"/>
                  </a:lnTo>
                  <a:lnTo>
                    <a:pt x="16" y="1005"/>
                  </a:lnTo>
                  <a:lnTo>
                    <a:pt x="10" y="978"/>
                  </a:lnTo>
                  <a:lnTo>
                    <a:pt x="5" y="951"/>
                  </a:lnTo>
                  <a:lnTo>
                    <a:pt x="5" y="924"/>
                  </a:lnTo>
                  <a:lnTo>
                    <a:pt x="0" y="897"/>
                  </a:lnTo>
                  <a:lnTo>
                    <a:pt x="0" y="865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3051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52600" y="2809800"/>
              <a:ext cx="601920" cy="584640"/>
            </a:xfrm>
            <a:custGeom>
              <a:avLst/>
              <a:gdLst/>
              <a:ahLst/>
              <a:rect l="0" t="0" r="r" b="b"/>
              <a:pathLst>
                <a:path w="1672" h="1624">
                  <a:moveTo>
                    <a:pt x="0" y="809"/>
                  </a:moveTo>
                  <a:lnTo>
                    <a:pt x="0" y="782"/>
                  </a:lnTo>
                  <a:lnTo>
                    <a:pt x="0" y="756"/>
                  </a:lnTo>
                  <a:lnTo>
                    <a:pt x="5" y="729"/>
                  </a:lnTo>
                  <a:lnTo>
                    <a:pt x="5" y="702"/>
                  </a:lnTo>
                  <a:lnTo>
                    <a:pt x="10" y="675"/>
                  </a:lnTo>
                  <a:lnTo>
                    <a:pt x="16" y="643"/>
                  </a:lnTo>
                  <a:lnTo>
                    <a:pt x="21" y="616"/>
                  </a:lnTo>
                  <a:lnTo>
                    <a:pt x="27" y="590"/>
                  </a:lnTo>
                  <a:lnTo>
                    <a:pt x="37" y="568"/>
                  </a:lnTo>
                  <a:lnTo>
                    <a:pt x="43" y="541"/>
                  </a:lnTo>
                  <a:lnTo>
                    <a:pt x="54" y="515"/>
                  </a:lnTo>
                  <a:lnTo>
                    <a:pt x="59" y="488"/>
                  </a:lnTo>
                  <a:lnTo>
                    <a:pt x="75" y="466"/>
                  </a:lnTo>
                  <a:lnTo>
                    <a:pt x="86" y="445"/>
                  </a:lnTo>
                  <a:lnTo>
                    <a:pt x="97" y="424"/>
                  </a:lnTo>
                  <a:lnTo>
                    <a:pt x="113" y="396"/>
                  </a:lnTo>
                  <a:lnTo>
                    <a:pt x="124" y="374"/>
                  </a:lnTo>
                  <a:lnTo>
                    <a:pt x="140" y="353"/>
                  </a:lnTo>
                  <a:lnTo>
                    <a:pt x="156" y="332"/>
                  </a:lnTo>
                  <a:lnTo>
                    <a:pt x="167" y="310"/>
                  </a:lnTo>
                  <a:lnTo>
                    <a:pt x="189" y="289"/>
                  </a:lnTo>
                  <a:lnTo>
                    <a:pt x="205" y="273"/>
                  </a:lnTo>
                  <a:lnTo>
                    <a:pt x="221" y="251"/>
                  </a:lnTo>
                  <a:lnTo>
                    <a:pt x="237" y="235"/>
                  </a:lnTo>
                  <a:lnTo>
                    <a:pt x="259" y="214"/>
                  </a:lnTo>
                  <a:lnTo>
                    <a:pt x="281" y="203"/>
                  </a:lnTo>
                  <a:lnTo>
                    <a:pt x="302" y="187"/>
                  </a:lnTo>
                  <a:lnTo>
                    <a:pt x="319" y="171"/>
                  </a:lnTo>
                  <a:lnTo>
                    <a:pt x="340" y="149"/>
                  </a:lnTo>
                  <a:lnTo>
                    <a:pt x="362" y="139"/>
                  </a:lnTo>
                  <a:lnTo>
                    <a:pt x="384" y="123"/>
                  </a:lnTo>
                  <a:lnTo>
                    <a:pt x="405" y="107"/>
                  </a:lnTo>
                  <a:lnTo>
                    <a:pt x="432" y="96"/>
                  </a:lnTo>
                  <a:lnTo>
                    <a:pt x="459" y="85"/>
                  </a:lnTo>
                  <a:lnTo>
                    <a:pt x="481" y="74"/>
                  </a:lnTo>
                  <a:lnTo>
                    <a:pt x="508" y="64"/>
                  </a:lnTo>
                  <a:lnTo>
                    <a:pt x="530" y="53"/>
                  </a:lnTo>
                  <a:lnTo>
                    <a:pt x="557" y="48"/>
                  </a:lnTo>
                  <a:lnTo>
                    <a:pt x="584" y="37"/>
                  </a:lnTo>
                  <a:lnTo>
                    <a:pt x="611" y="26"/>
                  </a:lnTo>
                  <a:lnTo>
                    <a:pt x="638" y="21"/>
                  </a:lnTo>
                  <a:lnTo>
                    <a:pt x="665" y="16"/>
                  </a:lnTo>
                  <a:lnTo>
                    <a:pt x="692" y="10"/>
                  </a:lnTo>
                  <a:lnTo>
                    <a:pt x="719" y="10"/>
                  </a:lnTo>
                  <a:lnTo>
                    <a:pt x="746" y="5"/>
                  </a:lnTo>
                  <a:lnTo>
                    <a:pt x="778" y="0"/>
                  </a:lnTo>
                  <a:lnTo>
                    <a:pt x="805" y="0"/>
                  </a:lnTo>
                  <a:lnTo>
                    <a:pt x="860" y="0"/>
                  </a:lnTo>
                  <a:lnTo>
                    <a:pt x="893" y="0"/>
                  </a:lnTo>
                  <a:lnTo>
                    <a:pt x="920" y="5"/>
                  </a:lnTo>
                  <a:lnTo>
                    <a:pt x="952" y="10"/>
                  </a:lnTo>
                  <a:lnTo>
                    <a:pt x="974" y="10"/>
                  </a:lnTo>
                  <a:lnTo>
                    <a:pt x="1007" y="16"/>
                  </a:lnTo>
                  <a:lnTo>
                    <a:pt x="1034" y="21"/>
                  </a:lnTo>
                  <a:lnTo>
                    <a:pt x="1055" y="26"/>
                  </a:lnTo>
                  <a:lnTo>
                    <a:pt x="1082" y="37"/>
                  </a:lnTo>
                  <a:lnTo>
                    <a:pt x="1109" y="48"/>
                  </a:lnTo>
                  <a:lnTo>
                    <a:pt x="1136" y="53"/>
                  </a:lnTo>
                  <a:lnTo>
                    <a:pt x="1163" y="64"/>
                  </a:lnTo>
                  <a:lnTo>
                    <a:pt x="1185" y="74"/>
                  </a:lnTo>
                  <a:lnTo>
                    <a:pt x="1212" y="85"/>
                  </a:lnTo>
                  <a:lnTo>
                    <a:pt x="1234" y="96"/>
                  </a:lnTo>
                  <a:lnTo>
                    <a:pt x="1255" y="107"/>
                  </a:lnTo>
                  <a:lnTo>
                    <a:pt x="1282" y="123"/>
                  </a:lnTo>
                  <a:lnTo>
                    <a:pt x="1304" y="139"/>
                  </a:lnTo>
                  <a:lnTo>
                    <a:pt x="1326" y="149"/>
                  </a:lnTo>
                  <a:lnTo>
                    <a:pt x="1347" y="171"/>
                  </a:lnTo>
                  <a:lnTo>
                    <a:pt x="1369" y="187"/>
                  </a:lnTo>
                  <a:lnTo>
                    <a:pt x="1391" y="203"/>
                  </a:lnTo>
                  <a:lnTo>
                    <a:pt x="1407" y="214"/>
                  </a:lnTo>
                  <a:lnTo>
                    <a:pt x="1428" y="235"/>
                  </a:lnTo>
                  <a:lnTo>
                    <a:pt x="1445" y="251"/>
                  </a:lnTo>
                  <a:lnTo>
                    <a:pt x="1466" y="273"/>
                  </a:lnTo>
                  <a:lnTo>
                    <a:pt x="1482" y="289"/>
                  </a:lnTo>
                  <a:lnTo>
                    <a:pt x="1499" y="310"/>
                  </a:lnTo>
                  <a:lnTo>
                    <a:pt x="1515" y="332"/>
                  </a:lnTo>
                  <a:lnTo>
                    <a:pt x="1531" y="353"/>
                  </a:lnTo>
                  <a:lnTo>
                    <a:pt x="1542" y="374"/>
                  </a:lnTo>
                  <a:lnTo>
                    <a:pt x="1558" y="396"/>
                  </a:lnTo>
                  <a:lnTo>
                    <a:pt x="1569" y="424"/>
                  </a:lnTo>
                  <a:lnTo>
                    <a:pt x="1580" y="445"/>
                  </a:lnTo>
                  <a:lnTo>
                    <a:pt x="1596" y="466"/>
                  </a:lnTo>
                  <a:lnTo>
                    <a:pt x="1607" y="488"/>
                  </a:lnTo>
                  <a:lnTo>
                    <a:pt x="1612" y="515"/>
                  </a:lnTo>
                  <a:lnTo>
                    <a:pt x="1623" y="541"/>
                  </a:lnTo>
                  <a:lnTo>
                    <a:pt x="1634" y="568"/>
                  </a:lnTo>
                  <a:lnTo>
                    <a:pt x="1645" y="590"/>
                  </a:lnTo>
                  <a:lnTo>
                    <a:pt x="1650" y="616"/>
                  </a:lnTo>
                  <a:lnTo>
                    <a:pt x="1656" y="643"/>
                  </a:lnTo>
                  <a:lnTo>
                    <a:pt x="1661" y="675"/>
                  </a:lnTo>
                  <a:lnTo>
                    <a:pt x="1661" y="702"/>
                  </a:lnTo>
                  <a:lnTo>
                    <a:pt x="1666" y="729"/>
                  </a:lnTo>
                  <a:lnTo>
                    <a:pt x="1672" y="756"/>
                  </a:lnTo>
                  <a:lnTo>
                    <a:pt x="1672" y="782"/>
                  </a:lnTo>
                  <a:lnTo>
                    <a:pt x="1672" y="809"/>
                  </a:lnTo>
                  <a:lnTo>
                    <a:pt x="1672" y="841"/>
                  </a:lnTo>
                  <a:lnTo>
                    <a:pt x="1672" y="868"/>
                  </a:lnTo>
                  <a:lnTo>
                    <a:pt x="1666" y="895"/>
                  </a:lnTo>
                  <a:lnTo>
                    <a:pt x="1661" y="922"/>
                  </a:lnTo>
                  <a:lnTo>
                    <a:pt x="1661" y="948"/>
                  </a:lnTo>
                  <a:lnTo>
                    <a:pt x="1656" y="975"/>
                  </a:lnTo>
                  <a:lnTo>
                    <a:pt x="1650" y="1002"/>
                  </a:lnTo>
                  <a:lnTo>
                    <a:pt x="1645" y="1029"/>
                  </a:lnTo>
                  <a:lnTo>
                    <a:pt x="1634" y="1056"/>
                  </a:lnTo>
                  <a:lnTo>
                    <a:pt x="1623" y="1077"/>
                  </a:lnTo>
                  <a:lnTo>
                    <a:pt x="1612" y="1104"/>
                  </a:lnTo>
                  <a:lnTo>
                    <a:pt x="1607" y="1131"/>
                  </a:lnTo>
                  <a:lnTo>
                    <a:pt x="1596" y="1157"/>
                  </a:lnTo>
                  <a:lnTo>
                    <a:pt x="1580" y="1179"/>
                  </a:lnTo>
                  <a:lnTo>
                    <a:pt x="1569" y="1200"/>
                  </a:lnTo>
                  <a:lnTo>
                    <a:pt x="1558" y="1223"/>
                  </a:lnTo>
                  <a:lnTo>
                    <a:pt x="1542" y="1244"/>
                  </a:lnTo>
                  <a:lnTo>
                    <a:pt x="1531" y="1265"/>
                  </a:lnTo>
                  <a:lnTo>
                    <a:pt x="1515" y="1287"/>
                  </a:lnTo>
                  <a:lnTo>
                    <a:pt x="1499" y="1314"/>
                  </a:lnTo>
                  <a:lnTo>
                    <a:pt x="1482" y="1330"/>
                  </a:lnTo>
                  <a:lnTo>
                    <a:pt x="1466" y="1351"/>
                  </a:lnTo>
                  <a:lnTo>
                    <a:pt x="1445" y="1373"/>
                  </a:lnTo>
                  <a:lnTo>
                    <a:pt x="1428" y="1389"/>
                  </a:lnTo>
                  <a:lnTo>
                    <a:pt x="1407" y="1405"/>
                  </a:lnTo>
                  <a:lnTo>
                    <a:pt x="1391" y="1421"/>
                  </a:lnTo>
                  <a:lnTo>
                    <a:pt x="1369" y="1437"/>
                  </a:lnTo>
                  <a:lnTo>
                    <a:pt x="1347" y="1458"/>
                  </a:lnTo>
                  <a:lnTo>
                    <a:pt x="1326" y="1474"/>
                  </a:lnTo>
                  <a:lnTo>
                    <a:pt x="1304" y="1490"/>
                  </a:lnTo>
                  <a:lnTo>
                    <a:pt x="1282" y="1501"/>
                  </a:lnTo>
                  <a:lnTo>
                    <a:pt x="1255" y="1512"/>
                  </a:lnTo>
                  <a:lnTo>
                    <a:pt x="1234" y="1528"/>
                  </a:lnTo>
                  <a:lnTo>
                    <a:pt x="1212" y="1539"/>
                  </a:lnTo>
                  <a:lnTo>
                    <a:pt x="1185" y="1549"/>
                  </a:lnTo>
                  <a:lnTo>
                    <a:pt x="1163" y="1560"/>
                  </a:lnTo>
                  <a:lnTo>
                    <a:pt x="1136" y="1571"/>
                  </a:lnTo>
                  <a:lnTo>
                    <a:pt x="1109" y="1581"/>
                  </a:lnTo>
                  <a:lnTo>
                    <a:pt x="1082" y="1587"/>
                  </a:lnTo>
                  <a:lnTo>
                    <a:pt x="1055" y="1597"/>
                  </a:lnTo>
                  <a:lnTo>
                    <a:pt x="1034" y="1603"/>
                  </a:lnTo>
                  <a:lnTo>
                    <a:pt x="1007" y="1608"/>
                  </a:lnTo>
                  <a:lnTo>
                    <a:pt x="974" y="1614"/>
                  </a:lnTo>
                  <a:lnTo>
                    <a:pt x="952" y="1614"/>
                  </a:lnTo>
                  <a:lnTo>
                    <a:pt x="920" y="1619"/>
                  </a:lnTo>
                  <a:lnTo>
                    <a:pt x="893" y="1619"/>
                  </a:lnTo>
                  <a:lnTo>
                    <a:pt x="860" y="1619"/>
                  </a:lnTo>
                  <a:lnTo>
                    <a:pt x="839" y="1624"/>
                  </a:lnTo>
                  <a:lnTo>
                    <a:pt x="805" y="1619"/>
                  </a:lnTo>
                  <a:lnTo>
                    <a:pt x="778" y="1619"/>
                  </a:lnTo>
                  <a:lnTo>
                    <a:pt x="746" y="1619"/>
                  </a:lnTo>
                  <a:lnTo>
                    <a:pt x="719" y="1614"/>
                  </a:lnTo>
                  <a:lnTo>
                    <a:pt x="692" y="1614"/>
                  </a:lnTo>
                  <a:lnTo>
                    <a:pt x="665" y="1608"/>
                  </a:lnTo>
                  <a:lnTo>
                    <a:pt x="638" y="1603"/>
                  </a:lnTo>
                  <a:lnTo>
                    <a:pt x="611" y="1597"/>
                  </a:lnTo>
                  <a:lnTo>
                    <a:pt x="584" y="1587"/>
                  </a:lnTo>
                  <a:lnTo>
                    <a:pt x="557" y="1581"/>
                  </a:lnTo>
                  <a:lnTo>
                    <a:pt x="530" y="1571"/>
                  </a:lnTo>
                  <a:lnTo>
                    <a:pt x="508" y="1560"/>
                  </a:lnTo>
                  <a:lnTo>
                    <a:pt x="481" y="1549"/>
                  </a:lnTo>
                  <a:lnTo>
                    <a:pt x="459" y="1539"/>
                  </a:lnTo>
                  <a:lnTo>
                    <a:pt x="432" y="1528"/>
                  </a:lnTo>
                  <a:lnTo>
                    <a:pt x="405" y="1512"/>
                  </a:lnTo>
                  <a:lnTo>
                    <a:pt x="384" y="1501"/>
                  </a:lnTo>
                  <a:lnTo>
                    <a:pt x="362" y="1490"/>
                  </a:lnTo>
                  <a:lnTo>
                    <a:pt x="340" y="1474"/>
                  </a:lnTo>
                  <a:lnTo>
                    <a:pt x="319" y="1458"/>
                  </a:lnTo>
                  <a:lnTo>
                    <a:pt x="302" y="1437"/>
                  </a:lnTo>
                  <a:lnTo>
                    <a:pt x="281" y="1421"/>
                  </a:lnTo>
                  <a:lnTo>
                    <a:pt x="259" y="1405"/>
                  </a:lnTo>
                  <a:lnTo>
                    <a:pt x="237" y="1389"/>
                  </a:lnTo>
                  <a:lnTo>
                    <a:pt x="221" y="1373"/>
                  </a:lnTo>
                  <a:lnTo>
                    <a:pt x="205" y="1351"/>
                  </a:lnTo>
                  <a:lnTo>
                    <a:pt x="189" y="1330"/>
                  </a:lnTo>
                  <a:lnTo>
                    <a:pt x="167" y="1314"/>
                  </a:lnTo>
                  <a:lnTo>
                    <a:pt x="156" y="1287"/>
                  </a:lnTo>
                  <a:lnTo>
                    <a:pt x="140" y="1265"/>
                  </a:lnTo>
                  <a:lnTo>
                    <a:pt x="124" y="1244"/>
                  </a:lnTo>
                  <a:lnTo>
                    <a:pt x="113" y="1223"/>
                  </a:lnTo>
                  <a:lnTo>
                    <a:pt x="97" y="1200"/>
                  </a:lnTo>
                  <a:lnTo>
                    <a:pt x="86" y="1179"/>
                  </a:lnTo>
                  <a:lnTo>
                    <a:pt x="75" y="1157"/>
                  </a:lnTo>
                  <a:lnTo>
                    <a:pt x="59" y="1131"/>
                  </a:lnTo>
                  <a:lnTo>
                    <a:pt x="54" y="1104"/>
                  </a:lnTo>
                  <a:lnTo>
                    <a:pt x="43" y="1077"/>
                  </a:lnTo>
                  <a:lnTo>
                    <a:pt x="37" y="1056"/>
                  </a:lnTo>
                  <a:lnTo>
                    <a:pt x="27" y="1029"/>
                  </a:lnTo>
                  <a:lnTo>
                    <a:pt x="21" y="1002"/>
                  </a:lnTo>
                  <a:lnTo>
                    <a:pt x="16" y="975"/>
                  </a:lnTo>
                  <a:lnTo>
                    <a:pt x="10" y="948"/>
                  </a:lnTo>
                  <a:lnTo>
                    <a:pt x="5" y="922"/>
                  </a:lnTo>
                  <a:lnTo>
                    <a:pt x="5" y="895"/>
                  </a:lnTo>
                  <a:lnTo>
                    <a:pt x="0" y="868"/>
                  </a:lnTo>
                  <a:lnTo>
                    <a:pt x="0" y="841"/>
                  </a:lnTo>
                  <a:lnTo>
                    <a:pt x="0" y="809"/>
                  </a:lnTo>
                  <a:close/>
                </a:path>
              </a:pathLst>
            </a:custGeom>
            <a:solidFill>
              <a:srgbClr val="35549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60520" y="2814480"/>
              <a:ext cx="586080" cy="568800"/>
            </a:xfrm>
            <a:custGeom>
              <a:avLst/>
              <a:gdLst/>
              <a:ahLst/>
              <a:rect l="0" t="0" r="r" b="b"/>
              <a:pathLst>
                <a:path w="1628" h="1580">
                  <a:moveTo>
                    <a:pt x="0" y="784"/>
                  </a:moveTo>
                  <a:lnTo>
                    <a:pt x="0" y="758"/>
                  </a:lnTo>
                  <a:lnTo>
                    <a:pt x="5" y="731"/>
                  </a:lnTo>
                  <a:lnTo>
                    <a:pt x="5" y="704"/>
                  </a:lnTo>
                  <a:lnTo>
                    <a:pt x="10" y="677"/>
                  </a:lnTo>
                  <a:lnTo>
                    <a:pt x="16" y="650"/>
                  </a:lnTo>
                  <a:lnTo>
                    <a:pt x="21" y="623"/>
                  </a:lnTo>
                  <a:lnTo>
                    <a:pt x="27" y="597"/>
                  </a:lnTo>
                  <a:lnTo>
                    <a:pt x="32" y="570"/>
                  </a:lnTo>
                  <a:lnTo>
                    <a:pt x="37" y="543"/>
                  </a:lnTo>
                  <a:lnTo>
                    <a:pt x="48" y="521"/>
                  </a:lnTo>
                  <a:lnTo>
                    <a:pt x="59" y="495"/>
                  </a:lnTo>
                  <a:lnTo>
                    <a:pt x="70" y="468"/>
                  </a:lnTo>
                  <a:lnTo>
                    <a:pt x="81" y="446"/>
                  </a:lnTo>
                  <a:lnTo>
                    <a:pt x="91" y="425"/>
                  </a:lnTo>
                  <a:lnTo>
                    <a:pt x="102" y="398"/>
                  </a:lnTo>
                  <a:lnTo>
                    <a:pt x="118" y="375"/>
                  </a:lnTo>
                  <a:lnTo>
                    <a:pt x="129" y="354"/>
                  </a:lnTo>
                  <a:lnTo>
                    <a:pt x="145" y="332"/>
                  </a:lnTo>
                  <a:lnTo>
                    <a:pt x="162" y="311"/>
                  </a:lnTo>
                  <a:lnTo>
                    <a:pt x="178" y="289"/>
                  </a:lnTo>
                  <a:lnTo>
                    <a:pt x="194" y="268"/>
                  </a:lnTo>
                  <a:lnTo>
                    <a:pt x="210" y="252"/>
                  </a:lnTo>
                  <a:lnTo>
                    <a:pt x="227" y="230"/>
                  </a:lnTo>
                  <a:lnTo>
                    <a:pt x="248" y="214"/>
                  </a:lnTo>
                  <a:lnTo>
                    <a:pt x="270" y="198"/>
                  </a:lnTo>
                  <a:lnTo>
                    <a:pt x="286" y="182"/>
                  </a:lnTo>
                  <a:lnTo>
                    <a:pt x="308" y="166"/>
                  </a:lnTo>
                  <a:lnTo>
                    <a:pt x="329" y="150"/>
                  </a:lnTo>
                  <a:lnTo>
                    <a:pt x="351" y="134"/>
                  </a:lnTo>
                  <a:lnTo>
                    <a:pt x="373" y="123"/>
                  </a:lnTo>
                  <a:lnTo>
                    <a:pt x="394" y="107"/>
                  </a:lnTo>
                  <a:lnTo>
                    <a:pt x="416" y="96"/>
                  </a:lnTo>
                  <a:lnTo>
                    <a:pt x="443" y="80"/>
                  </a:lnTo>
                  <a:lnTo>
                    <a:pt x="464" y="69"/>
                  </a:lnTo>
                  <a:lnTo>
                    <a:pt x="491" y="64"/>
                  </a:lnTo>
                  <a:lnTo>
                    <a:pt x="513" y="48"/>
                  </a:lnTo>
                  <a:lnTo>
                    <a:pt x="540" y="42"/>
                  </a:lnTo>
                  <a:lnTo>
                    <a:pt x="567" y="32"/>
                  </a:lnTo>
                  <a:lnTo>
                    <a:pt x="594" y="26"/>
                  </a:lnTo>
                  <a:lnTo>
                    <a:pt x="621" y="21"/>
                  </a:lnTo>
                  <a:lnTo>
                    <a:pt x="648" y="16"/>
                  </a:lnTo>
                  <a:lnTo>
                    <a:pt x="675" y="10"/>
                  </a:lnTo>
                  <a:lnTo>
                    <a:pt x="702" y="5"/>
                  </a:lnTo>
                  <a:lnTo>
                    <a:pt x="729" y="0"/>
                  </a:lnTo>
                  <a:lnTo>
                    <a:pt x="762" y="0"/>
                  </a:lnTo>
                  <a:lnTo>
                    <a:pt x="789" y="0"/>
                  </a:lnTo>
                  <a:lnTo>
                    <a:pt x="817" y="0"/>
                  </a:lnTo>
                  <a:lnTo>
                    <a:pt x="844" y="0"/>
                  </a:lnTo>
                  <a:lnTo>
                    <a:pt x="871" y="0"/>
                  </a:lnTo>
                  <a:lnTo>
                    <a:pt x="898" y="0"/>
                  </a:lnTo>
                  <a:lnTo>
                    <a:pt x="930" y="5"/>
                  </a:lnTo>
                  <a:lnTo>
                    <a:pt x="957" y="10"/>
                  </a:lnTo>
                  <a:lnTo>
                    <a:pt x="984" y="16"/>
                  </a:lnTo>
                  <a:lnTo>
                    <a:pt x="1011" y="21"/>
                  </a:lnTo>
                  <a:lnTo>
                    <a:pt x="1038" y="26"/>
                  </a:lnTo>
                  <a:lnTo>
                    <a:pt x="1060" y="32"/>
                  </a:lnTo>
                  <a:lnTo>
                    <a:pt x="1087" y="42"/>
                  </a:lnTo>
                  <a:lnTo>
                    <a:pt x="1114" y="48"/>
                  </a:lnTo>
                  <a:lnTo>
                    <a:pt x="1141" y="64"/>
                  </a:lnTo>
                  <a:lnTo>
                    <a:pt x="1163" y="69"/>
                  </a:lnTo>
                  <a:lnTo>
                    <a:pt x="1184" y="80"/>
                  </a:lnTo>
                  <a:lnTo>
                    <a:pt x="1211" y="96"/>
                  </a:lnTo>
                  <a:lnTo>
                    <a:pt x="1233" y="107"/>
                  </a:lnTo>
                  <a:lnTo>
                    <a:pt x="1255" y="123"/>
                  </a:lnTo>
                  <a:lnTo>
                    <a:pt x="1282" y="134"/>
                  </a:lnTo>
                  <a:lnTo>
                    <a:pt x="1303" y="150"/>
                  </a:lnTo>
                  <a:lnTo>
                    <a:pt x="1325" y="166"/>
                  </a:lnTo>
                  <a:lnTo>
                    <a:pt x="1341" y="182"/>
                  </a:lnTo>
                  <a:lnTo>
                    <a:pt x="1363" y="198"/>
                  </a:lnTo>
                  <a:lnTo>
                    <a:pt x="1384" y="214"/>
                  </a:lnTo>
                  <a:lnTo>
                    <a:pt x="1401" y="230"/>
                  </a:lnTo>
                  <a:lnTo>
                    <a:pt x="1417" y="252"/>
                  </a:lnTo>
                  <a:lnTo>
                    <a:pt x="1433" y="268"/>
                  </a:lnTo>
                  <a:lnTo>
                    <a:pt x="1455" y="289"/>
                  </a:lnTo>
                  <a:lnTo>
                    <a:pt x="1471" y="311"/>
                  </a:lnTo>
                  <a:lnTo>
                    <a:pt x="1482" y="332"/>
                  </a:lnTo>
                  <a:lnTo>
                    <a:pt x="1498" y="354"/>
                  </a:lnTo>
                  <a:lnTo>
                    <a:pt x="1514" y="375"/>
                  </a:lnTo>
                  <a:lnTo>
                    <a:pt x="1525" y="398"/>
                  </a:lnTo>
                  <a:lnTo>
                    <a:pt x="1536" y="425"/>
                  </a:lnTo>
                  <a:lnTo>
                    <a:pt x="1552" y="446"/>
                  </a:lnTo>
                  <a:lnTo>
                    <a:pt x="1563" y="468"/>
                  </a:lnTo>
                  <a:lnTo>
                    <a:pt x="1574" y="495"/>
                  </a:lnTo>
                  <a:lnTo>
                    <a:pt x="1579" y="521"/>
                  </a:lnTo>
                  <a:lnTo>
                    <a:pt x="1590" y="543"/>
                  </a:lnTo>
                  <a:lnTo>
                    <a:pt x="1595" y="570"/>
                  </a:lnTo>
                  <a:lnTo>
                    <a:pt x="1601" y="597"/>
                  </a:lnTo>
                  <a:lnTo>
                    <a:pt x="1611" y="623"/>
                  </a:lnTo>
                  <a:lnTo>
                    <a:pt x="1617" y="650"/>
                  </a:lnTo>
                  <a:lnTo>
                    <a:pt x="1622" y="677"/>
                  </a:lnTo>
                  <a:lnTo>
                    <a:pt x="1622" y="704"/>
                  </a:lnTo>
                  <a:lnTo>
                    <a:pt x="1628" y="731"/>
                  </a:lnTo>
                  <a:lnTo>
                    <a:pt x="1628" y="758"/>
                  </a:lnTo>
                  <a:lnTo>
                    <a:pt x="1628" y="784"/>
                  </a:lnTo>
                  <a:lnTo>
                    <a:pt x="1628" y="817"/>
                  </a:lnTo>
                  <a:lnTo>
                    <a:pt x="1628" y="844"/>
                  </a:lnTo>
                  <a:lnTo>
                    <a:pt x="1622" y="870"/>
                  </a:lnTo>
                  <a:lnTo>
                    <a:pt x="1622" y="897"/>
                  </a:lnTo>
                  <a:lnTo>
                    <a:pt x="1617" y="924"/>
                  </a:lnTo>
                  <a:lnTo>
                    <a:pt x="1611" y="951"/>
                  </a:lnTo>
                  <a:lnTo>
                    <a:pt x="1601" y="978"/>
                  </a:lnTo>
                  <a:lnTo>
                    <a:pt x="1595" y="1005"/>
                  </a:lnTo>
                  <a:lnTo>
                    <a:pt x="1590" y="1031"/>
                  </a:lnTo>
                  <a:lnTo>
                    <a:pt x="1579" y="1053"/>
                  </a:lnTo>
                  <a:lnTo>
                    <a:pt x="1574" y="1080"/>
                  </a:lnTo>
                  <a:lnTo>
                    <a:pt x="1563" y="1101"/>
                  </a:lnTo>
                  <a:lnTo>
                    <a:pt x="1552" y="1128"/>
                  </a:lnTo>
                  <a:lnTo>
                    <a:pt x="1536" y="1150"/>
                  </a:lnTo>
                  <a:lnTo>
                    <a:pt x="1525" y="1176"/>
                  </a:lnTo>
                  <a:lnTo>
                    <a:pt x="1514" y="1199"/>
                  </a:lnTo>
                  <a:lnTo>
                    <a:pt x="1498" y="1220"/>
                  </a:lnTo>
                  <a:lnTo>
                    <a:pt x="1482" y="1242"/>
                  </a:lnTo>
                  <a:lnTo>
                    <a:pt x="1471" y="1263"/>
                  </a:lnTo>
                  <a:lnTo>
                    <a:pt x="1455" y="1285"/>
                  </a:lnTo>
                  <a:lnTo>
                    <a:pt x="1433" y="1306"/>
                  </a:lnTo>
                  <a:lnTo>
                    <a:pt x="1417" y="1322"/>
                  </a:lnTo>
                  <a:lnTo>
                    <a:pt x="1401" y="1344"/>
                  </a:lnTo>
                  <a:lnTo>
                    <a:pt x="1384" y="1360"/>
                  </a:lnTo>
                  <a:lnTo>
                    <a:pt x="1363" y="1376"/>
                  </a:lnTo>
                  <a:lnTo>
                    <a:pt x="1341" y="1392"/>
                  </a:lnTo>
                  <a:lnTo>
                    <a:pt x="1325" y="1408"/>
                  </a:lnTo>
                  <a:lnTo>
                    <a:pt x="1303" y="1424"/>
                  </a:lnTo>
                  <a:lnTo>
                    <a:pt x="1282" y="1441"/>
                  </a:lnTo>
                  <a:lnTo>
                    <a:pt x="1255" y="1457"/>
                  </a:lnTo>
                  <a:lnTo>
                    <a:pt x="1233" y="1467"/>
                  </a:lnTo>
                  <a:lnTo>
                    <a:pt x="1211" y="1484"/>
                  </a:lnTo>
                  <a:lnTo>
                    <a:pt x="1184" y="1494"/>
                  </a:lnTo>
                  <a:lnTo>
                    <a:pt x="1163" y="1505"/>
                  </a:lnTo>
                  <a:lnTo>
                    <a:pt x="1141" y="1516"/>
                  </a:lnTo>
                  <a:lnTo>
                    <a:pt x="1114" y="1526"/>
                  </a:lnTo>
                  <a:lnTo>
                    <a:pt x="1087" y="1532"/>
                  </a:lnTo>
                  <a:lnTo>
                    <a:pt x="1060" y="1543"/>
                  </a:lnTo>
                  <a:lnTo>
                    <a:pt x="1038" y="1553"/>
                  </a:lnTo>
                  <a:lnTo>
                    <a:pt x="1011" y="1559"/>
                  </a:lnTo>
                  <a:lnTo>
                    <a:pt x="984" y="1564"/>
                  </a:lnTo>
                  <a:lnTo>
                    <a:pt x="957" y="1569"/>
                  </a:lnTo>
                  <a:lnTo>
                    <a:pt x="930" y="1569"/>
                  </a:lnTo>
                  <a:lnTo>
                    <a:pt x="898" y="1575"/>
                  </a:lnTo>
                  <a:lnTo>
                    <a:pt x="871" y="1575"/>
                  </a:lnTo>
                  <a:lnTo>
                    <a:pt x="844" y="1580"/>
                  </a:lnTo>
                  <a:lnTo>
                    <a:pt x="789" y="1580"/>
                  </a:lnTo>
                  <a:lnTo>
                    <a:pt x="762" y="1575"/>
                  </a:lnTo>
                  <a:lnTo>
                    <a:pt x="729" y="1575"/>
                  </a:lnTo>
                  <a:lnTo>
                    <a:pt x="702" y="1569"/>
                  </a:lnTo>
                  <a:lnTo>
                    <a:pt x="675" y="1569"/>
                  </a:lnTo>
                  <a:lnTo>
                    <a:pt x="648" y="1564"/>
                  </a:lnTo>
                  <a:lnTo>
                    <a:pt x="621" y="1559"/>
                  </a:lnTo>
                  <a:lnTo>
                    <a:pt x="594" y="1553"/>
                  </a:lnTo>
                  <a:lnTo>
                    <a:pt x="567" y="1543"/>
                  </a:lnTo>
                  <a:lnTo>
                    <a:pt x="540" y="1532"/>
                  </a:lnTo>
                  <a:lnTo>
                    <a:pt x="513" y="1526"/>
                  </a:lnTo>
                  <a:lnTo>
                    <a:pt x="491" y="1516"/>
                  </a:lnTo>
                  <a:lnTo>
                    <a:pt x="464" y="1505"/>
                  </a:lnTo>
                  <a:lnTo>
                    <a:pt x="443" y="1494"/>
                  </a:lnTo>
                  <a:lnTo>
                    <a:pt x="416" y="1484"/>
                  </a:lnTo>
                  <a:lnTo>
                    <a:pt x="394" y="1467"/>
                  </a:lnTo>
                  <a:lnTo>
                    <a:pt x="373" y="1457"/>
                  </a:lnTo>
                  <a:lnTo>
                    <a:pt x="351" y="1441"/>
                  </a:lnTo>
                  <a:lnTo>
                    <a:pt x="329" y="1424"/>
                  </a:lnTo>
                  <a:lnTo>
                    <a:pt x="308" y="1408"/>
                  </a:lnTo>
                  <a:lnTo>
                    <a:pt x="286" y="1392"/>
                  </a:lnTo>
                  <a:lnTo>
                    <a:pt x="270" y="1376"/>
                  </a:lnTo>
                  <a:lnTo>
                    <a:pt x="248" y="1360"/>
                  </a:lnTo>
                  <a:lnTo>
                    <a:pt x="227" y="1344"/>
                  </a:lnTo>
                  <a:lnTo>
                    <a:pt x="210" y="1322"/>
                  </a:lnTo>
                  <a:lnTo>
                    <a:pt x="194" y="1306"/>
                  </a:lnTo>
                  <a:lnTo>
                    <a:pt x="178" y="1285"/>
                  </a:lnTo>
                  <a:lnTo>
                    <a:pt x="162" y="1263"/>
                  </a:lnTo>
                  <a:lnTo>
                    <a:pt x="145" y="1242"/>
                  </a:lnTo>
                  <a:lnTo>
                    <a:pt x="129" y="1220"/>
                  </a:lnTo>
                  <a:lnTo>
                    <a:pt x="118" y="1199"/>
                  </a:lnTo>
                  <a:lnTo>
                    <a:pt x="102" y="1176"/>
                  </a:lnTo>
                  <a:lnTo>
                    <a:pt x="91" y="1150"/>
                  </a:lnTo>
                  <a:lnTo>
                    <a:pt x="81" y="1128"/>
                  </a:lnTo>
                  <a:lnTo>
                    <a:pt x="70" y="1101"/>
                  </a:lnTo>
                  <a:lnTo>
                    <a:pt x="59" y="1080"/>
                  </a:lnTo>
                  <a:lnTo>
                    <a:pt x="48" y="1053"/>
                  </a:lnTo>
                  <a:lnTo>
                    <a:pt x="37" y="1031"/>
                  </a:lnTo>
                  <a:lnTo>
                    <a:pt x="32" y="1005"/>
                  </a:lnTo>
                  <a:lnTo>
                    <a:pt x="27" y="978"/>
                  </a:lnTo>
                  <a:lnTo>
                    <a:pt x="21" y="951"/>
                  </a:lnTo>
                  <a:lnTo>
                    <a:pt x="16" y="924"/>
                  </a:lnTo>
                  <a:lnTo>
                    <a:pt x="10" y="897"/>
                  </a:lnTo>
                  <a:lnTo>
                    <a:pt x="5" y="870"/>
                  </a:lnTo>
                  <a:lnTo>
                    <a:pt x="5" y="844"/>
                  </a:lnTo>
                  <a:lnTo>
                    <a:pt x="0" y="817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38599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71680" y="2819520"/>
              <a:ext cx="567000" cy="552960"/>
            </a:xfrm>
            <a:custGeom>
              <a:avLst/>
              <a:gdLst/>
              <a:ahLst/>
              <a:rect l="0" t="0" r="r" b="b"/>
              <a:pathLst>
                <a:path w="1575" h="1536">
                  <a:moveTo>
                    <a:pt x="0" y="768"/>
                  </a:moveTo>
                  <a:lnTo>
                    <a:pt x="0" y="741"/>
                  </a:lnTo>
                  <a:lnTo>
                    <a:pt x="5" y="709"/>
                  </a:lnTo>
                  <a:lnTo>
                    <a:pt x="5" y="682"/>
                  </a:lnTo>
                  <a:lnTo>
                    <a:pt x="10" y="655"/>
                  </a:lnTo>
                  <a:lnTo>
                    <a:pt x="10" y="628"/>
                  </a:lnTo>
                  <a:lnTo>
                    <a:pt x="16" y="601"/>
                  </a:lnTo>
                  <a:lnTo>
                    <a:pt x="26" y="575"/>
                  </a:lnTo>
                  <a:lnTo>
                    <a:pt x="37" y="548"/>
                  </a:lnTo>
                  <a:lnTo>
                    <a:pt x="43" y="521"/>
                  </a:lnTo>
                  <a:lnTo>
                    <a:pt x="53" y="500"/>
                  </a:lnTo>
                  <a:lnTo>
                    <a:pt x="64" y="473"/>
                  </a:lnTo>
                  <a:lnTo>
                    <a:pt x="70" y="446"/>
                  </a:lnTo>
                  <a:lnTo>
                    <a:pt x="80" y="424"/>
                  </a:lnTo>
                  <a:lnTo>
                    <a:pt x="97" y="403"/>
                  </a:lnTo>
                  <a:lnTo>
                    <a:pt x="107" y="375"/>
                  </a:lnTo>
                  <a:lnTo>
                    <a:pt x="124" y="354"/>
                  </a:lnTo>
                  <a:lnTo>
                    <a:pt x="140" y="332"/>
                  </a:lnTo>
                  <a:lnTo>
                    <a:pt x="150" y="311"/>
                  </a:lnTo>
                  <a:lnTo>
                    <a:pt x="167" y="289"/>
                  </a:lnTo>
                  <a:lnTo>
                    <a:pt x="183" y="268"/>
                  </a:lnTo>
                  <a:lnTo>
                    <a:pt x="199" y="252"/>
                  </a:lnTo>
                  <a:lnTo>
                    <a:pt x="221" y="230"/>
                  </a:lnTo>
                  <a:lnTo>
                    <a:pt x="242" y="214"/>
                  </a:lnTo>
                  <a:lnTo>
                    <a:pt x="258" y="193"/>
                  </a:lnTo>
                  <a:lnTo>
                    <a:pt x="280" y="182"/>
                  </a:lnTo>
                  <a:lnTo>
                    <a:pt x="301" y="160"/>
                  </a:lnTo>
                  <a:lnTo>
                    <a:pt x="318" y="150"/>
                  </a:lnTo>
                  <a:lnTo>
                    <a:pt x="345" y="134"/>
                  </a:lnTo>
                  <a:lnTo>
                    <a:pt x="366" y="118"/>
                  </a:lnTo>
                  <a:lnTo>
                    <a:pt x="388" y="101"/>
                  </a:lnTo>
                  <a:lnTo>
                    <a:pt x="415" y="91"/>
                  </a:lnTo>
                  <a:lnTo>
                    <a:pt x="436" y="80"/>
                  </a:lnTo>
                  <a:lnTo>
                    <a:pt x="463" y="69"/>
                  </a:lnTo>
                  <a:lnTo>
                    <a:pt x="485" y="59"/>
                  </a:lnTo>
                  <a:lnTo>
                    <a:pt x="512" y="48"/>
                  </a:lnTo>
                  <a:lnTo>
                    <a:pt x="539" y="37"/>
                  </a:lnTo>
                  <a:lnTo>
                    <a:pt x="566" y="32"/>
                  </a:lnTo>
                  <a:lnTo>
                    <a:pt x="593" y="26"/>
                  </a:lnTo>
                  <a:lnTo>
                    <a:pt x="620" y="21"/>
                  </a:lnTo>
                  <a:lnTo>
                    <a:pt x="646" y="16"/>
                  </a:lnTo>
                  <a:lnTo>
                    <a:pt x="673" y="10"/>
                  </a:lnTo>
                  <a:lnTo>
                    <a:pt x="700" y="5"/>
                  </a:lnTo>
                  <a:lnTo>
                    <a:pt x="733" y="5"/>
                  </a:lnTo>
                  <a:lnTo>
                    <a:pt x="760" y="0"/>
                  </a:lnTo>
                  <a:lnTo>
                    <a:pt x="787" y="0"/>
                  </a:lnTo>
                  <a:lnTo>
                    <a:pt x="815" y="0"/>
                  </a:lnTo>
                  <a:lnTo>
                    <a:pt x="847" y="5"/>
                  </a:lnTo>
                  <a:lnTo>
                    <a:pt x="874" y="5"/>
                  </a:lnTo>
                  <a:lnTo>
                    <a:pt x="906" y="10"/>
                  </a:lnTo>
                  <a:lnTo>
                    <a:pt x="933" y="16"/>
                  </a:lnTo>
                  <a:lnTo>
                    <a:pt x="960" y="21"/>
                  </a:lnTo>
                  <a:lnTo>
                    <a:pt x="987" y="26"/>
                  </a:lnTo>
                  <a:lnTo>
                    <a:pt x="1014" y="32"/>
                  </a:lnTo>
                  <a:lnTo>
                    <a:pt x="1036" y="37"/>
                  </a:lnTo>
                  <a:lnTo>
                    <a:pt x="1068" y="48"/>
                  </a:lnTo>
                  <a:lnTo>
                    <a:pt x="1090" y="59"/>
                  </a:lnTo>
                  <a:lnTo>
                    <a:pt x="1117" y="69"/>
                  </a:lnTo>
                  <a:lnTo>
                    <a:pt x="1138" y="80"/>
                  </a:lnTo>
                  <a:lnTo>
                    <a:pt x="1165" y="91"/>
                  </a:lnTo>
                  <a:lnTo>
                    <a:pt x="1187" y="101"/>
                  </a:lnTo>
                  <a:lnTo>
                    <a:pt x="1208" y="118"/>
                  </a:lnTo>
                  <a:lnTo>
                    <a:pt x="1230" y="134"/>
                  </a:lnTo>
                  <a:lnTo>
                    <a:pt x="1257" y="150"/>
                  </a:lnTo>
                  <a:lnTo>
                    <a:pt x="1278" y="160"/>
                  </a:lnTo>
                  <a:lnTo>
                    <a:pt x="1300" y="182"/>
                  </a:lnTo>
                  <a:lnTo>
                    <a:pt x="1316" y="193"/>
                  </a:lnTo>
                  <a:lnTo>
                    <a:pt x="1338" y="214"/>
                  </a:lnTo>
                  <a:lnTo>
                    <a:pt x="1354" y="230"/>
                  </a:lnTo>
                  <a:lnTo>
                    <a:pt x="1375" y="252"/>
                  </a:lnTo>
                  <a:lnTo>
                    <a:pt x="1391" y="268"/>
                  </a:lnTo>
                  <a:lnTo>
                    <a:pt x="1408" y="289"/>
                  </a:lnTo>
                  <a:lnTo>
                    <a:pt x="1429" y="311"/>
                  </a:lnTo>
                  <a:lnTo>
                    <a:pt x="1440" y="332"/>
                  </a:lnTo>
                  <a:lnTo>
                    <a:pt x="1456" y="354"/>
                  </a:lnTo>
                  <a:lnTo>
                    <a:pt x="1467" y="375"/>
                  </a:lnTo>
                  <a:lnTo>
                    <a:pt x="1483" y="403"/>
                  </a:lnTo>
                  <a:lnTo>
                    <a:pt x="1494" y="424"/>
                  </a:lnTo>
                  <a:lnTo>
                    <a:pt x="1505" y="446"/>
                  </a:lnTo>
                  <a:lnTo>
                    <a:pt x="1515" y="473"/>
                  </a:lnTo>
                  <a:lnTo>
                    <a:pt x="1526" y="500"/>
                  </a:lnTo>
                  <a:lnTo>
                    <a:pt x="1537" y="521"/>
                  </a:lnTo>
                  <a:lnTo>
                    <a:pt x="1542" y="548"/>
                  </a:lnTo>
                  <a:lnTo>
                    <a:pt x="1548" y="575"/>
                  </a:lnTo>
                  <a:lnTo>
                    <a:pt x="1559" y="601"/>
                  </a:lnTo>
                  <a:lnTo>
                    <a:pt x="1559" y="628"/>
                  </a:lnTo>
                  <a:lnTo>
                    <a:pt x="1564" y="655"/>
                  </a:lnTo>
                  <a:lnTo>
                    <a:pt x="1569" y="682"/>
                  </a:lnTo>
                  <a:lnTo>
                    <a:pt x="1569" y="709"/>
                  </a:lnTo>
                  <a:lnTo>
                    <a:pt x="1575" y="741"/>
                  </a:lnTo>
                  <a:lnTo>
                    <a:pt x="1575" y="768"/>
                  </a:lnTo>
                  <a:lnTo>
                    <a:pt x="1575" y="795"/>
                  </a:lnTo>
                  <a:lnTo>
                    <a:pt x="1569" y="827"/>
                  </a:lnTo>
                  <a:lnTo>
                    <a:pt x="1569" y="854"/>
                  </a:lnTo>
                  <a:lnTo>
                    <a:pt x="1564" y="880"/>
                  </a:lnTo>
                  <a:lnTo>
                    <a:pt x="1559" y="907"/>
                  </a:lnTo>
                  <a:lnTo>
                    <a:pt x="1559" y="934"/>
                  </a:lnTo>
                  <a:lnTo>
                    <a:pt x="1548" y="961"/>
                  </a:lnTo>
                  <a:lnTo>
                    <a:pt x="1542" y="988"/>
                  </a:lnTo>
                  <a:lnTo>
                    <a:pt x="1537" y="1015"/>
                  </a:lnTo>
                  <a:lnTo>
                    <a:pt x="1526" y="1036"/>
                  </a:lnTo>
                  <a:lnTo>
                    <a:pt x="1515" y="1063"/>
                  </a:lnTo>
                  <a:lnTo>
                    <a:pt x="1505" y="1090"/>
                  </a:lnTo>
                  <a:lnTo>
                    <a:pt x="1494" y="1111"/>
                  </a:lnTo>
                  <a:lnTo>
                    <a:pt x="1483" y="1138"/>
                  </a:lnTo>
                  <a:lnTo>
                    <a:pt x="1467" y="1160"/>
                  </a:lnTo>
                  <a:lnTo>
                    <a:pt x="1456" y="1182"/>
                  </a:lnTo>
                  <a:lnTo>
                    <a:pt x="1440" y="1203"/>
                  </a:lnTo>
                  <a:lnTo>
                    <a:pt x="1429" y="1225"/>
                  </a:lnTo>
                  <a:lnTo>
                    <a:pt x="1408" y="1246"/>
                  </a:lnTo>
                  <a:lnTo>
                    <a:pt x="1391" y="1262"/>
                  </a:lnTo>
                  <a:lnTo>
                    <a:pt x="1375" y="1289"/>
                  </a:lnTo>
                  <a:lnTo>
                    <a:pt x="1354" y="1305"/>
                  </a:lnTo>
                  <a:lnTo>
                    <a:pt x="1338" y="1321"/>
                  </a:lnTo>
                  <a:lnTo>
                    <a:pt x="1316" y="1343"/>
                  </a:lnTo>
                  <a:lnTo>
                    <a:pt x="1300" y="1359"/>
                  </a:lnTo>
                  <a:lnTo>
                    <a:pt x="1278" y="1375"/>
                  </a:lnTo>
                  <a:lnTo>
                    <a:pt x="1257" y="1391"/>
                  </a:lnTo>
                  <a:lnTo>
                    <a:pt x="1230" y="1407"/>
                  </a:lnTo>
                  <a:lnTo>
                    <a:pt x="1208" y="1418"/>
                  </a:lnTo>
                  <a:lnTo>
                    <a:pt x="1187" y="1434"/>
                  </a:lnTo>
                  <a:lnTo>
                    <a:pt x="1165" y="1445"/>
                  </a:lnTo>
                  <a:lnTo>
                    <a:pt x="1138" y="1461"/>
                  </a:lnTo>
                  <a:lnTo>
                    <a:pt x="1117" y="1472"/>
                  </a:lnTo>
                  <a:lnTo>
                    <a:pt x="1090" y="1482"/>
                  </a:lnTo>
                  <a:lnTo>
                    <a:pt x="1068" y="1488"/>
                  </a:lnTo>
                  <a:lnTo>
                    <a:pt x="1036" y="1499"/>
                  </a:lnTo>
                  <a:lnTo>
                    <a:pt x="1014" y="1509"/>
                  </a:lnTo>
                  <a:lnTo>
                    <a:pt x="987" y="1515"/>
                  </a:lnTo>
                  <a:lnTo>
                    <a:pt x="960" y="1520"/>
                  </a:lnTo>
                  <a:lnTo>
                    <a:pt x="933" y="1525"/>
                  </a:lnTo>
                  <a:lnTo>
                    <a:pt x="906" y="1531"/>
                  </a:lnTo>
                  <a:lnTo>
                    <a:pt x="874" y="1531"/>
                  </a:lnTo>
                  <a:lnTo>
                    <a:pt x="847" y="1536"/>
                  </a:lnTo>
                  <a:lnTo>
                    <a:pt x="815" y="1536"/>
                  </a:lnTo>
                  <a:lnTo>
                    <a:pt x="760" y="1536"/>
                  </a:lnTo>
                  <a:lnTo>
                    <a:pt x="733" y="1536"/>
                  </a:lnTo>
                  <a:lnTo>
                    <a:pt x="700" y="1531"/>
                  </a:lnTo>
                  <a:lnTo>
                    <a:pt x="673" y="1531"/>
                  </a:lnTo>
                  <a:lnTo>
                    <a:pt x="646" y="1525"/>
                  </a:lnTo>
                  <a:lnTo>
                    <a:pt x="620" y="1520"/>
                  </a:lnTo>
                  <a:lnTo>
                    <a:pt x="593" y="1515"/>
                  </a:lnTo>
                  <a:lnTo>
                    <a:pt x="566" y="1509"/>
                  </a:lnTo>
                  <a:lnTo>
                    <a:pt x="539" y="1499"/>
                  </a:lnTo>
                  <a:lnTo>
                    <a:pt x="512" y="1488"/>
                  </a:lnTo>
                  <a:lnTo>
                    <a:pt x="485" y="1482"/>
                  </a:lnTo>
                  <a:lnTo>
                    <a:pt x="463" y="1472"/>
                  </a:lnTo>
                  <a:lnTo>
                    <a:pt x="436" y="1461"/>
                  </a:lnTo>
                  <a:lnTo>
                    <a:pt x="415" y="1445"/>
                  </a:lnTo>
                  <a:lnTo>
                    <a:pt x="388" y="1434"/>
                  </a:lnTo>
                  <a:lnTo>
                    <a:pt x="366" y="1418"/>
                  </a:lnTo>
                  <a:lnTo>
                    <a:pt x="345" y="1407"/>
                  </a:lnTo>
                  <a:lnTo>
                    <a:pt x="318" y="1391"/>
                  </a:lnTo>
                  <a:lnTo>
                    <a:pt x="301" y="1375"/>
                  </a:lnTo>
                  <a:lnTo>
                    <a:pt x="280" y="1359"/>
                  </a:lnTo>
                  <a:lnTo>
                    <a:pt x="258" y="1343"/>
                  </a:lnTo>
                  <a:lnTo>
                    <a:pt x="242" y="1321"/>
                  </a:lnTo>
                  <a:lnTo>
                    <a:pt x="221" y="1305"/>
                  </a:lnTo>
                  <a:lnTo>
                    <a:pt x="199" y="1289"/>
                  </a:lnTo>
                  <a:lnTo>
                    <a:pt x="183" y="1262"/>
                  </a:lnTo>
                  <a:lnTo>
                    <a:pt x="167" y="1246"/>
                  </a:lnTo>
                  <a:lnTo>
                    <a:pt x="150" y="1225"/>
                  </a:lnTo>
                  <a:lnTo>
                    <a:pt x="140" y="1203"/>
                  </a:lnTo>
                  <a:lnTo>
                    <a:pt x="124" y="1182"/>
                  </a:lnTo>
                  <a:lnTo>
                    <a:pt x="107" y="1160"/>
                  </a:lnTo>
                  <a:lnTo>
                    <a:pt x="97" y="1138"/>
                  </a:lnTo>
                  <a:lnTo>
                    <a:pt x="80" y="1111"/>
                  </a:lnTo>
                  <a:lnTo>
                    <a:pt x="70" y="1090"/>
                  </a:lnTo>
                  <a:lnTo>
                    <a:pt x="64" y="1063"/>
                  </a:lnTo>
                  <a:lnTo>
                    <a:pt x="53" y="1036"/>
                  </a:lnTo>
                  <a:lnTo>
                    <a:pt x="43" y="1015"/>
                  </a:lnTo>
                  <a:lnTo>
                    <a:pt x="37" y="988"/>
                  </a:lnTo>
                  <a:lnTo>
                    <a:pt x="26" y="961"/>
                  </a:lnTo>
                  <a:lnTo>
                    <a:pt x="16" y="934"/>
                  </a:lnTo>
                  <a:lnTo>
                    <a:pt x="10" y="907"/>
                  </a:lnTo>
                  <a:lnTo>
                    <a:pt x="10" y="880"/>
                  </a:lnTo>
                  <a:lnTo>
                    <a:pt x="5" y="854"/>
                  </a:lnTo>
                  <a:lnTo>
                    <a:pt x="5" y="827"/>
                  </a:lnTo>
                  <a:lnTo>
                    <a:pt x="0" y="795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3d5b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82840" y="2824200"/>
              <a:ext cx="547920" cy="533880"/>
            </a:xfrm>
            <a:custGeom>
              <a:avLst/>
              <a:gdLst/>
              <a:ahLst/>
              <a:rect l="0" t="0" r="r" b="b"/>
              <a:pathLst>
                <a:path w="1522" h="1483">
                  <a:moveTo>
                    <a:pt x="0" y="739"/>
                  </a:moveTo>
                  <a:lnTo>
                    <a:pt x="5" y="712"/>
                  </a:lnTo>
                  <a:lnTo>
                    <a:pt x="5" y="685"/>
                  </a:lnTo>
                  <a:lnTo>
                    <a:pt x="10" y="658"/>
                  </a:lnTo>
                  <a:lnTo>
                    <a:pt x="10" y="632"/>
                  </a:lnTo>
                  <a:lnTo>
                    <a:pt x="16" y="605"/>
                  </a:lnTo>
                  <a:lnTo>
                    <a:pt x="21" y="578"/>
                  </a:lnTo>
                  <a:lnTo>
                    <a:pt x="26" y="551"/>
                  </a:lnTo>
                  <a:lnTo>
                    <a:pt x="37" y="525"/>
                  </a:lnTo>
                  <a:lnTo>
                    <a:pt x="43" y="498"/>
                  </a:lnTo>
                  <a:lnTo>
                    <a:pt x="53" y="477"/>
                  </a:lnTo>
                  <a:lnTo>
                    <a:pt x="64" y="450"/>
                  </a:lnTo>
                  <a:lnTo>
                    <a:pt x="75" y="423"/>
                  </a:lnTo>
                  <a:lnTo>
                    <a:pt x="86" y="402"/>
                  </a:lnTo>
                  <a:lnTo>
                    <a:pt x="96" y="380"/>
                  </a:lnTo>
                  <a:lnTo>
                    <a:pt x="112" y="358"/>
                  </a:lnTo>
                  <a:lnTo>
                    <a:pt x="123" y="331"/>
                  </a:lnTo>
                  <a:lnTo>
                    <a:pt x="139" y="315"/>
                  </a:lnTo>
                  <a:lnTo>
                    <a:pt x="155" y="294"/>
                  </a:lnTo>
                  <a:lnTo>
                    <a:pt x="166" y="267"/>
                  </a:lnTo>
                  <a:lnTo>
                    <a:pt x="188" y="251"/>
                  </a:lnTo>
                  <a:lnTo>
                    <a:pt x="204" y="230"/>
                  </a:lnTo>
                  <a:lnTo>
                    <a:pt x="225" y="213"/>
                  </a:lnTo>
                  <a:lnTo>
                    <a:pt x="241" y="197"/>
                  </a:lnTo>
                  <a:lnTo>
                    <a:pt x="263" y="176"/>
                  </a:lnTo>
                  <a:lnTo>
                    <a:pt x="279" y="165"/>
                  </a:lnTo>
                  <a:lnTo>
                    <a:pt x="301" y="149"/>
                  </a:lnTo>
                  <a:lnTo>
                    <a:pt x="322" y="133"/>
                  </a:lnTo>
                  <a:lnTo>
                    <a:pt x="344" y="117"/>
                  </a:lnTo>
                  <a:lnTo>
                    <a:pt x="370" y="101"/>
                  </a:lnTo>
                  <a:lnTo>
                    <a:pt x="392" y="90"/>
                  </a:lnTo>
                  <a:lnTo>
                    <a:pt x="419" y="80"/>
                  </a:lnTo>
                  <a:lnTo>
                    <a:pt x="440" y="69"/>
                  </a:lnTo>
                  <a:lnTo>
                    <a:pt x="462" y="58"/>
                  </a:lnTo>
                  <a:lnTo>
                    <a:pt x="489" y="48"/>
                  </a:lnTo>
                  <a:lnTo>
                    <a:pt x="516" y="37"/>
                  </a:lnTo>
                  <a:lnTo>
                    <a:pt x="542" y="32"/>
                  </a:lnTo>
                  <a:lnTo>
                    <a:pt x="569" y="21"/>
                  </a:lnTo>
                  <a:lnTo>
                    <a:pt x="596" y="16"/>
                  </a:lnTo>
                  <a:lnTo>
                    <a:pt x="623" y="10"/>
                  </a:lnTo>
                  <a:lnTo>
                    <a:pt x="650" y="10"/>
                  </a:lnTo>
                  <a:lnTo>
                    <a:pt x="677" y="5"/>
                  </a:lnTo>
                  <a:lnTo>
                    <a:pt x="704" y="5"/>
                  </a:lnTo>
                  <a:lnTo>
                    <a:pt x="736" y="0"/>
                  </a:lnTo>
                  <a:lnTo>
                    <a:pt x="764" y="0"/>
                  </a:lnTo>
                  <a:lnTo>
                    <a:pt x="791" y="0"/>
                  </a:lnTo>
                  <a:lnTo>
                    <a:pt x="818" y="5"/>
                  </a:lnTo>
                  <a:lnTo>
                    <a:pt x="845" y="5"/>
                  </a:lnTo>
                  <a:lnTo>
                    <a:pt x="877" y="10"/>
                  </a:lnTo>
                  <a:lnTo>
                    <a:pt x="904" y="10"/>
                  </a:lnTo>
                  <a:lnTo>
                    <a:pt x="931" y="16"/>
                  </a:lnTo>
                  <a:lnTo>
                    <a:pt x="957" y="21"/>
                  </a:lnTo>
                  <a:lnTo>
                    <a:pt x="984" y="32"/>
                  </a:lnTo>
                  <a:lnTo>
                    <a:pt x="1006" y="37"/>
                  </a:lnTo>
                  <a:lnTo>
                    <a:pt x="1038" y="48"/>
                  </a:lnTo>
                  <a:lnTo>
                    <a:pt x="1060" y="58"/>
                  </a:lnTo>
                  <a:lnTo>
                    <a:pt x="1086" y="69"/>
                  </a:lnTo>
                  <a:lnTo>
                    <a:pt x="1108" y="80"/>
                  </a:lnTo>
                  <a:lnTo>
                    <a:pt x="1135" y="90"/>
                  </a:lnTo>
                  <a:lnTo>
                    <a:pt x="1156" y="101"/>
                  </a:lnTo>
                  <a:lnTo>
                    <a:pt x="1178" y="117"/>
                  </a:lnTo>
                  <a:lnTo>
                    <a:pt x="1199" y="133"/>
                  </a:lnTo>
                  <a:lnTo>
                    <a:pt x="1221" y="149"/>
                  </a:lnTo>
                  <a:lnTo>
                    <a:pt x="1242" y="165"/>
                  </a:lnTo>
                  <a:lnTo>
                    <a:pt x="1264" y="176"/>
                  </a:lnTo>
                  <a:lnTo>
                    <a:pt x="1285" y="197"/>
                  </a:lnTo>
                  <a:lnTo>
                    <a:pt x="1301" y="213"/>
                  </a:lnTo>
                  <a:lnTo>
                    <a:pt x="1318" y="230"/>
                  </a:lnTo>
                  <a:lnTo>
                    <a:pt x="1339" y="251"/>
                  </a:lnTo>
                  <a:lnTo>
                    <a:pt x="1355" y="267"/>
                  </a:lnTo>
                  <a:lnTo>
                    <a:pt x="1371" y="294"/>
                  </a:lnTo>
                  <a:lnTo>
                    <a:pt x="1387" y="315"/>
                  </a:lnTo>
                  <a:lnTo>
                    <a:pt x="1404" y="331"/>
                  </a:lnTo>
                  <a:lnTo>
                    <a:pt x="1414" y="358"/>
                  </a:lnTo>
                  <a:lnTo>
                    <a:pt x="1430" y="380"/>
                  </a:lnTo>
                  <a:lnTo>
                    <a:pt x="1441" y="402"/>
                  </a:lnTo>
                  <a:lnTo>
                    <a:pt x="1452" y="423"/>
                  </a:lnTo>
                  <a:lnTo>
                    <a:pt x="1463" y="450"/>
                  </a:lnTo>
                  <a:lnTo>
                    <a:pt x="1473" y="477"/>
                  </a:lnTo>
                  <a:lnTo>
                    <a:pt x="1484" y="498"/>
                  </a:lnTo>
                  <a:lnTo>
                    <a:pt x="1490" y="525"/>
                  </a:lnTo>
                  <a:lnTo>
                    <a:pt x="1495" y="551"/>
                  </a:lnTo>
                  <a:lnTo>
                    <a:pt x="1500" y="578"/>
                  </a:lnTo>
                  <a:lnTo>
                    <a:pt x="1511" y="605"/>
                  </a:lnTo>
                  <a:lnTo>
                    <a:pt x="1511" y="632"/>
                  </a:lnTo>
                  <a:lnTo>
                    <a:pt x="1516" y="658"/>
                  </a:lnTo>
                  <a:lnTo>
                    <a:pt x="1516" y="685"/>
                  </a:lnTo>
                  <a:lnTo>
                    <a:pt x="1522" y="712"/>
                  </a:lnTo>
                  <a:lnTo>
                    <a:pt x="1522" y="739"/>
                  </a:lnTo>
                  <a:lnTo>
                    <a:pt x="1522" y="771"/>
                  </a:lnTo>
                  <a:lnTo>
                    <a:pt x="1516" y="797"/>
                  </a:lnTo>
                  <a:lnTo>
                    <a:pt x="1516" y="824"/>
                  </a:lnTo>
                  <a:lnTo>
                    <a:pt x="1511" y="851"/>
                  </a:lnTo>
                  <a:lnTo>
                    <a:pt x="1511" y="878"/>
                  </a:lnTo>
                  <a:lnTo>
                    <a:pt x="1500" y="904"/>
                  </a:lnTo>
                  <a:lnTo>
                    <a:pt x="1495" y="931"/>
                  </a:lnTo>
                  <a:lnTo>
                    <a:pt x="1490" y="958"/>
                  </a:lnTo>
                  <a:lnTo>
                    <a:pt x="1484" y="985"/>
                  </a:lnTo>
                  <a:lnTo>
                    <a:pt x="1473" y="1006"/>
                  </a:lnTo>
                  <a:lnTo>
                    <a:pt x="1463" y="1033"/>
                  </a:lnTo>
                  <a:lnTo>
                    <a:pt x="1452" y="1054"/>
                  </a:lnTo>
                  <a:lnTo>
                    <a:pt x="1441" y="1081"/>
                  </a:lnTo>
                  <a:lnTo>
                    <a:pt x="1430" y="1108"/>
                  </a:lnTo>
                  <a:lnTo>
                    <a:pt x="1414" y="1130"/>
                  </a:lnTo>
                  <a:lnTo>
                    <a:pt x="1404" y="1152"/>
                  </a:lnTo>
                  <a:lnTo>
                    <a:pt x="1387" y="1173"/>
                  </a:lnTo>
                  <a:lnTo>
                    <a:pt x="1371" y="1194"/>
                  </a:lnTo>
                  <a:lnTo>
                    <a:pt x="1355" y="1210"/>
                  </a:lnTo>
                  <a:lnTo>
                    <a:pt x="1339" y="1232"/>
                  </a:lnTo>
                  <a:lnTo>
                    <a:pt x="1318" y="1253"/>
                  </a:lnTo>
                  <a:lnTo>
                    <a:pt x="1301" y="1269"/>
                  </a:lnTo>
                  <a:lnTo>
                    <a:pt x="1285" y="1291"/>
                  </a:lnTo>
                  <a:lnTo>
                    <a:pt x="1264" y="1307"/>
                  </a:lnTo>
                  <a:lnTo>
                    <a:pt x="1242" y="1323"/>
                  </a:lnTo>
                  <a:lnTo>
                    <a:pt x="1221" y="1339"/>
                  </a:lnTo>
                  <a:lnTo>
                    <a:pt x="1199" y="1355"/>
                  </a:lnTo>
                  <a:lnTo>
                    <a:pt x="1178" y="1365"/>
                  </a:lnTo>
                  <a:lnTo>
                    <a:pt x="1156" y="1382"/>
                  </a:lnTo>
                  <a:lnTo>
                    <a:pt x="1135" y="1392"/>
                  </a:lnTo>
                  <a:lnTo>
                    <a:pt x="1108" y="1403"/>
                  </a:lnTo>
                  <a:lnTo>
                    <a:pt x="1086" y="1414"/>
                  </a:lnTo>
                  <a:lnTo>
                    <a:pt x="1060" y="1430"/>
                  </a:lnTo>
                  <a:lnTo>
                    <a:pt x="1038" y="1440"/>
                  </a:lnTo>
                  <a:lnTo>
                    <a:pt x="1006" y="1446"/>
                  </a:lnTo>
                  <a:lnTo>
                    <a:pt x="984" y="1456"/>
                  </a:lnTo>
                  <a:lnTo>
                    <a:pt x="957" y="1462"/>
                  </a:lnTo>
                  <a:lnTo>
                    <a:pt x="931" y="1467"/>
                  </a:lnTo>
                  <a:lnTo>
                    <a:pt x="904" y="1472"/>
                  </a:lnTo>
                  <a:lnTo>
                    <a:pt x="877" y="1478"/>
                  </a:lnTo>
                  <a:lnTo>
                    <a:pt x="845" y="1483"/>
                  </a:lnTo>
                  <a:lnTo>
                    <a:pt x="818" y="1483"/>
                  </a:lnTo>
                  <a:lnTo>
                    <a:pt x="791" y="1483"/>
                  </a:lnTo>
                  <a:lnTo>
                    <a:pt x="736" y="1483"/>
                  </a:lnTo>
                  <a:lnTo>
                    <a:pt x="704" y="1483"/>
                  </a:lnTo>
                  <a:lnTo>
                    <a:pt x="677" y="1483"/>
                  </a:lnTo>
                  <a:lnTo>
                    <a:pt x="650" y="1478"/>
                  </a:lnTo>
                  <a:lnTo>
                    <a:pt x="623" y="1472"/>
                  </a:lnTo>
                  <a:lnTo>
                    <a:pt x="596" y="1467"/>
                  </a:lnTo>
                  <a:lnTo>
                    <a:pt x="569" y="1462"/>
                  </a:lnTo>
                  <a:lnTo>
                    <a:pt x="542" y="1456"/>
                  </a:lnTo>
                  <a:lnTo>
                    <a:pt x="516" y="1446"/>
                  </a:lnTo>
                  <a:lnTo>
                    <a:pt x="489" y="1440"/>
                  </a:lnTo>
                  <a:lnTo>
                    <a:pt x="462" y="1430"/>
                  </a:lnTo>
                  <a:lnTo>
                    <a:pt x="440" y="1414"/>
                  </a:lnTo>
                  <a:lnTo>
                    <a:pt x="419" y="1403"/>
                  </a:lnTo>
                  <a:lnTo>
                    <a:pt x="392" y="1392"/>
                  </a:lnTo>
                  <a:lnTo>
                    <a:pt x="370" y="1382"/>
                  </a:lnTo>
                  <a:lnTo>
                    <a:pt x="344" y="1365"/>
                  </a:lnTo>
                  <a:lnTo>
                    <a:pt x="322" y="1355"/>
                  </a:lnTo>
                  <a:lnTo>
                    <a:pt x="301" y="1339"/>
                  </a:lnTo>
                  <a:lnTo>
                    <a:pt x="279" y="1323"/>
                  </a:lnTo>
                  <a:lnTo>
                    <a:pt x="263" y="1307"/>
                  </a:lnTo>
                  <a:lnTo>
                    <a:pt x="241" y="1291"/>
                  </a:lnTo>
                  <a:lnTo>
                    <a:pt x="225" y="1269"/>
                  </a:lnTo>
                  <a:lnTo>
                    <a:pt x="204" y="1253"/>
                  </a:lnTo>
                  <a:lnTo>
                    <a:pt x="188" y="1232"/>
                  </a:lnTo>
                  <a:lnTo>
                    <a:pt x="166" y="1210"/>
                  </a:lnTo>
                  <a:lnTo>
                    <a:pt x="155" y="1194"/>
                  </a:lnTo>
                  <a:lnTo>
                    <a:pt x="139" y="1173"/>
                  </a:lnTo>
                  <a:lnTo>
                    <a:pt x="123" y="1152"/>
                  </a:lnTo>
                  <a:lnTo>
                    <a:pt x="112" y="1130"/>
                  </a:lnTo>
                  <a:lnTo>
                    <a:pt x="96" y="1108"/>
                  </a:lnTo>
                  <a:lnTo>
                    <a:pt x="86" y="1081"/>
                  </a:lnTo>
                  <a:lnTo>
                    <a:pt x="75" y="1054"/>
                  </a:lnTo>
                  <a:lnTo>
                    <a:pt x="64" y="1033"/>
                  </a:lnTo>
                  <a:lnTo>
                    <a:pt x="53" y="1006"/>
                  </a:lnTo>
                  <a:lnTo>
                    <a:pt x="43" y="985"/>
                  </a:lnTo>
                  <a:lnTo>
                    <a:pt x="37" y="958"/>
                  </a:lnTo>
                  <a:lnTo>
                    <a:pt x="26" y="931"/>
                  </a:lnTo>
                  <a:lnTo>
                    <a:pt x="21" y="904"/>
                  </a:lnTo>
                  <a:lnTo>
                    <a:pt x="16" y="878"/>
                  </a:lnTo>
                  <a:lnTo>
                    <a:pt x="10" y="851"/>
                  </a:lnTo>
                  <a:lnTo>
                    <a:pt x="10" y="824"/>
                  </a:lnTo>
                  <a:lnTo>
                    <a:pt x="5" y="797"/>
                  </a:lnTo>
                  <a:lnTo>
                    <a:pt x="5" y="771"/>
                  </a:lnTo>
                  <a:lnTo>
                    <a:pt x="0" y="739"/>
                  </a:lnTo>
                  <a:close/>
                </a:path>
              </a:pathLst>
            </a:custGeom>
            <a:solidFill>
              <a:srgbClr val="3f5e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4000" y="2832120"/>
              <a:ext cx="528840" cy="518040"/>
            </a:xfrm>
            <a:custGeom>
              <a:avLst/>
              <a:gdLst/>
              <a:ahLst/>
              <a:rect l="0" t="0" r="r" b="b"/>
              <a:pathLst>
                <a:path w="1469" h="1439">
                  <a:moveTo>
                    <a:pt x="0" y="717"/>
                  </a:moveTo>
                  <a:lnTo>
                    <a:pt x="0" y="690"/>
                  </a:lnTo>
                  <a:lnTo>
                    <a:pt x="0" y="658"/>
                  </a:lnTo>
                  <a:lnTo>
                    <a:pt x="5" y="631"/>
                  </a:lnTo>
                  <a:lnTo>
                    <a:pt x="5" y="604"/>
                  </a:lnTo>
                  <a:lnTo>
                    <a:pt x="10" y="572"/>
                  </a:lnTo>
                  <a:lnTo>
                    <a:pt x="16" y="551"/>
                  </a:lnTo>
                  <a:lnTo>
                    <a:pt x="21" y="524"/>
                  </a:lnTo>
                  <a:lnTo>
                    <a:pt x="32" y="498"/>
                  </a:lnTo>
                  <a:lnTo>
                    <a:pt x="43" y="471"/>
                  </a:lnTo>
                  <a:lnTo>
                    <a:pt x="48" y="449"/>
                  </a:lnTo>
                  <a:lnTo>
                    <a:pt x="59" y="423"/>
                  </a:lnTo>
                  <a:lnTo>
                    <a:pt x="69" y="396"/>
                  </a:lnTo>
                  <a:lnTo>
                    <a:pt x="80" y="375"/>
                  </a:lnTo>
                  <a:lnTo>
                    <a:pt x="96" y="347"/>
                  </a:lnTo>
                  <a:lnTo>
                    <a:pt x="107" y="325"/>
                  </a:lnTo>
                  <a:lnTo>
                    <a:pt x="123" y="304"/>
                  </a:lnTo>
                  <a:lnTo>
                    <a:pt x="139" y="283"/>
                  </a:lnTo>
                  <a:lnTo>
                    <a:pt x="161" y="261"/>
                  </a:lnTo>
                  <a:lnTo>
                    <a:pt x="177" y="240"/>
                  </a:lnTo>
                  <a:lnTo>
                    <a:pt x="193" y="224"/>
                  </a:lnTo>
                  <a:lnTo>
                    <a:pt x="209" y="203"/>
                  </a:lnTo>
                  <a:lnTo>
                    <a:pt x="231" y="187"/>
                  </a:lnTo>
                  <a:lnTo>
                    <a:pt x="247" y="165"/>
                  </a:lnTo>
                  <a:lnTo>
                    <a:pt x="268" y="149"/>
                  </a:lnTo>
                  <a:lnTo>
                    <a:pt x="290" y="138"/>
                  </a:lnTo>
                  <a:lnTo>
                    <a:pt x="311" y="122"/>
                  </a:lnTo>
                  <a:lnTo>
                    <a:pt x="338" y="112"/>
                  </a:lnTo>
                  <a:lnTo>
                    <a:pt x="360" y="96"/>
                  </a:lnTo>
                  <a:lnTo>
                    <a:pt x="381" y="80"/>
                  </a:lnTo>
                  <a:lnTo>
                    <a:pt x="408" y="69"/>
                  </a:lnTo>
                  <a:lnTo>
                    <a:pt x="430" y="58"/>
                  </a:lnTo>
                  <a:lnTo>
                    <a:pt x="457" y="48"/>
                  </a:lnTo>
                  <a:lnTo>
                    <a:pt x="478" y="37"/>
                  </a:lnTo>
                  <a:lnTo>
                    <a:pt x="510" y="32"/>
                  </a:lnTo>
                  <a:lnTo>
                    <a:pt x="537" y="21"/>
                  </a:lnTo>
                  <a:lnTo>
                    <a:pt x="564" y="16"/>
                  </a:lnTo>
                  <a:lnTo>
                    <a:pt x="591" y="10"/>
                  </a:lnTo>
                  <a:lnTo>
                    <a:pt x="618" y="5"/>
                  </a:lnTo>
                  <a:lnTo>
                    <a:pt x="645" y="5"/>
                  </a:lnTo>
                  <a:lnTo>
                    <a:pt x="677" y="0"/>
                  </a:lnTo>
                  <a:lnTo>
                    <a:pt x="704" y="0"/>
                  </a:lnTo>
                  <a:lnTo>
                    <a:pt x="731" y="0"/>
                  </a:lnTo>
                  <a:lnTo>
                    <a:pt x="759" y="0"/>
                  </a:lnTo>
                  <a:lnTo>
                    <a:pt x="791" y="0"/>
                  </a:lnTo>
                  <a:lnTo>
                    <a:pt x="818" y="5"/>
                  </a:lnTo>
                  <a:lnTo>
                    <a:pt x="850" y="5"/>
                  </a:lnTo>
                  <a:lnTo>
                    <a:pt x="877" y="10"/>
                  </a:lnTo>
                  <a:lnTo>
                    <a:pt x="904" y="16"/>
                  </a:lnTo>
                  <a:lnTo>
                    <a:pt x="931" y="21"/>
                  </a:lnTo>
                  <a:lnTo>
                    <a:pt x="958" y="32"/>
                  </a:lnTo>
                  <a:lnTo>
                    <a:pt x="979" y="37"/>
                  </a:lnTo>
                  <a:lnTo>
                    <a:pt x="1012" y="48"/>
                  </a:lnTo>
                  <a:lnTo>
                    <a:pt x="1033" y="58"/>
                  </a:lnTo>
                  <a:lnTo>
                    <a:pt x="1060" y="69"/>
                  </a:lnTo>
                  <a:lnTo>
                    <a:pt x="1082" y="80"/>
                  </a:lnTo>
                  <a:lnTo>
                    <a:pt x="1109" y="96"/>
                  </a:lnTo>
                  <a:lnTo>
                    <a:pt x="1130" y="112"/>
                  </a:lnTo>
                  <a:lnTo>
                    <a:pt x="1152" y="122"/>
                  </a:lnTo>
                  <a:lnTo>
                    <a:pt x="1178" y="138"/>
                  </a:lnTo>
                  <a:lnTo>
                    <a:pt x="1195" y="149"/>
                  </a:lnTo>
                  <a:lnTo>
                    <a:pt x="1216" y="165"/>
                  </a:lnTo>
                  <a:lnTo>
                    <a:pt x="1238" y="187"/>
                  </a:lnTo>
                  <a:lnTo>
                    <a:pt x="1254" y="203"/>
                  </a:lnTo>
                  <a:lnTo>
                    <a:pt x="1275" y="224"/>
                  </a:lnTo>
                  <a:lnTo>
                    <a:pt x="1291" y="240"/>
                  </a:lnTo>
                  <a:lnTo>
                    <a:pt x="1308" y="261"/>
                  </a:lnTo>
                  <a:lnTo>
                    <a:pt x="1324" y="283"/>
                  </a:lnTo>
                  <a:lnTo>
                    <a:pt x="1340" y="304"/>
                  </a:lnTo>
                  <a:lnTo>
                    <a:pt x="1356" y="325"/>
                  </a:lnTo>
                  <a:lnTo>
                    <a:pt x="1372" y="347"/>
                  </a:lnTo>
                  <a:lnTo>
                    <a:pt x="1383" y="375"/>
                  </a:lnTo>
                  <a:lnTo>
                    <a:pt x="1394" y="396"/>
                  </a:lnTo>
                  <a:lnTo>
                    <a:pt x="1404" y="423"/>
                  </a:lnTo>
                  <a:lnTo>
                    <a:pt x="1415" y="449"/>
                  </a:lnTo>
                  <a:lnTo>
                    <a:pt x="1426" y="471"/>
                  </a:lnTo>
                  <a:lnTo>
                    <a:pt x="1437" y="498"/>
                  </a:lnTo>
                  <a:lnTo>
                    <a:pt x="1442" y="524"/>
                  </a:lnTo>
                  <a:lnTo>
                    <a:pt x="1447" y="551"/>
                  </a:lnTo>
                  <a:lnTo>
                    <a:pt x="1453" y="572"/>
                  </a:lnTo>
                  <a:lnTo>
                    <a:pt x="1458" y="604"/>
                  </a:lnTo>
                  <a:lnTo>
                    <a:pt x="1464" y="631"/>
                  </a:lnTo>
                  <a:lnTo>
                    <a:pt x="1464" y="658"/>
                  </a:lnTo>
                  <a:lnTo>
                    <a:pt x="1469" y="690"/>
                  </a:lnTo>
                  <a:lnTo>
                    <a:pt x="1469" y="717"/>
                  </a:lnTo>
                  <a:lnTo>
                    <a:pt x="1469" y="743"/>
                  </a:lnTo>
                  <a:lnTo>
                    <a:pt x="1464" y="775"/>
                  </a:lnTo>
                  <a:lnTo>
                    <a:pt x="1464" y="802"/>
                  </a:lnTo>
                  <a:lnTo>
                    <a:pt x="1458" y="829"/>
                  </a:lnTo>
                  <a:lnTo>
                    <a:pt x="1453" y="856"/>
                  </a:lnTo>
                  <a:lnTo>
                    <a:pt x="1447" y="882"/>
                  </a:lnTo>
                  <a:lnTo>
                    <a:pt x="1442" y="909"/>
                  </a:lnTo>
                  <a:lnTo>
                    <a:pt x="1437" y="936"/>
                  </a:lnTo>
                  <a:lnTo>
                    <a:pt x="1426" y="962"/>
                  </a:lnTo>
                  <a:lnTo>
                    <a:pt x="1415" y="989"/>
                  </a:lnTo>
                  <a:lnTo>
                    <a:pt x="1404" y="1011"/>
                  </a:lnTo>
                  <a:lnTo>
                    <a:pt x="1394" y="1032"/>
                  </a:lnTo>
                  <a:lnTo>
                    <a:pt x="1383" y="1059"/>
                  </a:lnTo>
                  <a:lnTo>
                    <a:pt x="1372" y="1086"/>
                  </a:lnTo>
                  <a:lnTo>
                    <a:pt x="1356" y="1108"/>
                  </a:lnTo>
                  <a:lnTo>
                    <a:pt x="1340" y="1129"/>
                  </a:lnTo>
                  <a:lnTo>
                    <a:pt x="1324" y="1150"/>
                  </a:lnTo>
                  <a:lnTo>
                    <a:pt x="1308" y="1172"/>
                  </a:lnTo>
                  <a:lnTo>
                    <a:pt x="1291" y="1188"/>
                  </a:lnTo>
                  <a:lnTo>
                    <a:pt x="1275" y="1209"/>
                  </a:lnTo>
                  <a:lnTo>
                    <a:pt x="1254" y="1225"/>
                  </a:lnTo>
                  <a:lnTo>
                    <a:pt x="1238" y="1247"/>
                  </a:lnTo>
                  <a:lnTo>
                    <a:pt x="1216" y="1263"/>
                  </a:lnTo>
                  <a:lnTo>
                    <a:pt x="1195" y="1284"/>
                  </a:lnTo>
                  <a:lnTo>
                    <a:pt x="1178" y="1300"/>
                  </a:lnTo>
                  <a:lnTo>
                    <a:pt x="1152" y="1311"/>
                  </a:lnTo>
                  <a:lnTo>
                    <a:pt x="1130" y="1327"/>
                  </a:lnTo>
                  <a:lnTo>
                    <a:pt x="1109" y="1338"/>
                  </a:lnTo>
                  <a:lnTo>
                    <a:pt x="1082" y="1354"/>
                  </a:lnTo>
                  <a:lnTo>
                    <a:pt x="1060" y="1364"/>
                  </a:lnTo>
                  <a:lnTo>
                    <a:pt x="1033" y="1375"/>
                  </a:lnTo>
                  <a:lnTo>
                    <a:pt x="1012" y="1386"/>
                  </a:lnTo>
                  <a:lnTo>
                    <a:pt x="979" y="1396"/>
                  </a:lnTo>
                  <a:lnTo>
                    <a:pt x="958" y="1407"/>
                  </a:lnTo>
                  <a:lnTo>
                    <a:pt x="931" y="1412"/>
                  </a:lnTo>
                  <a:lnTo>
                    <a:pt x="904" y="1418"/>
                  </a:lnTo>
                  <a:lnTo>
                    <a:pt x="877" y="1428"/>
                  </a:lnTo>
                  <a:lnTo>
                    <a:pt x="850" y="1428"/>
                  </a:lnTo>
                  <a:lnTo>
                    <a:pt x="818" y="1434"/>
                  </a:lnTo>
                  <a:lnTo>
                    <a:pt x="791" y="1434"/>
                  </a:lnTo>
                  <a:lnTo>
                    <a:pt x="759" y="1439"/>
                  </a:lnTo>
                  <a:lnTo>
                    <a:pt x="704" y="1439"/>
                  </a:lnTo>
                  <a:lnTo>
                    <a:pt x="677" y="1434"/>
                  </a:lnTo>
                  <a:lnTo>
                    <a:pt x="645" y="1434"/>
                  </a:lnTo>
                  <a:lnTo>
                    <a:pt x="618" y="1428"/>
                  </a:lnTo>
                  <a:lnTo>
                    <a:pt x="591" y="1428"/>
                  </a:lnTo>
                  <a:lnTo>
                    <a:pt x="564" y="1418"/>
                  </a:lnTo>
                  <a:lnTo>
                    <a:pt x="537" y="1412"/>
                  </a:lnTo>
                  <a:lnTo>
                    <a:pt x="510" y="1407"/>
                  </a:lnTo>
                  <a:lnTo>
                    <a:pt x="478" y="1396"/>
                  </a:lnTo>
                  <a:lnTo>
                    <a:pt x="457" y="1386"/>
                  </a:lnTo>
                  <a:lnTo>
                    <a:pt x="430" y="1375"/>
                  </a:lnTo>
                  <a:lnTo>
                    <a:pt x="408" y="1364"/>
                  </a:lnTo>
                  <a:lnTo>
                    <a:pt x="381" y="1354"/>
                  </a:lnTo>
                  <a:lnTo>
                    <a:pt x="360" y="1338"/>
                  </a:lnTo>
                  <a:lnTo>
                    <a:pt x="338" y="1327"/>
                  </a:lnTo>
                  <a:lnTo>
                    <a:pt x="311" y="1311"/>
                  </a:lnTo>
                  <a:lnTo>
                    <a:pt x="290" y="1300"/>
                  </a:lnTo>
                  <a:lnTo>
                    <a:pt x="268" y="1284"/>
                  </a:lnTo>
                  <a:lnTo>
                    <a:pt x="247" y="1263"/>
                  </a:lnTo>
                  <a:lnTo>
                    <a:pt x="231" y="1247"/>
                  </a:lnTo>
                  <a:lnTo>
                    <a:pt x="209" y="1225"/>
                  </a:lnTo>
                  <a:lnTo>
                    <a:pt x="193" y="1209"/>
                  </a:lnTo>
                  <a:lnTo>
                    <a:pt x="177" y="1188"/>
                  </a:lnTo>
                  <a:lnTo>
                    <a:pt x="161" y="1172"/>
                  </a:lnTo>
                  <a:lnTo>
                    <a:pt x="139" y="1150"/>
                  </a:lnTo>
                  <a:lnTo>
                    <a:pt x="123" y="1129"/>
                  </a:lnTo>
                  <a:lnTo>
                    <a:pt x="107" y="1108"/>
                  </a:lnTo>
                  <a:lnTo>
                    <a:pt x="96" y="1086"/>
                  </a:lnTo>
                  <a:lnTo>
                    <a:pt x="80" y="1059"/>
                  </a:lnTo>
                  <a:lnTo>
                    <a:pt x="69" y="1032"/>
                  </a:lnTo>
                  <a:lnTo>
                    <a:pt x="59" y="1011"/>
                  </a:lnTo>
                  <a:lnTo>
                    <a:pt x="48" y="989"/>
                  </a:lnTo>
                  <a:lnTo>
                    <a:pt x="43" y="962"/>
                  </a:lnTo>
                  <a:lnTo>
                    <a:pt x="32" y="936"/>
                  </a:lnTo>
                  <a:lnTo>
                    <a:pt x="21" y="909"/>
                  </a:lnTo>
                  <a:lnTo>
                    <a:pt x="16" y="882"/>
                  </a:lnTo>
                  <a:lnTo>
                    <a:pt x="10" y="856"/>
                  </a:lnTo>
                  <a:lnTo>
                    <a:pt x="5" y="829"/>
                  </a:lnTo>
                  <a:lnTo>
                    <a:pt x="5" y="802"/>
                  </a:lnTo>
                  <a:lnTo>
                    <a:pt x="0" y="775"/>
                  </a:lnTo>
                  <a:lnTo>
                    <a:pt x="0" y="743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426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03360" y="2835360"/>
              <a:ext cx="511560" cy="501840"/>
            </a:xfrm>
            <a:custGeom>
              <a:avLst/>
              <a:gdLst/>
              <a:ahLst/>
              <a:rect l="0" t="0" r="r" b="b"/>
              <a:pathLst>
                <a:path w="1421" h="1394">
                  <a:moveTo>
                    <a:pt x="0" y="694"/>
                  </a:moveTo>
                  <a:lnTo>
                    <a:pt x="0" y="667"/>
                  </a:lnTo>
                  <a:lnTo>
                    <a:pt x="5" y="640"/>
                  </a:lnTo>
                  <a:lnTo>
                    <a:pt x="5" y="613"/>
                  </a:lnTo>
                  <a:lnTo>
                    <a:pt x="10" y="587"/>
                  </a:lnTo>
                  <a:lnTo>
                    <a:pt x="16" y="555"/>
                  </a:lnTo>
                  <a:lnTo>
                    <a:pt x="21" y="528"/>
                  </a:lnTo>
                  <a:lnTo>
                    <a:pt x="26" y="507"/>
                  </a:lnTo>
                  <a:lnTo>
                    <a:pt x="37" y="480"/>
                  </a:lnTo>
                  <a:lnTo>
                    <a:pt x="42" y="453"/>
                  </a:lnTo>
                  <a:lnTo>
                    <a:pt x="53" y="432"/>
                  </a:lnTo>
                  <a:lnTo>
                    <a:pt x="64" y="405"/>
                  </a:lnTo>
                  <a:lnTo>
                    <a:pt x="75" y="379"/>
                  </a:lnTo>
                  <a:lnTo>
                    <a:pt x="85" y="357"/>
                  </a:lnTo>
                  <a:lnTo>
                    <a:pt x="101" y="336"/>
                  </a:lnTo>
                  <a:lnTo>
                    <a:pt x="112" y="314"/>
                  </a:lnTo>
                  <a:lnTo>
                    <a:pt x="133" y="293"/>
                  </a:lnTo>
                  <a:lnTo>
                    <a:pt x="150" y="272"/>
                  </a:lnTo>
                  <a:lnTo>
                    <a:pt x="160" y="250"/>
                  </a:lnTo>
                  <a:lnTo>
                    <a:pt x="182" y="229"/>
                  </a:lnTo>
                  <a:lnTo>
                    <a:pt x="198" y="208"/>
                  </a:lnTo>
                  <a:lnTo>
                    <a:pt x="219" y="192"/>
                  </a:lnTo>
                  <a:lnTo>
                    <a:pt x="235" y="176"/>
                  </a:lnTo>
                  <a:lnTo>
                    <a:pt x="257" y="154"/>
                  </a:lnTo>
                  <a:lnTo>
                    <a:pt x="273" y="144"/>
                  </a:lnTo>
                  <a:lnTo>
                    <a:pt x="300" y="128"/>
                  </a:lnTo>
                  <a:lnTo>
                    <a:pt x="321" y="112"/>
                  </a:lnTo>
                  <a:lnTo>
                    <a:pt x="342" y="101"/>
                  </a:lnTo>
                  <a:lnTo>
                    <a:pt x="365" y="85"/>
                  </a:lnTo>
                  <a:lnTo>
                    <a:pt x="392" y="74"/>
                  </a:lnTo>
                  <a:lnTo>
                    <a:pt x="413" y="64"/>
                  </a:lnTo>
                  <a:lnTo>
                    <a:pt x="440" y="53"/>
                  </a:lnTo>
                  <a:lnTo>
                    <a:pt x="461" y="42"/>
                  </a:lnTo>
                  <a:lnTo>
                    <a:pt x="493" y="32"/>
                  </a:lnTo>
                  <a:lnTo>
                    <a:pt x="520" y="26"/>
                  </a:lnTo>
                  <a:lnTo>
                    <a:pt x="547" y="21"/>
                  </a:lnTo>
                  <a:lnTo>
                    <a:pt x="568" y="16"/>
                  </a:lnTo>
                  <a:lnTo>
                    <a:pt x="601" y="10"/>
                  </a:lnTo>
                  <a:lnTo>
                    <a:pt x="627" y="5"/>
                  </a:lnTo>
                  <a:lnTo>
                    <a:pt x="654" y="5"/>
                  </a:lnTo>
                  <a:lnTo>
                    <a:pt x="686" y="0"/>
                  </a:lnTo>
                  <a:lnTo>
                    <a:pt x="708" y="0"/>
                  </a:lnTo>
                  <a:lnTo>
                    <a:pt x="740" y="0"/>
                  </a:lnTo>
                  <a:lnTo>
                    <a:pt x="767" y="5"/>
                  </a:lnTo>
                  <a:lnTo>
                    <a:pt x="794" y="5"/>
                  </a:lnTo>
                  <a:lnTo>
                    <a:pt x="826" y="10"/>
                  </a:lnTo>
                  <a:lnTo>
                    <a:pt x="852" y="16"/>
                  </a:lnTo>
                  <a:lnTo>
                    <a:pt x="879" y="21"/>
                  </a:lnTo>
                  <a:lnTo>
                    <a:pt x="906" y="26"/>
                  </a:lnTo>
                  <a:lnTo>
                    <a:pt x="933" y="32"/>
                  </a:lnTo>
                  <a:lnTo>
                    <a:pt x="954" y="42"/>
                  </a:lnTo>
                  <a:lnTo>
                    <a:pt x="981" y="53"/>
                  </a:lnTo>
                  <a:lnTo>
                    <a:pt x="1008" y="64"/>
                  </a:lnTo>
                  <a:lnTo>
                    <a:pt x="1029" y="74"/>
                  </a:lnTo>
                  <a:lnTo>
                    <a:pt x="1056" y="85"/>
                  </a:lnTo>
                  <a:lnTo>
                    <a:pt x="1079" y="101"/>
                  </a:lnTo>
                  <a:lnTo>
                    <a:pt x="1100" y="112"/>
                  </a:lnTo>
                  <a:lnTo>
                    <a:pt x="1121" y="128"/>
                  </a:lnTo>
                  <a:lnTo>
                    <a:pt x="1143" y="144"/>
                  </a:lnTo>
                  <a:lnTo>
                    <a:pt x="1170" y="154"/>
                  </a:lnTo>
                  <a:lnTo>
                    <a:pt x="1186" y="176"/>
                  </a:lnTo>
                  <a:lnTo>
                    <a:pt x="1207" y="192"/>
                  </a:lnTo>
                  <a:lnTo>
                    <a:pt x="1223" y="208"/>
                  </a:lnTo>
                  <a:lnTo>
                    <a:pt x="1245" y="229"/>
                  </a:lnTo>
                  <a:lnTo>
                    <a:pt x="1261" y="250"/>
                  </a:lnTo>
                  <a:lnTo>
                    <a:pt x="1277" y="272"/>
                  </a:lnTo>
                  <a:lnTo>
                    <a:pt x="1287" y="293"/>
                  </a:lnTo>
                  <a:lnTo>
                    <a:pt x="1304" y="314"/>
                  </a:lnTo>
                  <a:lnTo>
                    <a:pt x="1320" y="336"/>
                  </a:lnTo>
                  <a:lnTo>
                    <a:pt x="1336" y="357"/>
                  </a:lnTo>
                  <a:lnTo>
                    <a:pt x="1346" y="379"/>
                  </a:lnTo>
                  <a:lnTo>
                    <a:pt x="1357" y="405"/>
                  </a:lnTo>
                  <a:lnTo>
                    <a:pt x="1368" y="432"/>
                  </a:lnTo>
                  <a:lnTo>
                    <a:pt x="1379" y="453"/>
                  </a:lnTo>
                  <a:lnTo>
                    <a:pt x="1389" y="480"/>
                  </a:lnTo>
                  <a:lnTo>
                    <a:pt x="1395" y="507"/>
                  </a:lnTo>
                  <a:lnTo>
                    <a:pt x="1400" y="528"/>
                  </a:lnTo>
                  <a:lnTo>
                    <a:pt x="1405" y="555"/>
                  </a:lnTo>
                  <a:lnTo>
                    <a:pt x="1411" y="587"/>
                  </a:lnTo>
                  <a:lnTo>
                    <a:pt x="1416" y="613"/>
                  </a:lnTo>
                  <a:lnTo>
                    <a:pt x="1416" y="640"/>
                  </a:lnTo>
                  <a:lnTo>
                    <a:pt x="1421" y="667"/>
                  </a:lnTo>
                  <a:lnTo>
                    <a:pt x="1421" y="694"/>
                  </a:lnTo>
                  <a:lnTo>
                    <a:pt x="1421" y="721"/>
                  </a:lnTo>
                  <a:lnTo>
                    <a:pt x="1416" y="753"/>
                  </a:lnTo>
                  <a:lnTo>
                    <a:pt x="1416" y="780"/>
                  </a:lnTo>
                  <a:lnTo>
                    <a:pt x="1411" y="807"/>
                  </a:lnTo>
                  <a:lnTo>
                    <a:pt x="1405" y="833"/>
                  </a:lnTo>
                  <a:lnTo>
                    <a:pt x="1400" y="860"/>
                  </a:lnTo>
                  <a:lnTo>
                    <a:pt x="1395" y="887"/>
                  </a:lnTo>
                  <a:lnTo>
                    <a:pt x="1389" y="913"/>
                  </a:lnTo>
                  <a:lnTo>
                    <a:pt x="1379" y="940"/>
                  </a:lnTo>
                  <a:lnTo>
                    <a:pt x="1368" y="967"/>
                  </a:lnTo>
                  <a:lnTo>
                    <a:pt x="1357" y="988"/>
                  </a:lnTo>
                  <a:lnTo>
                    <a:pt x="1346" y="1010"/>
                  </a:lnTo>
                  <a:lnTo>
                    <a:pt x="1336" y="1036"/>
                  </a:lnTo>
                  <a:lnTo>
                    <a:pt x="1320" y="1058"/>
                  </a:lnTo>
                  <a:lnTo>
                    <a:pt x="1304" y="1084"/>
                  </a:lnTo>
                  <a:lnTo>
                    <a:pt x="1287" y="1100"/>
                  </a:lnTo>
                  <a:lnTo>
                    <a:pt x="1277" y="1122"/>
                  </a:lnTo>
                  <a:lnTo>
                    <a:pt x="1261" y="1143"/>
                  </a:lnTo>
                  <a:lnTo>
                    <a:pt x="1245" y="1164"/>
                  </a:lnTo>
                  <a:lnTo>
                    <a:pt x="1223" y="1180"/>
                  </a:lnTo>
                  <a:lnTo>
                    <a:pt x="1207" y="1202"/>
                  </a:lnTo>
                  <a:lnTo>
                    <a:pt x="1186" y="1218"/>
                  </a:lnTo>
                  <a:lnTo>
                    <a:pt x="1170" y="1234"/>
                  </a:lnTo>
                  <a:lnTo>
                    <a:pt x="1143" y="1250"/>
                  </a:lnTo>
                  <a:lnTo>
                    <a:pt x="1121" y="1266"/>
                  </a:lnTo>
                  <a:lnTo>
                    <a:pt x="1100" y="1282"/>
                  </a:lnTo>
                  <a:lnTo>
                    <a:pt x="1079" y="1298"/>
                  </a:lnTo>
                  <a:lnTo>
                    <a:pt x="1056" y="1309"/>
                  </a:lnTo>
                  <a:lnTo>
                    <a:pt x="1029" y="1319"/>
                  </a:lnTo>
                  <a:lnTo>
                    <a:pt x="1008" y="1330"/>
                  </a:lnTo>
                  <a:lnTo>
                    <a:pt x="981" y="1341"/>
                  </a:lnTo>
                  <a:lnTo>
                    <a:pt x="954" y="1351"/>
                  </a:lnTo>
                  <a:lnTo>
                    <a:pt x="933" y="1362"/>
                  </a:lnTo>
                  <a:lnTo>
                    <a:pt x="906" y="1367"/>
                  </a:lnTo>
                  <a:lnTo>
                    <a:pt x="879" y="1373"/>
                  </a:lnTo>
                  <a:lnTo>
                    <a:pt x="852" y="1378"/>
                  </a:lnTo>
                  <a:lnTo>
                    <a:pt x="826" y="1383"/>
                  </a:lnTo>
                  <a:lnTo>
                    <a:pt x="794" y="1389"/>
                  </a:lnTo>
                  <a:lnTo>
                    <a:pt x="767" y="1394"/>
                  </a:lnTo>
                  <a:lnTo>
                    <a:pt x="740" y="1394"/>
                  </a:lnTo>
                  <a:lnTo>
                    <a:pt x="686" y="1394"/>
                  </a:lnTo>
                  <a:lnTo>
                    <a:pt x="654" y="1394"/>
                  </a:lnTo>
                  <a:lnTo>
                    <a:pt x="627" y="1389"/>
                  </a:lnTo>
                  <a:lnTo>
                    <a:pt x="601" y="1383"/>
                  </a:lnTo>
                  <a:lnTo>
                    <a:pt x="568" y="1378"/>
                  </a:lnTo>
                  <a:lnTo>
                    <a:pt x="547" y="1373"/>
                  </a:lnTo>
                  <a:lnTo>
                    <a:pt x="520" y="1367"/>
                  </a:lnTo>
                  <a:lnTo>
                    <a:pt x="493" y="1362"/>
                  </a:lnTo>
                  <a:lnTo>
                    <a:pt x="461" y="1351"/>
                  </a:lnTo>
                  <a:lnTo>
                    <a:pt x="440" y="1341"/>
                  </a:lnTo>
                  <a:lnTo>
                    <a:pt x="413" y="1330"/>
                  </a:lnTo>
                  <a:lnTo>
                    <a:pt x="392" y="1319"/>
                  </a:lnTo>
                  <a:lnTo>
                    <a:pt x="365" y="1309"/>
                  </a:lnTo>
                  <a:lnTo>
                    <a:pt x="342" y="1298"/>
                  </a:lnTo>
                  <a:lnTo>
                    <a:pt x="321" y="1282"/>
                  </a:lnTo>
                  <a:lnTo>
                    <a:pt x="300" y="1266"/>
                  </a:lnTo>
                  <a:lnTo>
                    <a:pt x="273" y="1250"/>
                  </a:lnTo>
                  <a:lnTo>
                    <a:pt x="257" y="1234"/>
                  </a:lnTo>
                  <a:lnTo>
                    <a:pt x="235" y="1218"/>
                  </a:lnTo>
                  <a:lnTo>
                    <a:pt x="219" y="1202"/>
                  </a:lnTo>
                  <a:lnTo>
                    <a:pt x="198" y="1180"/>
                  </a:lnTo>
                  <a:lnTo>
                    <a:pt x="182" y="1164"/>
                  </a:lnTo>
                  <a:lnTo>
                    <a:pt x="160" y="1143"/>
                  </a:lnTo>
                  <a:lnTo>
                    <a:pt x="150" y="1122"/>
                  </a:lnTo>
                  <a:lnTo>
                    <a:pt x="133" y="1100"/>
                  </a:lnTo>
                  <a:lnTo>
                    <a:pt x="112" y="1084"/>
                  </a:lnTo>
                  <a:lnTo>
                    <a:pt x="101" y="1058"/>
                  </a:lnTo>
                  <a:lnTo>
                    <a:pt x="85" y="1036"/>
                  </a:lnTo>
                  <a:lnTo>
                    <a:pt x="75" y="1010"/>
                  </a:lnTo>
                  <a:lnTo>
                    <a:pt x="64" y="988"/>
                  </a:lnTo>
                  <a:lnTo>
                    <a:pt x="53" y="967"/>
                  </a:lnTo>
                  <a:lnTo>
                    <a:pt x="42" y="940"/>
                  </a:lnTo>
                  <a:lnTo>
                    <a:pt x="37" y="913"/>
                  </a:lnTo>
                  <a:lnTo>
                    <a:pt x="26" y="887"/>
                  </a:lnTo>
                  <a:lnTo>
                    <a:pt x="21" y="860"/>
                  </a:lnTo>
                  <a:lnTo>
                    <a:pt x="16" y="833"/>
                  </a:lnTo>
                  <a:lnTo>
                    <a:pt x="10" y="807"/>
                  </a:lnTo>
                  <a:lnTo>
                    <a:pt x="5" y="780"/>
                  </a:lnTo>
                  <a:lnTo>
                    <a:pt x="5" y="753"/>
                  </a:lnTo>
                  <a:lnTo>
                    <a:pt x="0" y="721"/>
                  </a:lnTo>
                  <a:lnTo>
                    <a:pt x="0" y="694"/>
                  </a:lnTo>
                  <a:close/>
                </a:path>
              </a:pathLst>
            </a:custGeom>
            <a:solidFill>
              <a:srgbClr val="4766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2720" y="2841480"/>
              <a:ext cx="493920" cy="483120"/>
            </a:xfrm>
            <a:custGeom>
              <a:avLst/>
              <a:gdLst/>
              <a:ahLst/>
              <a:rect l="0" t="0" r="r" b="b"/>
              <a:pathLst>
                <a:path w="1372" h="1342">
                  <a:moveTo>
                    <a:pt x="0" y="671"/>
                  </a:moveTo>
                  <a:lnTo>
                    <a:pt x="0" y="644"/>
                  </a:lnTo>
                  <a:lnTo>
                    <a:pt x="5" y="612"/>
                  </a:lnTo>
                  <a:lnTo>
                    <a:pt x="5" y="586"/>
                  </a:lnTo>
                  <a:lnTo>
                    <a:pt x="10" y="559"/>
                  </a:lnTo>
                  <a:lnTo>
                    <a:pt x="16" y="532"/>
                  </a:lnTo>
                  <a:lnTo>
                    <a:pt x="21" y="506"/>
                  </a:lnTo>
                  <a:lnTo>
                    <a:pt x="26" y="479"/>
                  </a:lnTo>
                  <a:lnTo>
                    <a:pt x="37" y="458"/>
                  </a:lnTo>
                  <a:lnTo>
                    <a:pt x="42" y="431"/>
                  </a:lnTo>
                  <a:lnTo>
                    <a:pt x="53" y="410"/>
                  </a:lnTo>
                  <a:lnTo>
                    <a:pt x="64" y="378"/>
                  </a:lnTo>
                  <a:lnTo>
                    <a:pt x="74" y="357"/>
                  </a:lnTo>
                  <a:lnTo>
                    <a:pt x="85" y="336"/>
                  </a:lnTo>
                  <a:lnTo>
                    <a:pt x="101" y="313"/>
                  </a:lnTo>
                  <a:lnTo>
                    <a:pt x="117" y="292"/>
                  </a:lnTo>
                  <a:lnTo>
                    <a:pt x="133" y="271"/>
                  </a:lnTo>
                  <a:lnTo>
                    <a:pt x="149" y="250"/>
                  </a:lnTo>
                  <a:lnTo>
                    <a:pt x="166" y="228"/>
                  </a:lnTo>
                  <a:lnTo>
                    <a:pt x="182" y="207"/>
                  </a:lnTo>
                  <a:lnTo>
                    <a:pt x="198" y="191"/>
                  </a:lnTo>
                  <a:lnTo>
                    <a:pt x="219" y="175"/>
                  </a:lnTo>
                  <a:lnTo>
                    <a:pt x="235" y="154"/>
                  </a:lnTo>
                  <a:lnTo>
                    <a:pt x="257" y="138"/>
                  </a:lnTo>
                  <a:lnTo>
                    <a:pt x="278" y="122"/>
                  </a:lnTo>
                  <a:lnTo>
                    <a:pt x="299" y="111"/>
                  </a:lnTo>
                  <a:lnTo>
                    <a:pt x="321" y="101"/>
                  </a:lnTo>
                  <a:lnTo>
                    <a:pt x="348" y="85"/>
                  </a:lnTo>
                  <a:lnTo>
                    <a:pt x="369" y="69"/>
                  </a:lnTo>
                  <a:lnTo>
                    <a:pt x="391" y="58"/>
                  </a:lnTo>
                  <a:lnTo>
                    <a:pt x="417" y="47"/>
                  </a:lnTo>
                  <a:lnTo>
                    <a:pt x="444" y="37"/>
                  </a:lnTo>
                  <a:lnTo>
                    <a:pt x="471" y="31"/>
                  </a:lnTo>
                  <a:lnTo>
                    <a:pt x="498" y="21"/>
                  </a:lnTo>
                  <a:lnTo>
                    <a:pt x="519" y="15"/>
                  </a:lnTo>
                  <a:lnTo>
                    <a:pt x="546" y="10"/>
                  </a:lnTo>
                  <a:lnTo>
                    <a:pt x="573" y="5"/>
                  </a:lnTo>
                  <a:lnTo>
                    <a:pt x="599" y="5"/>
                  </a:lnTo>
                  <a:lnTo>
                    <a:pt x="632" y="0"/>
                  </a:lnTo>
                  <a:lnTo>
                    <a:pt x="658" y="0"/>
                  </a:lnTo>
                  <a:lnTo>
                    <a:pt x="713" y="0"/>
                  </a:lnTo>
                  <a:lnTo>
                    <a:pt x="745" y="0"/>
                  </a:lnTo>
                  <a:lnTo>
                    <a:pt x="772" y="5"/>
                  </a:lnTo>
                  <a:lnTo>
                    <a:pt x="799" y="5"/>
                  </a:lnTo>
                  <a:lnTo>
                    <a:pt x="825" y="10"/>
                  </a:lnTo>
                  <a:lnTo>
                    <a:pt x="852" y="15"/>
                  </a:lnTo>
                  <a:lnTo>
                    <a:pt x="879" y="21"/>
                  </a:lnTo>
                  <a:lnTo>
                    <a:pt x="906" y="31"/>
                  </a:lnTo>
                  <a:lnTo>
                    <a:pt x="927" y="37"/>
                  </a:lnTo>
                  <a:lnTo>
                    <a:pt x="959" y="47"/>
                  </a:lnTo>
                  <a:lnTo>
                    <a:pt x="981" y="58"/>
                  </a:lnTo>
                  <a:lnTo>
                    <a:pt x="1002" y="69"/>
                  </a:lnTo>
                  <a:lnTo>
                    <a:pt x="1029" y="85"/>
                  </a:lnTo>
                  <a:lnTo>
                    <a:pt x="1050" y="101"/>
                  </a:lnTo>
                  <a:lnTo>
                    <a:pt x="1072" y="111"/>
                  </a:lnTo>
                  <a:lnTo>
                    <a:pt x="1093" y="122"/>
                  </a:lnTo>
                  <a:lnTo>
                    <a:pt x="1115" y="138"/>
                  </a:lnTo>
                  <a:lnTo>
                    <a:pt x="1136" y="154"/>
                  </a:lnTo>
                  <a:lnTo>
                    <a:pt x="1158" y="175"/>
                  </a:lnTo>
                  <a:lnTo>
                    <a:pt x="1174" y="191"/>
                  </a:lnTo>
                  <a:lnTo>
                    <a:pt x="1190" y="207"/>
                  </a:lnTo>
                  <a:lnTo>
                    <a:pt x="1211" y="228"/>
                  </a:lnTo>
                  <a:lnTo>
                    <a:pt x="1227" y="250"/>
                  </a:lnTo>
                  <a:lnTo>
                    <a:pt x="1243" y="271"/>
                  </a:lnTo>
                  <a:lnTo>
                    <a:pt x="1259" y="292"/>
                  </a:lnTo>
                  <a:lnTo>
                    <a:pt x="1270" y="313"/>
                  </a:lnTo>
                  <a:lnTo>
                    <a:pt x="1286" y="336"/>
                  </a:lnTo>
                  <a:lnTo>
                    <a:pt x="1297" y="357"/>
                  </a:lnTo>
                  <a:lnTo>
                    <a:pt x="1313" y="378"/>
                  </a:lnTo>
                  <a:lnTo>
                    <a:pt x="1324" y="410"/>
                  </a:lnTo>
                  <a:lnTo>
                    <a:pt x="1329" y="431"/>
                  </a:lnTo>
                  <a:lnTo>
                    <a:pt x="1340" y="458"/>
                  </a:lnTo>
                  <a:lnTo>
                    <a:pt x="1350" y="479"/>
                  </a:lnTo>
                  <a:lnTo>
                    <a:pt x="1356" y="506"/>
                  </a:lnTo>
                  <a:lnTo>
                    <a:pt x="1361" y="532"/>
                  </a:lnTo>
                  <a:lnTo>
                    <a:pt x="1367" y="559"/>
                  </a:lnTo>
                  <a:lnTo>
                    <a:pt x="1367" y="586"/>
                  </a:lnTo>
                  <a:lnTo>
                    <a:pt x="1372" y="612"/>
                  </a:lnTo>
                  <a:lnTo>
                    <a:pt x="1372" y="644"/>
                  </a:lnTo>
                  <a:lnTo>
                    <a:pt x="1372" y="671"/>
                  </a:lnTo>
                  <a:lnTo>
                    <a:pt x="1372" y="697"/>
                  </a:lnTo>
                  <a:lnTo>
                    <a:pt x="1372" y="729"/>
                  </a:lnTo>
                  <a:lnTo>
                    <a:pt x="1367" y="756"/>
                  </a:lnTo>
                  <a:lnTo>
                    <a:pt x="1367" y="782"/>
                  </a:lnTo>
                  <a:lnTo>
                    <a:pt x="1361" y="804"/>
                  </a:lnTo>
                  <a:lnTo>
                    <a:pt x="1356" y="830"/>
                  </a:lnTo>
                  <a:lnTo>
                    <a:pt x="1350" y="857"/>
                  </a:lnTo>
                  <a:lnTo>
                    <a:pt x="1340" y="884"/>
                  </a:lnTo>
                  <a:lnTo>
                    <a:pt x="1329" y="910"/>
                  </a:lnTo>
                  <a:lnTo>
                    <a:pt x="1324" y="937"/>
                  </a:lnTo>
                  <a:lnTo>
                    <a:pt x="1313" y="958"/>
                  </a:lnTo>
                  <a:lnTo>
                    <a:pt x="1297" y="979"/>
                  </a:lnTo>
                  <a:lnTo>
                    <a:pt x="1286" y="1001"/>
                  </a:lnTo>
                  <a:lnTo>
                    <a:pt x="1270" y="1028"/>
                  </a:lnTo>
                  <a:lnTo>
                    <a:pt x="1259" y="1049"/>
                  </a:lnTo>
                  <a:lnTo>
                    <a:pt x="1243" y="1071"/>
                  </a:lnTo>
                  <a:lnTo>
                    <a:pt x="1227" y="1092"/>
                  </a:lnTo>
                  <a:lnTo>
                    <a:pt x="1211" y="1108"/>
                  </a:lnTo>
                  <a:lnTo>
                    <a:pt x="1190" y="1129"/>
                  </a:lnTo>
                  <a:lnTo>
                    <a:pt x="1174" y="1145"/>
                  </a:lnTo>
                  <a:lnTo>
                    <a:pt x="1158" y="1167"/>
                  </a:lnTo>
                  <a:lnTo>
                    <a:pt x="1136" y="1182"/>
                  </a:lnTo>
                  <a:lnTo>
                    <a:pt x="1115" y="1198"/>
                  </a:lnTo>
                  <a:lnTo>
                    <a:pt x="1093" y="1214"/>
                  </a:lnTo>
                  <a:lnTo>
                    <a:pt x="1072" y="1230"/>
                  </a:lnTo>
                  <a:lnTo>
                    <a:pt x="1050" y="1246"/>
                  </a:lnTo>
                  <a:lnTo>
                    <a:pt x="1029" y="1257"/>
                  </a:lnTo>
                  <a:lnTo>
                    <a:pt x="1002" y="1268"/>
                  </a:lnTo>
                  <a:lnTo>
                    <a:pt x="981" y="1284"/>
                  </a:lnTo>
                  <a:lnTo>
                    <a:pt x="959" y="1289"/>
                  </a:lnTo>
                  <a:lnTo>
                    <a:pt x="927" y="1299"/>
                  </a:lnTo>
                  <a:lnTo>
                    <a:pt x="906" y="1310"/>
                  </a:lnTo>
                  <a:lnTo>
                    <a:pt x="879" y="1315"/>
                  </a:lnTo>
                  <a:lnTo>
                    <a:pt x="852" y="1326"/>
                  </a:lnTo>
                  <a:lnTo>
                    <a:pt x="825" y="1331"/>
                  </a:lnTo>
                  <a:lnTo>
                    <a:pt x="799" y="1331"/>
                  </a:lnTo>
                  <a:lnTo>
                    <a:pt x="772" y="1337"/>
                  </a:lnTo>
                  <a:lnTo>
                    <a:pt x="745" y="1342"/>
                  </a:lnTo>
                  <a:lnTo>
                    <a:pt x="713" y="1342"/>
                  </a:lnTo>
                  <a:lnTo>
                    <a:pt x="658" y="1342"/>
                  </a:lnTo>
                  <a:lnTo>
                    <a:pt x="632" y="1342"/>
                  </a:lnTo>
                  <a:lnTo>
                    <a:pt x="599" y="1337"/>
                  </a:lnTo>
                  <a:lnTo>
                    <a:pt x="573" y="1331"/>
                  </a:lnTo>
                  <a:lnTo>
                    <a:pt x="546" y="1331"/>
                  </a:lnTo>
                  <a:lnTo>
                    <a:pt x="519" y="1326"/>
                  </a:lnTo>
                  <a:lnTo>
                    <a:pt x="498" y="1315"/>
                  </a:lnTo>
                  <a:lnTo>
                    <a:pt x="471" y="1310"/>
                  </a:lnTo>
                  <a:lnTo>
                    <a:pt x="444" y="1299"/>
                  </a:lnTo>
                  <a:lnTo>
                    <a:pt x="417" y="1289"/>
                  </a:lnTo>
                  <a:lnTo>
                    <a:pt x="391" y="1284"/>
                  </a:lnTo>
                  <a:lnTo>
                    <a:pt x="369" y="1268"/>
                  </a:lnTo>
                  <a:lnTo>
                    <a:pt x="348" y="1257"/>
                  </a:lnTo>
                  <a:lnTo>
                    <a:pt x="321" y="1246"/>
                  </a:lnTo>
                  <a:lnTo>
                    <a:pt x="299" y="1230"/>
                  </a:lnTo>
                  <a:lnTo>
                    <a:pt x="278" y="1214"/>
                  </a:lnTo>
                  <a:lnTo>
                    <a:pt x="257" y="1198"/>
                  </a:lnTo>
                  <a:lnTo>
                    <a:pt x="235" y="1182"/>
                  </a:lnTo>
                  <a:lnTo>
                    <a:pt x="219" y="1167"/>
                  </a:lnTo>
                  <a:lnTo>
                    <a:pt x="198" y="1145"/>
                  </a:lnTo>
                  <a:lnTo>
                    <a:pt x="182" y="1129"/>
                  </a:lnTo>
                  <a:lnTo>
                    <a:pt x="166" y="1108"/>
                  </a:lnTo>
                  <a:lnTo>
                    <a:pt x="149" y="1092"/>
                  </a:lnTo>
                  <a:lnTo>
                    <a:pt x="133" y="1071"/>
                  </a:lnTo>
                  <a:lnTo>
                    <a:pt x="117" y="1049"/>
                  </a:lnTo>
                  <a:lnTo>
                    <a:pt x="101" y="1028"/>
                  </a:lnTo>
                  <a:lnTo>
                    <a:pt x="85" y="1001"/>
                  </a:lnTo>
                  <a:lnTo>
                    <a:pt x="74" y="979"/>
                  </a:lnTo>
                  <a:lnTo>
                    <a:pt x="64" y="958"/>
                  </a:lnTo>
                  <a:lnTo>
                    <a:pt x="53" y="937"/>
                  </a:lnTo>
                  <a:lnTo>
                    <a:pt x="42" y="910"/>
                  </a:lnTo>
                  <a:lnTo>
                    <a:pt x="37" y="884"/>
                  </a:lnTo>
                  <a:lnTo>
                    <a:pt x="26" y="857"/>
                  </a:lnTo>
                  <a:lnTo>
                    <a:pt x="21" y="830"/>
                  </a:lnTo>
                  <a:lnTo>
                    <a:pt x="16" y="804"/>
                  </a:lnTo>
                  <a:lnTo>
                    <a:pt x="10" y="782"/>
                  </a:lnTo>
                  <a:lnTo>
                    <a:pt x="5" y="756"/>
                  </a:lnTo>
                  <a:lnTo>
                    <a:pt x="5" y="729"/>
                  </a:lnTo>
                  <a:lnTo>
                    <a:pt x="0" y="697"/>
                  </a:lnTo>
                  <a:lnTo>
                    <a:pt x="0" y="671"/>
                  </a:lnTo>
                  <a:close/>
                </a:path>
              </a:pathLst>
            </a:custGeom>
            <a:solidFill>
              <a:srgbClr val="4c6b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2844720"/>
              <a:ext cx="473400" cy="466920"/>
            </a:xfrm>
            <a:custGeom>
              <a:avLst/>
              <a:gdLst/>
              <a:ahLst/>
              <a:rect l="0" t="0" r="r" b="b"/>
              <a:pathLst>
                <a:path w="1315" h="1297">
                  <a:moveTo>
                    <a:pt x="0" y="649"/>
                  </a:moveTo>
                  <a:lnTo>
                    <a:pt x="5" y="621"/>
                  </a:lnTo>
                  <a:lnTo>
                    <a:pt x="5" y="595"/>
                  </a:lnTo>
                  <a:lnTo>
                    <a:pt x="5" y="563"/>
                  </a:lnTo>
                  <a:lnTo>
                    <a:pt x="10" y="536"/>
                  </a:lnTo>
                  <a:lnTo>
                    <a:pt x="15" y="510"/>
                  </a:lnTo>
                  <a:lnTo>
                    <a:pt x="21" y="483"/>
                  </a:lnTo>
                  <a:lnTo>
                    <a:pt x="26" y="456"/>
                  </a:lnTo>
                  <a:lnTo>
                    <a:pt x="37" y="430"/>
                  </a:lnTo>
                  <a:lnTo>
                    <a:pt x="47" y="409"/>
                  </a:lnTo>
                  <a:lnTo>
                    <a:pt x="58" y="382"/>
                  </a:lnTo>
                  <a:lnTo>
                    <a:pt x="69" y="355"/>
                  </a:lnTo>
                  <a:lnTo>
                    <a:pt x="85" y="334"/>
                  </a:lnTo>
                  <a:lnTo>
                    <a:pt x="95" y="308"/>
                  </a:lnTo>
                  <a:lnTo>
                    <a:pt x="106" y="292"/>
                  </a:lnTo>
                  <a:lnTo>
                    <a:pt x="127" y="265"/>
                  </a:lnTo>
                  <a:lnTo>
                    <a:pt x="138" y="249"/>
                  </a:lnTo>
                  <a:lnTo>
                    <a:pt x="159" y="223"/>
                  </a:lnTo>
                  <a:lnTo>
                    <a:pt x="175" y="201"/>
                  </a:lnTo>
                  <a:lnTo>
                    <a:pt x="191" y="185"/>
                  </a:lnTo>
                  <a:lnTo>
                    <a:pt x="212" y="170"/>
                  </a:lnTo>
                  <a:lnTo>
                    <a:pt x="228" y="148"/>
                  </a:lnTo>
                  <a:lnTo>
                    <a:pt x="250" y="138"/>
                  </a:lnTo>
                  <a:lnTo>
                    <a:pt x="271" y="122"/>
                  </a:lnTo>
                  <a:lnTo>
                    <a:pt x="292" y="106"/>
                  </a:lnTo>
                  <a:lnTo>
                    <a:pt x="319" y="90"/>
                  </a:lnTo>
                  <a:lnTo>
                    <a:pt x="340" y="79"/>
                  </a:lnTo>
                  <a:lnTo>
                    <a:pt x="361" y="63"/>
                  </a:lnTo>
                  <a:lnTo>
                    <a:pt x="388" y="58"/>
                  </a:lnTo>
                  <a:lnTo>
                    <a:pt x="414" y="42"/>
                  </a:lnTo>
                  <a:lnTo>
                    <a:pt x="441" y="37"/>
                  </a:lnTo>
                  <a:lnTo>
                    <a:pt x="468" y="26"/>
                  </a:lnTo>
                  <a:lnTo>
                    <a:pt x="489" y="21"/>
                  </a:lnTo>
                  <a:lnTo>
                    <a:pt x="516" y="15"/>
                  </a:lnTo>
                  <a:lnTo>
                    <a:pt x="542" y="10"/>
                  </a:lnTo>
                  <a:lnTo>
                    <a:pt x="574" y="5"/>
                  </a:lnTo>
                  <a:lnTo>
                    <a:pt x="601" y="5"/>
                  </a:lnTo>
                  <a:lnTo>
                    <a:pt x="627" y="0"/>
                  </a:lnTo>
                  <a:lnTo>
                    <a:pt x="687" y="0"/>
                  </a:lnTo>
                  <a:lnTo>
                    <a:pt x="713" y="5"/>
                  </a:lnTo>
                  <a:lnTo>
                    <a:pt x="740" y="5"/>
                  </a:lnTo>
                  <a:lnTo>
                    <a:pt x="772" y="10"/>
                  </a:lnTo>
                  <a:lnTo>
                    <a:pt x="799" y="15"/>
                  </a:lnTo>
                  <a:lnTo>
                    <a:pt x="825" y="21"/>
                  </a:lnTo>
                  <a:lnTo>
                    <a:pt x="852" y="26"/>
                  </a:lnTo>
                  <a:lnTo>
                    <a:pt x="878" y="37"/>
                  </a:lnTo>
                  <a:lnTo>
                    <a:pt x="905" y="42"/>
                  </a:lnTo>
                  <a:lnTo>
                    <a:pt x="932" y="58"/>
                  </a:lnTo>
                  <a:lnTo>
                    <a:pt x="953" y="63"/>
                  </a:lnTo>
                  <a:lnTo>
                    <a:pt x="979" y="79"/>
                  </a:lnTo>
                  <a:lnTo>
                    <a:pt x="1001" y="90"/>
                  </a:lnTo>
                  <a:lnTo>
                    <a:pt x="1022" y="106"/>
                  </a:lnTo>
                  <a:lnTo>
                    <a:pt x="1043" y="122"/>
                  </a:lnTo>
                  <a:lnTo>
                    <a:pt x="1065" y="138"/>
                  </a:lnTo>
                  <a:lnTo>
                    <a:pt x="1086" y="148"/>
                  </a:lnTo>
                  <a:lnTo>
                    <a:pt x="1107" y="170"/>
                  </a:lnTo>
                  <a:lnTo>
                    <a:pt x="1128" y="185"/>
                  </a:lnTo>
                  <a:lnTo>
                    <a:pt x="1144" y="201"/>
                  </a:lnTo>
                  <a:lnTo>
                    <a:pt x="1160" y="223"/>
                  </a:lnTo>
                  <a:lnTo>
                    <a:pt x="1176" y="249"/>
                  </a:lnTo>
                  <a:lnTo>
                    <a:pt x="1192" y="265"/>
                  </a:lnTo>
                  <a:lnTo>
                    <a:pt x="1208" y="292"/>
                  </a:lnTo>
                  <a:lnTo>
                    <a:pt x="1224" y="308"/>
                  </a:lnTo>
                  <a:lnTo>
                    <a:pt x="1235" y="334"/>
                  </a:lnTo>
                  <a:lnTo>
                    <a:pt x="1245" y="355"/>
                  </a:lnTo>
                  <a:lnTo>
                    <a:pt x="1261" y="382"/>
                  </a:lnTo>
                  <a:lnTo>
                    <a:pt x="1272" y="409"/>
                  </a:lnTo>
                  <a:lnTo>
                    <a:pt x="1283" y="430"/>
                  </a:lnTo>
                  <a:lnTo>
                    <a:pt x="1288" y="456"/>
                  </a:lnTo>
                  <a:lnTo>
                    <a:pt x="1293" y="483"/>
                  </a:lnTo>
                  <a:lnTo>
                    <a:pt x="1304" y="510"/>
                  </a:lnTo>
                  <a:lnTo>
                    <a:pt x="1309" y="536"/>
                  </a:lnTo>
                  <a:lnTo>
                    <a:pt x="1315" y="563"/>
                  </a:lnTo>
                  <a:lnTo>
                    <a:pt x="1315" y="595"/>
                  </a:lnTo>
                  <a:lnTo>
                    <a:pt x="1315" y="621"/>
                  </a:lnTo>
                  <a:lnTo>
                    <a:pt x="1315" y="649"/>
                  </a:lnTo>
                  <a:lnTo>
                    <a:pt x="1315" y="675"/>
                  </a:lnTo>
                  <a:lnTo>
                    <a:pt x="1315" y="707"/>
                  </a:lnTo>
                  <a:lnTo>
                    <a:pt x="1315" y="734"/>
                  </a:lnTo>
                  <a:lnTo>
                    <a:pt x="1309" y="760"/>
                  </a:lnTo>
                  <a:lnTo>
                    <a:pt x="1304" y="787"/>
                  </a:lnTo>
                  <a:lnTo>
                    <a:pt x="1293" y="813"/>
                  </a:lnTo>
                  <a:lnTo>
                    <a:pt x="1288" y="840"/>
                  </a:lnTo>
                  <a:lnTo>
                    <a:pt x="1283" y="867"/>
                  </a:lnTo>
                  <a:lnTo>
                    <a:pt x="1272" y="893"/>
                  </a:lnTo>
                  <a:lnTo>
                    <a:pt x="1261" y="914"/>
                  </a:lnTo>
                  <a:lnTo>
                    <a:pt x="1245" y="941"/>
                  </a:lnTo>
                  <a:lnTo>
                    <a:pt x="1235" y="962"/>
                  </a:lnTo>
                  <a:lnTo>
                    <a:pt x="1224" y="983"/>
                  </a:lnTo>
                  <a:lnTo>
                    <a:pt x="1208" y="1010"/>
                  </a:lnTo>
                  <a:lnTo>
                    <a:pt x="1192" y="1026"/>
                  </a:lnTo>
                  <a:lnTo>
                    <a:pt x="1176" y="1053"/>
                  </a:lnTo>
                  <a:lnTo>
                    <a:pt x="1160" y="1074"/>
                  </a:lnTo>
                  <a:lnTo>
                    <a:pt x="1144" y="1090"/>
                  </a:lnTo>
                  <a:lnTo>
                    <a:pt x="1128" y="1111"/>
                  </a:lnTo>
                  <a:lnTo>
                    <a:pt x="1107" y="1127"/>
                  </a:lnTo>
                  <a:lnTo>
                    <a:pt x="1086" y="1143"/>
                  </a:lnTo>
                  <a:lnTo>
                    <a:pt x="1065" y="1159"/>
                  </a:lnTo>
                  <a:lnTo>
                    <a:pt x="1043" y="1175"/>
                  </a:lnTo>
                  <a:lnTo>
                    <a:pt x="1022" y="1191"/>
                  </a:lnTo>
                  <a:lnTo>
                    <a:pt x="1001" y="1207"/>
                  </a:lnTo>
                  <a:lnTo>
                    <a:pt x="979" y="1217"/>
                  </a:lnTo>
                  <a:lnTo>
                    <a:pt x="953" y="1233"/>
                  </a:lnTo>
                  <a:lnTo>
                    <a:pt x="932" y="1244"/>
                  </a:lnTo>
                  <a:lnTo>
                    <a:pt x="905" y="1254"/>
                  </a:lnTo>
                  <a:lnTo>
                    <a:pt x="878" y="1265"/>
                  </a:lnTo>
                  <a:lnTo>
                    <a:pt x="852" y="1270"/>
                  </a:lnTo>
                  <a:lnTo>
                    <a:pt x="825" y="1276"/>
                  </a:lnTo>
                  <a:lnTo>
                    <a:pt x="799" y="1286"/>
                  </a:lnTo>
                  <a:lnTo>
                    <a:pt x="772" y="1292"/>
                  </a:lnTo>
                  <a:lnTo>
                    <a:pt x="740" y="1292"/>
                  </a:lnTo>
                  <a:lnTo>
                    <a:pt x="713" y="1297"/>
                  </a:lnTo>
                  <a:lnTo>
                    <a:pt x="687" y="1297"/>
                  </a:lnTo>
                  <a:lnTo>
                    <a:pt x="627" y="1297"/>
                  </a:lnTo>
                  <a:lnTo>
                    <a:pt x="601" y="1297"/>
                  </a:lnTo>
                  <a:lnTo>
                    <a:pt x="574" y="1292"/>
                  </a:lnTo>
                  <a:lnTo>
                    <a:pt x="542" y="1292"/>
                  </a:lnTo>
                  <a:lnTo>
                    <a:pt x="516" y="1286"/>
                  </a:lnTo>
                  <a:lnTo>
                    <a:pt x="489" y="1276"/>
                  </a:lnTo>
                  <a:lnTo>
                    <a:pt x="468" y="1270"/>
                  </a:lnTo>
                  <a:lnTo>
                    <a:pt x="441" y="1265"/>
                  </a:lnTo>
                  <a:lnTo>
                    <a:pt x="414" y="1254"/>
                  </a:lnTo>
                  <a:lnTo>
                    <a:pt x="388" y="1244"/>
                  </a:lnTo>
                  <a:lnTo>
                    <a:pt x="361" y="1233"/>
                  </a:lnTo>
                  <a:lnTo>
                    <a:pt x="340" y="1217"/>
                  </a:lnTo>
                  <a:lnTo>
                    <a:pt x="319" y="1207"/>
                  </a:lnTo>
                  <a:lnTo>
                    <a:pt x="292" y="1191"/>
                  </a:lnTo>
                  <a:lnTo>
                    <a:pt x="271" y="1175"/>
                  </a:lnTo>
                  <a:lnTo>
                    <a:pt x="250" y="1159"/>
                  </a:lnTo>
                  <a:lnTo>
                    <a:pt x="228" y="1143"/>
                  </a:lnTo>
                  <a:lnTo>
                    <a:pt x="212" y="1127"/>
                  </a:lnTo>
                  <a:lnTo>
                    <a:pt x="191" y="1111"/>
                  </a:lnTo>
                  <a:lnTo>
                    <a:pt x="175" y="1090"/>
                  </a:lnTo>
                  <a:lnTo>
                    <a:pt x="159" y="1074"/>
                  </a:lnTo>
                  <a:lnTo>
                    <a:pt x="138" y="1053"/>
                  </a:lnTo>
                  <a:lnTo>
                    <a:pt x="127" y="1026"/>
                  </a:lnTo>
                  <a:lnTo>
                    <a:pt x="106" y="1010"/>
                  </a:lnTo>
                  <a:lnTo>
                    <a:pt x="95" y="983"/>
                  </a:lnTo>
                  <a:lnTo>
                    <a:pt x="85" y="962"/>
                  </a:lnTo>
                  <a:lnTo>
                    <a:pt x="69" y="941"/>
                  </a:lnTo>
                  <a:lnTo>
                    <a:pt x="58" y="914"/>
                  </a:lnTo>
                  <a:lnTo>
                    <a:pt x="47" y="893"/>
                  </a:lnTo>
                  <a:lnTo>
                    <a:pt x="37" y="867"/>
                  </a:lnTo>
                  <a:lnTo>
                    <a:pt x="26" y="840"/>
                  </a:lnTo>
                  <a:lnTo>
                    <a:pt x="21" y="813"/>
                  </a:lnTo>
                  <a:lnTo>
                    <a:pt x="15" y="787"/>
                  </a:lnTo>
                  <a:lnTo>
                    <a:pt x="10" y="760"/>
                  </a:lnTo>
                  <a:lnTo>
                    <a:pt x="5" y="734"/>
                  </a:lnTo>
                  <a:lnTo>
                    <a:pt x="5" y="707"/>
                  </a:lnTo>
                  <a:lnTo>
                    <a:pt x="5" y="675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4f6d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33600" y="2851200"/>
              <a:ext cx="456120" cy="451080"/>
            </a:xfrm>
            <a:custGeom>
              <a:avLst/>
              <a:gdLst/>
              <a:ahLst/>
              <a:rect l="0" t="0" r="r" b="b"/>
              <a:pathLst>
                <a:path w="1267" h="1253">
                  <a:moveTo>
                    <a:pt x="0" y="627"/>
                  </a:moveTo>
                  <a:lnTo>
                    <a:pt x="0" y="594"/>
                  </a:lnTo>
                  <a:lnTo>
                    <a:pt x="0" y="567"/>
                  </a:lnTo>
                  <a:lnTo>
                    <a:pt x="5" y="541"/>
                  </a:lnTo>
                  <a:lnTo>
                    <a:pt x="10" y="509"/>
                  </a:lnTo>
                  <a:lnTo>
                    <a:pt x="15" y="488"/>
                  </a:lnTo>
                  <a:lnTo>
                    <a:pt x="21" y="461"/>
                  </a:lnTo>
                  <a:lnTo>
                    <a:pt x="26" y="435"/>
                  </a:lnTo>
                  <a:lnTo>
                    <a:pt x="37" y="408"/>
                  </a:lnTo>
                  <a:lnTo>
                    <a:pt x="47" y="387"/>
                  </a:lnTo>
                  <a:lnTo>
                    <a:pt x="58" y="360"/>
                  </a:lnTo>
                  <a:lnTo>
                    <a:pt x="69" y="334"/>
                  </a:lnTo>
                  <a:lnTo>
                    <a:pt x="79" y="313"/>
                  </a:lnTo>
                  <a:lnTo>
                    <a:pt x="95" y="291"/>
                  </a:lnTo>
                  <a:lnTo>
                    <a:pt x="111" y="270"/>
                  </a:lnTo>
                  <a:lnTo>
                    <a:pt x="127" y="249"/>
                  </a:lnTo>
                  <a:lnTo>
                    <a:pt x="138" y="228"/>
                  </a:lnTo>
                  <a:lnTo>
                    <a:pt x="154" y="206"/>
                  </a:lnTo>
                  <a:lnTo>
                    <a:pt x="175" y="185"/>
                  </a:lnTo>
                  <a:lnTo>
                    <a:pt x="191" y="169"/>
                  </a:lnTo>
                  <a:lnTo>
                    <a:pt x="212" y="153"/>
                  </a:lnTo>
                  <a:lnTo>
                    <a:pt x="233" y="137"/>
                  </a:lnTo>
                  <a:lnTo>
                    <a:pt x="255" y="122"/>
                  </a:lnTo>
                  <a:lnTo>
                    <a:pt x="276" y="106"/>
                  </a:lnTo>
                  <a:lnTo>
                    <a:pt x="297" y="95"/>
                  </a:lnTo>
                  <a:lnTo>
                    <a:pt x="320" y="79"/>
                  </a:lnTo>
                  <a:lnTo>
                    <a:pt x="341" y="68"/>
                  </a:lnTo>
                  <a:lnTo>
                    <a:pt x="367" y="58"/>
                  </a:lnTo>
                  <a:lnTo>
                    <a:pt x="394" y="47"/>
                  </a:lnTo>
                  <a:lnTo>
                    <a:pt x="421" y="37"/>
                  </a:lnTo>
                  <a:lnTo>
                    <a:pt x="442" y="26"/>
                  </a:lnTo>
                  <a:lnTo>
                    <a:pt x="468" y="21"/>
                  </a:lnTo>
                  <a:lnTo>
                    <a:pt x="495" y="15"/>
                  </a:lnTo>
                  <a:lnTo>
                    <a:pt x="522" y="10"/>
                  </a:lnTo>
                  <a:lnTo>
                    <a:pt x="554" y="5"/>
                  </a:lnTo>
                  <a:lnTo>
                    <a:pt x="580" y="0"/>
                  </a:lnTo>
                  <a:lnTo>
                    <a:pt x="607" y="0"/>
                  </a:lnTo>
                  <a:lnTo>
                    <a:pt x="660" y="0"/>
                  </a:lnTo>
                  <a:lnTo>
                    <a:pt x="692" y="0"/>
                  </a:lnTo>
                  <a:lnTo>
                    <a:pt x="718" y="5"/>
                  </a:lnTo>
                  <a:lnTo>
                    <a:pt x="745" y="10"/>
                  </a:lnTo>
                  <a:lnTo>
                    <a:pt x="772" y="15"/>
                  </a:lnTo>
                  <a:lnTo>
                    <a:pt x="798" y="21"/>
                  </a:lnTo>
                  <a:lnTo>
                    <a:pt x="825" y="26"/>
                  </a:lnTo>
                  <a:lnTo>
                    <a:pt x="851" y="37"/>
                  </a:lnTo>
                  <a:lnTo>
                    <a:pt x="878" y="47"/>
                  </a:lnTo>
                  <a:lnTo>
                    <a:pt x="899" y="58"/>
                  </a:lnTo>
                  <a:lnTo>
                    <a:pt x="926" y="68"/>
                  </a:lnTo>
                  <a:lnTo>
                    <a:pt x="947" y="79"/>
                  </a:lnTo>
                  <a:lnTo>
                    <a:pt x="969" y="95"/>
                  </a:lnTo>
                  <a:lnTo>
                    <a:pt x="996" y="106"/>
                  </a:lnTo>
                  <a:lnTo>
                    <a:pt x="1012" y="122"/>
                  </a:lnTo>
                  <a:lnTo>
                    <a:pt x="1033" y="137"/>
                  </a:lnTo>
                  <a:lnTo>
                    <a:pt x="1054" y="153"/>
                  </a:lnTo>
                  <a:lnTo>
                    <a:pt x="1076" y="169"/>
                  </a:lnTo>
                  <a:lnTo>
                    <a:pt x="1092" y="185"/>
                  </a:lnTo>
                  <a:lnTo>
                    <a:pt x="1113" y="206"/>
                  </a:lnTo>
                  <a:lnTo>
                    <a:pt x="1129" y="228"/>
                  </a:lnTo>
                  <a:lnTo>
                    <a:pt x="1145" y="249"/>
                  </a:lnTo>
                  <a:lnTo>
                    <a:pt x="1161" y="270"/>
                  </a:lnTo>
                  <a:lnTo>
                    <a:pt x="1171" y="291"/>
                  </a:lnTo>
                  <a:lnTo>
                    <a:pt x="1187" y="313"/>
                  </a:lnTo>
                  <a:lnTo>
                    <a:pt x="1198" y="334"/>
                  </a:lnTo>
                  <a:lnTo>
                    <a:pt x="1209" y="360"/>
                  </a:lnTo>
                  <a:lnTo>
                    <a:pt x="1219" y="387"/>
                  </a:lnTo>
                  <a:lnTo>
                    <a:pt x="1230" y="408"/>
                  </a:lnTo>
                  <a:lnTo>
                    <a:pt x="1241" y="435"/>
                  </a:lnTo>
                  <a:lnTo>
                    <a:pt x="1251" y="461"/>
                  </a:lnTo>
                  <a:lnTo>
                    <a:pt x="1256" y="488"/>
                  </a:lnTo>
                  <a:lnTo>
                    <a:pt x="1262" y="509"/>
                  </a:lnTo>
                  <a:lnTo>
                    <a:pt x="1262" y="541"/>
                  </a:lnTo>
                  <a:lnTo>
                    <a:pt x="1267" y="567"/>
                  </a:lnTo>
                  <a:lnTo>
                    <a:pt x="1267" y="594"/>
                  </a:lnTo>
                  <a:lnTo>
                    <a:pt x="1267" y="627"/>
                  </a:lnTo>
                  <a:lnTo>
                    <a:pt x="1267" y="653"/>
                  </a:lnTo>
                  <a:lnTo>
                    <a:pt x="1267" y="680"/>
                  </a:lnTo>
                  <a:lnTo>
                    <a:pt x="1262" y="712"/>
                  </a:lnTo>
                  <a:lnTo>
                    <a:pt x="1262" y="738"/>
                  </a:lnTo>
                  <a:lnTo>
                    <a:pt x="1256" y="765"/>
                  </a:lnTo>
                  <a:lnTo>
                    <a:pt x="1251" y="786"/>
                  </a:lnTo>
                  <a:lnTo>
                    <a:pt x="1241" y="812"/>
                  </a:lnTo>
                  <a:lnTo>
                    <a:pt x="1230" y="839"/>
                  </a:lnTo>
                  <a:lnTo>
                    <a:pt x="1219" y="865"/>
                  </a:lnTo>
                  <a:lnTo>
                    <a:pt x="1209" y="892"/>
                  </a:lnTo>
                  <a:lnTo>
                    <a:pt x="1198" y="913"/>
                  </a:lnTo>
                  <a:lnTo>
                    <a:pt x="1187" y="934"/>
                  </a:lnTo>
                  <a:lnTo>
                    <a:pt x="1171" y="956"/>
                  </a:lnTo>
                  <a:lnTo>
                    <a:pt x="1161" y="982"/>
                  </a:lnTo>
                  <a:lnTo>
                    <a:pt x="1145" y="998"/>
                  </a:lnTo>
                  <a:lnTo>
                    <a:pt x="1129" y="1025"/>
                  </a:lnTo>
                  <a:lnTo>
                    <a:pt x="1113" y="1041"/>
                  </a:lnTo>
                  <a:lnTo>
                    <a:pt x="1092" y="1062"/>
                  </a:lnTo>
                  <a:lnTo>
                    <a:pt x="1076" y="1078"/>
                  </a:lnTo>
                  <a:lnTo>
                    <a:pt x="1054" y="1099"/>
                  </a:lnTo>
                  <a:lnTo>
                    <a:pt x="1033" y="1115"/>
                  </a:lnTo>
                  <a:lnTo>
                    <a:pt x="1012" y="1131"/>
                  </a:lnTo>
                  <a:lnTo>
                    <a:pt x="996" y="1141"/>
                  </a:lnTo>
                  <a:lnTo>
                    <a:pt x="969" y="1157"/>
                  </a:lnTo>
                  <a:lnTo>
                    <a:pt x="947" y="1173"/>
                  </a:lnTo>
                  <a:lnTo>
                    <a:pt x="926" y="1184"/>
                  </a:lnTo>
                  <a:lnTo>
                    <a:pt x="899" y="1194"/>
                  </a:lnTo>
                  <a:lnTo>
                    <a:pt x="878" y="1205"/>
                  </a:lnTo>
                  <a:lnTo>
                    <a:pt x="851" y="1216"/>
                  </a:lnTo>
                  <a:lnTo>
                    <a:pt x="825" y="1226"/>
                  </a:lnTo>
                  <a:lnTo>
                    <a:pt x="798" y="1232"/>
                  </a:lnTo>
                  <a:lnTo>
                    <a:pt x="772" y="1237"/>
                  </a:lnTo>
                  <a:lnTo>
                    <a:pt x="745" y="1242"/>
                  </a:lnTo>
                  <a:lnTo>
                    <a:pt x="718" y="1248"/>
                  </a:lnTo>
                  <a:lnTo>
                    <a:pt x="692" y="1248"/>
                  </a:lnTo>
                  <a:lnTo>
                    <a:pt x="660" y="1253"/>
                  </a:lnTo>
                  <a:lnTo>
                    <a:pt x="607" y="1253"/>
                  </a:lnTo>
                  <a:lnTo>
                    <a:pt x="580" y="1248"/>
                  </a:lnTo>
                  <a:lnTo>
                    <a:pt x="554" y="1248"/>
                  </a:lnTo>
                  <a:lnTo>
                    <a:pt x="522" y="1242"/>
                  </a:lnTo>
                  <a:lnTo>
                    <a:pt x="495" y="1237"/>
                  </a:lnTo>
                  <a:lnTo>
                    <a:pt x="468" y="1232"/>
                  </a:lnTo>
                  <a:lnTo>
                    <a:pt x="442" y="1226"/>
                  </a:lnTo>
                  <a:lnTo>
                    <a:pt x="421" y="1216"/>
                  </a:lnTo>
                  <a:lnTo>
                    <a:pt x="394" y="1205"/>
                  </a:lnTo>
                  <a:lnTo>
                    <a:pt x="367" y="1194"/>
                  </a:lnTo>
                  <a:lnTo>
                    <a:pt x="341" y="1184"/>
                  </a:lnTo>
                  <a:lnTo>
                    <a:pt x="320" y="1173"/>
                  </a:lnTo>
                  <a:lnTo>
                    <a:pt x="297" y="1157"/>
                  </a:lnTo>
                  <a:lnTo>
                    <a:pt x="276" y="1141"/>
                  </a:lnTo>
                  <a:lnTo>
                    <a:pt x="255" y="1131"/>
                  </a:lnTo>
                  <a:lnTo>
                    <a:pt x="233" y="1115"/>
                  </a:lnTo>
                  <a:lnTo>
                    <a:pt x="212" y="1099"/>
                  </a:lnTo>
                  <a:lnTo>
                    <a:pt x="191" y="1078"/>
                  </a:lnTo>
                  <a:lnTo>
                    <a:pt x="175" y="1062"/>
                  </a:lnTo>
                  <a:lnTo>
                    <a:pt x="154" y="1041"/>
                  </a:lnTo>
                  <a:lnTo>
                    <a:pt x="138" y="1025"/>
                  </a:lnTo>
                  <a:lnTo>
                    <a:pt x="127" y="998"/>
                  </a:lnTo>
                  <a:lnTo>
                    <a:pt x="111" y="982"/>
                  </a:lnTo>
                  <a:lnTo>
                    <a:pt x="95" y="956"/>
                  </a:lnTo>
                  <a:lnTo>
                    <a:pt x="79" y="934"/>
                  </a:lnTo>
                  <a:lnTo>
                    <a:pt x="69" y="913"/>
                  </a:lnTo>
                  <a:lnTo>
                    <a:pt x="58" y="892"/>
                  </a:lnTo>
                  <a:lnTo>
                    <a:pt x="47" y="865"/>
                  </a:lnTo>
                  <a:lnTo>
                    <a:pt x="37" y="839"/>
                  </a:lnTo>
                  <a:lnTo>
                    <a:pt x="26" y="812"/>
                  </a:lnTo>
                  <a:lnTo>
                    <a:pt x="21" y="786"/>
                  </a:lnTo>
                  <a:lnTo>
                    <a:pt x="15" y="765"/>
                  </a:lnTo>
                  <a:lnTo>
                    <a:pt x="10" y="738"/>
                  </a:lnTo>
                  <a:lnTo>
                    <a:pt x="5" y="712"/>
                  </a:lnTo>
                  <a:lnTo>
                    <a:pt x="0" y="680"/>
                  </a:lnTo>
                  <a:lnTo>
                    <a:pt x="0" y="653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5170b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42960" y="2854440"/>
              <a:ext cx="441720" cy="437040"/>
            </a:xfrm>
            <a:custGeom>
              <a:avLst/>
              <a:gdLst/>
              <a:ahLst/>
              <a:rect l="0" t="0" r="r" b="b"/>
              <a:pathLst>
                <a:path w="1227" h="1214">
                  <a:moveTo>
                    <a:pt x="0" y="607"/>
                  </a:moveTo>
                  <a:lnTo>
                    <a:pt x="0" y="580"/>
                  </a:lnTo>
                  <a:lnTo>
                    <a:pt x="0" y="548"/>
                  </a:lnTo>
                  <a:lnTo>
                    <a:pt x="5" y="522"/>
                  </a:lnTo>
                  <a:lnTo>
                    <a:pt x="10" y="495"/>
                  </a:lnTo>
                  <a:lnTo>
                    <a:pt x="15" y="469"/>
                  </a:lnTo>
                  <a:lnTo>
                    <a:pt x="21" y="447"/>
                  </a:lnTo>
                  <a:lnTo>
                    <a:pt x="31" y="421"/>
                  </a:lnTo>
                  <a:lnTo>
                    <a:pt x="37" y="394"/>
                  </a:lnTo>
                  <a:lnTo>
                    <a:pt x="47" y="373"/>
                  </a:lnTo>
                  <a:lnTo>
                    <a:pt x="58" y="341"/>
                  </a:lnTo>
                  <a:lnTo>
                    <a:pt x="69" y="320"/>
                  </a:lnTo>
                  <a:lnTo>
                    <a:pt x="85" y="297"/>
                  </a:lnTo>
                  <a:lnTo>
                    <a:pt x="95" y="276"/>
                  </a:lnTo>
                  <a:lnTo>
                    <a:pt x="111" y="255"/>
                  </a:lnTo>
                  <a:lnTo>
                    <a:pt x="127" y="234"/>
                  </a:lnTo>
                  <a:lnTo>
                    <a:pt x="143" y="212"/>
                  </a:lnTo>
                  <a:lnTo>
                    <a:pt x="159" y="191"/>
                  </a:lnTo>
                  <a:lnTo>
                    <a:pt x="175" y="175"/>
                  </a:lnTo>
                  <a:lnTo>
                    <a:pt x="197" y="159"/>
                  </a:lnTo>
                  <a:lnTo>
                    <a:pt x="218" y="138"/>
                  </a:lnTo>
                  <a:lnTo>
                    <a:pt x="234" y="122"/>
                  </a:lnTo>
                  <a:lnTo>
                    <a:pt x="255" y="111"/>
                  </a:lnTo>
                  <a:lnTo>
                    <a:pt x="277" y="95"/>
                  </a:lnTo>
                  <a:lnTo>
                    <a:pt x="298" y="85"/>
                  </a:lnTo>
                  <a:lnTo>
                    <a:pt x="326" y="69"/>
                  </a:lnTo>
                  <a:lnTo>
                    <a:pt x="347" y="58"/>
                  </a:lnTo>
                  <a:lnTo>
                    <a:pt x="374" y="47"/>
                  </a:lnTo>
                  <a:lnTo>
                    <a:pt x="395" y="37"/>
                  </a:lnTo>
                  <a:lnTo>
                    <a:pt x="422" y="31"/>
                  </a:lnTo>
                  <a:lnTo>
                    <a:pt x="448" y="21"/>
                  </a:lnTo>
                  <a:lnTo>
                    <a:pt x="475" y="15"/>
                  </a:lnTo>
                  <a:lnTo>
                    <a:pt x="502" y="10"/>
                  </a:lnTo>
                  <a:lnTo>
                    <a:pt x="528" y="5"/>
                  </a:lnTo>
                  <a:lnTo>
                    <a:pt x="560" y="5"/>
                  </a:lnTo>
                  <a:lnTo>
                    <a:pt x="581" y="0"/>
                  </a:lnTo>
                  <a:lnTo>
                    <a:pt x="640" y="0"/>
                  </a:lnTo>
                  <a:lnTo>
                    <a:pt x="667" y="5"/>
                  </a:lnTo>
                  <a:lnTo>
                    <a:pt x="693" y="5"/>
                  </a:lnTo>
                  <a:lnTo>
                    <a:pt x="720" y="10"/>
                  </a:lnTo>
                  <a:lnTo>
                    <a:pt x="747" y="15"/>
                  </a:lnTo>
                  <a:lnTo>
                    <a:pt x="773" y="21"/>
                  </a:lnTo>
                  <a:lnTo>
                    <a:pt x="800" y="31"/>
                  </a:lnTo>
                  <a:lnTo>
                    <a:pt x="827" y="37"/>
                  </a:lnTo>
                  <a:lnTo>
                    <a:pt x="848" y="47"/>
                  </a:lnTo>
                  <a:lnTo>
                    <a:pt x="875" y="58"/>
                  </a:lnTo>
                  <a:lnTo>
                    <a:pt x="901" y="69"/>
                  </a:lnTo>
                  <a:lnTo>
                    <a:pt x="924" y="85"/>
                  </a:lnTo>
                  <a:lnTo>
                    <a:pt x="945" y="95"/>
                  </a:lnTo>
                  <a:lnTo>
                    <a:pt x="966" y="111"/>
                  </a:lnTo>
                  <a:lnTo>
                    <a:pt x="988" y="122"/>
                  </a:lnTo>
                  <a:lnTo>
                    <a:pt x="1009" y="138"/>
                  </a:lnTo>
                  <a:lnTo>
                    <a:pt x="1025" y="159"/>
                  </a:lnTo>
                  <a:lnTo>
                    <a:pt x="1046" y="175"/>
                  </a:lnTo>
                  <a:lnTo>
                    <a:pt x="1062" y="191"/>
                  </a:lnTo>
                  <a:lnTo>
                    <a:pt x="1083" y="212"/>
                  </a:lnTo>
                  <a:lnTo>
                    <a:pt x="1099" y="234"/>
                  </a:lnTo>
                  <a:lnTo>
                    <a:pt x="1115" y="255"/>
                  </a:lnTo>
                  <a:lnTo>
                    <a:pt x="1126" y="276"/>
                  </a:lnTo>
                  <a:lnTo>
                    <a:pt x="1142" y="297"/>
                  </a:lnTo>
                  <a:lnTo>
                    <a:pt x="1153" y="320"/>
                  </a:lnTo>
                  <a:lnTo>
                    <a:pt x="1163" y="341"/>
                  </a:lnTo>
                  <a:lnTo>
                    <a:pt x="1174" y="373"/>
                  </a:lnTo>
                  <a:lnTo>
                    <a:pt x="1185" y="394"/>
                  </a:lnTo>
                  <a:lnTo>
                    <a:pt x="1195" y="421"/>
                  </a:lnTo>
                  <a:lnTo>
                    <a:pt x="1201" y="447"/>
                  </a:lnTo>
                  <a:lnTo>
                    <a:pt x="1211" y="469"/>
                  </a:lnTo>
                  <a:lnTo>
                    <a:pt x="1217" y="495"/>
                  </a:lnTo>
                  <a:lnTo>
                    <a:pt x="1217" y="522"/>
                  </a:lnTo>
                  <a:lnTo>
                    <a:pt x="1222" y="548"/>
                  </a:lnTo>
                  <a:lnTo>
                    <a:pt x="1222" y="580"/>
                  </a:lnTo>
                  <a:lnTo>
                    <a:pt x="1227" y="607"/>
                  </a:lnTo>
                  <a:lnTo>
                    <a:pt x="1222" y="633"/>
                  </a:lnTo>
                  <a:lnTo>
                    <a:pt x="1222" y="660"/>
                  </a:lnTo>
                  <a:lnTo>
                    <a:pt x="1217" y="692"/>
                  </a:lnTo>
                  <a:lnTo>
                    <a:pt x="1217" y="719"/>
                  </a:lnTo>
                  <a:lnTo>
                    <a:pt x="1211" y="745"/>
                  </a:lnTo>
                  <a:lnTo>
                    <a:pt x="1201" y="766"/>
                  </a:lnTo>
                  <a:lnTo>
                    <a:pt x="1195" y="793"/>
                  </a:lnTo>
                  <a:lnTo>
                    <a:pt x="1185" y="820"/>
                  </a:lnTo>
                  <a:lnTo>
                    <a:pt x="1174" y="841"/>
                  </a:lnTo>
                  <a:lnTo>
                    <a:pt x="1163" y="873"/>
                  </a:lnTo>
                  <a:lnTo>
                    <a:pt x="1153" y="894"/>
                  </a:lnTo>
                  <a:lnTo>
                    <a:pt x="1142" y="916"/>
                  </a:lnTo>
                  <a:lnTo>
                    <a:pt x="1126" y="938"/>
                  </a:lnTo>
                  <a:lnTo>
                    <a:pt x="1115" y="959"/>
                  </a:lnTo>
                  <a:lnTo>
                    <a:pt x="1099" y="980"/>
                  </a:lnTo>
                  <a:lnTo>
                    <a:pt x="1083" y="1001"/>
                  </a:lnTo>
                  <a:lnTo>
                    <a:pt x="1062" y="1023"/>
                  </a:lnTo>
                  <a:lnTo>
                    <a:pt x="1046" y="1039"/>
                  </a:lnTo>
                  <a:lnTo>
                    <a:pt x="1025" y="1055"/>
                  </a:lnTo>
                  <a:lnTo>
                    <a:pt x="1009" y="1071"/>
                  </a:lnTo>
                  <a:lnTo>
                    <a:pt x="988" y="1092"/>
                  </a:lnTo>
                  <a:lnTo>
                    <a:pt x="966" y="1102"/>
                  </a:lnTo>
                  <a:lnTo>
                    <a:pt x="945" y="1118"/>
                  </a:lnTo>
                  <a:lnTo>
                    <a:pt x="924" y="1134"/>
                  </a:lnTo>
                  <a:lnTo>
                    <a:pt x="901" y="1145"/>
                  </a:lnTo>
                  <a:lnTo>
                    <a:pt x="875" y="1156"/>
                  </a:lnTo>
                  <a:lnTo>
                    <a:pt x="848" y="1166"/>
                  </a:lnTo>
                  <a:lnTo>
                    <a:pt x="827" y="1177"/>
                  </a:lnTo>
                  <a:lnTo>
                    <a:pt x="800" y="1188"/>
                  </a:lnTo>
                  <a:lnTo>
                    <a:pt x="773" y="1193"/>
                  </a:lnTo>
                  <a:lnTo>
                    <a:pt x="747" y="1198"/>
                  </a:lnTo>
                  <a:lnTo>
                    <a:pt x="720" y="1204"/>
                  </a:lnTo>
                  <a:lnTo>
                    <a:pt x="693" y="1209"/>
                  </a:lnTo>
                  <a:lnTo>
                    <a:pt x="667" y="1214"/>
                  </a:lnTo>
                  <a:lnTo>
                    <a:pt x="640" y="1214"/>
                  </a:lnTo>
                  <a:lnTo>
                    <a:pt x="581" y="1214"/>
                  </a:lnTo>
                  <a:lnTo>
                    <a:pt x="560" y="1214"/>
                  </a:lnTo>
                  <a:lnTo>
                    <a:pt x="528" y="1209"/>
                  </a:lnTo>
                  <a:lnTo>
                    <a:pt x="502" y="1204"/>
                  </a:lnTo>
                  <a:lnTo>
                    <a:pt x="475" y="1198"/>
                  </a:lnTo>
                  <a:lnTo>
                    <a:pt x="448" y="1193"/>
                  </a:lnTo>
                  <a:lnTo>
                    <a:pt x="422" y="1188"/>
                  </a:lnTo>
                  <a:lnTo>
                    <a:pt x="395" y="1177"/>
                  </a:lnTo>
                  <a:lnTo>
                    <a:pt x="374" y="1166"/>
                  </a:lnTo>
                  <a:lnTo>
                    <a:pt x="347" y="1156"/>
                  </a:lnTo>
                  <a:lnTo>
                    <a:pt x="326" y="1145"/>
                  </a:lnTo>
                  <a:lnTo>
                    <a:pt x="298" y="1134"/>
                  </a:lnTo>
                  <a:lnTo>
                    <a:pt x="277" y="1118"/>
                  </a:lnTo>
                  <a:lnTo>
                    <a:pt x="255" y="1102"/>
                  </a:lnTo>
                  <a:lnTo>
                    <a:pt x="234" y="1092"/>
                  </a:lnTo>
                  <a:lnTo>
                    <a:pt x="218" y="1071"/>
                  </a:lnTo>
                  <a:lnTo>
                    <a:pt x="197" y="1055"/>
                  </a:lnTo>
                  <a:lnTo>
                    <a:pt x="175" y="1039"/>
                  </a:lnTo>
                  <a:lnTo>
                    <a:pt x="159" y="1023"/>
                  </a:lnTo>
                  <a:lnTo>
                    <a:pt x="143" y="1001"/>
                  </a:lnTo>
                  <a:lnTo>
                    <a:pt x="127" y="980"/>
                  </a:lnTo>
                  <a:lnTo>
                    <a:pt x="111" y="959"/>
                  </a:lnTo>
                  <a:lnTo>
                    <a:pt x="95" y="938"/>
                  </a:lnTo>
                  <a:lnTo>
                    <a:pt x="85" y="916"/>
                  </a:lnTo>
                  <a:lnTo>
                    <a:pt x="69" y="894"/>
                  </a:lnTo>
                  <a:lnTo>
                    <a:pt x="58" y="873"/>
                  </a:lnTo>
                  <a:lnTo>
                    <a:pt x="47" y="841"/>
                  </a:lnTo>
                  <a:lnTo>
                    <a:pt x="37" y="820"/>
                  </a:lnTo>
                  <a:lnTo>
                    <a:pt x="31" y="793"/>
                  </a:lnTo>
                  <a:lnTo>
                    <a:pt x="21" y="766"/>
                  </a:lnTo>
                  <a:lnTo>
                    <a:pt x="15" y="745"/>
                  </a:lnTo>
                  <a:lnTo>
                    <a:pt x="10" y="719"/>
                  </a:lnTo>
                  <a:lnTo>
                    <a:pt x="5" y="692"/>
                  </a:lnTo>
                  <a:lnTo>
                    <a:pt x="0" y="660"/>
                  </a:lnTo>
                  <a:lnTo>
                    <a:pt x="0" y="633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5677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50880" y="2860560"/>
              <a:ext cx="422640" cy="417960"/>
            </a:xfrm>
            <a:custGeom>
              <a:avLst/>
              <a:gdLst/>
              <a:ahLst/>
              <a:rect l="0" t="0" r="r" b="b"/>
              <a:pathLst>
                <a:path w="1174" h="1161">
                  <a:moveTo>
                    <a:pt x="0" y="578"/>
                  </a:moveTo>
                  <a:lnTo>
                    <a:pt x="0" y="551"/>
                  </a:lnTo>
                  <a:lnTo>
                    <a:pt x="5" y="525"/>
                  </a:lnTo>
                  <a:lnTo>
                    <a:pt x="5" y="493"/>
                  </a:lnTo>
                  <a:lnTo>
                    <a:pt x="10" y="467"/>
                  </a:lnTo>
                  <a:lnTo>
                    <a:pt x="15" y="440"/>
                  </a:lnTo>
                  <a:lnTo>
                    <a:pt x="21" y="414"/>
                  </a:lnTo>
                  <a:lnTo>
                    <a:pt x="31" y="392"/>
                  </a:lnTo>
                  <a:lnTo>
                    <a:pt x="42" y="366"/>
                  </a:lnTo>
                  <a:lnTo>
                    <a:pt x="53" y="339"/>
                  </a:lnTo>
                  <a:lnTo>
                    <a:pt x="63" y="313"/>
                  </a:lnTo>
                  <a:lnTo>
                    <a:pt x="74" y="292"/>
                  </a:lnTo>
                  <a:lnTo>
                    <a:pt x="85" y="264"/>
                  </a:lnTo>
                  <a:lnTo>
                    <a:pt x="101" y="248"/>
                  </a:lnTo>
                  <a:lnTo>
                    <a:pt x="117" y="227"/>
                  </a:lnTo>
                  <a:lnTo>
                    <a:pt x="133" y="206"/>
                  </a:lnTo>
                  <a:lnTo>
                    <a:pt x="149" y="185"/>
                  </a:lnTo>
                  <a:lnTo>
                    <a:pt x="170" y="164"/>
                  </a:lnTo>
                  <a:lnTo>
                    <a:pt x="191" y="148"/>
                  </a:lnTo>
                  <a:lnTo>
                    <a:pt x="207" y="132"/>
                  </a:lnTo>
                  <a:lnTo>
                    <a:pt x="229" y="111"/>
                  </a:lnTo>
                  <a:lnTo>
                    <a:pt x="250" y="100"/>
                  </a:lnTo>
                  <a:lnTo>
                    <a:pt x="271" y="84"/>
                  </a:lnTo>
                  <a:lnTo>
                    <a:pt x="299" y="68"/>
                  </a:lnTo>
                  <a:lnTo>
                    <a:pt x="320" y="63"/>
                  </a:lnTo>
                  <a:lnTo>
                    <a:pt x="347" y="47"/>
                  </a:lnTo>
                  <a:lnTo>
                    <a:pt x="368" y="42"/>
                  </a:lnTo>
                  <a:lnTo>
                    <a:pt x="395" y="31"/>
                  </a:lnTo>
                  <a:lnTo>
                    <a:pt x="422" y="21"/>
                  </a:lnTo>
                  <a:lnTo>
                    <a:pt x="448" y="15"/>
                  </a:lnTo>
                  <a:lnTo>
                    <a:pt x="475" y="5"/>
                  </a:lnTo>
                  <a:lnTo>
                    <a:pt x="507" y="5"/>
                  </a:lnTo>
                  <a:lnTo>
                    <a:pt x="534" y="0"/>
                  </a:lnTo>
                  <a:lnTo>
                    <a:pt x="560" y="0"/>
                  </a:lnTo>
                  <a:lnTo>
                    <a:pt x="614" y="0"/>
                  </a:lnTo>
                  <a:lnTo>
                    <a:pt x="646" y="0"/>
                  </a:lnTo>
                  <a:lnTo>
                    <a:pt x="672" y="5"/>
                  </a:lnTo>
                  <a:lnTo>
                    <a:pt x="699" y="5"/>
                  </a:lnTo>
                  <a:lnTo>
                    <a:pt x="726" y="15"/>
                  </a:lnTo>
                  <a:lnTo>
                    <a:pt x="752" y="21"/>
                  </a:lnTo>
                  <a:lnTo>
                    <a:pt x="779" y="31"/>
                  </a:lnTo>
                  <a:lnTo>
                    <a:pt x="806" y="42"/>
                  </a:lnTo>
                  <a:lnTo>
                    <a:pt x="827" y="47"/>
                  </a:lnTo>
                  <a:lnTo>
                    <a:pt x="854" y="63"/>
                  </a:lnTo>
                  <a:lnTo>
                    <a:pt x="880" y="68"/>
                  </a:lnTo>
                  <a:lnTo>
                    <a:pt x="903" y="84"/>
                  </a:lnTo>
                  <a:lnTo>
                    <a:pt x="924" y="100"/>
                  </a:lnTo>
                  <a:lnTo>
                    <a:pt x="945" y="111"/>
                  </a:lnTo>
                  <a:lnTo>
                    <a:pt x="967" y="132"/>
                  </a:lnTo>
                  <a:lnTo>
                    <a:pt x="988" y="148"/>
                  </a:lnTo>
                  <a:lnTo>
                    <a:pt x="1004" y="164"/>
                  </a:lnTo>
                  <a:lnTo>
                    <a:pt x="1025" y="185"/>
                  </a:lnTo>
                  <a:lnTo>
                    <a:pt x="1041" y="206"/>
                  </a:lnTo>
                  <a:lnTo>
                    <a:pt x="1057" y="227"/>
                  </a:lnTo>
                  <a:lnTo>
                    <a:pt x="1073" y="248"/>
                  </a:lnTo>
                  <a:lnTo>
                    <a:pt x="1089" y="264"/>
                  </a:lnTo>
                  <a:lnTo>
                    <a:pt x="1100" y="292"/>
                  </a:lnTo>
                  <a:lnTo>
                    <a:pt x="1111" y="313"/>
                  </a:lnTo>
                  <a:lnTo>
                    <a:pt x="1127" y="339"/>
                  </a:lnTo>
                  <a:lnTo>
                    <a:pt x="1137" y="366"/>
                  </a:lnTo>
                  <a:lnTo>
                    <a:pt x="1142" y="392"/>
                  </a:lnTo>
                  <a:lnTo>
                    <a:pt x="1153" y="414"/>
                  </a:lnTo>
                  <a:lnTo>
                    <a:pt x="1158" y="440"/>
                  </a:lnTo>
                  <a:lnTo>
                    <a:pt x="1164" y="467"/>
                  </a:lnTo>
                  <a:lnTo>
                    <a:pt x="1169" y="493"/>
                  </a:lnTo>
                  <a:lnTo>
                    <a:pt x="1174" y="525"/>
                  </a:lnTo>
                  <a:lnTo>
                    <a:pt x="1174" y="551"/>
                  </a:lnTo>
                  <a:lnTo>
                    <a:pt x="1174" y="578"/>
                  </a:lnTo>
                  <a:lnTo>
                    <a:pt x="1174" y="604"/>
                  </a:lnTo>
                  <a:lnTo>
                    <a:pt x="1174" y="636"/>
                  </a:lnTo>
                  <a:lnTo>
                    <a:pt x="1169" y="662"/>
                  </a:lnTo>
                  <a:lnTo>
                    <a:pt x="1164" y="694"/>
                  </a:lnTo>
                  <a:lnTo>
                    <a:pt x="1158" y="715"/>
                  </a:lnTo>
                  <a:lnTo>
                    <a:pt x="1153" y="742"/>
                  </a:lnTo>
                  <a:lnTo>
                    <a:pt x="1142" y="768"/>
                  </a:lnTo>
                  <a:lnTo>
                    <a:pt x="1137" y="795"/>
                  </a:lnTo>
                  <a:lnTo>
                    <a:pt x="1127" y="821"/>
                  </a:lnTo>
                  <a:lnTo>
                    <a:pt x="1111" y="848"/>
                  </a:lnTo>
                  <a:lnTo>
                    <a:pt x="1100" y="869"/>
                  </a:lnTo>
                  <a:lnTo>
                    <a:pt x="1089" y="891"/>
                  </a:lnTo>
                  <a:lnTo>
                    <a:pt x="1073" y="912"/>
                  </a:lnTo>
                  <a:lnTo>
                    <a:pt x="1057" y="934"/>
                  </a:lnTo>
                  <a:lnTo>
                    <a:pt x="1041" y="955"/>
                  </a:lnTo>
                  <a:lnTo>
                    <a:pt x="1025" y="971"/>
                  </a:lnTo>
                  <a:lnTo>
                    <a:pt x="1004" y="997"/>
                  </a:lnTo>
                  <a:lnTo>
                    <a:pt x="988" y="1013"/>
                  </a:lnTo>
                  <a:lnTo>
                    <a:pt x="967" y="1029"/>
                  </a:lnTo>
                  <a:lnTo>
                    <a:pt x="945" y="1045"/>
                  </a:lnTo>
                  <a:lnTo>
                    <a:pt x="924" y="1061"/>
                  </a:lnTo>
                  <a:lnTo>
                    <a:pt x="903" y="1077"/>
                  </a:lnTo>
                  <a:lnTo>
                    <a:pt x="880" y="1087"/>
                  </a:lnTo>
                  <a:lnTo>
                    <a:pt x="854" y="1098"/>
                  </a:lnTo>
                  <a:lnTo>
                    <a:pt x="827" y="1108"/>
                  </a:lnTo>
                  <a:lnTo>
                    <a:pt x="806" y="1119"/>
                  </a:lnTo>
                  <a:lnTo>
                    <a:pt x="779" y="1129"/>
                  </a:lnTo>
                  <a:lnTo>
                    <a:pt x="752" y="1140"/>
                  </a:lnTo>
                  <a:lnTo>
                    <a:pt x="726" y="1145"/>
                  </a:lnTo>
                  <a:lnTo>
                    <a:pt x="699" y="1156"/>
                  </a:lnTo>
                  <a:lnTo>
                    <a:pt x="672" y="1156"/>
                  </a:lnTo>
                  <a:lnTo>
                    <a:pt x="646" y="1161"/>
                  </a:lnTo>
                  <a:lnTo>
                    <a:pt x="614" y="1161"/>
                  </a:lnTo>
                  <a:lnTo>
                    <a:pt x="560" y="1161"/>
                  </a:lnTo>
                  <a:lnTo>
                    <a:pt x="534" y="1161"/>
                  </a:lnTo>
                  <a:lnTo>
                    <a:pt x="507" y="1156"/>
                  </a:lnTo>
                  <a:lnTo>
                    <a:pt x="475" y="1156"/>
                  </a:lnTo>
                  <a:lnTo>
                    <a:pt x="448" y="1145"/>
                  </a:lnTo>
                  <a:lnTo>
                    <a:pt x="422" y="1140"/>
                  </a:lnTo>
                  <a:lnTo>
                    <a:pt x="395" y="1129"/>
                  </a:lnTo>
                  <a:lnTo>
                    <a:pt x="368" y="1119"/>
                  </a:lnTo>
                  <a:lnTo>
                    <a:pt x="347" y="1108"/>
                  </a:lnTo>
                  <a:lnTo>
                    <a:pt x="320" y="1098"/>
                  </a:lnTo>
                  <a:lnTo>
                    <a:pt x="299" y="1087"/>
                  </a:lnTo>
                  <a:lnTo>
                    <a:pt x="271" y="1077"/>
                  </a:lnTo>
                  <a:lnTo>
                    <a:pt x="250" y="1061"/>
                  </a:lnTo>
                  <a:lnTo>
                    <a:pt x="229" y="1045"/>
                  </a:lnTo>
                  <a:lnTo>
                    <a:pt x="207" y="1029"/>
                  </a:lnTo>
                  <a:lnTo>
                    <a:pt x="191" y="1013"/>
                  </a:lnTo>
                  <a:lnTo>
                    <a:pt x="170" y="997"/>
                  </a:lnTo>
                  <a:lnTo>
                    <a:pt x="149" y="971"/>
                  </a:lnTo>
                  <a:lnTo>
                    <a:pt x="133" y="955"/>
                  </a:lnTo>
                  <a:lnTo>
                    <a:pt x="117" y="934"/>
                  </a:lnTo>
                  <a:lnTo>
                    <a:pt x="101" y="912"/>
                  </a:lnTo>
                  <a:lnTo>
                    <a:pt x="85" y="891"/>
                  </a:lnTo>
                  <a:lnTo>
                    <a:pt x="74" y="869"/>
                  </a:lnTo>
                  <a:lnTo>
                    <a:pt x="63" y="848"/>
                  </a:lnTo>
                  <a:lnTo>
                    <a:pt x="53" y="821"/>
                  </a:lnTo>
                  <a:lnTo>
                    <a:pt x="42" y="795"/>
                  </a:lnTo>
                  <a:lnTo>
                    <a:pt x="31" y="768"/>
                  </a:lnTo>
                  <a:lnTo>
                    <a:pt x="21" y="742"/>
                  </a:lnTo>
                  <a:lnTo>
                    <a:pt x="15" y="715"/>
                  </a:lnTo>
                  <a:lnTo>
                    <a:pt x="10" y="694"/>
                  </a:lnTo>
                  <a:lnTo>
                    <a:pt x="5" y="662"/>
                  </a:lnTo>
                  <a:lnTo>
                    <a:pt x="5" y="636"/>
                  </a:lnTo>
                  <a:lnTo>
                    <a:pt x="0" y="604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597a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60600" y="2865600"/>
              <a:ext cx="403560" cy="402120"/>
            </a:xfrm>
            <a:custGeom>
              <a:avLst/>
              <a:gdLst/>
              <a:ahLst/>
              <a:rect l="0" t="0" r="r" b="b"/>
              <a:pathLst>
                <a:path w="1121" h="1117">
                  <a:moveTo>
                    <a:pt x="0" y="561"/>
                  </a:moveTo>
                  <a:lnTo>
                    <a:pt x="0" y="535"/>
                  </a:lnTo>
                  <a:lnTo>
                    <a:pt x="5" y="503"/>
                  </a:lnTo>
                  <a:lnTo>
                    <a:pt x="5" y="476"/>
                  </a:lnTo>
                  <a:lnTo>
                    <a:pt x="10" y="450"/>
                  </a:lnTo>
                  <a:lnTo>
                    <a:pt x="15" y="423"/>
                  </a:lnTo>
                  <a:lnTo>
                    <a:pt x="21" y="397"/>
                  </a:lnTo>
                  <a:lnTo>
                    <a:pt x="31" y="371"/>
                  </a:lnTo>
                  <a:lnTo>
                    <a:pt x="42" y="349"/>
                  </a:lnTo>
                  <a:lnTo>
                    <a:pt x="53" y="323"/>
                  </a:lnTo>
                  <a:lnTo>
                    <a:pt x="63" y="297"/>
                  </a:lnTo>
                  <a:lnTo>
                    <a:pt x="74" y="274"/>
                  </a:lnTo>
                  <a:lnTo>
                    <a:pt x="90" y="253"/>
                  </a:lnTo>
                  <a:lnTo>
                    <a:pt x="100" y="232"/>
                  </a:lnTo>
                  <a:lnTo>
                    <a:pt x="116" y="211"/>
                  </a:lnTo>
                  <a:lnTo>
                    <a:pt x="138" y="190"/>
                  </a:lnTo>
                  <a:lnTo>
                    <a:pt x="153" y="169"/>
                  </a:lnTo>
                  <a:lnTo>
                    <a:pt x="175" y="153"/>
                  </a:lnTo>
                  <a:lnTo>
                    <a:pt x="191" y="137"/>
                  </a:lnTo>
                  <a:lnTo>
                    <a:pt x="212" y="121"/>
                  </a:lnTo>
                  <a:lnTo>
                    <a:pt x="233" y="105"/>
                  </a:lnTo>
                  <a:lnTo>
                    <a:pt x="254" y="89"/>
                  </a:lnTo>
                  <a:lnTo>
                    <a:pt x="276" y="74"/>
                  </a:lnTo>
                  <a:lnTo>
                    <a:pt x="297" y="63"/>
                  </a:lnTo>
                  <a:lnTo>
                    <a:pt x="323" y="52"/>
                  </a:lnTo>
                  <a:lnTo>
                    <a:pt x="350" y="42"/>
                  </a:lnTo>
                  <a:lnTo>
                    <a:pt x="371" y="37"/>
                  </a:lnTo>
                  <a:lnTo>
                    <a:pt x="398" y="26"/>
                  </a:lnTo>
                  <a:lnTo>
                    <a:pt x="424" y="21"/>
                  </a:lnTo>
                  <a:lnTo>
                    <a:pt x="451" y="10"/>
                  </a:lnTo>
                  <a:lnTo>
                    <a:pt x="477" y="10"/>
                  </a:lnTo>
                  <a:lnTo>
                    <a:pt x="504" y="5"/>
                  </a:lnTo>
                  <a:lnTo>
                    <a:pt x="536" y="5"/>
                  </a:lnTo>
                  <a:lnTo>
                    <a:pt x="557" y="0"/>
                  </a:lnTo>
                  <a:lnTo>
                    <a:pt x="590" y="5"/>
                  </a:lnTo>
                  <a:lnTo>
                    <a:pt x="616" y="5"/>
                  </a:lnTo>
                  <a:lnTo>
                    <a:pt x="648" y="10"/>
                  </a:lnTo>
                  <a:lnTo>
                    <a:pt x="675" y="10"/>
                  </a:lnTo>
                  <a:lnTo>
                    <a:pt x="701" y="21"/>
                  </a:lnTo>
                  <a:lnTo>
                    <a:pt x="722" y="26"/>
                  </a:lnTo>
                  <a:lnTo>
                    <a:pt x="749" y="37"/>
                  </a:lnTo>
                  <a:lnTo>
                    <a:pt x="776" y="42"/>
                  </a:lnTo>
                  <a:lnTo>
                    <a:pt x="797" y="52"/>
                  </a:lnTo>
                  <a:lnTo>
                    <a:pt x="823" y="63"/>
                  </a:lnTo>
                  <a:lnTo>
                    <a:pt x="850" y="74"/>
                  </a:lnTo>
                  <a:lnTo>
                    <a:pt x="871" y="89"/>
                  </a:lnTo>
                  <a:lnTo>
                    <a:pt x="892" y="105"/>
                  </a:lnTo>
                  <a:lnTo>
                    <a:pt x="914" y="121"/>
                  </a:lnTo>
                  <a:lnTo>
                    <a:pt x="929" y="137"/>
                  </a:lnTo>
                  <a:lnTo>
                    <a:pt x="951" y="153"/>
                  </a:lnTo>
                  <a:lnTo>
                    <a:pt x="967" y="169"/>
                  </a:lnTo>
                  <a:lnTo>
                    <a:pt x="988" y="190"/>
                  </a:lnTo>
                  <a:lnTo>
                    <a:pt x="1004" y="211"/>
                  </a:lnTo>
                  <a:lnTo>
                    <a:pt x="1020" y="232"/>
                  </a:lnTo>
                  <a:lnTo>
                    <a:pt x="1036" y="253"/>
                  </a:lnTo>
                  <a:lnTo>
                    <a:pt x="1046" y="274"/>
                  </a:lnTo>
                  <a:lnTo>
                    <a:pt x="1062" y="297"/>
                  </a:lnTo>
                  <a:lnTo>
                    <a:pt x="1073" y="323"/>
                  </a:lnTo>
                  <a:lnTo>
                    <a:pt x="1083" y="349"/>
                  </a:lnTo>
                  <a:lnTo>
                    <a:pt x="1094" y="371"/>
                  </a:lnTo>
                  <a:lnTo>
                    <a:pt x="1099" y="397"/>
                  </a:lnTo>
                  <a:lnTo>
                    <a:pt x="1105" y="423"/>
                  </a:lnTo>
                  <a:lnTo>
                    <a:pt x="1110" y="450"/>
                  </a:lnTo>
                  <a:lnTo>
                    <a:pt x="1115" y="476"/>
                  </a:lnTo>
                  <a:lnTo>
                    <a:pt x="1121" y="503"/>
                  </a:lnTo>
                  <a:lnTo>
                    <a:pt x="1121" y="535"/>
                  </a:lnTo>
                  <a:lnTo>
                    <a:pt x="1121" y="561"/>
                  </a:lnTo>
                  <a:lnTo>
                    <a:pt x="1121" y="587"/>
                  </a:lnTo>
                  <a:lnTo>
                    <a:pt x="1121" y="614"/>
                  </a:lnTo>
                  <a:lnTo>
                    <a:pt x="1115" y="640"/>
                  </a:lnTo>
                  <a:lnTo>
                    <a:pt x="1110" y="672"/>
                  </a:lnTo>
                  <a:lnTo>
                    <a:pt x="1105" y="698"/>
                  </a:lnTo>
                  <a:lnTo>
                    <a:pt x="1099" y="725"/>
                  </a:lnTo>
                  <a:lnTo>
                    <a:pt x="1094" y="746"/>
                  </a:lnTo>
                  <a:lnTo>
                    <a:pt x="1083" y="772"/>
                  </a:lnTo>
                  <a:lnTo>
                    <a:pt x="1073" y="794"/>
                  </a:lnTo>
                  <a:lnTo>
                    <a:pt x="1062" y="820"/>
                  </a:lnTo>
                  <a:lnTo>
                    <a:pt x="1046" y="847"/>
                  </a:lnTo>
                  <a:lnTo>
                    <a:pt x="1036" y="869"/>
                  </a:lnTo>
                  <a:lnTo>
                    <a:pt x="1020" y="890"/>
                  </a:lnTo>
                  <a:lnTo>
                    <a:pt x="1004" y="911"/>
                  </a:lnTo>
                  <a:lnTo>
                    <a:pt x="988" y="927"/>
                  </a:lnTo>
                  <a:lnTo>
                    <a:pt x="967" y="948"/>
                  </a:lnTo>
                  <a:lnTo>
                    <a:pt x="951" y="964"/>
                  </a:lnTo>
                  <a:lnTo>
                    <a:pt x="929" y="985"/>
                  </a:lnTo>
                  <a:lnTo>
                    <a:pt x="914" y="1001"/>
                  </a:lnTo>
                  <a:lnTo>
                    <a:pt x="892" y="1017"/>
                  </a:lnTo>
                  <a:lnTo>
                    <a:pt x="871" y="1033"/>
                  </a:lnTo>
                  <a:lnTo>
                    <a:pt x="850" y="1043"/>
                  </a:lnTo>
                  <a:lnTo>
                    <a:pt x="823" y="1059"/>
                  </a:lnTo>
                  <a:lnTo>
                    <a:pt x="797" y="1070"/>
                  </a:lnTo>
                  <a:lnTo>
                    <a:pt x="776" y="1075"/>
                  </a:lnTo>
                  <a:lnTo>
                    <a:pt x="749" y="1085"/>
                  </a:lnTo>
                  <a:lnTo>
                    <a:pt x="722" y="1096"/>
                  </a:lnTo>
                  <a:lnTo>
                    <a:pt x="701" y="1101"/>
                  </a:lnTo>
                  <a:lnTo>
                    <a:pt x="675" y="1107"/>
                  </a:lnTo>
                  <a:lnTo>
                    <a:pt x="648" y="1112"/>
                  </a:lnTo>
                  <a:lnTo>
                    <a:pt x="616" y="1117"/>
                  </a:lnTo>
                  <a:lnTo>
                    <a:pt x="590" y="1117"/>
                  </a:lnTo>
                  <a:lnTo>
                    <a:pt x="536" y="1117"/>
                  </a:lnTo>
                  <a:lnTo>
                    <a:pt x="504" y="1117"/>
                  </a:lnTo>
                  <a:lnTo>
                    <a:pt x="477" y="1112"/>
                  </a:lnTo>
                  <a:lnTo>
                    <a:pt x="451" y="1107"/>
                  </a:lnTo>
                  <a:lnTo>
                    <a:pt x="424" y="1101"/>
                  </a:lnTo>
                  <a:lnTo>
                    <a:pt x="398" y="1096"/>
                  </a:lnTo>
                  <a:lnTo>
                    <a:pt x="371" y="1085"/>
                  </a:lnTo>
                  <a:lnTo>
                    <a:pt x="350" y="1075"/>
                  </a:lnTo>
                  <a:lnTo>
                    <a:pt x="323" y="1070"/>
                  </a:lnTo>
                  <a:lnTo>
                    <a:pt x="297" y="1059"/>
                  </a:lnTo>
                  <a:lnTo>
                    <a:pt x="276" y="1043"/>
                  </a:lnTo>
                  <a:lnTo>
                    <a:pt x="254" y="1033"/>
                  </a:lnTo>
                  <a:lnTo>
                    <a:pt x="233" y="1017"/>
                  </a:lnTo>
                  <a:lnTo>
                    <a:pt x="212" y="1001"/>
                  </a:lnTo>
                  <a:lnTo>
                    <a:pt x="191" y="985"/>
                  </a:lnTo>
                  <a:lnTo>
                    <a:pt x="175" y="964"/>
                  </a:lnTo>
                  <a:lnTo>
                    <a:pt x="153" y="948"/>
                  </a:lnTo>
                  <a:lnTo>
                    <a:pt x="138" y="927"/>
                  </a:lnTo>
                  <a:lnTo>
                    <a:pt x="116" y="911"/>
                  </a:lnTo>
                  <a:lnTo>
                    <a:pt x="100" y="890"/>
                  </a:lnTo>
                  <a:lnTo>
                    <a:pt x="90" y="869"/>
                  </a:lnTo>
                  <a:lnTo>
                    <a:pt x="74" y="847"/>
                  </a:lnTo>
                  <a:lnTo>
                    <a:pt x="63" y="820"/>
                  </a:lnTo>
                  <a:lnTo>
                    <a:pt x="53" y="794"/>
                  </a:lnTo>
                  <a:lnTo>
                    <a:pt x="42" y="772"/>
                  </a:lnTo>
                  <a:lnTo>
                    <a:pt x="31" y="746"/>
                  </a:lnTo>
                  <a:lnTo>
                    <a:pt x="21" y="725"/>
                  </a:lnTo>
                  <a:lnTo>
                    <a:pt x="15" y="698"/>
                  </a:lnTo>
                  <a:lnTo>
                    <a:pt x="10" y="672"/>
                  </a:lnTo>
                  <a:lnTo>
                    <a:pt x="5" y="640"/>
                  </a:lnTo>
                  <a:lnTo>
                    <a:pt x="5" y="614"/>
                  </a:lnTo>
                  <a:lnTo>
                    <a:pt x="0" y="587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5e7a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71760" y="2871720"/>
              <a:ext cx="386280" cy="386280"/>
            </a:xfrm>
            <a:custGeom>
              <a:avLst/>
              <a:gdLst/>
              <a:ahLst/>
              <a:rect l="0" t="0" r="r" b="b"/>
              <a:pathLst>
                <a:path w="1073" h="1073">
                  <a:moveTo>
                    <a:pt x="0" y="534"/>
                  </a:moveTo>
                  <a:lnTo>
                    <a:pt x="0" y="507"/>
                  </a:lnTo>
                  <a:lnTo>
                    <a:pt x="0" y="481"/>
                  </a:lnTo>
                  <a:lnTo>
                    <a:pt x="5" y="454"/>
                  </a:lnTo>
                  <a:lnTo>
                    <a:pt x="10" y="423"/>
                  </a:lnTo>
                  <a:lnTo>
                    <a:pt x="15" y="402"/>
                  </a:lnTo>
                  <a:lnTo>
                    <a:pt x="26" y="375"/>
                  </a:lnTo>
                  <a:lnTo>
                    <a:pt x="31" y="349"/>
                  </a:lnTo>
                  <a:lnTo>
                    <a:pt x="42" y="328"/>
                  </a:lnTo>
                  <a:lnTo>
                    <a:pt x="53" y="301"/>
                  </a:lnTo>
                  <a:lnTo>
                    <a:pt x="63" y="275"/>
                  </a:lnTo>
                  <a:lnTo>
                    <a:pt x="74" y="253"/>
                  </a:lnTo>
                  <a:lnTo>
                    <a:pt x="90" y="232"/>
                  </a:lnTo>
                  <a:lnTo>
                    <a:pt x="106" y="211"/>
                  </a:lnTo>
                  <a:lnTo>
                    <a:pt x="122" y="195"/>
                  </a:lnTo>
                  <a:lnTo>
                    <a:pt x="137" y="174"/>
                  </a:lnTo>
                  <a:lnTo>
                    <a:pt x="153" y="153"/>
                  </a:lnTo>
                  <a:lnTo>
                    <a:pt x="175" y="131"/>
                  </a:lnTo>
                  <a:lnTo>
                    <a:pt x="190" y="116"/>
                  </a:lnTo>
                  <a:lnTo>
                    <a:pt x="212" y="105"/>
                  </a:lnTo>
                  <a:lnTo>
                    <a:pt x="233" y="89"/>
                  </a:lnTo>
                  <a:lnTo>
                    <a:pt x="254" y="73"/>
                  </a:lnTo>
                  <a:lnTo>
                    <a:pt x="282" y="63"/>
                  </a:lnTo>
                  <a:lnTo>
                    <a:pt x="303" y="52"/>
                  </a:lnTo>
                  <a:lnTo>
                    <a:pt x="329" y="42"/>
                  </a:lnTo>
                  <a:lnTo>
                    <a:pt x="351" y="31"/>
                  </a:lnTo>
                  <a:lnTo>
                    <a:pt x="377" y="26"/>
                  </a:lnTo>
                  <a:lnTo>
                    <a:pt x="404" y="15"/>
                  </a:lnTo>
                  <a:lnTo>
                    <a:pt x="430" y="10"/>
                  </a:lnTo>
                  <a:lnTo>
                    <a:pt x="457" y="5"/>
                  </a:lnTo>
                  <a:lnTo>
                    <a:pt x="483" y="5"/>
                  </a:lnTo>
                  <a:lnTo>
                    <a:pt x="510" y="5"/>
                  </a:lnTo>
                  <a:lnTo>
                    <a:pt x="536" y="0"/>
                  </a:lnTo>
                  <a:lnTo>
                    <a:pt x="563" y="5"/>
                  </a:lnTo>
                  <a:lnTo>
                    <a:pt x="589" y="5"/>
                  </a:lnTo>
                  <a:lnTo>
                    <a:pt x="621" y="5"/>
                  </a:lnTo>
                  <a:lnTo>
                    <a:pt x="648" y="10"/>
                  </a:lnTo>
                  <a:lnTo>
                    <a:pt x="674" y="15"/>
                  </a:lnTo>
                  <a:lnTo>
                    <a:pt x="695" y="26"/>
                  </a:lnTo>
                  <a:lnTo>
                    <a:pt x="722" y="31"/>
                  </a:lnTo>
                  <a:lnTo>
                    <a:pt x="748" y="42"/>
                  </a:lnTo>
                  <a:lnTo>
                    <a:pt x="770" y="52"/>
                  </a:lnTo>
                  <a:lnTo>
                    <a:pt x="796" y="63"/>
                  </a:lnTo>
                  <a:lnTo>
                    <a:pt x="818" y="73"/>
                  </a:lnTo>
                  <a:lnTo>
                    <a:pt x="840" y="89"/>
                  </a:lnTo>
                  <a:lnTo>
                    <a:pt x="861" y="105"/>
                  </a:lnTo>
                  <a:lnTo>
                    <a:pt x="882" y="116"/>
                  </a:lnTo>
                  <a:lnTo>
                    <a:pt x="898" y="131"/>
                  </a:lnTo>
                  <a:lnTo>
                    <a:pt x="919" y="153"/>
                  </a:lnTo>
                  <a:lnTo>
                    <a:pt x="935" y="174"/>
                  </a:lnTo>
                  <a:lnTo>
                    <a:pt x="956" y="195"/>
                  </a:lnTo>
                  <a:lnTo>
                    <a:pt x="972" y="211"/>
                  </a:lnTo>
                  <a:lnTo>
                    <a:pt x="983" y="232"/>
                  </a:lnTo>
                  <a:lnTo>
                    <a:pt x="999" y="253"/>
                  </a:lnTo>
                  <a:lnTo>
                    <a:pt x="1015" y="275"/>
                  </a:lnTo>
                  <a:lnTo>
                    <a:pt x="1025" y="301"/>
                  </a:lnTo>
                  <a:lnTo>
                    <a:pt x="1036" y="328"/>
                  </a:lnTo>
                  <a:lnTo>
                    <a:pt x="1041" y="349"/>
                  </a:lnTo>
                  <a:lnTo>
                    <a:pt x="1052" y="375"/>
                  </a:lnTo>
                  <a:lnTo>
                    <a:pt x="1057" y="402"/>
                  </a:lnTo>
                  <a:lnTo>
                    <a:pt x="1068" y="423"/>
                  </a:lnTo>
                  <a:lnTo>
                    <a:pt x="1068" y="454"/>
                  </a:lnTo>
                  <a:lnTo>
                    <a:pt x="1073" y="481"/>
                  </a:lnTo>
                  <a:lnTo>
                    <a:pt x="1073" y="507"/>
                  </a:lnTo>
                  <a:lnTo>
                    <a:pt x="1073" y="534"/>
                  </a:lnTo>
                  <a:lnTo>
                    <a:pt x="1073" y="565"/>
                  </a:lnTo>
                  <a:lnTo>
                    <a:pt x="1073" y="592"/>
                  </a:lnTo>
                  <a:lnTo>
                    <a:pt x="1068" y="618"/>
                  </a:lnTo>
                  <a:lnTo>
                    <a:pt x="1068" y="644"/>
                  </a:lnTo>
                  <a:lnTo>
                    <a:pt x="1057" y="671"/>
                  </a:lnTo>
                  <a:lnTo>
                    <a:pt x="1052" y="697"/>
                  </a:lnTo>
                  <a:lnTo>
                    <a:pt x="1041" y="718"/>
                  </a:lnTo>
                  <a:lnTo>
                    <a:pt x="1036" y="745"/>
                  </a:lnTo>
                  <a:lnTo>
                    <a:pt x="1025" y="766"/>
                  </a:lnTo>
                  <a:lnTo>
                    <a:pt x="1015" y="792"/>
                  </a:lnTo>
                  <a:lnTo>
                    <a:pt x="999" y="820"/>
                  </a:lnTo>
                  <a:lnTo>
                    <a:pt x="983" y="841"/>
                  </a:lnTo>
                  <a:lnTo>
                    <a:pt x="972" y="862"/>
                  </a:lnTo>
                  <a:lnTo>
                    <a:pt x="956" y="878"/>
                  </a:lnTo>
                  <a:lnTo>
                    <a:pt x="935" y="899"/>
                  </a:lnTo>
                  <a:lnTo>
                    <a:pt x="919" y="915"/>
                  </a:lnTo>
                  <a:lnTo>
                    <a:pt x="898" y="936"/>
                  </a:lnTo>
                  <a:lnTo>
                    <a:pt x="882" y="952"/>
                  </a:lnTo>
                  <a:lnTo>
                    <a:pt x="861" y="967"/>
                  </a:lnTo>
                  <a:lnTo>
                    <a:pt x="840" y="983"/>
                  </a:lnTo>
                  <a:lnTo>
                    <a:pt x="818" y="994"/>
                  </a:lnTo>
                  <a:lnTo>
                    <a:pt x="796" y="1010"/>
                  </a:lnTo>
                  <a:lnTo>
                    <a:pt x="770" y="1020"/>
                  </a:lnTo>
                  <a:lnTo>
                    <a:pt x="748" y="1031"/>
                  </a:lnTo>
                  <a:lnTo>
                    <a:pt x="722" y="1041"/>
                  </a:lnTo>
                  <a:lnTo>
                    <a:pt x="695" y="1047"/>
                  </a:lnTo>
                  <a:lnTo>
                    <a:pt x="674" y="1057"/>
                  </a:lnTo>
                  <a:lnTo>
                    <a:pt x="648" y="1063"/>
                  </a:lnTo>
                  <a:lnTo>
                    <a:pt x="621" y="1068"/>
                  </a:lnTo>
                  <a:lnTo>
                    <a:pt x="589" y="1068"/>
                  </a:lnTo>
                  <a:lnTo>
                    <a:pt x="563" y="1073"/>
                  </a:lnTo>
                  <a:lnTo>
                    <a:pt x="510" y="1073"/>
                  </a:lnTo>
                  <a:lnTo>
                    <a:pt x="483" y="1068"/>
                  </a:lnTo>
                  <a:lnTo>
                    <a:pt x="457" y="1068"/>
                  </a:lnTo>
                  <a:lnTo>
                    <a:pt x="430" y="1063"/>
                  </a:lnTo>
                  <a:lnTo>
                    <a:pt x="404" y="1057"/>
                  </a:lnTo>
                  <a:lnTo>
                    <a:pt x="377" y="1047"/>
                  </a:lnTo>
                  <a:lnTo>
                    <a:pt x="351" y="1041"/>
                  </a:lnTo>
                  <a:lnTo>
                    <a:pt x="329" y="1031"/>
                  </a:lnTo>
                  <a:lnTo>
                    <a:pt x="303" y="1020"/>
                  </a:lnTo>
                  <a:lnTo>
                    <a:pt x="282" y="1010"/>
                  </a:lnTo>
                  <a:lnTo>
                    <a:pt x="254" y="994"/>
                  </a:lnTo>
                  <a:lnTo>
                    <a:pt x="233" y="983"/>
                  </a:lnTo>
                  <a:lnTo>
                    <a:pt x="212" y="967"/>
                  </a:lnTo>
                  <a:lnTo>
                    <a:pt x="190" y="952"/>
                  </a:lnTo>
                  <a:lnTo>
                    <a:pt x="175" y="936"/>
                  </a:lnTo>
                  <a:lnTo>
                    <a:pt x="153" y="915"/>
                  </a:lnTo>
                  <a:lnTo>
                    <a:pt x="137" y="899"/>
                  </a:lnTo>
                  <a:lnTo>
                    <a:pt x="122" y="878"/>
                  </a:lnTo>
                  <a:lnTo>
                    <a:pt x="106" y="862"/>
                  </a:lnTo>
                  <a:lnTo>
                    <a:pt x="90" y="841"/>
                  </a:lnTo>
                  <a:lnTo>
                    <a:pt x="74" y="820"/>
                  </a:lnTo>
                  <a:lnTo>
                    <a:pt x="63" y="792"/>
                  </a:lnTo>
                  <a:lnTo>
                    <a:pt x="53" y="766"/>
                  </a:lnTo>
                  <a:lnTo>
                    <a:pt x="42" y="745"/>
                  </a:lnTo>
                  <a:lnTo>
                    <a:pt x="31" y="718"/>
                  </a:lnTo>
                  <a:lnTo>
                    <a:pt x="26" y="697"/>
                  </a:lnTo>
                  <a:lnTo>
                    <a:pt x="15" y="671"/>
                  </a:lnTo>
                  <a:lnTo>
                    <a:pt x="10" y="644"/>
                  </a:lnTo>
                  <a:lnTo>
                    <a:pt x="5" y="618"/>
                  </a:lnTo>
                  <a:lnTo>
                    <a:pt x="0" y="592"/>
                  </a:lnTo>
                  <a:lnTo>
                    <a:pt x="0" y="565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6382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82560" y="2876400"/>
              <a:ext cx="370080" cy="368640"/>
            </a:xfrm>
            <a:custGeom>
              <a:avLst/>
              <a:gdLst/>
              <a:ahLst/>
              <a:rect l="0" t="0" r="r" b="b"/>
              <a:pathLst>
                <a:path w="1028" h="1024">
                  <a:moveTo>
                    <a:pt x="0" y="511"/>
                  </a:moveTo>
                  <a:lnTo>
                    <a:pt x="0" y="479"/>
                  </a:lnTo>
                  <a:lnTo>
                    <a:pt x="0" y="453"/>
                  </a:lnTo>
                  <a:lnTo>
                    <a:pt x="5" y="421"/>
                  </a:lnTo>
                  <a:lnTo>
                    <a:pt x="10" y="395"/>
                  </a:lnTo>
                  <a:lnTo>
                    <a:pt x="15" y="369"/>
                  </a:lnTo>
                  <a:lnTo>
                    <a:pt x="21" y="348"/>
                  </a:lnTo>
                  <a:lnTo>
                    <a:pt x="31" y="321"/>
                  </a:lnTo>
                  <a:lnTo>
                    <a:pt x="42" y="295"/>
                  </a:lnTo>
                  <a:lnTo>
                    <a:pt x="53" y="268"/>
                  </a:lnTo>
                  <a:lnTo>
                    <a:pt x="69" y="247"/>
                  </a:lnTo>
                  <a:lnTo>
                    <a:pt x="85" y="226"/>
                  </a:lnTo>
                  <a:lnTo>
                    <a:pt x="95" y="205"/>
                  </a:lnTo>
                  <a:lnTo>
                    <a:pt x="111" y="184"/>
                  </a:lnTo>
                  <a:lnTo>
                    <a:pt x="133" y="163"/>
                  </a:lnTo>
                  <a:lnTo>
                    <a:pt x="149" y="142"/>
                  </a:lnTo>
                  <a:lnTo>
                    <a:pt x="165" y="126"/>
                  </a:lnTo>
                  <a:lnTo>
                    <a:pt x="186" y="110"/>
                  </a:lnTo>
                  <a:lnTo>
                    <a:pt x="207" y="94"/>
                  </a:lnTo>
                  <a:lnTo>
                    <a:pt x="228" y="79"/>
                  </a:lnTo>
                  <a:lnTo>
                    <a:pt x="255" y="63"/>
                  </a:lnTo>
                  <a:lnTo>
                    <a:pt x="276" y="52"/>
                  </a:lnTo>
                  <a:lnTo>
                    <a:pt x="303" y="42"/>
                  </a:lnTo>
                  <a:lnTo>
                    <a:pt x="324" y="31"/>
                  </a:lnTo>
                  <a:lnTo>
                    <a:pt x="351" y="26"/>
                  </a:lnTo>
                  <a:lnTo>
                    <a:pt x="377" y="15"/>
                  </a:lnTo>
                  <a:lnTo>
                    <a:pt x="404" y="10"/>
                  </a:lnTo>
                  <a:lnTo>
                    <a:pt x="431" y="5"/>
                  </a:lnTo>
                  <a:lnTo>
                    <a:pt x="457" y="0"/>
                  </a:lnTo>
                  <a:lnTo>
                    <a:pt x="484" y="0"/>
                  </a:lnTo>
                  <a:lnTo>
                    <a:pt x="511" y="0"/>
                  </a:lnTo>
                  <a:lnTo>
                    <a:pt x="544" y="0"/>
                  </a:lnTo>
                  <a:lnTo>
                    <a:pt x="570" y="0"/>
                  </a:lnTo>
                  <a:lnTo>
                    <a:pt x="602" y="5"/>
                  </a:lnTo>
                  <a:lnTo>
                    <a:pt x="629" y="10"/>
                  </a:lnTo>
                  <a:lnTo>
                    <a:pt x="650" y="15"/>
                  </a:lnTo>
                  <a:lnTo>
                    <a:pt x="677" y="26"/>
                  </a:lnTo>
                  <a:lnTo>
                    <a:pt x="703" y="31"/>
                  </a:lnTo>
                  <a:lnTo>
                    <a:pt x="730" y="42"/>
                  </a:lnTo>
                  <a:lnTo>
                    <a:pt x="751" y="52"/>
                  </a:lnTo>
                  <a:lnTo>
                    <a:pt x="778" y="63"/>
                  </a:lnTo>
                  <a:lnTo>
                    <a:pt x="799" y="79"/>
                  </a:lnTo>
                  <a:lnTo>
                    <a:pt x="820" y="94"/>
                  </a:lnTo>
                  <a:lnTo>
                    <a:pt x="842" y="110"/>
                  </a:lnTo>
                  <a:lnTo>
                    <a:pt x="863" y="126"/>
                  </a:lnTo>
                  <a:lnTo>
                    <a:pt x="879" y="142"/>
                  </a:lnTo>
                  <a:lnTo>
                    <a:pt x="900" y="163"/>
                  </a:lnTo>
                  <a:lnTo>
                    <a:pt x="916" y="184"/>
                  </a:lnTo>
                  <a:lnTo>
                    <a:pt x="932" y="205"/>
                  </a:lnTo>
                  <a:lnTo>
                    <a:pt x="948" y="226"/>
                  </a:lnTo>
                  <a:lnTo>
                    <a:pt x="959" y="247"/>
                  </a:lnTo>
                  <a:lnTo>
                    <a:pt x="975" y="268"/>
                  </a:lnTo>
                  <a:lnTo>
                    <a:pt x="985" y="295"/>
                  </a:lnTo>
                  <a:lnTo>
                    <a:pt x="996" y="321"/>
                  </a:lnTo>
                  <a:lnTo>
                    <a:pt x="1007" y="348"/>
                  </a:lnTo>
                  <a:lnTo>
                    <a:pt x="1012" y="369"/>
                  </a:lnTo>
                  <a:lnTo>
                    <a:pt x="1017" y="395"/>
                  </a:lnTo>
                  <a:lnTo>
                    <a:pt x="1023" y="421"/>
                  </a:lnTo>
                  <a:lnTo>
                    <a:pt x="1028" y="453"/>
                  </a:lnTo>
                  <a:lnTo>
                    <a:pt x="1028" y="479"/>
                  </a:lnTo>
                  <a:lnTo>
                    <a:pt x="1028" y="511"/>
                  </a:lnTo>
                  <a:lnTo>
                    <a:pt x="1028" y="538"/>
                  </a:lnTo>
                  <a:lnTo>
                    <a:pt x="1028" y="565"/>
                  </a:lnTo>
                  <a:lnTo>
                    <a:pt x="1023" y="591"/>
                  </a:lnTo>
                  <a:lnTo>
                    <a:pt x="1017" y="617"/>
                  </a:lnTo>
                  <a:lnTo>
                    <a:pt x="1012" y="649"/>
                  </a:lnTo>
                  <a:lnTo>
                    <a:pt x="1007" y="676"/>
                  </a:lnTo>
                  <a:lnTo>
                    <a:pt x="996" y="697"/>
                  </a:lnTo>
                  <a:lnTo>
                    <a:pt x="985" y="723"/>
                  </a:lnTo>
                  <a:lnTo>
                    <a:pt x="975" y="744"/>
                  </a:lnTo>
                  <a:lnTo>
                    <a:pt x="959" y="770"/>
                  </a:lnTo>
                  <a:lnTo>
                    <a:pt x="948" y="792"/>
                  </a:lnTo>
                  <a:lnTo>
                    <a:pt x="932" y="813"/>
                  </a:lnTo>
                  <a:lnTo>
                    <a:pt x="916" y="834"/>
                  </a:lnTo>
                  <a:lnTo>
                    <a:pt x="900" y="855"/>
                  </a:lnTo>
                  <a:lnTo>
                    <a:pt x="879" y="876"/>
                  </a:lnTo>
                  <a:lnTo>
                    <a:pt x="863" y="892"/>
                  </a:lnTo>
                  <a:lnTo>
                    <a:pt x="842" y="908"/>
                  </a:lnTo>
                  <a:lnTo>
                    <a:pt x="820" y="923"/>
                  </a:lnTo>
                  <a:lnTo>
                    <a:pt x="799" y="939"/>
                  </a:lnTo>
                  <a:lnTo>
                    <a:pt x="778" y="955"/>
                  </a:lnTo>
                  <a:lnTo>
                    <a:pt x="751" y="966"/>
                  </a:lnTo>
                  <a:lnTo>
                    <a:pt x="730" y="976"/>
                  </a:lnTo>
                  <a:lnTo>
                    <a:pt x="703" y="987"/>
                  </a:lnTo>
                  <a:lnTo>
                    <a:pt x="677" y="997"/>
                  </a:lnTo>
                  <a:lnTo>
                    <a:pt x="650" y="1002"/>
                  </a:lnTo>
                  <a:lnTo>
                    <a:pt x="629" y="1008"/>
                  </a:lnTo>
                  <a:lnTo>
                    <a:pt x="602" y="1013"/>
                  </a:lnTo>
                  <a:lnTo>
                    <a:pt x="570" y="1018"/>
                  </a:lnTo>
                  <a:lnTo>
                    <a:pt x="544" y="1024"/>
                  </a:lnTo>
                  <a:lnTo>
                    <a:pt x="484" y="1024"/>
                  </a:lnTo>
                  <a:lnTo>
                    <a:pt x="457" y="1018"/>
                  </a:lnTo>
                  <a:lnTo>
                    <a:pt x="431" y="1013"/>
                  </a:lnTo>
                  <a:lnTo>
                    <a:pt x="404" y="1008"/>
                  </a:lnTo>
                  <a:lnTo>
                    <a:pt x="377" y="1002"/>
                  </a:lnTo>
                  <a:lnTo>
                    <a:pt x="351" y="997"/>
                  </a:lnTo>
                  <a:lnTo>
                    <a:pt x="324" y="987"/>
                  </a:lnTo>
                  <a:lnTo>
                    <a:pt x="303" y="976"/>
                  </a:lnTo>
                  <a:lnTo>
                    <a:pt x="276" y="966"/>
                  </a:lnTo>
                  <a:lnTo>
                    <a:pt x="255" y="955"/>
                  </a:lnTo>
                  <a:lnTo>
                    <a:pt x="228" y="939"/>
                  </a:lnTo>
                  <a:lnTo>
                    <a:pt x="207" y="923"/>
                  </a:lnTo>
                  <a:lnTo>
                    <a:pt x="186" y="908"/>
                  </a:lnTo>
                  <a:lnTo>
                    <a:pt x="165" y="892"/>
                  </a:lnTo>
                  <a:lnTo>
                    <a:pt x="149" y="876"/>
                  </a:lnTo>
                  <a:lnTo>
                    <a:pt x="133" y="855"/>
                  </a:lnTo>
                  <a:lnTo>
                    <a:pt x="111" y="834"/>
                  </a:lnTo>
                  <a:lnTo>
                    <a:pt x="95" y="813"/>
                  </a:lnTo>
                  <a:lnTo>
                    <a:pt x="85" y="792"/>
                  </a:lnTo>
                  <a:lnTo>
                    <a:pt x="69" y="770"/>
                  </a:lnTo>
                  <a:lnTo>
                    <a:pt x="53" y="744"/>
                  </a:lnTo>
                  <a:lnTo>
                    <a:pt x="42" y="723"/>
                  </a:lnTo>
                  <a:lnTo>
                    <a:pt x="31" y="697"/>
                  </a:lnTo>
                  <a:lnTo>
                    <a:pt x="21" y="676"/>
                  </a:lnTo>
                  <a:lnTo>
                    <a:pt x="15" y="649"/>
                  </a:lnTo>
                  <a:lnTo>
                    <a:pt x="10" y="617"/>
                  </a:lnTo>
                  <a:lnTo>
                    <a:pt x="5" y="591"/>
                  </a:lnTo>
                  <a:lnTo>
                    <a:pt x="0" y="565"/>
                  </a:lnTo>
                  <a:lnTo>
                    <a:pt x="0" y="538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6684c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89040" y="2884320"/>
              <a:ext cx="357480" cy="349560"/>
            </a:xfrm>
            <a:custGeom>
              <a:avLst/>
              <a:gdLst/>
              <a:ahLst/>
              <a:rect l="0" t="0" r="r" b="b"/>
              <a:pathLst>
                <a:path w="993" h="971">
                  <a:moveTo>
                    <a:pt x="0" y="482"/>
                  </a:moveTo>
                  <a:lnTo>
                    <a:pt x="5" y="456"/>
                  </a:lnTo>
                  <a:lnTo>
                    <a:pt x="5" y="424"/>
                  </a:lnTo>
                  <a:lnTo>
                    <a:pt x="10" y="398"/>
                  </a:lnTo>
                  <a:lnTo>
                    <a:pt x="16" y="372"/>
                  </a:lnTo>
                  <a:lnTo>
                    <a:pt x="21" y="346"/>
                  </a:lnTo>
                  <a:lnTo>
                    <a:pt x="26" y="319"/>
                  </a:lnTo>
                  <a:lnTo>
                    <a:pt x="37" y="298"/>
                  </a:lnTo>
                  <a:lnTo>
                    <a:pt x="48" y="272"/>
                  </a:lnTo>
                  <a:lnTo>
                    <a:pt x="64" y="246"/>
                  </a:lnTo>
                  <a:lnTo>
                    <a:pt x="74" y="225"/>
                  </a:lnTo>
                  <a:lnTo>
                    <a:pt x="90" y="204"/>
                  </a:lnTo>
                  <a:lnTo>
                    <a:pt x="106" y="183"/>
                  </a:lnTo>
                  <a:lnTo>
                    <a:pt x="122" y="167"/>
                  </a:lnTo>
                  <a:lnTo>
                    <a:pt x="138" y="146"/>
                  </a:lnTo>
                  <a:lnTo>
                    <a:pt x="154" y="125"/>
                  </a:lnTo>
                  <a:lnTo>
                    <a:pt x="176" y="110"/>
                  </a:lnTo>
                  <a:lnTo>
                    <a:pt x="197" y="94"/>
                  </a:lnTo>
                  <a:lnTo>
                    <a:pt x="218" y="78"/>
                  </a:lnTo>
                  <a:lnTo>
                    <a:pt x="240" y="62"/>
                  </a:lnTo>
                  <a:lnTo>
                    <a:pt x="261" y="52"/>
                  </a:lnTo>
                  <a:lnTo>
                    <a:pt x="288" y="41"/>
                  </a:lnTo>
                  <a:lnTo>
                    <a:pt x="309" y="31"/>
                  </a:lnTo>
                  <a:lnTo>
                    <a:pt x="336" y="20"/>
                  </a:lnTo>
                  <a:lnTo>
                    <a:pt x="362" y="15"/>
                  </a:lnTo>
                  <a:lnTo>
                    <a:pt x="384" y="10"/>
                  </a:lnTo>
                  <a:lnTo>
                    <a:pt x="416" y="5"/>
                  </a:lnTo>
                  <a:lnTo>
                    <a:pt x="442" y="0"/>
                  </a:lnTo>
                  <a:lnTo>
                    <a:pt x="469" y="0"/>
                  </a:lnTo>
                  <a:lnTo>
                    <a:pt x="497" y="0"/>
                  </a:lnTo>
                  <a:lnTo>
                    <a:pt x="523" y="0"/>
                  </a:lnTo>
                  <a:lnTo>
                    <a:pt x="550" y="0"/>
                  </a:lnTo>
                  <a:lnTo>
                    <a:pt x="582" y="5"/>
                  </a:lnTo>
                  <a:lnTo>
                    <a:pt x="609" y="10"/>
                  </a:lnTo>
                  <a:lnTo>
                    <a:pt x="635" y="15"/>
                  </a:lnTo>
                  <a:lnTo>
                    <a:pt x="662" y="20"/>
                  </a:lnTo>
                  <a:lnTo>
                    <a:pt x="683" y="31"/>
                  </a:lnTo>
                  <a:lnTo>
                    <a:pt x="705" y="41"/>
                  </a:lnTo>
                  <a:lnTo>
                    <a:pt x="731" y="52"/>
                  </a:lnTo>
                  <a:lnTo>
                    <a:pt x="758" y="62"/>
                  </a:lnTo>
                  <a:lnTo>
                    <a:pt x="779" y="78"/>
                  </a:lnTo>
                  <a:lnTo>
                    <a:pt x="801" y="94"/>
                  </a:lnTo>
                  <a:lnTo>
                    <a:pt x="817" y="110"/>
                  </a:lnTo>
                  <a:lnTo>
                    <a:pt x="838" y="125"/>
                  </a:lnTo>
                  <a:lnTo>
                    <a:pt x="854" y="146"/>
                  </a:lnTo>
                  <a:lnTo>
                    <a:pt x="875" y="167"/>
                  </a:lnTo>
                  <a:lnTo>
                    <a:pt x="891" y="183"/>
                  </a:lnTo>
                  <a:lnTo>
                    <a:pt x="902" y="204"/>
                  </a:lnTo>
                  <a:lnTo>
                    <a:pt x="923" y="225"/>
                  </a:lnTo>
                  <a:lnTo>
                    <a:pt x="934" y="246"/>
                  </a:lnTo>
                  <a:lnTo>
                    <a:pt x="945" y="272"/>
                  </a:lnTo>
                  <a:lnTo>
                    <a:pt x="955" y="298"/>
                  </a:lnTo>
                  <a:lnTo>
                    <a:pt x="966" y="319"/>
                  </a:lnTo>
                  <a:lnTo>
                    <a:pt x="971" y="346"/>
                  </a:lnTo>
                  <a:lnTo>
                    <a:pt x="977" y="372"/>
                  </a:lnTo>
                  <a:lnTo>
                    <a:pt x="987" y="398"/>
                  </a:lnTo>
                  <a:lnTo>
                    <a:pt x="987" y="424"/>
                  </a:lnTo>
                  <a:lnTo>
                    <a:pt x="993" y="456"/>
                  </a:lnTo>
                  <a:lnTo>
                    <a:pt x="993" y="482"/>
                  </a:lnTo>
                  <a:lnTo>
                    <a:pt x="993" y="509"/>
                  </a:lnTo>
                  <a:lnTo>
                    <a:pt x="987" y="541"/>
                  </a:lnTo>
                  <a:lnTo>
                    <a:pt x="987" y="567"/>
                  </a:lnTo>
                  <a:lnTo>
                    <a:pt x="977" y="593"/>
                  </a:lnTo>
                  <a:lnTo>
                    <a:pt x="971" y="619"/>
                  </a:lnTo>
                  <a:lnTo>
                    <a:pt x="966" y="646"/>
                  </a:lnTo>
                  <a:lnTo>
                    <a:pt x="955" y="666"/>
                  </a:lnTo>
                  <a:lnTo>
                    <a:pt x="945" y="693"/>
                  </a:lnTo>
                  <a:lnTo>
                    <a:pt x="934" y="714"/>
                  </a:lnTo>
                  <a:lnTo>
                    <a:pt x="923" y="740"/>
                  </a:lnTo>
                  <a:lnTo>
                    <a:pt x="902" y="756"/>
                  </a:lnTo>
                  <a:lnTo>
                    <a:pt x="891" y="782"/>
                  </a:lnTo>
                  <a:lnTo>
                    <a:pt x="875" y="803"/>
                  </a:lnTo>
                  <a:lnTo>
                    <a:pt x="854" y="819"/>
                  </a:lnTo>
                  <a:lnTo>
                    <a:pt x="838" y="840"/>
                  </a:lnTo>
                  <a:lnTo>
                    <a:pt x="817" y="855"/>
                  </a:lnTo>
                  <a:lnTo>
                    <a:pt x="801" y="871"/>
                  </a:lnTo>
                  <a:lnTo>
                    <a:pt x="779" y="887"/>
                  </a:lnTo>
                  <a:lnTo>
                    <a:pt x="758" y="897"/>
                  </a:lnTo>
                  <a:lnTo>
                    <a:pt x="731" y="913"/>
                  </a:lnTo>
                  <a:lnTo>
                    <a:pt x="705" y="929"/>
                  </a:lnTo>
                  <a:lnTo>
                    <a:pt x="683" y="934"/>
                  </a:lnTo>
                  <a:lnTo>
                    <a:pt x="662" y="944"/>
                  </a:lnTo>
                  <a:lnTo>
                    <a:pt x="635" y="955"/>
                  </a:lnTo>
                  <a:lnTo>
                    <a:pt x="609" y="960"/>
                  </a:lnTo>
                  <a:lnTo>
                    <a:pt x="582" y="965"/>
                  </a:lnTo>
                  <a:lnTo>
                    <a:pt x="550" y="965"/>
                  </a:lnTo>
                  <a:lnTo>
                    <a:pt x="523" y="971"/>
                  </a:lnTo>
                  <a:lnTo>
                    <a:pt x="469" y="971"/>
                  </a:lnTo>
                  <a:lnTo>
                    <a:pt x="442" y="965"/>
                  </a:lnTo>
                  <a:lnTo>
                    <a:pt x="416" y="965"/>
                  </a:lnTo>
                  <a:lnTo>
                    <a:pt x="384" y="960"/>
                  </a:lnTo>
                  <a:lnTo>
                    <a:pt x="362" y="955"/>
                  </a:lnTo>
                  <a:lnTo>
                    <a:pt x="336" y="944"/>
                  </a:lnTo>
                  <a:lnTo>
                    <a:pt x="309" y="934"/>
                  </a:lnTo>
                  <a:lnTo>
                    <a:pt x="288" y="929"/>
                  </a:lnTo>
                  <a:lnTo>
                    <a:pt x="261" y="913"/>
                  </a:lnTo>
                  <a:lnTo>
                    <a:pt x="240" y="897"/>
                  </a:lnTo>
                  <a:lnTo>
                    <a:pt x="218" y="887"/>
                  </a:lnTo>
                  <a:lnTo>
                    <a:pt x="197" y="871"/>
                  </a:lnTo>
                  <a:lnTo>
                    <a:pt x="176" y="855"/>
                  </a:lnTo>
                  <a:lnTo>
                    <a:pt x="154" y="840"/>
                  </a:lnTo>
                  <a:lnTo>
                    <a:pt x="138" y="819"/>
                  </a:lnTo>
                  <a:lnTo>
                    <a:pt x="122" y="803"/>
                  </a:lnTo>
                  <a:lnTo>
                    <a:pt x="106" y="782"/>
                  </a:lnTo>
                  <a:lnTo>
                    <a:pt x="90" y="756"/>
                  </a:lnTo>
                  <a:lnTo>
                    <a:pt x="74" y="740"/>
                  </a:lnTo>
                  <a:lnTo>
                    <a:pt x="64" y="714"/>
                  </a:lnTo>
                  <a:lnTo>
                    <a:pt x="48" y="693"/>
                  </a:lnTo>
                  <a:lnTo>
                    <a:pt x="37" y="666"/>
                  </a:lnTo>
                  <a:lnTo>
                    <a:pt x="26" y="646"/>
                  </a:lnTo>
                  <a:lnTo>
                    <a:pt x="21" y="619"/>
                  </a:lnTo>
                  <a:lnTo>
                    <a:pt x="16" y="593"/>
                  </a:lnTo>
                  <a:lnTo>
                    <a:pt x="10" y="567"/>
                  </a:lnTo>
                  <a:lnTo>
                    <a:pt x="5" y="541"/>
                  </a:lnTo>
                  <a:lnTo>
                    <a:pt x="5" y="509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6889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887560"/>
              <a:ext cx="338400" cy="336960"/>
            </a:xfrm>
            <a:custGeom>
              <a:avLst/>
              <a:gdLst/>
              <a:ahLst/>
              <a:rect l="0" t="0" r="r" b="b"/>
              <a:pathLst>
                <a:path w="940" h="936">
                  <a:moveTo>
                    <a:pt x="0" y="463"/>
                  </a:moveTo>
                  <a:lnTo>
                    <a:pt x="5" y="436"/>
                  </a:lnTo>
                  <a:lnTo>
                    <a:pt x="5" y="410"/>
                  </a:lnTo>
                  <a:lnTo>
                    <a:pt x="10" y="384"/>
                  </a:lnTo>
                  <a:lnTo>
                    <a:pt x="15" y="358"/>
                  </a:lnTo>
                  <a:lnTo>
                    <a:pt x="21" y="331"/>
                  </a:lnTo>
                  <a:lnTo>
                    <a:pt x="31" y="305"/>
                  </a:lnTo>
                  <a:lnTo>
                    <a:pt x="42" y="284"/>
                  </a:lnTo>
                  <a:lnTo>
                    <a:pt x="53" y="258"/>
                  </a:lnTo>
                  <a:lnTo>
                    <a:pt x="63" y="231"/>
                  </a:lnTo>
                  <a:lnTo>
                    <a:pt x="74" y="210"/>
                  </a:lnTo>
                  <a:lnTo>
                    <a:pt x="90" y="189"/>
                  </a:lnTo>
                  <a:lnTo>
                    <a:pt x="106" y="173"/>
                  </a:lnTo>
                  <a:lnTo>
                    <a:pt x="122" y="152"/>
                  </a:lnTo>
                  <a:lnTo>
                    <a:pt x="137" y="136"/>
                  </a:lnTo>
                  <a:lnTo>
                    <a:pt x="153" y="115"/>
                  </a:lnTo>
                  <a:lnTo>
                    <a:pt x="175" y="99"/>
                  </a:lnTo>
                  <a:lnTo>
                    <a:pt x="196" y="84"/>
                  </a:lnTo>
                  <a:lnTo>
                    <a:pt x="222" y="68"/>
                  </a:lnTo>
                  <a:lnTo>
                    <a:pt x="238" y="52"/>
                  </a:lnTo>
                  <a:lnTo>
                    <a:pt x="265" y="42"/>
                  </a:lnTo>
                  <a:lnTo>
                    <a:pt x="286" y="31"/>
                  </a:lnTo>
                  <a:lnTo>
                    <a:pt x="313" y="26"/>
                  </a:lnTo>
                  <a:lnTo>
                    <a:pt x="334" y="15"/>
                  </a:lnTo>
                  <a:lnTo>
                    <a:pt x="360" y="10"/>
                  </a:lnTo>
                  <a:lnTo>
                    <a:pt x="387" y="5"/>
                  </a:lnTo>
                  <a:lnTo>
                    <a:pt x="419" y="0"/>
                  </a:lnTo>
                  <a:lnTo>
                    <a:pt x="440" y="0"/>
                  </a:lnTo>
                  <a:lnTo>
                    <a:pt x="473" y="0"/>
                  </a:lnTo>
                  <a:lnTo>
                    <a:pt x="494" y="0"/>
                  </a:lnTo>
                  <a:lnTo>
                    <a:pt x="526" y="0"/>
                  </a:lnTo>
                  <a:lnTo>
                    <a:pt x="552" y="5"/>
                  </a:lnTo>
                  <a:lnTo>
                    <a:pt x="579" y="10"/>
                  </a:lnTo>
                  <a:lnTo>
                    <a:pt x="605" y="15"/>
                  </a:lnTo>
                  <a:lnTo>
                    <a:pt x="632" y="26"/>
                  </a:lnTo>
                  <a:lnTo>
                    <a:pt x="653" y="31"/>
                  </a:lnTo>
                  <a:lnTo>
                    <a:pt x="674" y="42"/>
                  </a:lnTo>
                  <a:lnTo>
                    <a:pt x="701" y="52"/>
                  </a:lnTo>
                  <a:lnTo>
                    <a:pt x="722" y="68"/>
                  </a:lnTo>
                  <a:lnTo>
                    <a:pt x="743" y="84"/>
                  </a:lnTo>
                  <a:lnTo>
                    <a:pt x="765" y="99"/>
                  </a:lnTo>
                  <a:lnTo>
                    <a:pt x="786" y="115"/>
                  </a:lnTo>
                  <a:lnTo>
                    <a:pt x="802" y="136"/>
                  </a:lnTo>
                  <a:lnTo>
                    <a:pt x="818" y="152"/>
                  </a:lnTo>
                  <a:lnTo>
                    <a:pt x="834" y="173"/>
                  </a:lnTo>
                  <a:lnTo>
                    <a:pt x="850" y="189"/>
                  </a:lnTo>
                  <a:lnTo>
                    <a:pt x="865" y="210"/>
                  </a:lnTo>
                  <a:lnTo>
                    <a:pt x="881" y="231"/>
                  </a:lnTo>
                  <a:lnTo>
                    <a:pt x="892" y="258"/>
                  </a:lnTo>
                  <a:lnTo>
                    <a:pt x="903" y="284"/>
                  </a:lnTo>
                  <a:lnTo>
                    <a:pt x="913" y="305"/>
                  </a:lnTo>
                  <a:lnTo>
                    <a:pt x="924" y="331"/>
                  </a:lnTo>
                  <a:lnTo>
                    <a:pt x="929" y="358"/>
                  </a:lnTo>
                  <a:lnTo>
                    <a:pt x="934" y="384"/>
                  </a:lnTo>
                  <a:lnTo>
                    <a:pt x="934" y="410"/>
                  </a:lnTo>
                  <a:lnTo>
                    <a:pt x="940" y="436"/>
                  </a:lnTo>
                  <a:lnTo>
                    <a:pt x="940" y="463"/>
                  </a:lnTo>
                  <a:lnTo>
                    <a:pt x="940" y="494"/>
                  </a:lnTo>
                  <a:lnTo>
                    <a:pt x="934" y="520"/>
                  </a:lnTo>
                  <a:lnTo>
                    <a:pt x="934" y="547"/>
                  </a:lnTo>
                  <a:lnTo>
                    <a:pt x="929" y="573"/>
                  </a:lnTo>
                  <a:lnTo>
                    <a:pt x="924" y="599"/>
                  </a:lnTo>
                  <a:lnTo>
                    <a:pt x="913" y="625"/>
                  </a:lnTo>
                  <a:lnTo>
                    <a:pt x="903" y="646"/>
                  </a:lnTo>
                  <a:lnTo>
                    <a:pt x="892" y="673"/>
                  </a:lnTo>
                  <a:lnTo>
                    <a:pt x="881" y="694"/>
                  </a:lnTo>
                  <a:lnTo>
                    <a:pt x="865" y="716"/>
                  </a:lnTo>
                  <a:lnTo>
                    <a:pt x="850" y="737"/>
                  </a:lnTo>
                  <a:lnTo>
                    <a:pt x="834" y="758"/>
                  </a:lnTo>
                  <a:lnTo>
                    <a:pt x="818" y="779"/>
                  </a:lnTo>
                  <a:lnTo>
                    <a:pt x="802" y="800"/>
                  </a:lnTo>
                  <a:lnTo>
                    <a:pt x="786" y="816"/>
                  </a:lnTo>
                  <a:lnTo>
                    <a:pt x="765" y="831"/>
                  </a:lnTo>
                  <a:lnTo>
                    <a:pt x="743" y="847"/>
                  </a:lnTo>
                  <a:lnTo>
                    <a:pt x="722" y="863"/>
                  </a:lnTo>
                  <a:lnTo>
                    <a:pt x="701" y="873"/>
                  </a:lnTo>
                  <a:lnTo>
                    <a:pt x="674" y="884"/>
                  </a:lnTo>
                  <a:lnTo>
                    <a:pt x="653" y="894"/>
                  </a:lnTo>
                  <a:lnTo>
                    <a:pt x="632" y="905"/>
                  </a:lnTo>
                  <a:lnTo>
                    <a:pt x="605" y="915"/>
                  </a:lnTo>
                  <a:lnTo>
                    <a:pt x="579" y="921"/>
                  </a:lnTo>
                  <a:lnTo>
                    <a:pt x="552" y="926"/>
                  </a:lnTo>
                  <a:lnTo>
                    <a:pt x="526" y="931"/>
                  </a:lnTo>
                  <a:lnTo>
                    <a:pt x="494" y="936"/>
                  </a:lnTo>
                  <a:lnTo>
                    <a:pt x="440" y="936"/>
                  </a:lnTo>
                  <a:lnTo>
                    <a:pt x="419" y="931"/>
                  </a:lnTo>
                  <a:lnTo>
                    <a:pt x="387" y="926"/>
                  </a:lnTo>
                  <a:lnTo>
                    <a:pt x="360" y="921"/>
                  </a:lnTo>
                  <a:lnTo>
                    <a:pt x="334" y="915"/>
                  </a:lnTo>
                  <a:lnTo>
                    <a:pt x="313" y="905"/>
                  </a:lnTo>
                  <a:lnTo>
                    <a:pt x="286" y="894"/>
                  </a:lnTo>
                  <a:lnTo>
                    <a:pt x="265" y="884"/>
                  </a:lnTo>
                  <a:lnTo>
                    <a:pt x="238" y="873"/>
                  </a:lnTo>
                  <a:lnTo>
                    <a:pt x="222" y="863"/>
                  </a:lnTo>
                  <a:lnTo>
                    <a:pt x="196" y="847"/>
                  </a:lnTo>
                  <a:lnTo>
                    <a:pt x="175" y="831"/>
                  </a:lnTo>
                  <a:lnTo>
                    <a:pt x="153" y="816"/>
                  </a:lnTo>
                  <a:lnTo>
                    <a:pt x="137" y="800"/>
                  </a:lnTo>
                  <a:lnTo>
                    <a:pt x="122" y="779"/>
                  </a:lnTo>
                  <a:lnTo>
                    <a:pt x="106" y="758"/>
                  </a:lnTo>
                  <a:lnTo>
                    <a:pt x="90" y="737"/>
                  </a:lnTo>
                  <a:lnTo>
                    <a:pt x="74" y="716"/>
                  </a:lnTo>
                  <a:lnTo>
                    <a:pt x="63" y="694"/>
                  </a:lnTo>
                  <a:lnTo>
                    <a:pt x="53" y="673"/>
                  </a:lnTo>
                  <a:lnTo>
                    <a:pt x="42" y="646"/>
                  </a:lnTo>
                  <a:lnTo>
                    <a:pt x="31" y="625"/>
                  </a:lnTo>
                  <a:lnTo>
                    <a:pt x="21" y="599"/>
                  </a:lnTo>
                  <a:lnTo>
                    <a:pt x="15" y="573"/>
                  </a:lnTo>
                  <a:lnTo>
                    <a:pt x="10" y="547"/>
                  </a:lnTo>
                  <a:lnTo>
                    <a:pt x="5" y="520"/>
                  </a:lnTo>
                  <a:lnTo>
                    <a:pt x="5" y="494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6d8c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9560" y="2890800"/>
              <a:ext cx="321120" cy="319320"/>
            </a:xfrm>
            <a:custGeom>
              <a:avLst/>
              <a:gdLst/>
              <a:ahLst/>
              <a:rect l="0" t="0" r="r" b="b"/>
              <a:pathLst>
                <a:path w="892" h="887">
                  <a:moveTo>
                    <a:pt x="0" y="444"/>
                  </a:moveTo>
                  <a:lnTo>
                    <a:pt x="0" y="411"/>
                  </a:lnTo>
                  <a:lnTo>
                    <a:pt x="5" y="385"/>
                  </a:lnTo>
                  <a:lnTo>
                    <a:pt x="5" y="359"/>
                  </a:lnTo>
                  <a:lnTo>
                    <a:pt x="10" y="333"/>
                  </a:lnTo>
                  <a:lnTo>
                    <a:pt x="21" y="307"/>
                  </a:lnTo>
                  <a:lnTo>
                    <a:pt x="32" y="281"/>
                  </a:lnTo>
                  <a:lnTo>
                    <a:pt x="37" y="255"/>
                  </a:lnTo>
                  <a:lnTo>
                    <a:pt x="48" y="234"/>
                  </a:lnTo>
                  <a:lnTo>
                    <a:pt x="64" y="208"/>
                  </a:lnTo>
                  <a:lnTo>
                    <a:pt x="80" y="187"/>
                  </a:lnTo>
                  <a:lnTo>
                    <a:pt x="90" y="166"/>
                  </a:lnTo>
                  <a:lnTo>
                    <a:pt x="112" y="145"/>
                  </a:lnTo>
                  <a:lnTo>
                    <a:pt x="128" y="130"/>
                  </a:lnTo>
                  <a:lnTo>
                    <a:pt x="144" y="109"/>
                  </a:lnTo>
                  <a:lnTo>
                    <a:pt x="165" y="93"/>
                  </a:lnTo>
                  <a:lnTo>
                    <a:pt x="192" y="78"/>
                  </a:lnTo>
                  <a:lnTo>
                    <a:pt x="208" y="62"/>
                  </a:lnTo>
                  <a:lnTo>
                    <a:pt x="235" y="52"/>
                  </a:lnTo>
                  <a:lnTo>
                    <a:pt x="257" y="36"/>
                  </a:lnTo>
                  <a:lnTo>
                    <a:pt x="283" y="26"/>
                  </a:lnTo>
                  <a:lnTo>
                    <a:pt x="305" y="20"/>
                  </a:lnTo>
                  <a:lnTo>
                    <a:pt x="331" y="15"/>
                  </a:lnTo>
                  <a:lnTo>
                    <a:pt x="363" y="5"/>
                  </a:lnTo>
                  <a:lnTo>
                    <a:pt x="390" y="5"/>
                  </a:lnTo>
                  <a:lnTo>
                    <a:pt x="417" y="0"/>
                  </a:lnTo>
                  <a:lnTo>
                    <a:pt x="443" y="0"/>
                  </a:lnTo>
                  <a:lnTo>
                    <a:pt x="470" y="0"/>
                  </a:lnTo>
                  <a:lnTo>
                    <a:pt x="497" y="5"/>
                  </a:lnTo>
                  <a:lnTo>
                    <a:pt x="529" y="5"/>
                  </a:lnTo>
                  <a:lnTo>
                    <a:pt x="555" y="15"/>
                  </a:lnTo>
                  <a:lnTo>
                    <a:pt x="582" y="20"/>
                  </a:lnTo>
                  <a:lnTo>
                    <a:pt x="609" y="26"/>
                  </a:lnTo>
                  <a:lnTo>
                    <a:pt x="630" y="36"/>
                  </a:lnTo>
                  <a:lnTo>
                    <a:pt x="651" y="52"/>
                  </a:lnTo>
                  <a:lnTo>
                    <a:pt x="679" y="62"/>
                  </a:lnTo>
                  <a:lnTo>
                    <a:pt x="700" y="78"/>
                  </a:lnTo>
                  <a:lnTo>
                    <a:pt x="722" y="93"/>
                  </a:lnTo>
                  <a:lnTo>
                    <a:pt x="743" y="109"/>
                  </a:lnTo>
                  <a:lnTo>
                    <a:pt x="759" y="130"/>
                  </a:lnTo>
                  <a:lnTo>
                    <a:pt x="780" y="145"/>
                  </a:lnTo>
                  <a:lnTo>
                    <a:pt x="796" y="166"/>
                  </a:lnTo>
                  <a:lnTo>
                    <a:pt x="812" y="187"/>
                  </a:lnTo>
                  <a:lnTo>
                    <a:pt x="828" y="208"/>
                  </a:lnTo>
                  <a:lnTo>
                    <a:pt x="839" y="234"/>
                  </a:lnTo>
                  <a:lnTo>
                    <a:pt x="855" y="255"/>
                  </a:lnTo>
                  <a:lnTo>
                    <a:pt x="860" y="281"/>
                  </a:lnTo>
                  <a:lnTo>
                    <a:pt x="871" y="307"/>
                  </a:lnTo>
                  <a:lnTo>
                    <a:pt x="876" y="333"/>
                  </a:lnTo>
                  <a:lnTo>
                    <a:pt x="882" y="359"/>
                  </a:lnTo>
                  <a:lnTo>
                    <a:pt x="887" y="385"/>
                  </a:lnTo>
                  <a:lnTo>
                    <a:pt x="892" y="411"/>
                  </a:lnTo>
                  <a:lnTo>
                    <a:pt x="892" y="444"/>
                  </a:lnTo>
                  <a:lnTo>
                    <a:pt x="892" y="470"/>
                  </a:lnTo>
                  <a:lnTo>
                    <a:pt x="887" y="501"/>
                  </a:lnTo>
                  <a:lnTo>
                    <a:pt x="882" y="527"/>
                  </a:lnTo>
                  <a:lnTo>
                    <a:pt x="876" y="553"/>
                  </a:lnTo>
                  <a:lnTo>
                    <a:pt x="871" y="579"/>
                  </a:lnTo>
                  <a:lnTo>
                    <a:pt x="860" y="605"/>
                  </a:lnTo>
                  <a:lnTo>
                    <a:pt x="855" y="631"/>
                  </a:lnTo>
                  <a:lnTo>
                    <a:pt x="839" y="652"/>
                  </a:lnTo>
                  <a:lnTo>
                    <a:pt x="828" y="678"/>
                  </a:lnTo>
                  <a:lnTo>
                    <a:pt x="812" y="699"/>
                  </a:lnTo>
                  <a:lnTo>
                    <a:pt x="796" y="720"/>
                  </a:lnTo>
                  <a:lnTo>
                    <a:pt x="780" y="741"/>
                  </a:lnTo>
                  <a:lnTo>
                    <a:pt x="759" y="762"/>
                  </a:lnTo>
                  <a:lnTo>
                    <a:pt x="743" y="777"/>
                  </a:lnTo>
                  <a:lnTo>
                    <a:pt x="722" y="793"/>
                  </a:lnTo>
                  <a:lnTo>
                    <a:pt x="700" y="809"/>
                  </a:lnTo>
                  <a:lnTo>
                    <a:pt x="679" y="824"/>
                  </a:lnTo>
                  <a:lnTo>
                    <a:pt x="651" y="835"/>
                  </a:lnTo>
                  <a:lnTo>
                    <a:pt x="630" y="845"/>
                  </a:lnTo>
                  <a:lnTo>
                    <a:pt x="609" y="856"/>
                  </a:lnTo>
                  <a:lnTo>
                    <a:pt x="582" y="866"/>
                  </a:lnTo>
                  <a:lnTo>
                    <a:pt x="555" y="871"/>
                  </a:lnTo>
                  <a:lnTo>
                    <a:pt x="529" y="876"/>
                  </a:lnTo>
                  <a:lnTo>
                    <a:pt x="497" y="882"/>
                  </a:lnTo>
                  <a:lnTo>
                    <a:pt x="470" y="887"/>
                  </a:lnTo>
                  <a:lnTo>
                    <a:pt x="417" y="887"/>
                  </a:lnTo>
                  <a:lnTo>
                    <a:pt x="390" y="882"/>
                  </a:lnTo>
                  <a:lnTo>
                    <a:pt x="363" y="876"/>
                  </a:lnTo>
                  <a:lnTo>
                    <a:pt x="331" y="871"/>
                  </a:lnTo>
                  <a:lnTo>
                    <a:pt x="305" y="866"/>
                  </a:lnTo>
                  <a:lnTo>
                    <a:pt x="283" y="856"/>
                  </a:lnTo>
                  <a:lnTo>
                    <a:pt x="257" y="845"/>
                  </a:lnTo>
                  <a:lnTo>
                    <a:pt x="235" y="835"/>
                  </a:lnTo>
                  <a:lnTo>
                    <a:pt x="208" y="824"/>
                  </a:lnTo>
                  <a:lnTo>
                    <a:pt x="192" y="809"/>
                  </a:lnTo>
                  <a:lnTo>
                    <a:pt x="165" y="793"/>
                  </a:lnTo>
                  <a:lnTo>
                    <a:pt x="144" y="777"/>
                  </a:lnTo>
                  <a:lnTo>
                    <a:pt x="128" y="762"/>
                  </a:lnTo>
                  <a:lnTo>
                    <a:pt x="112" y="741"/>
                  </a:lnTo>
                  <a:lnTo>
                    <a:pt x="90" y="720"/>
                  </a:lnTo>
                  <a:lnTo>
                    <a:pt x="80" y="699"/>
                  </a:lnTo>
                  <a:lnTo>
                    <a:pt x="64" y="678"/>
                  </a:lnTo>
                  <a:lnTo>
                    <a:pt x="48" y="652"/>
                  </a:lnTo>
                  <a:lnTo>
                    <a:pt x="37" y="631"/>
                  </a:lnTo>
                  <a:lnTo>
                    <a:pt x="32" y="605"/>
                  </a:lnTo>
                  <a:lnTo>
                    <a:pt x="21" y="579"/>
                  </a:lnTo>
                  <a:lnTo>
                    <a:pt x="10" y="553"/>
                  </a:lnTo>
                  <a:lnTo>
                    <a:pt x="5" y="527"/>
                  </a:lnTo>
                  <a:lnTo>
                    <a:pt x="5" y="501"/>
                  </a:lnTo>
                  <a:lnTo>
                    <a:pt x="0" y="470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7291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20720" y="2895480"/>
              <a:ext cx="302040" cy="303480"/>
            </a:xfrm>
            <a:custGeom>
              <a:avLst/>
              <a:gdLst/>
              <a:ahLst/>
              <a:rect l="0" t="0" r="r" b="b"/>
              <a:pathLst>
                <a:path w="839" h="843">
                  <a:moveTo>
                    <a:pt x="0" y="424"/>
                  </a:moveTo>
                  <a:lnTo>
                    <a:pt x="0" y="392"/>
                  </a:lnTo>
                  <a:lnTo>
                    <a:pt x="5" y="366"/>
                  </a:lnTo>
                  <a:lnTo>
                    <a:pt x="5" y="340"/>
                  </a:lnTo>
                  <a:lnTo>
                    <a:pt x="10" y="308"/>
                  </a:lnTo>
                  <a:lnTo>
                    <a:pt x="21" y="287"/>
                  </a:lnTo>
                  <a:lnTo>
                    <a:pt x="26" y="261"/>
                  </a:lnTo>
                  <a:lnTo>
                    <a:pt x="37" y="235"/>
                  </a:lnTo>
                  <a:lnTo>
                    <a:pt x="47" y="214"/>
                  </a:lnTo>
                  <a:lnTo>
                    <a:pt x="63" y="188"/>
                  </a:lnTo>
                  <a:lnTo>
                    <a:pt x="79" y="167"/>
                  </a:lnTo>
                  <a:lnTo>
                    <a:pt x="95" y="151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48" y="94"/>
                  </a:lnTo>
                  <a:lnTo>
                    <a:pt x="169" y="78"/>
                  </a:lnTo>
                  <a:lnTo>
                    <a:pt x="190" y="62"/>
                  </a:lnTo>
                  <a:lnTo>
                    <a:pt x="213" y="52"/>
                  </a:lnTo>
                  <a:lnTo>
                    <a:pt x="234" y="36"/>
                  </a:lnTo>
                  <a:lnTo>
                    <a:pt x="260" y="26"/>
                  </a:lnTo>
                  <a:lnTo>
                    <a:pt x="282" y="20"/>
                  </a:lnTo>
                  <a:lnTo>
                    <a:pt x="313" y="10"/>
                  </a:lnTo>
                  <a:lnTo>
                    <a:pt x="340" y="5"/>
                  </a:lnTo>
                  <a:lnTo>
                    <a:pt x="361" y="0"/>
                  </a:lnTo>
                  <a:lnTo>
                    <a:pt x="388" y="0"/>
                  </a:lnTo>
                  <a:lnTo>
                    <a:pt x="419" y="0"/>
                  </a:lnTo>
                  <a:lnTo>
                    <a:pt x="446" y="0"/>
                  </a:lnTo>
                  <a:lnTo>
                    <a:pt x="472" y="0"/>
                  </a:lnTo>
                  <a:lnTo>
                    <a:pt x="499" y="5"/>
                  </a:lnTo>
                  <a:lnTo>
                    <a:pt x="525" y="10"/>
                  </a:lnTo>
                  <a:lnTo>
                    <a:pt x="552" y="20"/>
                  </a:lnTo>
                  <a:lnTo>
                    <a:pt x="573" y="26"/>
                  </a:lnTo>
                  <a:lnTo>
                    <a:pt x="600" y="36"/>
                  </a:lnTo>
                  <a:lnTo>
                    <a:pt x="621" y="52"/>
                  </a:lnTo>
                  <a:lnTo>
                    <a:pt x="643" y="62"/>
                  </a:lnTo>
                  <a:lnTo>
                    <a:pt x="670" y="78"/>
                  </a:lnTo>
                  <a:lnTo>
                    <a:pt x="686" y="94"/>
                  </a:lnTo>
                  <a:lnTo>
                    <a:pt x="707" y="115"/>
                  </a:lnTo>
                  <a:lnTo>
                    <a:pt x="723" y="130"/>
                  </a:lnTo>
                  <a:lnTo>
                    <a:pt x="739" y="151"/>
                  </a:lnTo>
                  <a:lnTo>
                    <a:pt x="760" y="167"/>
                  </a:lnTo>
                  <a:lnTo>
                    <a:pt x="770" y="188"/>
                  </a:lnTo>
                  <a:lnTo>
                    <a:pt x="786" y="214"/>
                  </a:lnTo>
                  <a:lnTo>
                    <a:pt x="797" y="235"/>
                  </a:lnTo>
                  <a:lnTo>
                    <a:pt x="808" y="261"/>
                  </a:lnTo>
                  <a:lnTo>
                    <a:pt x="813" y="287"/>
                  </a:lnTo>
                  <a:lnTo>
                    <a:pt x="829" y="308"/>
                  </a:lnTo>
                  <a:lnTo>
                    <a:pt x="834" y="340"/>
                  </a:lnTo>
                  <a:lnTo>
                    <a:pt x="834" y="366"/>
                  </a:lnTo>
                  <a:lnTo>
                    <a:pt x="839" y="392"/>
                  </a:lnTo>
                  <a:lnTo>
                    <a:pt x="839" y="424"/>
                  </a:lnTo>
                  <a:lnTo>
                    <a:pt x="839" y="450"/>
                  </a:lnTo>
                  <a:lnTo>
                    <a:pt x="834" y="477"/>
                  </a:lnTo>
                  <a:lnTo>
                    <a:pt x="834" y="503"/>
                  </a:lnTo>
                  <a:lnTo>
                    <a:pt x="829" y="529"/>
                  </a:lnTo>
                  <a:lnTo>
                    <a:pt x="813" y="555"/>
                  </a:lnTo>
                  <a:lnTo>
                    <a:pt x="808" y="581"/>
                  </a:lnTo>
                  <a:lnTo>
                    <a:pt x="797" y="607"/>
                  </a:lnTo>
                  <a:lnTo>
                    <a:pt x="786" y="628"/>
                  </a:lnTo>
                  <a:lnTo>
                    <a:pt x="770" y="649"/>
                  </a:lnTo>
                  <a:lnTo>
                    <a:pt x="760" y="670"/>
                  </a:lnTo>
                  <a:lnTo>
                    <a:pt x="739" y="691"/>
                  </a:lnTo>
                  <a:lnTo>
                    <a:pt x="723" y="712"/>
                  </a:lnTo>
                  <a:lnTo>
                    <a:pt x="707" y="728"/>
                  </a:lnTo>
                  <a:lnTo>
                    <a:pt x="686" y="749"/>
                  </a:lnTo>
                  <a:lnTo>
                    <a:pt x="670" y="764"/>
                  </a:lnTo>
                  <a:lnTo>
                    <a:pt x="643" y="780"/>
                  </a:lnTo>
                  <a:lnTo>
                    <a:pt x="621" y="790"/>
                  </a:lnTo>
                  <a:lnTo>
                    <a:pt x="600" y="801"/>
                  </a:lnTo>
                  <a:lnTo>
                    <a:pt x="573" y="811"/>
                  </a:lnTo>
                  <a:lnTo>
                    <a:pt x="552" y="822"/>
                  </a:lnTo>
                  <a:lnTo>
                    <a:pt x="525" y="827"/>
                  </a:lnTo>
                  <a:lnTo>
                    <a:pt x="499" y="832"/>
                  </a:lnTo>
                  <a:lnTo>
                    <a:pt x="472" y="838"/>
                  </a:lnTo>
                  <a:lnTo>
                    <a:pt x="446" y="838"/>
                  </a:lnTo>
                  <a:lnTo>
                    <a:pt x="419" y="843"/>
                  </a:lnTo>
                  <a:lnTo>
                    <a:pt x="388" y="838"/>
                  </a:lnTo>
                  <a:lnTo>
                    <a:pt x="361" y="838"/>
                  </a:lnTo>
                  <a:lnTo>
                    <a:pt x="340" y="832"/>
                  </a:lnTo>
                  <a:lnTo>
                    <a:pt x="313" y="827"/>
                  </a:lnTo>
                  <a:lnTo>
                    <a:pt x="282" y="822"/>
                  </a:lnTo>
                  <a:lnTo>
                    <a:pt x="260" y="811"/>
                  </a:lnTo>
                  <a:lnTo>
                    <a:pt x="234" y="801"/>
                  </a:lnTo>
                  <a:lnTo>
                    <a:pt x="213" y="790"/>
                  </a:lnTo>
                  <a:lnTo>
                    <a:pt x="190" y="780"/>
                  </a:lnTo>
                  <a:lnTo>
                    <a:pt x="169" y="764"/>
                  </a:lnTo>
                  <a:lnTo>
                    <a:pt x="148" y="749"/>
                  </a:lnTo>
                  <a:lnTo>
                    <a:pt x="127" y="728"/>
                  </a:lnTo>
                  <a:lnTo>
                    <a:pt x="111" y="712"/>
                  </a:lnTo>
                  <a:lnTo>
                    <a:pt x="95" y="691"/>
                  </a:lnTo>
                  <a:lnTo>
                    <a:pt x="79" y="670"/>
                  </a:lnTo>
                  <a:lnTo>
                    <a:pt x="63" y="649"/>
                  </a:lnTo>
                  <a:lnTo>
                    <a:pt x="47" y="628"/>
                  </a:lnTo>
                  <a:lnTo>
                    <a:pt x="37" y="607"/>
                  </a:lnTo>
                  <a:lnTo>
                    <a:pt x="26" y="581"/>
                  </a:lnTo>
                  <a:lnTo>
                    <a:pt x="21" y="555"/>
                  </a:lnTo>
                  <a:lnTo>
                    <a:pt x="10" y="529"/>
                  </a:lnTo>
                  <a:lnTo>
                    <a:pt x="5" y="503"/>
                  </a:lnTo>
                  <a:lnTo>
                    <a:pt x="5" y="477"/>
                  </a:lnTo>
                  <a:lnTo>
                    <a:pt x="0" y="45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7593d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28640" y="2901960"/>
              <a:ext cx="284400" cy="284400"/>
            </a:xfrm>
            <a:custGeom>
              <a:avLst/>
              <a:gdLst/>
              <a:ahLst/>
              <a:rect l="0" t="0" r="r" b="b"/>
              <a:pathLst>
                <a:path w="790" h="790">
                  <a:moveTo>
                    <a:pt x="0" y="398"/>
                  </a:moveTo>
                  <a:lnTo>
                    <a:pt x="5" y="366"/>
                  </a:lnTo>
                  <a:lnTo>
                    <a:pt x="5" y="335"/>
                  </a:lnTo>
                  <a:lnTo>
                    <a:pt x="10" y="309"/>
                  </a:lnTo>
                  <a:lnTo>
                    <a:pt x="21" y="283"/>
                  </a:lnTo>
                  <a:lnTo>
                    <a:pt x="26" y="257"/>
                  </a:lnTo>
                  <a:lnTo>
                    <a:pt x="36" y="232"/>
                  </a:lnTo>
                  <a:lnTo>
                    <a:pt x="47" y="211"/>
                  </a:lnTo>
                  <a:lnTo>
                    <a:pt x="57" y="185"/>
                  </a:lnTo>
                  <a:lnTo>
                    <a:pt x="73" y="165"/>
                  </a:lnTo>
                  <a:lnTo>
                    <a:pt x="89" y="144"/>
                  </a:lnTo>
                  <a:lnTo>
                    <a:pt x="105" y="123"/>
                  </a:lnTo>
                  <a:lnTo>
                    <a:pt x="126" y="108"/>
                  </a:lnTo>
                  <a:lnTo>
                    <a:pt x="147" y="87"/>
                  </a:lnTo>
                  <a:lnTo>
                    <a:pt x="168" y="72"/>
                  </a:lnTo>
                  <a:lnTo>
                    <a:pt x="189" y="56"/>
                  </a:lnTo>
                  <a:lnTo>
                    <a:pt x="210" y="46"/>
                  </a:lnTo>
                  <a:lnTo>
                    <a:pt x="236" y="30"/>
                  </a:lnTo>
                  <a:lnTo>
                    <a:pt x="257" y="25"/>
                  </a:lnTo>
                  <a:lnTo>
                    <a:pt x="289" y="15"/>
                  </a:lnTo>
                  <a:lnTo>
                    <a:pt x="315" y="10"/>
                  </a:lnTo>
                  <a:lnTo>
                    <a:pt x="342" y="5"/>
                  </a:lnTo>
                  <a:lnTo>
                    <a:pt x="368" y="0"/>
                  </a:lnTo>
                  <a:lnTo>
                    <a:pt x="394" y="0"/>
                  </a:lnTo>
                  <a:lnTo>
                    <a:pt x="421" y="0"/>
                  </a:lnTo>
                  <a:lnTo>
                    <a:pt x="448" y="5"/>
                  </a:lnTo>
                  <a:lnTo>
                    <a:pt x="479" y="10"/>
                  </a:lnTo>
                  <a:lnTo>
                    <a:pt x="506" y="15"/>
                  </a:lnTo>
                  <a:lnTo>
                    <a:pt x="532" y="25"/>
                  </a:lnTo>
                  <a:lnTo>
                    <a:pt x="553" y="30"/>
                  </a:lnTo>
                  <a:lnTo>
                    <a:pt x="579" y="46"/>
                  </a:lnTo>
                  <a:lnTo>
                    <a:pt x="600" y="56"/>
                  </a:lnTo>
                  <a:lnTo>
                    <a:pt x="627" y="72"/>
                  </a:lnTo>
                  <a:lnTo>
                    <a:pt x="648" y="87"/>
                  </a:lnTo>
                  <a:lnTo>
                    <a:pt x="669" y="108"/>
                  </a:lnTo>
                  <a:lnTo>
                    <a:pt x="685" y="123"/>
                  </a:lnTo>
                  <a:lnTo>
                    <a:pt x="700" y="144"/>
                  </a:lnTo>
                  <a:lnTo>
                    <a:pt x="716" y="165"/>
                  </a:lnTo>
                  <a:lnTo>
                    <a:pt x="732" y="185"/>
                  </a:lnTo>
                  <a:lnTo>
                    <a:pt x="742" y="211"/>
                  </a:lnTo>
                  <a:lnTo>
                    <a:pt x="758" y="232"/>
                  </a:lnTo>
                  <a:lnTo>
                    <a:pt x="764" y="257"/>
                  </a:lnTo>
                  <a:lnTo>
                    <a:pt x="774" y="283"/>
                  </a:lnTo>
                  <a:lnTo>
                    <a:pt x="779" y="309"/>
                  </a:lnTo>
                  <a:lnTo>
                    <a:pt x="785" y="335"/>
                  </a:lnTo>
                  <a:lnTo>
                    <a:pt x="785" y="366"/>
                  </a:lnTo>
                  <a:lnTo>
                    <a:pt x="790" y="398"/>
                  </a:lnTo>
                  <a:lnTo>
                    <a:pt x="785" y="424"/>
                  </a:lnTo>
                  <a:lnTo>
                    <a:pt x="785" y="449"/>
                  </a:lnTo>
                  <a:lnTo>
                    <a:pt x="779" y="480"/>
                  </a:lnTo>
                  <a:lnTo>
                    <a:pt x="774" y="506"/>
                  </a:lnTo>
                  <a:lnTo>
                    <a:pt x="764" y="532"/>
                  </a:lnTo>
                  <a:lnTo>
                    <a:pt x="758" y="558"/>
                  </a:lnTo>
                  <a:lnTo>
                    <a:pt x="742" y="583"/>
                  </a:lnTo>
                  <a:lnTo>
                    <a:pt x="732" y="604"/>
                  </a:lnTo>
                  <a:lnTo>
                    <a:pt x="716" y="625"/>
                  </a:lnTo>
                  <a:lnTo>
                    <a:pt x="700" y="645"/>
                  </a:lnTo>
                  <a:lnTo>
                    <a:pt x="685" y="666"/>
                  </a:lnTo>
                  <a:lnTo>
                    <a:pt x="669" y="681"/>
                  </a:lnTo>
                  <a:lnTo>
                    <a:pt x="648" y="702"/>
                  </a:lnTo>
                  <a:lnTo>
                    <a:pt x="627" y="718"/>
                  </a:lnTo>
                  <a:lnTo>
                    <a:pt x="600" y="733"/>
                  </a:lnTo>
                  <a:lnTo>
                    <a:pt x="579" y="743"/>
                  </a:lnTo>
                  <a:lnTo>
                    <a:pt x="553" y="759"/>
                  </a:lnTo>
                  <a:lnTo>
                    <a:pt x="532" y="764"/>
                  </a:lnTo>
                  <a:lnTo>
                    <a:pt x="506" y="774"/>
                  </a:lnTo>
                  <a:lnTo>
                    <a:pt x="479" y="780"/>
                  </a:lnTo>
                  <a:lnTo>
                    <a:pt x="448" y="785"/>
                  </a:lnTo>
                  <a:lnTo>
                    <a:pt x="421" y="790"/>
                  </a:lnTo>
                  <a:lnTo>
                    <a:pt x="394" y="790"/>
                  </a:lnTo>
                  <a:lnTo>
                    <a:pt x="368" y="790"/>
                  </a:lnTo>
                  <a:lnTo>
                    <a:pt x="342" y="785"/>
                  </a:lnTo>
                  <a:lnTo>
                    <a:pt x="315" y="780"/>
                  </a:lnTo>
                  <a:lnTo>
                    <a:pt x="289" y="774"/>
                  </a:lnTo>
                  <a:lnTo>
                    <a:pt x="257" y="764"/>
                  </a:lnTo>
                  <a:lnTo>
                    <a:pt x="236" y="759"/>
                  </a:lnTo>
                  <a:lnTo>
                    <a:pt x="210" y="743"/>
                  </a:lnTo>
                  <a:lnTo>
                    <a:pt x="189" y="733"/>
                  </a:lnTo>
                  <a:lnTo>
                    <a:pt x="168" y="718"/>
                  </a:lnTo>
                  <a:lnTo>
                    <a:pt x="147" y="702"/>
                  </a:lnTo>
                  <a:lnTo>
                    <a:pt x="126" y="681"/>
                  </a:lnTo>
                  <a:lnTo>
                    <a:pt x="105" y="666"/>
                  </a:lnTo>
                  <a:lnTo>
                    <a:pt x="89" y="645"/>
                  </a:lnTo>
                  <a:lnTo>
                    <a:pt x="73" y="625"/>
                  </a:lnTo>
                  <a:lnTo>
                    <a:pt x="57" y="604"/>
                  </a:lnTo>
                  <a:lnTo>
                    <a:pt x="47" y="583"/>
                  </a:lnTo>
                  <a:lnTo>
                    <a:pt x="36" y="558"/>
                  </a:lnTo>
                  <a:lnTo>
                    <a:pt x="26" y="532"/>
                  </a:lnTo>
                  <a:lnTo>
                    <a:pt x="21" y="506"/>
                  </a:lnTo>
                  <a:lnTo>
                    <a:pt x="10" y="480"/>
                  </a:lnTo>
                  <a:lnTo>
                    <a:pt x="5" y="449"/>
                  </a:lnTo>
                  <a:lnTo>
                    <a:pt x="5" y="424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7799d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39800" y="2906640"/>
              <a:ext cx="265320" cy="270360"/>
            </a:xfrm>
            <a:custGeom>
              <a:avLst/>
              <a:gdLst/>
              <a:ahLst/>
              <a:rect l="0" t="0" r="r" b="b"/>
              <a:pathLst>
                <a:path w="737" h="751">
                  <a:moveTo>
                    <a:pt x="0" y="375"/>
                  </a:moveTo>
                  <a:lnTo>
                    <a:pt x="5" y="344"/>
                  </a:lnTo>
                  <a:lnTo>
                    <a:pt x="5" y="318"/>
                  </a:lnTo>
                  <a:lnTo>
                    <a:pt x="10" y="292"/>
                  </a:lnTo>
                  <a:lnTo>
                    <a:pt x="15" y="266"/>
                  </a:lnTo>
                  <a:lnTo>
                    <a:pt x="26" y="240"/>
                  </a:lnTo>
                  <a:lnTo>
                    <a:pt x="36" y="214"/>
                  </a:lnTo>
                  <a:lnTo>
                    <a:pt x="47" y="193"/>
                  </a:lnTo>
                  <a:lnTo>
                    <a:pt x="62" y="166"/>
                  </a:lnTo>
                  <a:lnTo>
                    <a:pt x="73" y="145"/>
                  </a:lnTo>
                  <a:lnTo>
                    <a:pt x="88" y="124"/>
                  </a:lnTo>
                  <a:lnTo>
                    <a:pt x="109" y="109"/>
                  </a:lnTo>
                  <a:lnTo>
                    <a:pt x="130" y="88"/>
                  </a:lnTo>
                  <a:lnTo>
                    <a:pt x="146" y="72"/>
                  </a:lnTo>
                  <a:lnTo>
                    <a:pt x="167" y="57"/>
                  </a:lnTo>
                  <a:lnTo>
                    <a:pt x="188" y="41"/>
                  </a:lnTo>
                  <a:lnTo>
                    <a:pt x="214" y="31"/>
                  </a:lnTo>
                  <a:lnTo>
                    <a:pt x="235" y="20"/>
                  </a:lnTo>
                  <a:lnTo>
                    <a:pt x="266" y="15"/>
                  </a:lnTo>
                  <a:lnTo>
                    <a:pt x="292" y="5"/>
                  </a:lnTo>
                  <a:lnTo>
                    <a:pt x="313" y="0"/>
                  </a:lnTo>
                  <a:lnTo>
                    <a:pt x="339" y="0"/>
                  </a:lnTo>
                  <a:lnTo>
                    <a:pt x="365" y="0"/>
                  </a:lnTo>
                  <a:lnTo>
                    <a:pt x="397" y="0"/>
                  </a:lnTo>
                  <a:lnTo>
                    <a:pt x="424" y="0"/>
                  </a:lnTo>
                  <a:lnTo>
                    <a:pt x="450" y="5"/>
                  </a:lnTo>
                  <a:lnTo>
                    <a:pt x="476" y="15"/>
                  </a:lnTo>
                  <a:lnTo>
                    <a:pt x="502" y="20"/>
                  </a:lnTo>
                  <a:lnTo>
                    <a:pt x="523" y="31"/>
                  </a:lnTo>
                  <a:lnTo>
                    <a:pt x="549" y="41"/>
                  </a:lnTo>
                  <a:lnTo>
                    <a:pt x="570" y="57"/>
                  </a:lnTo>
                  <a:lnTo>
                    <a:pt x="591" y="72"/>
                  </a:lnTo>
                  <a:lnTo>
                    <a:pt x="612" y="88"/>
                  </a:lnTo>
                  <a:lnTo>
                    <a:pt x="632" y="109"/>
                  </a:lnTo>
                  <a:lnTo>
                    <a:pt x="648" y="124"/>
                  </a:lnTo>
                  <a:lnTo>
                    <a:pt x="664" y="145"/>
                  </a:lnTo>
                  <a:lnTo>
                    <a:pt x="679" y="166"/>
                  </a:lnTo>
                  <a:lnTo>
                    <a:pt x="690" y="193"/>
                  </a:lnTo>
                  <a:lnTo>
                    <a:pt x="700" y="214"/>
                  </a:lnTo>
                  <a:lnTo>
                    <a:pt x="711" y="240"/>
                  </a:lnTo>
                  <a:lnTo>
                    <a:pt x="721" y="266"/>
                  </a:lnTo>
                  <a:lnTo>
                    <a:pt x="726" y="292"/>
                  </a:lnTo>
                  <a:lnTo>
                    <a:pt x="732" y="318"/>
                  </a:lnTo>
                  <a:lnTo>
                    <a:pt x="737" y="344"/>
                  </a:lnTo>
                  <a:lnTo>
                    <a:pt x="737" y="375"/>
                  </a:lnTo>
                  <a:lnTo>
                    <a:pt x="737" y="401"/>
                  </a:lnTo>
                  <a:lnTo>
                    <a:pt x="732" y="433"/>
                  </a:lnTo>
                  <a:lnTo>
                    <a:pt x="726" y="459"/>
                  </a:lnTo>
                  <a:lnTo>
                    <a:pt x="721" y="485"/>
                  </a:lnTo>
                  <a:lnTo>
                    <a:pt x="711" y="511"/>
                  </a:lnTo>
                  <a:lnTo>
                    <a:pt x="700" y="532"/>
                  </a:lnTo>
                  <a:lnTo>
                    <a:pt x="690" y="558"/>
                  </a:lnTo>
                  <a:lnTo>
                    <a:pt x="679" y="579"/>
                  </a:lnTo>
                  <a:lnTo>
                    <a:pt x="664" y="605"/>
                  </a:lnTo>
                  <a:lnTo>
                    <a:pt x="648" y="621"/>
                  </a:lnTo>
                  <a:lnTo>
                    <a:pt x="632" y="642"/>
                  </a:lnTo>
                  <a:lnTo>
                    <a:pt x="612" y="657"/>
                  </a:lnTo>
                  <a:lnTo>
                    <a:pt x="591" y="673"/>
                  </a:lnTo>
                  <a:lnTo>
                    <a:pt x="570" y="689"/>
                  </a:lnTo>
                  <a:lnTo>
                    <a:pt x="549" y="704"/>
                  </a:lnTo>
                  <a:lnTo>
                    <a:pt x="523" y="720"/>
                  </a:lnTo>
                  <a:lnTo>
                    <a:pt x="502" y="730"/>
                  </a:lnTo>
                  <a:lnTo>
                    <a:pt x="476" y="736"/>
                  </a:lnTo>
                  <a:lnTo>
                    <a:pt x="450" y="741"/>
                  </a:lnTo>
                  <a:lnTo>
                    <a:pt x="424" y="746"/>
                  </a:lnTo>
                  <a:lnTo>
                    <a:pt x="397" y="751"/>
                  </a:lnTo>
                  <a:lnTo>
                    <a:pt x="365" y="751"/>
                  </a:lnTo>
                  <a:lnTo>
                    <a:pt x="339" y="751"/>
                  </a:lnTo>
                  <a:lnTo>
                    <a:pt x="313" y="746"/>
                  </a:lnTo>
                  <a:lnTo>
                    <a:pt x="292" y="741"/>
                  </a:lnTo>
                  <a:lnTo>
                    <a:pt x="266" y="736"/>
                  </a:lnTo>
                  <a:lnTo>
                    <a:pt x="235" y="730"/>
                  </a:lnTo>
                  <a:lnTo>
                    <a:pt x="214" y="720"/>
                  </a:lnTo>
                  <a:lnTo>
                    <a:pt x="188" y="704"/>
                  </a:lnTo>
                  <a:lnTo>
                    <a:pt x="167" y="689"/>
                  </a:lnTo>
                  <a:lnTo>
                    <a:pt x="146" y="673"/>
                  </a:lnTo>
                  <a:lnTo>
                    <a:pt x="130" y="657"/>
                  </a:lnTo>
                  <a:lnTo>
                    <a:pt x="109" y="642"/>
                  </a:lnTo>
                  <a:lnTo>
                    <a:pt x="88" y="621"/>
                  </a:lnTo>
                  <a:lnTo>
                    <a:pt x="73" y="605"/>
                  </a:lnTo>
                  <a:lnTo>
                    <a:pt x="62" y="579"/>
                  </a:lnTo>
                  <a:lnTo>
                    <a:pt x="47" y="558"/>
                  </a:lnTo>
                  <a:lnTo>
                    <a:pt x="36" y="532"/>
                  </a:lnTo>
                  <a:lnTo>
                    <a:pt x="26" y="511"/>
                  </a:lnTo>
                  <a:lnTo>
                    <a:pt x="15" y="485"/>
                  </a:lnTo>
                  <a:lnTo>
                    <a:pt x="10" y="459"/>
                  </a:lnTo>
                  <a:lnTo>
                    <a:pt x="5" y="433"/>
                  </a:lnTo>
                  <a:lnTo>
                    <a:pt x="5" y="40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7c9b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50960" y="2913120"/>
              <a:ext cx="244800" cy="254520"/>
            </a:xfrm>
            <a:custGeom>
              <a:avLst/>
              <a:gdLst/>
              <a:ahLst/>
              <a:rect l="0" t="0" r="r" b="b"/>
              <a:pathLst>
                <a:path w="680" h="707">
                  <a:moveTo>
                    <a:pt x="0" y="348"/>
                  </a:moveTo>
                  <a:lnTo>
                    <a:pt x="5" y="322"/>
                  </a:lnTo>
                  <a:lnTo>
                    <a:pt x="5" y="296"/>
                  </a:lnTo>
                  <a:lnTo>
                    <a:pt x="10" y="270"/>
                  </a:lnTo>
                  <a:lnTo>
                    <a:pt x="15" y="244"/>
                  </a:lnTo>
                  <a:lnTo>
                    <a:pt x="25" y="218"/>
                  </a:lnTo>
                  <a:lnTo>
                    <a:pt x="36" y="192"/>
                  </a:lnTo>
                  <a:lnTo>
                    <a:pt x="46" y="171"/>
                  </a:lnTo>
                  <a:lnTo>
                    <a:pt x="56" y="150"/>
                  </a:lnTo>
                  <a:lnTo>
                    <a:pt x="77" y="129"/>
                  </a:lnTo>
                  <a:lnTo>
                    <a:pt x="92" y="108"/>
                  </a:lnTo>
                  <a:lnTo>
                    <a:pt x="108" y="93"/>
                  </a:lnTo>
                  <a:lnTo>
                    <a:pt x="128" y="72"/>
                  </a:lnTo>
                  <a:lnTo>
                    <a:pt x="149" y="62"/>
                  </a:lnTo>
                  <a:lnTo>
                    <a:pt x="169" y="41"/>
                  </a:lnTo>
                  <a:lnTo>
                    <a:pt x="190" y="31"/>
                  </a:lnTo>
                  <a:lnTo>
                    <a:pt x="216" y="20"/>
                  </a:lnTo>
                  <a:lnTo>
                    <a:pt x="236" y="10"/>
                  </a:lnTo>
                  <a:lnTo>
                    <a:pt x="262" y="5"/>
                  </a:lnTo>
                  <a:lnTo>
                    <a:pt x="288" y="0"/>
                  </a:lnTo>
                  <a:lnTo>
                    <a:pt x="313" y="0"/>
                  </a:lnTo>
                  <a:lnTo>
                    <a:pt x="339" y="0"/>
                  </a:lnTo>
                  <a:lnTo>
                    <a:pt x="366" y="0"/>
                  </a:lnTo>
                  <a:lnTo>
                    <a:pt x="397" y="0"/>
                  </a:lnTo>
                  <a:lnTo>
                    <a:pt x="417" y="5"/>
                  </a:lnTo>
                  <a:lnTo>
                    <a:pt x="443" y="10"/>
                  </a:lnTo>
                  <a:lnTo>
                    <a:pt x="469" y="20"/>
                  </a:lnTo>
                  <a:lnTo>
                    <a:pt x="489" y="31"/>
                  </a:lnTo>
                  <a:lnTo>
                    <a:pt x="510" y="41"/>
                  </a:lnTo>
                  <a:lnTo>
                    <a:pt x="530" y="62"/>
                  </a:lnTo>
                  <a:lnTo>
                    <a:pt x="551" y="72"/>
                  </a:lnTo>
                  <a:lnTo>
                    <a:pt x="572" y="93"/>
                  </a:lnTo>
                  <a:lnTo>
                    <a:pt x="592" y="108"/>
                  </a:lnTo>
                  <a:lnTo>
                    <a:pt x="608" y="129"/>
                  </a:lnTo>
                  <a:lnTo>
                    <a:pt x="623" y="150"/>
                  </a:lnTo>
                  <a:lnTo>
                    <a:pt x="633" y="171"/>
                  </a:lnTo>
                  <a:lnTo>
                    <a:pt x="644" y="192"/>
                  </a:lnTo>
                  <a:lnTo>
                    <a:pt x="654" y="218"/>
                  </a:lnTo>
                  <a:lnTo>
                    <a:pt x="664" y="244"/>
                  </a:lnTo>
                  <a:lnTo>
                    <a:pt x="669" y="270"/>
                  </a:lnTo>
                  <a:lnTo>
                    <a:pt x="674" y="296"/>
                  </a:lnTo>
                  <a:lnTo>
                    <a:pt x="680" y="322"/>
                  </a:lnTo>
                  <a:lnTo>
                    <a:pt x="680" y="348"/>
                  </a:lnTo>
                  <a:lnTo>
                    <a:pt x="680" y="379"/>
                  </a:lnTo>
                  <a:lnTo>
                    <a:pt x="674" y="405"/>
                  </a:lnTo>
                  <a:lnTo>
                    <a:pt x="669" y="436"/>
                  </a:lnTo>
                  <a:lnTo>
                    <a:pt x="664" y="457"/>
                  </a:lnTo>
                  <a:lnTo>
                    <a:pt x="654" y="483"/>
                  </a:lnTo>
                  <a:lnTo>
                    <a:pt x="644" y="509"/>
                  </a:lnTo>
                  <a:lnTo>
                    <a:pt x="633" y="531"/>
                  </a:lnTo>
                  <a:lnTo>
                    <a:pt x="623" y="557"/>
                  </a:lnTo>
                  <a:lnTo>
                    <a:pt x="608" y="572"/>
                  </a:lnTo>
                  <a:lnTo>
                    <a:pt x="592" y="593"/>
                  </a:lnTo>
                  <a:lnTo>
                    <a:pt x="572" y="614"/>
                  </a:lnTo>
                  <a:lnTo>
                    <a:pt x="551" y="629"/>
                  </a:lnTo>
                  <a:lnTo>
                    <a:pt x="530" y="645"/>
                  </a:lnTo>
                  <a:lnTo>
                    <a:pt x="510" y="655"/>
                  </a:lnTo>
                  <a:lnTo>
                    <a:pt x="489" y="671"/>
                  </a:lnTo>
                  <a:lnTo>
                    <a:pt x="469" y="681"/>
                  </a:lnTo>
                  <a:lnTo>
                    <a:pt x="443" y="691"/>
                  </a:lnTo>
                  <a:lnTo>
                    <a:pt x="417" y="697"/>
                  </a:lnTo>
                  <a:lnTo>
                    <a:pt x="397" y="702"/>
                  </a:lnTo>
                  <a:lnTo>
                    <a:pt x="366" y="707"/>
                  </a:lnTo>
                  <a:lnTo>
                    <a:pt x="339" y="707"/>
                  </a:lnTo>
                  <a:lnTo>
                    <a:pt x="313" y="707"/>
                  </a:lnTo>
                  <a:lnTo>
                    <a:pt x="288" y="702"/>
                  </a:lnTo>
                  <a:lnTo>
                    <a:pt x="262" y="697"/>
                  </a:lnTo>
                  <a:lnTo>
                    <a:pt x="236" y="691"/>
                  </a:lnTo>
                  <a:lnTo>
                    <a:pt x="216" y="681"/>
                  </a:lnTo>
                  <a:lnTo>
                    <a:pt x="190" y="671"/>
                  </a:lnTo>
                  <a:lnTo>
                    <a:pt x="169" y="655"/>
                  </a:lnTo>
                  <a:lnTo>
                    <a:pt x="149" y="645"/>
                  </a:lnTo>
                  <a:lnTo>
                    <a:pt x="128" y="629"/>
                  </a:lnTo>
                  <a:lnTo>
                    <a:pt x="108" y="614"/>
                  </a:lnTo>
                  <a:lnTo>
                    <a:pt x="92" y="593"/>
                  </a:lnTo>
                  <a:lnTo>
                    <a:pt x="77" y="572"/>
                  </a:lnTo>
                  <a:lnTo>
                    <a:pt x="56" y="557"/>
                  </a:lnTo>
                  <a:lnTo>
                    <a:pt x="46" y="531"/>
                  </a:lnTo>
                  <a:lnTo>
                    <a:pt x="36" y="509"/>
                  </a:lnTo>
                  <a:lnTo>
                    <a:pt x="25" y="483"/>
                  </a:lnTo>
                  <a:lnTo>
                    <a:pt x="15" y="457"/>
                  </a:lnTo>
                  <a:lnTo>
                    <a:pt x="10" y="436"/>
                  </a:lnTo>
                  <a:lnTo>
                    <a:pt x="5" y="405"/>
                  </a:lnTo>
                  <a:lnTo>
                    <a:pt x="5" y="379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7f9e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60680" y="2917800"/>
              <a:ext cx="228960" cy="236880"/>
            </a:xfrm>
            <a:custGeom>
              <a:avLst/>
              <a:gdLst/>
              <a:ahLst/>
              <a:rect l="0" t="0" r="r" b="b"/>
              <a:pathLst>
                <a:path w="636" h="658">
                  <a:moveTo>
                    <a:pt x="0" y="328"/>
                  </a:moveTo>
                  <a:lnTo>
                    <a:pt x="0" y="297"/>
                  </a:lnTo>
                  <a:lnTo>
                    <a:pt x="5" y="272"/>
                  </a:lnTo>
                  <a:lnTo>
                    <a:pt x="10" y="246"/>
                  </a:lnTo>
                  <a:lnTo>
                    <a:pt x="15" y="220"/>
                  </a:lnTo>
                  <a:lnTo>
                    <a:pt x="25" y="189"/>
                  </a:lnTo>
                  <a:lnTo>
                    <a:pt x="36" y="169"/>
                  </a:lnTo>
                  <a:lnTo>
                    <a:pt x="51" y="143"/>
                  </a:lnTo>
                  <a:lnTo>
                    <a:pt x="67" y="123"/>
                  </a:lnTo>
                  <a:lnTo>
                    <a:pt x="82" y="102"/>
                  </a:lnTo>
                  <a:lnTo>
                    <a:pt x="103" y="87"/>
                  </a:lnTo>
                  <a:lnTo>
                    <a:pt x="123" y="71"/>
                  </a:lnTo>
                  <a:lnTo>
                    <a:pt x="144" y="56"/>
                  </a:lnTo>
                  <a:lnTo>
                    <a:pt x="165" y="35"/>
                  </a:lnTo>
                  <a:lnTo>
                    <a:pt x="185" y="25"/>
                  </a:lnTo>
                  <a:lnTo>
                    <a:pt x="211" y="15"/>
                  </a:lnTo>
                  <a:lnTo>
                    <a:pt x="237" y="10"/>
                  </a:lnTo>
                  <a:lnTo>
                    <a:pt x="263" y="5"/>
                  </a:lnTo>
                  <a:lnTo>
                    <a:pt x="289" y="0"/>
                  </a:lnTo>
                  <a:lnTo>
                    <a:pt x="314" y="0"/>
                  </a:lnTo>
                  <a:lnTo>
                    <a:pt x="346" y="0"/>
                  </a:lnTo>
                  <a:lnTo>
                    <a:pt x="377" y="5"/>
                  </a:lnTo>
                  <a:lnTo>
                    <a:pt x="398" y="10"/>
                  </a:lnTo>
                  <a:lnTo>
                    <a:pt x="424" y="15"/>
                  </a:lnTo>
                  <a:lnTo>
                    <a:pt x="450" y="25"/>
                  </a:lnTo>
                  <a:lnTo>
                    <a:pt x="470" y="35"/>
                  </a:lnTo>
                  <a:lnTo>
                    <a:pt x="496" y="56"/>
                  </a:lnTo>
                  <a:lnTo>
                    <a:pt x="517" y="71"/>
                  </a:lnTo>
                  <a:lnTo>
                    <a:pt x="537" y="87"/>
                  </a:lnTo>
                  <a:lnTo>
                    <a:pt x="553" y="102"/>
                  </a:lnTo>
                  <a:lnTo>
                    <a:pt x="568" y="123"/>
                  </a:lnTo>
                  <a:lnTo>
                    <a:pt x="584" y="143"/>
                  </a:lnTo>
                  <a:lnTo>
                    <a:pt x="599" y="169"/>
                  </a:lnTo>
                  <a:lnTo>
                    <a:pt x="610" y="189"/>
                  </a:lnTo>
                  <a:lnTo>
                    <a:pt x="620" y="220"/>
                  </a:lnTo>
                  <a:lnTo>
                    <a:pt x="625" y="246"/>
                  </a:lnTo>
                  <a:lnTo>
                    <a:pt x="630" y="272"/>
                  </a:lnTo>
                  <a:lnTo>
                    <a:pt x="636" y="297"/>
                  </a:lnTo>
                  <a:lnTo>
                    <a:pt x="636" y="328"/>
                  </a:lnTo>
                  <a:lnTo>
                    <a:pt x="636" y="360"/>
                  </a:lnTo>
                  <a:lnTo>
                    <a:pt x="630" y="385"/>
                  </a:lnTo>
                  <a:lnTo>
                    <a:pt x="625" y="411"/>
                  </a:lnTo>
                  <a:lnTo>
                    <a:pt x="620" y="437"/>
                  </a:lnTo>
                  <a:lnTo>
                    <a:pt x="610" y="462"/>
                  </a:lnTo>
                  <a:lnTo>
                    <a:pt x="599" y="488"/>
                  </a:lnTo>
                  <a:lnTo>
                    <a:pt x="584" y="514"/>
                  </a:lnTo>
                  <a:lnTo>
                    <a:pt x="568" y="534"/>
                  </a:lnTo>
                  <a:lnTo>
                    <a:pt x="553" y="555"/>
                  </a:lnTo>
                  <a:lnTo>
                    <a:pt x="537" y="570"/>
                  </a:lnTo>
                  <a:lnTo>
                    <a:pt x="517" y="586"/>
                  </a:lnTo>
                  <a:lnTo>
                    <a:pt x="496" y="601"/>
                  </a:lnTo>
                  <a:lnTo>
                    <a:pt x="470" y="616"/>
                  </a:lnTo>
                  <a:lnTo>
                    <a:pt x="450" y="627"/>
                  </a:lnTo>
                  <a:lnTo>
                    <a:pt x="424" y="637"/>
                  </a:lnTo>
                  <a:lnTo>
                    <a:pt x="398" y="647"/>
                  </a:lnTo>
                  <a:lnTo>
                    <a:pt x="377" y="652"/>
                  </a:lnTo>
                  <a:lnTo>
                    <a:pt x="346" y="652"/>
                  </a:lnTo>
                  <a:lnTo>
                    <a:pt x="314" y="658"/>
                  </a:lnTo>
                  <a:lnTo>
                    <a:pt x="289" y="652"/>
                  </a:lnTo>
                  <a:lnTo>
                    <a:pt x="263" y="652"/>
                  </a:lnTo>
                  <a:lnTo>
                    <a:pt x="237" y="647"/>
                  </a:lnTo>
                  <a:lnTo>
                    <a:pt x="211" y="637"/>
                  </a:lnTo>
                  <a:lnTo>
                    <a:pt x="185" y="627"/>
                  </a:lnTo>
                  <a:lnTo>
                    <a:pt x="165" y="616"/>
                  </a:lnTo>
                  <a:lnTo>
                    <a:pt x="144" y="601"/>
                  </a:lnTo>
                  <a:lnTo>
                    <a:pt x="123" y="586"/>
                  </a:lnTo>
                  <a:lnTo>
                    <a:pt x="103" y="570"/>
                  </a:lnTo>
                  <a:lnTo>
                    <a:pt x="82" y="555"/>
                  </a:lnTo>
                  <a:lnTo>
                    <a:pt x="67" y="534"/>
                  </a:lnTo>
                  <a:lnTo>
                    <a:pt x="51" y="514"/>
                  </a:lnTo>
                  <a:lnTo>
                    <a:pt x="36" y="488"/>
                  </a:lnTo>
                  <a:lnTo>
                    <a:pt x="25" y="462"/>
                  </a:lnTo>
                  <a:lnTo>
                    <a:pt x="15" y="437"/>
                  </a:lnTo>
                  <a:lnTo>
                    <a:pt x="10" y="411"/>
                  </a:lnTo>
                  <a:lnTo>
                    <a:pt x="5" y="385"/>
                  </a:lnTo>
                  <a:lnTo>
                    <a:pt x="0" y="36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87a3e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1480" y="2922480"/>
              <a:ext cx="208440" cy="221040"/>
            </a:xfrm>
            <a:custGeom>
              <a:avLst/>
              <a:gdLst/>
              <a:ahLst/>
              <a:rect l="0" t="0" r="r" b="b"/>
              <a:pathLst>
                <a:path w="579" h="614">
                  <a:moveTo>
                    <a:pt x="0" y="307"/>
                  </a:moveTo>
                  <a:lnTo>
                    <a:pt x="0" y="276"/>
                  </a:lnTo>
                  <a:lnTo>
                    <a:pt x="5" y="251"/>
                  </a:lnTo>
                  <a:lnTo>
                    <a:pt x="10" y="225"/>
                  </a:lnTo>
                  <a:lnTo>
                    <a:pt x="20" y="200"/>
                  </a:lnTo>
                  <a:lnTo>
                    <a:pt x="30" y="174"/>
                  </a:lnTo>
                  <a:lnTo>
                    <a:pt x="40" y="154"/>
                  </a:lnTo>
                  <a:lnTo>
                    <a:pt x="50" y="127"/>
                  </a:lnTo>
                  <a:lnTo>
                    <a:pt x="65" y="107"/>
                  </a:lnTo>
                  <a:lnTo>
                    <a:pt x="86" y="91"/>
                  </a:lnTo>
                  <a:lnTo>
                    <a:pt x="101" y="71"/>
                  </a:lnTo>
                  <a:lnTo>
                    <a:pt x="121" y="56"/>
                  </a:lnTo>
                  <a:lnTo>
                    <a:pt x="141" y="45"/>
                  </a:lnTo>
                  <a:lnTo>
                    <a:pt x="163" y="30"/>
                  </a:lnTo>
                  <a:lnTo>
                    <a:pt x="188" y="20"/>
                  </a:lnTo>
                  <a:lnTo>
                    <a:pt x="213" y="10"/>
                  </a:lnTo>
                  <a:lnTo>
                    <a:pt x="239" y="5"/>
                  </a:lnTo>
                  <a:lnTo>
                    <a:pt x="259" y="0"/>
                  </a:lnTo>
                  <a:lnTo>
                    <a:pt x="289" y="0"/>
                  </a:lnTo>
                  <a:lnTo>
                    <a:pt x="315" y="0"/>
                  </a:lnTo>
                  <a:lnTo>
                    <a:pt x="345" y="5"/>
                  </a:lnTo>
                  <a:lnTo>
                    <a:pt x="365" y="10"/>
                  </a:lnTo>
                  <a:lnTo>
                    <a:pt x="391" y="20"/>
                  </a:lnTo>
                  <a:lnTo>
                    <a:pt x="416" y="30"/>
                  </a:lnTo>
                  <a:lnTo>
                    <a:pt x="437" y="45"/>
                  </a:lnTo>
                  <a:lnTo>
                    <a:pt x="458" y="56"/>
                  </a:lnTo>
                  <a:lnTo>
                    <a:pt x="478" y="71"/>
                  </a:lnTo>
                  <a:lnTo>
                    <a:pt x="493" y="91"/>
                  </a:lnTo>
                  <a:lnTo>
                    <a:pt x="513" y="107"/>
                  </a:lnTo>
                  <a:lnTo>
                    <a:pt x="529" y="127"/>
                  </a:lnTo>
                  <a:lnTo>
                    <a:pt x="544" y="154"/>
                  </a:lnTo>
                  <a:lnTo>
                    <a:pt x="554" y="174"/>
                  </a:lnTo>
                  <a:lnTo>
                    <a:pt x="564" y="200"/>
                  </a:lnTo>
                  <a:lnTo>
                    <a:pt x="569" y="225"/>
                  </a:lnTo>
                  <a:lnTo>
                    <a:pt x="574" y="251"/>
                  </a:lnTo>
                  <a:lnTo>
                    <a:pt x="579" y="276"/>
                  </a:lnTo>
                  <a:lnTo>
                    <a:pt x="579" y="307"/>
                  </a:lnTo>
                  <a:lnTo>
                    <a:pt x="579" y="333"/>
                  </a:lnTo>
                  <a:lnTo>
                    <a:pt x="574" y="363"/>
                  </a:lnTo>
                  <a:lnTo>
                    <a:pt x="569" y="389"/>
                  </a:lnTo>
                  <a:lnTo>
                    <a:pt x="564" y="414"/>
                  </a:lnTo>
                  <a:lnTo>
                    <a:pt x="554" y="440"/>
                  </a:lnTo>
                  <a:lnTo>
                    <a:pt x="544" y="461"/>
                  </a:lnTo>
                  <a:lnTo>
                    <a:pt x="529" y="487"/>
                  </a:lnTo>
                  <a:lnTo>
                    <a:pt x="513" y="507"/>
                  </a:lnTo>
                  <a:lnTo>
                    <a:pt x="493" y="528"/>
                  </a:lnTo>
                  <a:lnTo>
                    <a:pt x="478" y="543"/>
                  </a:lnTo>
                  <a:lnTo>
                    <a:pt x="458" y="558"/>
                  </a:lnTo>
                  <a:lnTo>
                    <a:pt x="437" y="574"/>
                  </a:lnTo>
                  <a:lnTo>
                    <a:pt x="416" y="584"/>
                  </a:lnTo>
                  <a:lnTo>
                    <a:pt x="391" y="594"/>
                  </a:lnTo>
                  <a:lnTo>
                    <a:pt x="365" y="604"/>
                  </a:lnTo>
                  <a:lnTo>
                    <a:pt x="345" y="609"/>
                  </a:lnTo>
                  <a:lnTo>
                    <a:pt x="315" y="609"/>
                  </a:lnTo>
                  <a:lnTo>
                    <a:pt x="289" y="614"/>
                  </a:lnTo>
                  <a:lnTo>
                    <a:pt x="259" y="609"/>
                  </a:lnTo>
                  <a:lnTo>
                    <a:pt x="239" y="609"/>
                  </a:lnTo>
                  <a:lnTo>
                    <a:pt x="213" y="604"/>
                  </a:lnTo>
                  <a:lnTo>
                    <a:pt x="188" y="594"/>
                  </a:lnTo>
                  <a:lnTo>
                    <a:pt x="163" y="584"/>
                  </a:lnTo>
                  <a:lnTo>
                    <a:pt x="141" y="574"/>
                  </a:lnTo>
                  <a:lnTo>
                    <a:pt x="121" y="558"/>
                  </a:lnTo>
                  <a:lnTo>
                    <a:pt x="101" y="543"/>
                  </a:lnTo>
                  <a:lnTo>
                    <a:pt x="86" y="528"/>
                  </a:lnTo>
                  <a:lnTo>
                    <a:pt x="65" y="507"/>
                  </a:lnTo>
                  <a:lnTo>
                    <a:pt x="50" y="487"/>
                  </a:lnTo>
                  <a:lnTo>
                    <a:pt x="40" y="461"/>
                  </a:lnTo>
                  <a:lnTo>
                    <a:pt x="30" y="440"/>
                  </a:lnTo>
                  <a:lnTo>
                    <a:pt x="20" y="414"/>
                  </a:lnTo>
                  <a:lnTo>
                    <a:pt x="10" y="389"/>
                  </a:lnTo>
                  <a:lnTo>
                    <a:pt x="5" y="363"/>
                  </a:lnTo>
                  <a:lnTo>
                    <a:pt x="0" y="333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89a8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81200" y="2927520"/>
              <a:ext cx="190800" cy="205200"/>
            </a:xfrm>
            <a:custGeom>
              <a:avLst/>
              <a:gdLst/>
              <a:ahLst/>
              <a:rect l="0" t="0" r="r" b="b"/>
              <a:pathLst>
                <a:path w="530" h="570">
                  <a:moveTo>
                    <a:pt x="0" y="287"/>
                  </a:moveTo>
                  <a:lnTo>
                    <a:pt x="0" y="257"/>
                  </a:lnTo>
                  <a:lnTo>
                    <a:pt x="5" y="231"/>
                  </a:lnTo>
                  <a:lnTo>
                    <a:pt x="10" y="205"/>
                  </a:lnTo>
                  <a:lnTo>
                    <a:pt x="20" y="180"/>
                  </a:lnTo>
                  <a:lnTo>
                    <a:pt x="25" y="154"/>
                  </a:lnTo>
                  <a:lnTo>
                    <a:pt x="40" y="133"/>
                  </a:lnTo>
                  <a:lnTo>
                    <a:pt x="55" y="112"/>
                  </a:lnTo>
                  <a:lnTo>
                    <a:pt x="70" y="92"/>
                  </a:lnTo>
                  <a:lnTo>
                    <a:pt x="85" y="76"/>
                  </a:lnTo>
                  <a:lnTo>
                    <a:pt x="100" y="56"/>
                  </a:lnTo>
                  <a:lnTo>
                    <a:pt x="120" y="46"/>
                  </a:lnTo>
                  <a:lnTo>
                    <a:pt x="141" y="30"/>
                  </a:lnTo>
                  <a:lnTo>
                    <a:pt x="166" y="20"/>
                  </a:lnTo>
                  <a:lnTo>
                    <a:pt x="191" y="10"/>
                  </a:lnTo>
                  <a:lnTo>
                    <a:pt x="211" y="5"/>
                  </a:lnTo>
                  <a:lnTo>
                    <a:pt x="236" y="0"/>
                  </a:lnTo>
                  <a:lnTo>
                    <a:pt x="262" y="0"/>
                  </a:lnTo>
                  <a:lnTo>
                    <a:pt x="288" y="0"/>
                  </a:lnTo>
                  <a:lnTo>
                    <a:pt x="318" y="5"/>
                  </a:lnTo>
                  <a:lnTo>
                    <a:pt x="338" y="10"/>
                  </a:lnTo>
                  <a:lnTo>
                    <a:pt x="363" y="20"/>
                  </a:lnTo>
                  <a:lnTo>
                    <a:pt x="389" y="30"/>
                  </a:lnTo>
                  <a:lnTo>
                    <a:pt x="404" y="46"/>
                  </a:lnTo>
                  <a:lnTo>
                    <a:pt x="424" y="56"/>
                  </a:lnTo>
                  <a:lnTo>
                    <a:pt x="444" y="76"/>
                  </a:lnTo>
                  <a:lnTo>
                    <a:pt x="459" y="92"/>
                  </a:lnTo>
                  <a:lnTo>
                    <a:pt x="479" y="112"/>
                  </a:lnTo>
                  <a:lnTo>
                    <a:pt x="489" y="133"/>
                  </a:lnTo>
                  <a:lnTo>
                    <a:pt x="504" y="154"/>
                  </a:lnTo>
                  <a:lnTo>
                    <a:pt x="515" y="180"/>
                  </a:lnTo>
                  <a:lnTo>
                    <a:pt x="520" y="205"/>
                  </a:lnTo>
                  <a:lnTo>
                    <a:pt x="525" y="231"/>
                  </a:lnTo>
                  <a:lnTo>
                    <a:pt x="530" y="257"/>
                  </a:lnTo>
                  <a:lnTo>
                    <a:pt x="530" y="287"/>
                  </a:lnTo>
                  <a:lnTo>
                    <a:pt x="530" y="313"/>
                  </a:lnTo>
                  <a:lnTo>
                    <a:pt x="525" y="344"/>
                  </a:lnTo>
                  <a:lnTo>
                    <a:pt x="520" y="364"/>
                  </a:lnTo>
                  <a:lnTo>
                    <a:pt x="515" y="390"/>
                  </a:lnTo>
                  <a:lnTo>
                    <a:pt x="504" y="416"/>
                  </a:lnTo>
                  <a:lnTo>
                    <a:pt x="489" y="437"/>
                  </a:lnTo>
                  <a:lnTo>
                    <a:pt x="479" y="458"/>
                  </a:lnTo>
                  <a:lnTo>
                    <a:pt x="459" y="483"/>
                  </a:lnTo>
                  <a:lnTo>
                    <a:pt x="444" y="499"/>
                  </a:lnTo>
                  <a:lnTo>
                    <a:pt x="424" y="514"/>
                  </a:lnTo>
                  <a:lnTo>
                    <a:pt x="404" y="529"/>
                  </a:lnTo>
                  <a:lnTo>
                    <a:pt x="389" y="540"/>
                  </a:lnTo>
                  <a:lnTo>
                    <a:pt x="363" y="550"/>
                  </a:lnTo>
                  <a:lnTo>
                    <a:pt x="338" y="560"/>
                  </a:lnTo>
                  <a:lnTo>
                    <a:pt x="318" y="565"/>
                  </a:lnTo>
                  <a:lnTo>
                    <a:pt x="288" y="570"/>
                  </a:lnTo>
                  <a:lnTo>
                    <a:pt x="262" y="570"/>
                  </a:lnTo>
                  <a:lnTo>
                    <a:pt x="236" y="570"/>
                  </a:lnTo>
                  <a:lnTo>
                    <a:pt x="211" y="565"/>
                  </a:lnTo>
                  <a:lnTo>
                    <a:pt x="191" y="560"/>
                  </a:lnTo>
                  <a:lnTo>
                    <a:pt x="166" y="550"/>
                  </a:lnTo>
                  <a:lnTo>
                    <a:pt x="141" y="540"/>
                  </a:lnTo>
                  <a:lnTo>
                    <a:pt x="120" y="529"/>
                  </a:lnTo>
                  <a:lnTo>
                    <a:pt x="100" y="514"/>
                  </a:lnTo>
                  <a:lnTo>
                    <a:pt x="85" y="499"/>
                  </a:lnTo>
                  <a:lnTo>
                    <a:pt x="70" y="483"/>
                  </a:lnTo>
                  <a:lnTo>
                    <a:pt x="55" y="458"/>
                  </a:lnTo>
                  <a:lnTo>
                    <a:pt x="40" y="437"/>
                  </a:lnTo>
                  <a:lnTo>
                    <a:pt x="25" y="416"/>
                  </a:lnTo>
                  <a:lnTo>
                    <a:pt x="20" y="390"/>
                  </a:lnTo>
                  <a:lnTo>
                    <a:pt x="10" y="364"/>
                  </a:lnTo>
                  <a:lnTo>
                    <a:pt x="5" y="344"/>
                  </a:lnTo>
                  <a:lnTo>
                    <a:pt x="0" y="313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8caa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89120" y="2928960"/>
              <a:ext cx="174960" cy="190800"/>
            </a:xfrm>
            <a:custGeom>
              <a:avLst/>
              <a:gdLst/>
              <a:ahLst/>
              <a:rect l="0" t="0" r="r" b="b"/>
              <a:pathLst>
                <a:path w="486" h="530">
                  <a:moveTo>
                    <a:pt x="0" y="268"/>
                  </a:moveTo>
                  <a:lnTo>
                    <a:pt x="0" y="236"/>
                  </a:lnTo>
                  <a:lnTo>
                    <a:pt x="5" y="210"/>
                  </a:lnTo>
                  <a:lnTo>
                    <a:pt x="10" y="184"/>
                  </a:lnTo>
                  <a:lnTo>
                    <a:pt x="20" y="154"/>
                  </a:lnTo>
                  <a:lnTo>
                    <a:pt x="30" y="133"/>
                  </a:lnTo>
                  <a:lnTo>
                    <a:pt x="45" y="107"/>
                  </a:lnTo>
                  <a:lnTo>
                    <a:pt x="60" y="87"/>
                  </a:lnTo>
                  <a:lnTo>
                    <a:pt x="80" y="71"/>
                  </a:lnTo>
                  <a:lnTo>
                    <a:pt x="96" y="56"/>
                  </a:lnTo>
                  <a:lnTo>
                    <a:pt x="116" y="41"/>
                  </a:lnTo>
                  <a:lnTo>
                    <a:pt x="141" y="25"/>
                  </a:lnTo>
                  <a:lnTo>
                    <a:pt x="166" y="15"/>
                  </a:lnTo>
                  <a:lnTo>
                    <a:pt x="192" y="10"/>
                  </a:lnTo>
                  <a:lnTo>
                    <a:pt x="212" y="5"/>
                  </a:lnTo>
                  <a:lnTo>
                    <a:pt x="242" y="0"/>
                  </a:lnTo>
                  <a:lnTo>
                    <a:pt x="268" y="5"/>
                  </a:lnTo>
                  <a:lnTo>
                    <a:pt x="299" y="10"/>
                  </a:lnTo>
                  <a:lnTo>
                    <a:pt x="319" y="15"/>
                  </a:lnTo>
                  <a:lnTo>
                    <a:pt x="344" y="25"/>
                  </a:lnTo>
                  <a:lnTo>
                    <a:pt x="369" y="41"/>
                  </a:lnTo>
                  <a:lnTo>
                    <a:pt x="390" y="56"/>
                  </a:lnTo>
                  <a:lnTo>
                    <a:pt x="405" y="71"/>
                  </a:lnTo>
                  <a:lnTo>
                    <a:pt x="425" y="87"/>
                  </a:lnTo>
                  <a:lnTo>
                    <a:pt x="440" y="107"/>
                  </a:lnTo>
                  <a:lnTo>
                    <a:pt x="455" y="133"/>
                  </a:lnTo>
                  <a:lnTo>
                    <a:pt x="465" y="154"/>
                  </a:lnTo>
                  <a:lnTo>
                    <a:pt x="475" y="184"/>
                  </a:lnTo>
                  <a:lnTo>
                    <a:pt x="481" y="210"/>
                  </a:lnTo>
                  <a:lnTo>
                    <a:pt x="486" y="236"/>
                  </a:lnTo>
                  <a:lnTo>
                    <a:pt x="486" y="268"/>
                  </a:lnTo>
                  <a:lnTo>
                    <a:pt x="486" y="293"/>
                  </a:lnTo>
                  <a:lnTo>
                    <a:pt x="481" y="324"/>
                  </a:lnTo>
                  <a:lnTo>
                    <a:pt x="475" y="355"/>
                  </a:lnTo>
                  <a:lnTo>
                    <a:pt x="465" y="376"/>
                  </a:lnTo>
                  <a:lnTo>
                    <a:pt x="455" y="401"/>
                  </a:lnTo>
                  <a:lnTo>
                    <a:pt x="440" y="427"/>
                  </a:lnTo>
                  <a:lnTo>
                    <a:pt x="425" y="442"/>
                  </a:lnTo>
                  <a:lnTo>
                    <a:pt x="405" y="463"/>
                  </a:lnTo>
                  <a:lnTo>
                    <a:pt x="390" y="483"/>
                  </a:lnTo>
                  <a:lnTo>
                    <a:pt x="369" y="499"/>
                  </a:lnTo>
                  <a:lnTo>
                    <a:pt x="344" y="509"/>
                  </a:lnTo>
                  <a:lnTo>
                    <a:pt x="319" y="519"/>
                  </a:lnTo>
                  <a:lnTo>
                    <a:pt x="299" y="525"/>
                  </a:lnTo>
                  <a:lnTo>
                    <a:pt x="268" y="530"/>
                  </a:lnTo>
                  <a:lnTo>
                    <a:pt x="242" y="530"/>
                  </a:lnTo>
                  <a:lnTo>
                    <a:pt x="212" y="530"/>
                  </a:lnTo>
                  <a:lnTo>
                    <a:pt x="192" y="525"/>
                  </a:lnTo>
                  <a:lnTo>
                    <a:pt x="166" y="519"/>
                  </a:lnTo>
                  <a:lnTo>
                    <a:pt x="141" y="509"/>
                  </a:lnTo>
                  <a:lnTo>
                    <a:pt x="116" y="499"/>
                  </a:lnTo>
                  <a:lnTo>
                    <a:pt x="96" y="483"/>
                  </a:lnTo>
                  <a:lnTo>
                    <a:pt x="80" y="463"/>
                  </a:lnTo>
                  <a:lnTo>
                    <a:pt x="60" y="442"/>
                  </a:lnTo>
                  <a:lnTo>
                    <a:pt x="45" y="427"/>
                  </a:lnTo>
                  <a:lnTo>
                    <a:pt x="30" y="401"/>
                  </a:lnTo>
                  <a:lnTo>
                    <a:pt x="20" y="376"/>
                  </a:lnTo>
                  <a:lnTo>
                    <a:pt x="10" y="355"/>
                  </a:lnTo>
                  <a:lnTo>
                    <a:pt x="5" y="324"/>
                  </a:lnTo>
                  <a:lnTo>
                    <a:pt x="0" y="293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91afe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8480" y="2935440"/>
              <a:ext cx="160560" cy="174960"/>
            </a:xfrm>
            <a:custGeom>
              <a:avLst/>
              <a:gdLst/>
              <a:ahLst/>
              <a:rect l="0" t="0" r="r" b="b"/>
              <a:pathLst>
                <a:path w="446" h="486">
                  <a:moveTo>
                    <a:pt x="0" y="239"/>
                  </a:moveTo>
                  <a:lnTo>
                    <a:pt x="0" y="214"/>
                  </a:lnTo>
                  <a:lnTo>
                    <a:pt x="5" y="188"/>
                  </a:lnTo>
                  <a:lnTo>
                    <a:pt x="15" y="163"/>
                  </a:lnTo>
                  <a:lnTo>
                    <a:pt x="20" y="132"/>
                  </a:lnTo>
                  <a:lnTo>
                    <a:pt x="30" y="112"/>
                  </a:lnTo>
                  <a:lnTo>
                    <a:pt x="45" y="91"/>
                  </a:lnTo>
                  <a:lnTo>
                    <a:pt x="65" y="71"/>
                  </a:lnTo>
                  <a:lnTo>
                    <a:pt x="80" y="51"/>
                  </a:lnTo>
                  <a:lnTo>
                    <a:pt x="101" y="40"/>
                  </a:lnTo>
                  <a:lnTo>
                    <a:pt x="126" y="25"/>
                  </a:lnTo>
                  <a:lnTo>
                    <a:pt x="146" y="15"/>
                  </a:lnTo>
                  <a:lnTo>
                    <a:pt x="167" y="10"/>
                  </a:lnTo>
                  <a:lnTo>
                    <a:pt x="192" y="5"/>
                  </a:lnTo>
                  <a:lnTo>
                    <a:pt x="217" y="0"/>
                  </a:lnTo>
                  <a:lnTo>
                    <a:pt x="243" y="5"/>
                  </a:lnTo>
                  <a:lnTo>
                    <a:pt x="274" y="10"/>
                  </a:lnTo>
                  <a:lnTo>
                    <a:pt x="294" y="15"/>
                  </a:lnTo>
                  <a:lnTo>
                    <a:pt x="319" y="25"/>
                  </a:lnTo>
                  <a:lnTo>
                    <a:pt x="340" y="40"/>
                  </a:lnTo>
                  <a:lnTo>
                    <a:pt x="360" y="51"/>
                  </a:lnTo>
                  <a:lnTo>
                    <a:pt x="375" y="71"/>
                  </a:lnTo>
                  <a:lnTo>
                    <a:pt x="395" y="91"/>
                  </a:lnTo>
                  <a:lnTo>
                    <a:pt x="410" y="112"/>
                  </a:lnTo>
                  <a:lnTo>
                    <a:pt x="421" y="132"/>
                  </a:lnTo>
                  <a:lnTo>
                    <a:pt x="431" y="163"/>
                  </a:lnTo>
                  <a:lnTo>
                    <a:pt x="436" y="188"/>
                  </a:lnTo>
                  <a:lnTo>
                    <a:pt x="441" y="214"/>
                  </a:lnTo>
                  <a:lnTo>
                    <a:pt x="446" y="239"/>
                  </a:lnTo>
                  <a:lnTo>
                    <a:pt x="441" y="271"/>
                  </a:lnTo>
                  <a:lnTo>
                    <a:pt x="436" y="302"/>
                  </a:lnTo>
                  <a:lnTo>
                    <a:pt x="431" y="327"/>
                  </a:lnTo>
                  <a:lnTo>
                    <a:pt x="421" y="353"/>
                  </a:lnTo>
                  <a:lnTo>
                    <a:pt x="410" y="373"/>
                  </a:lnTo>
                  <a:lnTo>
                    <a:pt x="395" y="394"/>
                  </a:lnTo>
                  <a:lnTo>
                    <a:pt x="375" y="414"/>
                  </a:lnTo>
                  <a:lnTo>
                    <a:pt x="360" y="429"/>
                  </a:lnTo>
                  <a:lnTo>
                    <a:pt x="340" y="445"/>
                  </a:lnTo>
                  <a:lnTo>
                    <a:pt x="319" y="460"/>
                  </a:lnTo>
                  <a:lnTo>
                    <a:pt x="294" y="470"/>
                  </a:lnTo>
                  <a:lnTo>
                    <a:pt x="274" y="480"/>
                  </a:lnTo>
                  <a:lnTo>
                    <a:pt x="243" y="486"/>
                  </a:lnTo>
                  <a:lnTo>
                    <a:pt x="217" y="486"/>
                  </a:lnTo>
                  <a:lnTo>
                    <a:pt x="192" y="486"/>
                  </a:lnTo>
                  <a:lnTo>
                    <a:pt x="167" y="480"/>
                  </a:lnTo>
                  <a:lnTo>
                    <a:pt x="146" y="470"/>
                  </a:lnTo>
                  <a:lnTo>
                    <a:pt x="126" y="460"/>
                  </a:lnTo>
                  <a:lnTo>
                    <a:pt x="101" y="445"/>
                  </a:lnTo>
                  <a:lnTo>
                    <a:pt x="80" y="429"/>
                  </a:lnTo>
                  <a:lnTo>
                    <a:pt x="65" y="414"/>
                  </a:lnTo>
                  <a:lnTo>
                    <a:pt x="45" y="394"/>
                  </a:lnTo>
                  <a:lnTo>
                    <a:pt x="30" y="373"/>
                  </a:lnTo>
                  <a:lnTo>
                    <a:pt x="20" y="353"/>
                  </a:lnTo>
                  <a:lnTo>
                    <a:pt x="15" y="327"/>
                  </a:lnTo>
                  <a:lnTo>
                    <a:pt x="5" y="302"/>
                  </a:lnTo>
                  <a:lnTo>
                    <a:pt x="0" y="271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93b2e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08200" y="2941560"/>
              <a:ext cx="143280" cy="154440"/>
            </a:xfrm>
            <a:custGeom>
              <a:avLst/>
              <a:gdLst/>
              <a:ahLst/>
              <a:rect l="0" t="0" r="r" b="b"/>
              <a:pathLst>
                <a:path w="398" h="429">
                  <a:moveTo>
                    <a:pt x="0" y="214"/>
                  </a:moveTo>
                  <a:lnTo>
                    <a:pt x="0" y="185"/>
                  </a:lnTo>
                  <a:lnTo>
                    <a:pt x="5" y="160"/>
                  </a:lnTo>
                  <a:lnTo>
                    <a:pt x="10" y="135"/>
                  </a:lnTo>
                  <a:lnTo>
                    <a:pt x="20" y="110"/>
                  </a:lnTo>
                  <a:lnTo>
                    <a:pt x="35" y="89"/>
                  </a:lnTo>
                  <a:lnTo>
                    <a:pt x="45" y="69"/>
                  </a:lnTo>
                  <a:lnTo>
                    <a:pt x="65" y="49"/>
                  </a:lnTo>
                  <a:lnTo>
                    <a:pt x="85" y="34"/>
                  </a:lnTo>
                  <a:lnTo>
                    <a:pt x="106" y="24"/>
                  </a:lnTo>
                  <a:lnTo>
                    <a:pt x="126" y="9"/>
                  </a:lnTo>
                  <a:lnTo>
                    <a:pt x="146" y="4"/>
                  </a:lnTo>
                  <a:lnTo>
                    <a:pt x="171" y="0"/>
                  </a:lnTo>
                  <a:lnTo>
                    <a:pt x="196" y="0"/>
                  </a:lnTo>
                  <a:lnTo>
                    <a:pt x="222" y="0"/>
                  </a:lnTo>
                  <a:lnTo>
                    <a:pt x="247" y="4"/>
                  </a:lnTo>
                  <a:lnTo>
                    <a:pt x="267" y="9"/>
                  </a:lnTo>
                  <a:lnTo>
                    <a:pt x="292" y="24"/>
                  </a:lnTo>
                  <a:lnTo>
                    <a:pt x="313" y="34"/>
                  </a:lnTo>
                  <a:lnTo>
                    <a:pt x="328" y="49"/>
                  </a:lnTo>
                  <a:lnTo>
                    <a:pt x="348" y="69"/>
                  </a:lnTo>
                  <a:lnTo>
                    <a:pt x="358" y="89"/>
                  </a:lnTo>
                  <a:lnTo>
                    <a:pt x="373" y="110"/>
                  </a:lnTo>
                  <a:lnTo>
                    <a:pt x="383" y="135"/>
                  </a:lnTo>
                  <a:lnTo>
                    <a:pt x="388" y="160"/>
                  </a:lnTo>
                  <a:lnTo>
                    <a:pt x="393" y="185"/>
                  </a:lnTo>
                  <a:lnTo>
                    <a:pt x="398" y="214"/>
                  </a:lnTo>
                  <a:lnTo>
                    <a:pt x="393" y="239"/>
                  </a:lnTo>
                  <a:lnTo>
                    <a:pt x="388" y="264"/>
                  </a:lnTo>
                  <a:lnTo>
                    <a:pt x="383" y="294"/>
                  </a:lnTo>
                  <a:lnTo>
                    <a:pt x="373" y="314"/>
                  </a:lnTo>
                  <a:lnTo>
                    <a:pt x="358" y="335"/>
                  </a:lnTo>
                  <a:lnTo>
                    <a:pt x="348" y="360"/>
                  </a:lnTo>
                  <a:lnTo>
                    <a:pt x="328" y="375"/>
                  </a:lnTo>
                  <a:lnTo>
                    <a:pt x="313" y="389"/>
                  </a:lnTo>
                  <a:lnTo>
                    <a:pt x="292" y="404"/>
                  </a:lnTo>
                  <a:lnTo>
                    <a:pt x="267" y="414"/>
                  </a:lnTo>
                  <a:lnTo>
                    <a:pt x="247" y="419"/>
                  </a:lnTo>
                  <a:lnTo>
                    <a:pt x="222" y="429"/>
                  </a:lnTo>
                  <a:lnTo>
                    <a:pt x="196" y="429"/>
                  </a:lnTo>
                  <a:lnTo>
                    <a:pt x="171" y="429"/>
                  </a:lnTo>
                  <a:lnTo>
                    <a:pt x="146" y="419"/>
                  </a:lnTo>
                  <a:lnTo>
                    <a:pt x="126" y="414"/>
                  </a:lnTo>
                  <a:lnTo>
                    <a:pt x="106" y="404"/>
                  </a:lnTo>
                  <a:lnTo>
                    <a:pt x="85" y="389"/>
                  </a:lnTo>
                  <a:lnTo>
                    <a:pt x="65" y="375"/>
                  </a:lnTo>
                  <a:lnTo>
                    <a:pt x="45" y="360"/>
                  </a:lnTo>
                  <a:lnTo>
                    <a:pt x="35" y="335"/>
                  </a:lnTo>
                  <a:lnTo>
                    <a:pt x="20" y="314"/>
                  </a:lnTo>
                  <a:lnTo>
                    <a:pt x="10" y="294"/>
                  </a:lnTo>
                  <a:lnTo>
                    <a:pt x="5" y="264"/>
                  </a:lnTo>
                  <a:lnTo>
                    <a:pt x="0" y="23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96b5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19360" y="2948040"/>
              <a:ext cx="120960" cy="136800"/>
            </a:xfrm>
            <a:custGeom>
              <a:avLst/>
              <a:gdLst/>
              <a:ahLst/>
              <a:rect l="0" t="0" r="r" b="b"/>
              <a:pathLst>
                <a:path w="336" h="380">
                  <a:moveTo>
                    <a:pt x="0" y="187"/>
                  </a:moveTo>
                  <a:lnTo>
                    <a:pt x="0" y="162"/>
                  </a:lnTo>
                  <a:lnTo>
                    <a:pt x="4" y="132"/>
                  </a:lnTo>
                  <a:lnTo>
                    <a:pt x="14" y="108"/>
                  </a:lnTo>
                  <a:lnTo>
                    <a:pt x="24" y="83"/>
                  </a:lnTo>
                  <a:lnTo>
                    <a:pt x="38" y="64"/>
                  </a:lnTo>
                  <a:lnTo>
                    <a:pt x="58" y="44"/>
                  </a:lnTo>
                  <a:lnTo>
                    <a:pt x="77" y="29"/>
                  </a:lnTo>
                  <a:lnTo>
                    <a:pt x="97" y="14"/>
                  </a:lnTo>
                  <a:lnTo>
                    <a:pt x="116" y="4"/>
                  </a:lnTo>
                  <a:lnTo>
                    <a:pt x="140" y="0"/>
                  </a:lnTo>
                  <a:lnTo>
                    <a:pt x="165" y="0"/>
                  </a:lnTo>
                  <a:lnTo>
                    <a:pt x="190" y="0"/>
                  </a:lnTo>
                  <a:lnTo>
                    <a:pt x="219" y="4"/>
                  </a:lnTo>
                  <a:lnTo>
                    <a:pt x="243" y="14"/>
                  </a:lnTo>
                  <a:lnTo>
                    <a:pt x="263" y="29"/>
                  </a:lnTo>
                  <a:lnTo>
                    <a:pt x="282" y="44"/>
                  </a:lnTo>
                  <a:lnTo>
                    <a:pt x="297" y="64"/>
                  </a:lnTo>
                  <a:lnTo>
                    <a:pt x="311" y="83"/>
                  </a:lnTo>
                  <a:lnTo>
                    <a:pt x="321" y="108"/>
                  </a:lnTo>
                  <a:lnTo>
                    <a:pt x="331" y="132"/>
                  </a:lnTo>
                  <a:lnTo>
                    <a:pt x="336" y="162"/>
                  </a:lnTo>
                  <a:lnTo>
                    <a:pt x="336" y="187"/>
                  </a:lnTo>
                  <a:lnTo>
                    <a:pt x="336" y="217"/>
                  </a:lnTo>
                  <a:lnTo>
                    <a:pt x="331" y="242"/>
                  </a:lnTo>
                  <a:lnTo>
                    <a:pt x="321" y="271"/>
                  </a:lnTo>
                  <a:lnTo>
                    <a:pt x="311" y="296"/>
                  </a:lnTo>
                  <a:lnTo>
                    <a:pt x="297" y="316"/>
                  </a:lnTo>
                  <a:lnTo>
                    <a:pt x="282" y="335"/>
                  </a:lnTo>
                  <a:lnTo>
                    <a:pt x="263" y="350"/>
                  </a:lnTo>
                  <a:lnTo>
                    <a:pt x="243" y="365"/>
                  </a:lnTo>
                  <a:lnTo>
                    <a:pt x="219" y="370"/>
                  </a:lnTo>
                  <a:lnTo>
                    <a:pt x="190" y="380"/>
                  </a:lnTo>
                  <a:lnTo>
                    <a:pt x="165" y="380"/>
                  </a:lnTo>
                  <a:lnTo>
                    <a:pt x="140" y="380"/>
                  </a:lnTo>
                  <a:lnTo>
                    <a:pt x="116" y="370"/>
                  </a:lnTo>
                  <a:lnTo>
                    <a:pt x="97" y="365"/>
                  </a:lnTo>
                  <a:lnTo>
                    <a:pt x="77" y="350"/>
                  </a:lnTo>
                  <a:lnTo>
                    <a:pt x="58" y="335"/>
                  </a:lnTo>
                  <a:lnTo>
                    <a:pt x="38" y="316"/>
                  </a:lnTo>
                  <a:lnTo>
                    <a:pt x="24" y="296"/>
                  </a:lnTo>
                  <a:lnTo>
                    <a:pt x="14" y="271"/>
                  </a:lnTo>
                  <a:lnTo>
                    <a:pt x="4" y="242"/>
                  </a:lnTo>
                  <a:lnTo>
                    <a:pt x="0" y="21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bb7f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25480" y="2952720"/>
              <a:ext cx="109800" cy="120960"/>
            </a:xfrm>
            <a:custGeom>
              <a:avLst/>
              <a:gdLst/>
              <a:ahLst/>
              <a:rect l="0" t="0" r="r" b="b"/>
              <a:pathLst>
                <a:path w="305" h="336">
                  <a:moveTo>
                    <a:pt x="0" y="170"/>
                  </a:moveTo>
                  <a:lnTo>
                    <a:pt x="4" y="140"/>
                  </a:lnTo>
                  <a:lnTo>
                    <a:pt x="9" y="116"/>
                  </a:lnTo>
                  <a:lnTo>
                    <a:pt x="19" y="87"/>
                  </a:lnTo>
                  <a:lnTo>
                    <a:pt x="34" y="67"/>
                  </a:lnTo>
                  <a:lnTo>
                    <a:pt x="44" y="48"/>
                  </a:lnTo>
                  <a:lnTo>
                    <a:pt x="63" y="33"/>
                  </a:lnTo>
                  <a:lnTo>
                    <a:pt x="83" y="19"/>
                  </a:lnTo>
                  <a:lnTo>
                    <a:pt x="103" y="9"/>
                  </a:lnTo>
                  <a:lnTo>
                    <a:pt x="127" y="4"/>
                  </a:lnTo>
                  <a:lnTo>
                    <a:pt x="153" y="0"/>
                  </a:lnTo>
                  <a:lnTo>
                    <a:pt x="177" y="4"/>
                  </a:lnTo>
                  <a:lnTo>
                    <a:pt x="202" y="9"/>
                  </a:lnTo>
                  <a:lnTo>
                    <a:pt x="221" y="19"/>
                  </a:lnTo>
                  <a:lnTo>
                    <a:pt x="241" y="33"/>
                  </a:lnTo>
                  <a:lnTo>
                    <a:pt x="261" y="48"/>
                  </a:lnTo>
                  <a:lnTo>
                    <a:pt x="275" y="67"/>
                  </a:lnTo>
                  <a:lnTo>
                    <a:pt x="285" y="87"/>
                  </a:lnTo>
                  <a:lnTo>
                    <a:pt x="295" y="116"/>
                  </a:lnTo>
                  <a:lnTo>
                    <a:pt x="300" y="140"/>
                  </a:lnTo>
                  <a:lnTo>
                    <a:pt x="305" y="170"/>
                  </a:lnTo>
                  <a:lnTo>
                    <a:pt x="300" y="195"/>
                  </a:lnTo>
                  <a:lnTo>
                    <a:pt x="295" y="224"/>
                  </a:lnTo>
                  <a:lnTo>
                    <a:pt x="285" y="248"/>
                  </a:lnTo>
                  <a:lnTo>
                    <a:pt x="275" y="268"/>
                  </a:lnTo>
                  <a:lnTo>
                    <a:pt x="261" y="287"/>
                  </a:lnTo>
                  <a:lnTo>
                    <a:pt x="241" y="306"/>
                  </a:lnTo>
                  <a:lnTo>
                    <a:pt x="221" y="321"/>
                  </a:lnTo>
                  <a:lnTo>
                    <a:pt x="202" y="331"/>
                  </a:lnTo>
                  <a:lnTo>
                    <a:pt x="177" y="336"/>
                  </a:lnTo>
                  <a:lnTo>
                    <a:pt x="153" y="336"/>
                  </a:lnTo>
                  <a:lnTo>
                    <a:pt x="127" y="336"/>
                  </a:lnTo>
                  <a:lnTo>
                    <a:pt x="103" y="331"/>
                  </a:lnTo>
                  <a:lnTo>
                    <a:pt x="83" y="321"/>
                  </a:lnTo>
                  <a:lnTo>
                    <a:pt x="63" y="306"/>
                  </a:lnTo>
                  <a:lnTo>
                    <a:pt x="44" y="287"/>
                  </a:lnTo>
                  <a:lnTo>
                    <a:pt x="34" y="268"/>
                  </a:lnTo>
                  <a:lnTo>
                    <a:pt x="19" y="248"/>
                  </a:lnTo>
                  <a:lnTo>
                    <a:pt x="9" y="224"/>
                  </a:lnTo>
                  <a:lnTo>
                    <a:pt x="4" y="195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a0bc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55920" y="2747880"/>
              <a:ext cx="470160" cy="779760"/>
            </a:xfrm>
            <a:custGeom>
              <a:avLst/>
              <a:gdLst/>
              <a:ahLst/>
              <a:rect l="0" t="0" r="r" b="b"/>
              <a:pathLst>
                <a:path w="1306" h="2166">
                  <a:moveTo>
                    <a:pt x="745" y="2150"/>
                  </a:moveTo>
                  <a:lnTo>
                    <a:pt x="729" y="2150"/>
                  </a:lnTo>
                  <a:lnTo>
                    <a:pt x="659" y="2160"/>
                  </a:lnTo>
                  <a:lnTo>
                    <a:pt x="625" y="2166"/>
                  </a:lnTo>
                  <a:lnTo>
                    <a:pt x="669" y="1999"/>
                  </a:lnTo>
                  <a:lnTo>
                    <a:pt x="766" y="1756"/>
                  </a:lnTo>
                  <a:lnTo>
                    <a:pt x="761" y="1724"/>
                  </a:lnTo>
                  <a:lnTo>
                    <a:pt x="712" y="1627"/>
                  </a:lnTo>
                  <a:lnTo>
                    <a:pt x="691" y="1514"/>
                  </a:lnTo>
                  <a:lnTo>
                    <a:pt x="680" y="1487"/>
                  </a:lnTo>
                  <a:lnTo>
                    <a:pt x="691" y="1482"/>
                  </a:lnTo>
                  <a:lnTo>
                    <a:pt x="691" y="1444"/>
                  </a:lnTo>
                  <a:lnTo>
                    <a:pt x="766" y="1379"/>
                  </a:lnTo>
                  <a:lnTo>
                    <a:pt x="804" y="1325"/>
                  </a:lnTo>
                  <a:lnTo>
                    <a:pt x="804" y="1309"/>
                  </a:lnTo>
                  <a:lnTo>
                    <a:pt x="799" y="1309"/>
                  </a:lnTo>
                  <a:lnTo>
                    <a:pt x="766" y="1320"/>
                  </a:lnTo>
                  <a:lnTo>
                    <a:pt x="723" y="1282"/>
                  </a:lnTo>
                  <a:lnTo>
                    <a:pt x="702" y="1229"/>
                  </a:lnTo>
                  <a:lnTo>
                    <a:pt x="647" y="1218"/>
                  </a:lnTo>
                  <a:lnTo>
                    <a:pt x="614" y="1175"/>
                  </a:lnTo>
                  <a:lnTo>
                    <a:pt x="598" y="1180"/>
                  </a:lnTo>
                  <a:lnTo>
                    <a:pt x="501" y="1121"/>
                  </a:lnTo>
                  <a:lnTo>
                    <a:pt x="507" y="1105"/>
                  </a:lnTo>
                  <a:lnTo>
                    <a:pt x="474" y="969"/>
                  </a:lnTo>
                  <a:lnTo>
                    <a:pt x="463" y="958"/>
                  </a:lnTo>
                  <a:lnTo>
                    <a:pt x="458" y="1039"/>
                  </a:lnTo>
                  <a:lnTo>
                    <a:pt x="458" y="1066"/>
                  </a:lnTo>
                  <a:lnTo>
                    <a:pt x="453" y="1066"/>
                  </a:lnTo>
                  <a:lnTo>
                    <a:pt x="447" y="1039"/>
                  </a:lnTo>
                  <a:lnTo>
                    <a:pt x="431" y="980"/>
                  </a:lnTo>
                  <a:lnTo>
                    <a:pt x="447" y="991"/>
                  </a:lnTo>
                  <a:lnTo>
                    <a:pt x="436" y="883"/>
                  </a:lnTo>
                  <a:lnTo>
                    <a:pt x="415" y="845"/>
                  </a:lnTo>
                  <a:lnTo>
                    <a:pt x="409" y="840"/>
                  </a:lnTo>
                  <a:lnTo>
                    <a:pt x="404" y="807"/>
                  </a:lnTo>
                  <a:lnTo>
                    <a:pt x="388" y="737"/>
                  </a:lnTo>
                  <a:lnTo>
                    <a:pt x="393" y="727"/>
                  </a:lnTo>
                  <a:lnTo>
                    <a:pt x="388" y="705"/>
                  </a:lnTo>
                  <a:lnTo>
                    <a:pt x="399" y="684"/>
                  </a:lnTo>
                  <a:lnTo>
                    <a:pt x="399" y="657"/>
                  </a:lnTo>
                  <a:lnTo>
                    <a:pt x="420" y="592"/>
                  </a:lnTo>
                  <a:lnTo>
                    <a:pt x="420" y="554"/>
                  </a:lnTo>
                  <a:lnTo>
                    <a:pt x="436" y="565"/>
                  </a:lnTo>
                  <a:lnTo>
                    <a:pt x="442" y="560"/>
                  </a:lnTo>
                  <a:lnTo>
                    <a:pt x="447" y="543"/>
                  </a:lnTo>
                  <a:lnTo>
                    <a:pt x="436" y="511"/>
                  </a:lnTo>
                  <a:lnTo>
                    <a:pt x="420" y="468"/>
                  </a:lnTo>
                  <a:lnTo>
                    <a:pt x="409" y="312"/>
                  </a:lnTo>
                  <a:lnTo>
                    <a:pt x="404" y="344"/>
                  </a:lnTo>
                  <a:lnTo>
                    <a:pt x="361" y="339"/>
                  </a:lnTo>
                  <a:lnTo>
                    <a:pt x="361" y="247"/>
                  </a:lnTo>
                  <a:lnTo>
                    <a:pt x="307" y="188"/>
                  </a:lnTo>
                  <a:lnTo>
                    <a:pt x="258" y="140"/>
                  </a:lnTo>
                  <a:lnTo>
                    <a:pt x="258" y="161"/>
                  </a:lnTo>
                  <a:lnTo>
                    <a:pt x="221" y="193"/>
                  </a:lnTo>
                  <a:lnTo>
                    <a:pt x="221" y="177"/>
                  </a:lnTo>
                  <a:lnTo>
                    <a:pt x="215" y="177"/>
                  </a:lnTo>
                  <a:lnTo>
                    <a:pt x="177" y="226"/>
                  </a:lnTo>
                  <a:lnTo>
                    <a:pt x="86" y="274"/>
                  </a:lnTo>
                  <a:lnTo>
                    <a:pt x="16" y="285"/>
                  </a:lnTo>
                  <a:lnTo>
                    <a:pt x="0" y="280"/>
                  </a:lnTo>
                  <a:lnTo>
                    <a:pt x="86" y="247"/>
                  </a:lnTo>
                  <a:lnTo>
                    <a:pt x="91" y="247"/>
                  </a:lnTo>
                  <a:lnTo>
                    <a:pt x="129" y="215"/>
                  </a:lnTo>
                  <a:lnTo>
                    <a:pt x="145" y="215"/>
                  </a:lnTo>
                  <a:lnTo>
                    <a:pt x="172" y="193"/>
                  </a:lnTo>
                  <a:lnTo>
                    <a:pt x="172" y="177"/>
                  </a:lnTo>
                  <a:lnTo>
                    <a:pt x="129" y="161"/>
                  </a:lnTo>
                  <a:lnTo>
                    <a:pt x="113" y="80"/>
                  </a:lnTo>
                  <a:lnTo>
                    <a:pt x="118" y="75"/>
                  </a:lnTo>
                  <a:lnTo>
                    <a:pt x="177" y="53"/>
                  </a:lnTo>
                  <a:lnTo>
                    <a:pt x="242" y="37"/>
                  </a:lnTo>
                  <a:lnTo>
                    <a:pt x="307" y="21"/>
                  </a:lnTo>
                  <a:lnTo>
                    <a:pt x="382" y="1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3" y="5"/>
                  </a:lnTo>
                  <a:lnTo>
                    <a:pt x="604" y="16"/>
                  </a:lnTo>
                  <a:lnTo>
                    <a:pt x="659" y="107"/>
                  </a:lnTo>
                  <a:lnTo>
                    <a:pt x="810" y="156"/>
                  </a:lnTo>
                  <a:lnTo>
                    <a:pt x="896" y="317"/>
                  </a:lnTo>
                  <a:lnTo>
                    <a:pt x="950" y="140"/>
                  </a:lnTo>
                  <a:lnTo>
                    <a:pt x="1020" y="199"/>
                  </a:lnTo>
                  <a:lnTo>
                    <a:pt x="1106" y="285"/>
                  </a:lnTo>
                  <a:lnTo>
                    <a:pt x="1101" y="339"/>
                  </a:lnTo>
                  <a:lnTo>
                    <a:pt x="1160" y="398"/>
                  </a:lnTo>
                  <a:lnTo>
                    <a:pt x="1090" y="377"/>
                  </a:lnTo>
                  <a:lnTo>
                    <a:pt x="1074" y="430"/>
                  </a:lnTo>
                  <a:lnTo>
                    <a:pt x="1036" y="414"/>
                  </a:lnTo>
                  <a:lnTo>
                    <a:pt x="1047" y="382"/>
                  </a:lnTo>
                  <a:lnTo>
                    <a:pt x="1047" y="296"/>
                  </a:lnTo>
                  <a:lnTo>
                    <a:pt x="934" y="253"/>
                  </a:lnTo>
                  <a:lnTo>
                    <a:pt x="988" y="317"/>
                  </a:lnTo>
                  <a:lnTo>
                    <a:pt x="977" y="339"/>
                  </a:lnTo>
                  <a:lnTo>
                    <a:pt x="961" y="398"/>
                  </a:lnTo>
                  <a:lnTo>
                    <a:pt x="907" y="387"/>
                  </a:lnTo>
                  <a:lnTo>
                    <a:pt x="815" y="463"/>
                  </a:lnTo>
                  <a:lnTo>
                    <a:pt x="826" y="527"/>
                  </a:lnTo>
                  <a:lnTo>
                    <a:pt x="944" y="603"/>
                  </a:lnTo>
                  <a:lnTo>
                    <a:pt x="944" y="657"/>
                  </a:lnTo>
                  <a:lnTo>
                    <a:pt x="982" y="630"/>
                  </a:lnTo>
                  <a:lnTo>
                    <a:pt x="966" y="576"/>
                  </a:lnTo>
                  <a:lnTo>
                    <a:pt x="982" y="570"/>
                  </a:lnTo>
                  <a:lnTo>
                    <a:pt x="1015" y="441"/>
                  </a:lnTo>
                  <a:lnTo>
                    <a:pt x="1031" y="447"/>
                  </a:lnTo>
                  <a:lnTo>
                    <a:pt x="1112" y="533"/>
                  </a:lnTo>
                  <a:lnTo>
                    <a:pt x="1139" y="495"/>
                  </a:lnTo>
                  <a:lnTo>
                    <a:pt x="1176" y="597"/>
                  </a:lnTo>
                  <a:lnTo>
                    <a:pt x="1268" y="640"/>
                  </a:lnTo>
                  <a:lnTo>
                    <a:pt x="1252" y="673"/>
                  </a:lnTo>
                  <a:lnTo>
                    <a:pt x="1263" y="710"/>
                  </a:lnTo>
                  <a:lnTo>
                    <a:pt x="1306" y="754"/>
                  </a:lnTo>
                  <a:lnTo>
                    <a:pt x="1252" y="770"/>
                  </a:lnTo>
                  <a:lnTo>
                    <a:pt x="1214" y="754"/>
                  </a:lnTo>
                  <a:lnTo>
                    <a:pt x="1252" y="673"/>
                  </a:lnTo>
                  <a:lnTo>
                    <a:pt x="1122" y="689"/>
                  </a:lnTo>
                  <a:lnTo>
                    <a:pt x="1052" y="732"/>
                  </a:lnTo>
                  <a:lnTo>
                    <a:pt x="1090" y="721"/>
                  </a:lnTo>
                  <a:lnTo>
                    <a:pt x="1101" y="759"/>
                  </a:lnTo>
                  <a:lnTo>
                    <a:pt x="1149" y="770"/>
                  </a:lnTo>
                  <a:lnTo>
                    <a:pt x="1117" y="807"/>
                  </a:lnTo>
                  <a:lnTo>
                    <a:pt x="1122" y="786"/>
                  </a:lnTo>
                  <a:lnTo>
                    <a:pt x="1068" y="791"/>
                  </a:lnTo>
                  <a:lnTo>
                    <a:pt x="1068" y="780"/>
                  </a:lnTo>
                  <a:lnTo>
                    <a:pt x="1063" y="780"/>
                  </a:lnTo>
                  <a:lnTo>
                    <a:pt x="1063" y="754"/>
                  </a:lnTo>
                  <a:lnTo>
                    <a:pt x="1052" y="754"/>
                  </a:lnTo>
                  <a:lnTo>
                    <a:pt x="1052" y="748"/>
                  </a:lnTo>
                  <a:lnTo>
                    <a:pt x="1041" y="754"/>
                  </a:lnTo>
                  <a:lnTo>
                    <a:pt x="1025" y="775"/>
                  </a:lnTo>
                  <a:lnTo>
                    <a:pt x="1015" y="786"/>
                  </a:lnTo>
                  <a:lnTo>
                    <a:pt x="971" y="775"/>
                  </a:lnTo>
                  <a:lnTo>
                    <a:pt x="950" y="791"/>
                  </a:lnTo>
                  <a:lnTo>
                    <a:pt x="917" y="786"/>
                  </a:lnTo>
                  <a:lnTo>
                    <a:pt x="917" y="797"/>
                  </a:lnTo>
                  <a:lnTo>
                    <a:pt x="869" y="807"/>
                  </a:lnTo>
                  <a:lnTo>
                    <a:pt x="880" y="797"/>
                  </a:lnTo>
                  <a:lnTo>
                    <a:pt x="901" y="759"/>
                  </a:lnTo>
                  <a:lnTo>
                    <a:pt x="917" y="759"/>
                  </a:lnTo>
                  <a:lnTo>
                    <a:pt x="907" y="721"/>
                  </a:lnTo>
                  <a:lnTo>
                    <a:pt x="863" y="710"/>
                  </a:lnTo>
                  <a:lnTo>
                    <a:pt x="869" y="651"/>
                  </a:lnTo>
                  <a:lnTo>
                    <a:pt x="810" y="657"/>
                  </a:lnTo>
                  <a:lnTo>
                    <a:pt x="788" y="673"/>
                  </a:lnTo>
                  <a:lnTo>
                    <a:pt x="777" y="689"/>
                  </a:lnTo>
                  <a:lnTo>
                    <a:pt x="799" y="684"/>
                  </a:lnTo>
                  <a:lnTo>
                    <a:pt x="799" y="694"/>
                  </a:lnTo>
                  <a:lnTo>
                    <a:pt x="826" y="684"/>
                  </a:lnTo>
                  <a:lnTo>
                    <a:pt x="837" y="689"/>
                  </a:lnTo>
                  <a:lnTo>
                    <a:pt x="826" y="700"/>
                  </a:lnTo>
                  <a:lnTo>
                    <a:pt x="842" y="710"/>
                  </a:lnTo>
                  <a:lnTo>
                    <a:pt x="863" y="710"/>
                  </a:lnTo>
                  <a:lnTo>
                    <a:pt x="842" y="721"/>
                  </a:lnTo>
                  <a:lnTo>
                    <a:pt x="820" y="732"/>
                  </a:lnTo>
                  <a:lnTo>
                    <a:pt x="831" y="732"/>
                  </a:lnTo>
                  <a:lnTo>
                    <a:pt x="837" y="743"/>
                  </a:lnTo>
                  <a:lnTo>
                    <a:pt x="826" y="754"/>
                  </a:lnTo>
                  <a:lnTo>
                    <a:pt x="810" y="786"/>
                  </a:lnTo>
                  <a:lnTo>
                    <a:pt x="815" y="797"/>
                  </a:lnTo>
                  <a:lnTo>
                    <a:pt x="815" y="802"/>
                  </a:lnTo>
                  <a:lnTo>
                    <a:pt x="820" y="802"/>
                  </a:lnTo>
                  <a:lnTo>
                    <a:pt x="837" y="786"/>
                  </a:lnTo>
                  <a:lnTo>
                    <a:pt x="837" y="770"/>
                  </a:lnTo>
                  <a:lnTo>
                    <a:pt x="847" y="748"/>
                  </a:lnTo>
                  <a:lnTo>
                    <a:pt x="869" y="732"/>
                  </a:lnTo>
                  <a:lnTo>
                    <a:pt x="880" y="743"/>
                  </a:lnTo>
                  <a:lnTo>
                    <a:pt x="880" y="759"/>
                  </a:lnTo>
                  <a:lnTo>
                    <a:pt x="869" y="770"/>
                  </a:lnTo>
                  <a:lnTo>
                    <a:pt x="869" y="775"/>
                  </a:lnTo>
                  <a:lnTo>
                    <a:pt x="880" y="775"/>
                  </a:lnTo>
                  <a:lnTo>
                    <a:pt x="885" y="775"/>
                  </a:lnTo>
                  <a:lnTo>
                    <a:pt x="880" y="797"/>
                  </a:lnTo>
                  <a:lnTo>
                    <a:pt x="869" y="807"/>
                  </a:lnTo>
                  <a:lnTo>
                    <a:pt x="863" y="813"/>
                  </a:lnTo>
                  <a:lnTo>
                    <a:pt x="874" y="824"/>
                  </a:lnTo>
                  <a:lnTo>
                    <a:pt x="880" y="829"/>
                  </a:lnTo>
                  <a:lnTo>
                    <a:pt x="896" y="818"/>
                  </a:lnTo>
                  <a:lnTo>
                    <a:pt x="912" y="807"/>
                  </a:lnTo>
                  <a:lnTo>
                    <a:pt x="917" y="797"/>
                  </a:lnTo>
                  <a:lnTo>
                    <a:pt x="923" y="797"/>
                  </a:lnTo>
                  <a:lnTo>
                    <a:pt x="944" y="802"/>
                  </a:lnTo>
                  <a:lnTo>
                    <a:pt x="950" y="797"/>
                  </a:lnTo>
                  <a:lnTo>
                    <a:pt x="950" y="791"/>
                  </a:lnTo>
                  <a:lnTo>
                    <a:pt x="971" y="775"/>
                  </a:lnTo>
                  <a:lnTo>
                    <a:pt x="1015" y="786"/>
                  </a:lnTo>
                  <a:lnTo>
                    <a:pt x="1025" y="775"/>
                  </a:lnTo>
                  <a:lnTo>
                    <a:pt x="1041" y="754"/>
                  </a:lnTo>
                  <a:lnTo>
                    <a:pt x="1052" y="748"/>
                  </a:lnTo>
                  <a:lnTo>
                    <a:pt x="1052" y="754"/>
                  </a:lnTo>
                  <a:lnTo>
                    <a:pt x="1063" y="754"/>
                  </a:lnTo>
                  <a:lnTo>
                    <a:pt x="1063" y="780"/>
                  </a:lnTo>
                  <a:lnTo>
                    <a:pt x="1068" y="780"/>
                  </a:lnTo>
                  <a:lnTo>
                    <a:pt x="1068" y="791"/>
                  </a:lnTo>
                  <a:lnTo>
                    <a:pt x="1031" y="818"/>
                  </a:lnTo>
                  <a:lnTo>
                    <a:pt x="1025" y="824"/>
                  </a:lnTo>
                  <a:lnTo>
                    <a:pt x="1015" y="829"/>
                  </a:lnTo>
                  <a:lnTo>
                    <a:pt x="1015" y="840"/>
                  </a:lnTo>
                  <a:lnTo>
                    <a:pt x="1009" y="840"/>
                  </a:lnTo>
                  <a:lnTo>
                    <a:pt x="1009" y="856"/>
                  </a:lnTo>
                  <a:lnTo>
                    <a:pt x="1015" y="856"/>
                  </a:lnTo>
                  <a:lnTo>
                    <a:pt x="1015" y="850"/>
                  </a:lnTo>
                  <a:lnTo>
                    <a:pt x="1020" y="856"/>
                  </a:lnTo>
                  <a:lnTo>
                    <a:pt x="1015" y="861"/>
                  </a:lnTo>
                  <a:lnTo>
                    <a:pt x="1004" y="861"/>
                  </a:lnTo>
                  <a:lnTo>
                    <a:pt x="998" y="856"/>
                  </a:lnTo>
                  <a:lnTo>
                    <a:pt x="993" y="861"/>
                  </a:lnTo>
                  <a:lnTo>
                    <a:pt x="971" y="861"/>
                  </a:lnTo>
                  <a:lnTo>
                    <a:pt x="961" y="867"/>
                  </a:lnTo>
                  <a:lnTo>
                    <a:pt x="961" y="872"/>
                  </a:lnTo>
                  <a:lnTo>
                    <a:pt x="955" y="883"/>
                  </a:lnTo>
                  <a:lnTo>
                    <a:pt x="944" y="899"/>
                  </a:lnTo>
                  <a:lnTo>
                    <a:pt x="944" y="883"/>
                  </a:lnTo>
                  <a:lnTo>
                    <a:pt x="939" y="894"/>
                  </a:lnTo>
                  <a:lnTo>
                    <a:pt x="944" y="904"/>
                  </a:lnTo>
                  <a:lnTo>
                    <a:pt x="934" y="921"/>
                  </a:lnTo>
                  <a:lnTo>
                    <a:pt x="923" y="926"/>
                  </a:lnTo>
                  <a:lnTo>
                    <a:pt x="923" y="942"/>
                  </a:lnTo>
                  <a:lnTo>
                    <a:pt x="923" y="958"/>
                  </a:lnTo>
                  <a:lnTo>
                    <a:pt x="907" y="974"/>
                  </a:lnTo>
                  <a:lnTo>
                    <a:pt x="885" y="985"/>
                  </a:lnTo>
                  <a:lnTo>
                    <a:pt x="863" y="1007"/>
                  </a:lnTo>
                  <a:lnTo>
                    <a:pt x="853" y="1012"/>
                  </a:lnTo>
                  <a:lnTo>
                    <a:pt x="847" y="1017"/>
                  </a:lnTo>
                  <a:lnTo>
                    <a:pt x="837" y="1039"/>
                  </a:lnTo>
                  <a:lnTo>
                    <a:pt x="837" y="1050"/>
                  </a:lnTo>
                  <a:lnTo>
                    <a:pt x="842" y="1082"/>
                  </a:lnTo>
                  <a:lnTo>
                    <a:pt x="842" y="1110"/>
                  </a:lnTo>
                  <a:lnTo>
                    <a:pt x="842" y="1132"/>
                  </a:lnTo>
                  <a:lnTo>
                    <a:pt x="820" y="1142"/>
                  </a:lnTo>
                  <a:lnTo>
                    <a:pt x="810" y="1142"/>
                  </a:lnTo>
                  <a:lnTo>
                    <a:pt x="810" y="1105"/>
                  </a:lnTo>
                  <a:lnTo>
                    <a:pt x="804" y="1077"/>
                  </a:lnTo>
                  <a:lnTo>
                    <a:pt x="810" y="1061"/>
                  </a:lnTo>
                  <a:lnTo>
                    <a:pt x="804" y="1044"/>
                  </a:lnTo>
                  <a:lnTo>
                    <a:pt x="783" y="1044"/>
                  </a:lnTo>
                  <a:lnTo>
                    <a:pt x="777" y="1028"/>
                  </a:lnTo>
                  <a:lnTo>
                    <a:pt x="761" y="1023"/>
                  </a:lnTo>
                  <a:lnTo>
                    <a:pt x="750" y="1023"/>
                  </a:lnTo>
                  <a:lnTo>
                    <a:pt x="745" y="1028"/>
                  </a:lnTo>
                  <a:lnTo>
                    <a:pt x="745" y="1044"/>
                  </a:lnTo>
                  <a:lnTo>
                    <a:pt x="718" y="1034"/>
                  </a:lnTo>
                  <a:lnTo>
                    <a:pt x="691" y="1017"/>
                  </a:lnTo>
                  <a:lnTo>
                    <a:pt x="675" y="1017"/>
                  </a:lnTo>
                  <a:lnTo>
                    <a:pt x="647" y="1034"/>
                  </a:lnTo>
                  <a:lnTo>
                    <a:pt x="636" y="1044"/>
                  </a:lnTo>
                  <a:lnTo>
                    <a:pt x="636" y="1071"/>
                  </a:lnTo>
                  <a:lnTo>
                    <a:pt x="641" y="1110"/>
                  </a:lnTo>
                  <a:lnTo>
                    <a:pt x="647" y="1148"/>
                  </a:lnTo>
                  <a:lnTo>
                    <a:pt x="664" y="1169"/>
                  </a:lnTo>
                  <a:lnTo>
                    <a:pt x="691" y="1164"/>
                  </a:lnTo>
                  <a:lnTo>
                    <a:pt x="702" y="1142"/>
                  </a:lnTo>
                  <a:lnTo>
                    <a:pt x="734" y="1153"/>
                  </a:lnTo>
                  <a:lnTo>
                    <a:pt x="712" y="1202"/>
                  </a:lnTo>
                  <a:lnTo>
                    <a:pt x="756" y="1218"/>
                  </a:lnTo>
                  <a:lnTo>
                    <a:pt x="745" y="1272"/>
                  </a:lnTo>
                  <a:lnTo>
                    <a:pt x="761" y="1293"/>
                  </a:lnTo>
                  <a:lnTo>
                    <a:pt x="804" y="1293"/>
                  </a:lnTo>
                  <a:lnTo>
                    <a:pt x="826" y="1304"/>
                  </a:lnTo>
                  <a:lnTo>
                    <a:pt x="831" y="1320"/>
                  </a:lnTo>
                  <a:lnTo>
                    <a:pt x="869" y="1288"/>
                  </a:lnTo>
                  <a:lnTo>
                    <a:pt x="934" y="1293"/>
                  </a:lnTo>
                  <a:lnTo>
                    <a:pt x="944" y="1309"/>
                  </a:lnTo>
                  <a:lnTo>
                    <a:pt x="1025" y="1342"/>
                  </a:lnTo>
                  <a:lnTo>
                    <a:pt x="1068" y="1406"/>
                  </a:lnTo>
                  <a:lnTo>
                    <a:pt x="1122" y="1428"/>
                  </a:lnTo>
                  <a:lnTo>
                    <a:pt x="1149" y="1514"/>
                  </a:lnTo>
                  <a:lnTo>
                    <a:pt x="1246" y="1606"/>
                  </a:lnTo>
                  <a:lnTo>
                    <a:pt x="1268" y="1649"/>
                  </a:lnTo>
                  <a:lnTo>
                    <a:pt x="1300" y="1665"/>
                  </a:lnTo>
                  <a:lnTo>
                    <a:pt x="1290" y="1719"/>
                  </a:lnTo>
                  <a:lnTo>
                    <a:pt x="1219" y="1740"/>
                  </a:lnTo>
                  <a:lnTo>
                    <a:pt x="1133" y="1896"/>
                  </a:lnTo>
                  <a:lnTo>
                    <a:pt x="1031" y="1891"/>
                  </a:lnTo>
                  <a:lnTo>
                    <a:pt x="1020" y="1939"/>
                  </a:lnTo>
                  <a:lnTo>
                    <a:pt x="939" y="2004"/>
                  </a:lnTo>
                  <a:lnTo>
                    <a:pt x="901" y="1993"/>
                  </a:lnTo>
                  <a:lnTo>
                    <a:pt x="896" y="2036"/>
                  </a:lnTo>
                  <a:lnTo>
                    <a:pt x="874" y="2063"/>
                  </a:lnTo>
                  <a:lnTo>
                    <a:pt x="810" y="2063"/>
                  </a:lnTo>
                  <a:lnTo>
                    <a:pt x="745" y="2150"/>
                  </a:lnTo>
                  <a:close/>
                </a:path>
              </a:pathLst>
            </a:custGeom>
            <a:solidFill>
              <a:srgbClr val="00723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445520" y="2481120"/>
            <a:ext cx="583920" cy="581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8360" y="1403280"/>
            <a:ext cx="28065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at is it that we w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1840" y="1173240"/>
            <a:ext cx="0" cy="5303880"/>
          </a:xfrm>
          <a:prstGeom prst="line">
            <a:avLst/>
          </a:prstGeom>
          <a:ln w="1522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26120" y="1173240"/>
            <a:ext cx="0" cy="5303880"/>
          </a:xfrm>
          <a:prstGeom prst="line">
            <a:avLst/>
          </a:prstGeom>
          <a:ln w="1522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00280" y="1386000"/>
            <a:ext cx="1930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e we serio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904080" y="1403280"/>
            <a:ext cx="1198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o bu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773840" y="3303720"/>
            <a:ext cx="870120" cy="703440"/>
            <a:chOff x="7773840" y="3303720"/>
            <a:chExt cx="870120" cy="70344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7773840" y="3303720"/>
              <a:ext cx="38268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997760" y="3378240"/>
              <a:ext cx="0" cy="582480"/>
            </a:xfrm>
            <a:prstGeom prst="line">
              <a:avLst/>
            </a:prstGeom>
            <a:ln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97760" y="3378240"/>
              <a:ext cx="615960" cy="353880"/>
            </a:xfrm>
            <a:prstGeom prst="line">
              <a:avLst/>
            </a:prstGeom>
            <a:ln w="1260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77240" y="3732120"/>
              <a:ext cx="666720" cy="249120"/>
            </a:xfrm>
            <a:prstGeom prst="ellipse">
              <a:avLst/>
            </a:prstGeom>
            <a:solidFill>
              <a:srgbClr val="c0fef9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8353440" y="3790800"/>
              <a:ext cx="130320" cy="1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8050320" y="3859200"/>
              <a:ext cx="155520" cy="11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0" name=""/>
            <p:cNvGrpSpPr/>
            <p:nvPr/>
          </p:nvGrpSpPr>
          <p:grpSpPr>
            <a:xfrm>
              <a:off x="8215200" y="3871800"/>
              <a:ext cx="141840" cy="135360"/>
              <a:chOff x="8215200" y="3871800"/>
              <a:chExt cx="141840" cy="135360"/>
            </a:xfrm>
          </p:grpSpPr>
          <p:sp>
            <p:nvSpPr>
              <p:cNvPr id="301" name=""/>
              <p:cNvSpPr/>
              <p:nvPr/>
            </p:nvSpPr>
            <p:spPr>
              <a:xfrm>
                <a:off x="8215200" y="3871800"/>
                <a:ext cx="60840" cy="109800"/>
              </a:xfrm>
              <a:custGeom>
                <a:avLst/>
                <a:gdLst/>
                <a:ahLst/>
                <a:rect l="0" t="0" r="r" b="b"/>
                <a:pathLst>
                  <a:path w="169" h="305">
                    <a:moveTo>
                      <a:pt x="71" y="44"/>
                    </a:moveTo>
                    <a:lnTo>
                      <a:pt x="63" y="47"/>
                    </a:lnTo>
                    <a:lnTo>
                      <a:pt x="55" y="55"/>
                    </a:lnTo>
                    <a:lnTo>
                      <a:pt x="43" y="62"/>
                    </a:lnTo>
                    <a:lnTo>
                      <a:pt x="37" y="80"/>
                    </a:lnTo>
                    <a:lnTo>
                      <a:pt x="30" y="103"/>
                    </a:lnTo>
                    <a:lnTo>
                      <a:pt x="28" y="113"/>
                    </a:lnTo>
                    <a:lnTo>
                      <a:pt x="30" y="125"/>
                    </a:lnTo>
                    <a:lnTo>
                      <a:pt x="26" y="125"/>
                    </a:lnTo>
                    <a:lnTo>
                      <a:pt x="29" y="134"/>
                    </a:lnTo>
                    <a:lnTo>
                      <a:pt x="0" y="149"/>
                    </a:lnTo>
                    <a:lnTo>
                      <a:pt x="4" y="159"/>
                    </a:lnTo>
                    <a:lnTo>
                      <a:pt x="36" y="144"/>
                    </a:lnTo>
                    <a:lnTo>
                      <a:pt x="39" y="147"/>
                    </a:lnTo>
                    <a:lnTo>
                      <a:pt x="46" y="168"/>
                    </a:lnTo>
                    <a:lnTo>
                      <a:pt x="56" y="174"/>
                    </a:lnTo>
                    <a:lnTo>
                      <a:pt x="52" y="182"/>
                    </a:lnTo>
                    <a:lnTo>
                      <a:pt x="52" y="191"/>
                    </a:lnTo>
                    <a:lnTo>
                      <a:pt x="61" y="205"/>
                    </a:lnTo>
                    <a:lnTo>
                      <a:pt x="61" y="213"/>
                    </a:lnTo>
                    <a:lnTo>
                      <a:pt x="57" y="230"/>
                    </a:lnTo>
                    <a:lnTo>
                      <a:pt x="57" y="244"/>
                    </a:lnTo>
                    <a:lnTo>
                      <a:pt x="61" y="253"/>
                    </a:lnTo>
                    <a:lnTo>
                      <a:pt x="67" y="261"/>
                    </a:lnTo>
                    <a:lnTo>
                      <a:pt x="68" y="272"/>
                    </a:lnTo>
                    <a:lnTo>
                      <a:pt x="67" y="282"/>
                    </a:lnTo>
                    <a:lnTo>
                      <a:pt x="62" y="290"/>
                    </a:lnTo>
                    <a:lnTo>
                      <a:pt x="53" y="297"/>
                    </a:lnTo>
                    <a:lnTo>
                      <a:pt x="60" y="305"/>
                    </a:lnTo>
                    <a:lnTo>
                      <a:pt x="75" y="301"/>
                    </a:lnTo>
                    <a:lnTo>
                      <a:pt x="85" y="292"/>
                    </a:lnTo>
                    <a:lnTo>
                      <a:pt x="88" y="283"/>
                    </a:lnTo>
                    <a:lnTo>
                      <a:pt x="87" y="276"/>
                    </a:lnTo>
                    <a:lnTo>
                      <a:pt x="89" y="265"/>
                    </a:lnTo>
                    <a:lnTo>
                      <a:pt x="90" y="258"/>
                    </a:lnTo>
                    <a:lnTo>
                      <a:pt x="91" y="254"/>
                    </a:lnTo>
                    <a:lnTo>
                      <a:pt x="93" y="253"/>
                    </a:lnTo>
                    <a:lnTo>
                      <a:pt x="93" y="272"/>
                    </a:lnTo>
                    <a:lnTo>
                      <a:pt x="97" y="283"/>
                    </a:lnTo>
                    <a:lnTo>
                      <a:pt x="108" y="284"/>
                    </a:lnTo>
                    <a:lnTo>
                      <a:pt x="110" y="269"/>
                    </a:lnTo>
                    <a:lnTo>
                      <a:pt x="110" y="259"/>
                    </a:lnTo>
                    <a:lnTo>
                      <a:pt x="105" y="252"/>
                    </a:lnTo>
                    <a:lnTo>
                      <a:pt x="106" y="244"/>
                    </a:lnTo>
                    <a:lnTo>
                      <a:pt x="112" y="237"/>
                    </a:lnTo>
                    <a:lnTo>
                      <a:pt x="117" y="229"/>
                    </a:lnTo>
                    <a:lnTo>
                      <a:pt x="120" y="218"/>
                    </a:lnTo>
                    <a:lnTo>
                      <a:pt x="122" y="203"/>
                    </a:lnTo>
                    <a:lnTo>
                      <a:pt x="129" y="193"/>
                    </a:lnTo>
                    <a:lnTo>
                      <a:pt x="131" y="180"/>
                    </a:lnTo>
                    <a:lnTo>
                      <a:pt x="130" y="173"/>
                    </a:lnTo>
                    <a:lnTo>
                      <a:pt x="135" y="167"/>
                    </a:lnTo>
                    <a:lnTo>
                      <a:pt x="137" y="159"/>
                    </a:lnTo>
                    <a:lnTo>
                      <a:pt x="137" y="148"/>
                    </a:lnTo>
                    <a:lnTo>
                      <a:pt x="137" y="138"/>
                    </a:lnTo>
                    <a:lnTo>
                      <a:pt x="131" y="133"/>
                    </a:lnTo>
                    <a:lnTo>
                      <a:pt x="129" y="127"/>
                    </a:lnTo>
                    <a:lnTo>
                      <a:pt x="137" y="121"/>
                    </a:lnTo>
                    <a:lnTo>
                      <a:pt x="144" y="115"/>
                    </a:lnTo>
                    <a:lnTo>
                      <a:pt x="156" y="115"/>
                    </a:lnTo>
                    <a:lnTo>
                      <a:pt x="167" y="103"/>
                    </a:lnTo>
                    <a:lnTo>
                      <a:pt x="169" y="91"/>
                    </a:lnTo>
                    <a:lnTo>
                      <a:pt x="164" y="81"/>
                    </a:lnTo>
                    <a:lnTo>
                      <a:pt x="156" y="73"/>
                    </a:lnTo>
                    <a:lnTo>
                      <a:pt x="146" y="60"/>
                    </a:lnTo>
                    <a:lnTo>
                      <a:pt x="128" y="46"/>
                    </a:lnTo>
                    <a:lnTo>
                      <a:pt x="116" y="40"/>
                    </a:lnTo>
                    <a:lnTo>
                      <a:pt x="105" y="39"/>
                    </a:lnTo>
                    <a:lnTo>
                      <a:pt x="101" y="39"/>
                    </a:lnTo>
                    <a:lnTo>
                      <a:pt x="103" y="28"/>
                    </a:lnTo>
                    <a:lnTo>
                      <a:pt x="103" y="18"/>
                    </a:lnTo>
                    <a:lnTo>
                      <a:pt x="100" y="8"/>
                    </a:lnTo>
                    <a:lnTo>
                      <a:pt x="94" y="1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2" y="1"/>
                    </a:lnTo>
                    <a:lnTo>
                      <a:pt x="66" y="7"/>
                    </a:lnTo>
                    <a:lnTo>
                      <a:pt x="64" y="14"/>
                    </a:lnTo>
                    <a:lnTo>
                      <a:pt x="63" y="23"/>
                    </a:lnTo>
                    <a:lnTo>
                      <a:pt x="61" y="2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91919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234280" y="3890880"/>
                <a:ext cx="62280" cy="109800"/>
              </a:xfrm>
              <a:custGeom>
                <a:avLst/>
                <a:gdLst/>
                <a:ahLst/>
                <a:rect l="0" t="0" r="r" b="b"/>
                <a:pathLst>
                  <a:path w="173" h="305">
                    <a:moveTo>
                      <a:pt x="73" y="44"/>
                    </a:moveTo>
                    <a:lnTo>
                      <a:pt x="65" y="47"/>
                    </a:lnTo>
                    <a:lnTo>
                      <a:pt x="56" y="55"/>
                    </a:lnTo>
                    <a:lnTo>
                      <a:pt x="44" y="62"/>
                    </a:lnTo>
                    <a:lnTo>
                      <a:pt x="38" y="80"/>
                    </a:lnTo>
                    <a:lnTo>
                      <a:pt x="31" y="103"/>
                    </a:lnTo>
                    <a:lnTo>
                      <a:pt x="29" y="113"/>
                    </a:lnTo>
                    <a:lnTo>
                      <a:pt x="31" y="125"/>
                    </a:lnTo>
                    <a:lnTo>
                      <a:pt x="27" y="125"/>
                    </a:lnTo>
                    <a:lnTo>
                      <a:pt x="30" y="134"/>
                    </a:lnTo>
                    <a:lnTo>
                      <a:pt x="0" y="149"/>
                    </a:lnTo>
                    <a:lnTo>
                      <a:pt x="4" y="159"/>
                    </a:lnTo>
                    <a:lnTo>
                      <a:pt x="37" y="144"/>
                    </a:lnTo>
                    <a:lnTo>
                      <a:pt x="40" y="147"/>
                    </a:lnTo>
                    <a:lnTo>
                      <a:pt x="48" y="168"/>
                    </a:lnTo>
                    <a:lnTo>
                      <a:pt x="57" y="174"/>
                    </a:lnTo>
                    <a:lnTo>
                      <a:pt x="54" y="182"/>
                    </a:lnTo>
                    <a:lnTo>
                      <a:pt x="54" y="191"/>
                    </a:lnTo>
                    <a:lnTo>
                      <a:pt x="62" y="205"/>
                    </a:lnTo>
                    <a:lnTo>
                      <a:pt x="62" y="213"/>
                    </a:lnTo>
                    <a:lnTo>
                      <a:pt x="59" y="230"/>
                    </a:lnTo>
                    <a:lnTo>
                      <a:pt x="59" y="244"/>
                    </a:lnTo>
                    <a:lnTo>
                      <a:pt x="62" y="253"/>
                    </a:lnTo>
                    <a:lnTo>
                      <a:pt x="68" y="261"/>
                    </a:lnTo>
                    <a:lnTo>
                      <a:pt x="70" y="272"/>
                    </a:lnTo>
                    <a:lnTo>
                      <a:pt x="69" y="282"/>
                    </a:lnTo>
                    <a:lnTo>
                      <a:pt x="64" y="290"/>
                    </a:lnTo>
                    <a:lnTo>
                      <a:pt x="55" y="297"/>
                    </a:lnTo>
                    <a:lnTo>
                      <a:pt x="62" y="305"/>
                    </a:lnTo>
                    <a:lnTo>
                      <a:pt x="77" y="301"/>
                    </a:lnTo>
                    <a:lnTo>
                      <a:pt x="87" y="292"/>
                    </a:lnTo>
                    <a:lnTo>
                      <a:pt x="90" y="283"/>
                    </a:lnTo>
                    <a:lnTo>
                      <a:pt x="89" y="276"/>
                    </a:lnTo>
                    <a:lnTo>
                      <a:pt x="91" y="265"/>
                    </a:lnTo>
                    <a:lnTo>
                      <a:pt x="93" y="258"/>
                    </a:lnTo>
                    <a:lnTo>
                      <a:pt x="94" y="254"/>
                    </a:lnTo>
                    <a:lnTo>
                      <a:pt x="95" y="253"/>
                    </a:lnTo>
                    <a:lnTo>
                      <a:pt x="95" y="272"/>
                    </a:lnTo>
                    <a:lnTo>
                      <a:pt x="100" y="283"/>
                    </a:lnTo>
                    <a:lnTo>
                      <a:pt x="111" y="284"/>
                    </a:lnTo>
                    <a:lnTo>
                      <a:pt x="113" y="269"/>
                    </a:lnTo>
                    <a:lnTo>
                      <a:pt x="113" y="259"/>
                    </a:lnTo>
                    <a:lnTo>
                      <a:pt x="108" y="252"/>
                    </a:lnTo>
                    <a:lnTo>
                      <a:pt x="109" y="244"/>
                    </a:lnTo>
                    <a:lnTo>
                      <a:pt x="115" y="237"/>
                    </a:lnTo>
                    <a:lnTo>
                      <a:pt x="120" y="229"/>
                    </a:lnTo>
                    <a:lnTo>
                      <a:pt x="123" y="218"/>
                    </a:lnTo>
                    <a:lnTo>
                      <a:pt x="125" y="203"/>
                    </a:lnTo>
                    <a:lnTo>
                      <a:pt x="132" y="193"/>
                    </a:lnTo>
                    <a:lnTo>
                      <a:pt x="134" y="180"/>
                    </a:lnTo>
                    <a:lnTo>
                      <a:pt x="133" y="173"/>
                    </a:lnTo>
                    <a:lnTo>
                      <a:pt x="139" y="167"/>
                    </a:lnTo>
                    <a:lnTo>
                      <a:pt x="141" y="159"/>
                    </a:lnTo>
                    <a:lnTo>
                      <a:pt x="141" y="148"/>
                    </a:lnTo>
                    <a:lnTo>
                      <a:pt x="140" y="138"/>
                    </a:lnTo>
                    <a:lnTo>
                      <a:pt x="134" y="133"/>
                    </a:lnTo>
                    <a:lnTo>
                      <a:pt x="132" y="127"/>
                    </a:lnTo>
                    <a:lnTo>
                      <a:pt x="140" y="121"/>
                    </a:lnTo>
                    <a:lnTo>
                      <a:pt x="148" y="115"/>
                    </a:lnTo>
                    <a:lnTo>
                      <a:pt x="160" y="115"/>
                    </a:lnTo>
                    <a:lnTo>
                      <a:pt x="171" y="103"/>
                    </a:lnTo>
                    <a:lnTo>
                      <a:pt x="173" y="91"/>
                    </a:lnTo>
                    <a:lnTo>
                      <a:pt x="168" y="81"/>
                    </a:lnTo>
                    <a:lnTo>
                      <a:pt x="160" y="73"/>
                    </a:lnTo>
                    <a:lnTo>
                      <a:pt x="150" y="60"/>
                    </a:lnTo>
                    <a:lnTo>
                      <a:pt x="131" y="46"/>
                    </a:lnTo>
                    <a:lnTo>
                      <a:pt x="119" y="40"/>
                    </a:lnTo>
                    <a:lnTo>
                      <a:pt x="107" y="39"/>
                    </a:lnTo>
                    <a:lnTo>
                      <a:pt x="104" y="39"/>
                    </a:lnTo>
                    <a:lnTo>
                      <a:pt x="106" y="28"/>
                    </a:lnTo>
                    <a:lnTo>
                      <a:pt x="106" y="18"/>
                    </a:lnTo>
                    <a:lnTo>
                      <a:pt x="103" y="8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4" y="1"/>
                    </a:lnTo>
                    <a:lnTo>
                      <a:pt x="68" y="7"/>
                    </a:lnTo>
                    <a:lnTo>
                      <a:pt x="66" y="14"/>
                    </a:lnTo>
                    <a:lnTo>
                      <a:pt x="65" y="23"/>
                    </a:lnTo>
                    <a:lnTo>
                      <a:pt x="62" y="28"/>
                    </a:lnTo>
                    <a:lnTo>
                      <a:pt x="67" y="30"/>
                    </a:lnTo>
                    <a:lnTo>
                      <a:pt x="74" y="42"/>
                    </a:lnTo>
                    <a:lnTo>
                      <a:pt x="7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91919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299440" y="3895560"/>
                <a:ext cx="57600" cy="111600"/>
              </a:xfrm>
              <a:custGeom>
                <a:avLst/>
                <a:gdLst/>
                <a:ahLst/>
                <a:rect l="0" t="0" r="r" b="b"/>
                <a:pathLst>
                  <a:path w="160" h="310">
                    <a:moveTo>
                      <a:pt x="67" y="45"/>
                    </a:moveTo>
                    <a:lnTo>
                      <a:pt x="60" y="48"/>
                    </a:lnTo>
                    <a:lnTo>
                      <a:pt x="52" y="56"/>
                    </a:lnTo>
                    <a:lnTo>
                      <a:pt x="41" y="63"/>
                    </a:lnTo>
                    <a:lnTo>
                      <a:pt x="35" y="82"/>
                    </a:lnTo>
                    <a:lnTo>
                      <a:pt x="29" y="106"/>
                    </a:lnTo>
                    <a:lnTo>
                      <a:pt x="27" y="116"/>
                    </a:lnTo>
                    <a:lnTo>
                      <a:pt x="29" y="127"/>
                    </a:lnTo>
                    <a:lnTo>
                      <a:pt x="25" y="127"/>
                    </a:lnTo>
                    <a:lnTo>
                      <a:pt x="28" y="137"/>
                    </a:lnTo>
                    <a:lnTo>
                      <a:pt x="0" y="152"/>
                    </a:lnTo>
                    <a:lnTo>
                      <a:pt x="4" y="162"/>
                    </a:lnTo>
                    <a:lnTo>
                      <a:pt x="34" y="147"/>
                    </a:lnTo>
                    <a:lnTo>
                      <a:pt x="37" y="150"/>
                    </a:lnTo>
                    <a:lnTo>
                      <a:pt x="44" y="170"/>
                    </a:lnTo>
                    <a:lnTo>
                      <a:pt x="53" y="177"/>
                    </a:lnTo>
                    <a:lnTo>
                      <a:pt x="50" y="184"/>
                    </a:lnTo>
                    <a:lnTo>
                      <a:pt x="50" y="194"/>
                    </a:lnTo>
                    <a:lnTo>
                      <a:pt x="58" y="208"/>
                    </a:lnTo>
                    <a:lnTo>
                      <a:pt x="58" y="216"/>
                    </a:lnTo>
                    <a:lnTo>
                      <a:pt x="54" y="235"/>
                    </a:lnTo>
                    <a:lnTo>
                      <a:pt x="54" y="249"/>
                    </a:lnTo>
                    <a:lnTo>
                      <a:pt x="58" y="257"/>
                    </a:lnTo>
                    <a:lnTo>
                      <a:pt x="63" y="266"/>
                    </a:lnTo>
                    <a:lnTo>
                      <a:pt x="65" y="277"/>
                    </a:lnTo>
                    <a:lnTo>
                      <a:pt x="64" y="287"/>
                    </a:lnTo>
                    <a:lnTo>
                      <a:pt x="59" y="295"/>
                    </a:lnTo>
                    <a:lnTo>
                      <a:pt x="51" y="303"/>
                    </a:lnTo>
                    <a:lnTo>
                      <a:pt x="57" y="310"/>
                    </a:lnTo>
                    <a:lnTo>
                      <a:pt x="71" y="306"/>
                    </a:lnTo>
                    <a:lnTo>
                      <a:pt x="80" y="297"/>
                    </a:lnTo>
                    <a:lnTo>
                      <a:pt x="83" y="289"/>
                    </a:lnTo>
                    <a:lnTo>
                      <a:pt x="82" y="281"/>
                    </a:lnTo>
                    <a:lnTo>
                      <a:pt x="84" y="270"/>
                    </a:lnTo>
                    <a:lnTo>
                      <a:pt x="85" y="263"/>
                    </a:lnTo>
                    <a:lnTo>
                      <a:pt x="86" y="258"/>
                    </a:lnTo>
                    <a:lnTo>
                      <a:pt x="88" y="257"/>
                    </a:lnTo>
                    <a:lnTo>
                      <a:pt x="88" y="277"/>
                    </a:lnTo>
                    <a:lnTo>
                      <a:pt x="92" y="289"/>
                    </a:lnTo>
                    <a:lnTo>
                      <a:pt x="102" y="290"/>
                    </a:lnTo>
                    <a:lnTo>
                      <a:pt x="105" y="274"/>
                    </a:lnTo>
                    <a:lnTo>
                      <a:pt x="104" y="264"/>
                    </a:lnTo>
                    <a:lnTo>
                      <a:pt x="100" y="256"/>
                    </a:lnTo>
                    <a:lnTo>
                      <a:pt x="101" y="248"/>
                    </a:lnTo>
                    <a:lnTo>
                      <a:pt x="106" y="241"/>
                    </a:lnTo>
                    <a:lnTo>
                      <a:pt x="111" y="234"/>
                    </a:lnTo>
                    <a:lnTo>
                      <a:pt x="113" y="221"/>
                    </a:lnTo>
                    <a:lnTo>
                      <a:pt x="116" y="206"/>
                    </a:lnTo>
                    <a:lnTo>
                      <a:pt x="122" y="196"/>
                    </a:lnTo>
                    <a:lnTo>
                      <a:pt x="124" y="182"/>
                    </a:lnTo>
                    <a:lnTo>
                      <a:pt x="123" y="175"/>
                    </a:lnTo>
                    <a:lnTo>
                      <a:pt x="128" y="169"/>
                    </a:lnTo>
                    <a:lnTo>
                      <a:pt x="130" y="162"/>
                    </a:lnTo>
                    <a:lnTo>
                      <a:pt x="130" y="151"/>
                    </a:lnTo>
                    <a:lnTo>
                      <a:pt x="129" y="141"/>
                    </a:lnTo>
                    <a:lnTo>
                      <a:pt x="124" y="136"/>
                    </a:lnTo>
                    <a:lnTo>
                      <a:pt x="122" y="129"/>
                    </a:lnTo>
                    <a:lnTo>
                      <a:pt x="129" y="124"/>
                    </a:lnTo>
                    <a:lnTo>
                      <a:pt x="136" y="118"/>
                    </a:lnTo>
                    <a:lnTo>
                      <a:pt x="148" y="118"/>
                    </a:lnTo>
                    <a:lnTo>
                      <a:pt x="158" y="106"/>
                    </a:lnTo>
                    <a:lnTo>
                      <a:pt x="160" y="93"/>
                    </a:lnTo>
                    <a:lnTo>
                      <a:pt x="155" y="83"/>
                    </a:lnTo>
                    <a:lnTo>
                      <a:pt x="148" y="74"/>
                    </a:lnTo>
                    <a:lnTo>
                      <a:pt x="139" y="61"/>
                    </a:lnTo>
                    <a:lnTo>
                      <a:pt x="121" y="47"/>
                    </a:lnTo>
                    <a:lnTo>
                      <a:pt x="110" y="41"/>
                    </a:lnTo>
                    <a:lnTo>
                      <a:pt x="99" y="40"/>
                    </a:lnTo>
                    <a:lnTo>
                      <a:pt x="96" y="40"/>
                    </a:lnTo>
                    <a:lnTo>
                      <a:pt x="98" y="29"/>
                    </a:lnTo>
                    <a:lnTo>
                      <a:pt x="98" y="18"/>
                    </a:lnTo>
                    <a:lnTo>
                      <a:pt x="95" y="8"/>
                    </a:lnTo>
                    <a:lnTo>
                      <a:pt x="89" y="1"/>
                    </a:lnTo>
                    <a:lnTo>
                      <a:pt x="84" y="0"/>
                    </a:lnTo>
                    <a:lnTo>
                      <a:pt x="75" y="0"/>
                    </a:lnTo>
                    <a:lnTo>
                      <a:pt x="68" y="1"/>
                    </a:lnTo>
                    <a:lnTo>
                      <a:pt x="63" y="7"/>
                    </a:lnTo>
                    <a:lnTo>
                      <a:pt x="61" y="14"/>
                    </a:lnTo>
                    <a:lnTo>
                      <a:pt x="60" y="23"/>
                    </a:lnTo>
                    <a:lnTo>
                      <a:pt x="58" y="29"/>
                    </a:lnTo>
                    <a:lnTo>
                      <a:pt x="62" y="31"/>
                    </a:lnTo>
                    <a:lnTo>
                      <a:pt x="68" y="43"/>
                    </a:lnTo>
                    <a:lnTo>
                      <a:pt x="6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91919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8093160" y="3732120"/>
              <a:ext cx="19368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5"/>
            <a:stretch/>
          </p:blipFill>
          <p:spPr>
            <a:xfrm>
              <a:off x="8305920" y="3701880"/>
              <a:ext cx="328680" cy="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6566040" y="4575240"/>
            <a:ext cx="853920" cy="7524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6694560" y="4292640"/>
            <a:ext cx="6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445520" y="4297320"/>
            <a:ext cx="583920" cy="581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45320" y="2378160"/>
            <a:ext cx="1327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Performa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600960" y="3232080"/>
            <a:ext cx="1311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  <a:ea typeface="ARIAL"/>
              </a:rPr>
              <a:t>Us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  <a:ea typeface="ARIAL"/>
              </a:rPr>
              <a:t>Integrate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328920" y="2136600"/>
            <a:ext cx="1517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BS Gener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ficer Steer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328920" y="3371760"/>
            <a:ext cx="915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328920" y="468000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3363840" y="4951440"/>
            <a:ext cx="1230480" cy="45576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4853160" y="4702320"/>
            <a:ext cx="1084680" cy="1180080"/>
            <a:chOff x="4853160" y="4702320"/>
            <a:chExt cx="1084680" cy="1180080"/>
          </a:xfrm>
        </p:grpSpPr>
        <p:grpSp>
          <p:nvGrpSpPr>
            <p:cNvPr id="316" name=""/>
            <p:cNvGrpSpPr/>
            <p:nvPr/>
          </p:nvGrpSpPr>
          <p:grpSpPr>
            <a:xfrm>
              <a:off x="4853160" y="4702320"/>
              <a:ext cx="1084680" cy="1180080"/>
              <a:chOff x="4853160" y="4702320"/>
              <a:chExt cx="1084680" cy="1180080"/>
            </a:xfrm>
          </p:grpSpPr>
          <p:sp>
            <p:nvSpPr>
              <p:cNvPr id="317" name=""/>
              <p:cNvSpPr/>
              <p:nvPr/>
            </p:nvSpPr>
            <p:spPr>
              <a:xfrm>
                <a:off x="4937040" y="5767560"/>
                <a:ext cx="195480" cy="114840"/>
              </a:xfrm>
              <a:custGeom>
                <a:avLst/>
                <a:gdLst/>
                <a:ahLst/>
                <a:rect l="0" t="0" r="r" b="b"/>
                <a:pathLst>
                  <a:path w="543" h="319">
                    <a:moveTo>
                      <a:pt x="347" y="0"/>
                    </a:moveTo>
                    <a:lnTo>
                      <a:pt x="69" y="27"/>
                    </a:lnTo>
                    <a:lnTo>
                      <a:pt x="40" y="47"/>
                    </a:lnTo>
                    <a:lnTo>
                      <a:pt x="24" y="71"/>
                    </a:lnTo>
                    <a:lnTo>
                      <a:pt x="8" y="100"/>
                    </a:lnTo>
                    <a:lnTo>
                      <a:pt x="0" y="143"/>
                    </a:lnTo>
                    <a:lnTo>
                      <a:pt x="0" y="195"/>
                    </a:lnTo>
                    <a:lnTo>
                      <a:pt x="8" y="223"/>
                    </a:lnTo>
                    <a:lnTo>
                      <a:pt x="24" y="252"/>
                    </a:lnTo>
                    <a:lnTo>
                      <a:pt x="53" y="279"/>
                    </a:lnTo>
                    <a:lnTo>
                      <a:pt x="89" y="299"/>
                    </a:lnTo>
                    <a:lnTo>
                      <a:pt x="122" y="311"/>
                    </a:lnTo>
                    <a:lnTo>
                      <a:pt x="150" y="319"/>
                    </a:lnTo>
                    <a:lnTo>
                      <a:pt x="191" y="319"/>
                    </a:lnTo>
                    <a:lnTo>
                      <a:pt x="187" y="319"/>
                    </a:lnTo>
                    <a:lnTo>
                      <a:pt x="404" y="295"/>
                    </a:lnTo>
                    <a:lnTo>
                      <a:pt x="543" y="0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53160" y="4702320"/>
                <a:ext cx="1084680" cy="1179720"/>
              </a:xfrm>
              <a:custGeom>
                <a:avLst/>
                <a:gdLst/>
                <a:ahLst/>
                <a:rect l="0" t="0" r="r" b="b"/>
                <a:pathLst>
                  <a:path w="3013" h="3277">
                    <a:moveTo>
                      <a:pt x="188" y="3"/>
                    </a:moveTo>
                    <a:lnTo>
                      <a:pt x="168" y="11"/>
                    </a:lnTo>
                    <a:lnTo>
                      <a:pt x="140" y="23"/>
                    </a:lnTo>
                    <a:lnTo>
                      <a:pt x="108" y="55"/>
                    </a:lnTo>
                    <a:lnTo>
                      <a:pt x="64" y="99"/>
                    </a:lnTo>
                    <a:lnTo>
                      <a:pt x="32" y="143"/>
                    </a:lnTo>
                    <a:lnTo>
                      <a:pt x="12" y="195"/>
                    </a:lnTo>
                    <a:lnTo>
                      <a:pt x="4" y="239"/>
                    </a:lnTo>
                    <a:lnTo>
                      <a:pt x="0" y="295"/>
                    </a:lnTo>
                    <a:lnTo>
                      <a:pt x="0" y="351"/>
                    </a:lnTo>
                    <a:lnTo>
                      <a:pt x="8" y="399"/>
                    </a:lnTo>
                    <a:lnTo>
                      <a:pt x="12" y="447"/>
                    </a:lnTo>
                    <a:lnTo>
                      <a:pt x="24" y="487"/>
                    </a:lnTo>
                    <a:lnTo>
                      <a:pt x="52" y="599"/>
                    </a:lnTo>
                    <a:lnTo>
                      <a:pt x="96" y="723"/>
                    </a:lnTo>
                    <a:lnTo>
                      <a:pt x="160" y="859"/>
                    </a:lnTo>
                    <a:lnTo>
                      <a:pt x="225" y="1014"/>
                    </a:lnTo>
                    <a:lnTo>
                      <a:pt x="285" y="1150"/>
                    </a:lnTo>
                    <a:lnTo>
                      <a:pt x="341" y="1286"/>
                    </a:lnTo>
                    <a:lnTo>
                      <a:pt x="406" y="1450"/>
                    </a:lnTo>
                    <a:lnTo>
                      <a:pt x="462" y="1659"/>
                    </a:lnTo>
                    <a:lnTo>
                      <a:pt x="498" y="1842"/>
                    </a:lnTo>
                    <a:lnTo>
                      <a:pt x="534" y="2070"/>
                    </a:lnTo>
                    <a:lnTo>
                      <a:pt x="550" y="2314"/>
                    </a:lnTo>
                    <a:lnTo>
                      <a:pt x="579" y="2530"/>
                    </a:lnTo>
                    <a:lnTo>
                      <a:pt x="579" y="2650"/>
                    </a:lnTo>
                    <a:lnTo>
                      <a:pt x="579" y="2805"/>
                    </a:lnTo>
                    <a:lnTo>
                      <a:pt x="579" y="2905"/>
                    </a:lnTo>
                    <a:lnTo>
                      <a:pt x="571" y="2997"/>
                    </a:lnTo>
                    <a:lnTo>
                      <a:pt x="542" y="3093"/>
                    </a:lnTo>
                    <a:lnTo>
                      <a:pt x="522" y="3153"/>
                    </a:lnTo>
                    <a:lnTo>
                      <a:pt x="498" y="3201"/>
                    </a:lnTo>
                    <a:lnTo>
                      <a:pt x="470" y="3237"/>
                    </a:lnTo>
                    <a:lnTo>
                      <a:pt x="454" y="3257"/>
                    </a:lnTo>
                    <a:lnTo>
                      <a:pt x="434" y="3277"/>
                    </a:lnTo>
                    <a:lnTo>
                      <a:pt x="699" y="3245"/>
                    </a:lnTo>
                    <a:lnTo>
                      <a:pt x="1219" y="3177"/>
                    </a:lnTo>
                    <a:lnTo>
                      <a:pt x="1649" y="3121"/>
                    </a:lnTo>
                    <a:lnTo>
                      <a:pt x="2144" y="3065"/>
                    </a:lnTo>
                    <a:lnTo>
                      <a:pt x="2511" y="3049"/>
                    </a:lnTo>
                    <a:lnTo>
                      <a:pt x="2792" y="3057"/>
                    </a:lnTo>
                    <a:lnTo>
                      <a:pt x="2865" y="3057"/>
                    </a:lnTo>
                    <a:lnTo>
                      <a:pt x="2913" y="3049"/>
                    </a:lnTo>
                    <a:lnTo>
                      <a:pt x="2941" y="3005"/>
                    </a:lnTo>
                    <a:lnTo>
                      <a:pt x="2965" y="2953"/>
                    </a:lnTo>
                    <a:lnTo>
                      <a:pt x="2989" y="2881"/>
                    </a:lnTo>
                    <a:lnTo>
                      <a:pt x="3005" y="2789"/>
                    </a:lnTo>
                    <a:lnTo>
                      <a:pt x="3013" y="2706"/>
                    </a:lnTo>
                    <a:lnTo>
                      <a:pt x="3013" y="2578"/>
                    </a:lnTo>
                    <a:lnTo>
                      <a:pt x="3009" y="2482"/>
                    </a:lnTo>
                    <a:lnTo>
                      <a:pt x="3005" y="2322"/>
                    </a:lnTo>
                    <a:lnTo>
                      <a:pt x="2977" y="2150"/>
                    </a:lnTo>
                    <a:lnTo>
                      <a:pt x="2929" y="1926"/>
                    </a:lnTo>
                    <a:lnTo>
                      <a:pt x="2877" y="1723"/>
                    </a:lnTo>
                    <a:lnTo>
                      <a:pt x="2828" y="1542"/>
                    </a:lnTo>
                    <a:lnTo>
                      <a:pt x="2756" y="1342"/>
                    </a:lnTo>
                    <a:lnTo>
                      <a:pt x="2684" y="1162"/>
                    </a:lnTo>
                    <a:lnTo>
                      <a:pt x="2619" y="990"/>
                    </a:lnTo>
                    <a:lnTo>
                      <a:pt x="2519" y="743"/>
                    </a:lnTo>
                    <a:lnTo>
                      <a:pt x="2466" y="599"/>
                    </a:lnTo>
                    <a:lnTo>
                      <a:pt x="2430" y="499"/>
                    </a:lnTo>
                    <a:lnTo>
                      <a:pt x="2414" y="427"/>
                    </a:lnTo>
                    <a:lnTo>
                      <a:pt x="2406" y="355"/>
                    </a:lnTo>
                    <a:lnTo>
                      <a:pt x="2406" y="291"/>
                    </a:lnTo>
                    <a:lnTo>
                      <a:pt x="2446" y="71"/>
                    </a:lnTo>
                    <a:lnTo>
                      <a:pt x="2466" y="27"/>
                    </a:lnTo>
                    <a:lnTo>
                      <a:pt x="217" y="0"/>
                    </a:lnTo>
                    <a:lnTo>
                      <a:pt x="188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06800" y="4756320"/>
                <a:ext cx="92520" cy="78120"/>
              </a:xfrm>
              <a:custGeom>
                <a:avLst/>
                <a:gdLst/>
                <a:ahLst/>
                <a:rect l="0" t="0" r="r" b="b"/>
                <a:pathLst>
                  <a:path w="257" h="217">
                    <a:moveTo>
                      <a:pt x="257" y="16"/>
                    </a:moveTo>
                    <a:lnTo>
                      <a:pt x="190" y="197"/>
                    </a:lnTo>
                    <a:lnTo>
                      <a:pt x="124" y="217"/>
                    </a:lnTo>
                    <a:lnTo>
                      <a:pt x="91" y="213"/>
                    </a:lnTo>
                    <a:lnTo>
                      <a:pt x="57" y="201"/>
                    </a:lnTo>
                    <a:lnTo>
                      <a:pt x="33" y="181"/>
                    </a:lnTo>
                    <a:lnTo>
                      <a:pt x="16" y="157"/>
                    </a:lnTo>
                    <a:lnTo>
                      <a:pt x="4" y="133"/>
                    </a:lnTo>
                    <a:lnTo>
                      <a:pt x="0" y="104"/>
                    </a:lnTo>
                    <a:lnTo>
                      <a:pt x="4" y="76"/>
                    </a:lnTo>
                    <a:lnTo>
                      <a:pt x="12" y="52"/>
                    </a:lnTo>
                    <a:lnTo>
                      <a:pt x="28" y="32"/>
                    </a:lnTo>
                    <a:lnTo>
                      <a:pt x="53" y="20"/>
                    </a:lnTo>
                    <a:lnTo>
                      <a:pt x="83" y="12"/>
                    </a:lnTo>
                    <a:lnTo>
                      <a:pt x="108" y="8"/>
                    </a:lnTo>
                    <a:lnTo>
                      <a:pt x="133" y="0"/>
                    </a:lnTo>
                    <a:lnTo>
                      <a:pt x="153" y="0"/>
                    </a:lnTo>
                    <a:lnTo>
                      <a:pt x="178" y="0"/>
                    </a:lnTo>
                    <a:lnTo>
                      <a:pt x="257" y="16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43520" y="4751280"/>
                <a:ext cx="62280" cy="63720"/>
              </a:xfrm>
              <a:custGeom>
                <a:avLst/>
                <a:gdLst/>
                <a:ahLst/>
                <a:rect l="0" t="0" r="r" b="b"/>
                <a:pathLst>
                  <a:path w="173" h="177">
                    <a:moveTo>
                      <a:pt x="0" y="20"/>
                    </a:moveTo>
                    <a:lnTo>
                      <a:pt x="31" y="44"/>
                    </a:lnTo>
                    <a:lnTo>
                      <a:pt x="48" y="68"/>
                    </a:lnTo>
                    <a:lnTo>
                      <a:pt x="56" y="89"/>
                    </a:lnTo>
                    <a:lnTo>
                      <a:pt x="56" y="125"/>
                    </a:lnTo>
                    <a:lnTo>
                      <a:pt x="52" y="149"/>
                    </a:lnTo>
                    <a:lnTo>
                      <a:pt x="31" y="177"/>
                    </a:lnTo>
                    <a:lnTo>
                      <a:pt x="173" y="145"/>
                    </a:lnTo>
                    <a:lnTo>
                      <a:pt x="16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24440" y="4702320"/>
                <a:ext cx="911520" cy="132120"/>
              </a:xfrm>
              <a:custGeom>
                <a:avLst/>
                <a:gdLst/>
                <a:ahLst/>
                <a:rect l="0" t="0" r="r" b="b"/>
                <a:pathLst>
                  <a:path w="2532" h="367">
                    <a:moveTo>
                      <a:pt x="2394" y="28"/>
                    </a:moveTo>
                    <a:lnTo>
                      <a:pt x="0" y="0"/>
                    </a:lnTo>
                    <a:lnTo>
                      <a:pt x="68" y="12"/>
                    </a:lnTo>
                    <a:lnTo>
                      <a:pt x="92" y="16"/>
                    </a:lnTo>
                    <a:lnTo>
                      <a:pt x="117" y="28"/>
                    </a:lnTo>
                    <a:lnTo>
                      <a:pt x="133" y="44"/>
                    </a:lnTo>
                    <a:lnTo>
                      <a:pt x="153" y="68"/>
                    </a:lnTo>
                    <a:lnTo>
                      <a:pt x="161" y="100"/>
                    </a:lnTo>
                    <a:lnTo>
                      <a:pt x="169" y="128"/>
                    </a:lnTo>
                    <a:lnTo>
                      <a:pt x="173" y="160"/>
                    </a:lnTo>
                    <a:lnTo>
                      <a:pt x="173" y="186"/>
                    </a:lnTo>
                    <a:lnTo>
                      <a:pt x="169" y="226"/>
                    </a:lnTo>
                    <a:lnTo>
                      <a:pt x="161" y="262"/>
                    </a:lnTo>
                    <a:lnTo>
                      <a:pt x="145" y="294"/>
                    </a:lnTo>
                    <a:lnTo>
                      <a:pt x="121" y="322"/>
                    </a:lnTo>
                    <a:lnTo>
                      <a:pt x="88" y="346"/>
                    </a:lnTo>
                    <a:lnTo>
                      <a:pt x="64" y="367"/>
                    </a:lnTo>
                    <a:lnTo>
                      <a:pt x="217" y="346"/>
                    </a:lnTo>
                    <a:lnTo>
                      <a:pt x="395" y="318"/>
                    </a:lnTo>
                    <a:lnTo>
                      <a:pt x="670" y="302"/>
                    </a:lnTo>
                    <a:lnTo>
                      <a:pt x="900" y="282"/>
                    </a:lnTo>
                    <a:lnTo>
                      <a:pt x="1174" y="282"/>
                    </a:lnTo>
                    <a:lnTo>
                      <a:pt x="1478" y="294"/>
                    </a:lnTo>
                    <a:lnTo>
                      <a:pt x="1853" y="302"/>
                    </a:lnTo>
                    <a:lnTo>
                      <a:pt x="2213" y="330"/>
                    </a:lnTo>
                    <a:lnTo>
                      <a:pt x="2358" y="354"/>
                    </a:lnTo>
                    <a:lnTo>
                      <a:pt x="2402" y="362"/>
                    </a:lnTo>
                    <a:lnTo>
                      <a:pt x="2447" y="362"/>
                    </a:lnTo>
                    <a:lnTo>
                      <a:pt x="2479" y="354"/>
                    </a:lnTo>
                    <a:lnTo>
                      <a:pt x="2507" y="330"/>
                    </a:lnTo>
                    <a:lnTo>
                      <a:pt x="2520" y="294"/>
                    </a:lnTo>
                    <a:lnTo>
                      <a:pt x="2528" y="266"/>
                    </a:lnTo>
                    <a:lnTo>
                      <a:pt x="2532" y="234"/>
                    </a:lnTo>
                    <a:lnTo>
                      <a:pt x="2528" y="176"/>
                    </a:lnTo>
                    <a:lnTo>
                      <a:pt x="2516" y="140"/>
                    </a:lnTo>
                    <a:lnTo>
                      <a:pt x="2495" y="100"/>
                    </a:lnTo>
                    <a:lnTo>
                      <a:pt x="2479" y="76"/>
                    </a:lnTo>
                    <a:lnTo>
                      <a:pt x="2459" y="56"/>
                    </a:lnTo>
                    <a:lnTo>
                      <a:pt x="2431" y="36"/>
                    </a:lnTo>
                    <a:lnTo>
                      <a:pt x="2394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602320" y="5353200"/>
              <a:ext cx="279720" cy="410040"/>
              <a:chOff x="5602320" y="5353200"/>
              <a:chExt cx="279720" cy="410040"/>
            </a:xfrm>
          </p:grpSpPr>
          <p:sp>
            <p:nvSpPr>
              <p:cNvPr id="323" name=""/>
              <p:cNvSpPr/>
              <p:nvPr/>
            </p:nvSpPr>
            <p:spPr>
              <a:xfrm>
                <a:off x="5602320" y="5483160"/>
                <a:ext cx="246240" cy="249120"/>
              </a:xfrm>
              <a:prstGeom prst="round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24640" y="5353200"/>
                <a:ext cx="257400" cy="410040"/>
              </a:xfrm>
              <a:custGeom>
                <a:avLst/>
                <a:gdLst/>
                <a:ahLst/>
                <a:rect l="0" t="0" r="r" b="b"/>
                <a:pathLst>
                  <a:path w="715" h="1139">
                    <a:moveTo>
                      <a:pt x="81" y="532"/>
                    </a:moveTo>
                    <a:lnTo>
                      <a:pt x="0" y="839"/>
                    </a:lnTo>
                    <a:lnTo>
                      <a:pt x="275" y="1139"/>
                    </a:lnTo>
                    <a:lnTo>
                      <a:pt x="715" y="129"/>
                    </a:lnTo>
                    <a:lnTo>
                      <a:pt x="715" y="0"/>
                    </a:lnTo>
                    <a:lnTo>
                      <a:pt x="225" y="847"/>
                    </a:lnTo>
                    <a:lnTo>
                      <a:pt x="81" y="5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 txBox="1"/>
            <p:nvPr/>
          </p:nvSpPr>
          <p:spPr>
            <a:xfrm>
              <a:off x="5030640" y="5472000"/>
              <a:ext cx="560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114ffb"/>
                  </a:solidFill>
                  <a:latin typeface="ARIAL"/>
                  <a:ea typeface="ARIAL"/>
                </a:rPr>
                <a:t>YES!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962600" y="4813200"/>
              <a:ext cx="789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D(A&amp;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046840" y="5175360"/>
              <a:ext cx="69660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118120" y="5243400"/>
              <a:ext cx="62532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186520" y="5313240"/>
              <a:ext cx="626760" cy="6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853160" y="1868400"/>
            <a:ext cx="1084680" cy="1181520"/>
            <a:chOff x="4853160" y="1868400"/>
            <a:chExt cx="1084680" cy="1181520"/>
          </a:xfrm>
        </p:grpSpPr>
        <p:grpSp>
          <p:nvGrpSpPr>
            <p:cNvPr id="331" name=""/>
            <p:cNvGrpSpPr/>
            <p:nvPr/>
          </p:nvGrpSpPr>
          <p:grpSpPr>
            <a:xfrm>
              <a:off x="4853160" y="1868400"/>
              <a:ext cx="1084680" cy="1181520"/>
              <a:chOff x="4853160" y="1868400"/>
              <a:chExt cx="1084680" cy="1181520"/>
            </a:xfrm>
          </p:grpSpPr>
          <p:sp>
            <p:nvSpPr>
              <p:cNvPr id="332" name=""/>
              <p:cNvSpPr/>
              <p:nvPr/>
            </p:nvSpPr>
            <p:spPr>
              <a:xfrm>
                <a:off x="4937040" y="2933640"/>
                <a:ext cx="195480" cy="116280"/>
              </a:xfrm>
              <a:custGeom>
                <a:avLst/>
                <a:gdLst/>
                <a:ahLst/>
                <a:rect l="0" t="0" r="r" b="b"/>
                <a:pathLst>
                  <a:path w="543" h="323">
                    <a:moveTo>
                      <a:pt x="347" y="0"/>
                    </a:moveTo>
                    <a:lnTo>
                      <a:pt x="69" y="28"/>
                    </a:lnTo>
                    <a:lnTo>
                      <a:pt x="40" y="48"/>
                    </a:lnTo>
                    <a:lnTo>
                      <a:pt x="24" y="72"/>
                    </a:lnTo>
                    <a:lnTo>
                      <a:pt x="8" y="101"/>
                    </a:lnTo>
                    <a:lnTo>
                      <a:pt x="0" y="145"/>
                    </a:lnTo>
                    <a:lnTo>
                      <a:pt x="0" y="198"/>
                    </a:lnTo>
                    <a:lnTo>
                      <a:pt x="8" y="226"/>
                    </a:lnTo>
                    <a:lnTo>
                      <a:pt x="24" y="255"/>
                    </a:lnTo>
                    <a:lnTo>
                      <a:pt x="53" y="283"/>
                    </a:lnTo>
                    <a:lnTo>
                      <a:pt x="89" y="303"/>
                    </a:lnTo>
                    <a:lnTo>
                      <a:pt x="122" y="315"/>
                    </a:lnTo>
                    <a:lnTo>
                      <a:pt x="150" y="323"/>
                    </a:lnTo>
                    <a:lnTo>
                      <a:pt x="191" y="323"/>
                    </a:lnTo>
                    <a:lnTo>
                      <a:pt x="187" y="323"/>
                    </a:lnTo>
                    <a:lnTo>
                      <a:pt x="404" y="299"/>
                    </a:lnTo>
                    <a:lnTo>
                      <a:pt x="543" y="0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53160" y="1868400"/>
                <a:ext cx="1084680" cy="1181520"/>
              </a:xfrm>
              <a:custGeom>
                <a:avLst/>
                <a:gdLst/>
                <a:ahLst/>
                <a:rect l="0" t="0" r="r" b="b"/>
                <a:pathLst>
                  <a:path w="3013" h="3282">
                    <a:moveTo>
                      <a:pt x="188" y="4"/>
                    </a:moveTo>
                    <a:lnTo>
                      <a:pt x="168" y="12"/>
                    </a:lnTo>
                    <a:lnTo>
                      <a:pt x="140" y="24"/>
                    </a:lnTo>
                    <a:lnTo>
                      <a:pt x="108" y="56"/>
                    </a:lnTo>
                    <a:lnTo>
                      <a:pt x="64" y="100"/>
                    </a:lnTo>
                    <a:lnTo>
                      <a:pt x="32" y="144"/>
                    </a:lnTo>
                    <a:lnTo>
                      <a:pt x="12" y="196"/>
                    </a:lnTo>
                    <a:lnTo>
                      <a:pt x="4" y="240"/>
                    </a:lnTo>
                    <a:lnTo>
                      <a:pt x="0" y="296"/>
                    </a:lnTo>
                    <a:lnTo>
                      <a:pt x="0" y="352"/>
                    </a:lnTo>
                    <a:lnTo>
                      <a:pt x="8" y="400"/>
                    </a:lnTo>
                    <a:lnTo>
                      <a:pt x="12" y="448"/>
                    </a:lnTo>
                    <a:lnTo>
                      <a:pt x="24" y="488"/>
                    </a:lnTo>
                    <a:lnTo>
                      <a:pt x="52" y="600"/>
                    </a:lnTo>
                    <a:lnTo>
                      <a:pt x="96" y="724"/>
                    </a:lnTo>
                    <a:lnTo>
                      <a:pt x="160" y="861"/>
                    </a:lnTo>
                    <a:lnTo>
                      <a:pt x="225" y="1017"/>
                    </a:lnTo>
                    <a:lnTo>
                      <a:pt x="285" y="1153"/>
                    </a:lnTo>
                    <a:lnTo>
                      <a:pt x="341" y="1289"/>
                    </a:lnTo>
                    <a:lnTo>
                      <a:pt x="406" y="1453"/>
                    </a:lnTo>
                    <a:lnTo>
                      <a:pt x="462" y="1661"/>
                    </a:lnTo>
                    <a:lnTo>
                      <a:pt x="498" y="1845"/>
                    </a:lnTo>
                    <a:lnTo>
                      <a:pt x="534" y="2073"/>
                    </a:lnTo>
                    <a:lnTo>
                      <a:pt x="550" y="2317"/>
                    </a:lnTo>
                    <a:lnTo>
                      <a:pt x="579" y="2534"/>
                    </a:lnTo>
                    <a:lnTo>
                      <a:pt x="579" y="2654"/>
                    </a:lnTo>
                    <a:lnTo>
                      <a:pt x="579" y="2810"/>
                    </a:lnTo>
                    <a:lnTo>
                      <a:pt x="579" y="2910"/>
                    </a:lnTo>
                    <a:lnTo>
                      <a:pt x="571" y="3002"/>
                    </a:lnTo>
                    <a:lnTo>
                      <a:pt x="542" y="3098"/>
                    </a:lnTo>
                    <a:lnTo>
                      <a:pt x="522" y="3158"/>
                    </a:lnTo>
                    <a:lnTo>
                      <a:pt x="498" y="3206"/>
                    </a:lnTo>
                    <a:lnTo>
                      <a:pt x="470" y="3242"/>
                    </a:lnTo>
                    <a:lnTo>
                      <a:pt x="454" y="3262"/>
                    </a:lnTo>
                    <a:lnTo>
                      <a:pt x="434" y="3282"/>
                    </a:lnTo>
                    <a:lnTo>
                      <a:pt x="699" y="3250"/>
                    </a:lnTo>
                    <a:lnTo>
                      <a:pt x="1219" y="3182"/>
                    </a:lnTo>
                    <a:lnTo>
                      <a:pt x="1649" y="3126"/>
                    </a:lnTo>
                    <a:lnTo>
                      <a:pt x="2144" y="3070"/>
                    </a:lnTo>
                    <a:lnTo>
                      <a:pt x="2511" y="3054"/>
                    </a:lnTo>
                    <a:lnTo>
                      <a:pt x="2792" y="3062"/>
                    </a:lnTo>
                    <a:lnTo>
                      <a:pt x="2865" y="3062"/>
                    </a:lnTo>
                    <a:lnTo>
                      <a:pt x="2913" y="3054"/>
                    </a:lnTo>
                    <a:lnTo>
                      <a:pt x="2941" y="3010"/>
                    </a:lnTo>
                    <a:lnTo>
                      <a:pt x="2965" y="2958"/>
                    </a:lnTo>
                    <a:lnTo>
                      <a:pt x="2989" y="2886"/>
                    </a:lnTo>
                    <a:lnTo>
                      <a:pt x="3005" y="2794"/>
                    </a:lnTo>
                    <a:lnTo>
                      <a:pt x="3013" y="2710"/>
                    </a:lnTo>
                    <a:lnTo>
                      <a:pt x="3013" y="2582"/>
                    </a:lnTo>
                    <a:lnTo>
                      <a:pt x="3009" y="2486"/>
                    </a:lnTo>
                    <a:lnTo>
                      <a:pt x="3005" y="2325"/>
                    </a:lnTo>
                    <a:lnTo>
                      <a:pt x="2977" y="2153"/>
                    </a:lnTo>
                    <a:lnTo>
                      <a:pt x="2929" y="1929"/>
                    </a:lnTo>
                    <a:lnTo>
                      <a:pt x="2877" y="1725"/>
                    </a:lnTo>
                    <a:lnTo>
                      <a:pt x="2828" y="1545"/>
                    </a:lnTo>
                    <a:lnTo>
                      <a:pt x="2756" y="1345"/>
                    </a:lnTo>
                    <a:lnTo>
                      <a:pt x="2684" y="1165"/>
                    </a:lnTo>
                    <a:lnTo>
                      <a:pt x="2619" y="993"/>
                    </a:lnTo>
                    <a:lnTo>
                      <a:pt x="2519" y="744"/>
                    </a:lnTo>
                    <a:lnTo>
                      <a:pt x="2466" y="600"/>
                    </a:lnTo>
                    <a:lnTo>
                      <a:pt x="2430" y="500"/>
                    </a:lnTo>
                    <a:lnTo>
                      <a:pt x="2414" y="428"/>
                    </a:lnTo>
                    <a:lnTo>
                      <a:pt x="2406" y="356"/>
                    </a:lnTo>
                    <a:lnTo>
                      <a:pt x="2406" y="292"/>
                    </a:lnTo>
                    <a:lnTo>
                      <a:pt x="2446" y="72"/>
                    </a:lnTo>
                    <a:lnTo>
                      <a:pt x="2466" y="28"/>
                    </a:lnTo>
                    <a:lnTo>
                      <a:pt x="217" y="0"/>
                    </a:lnTo>
                    <a:lnTo>
                      <a:pt x="188" y="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6800" y="1922400"/>
                <a:ext cx="92520" cy="78120"/>
              </a:xfrm>
              <a:custGeom>
                <a:avLst/>
                <a:gdLst/>
                <a:ahLst/>
                <a:rect l="0" t="0" r="r" b="b"/>
                <a:pathLst>
                  <a:path w="257" h="217">
                    <a:moveTo>
                      <a:pt x="257" y="16"/>
                    </a:moveTo>
                    <a:lnTo>
                      <a:pt x="190" y="197"/>
                    </a:lnTo>
                    <a:lnTo>
                      <a:pt x="124" y="217"/>
                    </a:lnTo>
                    <a:lnTo>
                      <a:pt x="91" y="213"/>
                    </a:lnTo>
                    <a:lnTo>
                      <a:pt x="57" y="201"/>
                    </a:lnTo>
                    <a:lnTo>
                      <a:pt x="33" y="181"/>
                    </a:lnTo>
                    <a:lnTo>
                      <a:pt x="16" y="157"/>
                    </a:lnTo>
                    <a:lnTo>
                      <a:pt x="4" y="133"/>
                    </a:lnTo>
                    <a:lnTo>
                      <a:pt x="0" y="104"/>
                    </a:lnTo>
                    <a:lnTo>
                      <a:pt x="4" y="76"/>
                    </a:lnTo>
                    <a:lnTo>
                      <a:pt x="12" y="52"/>
                    </a:lnTo>
                    <a:lnTo>
                      <a:pt x="28" y="32"/>
                    </a:lnTo>
                    <a:lnTo>
                      <a:pt x="53" y="20"/>
                    </a:lnTo>
                    <a:lnTo>
                      <a:pt x="83" y="12"/>
                    </a:lnTo>
                    <a:lnTo>
                      <a:pt x="108" y="8"/>
                    </a:lnTo>
                    <a:lnTo>
                      <a:pt x="133" y="0"/>
                    </a:lnTo>
                    <a:lnTo>
                      <a:pt x="153" y="0"/>
                    </a:lnTo>
                    <a:lnTo>
                      <a:pt x="178" y="0"/>
                    </a:lnTo>
                    <a:lnTo>
                      <a:pt x="257" y="16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43520" y="1917720"/>
                <a:ext cx="62280" cy="63720"/>
              </a:xfrm>
              <a:custGeom>
                <a:avLst/>
                <a:gdLst/>
                <a:ahLst/>
                <a:rect l="0" t="0" r="r" b="b"/>
                <a:pathLst>
                  <a:path w="173" h="177">
                    <a:moveTo>
                      <a:pt x="0" y="20"/>
                    </a:moveTo>
                    <a:lnTo>
                      <a:pt x="31" y="44"/>
                    </a:lnTo>
                    <a:lnTo>
                      <a:pt x="48" y="68"/>
                    </a:lnTo>
                    <a:lnTo>
                      <a:pt x="56" y="89"/>
                    </a:lnTo>
                    <a:lnTo>
                      <a:pt x="56" y="125"/>
                    </a:lnTo>
                    <a:lnTo>
                      <a:pt x="52" y="149"/>
                    </a:lnTo>
                    <a:lnTo>
                      <a:pt x="31" y="177"/>
                    </a:lnTo>
                    <a:lnTo>
                      <a:pt x="173" y="145"/>
                    </a:lnTo>
                    <a:lnTo>
                      <a:pt x="16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24440" y="1868400"/>
                <a:ext cx="911520" cy="132120"/>
              </a:xfrm>
              <a:custGeom>
                <a:avLst/>
                <a:gdLst/>
                <a:ahLst/>
                <a:rect l="0" t="0" r="r" b="b"/>
                <a:pathLst>
                  <a:path w="2532" h="367">
                    <a:moveTo>
                      <a:pt x="2394" y="28"/>
                    </a:moveTo>
                    <a:lnTo>
                      <a:pt x="0" y="0"/>
                    </a:lnTo>
                    <a:lnTo>
                      <a:pt x="68" y="12"/>
                    </a:lnTo>
                    <a:lnTo>
                      <a:pt x="92" y="16"/>
                    </a:lnTo>
                    <a:lnTo>
                      <a:pt x="117" y="28"/>
                    </a:lnTo>
                    <a:lnTo>
                      <a:pt x="133" y="44"/>
                    </a:lnTo>
                    <a:lnTo>
                      <a:pt x="153" y="68"/>
                    </a:lnTo>
                    <a:lnTo>
                      <a:pt x="161" y="100"/>
                    </a:lnTo>
                    <a:lnTo>
                      <a:pt x="169" y="128"/>
                    </a:lnTo>
                    <a:lnTo>
                      <a:pt x="173" y="160"/>
                    </a:lnTo>
                    <a:lnTo>
                      <a:pt x="173" y="186"/>
                    </a:lnTo>
                    <a:lnTo>
                      <a:pt x="169" y="226"/>
                    </a:lnTo>
                    <a:lnTo>
                      <a:pt x="161" y="262"/>
                    </a:lnTo>
                    <a:lnTo>
                      <a:pt x="145" y="294"/>
                    </a:lnTo>
                    <a:lnTo>
                      <a:pt x="121" y="322"/>
                    </a:lnTo>
                    <a:lnTo>
                      <a:pt x="88" y="346"/>
                    </a:lnTo>
                    <a:lnTo>
                      <a:pt x="64" y="367"/>
                    </a:lnTo>
                    <a:lnTo>
                      <a:pt x="217" y="346"/>
                    </a:lnTo>
                    <a:lnTo>
                      <a:pt x="395" y="318"/>
                    </a:lnTo>
                    <a:lnTo>
                      <a:pt x="670" y="302"/>
                    </a:lnTo>
                    <a:lnTo>
                      <a:pt x="900" y="282"/>
                    </a:lnTo>
                    <a:lnTo>
                      <a:pt x="1174" y="282"/>
                    </a:lnTo>
                    <a:lnTo>
                      <a:pt x="1478" y="294"/>
                    </a:lnTo>
                    <a:lnTo>
                      <a:pt x="1853" y="302"/>
                    </a:lnTo>
                    <a:lnTo>
                      <a:pt x="2213" y="330"/>
                    </a:lnTo>
                    <a:lnTo>
                      <a:pt x="2358" y="354"/>
                    </a:lnTo>
                    <a:lnTo>
                      <a:pt x="2402" y="362"/>
                    </a:lnTo>
                    <a:lnTo>
                      <a:pt x="2447" y="362"/>
                    </a:lnTo>
                    <a:lnTo>
                      <a:pt x="2479" y="354"/>
                    </a:lnTo>
                    <a:lnTo>
                      <a:pt x="2507" y="330"/>
                    </a:lnTo>
                    <a:lnTo>
                      <a:pt x="2520" y="294"/>
                    </a:lnTo>
                    <a:lnTo>
                      <a:pt x="2528" y="266"/>
                    </a:lnTo>
                    <a:lnTo>
                      <a:pt x="2532" y="234"/>
                    </a:lnTo>
                    <a:lnTo>
                      <a:pt x="2528" y="176"/>
                    </a:lnTo>
                    <a:lnTo>
                      <a:pt x="2516" y="140"/>
                    </a:lnTo>
                    <a:lnTo>
                      <a:pt x="2495" y="100"/>
                    </a:lnTo>
                    <a:lnTo>
                      <a:pt x="2479" y="76"/>
                    </a:lnTo>
                    <a:lnTo>
                      <a:pt x="2459" y="56"/>
                    </a:lnTo>
                    <a:lnTo>
                      <a:pt x="2431" y="36"/>
                    </a:lnTo>
                    <a:lnTo>
                      <a:pt x="2394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5602320" y="2521080"/>
              <a:ext cx="279720" cy="408240"/>
              <a:chOff x="5602320" y="2521080"/>
              <a:chExt cx="279720" cy="408240"/>
            </a:xfrm>
          </p:grpSpPr>
          <p:sp>
            <p:nvSpPr>
              <p:cNvPr id="338" name=""/>
              <p:cNvSpPr/>
              <p:nvPr/>
            </p:nvSpPr>
            <p:spPr>
              <a:xfrm>
                <a:off x="5602320" y="2647800"/>
                <a:ext cx="246240" cy="250920"/>
              </a:xfrm>
              <a:prstGeom prst="round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24640" y="2521080"/>
                <a:ext cx="257400" cy="408240"/>
              </a:xfrm>
              <a:custGeom>
                <a:avLst/>
                <a:gdLst/>
                <a:ahLst/>
                <a:rect l="0" t="0" r="r" b="b"/>
                <a:pathLst>
                  <a:path w="715" h="1134">
                    <a:moveTo>
                      <a:pt x="81" y="529"/>
                    </a:moveTo>
                    <a:lnTo>
                      <a:pt x="0" y="836"/>
                    </a:lnTo>
                    <a:lnTo>
                      <a:pt x="275" y="1134"/>
                    </a:lnTo>
                    <a:lnTo>
                      <a:pt x="715" y="129"/>
                    </a:lnTo>
                    <a:lnTo>
                      <a:pt x="715" y="0"/>
                    </a:lnTo>
                    <a:lnTo>
                      <a:pt x="225" y="844"/>
                    </a:lnTo>
                    <a:lnTo>
                      <a:pt x="81" y="5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 txBox="1"/>
            <p:nvPr/>
          </p:nvSpPr>
          <p:spPr>
            <a:xfrm>
              <a:off x="5030640" y="2638440"/>
              <a:ext cx="560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114ffb"/>
                  </a:solidFill>
                  <a:latin typeface="ARIAL"/>
                  <a:ea typeface="ARIAL"/>
                </a:rPr>
                <a:t>YES!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4863960" y="2052720"/>
              <a:ext cx="9856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ors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046840" y="2341440"/>
              <a:ext cx="69660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118120" y="2409840"/>
              <a:ext cx="62532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186520" y="2479680"/>
              <a:ext cx="62676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046840" y="2270160"/>
              <a:ext cx="696600" cy="66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853160" y="3321000"/>
            <a:ext cx="1084680" cy="1181520"/>
            <a:chOff x="4853160" y="3321000"/>
            <a:chExt cx="1084680" cy="1181520"/>
          </a:xfrm>
        </p:grpSpPr>
        <p:grpSp>
          <p:nvGrpSpPr>
            <p:cNvPr id="347" name=""/>
            <p:cNvGrpSpPr/>
            <p:nvPr/>
          </p:nvGrpSpPr>
          <p:grpSpPr>
            <a:xfrm>
              <a:off x="4853160" y="3321000"/>
              <a:ext cx="1084680" cy="1181520"/>
              <a:chOff x="4853160" y="3321000"/>
              <a:chExt cx="1084680" cy="1181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937040" y="4386240"/>
                <a:ext cx="195480" cy="116280"/>
              </a:xfrm>
              <a:custGeom>
                <a:avLst/>
                <a:gdLst/>
                <a:ahLst/>
                <a:rect l="0" t="0" r="r" b="b"/>
                <a:pathLst>
                  <a:path w="543" h="323">
                    <a:moveTo>
                      <a:pt x="347" y="0"/>
                    </a:moveTo>
                    <a:lnTo>
                      <a:pt x="69" y="28"/>
                    </a:lnTo>
                    <a:lnTo>
                      <a:pt x="40" y="48"/>
                    </a:lnTo>
                    <a:lnTo>
                      <a:pt x="24" y="72"/>
                    </a:lnTo>
                    <a:lnTo>
                      <a:pt x="8" y="101"/>
                    </a:lnTo>
                    <a:lnTo>
                      <a:pt x="0" y="145"/>
                    </a:lnTo>
                    <a:lnTo>
                      <a:pt x="0" y="198"/>
                    </a:lnTo>
                    <a:lnTo>
                      <a:pt x="8" y="226"/>
                    </a:lnTo>
                    <a:lnTo>
                      <a:pt x="24" y="255"/>
                    </a:lnTo>
                    <a:lnTo>
                      <a:pt x="53" y="283"/>
                    </a:lnTo>
                    <a:lnTo>
                      <a:pt x="89" y="303"/>
                    </a:lnTo>
                    <a:lnTo>
                      <a:pt x="122" y="315"/>
                    </a:lnTo>
                    <a:lnTo>
                      <a:pt x="150" y="323"/>
                    </a:lnTo>
                    <a:lnTo>
                      <a:pt x="191" y="323"/>
                    </a:lnTo>
                    <a:lnTo>
                      <a:pt x="187" y="323"/>
                    </a:lnTo>
                    <a:lnTo>
                      <a:pt x="404" y="299"/>
                    </a:lnTo>
                    <a:lnTo>
                      <a:pt x="543" y="0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53160" y="3321000"/>
                <a:ext cx="1084680" cy="1181520"/>
              </a:xfrm>
              <a:custGeom>
                <a:avLst/>
                <a:gdLst/>
                <a:ahLst/>
                <a:rect l="0" t="0" r="r" b="b"/>
                <a:pathLst>
                  <a:path w="3013" h="3282">
                    <a:moveTo>
                      <a:pt x="188" y="4"/>
                    </a:moveTo>
                    <a:lnTo>
                      <a:pt x="168" y="12"/>
                    </a:lnTo>
                    <a:lnTo>
                      <a:pt x="140" y="24"/>
                    </a:lnTo>
                    <a:lnTo>
                      <a:pt x="108" y="56"/>
                    </a:lnTo>
                    <a:lnTo>
                      <a:pt x="64" y="100"/>
                    </a:lnTo>
                    <a:lnTo>
                      <a:pt x="32" y="144"/>
                    </a:lnTo>
                    <a:lnTo>
                      <a:pt x="12" y="196"/>
                    </a:lnTo>
                    <a:lnTo>
                      <a:pt x="4" y="240"/>
                    </a:lnTo>
                    <a:lnTo>
                      <a:pt x="0" y="296"/>
                    </a:lnTo>
                    <a:lnTo>
                      <a:pt x="0" y="352"/>
                    </a:lnTo>
                    <a:lnTo>
                      <a:pt x="8" y="400"/>
                    </a:lnTo>
                    <a:lnTo>
                      <a:pt x="12" y="448"/>
                    </a:lnTo>
                    <a:lnTo>
                      <a:pt x="24" y="488"/>
                    </a:lnTo>
                    <a:lnTo>
                      <a:pt x="52" y="600"/>
                    </a:lnTo>
                    <a:lnTo>
                      <a:pt x="96" y="724"/>
                    </a:lnTo>
                    <a:lnTo>
                      <a:pt x="160" y="861"/>
                    </a:lnTo>
                    <a:lnTo>
                      <a:pt x="225" y="1017"/>
                    </a:lnTo>
                    <a:lnTo>
                      <a:pt x="285" y="1153"/>
                    </a:lnTo>
                    <a:lnTo>
                      <a:pt x="341" y="1289"/>
                    </a:lnTo>
                    <a:lnTo>
                      <a:pt x="406" y="1453"/>
                    </a:lnTo>
                    <a:lnTo>
                      <a:pt x="462" y="1661"/>
                    </a:lnTo>
                    <a:lnTo>
                      <a:pt x="498" y="1845"/>
                    </a:lnTo>
                    <a:lnTo>
                      <a:pt x="534" y="2073"/>
                    </a:lnTo>
                    <a:lnTo>
                      <a:pt x="550" y="2317"/>
                    </a:lnTo>
                    <a:lnTo>
                      <a:pt x="579" y="2534"/>
                    </a:lnTo>
                    <a:lnTo>
                      <a:pt x="579" y="2654"/>
                    </a:lnTo>
                    <a:lnTo>
                      <a:pt x="579" y="2810"/>
                    </a:lnTo>
                    <a:lnTo>
                      <a:pt x="579" y="2910"/>
                    </a:lnTo>
                    <a:lnTo>
                      <a:pt x="571" y="3002"/>
                    </a:lnTo>
                    <a:lnTo>
                      <a:pt x="542" y="3098"/>
                    </a:lnTo>
                    <a:lnTo>
                      <a:pt x="522" y="3158"/>
                    </a:lnTo>
                    <a:lnTo>
                      <a:pt x="498" y="3206"/>
                    </a:lnTo>
                    <a:lnTo>
                      <a:pt x="470" y="3242"/>
                    </a:lnTo>
                    <a:lnTo>
                      <a:pt x="454" y="3262"/>
                    </a:lnTo>
                    <a:lnTo>
                      <a:pt x="434" y="3282"/>
                    </a:lnTo>
                    <a:lnTo>
                      <a:pt x="699" y="3250"/>
                    </a:lnTo>
                    <a:lnTo>
                      <a:pt x="1219" y="3182"/>
                    </a:lnTo>
                    <a:lnTo>
                      <a:pt x="1649" y="3126"/>
                    </a:lnTo>
                    <a:lnTo>
                      <a:pt x="2144" y="3070"/>
                    </a:lnTo>
                    <a:lnTo>
                      <a:pt x="2511" y="3054"/>
                    </a:lnTo>
                    <a:lnTo>
                      <a:pt x="2792" y="3062"/>
                    </a:lnTo>
                    <a:lnTo>
                      <a:pt x="2865" y="3062"/>
                    </a:lnTo>
                    <a:lnTo>
                      <a:pt x="2913" y="3054"/>
                    </a:lnTo>
                    <a:lnTo>
                      <a:pt x="2941" y="3010"/>
                    </a:lnTo>
                    <a:lnTo>
                      <a:pt x="2965" y="2958"/>
                    </a:lnTo>
                    <a:lnTo>
                      <a:pt x="2989" y="2886"/>
                    </a:lnTo>
                    <a:lnTo>
                      <a:pt x="3005" y="2794"/>
                    </a:lnTo>
                    <a:lnTo>
                      <a:pt x="3013" y="2710"/>
                    </a:lnTo>
                    <a:lnTo>
                      <a:pt x="3013" y="2582"/>
                    </a:lnTo>
                    <a:lnTo>
                      <a:pt x="3009" y="2486"/>
                    </a:lnTo>
                    <a:lnTo>
                      <a:pt x="3005" y="2325"/>
                    </a:lnTo>
                    <a:lnTo>
                      <a:pt x="2977" y="2153"/>
                    </a:lnTo>
                    <a:lnTo>
                      <a:pt x="2929" y="1929"/>
                    </a:lnTo>
                    <a:lnTo>
                      <a:pt x="2877" y="1725"/>
                    </a:lnTo>
                    <a:lnTo>
                      <a:pt x="2828" y="1545"/>
                    </a:lnTo>
                    <a:lnTo>
                      <a:pt x="2756" y="1345"/>
                    </a:lnTo>
                    <a:lnTo>
                      <a:pt x="2684" y="1165"/>
                    </a:lnTo>
                    <a:lnTo>
                      <a:pt x="2619" y="993"/>
                    </a:lnTo>
                    <a:lnTo>
                      <a:pt x="2519" y="744"/>
                    </a:lnTo>
                    <a:lnTo>
                      <a:pt x="2466" y="600"/>
                    </a:lnTo>
                    <a:lnTo>
                      <a:pt x="2430" y="500"/>
                    </a:lnTo>
                    <a:lnTo>
                      <a:pt x="2414" y="428"/>
                    </a:lnTo>
                    <a:lnTo>
                      <a:pt x="2406" y="356"/>
                    </a:lnTo>
                    <a:lnTo>
                      <a:pt x="2406" y="292"/>
                    </a:lnTo>
                    <a:lnTo>
                      <a:pt x="2446" y="72"/>
                    </a:lnTo>
                    <a:lnTo>
                      <a:pt x="2466" y="28"/>
                    </a:lnTo>
                    <a:lnTo>
                      <a:pt x="217" y="0"/>
                    </a:lnTo>
                    <a:lnTo>
                      <a:pt x="188" y="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06800" y="3375000"/>
                <a:ext cx="92520" cy="78120"/>
              </a:xfrm>
              <a:custGeom>
                <a:avLst/>
                <a:gdLst/>
                <a:ahLst/>
                <a:rect l="0" t="0" r="r" b="b"/>
                <a:pathLst>
                  <a:path w="257" h="217">
                    <a:moveTo>
                      <a:pt x="257" y="16"/>
                    </a:moveTo>
                    <a:lnTo>
                      <a:pt x="190" y="197"/>
                    </a:lnTo>
                    <a:lnTo>
                      <a:pt x="124" y="217"/>
                    </a:lnTo>
                    <a:lnTo>
                      <a:pt x="91" y="213"/>
                    </a:lnTo>
                    <a:lnTo>
                      <a:pt x="57" y="201"/>
                    </a:lnTo>
                    <a:lnTo>
                      <a:pt x="33" y="181"/>
                    </a:lnTo>
                    <a:lnTo>
                      <a:pt x="16" y="157"/>
                    </a:lnTo>
                    <a:lnTo>
                      <a:pt x="4" y="133"/>
                    </a:lnTo>
                    <a:lnTo>
                      <a:pt x="0" y="104"/>
                    </a:lnTo>
                    <a:lnTo>
                      <a:pt x="4" y="76"/>
                    </a:lnTo>
                    <a:lnTo>
                      <a:pt x="12" y="52"/>
                    </a:lnTo>
                    <a:lnTo>
                      <a:pt x="28" y="32"/>
                    </a:lnTo>
                    <a:lnTo>
                      <a:pt x="53" y="20"/>
                    </a:lnTo>
                    <a:lnTo>
                      <a:pt x="83" y="12"/>
                    </a:lnTo>
                    <a:lnTo>
                      <a:pt x="108" y="8"/>
                    </a:lnTo>
                    <a:lnTo>
                      <a:pt x="133" y="0"/>
                    </a:lnTo>
                    <a:lnTo>
                      <a:pt x="153" y="0"/>
                    </a:lnTo>
                    <a:lnTo>
                      <a:pt x="178" y="0"/>
                    </a:lnTo>
                    <a:lnTo>
                      <a:pt x="257" y="16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43520" y="3370320"/>
                <a:ext cx="62280" cy="63720"/>
              </a:xfrm>
              <a:custGeom>
                <a:avLst/>
                <a:gdLst/>
                <a:ahLst/>
                <a:rect l="0" t="0" r="r" b="b"/>
                <a:pathLst>
                  <a:path w="173" h="177">
                    <a:moveTo>
                      <a:pt x="0" y="20"/>
                    </a:moveTo>
                    <a:lnTo>
                      <a:pt x="31" y="44"/>
                    </a:lnTo>
                    <a:lnTo>
                      <a:pt x="48" y="68"/>
                    </a:lnTo>
                    <a:lnTo>
                      <a:pt x="56" y="89"/>
                    </a:lnTo>
                    <a:lnTo>
                      <a:pt x="56" y="125"/>
                    </a:lnTo>
                    <a:lnTo>
                      <a:pt x="52" y="149"/>
                    </a:lnTo>
                    <a:lnTo>
                      <a:pt x="31" y="177"/>
                    </a:lnTo>
                    <a:lnTo>
                      <a:pt x="173" y="145"/>
                    </a:lnTo>
                    <a:lnTo>
                      <a:pt x="16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924440" y="3321000"/>
                <a:ext cx="911520" cy="132120"/>
              </a:xfrm>
              <a:custGeom>
                <a:avLst/>
                <a:gdLst/>
                <a:ahLst/>
                <a:rect l="0" t="0" r="r" b="b"/>
                <a:pathLst>
                  <a:path w="2532" h="367">
                    <a:moveTo>
                      <a:pt x="2394" y="28"/>
                    </a:moveTo>
                    <a:lnTo>
                      <a:pt x="0" y="0"/>
                    </a:lnTo>
                    <a:lnTo>
                      <a:pt x="68" y="12"/>
                    </a:lnTo>
                    <a:lnTo>
                      <a:pt x="92" y="16"/>
                    </a:lnTo>
                    <a:lnTo>
                      <a:pt x="117" y="28"/>
                    </a:lnTo>
                    <a:lnTo>
                      <a:pt x="133" y="44"/>
                    </a:lnTo>
                    <a:lnTo>
                      <a:pt x="153" y="68"/>
                    </a:lnTo>
                    <a:lnTo>
                      <a:pt x="161" y="100"/>
                    </a:lnTo>
                    <a:lnTo>
                      <a:pt x="169" y="128"/>
                    </a:lnTo>
                    <a:lnTo>
                      <a:pt x="173" y="160"/>
                    </a:lnTo>
                    <a:lnTo>
                      <a:pt x="173" y="186"/>
                    </a:lnTo>
                    <a:lnTo>
                      <a:pt x="169" y="226"/>
                    </a:lnTo>
                    <a:lnTo>
                      <a:pt x="161" y="262"/>
                    </a:lnTo>
                    <a:lnTo>
                      <a:pt x="145" y="294"/>
                    </a:lnTo>
                    <a:lnTo>
                      <a:pt x="121" y="322"/>
                    </a:lnTo>
                    <a:lnTo>
                      <a:pt x="88" y="346"/>
                    </a:lnTo>
                    <a:lnTo>
                      <a:pt x="64" y="367"/>
                    </a:lnTo>
                    <a:lnTo>
                      <a:pt x="217" y="346"/>
                    </a:lnTo>
                    <a:lnTo>
                      <a:pt x="395" y="318"/>
                    </a:lnTo>
                    <a:lnTo>
                      <a:pt x="670" y="302"/>
                    </a:lnTo>
                    <a:lnTo>
                      <a:pt x="900" y="282"/>
                    </a:lnTo>
                    <a:lnTo>
                      <a:pt x="1174" y="282"/>
                    </a:lnTo>
                    <a:lnTo>
                      <a:pt x="1478" y="294"/>
                    </a:lnTo>
                    <a:lnTo>
                      <a:pt x="1853" y="302"/>
                    </a:lnTo>
                    <a:lnTo>
                      <a:pt x="2213" y="330"/>
                    </a:lnTo>
                    <a:lnTo>
                      <a:pt x="2358" y="354"/>
                    </a:lnTo>
                    <a:lnTo>
                      <a:pt x="2402" y="362"/>
                    </a:lnTo>
                    <a:lnTo>
                      <a:pt x="2447" y="362"/>
                    </a:lnTo>
                    <a:lnTo>
                      <a:pt x="2479" y="354"/>
                    </a:lnTo>
                    <a:lnTo>
                      <a:pt x="2507" y="330"/>
                    </a:lnTo>
                    <a:lnTo>
                      <a:pt x="2520" y="294"/>
                    </a:lnTo>
                    <a:lnTo>
                      <a:pt x="2528" y="266"/>
                    </a:lnTo>
                    <a:lnTo>
                      <a:pt x="2532" y="234"/>
                    </a:lnTo>
                    <a:lnTo>
                      <a:pt x="2528" y="176"/>
                    </a:lnTo>
                    <a:lnTo>
                      <a:pt x="2516" y="140"/>
                    </a:lnTo>
                    <a:lnTo>
                      <a:pt x="2495" y="100"/>
                    </a:lnTo>
                    <a:lnTo>
                      <a:pt x="2479" y="76"/>
                    </a:lnTo>
                    <a:lnTo>
                      <a:pt x="2459" y="56"/>
                    </a:lnTo>
                    <a:lnTo>
                      <a:pt x="2431" y="36"/>
                    </a:lnTo>
                    <a:lnTo>
                      <a:pt x="2394" y="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602320" y="3973680"/>
              <a:ext cx="279720" cy="408240"/>
              <a:chOff x="5602320" y="3973680"/>
              <a:chExt cx="279720" cy="408240"/>
            </a:xfrm>
          </p:grpSpPr>
          <p:sp>
            <p:nvSpPr>
              <p:cNvPr id="354" name=""/>
              <p:cNvSpPr/>
              <p:nvPr/>
            </p:nvSpPr>
            <p:spPr>
              <a:xfrm>
                <a:off x="5602320" y="4102200"/>
                <a:ext cx="246240" cy="249120"/>
              </a:xfrm>
              <a:prstGeom prst="round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24640" y="3973680"/>
                <a:ext cx="257400" cy="408240"/>
              </a:xfrm>
              <a:custGeom>
                <a:avLst/>
                <a:gdLst/>
                <a:ahLst/>
                <a:rect l="0" t="0" r="r" b="b"/>
                <a:pathLst>
                  <a:path w="715" h="1134">
                    <a:moveTo>
                      <a:pt x="81" y="529"/>
                    </a:moveTo>
                    <a:lnTo>
                      <a:pt x="0" y="836"/>
                    </a:lnTo>
                    <a:lnTo>
                      <a:pt x="275" y="1134"/>
                    </a:lnTo>
                    <a:lnTo>
                      <a:pt x="715" y="129"/>
                    </a:lnTo>
                    <a:lnTo>
                      <a:pt x="715" y="0"/>
                    </a:lnTo>
                    <a:lnTo>
                      <a:pt x="225" y="844"/>
                    </a:lnTo>
                    <a:lnTo>
                      <a:pt x="81" y="5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 txBox="1"/>
            <p:nvPr/>
          </p:nvSpPr>
          <p:spPr>
            <a:xfrm>
              <a:off x="5030640" y="4091040"/>
              <a:ext cx="560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114ffb"/>
                  </a:solidFill>
                  <a:latin typeface="ARIAL"/>
                  <a:ea typeface="ARIAL"/>
                </a:rPr>
                <a:t>YES!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5127480" y="3506760"/>
              <a:ext cx="457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046840" y="3795840"/>
              <a:ext cx="696600" cy="66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118120" y="3862440"/>
              <a:ext cx="62532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186520" y="3932280"/>
              <a:ext cx="62676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046840" y="3722760"/>
              <a:ext cx="69660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482840" y="4683240"/>
            <a:ext cx="1537200" cy="897120"/>
            <a:chOff x="1482840" y="4683240"/>
            <a:chExt cx="1537200" cy="897120"/>
          </a:xfrm>
        </p:grpSpPr>
        <p:sp>
          <p:nvSpPr>
            <p:cNvPr id="363" name=""/>
            <p:cNvSpPr/>
            <p:nvPr/>
          </p:nvSpPr>
          <p:spPr>
            <a:xfrm>
              <a:off x="1482840" y="5219640"/>
              <a:ext cx="349560" cy="176400"/>
            </a:xfrm>
            <a:custGeom>
              <a:avLst/>
              <a:gdLst/>
              <a:ahLst/>
              <a:rect l="0" t="0" r="r" b="b"/>
              <a:pathLst>
                <a:path fill="none" w="971" h="490">
                  <a:moveTo>
                    <a:pt x="951" y="0"/>
                  </a:moveTo>
                  <a:lnTo>
                    <a:pt x="726" y="0"/>
                  </a:lnTo>
                  <a:lnTo>
                    <a:pt x="598" y="8"/>
                  </a:lnTo>
                  <a:lnTo>
                    <a:pt x="480" y="24"/>
                  </a:lnTo>
                  <a:lnTo>
                    <a:pt x="333" y="49"/>
                  </a:lnTo>
                  <a:lnTo>
                    <a:pt x="225" y="74"/>
                  </a:lnTo>
                  <a:lnTo>
                    <a:pt x="146" y="99"/>
                  </a:lnTo>
                  <a:lnTo>
                    <a:pt x="88" y="124"/>
                  </a:lnTo>
                  <a:lnTo>
                    <a:pt x="48" y="149"/>
                  </a:lnTo>
                  <a:lnTo>
                    <a:pt x="19" y="182"/>
                  </a:lnTo>
                  <a:lnTo>
                    <a:pt x="0" y="223"/>
                  </a:lnTo>
                  <a:lnTo>
                    <a:pt x="0" y="258"/>
                  </a:lnTo>
                  <a:lnTo>
                    <a:pt x="29" y="291"/>
                  </a:lnTo>
                  <a:lnTo>
                    <a:pt x="68" y="307"/>
                  </a:lnTo>
                  <a:lnTo>
                    <a:pt x="137" y="324"/>
                  </a:lnTo>
                  <a:lnTo>
                    <a:pt x="215" y="324"/>
                  </a:lnTo>
                  <a:lnTo>
                    <a:pt x="303" y="316"/>
                  </a:lnTo>
                  <a:lnTo>
                    <a:pt x="411" y="307"/>
                  </a:lnTo>
                  <a:lnTo>
                    <a:pt x="510" y="307"/>
                  </a:lnTo>
                  <a:lnTo>
                    <a:pt x="579" y="324"/>
                  </a:lnTo>
                  <a:lnTo>
                    <a:pt x="657" y="341"/>
                  </a:lnTo>
                  <a:lnTo>
                    <a:pt x="735" y="366"/>
                  </a:lnTo>
                  <a:lnTo>
                    <a:pt x="971" y="490"/>
                  </a:lnTo>
                  <a:lnTo>
                    <a:pt x="951" y="490"/>
                  </a:lnTo>
                  <a:lnTo>
                    <a:pt x="961" y="473"/>
                  </a:lnTo>
                </a:path>
              </a:pathLst>
            </a:custGeom>
            <a:ln w="25560">
              <a:solidFill>
                <a:srgbClr val="8080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525760" y="4697280"/>
              <a:ext cx="218880" cy="675000"/>
              <a:chOff x="2525760" y="4697280"/>
              <a:chExt cx="218880" cy="6750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2611440" y="4782960"/>
                <a:ext cx="133200" cy="563760"/>
                <a:chOff x="2611440" y="4782960"/>
                <a:chExt cx="133200" cy="5637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611440" y="4782960"/>
                  <a:ext cx="122760" cy="563760"/>
                </a:xfrm>
                <a:custGeom>
                  <a:avLst/>
                  <a:gdLst/>
                  <a:ahLst/>
                  <a:rect l="0" t="0" r="r" b="b"/>
                  <a:pathLst>
                    <a:path w="341" h="1566">
                      <a:moveTo>
                        <a:pt x="30" y="0"/>
                      </a:moveTo>
                      <a:lnTo>
                        <a:pt x="341" y="131"/>
                      </a:lnTo>
                      <a:lnTo>
                        <a:pt x="314" y="743"/>
                      </a:lnTo>
                      <a:lnTo>
                        <a:pt x="279" y="1476"/>
                      </a:lnTo>
                      <a:lnTo>
                        <a:pt x="0" y="1566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2611440" y="4809960"/>
                  <a:ext cx="133200" cy="484200"/>
                  <a:chOff x="2611440" y="4809960"/>
                  <a:chExt cx="133200" cy="48420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2611440" y="4809960"/>
                    <a:ext cx="133200" cy="484200"/>
                    <a:chOff x="2611440" y="4809960"/>
                    <a:chExt cx="133200" cy="48420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2611440" y="4809960"/>
                      <a:ext cx="133200" cy="287640"/>
                      <a:chOff x="2611440" y="4809960"/>
                      <a:chExt cx="133200" cy="287640"/>
                    </a:xfrm>
                  </p:grpSpPr>
                  <p:grpSp>
                    <p:nvGrpSpPr>
                      <p:cNvPr id="370" name=""/>
                      <p:cNvGrpSpPr/>
                      <p:nvPr/>
                    </p:nvGrpSpPr>
                    <p:grpSpPr>
                      <a:xfrm>
                        <a:off x="2620800" y="4809960"/>
                        <a:ext cx="123840" cy="154080"/>
                        <a:chOff x="2620800" y="4809960"/>
                        <a:chExt cx="123840" cy="154080"/>
                      </a:xfrm>
                    </p:grpSpPr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>
                          <a:off x="2625840" y="4809960"/>
                          <a:ext cx="11880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9720" bIns="-9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>
                          <a:off x="2622600" y="4834080"/>
                          <a:ext cx="119160" cy="4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>
                          <a:off x="2624040" y="4857840"/>
                          <a:ext cx="11772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11520" bIns="-11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>
                          <a:off x="2622600" y="4884840"/>
                          <a:ext cx="11916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14760" bIns="-14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>
                          <a:off x="2620800" y="4908600"/>
                          <a:ext cx="119160" cy="33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18000" bIns="-18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620800" y="4933800"/>
                          <a:ext cx="117720" cy="30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0880" bIns="-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2611440" y="4986360"/>
                        <a:ext cx="122400" cy="223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2611440" y="5010120"/>
                        <a:ext cx="12240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611440" y="5037120"/>
                        <a:ext cx="120600" cy="176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2611440" y="5062680"/>
                        <a:ext cx="120600" cy="140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612880" y="5087880"/>
                        <a:ext cx="119160" cy="97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2" name=""/>
                    <p:cNvGrpSpPr/>
                    <p:nvPr/>
                  </p:nvGrpSpPr>
                  <p:grpSpPr>
                    <a:xfrm>
                      <a:off x="2611440" y="5113440"/>
                      <a:ext cx="117360" cy="180720"/>
                      <a:chOff x="2611440" y="5113440"/>
                      <a:chExt cx="117360" cy="180720"/>
                    </a:xfrm>
                  </p:grpSpPr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612880" y="5113440"/>
                        <a:ext cx="11592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614680" y="5138640"/>
                        <a:ext cx="112680" cy="50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612880" y="5165640"/>
                        <a:ext cx="112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51120" bIns="-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 flipV="1">
                        <a:off x="2612880" y="5187960"/>
                        <a:ext cx="11268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49680" bIns="-49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 flipV="1">
                        <a:off x="2612880" y="5211720"/>
                        <a:ext cx="11124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 flipV="1">
                        <a:off x="2612880" y="5234040"/>
                        <a:ext cx="11124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 flipV="1">
                        <a:off x="2611440" y="5256360"/>
                        <a:ext cx="111240" cy="108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 flipV="1">
                        <a:off x="2612880" y="5278320"/>
                        <a:ext cx="108000" cy="158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91" name=""/>
                  <p:cNvSpPr/>
                  <p:nvPr/>
                </p:nvSpPr>
                <p:spPr>
                  <a:xfrm>
                    <a:off x="2617920" y="4960800"/>
                    <a:ext cx="118800" cy="2556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2525760" y="4697280"/>
                <a:ext cx="106560" cy="675000"/>
                <a:chOff x="2525760" y="4697280"/>
                <a:chExt cx="106560" cy="6750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525760" y="4697280"/>
                  <a:ext cx="105120" cy="675000"/>
                </a:xfrm>
                <a:custGeom>
                  <a:avLst/>
                  <a:gdLst/>
                  <a:ahLst/>
                  <a:rect l="0" t="0" r="r" b="b"/>
                  <a:pathLst>
                    <a:path w="292" h="1875">
                      <a:moveTo>
                        <a:pt x="68" y="0"/>
                      </a:moveTo>
                      <a:lnTo>
                        <a:pt x="276" y="94"/>
                      </a:lnTo>
                      <a:lnTo>
                        <a:pt x="292" y="115"/>
                      </a:lnTo>
                      <a:lnTo>
                        <a:pt x="231" y="1800"/>
                      </a:lnTo>
                      <a:lnTo>
                        <a:pt x="205" y="1821"/>
                      </a:lnTo>
                      <a:lnTo>
                        <a:pt x="0" y="1875"/>
                      </a:lnTo>
                      <a:lnTo>
                        <a:pt x="26" y="1846"/>
                      </a:lnTo>
                      <a:lnTo>
                        <a:pt x="26" y="182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627280" y="473220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19"/>
                      </a:move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19"/>
                      </a:lnTo>
                      <a:cubicBezTo>
                        <a:pt x="14" y="16"/>
                        <a:pt x="13" y="12"/>
                        <a:pt x="12" y="9"/>
                      </a:cubicBezTo>
                      <a:cubicBezTo>
                        <a:pt x="11" y="7"/>
                        <a:pt x="9" y="4"/>
                        <a:pt x="7" y="3"/>
                      </a:cubicBezTo>
                      <a:cubicBezTo>
                        <a:pt x="5" y="1"/>
                        <a:pt x="2" y="0"/>
                        <a:pt x="0" y="0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1879560" y="4792680"/>
              <a:ext cx="567000" cy="465480"/>
            </a:xfrm>
            <a:custGeom>
              <a:avLst/>
              <a:gdLst/>
              <a:ahLst/>
              <a:rect l="0" t="0" r="r" b="b"/>
              <a:pathLst>
                <a:path w="1575" h="1293">
                  <a:moveTo>
                    <a:pt x="66" y="0"/>
                  </a:moveTo>
                  <a:lnTo>
                    <a:pt x="1575" y="0"/>
                  </a:lnTo>
                  <a:lnTo>
                    <a:pt x="1517" y="1293"/>
                  </a:lnTo>
                  <a:lnTo>
                    <a:pt x="0" y="121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801800" y="4683240"/>
              <a:ext cx="749520" cy="690840"/>
              <a:chOff x="1801800" y="4683240"/>
              <a:chExt cx="749520" cy="69084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1801800" y="4683240"/>
                <a:ext cx="749520" cy="690840"/>
                <a:chOff x="1801800" y="4683240"/>
                <a:chExt cx="749520" cy="69084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1801800" y="4683240"/>
                  <a:ext cx="749520" cy="690840"/>
                  <a:chOff x="1801800" y="4683240"/>
                  <a:chExt cx="749520" cy="690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1801800" y="4683240"/>
                    <a:ext cx="749520" cy="690840"/>
                  </a:xfrm>
                  <a:custGeom>
                    <a:avLst/>
                    <a:gdLst/>
                    <a:ahLst/>
                    <a:rect l="0" t="0" r="r" b="b"/>
                    <a:pathLst>
                      <a:path w="2082" h="1919">
                        <a:moveTo>
                          <a:pt x="166" y="28"/>
                        </a:moveTo>
                        <a:lnTo>
                          <a:pt x="344" y="20"/>
                        </a:lnTo>
                        <a:lnTo>
                          <a:pt x="585" y="4"/>
                        </a:lnTo>
                        <a:lnTo>
                          <a:pt x="839" y="0"/>
                        </a:lnTo>
                        <a:lnTo>
                          <a:pt x="1135" y="0"/>
                        </a:lnTo>
                        <a:lnTo>
                          <a:pt x="1342" y="0"/>
                        </a:lnTo>
                        <a:lnTo>
                          <a:pt x="1662" y="12"/>
                        </a:lnTo>
                        <a:lnTo>
                          <a:pt x="1970" y="28"/>
                        </a:lnTo>
                        <a:lnTo>
                          <a:pt x="2040" y="33"/>
                        </a:lnTo>
                        <a:lnTo>
                          <a:pt x="2057" y="37"/>
                        </a:lnTo>
                        <a:lnTo>
                          <a:pt x="2069" y="45"/>
                        </a:lnTo>
                        <a:lnTo>
                          <a:pt x="2078" y="62"/>
                        </a:lnTo>
                        <a:lnTo>
                          <a:pt x="2082" y="78"/>
                        </a:lnTo>
                        <a:lnTo>
                          <a:pt x="2003" y="1882"/>
                        </a:lnTo>
                        <a:lnTo>
                          <a:pt x="1995" y="1910"/>
                        </a:lnTo>
                        <a:lnTo>
                          <a:pt x="1970" y="1919"/>
                        </a:lnTo>
                        <a:lnTo>
                          <a:pt x="1297" y="1873"/>
                        </a:lnTo>
                        <a:lnTo>
                          <a:pt x="639" y="1824"/>
                        </a:lnTo>
                        <a:lnTo>
                          <a:pt x="33" y="1782"/>
                        </a:lnTo>
                        <a:lnTo>
                          <a:pt x="0" y="1737"/>
                        </a:lnTo>
                        <a:lnTo>
                          <a:pt x="95" y="86"/>
                        </a:lnTo>
                        <a:lnTo>
                          <a:pt x="166" y="2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538360" y="4695840"/>
                    <a:ext cx="12960" cy="90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25">
                        <a:moveTo>
                          <a:pt x="0" y="25"/>
                        </a:moveTo>
                        <a:lnTo>
                          <a:pt x="36" y="25"/>
                        </a:lnTo>
                        <a:lnTo>
                          <a:pt x="36" y="25"/>
                        </a:lnTo>
                        <a:lnTo>
                          <a:pt x="36" y="25"/>
                        </a:lnTo>
                        <a:cubicBezTo>
                          <a:pt x="36" y="21"/>
                          <a:pt x="34" y="16"/>
                          <a:pt x="31" y="12"/>
                        </a:cubicBezTo>
                        <a:cubicBezTo>
                          <a:pt x="28" y="9"/>
                          <a:pt x="23" y="6"/>
                          <a:pt x="18" y="3"/>
                        </a:cubicBezTo>
                        <a:cubicBezTo>
                          <a:pt x="13" y="1"/>
                          <a:pt x="6" y="0"/>
                          <a:pt x="0" y="0"/>
                        </a:cubicBez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836720" y="4694400"/>
                    <a:ext cx="31320" cy="23400"/>
                  </a:xfrm>
                  <a:custGeom>
                    <a:avLst/>
                    <a:gdLst/>
                    <a:ahLst/>
                    <a:rect l="0" t="0" r="r" b="b"/>
                    <a:pathLst>
                      <a:path w="87" h="65">
                        <a:moveTo>
                          <a:pt x="87" y="65"/>
                        </a:moveTo>
                        <a:lnTo>
                          <a:pt x="87" y="0"/>
                        </a:lnTo>
                        <a:lnTo>
                          <a:pt x="87" y="0"/>
                        </a:lnTo>
                        <a:cubicBezTo>
                          <a:pt x="72" y="0"/>
                          <a:pt x="57" y="3"/>
                          <a:pt x="43" y="9"/>
                        </a:cubicBezTo>
                        <a:cubicBezTo>
                          <a:pt x="30" y="14"/>
                          <a:pt x="19" y="23"/>
                          <a:pt x="12" y="33"/>
                        </a:cubicBezTo>
                        <a:cubicBezTo>
                          <a:pt x="4" y="42"/>
                          <a:pt x="0" y="54"/>
                          <a:pt x="0" y="65"/>
                        </a:cubicBezTo>
                        <a:lnTo>
                          <a:pt x="87" y="6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801800" y="5311080"/>
                    <a:ext cx="11520" cy="1548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43">
                        <a:moveTo>
                          <a:pt x="3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ubicBezTo>
                          <a:pt x="0" y="8"/>
                          <a:pt x="1" y="15"/>
                          <a:pt x="4" y="22"/>
                        </a:cubicBezTo>
                        <a:cubicBezTo>
                          <a:pt x="7" y="28"/>
                          <a:pt x="10" y="34"/>
                          <a:pt x="15" y="37"/>
                        </a:cubicBezTo>
                        <a:cubicBezTo>
                          <a:pt x="19" y="41"/>
                          <a:pt x="25" y="43"/>
                          <a:pt x="30" y="43"/>
                        </a:cubicBezTo>
                        <a:cubicBezTo>
                          <a:pt x="31" y="43"/>
                          <a:pt x="31" y="43"/>
                          <a:pt x="32" y="43"/>
                        </a:cubicBez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881360" y="4789440"/>
                  <a:ext cx="567000" cy="468720"/>
                  <a:chOff x="1881360" y="4789440"/>
                  <a:chExt cx="567000" cy="468720"/>
                </a:xfrm>
              </p:grpSpPr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1881360" y="4789440"/>
                    <a:ext cx="567000" cy="468720"/>
                    <a:chOff x="1881360" y="4789440"/>
                    <a:chExt cx="567000" cy="4687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905120" y="4789440"/>
                      <a:ext cx="541800" cy="1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505" h="5">
                          <a:moveTo>
                            <a:pt x="0" y="5"/>
                          </a:moveTo>
                          <a:lnTo>
                            <a:pt x="1505" y="4"/>
                          </a:lnTo>
                          <a:lnTo>
                            <a:pt x="1472" y="0"/>
                          </a:lnTo>
                          <a:lnTo>
                            <a:pt x="33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2425680" y="4791240"/>
                      <a:ext cx="22680" cy="466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3" h="1297">
                          <a:moveTo>
                            <a:pt x="41" y="24"/>
                          </a:moveTo>
                          <a:lnTo>
                            <a:pt x="63" y="0"/>
                          </a:lnTo>
                          <a:lnTo>
                            <a:pt x="41" y="706"/>
                          </a:lnTo>
                          <a:lnTo>
                            <a:pt x="22" y="1297"/>
                          </a:lnTo>
                          <a:lnTo>
                            <a:pt x="0" y="1260"/>
                          </a:lnTo>
                          <a:lnTo>
                            <a:pt x="41" y="2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881360" y="5229360"/>
                      <a:ext cx="5450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514" h="80">
                          <a:moveTo>
                            <a:pt x="33" y="0"/>
                          </a:moveTo>
                          <a:lnTo>
                            <a:pt x="0" y="24"/>
                          </a:lnTo>
                          <a:lnTo>
                            <a:pt x="1514" y="80"/>
                          </a:lnTo>
                          <a:lnTo>
                            <a:pt x="1481" y="52"/>
                          </a:ln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1881360" y="4792680"/>
                      <a:ext cx="24120" cy="437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7" h="1214">
                          <a:moveTo>
                            <a:pt x="44" y="0"/>
                          </a:moveTo>
                          <a:lnTo>
                            <a:pt x="67" y="24"/>
                          </a:lnTo>
                          <a:lnTo>
                            <a:pt x="23" y="1182"/>
                          </a:lnTo>
                          <a:lnTo>
                            <a:pt x="0" y="1214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1893960" y="4802040"/>
                    <a:ext cx="540000" cy="441720"/>
                    <a:chOff x="1893960" y="4802040"/>
                    <a:chExt cx="540000" cy="4417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1893960" y="4802040"/>
                      <a:ext cx="540000" cy="441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500" h="1227">
                          <a:moveTo>
                            <a:pt x="61" y="0"/>
                          </a:moveTo>
                          <a:lnTo>
                            <a:pt x="1500" y="0"/>
                          </a:lnTo>
                          <a:lnTo>
                            <a:pt x="1442" y="1227"/>
                          </a:lnTo>
                          <a:lnTo>
                            <a:pt x="0" y="1158"/>
                          </a:lnTo>
                          <a:lnTo>
                            <a:pt x="6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1913040" y="4819680"/>
                      <a:ext cx="503640" cy="406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399" h="1130">
                          <a:moveTo>
                            <a:pt x="53" y="0"/>
                          </a:moveTo>
                          <a:lnTo>
                            <a:pt x="1399" y="0"/>
                          </a:lnTo>
                          <a:lnTo>
                            <a:pt x="1342" y="1130"/>
                          </a:lnTo>
                          <a:lnTo>
                            <a:pt x="0" y="1073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1922400" y="4843440"/>
                      <a:ext cx="47340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315" h="1024">
                          <a:moveTo>
                            <a:pt x="49" y="0"/>
                          </a:moveTo>
                          <a:lnTo>
                            <a:pt x="1315" y="0"/>
                          </a:lnTo>
                          <a:lnTo>
                            <a:pt x="1261" y="1024"/>
                          </a:lnTo>
                          <a:lnTo>
                            <a:pt x="0" y="971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13" name=""/>
              <p:cNvSpPr/>
              <p:nvPr/>
            </p:nvSpPr>
            <p:spPr>
              <a:xfrm>
                <a:off x="2413080" y="532764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0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4920" y="5443560"/>
              <a:ext cx="375120" cy="136800"/>
              <a:chOff x="2644920" y="5443560"/>
              <a:chExt cx="375120" cy="136800"/>
            </a:xfrm>
          </p:grpSpPr>
          <p:sp>
            <p:nvSpPr>
              <p:cNvPr id="415" name=""/>
              <p:cNvSpPr/>
              <p:nvPr/>
            </p:nvSpPr>
            <p:spPr>
              <a:xfrm>
                <a:off x="2644920" y="5443560"/>
                <a:ext cx="375120" cy="97200"/>
              </a:xfrm>
              <a:custGeom>
                <a:avLst/>
                <a:gdLst/>
                <a:ahLst/>
                <a:rect l="0" t="0" r="r" b="b"/>
                <a:pathLst>
                  <a:path fill="none" w="1042" h="270">
                    <a:moveTo>
                      <a:pt x="0" y="0"/>
                    </a:moveTo>
                    <a:lnTo>
                      <a:pt x="194" y="12"/>
                    </a:lnTo>
                    <a:lnTo>
                      <a:pt x="339" y="16"/>
                    </a:lnTo>
                    <a:lnTo>
                      <a:pt x="470" y="29"/>
                    </a:lnTo>
                    <a:lnTo>
                      <a:pt x="597" y="46"/>
                    </a:lnTo>
                    <a:lnTo>
                      <a:pt x="686" y="58"/>
                    </a:lnTo>
                    <a:lnTo>
                      <a:pt x="797" y="80"/>
                    </a:lnTo>
                    <a:lnTo>
                      <a:pt x="860" y="89"/>
                    </a:lnTo>
                    <a:lnTo>
                      <a:pt x="907" y="101"/>
                    </a:lnTo>
                    <a:lnTo>
                      <a:pt x="932" y="106"/>
                    </a:lnTo>
                    <a:lnTo>
                      <a:pt x="953" y="114"/>
                    </a:lnTo>
                    <a:lnTo>
                      <a:pt x="979" y="122"/>
                    </a:lnTo>
                    <a:lnTo>
                      <a:pt x="1004" y="131"/>
                    </a:lnTo>
                    <a:lnTo>
                      <a:pt x="1030" y="143"/>
                    </a:lnTo>
                    <a:lnTo>
                      <a:pt x="1042" y="160"/>
                    </a:lnTo>
                    <a:lnTo>
                      <a:pt x="1042" y="169"/>
                    </a:lnTo>
                    <a:lnTo>
                      <a:pt x="1038" y="190"/>
                    </a:lnTo>
                    <a:lnTo>
                      <a:pt x="1030" y="207"/>
                    </a:lnTo>
                    <a:lnTo>
                      <a:pt x="1017" y="224"/>
                    </a:lnTo>
                    <a:lnTo>
                      <a:pt x="1000" y="237"/>
                    </a:lnTo>
                    <a:lnTo>
                      <a:pt x="979" y="249"/>
                    </a:lnTo>
                    <a:lnTo>
                      <a:pt x="953" y="258"/>
                    </a:lnTo>
                    <a:lnTo>
                      <a:pt x="924" y="262"/>
                    </a:lnTo>
                    <a:lnTo>
                      <a:pt x="894" y="266"/>
                    </a:lnTo>
                    <a:lnTo>
                      <a:pt x="856" y="270"/>
                    </a:lnTo>
                    <a:lnTo>
                      <a:pt x="818" y="266"/>
                    </a:lnTo>
                    <a:lnTo>
                      <a:pt x="762" y="258"/>
                    </a:lnTo>
                  </a:path>
                </a:pathLst>
              </a:custGeom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2660760" y="5491080"/>
                <a:ext cx="261720" cy="89280"/>
                <a:chOff x="2660760" y="5491080"/>
                <a:chExt cx="261720" cy="8928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660760" y="5491080"/>
                  <a:ext cx="252720" cy="89280"/>
                  <a:chOff x="2660760" y="5491080"/>
                  <a:chExt cx="252720" cy="892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60760" y="5491080"/>
                    <a:ext cx="1497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51">
                        <a:moveTo>
                          <a:pt x="0" y="88"/>
                        </a:moveTo>
                        <a:lnTo>
                          <a:pt x="108" y="0"/>
                        </a:lnTo>
                        <a:lnTo>
                          <a:pt x="416" y="49"/>
                        </a:lnTo>
                        <a:lnTo>
                          <a:pt x="292" y="151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2200" y="5529240"/>
                    <a:ext cx="1036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288" h="142">
                        <a:moveTo>
                          <a:pt x="0" y="0"/>
                        </a:moveTo>
                        <a:lnTo>
                          <a:pt x="0" y="80"/>
                        </a:lnTo>
                        <a:lnTo>
                          <a:pt x="288" y="142"/>
                        </a:lnTo>
                        <a:lnTo>
                          <a:pt x="288" y="6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776680" y="5513400"/>
                    <a:ext cx="136800" cy="66960"/>
                  </a:xfrm>
                  <a:custGeom>
                    <a:avLst/>
                    <a:gdLst/>
                    <a:ahLst/>
                    <a:rect l="0" t="0" r="r" b="b"/>
                    <a:pathLst>
                      <a:path w="380" h="186">
                        <a:moveTo>
                          <a:pt x="0" y="100"/>
                        </a:moveTo>
                        <a:lnTo>
                          <a:pt x="121" y="0"/>
                        </a:lnTo>
                        <a:lnTo>
                          <a:pt x="380" y="28"/>
                        </a:lnTo>
                        <a:lnTo>
                          <a:pt x="380" y="104"/>
                        </a:lnTo>
                        <a:lnTo>
                          <a:pt x="0" y="186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700360" y="5491080"/>
                    <a:ext cx="213120" cy="20880"/>
                  </a:xfrm>
                  <a:custGeom>
                    <a:avLst/>
                    <a:gdLst/>
                    <a:ahLst/>
                    <a:rect l="0" t="0" r="r" b="b"/>
                    <a:pathLst>
                      <a:path w="592" h="58">
                        <a:moveTo>
                          <a:pt x="0" y="0"/>
                        </a:moveTo>
                        <a:lnTo>
                          <a:pt x="296" y="13"/>
                        </a:lnTo>
                        <a:lnTo>
                          <a:pt x="592" y="58"/>
                        </a:lnTo>
                        <a:lnTo>
                          <a:pt x="324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2662200" y="5522760"/>
                  <a:ext cx="260280" cy="41400"/>
                  <a:chOff x="2662200" y="5522760"/>
                  <a:chExt cx="260280" cy="414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2662200" y="5538960"/>
                    <a:ext cx="114480" cy="252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2776680" y="5522760"/>
                    <a:ext cx="47520" cy="4140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825640" y="5522760"/>
                    <a:ext cx="96840" cy="648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6" name=""/>
            <p:cNvSpPr/>
            <p:nvPr/>
          </p:nvSpPr>
          <p:spPr>
            <a:xfrm>
              <a:off x="1574640" y="5303880"/>
              <a:ext cx="1068840" cy="206640"/>
            </a:xfrm>
            <a:custGeom>
              <a:avLst/>
              <a:gdLst/>
              <a:ahLst/>
              <a:rect l="0" t="0" r="r" b="b"/>
              <a:pathLst>
                <a:path w="2969" h="574">
                  <a:moveTo>
                    <a:pt x="486" y="0"/>
                  </a:moveTo>
                  <a:lnTo>
                    <a:pt x="2969" y="234"/>
                  </a:lnTo>
                  <a:lnTo>
                    <a:pt x="2797" y="446"/>
                  </a:lnTo>
                  <a:lnTo>
                    <a:pt x="2626" y="574"/>
                  </a:lnTo>
                  <a:lnTo>
                    <a:pt x="0" y="286"/>
                  </a:lnTo>
                  <a:lnTo>
                    <a:pt x="197" y="207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576440" y="5318280"/>
              <a:ext cx="1079280" cy="230400"/>
              <a:chOff x="1576440" y="5318280"/>
              <a:chExt cx="1079280" cy="230400"/>
            </a:xfrm>
          </p:grpSpPr>
          <p:sp>
            <p:nvSpPr>
              <p:cNvPr id="428" name=""/>
              <p:cNvSpPr/>
              <p:nvPr/>
            </p:nvSpPr>
            <p:spPr>
              <a:xfrm>
                <a:off x="2320920" y="53895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61" y="0"/>
                    </a:moveTo>
                    <a:lnTo>
                      <a:pt x="100" y="155"/>
                    </a:lnTo>
                    <a:lnTo>
                      <a:pt x="0" y="221"/>
                    </a:lnTo>
                    <a:lnTo>
                      <a:pt x="447" y="266"/>
                    </a:lnTo>
                    <a:lnTo>
                      <a:pt x="551" y="182"/>
                    </a:lnTo>
                    <a:lnTo>
                      <a:pt x="680" y="34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1576440" y="5318280"/>
                <a:ext cx="1079280" cy="230400"/>
                <a:chOff x="1576440" y="5318280"/>
                <a:chExt cx="1079280" cy="2304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576440" y="5411880"/>
                  <a:ext cx="941760" cy="136800"/>
                </a:xfrm>
                <a:custGeom>
                  <a:avLst/>
                  <a:gdLst/>
                  <a:ahLst/>
                  <a:rect l="0" t="0" r="r" b="b"/>
                  <a:pathLst>
                    <a:path w="2616" h="380">
                      <a:moveTo>
                        <a:pt x="0" y="0"/>
                      </a:moveTo>
                      <a:lnTo>
                        <a:pt x="0" y="97"/>
                      </a:lnTo>
                      <a:lnTo>
                        <a:pt x="2616" y="380"/>
                      </a:lnTo>
                      <a:lnTo>
                        <a:pt x="2616" y="2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529000" y="5392800"/>
                  <a:ext cx="114840" cy="155880"/>
                </a:xfrm>
                <a:custGeom>
                  <a:avLst/>
                  <a:gdLst/>
                  <a:ahLst/>
                  <a:rect l="0" t="0" r="r" b="b"/>
                  <a:pathLst>
                    <a:path w="319" h="433">
                      <a:moveTo>
                        <a:pt x="0" y="334"/>
                      </a:moveTo>
                      <a:lnTo>
                        <a:pt x="0" y="433"/>
                      </a:lnTo>
                      <a:lnTo>
                        <a:pt x="140" y="334"/>
                      </a:lnTo>
                      <a:lnTo>
                        <a:pt x="194" y="276"/>
                      </a:lnTo>
                      <a:lnTo>
                        <a:pt x="319" y="121"/>
                      </a:lnTo>
                      <a:lnTo>
                        <a:pt x="319" y="0"/>
                      </a:lnTo>
                      <a:lnTo>
                        <a:pt x="159" y="204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577880" y="5424480"/>
                  <a:ext cx="952560" cy="10620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1639800" y="5318280"/>
                  <a:ext cx="916200" cy="179280"/>
                  <a:chOff x="1639800" y="5318280"/>
                  <a:chExt cx="916200" cy="1792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1639800" y="5324400"/>
                    <a:ext cx="694080" cy="133560"/>
                  </a:xfrm>
                  <a:custGeom>
                    <a:avLst/>
                    <a:gdLst/>
                    <a:ahLst/>
                    <a:rect l="0" t="0" r="r" b="b"/>
                    <a:pathLst>
                      <a:path w="1928" h="371">
                        <a:moveTo>
                          <a:pt x="328" y="0"/>
                        </a:moveTo>
                        <a:lnTo>
                          <a:pt x="99" y="164"/>
                        </a:lnTo>
                        <a:lnTo>
                          <a:pt x="0" y="211"/>
                        </a:lnTo>
                        <a:lnTo>
                          <a:pt x="1636" y="371"/>
                        </a:lnTo>
                        <a:lnTo>
                          <a:pt x="1753" y="298"/>
                        </a:lnTo>
                        <a:lnTo>
                          <a:pt x="1928" y="148"/>
                        </a:lnTo>
                        <a:lnTo>
                          <a:pt x="32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1658880" y="5318280"/>
                    <a:ext cx="897120" cy="179280"/>
                    <a:chOff x="1658880" y="5318280"/>
                    <a:chExt cx="897120" cy="179280"/>
                  </a:xfrm>
                </p:grpSpPr>
                <p:grpSp>
                  <p:nvGrpSpPr>
                    <p:cNvPr id="436" name=""/>
                    <p:cNvGrpSpPr/>
                    <p:nvPr/>
                  </p:nvGrpSpPr>
                  <p:grpSpPr>
                    <a:xfrm>
                      <a:off x="1671480" y="5318280"/>
                      <a:ext cx="657360" cy="147600"/>
                      <a:chOff x="1671480" y="5318280"/>
                      <a:chExt cx="657360" cy="147600"/>
                    </a:xfrm>
                  </p:grpSpPr>
                  <p:grpSp>
                    <p:nvGrpSpPr>
                      <p:cNvPr id="437" name=""/>
                      <p:cNvGrpSpPr/>
                      <p:nvPr/>
                    </p:nvGrpSpPr>
                    <p:grpSpPr>
                      <a:xfrm>
                        <a:off x="1671480" y="5318280"/>
                        <a:ext cx="138240" cy="96840"/>
                        <a:chOff x="1671480" y="5318280"/>
                        <a:chExt cx="138240" cy="96840"/>
                      </a:xfrm>
                    </p:grpSpPr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V="1">
                          <a:off x="1671480" y="5392800"/>
                          <a:ext cx="4320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V="1">
                          <a:off x="1714680" y="5318280"/>
                          <a:ext cx="9504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3400" bIns="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0" name=""/>
                      <p:cNvGrpSpPr/>
                      <p:nvPr/>
                    </p:nvGrpSpPr>
                    <p:grpSpPr>
                      <a:xfrm>
                        <a:off x="1724040" y="5322960"/>
                        <a:ext cx="138240" cy="98280"/>
                        <a:chOff x="1724040" y="5322960"/>
                        <a:chExt cx="138240" cy="98280"/>
                      </a:xfrm>
                    </p:grpSpPr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V="1">
                          <a:off x="1724040" y="5398920"/>
                          <a:ext cx="4428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 flipV="1">
                          <a:off x="1768320" y="5322960"/>
                          <a:ext cx="93960" cy="75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4840" bIns="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3" name=""/>
                      <p:cNvGrpSpPr/>
                      <p:nvPr/>
                    </p:nvGrpSpPr>
                    <p:grpSpPr>
                      <a:xfrm>
                        <a:off x="1779480" y="5326200"/>
                        <a:ext cx="139680" cy="98280"/>
                        <a:chOff x="1779480" y="5326200"/>
                        <a:chExt cx="139680" cy="98280"/>
                      </a:xfrm>
                    </p:grpSpPr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 flipV="1">
                          <a:off x="1779480" y="5402160"/>
                          <a:ext cx="4788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 flipV="1">
                          <a:off x="1827360" y="5326200"/>
                          <a:ext cx="91800" cy="75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4840" bIns="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"/>
                      <p:cNvGrpSpPr/>
                      <p:nvPr/>
                    </p:nvGrpSpPr>
                    <p:grpSpPr>
                      <a:xfrm>
                        <a:off x="1832040" y="5334120"/>
                        <a:ext cx="137880" cy="98280"/>
                        <a:chOff x="1832040" y="5334120"/>
                        <a:chExt cx="137880" cy="98280"/>
                      </a:xfrm>
                    </p:grpSpPr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 flipV="1">
                          <a:off x="1832040" y="5410080"/>
                          <a:ext cx="4284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V="1">
                          <a:off x="1874880" y="5334120"/>
                          <a:ext cx="95040" cy="75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4840" bIns="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9" name=""/>
                      <p:cNvGrpSpPr/>
                      <p:nvPr/>
                    </p:nvGrpSpPr>
                    <p:grpSpPr>
                      <a:xfrm>
                        <a:off x="1886040" y="5337000"/>
                        <a:ext cx="136440" cy="98640"/>
                        <a:chOff x="1886040" y="5337000"/>
                        <a:chExt cx="136440" cy="98640"/>
                      </a:xfrm>
                    </p:grpSpPr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 flipV="1">
                          <a:off x="1886040" y="5411880"/>
                          <a:ext cx="4428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7360" bIns="-27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 flipV="1">
                          <a:off x="1930320" y="5337000"/>
                          <a:ext cx="92160" cy="74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3760" bIns="23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2" name=""/>
                      <p:cNvGrpSpPr/>
                      <p:nvPr/>
                    </p:nvGrpSpPr>
                    <p:grpSpPr>
                      <a:xfrm>
                        <a:off x="1938240" y="5340240"/>
                        <a:ext cx="138240" cy="100080"/>
                        <a:chOff x="1938240" y="5340240"/>
                        <a:chExt cx="138240" cy="100080"/>
                      </a:xfrm>
                    </p:grpSpPr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 flipV="1">
                          <a:off x="1938240" y="5415120"/>
                          <a:ext cx="44640" cy="2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 flipV="1">
                          <a:off x="1982880" y="5340240"/>
                          <a:ext cx="93600" cy="74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3760" bIns="23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5" name=""/>
                      <p:cNvGrpSpPr/>
                      <p:nvPr/>
                    </p:nvGrpSpPr>
                    <p:grpSpPr>
                      <a:xfrm>
                        <a:off x="1989000" y="5343480"/>
                        <a:ext cx="136800" cy="101520"/>
                        <a:chOff x="1989000" y="5343480"/>
                        <a:chExt cx="136800" cy="101520"/>
                      </a:xfrm>
                    </p:grpSpPr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 flipV="1">
                          <a:off x="1989000" y="5421240"/>
                          <a:ext cx="4464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7360" bIns="-27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 flipV="1">
                          <a:off x="2033640" y="5343480"/>
                          <a:ext cx="92160" cy="77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8" name=""/>
                      <p:cNvGrpSpPr/>
                      <p:nvPr/>
                    </p:nvGrpSpPr>
                    <p:grpSpPr>
                      <a:xfrm>
                        <a:off x="2036880" y="5351400"/>
                        <a:ext cx="139680" cy="100080"/>
                        <a:chOff x="2036880" y="5351400"/>
                        <a:chExt cx="139680" cy="100080"/>
                      </a:xfrm>
                    </p:grpSpPr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 flipV="1">
                          <a:off x="2036880" y="5429160"/>
                          <a:ext cx="4752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 flipV="1">
                          <a:off x="2084400" y="5351400"/>
                          <a:ext cx="92160" cy="77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1" name=""/>
                      <p:cNvGrpSpPr/>
                      <p:nvPr/>
                    </p:nvGrpSpPr>
                    <p:grpSpPr>
                      <a:xfrm>
                        <a:off x="2090880" y="5359320"/>
                        <a:ext cx="137880" cy="98640"/>
                        <a:chOff x="2090880" y="5359320"/>
                        <a:chExt cx="137880" cy="98640"/>
                      </a:xfrm>
                    </p:grpSpPr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 flipV="1">
                          <a:off x="2090880" y="5435640"/>
                          <a:ext cx="4284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 flipV="1">
                          <a:off x="2133720" y="5359320"/>
                          <a:ext cx="95040" cy="76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5200" bIns="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4" name=""/>
                      <p:cNvGrpSpPr/>
                      <p:nvPr/>
                    </p:nvGrpSpPr>
                    <p:grpSpPr>
                      <a:xfrm>
                        <a:off x="2139840" y="5362560"/>
                        <a:ext cx="138240" cy="100080"/>
                        <a:chOff x="2139840" y="5362560"/>
                        <a:chExt cx="138240" cy="100080"/>
                      </a:xfrm>
                    </p:grpSpPr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 flipV="1">
                          <a:off x="2139840" y="5440320"/>
                          <a:ext cx="4608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 flipV="1">
                          <a:off x="2185920" y="5362560"/>
                          <a:ext cx="92160" cy="77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7" name=""/>
                      <p:cNvGrpSpPr/>
                      <p:nvPr/>
                    </p:nvGrpSpPr>
                    <p:grpSpPr>
                      <a:xfrm>
                        <a:off x="2190600" y="5365800"/>
                        <a:ext cx="138240" cy="100080"/>
                        <a:chOff x="2190600" y="5365800"/>
                        <a:chExt cx="138240" cy="100080"/>
                      </a:xfrm>
                    </p:grpSpPr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flipV="1">
                          <a:off x="2190600" y="5443560"/>
                          <a:ext cx="46080" cy="22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 flipV="1">
                          <a:off x="2236680" y="5365800"/>
                          <a:ext cx="92160" cy="77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0" name=""/>
                    <p:cNvGrpSpPr/>
                    <p:nvPr/>
                  </p:nvGrpSpPr>
                  <p:grpSpPr>
                    <a:xfrm>
                      <a:off x="2352600" y="5381640"/>
                      <a:ext cx="196920" cy="115920"/>
                      <a:chOff x="2352600" y="5381640"/>
                      <a:chExt cx="196920" cy="115920"/>
                    </a:xfrm>
                  </p:grpSpPr>
                  <p:grpSp>
                    <p:nvGrpSpPr>
                      <p:cNvPr id="471" name=""/>
                      <p:cNvGrpSpPr/>
                      <p:nvPr/>
                    </p:nvGrpSpPr>
                    <p:grpSpPr>
                      <a:xfrm>
                        <a:off x="2433600" y="5389560"/>
                        <a:ext cx="115920" cy="108000"/>
                        <a:chOff x="2433600" y="5389560"/>
                        <a:chExt cx="115920" cy="108000"/>
                      </a:xfrm>
                    </p:grpSpPr>
                    <p:sp>
                      <p:nvSpPr>
                        <p:cNvPr id="472" name=""/>
                        <p:cNvSpPr/>
                        <p:nvPr/>
                      </p:nvSpPr>
                      <p:spPr>
                        <a:xfrm flipV="1">
                          <a:off x="2433600" y="5470560"/>
                          <a:ext cx="3960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3" name=""/>
                        <p:cNvSpPr/>
                        <p:nvPr/>
                      </p:nvSpPr>
                      <p:spPr>
                        <a:xfrm flipV="1">
                          <a:off x="2473200" y="5389560"/>
                          <a:ext cx="76320" cy="81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9880" bIns="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4" name=""/>
                      <p:cNvGrpSpPr/>
                      <p:nvPr/>
                    </p:nvGrpSpPr>
                    <p:grpSpPr>
                      <a:xfrm>
                        <a:off x="2394000" y="5383080"/>
                        <a:ext cx="119160" cy="111240"/>
                        <a:chOff x="2394000" y="5383080"/>
                        <a:chExt cx="119160" cy="111240"/>
                      </a:xfrm>
                    </p:grpSpPr>
                    <p:sp>
                      <p:nvSpPr>
                        <p:cNvPr id="475" name=""/>
                        <p:cNvSpPr/>
                        <p:nvPr/>
                      </p:nvSpPr>
                      <p:spPr>
                        <a:xfrm flipV="1">
                          <a:off x="2394000" y="5465880"/>
                          <a:ext cx="38160" cy="28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2680" bIns="-22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 flipV="1">
                          <a:off x="2432160" y="5383080"/>
                          <a:ext cx="81000" cy="82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31680" bIns="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2352600" y="5381640"/>
                        <a:ext cx="114480" cy="106200"/>
                        <a:chOff x="2352600" y="5381640"/>
                        <a:chExt cx="114480" cy="106200"/>
                      </a:xfrm>
                    </p:grpSpPr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flipV="1">
                          <a:off x="2352600" y="5460840"/>
                          <a:ext cx="3960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 flipV="1">
                          <a:off x="2392200" y="5381640"/>
                          <a:ext cx="74880" cy="79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28080" bIns="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1719360" y="5346720"/>
                      <a:ext cx="836640" cy="7920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28080" bIns="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1690560" y="5369040"/>
                      <a:ext cx="851040" cy="8100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1658880" y="5389560"/>
                      <a:ext cx="862200" cy="8892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2530440" y="5407200"/>
                  <a:ext cx="125280" cy="125280"/>
                  <a:chOff x="2530440" y="5407200"/>
                  <a:chExt cx="125280" cy="12528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V="1">
                    <a:off x="2530440" y="5478480"/>
                    <a:ext cx="65160" cy="5400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2595600" y="5407200"/>
                    <a:ext cx="60120" cy="7128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86" name=""/>
          <p:cNvSpPr txBox="1"/>
          <p:nvPr/>
        </p:nvSpPr>
        <p:spPr>
          <a:xfrm>
            <a:off x="504720" y="4692600"/>
            <a:ext cx="1311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14ffb"/>
                </a:solidFill>
                <a:latin typeface="ARIAL"/>
                <a:ea typeface="ARIAL"/>
              </a:rPr>
              <a:t>Cheap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216080" y="4246560"/>
            <a:ext cx="1538280" cy="429120"/>
            <a:chOff x="1216080" y="4246560"/>
            <a:chExt cx="1538280" cy="429120"/>
          </a:xfrm>
        </p:grpSpPr>
        <p:grpSp>
          <p:nvGrpSpPr>
            <p:cNvPr id="488" name=""/>
            <p:cNvGrpSpPr/>
            <p:nvPr/>
          </p:nvGrpSpPr>
          <p:grpSpPr>
            <a:xfrm>
              <a:off x="1927080" y="4394160"/>
              <a:ext cx="820800" cy="281520"/>
              <a:chOff x="1927080" y="4394160"/>
              <a:chExt cx="820800" cy="281520"/>
            </a:xfrm>
          </p:grpSpPr>
          <p:sp>
            <p:nvSpPr>
              <p:cNvPr id="489" name=""/>
              <p:cNvSpPr/>
              <p:nvPr/>
            </p:nvSpPr>
            <p:spPr>
              <a:xfrm>
                <a:off x="1941480" y="4538520"/>
                <a:ext cx="802080" cy="135360"/>
              </a:xfrm>
              <a:custGeom>
                <a:avLst/>
                <a:gdLst/>
                <a:ahLst/>
                <a:rect l="0" t="0" r="r" b="b"/>
                <a:pathLst>
                  <a:path w="2228" h="376">
                    <a:moveTo>
                      <a:pt x="0" y="138"/>
                    </a:moveTo>
                    <a:lnTo>
                      <a:pt x="8" y="293"/>
                    </a:lnTo>
                    <a:lnTo>
                      <a:pt x="1822" y="376"/>
                    </a:lnTo>
                    <a:lnTo>
                      <a:pt x="2228" y="134"/>
                    </a:lnTo>
                    <a:lnTo>
                      <a:pt x="2216" y="0"/>
                    </a:lnTo>
                    <a:lnTo>
                      <a:pt x="1797" y="209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28880" y="4441680"/>
                <a:ext cx="660600" cy="168480"/>
              </a:xfrm>
              <a:custGeom>
                <a:avLst/>
                <a:gdLst/>
                <a:ahLst/>
                <a:rect l="0" t="0" r="r" b="b"/>
                <a:pathLst>
                  <a:path w="1835" h="468">
                    <a:moveTo>
                      <a:pt x="0" y="0"/>
                    </a:moveTo>
                    <a:lnTo>
                      <a:pt x="1810" y="29"/>
                    </a:lnTo>
                    <a:lnTo>
                      <a:pt x="1835" y="468"/>
                    </a:lnTo>
                    <a:lnTo>
                      <a:pt x="21" y="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27080" y="4394160"/>
                <a:ext cx="805320" cy="52920"/>
              </a:xfrm>
              <a:custGeom>
                <a:avLst/>
                <a:gdLst/>
                <a:ahLst/>
                <a:rect l="0" t="0" r="r" b="b"/>
                <a:pathLst>
                  <a:path w="2237" h="147">
                    <a:moveTo>
                      <a:pt x="0" y="122"/>
                    </a:moveTo>
                    <a:lnTo>
                      <a:pt x="1814" y="147"/>
                    </a:lnTo>
                    <a:lnTo>
                      <a:pt x="2237" y="12"/>
                    </a:lnTo>
                    <a:lnTo>
                      <a:pt x="2089" y="0"/>
                    </a:lnTo>
                    <a:lnTo>
                      <a:pt x="682" y="12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598840" y="4535640"/>
                <a:ext cx="144720" cy="140040"/>
              </a:xfrm>
              <a:custGeom>
                <a:avLst/>
                <a:gdLst/>
                <a:ahLst/>
                <a:rect l="0" t="0" r="r" b="b"/>
                <a:pathLst>
                  <a:path w="402" h="389">
                    <a:moveTo>
                      <a:pt x="0" y="205"/>
                    </a:moveTo>
                    <a:lnTo>
                      <a:pt x="389" y="0"/>
                    </a:lnTo>
                    <a:lnTo>
                      <a:pt x="402" y="146"/>
                    </a:lnTo>
                    <a:lnTo>
                      <a:pt x="12" y="389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87680" y="4402080"/>
                <a:ext cx="152640" cy="208440"/>
              </a:xfrm>
              <a:custGeom>
                <a:avLst/>
                <a:gdLst/>
                <a:ahLst/>
                <a:rect l="0" t="0" r="r" b="b"/>
                <a:pathLst>
                  <a:path w="424" h="579">
                    <a:moveTo>
                      <a:pt x="0" y="142"/>
                    </a:moveTo>
                    <a:lnTo>
                      <a:pt x="407" y="0"/>
                    </a:lnTo>
                    <a:lnTo>
                      <a:pt x="424" y="369"/>
                    </a:lnTo>
                    <a:lnTo>
                      <a:pt x="25" y="579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2592360" y="4464000"/>
                <a:ext cx="150840" cy="66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2619360" y="4481640"/>
                <a:ext cx="125280" cy="56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619360" y="4495680"/>
                <a:ext cx="127080" cy="61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2620800" y="4511520"/>
                <a:ext cx="12708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2620800" y="4527720"/>
                <a:ext cx="127080" cy="61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2616120" y="4448160"/>
                <a:ext cx="127080" cy="52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2616120" y="4432320"/>
                <a:ext cx="127080" cy="47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2616120" y="4413240"/>
                <a:ext cx="123840" cy="46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2880" y="4446720"/>
                <a:ext cx="9720" cy="158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2019240" y="4492800"/>
                <a:ext cx="317520" cy="52200"/>
                <a:chOff x="2019240" y="4492800"/>
                <a:chExt cx="317520" cy="5220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2019240" y="4492800"/>
                  <a:ext cx="27000" cy="29880"/>
                  <a:chOff x="2019240" y="4492800"/>
                  <a:chExt cx="27000" cy="2988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2025720" y="4498920"/>
                    <a:ext cx="20520" cy="237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019240" y="4492800"/>
                    <a:ext cx="22320" cy="255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2095560" y="4495680"/>
                  <a:ext cx="241200" cy="49320"/>
                  <a:chOff x="2095560" y="4495680"/>
                  <a:chExt cx="241200" cy="49320"/>
                </a:xfrm>
              </p:grpSpPr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2101680" y="4510080"/>
                    <a:ext cx="235080" cy="34920"/>
                    <a:chOff x="2101680" y="4510080"/>
                    <a:chExt cx="235080" cy="3492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2278080" y="4519440"/>
                      <a:ext cx="19080" cy="223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136600" y="4511520"/>
                      <a:ext cx="19080" cy="223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2208240" y="4516560"/>
                      <a:ext cx="1908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2247840" y="4516560"/>
                      <a:ext cx="15840" cy="237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2170080" y="4513320"/>
                      <a:ext cx="19080" cy="205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2101680" y="4510080"/>
                      <a:ext cx="17640" cy="223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2317680" y="4522680"/>
                      <a:ext cx="19080" cy="223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095560" y="4495680"/>
                    <a:ext cx="237960" cy="43200"/>
                    <a:chOff x="2095560" y="4495680"/>
                    <a:chExt cx="237960" cy="43200"/>
                  </a:xfrm>
                </p:grpSpPr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2133720" y="4505400"/>
                      <a:ext cx="199800" cy="33480"/>
                      <a:chOff x="2133720" y="4505400"/>
                      <a:chExt cx="199800" cy="3348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>
                        <a:off x="2313000" y="4516560"/>
                        <a:ext cx="20520" cy="223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2168640" y="450540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2244600" y="4513320"/>
                        <a:ext cx="17640" cy="20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2274840" y="4514760"/>
                        <a:ext cx="20520" cy="223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2206800" y="4508640"/>
                        <a:ext cx="17640" cy="20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2133720" y="4505400"/>
                        <a:ext cx="19080" cy="20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2095560" y="4495680"/>
                      <a:ext cx="20520" cy="205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25" name=""/>
            <p:cNvSpPr txBox="1"/>
            <p:nvPr/>
          </p:nvSpPr>
          <p:spPr>
            <a:xfrm>
              <a:off x="1216080" y="4246560"/>
              <a:ext cx="8888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-top-bo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933560" y="4389480"/>
              <a:ext cx="820800" cy="281160"/>
              <a:chOff x="1933560" y="4389480"/>
              <a:chExt cx="820800" cy="281160"/>
            </a:xfrm>
          </p:grpSpPr>
          <p:sp>
            <p:nvSpPr>
              <p:cNvPr id="527" name=""/>
              <p:cNvSpPr/>
              <p:nvPr/>
            </p:nvSpPr>
            <p:spPr>
              <a:xfrm>
                <a:off x="1947960" y="4533840"/>
                <a:ext cx="802080" cy="135360"/>
              </a:xfrm>
              <a:custGeom>
                <a:avLst/>
                <a:gdLst/>
                <a:ahLst/>
                <a:rect l="0" t="0" r="r" b="b"/>
                <a:pathLst>
                  <a:path w="2228" h="376">
                    <a:moveTo>
                      <a:pt x="0" y="138"/>
                    </a:moveTo>
                    <a:lnTo>
                      <a:pt x="8" y="293"/>
                    </a:lnTo>
                    <a:lnTo>
                      <a:pt x="1822" y="376"/>
                    </a:lnTo>
                    <a:lnTo>
                      <a:pt x="2228" y="134"/>
                    </a:lnTo>
                    <a:lnTo>
                      <a:pt x="2216" y="0"/>
                    </a:lnTo>
                    <a:lnTo>
                      <a:pt x="1797" y="209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935000" y="4438800"/>
                <a:ext cx="660600" cy="167040"/>
              </a:xfrm>
              <a:custGeom>
                <a:avLst/>
                <a:gdLst/>
                <a:ahLst/>
                <a:rect l="0" t="0" r="r" b="b"/>
                <a:pathLst>
                  <a:path w="1835" h="464">
                    <a:moveTo>
                      <a:pt x="0" y="0"/>
                    </a:moveTo>
                    <a:lnTo>
                      <a:pt x="1810" y="29"/>
                    </a:lnTo>
                    <a:lnTo>
                      <a:pt x="1835" y="464"/>
                    </a:lnTo>
                    <a:lnTo>
                      <a:pt x="21" y="4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33560" y="4389480"/>
                <a:ext cx="805320" cy="52920"/>
              </a:xfrm>
              <a:custGeom>
                <a:avLst/>
                <a:gdLst/>
                <a:ahLst/>
                <a:rect l="0" t="0" r="r" b="b"/>
                <a:pathLst>
                  <a:path w="2237" h="147">
                    <a:moveTo>
                      <a:pt x="0" y="122"/>
                    </a:moveTo>
                    <a:lnTo>
                      <a:pt x="1814" y="147"/>
                    </a:lnTo>
                    <a:lnTo>
                      <a:pt x="2237" y="12"/>
                    </a:lnTo>
                    <a:lnTo>
                      <a:pt x="2089" y="0"/>
                    </a:lnTo>
                    <a:lnTo>
                      <a:pt x="682" y="12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03520" y="4530600"/>
                <a:ext cx="146520" cy="140040"/>
              </a:xfrm>
              <a:custGeom>
                <a:avLst/>
                <a:gdLst/>
                <a:ahLst/>
                <a:rect l="0" t="0" r="r" b="b"/>
                <a:pathLst>
                  <a:path w="407" h="389">
                    <a:moveTo>
                      <a:pt x="0" y="205"/>
                    </a:moveTo>
                    <a:lnTo>
                      <a:pt x="394" y="0"/>
                    </a:lnTo>
                    <a:lnTo>
                      <a:pt x="407" y="146"/>
                    </a:lnTo>
                    <a:lnTo>
                      <a:pt x="12" y="389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93800" y="4397400"/>
                <a:ext cx="152640" cy="208440"/>
              </a:xfrm>
              <a:custGeom>
                <a:avLst/>
                <a:gdLst/>
                <a:ahLst/>
                <a:rect l="0" t="0" r="r" b="b"/>
                <a:pathLst>
                  <a:path w="424" h="579">
                    <a:moveTo>
                      <a:pt x="0" y="142"/>
                    </a:moveTo>
                    <a:lnTo>
                      <a:pt x="407" y="0"/>
                    </a:lnTo>
                    <a:lnTo>
                      <a:pt x="424" y="369"/>
                    </a:lnTo>
                    <a:lnTo>
                      <a:pt x="25" y="579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598840" y="4459320"/>
                <a:ext cx="150840" cy="66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2625840" y="4478400"/>
                <a:ext cx="125280" cy="55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625840" y="4491000"/>
                <a:ext cx="126720" cy="633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2627280" y="4506840"/>
                <a:ext cx="12708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627280" y="4522680"/>
                <a:ext cx="127080" cy="61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2622600" y="4443480"/>
                <a:ext cx="127080" cy="52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2622600" y="4427640"/>
                <a:ext cx="127080" cy="48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2622600" y="4408560"/>
                <a:ext cx="123840" cy="46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619360" y="4441680"/>
                <a:ext cx="9720" cy="158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2025720" y="4487760"/>
                <a:ext cx="317520" cy="52560"/>
                <a:chOff x="2025720" y="4487760"/>
                <a:chExt cx="317520" cy="52560"/>
              </a:xfrm>
            </p:grpSpPr>
            <p:grpSp>
              <p:nvGrpSpPr>
                <p:cNvPr id="542" name=""/>
                <p:cNvGrpSpPr/>
                <p:nvPr/>
              </p:nvGrpSpPr>
              <p:grpSpPr>
                <a:xfrm>
                  <a:off x="2025720" y="4487760"/>
                  <a:ext cx="26640" cy="30240"/>
                  <a:chOff x="2025720" y="4487760"/>
                  <a:chExt cx="26640" cy="3024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2031840" y="4494240"/>
                    <a:ext cx="20520" cy="237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025720" y="4487760"/>
                    <a:ext cx="22320" cy="2700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2101680" y="4491000"/>
                  <a:ext cx="241560" cy="49320"/>
                  <a:chOff x="2101680" y="4491000"/>
                  <a:chExt cx="241560" cy="49320"/>
                </a:xfrm>
              </p:grpSpPr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2108160" y="4505400"/>
                    <a:ext cx="235080" cy="34920"/>
                    <a:chOff x="2108160" y="4505400"/>
                    <a:chExt cx="235080" cy="3492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2284560" y="4516560"/>
                      <a:ext cx="19080" cy="205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2143080" y="4506840"/>
                      <a:ext cx="19080" cy="223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2214720" y="4511520"/>
                      <a:ext cx="1908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2254320" y="4513320"/>
                      <a:ext cx="15840" cy="223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2176560" y="4508640"/>
                      <a:ext cx="19080" cy="205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2108160" y="4505400"/>
                      <a:ext cx="17640" cy="223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2324160" y="4518000"/>
                      <a:ext cx="19080" cy="223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101680" y="4491000"/>
                    <a:ext cx="238320" cy="42840"/>
                    <a:chOff x="2101680" y="4491000"/>
                    <a:chExt cx="238320" cy="42840"/>
                  </a:xfrm>
                </p:grpSpPr>
                <p:grpSp>
                  <p:nvGrpSpPr>
                    <p:cNvPr id="555" name=""/>
                    <p:cNvGrpSpPr/>
                    <p:nvPr/>
                  </p:nvGrpSpPr>
                  <p:grpSpPr>
                    <a:xfrm>
                      <a:off x="2139840" y="4500720"/>
                      <a:ext cx="200160" cy="33120"/>
                      <a:chOff x="2139840" y="4500720"/>
                      <a:chExt cx="200160" cy="33120"/>
                    </a:xfrm>
                  </p:grpSpPr>
                  <p:sp>
                    <p:nvSpPr>
                      <p:cNvPr id="556" name=""/>
                      <p:cNvSpPr/>
                      <p:nvPr/>
                    </p:nvSpPr>
                    <p:spPr>
                      <a:xfrm>
                        <a:off x="2319480" y="4513320"/>
                        <a:ext cx="20520" cy="20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7" name=""/>
                      <p:cNvSpPr/>
                      <p:nvPr/>
                    </p:nvSpPr>
                    <p:spPr>
                      <a:xfrm>
                        <a:off x="2174760" y="450072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2251080" y="4508640"/>
                        <a:ext cx="15840" cy="20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2281320" y="4510080"/>
                        <a:ext cx="20520" cy="223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2212920" y="4503600"/>
                        <a:ext cx="17640" cy="20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"/>
                      <p:cNvSpPr/>
                      <p:nvPr/>
                    </p:nvSpPr>
                    <p:spPr>
                      <a:xfrm>
                        <a:off x="2139840" y="4500720"/>
                        <a:ext cx="19080" cy="20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2101680" y="4491000"/>
                      <a:ext cx="17640" cy="223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63" name=""/>
          <p:cNvSpPr/>
          <p:nvPr/>
        </p:nvSpPr>
        <p:spPr>
          <a:xfrm>
            <a:off x="743040" y="2933640"/>
            <a:ext cx="1952640" cy="3618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81000" y="3219480"/>
            <a:ext cx="10476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33520" y="2952720"/>
            <a:ext cx="7632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076400" y="3048120"/>
            <a:ext cx="70488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076400" y="3076560"/>
            <a:ext cx="73332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8"/>
          <a:stretch/>
        </p:blipFill>
        <p:spPr>
          <a:xfrm>
            <a:off x="6380280" y="1752480"/>
            <a:ext cx="83196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S on GBS Concept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2135160" y="2444760"/>
            <a:ext cx="6618240" cy="39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3703680" y="3182760"/>
            <a:ext cx="4775400" cy="1333800"/>
          </a:xfrm>
          <a:custGeom>
            <a:avLst/>
            <a:gdLst/>
            <a:ahLst/>
            <a:rect l="0" t="0" r="r" b="b"/>
            <a:pathLst>
              <a:path w="13265" h="3705">
                <a:moveTo>
                  <a:pt x="13265" y="3613"/>
                </a:moveTo>
                <a:lnTo>
                  <a:pt x="5953" y="0"/>
                </a:lnTo>
                <a:lnTo>
                  <a:pt x="0" y="3705"/>
                </a:lnTo>
                <a:lnTo>
                  <a:pt x="13265" y="36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3317760" y="3886200"/>
            <a:ext cx="5594400" cy="258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885960" y="2533680"/>
            <a:ext cx="1571760" cy="34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2295360" y="6057720"/>
            <a:ext cx="1571760" cy="34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2" name=""/>
          <p:cNvGrpSpPr/>
          <p:nvPr/>
        </p:nvGrpSpPr>
        <p:grpSpPr>
          <a:xfrm>
            <a:off x="3467160" y="4441680"/>
            <a:ext cx="5239080" cy="1522800"/>
            <a:chOff x="3467160" y="4441680"/>
            <a:chExt cx="5239080" cy="1522800"/>
          </a:xfrm>
        </p:grpSpPr>
        <p:sp>
          <p:nvSpPr>
            <p:cNvPr id="4093" name=""/>
            <p:cNvSpPr/>
            <p:nvPr/>
          </p:nvSpPr>
          <p:spPr>
            <a:xfrm>
              <a:off x="3467160" y="4656240"/>
              <a:ext cx="1935360" cy="1295640"/>
            </a:xfrm>
            <a:custGeom>
              <a:avLst/>
              <a:gdLst/>
              <a:ahLst/>
              <a:rect l="0" t="0" r="r" b="b"/>
              <a:pathLst>
                <a:path w="5376" h="3599">
                  <a:moveTo>
                    <a:pt x="0" y="273"/>
                  </a:moveTo>
                  <a:lnTo>
                    <a:pt x="67" y="281"/>
                  </a:lnTo>
                  <a:lnTo>
                    <a:pt x="43" y="287"/>
                  </a:lnTo>
                  <a:lnTo>
                    <a:pt x="67" y="308"/>
                  </a:lnTo>
                  <a:lnTo>
                    <a:pt x="198" y="308"/>
                  </a:lnTo>
                  <a:lnTo>
                    <a:pt x="208" y="322"/>
                  </a:lnTo>
                  <a:lnTo>
                    <a:pt x="271" y="316"/>
                  </a:lnTo>
                  <a:lnTo>
                    <a:pt x="281" y="351"/>
                  </a:lnTo>
                  <a:lnTo>
                    <a:pt x="116" y="392"/>
                  </a:lnTo>
                  <a:lnTo>
                    <a:pt x="82" y="427"/>
                  </a:lnTo>
                  <a:lnTo>
                    <a:pt x="106" y="450"/>
                  </a:lnTo>
                  <a:lnTo>
                    <a:pt x="164" y="456"/>
                  </a:lnTo>
                  <a:lnTo>
                    <a:pt x="140" y="470"/>
                  </a:lnTo>
                  <a:lnTo>
                    <a:pt x="164" y="491"/>
                  </a:lnTo>
                  <a:lnTo>
                    <a:pt x="198" y="491"/>
                  </a:lnTo>
                  <a:lnTo>
                    <a:pt x="223" y="470"/>
                  </a:lnTo>
                  <a:lnTo>
                    <a:pt x="257" y="511"/>
                  </a:lnTo>
                  <a:lnTo>
                    <a:pt x="232" y="534"/>
                  </a:lnTo>
                  <a:lnTo>
                    <a:pt x="305" y="505"/>
                  </a:lnTo>
                  <a:lnTo>
                    <a:pt x="363" y="540"/>
                  </a:lnTo>
                  <a:lnTo>
                    <a:pt x="446" y="511"/>
                  </a:lnTo>
                  <a:lnTo>
                    <a:pt x="373" y="595"/>
                  </a:lnTo>
                  <a:lnTo>
                    <a:pt x="305" y="610"/>
                  </a:lnTo>
                  <a:lnTo>
                    <a:pt x="305" y="624"/>
                  </a:lnTo>
                  <a:lnTo>
                    <a:pt x="232" y="633"/>
                  </a:lnTo>
                  <a:lnTo>
                    <a:pt x="189" y="659"/>
                  </a:lnTo>
                  <a:lnTo>
                    <a:pt x="257" y="639"/>
                  </a:lnTo>
                  <a:lnTo>
                    <a:pt x="329" y="639"/>
                  </a:lnTo>
                  <a:lnTo>
                    <a:pt x="354" y="610"/>
                  </a:lnTo>
                  <a:lnTo>
                    <a:pt x="397" y="610"/>
                  </a:lnTo>
                  <a:lnTo>
                    <a:pt x="553" y="549"/>
                  </a:lnTo>
                  <a:lnTo>
                    <a:pt x="587" y="526"/>
                  </a:lnTo>
                  <a:lnTo>
                    <a:pt x="562" y="505"/>
                  </a:lnTo>
                  <a:lnTo>
                    <a:pt x="693" y="435"/>
                  </a:lnTo>
                  <a:lnTo>
                    <a:pt x="718" y="441"/>
                  </a:lnTo>
                  <a:lnTo>
                    <a:pt x="669" y="456"/>
                  </a:lnTo>
                  <a:lnTo>
                    <a:pt x="645" y="491"/>
                  </a:lnTo>
                  <a:lnTo>
                    <a:pt x="684" y="491"/>
                  </a:lnTo>
                  <a:lnTo>
                    <a:pt x="645" y="511"/>
                  </a:lnTo>
                  <a:lnTo>
                    <a:pt x="776" y="485"/>
                  </a:lnTo>
                  <a:lnTo>
                    <a:pt x="810" y="450"/>
                  </a:lnTo>
                  <a:lnTo>
                    <a:pt x="873" y="441"/>
                  </a:lnTo>
                  <a:lnTo>
                    <a:pt x="858" y="456"/>
                  </a:lnTo>
                  <a:lnTo>
                    <a:pt x="965" y="485"/>
                  </a:lnTo>
                  <a:lnTo>
                    <a:pt x="1164" y="491"/>
                  </a:lnTo>
                  <a:lnTo>
                    <a:pt x="1188" y="511"/>
                  </a:lnTo>
                  <a:lnTo>
                    <a:pt x="1222" y="534"/>
                  </a:lnTo>
                  <a:lnTo>
                    <a:pt x="1261" y="549"/>
                  </a:lnTo>
                  <a:lnTo>
                    <a:pt x="1343" y="540"/>
                  </a:lnTo>
                  <a:lnTo>
                    <a:pt x="1402" y="560"/>
                  </a:lnTo>
                  <a:lnTo>
                    <a:pt x="1402" y="584"/>
                  </a:lnTo>
                  <a:lnTo>
                    <a:pt x="1484" y="619"/>
                  </a:lnTo>
                  <a:lnTo>
                    <a:pt x="1518" y="674"/>
                  </a:lnTo>
                  <a:lnTo>
                    <a:pt x="1615" y="744"/>
                  </a:lnTo>
                  <a:lnTo>
                    <a:pt x="1625" y="787"/>
                  </a:lnTo>
                  <a:lnTo>
                    <a:pt x="1756" y="822"/>
                  </a:lnTo>
                  <a:lnTo>
                    <a:pt x="1814" y="828"/>
                  </a:lnTo>
                  <a:lnTo>
                    <a:pt x="1838" y="877"/>
                  </a:lnTo>
                  <a:lnTo>
                    <a:pt x="1756" y="877"/>
                  </a:lnTo>
                  <a:lnTo>
                    <a:pt x="1780" y="941"/>
                  </a:lnTo>
                  <a:lnTo>
                    <a:pt x="1765" y="1110"/>
                  </a:lnTo>
                  <a:lnTo>
                    <a:pt x="1848" y="1200"/>
                  </a:lnTo>
                  <a:lnTo>
                    <a:pt x="1921" y="1278"/>
                  </a:lnTo>
                  <a:lnTo>
                    <a:pt x="2003" y="1293"/>
                  </a:lnTo>
                  <a:lnTo>
                    <a:pt x="2061" y="1328"/>
                  </a:lnTo>
                  <a:lnTo>
                    <a:pt x="2120" y="1403"/>
                  </a:lnTo>
                  <a:lnTo>
                    <a:pt x="2226" y="1476"/>
                  </a:lnTo>
                  <a:lnTo>
                    <a:pt x="2260" y="1531"/>
                  </a:lnTo>
                  <a:lnTo>
                    <a:pt x="2343" y="1581"/>
                  </a:lnTo>
                  <a:lnTo>
                    <a:pt x="2382" y="1566"/>
                  </a:lnTo>
                  <a:lnTo>
                    <a:pt x="2168" y="1398"/>
                  </a:lnTo>
                  <a:lnTo>
                    <a:pt x="2154" y="1348"/>
                  </a:lnTo>
                  <a:lnTo>
                    <a:pt x="2192" y="1357"/>
                  </a:lnTo>
                  <a:lnTo>
                    <a:pt x="2275" y="1432"/>
                  </a:lnTo>
                  <a:lnTo>
                    <a:pt x="2382" y="1488"/>
                  </a:lnTo>
                  <a:lnTo>
                    <a:pt x="2382" y="1511"/>
                  </a:lnTo>
                  <a:lnTo>
                    <a:pt x="2522" y="1586"/>
                  </a:lnTo>
                  <a:lnTo>
                    <a:pt x="2547" y="1621"/>
                  </a:lnTo>
                  <a:lnTo>
                    <a:pt x="2532" y="1650"/>
                  </a:lnTo>
                  <a:lnTo>
                    <a:pt x="2566" y="1679"/>
                  </a:lnTo>
                  <a:lnTo>
                    <a:pt x="2853" y="1755"/>
                  </a:lnTo>
                  <a:lnTo>
                    <a:pt x="2984" y="1749"/>
                  </a:lnTo>
                  <a:lnTo>
                    <a:pt x="3067" y="1790"/>
                  </a:lnTo>
                  <a:lnTo>
                    <a:pt x="3159" y="1814"/>
                  </a:lnTo>
                  <a:lnTo>
                    <a:pt x="3241" y="1820"/>
                  </a:lnTo>
                  <a:lnTo>
                    <a:pt x="3324" y="1875"/>
                  </a:lnTo>
                  <a:lnTo>
                    <a:pt x="3333" y="1904"/>
                  </a:lnTo>
                  <a:lnTo>
                    <a:pt x="3358" y="1904"/>
                  </a:lnTo>
                  <a:lnTo>
                    <a:pt x="3440" y="1948"/>
                  </a:lnTo>
                  <a:lnTo>
                    <a:pt x="3537" y="1974"/>
                  </a:lnTo>
                  <a:lnTo>
                    <a:pt x="3547" y="1948"/>
                  </a:lnTo>
                  <a:lnTo>
                    <a:pt x="3595" y="1925"/>
                  </a:lnTo>
                  <a:lnTo>
                    <a:pt x="3644" y="1948"/>
                  </a:lnTo>
                  <a:lnTo>
                    <a:pt x="3644" y="1968"/>
                  </a:lnTo>
                  <a:lnTo>
                    <a:pt x="3663" y="2053"/>
                  </a:lnTo>
                  <a:lnTo>
                    <a:pt x="3561" y="2131"/>
                  </a:lnTo>
                  <a:lnTo>
                    <a:pt x="3523" y="2207"/>
                  </a:lnTo>
                  <a:lnTo>
                    <a:pt x="3523" y="2291"/>
                  </a:lnTo>
                  <a:lnTo>
                    <a:pt x="3605" y="2355"/>
                  </a:lnTo>
                  <a:lnTo>
                    <a:pt x="3712" y="2494"/>
                  </a:lnTo>
                  <a:lnTo>
                    <a:pt x="3950" y="2593"/>
                  </a:lnTo>
                  <a:lnTo>
                    <a:pt x="3959" y="2677"/>
                  </a:lnTo>
                  <a:lnTo>
                    <a:pt x="3901" y="2875"/>
                  </a:lnTo>
                  <a:lnTo>
                    <a:pt x="3901" y="2974"/>
                  </a:lnTo>
                  <a:lnTo>
                    <a:pt x="3819" y="3099"/>
                  </a:lnTo>
                  <a:lnTo>
                    <a:pt x="3809" y="3212"/>
                  </a:lnTo>
                  <a:lnTo>
                    <a:pt x="3877" y="3227"/>
                  </a:lnTo>
                  <a:lnTo>
                    <a:pt x="3867" y="3311"/>
                  </a:lnTo>
                  <a:lnTo>
                    <a:pt x="3794" y="3372"/>
                  </a:lnTo>
                  <a:lnTo>
                    <a:pt x="3785" y="3410"/>
                  </a:lnTo>
                  <a:lnTo>
                    <a:pt x="3819" y="3456"/>
                  </a:lnTo>
                  <a:lnTo>
                    <a:pt x="3809" y="3506"/>
                  </a:lnTo>
                  <a:lnTo>
                    <a:pt x="3853" y="3520"/>
                  </a:lnTo>
                  <a:lnTo>
                    <a:pt x="3853" y="3555"/>
                  </a:lnTo>
                  <a:lnTo>
                    <a:pt x="3877" y="3584"/>
                  </a:lnTo>
                  <a:lnTo>
                    <a:pt x="3925" y="3599"/>
                  </a:lnTo>
                  <a:lnTo>
                    <a:pt x="3935" y="3564"/>
                  </a:lnTo>
                  <a:lnTo>
                    <a:pt x="4032" y="3549"/>
                  </a:lnTo>
                  <a:lnTo>
                    <a:pt x="3998" y="3529"/>
                  </a:lnTo>
                  <a:lnTo>
                    <a:pt x="4056" y="3471"/>
                  </a:lnTo>
                  <a:lnTo>
                    <a:pt x="4139" y="3395"/>
                  </a:lnTo>
                  <a:lnTo>
                    <a:pt x="4066" y="3352"/>
                  </a:lnTo>
                  <a:lnTo>
                    <a:pt x="4149" y="3326"/>
                  </a:lnTo>
                  <a:lnTo>
                    <a:pt x="4221" y="3233"/>
                  </a:lnTo>
                  <a:lnTo>
                    <a:pt x="4163" y="3198"/>
                  </a:lnTo>
                  <a:lnTo>
                    <a:pt x="4265" y="3198"/>
                  </a:lnTo>
                  <a:lnTo>
                    <a:pt x="4280" y="3143"/>
                  </a:lnTo>
                  <a:lnTo>
                    <a:pt x="4454" y="3128"/>
                  </a:lnTo>
                  <a:lnTo>
                    <a:pt x="4503" y="3084"/>
                  </a:lnTo>
                  <a:lnTo>
                    <a:pt x="4430" y="3009"/>
                  </a:lnTo>
                  <a:lnTo>
                    <a:pt x="4575" y="3029"/>
                  </a:lnTo>
                  <a:lnTo>
                    <a:pt x="4634" y="2994"/>
                  </a:lnTo>
                  <a:lnTo>
                    <a:pt x="4833" y="2855"/>
                  </a:lnTo>
                  <a:lnTo>
                    <a:pt x="4842" y="2776"/>
                  </a:lnTo>
                  <a:lnTo>
                    <a:pt x="4998" y="2712"/>
                  </a:lnTo>
                  <a:lnTo>
                    <a:pt x="5129" y="2692"/>
                  </a:lnTo>
                  <a:lnTo>
                    <a:pt x="5211" y="2579"/>
                  </a:lnTo>
                  <a:lnTo>
                    <a:pt x="5221" y="2474"/>
                  </a:lnTo>
                  <a:lnTo>
                    <a:pt x="5376" y="2369"/>
                  </a:lnTo>
                  <a:lnTo>
                    <a:pt x="5361" y="2276"/>
                  </a:lnTo>
                  <a:lnTo>
                    <a:pt x="5211" y="2221"/>
                  </a:lnTo>
                  <a:lnTo>
                    <a:pt x="4998" y="2215"/>
                  </a:lnTo>
                  <a:lnTo>
                    <a:pt x="4988" y="2186"/>
                  </a:lnTo>
                  <a:lnTo>
                    <a:pt x="4891" y="2166"/>
                  </a:lnTo>
                  <a:lnTo>
                    <a:pt x="4716" y="2201"/>
                  </a:lnTo>
                  <a:lnTo>
                    <a:pt x="4726" y="2157"/>
                  </a:lnTo>
                  <a:lnTo>
                    <a:pt x="4784" y="2108"/>
                  </a:lnTo>
                  <a:lnTo>
                    <a:pt x="4716" y="2053"/>
                  </a:lnTo>
                  <a:lnTo>
                    <a:pt x="4619" y="2009"/>
                  </a:lnTo>
                  <a:lnTo>
                    <a:pt x="4493" y="2009"/>
                  </a:lnTo>
                  <a:lnTo>
                    <a:pt x="4372" y="1948"/>
                  </a:lnTo>
                  <a:lnTo>
                    <a:pt x="4328" y="1919"/>
                  </a:lnTo>
                  <a:lnTo>
                    <a:pt x="4255" y="1898"/>
                  </a:lnTo>
                  <a:lnTo>
                    <a:pt x="4042" y="1890"/>
                  </a:lnTo>
                  <a:lnTo>
                    <a:pt x="3959" y="1849"/>
                  </a:lnTo>
                  <a:lnTo>
                    <a:pt x="3916" y="1884"/>
                  </a:lnTo>
                  <a:lnTo>
                    <a:pt x="3901" y="1849"/>
                  </a:lnTo>
                  <a:lnTo>
                    <a:pt x="3760" y="1884"/>
                  </a:lnTo>
                  <a:lnTo>
                    <a:pt x="3688" y="1954"/>
                  </a:lnTo>
                  <a:lnTo>
                    <a:pt x="3663" y="1939"/>
                  </a:lnTo>
                  <a:lnTo>
                    <a:pt x="3595" y="1913"/>
                  </a:lnTo>
                  <a:lnTo>
                    <a:pt x="3513" y="1933"/>
                  </a:lnTo>
                  <a:lnTo>
                    <a:pt x="3455" y="1913"/>
                  </a:lnTo>
                  <a:lnTo>
                    <a:pt x="3416" y="1884"/>
                  </a:lnTo>
                  <a:lnTo>
                    <a:pt x="3431" y="1778"/>
                  </a:lnTo>
                  <a:lnTo>
                    <a:pt x="3358" y="1755"/>
                  </a:lnTo>
                  <a:lnTo>
                    <a:pt x="3193" y="1755"/>
                  </a:lnTo>
                  <a:lnTo>
                    <a:pt x="3241" y="1700"/>
                  </a:lnTo>
                  <a:lnTo>
                    <a:pt x="3290" y="1621"/>
                  </a:lnTo>
                  <a:lnTo>
                    <a:pt x="3241" y="1610"/>
                  </a:lnTo>
                  <a:lnTo>
                    <a:pt x="3135" y="1630"/>
                  </a:lnTo>
                  <a:lnTo>
                    <a:pt x="3086" y="1694"/>
                  </a:lnTo>
                  <a:lnTo>
                    <a:pt x="2921" y="1685"/>
                  </a:lnTo>
                  <a:lnTo>
                    <a:pt x="2839" y="1601"/>
                  </a:lnTo>
                  <a:lnTo>
                    <a:pt x="2877" y="1502"/>
                  </a:lnTo>
                  <a:lnTo>
                    <a:pt x="2863" y="1453"/>
                  </a:lnTo>
                  <a:lnTo>
                    <a:pt x="2960" y="1403"/>
                  </a:lnTo>
                  <a:lnTo>
                    <a:pt x="3076" y="1398"/>
                  </a:lnTo>
                  <a:lnTo>
                    <a:pt x="3183" y="1427"/>
                  </a:lnTo>
                  <a:lnTo>
                    <a:pt x="3183" y="1398"/>
                  </a:lnTo>
                  <a:lnTo>
                    <a:pt x="3241" y="1368"/>
                  </a:lnTo>
                  <a:lnTo>
                    <a:pt x="3406" y="1398"/>
                  </a:lnTo>
                  <a:lnTo>
                    <a:pt x="3455" y="1418"/>
                  </a:lnTo>
                  <a:lnTo>
                    <a:pt x="3455" y="1467"/>
                  </a:lnTo>
                  <a:lnTo>
                    <a:pt x="3513" y="1525"/>
                  </a:lnTo>
                  <a:lnTo>
                    <a:pt x="3537" y="1525"/>
                  </a:lnTo>
                  <a:lnTo>
                    <a:pt x="3561" y="1476"/>
                  </a:lnTo>
                  <a:lnTo>
                    <a:pt x="3498" y="1368"/>
                  </a:lnTo>
                  <a:lnTo>
                    <a:pt x="3537" y="1328"/>
                  </a:lnTo>
                  <a:lnTo>
                    <a:pt x="3736" y="1244"/>
                  </a:lnTo>
                  <a:lnTo>
                    <a:pt x="3712" y="1180"/>
                  </a:lnTo>
                  <a:lnTo>
                    <a:pt x="3736" y="1200"/>
                  </a:lnTo>
                  <a:lnTo>
                    <a:pt x="3770" y="1151"/>
                  </a:lnTo>
                  <a:lnTo>
                    <a:pt x="3809" y="1095"/>
                  </a:lnTo>
                  <a:lnTo>
                    <a:pt x="3974" y="1075"/>
                  </a:lnTo>
                  <a:lnTo>
                    <a:pt x="3925" y="1060"/>
                  </a:lnTo>
                  <a:lnTo>
                    <a:pt x="3959" y="1020"/>
                  </a:lnTo>
                  <a:lnTo>
                    <a:pt x="4090" y="982"/>
                  </a:lnTo>
                  <a:lnTo>
                    <a:pt x="4090" y="970"/>
                  </a:lnTo>
                  <a:lnTo>
                    <a:pt x="4182" y="947"/>
                  </a:lnTo>
                  <a:lnTo>
                    <a:pt x="4182" y="970"/>
                  </a:lnTo>
                  <a:lnTo>
                    <a:pt x="4246" y="962"/>
                  </a:lnTo>
                  <a:lnTo>
                    <a:pt x="4124" y="991"/>
                  </a:lnTo>
                  <a:lnTo>
                    <a:pt x="4163" y="1020"/>
                  </a:lnTo>
                  <a:lnTo>
                    <a:pt x="4207" y="991"/>
                  </a:lnTo>
                  <a:lnTo>
                    <a:pt x="4328" y="970"/>
                  </a:lnTo>
                  <a:lnTo>
                    <a:pt x="4372" y="941"/>
                  </a:lnTo>
                  <a:lnTo>
                    <a:pt x="4347" y="912"/>
                  </a:lnTo>
                  <a:lnTo>
                    <a:pt x="4313" y="956"/>
                  </a:lnTo>
                  <a:lnTo>
                    <a:pt x="4221" y="947"/>
                  </a:lnTo>
                  <a:lnTo>
                    <a:pt x="4163" y="912"/>
                  </a:lnTo>
                  <a:lnTo>
                    <a:pt x="4182" y="892"/>
                  </a:lnTo>
                  <a:lnTo>
                    <a:pt x="4115" y="886"/>
                  </a:lnTo>
                  <a:lnTo>
                    <a:pt x="4207" y="863"/>
                  </a:lnTo>
                  <a:lnTo>
                    <a:pt x="4149" y="848"/>
                  </a:lnTo>
                  <a:lnTo>
                    <a:pt x="4018" y="857"/>
                  </a:lnTo>
                  <a:lnTo>
                    <a:pt x="4115" y="813"/>
                  </a:lnTo>
                  <a:lnTo>
                    <a:pt x="4372" y="813"/>
                  </a:lnTo>
                  <a:lnTo>
                    <a:pt x="4551" y="752"/>
                  </a:lnTo>
                  <a:lnTo>
                    <a:pt x="4537" y="703"/>
                  </a:lnTo>
                  <a:lnTo>
                    <a:pt x="4493" y="709"/>
                  </a:lnTo>
                  <a:lnTo>
                    <a:pt x="4493" y="688"/>
                  </a:lnTo>
                  <a:lnTo>
                    <a:pt x="4362" y="717"/>
                  </a:lnTo>
                  <a:lnTo>
                    <a:pt x="4328" y="703"/>
                  </a:lnTo>
                  <a:lnTo>
                    <a:pt x="4478" y="674"/>
                  </a:lnTo>
                  <a:lnTo>
                    <a:pt x="4362" y="633"/>
                  </a:lnTo>
                  <a:lnTo>
                    <a:pt x="4304" y="604"/>
                  </a:lnTo>
                  <a:lnTo>
                    <a:pt x="4304" y="569"/>
                  </a:lnTo>
                  <a:lnTo>
                    <a:pt x="4246" y="555"/>
                  </a:lnTo>
                  <a:lnTo>
                    <a:pt x="4255" y="534"/>
                  </a:lnTo>
                  <a:lnTo>
                    <a:pt x="4231" y="511"/>
                  </a:lnTo>
                  <a:lnTo>
                    <a:pt x="4182" y="470"/>
                  </a:lnTo>
                  <a:lnTo>
                    <a:pt x="4149" y="491"/>
                  </a:lnTo>
                  <a:lnTo>
                    <a:pt x="4115" y="526"/>
                  </a:lnTo>
                  <a:lnTo>
                    <a:pt x="4032" y="549"/>
                  </a:lnTo>
                  <a:lnTo>
                    <a:pt x="4032" y="526"/>
                  </a:lnTo>
                  <a:lnTo>
                    <a:pt x="3935" y="540"/>
                  </a:lnTo>
                  <a:lnTo>
                    <a:pt x="3998" y="505"/>
                  </a:lnTo>
                  <a:lnTo>
                    <a:pt x="3984" y="485"/>
                  </a:lnTo>
                  <a:lnTo>
                    <a:pt x="3984" y="441"/>
                  </a:lnTo>
                  <a:lnTo>
                    <a:pt x="3901" y="441"/>
                  </a:lnTo>
                  <a:lnTo>
                    <a:pt x="3901" y="427"/>
                  </a:lnTo>
                  <a:lnTo>
                    <a:pt x="3809" y="392"/>
                  </a:lnTo>
                  <a:lnTo>
                    <a:pt x="3760" y="401"/>
                  </a:lnTo>
                  <a:lnTo>
                    <a:pt x="3654" y="392"/>
                  </a:lnTo>
                  <a:lnTo>
                    <a:pt x="3629" y="415"/>
                  </a:lnTo>
                  <a:lnTo>
                    <a:pt x="3663" y="427"/>
                  </a:lnTo>
                  <a:lnTo>
                    <a:pt x="3629" y="456"/>
                  </a:lnTo>
                  <a:lnTo>
                    <a:pt x="3678" y="499"/>
                  </a:lnTo>
                  <a:lnTo>
                    <a:pt x="3605" y="526"/>
                  </a:lnTo>
                  <a:lnTo>
                    <a:pt x="3663" y="549"/>
                  </a:lnTo>
                  <a:lnTo>
                    <a:pt x="3688" y="619"/>
                  </a:lnTo>
                  <a:lnTo>
                    <a:pt x="3571" y="674"/>
                  </a:lnTo>
                  <a:lnTo>
                    <a:pt x="3620" y="744"/>
                  </a:lnTo>
                  <a:lnTo>
                    <a:pt x="3644" y="752"/>
                  </a:lnTo>
                  <a:lnTo>
                    <a:pt x="3571" y="787"/>
                  </a:lnTo>
                  <a:lnTo>
                    <a:pt x="3513" y="787"/>
                  </a:lnTo>
                  <a:lnTo>
                    <a:pt x="3537" y="764"/>
                  </a:lnTo>
                  <a:lnTo>
                    <a:pt x="3464" y="723"/>
                  </a:lnTo>
                  <a:lnTo>
                    <a:pt x="3464" y="653"/>
                  </a:lnTo>
                  <a:lnTo>
                    <a:pt x="3333" y="645"/>
                  </a:lnTo>
                  <a:lnTo>
                    <a:pt x="3193" y="595"/>
                  </a:lnTo>
                  <a:lnTo>
                    <a:pt x="3110" y="584"/>
                  </a:lnTo>
                  <a:lnTo>
                    <a:pt x="3042" y="595"/>
                  </a:lnTo>
                  <a:lnTo>
                    <a:pt x="3028" y="526"/>
                  </a:lnTo>
                  <a:lnTo>
                    <a:pt x="2984" y="540"/>
                  </a:lnTo>
                  <a:lnTo>
                    <a:pt x="2970" y="435"/>
                  </a:lnTo>
                  <a:lnTo>
                    <a:pt x="3052" y="406"/>
                  </a:lnTo>
                  <a:lnTo>
                    <a:pt x="3052" y="377"/>
                  </a:lnTo>
                  <a:lnTo>
                    <a:pt x="3135" y="372"/>
                  </a:lnTo>
                  <a:lnTo>
                    <a:pt x="3018" y="331"/>
                  </a:lnTo>
                  <a:lnTo>
                    <a:pt x="3135" y="351"/>
                  </a:lnTo>
                  <a:lnTo>
                    <a:pt x="3159" y="331"/>
                  </a:lnTo>
                  <a:lnTo>
                    <a:pt x="3232" y="331"/>
                  </a:lnTo>
                  <a:lnTo>
                    <a:pt x="3275" y="287"/>
                  </a:lnTo>
                  <a:lnTo>
                    <a:pt x="3193" y="281"/>
                  </a:lnTo>
                  <a:lnTo>
                    <a:pt x="3159" y="258"/>
                  </a:lnTo>
                  <a:lnTo>
                    <a:pt x="3290" y="273"/>
                  </a:lnTo>
                  <a:lnTo>
                    <a:pt x="3300" y="232"/>
                  </a:lnTo>
                  <a:lnTo>
                    <a:pt x="3431" y="238"/>
                  </a:lnTo>
                  <a:lnTo>
                    <a:pt x="3498" y="209"/>
                  </a:lnTo>
                  <a:lnTo>
                    <a:pt x="3455" y="154"/>
                  </a:lnTo>
                  <a:lnTo>
                    <a:pt x="3513" y="148"/>
                  </a:lnTo>
                  <a:lnTo>
                    <a:pt x="3333" y="98"/>
                  </a:lnTo>
                  <a:lnTo>
                    <a:pt x="3372" y="139"/>
                  </a:lnTo>
                  <a:lnTo>
                    <a:pt x="3324" y="148"/>
                  </a:lnTo>
                  <a:lnTo>
                    <a:pt x="3266" y="203"/>
                  </a:lnTo>
                  <a:lnTo>
                    <a:pt x="3241" y="162"/>
                  </a:lnTo>
                  <a:lnTo>
                    <a:pt x="3183" y="119"/>
                  </a:lnTo>
                  <a:lnTo>
                    <a:pt x="3149" y="162"/>
                  </a:lnTo>
                  <a:lnTo>
                    <a:pt x="3101" y="119"/>
                  </a:lnTo>
                  <a:lnTo>
                    <a:pt x="3042" y="104"/>
                  </a:lnTo>
                  <a:lnTo>
                    <a:pt x="3052" y="84"/>
                  </a:lnTo>
                  <a:lnTo>
                    <a:pt x="3101" y="84"/>
                  </a:lnTo>
                  <a:lnTo>
                    <a:pt x="3028" y="34"/>
                  </a:lnTo>
                  <a:lnTo>
                    <a:pt x="2945" y="0"/>
                  </a:lnTo>
                  <a:lnTo>
                    <a:pt x="2902" y="34"/>
                  </a:lnTo>
                  <a:lnTo>
                    <a:pt x="2887" y="84"/>
                  </a:lnTo>
                  <a:lnTo>
                    <a:pt x="3004" y="113"/>
                  </a:lnTo>
                  <a:lnTo>
                    <a:pt x="3018" y="148"/>
                  </a:lnTo>
                  <a:lnTo>
                    <a:pt x="2921" y="168"/>
                  </a:lnTo>
                  <a:lnTo>
                    <a:pt x="2936" y="203"/>
                  </a:lnTo>
                  <a:lnTo>
                    <a:pt x="2902" y="197"/>
                  </a:lnTo>
                  <a:lnTo>
                    <a:pt x="2887" y="168"/>
                  </a:lnTo>
                  <a:lnTo>
                    <a:pt x="2819" y="183"/>
                  </a:lnTo>
                  <a:lnTo>
                    <a:pt x="2648" y="188"/>
                  </a:lnTo>
                  <a:lnTo>
                    <a:pt x="2614" y="168"/>
                  </a:lnTo>
                  <a:lnTo>
                    <a:pt x="2498" y="133"/>
                  </a:lnTo>
                  <a:lnTo>
                    <a:pt x="2391" y="162"/>
                  </a:lnTo>
                  <a:lnTo>
                    <a:pt x="2425" y="168"/>
                  </a:lnTo>
                  <a:lnTo>
                    <a:pt x="2508" y="148"/>
                  </a:lnTo>
                  <a:lnTo>
                    <a:pt x="2450" y="209"/>
                  </a:lnTo>
                  <a:lnTo>
                    <a:pt x="2343" y="168"/>
                  </a:lnTo>
                  <a:lnTo>
                    <a:pt x="2120" y="174"/>
                  </a:lnTo>
                  <a:lnTo>
                    <a:pt x="2178" y="154"/>
                  </a:lnTo>
                  <a:lnTo>
                    <a:pt x="2037" y="133"/>
                  </a:lnTo>
                  <a:lnTo>
                    <a:pt x="1824" y="98"/>
                  </a:lnTo>
                  <a:lnTo>
                    <a:pt x="1756" y="119"/>
                  </a:lnTo>
                  <a:lnTo>
                    <a:pt x="1756" y="84"/>
                  </a:lnTo>
                  <a:lnTo>
                    <a:pt x="1707" y="119"/>
                  </a:lnTo>
                  <a:lnTo>
                    <a:pt x="1625" y="78"/>
                  </a:lnTo>
                  <a:lnTo>
                    <a:pt x="1494" y="124"/>
                  </a:lnTo>
                  <a:lnTo>
                    <a:pt x="1484" y="113"/>
                  </a:lnTo>
                  <a:lnTo>
                    <a:pt x="1343" y="124"/>
                  </a:lnTo>
                  <a:lnTo>
                    <a:pt x="1368" y="154"/>
                  </a:lnTo>
                  <a:lnTo>
                    <a:pt x="1096" y="98"/>
                  </a:lnTo>
                  <a:lnTo>
                    <a:pt x="659" y="69"/>
                  </a:lnTo>
                  <a:lnTo>
                    <a:pt x="635" y="49"/>
                  </a:lnTo>
                  <a:lnTo>
                    <a:pt x="504" y="34"/>
                  </a:lnTo>
                  <a:lnTo>
                    <a:pt x="460" y="29"/>
                  </a:lnTo>
                  <a:lnTo>
                    <a:pt x="412" y="49"/>
                  </a:lnTo>
                  <a:lnTo>
                    <a:pt x="315" y="63"/>
                  </a:lnTo>
                  <a:lnTo>
                    <a:pt x="223" y="84"/>
                  </a:lnTo>
                  <a:lnTo>
                    <a:pt x="174" y="124"/>
                  </a:lnTo>
                  <a:lnTo>
                    <a:pt x="67" y="133"/>
                  </a:lnTo>
                  <a:lnTo>
                    <a:pt x="43" y="162"/>
                  </a:lnTo>
                  <a:lnTo>
                    <a:pt x="174" y="209"/>
                  </a:lnTo>
                  <a:lnTo>
                    <a:pt x="232" y="232"/>
                  </a:lnTo>
                  <a:lnTo>
                    <a:pt x="281" y="247"/>
                  </a:lnTo>
                  <a:lnTo>
                    <a:pt x="174" y="252"/>
                  </a:lnTo>
                  <a:lnTo>
                    <a:pt x="174" y="232"/>
                  </a:lnTo>
                  <a:lnTo>
                    <a:pt x="140" y="232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4680000" y="5222880"/>
              <a:ext cx="154440" cy="32040"/>
            </a:xfrm>
            <a:custGeom>
              <a:avLst/>
              <a:gdLst/>
              <a:ahLst/>
              <a:rect l="0" t="0" r="r" b="b"/>
              <a:pathLst>
                <a:path w="429" h="89">
                  <a:moveTo>
                    <a:pt x="0" y="36"/>
                  </a:moveTo>
                  <a:lnTo>
                    <a:pt x="44" y="6"/>
                  </a:lnTo>
                  <a:lnTo>
                    <a:pt x="168" y="0"/>
                  </a:lnTo>
                  <a:lnTo>
                    <a:pt x="429" y="80"/>
                  </a:lnTo>
                  <a:lnTo>
                    <a:pt x="286" y="89"/>
                  </a:lnTo>
                  <a:lnTo>
                    <a:pt x="251" y="42"/>
                  </a:lnTo>
                  <a:lnTo>
                    <a:pt x="109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834080" y="5254560"/>
              <a:ext cx="84600" cy="16200"/>
            </a:xfrm>
            <a:custGeom>
              <a:avLst/>
              <a:gdLst/>
              <a:ahLst/>
              <a:rect l="0" t="0" r="r" b="b"/>
              <a:pathLst>
                <a:path w="235" h="45">
                  <a:moveTo>
                    <a:pt x="0" y="34"/>
                  </a:moveTo>
                  <a:lnTo>
                    <a:pt x="72" y="34"/>
                  </a:lnTo>
                  <a:lnTo>
                    <a:pt x="33" y="0"/>
                  </a:lnTo>
                  <a:lnTo>
                    <a:pt x="163" y="5"/>
                  </a:lnTo>
                  <a:lnTo>
                    <a:pt x="235" y="25"/>
                  </a:lnTo>
                  <a:lnTo>
                    <a:pt x="105" y="4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878360" y="5937120"/>
              <a:ext cx="87840" cy="27360"/>
            </a:xfrm>
            <a:custGeom>
              <a:avLst/>
              <a:gdLst/>
              <a:ahLst/>
              <a:rect l="0" t="0" r="r" b="b"/>
              <a:pathLst>
                <a:path w="244" h="76">
                  <a:moveTo>
                    <a:pt x="0" y="63"/>
                  </a:moveTo>
                  <a:lnTo>
                    <a:pt x="9" y="48"/>
                  </a:lnTo>
                  <a:lnTo>
                    <a:pt x="33" y="23"/>
                  </a:lnTo>
                  <a:lnTo>
                    <a:pt x="100" y="0"/>
                  </a:lnTo>
                  <a:lnTo>
                    <a:pt x="138" y="34"/>
                  </a:lnTo>
                  <a:lnTo>
                    <a:pt x="244" y="68"/>
                  </a:lnTo>
                  <a:lnTo>
                    <a:pt x="100" y="76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049720" y="4935600"/>
              <a:ext cx="98640" cy="52920"/>
            </a:xfrm>
            <a:custGeom>
              <a:avLst/>
              <a:gdLst/>
              <a:ahLst/>
              <a:rect l="0" t="0" r="r" b="b"/>
              <a:pathLst>
                <a:path w="274" h="147">
                  <a:moveTo>
                    <a:pt x="0" y="118"/>
                  </a:moveTo>
                  <a:lnTo>
                    <a:pt x="117" y="5"/>
                  </a:lnTo>
                  <a:lnTo>
                    <a:pt x="166" y="0"/>
                  </a:lnTo>
                  <a:lnTo>
                    <a:pt x="142" y="49"/>
                  </a:lnTo>
                  <a:lnTo>
                    <a:pt x="166" y="75"/>
                  </a:lnTo>
                  <a:lnTo>
                    <a:pt x="240" y="69"/>
                  </a:lnTo>
                  <a:lnTo>
                    <a:pt x="264" y="103"/>
                  </a:lnTo>
                  <a:lnTo>
                    <a:pt x="274" y="124"/>
                  </a:lnTo>
                  <a:lnTo>
                    <a:pt x="215" y="147"/>
                  </a:lnTo>
                  <a:lnTo>
                    <a:pt x="215" y="113"/>
                  </a:lnTo>
                  <a:lnTo>
                    <a:pt x="131" y="124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657600" y="4859280"/>
              <a:ext cx="38520" cy="11520"/>
            </a:xfrm>
            <a:custGeom>
              <a:avLst/>
              <a:gdLst/>
              <a:ahLst/>
              <a:rect l="0" t="0" r="r" b="b"/>
              <a:pathLst>
                <a:path w="107" h="32">
                  <a:moveTo>
                    <a:pt x="0" y="13"/>
                  </a:moveTo>
                  <a:lnTo>
                    <a:pt x="34" y="32"/>
                  </a:lnTo>
                  <a:lnTo>
                    <a:pt x="107" y="7"/>
                  </a:lnTo>
                  <a:lnTo>
                    <a:pt x="34" y="0"/>
                  </a:lnTo>
                  <a:lnTo>
                    <a:pt x="3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559480" y="4743360"/>
              <a:ext cx="160560" cy="43200"/>
            </a:xfrm>
            <a:custGeom>
              <a:avLst/>
              <a:gdLst/>
              <a:ahLst/>
              <a:rect l="0" t="0" r="r" b="b"/>
              <a:pathLst>
                <a:path w="446" h="120">
                  <a:moveTo>
                    <a:pt x="0" y="43"/>
                  </a:moveTo>
                  <a:lnTo>
                    <a:pt x="58" y="0"/>
                  </a:lnTo>
                  <a:lnTo>
                    <a:pt x="125" y="49"/>
                  </a:lnTo>
                  <a:lnTo>
                    <a:pt x="247" y="8"/>
                  </a:lnTo>
                  <a:lnTo>
                    <a:pt x="397" y="0"/>
                  </a:lnTo>
                  <a:lnTo>
                    <a:pt x="446" y="49"/>
                  </a:lnTo>
                  <a:lnTo>
                    <a:pt x="222" y="120"/>
                  </a:lnTo>
                  <a:lnTo>
                    <a:pt x="67" y="10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4641840" y="4751280"/>
              <a:ext cx="93960" cy="38520"/>
            </a:xfrm>
            <a:custGeom>
              <a:avLst/>
              <a:gdLst/>
              <a:ahLst/>
              <a:rect l="0" t="0" r="r" b="b"/>
              <a:pathLst>
                <a:path w="261" h="107">
                  <a:moveTo>
                    <a:pt x="0" y="93"/>
                  </a:moveTo>
                  <a:lnTo>
                    <a:pt x="49" y="72"/>
                  </a:lnTo>
                  <a:lnTo>
                    <a:pt x="68" y="0"/>
                  </a:lnTo>
                  <a:lnTo>
                    <a:pt x="261" y="93"/>
                  </a:lnTo>
                  <a:lnTo>
                    <a:pt x="83" y="10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4078440" y="4613400"/>
              <a:ext cx="159120" cy="55800"/>
            </a:xfrm>
            <a:custGeom>
              <a:avLst/>
              <a:gdLst/>
              <a:ahLst/>
              <a:rect l="0" t="0" r="r" b="b"/>
              <a:pathLst>
                <a:path w="442" h="155">
                  <a:moveTo>
                    <a:pt x="0" y="120"/>
                  </a:moveTo>
                  <a:lnTo>
                    <a:pt x="93" y="34"/>
                  </a:lnTo>
                  <a:lnTo>
                    <a:pt x="58" y="5"/>
                  </a:lnTo>
                  <a:lnTo>
                    <a:pt x="192" y="0"/>
                  </a:lnTo>
                  <a:lnTo>
                    <a:pt x="275" y="29"/>
                  </a:lnTo>
                  <a:lnTo>
                    <a:pt x="344" y="14"/>
                  </a:lnTo>
                  <a:lnTo>
                    <a:pt x="442" y="49"/>
                  </a:lnTo>
                  <a:lnTo>
                    <a:pt x="236" y="105"/>
                  </a:lnTo>
                  <a:lnTo>
                    <a:pt x="211" y="140"/>
                  </a:lnTo>
                  <a:lnTo>
                    <a:pt x="128" y="155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179960" y="4637160"/>
              <a:ext cx="265320" cy="74880"/>
            </a:xfrm>
            <a:custGeom>
              <a:avLst/>
              <a:gdLst/>
              <a:ahLst/>
              <a:rect l="0" t="0" r="r" b="b"/>
              <a:pathLst>
                <a:path w="737" h="208">
                  <a:moveTo>
                    <a:pt x="0" y="60"/>
                  </a:moveTo>
                  <a:lnTo>
                    <a:pt x="107" y="5"/>
                  </a:lnTo>
                  <a:lnTo>
                    <a:pt x="282" y="40"/>
                  </a:lnTo>
                  <a:lnTo>
                    <a:pt x="449" y="0"/>
                  </a:lnTo>
                  <a:lnTo>
                    <a:pt x="556" y="20"/>
                  </a:lnTo>
                  <a:lnTo>
                    <a:pt x="591" y="94"/>
                  </a:lnTo>
                  <a:lnTo>
                    <a:pt x="737" y="139"/>
                  </a:lnTo>
                  <a:lnTo>
                    <a:pt x="664" y="193"/>
                  </a:lnTo>
                  <a:lnTo>
                    <a:pt x="508" y="167"/>
                  </a:lnTo>
                  <a:lnTo>
                    <a:pt x="238" y="208"/>
                  </a:lnTo>
                  <a:lnTo>
                    <a:pt x="73" y="139"/>
                  </a:lnTo>
                  <a:lnTo>
                    <a:pt x="58" y="119"/>
                  </a:lnTo>
                  <a:lnTo>
                    <a:pt x="141" y="74"/>
                  </a:lnTo>
                  <a:lnTo>
                    <a:pt x="34" y="8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545160" y="5537160"/>
              <a:ext cx="103680" cy="119520"/>
            </a:xfrm>
            <a:custGeom>
              <a:avLst/>
              <a:gdLst/>
              <a:ahLst/>
              <a:rect l="0" t="0" r="r" b="b"/>
              <a:pathLst>
                <a:path w="288" h="332">
                  <a:moveTo>
                    <a:pt x="0" y="237"/>
                  </a:moveTo>
                  <a:lnTo>
                    <a:pt x="19" y="307"/>
                  </a:lnTo>
                  <a:lnTo>
                    <a:pt x="85" y="332"/>
                  </a:lnTo>
                  <a:lnTo>
                    <a:pt x="169" y="307"/>
                  </a:lnTo>
                  <a:lnTo>
                    <a:pt x="288" y="82"/>
                  </a:lnTo>
                  <a:lnTo>
                    <a:pt x="239" y="0"/>
                  </a:lnTo>
                  <a:lnTo>
                    <a:pt x="19" y="132"/>
                  </a:lnTo>
                  <a:lnTo>
                    <a:pt x="44" y="189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7577280" y="5522760"/>
              <a:ext cx="576720" cy="263880"/>
            </a:xfrm>
            <a:custGeom>
              <a:avLst/>
              <a:gdLst/>
              <a:ahLst/>
              <a:rect l="0" t="0" r="r" b="b"/>
              <a:pathLst>
                <a:path w="1602" h="733">
                  <a:moveTo>
                    <a:pt x="0" y="398"/>
                  </a:moveTo>
                  <a:lnTo>
                    <a:pt x="9" y="299"/>
                  </a:lnTo>
                  <a:lnTo>
                    <a:pt x="116" y="250"/>
                  </a:lnTo>
                  <a:lnTo>
                    <a:pt x="281" y="221"/>
                  </a:lnTo>
                  <a:lnTo>
                    <a:pt x="339" y="158"/>
                  </a:lnTo>
                  <a:lnTo>
                    <a:pt x="495" y="83"/>
                  </a:lnTo>
                  <a:lnTo>
                    <a:pt x="592" y="103"/>
                  </a:lnTo>
                  <a:lnTo>
                    <a:pt x="660" y="54"/>
                  </a:lnTo>
                  <a:lnTo>
                    <a:pt x="733" y="14"/>
                  </a:lnTo>
                  <a:lnTo>
                    <a:pt x="922" y="40"/>
                  </a:lnTo>
                  <a:lnTo>
                    <a:pt x="883" y="109"/>
                  </a:lnTo>
                  <a:lnTo>
                    <a:pt x="1063" y="181"/>
                  </a:lnTo>
                  <a:lnTo>
                    <a:pt x="1106" y="152"/>
                  </a:lnTo>
                  <a:lnTo>
                    <a:pt x="1131" y="34"/>
                  </a:lnTo>
                  <a:lnTo>
                    <a:pt x="1179" y="0"/>
                  </a:lnTo>
                  <a:lnTo>
                    <a:pt x="1272" y="109"/>
                  </a:lnTo>
                  <a:lnTo>
                    <a:pt x="1321" y="207"/>
                  </a:lnTo>
                  <a:lnTo>
                    <a:pt x="1428" y="242"/>
                  </a:lnTo>
                  <a:lnTo>
                    <a:pt x="1500" y="325"/>
                  </a:lnTo>
                  <a:lnTo>
                    <a:pt x="1583" y="363"/>
                  </a:lnTo>
                  <a:lnTo>
                    <a:pt x="1602" y="447"/>
                  </a:lnTo>
                  <a:lnTo>
                    <a:pt x="1593" y="522"/>
                  </a:lnTo>
                  <a:lnTo>
                    <a:pt x="1520" y="586"/>
                  </a:lnTo>
                  <a:lnTo>
                    <a:pt x="1462" y="698"/>
                  </a:lnTo>
                  <a:lnTo>
                    <a:pt x="1321" y="724"/>
                  </a:lnTo>
                  <a:lnTo>
                    <a:pt x="1263" y="704"/>
                  </a:lnTo>
                  <a:lnTo>
                    <a:pt x="1189" y="733"/>
                  </a:lnTo>
                  <a:lnTo>
                    <a:pt x="1063" y="689"/>
                  </a:lnTo>
                  <a:lnTo>
                    <a:pt x="1039" y="635"/>
                  </a:lnTo>
                  <a:lnTo>
                    <a:pt x="966" y="557"/>
                  </a:lnTo>
                  <a:lnTo>
                    <a:pt x="898" y="626"/>
                  </a:lnTo>
                  <a:lnTo>
                    <a:pt x="825" y="557"/>
                  </a:lnTo>
                  <a:lnTo>
                    <a:pt x="709" y="531"/>
                  </a:lnTo>
                  <a:lnTo>
                    <a:pt x="495" y="551"/>
                  </a:lnTo>
                  <a:lnTo>
                    <a:pt x="403" y="591"/>
                  </a:lnTo>
                  <a:lnTo>
                    <a:pt x="247" y="591"/>
                  </a:lnTo>
                  <a:lnTo>
                    <a:pt x="164" y="626"/>
                  </a:lnTo>
                  <a:lnTo>
                    <a:pt x="48" y="600"/>
                  </a:lnTo>
                  <a:lnTo>
                    <a:pt x="82" y="537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029440" y="580536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0" y="20"/>
                  </a:moveTo>
                  <a:lnTo>
                    <a:pt x="9" y="0"/>
                  </a:lnTo>
                  <a:lnTo>
                    <a:pt x="127" y="5"/>
                  </a:lnTo>
                  <a:lnTo>
                    <a:pt x="151" y="50"/>
                  </a:lnTo>
                  <a:lnTo>
                    <a:pt x="83" y="8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45520" y="5805360"/>
              <a:ext cx="113040" cy="65520"/>
            </a:xfrm>
            <a:custGeom>
              <a:avLst/>
              <a:gdLst/>
              <a:ahLst/>
              <a:rect l="0" t="0" r="r" b="b"/>
              <a:pathLst>
                <a:path w="314" h="182">
                  <a:moveTo>
                    <a:pt x="0" y="156"/>
                  </a:moveTo>
                  <a:lnTo>
                    <a:pt x="69" y="105"/>
                  </a:lnTo>
                  <a:lnTo>
                    <a:pt x="179" y="62"/>
                  </a:lnTo>
                  <a:lnTo>
                    <a:pt x="239" y="0"/>
                  </a:lnTo>
                  <a:lnTo>
                    <a:pt x="314" y="34"/>
                  </a:lnTo>
                  <a:lnTo>
                    <a:pt x="264" y="97"/>
                  </a:lnTo>
                  <a:lnTo>
                    <a:pt x="204" y="97"/>
                  </a:lnTo>
                  <a:lnTo>
                    <a:pt x="94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35880" y="5742000"/>
              <a:ext cx="82800" cy="70200"/>
            </a:xfrm>
            <a:custGeom>
              <a:avLst/>
              <a:gdLst/>
              <a:ahLst/>
              <a:rect l="0" t="0" r="r" b="b"/>
              <a:pathLst>
                <a:path w="230" h="195">
                  <a:moveTo>
                    <a:pt x="0" y="0"/>
                  </a:moveTo>
                  <a:lnTo>
                    <a:pt x="129" y="68"/>
                  </a:lnTo>
                  <a:lnTo>
                    <a:pt x="230" y="91"/>
                  </a:lnTo>
                  <a:lnTo>
                    <a:pt x="211" y="132"/>
                  </a:lnTo>
                  <a:lnTo>
                    <a:pt x="129" y="195"/>
                  </a:lnTo>
                  <a:lnTo>
                    <a:pt x="47" y="137"/>
                  </a:lnTo>
                  <a:lnTo>
                    <a:pt x="90" y="103"/>
                  </a:lnTo>
                  <a:lnTo>
                    <a:pt x="81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62440" y="5091120"/>
              <a:ext cx="1005120" cy="651240"/>
            </a:xfrm>
            <a:custGeom>
              <a:avLst/>
              <a:gdLst/>
              <a:ahLst/>
              <a:rect l="0" t="0" r="r" b="b"/>
              <a:pathLst>
                <a:path w="2792" h="1809">
                  <a:moveTo>
                    <a:pt x="96" y="656"/>
                  </a:moveTo>
                  <a:lnTo>
                    <a:pt x="106" y="676"/>
                  </a:lnTo>
                  <a:lnTo>
                    <a:pt x="179" y="717"/>
                  </a:lnTo>
                  <a:lnTo>
                    <a:pt x="247" y="766"/>
                  </a:lnTo>
                  <a:lnTo>
                    <a:pt x="411" y="830"/>
                  </a:lnTo>
                  <a:lnTo>
                    <a:pt x="634" y="830"/>
                  </a:lnTo>
                  <a:lnTo>
                    <a:pt x="906" y="795"/>
                  </a:lnTo>
                  <a:lnTo>
                    <a:pt x="964" y="836"/>
                  </a:lnTo>
                  <a:lnTo>
                    <a:pt x="1046" y="824"/>
                  </a:lnTo>
                  <a:lnTo>
                    <a:pt x="1070" y="958"/>
                  </a:lnTo>
                  <a:lnTo>
                    <a:pt x="1201" y="1063"/>
                  </a:lnTo>
                  <a:lnTo>
                    <a:pt x="1274" y="1203"/>
                  </a:lnTo>
                  <a:lnTo>
                    <a:pt x="1187" y="1367"/>
                  </a:lnTo>
                  <a:lnTo>
                    <a:pt x="1293" y="1501"/>
                  </a:lnTo>
                  <a:lnTo>
                    <a:pt x="1332" y="1626"/>
                  </a:lnTo>
                  <a:lnTo>
                    <a:pt x="1459" y="1809"/>
                  </a:lnTo>
                  <a:lnTo>
                    <a:pt x="1813" y="1789"/>
                  </a:lnTo>
                  <a:lnTo>
                    <a:pt x="2026" y="1655"/>
                  </a:lnTo>
                  <a:lnTo>
                    <a:pt x="2036" y="1577"/>
                  </a:lnTo>
                  <a:lnTo>
                    <a:pt x="2142" y="1542"/>
                  </a:lnTo>
                  <a:lnTo>
                    <a:pt x="2118" y="1431"/>
                  </a:lnTo>
                  <a:lnTo>
                    <a:pt x="2346" y="1316"/>
                  </a:lnTo>
                  <a:lnTo>
                    <a:pt x="2356" y="1197"/>
                  </a:lnTo>
                  <a:lnTo>
                    <a:pt x="2283" y="1092"/>
                  </a:lnTo>
                  <a:lnTo>
                    <a:pt x="2404" y="979"/>
                  </a:lnTo>
                  <a:lnTo>
                    <a:pt x="2637" y="845"/>
                  </a:lnTo>
                  <a:lnTo>
                    <a:pt x="2792" y="691"/>
                  </a:lnTo>
                  <a:lnTo>
                    <a:pt x="2768" y="647"/>
                  </a:lnTo>
                  <a:lnTo>
                    <a:pt x="2535" y="691"/>
                  </a:lnTo>
                  <a:lnTo>
                    <a:pt x="2462" y="626"/>
                  </a:lnTo>
                  <a:lnTo>
                    <a:pt x="2322" y="571"/>
                  </a:lnTo>
                  <a:lnTo>
                    <a:pt x="2273" y="493"/>
                  </a:lnTo>
                  <a:lnTo>
                    <a:pt x="2157" y="343"/>
                  </a:lnTo>
                  <a:lnTo>
                    <a:pt x="2026" y="195"/>
                  </a:lnTo>
                  <a:lnTo>
                    <a:pt x="1953" y="148"/>
                  </a:lnTo>
                  <a:lnTo>
                    <a:pt x="1886" y="168"/>
                  </a:lnTo>
                  <a:lnTo>
                    <a:pt x="1721" y="148"/>
                  </a:lnTo>
                  <a:lnTo>
                    <a:pt x="1522" y="133"/>
                  </a:lnTo>
                  <a:lnTo>
                    <a:pt x="1474" y="183"/>
                  </a:lnTo>
                  <a:lnTo>
                    <a:pt x="1318" y="125"/>
                  </a:lnTo>
                  <a:lnTo>
                    <a:pt x="1104" y="84"/>
                  </a:lnTo>
                  <a:lnTo>
                    <a:pt x="1167" y="0"/>
                  </a:lnTo>
                  <a:lnTo>
                    <a:pt x="1070" y="0"/>
                  </a:lnTo>
                  <a:lnTo>
                    <a:pt x="775" y="5"/>
                  </a:lnTo>
                  <a:lnTo>
                    <a:pt x="625" y="49"/>
                  </a:lnTo>
                  <a:lnTo>
                    <a:pt x="484" y="34"/>
                  </a:lnTo>
                  <a:lnTo>
                    <a:pt x="353" y="119"/>
                  </a:lnTo>
                  <a:lnTo>
                    <a:pt x="305" y="209"/>
                  </a:lnTo>
                  <a:lnTo>
                    <a:pt x="188" y="244"/>
                  </a:lnTo>
                  <a:lnTo>
                    <a:pt x="33" y="422"/>
                  </a:lnTo>
                  <a:lnTo>
                    <a:pt x="72" y="487"/>
                  </a:lnTo>
                  <a:lnTo>
                    <a:pt x="0" y="577"/>
                  </a:lnTo>
                  <a:lnTo>
                    <a:pt x="96" y="6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827840" y="5432400"/>
              <a:ext cx="292320" cy="86040"/>
            </a:xfrm>
            <a:custGeom>
              <a:avLst/>
              <a:gdLst/>
              <a:ahLst/>
              <a:rect l="0" t="0" r="r" b="b"/>
              <a:pathLst>
                <a:path w="812" h="239">
                  <a:moveTo>
                    <a:pt x="0" y="20"/>
                  </a:moveTo>
                  <a:lnTo>
                    <a:pt x="120" y="43"/>
                  </a:lnTo>
                  <a:lnTo>
                    <a:pt x="72" y="84"/>
                  </a:lnTo>
                  <a:lnTo>
                    <a:pt x="294" y="120"/>
                  </a:lnTo>
                  <a:lnTo>
                    <a:pt x="284" y="198"/>
                  </a:lnTo>
                  <a:lnTo>
                    <a:pt x="483" y="218"/>
                  </a:lnTo>
                  <a:lnTo>
                    <a:pt x="541" y="178"/>
                  </a:lnTo>
                  <a:lnTo>
                    <a:pt x="812" y="239"/>
                  </a:lnTo>
                  <a:lnTo>
                    <a:pt x="672" y="143"/>
                  </a:lnTo>
                  <a:lnTo>
                    <a:pt x="284" y="20"/>
                  </a:lnTo>
                  <a:lnTo>
                    <a:pt x="6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696080" y="5345280"/>
              <a:ext cx="57600" cy="35280"/>
            </a:xfrm>
            <a:custGeom>
              <a:avLst/>
              <a:gdLst/>
              <a:ahLst/>
              <a:rect l="0" t="0" r="r" b="b"/>
              <a:pathLst>
                <a:path w="160" h="98">
                  <a:moveTo>
                    <a:pt x="0" y="62"/>
                  </a:moveTo>
                  <a:lnTo>
                    <a:pt x="32" y="35"/>
                  </a:lnTo>
                  <a:lnTo>
                    <a:pt x="137" y="0"/>
                  </a:lnTo>
                  <a:lnTo>
                    <a:pt x="160" y="56"/>
                  </a:lnTo>
                  <a:lnTo>
                    <a:pt x="137" y="98"/>
                  </a:lnTo>
                  <a:lnTo>
                    <a:pt x="71" y="4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666200" y="5262480"/>
              <a:ext cx="59040" cy="57600"/>
            </a:xfrm>
            <a:custGeom>
              <a:avLst/>
              <a:gdLst/>
              <a:ahLst/>
              <a:rect l="0" t="0" r="r" b="b"/>
              <a:pathLst>
                <a:path w="164" h="160">
                  <a:moveTo>
                    <a:pt x="0" y="66"/>
                  </a:moveTo>
                  <a:lnTo>
                    <a:pt x="33" y="0"/>
                  </a:lnTo>
                  <a:lnTo>
                    <a:pt x="92" y="8"/>
                  </a:lnTo>
                  <a:lnTo>
                    <a:pt x="106" y="45"/>
                  </a:lnTo>
                  <a:lnTo>
                    <a:pt x="57" y="87"/>
                  </a:lnTo>
                  <a:lnTo>
                    <a:pt x="164" y="160"/>
                  </a:lnTo>
                  <a:lnTo>
                    <a:pt x="33" y="12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650000" y="5415120"/>
              <a:ext cx="92520" cy="63720"/>
            </a:xfrm>
            <a:custGeom>
              <a:avLst/>
              <a:gdLst/>
              <a:ahLst/>
              <a:rect l="0" t="0" r="r" b="b"/>
              <a:pathLst>
                <a:path w="257" h="177">
                  <a:moveTo>
                    <a:pt x="0" y="107"/>
                  </a:moveTo>
                  <a:lnTo>
                    <a:pt x="23" y="168"/>
                  </a:lnTo>
                  <a:lnTo>
                    <a:pt x="105" y="177"/>
                  </a:lnTo>
                  <a:lnTo>
                    <a:pt x="162" y="148"/>
                  </a:lnTo>
                  <a:lnTo>
                    <a:pt x="105" y="83"/>
                  </a:lnTo>
                  <a:lnTo>
                    <a:pt x="219" y="28"/>
                  </a:lnTo>
                  <a:lnTo>
                    <a:pt x="257" y="0"/>
                  </a:lnTo>
                  <a:lnTo>
                    <a:pt x="95" y="8"/>
                  </a:lnTo>
                  <a:lnTo>
                    <a:pt x="56" y="23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508880" y="5369040"/>
              <a:ext cx="149760" cy="98640"/>
            </a:xfrm>
            <a:custGeom>
              <a:avLst/>
              <a:gdLst/>
              <a:ahLst/>
              <a:rect l="0" t="0" r="r" b="b"/>
              <a:pathLst>
                <a:path w="416" h="274">
                  <a:moveTo>
                    <a:pt x="0" y="162"/>
                  </a:moveTo>
                  <a:lnTo>
                    <a:pt x="24" y="132"/>
                  </a:lnTo>
                  <a:lnTo>
                    <a:pt x="333" y="0"/>
                  </a:lnTo>
                  <a:lnTo>
                    <a:pt x="416" y="43"/>
                  </a:lnTo>
                  <a:lnTo>
                    <a:pt x="333" y="83"/>
                  </a:lnTo>
                  <a:lnTo>
                    <a:pt x="357" y="147"/>
                  </a:lnTo>
                  <a:lnTo>
                    <a:pt x="239" y="274"/>
                  </a:lnTo>
                  <a:lnTo>
                    <a:pt x="48" y="245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453440" y="5481720"/>
              <a:ext cx="132120" cy="25920"/>
            </a:xfrm>
            <a:custGeom>
              <a:avLst/>
              <a:gdLst/>
              <a:ahLst/>
              <a:rect l="0" t="0" r="r" b="b"/>
              <a:pathLst>
                <a:path w="367" h="72">
                  <a:moveTo>
                    <a:pt x="0" y="21"/>
                  </a:moveTo>
                  <a:lnTo>
                    <a:pt x="19" y="0"/>
                  </a:lnTo>
                  <a:lnTo>
                    <a:pt x="284" y="21"/>
                  </a:lnTo>
                  <a:lnTo>
                    <a:pt x="367" y="50"/>
                  </a:lnTo>
                  <a:lnTo>
                    <a:pt x="367" y="72"/>
                  </a:lnTo>
                  <a:lnTo>
                    <a:pt x="68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304040" y="5380200"/>
              <a:ext cx="163800" cy="101880"/>
            </a:xfrm>
            <a:custGeom>
              <a:avLst/>
              <a:gdLst/>
              <a:ahLst/>
              <a:rect l="0" t="0" r="r" b="b"/>
              <a:pathLst>
                <a:path w="455" h="283">
                  <a:moveTo>
                    <a:pt x="0" y="0"/>
                  </a:moveTo>
                  <a:lnTo>
                    <a:pt x="97" y="14"/>
                  </a:lnTo>
                  <a:lnTo>
                    <a:pt x="337" y="113"/>
                  </a:lnTo>
                  <a:lnTo>
                    <a:pt x="347" y="158"/>
                  </a:lnTo>
                  <a:lnTo>
                    <a:pt x="455" y="213"/>
                  </a:lnTo>
                  <a:lnTo>
                    <a:pt x="396" y="283"/>
                  </a:lnTo>
                  <a:lnTo>
                    <a:pt x="298" y="242"/>
                  </a:lnTo>
                  <a:lnTo>
                    <a:pt x="156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959600" y="5003640"/>
              <a:ext cx="84600" cy="38520"/>
            </a:xfrm>
            <a:custGeom>
              <a:avLst/>
              <a:gdLst/>
              <a:ahLst/>
              <a:rect l="0" t="0" r="r" b="b"/>
              <a:pathLst>
                <a:path w="235" h="107">
                  <a:moveTo>
                    <a:pt x="0" y="96"/>
                  </a:moveTo>
                  <a:lnTo>
                    <a:pt x="24" y="96"/>
                  </a:lnTo>
                  <a:lnTo>
                    <a:pt x="127" y="107"/>
                  </a:lnTo>
                  <a:lnTo>
                    <a:pt x="235" y="65"/>
                  </a:lnTo>
                  <a:lnTo>
                    <a:pt x="225" y="36"/>
                  </a:lnTo>
                  <a:lnTo>
                    <a:pt x="83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983360" y="4902120"/>
              <a:ext cx="47880" cy="97200"/>
            </a:xfrm>
            <a:custGeom>
              <a:avLst/>
              <a:gdLst/>
              <a:ahLst/>
              <a:rect l="0" t="0" r="r" b="b"/>
              <a:pathLst>
                <a:path w="133" h="270">
                  <a:moveTo>
                    <a:pt x="0" y="64"/>
                  </a:moveTo>
                  <a:lnTo>
                    <a:pt x="24" y="270"/>
                  </a:lnTo>
                  <a:lnTo>
                    <a:pt x="133" y="185"/>
                  </a:lnTo>
                  <a:lnTo>
                    <a:pt x="3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827840" y="504684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213"/>
                  </a:moveTo>
                  <a:lnTo>
                    <a:pt x="72" y="170"/>
                  </a:lnTo>
                  <a:lnTo>
                    <a:pt x="203" y="170"/>
                  </a:lnTo>
                  <a:lnTo>
                    <a:pt x="261" y="114"/>
                  </a:lnTo>
                  <a:lnTo>
                    <a:pt x="354" y="79"/>
                  </a:lnTo>
                  <a:lnTo>
                    <a:pt x="426" y="0"/>
                  </a:lnTo>
                  <a:lnTo>
                    <a:pt x="460" y="58"/>
                  </a:lnTo>
                  <a:lnTo>
                    <a:pt x="393" y="178"/>
                  </a:lnTo>
                  <a:lnTo>
                    <a:pt x="237" y="204"/>
                  </a:lnTo>
                  <a:lnTo>
                    <a:pt x="131" y="199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085160" y="534528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0" y="0"/>
                  </a:moveTo>
                  <a:lnTo>
                    <a:pt x="14" y="94"/>
                  </a:lnTo>
                  <a:lnTo>
                    <a:pt x="72" y="73"/>
                  </a:lnTo>
                  <a:lnTo>
                    <a:pt x="3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73920" y="4513320"/>
              <a:ext cx="159120" cy="66960"/>
            </a:xfrm>
            <a:custGeom>
              <a:avLst/>
              <a:gdLst/>
              <a:ahLst/>
              <a:rect l="0" t="0" r="r" b="b"/>
              <a:pathLst>
                <a:path w="442" h="186">
                  <a:moveTo>
                    <a:pt x="0" y="20"/>
                  </a:moveTo>
                  <a:lnTo>
                    <a:pt x="0" y="44"/>
                  </a:lnTo>
                  <a:lnTo>
                    <a:pt x="83" y="100"/>
                  </a:lnTo>
                  <a:lnTo>
                    <a:pt x="201" y="85"/>
                  </a:lnTo>
                  <a:lnTo>
                    <a:pt x="118" y="115"/>
                  </a:lnTo>
                  <a:lnTo>
                    <a:pt x="216" y="142"/>
                  </a:lnTo>
                  <a:lnTo>
                    <a:pt x="133" y="142"/>
                  </a:lnTo>
                  <a:lnTo>
                    <a:pt x="260" y="186"/>
                  </a:lnTo>
                  <a:lnTo>
                    <a:pt x="442" y="64"/>
                  </a:lnTo>
                  <a:lnTo>
                    <a:pt x="226" y="0"/>
                  </a:lnTo>
                  <a:lnTo>
                    <a:pt x="236" y="64"/>
                  </a:lnTo>
                  <a:lnTo>
                    <a:pt x="15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183360" y="4502160"/>
              <a:ext cx="132120" cy="27360"/>
            </a:xfrm>
            <a:custGeom>
              <a:avLst/>
              <a:gdLst/>
              <a:ahLst/>
              <a:rect l="0" t="0" r="r" b="b"/>
              <a:pathLst>
                <a:path w="367" h="76">
                  <a:moveTo>
                    <a:pt x="0" y="37"/>
                  </a:moveTo>
                  <a:lnTo>
                    <a:pt x="58" y="56"/>
                  </a:lnTo>
                  <a:lnTo>
                    <a:pt x="201" y="76"/>
                  </a:lnTo>
                  <a:lnTo>
                    <a:pt x="367" y="37"/>
                  </a:lnTo>
                  <a:lnTo>
                    <a:pt x="274" y="8"/>
                  </a:lnTo>
                  <a:lnTo>
                    <a:pt x="165" y="37"/>
                  </a:lnTo>
                  <a:lnTo>
                    <a:pt x="58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218280" y="4549680"/>
              <a:ext cx="63720" cy="18000"/>
            </a:xfrm>
            <a:custGeom>
              <a:avLst/>
              <a:gdLst/>
              <a:ahLst/>
              <a:rect l="0" t="0" r="r" b="b"/>
              <a:pathLst>
                <a:path w="177" h="50">
                  <a:moveTo>
                    <a:pt x="0" y="41"/>
                  </a:moveTo>
                  <a:lnTo>
                    <a:pt x="23" y="15"/>
                  </a:lnTo>
                  <a:lnTo>
                    <a:pt x="96" y="0"/>
                  </a:lnTo>
                  <a:lnTo>
                    <a:pt x="177" y="20"/>
                  </a:lnTo>
                  <a:lnTo>
                    <a:pt x="71" y="5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667560" y="4638600"/>
              <a:ext cx="89280" cy="38520"/>
            </a:xfrm>
            <a:custGeom>
              <a:avLst/>
              <a:gdLst/>
              <a:ahLst/>
              <a:rect l="0" t="0" r="r" b="b"/>
              <a:pathLst>
                <a:path w="248" h="107">
                  <a:moveTo>
                    <a:pt x="0" y="50"/>
                  </a:moveTo>
                  <a:lnTo>
                    <a:pt x="107" y="81"/>
                  </a:lnTo>
                  <a:lnTo>
                    <a:pt x="92" y="107"/>
                  </a:lnTo>
                  <a:lnTo>
                    <a:pt x="248" y="107"/>
                  </a:lnTo>
                  <a:lnTo>
                    <a:pt x="165" y="14"/>
                  </a:lnTo>
                  <a:lnTo>
                    <a:pt x="73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697800" y="4572000"/>
              <a:ext cx="209880" cy="65520"/>
            </a:xfrm>
            <a:custGeom>
              <a:avLst/>
              <a:gdLst/>
              <a:ahLst/>
              <a:rect l="0" t="0" r="r" b="b"/>
              <a:pathLst>
                <a:path w="583" h="182">
                  <a:moveTo>
                    <a:pt x="0" y="154"/>
                  </a:moveTo>
                  <a:lnTo>
                    <a:pt x="129" y="182"/>
                  </a:lnTo>
                  <a:lnTo>
                    <a:pt x="279" y="98"/>
                  </a:lnTo>
                  <a:lnTo>
                    <a:pt x="583" y="40"/>
                  </a:lnTo>
                  <a:lnTo>
                    <a:pt x="563" y="0"/>
                  </a:lnTo>
                  <a:lnTo>
                    <a:pt x="294" y="34"/>
                  </a:lnTo>
                  <a:lnTo>
                    <a:pt x="81" y="89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770440" y="4888080"/>
              <a:ext cx="66960" cy="43200"/>
            </a:xfrm>
            <a:custGeom>
              <a:avLst/>
              <a:gdLst/>
              <a:ahLst/>
              <a:rect l="0" t="0" r="r" b="b"/>
              <a:pathLst>
                <a:path w="186" h="120">
                  <a:moveTo>
                    <a:pt x="15" y="120"/>
                  </a:moveTo>
                  <a:lnTo>
                    <a:pt x="161" y="113"/>
                  </a:lnTo>
                  <a:lnTo>
                    <a:pt x="186" y="30"/>
                  </a:lnTo>
                  <a:lnTo>
                    <a:pt x="111" y="0"/>
                  </a:lnTo>
                  <a:lnTo>
                    <a:pt x="0" y="51"/>
                  </a:lnTo>
                  <a:lnTo>
                    <a:pt x="50" y="83"/>
                  </a:lnTo>
                  <a:lnTo>
                    <a:pt x="15" y="1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832360" y="4849920"/>
              <a:ext cx="108360" cy="105120"/>
            </a:xfrm>
            <a:custGeom>
              <a:avLst/>
              <a:gdLst/>
              <a:ahLst/>
              <a:rect l="0" t="0" r="r" b="b"/>
              <a:pathLst>
                <a:path w="301" h="292">
                  <a:moveTo>
                    <a:pt x="0" y="70"/>
                  </a:moveTo>
                  <a:lnTo>
                    <a:pt x="47" y="0"/>
                  </a:lnTo>
                  <a:lnTo>
                    <a:pt x="105" y="0"/>
                  </a:lnTo>
                  <a:lnTo>
                    <a:pt x="71" y="35"/>
                  </a:lnTo>
                  <a:lnTo>
                    <a:pt x="162" y="41"/>
                  </a:lnTo>
                  <a:lnTo>
                    <a:pt x="105" y="91"/>
                  </a:lnTo>
                  <a:lnTo>
                    <a:pt x="177" y="105"/>
                  </a:lnTo>
                  <a:lnTo>
                    <a:pt x="244" y="171"/>
                  </a:lnTo>
                  <a:lnTo>
                    <a:pt x="235" y="197"/>
                  </a:lnTo>
                  <a:lnTo>
                    <a:pt x="301" y="206"/>
                  </a:lnTo>
                  <a:lnTo>
                    <a:pt x="292" y="256"/>
                  </a:lnTo>
                  <a:lnTo>
                    <a:pt x="14" y="292"/>
                  </a:lnTo>
                  <a:lnTo>
                    <a:pt x="105" y="247"/>
                  </a:lnTo>
                  <a:lnTo>
                    <a:pt x="23" y="227"/>
                  </a:lnTo>
                  <a:lnTo>
                    <a:pt x="47" y="197"/>
                  </a:lnTo>
                  <a:lnTo>
                    <a:pt x="119" y="177"/>
                  </a:lnTo>
                  <a:lnTo>
                    <a:pt x="119" y="126"/>
                  </a:lnTo>
                  <a:lnTo>
                    <a:pt x="38" y="135"/>
                  </a:lnTo>
                  <a:lnTo>
                    <a:pt x="23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035760" y="5048280"/>
              <a:ext cx="25920" cy="24120"/>
            </a:xfrm>
            <a:custGeom>
              <a:avLst/>
              <a:gdLst/>
              <a:ahLst/>
              <a:rect l="0" t="0" r="r" b="b"/>
              <a:pathLst>
                <a:path w="72" h="67">
                  <a:moveTo>
                    <a:pt x="0" y="6"/>
                  </a:moveTo>
                  <a:lnTo>
                    <a:pt x="10" y="60"/>
                  </a:lnTo>
                  <a:lnTo>
                    <a:pt x="36" y="67"/>
                  </a:lnTo>
                  <a:lnTo>
                    <a:pt x="72" y="22"/>
                  </a:lnTo>
                  <a:lnTo>
                    <a:pt x="5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099120" y="50785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0" y="5"/>
                  </a:moveTo>
                  <a:lnTo>
                    <a:pt x="105" y="41"/>
                  </a:lnTo>
                  <a:lnTo>
                    <a:pt x="1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783400" y="4559400"/>
              <a:ext cx="2910240" cy="856080"/>
            </a:xfrm>
            <a:custGeom>
              <a:avLst/>
              <a:gdLst/>
              <a:ahLst/>
              <a:rect l="0" t="0" r="r" b="b"/>
              <a:pathLst>
                <a:path w="8084" h="2378">
                  <a:moveTo>
                    <a:pt x="1685" y="1675"/>
                  </a:moveTo>
                  <a:lnTo>
                    <a:pt x="1792" y="1684"/>
                  </a:lnTo>
                  <a:lnTo>
                    <a:pt x="1923" y="1833"/>
                  </a:lnTo>
                  <a:lnTo>
                    <a:pt x="2025" y="1937"/>
                  </a:lnTo>
                  <a:lnTo>
                    <a:pt x="2098" y="2021"/>
                  </a:lnTo>
                  <a:lnTo>
                    <a:pt x="2132" y="2111"/>
                  </a:lnTo>
                  <a:lnTo>
                    <a:pt x="2346" y="2077"/>
                  </a:lnTo>
                  <a:lnTo>
                    <a:pt x="2593" y="2001"/>
                  </a:lnTo>
                  <a:lnTo>
                    <a:pt x="2710" y="1952"/>
                  </a:lnTo>
                  <a:lnTo>
                    <a:pt x="2793" y="1868"/>
                  </a:lnTo>
                  <a:lnTo>
                    <a:pt x="2642" y="1774"/>
                  </a:lnTo>
                  <a:lnTo>
                    <a:pt x="2559" y="1824"/>
                  </a:lnTo>
                  <a:lnTo>
                    <a:pt x="2487" y="1818"/>
                  </a:lnTo>
                  <a:lnTo>
                    <a:pt x="2428" y="1804"/>
                  </a:lnTo>
                  <a:lnTo>
                    <a:pt x="2336" y="1704"/>
                  </a:lnTo>
                  <a:lnTo>
                    <a:pt x="2321" y="1669"/>
                  </a:lnTo>
                  <a:lnTo>
                    <a:pt x="2394" y="1669"/>
                  </a:lnTo>
                  <a:lnTo>
                    <a:pt x="2453" y="1724"/>
                  </a:lnTo>
                  <a:lnTo>
                    <a:pt x="2700" y="1782"/>
                  </a:lnTo>
                  <a:lnTo>
                    <a:pt x="3065" y="1789"/>
                  </a:lnTo>
                  <a:lnTo>
                    <a:pt x="3220" y="1908"/>
                  </a:lnTo>
                  <a:lnTo>
                    <a:pt x="3278" y="1902"/>
                  </a:lnTo>
                  <a:lnTo>
                    <a:pt x="3376" y="2036"/>
                  </a:lnTo>
                  <a:lnTo>
                    <a:pt x="3419" y="2120"/>
                  </a:lnTo>
                  <a:lnTo>
                    <a:pt x="3502" y="2225"/>
                  </a:lnTo>
                  <a:lnTo>
                    <a:pt x="3609" y="2169"/>
                  </a:lnTo>
                  <a:lnTo>
                    <a:pt x="3623" y="2036"/>
                  </a:lnTo>
                  <a:lnTo>
                    <a:pt x="3939" y="1873"/>
                  </a:lnTo>
                  <a:lnTo>
                    <a:pt x="4022" y="1882"/>
                  </a:lnTo>
                  <a:lnTo>
                    <a:pt x="4081" y="1859"/>
                  </a:lnTo>
                  <a:lnTo>
                    <a:pt x="4202" y="1972"/>
                  </a:lnTo>
                  <a:lnTo>
                    <a:pt x="4202" y="2027"/>
                  </a:lnTo>
                  <a:lnTo>
                    <a:pt x="4295" y="1992"/>
                  </a:lnTo>
                  <a:lnTo>
                    <a:pt x="4353" y="2219"/>
                  </a:lnTo>
                  <a:lnTo>
                    <a:pt x="4435" y="2259"/>
                  </a:lnTo>
                  <a:lnTo>
                    <a:pt x="4484" y="2344"/>
                  </a:lnTo>
                  <a:lnTo>
                    <a:pt x="4591" y="2378"/>
                  </a:lnTo>
                  <a:lnTo>
                    <a:pt x="4567" y="2294"/>
                  </a:lnTo>
                  <a:lnTo>
                    <a:pt x="4450" y="2239"/>
                  </a:lnTo>
                  <a:lnTo>
                    <a:pt x="4392" y="2169"/>
                  </a:lnTo>
                  <a:lnTo>
                    <a:pt x="4435" y="2085"/>
                  </a:lnTo>
                  <a:lnTo>
                    <a:pt x="4567" y="2161"/>
                  </a:lnTo>
                  <a:lnTo>
                    <a:pt x="4625" y="2210"/>
                  </a:lnTo>
                  <a:lnTo>
                    <a:pt x="4805" y="2135"/>
                  </a:lnTo>
                  <a:lnTo>
                    <a:pt x="4780" y="2042"/>
                  </a:lnTo>
                  <a:lnTo>
                    <a:pt x="4649" y="1958"/>
                  </a:lnTo>
                  <a:lnTo>
                    <a:pt x="4756" y="1888"/>
                  </a:lnTo>
                  <a:lnTo>
                    <a:pt x="4839" y="1923"/>
                  </a:lnTo>
                  <a:lnTo>
                    <a:pt x="4955" y="1882"/>
                  </a:lnTo>
                  <a:lnTo>
                    <a:pt x="5179" y="1810"/>
                  </a:lnTo>
                  <a:lnTo>
                    <a:pt x="5310" y="1629"/>
                  </a:lnTo>
                  <a:lnTo>
                    <a:pt x="5203" y="1536"/>
                  </a:lnTo>
                  <a:lnTo>
                    <a:pt x="5344" y="1472"/>
                  </a:lnTo>
                  <a:lnTo>
                    <a:pt x="5276" y="1460"/>
                  </a:lnTo>
                  <a:lnTo>
                    <a:pt x="5203" y="1472"/>
                  </a:lnTo>
                  <a:lnTo>
                    <a:pt x="5145" y="1437"/>
                  </a:lnTo>
                  <a:lnTo>
                    <a:pt x="5310" y="1367"/>
                  </a:lnTo>
                  <a:lnTo>
                    <a:pt x="5286" y="1431"/>
                  </a:lnTo>
                  <a:lnTo>
                    <a:pt x="5465" y="1411"/>
                  </a:lnTo>
                  <a:lnTo>
                    <a:pt x="5509" y="1460"/>
                  </a:lnTo>
                  <a:lnTo>
                    <a:pt x="5490" y="1550"/>
                  </a:lnTo>
                  <a:lnTo>
                    <a:pt x="5630" y="1507"/>
                  </a:lnTo>
                  <a:lnTo>
                    <a:pt x="5548" y="1402"/>
                  </a:lnTo>
                  <a:lnTo>
                    <a:pt x="5723" y="1298"/>
                  </a:lnTo>
                  <a:lnTo>
                    <a:pt x="5781" y="1318"/>
                  </a:lnTo>
                  <a:lnTo>
                    <a:pt x="6068" y="1144"/>
                  </a:lnTo>
                  <a:lnTo>
                    <a:pt x="6111" y="1025"/>
                  </a:lnTo>
                  <a:lnTo>
                    <a:pt x="6043" y="952"/>
                  </a:lnTo>
                  <a:lnTo>
                    <a:pt x="5854" y="941"/>
                  </a:lnTo>
                  <a:lnTo>
                    <a:pt x="6160" y="784"/>
                  </a:lnTo>
                  <a:lnTo>
                    <a:pt x="6408" y="784"/>
                  </a:lnTo>
                  <a:lnTo>
                    <a:pt x="6646" y="784"/>
                  </a:lnTo>
                  <a:lnTo>
                    <a:pt x="6753" y="694"/>
                  </a:lnTo>
                  <a:lnTo>
                    <a:pt x="6879" y="688"/>
                  </a:lnTo>
                  <a:lnTo>
                    <a:pt x="6869" y="738"/>
                  </a:lnTo>
                  <a:lnTo>
                    <a:pt x="7034" y="674"/>
                  </a:lnTo>
                  <a:lnTo>
                    <a:pt x="6728" y="833"/>
                  </a:lnTo>
                  <a:lnTo>
                    <a:pt x="6689" y="877"/>
                  </a:lnTo>
                  <a:lnTo>
                    <a:pt x="6728" y="1066"/>
                  </a:lnTo>
                  <a:lnTo>
                    <a:pt x="6937" y="941"/>
                  </a:lnTo>
                  <a:lnTo>
                    <a:pt x="6937" y="828"/>
                  </a:lnTo>
                  <a:lnTo>
                    <a:pt x="7000" y="764"/>
                  </a:lnTo>
                  <a:lnTo>
                    <a:pt x="7185" y="738"/>
                  </a:lnTo>
                  <a:lnTo>
                    <a:pt x="7282" y="764"/>
                  </a:lnTo>
                  <a:lnTo>
                    <a:pt x="7554" y="665"/>
                  </a:lnTo>
                  <a:lnTo>
                    <a:pt x="7646" y="645"/>
                  </a:lnTo>
                  <a:lnTo>
                    <a:pt x="7612" y="580"/>
                  </a:lnTo>
                  <a:lnTo>
                    <a:pt x="7729" y="545"/>
                  </a:lnTo>
                  <a:lnTo>
                    <a:pt x="7977" y="589"/>
                  </a:lnTo>
                  <a:lnTo>
                    <a:pt x="8084" y="525"/>
                  </a:lnTo>
                  <a:lnTo>
                    <a:pt x="7860" y="461"/>
                  </a:lnTo>
                  <a:lnTo>
                    <a:pt x="7598" y="385"/>
                  </a:lnTo>
                  <a:lnTo>
                    <a:pt x="7292" y="356"/>
                  </a:lnTo>
                  <a:lnTo>
                    <a:pt x="7267" y="412"/>
                  </a:lnTo>
                  <a:lnTo>
                    <a:pt x="7141" y="385"/>
                  </a:lnTo>
                  <a:lnTo>
                    <a:pt x="6918" y="391"/>
                  </a:lnTo>
                  <a:lnTo>
                    <a:pt x="6811" y="322"/>
                  </a:lnTo>
                  <a:lnTo>
                    <a:pt x="6563" y="327"/>
                  </a:lnTo>
                  <a:lnTo>
                    <a:pt x="6432" y="266"/>
                  </a:lnTo>
                  <a:lnTo>
                    <a:pt x="6087" y="237"/>
                  </a:lnTo>
                  <a:lnTo>
                    <a:pt x="5970" y="307"/>
                  </a:lnTo>
                  <a:lnTo>
                    <a:pt x="5747" y="272"/>
                  </a:lnTo>
                  <a:lnTo>
                    <a:pt x="5698" y="327"/>
                  </a:lnTo>
                  <a:lnTo>
                    <a:pt x="5616" y="223"/>
                  </a:lnTo>
                  <a:lnTo>
                    <a:pt x="5368" y="188"/>
                  </a:lnTo>
                  <a:lnTo>
                    <a:pt x="5368" y="223"/>
                  </a:lnTo>
                  <a:lnTo>
                    <a:pt x="5062" y="194"/>
                  </a:lnTo>
                  <a:lnTo>
                    <a:pt x="4863" y="194"/>
                  </a:lnTo>
                  <a:lnTo>
                    <a:pt x="4683" y="223"/>
                  </a:lnTo>
                  <a:lnTo>
                    <a:pt x="4955" y="133"/>
                  </a:lnTo>
                  <a:lnTo>
                    <a:pt x="4980" y="89"/>
                  </a:lnTo>
                  <a:lnTo>
                    <a:pt x="4873" y="49"/>
                  </a:lnTo>
                  <a:lnTo>
                    <a:pt x="4673" y="60"/>
                  </a:lnTo>
                  <a:lnTo>
                    <a:pt x="4722" y="34"/>
                  </a:lnTo>
                  <a:lnTo>
                    <a:pt x="4591" y="0"/>
                  </a:lnTo>
                  <a:lnTo>
                    <a:pt x="4367" y="69"/>
                  </a:lnTo>
                  <a:lnTo>
                    <a:pt x="4163" y="89"/>
                  </a:lnTo>
                  <a:lnTo>
                    <a:pt x="3929" y="133"/>
                  </a:lnTo>
                  <a:lnTo>
                    <a:pt x="3881" y="188"/>
                  </a:lnTo>
                  <a:lnTo>
                    <a:pt x="3633" y="203"/>
                  </a:lnTo>
                  <a:lnTo>
                    <a:pt x="3657" y="258"/>
                  </a:lnTo>
                  <a:lnTo>
                    <a:pt x="3750" y="287"/>
                  </a:lnTo>
                  <a:lnTo>
                    <a:pt x="3550" y="258"/>
                  </a:lnTo>
                  <a:lnTo>
                    <a:pt x="3550" y="322"/>
                  </a:lnTo>
                  <a:lnTo>
                    <a:pt x="3444" y="307"/>
                  </a:lnTo>
                  <a:lnTo>
                    <a:pt x="3410" y="258"/>
                  </a:lnTo>
                  <a:lnTo>
                    <a:pt x="3327" y="293"/>
                  </a:lnTo>
                  <a:lnTo>
                    <a:pt x="3385" y="327"/>
                  </a:lnTo>
                  <a:lnTo>
                    <a:pt x="3337" y="461"/>
                  </a:lnTo>
                  <a:lnTo>
                    <a:pt x="3269" y="229"/>
                  </a:lnTo>
                  <a:lnTo>
                    <a:pt x="3186" y="229"/>
                  </a:lnTo>
                  <a:lnTo>
                    <a:pt x="3079" y="377"/>
                  </a:lnTo>
                  <a:lnTo>
                    <a:pt x="3172" y="412"/>
                  </a:lnTo>
                  <a:lnTo>
                    <a:pt x="3137" y="435"/>
                  </a:lnTo>
                  <a:lnTo>
                    <a:pt x="2972" y="385"/>
                  </a:lnTo>
                  <a:lnTo>
                    <a:pt x="2841" y="371"/>
                  </a:lnTo>
                  <a:lnTo>
                    <a:pt x="2841" y="406"/>
                  </a:lnTo>
                  <a:lnTo>
                    <a:pt x="2584" y="441"/>
                  </a:lnTo>
                  <a:lnTo>
                    <a:pt x="2545" y="406"/>
                  </a:lnTo>
                  <a:lnTo>
                    <a:pt x="2321" y="470"/>
                  </a:lnTo>
                  <a:lnTo>
                    <a:pt x="2156" y="435"/>
                  </a:lnTo>
                  <a:lnTo>
                    <a:pt x="2156" y="531"/>
                  </a:lnTo>
                  <a:lnTo>
                    <a:pt x="2088" y="504"/>
                  </a:lnTo>
                  <a:lnTo>
                    <a:pt x="1991" y="545"/>
                  </a:lnTo>
                  <a:lnTo>
                    <a:pt x="2025" y="589"/>
                  </a:lnTo>
                  <a:lnTo>
                    <a:pt x="1860" y="580"/>
                  </a:lnTo>
                  <a:lnTo>
                    <a:pt x="1899" y="616"/>
                  </a:lnTo>
                  <a:lnTo>
                    <a:pt x="1777" y="589"/>
                  </a:lnTo>
                  <a:lnTo>
                    <a:pt x="1777" y="531"/>
                  </a:lnTo>
                  <a:lnTo>
                    <a:pt x="1661" y="481"/>
                  </a:lnTo>
                  <a:lnTo>
                    <a:pt x="1943" y="525"/>
                  </a:lnTo>
                  <a:lnTo>
                    <a:pt x="2040" y="461"/>
                  </a:lnTo>
                  <a:lnTo>
                    <a:pt x="1826" y="397"/>
                  </a:lnTo>
                  <a:lnTo>
                    <a:pt x="1661" y="362"/>
                  </a:lnTo>
                  <a:lnTo>
                    <a:pt x="1530" y="356"/>
                  </a:lnTo>
                  <a:lnTo>
                    <a:pt x="1627" y="342"/>
                  </a:lnTo>
                  <a:lnTo>
                    <a:pt x="1496" y="313"/>
                  </a:lnTo>
                  <a:lnTo>
                    <a:pt x="1379" y="322"/>
                  </a:lnTo>
                  <a:lnTo>
                    <a:pt x="1306" y="362"/>
                  </a:lnTo>
                  <a:lnTo>
                    <a:pt x="1248" y="351"/>
                  </a:lnTo>
                  <a:lnTo>
                    <a:pt x="1165" y="391"/>
                  </a:lnTo>
                  <a:lnTo>
                    <a:pt x="1107" y="385"/>
                  </a:lnTo>
                  <a:lnTo>
                    <a:pt x="1083" y="412"/>
                  </a:lnTo>
                  <a:lnTo>
                    <a:pt x="1000" y="441"/>
                  </a:lnTo>
                  <a:lnTo>
                    <a:pt x="869" y="560"/>
                  </a:lnTo>
                  <a:lnTo>
                    <a:pt x="762" y="610"/>
                  </a:lnTo>
                  <a:lnTo>
                    <a:pt x="578" y="680"/>
                  </a:lnTo>
                  <a:lnTo>
                    <a:pt x="680" y="700"/>
                  </a:lnTo>
                  <a:lnTo>
                    <a:pt x="578" y="723"/>
                  </a:lnTo>
                  <a:lnTo>
                    <a:pt x="597" y="807"/>
                  </a:lnTo>
                  <a:lnTo>
                    <a:pt x="694" y="822"/>
                  </a:lnTo>
                  <a:lnTo>
                    <a:pt x="801" y="764"/>
                  </a:lnTo>
                  <a:lnTo>
                    <a:pt x="845" y="848"/>
                  </a:lnTo>
                  <a:lnTo>
                    <a:pt x="893" y="877"/>
                  </a:lnTo>
                  <a:lnTo>
                    <a:pt x="884" y="918"/>
                  </a:lnTo>
                  <a:lnTo>
                    <a:pt x="1015" y="891"/>
                  </a:lnTo>
                  <a:lnTo>
                    <a:pt x="1049" y="813"/>
                  </a:lnTo>
                  <a:lnTo>
                    <a:pt x="1024" y="807"/>
                  </a:lnTo>
                  <a:lnTo>
                    <a:pt x="1131" y="764"/>
                  </a:lnTo>
                  <a:lnTo>
                    <a:pt x="1073" y="738"/>
                  </a:lnTo>
                  <a:lnTo>
                    <a:pt x="1073" y="665"/>
                  </a:lnTo>
                  <a:lnTo>
                    <a:pt x="1248" y="589"/>
                  </a:lnTo>
                  <a:lnTo>
                    <a:pt x="1262" y="539"/>
                  </a:lnTo>
                  <a:lnTo>
                    <a:pt x="1345" y="531"/>
                  </a:lnTo>
                  <a:lnTo>
                    <a:pt x="1403" y="565"/>
                  </a:lnTo>
                  <a:lnTo>
                    <a:pt x="1224" y="651"/>
                  </a:lnTo>
                  <a:lnTo>
                    <a:pt x="1238" y="738"/>
                  </a:lnTo>
                  <a:lnTo>
                    <a:pt x="1296" y="764"/>
                  </a:lnTo>
                  <a:lnTo>
                    <a:pt x="1496" y="738"/>
                  </a:lnTo>
                  <a:lnTo>
                    <a:pt x="1593" y="758"/>
                  </a:lnTo>
                  <a:lnTo>
                    <a:pt x="1321" y="778"/>
                  </a:lnTo>
                  <a:lnTo>
                    <a:pt x="1345" y="868"/>
                  </a:lnTo>
                  <a:lnTo>
                    <a:pt x="1282" y="833"/>
                  </a:lnTo>
                  <a:lnTo>
                    <a:pt x="1224" y="868"/>
                  </a:lnTo>
                  <a:lnTo>
                    <a:pt x="1224" y="918"/>
                  </a:lnTo>
                  <a:lnTo>
                    <a:pt x="1165" y="947"/>
                  </a:lnTo>
                  <a:lnTo>
                    <a:pt x="1073" y="941"/>
                  </a:lnTo>
                  <a:lnTo>
                    <a:pt x="942" y="976"/>
                  </a:lnTo>
                  <a:lnTo>
                    <a:pt x="884" y="947"/>
                  </a:lnTo>
                  <a:lnTo>
                    <a:pt x="811" y="952"/>
                  </a:lnTo>
                  <a:lnTo>
                    <a:pt x="752" y="932"/>
                  </a:lnTo>
                  <a:lnTo>
                    <a:pt x="811" y="891"/>
                  </a:lnTo>
                  <a:lnTo>
                    <a:pt x="786" y="842"/>
                  </a:lnTo>
                  <a:lnTo>
                    <a:pt x="704" y="868"/>
                  </a:lnTo>
                  <a:lnTo>
                    <a:pt x="694" y="912"/>
                  </a:lnTo>
                  <a:lnTo>
                    <a:pt x="718" y="990"/>
                  </a:lnTo>
                  <a:lnTo>
                    <a:pt x="680" y="976"/>
                  </a:lnTo>
                  <a:lnTo>
                    <a:pt x="597" y="990"/>
                  </a:lnTo>
                  <a:lnTo>
                    <a:pt x="578" y="1037"/>
                  </a:lnTo>
                  <a:lnTo>
                    <a:pt x="446" y="1066"/>
                  </a:lnTo>
                  <a:lnTo>
                    <a:pt x="398" y="1109"/>
                  </a:lnTo>
                  <a:lnTo>
                    <a:pt x="306" y="1100"/>
                  </a:lnTo>
                  <a:lnTo>
                    <a:pt x="315" y="1135"/>
                  </a:lnTo>
                  <a:lnTo>
                    <a:pt x="184" y="1144"/>
                  </a:lnTo>
                  <a:lnTo>
                    <a:pt x="199" y="1164"/>
                  </a:lnTo>
                  <a:lnTo>
                    <a:pt x="306" y="1179"/>
                  </a:lnTo>
                  <a:lnTo>
                    <a:pt x="291" y="1193"/>
                  </a:lnTo>
                  <a:lnTo>
                    <a:pt x="349" y="1243"/>
                  </a:lnTo>
                  <a:lnTo>
                    <a:pt x="306" y="1298"/>
                  </a:lnTo>
                  <a:lnTo>
                    <a:pt x="43" y="1292"/>
                  </a:lnTo>
                  <a:lnTo>
                    <a:pt x="0" y="1304"/>
                  </a:lnTo>
                  <a:lnTo>
                    <a:pt x="0" y="1431"/>
                  </a:lnTo>
                  <a:lnTo>
                    <a:pt x="19" y="1481"/>
                  </a:lnTo>
                  <a:lnTo>
                    <a:pt x="82" y="1472"/>
                  </a:lnTo>
                  <a:lnTo>
                    <a:pt x="291" y="1486"/>
                  </a:lnTo>
                  <a:lnTo>
                    <a:pt x="374" y="1431"/>
                  </a:lnTo>
                  <a:lnTo>
                    <a:pt x="364" y="1411"/>
                  </a:lnTo>
                  <a:lnTo>
                    <a:pt x="412" y="1367"/>
                  </a:lnTo>
                  <a:lnTo>
                    <a:pt x="505" y="1338"/>
                  </a:lnTo>
                  <a:lnTo>
                    <a:pt x="505" y="1298"/>
                  </a:lnTo>
                  <a:lnTo>
                    <a:pt x="539" y="1292"/>
                  </a:lnTo>
                  <a:lnTo>
                    <a:pt x="621" y="1304"/>
                  </a:lnTo>
                  <a:lnTo>
                    <a:pt x="680" y="1283"/>
                  </a:lnTo>
                  <a:lnTo>
                    <a:pt x="728" y="1263"/>
                  </a:lnTo>
                  <a:lnTo>
                    <a:pt x="786" y="1277"/>
                  </a:lnTo>
                  <a:lnTo>
                    <a:pt x="825" y="1327"/>
                  </a:lnTo>
                  <a:lnTo>
                    <a:pt x="1000" y="1388"/>
                  </a:lnTo>
                  <a:lnTo>
                    <a:pt x="1024" y="1452"/>
                  </a:lnTo>
                  <a:lnTo>
                    <a:pt x="1058" y="1417"/>
                  </a:lnTo>
                  <a:lnTo>
                    <a:pt x="1049" y="1382"/>
                  </a:lnTo>
                  <a:lnTo>
                    <a:pt x="1117" y="1388"/>
                  </a:lnTo>
                  <a:lnTo>
                    <a:pt x="966" y="1333"/>
                  </a:lnTo>
                  <a:lnTo>
                    <a:pt x="869" y="1269"/>
                  </a:lnTo>
                  <a:lnTo>
                    <a:pt x="869" y="1234"/>
                  </a:lnTo>
                  <a:lnTo>
                    <a:pt x="952" y="1243"/>
                  </a:lnTo>
                  <a:lnTo>
                    <a:pt x="1024" y="1292"/>
                  </a:lnTo>
                  <a:lnTo>
                    <a:pt x="1156" y="1338"/>
                  </a:lnTo>
                  <a:lnTo>
                    <a:pt x="1156" y="1382"/>
                  </a:lnTo>
                  <a:lnTo>
                    <a:pt x="1190" y="1402"/>
                  </a:lnTo>
                  <a:lnTo>
                    <a:pt x="1224" y="1446"/>
                  </a:lnTo>
                  <a:lnTo>
                    <a:pt x="1306" y="1446"/>
                  </a:lnTo>
                  <a:lnTo>
                    <a:pt x="1224" y="1460"/>
                  </a:lnTo>
                  <a:lnTo>
                    <a:pt x="1248" y="1486"/>
                  </a:lnTo>
                  <a:lnTo>
                    <a:pt x="1306" y="1495"/>
                  </a:lnTo>
                  <a:lnTo>
                    <a:pt x="1345" y="1446"/>
                  </a:lnTo>
                  <a:lnTo>
                    <a:pt x="1282" y="1423"/>
                  </a:lnTo>
                  <a:lnTo>
                    <a:pt x="1321" y="1417"/>
                  </a:lnTo>
                  <a:lnTo>
                    <a:pt x="1296" y="1376"/>
                  </a:lnTo>
                  <a:lnTo>
                    <a:pt x="1496" y="1367"/>
                  </a:lnTo>
                  <a:lnTo>
                    <a:pt x="1486" y="1327"/>
                  </a:lnTo>
                  <a:lnTo>
                    <a:pt x="1530" y="1283"/>
                  </a:lnTo>
                  <a:lnTo>
                    <a:pt x="1568" y="1234"/>
                  </a:lnTo>
                  <a:lnTo>
                    <a:pt x="1593" y="1205"/>
                  </a:lnTo>
                  <a:lnTo>
                    <a:pt x="1661" y="1193"/>
                  </a:lnTo>
                  <a:lnTo>
                    <a:pt x="1661" y="1214"/>
                  </a:lnTo>
                  <a:lnTo>
                    <a:pt x="1734" y="1214"/>
                  </a:lnTo>
                  <a:lnTo>
                    <a:pt x="1695" y="1234"/>
                  </a:lnTo>
                  <a:lnTo>
                    <a:pt x="1743" y="1263"/>
                  </a:lnTo>
                  <a:lnTo>
                    <a:pt x="1860" y="1234"/>
                  </a:lnTo>
                  <a:lnTo>
                    <a:pt x="1792" y="1243"/>
                  </a:lnTo>
                  <a:lnTo>
                    <a:pt x="1792" y="1219"/>
                  </a:lnTo>
                  <a:lnTo>
                    <a:pt x="1802" y="1205"/>
                  </a:lnTo>
                  <a:lnTo>
                    <a:pt x="1957" y="1179"/>
                  </a:lnTo>
                  <a:lnTo>
                    <a:pt x="1909" y="1193"/>
                  </a:lnTo>
                  <a:lnTo>
                    <a:pt x="1860" y="1243"/>
                  </a:lnTo>
                  <a:lnTo>
                    <a:pt x="2049" y="1312"/>
                  </a:lnTo>
                  <a:lnTo>
                    <a:pt x="2049" y="1347"/>
                  </a:lnTo>
                  <a:lnTo>
                    <a:pt x="1923" y="1367"/>
                  </a:lnTo>
                  <a:lnTo>
                    <a:pt x="1802" y="1333"/>
                  </a:lnTo>
                  <a:lnTo>
                    <a:pt x="1637" y="1362"/>
                  </a:lnTo>
                  <a:lnTo>
                    <a:pt x="1554" y="1362"/>
                  </a:lnTo>
                  <a:lnTo>
                    <a:pt x="1578" y="1376"/>
                  </a:lnTo>
                  <a:lnTo>
                    <a:pt x="1437" y="1396"/>
                  </a:lnTo>
                  <a:lnTo>
                    <a:pt x="1471" y="1437"/>
                  </a:lnTo>
                  <a:lnTo>
                    <a:pt x="1486" y="1486"/>
                  </a:lnTo>
                  <a:lnTo>
                    <a:pt x="1578" y="1501"/>
                  </a:lnTo>
                  <a:lnTo>
                    <a:pt x="1627" y="1481"/>
                  </a:lnTo>
                  <a:lnTo>
                    <a:pt x="1709" y="1507"/>
                  </a:lnTo>
                  <a:lnTo>
                    <a:pt x="1841" y="1481"/>
                  </a:lnTo>
                  <a:lnTo>
                    <a:pt x="1826" y="1544"/>
                  </a:lnTo>
                  <a:lnTo>
                    <a:pt x="1743" y="1634"/>
                  </a:lnTo>
                  <a:lnTo>
                    <a:pt x="1612" y="1629"/>
                  </a:lnTo>
                  <a:lnTo>
                    <a:pt x="1685" y="167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853160" y="4441680"/>
              <a:ext cx="886320" cy="390960"/>
            </a:xfrm>
            <a:custGeom>
              <a:avLst/>
              <a:gdLst/>
              <a:ahLst/>
              <a:rect l="0" t="0" r="r" b="b"/>
              <a:pathLst>
                <a:path w="2462" h="1086">
                  <a:moveTo>
                    <a:pt x="0" y="303"/>
                  </a:moveTo>
                  <a:lnTo>
                    <a:pt x="14" y="283"/>
                  </a:lnTo>
                  <a:lnTo>
                    <a:pt x="165" y="253"/>
                  </a:lnTo>
                  <a:lnTo>
                    <a:pt x="272" y="253"/>
                  </a:lnTo>
                  <a:lnTo>
                    <a:pt x="354" y="183"/>
                  </a:lnTo>
                  <a:lnTo>
                    <a:pt x="286" y="206"/>
                  </a:lnTo>
                  <a:lnTo>
                    <a:pt x="213" y="183"/>
                  </a:lnTo>
                  <a:lnTo>
                    <a:pt x="354" y="133"/>
                  </a:lnTo>
                  <a:lnTo>
                    <a:pt x="461" y="133"/>
                  </a:lnTo>
                  <a:lnTo>
                    <a:pt x="461" y="98"/>
                  </a:lnTo>
                  <a:lnTo>
                    <a:pt x="628" y="122"/>
                  </a:lnTo>
                  <a:lnTo>
                    <a:pt x="520" y="93"/>
                  </a:lnTo>
                  <a:lnTo>
                    <a:pt x="710" y="63"/>
                  </a:lnTo>
                  <a:lnTo>
                    <a:pt x="793" y="84"/>
                  </a:lnTo>
                  <a:lnTo>
                    <a:pt x="924" y="93"/>
                  </a:lnTo>
                  <a:lnTo>
                    <a:pt x="890" y="58"/>
                  </a:lnTo>
                  <a:lnTo>
                    <a:pt x="1124" y="98"/>
                  </a:lnTo>
                  <a:lnTo>
                    <a:pt x="1279" y="63"/>
                  </a:lnTo>
                  <a:lnTo>
                    <a:pt x="1090" y="23"/>
                  </a:lnTo>
                  <a:lnTo>
                    <a:pt x="1182" y="14"/>
                  </a:lnTo>
                  <a:lnTo>
                    <a:pt x="1348" y="43"/>
                  </a:lnTo>
                  <a:lnTo>
                    <a:pt x="1411" y="23"/>
                  </a:lnTo>
                  <a:lnTo>
                    <a:pt x="1386" y="0"/>
                  </a:lnTo>
                  <a:lnTo>
                    <a:pt x="1800" y="14"/>
                  </a:lnTo>
                  <a:lnTo>
                    <a:pt x="1966" y="37"/>
                  </a:lnTo>
                  <a:lnTo>
                    <a:pt x="2073" y="49"/>
                  </a:lnTo>
                  <a:lnTo>
                    <a:pt x="1634" y="78"/>
                  </a:lnTo>
                  <a:lnTo>
                    <a:pt x="1586" y="107"/>
                  </a:lnTo>
                  <a:lnTo>
                    <a:pt x="1908" y="98"/>
                  </a:lnTo>
                  <a:lnTo>
                    <a:pt x="1834" y="122"/>
                  </a:lnTo>
                  <a:lnTo>
                    <a:pt x="2034" y="84"/>
                  </a:lnTo>
                  <a:lnTo>
                    <a:pt x="2049" y="122"/>
                  </a:lnTo>
                  <a:lnTo>
                    <a:pt x="1952" y="177"/>
                  </a:lnTo>
                  <a:lnTo>
                    <a:pt x="2131" y="122"/>
                  </a:lnTo>
                  <a:lnTo>
                    <a:pt x="2248" y="98"/>
                  </a:lnTo>
                  <a:lnTo>
                    <a:pt x="2345" y="93"/>
                  </a:lnTo>
                  <a:lnTo>
                    <a:pt x="2462" y="113"/>
                  </a:lnTo>
                  <a:lnTo>
                    <a:pt x="2355" y="157"/>
                  </a:lnTo>
                  <a:lnTo>
                    <a:pt x="2093" y="168"/>
                  </a:lnTo>
                  <a:lnTo>
                    <a:pt x="2307" y="177"/>
                  </a:lnTo>
                  <a:lnTo>
                    <a:pt x="2131" y="197"/>
                  </a:lnTo>
                  <a:lnTo>
                    <a:pt x="2190" y="241"/>
                  </a:lnTo>
                  <a:lnTo>
                    <a:pt x="2107" y="267"/>
                  </a:lnTo>
                  <a:lnTo>
                    <a:pt x="2175" y="318"/>
                  </a:lnTo>
                  <a:lnTo>
                    <a:pt x="2131" y="338"/>
                  </a:lnTo>
                  <a:lnTo>
                    <a:pt x="2224" y="347"/>
                  </a:lnTo>
                  <a:lnTo>
                    <a:pt x="2117" y="376"/>
                  </a:lnTo>
                  <a:lnTo>
                    <a:pt x="2156" y="402"/>
                  </a:lnTo>
                  <a:lnTo>
                    <a:pt x="2165" y="451"/>
                  </a:lnTo>
                  <a:lnTo>
                    <a:pt x="2073" y="437"/>
                  </a:lnTo>
                  <a:lnTo>
                    <a:pt x="2107" y="480"/>
                  </a:lnTo>
                  <a:lnTo>
                    <a:pt x="2190" y="495"/>
                  </a:lnTo>
                  <a:lnTo>
                    <a:pt x="2049" y="495"/>
                  </a:lnTo>
                  <a:lnTo>
                    <a:pt x="2141" y="515"/>
                  </a:lnTo>
                  <a:lnTo>
                    <a:pt x="2049" y="544"/>
                  </a:lnTo>
                  <a:lnTo>
                    <a:pt x="1976" y="515"/>
                  </a:lnTo>
                  <a:lnTo>
                    <a:pt x="1869" y="544"/>
                  </a:lnTo>
                  <a:lnTo>
                    <a:pt x="1927" y="600"/>
                  </a:lnTo>
                  <a:lnTo>
                    <a:pt x="1966" y="585"/>
                  </a:lnTo>
                  <a:lnTo>
                    <a:pt x="2083" y="629"/>
                  </a:lnTo>
                  <a:lnTo>
                    <a:pt x="2083" y="669"/>
                  </a:lnTo>
                  <a:lnTo>
                    <a:pt x="1966" y="635"/>
                  </a:lnTo>
                  <a:lnTo>
                    <a:pt x="1844" y="605"/>
                  </a:lnTo>
                  <a:lnTo>
                    <a:pt x="1824" y="649"/>
                  </a:lnTo>
                  <a:lnTo>
                    <a:pt x="1883" y="678"/>
                  </a:lnTo>
                  <a:lnTo>
                    <a:pt x="1800" y="684"/>
                  </a:lnTo>
                  <a:lnTo>
                    <a:pt x="2059" y="690"/>
                  </a:lnTo>
                  <a:lnTo>
                    <a:pt x="1893" y="748"/>
                  </a:lnTo>
                  <a:lnTo>
                    <a:pt x="1741" y="768"/>
                  </a:lnTo>
                  <a:lnTo>
                    <a:pt x="1610" y="789"/>
                  </a:lnTo>
                  <a:lnTo>
                    <a:pt x="1552" y="839"/>
                  </a:lnTo>
                  <a:lnTo>
                    <a:pt x="1430" y="839"/>
                  </a:lnTo>
                  <a:lnTo>
                    <a:pt x="1411" y="874"/>
                  </a:lnTo>
                  <a:lnTo>
                    <a:pt x="1338" y="874"/>
                  </a:lnTo>
                  <a:lnTo>
                    <a:pt x="1289" y="903"/>
                  </a:lnTo>
                  <a:lnTo>
                    <a:pt x="1304" y="953"/>
                  </a:lnTo>
                  <a:lnTo>
                    <a:pt x="1231" y="987"/>
                  </a:lnTo>
                  <a:lnTo>
                    <a:pt x="1255" y="1022"/>
                  </a:lnTo>
                  <a:lnTo>
                    <a:pt x="1221" y="1086"/>
                  </a:lnTo>
                  <a:lnTo>
                    <a:pt x="1138" y="1086"/>
                  </a:lnTo>
                  <a:lnTo>
                    <a:pt x="1031" y="1051"/>
                  </a:lnTo>
                  <a:lnTo>
                    <a:pt x="949" y="1016"/>
                  </a:lnTo>
                  <a:lnTo>
                    <a:pt x="852" y="932"/>
                  </a:lnTo>
                  <a:lnTo>
                    <a:pt x="793" y="859"/>
                  </a:lnTo>
                  <a:lnTo>
                    <a:pt x="783" y="803"/>
                  </a:lnTo>
                  <a:lnTo>
                    <a:pt x="817" y="762"/>
                  </a:lnTo>
                  <a:lnTo>
                    <a:pt x="900" y="719"/>
                  </a:lnTo>
                  <a:lnTo>
                    <a:pt x="910" y="690"/>
                  </a:lnTo>
                  <a:lnTo>
                    <a:pt x="842" y="684"/>
                  </a:lnTo>
                  <a:lnTo>
                    <a:pt x="745" y="664"/>
                  </a:lnTo>
                  <a:lnTo>
                    <a:pt x="910" y="664"/>
                  </a:lnTo>
                  <a:lnTo>
                    <a:pt x="817" y="629"/>
                  </a:lnTo>
                  <a:lnTo>
                    <a:pt x="852" y="620"/>
                  </a:lnTo>
                  <a:lnTo>
                    <a:pt x="769" y="629"/>
                  </a:lnTo>
                  <a:lnTo>
                    <a:pt x="710" y="629"/>
                  </a:lnTo>
                  <a:lnTo>
                    <a:pt x="710" y="600"/>
                  </a:lnTo>
                  <a:lnTo>
                    <a:pt x="745" y="565"/>
                  </a:lnTo>
                  <a:lnTo>
                    <a:pt x="652" y="486"/>
                  </a:lnTo>
                  <a:lnTo>
                    <a:pt x="578" y="422"/>
                  </a:lnTo>
                  <a:lnTo>
                    <a:pt x="496" y="402"/>
                  </a:lnTo>
                  <a:lnTo>
                    <a:pt x="320" y="416"/>
                  </a:lnTo>
                  <a:lnTo>
                    <a:pt x="145" y="396"/>
                  </a:lnTo>
                  <a:lnTo>
                    <a:pt x="204" y="381"/>
                  </a:lnTo>
                  <a:lnTo>
                    <a:pt x="63" y="361"/>
                  </a:lnTo>
                  <a:lnTo>
                    <a:pt x="296" y="332"/>
                  </a:lnTo>
                  <a:lnTo>
                    <a:pt x="155" y="338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522680" y="4624560"/>
              <a:ext cx="79560" cy="30600"/>
            </a:xfrm>
            <a:custGeom>
              <a:avLst/>
              <a:gdLst/>
              <a:ahLst/>
              <a:rect l="0" t="0" r="r" b="b"/>
              <a:pathLst>
                <a:path w="221" h="85">
                  <a:moveTo>
                    <a:pt x="0" y="55"/>
                  </a:moveTo>
                  <a:lnTo>
                    <a:pt x="111" y="85"/>
                  </a:lnTo>
                  <a:lnTo>
                    <a:pt x="221" y="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422600" y="4579920"/>
              <a:ext cx="71640" cy="27360"/>
            </a:xfrm>
            <a:custGeom>
              <a:avLst/>
              <a:gdLst/>
              <a:ahLst/>
              <a:rect l="0" t="0" r="r" b="b"/>
              <a:pathLst>
                <a:path w="199" h="76">
                  <a:moveTo>
                    <a:pt x="0" y="48"/>
                  </a:moveTo>
                  <a:lnTo>
                    <a:pt x="23" y="5"/>
                  </a:lnTo>
                  <a:lnTo>
                    <a:pt x="185" y="0"/>
                  </a:lnTo>
                  <a:lnTo>
                    <a:pt x="199" y="53"/>
                  </a:lnTo>
                  <a:lnTo>
                    <a:pt x="175" y="76"/>
                  </a:lnTo>
                  <a:lnTo>
                    <a:pt x="80" y="6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422600" y="4624560"/>
              <a:ext cx="89280" cy="44640"/>
            </a:xfrm>
            <a:custGeom>
              <a:avLst/>
              <a:gdLst/>
              <a:ahLst/>
              <a:rect l="0" t="0" r="r" b="b"/>
              <a:pathLst>
                <a:path w="248" h="124">
                  <a:moveTo>
                    <a:pt x="0" y="60"/>
                  </a:moveTo>
                  <a:lnTo>
                    <a:pt x="95" y="0"/>
                  </a:lnTo>
                  <a:lnTo>
                    <a:pt x="210" y="34"/>
                  </a:lnTo>
                  <a:lnTo>
                    <a:pt x="167" y="54"/>
                  </a:lnTo>
                  <a:lnTo>
                    <a:pt x="234" y="54"/>
                  </a:lnTo>
                  <a:lnTo>
                    <a:pt x="248" y="95"/>
                  </a:lnTo>
                  <a:lnTo>
                    <a:pt x="143" y="12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200480" y="4573440"/>
              <a:ext cx="179640" cy="43200"/>
            </a:xfrm>
            <a:custGeom>
              <a:avLst/>
              <a:gdLst/>
              <a:ahLst/>
              <a:rect l="0" t="0" r="r" b="b"/>
              <a:pathLst>
                <a:path w="499" h="120">
                  <a:moveTo>
                    <a:pt x="0" y="79"/>
                  </a:moveTo>
                  <a:lnTo>
                    <a:pt x="107" y="20"/>
                  </a:lnTo>
                  <a:lnTo>
                    <a:pt x="200" y="34"/>
                  </a:lnTo>
                  <a:lnTo>
                    <a:pt x="264" y="64"/>
                  </a:lnTo>
                  <a:lnTo>
                    <a:pt x="357" y="64"/>
                  </a:lnTo>
                  <a:lnTo>
                    <a:pt x="299" y="20"/>
                  </a:lnTo>
                  <a:lnTo>
                    <a:pt x="357" y="0"/>
                  </a:lnTo>
                  <a:lnTo>
                    <a:pt x="391" y="29"/>
                  </a:lnTo>
                  <a:lnTo>
                    <a:pt x="465" y="43"/>
                  </a:lnTo>
                  <a:lnTo>
                    <a:pt x="499" y="64"/>
                  </a:lnTo>
                  <a:lnTo>
                    <a:pt x="474" y="85"/>
                  </a:lnTo>
                  <a:lnTo>
                    <a:pt x="367" y="85"/>
                  </a:lnTo>
                  <a:lnTo>
                    <a:pt x="200" y="12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124160" y="4559400"/>
              <a:ext cx="106560" cy="33840"/>
            </a:xfrm>
            <a:custGeom>
              <a:avLst/>
              <a:gdLst/>
              <a:ahLst/>
              <a:rect l="0" t="0" r="r" b="b"/>
              <a:pathLst>
                <a:path w="296" h="94">
                  <a:moveTo>
                    <a:pt x="0" y="79"/>
                  </a:moveTo>
                  <a:lnTo>
                    <a:pt x="106" y="94"/>
                  </a:lnTo>
                  <a:lnTo>
                    <a:pt x="204" y="42"/>
                  </a:lnTo>
                  <a:lnTo>
                    <a:pt x="214" y="73"/>
                  </a:lnTo>
                  <a:lnTo>
                    <a:pt x="286" y="51"/>
                  </a:lnTo>
                  <a:lnTo>
                    <a:pt x="296" y="11"/>
                  </a:lnTo>
                  <a:lnTo>
                    <a:pt x="262" y="0"/>
                  </a:lnTo>
                  <a:lnTo>
                    <a:pt x="145" y="11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379760" y="4527720"/>
              <a:ext cx="89280" cy="27360"/>
            </a:xfrm>
            <a:custGeom>
              <a:avLst/>
              <a:gdLst/>
              <a:ahLst/>
              <a:rect l="0" t="0" r="r" b="b"/>
              <a:pathLst>
                <a:path w="248" h="76">
                  <a:moveTo>
                    <a:pt x="0" y="0"/>
                  </a:moveTo>
                  <a:lnTo>
                    <a:pt x="24" y="29"/>
                  </a:lnTo>
                  <a:lnTo>
                    <a:pt x="24" y="44"/>
                  </a:lnTo>
                  <a:lnTo>
                    <a:pt x="248" y="76"/>
                  </a:lnTo>
                  <a:lnTo>
                    <a:pt x="239" y="38"/>
                  </a:lnTo>
                  <a:lnTo>
                    <a:pt x="131" y="6"/>
                  </a:lnTo>
                  <a:lnTo>
                    <a:pt x="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503600" y="4568760"/>
              <a:ext cx="249480" cy="44640"/>
            </a:xfrm>
            <a:custGeom>
              <a:avLst/>
              <a:gdLst/>
              <a:ahLst/>
              <a:rect l="0" t="0" r="r" b="b"/>
              <a:pathLst>
                <a:path w="693" h="124">
                  <a:moveTo>
                    <a:pt x="0" y="22"/>
                  </a:moveTo>
                  <a:lnTo>
                    <a:pt x="43" y="0"/>
                  </a:lnTo>
                  <a:lnTo>
                    <a:pt x="329" y="56"/>
                  </a:lnTo>
                  <a:lnTo>
                    <a:pt x="446" y="82"/>
                  </a:lnTo>
                  <a:lnTo>
                    <a:pt x="586" y="61"/>
                  </a:lnTo>
                  <a:lnTo>
                    <a:pt x="693" y="90"/>
                  </a:lnTo>
                  <a:lnTo>
                    <a:pt x="683" y="124"/>
                  </a:lnTo>
                  <a:lnTo>
                    <a:pt x="208" y="124"/>
                  </a:lnTo>
                  <a:lnTo>
                    <a:pt x="82" y="4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573440" y="4452840"/>
              <a:ext cx="448200" cy="133560"/>
            </a:xfrm>
            <a:custGeom>
              <a:avLst/>
              <a:gdLst/>
              <a:ahLst/>
              <a:rect l="0" t="0" r="r" b="b"/>
              <a:pathLst>
                <a:path w="1245" h="371">
                  <a:moveTo>
                    <a:pt x="0" y="78"/>
                  </a:moveTo>
                  <a:lnTo>
                    <a:pt x="107" y="78"/>
                  </a:lnTo>
                  <a:lnTo>
                    <a:pt x="107" y="127"/>
                  </a:lnTo>
                  <a:lnTo>
                    <a:pt x="190" y="138"/>
                  </a:lnTo>
                  <a:lnTo>
                    <a:pt x="581" y="92"/>
                  </a:lnTo>
                  <a:lnTo>
                    <a:pt x="356" y="153"/>
                  </a:lnTo>
                  <a:lnTo>
                    <a:pt x="224" y="153"/>
                  </a:lnTo>
                  <a:lnTo>
                    <a:pt x="224" y="176"/>
                  </a:lnTo>
                  <a:lnTo>
                    <a:pt x="356" y="223"/>
                  </a:lnTo>
                  <a:lnTo>
                    <a:pt x="425" y="223"/>
                  </a:lnTo>
                  <a:lnTo>
                    <a:pt x="356" y="238"/>
                  </a:lnTo>
                  <a:lnTo>
                    <a:pt x="273" y="232"/>
                  </a:lnTo>
                  <a:lnTo>
                    <a:pt x="214" y="238"/>
                  </a:lnTo>
                  <a:lnTo>
                    <a:pt x="175" y="273"/>
                  </a:lnTo>
                  <a:lnTo>
                    <a:pt x="248" y="281"/>
                  </a:lnTo>
                  <a:lnTo>
                    <a:pt x="141" y="287"/>
                  </a:lnTo>
                  <a:lnTo>
                    <a:pt x="214" y="322"/>
                  </a:lnTo>
                  <a:lnTo>
                    <a:pt x="107" y="336"/>
                  </a:lnTo>
                  <a:lnTo>
                    <a:pt x="117" y="356"/>
                  </a:lnTo>
                  <a:lnTo>
                    <a:pt x="214" y="351"/>
                  </a:lnTo>
                  <a:lnTo>
                    <a:pt x="258" y="371"/>
                  </a:lnTo>
                  <a:lnTo>
                    <a:pt x="273" y="356"/>
                  </a:lnTo>
                  <a:lnTo>
                    <a:pt x="439" y="371"/>
                  </a:lnTo>
                  <a:lnTo>
                    <a:pt x="547" y="356"/>
                  </a:lnTo>
                  <a:lnTo>
                    <a:pt x="581" y="296"/>
                  </a:lnTo>
                  <a:lnTo>
                    <a:pt x="556" y="281"/>
                  </a:lnTo>
                  <a:lnTo>
                    <a:pt x="654" y="281"/>
                  </a:lnTo>
                  <a:lnTo>
                    <a:pt x="712" y="246"/>
                  </a:lnTo>
                  <a:lnTo>
                    <a:pt x="581" y="232"/>
                  </a:lnTo>
                  <a:lnTo>
                    <a:pt x="747" y="197"/>
                  </a:lnTo>
                  <a:lnTo>
                    <a:pt x="698" y="182"/>
                  </a:lnTo>
                  <a:lnTo>
                    <a:pt x="830" y="189"/>
                  </a:lnTo>
                  <a:lnTo>
                    <a:pt x="903" y="153"/>
                  </a:lnTo>
                  <a:lnTo>
                    <a:pt x="1113" y="92"/>
                  </a:lnTo>
                  <a:lnTo>
                    <a:pt x="888" y="112"/>
                  </a:lnTo>
                  <a:lnTo>
                    <a:pt x="1021" y="83"/>
                  </a:lnTo>
                  <a:lnTo>
                    <a:pt x="927" y="78"/>
                  </a:lnTo>
                  <a:lnTo>
                    <a:pt x="1055" y="78"/>
                  </a:lnTo>
                  <a:lnTo>
                    <a:pt x="1245" y="49"/>
                  </a:lnTo>
                  <a:lnTo>
                    <a:pt x="1152" y="8"/>
                  </a:lnTo>
                  <a:lnTo>
                    <a:pt x="938" y="20"/>
                  </a:lnTo>
                  <a:lnTo>
                    <a:pt x="1030" y="0"/>
                  </a:lnTo>
                  <a:lnTo>
                    <a:pt x="556" y="0"/>
                  </a:lnTo>
                  <a:lnTo>
                    <a:pt x="449" y="0"/>
                  </a:lnTo>
                  <a:lnTo>
                    <a:pt x="342" y="34"/>
                  </a:lnTo>
                  <a:lnTo>
                    <a:pt x="238" y="28"/>
                  </a:lnTo>
                  <a:lnTo>
                    <a:pt x="190" y="49"/>
                  </a:lnTo>
                  <a:lnTo>
                    <a:pt x="141" y="4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511520" y="4492800"/>
              <a:ext cx="163800" cy="59040"/>
            </a:xfrm>
            <a:custGeom>
              <a:avLst/>
              <a:gdLst/>
              <a:ahLst/>
              <a:rect l="0" t="0" r="r" b="b"/>
              <a:pathLst>
                <a:path w="455" h="164">
                  <a:moveTo>
                    <a:pt x="0" y="35"/>
                  </a:moveTo>
                  <a:lnTo>
                    <a:pt x="115" y="26"/>
                  </a:lnTo>
                  <a:lnTo>
                    <a:pt x="57" y="5"/>
                  </a:lnTo>
                  <a:lnTo>
                    <a:pt x="198" y="0"/>
                  </a:lnTo>
                  <a:lnTo>
                    <a:pt x="232" y="26"/>
                  </a:lnTo>
                  <a:lnTo>
                    <a:pt x="348" y="35"/>
                  </a:lnTo>
                  <a:lnTo>
                    <a:pt x="348" y="87"/>
                  </a:lnTo>
                  <a:lnTo>
                    <a:pt x="421" y="77"/>
                  </a:lnTo>
                  <a:lnTo>
                    <a:pt x="455" y="101"/>
                  </a:lnTo>
                  <a:lnTo>
                    <a:pt x="329" y="113"/>
                  </a:lnTo>
                  <a:lnTo>
                    <a:pt x="305" y="164"/>
                  </a:lnTo>
                  <a:lnTo>
                    <a:pt x="173" y="164"/>
                  </a:lnTo>
                  <a:lnTo>
                    <a:pt x="101" y="113"/>
                  </a:lnTo>
                  <a:lnTo>
                    <a:pt x="247" y="101"/>
                  </a:lnTo>
                  <a:lnTo>
                    <a:pt x="67" y="10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603680" y="4627440"/>
              <a:ext cx="417960" cy="179640"/>
            </a:xfrm>
            <a:custGeom>
              <a:avLst/>
              <a:gdLst/>
              <a:ahLst/>
              <a:rect l="0" t="0" r="r" b="b"/>
              <a:pathLst>
                <a:path w="1161" h="499">
                  <a:moveTo>
                    <a:pt x="0" y="112"/>
                  </a:moveTo>
                  <a:lnTo>
                    <a:pt x="0" y="55"/>
                  </a:lnTo>
                  <a:lnTo>
                    <a:pt x="131" y="0"/>
                  </a:lnTo>
                  <a:lnTo>
                    <a:pt x="199" y="5"/>
                  </a:lnTo>
                  <a:lnTo>
                    <a:pt x="141" y="69"/>
                  </a:lnTo>
                  <a:lnTo>
                    <a:pt x="190" y="104"/>
                  </a:lnTo>
                  <a:lnTo>
                    <a:pt x="214" y="69"/>
                  </a:lnTo>
                  <a:lnTo>
                    <a:pt x="258" y="28"/>
                  </a:lnTo>
                  <a:lnTo>
                    <a:pt x="342" y="5"/>
                  </a:lnTo>
                  <a:lnTo>
                    <a:pt x="366" y="89"/>
                  </a:lnTo>
                  <a:lnTo>
                    <a:pt x="498" y="49"/>
                  </a:lnTo>
                  <a:lnTo>
                    <a:pt x="590" y="63"/>
                  </a:lnTo>
                  <a:lnTo>
                    <a:pt x="639" y="89"/>
                  </a:lnTo>
                  <a:lnTo>
                    <a:pt x="673" y="118"/>
                  </a:lnTo>
                  <a:lnTo>
                    <a:pt x="712" y="98"/>
                  </a:lnTo>
                  <a:lnTo>
                    <a:pt x="780" y="124"/>
                  </a:lnTo>
                  <a:lnTo>
                    <a:pt x="795" y="153"/>
                  </a:lnTo>
                  <a:lnTo>
                    <a:pt x="888" y="162"/>
                  </a:lnTo>
                  <a:lnTo>
                    <a:pt x="927" y="173"/>
                  </a:lnTo>
                  <a:lnTo>
                    <a:pt x="863" y="197"/>
                  </a:lnTo>
                  <a:lnTo>
                    <a:pt x="961" y="202"/>
                  </a:lnTo>
                  <a:lnTo>
                    <a:pt x="879" y="231"/>
                  </a:lnTo>
                  <a:lnTo>
                    <a:pt x="971" y="258"/>
                  </a:lnTo>
                  <a:lnTo>
                    <a:pt x="1020" y="253"/>
                  </a:lnTo>
                  <a:lnTo>
                    <a:pt x="1161" y="316"/>
                  </a:lnTo>
                  <a:lnTo>
                    <a:pt x="1078" y="351"/>
                  </a:lnTo>
                  <a:lnTo>
                    <a:pt x="1078" y="386"/>
                  </a:lnTo>
                  <a:lnTo>
                    <a:pt x="937" y="316"/>
                  </a:lnTo>
                  <a:lnTo>
                    <a:pt x="888" y="322"/>
                  </a:lnTo>
                  <a:lnTo>
                    <a:pt x="947" y="386"/>
                  </a:lnTo>
                  <a:lnTo>
                    <a:pt x="1020" y="392"/>
                  </a:lnTo>
                  <a:lnTo>
                    <a:pt x="1020" y="476"/>
                  </a:lnTo>
                  <a:lnTo>
                    <a:pt x="853" y="426"/>
                  </a:lnTo>
                  <a:lnTo>
                    <a:pt x="971" y="499"/>
                  </a:lnTo>
                  <a:lnTo>
                    <a:pt x="761" y="455"/>
                  </a:lnTo>
                  <a:lnTo>
                    <a:pt x="629" y="400"/>
                  </a:lnTo>
                  <a:lnTo>
                    <a:pt x="532" y="415"/>
                  </a:lnTo>
                  <a:lnTo>
                    <a:pt x="507" y="366"/>
                  </a:lnTo>
                  <a:lnTo>
                    <a:pt x="663" y="366"/>
                  </a:lnTo>
                  <a:lnTo>
                    <a:pt x="629" y="331"/>
                  </a:lnTo>
                  <a:lnTo>
                    <a:pt x="722" y="287"/>
                  </a:lnTo>
                  <a:lnTo>
                    <a:pt x="653" y="231"/>
                  </a:lnTo>
                  <a:lnTo>
                    <a:pt x="532" y="231"/>
                  </a:lnTo>
                  <a:lnTo>
                    <a:pt x="532" y="217"/>
                  </a:lnTo>
                  <a:lnTo>
                    <a:pt x="580" y="202"/>
                  </a:lnTo>
                  <a:lnTo>
                    <a:pt x="498" y="182"/>
                  </a:lnTo>
                  <a:lnTo>
                    <a:pt x="439" y="153"/>
                  </a:lnTo>
                  <a:lnTo>
                    <a:pt x="449" y="182"/>
                  </a:lnTo>
                  <a:lnTo>
                    <a:pt x="366" y="182"/>
                  </a:lnTo>
                  <a:lnTo>
                    <a:pt x="73" y="162"/>
                  </a:lnTo>
                  <a:lnTo>
                    <a:pt x="24" y="124"/>
                  </a:lnTo>
                  <a:lnTo>
                    <a:pt x="107" y="124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669080" y="520704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0" y="35"/>
                  </a:moveTo>
                  <a:lnTo>
                    <a:pt x="25" y="85"/>
                  </a:lnTo>
                  <a:lnTo>
                    <a:pt x="76" y="0"/>
                  </a:lnTo>
                  <a:lnTo>
                    <a:pt x="40" y="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626240" y="5504040"/>
              <a:ext cx="32040" cy="6840"/>
            </a:xfrm>
            <a:custGeom>
              <a:avLst/>
              <a:gdLst/>
              <a:ahLst/>
              <a:rect l="0" t="0" r="r" b="b"/>
              <a:pathLst>
                <a:path w="89" h="19">
                  <a:moveTo>
                    <a:pt x="0" y="8"/>
                  </a:moveTo>
                  <a:lnTo>
                    <a:pt x="9" y="19"/>
                  </a:lnTo>
                  <a:lnTo>
                    <a:pt x="89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724880" y="5504040"/>
              <a:ext cx="51120" cy="19440"/>
            </a:xfrm>
            <a:custGeom>
              <a:avLst/>
              <a:gdLst/>
              <a:ahLst/>
              <a:rect l="0" t="0" r="r" b="b"/>
              <a:pathLst>
                <a:path w="142" h="54">
                  <a:moveTo>
                    <a:pt x="0" y="32"/>
                  </a:moveTo>
                  <a:lnTo>
                    <a:pt x="0" y="54"/>
                  </a:lnTo>
                  <a:lnTo>
                    <a:pt x="142" y="0"/>
                  </a:lnTo>
                  <a:lnTo>
                    <a:pt x="34" y="1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780320" y="5413320"/>
              <a:ext cx="16200" cy="24120"/>
            </a:xfrm>
            <a:custGeom>
              <a:avLst/>
              <a:gdLst/>
              <a:ahLst/>
              <a:rect l="0" t="0" r="r" b="b"/>
              <a:pathLst>
                <a:path w="45" h="67">
                  <a:moveTo>
                    <a:pt x="0" y="19"/>
                  </a:moveTo>
                  <a:lnTo>
                    <a:pt x="0" y="53"/>
                  </a:lnTo>
                  <a:lnTo>
                    <a:pt x="35" y="67"/>
                  </a:lnTo>
                  <a:lnTo>
                    <a:pt x="9" y="39"/>
                  </a:lnTo>
                  <a:lnTo>
                    <a:pt x="45" y="34"/>
                  </a:lnTo>
                  <a:lnTo>
                    <a:pt x="35" y="13"/>
                  </a:lnTo>
                  <a:lnTo>
                    <a:pt x="0" y="27"/>
                  </a:lnTo>
                  <a:lnTo>
                    <a:pt x="2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783560" y="5452920"/>
              <a:ext cx="44640" cy="9720"/>
            </a:xfrm>
            <a:custGeom>
              <a:avLst/>
              <a:gdLst/>
              <a:ahLst/>
              <a:rect l="0" t="0" r="r" b="b"/>
              <a:pathLst>
                <a:path w="124" h="27">
                  <a:moveTo>
                    <a:pt x="0" y="11"/>
                  </a:moveTo>
                  <a:lnTo>
                    <a:pt x="78" y="0"/>
                  </a:lnTo>
                  <a:lnTo>
                    <a:pt x="124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7832880" y="5494320"/>
              <a:ext cx="8280" cy="5040"/>
            </a:xfrm>
            <a:custGeom>
              <a:avLst/>
              <a:gdLst/>
              <a:ahLst/>
              <a:rect l="0" t="0" r="r" b="b"/>
              <a:pathLst>
                <a:path w="23" h="14">
                  <a:moveTo>
                    <a:pt x="0" y="14"/>
                  </a:moveTo>
                  <a:lnTo>
                    <a:pt x="8" y="0"/>
                  </a:lnTo>
                  <a:lnTo>
                    <a:pt x="23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7812000" y="51246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1"/>
                  </a:moveTo>
                  <a:lnTo>
                    <a:pt x="9" y="45"/>
                  </a:lnTo>
                  <a:lnTo>
                    <a:pt x="25" y="21"/>
                  </a:lnTo>
                  <a:lnTo>
                    <a:pt x="35" y="30"/>
                  </a:lnTo>
                  <a:lnTo>
                    <a:pt x="25" y="72"/>
                  </a:lnTo>
                  <a:lnTo>
                    <a:pt x="69" y="72"/>
                  </a:lnTo>
                  <a:lnTo>
                    <a:pt x="94" y="30"/>
                  </a:lnTo>
                  <a:lnTo>
                    <a:pt x="84" y="8"/>
                  </a:lnTo>
                  <a:lnTo>
                    <a:pt x="35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848720" y="5122800"/>
              <a:ext cx="35280" cy="14760"/>
            </a:xfrm>
            <a:custGeom>
              <a:avLst/>
              <a:gdLst/>
              <a:ahLst/>
              <a:rect l="0" t="0" r="r" b="b"/>
              <a:pathLst>
                <a:path w="98" h="41">
                  <a:moveTo>
                    <a:pt x="0" y="20"/>
                  </a:moveTo>
                  <a:lnTo>
                    <a:pt x="35" y="41"/>
                  </a:lnTo>
                  <a:lnTo>
                    <a:pt x="87" y="26"/>
                  </a:lnTo>
                  <a:lnTo>
                    <a:pt x="9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083440" y="5467320"/>
              <a:ext cx="62280" cy="19440"/>
            </a:xfrm>
            <a:custGeom>
              <a:avLst/>
              <a:gdLst/>
              <a:ahLst/>
              <a:rect l="0" t="0" r="r" b="b"/>
              <a:pathLst>
                <a:path w="173" h="54">
                  <a:moveTo>
                    <a:pt x="0" y="32"/>
                  </a:moveTo>
                  <a:lnTo>
                    <a:pt x="103" y="54"/>
                  </a:lnTo>
                  <a:lnTo>
                    <a:pt x="173" y="16"/>
                  </a:lnTo>
                  <a:lnTo>
                    <a:pt x="150" y="0"/>
                  </a:lnTo>
                  <a:lnTo>
                    <a:pt x="126" y="1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8120160" y="5452920"/>
              <a:ext cx="33840" cy="18000"/>
            </a:xfrm>
            <a:custGeom>
              <a:avLst/>
              <a:gdLst/>
              <a:ahLst/>
              <a:rect l="0" t="0" r="r" b="b"/>
              <a:pathLst>
                <a:path w="94" h="50">
                  <a:moveTo>
                    <a:pt x="0" y="0"/>
                  </a:moveTo>
                  <a:lnTo>
                    <a:pt x="75" y="28"/>
                  </a:lnTo>
                  <a:lnTo>
                    <a:pt x="94" y="50"/>
                  </a:lnTo>
                  <a:lnTo>
                    <a:pt x="8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628040" y="533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72"/>
                  </a:moveTo>
                  <a:lnTo>
                    <a:pt x="77" y="37"/>
                  </a:lnTo>
                  <a:lnTo>
                    <a:pt x="102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7674120" y="5315040"/>
              <a:ext cx="19440" cy="9720"/>
            </a:xfrm>
            <a:custGeom>
              <a:avLst/>
              <a:gdLst/>
              <a:ahLst/>
              <a:rect l="0" t="0" r="r" b="b"/>
              <a:pathLst>
                <a:path w="54" h="27">
                  <a:moveTo>
                    <a:pt x="0" y="0"/>
                  </a:moveTo>
                  <a:lnTo>
                    <a:pt x="27" y="0"/>
                  </a:lnTo>
                  <a:lnTo>
                    <a:pt x="54" y="0"/>
                  </a:lnTo>
                  <a:lnTo>
                    <a:pt x="3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7696080" y="5329080"/>
              <a:ext cx="16200" cy="11520"/>
            </a:xfrm>
            <a:custGeom>
              <a:avLst/>
              <a:gdLst/>
              <a:ahLst/>
              <a:rect l="0" t="0" r="r" b="b"/>
              <a:pathLst>
                <a:path w="45" h="32">
                  <a:moveTo>
                    <a:pt x="0" y="0"/>
                  </a:moveTo>
                  <a:lnTo>
                    <a:pt x="8" y="32"/>
                  </a:lnTo>
                  <a:lnTo>
                    <a:pt x="4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707240" y="533880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30"/>
                  </a:moveTo>
                  <a:lnTo>
                    <a:pt x="0" y="14"/>
                  </a:lnTo>
                  <a:lnTo>
                    <a:pt x="45" y="0"/>
                  </a:lnTo>
                  <a:lnTo>
                    <a:pt x="28" y="4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595920" y="4502160"/>
              <a:ext cx="71640" cy="18000"/>
            </a:xfrm>
            <a:custGeom>
              <a:avLst/>
              <a:gdLst/>
              <a:ahLst/>
              <a:rect l="0" t="0" r="r" b="b"/>
              <a:pathLst>
                <a:path w="199" h="50">
                  <a:moveTo>
                    <a:pt x="0" y="39"/>
                  </a:moveTo>
                  <a:lnTo>
                    <a:pt x="43" y="23"/>
                  </a:lnTo>
                  <a:lnTo>
                    <a:pt x="9" y="15"/>
                  </a:lnTo>
                  <a:lnTo>
                    <a:pt x="165" y="0"/>
                  </a:lnTo>
                  <a:lnTo>
                    <a:pt x="189" y="0"/>
                  </a:lnTo>
                  <a:lnTo>
                    <a:pt x="151" y="8"/>
                  </a:lnTo>
                  <a:lnTo>
                    <a:pt x="199" y="8"/>
                  </a:lnTo>
                  <a:lnTo>
                    <a:pt x="67" y="44"/>
                  </a:lnTo>
                  <a:lnTo>
                    <a:pt x="43" y="50"/>
                  </a:lnTo>
                  <a:lnTo>
                    <a:pt x="58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829560" y="4487760"/>
              <a:ext cx="44640" cy="18000"/>
            </a:xfrm>
            <a:custGeom>
              <a:avLst/>
              <a:gdLst/>
              <a:ahLst/>
              <a:rect l="0" t="0" r="r" b="b"/>
              <a:pathLst>
                <a:path w="124" h="50">
                  <a:moveTo>
                    <a:pt x="0" y="33"/>
                  </a:moveTo>
                  <a:lnTo>
                    <a:pt x="39" y="50"/>
                  </a:lnTo>
                  <a:lnTo>
                    <a:pt x="124" y="33"/>
                  </a:lnTo>
                  <a:lnTo>
                    <a:pt x="7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246800" y="4518000"/>
              <a:ext cx="36720" cy="6840"/>
            </a:xfrm>
            <a:custGeom>
              <a:avLst/>
              <a:gdLst/>
              <a:ahLst/>
              <a:rect l="0" t="0" r="r" b="b"/>
              <a:pathLst>
                <a:path w="102" h="19">
                  <a:moveTo>
                    <a:pt x="0" y="0"/>
                  </a:moveTo>
                  <a:lnTo>
                    <a:pt x="46" y="19"/>
                  </a:lnTo>
                  <a:lnTo>
                    <a:pt x="36" y="19"/>
                  </a:lnTo>
                  <a:lnTo>
                    <a:pt x="79" y="19"/>
                  </a:lnTo>
                  <a:lnTo>
                    <a:pt x="10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7254720" y="4494240"/>
              <a:ext cx="87840" cy="24120"/>
            </a:xfrm>
            <a:custGeom>
              <a:avLst/>
              <a:gdLst/>
              <a:ahLst/>
              <a:rect l="0" t="0" r="r" b="b"/>
              <a:pathLst>
                <a:path w="244" h="67">
                  <a:moveTo>
                    <a:pt x="0" y="61"/>
                  </a:moveTo>
                  <a:lnTo>
                    <a:pt x="57" y="15"/>
                  </a:lnTo>
                  <a:lnTo>
                    <a:pt x="162" y="0"/>
                  </a:lnTo>
                  <a:lnTo>
                    <a:pt x="244" y="30"/>
                  </a:lnTo>
                  <a:lnTo>
                    <a:pt x="220" y="37"/>
                  </a:lnTo>
                  <a:lnTo>
                    <a:pt x="235" y="52"/>
                  </a:lnTo>
                  <a:lnTo>
                    <a:pt x="96" y="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7272360" y="4514760"/>
              <a:ext cx="103680" cy="28800"/>
            </a:xfrm>
            <a:custGeom>
              <a:avLst/>
              <a:gdLst/>
              <a:ahLst/>
              <a:rect l="0" t="0" r="r" b="b"/>
              <a:pathLst>
                <a:path w="288" h="80">
                  <a:moveTo>
                    <a:pt x="0" y="36"/>
                  </a:moveTo>
                  <a:lnTo>
                    <a:pt x="56" y="36"/>
                  </a:lnTo>
                  <a:lnTo>
                    <a:pt x="90" y="65"/>
                  </a:lnTo>
                  <a:lnTo>
                    <a:pt x="113" y="59"/>
                  </a:lnTo>
                  <a:lnTo>
                    <a:pt x="241" y="80"/>
                  </a:lnTo>
                  <a:lnTo>
                    <a:pt x="274" y="74"/>
                  </a:lnTo>
                  <a:lnTo>
                    <a:pt x="241" y="49"/>
                  </a:lnTo>
                  <a:lnTo>
                    <a:pt x="274" y="59"/>
                  </a:lnTo>
                  <a:lnTo>
                    <a:pt x="288" y="21"/>
                  </a:lnTo>
                  <a:lnTo>
                    <a:pt x="232" y="6"/>
                  </a:lnTo>
                  <a:lnTo>
                    <a:pt x="160" y="27"/>
                  </a:lnTo>
                  <a:lnTo>
                    <a:pt x="218" y="12"/>
                  </a:lnTo>
                  <a:lnTo>
                    <a:pt x="184" y="0"/>
                  </a:lnTo>
                  <a:lnTo>
                    <a:pt x="90" y="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367760" y="4529160"/>
              <a:ext cx="90720" cy="30600"/>
            </a:xfrm>
            <a:custGeom>
              <a:avLst/>
              <a:gdLst/>
              <a:ahLst/>
              <a:rect l="0" t="0" r="r" b="b"/>
              <a:pathLst>
                <a:path w="252" h="85">
                  <a:moveTo>
                    <a:pt x="0" y="76"/>
                  </a:moveTo>
                  <a:lnTo>
                    <a:pt x="24" y="85"/>
                  </a:lnTo>
                  <a:lnTo>
                    <a:pt x="227" y="70"/>
                  </a:lnTo>
                  <a:lnTo>
                    <a:pt x="252" y="38"/>
                  </a:lnTo>
                  <a:lnTo>
                    <a:pt x="193" y="15"/>
                  </a:lnTo>
                  <a:lnTo>
                    <a:pt x="143" y="22"/>
                  </a:lnTo>
                  <a:lnTo>
                    <a:pt x="158" y="6"/>
                  </a:lnTo>
                  <a:lnTo>
                    <a:pt x="118" y="0"/>
                  </a:lnTo>
                  <a:lnTo>
                    <a:pt x="24" y="59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7912080" y="4592520"/>
              <a:ext cx="98640" cy="27360"/>
            </a:xfrm>
            <a:custGeom>
              <a:avLst/>
              <a:gdLst/>
              <a:ahLst/>
              <a:rect l="0" t="0" r="r" b="b"/>
              <a:pathLst>
                <a:path w="274" h="76">
                  <a:moveTo>
                    <a:pt x="0" y="42"/>
                  </a:moveTo>
                  <a:lnTo>
                    <a:pt x="58" y="0"/>
                  </a:lnTo>
                  <a:lnTo>
                    <a:pt x="92" y="0"/>
                  </a:lnTo>
                  <a:lnTo>
                    <a:pt x="157" y="28"/>
                  </a:lnTo>
                  <a:lnTo>
                    <a:pt x="166" y="5"/>
                  </a:lnTo>
                  <a:lnTo>
                    <a:pt x="240" y="20"/>
                  </a:lnTo>
                  <a:lnTo>
                    <a:pt x="225" y="48"/>
                  </a:lnTo>
                  <a:lnTo>
                    <a:pt x="274" y="63"/>
                  </a:lnTo>
                  <a:lnTo>
                    <a:pt x="131" y="63"/>
                  </a:lnTo>
                  <a:lnTo>
                    <a:pt x="117" y="53"/>
                  </a:lnTo>
                  <a:lnTo>
                    <a:pt x="92" y="7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7980480" y="4592520"/>
              <a:ext cx="60840" cy="19440"/>
            </a:xfrm>
            <a:custGeom>
              <a:avLst/>
              <a:gdLst/>
              <a:ahLst/>
              <a:rect l="0" t="0" r="r" b="b"/>
              <a:pathLst>
                <a:path w="169" h="54">
                  <a:moveTo>
                    <a:pt x="0" y="0"/>
                  </a:moveTo>
                  <a:lnTo>
                    <a:pt x="60" y="20"/>
                  </a:lnTo>
                  <a:lnTo>
                    <a:pt x="50" y="34"/>
                  </a:lnTo>
                  <a:lnTo>
                    <a:pt x="69" y="54"/>
                  </a:lnTo>
                  <a:lnTo>
                    <a:pt x="119" y="54"/>
                  </a:lnTo>
                  <a:lnTo>
                    <a:pt x="169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8053560" y="4602240"/>
              <a:ext cx="66960" cy="14760"/>
            </a:xfrm>
            <a:custGeom>
              <a:avLst/>
              <a:gdLst/>
              <a:ahLst/>
              <a:rect l="0" t="0" r="r" b="b"/>
              <a:pathLst>
                <a:path w="186" h="41">
                  <a:moveTo>
                    <a:pt x="0" y="0"/>
                  </a:moveTo>
                  <a:lnTo>
                    <a:pt x="33" y="26"/>
                  </a:lnTo>
                  <a:lnTo>
                    <a:pt x="114" y="41"/>
                  </a:lnTo>
                  <a:lnTo>
                    <a:pt x="18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641760" y="52545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0" y="11"/>
                  </a:moveTo>
                  <a:lnTo>
                    <a:pt x="0" y="0"/>
                  </a:lnTo>
                  <a:lnTo>
                    <a:pt x="45" y="21"/>
                  </a:lnTo>
                  <a:lnTo>
                    <a:pt x="13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924360" y="4859280"/>
              <a:ext cx="22680" cy="8280"/>
            </a:xfrm>
            <a:custGeom>
              <a:avLst/>
              <a:gdLst/>
              <a:ahLst/>
              <a:rect l="0" t="0" r="r" b="b"/>
              <a:pathLst>
                <a:path w="63" h="23">
                  <a:moveTo>
                    <a:pt x="0" y="0"/>
                  </a:moveTo>
                  <a:lnTo>
                    <a:pt x="26" y="23"/>
                  </a:lnTo>
                  <a:lnTo>
                    <a:pt x="26" y="14"/>
                  </a:lnTo>
                  <a:lnTo>
                    <a:pt x="63" y="23"/>
                  </a:lnTo>
                  <a:lnTo>
                    <a:pt x="26" y="14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932280" y="4867200"/>
              <a:ext cx="14760" cy="14760"/>
            </a:xfrm>
            <a:custGeom>
              <a:avLst/>
              <a:gdLst/>
              <a:ahLst/>
              <a:rect l="0" t="0" r="r" b="b"/>
              <a:pathLst>
                <a:path w="41" h="41">
                  <a:moveTo>
                    <a:pt x="0" y="0"/>
                  </a:moveTo>
                  <a:lnTo>
                    <a:pt x="41" y="5"/>
                  </a:lnTo>
                  <a:lnTo>
                    <a:pt x="4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946680" y="4859280"/>
              <a:ext cx="16200" cy="9720"/>
            </a:xfrm>
            <a:custGeom>
              <a:avLst/>
              <a:gdLst/>
              <a:ahLst/>
              <a:rect l="0" t="0" r="r" b="b"/>
              <a:pathLst>
                <a:path w="45" h="27">
                  <a:moveTo>
                    <a:pt x="0" y="0"/>
                  </a:moveTo>
                  <a:lnTo>
                    <a:pt x="13" y="27"/>
                  </a:lnTo>
                  <a:lnTo>
                    <a:pt x="36" y="27"/>
                  </a:lnTo>
                  <a:lnTo>
                    <a:pt x="23" y="0"/>
                  </a:lnTo>
                  <a:lnTo>
                    <a:pt x="45" y="22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59280" y="48704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0"/>
                  </a:moveTo>
                  <a:lnTo>
                    <a:pt x="36" y="23"/>
                  </a:lnTo>
                  <a:lnTo>
                    <a:pt x="3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962520" y="4881600"/>
              <a:ext cx="24120" cy="16200"/>
            </a:xfrm>
            <a:custGeom>
              <a:avLst/>
              <a:gdLst/>
              <a:ahLst/>
              <a:rect l="0" t="0" r="r" b="b"/>
              <a:pathLst>
                <a:path w="67" h="45">
                  <a:moveTo>
                    <a:pt x="0" y="0"/>
                  </a:moveTo>
                  <a:lnTo>
                    <a:pt x="56" y="14"/>
                  </a:lnTo>
                  <a:lnTo>
                    <a:pt x="67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994200" y="4888080"/>
              <a:ext cx="12960" cy="6840"/>
            </a:xfrm>
            <a:custGeom>
              <a:avLst/>
              <a:gdLst/>
              <a:ahLst/>
              <a:rect l="0" t="0" r="r" b="b"/>
              <a:pathLst>
                <a:path w="36" h="19">
                  <a:moveTo>
                    <a:pt x="0" y="13"/>
                  </a:moveTo>
                  <a:lnTo>
                    <a:pt x="26" y="0"/>
                  </a:lnTo>
                  <a:lnTo>
                    <a:pt x="36" y="1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8663040" y="4786200"/>
              <a:ext cx="43200" cy="9720"/>
            </a:xfrm>
            <a:custGeom>
              <a:avLst/>
              <a:gdLst/>
              <a:ahLst/>
              <a:rect l="0" t="0" r="r" b="b"/>
              <a:pathLst>
                <a:path w="120" h="27">
                  <a:moveTo>
                    <a:pt x="0" y="7"/>
                  </a:moveTo>
                  <a:lnTo>
                    <a:pt x="75" y="0"/>
                  </a:lnTo>
                  <a:lnTo>
                    <a:pt x="120" y="14"/>
                  </a:lnTo>
                  <a:lnTo>
                    <a:pt x="100" y="2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2" name=""/>
          <p:cNvSpPr/>
          <p:nvPr/>
        </p:nvSpPr>
        <p:spPr>
          <a:xfrm flipH="1">
            <a:off x="2009880" y="1695600"/>
            <a:ext cx="2771640" cy="761760"/>
          </a:xfrm>
          <a:prstGeom prst="line">
            <a:avLst/>
          </a:prstGeom>
          <a:ln w="38160">
            <a:solidFill>
              <a:srgbClr val="000000"/>
            </a:solidFill>
            <a:custDash>
              <a:ds d="66981" sp="66981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3" name="" descr=""/>
          <p:cNvPicPr/>
          <p:nvPr/>
        </p:nvPicPr>
        <p:blipFill>
          <a:blip r:embed="rId1"/>
          <a:stretch/>
        </p:blipFill>
        <p:spPr>
          <a:xfrm>
            <a:off x="5584680" y="2927520"/>
            <a:ext cx="657360" cy="461880"/>
          </a:xfrm>
          <a:prstGeom prst="rect">
            <a:avLst/>
          </a:prstGeom>
          <a:ln w="0">
            <a:noFill/>
          </a:ln>
        </p:spPr>
      </p:pic>
      <p:sp>
        <p:nvSpPr>
          <p:cNvPr id="4174" name=""/>
          <p:cNvSpPr/>
          <p:nvPr/>
        </p:nvSpPr>
        <p:spPr>
          <a:xfrm>
            <a:off x="6016680" y="3262320"/>
            <a:ext cx="1864080" cy="1418040"/>
          </a:xfrm>
          <a:custGeom>
            <a:avLst/>
            <a:gdLst/>
            <a:ahLst/>
            <a:rect l="0" t="0" r="r" b="b"/>
            <a:pathLst>
              <a:path w="5178" h="3939">
                <a:moveTo>
                  <a:pt x="2956" y="3939"/>
                </a:moveTo>
                <a:lnTo>
                  <a:pt x="0" y="0"/>
                </a:lnTo>
                <a:lnTo>
                  <a:pt x="5178" y="3674"/>
                </a:lnTo>
                <a:lnTo>
                  <a:pt x="2956" y="393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7070760" y="4483080"/>
            <a:ext cx="843120" cy="31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 txBox="1"/>
          <p:nvPr/>
        </p:nvSpPr>
        <p:spPr>
          <a:xfrm>
            <a:off x="901800" y="1297080"/>
            <a:ext cx="1343160" cy="5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3305160" y="4976640"/>
            <a:ext cx="616320" cy="1090800"/>
          </a:xfrm>
          <a:custGeom>
            <a:avLst/>
            <a:gdLst/>
            <a:ahLst/>
            <a:rect l="0" t="0" r="r" b="b"/>
            <a:pathLst>
              <a:path w="1712" h="3030">
                <a:moveTo>
                  <a:pt x="0" y="3030"/>
                </a:moveTo>
                <a:lnTo>
                  <a:pt x="91" y="2954"/>
                </a:lnTo>
                <a:lnTo>
                  <a:pt x="122" y="2879"/>
                </a:lnTo>
                <a:lnTo>
                  <a:pt x="183" y="2803"/>
                </a:lnTo>
                <a:lnTo>
                  <a:pt x="244" y="2702"/>
                </a:lnTo>
                <a:lnTo>
                  <a:pt x="336" y="2626"/>
                </a:lnTo>
                <a:lnTo>
                  <a:pt x="427" y="2626"/>
                </a:lnTo>
                <a:lnTo>
                  <a:pt x="520" y="2626"/>
                </a:lnTo>
                <a:lnTo>
                  <a:pt x="642" y="2626"/>
                </a:lnTo>
                <a:lnTo>
                  <a:pt x="764" y="2626"/>
                </a:lnTo>
                <a:lnTo>
                  <a:pt x="917" y="2576"/>
                </a:lnTo>
                <a:lnTo>
                  <a:pt x="1039" y="2550"/>
                </a:lnTo>
                <a:lnTo>
                  <a:pt x="1131" y="2475"/>
                </a:lnTo>
                <a:lnTo>
                  <a:pt x="1223" y="2424"/>
                </a:lnTo>
                <a:lnTo>
                  <a:pt x="1315" y="2348"/>
                </a:lnTo>
                <a:lnTo>
                  <a:pt x="1468" y="2247"/>
                </a:lnTo>
                <a:lnTo>
                  <a:pt x="1529" y="2172"/>
                </a:lnTo>
                <a:lnTo>
                  <a:pt x="1590" y="2096"/>
                </a:lnTo>
                <a:lnTo>
                  <a:pt x="1621" y="2020"/>
                </a:lnTo>
                <a:lnTo>
                  <a:pt x="1651" y="1919"/>
                </a:lnTo>
                <a:lnTo>
                  <a:pt x="1651" y="1843"/>
                </a:lnTo>
                <a:lnTo>
                  <a:pt x="1651" y="1768"/>
                </a:lnTo>
                <a:lnTo>
                  <a:pt x="1621" y="1692"/>
                </a:lnTo>
                <a:lnTo>
                  <a:pt x="1560" y="1616"/>
                </a:lnTo>
                <a:lnTo>
                  <a:pt x="1499" y="1514"/>
                </a:lnTo>
                <a:lnTo>
                  <a:pt x="1437" y="1439"/>
                </a:lnTo>
                <a:lnTo>
                  <a:pt x="1376" y="1338"/>
                </a:lnTo>
                <a:lnTo>
                  <a:pt x="1285" y="1312"/>
                </a:lnTo>
                <a:lnTo>
                  <a:pt x="1223" y="1237"/>
                </a:lnTo>
                <a:lnTo>
                  <a:pt x="1131" y="1211"/>
                </a:lnTo>
                <a:lnTo>
                  <a:pt x="1070" y="1110"/>
                </a:lnTo>
                <a:lnTo>
                  <a:pt x="1009" y="1009"/>
                </a:lnTo>
                <a:lnTo>
                  <a:pt x="1009" y="934"/>
                </a:lnTo>
                <a:lnTo>
                  <a:pt x="1009" y="858"/>
                </a:lnTo>
                <a:lnTo>
                  <a:pt x="1009" y="782"/>
                </a:lnTo>
                <a:lnTo>
                  <a:pt x="1100" y="706"/>
                </a:lnTo>
                <a:lnTo>
                  <a:pt x="1192" y="656"/>
                </a:lnTo>
                <a:lnTo>
                  <a:pt x="1285" y="605"/>
                </a:lnTo>
                <a:lnTo>
                  <a:pt x="1376" y="530"/>
                </a:lnTo>
                <a:lnTo>
                  <a:pt x="1468" y="454"/>
                </a:lnTo>
                <a:lnTo>
                  <a:pt x="1529" y="378"/>
                </a:lnTo>
                <a:lnTo>
                  <a:pt x="1621" y="302"/>
                </a:lnTo>
                <a:lnTo>
                  <a:pt x="1651" y="227"/>
                </a:lnTo>
                <a:lnTo>
                  <a:pt x="1682" y="151"/>
                </a:lnTo>
                <a:lnTo>
                  <a:pt x="1682" y="75"/>
                </a:lnTo>
                <a:lnTo>
                  <a:pt x="1682" y="0"/>
                </a:lnTo>
                <a:lnTo>
                  <a:pt x="1560" y="378"/>
                </a:lnTo>
                <a:lnTo>
                  <a:pt x="1712" y="75"/>
                </a:lnTo>
                <a:lnTo>
                  <a:pt x="0" y="303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8" name=""/>
          <p:cNvGrpSpPr/>
          <p:nvPr/>
        </p:nvGrpSpPr>
        <p:grpSpPr>
          <a:xfrm>
            <a:off x="7327800" y="1800000"/>
            <a:ext cx="1040040" cy="2899440"/>
            <a:chOff x="7327800" y="1800000"/>
            <a:chExt cx="1040040" cy="2899440"/>
          </a:xfrm>
        </p:grpSpPr>
        <p:sp>
          <p:nvSpPr>
            <p:cNvPr id="4179" name=""/>
            <p:cNvSpPr/>
            <p:nvPr/>
          </p:nvSpPr>
          <p:spPr>
            <a:xfrm>
              <a:off x="7335720" y="2055960"/>
              <a:ext cx="1032120" cy="2643480"/>
            </a:xfrm>
            <a:custGeom>
              <a:avLst/>
              <a:gdLst/>
              <a:ahLst/>
              <a:rect l="0" t="0" r="r" b="b"/>
              <a:pathLst>
                <a:path w="2867" h="7343">
                  <a:moveTo>
                    <a:pt x="0" y="31"/>
                  </a:moveTo>
                  <a:lnTo>
                    <a:pt x="1834" y="7343"/>
                  </a:lnTo>
                  <a:lnTo>
                    <a:pt x="2867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7327800" y="1800000"/>
              <a:ext cx="1031760" cy="401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"/>
          <p:cNvGrpSpPr/>
          <p:nvPr/>
        </p:nvGrpSpPr>
        <p:grpSpPr>
          <a:xfrm>
            <a:off x="7529400" y="1763640"/>
            <a:ext cx="994320" cy="324360"/>
            <a:chOff x="7529400" y="1763640"/>
            <a:chExt cx="994320" cy="324360"/>
          </a:xfrm>
        </p:grpSpPr>
        <p:sp>
          <p:nvSpPr>
            <p:cNvPr id="4182" name=""/>
            <p:cNvSpPr/>
            <p:nvPr/>
          </p:nvSpPr>
          <p:spPr>
            <a:xfrm>
              <a:off x="7529400" y="1909800"/>
              <a:ext cx="479880" cy="127440"/>
            </a:xfrm>
            <a:custGeom>
              <a:avLst/>
              <a:gdLst/>
              <a:ahLst/>
              <a:rect l="0" t="0" r="r" b="b"/>
              <a:pathLst>
                <a:path w="1333" h="354">
                  <a:moveTo>
                    <a:pt x="909" y="43"/>
                  </a:moveTo>
                  <a:lnTo>
                    <a:pt x="944" y="35"/>
                  </a:lnTo>
                  <a:lnTo>
                    <a:pt x="984" y="43"/>
                  </a:lnTo>
                  <a:lnTo>
                    <a:pt x="1020" y="23"/>
                  </a:lnTo>
                  <a:lnTo>
                    <a:pt x="1024" y="15"/>
                  </a:lnTo>
                  <a:lnTo>
                    <a:pt x="1075" y="0"/>
                  </a:lnTo>
                  <a:lnTo>
                    <a:pt x="1161" y="35"/>
                  </a:lnTo>
                  <a:lnTo>
                    <a:pt x="1251" y="27"/>
                  </a:lnTo>
                  <a:lnTo>
                    <a:pt x="1259" y="3"/>
                  </a:lnTo>
                  <a:lnTo>
                    <a:pt x="1333" y="35"/>
                  </a:lnTo>
                  <a:lnTo>
                    <a:pt x="141" y="354"/>
                  </a:lnTo>
                  <a:lnTo>
                    <a:pt x="0" y="295"/>
                  </a:lnTo>
                  <a:lnTo>
                    <a:pt x="878" y="51"/>
                  </a:lnTo>
                  <a:lnTo>
                    <a:pt x="909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7964640" y="1833480"/>
              <a:ext cx="179640" cy="95760"/>
            </a:xfrm>
            <a:custGeom>
              <a:avLst/>
              <a:gdLst/>
              <a:ahLst/>
              <a:rect l="0" t="0" r="r" b="b"/>
              <a:pathLst>
                <a:path w="499" h="266">
                  <a:moveTo>
                    <a:pt x="499" y="156"/>
                  </a:moveTo>
                  <a:lnTo>
                    <a:pt x="27" y="0"/>
                  </a:lnTo>
                  <a:lnTo>
                    <a:pt x="0" y="109"/>
                  </a:lnTo>
                  <a:lnTo>
                    <a:pt x="475" y="266"/>
                  </a:lnTo>
                  <a:lnTo>
                    <a:pt x="499" y="1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937640" y="1833480"/>
              <a:ext cx="36720" cy="39960"/>
            </a:xfrm>
            <a:custGeom>
              <a:avLst/>
              <a:gdLst/>
              <a:ahLst/>
              <a:rect l="0" t="0" r="r" b="b"/>
              <a:pathLst>
                <a:path w="102" h="111">
                  <a:moveTo>
                    <a:pt x="102" y="0"/>
                  </a:moveTo>
                  <a:lnTo>
                    <a:pt x="15" y="3"/>
                  </a:lnTo>
                  <a:lnTo>
                    <a:pt x="0" y="83"/>
                  </a:lnTo>
                  <a:lnTo>
                    <a:pt x="75" y="1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7985160" y="1892160"/>
              <a:ext cx="8568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7954920" y="1900080"/>
              <a:ext cx="54360" cy="18000"/>
            </a:xfrm>
            <a:custGeom>
              <a:avLst/>
              <a:gdLst/>
              <a:ahLst/>
              <a:rect l="0" t="0" r="r" b="b"/>
              <a:pathLst>
                <a:path w="151" h="50">
                  <a:moveTo>
                    <a:pt x="151" y="50"/>
                  </a:moveTo>
                  <a:lnTo>
                    <a:pt x="151" y="0"/>
                  </a:lnTo>
                  <a:lnTo>
                    <a:pt x="0" y="0"/>
                  </a:lnTo>
                  <a:lnTo>
                    <a:pt x="151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8091360" y="1919160"/>
              <a:ext cx="179640" cy="97200"/>
            </a:xfrm>
            <a:custGeom>
              <a:avLst/>
              <a:gdLst/>
              <a:ahLst/>
              <a:rect l="0" t="0" r="r" b="b"/>
              <a:pathLst>
                <a:path w="499" h="270">
                  <a:moveTo>
                    <a:pt x="499" y="155"/>
                  </a:moveTo>
                  <a:lnTo>
                    <a:pt x="27" y="0"/>
                  </a:lnTo>
                  <a:lnTo>
                    <a:pt x="0" y="119"/>
                  </a:lnTo>
                  <a:lnTo>
                    <a:pt x="475" y="270"/>
                  </a:lnTo>
                  <a:lnTo>
                    <a:pt x="499" y="1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8064360" y="1919160"/>
              <a:ext cx="36720" cy="43200"/>
            </a:xfrm>
            <a:custGeom>
              <a:avLst/>
              <a:gdLst/>
              <a:ahLst/>
              <a:rect l="0" t="0" r="r" b="b"/>
              <a:pathLst>
                <a:path w="102" h="120">
                  <a:moveTo>
                    <a:pt x="102" y="0"/>
                  </a:moveTo>
                  <a:lnTo>
                    <a:pt x="15" y="3"/>
                  </a:lnTo>
                  <a:lnTo>
                    <a:pt x="0" y="120"/>
                  </a:lnTo>
                  <a:lnTo>
                    <a:pt x="76" y="12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8064360" y="1962000"/>
              <a:ext cx="198720" cy="55800"/>
            </a:xfrm>
            <a:custGeom>
              <a:avLst/>
              <a:gdLst/>
              <a:ahLst/>
              <a:rect l="0" t="0" r="r" b="b"/>
              <a:pathLst>
                <a:path w="552" h="155">
                  <a:moveTo>
                    <a:pt x="0" y="0"/>
                  </a:moveTo>
                  <a:lnTo>
                    <a:pt x="466" y="155"/>
                  </a:lnTo>
                  <a:lnTo>
                    <a:pt x="552" y="1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8039160" y="1763640"/>
              <a:ext cx="484560" cy="133560"/>
            </a:xfrm>
            <a:custGeom>
              <a:avLst/>
              <a:gdLst/>
              <a:ahLst/>
              <a:rect l="0" t="0" r="r" b="b"/>
              <a:pathLst>
                <a:path w="1346" h="371">
                  <a:moveTo>
                    <a:pt x="156" y="371"/>
                  </a:moveTo>
                  <a:lnTo>
                    <a:pt x="0" y="312"/>
                  </a:lnTo>
                  <a:lnTo>
                    <a:pt x="1190" y="0"/>
                  </a:lnTo>
                  <a:lnTo>
                    <a:pt x="1346" y="54"/>
                  </a:lnTo>
                  <a:lnTo>
                    <a:pt x="156" y="3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8043840" y="1874880"/>
              <a:ext cx="51120" cy="22680"/>
            </a:xfrm>
            <a:custGeom>
              <a:avLst/>
              <a:gdLst/>
              <a:ahLst/>
              <a:rect l="0" t="0" r="r" b="b"/>
              <a:pathLst>
                <a:path w="142" h="63">
                  <a:moveTo>
                    <a:pt x="0" y="0"/>
                  </a:moveTo>
                  <a:lnTo>
                    <a:pt x="0" y="63"/>
                  </a:lnTo>
                  <a:lnTo>
                    <a:pt x="142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7769160" y="1868400"/>
              <a:ext cx="43200" cy="63720"/>
            </a:xfrm>
            <a:custGeom>
              <a:avLst/>
              <a:gdLst/>
              <a:ahLst/>
              <a:rect l="0" t="0" r="r" b="b"/>
              <a:pathLst>
                <a:path w="120" h="177">
                  <a:moveTo>
                    <a:pt x="111" y="70"/>
                  </a:moveTo>
                  <a:lnTo>
                    <a:pt x="103" y="50"/>
                  </a:lnTo>
                  <a:lnTo>
                    <a:pt x="87" y="23"/>
                  </a:lnTo>
                  <a:lnTo>
                    <a:pt x="70" y="11"/>
                  </a:lnTo>
                  <a:lnTo>
                    <a:pt x="62" y="7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24" y="7"/>
                  </a:lnTo>
                  <a:lnTo>
                    <a:pt x="12" y="11"/>
                  </a:lnTo>
                  <a:lnTo>
                    <a:pt x="4" y="23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4" y="86"/>
                  </a:lnTo>
                  <a:lnTo>
                    <a:pt x="12" y="110"/>
                  </a:lnTo>
                  <a:lnTo>
                    <a:pt x="24" y="130"/>
                  </a:lnTo>
                  <a:lnTo>
                    <a:pt x="32" y="153"/>
                  </a:lnTo>
                  <a:lnTo>
                    <a:pt x="49" y="161"/>
                  </a:lnTo>
                  <a:lnTo>
                    <a:pt x="62" y="169"/>
                  </a:lnTo>
                  <a:lnTo>
                    <a:pt x="83" y="177"/>
                  </a:lnTo>
                  <a:lnTo>
                    <a:pt x="87" y="177"/>
                  </a:lnTo>
                  <a:lnTo>
                    <a:pt x="103" y="169"/>
                  </a:lnTo>
                  <a:lnTo>
                    <a:pt x="111" y="161"/>
                  </a:lnTo>
                  <a:lnTo>
                    <a:pt x="115" y="146"/>
                  </a:lnTo>
                  <a:lnTo>
                    <a:pt x="120" y="130"/>
                  </a:lnTo>
                  <a:lnTo>
                    <a:pt x="120" y="110"/>
                  </a:lnTo>
                  <a:lnTo>
                    <a:pt x="115" y="86"/>
                  </a:lnTo>
                  <a:lnTo>
                    <a:pt x="111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785000" y="1871640"/>
              <a:ext cx="12960" cy="57600"/>
            </a:xfrm>
            <a:custGeom>
              <a:avLst/>
              <a:gdLst/>
              <a:ahLst/>
              <a:rect l="0" t="0" r="r" b="b"/>
              <a:pathLst>
                <a:path w="36" h="160">
                  <a:moveTo>
                    <a:pt x="0" y="0"/>
                  </a:moveTo>
                  <a:lnTo>
                    <a:pt x="0" y="90"/>
                  </a:lnTo>
                  <a:lnTo>
                    <a:pt x="36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V="1">
              <a:off x="7785000" y="1897200"/>
              <a:ext cx="2556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7775640" y="19051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778880" y="1868400"/>
              <a:ext cx="39960" cy="60840"/>
            </a:xfrm>
            <a:custGeom>
              <a:avLst/>
              <a:gdLst/>
              <a:ahLst/>
              <a:rect l="0" t="0" r="r" b="b"/>
              <a:pathLst>
                <a:path w="111" h="169">
                  <a:moveTo>
                    <a:pt x="0" y="0"/>
                  </a:moveTo>
                  <a:lnTo>
                    <a:pt x="74" y="19"/>
                  </a:lnTo>
                  <a:lnTo>
                    <a:pt x="111" y="98"/>
                  </a:lnTo>
                  <a:lnTo>
                    <a:pt x="7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8211960" y="2025720"/>
              <a:ext cx="47880" cy="62280"/>
            </a:xfrm>
            <a:custGeom>
              <a:avLst/>
              <a:gdLst/>
              <a:ahLst/>
              <a:rect l="0" t="0" r="r" b="b"/>
              <a:pathLst>
                <a:path w="133" h="173">
                  <a:moveTo>
                    <a:pt x="120" y="106"/>
                  </a:moveTo>
                  <a:lnTo>
                    <a:pt x="125" y="94"/>
                  </a:lnTo>
                  <a:lnTo>
                    <a:pt x="133" y="71"/>
                  </a:lnTo>
                  <a:lnTo>
                    <a:pt x="133" y="51"/>
                  </a:lnTo>
                  <a:lnTo>
                    <a:pt x="133" y="31"/>
                  </a:lnTo>
                  <a:lnTo>
                    <a:pt x="120" y="19"/>
                  </a:lnTo>
                  <a:lnTo>
                    <a:pt x="120" y="3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71" y="0"/>
                  </a:lnTo>
                  <a:lnTo>
                    <a:pt x="53" y="7"/>
                  </a:lnTo>
                  <a:lnTo>
                    <a:pt x="41" y="19"/>
                  </a:lnTo>
                  <a:lnTo>
                    <a:pt x="20" y="39"/>
                  </a:lnTo>
                  <a:lnTo>
                    <a:pt x="16" y="59"/>
                  </a:lnTo>
                  <a:lnTo>
                    <a:pt x="8" y="75"/>
                  </a:lnTo>
                  <a:lnTo>
                    <a:pt x="0" y="98"/>
                  </a:lnTo>
                  <a:lnTo>
                    <a:pt x="0" y="118"/>
                  </a:lnTo>
                  <a:lnTo>
                    <a:pt x="0" y="138"/>
                  </a:lnTo>
                  <a:lnTo>
                    <a:pt x="12" y="154"/>
                  </a:lnTo>
                  <a:lnTo>
                    <a:pt x="20" y="166"/>
                  </a:lnTo>
                  <a:lnTo>
                    <a:pt x="24" y="170"/>
                  </a:lnTo>
                  <a:lnTo>
                    <a:pt x="45" y="173"/>
                  </a:lnTo>
                  <a:lnTo>
                    <a:pt x="57" y="170"/>
                  </a:lnTo>
                  <a:lnTo>
                    <a:pt x="79" y="158"/>
                  </a:lnTo>
                  <a:lnTo>
                    <a:pt x="100" y="146"/>
                  </a:lnTo>
                  <a:lnTo>
                    <a:pt x="104" y="129"/>
                  </a:lnTo>
                  <a:lnTo>
                    <a:pt x="120" y="10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 flipH="1" flipV="1">
              <a:off x="7812000" y="186372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 flipV="1">
              <a:off x="7812000" y="1874880"/>
              <a:ext cx="2880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8237520" y="2006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H="1" flipV="1">
              <a:off x="8220240" y="2016000"/>
              <a:ext cx="1728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 flipV="1">
              <a:off x="8237520" y="2016000"/>
              <a:ext cx="2232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7950240" y="1852560"/>
              <a:ext cx="51120" cy="20880"/>
            </a:xfrm>
            <a:custGeom>
              <a:avLst/>
              <a:gdLst/>
              <a:ahLst/>
              <a:rect l="0" t="0" r="r" b="b"/>
              <a:pathLst>
                <a:path w="142" h="58">
                  <a:moveTo>
                    <a:pt x="142" y="54"/>
                  </a:moveTo>
                  <a:lnTo>
                    <a:pt x="142" y="46"/>
                  </a:lnTo>
                  <a:lnTo>
                    <a:pt x="130" y="31"/>
                  </a:lnTo>
                  <a:lnTo>
                    <a:pt x="118" y="26"/>
                  </a:lnTo>
                  <a:lnTo>
                    <a:pt x="106" y="19"/>
                  </a:lnTo>
                  <a:lnTo>
                    <a:pt x="95" y="11"/>
                  </a:lnTo>
                  <a:lnTo>
                    <a:pt x="70" y="7"/>
                  </a:lnTo>
                  <a:lnTo>
                    <a:pt x="50" y="7"/>
                  </a:lnTo>
                  <a:lnTo>
                    <a:pt x="39" y="0"/>
                  </a:lnTo>
                  <a:lnTo>
                    <a:pt x="19" y="7"/>
                  </a:lnTo>
                  <a:lnTo>
                    <a:pt x="11" y="7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11" y="31"/>
                  </a:lnTo>
                  <a:lnTo>
                    <a:pt x="19" y="46"/>
                  </a:lnTo>
                  <a:lnTo>
                    <a:pt x="39" y="54"/>
                  </a:lnTo>
                  <a:lnTo>
                    <a:pt x="50" y="54"/>
                  </a:lnTo>
                  <a:lnTo>
                    <a:pt x="75" y="58"/>
                  </a:lnTo>
                  <a:lnTo>
                    <a:pt x="95" y="58"/>
                  </a:lnTo>
                  <a:lnTo>
                    <a:pt x="110" y="58"/>
                  </a:lnTo>
                  <a:lnTo>
                    <a:pt x="126" y="58"/>
                  </a:lnTo>
                  <a:lnTo>
                    <a:pt x="130" y="54"/>
                  </a:lnTo>
                  <a:lnTo>
                    <a:pt x="142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7950240" y="184320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142" y="80"/>
                  </a:moveTo>
                  <a:lnTo>
                    <a:pt x="142" y="57"/>
                  </a:lnTo>
                  <a:lnTo>
                    <a:pt x="130" y="37"/>
                  </a:lnTo>
                  <a:lnTo>
                    <a:pt x="118" y="26"/>
                  </a:lnTo>
                  <a:lnTo>
                    <a:pt x="106" y="15"/>
                  </a:lnTo>
                  <a:lnTo>
                    <a:pt x="87" y="3"/>
                  </a:lnTo>
                  <a:lnTo>
                    <a:pt x="70" y="0"/>
                  </a:lnTo>
                  <a:lnTo>
                    <a:pt x="50" y="3"/>
                  </a:lnTo>
                  <a:lnTo>
                    <a:pt x="35" y="15"/>
                  </a:lnTo>
                  <a:lnTo>
                    <a:pt x="19" y="22"/>
                  </a:lnTo>
                  <a:lnTo>
                    <a:pt x="0" y="37"/>
                  </a:lnTo>
                  <a:lnTo>
                    <a:pt x="142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943760" y="1855800"/>
              <a:ext cx="33840" cy="117720"/>
            </a:xfrm>
            <a:custGeom>
              <a:avLst/>
              <a:gdLst/>
              <a:ahLst/>
              <a:rect l="0" t="0" r="r" b="b"/>
              <a:pathLst>
                <a:path w="94" h="327">
                  <a:moveTo>
                    <a:pt x="0" y="319"/>
                  </a:moveTo>
                  <a:lnTo>
                    <a:pt x="71" y="0"/>
                  </a:lnTo>
                  <a:lnTo>
                    <a:pt x="94" y="11"/>
                  </a:lnTo>
                  <a:lnTo>
                    <a:pt x="19" y="327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7954920" y="185580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102" y="23"/>
                  </a:moveTo>
                  <a:lnTo>
                    <a:pt x="90" y="18"/>
                  </a:lnTo>
                  <a:lnTo>
                    <a:pt x="75" y="8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19" y="0"/>
                  </a:lnTo>
                  <a:lnTo>
                    <a:pt x="3" y="8"/>
                  </a:lnTo>
                  <a:lnTo>
                    <a:pt x="0" y="14"/>
                  </a:lnTo>
                  <a:lnTo>
                    <a:pt x="102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7954920" y="1860480"/>
              <a:ext cx="36720" cy="14760"/>
            </a:xfrm>
            <a:custGeom>
              <a:avLst/>
              <a:gdLst/>
              <a:ahLst/>
              <a:rect l="0" t="0" r="r" b="b"/>
              <a:pathLst>
                <a:path w="102" h="41">
                  <a:moveTo>
                    <a:pt x="0" y="0"/>
                  </a:moveTo>
                  <a:lnTo>
                    <a:pt x="4" y="7"/>
                  </a:lnTo>
                  <a:lnTo>
                    <a:pt x="20" y="22"/>
                  </a:lnTo>
                  <a:lnTo>
                    <a:pt x="36" y="29"/>
                  </a:lnTo>
                  <a:lnTo>
                    <a:pt x="53" y="29"/>
                  </a:lnTo>
                  <a:lnTo>
                    <a:pt x="74" y="34"/>
                  </a:lnTo>
                  <a:lnTo>
                    <a:pt x="94" y="41"/>
                  </a:lnTo>
                  <a:lnTo>
                    <a:pt x="102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950240" y="1868400"/>
              <a:ext cx="41760" cy="5040"/>
            </a:xfrm>
            <a:custGeom>
              <a:avLst/>
              <a:gdLst/>
              <a:ahLst/>
              <a:rect l="0" t="0" r="r" b="b"/>
              <a:pathLst>
                <a:path w="116" h="14">
                  <a:moveTo>
                    <a:pt x="116" y="14"/>
                  </a:moveTo>
                  <a:lnTo>
                    <a:pt x="100" y="9"/>
                  </a:lnTo>
                  <a:lnTo>
                    <a:pt x="78" y="9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11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7950240" y="1871640"/>
              <a:ext cx="36720" cy="16200"/>
            </a:xfrm>
            <a:custGeom>
              <a:avLst/>
              <a:gdLst/>
              <a:ahLst/>
              <a:rect l="0" t="0" r="r" b="b"/>
              <a:pathLst>
                <a:path w="102" h="45">
                  <a:moveTo>
                    <a:pt x="0" y="0"/>
                  </a:moveTo>
                  <a:lnTo>
                    <a:pt x="11" y="4"/>
                  </a:lnTo>
                  <a:lnTo>
                    <a:pt x="19" y="16"/>
                  </a:lnTo>
                  <a:lnTo>
                    <a:pt x="39" y="33"/>
                  </a:lnTo>
                  <a:lnTo>
                    <a:pt x="50" y="37"/>
                  </a:lnTo>
                  <a:lnTo>
                    <a:pt x="75" y="45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7948440" y="1878120"/>
              <a:ext cx="38520" cy="9720"/>
            </a:xfrm>
            <a:custGeom>
              <a:avLst/>
              <a:gdLst/>
              <a:ahLst/>
              <a:rect l="0" t="0" r="r" b="b"/>
              <a:pathLst>
                <a:path w="107" h="27">
                  <a:moveTo>
                    <a:pt x="107" y="27"/>
                  </a:moveTo>
                  <a:lnTo>
                    <a:pt x="92" y="19"/>
                  </a:lnTo>
                  <a:lnTo>
                    <a:pt x="71" y="11"/>
                  </a:lnTo>
                  <a:lnTo>
                    <a:pt x="55" y="0"/>
                  </a:lnTo>
                  <a:lnTo>
                    <a:pt x="36" y="0"/>
                  </a:lnTo>
                  <a:lnTo>
                    <a:pt x="19" y="0"/>
                  </a:lnTo>
                  <a:lnTo>
                    <a:pt x="3" y="7"/>
                  </a:lnTo>
                  <a:lnTo>
                    <a:pt x="0" y="16"/>
                  </a:lnTo>
                  <a:lnTo>
                    <a:pt x="107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7948440" y="1882800"/>
              <a:ext cx="36720" cy="14760"/>
            </a:xfrm>
            <a:custGeom>
              <a:avLst/>
              <a:gdLst/>
              <a:ahLst/>
              <a:rect l="0" t="0" r="r" b="b"/>
              <a:pathLst>
                <a:path w="102" h="41">
                  <a:moveTo>
                    <a:pt x="0" y="0"/>
                  </a:moveTo>
                  <a:lnTo>
                    <a:pt x="4" y="12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3" y="41"/>
                  </a:lnTo>
                  <a:lnTo>
                    <a:pt x="74" y="41"/>
                  </a:lnTo>
                  <a:lnTo>
                    <a:pt x="94" y="41"/>
                  </a:lnTo>
                  <a:lnTo>
                    <a:pt x="102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7947000" y="1889280"/>
              <a:ext cx="38520" cy="8280"/>
            </a:xfrm>
            <a:custGeom>
              <a:avLst/>
              <a:gdLst/>
              <a:ahLst/>
              <a:rect l="0" t="0" r="r" b="b"/>
              <a:pathLst>
                <a:path w="107" h="23">
                  <a:moveTo>
                    <a:pt x="107" y="23"/>
                  </a:moveTo>
                  <a:lnTo>
                    <a:pt x="92" y="14"/>
                  </a:lnTo>
                  <a:lnTo>
                    <a:pt x="71" y="8"/>
                  </a:lnTo>
                  <a:lnTo>
                    <a:pt x="51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07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7947000" y="1895400"/>
              <a:ext cx="35280" cy="14760"/>
            </a:xfrm>
            <a:custGeom>
              <a:avLst/>
              <a:gdLst/>
              <a:ahLst/>
              <a:rect l="0" t="0" r="r" b="b"/>
              <a:pathLst>
                <a:path w="98" h="41">
                  <a:moveTo>
                    <a:pt x="0" y="0"/>
                  </a:moveTo>
                  <a:lnTo>
                    <a:pt x="7" y="6"/>
                  </a:lnTo>
                  <a:lnTo>
                    <a:pt x="19" y="17"/>
                  </a:lnTo>
                  <a:lnTo>
                    <a:pt x="31" y="27"/>
                  </a:lnTo>
                  <a:lnTo>
                    <a:pt x="51" y="35"/>
                  </a:lnTo>
                  <a:lnTo>
                    <a:pt x="70" y="35"/>
                  </a:lnTo>
                  <a:lnTo>
                    <a:pt x="90" y="41"/>
                  </a:lnTo>
                  <a:lnTo>
                    <a:pt x="98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943760" y="1900080"/>
              <a:ext cx="38520" cy="9720"/>
            </a:xfrm>
            <a:custGeom>
              <a:avLst/>
              <a:gdLst/>
              <a:ahLst/>
              <a:rect l="0" t="0" r="r" b="b"/>
              <a:pathLst>
                <a:path w="107" h="27">
                  <a:moveTo>
                    <a:pt x="107" y="27"/>
                  </a:moveTo>
                  <a:lnTo>
                    <a:pt x="92" y="19"/>
                  </a:lnTo>
                  <a:lnTo>
                    <a:pt x="71" y="7"/>
                  </a:lnTo>
                  <a:lnTo>
                    <a:pt x="55" y="7"/>
                  </a:lnTo>
                  <a:lnTo>
                    <a:pt x="36" y="0"/>
                  </a:lnTo>
                  <a:lnTo>
                    <a:pt x="19" y="7"/>
                  </a:lnTo>
                  <a:lnTo>
                    <a:pt x="3" y="7"/>
                  </a:lnTo>
                  <a:lnTo>
                    <a:pt x="0" y="11"/>
                  </a:lnTo>
                  <a:lnTo>
                    <a:pt x="107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7943760" y="1906560"/>
              <a:ext cx="36720" cy="16200"/>
            </a:xfrm>
            <a:custGeom>
              <a:avLst/>
              <a:gdLst/>
              <a:ahLst/>
              <a:rect l="0" t="0" r="r" b="b"/>
              <a:pathLst>
                <a:path w="102" h="45">
                  <a:moveTo>
                    <a:pt x="0" y="0"/>
                  </a:moveTo>
                  <a:lnTo>
                    <a:pt x="8" y="8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3" y="41"/>
                  </a:lnTo>
                  <a:lnTo>
                    <a:pt x="74" y="41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7940520" y="1913040"/>
              <a:ext cx="39960" cy="6840"/>
            </a:xfrm>
            <a:custGeom>
              <a:avLst/>
              <a:gdLst/>
              <a:ahLst/>
              <a:rect l="0" t="0" r="r" b="b"/>
              <a:pathLst>
                <a:path w="111" h="19">
                  <a:moveTo>
                    <a:pt x="111" y="19"/>
                  </a:moveTo>
                  <a:lnTo>
                    <a:pt x="94" y="11"/>
                  </a:lnTo>
                  <a:lnTo>
                    <a:pt x="78" y="8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940520" y="1916280"/>
              <a:ext cx="35280" cy="12960"/>
            </a:xfrm>
            <a:custGeom>
              <a:avLst/>
              <a:gdLst/>
              <a:ahLst/>
              <a:rect l="0" t="0" r="r" b="b"/>
              <a:pathLst>
                <a:path w="98" h="36">
                  <a:moveTo>
                    <a:pt x="0" y="0"/>
                  </a:moveTo>
                  <a:lnTo>
                    <a:pt x="7" y="7"/>
                  </a:lnTo>
                  <a:lnTo>
                    <a:pt x="15" y="20"/>
                  </a:lnTo>
                  <a:lnTo>
                    <a:pt x="34" y="28"/>
                  </a:lnTo>
                  <a:lnTo>
                    <a:pt x="46" y="32"/>
                  </a:lnTo>
                  <a:lnTo>
                    <a:pt x="74" y="36"/>
                  </a:lnTo>
                  <a:lnTo>
                    <a:pt x="86" y="36"/>
                  </a:lnTo>
                  <a:lnTo>
                    <a:pt x="9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7937640" y="1924200"/>
              <a:ext cx="38520" cy="5040"/>
            </a:xfrm>
            <a:custGeom>
              <a:avLst/>
              <a:gdLst/>
              <a:ahLst/>
              <a:rect l="0" t="0" r="r" b="b"/>
              <a:pathLst>
                <a:path w="107" h="14">
                  <a:moveTo>
                    <a:pt x="107" y="14"/>
                  </a:moveTo>
                  <a:lnTo>
                    <a:pt x="88" y="6"/>
                  </a:lnTo>
                  <a:lnTo>
                    <a:pt x="75" y="6"/>
                  </a:lnTo>
                  <a:lnTo>
                    <a:pt x="55" y="3"/>
                  </a:lnTo>
                  <a:lnTo>
                    <a:pt x="36" y="0"/>
                  </a:lnTo>
                  <a:lnTo>
                    <a:pt x="19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7937640" y="1927080"/>
              <a:ext cx="36720" cy="16200"/>
            </a:xfrm>
            <a:custGeom>
              <a:avLst/>
              <a:gdLst/>
              <a:ahLst/>
              <a:rect l="0" t="0" r="r" b="b"/>
              <a:pathLst>
                <a:path w="102" h="45">
                  <a:moveTo>
                    <a:pt x="0" y="0"/>
                  </a:moveTo>
                  <a:lnTo>
                    <a:pt x="8" y="7"/>
                  </a:lnTo>
                  <a:lnTo>
                    <a:pt x="20" y="26"/>
                  </a:lnTo>
                  <a:lnTo>
                    <a:pt x="36" y="30"/>
                  </a:lnTo>
                  <a:lnTo>
                    <a:pt x="53" y="37"/>
                  </a:lnTo>
                  <a:lnTo>
                    <a:pt x="78" y="37"/>
                  </a:lnTo>
                  <a:lnTo>
                    <a:pt x="90" y="45"/>
                  </a:lnTo>
                  <a:lnTo>
                    <a:pt x="102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935840" y="1936800"/>
              <a:ext cx="38520" cy="6840"/>
            </a:xfrm>
            <a:custGeom>
              <a:avLst/>
              <a:gdLst/>
              <a:ahLst/>
              <a:rect l="0" t="0" r="r" b="b"/>
              <a:pathLst>
                <a:path w="107" h="19">
                  <a:moveTo>
                    <a:pt x="107" y="19"/>
                  </a:moveTo>
                  <a:lnTo>
                    <a:pt x="92" y="8"/>
                  </a:lnTo>
                  <a:lnTo>
                    <a:pt x="75" y="3"/>
                  </a:lnTo>
                  <a:lnTo>
                    <a:pt x="55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7" y="3"/>
                  </a:lnTo>
                  <a:lnTo>
                    <a:pt x="0" y="3"/>
                  </a:lnTo>
                  <a:lnTo>
                    <a:pt x="107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7935840" y="1936800"/>
              <a:ext cx="33840" cy="16200"/>
            </a:xfrm>
            <a:custGeom>
              <a:avLst/>
              <a:gdLst/>
              <a:ahLst/>
              <a:rect l="0" t="0" r="r" b="b"/>
              <a:pathLst>
                <a:path w="94" h="45">
                  <a:moveTo>
                    <a:pt x="0" y="0"/>
                  </a:moveTo>
                  <a:lnTo>
                    <a:pt x="7" y="8"/>
                  </a:lnTo>
                  <a:lnTo>
                    <a:pt x="24" y="20"/>
                  </a:lnTo>
                  <a:lnTo>
                    <a:pt x="31" y="33"/>
                  </a:lnTo>
                  <a:lnTo>
                    <a:pt x="55" y="37"/>
                  </a:lnTo>
                  <a:lnTo>
                    <a:pt x="75" y="45"/>
                  </a:lnTo>
                  <a:lnTo>
                    <a:pt x="90" y="45"/>
                  </a:lnTo>
                  <a:lnTo>
                    <a:pt x="94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7931160" y="1944720"/>
              <a:ext cx="38520" cy="8280"/>
            </a:xfrm>
            <a:custGeom>
              <a:avLst/>
              <a:gdLst/>
              <a:ahLst/>
              <a:rect l="0" t="0" r="r" b="b"/>
              <a:pathLst>
                <a:path w="107" h="23">
                  <a:moveTo>
                    <a:pt x="107" y="23"/>
                  </a:moveTo>
                  <a:lnTo>
                    <a:pt x="95" y="15"/>
                  </a:lnTo>
                  <a:lnTo>
                    <a:pt x="74" y="12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24" y="0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107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931160" y="1951200"/>
              <a:ext cx="36720" cy="16200"/>
            </a:xfrm>
            <a:custGeom>
              <a:avLst/>
              <a:gdLst/>
              <a:ahLst/>
              <a:rect l="0" t="0" r="r" b="b"/>
              <a:pathLst>
                <a:path w="102" h="45">
                  <a:moveTo>
                    <a:pt x="0" y="0"/>
                  </a:moveTo>
                  <a:lnTo>
                    <a:pt x="8" y="8"/>
                  </a:lnTo>
                  <a:lnTo>
                    <a:pt x="24" y="25"/>
                  </a:lnTo>
                  <a:lnTo>
                    <a:pt x="40" y="33"/>
                  </a:lnTo>
                  <a:lnTo>
                    <a:pt x="53" y="33"/>
                  </a:lnTo>
                  <a:lnTo>
                    <a:pt x="74" y="37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931160" y="19591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102" y="23"/>
                  </a:moveTo>
                  <a:lnTo>
                    <a:pt x="90" y="8"/>
                  </a:lnTo>
                  <a:lnTo>
                    <a:pt x="71" y="0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2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7931160" y="1962000"/>
              <a:ext cx="33840" cy="18000"/>
            </a:xfrm>
            <a:custGeom>
              <a:avLst/>
              <a:gdLst/>
              <a:ahLst/>
              <a:rect l="0" t="0" r="r" b="b"/>
              <a:pathLst>
                <a:path w="94" h="50">
                  <a:moveTo>
                    <a:pt x="0" y="0"/>
                  </a:moveTo>
                  <a:lnTo>
                    <a:pt x="3" y="8"/>
                  </a:lnTo>
                  <a:lnTo>
                    <a:pt x="19" y="25"/>
                  </a:lnTo>
                  <a:lnTo>
                    <a:pt x="35" y="33"/>
                  </a:lnTo>
                  <a:lnTo>
                    <a:pt x="51" y="38"/>
                  </a:lnTo>
                  <a:lnTo>
                    <a:pt x="71" y="38"/>
                  </a:lnTo>
                  <a:lnTo>
                    <a:pt x="86" y="50"/>
                  </a:lnTo>
                  <a:lnTo>
                    <a:pt x="94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889760" y="1909800"/>
              <a:ext cx="20880" cy="63720"/>
            </a:xfrm>
            <a:custGeom>
              <a:avLst/>
              <a:gdLst/>
              <a:ahLst/>
              <a:rect l="0" t="0" r="r" b="b"/>
              <a:pathLst>
                <a:path w="58" h="177">
                  <a:moveTo>
                    <a:pt x="0" y="173"/>
                  </a:moveTo>
                  <a:lnTo>
                    <a:pt x="46" y="0"/>
                  </a:lnTo>
                  <a:lnTo>
                    <a:pt x="58" y="0"/>
                  </a:lnTo>
                  <a:lnTo>
                    <a:pt x="19" y="177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7886880" y="1906560"/>
              <a:ext cx="36720" cy="12960"/>
            </a:xfrm>
            <a:custGeom>
              <a:avLst/>
              <a:gdLst/>
              <a:ahLst/>
              <a:rect l="0" t="0" r="r" b="b"/>
              <a:pathLst>
                <a:path w="102" h="36">
                  <a:moveTo>
                    <a:pt x="0" y="0"/>
                  </a:moveTo>
                  <a:lnTo>
                    <a:pt x="11" y="7"/>
                  </a:lnTo>
                  <a:lnTo>
                    <a:pt x="23" y="17"/>
                  </a:lnTo>
                  <a:lnTo>
                    <a:pt x="35" y="25"/>
                  </a:lnTo>
                  <a:lnTo>
                    <a:pt x="59" y="29"/>
                  </a:lnTo>
                  <a:lnTo>
                    <a:pt x="75" y="36"/>
                  </a:lnTo>
                  <a:lnTo>
                    <a:pt x="94" y="36"/>
                  </a:lnTo>
                  <a:lnTo>
                    <a:pt x="10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7885080" y="1913040"/>
              <a:ext cx="38520" cy="5040"/>
            </a:xfrm>
            <a:custGeom>
              <a:avLst/>
              <a:gdLst/>
              <a:ahLst/>
              <a:rect l="0" t="0" r="r" b="b"/>
              <a:pathLst>
                <a:path w="107" h="14">
                  <a:moveTo>
                    <a:pt x="107" y="14"/>
                  </a:moveTo>
                  <a:lnTo>
                    <a:pt x="88" y="6"/>
                  </a:lnTo>
                  <a:lnTo>
                    <a:pt x="67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19" y="0"/>
                  </a:lnTo>
                  <a:lnTo>
                    <a:pt x="3" y="6"/>
                  </a:lnTo>
                  <a:lnTo>
                    <a:pt x="0" y="10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885080" y="1916280"/>
              <a:ext cx="36720" cy="12960"/>
            </a:xfrm>
            <a:custGeom>
              <a:avLst/>
              <a:gdLst/>
              <a:ahLst/>
              <a:rect l="0" t="0" r="r" b="b"/>
              <a:pathLst>
                <a:path w="102" h="36">
                  <a:moveTo>
                    <a:pt x="0" y="0"/>
                  </a:moveTo>
                  <a:lnTo>
                    <a:pt x="8" y="7"/>
                  </a:lnTo>
                  <a:lnTo>
                    <a:pt x="24" y="20"/>
                  </a:lnTo>
                  <a:lnTo>
                    <a:pt x="40" y="28"/>
                  </a:lnTo>
                  <a:lnTo>
                    <a:pt x="57" y="28"/>
                  </a:lnTo>
                  <a:lnTo>
                    <a:pt x="69" y="36"/>
                  </a:lnTo>
                  <a:lnTo>
                    <a:pt x="98" y="36"/>
                  </a:lnTo>
                  <a:lnTo>
                    <a:pt x="102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7885080" y="1924200"/>
              <a:ext cx="36720" cy="3600"/>
            </a:xfrm>
            <a:custGeom>
              <a:avLst/>
              <a:gdLst/>
              <a:ahLst/>
              <a:rect l="0" t="0" r="r" b="b"/>
              <a:pathLst>
                <a:path w="102" h="10">
                  <a:moveTo>
                    <a:pt x="102" y="10"/>
                  </a:moveTo>
                  <a:lnTo>
                    <a:pt x="86" y="6"/>
                  </a:lnTo>
                  <a:lnTo>
                    <a:pt x="67" y="3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19" y="3"/>
                  </a:lnTo>
                  <a:lnTo>
                    <a:pt x="3" y="6"/>
                  </a:lnTo>
                  <a:lnTo>
                    <a:pt x="0" y="6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7885080" y="1927080"/>
              <a:ext cx="35280" cy="14760"/>
            </a:xfrm>
            <a:custGeom>
              <a:avLst/>
              <a:gdLst/>
              <a:ahLst/>
              <a:rect l="0" t="0" r="r" b="b"/>
              <a:pathLst>
                <a:path w="98" h="41">
                  <a:moveTo>
                    <a:pt x="0" y="0"/>
                  </a:moveTo>
                  <a:lnTo>
                    <a:pt x="7" y="7"/>
                  </a:lnTo>
                  <a:lnTo>
                    <a:pt x="19" y="28"/>
                  </a:lnTo>
                  <a:lnTo>
                    <a:pt x="34" y="33"/>
                  </a:lnTo>
                  <a:lnTo>
                    <a:pt x="51" y="37"/>
                  </a:lnTo>
                  <a:lnTo>
                    <a:pt x="70" y="41"/>
                  </a:lnTo>
                  <a:lnTo>
                    <a:pt x="90" y="41"/>
                  </a:lnTo>
                  <a:lnTo>
                    <a:pt x="98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878600" y="1936800"/>
              <a:ext cx="41760" cy="5040"/>
            </a:xfrm>
            <a:custGeom>
              <a:avLst/>
              <a:gdLst/>
              <a:ahLst/>
              <a:rect l="0" t="0" r="r" b="b"/>
              <a:pathLst>
                <a:path w="116" h="14">
                  <a:moveTo>
                    <a:pt x="116" y="14"/>
                  </a:moveTo>
                  <a:lnTo>
                    <a:pt x="100" y="4"/>
                  </a:lnTo>
                  <a:lnTo>
                    <a:pt x="82" y="4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116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7878600" y="1936800"/>
              <a:ext cx="38520" cy="14760"/>
            </a:xfrm>
            <a:custGeom>
              <a:avLst/>
              <a:gdLst/>
              <a:ahLst/>
              <a:rect l="0" t="0" r="r" b="b"/>
              <a:pathLst>
                <a:path w="107" h="41">
                  <a:moveTo>
                    <a:pt x="0" y="0"/>
                  </a:moveTo>
                  <a:lnTo>
                    <a:pt x="12" y="8"/>
                  </a:lnTo>
                  <a:lnTo>
                    <a:pt x="24" y="23"/>
                  </a:lnTo>
                  <a:lnTo>
                    <a:pt x="45" y="37"/>
                  </a:lnTo>
                  <a:lnTo>
                    <a:pt x="66" y="41"/>
                  </a:lnTo>
                  <a:lnTo>
                    <a:pt x="83" y="41"/>
                  </a:lnTo>
                  <a:lnTo>
                    <a:pt x="103" y="41"/>
                  </a:lnTo>
                  <a:lnTo>
                    <a:pt x="107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878600" y="1944720"/>
              <a:ext cx="38520" cy="6840"/>
            </a:xfrm>
            <a:custGeom>
              <a:avLst/>
              <a:gdLst/>
              <a:ahLst/>
              <a:rect l="0" t="0" r="r" b="b"/>
              <a:pathLst>
                <a:path w="107" h="19">
                  <a:moveTo>
                    <a:pt x="107" y="19"/>
                  </a:moveTo>
                  <a:lnTo>
                    <a:pt x="87" y="15"/>
                  </a:lnTo>
                  <a:lnTo>
                    <a:pt x="74" y="4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107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878600" y="1951200"/>
              <a:ext cx="38520" cy="12960"/>
            </a:xfrm>
            <a:custGeom>
              <a:avLst/>
              <a:gdLst/>
              <a:ahLst/>
              <a:rect l="0" t="0" r="r" b="b"/>
              <a:pathLst>
                <a:path w="107" h="36">
                  <a:moveTo>
                    <a:pt x="0" y="0"/>
                  </a:moveTo>
                  <a:lnTo>
                    <a:pt x="12" y="7"/>
                  </a:lnTo>
                  <a:lnTo>
                    <a:pt x="21" y="20"/>
                  </a:lnTo>
                  <a:lnTo>
                    <a:pt x="39" y="24"/>
                  </a:lnTo>
                  <a:lnTo>
                    <a:pt x="60" y="32"/>
                  </a:lnTo>
                  <a:lnTo>
                    <a:pt x="77" y="32"/>
                  </a:lnTo>
                  <a:lnTo>
                    <a:pt x="95" y="36"/>
                  </a:lnTo>
                  <a:lnTo>
                    <a:pt x="10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878600" y="1959120"/>
              <a:ext cx="38520" cy="3600"/>
            </a:xfrm>
            <a:custGeom>
              <a:avLst/>
              <a:gdLst/>
              <a:ahLst/>
              <a:rect l="0" t="0" r="r" b="b"/>
              <a:pathLst>
                <a:path w="107" h="10">
                  <a:moveTo>
                    <a:pt x="107" y="10"/>
                  </a:moveTo>
                  <a:lnTo>
                    <a:pt x="91" y="3"/>
                  </a:lnTo>
                  <a:lnTo>
                    <a:pt x="70" y="3"/>
                  </a:lnTo>
                  <a:lnTo>
                    <a:pt x="53" y="0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4" y="3"/>
                  </a:lnTo>
                  <a:lnTo>
                    <a:pt x="0" y="10"/>
                  </a:lnTo>
                  <a:lnTo>
                    <a:pt x="107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7875720" y="1962000"/>
              <a:ext cx="38520" cy="11520"/>
            </a:xfrm>
            <a:custGeom>
              <a:avLst/>
              <a:gdLst/>
              <a:ahLst/>
              <a:rect l="0" t="0" r="r" b="b"/>
              <a:pathLst>
                <a:path w="107" h="32">
                  <a:moveTo>
                    <a:pt x="0" y="0"/>
                  </a:moveTo>
                  <a:lnTo>
                    <a:pt x="11" y="6"/>
                  </a:lnTo>
                  <a:lnTo>
                    <a:pt x="28" y="21"/>
                  </a:lnTo>
                  <a:lnTo>
                    <a:pt x="44" y="29"/>
                  </a:lnTo>
                  <a:lnTo>
                    <a:pt x="63" y="29"/>
                  </a:lnTo>
                  <a:lnTo>
                    <a:pt x="79" y="32"/>
                  </a:lnTo>
                  <a:lnTo>
                    <a:pt x="96" y="32"/>
                  </a:lnTo>
                  <a:lnTo>
                    <a:pt x="10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837560" y="1881360"/>
              <a:ext cx="20880" cy="38520"/>
            </a:xfrm>
            <a:custGeom>
              <a:avLst/>
              <a:gdLst/>
              <a:ahLst/>
              <a:rect l="0" t="0" r="r" b="b"/>
              <a:pathLst>
                <a:path w="58" h="107">
                  <a:moveTo>
                    <a:pt x="40" y="88"/>
                  </a:moveTo>
                  <a:lnTo>
                    <a:pt x="0" y="107"/>
                  </a:lnTo>
                  <a:lnTo>
                    <a:pt x="21" y="19"/>
                  </a:lnTo>
                  <a:lnTo>
                    <a:pt x="58" y="0"/>
                  </a:lnTo>
                  <a:lnTo>
                    <a:pt x="40" y="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837560" y="1913040"/>
              <a:ext cx="36720" cy="14760"/>
            </a:xfrm>
            <a:custGeom>
              <a:avLst/>
              <a:gdLst/>
              <a:ahLst/>
              <a:rect l="0" t="0" r="r" b="b"/>
              <a:pathLst>
                <a:path w="102" h="41">
                  <a:moveTo>
                    <a:pt x="42" y="0"/>
                  </a:moveTo>
                  <a:lnTo>
                    <a:pt x="0" y="20"/>
                  </a:lnTo>
                  <a:lnTo>
                    <a:pt x="67" y="41"/>
                  </a:lnTo>
                  <a:lnTo>
                    <a:pt x="102" y="2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7873920" y="188928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0" y="66"/>
                  </a:moveTo>
                  <a:lnTo>
                    <a:pt x="16" y="0"/>
                  </a:lnTo>
                  <a:lnTo>
                    <a:pt x="76" y="23"/>
                  </a:lnTo>
                  <a:lnTo>
                    <a:pt x="64" y="8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7873920" y="191628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3"/>
                  </a:moveTo>
                  <a:lnTo>
                    <a:pt x="14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5" y="6"/>
                  </a:lnTo>
                  <a:lnTo>
                    <a:pt x="14" y="6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878600" y="1916280"/>
              <a:ext cx="6840" cy="3600"/>
            </a:xfrm>
            <a:custGeom>
              <a:avLst/>
              <a:gdLst/>
              <a:ahLst/>
              <a:rect l="0" t="0" r="r" b="b"/>
              <a:pathLst>
                <a:path w="19" h="10">
                  <a:moveTo>
                    <a:pt x="19" y="5"/>
                  </a:moveTo>
                  <a:lnTo>
                    <a:pt x="19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873920" y="191916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4" y="15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885080" y="191772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19" y="4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19"/>
                  </a:lnTo>
                  <a:lnTo>
                    <a:pt x="9" y="9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878600" y="1922400"/>
              <a:ext cx="6840" cy="3600"/>
            </a:xfrm>
            <a:custGeom>
              <a:avLst/>
              <a:gdLst/>
              <a:ahLst/>
              <a:rect l="0" t="0" r="r" b="b"/>
              <a:pathLst>
                <a:path w="19" h="10">
                  <a:moveTo>
                    <a:pt x="19" y="6"/>
                  </a:moveTo>
                  <a:lnTo>
                    <a:pt x="15" y="6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848720" y="191628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3"/>
                  </a:moveTo>
                  <a:lnTo>
                    <a:pt x="23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6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845480" y="191772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19" y="4"/>
                  </a:moveTo>
                  <a:lnTo>
                    <a:pt x="11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9" y="9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7856640" y="191628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5"/>
                  </a:move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7851600" y="191916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4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7859880" y="191772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27" y="6"/>
                  </a:moveTo>
                  <a:lnTo>
                    <a:pt x="23" y="6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18" y="14"/>
                  </a:lnTo>
                  <a:lnTo>
                    <a:pt x="23" y="14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7856640" y="192240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19" y="6"/>
                  </a:moveTo>
                  <a:lnTo>
                    <a:pt x="15" y="6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5" y="14"/>
                  </a:lnTo>
                  <a:lnTo>
                    <a:pt x="15" y="1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7851600" y="1881360"/>
              <a:ext cx="27360" cy="38520"/>
            </a:xfrm>
            <a:custGeom>
              <a:avLst/>
              <a:gdLst/>
              <a:ahLst/>
              <a:rect l="0" t="0" r="r" b="b"/>
              <a:pathLst>
                <a:path w="76" h="107">
                  <a:moveTo>
                    <a:pt x="0" y="88"/>
                  </a:moveTo>
                  <a:lnTo>
                    <a:pt x="18" y="0"/>
                  </a:lnTo>
                  <a:lnTo>
                    <a:pt x="76" y="19"/>
                  </a:lnTo>
                  <a:lnTo>
                    <a:pt x="58" y="10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810560" y="1824120"/>
              <a:ext cx="176400" cy="98640"/>
            </a:xfrm>
            <a:custGeom>
              <a:avLst/>
              <a:gdLst/>
              <a:ahLst/>
              <a:rect l="0" t="0" r="r" b="b"/>
              <a:pathLst>
                <a:path w="490" h="274">
                  <a:moveTo>
                    <a:pt x="490" y="159"/>
                  </a:moveTo>
                  <a:lnTo>
                    <a:pt x="23" y="0"/>
                  </a:lnTo>
                  <a:lnTo>
                    <a:pt x="0" y="110"/>
                  </a:lnTo>
                  <a:lnTo>
                    <a:pt x="467" y="274"/>
                  </a:lnTo>
                  <a:lnTo>
                    <a:pt x="490" y="1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778880" y="1824120"/>
              <a:ext cx="39960" cy="44640"/>
            </a:xfrm>
            <a:custGeom>
              <a:avLst/>
              <a:gdLst/>
              <a:ahLst/>
              <a:rect l="0" t="0" r="r" b="b"/>
              <a:pathLst>
                <a:path w="111" h="124">
                  <a:moveTo>
                    <a:pt x="111" y="0"/>
                  </a:moveTo>
                  <a:lnTo>
                    <a:pt x="23" y="0"/>
                  </a:lnTo>
                  <a:lnTo>
                    <a:pt x="0" y="124"/>
                  </a:lnTo>
                  <a:lnTo>
                    <a:pt x="87" y="112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778880" y="1868400"/>
              <a:ext cx="201960" cy="55800"/>
            </a:xfrm>
            <a:custGeom>
              <a:avLst/>
              <a:gdLst/>
              <a:ahLst/>
              <a:rect l="0" t="0" r="r" b="b"/>
              <a:pathLst>
                <a:path w="561" h="155">
                  <a:moveTo>
                    <a:pt x="0" y="0"/>
                  </a:moveTo>
                  <a:lnTo>
                    <a:pt x="470" y="155"/>
                  </a:lnTo>
                  <a:lnTo>
                    <a:pt x="561" y="1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6" name="" descr=""/>
          <p:cNvPicPr/>
          <p:nvPr/>
        </p:nvPicPr>
        <p:blipFill>
          <a:blip r:embed="rId2"/>
          <a:stretch/>
        </p:blipFill>
        <p:spPr>
          <a:xfrm>
            <a:off x="7794720" y="1349280"/>
            <a:ext cx="730080" cy="368280"/>
          </a:xfrm>
          <a:prstGeom prst="rect">
            <a:avLst/>
          </a:prstGeom>
          <a:ln w="0">
            <a:noFill/>
          </a:ln>
        </p:spPr>
      </p:pic>
      <p:pic>
        <p:nvPicPr>
          <p:cNvPr id="4257" name="" descr=""/>
          <p:cNvPicPr/>
          <p:nvPr/>
        </p:nvPicPr>
        <p:blipFill>
          <a:blip r:embed="rId3"/>
          <a:stretch/>
        </p:blipFill>
        <p:spPr>
          <a:xfrm>
            <a:off x="7348680" y="1468440"/>
            <a:ext cx="217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4258" name=""/>
          <p:cNvGrpSpPr/>
          <p:nvPr/>
        </p:nvGrpSpPr>
        <p:grpSpPr>
          <a:xfrm>
            <a:off x="7018200" y="1214280"/>
            <a:ext cx="842040" cy="219600"/>
            <a:chOff x="7018200" y="1214280"/>
            <a:chExt cx="842040" cy="219600"/>
          </a:xfrm>
        </p:grpSpPr>
        <p:sp>
          <p:nvSpPr>
            <p:cNvPr id="4259" name=""/>
            <p:cNvSpPr/>
            <p:nvPr/>
          </p:nvSpPr>
          <p:spPr>
            <a:xfrm>
              <a:off x="7386480" y="137484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149" y="0"/>
                  </a:moveTo>
                  <a:lnTo>
                    <a:pt x="39" y="42"/>
                  </a:lnTo>
                  <a:lnTo>
                    <a:pt x="0" y="109"/>
                  </a:lnTo>
                  <a:lnTo>
                    <a:pt x="70" y="156"/>
                  </a:lnTo>
                  <a:lnTo>
                    <a:pt x="192" y="164"/>
                  </a:lnTo>
                  <a:lnTo>
                    <a:pt x="302" y="121"/>
                  </a:lnTo>
                  <a:lnTo>
                    <a:pt x="341" y="54"/>
                  </a:lnTo>
                  <a:lnTo>
                    <a:pt x="275" y="7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7381800" y="1373040"/>
              <a:ext cx="124200" cy="57600"/>
            </a:xfrm>
            <a:custGeom>
              <a:avLst/>
              <a:gdLst/>
              <a:ahLst/>
              <a:rect l="0" t="0" r="r" b="b"/>
              <a:pathLst>
                <a:path w="345" h="160">
                  <a:moveTo>
                    <a:pt x="149" y="0"/>
                  </a:moveTo>
                  <a:lnTo>
                    <a:pt x="39" y="46"/>
                  </a:lnTo>
                  <a:lnTo>
                    <a:pt x="0" y="110"/>
                  </a:lnTo>
                  <a:lnTo>
                    <a:pt x="70" y="156"/>
                  </a:lnTo>
                  <a:lnTo>
                    <a:pt x="196" y="160"/>
                  </a:lnTo>
                  <a:lnTo>
                    <a:pt x="302" y="118"/>
                  </a:lnTo>
                  <a:lnTo>
                    <a:pt x="345" y="53"/>
                  </a:lnTo>
                  <a:lnTo>
                    <a:pt x="275" y="7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7218360" y="1314360"/>
              <a:ext cx="119520" cy="82800"/>
            </a:xfrm>
            <a:custGeom>
              <a:avLst/>
              <a:gdLst/>
              <a:ahLst/>
              <a:rect l="0" t="0" r="r" b="b"/>
              <a:pathLst>
                <a:path w="332" h="230">
                  <a:moveTo>
                    <a:pt x="51" y="230"/>
                  </a:moveTo>
                  <a:lnTo>
                    <a:pt x="332" y="178"/>
                  </a:lnTo>
                  <a:lnTo>
                    <a:pt x="285" y="0"/>
                  </a:lnTo>
                  <a:lnTo>
                    <a:pt x="0" y="47"/>
                  </a:lnTo>
                  <a:lnTo>
                    <a:pt x="51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7118280" y="1332000"/>
              <a:ext cx="122760" cy="82800"/>
            </a:xfrm>
            <a:custGeom>
              <a:avLst/>
              <a:gdLst/>
              <a:ahLst/>
              <a:rect l="0" t="0" r="r" b="b"/>
              <a:pathLst>
                <a:path w="341" h="230">
                  <a:moveTo>
                    <a:pt x="51" y="230"/>
                  </a:moveTo>
                  <a:lnTo>
                    <a:pt x="341" y="178"/>
                  </a:lnTo>
                  <a:lnTo>
                    <a:pt x="290" y="0"/>
                  </a:lnTo>
                  <a:lnTo>
                    <a:pt x="0" y="47"/>
                  </a:lnTo>
                  <a:lnTo>
                    <a:pt x="51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7018200" y="1349280"/>
              <a:ext cx="117720" cy="81360"/>
            </a:xfrm>
            <a:custGeom>
              <a:avLst/>
              <a:gdLst/>
              <a:ahLst/>
              <a:rect l="0" t="0" r="r" b="b"/>
              <a:pathLst>
                <a:path w="327" h="226">
                  <a:moveTo>
                    <a:pt x="50" y="226"/>
                  </a:moveTo>
                  <a:lnTo>
                    <a:pt x="327" y="180"/>
                  </a:lnTo>
                  <a:lnTo>
                    <a:pt x="280" y="0"/>
                  </a:lnTo>
                  <a:lnTo>
                    <a:pt x="0" y="46"/>
                  </a:lnTo>
                  <a:lnTo>
                    <a:pt x="50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7321680" y="1311120"/>
              <a:ext cx="41760" cy="66960"/>
            </a:xfrm>
            <a:custGeom>
              <a:avLst/>
              <a:gdLst/>
              <a:ahLst/>
              <a:rect l="0" t="0" r="r" b="b"/>
              <a:pathLst>
                <a:path w="116" h="186">
                  <a:moveTo>
                    <a:pt x="46" y="186"/>
                  </a:moveTo>
                  <a:lnTo>
                    <a:pt x="116" y="174"/>
                  </a:lnTo>
                  <a:lnTo>
                    <a:pt x="65" y="0"/>
                  </a:lnTo>
                  <a:lnTo>
                    <a:pt x="0" y="11"/>
                  </a:lnTo>
                  <a:lnTo>
                    <a:pt x="46" y="1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 flipH="1" flipV="1">
              <a:off x="7345440" y="1312920"/>
              <a:ext cx="4608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H="1">
              <a:off x="7364520" y="1335240"/>
              <a:ext cx="27000" cy="39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7396200" y="1266840"/>
              <a:ext cx="117720" cy="89280"/>
            </a:xfrm>
            <a:custGeom>
              <a:avLst/>
              <a:gdLst/>
              <a:ahLst/>
              <a:rect l="0" t="0" r="r" b="b"/>
              <a:pathLst>
                <a:path w="327" h="248">
                  <a:moveTo>
                    <a:pt x="54" y="248"/>
                  </a:moveTo>
                  <a:lnTo>
                    <a:pt x="327" y="201"/>
                  </a:lnTo>
                  <a:lnTo>
                    <a:pt x="272" y="0"/>
                  </a:lnTo>
                  <a:lnTo>
                    <a:pt x="0" y="47"/>
                  </a:lnTo>
                  <a:lnTo>
                    <a:pt x="54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7354800" y="1298520"/>
              <a:ext cx="120960" cy="89280"/>
            </a:xfrm>
            <a:custGeom>
              <a:avLst/>
              <a:gdLst/>
              <a:ahLst/>
              <a:rect l="0" t="0" r="r" b="b"/>
              <a:pathLst>
                <a:path w="336" h="248">
                  <a:moveTo>
                    <a:pt x="55" y="248"/>
                  </a:moveTo>
                  <a:lnTo>
                    <a:pt x="336" y="198"/>
                  </a:lnTo>
                  <a:lnTo>
                    <a:pt x="280" y="0"/>
                  </a:lnTo>
                  <a:lnTo>
                    <a:pt x="0" y="46"/>
                  </a:lnTo>
                  <a:lnTo>
                    <a:pt x="55" y="2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7354800" y="1266840"/>
              <a:ext cx="138600" cy="52920"/>
            </a:xfrm>
            <a:custGeom>
              <a:avLst/>
              <a:gdLst/>
              <a:ahLst/>
              <a:rect l="0" t="0" r="r" b="b"/>
              <a:pathLst>
                <a:path w="385" h="147">
                  <a:moveTo>
                    <a:pt x="0" y="147"/>
                  </a:moveTo>
                  <a:lnTo>
                    <a:pt x="108" y="52"/>
                  </a:lnTo>
                  <a:lnTo>
                    <a:pt x="385" y="0"/>
                  </a:lnTo>
                  <a:lnTo>
                    <a:pt x="276" y="9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7453440" y="1266840"/>
              <a:ext cx="60840" cy="103680"/>
            </a:xfrm>
            <a:custGeom>
              <a:avLst/>
              <a:gdLst/>
              <a:ahLst/>
              <a:rect l="0" t="0" r="r" b="b"/>
              <a:pathLst>
                <a:path w="169" h="288">
                  <a:moveTo>
                    <a:pt x="0" y="93"/>
                  </a:moveTo>
                  <a:lnTo>
                    <a:pt x="106" y="0"/>
                  </a:lnTo>
                  <a:lnTo>
                    <a:pt x="169" y="194"/>
                  </a:lnTo>
                  <a:lnTo>
                    <a:pt x="67" y="288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7342200" y="1285920"/>
              <a:ext cx="152640" cy="114840"/>
            </a:xfrm>
            <a:custGeom>
              <a:avLst/>
              <a:gdLst/>
              <a:ahLst/>
              <a:rect l="0" t="0" r="r" b="b"/>
              <a:pathLst>
                <a:path w="424" h="319">
                  <a:moveTo>
                    <a:pt x="404" y="260"/>
                  </a:moveTo>
                  <a:lnTo>
                    <a:pt x="424" y="228"/>
                  </a:lnTo>
                  <a:lnTo>
                    <a:pt x="357" y="23"/>
                  </a:lnTo>
                  <a:lnTo>
                    <a:pt x="322" y="0"/>
                  </a:lnTo>
                  <a:lnTo>
                    <a:pt x="19" y="58"/>
                  </a:lnTo>
                  <a:lnTo>
                    <a:pt x="0" y="91"/>
                  </a:lnTo>
                  <a:lnTo>
                    <a:pt x="58" y="295"/>
                  </a:lnTo>
                  <a:lnTo>
                    <a:pt x="97" y="319"/>
                  </a:lnTo>
                  <a:lnTo>
                    <a:pt x="404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7326360" y="1298520"/>
              <a:ext cx="154440" cy="114840"/>
            </a:xfrm>
            <a:custGeom>
              <a:avLst/>
              <a:gdLst/>
              <a:ahLst/>
              <a:rect l="0" t="0" r="r" b="b"/>
              <a:pathLst>
                <a:path w="429" h="319">
                  <a:moveTo>
                    <a:pt x="410" y="260"/>
                  </a:moveTo>
                  <a:lnTo>
                    <a:pt x="429" y="228"/>
                  </a:lnTo>
                  <a:lnTo>
                    <a:pt x="363" y="23"/>
                  </a:lnTo>
                  <a:lnTo>
                    <a:pt x="327" y="0"/>
                  </a:lnTo>
                  <a:lnTo>
                    <a:pt x="19" y="54"/>
                  </a:lnTo>
                  <a:lnTo>
                    <a:pt x="0" y="91"/>
                  </a:lnTo>
                  <a:lnTo>
                    <a:pt x="66" y="295"/>
                  </a:lnTo>
                  <a:lnTo>
                    <a:pt x="105" y="319"/>
                  </a:lnTo>
                  <a:lnTo>
                    <a:pt x="410" y="2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327800" y="1285920"/>
              <a:ext cx="165600" cy="125640"/>
            </a:xfrm>
            <a:custGeom>
              <a:avLst/>
              <a:gdLst/>
              <a:ahLst/>
              <a:rect l="0" t="0" r="r" b="b"/>
              <a:pathLst>
                <a:path w="460" h="349">
                  <a:moveTo>
                    <a:pt x="82" y="349"/>
                  </a:moveTo>
                  <a:lnTo>
                    <a:pt x="153" y="314"/>
                  </a:lnTo>
                  <a:lnTo>
                    <a:pt x="196" y="333"/>
                  </a:lnTo>
                  <a:lnTo>
                    <a:pt x="247" y="298"/>
                  </a:lnTo>
                  <a:lnTo>
                    <a:pt x="287" y="318"/>
                  </a:lnTo>
                  <a:lnTo>
                    <a:pt x="338" y="282"/>
                  </a:lnTo>
                  <a:lnTo>
                    <a:pt x="378" y="302"/>
                  </a:lnTo>
                  <a:lnTo>
                    <a:pt x="433" y="259"/>
                  </a:lnTo>
                  <a:lnTo>
                    <a:pt x="421" y="282"/>
                  </a:lnTo>
                  <a:lnTo>
                    <a:pt x="460" y="224"/>
                  </a:lnTo>
                  <a:lnTo>
                    <a:pt x="409" y="208"/>
                  </a:lnTo>
                  <a:lnTo>
                    <a:pt x="441" y="156"/>
                  </a:lnTo>
                  <a:lnTo>
                    <a:pt x="386" y="140"/>
                  </a:lnTo>
                  <a:lnTo>
                    <a:pt x="421" y="93"/>
                  </a:lnTo>
                  <a:lnTo>
                    <a:pt x="366" y="78"/>
                  </a:lnTo>
                  <a:lnTo>
                    <a:pt x="401" y="27"/>
                  </a:lnTo>
                  <a:lnTo>
                    <a:pt x="342" y="43"/>
                  </a:lnTo>
                  <a:lnTo>
                    <a:pt x="350" y="0"/>
                  </a:lnTo>
                  <a:lnTo>
                    <a:pt x="294" y="39"/>
                  </a:lnTo>
                  <a:lnTo>
                    <a:pt x="255" y="19"/>
                  </a:lnTo>
                  <a:lnTo>
                    <a:pt x="196" y="58"/>
                  </a:lnTo>
                  <a:lnTo>
                    <a:pt x="165" y="35"/>
                  </a:lnTo>
                  <a:lnTo>
                    <a:pt x="105" y="78"/>
                  </a:lnTo>
                  <a:lnTo>
                    <a:pt x="78" y="54"/>
                  </a:lnTo>
                  <a:lnTo>
                    <a:pt x="7" y="97"/>
                  </a:lnTo>
                  <a:lnTo>
                    <a:pt x="39" y="93"/>
                  </a:lnTo>
                  <a:lnTo>
                    <a:pt x="0" y="144"/>
                  </a:lnTo>
                  <a:lnTo>
                    <a:pt x="62" y="160"/>
                  </a:lnTo>
                  <a:lnTo>
                    <a:pt x="19" y="212"/>
                  </a:lnTo>
                  <a:lnTo>
                    <a:pt x="78" y="224"/>
                  </a:lnTo>
                  <a:lnTo>
                    <a:pt x="47" y="278"/>
                  </a:lnTo>
                  <a:lnTo>
                    <a:pt x="97" y="294"/>
                  </a:lnTo>
                  <a:lnTo>
                    <a:pt x="82" y="3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V="1">
              <a:off x="7377120" y="1325520"/>
              <a:ext cx="9360" cy="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 flipH="1" flipV="1">
              <a:off x="7378560" y="1324080"/>
              <a:ext cx="3240" cy="11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 flipV="1">
              <a:off x="7381800" y="1330200"/>
              <a:ext cx="1440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 flipH="1" flipV="1">
              <a:off x="7381800" y="1335240"/>
              <a:ext cx="4680" cy="12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7361280" y="1330200"/>
              <a:ext cx="28800" cy="18000"/>
            </a:xfrm>
            <a:custGeom>
              <a:avLst/>
              <a:gdLst/>
              <a:ahLst/>
              <a:rect l="0" t="0" r="r" b="b"/>
              <a:pathLst>
                <a:path w="80" h="50">
                  <a:moveTo>
                    <a:pt x="31" y="0"/>
                  </a:moveTo>
                  <a:lnTo>
                    <a:pt x="0" y="30"/>
                  </a:lnTo>
                  <a:lnTo>
                    <a:pt x="48" y="50"/>
                  </a:lnTo>
                  <a:lnTo>
                    <a:pt x="80" y="1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V="1">
              <a:off x="7434360" y="1314360"/>
              <a:ext cx="7920" cy="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H="1" flipV="1">
              <a:off x="7434360" y="1314360"/>
              <a:ext cx="1440" cy="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V="1">
              <a:off x="7439040" y="1320840"/>
              <a:ext cx="1116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H="1" flipV="1">
              <a:off x="7439040" y="1324080"/>
              <a:ext cx="3240" cy="11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7418520" y="1320840"/>
              <a:ext cx="25920" cy="18000"/>
            </a:xfrm>
            <a:custGeom>
              <a:avLst/>
              <a:gdLst/>
              <a:ahLst/>
              <a:rect l="0" t="0" r="r" b="b"/>
              <a:pathLst>
                <a:path w="72" h="50">
                  <a:moveTo>
                    <a:pt x="28" y="0"/>
                  </a:moveTo>
                  <a:lnTo>
                    <a:pt x="0" y="30"/>
                  </a:lnTo>
                  <a:lnTo>
                    <a:pt x="44" y="50"/>
                  </a:lnTo>
                  <a:lnTo>
                    <a:pt x="72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7386480" y="1359000"/>
              <a:ext cx="9720" cy="14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7386480" y="1357200"/>
              <a:ext cx="5040" cy="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7391520" y="1365120"/>
              <a:ext cx="140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7391520" y="1368360"/>
              <a:ext cx="4680" cy="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370640" y="1362240"/>
              <a:ext cx="27360" cy="20880"/>
            </a:xfrm>
            <a:custGeom>
              <a:avLst/>
              <a:gdLst/>
              <a:ahLst/>
              <a:rect l="0" t="0" r="r" b="b"/>
              <a:pathLst>
                <a:path w="76" h="58">
                  <a:moveTo>
                    <a:pt x="28" y="0"/>
                  </a:moveTo>
                  <a:lnTo>
                    <a:pt x="0" y="37"/>
                  </a:lnTo>
                  <a:lnTo>
                    <a:pt x="44" y="58"/>
                  </a:lnTo>
                  <a:lnTo>
                    <a:pt x="76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7443720" y="1347840"/>
              <a:ext cx="7920" cy="12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 flipV="1">
              <a:off x="7443720" y="1346040"/>
              <a:ext cx="4680" cy="11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V="1">
              <a:off x="7448400" y="1355760"/>
              <a:ext cx="1296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H="1" flipV="1">
              <a:off x="7448400" y="1357200"/>
              <a:ext cx="1800" cy="11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7427880" y="1351080"/>
              <a:ext cx="27360" cy="22680"/>
            </a:xfrm>
            <a:custGeom>
              <a:avLst/>
              <a:gdLst/>
              <a:ahLst/>
              <a:rect l="0" t="0" r="r" b="b"/>
              <a:pathLst>
                <a:path w="76" h="63">
                  <a:moveTo>
                    <a:pt x="32" y="0"/>
                  </a:moveTo>
                  <a:lnTo>
                    <a:pt x="0" y="40"/>
                  </a:lnTo>
                  <a:lnTo>
                    <a:pt x="48" y="63"/>
                  </a:lnTo>
                  <a:lnTo>
                    <a:pt x="76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7418520" y="1271520"/>
              <a:ext cx="2880" cy="15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539120" y="1260360"/>
              <a:ext cx="119520" cy="81360"/>
            </a:xfrm>
            <a:custGeom>
              <a:avLst/>
              <a:gdLst/>
              <a:ahLst/>
              <a:rect l="0" t="0" r="r" b="b"/>
              <a:pathLst>
                <a:path w="332" h="226">
                  <a:moveTo>
                    <a:pt x="50" y="226"/>
                  </a:moveTo>
                  <a:lnTo>
                    <a:pt x="332" y="176"/>
                  </a:lnTo>
                  <a:lnTo>
                    <a:pt x="282" y="0"/>
                  </a:lnTo>
                  <a:lnTo>
                    <a:pt x="0" y="46"/>
                  </a:lnTo>
                  <a:lnTo>
                    <a:pt x="50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7640640" y="1241280"/>
              <a:ext cx="119520" cy="82800"/>
            </a:xfrm>
            <a:custGeom>
              <a:avLst/>
              <a:gdLst/>
              <a:ahLst/>
              <a:rect l="0" t="0" r="r" b="b"/>
              <a:pathLst>
                <a:path w="332" h="230">
                  <a:moveTo>
                    <a:pt x="46" y="230"/>
                  </a:moveTo>
                  <a:lnTo>
                    <a:pt x="332" y="182"/>
                  </a:lnTo>
                  <a:lnTo>
                    <a:pt x="282" y="0"/>
                  </a:lnTo>
                  <a:lnTo>
                    <a:pt x="0" y="51"/>
                  </a:lnTo>
                  <a:lnTo>
                    <a:pt x="46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7740720" y="1224000"/>
              <a:ext cx="119520" cy="82800"/>
            </a:xfrm>
            <a:custGeom>
              <a:avLst/>
              <a:gdLst/>
              <a:ahLst/>
              <a:rect l="0" t="0" r="r" b="b"/>
              <a:pathLst>
                <a:path w="332" h="230">
                  <a:moveTo>
                    <a:pt x="47" y="230"/>
                  </a:moveTo>
                  <a:lnTo>
                    <a:pt x="332" y="182"/>
                  </a:lnTo>
                  <a:lnTo>
                    <a:pt x="281" y="0"/>
                  </a:lnTo>
                  <a:lnTo>
                    <a:pt x="0" y="47"/>
                  </a:lnTo>
                  <a:lnTo>
                    <a:pt x="47" y="2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7513560" y="1278000"/>
              <a:ext cx="43200" cy="68760"/>
            </a:xfrm>
            <a:custGeom>
              <a:avLst/>
              <a:gdLst/>
              <a:ahLst/>
              <a:rect l="0" t="0" r="r" b="b"/>
              <a:pathLst>
                <a:path w="120" h="191">
                  <a:moveTo>
                    <a:pt x="51" y="191"/>
                  </a:moveTo>
                  <a:lnTo>
                    <a:pt x="120" y="179"/>
                  </a:lnTo>
                  <a:lnTo>
                    <a:pt x="72" y="0"/>
                  </a:lnTo>
                  <a:lnTo>
                    <a:pt x="0" y="11"/>
                  </a:lnTo>
                  <a:lnTo>
                    <a:pt x="51" y="1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V="1">
              <a:off x="7486560" y="1279440"/>
              <a:ext cx="27000" cy="39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486560" y="1319040"/>
              <a:ext cx="4608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7350120" y="1214280"/>
              <a:ext cx="119520" cy="62280"/>
            </a:xfrm>
            <a:custGeom>
              <a:avLst/>
              <a:gdLst/>
              <a:ahLst/>
              <a:rect l="0" t="0" r="r" b="b"/>
              <a:pathLst>
                <a:path w="332" h="173">
                  <a:moveTo>
                    <a:pt x="144" y="0"/>
                  </a:moveTo>
                  <a:lnTo>
                    <a:pt x="35" y="47"/>
                  </a:lnTo>
                  <a:lnTo>
                    <a:pt x="0" y="114"/>
                  </a:lnTo>
                  <a:lnTo>
                    <a:pt x="66" y="166"/>
                  </a:lnTo>
                  <a:lnTo>
                    <a:pt x="191" y="173"/>
                  </a:lnTo>
                  <a:lnTo>
                    <a:pt x="297" y="126"/>
                  </a:lnTo>
                  <a:lnTo>
                    <a:pt x="332" y="55"/>
                  </a:lnTo>
                  <a:lnTo>
                    <a:pt x="266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7343640" y="122076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147" y="0"/>
                  </a:moveTo>
                  <a:lnTo>
                    <a:pt x="39" y="45"/>
                  </a:lnTo>
                  <a:lnTo>
                    <a:pt x="0" y="111"/>
                  </a:lnTo>
                  <a:lnTo>
                    <a:pt x="67" y="156"/>
                  </a:lnTo>
                  <a:lnTo>
                    <a:pt x="194" y="164"/>
                  </a:lnTo>
                  <a:lnTo>
                    <a:pt x="302" y="118"/>
                  </a:lnTo>
                  <a:lnTo>
                    <a:pt x="341" y="53"/>
                  </a:lnTo>
                  <a:lnTo>
                    <a:pt x="274" y="3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2809800" y="1693800"/>
            <a:ext cx="4358160" cy="3092760"/>
          </a:xfrm>
          <a:custGeom>
            <a:avLst/>
            <a:gdLst/>
            <a:ahLst/>
            <a:rect l="0" t="0" r="r" b="b"/>
            <a:pathLst>
              <a:path w="12106" h="8591">
                <a:moveTo>
                  <a:pt x="12106" y="0"/>
                </a:moveTo>
                <a:lnTo>
                  <a:pt x="5485" y="0"/>
                </a:lnTo>
                <a:lnTo>
                  <a:pt x="0" y="5793"/>
                </a:lnTo>
                <a:lnTo>
                  <a:pt x="396" y="8591"/>
                </a:lnTo>
                <a:lnTo>
                  <a:pt x="12106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custDash>
              <a:ds d="66981" sp="66981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 txBox="1"/>
          <p:nvPr/>
        </p:nvSpPr>
        <p:spPr>
          <a:xfrm>
            <a:off x="7226280" y="2260440"/>
            <a:ext cx="133344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5" name=""/>
          <p:cNvGrpSpPr/>
          <p:nvPr/>
        </p:nvGrpSpPr>
        <p:grpSpPr>
          <a:xfrm>
            <a:off x="3814920" y="3247920"/>
            <a:ext cx="1903320" cy="1446480"/>
            <a:chOff x="3814920" y="3247920"/>
            <a:chExt cx="1903320" cy="1446480"/>
          </a:xfrm>
        </p:grpSpPr>
        <p:sp>
          <p:nvSpPr>
            <p:cNvPr id="4306" name=""/>
            <p:cNvSpPr/>
            <p:nvPr/>
          </p:nvSpPr>
          <p:spPr>
            <a:xfrm>
              <a:off x="3814920" y="3247920"/>
              <a:ext cx="1803600" cy="1446480"/>
            </a:xfrm>
            <a:custGeom>
              <a:avLst/>
              <a:gdLst/>
              <a:ahLst/>
              <a:rect l="0" t="0" r="r" b="b"/>
              <a:pathLst>
                <a:path w="5010" h="4018">
                  <a:moveTo>
                    <a:pt x="5010" y="938"/>
                  </a:moveTo>
                  <a:lnTo>
                    <a:pt x="0" y="4018"/>
                  </a:lnTo>
                  <a:lnTo>
                    <a:pt x="4487" y="0"/>
                  </a:lnTo>
                  <a:lnTo>
                    <a:pt x="5010" y="9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327640" y="3332160"/>
              <a:ext cx="39060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8" name=""/>
          <p:cNvSpPr/>
          <p:nvPr/>
        </p:nvSpPr>
        <p:spPr>
          <a:xfrm flipV="1">
            <a:off x="4309920" y="3348000"/>
            <a:ext cx="1086120" cy="9684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 flipV="1">
            <a:off x="4314960" y="3578400"/>
            <a:ext cx="1212840" cy="7524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V="1">
            <a:off x="4303800" y="3514680"/>
            <a:ext cx="1098360" cy="816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7070760" y="4483080"/>
            <a:ext cx="843120" cy="31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2" name="" descr=""/>
          <p:cNvPicPr/>
          <p:nvPr/>
        </p:nvPicPr>
        <p:blipFill>
          <a:blip r:embed="rId4"/>
          <a:stretch/>
        </p:blipFill>
        <p:spPr>
          <a:xfrm>
            <a:off x="2646360" y="5592600"/>
            <a:ext cx="912960" cy="720720"/>
          </a:xfrm>
          <a:prstGeom prst="rect">
            <a:avLst/>
          </a:prstGeom>
          <a:ln w="0">
            <a:noFill/>
          </a:ln>
        </p:spPr>
      </p:pic>
      <p:sp>
        <p:nvSpPr>
          <p:cNvPr id="4313" name=""/>
          <p:cNvSpPr/>
          <p:nvPr/>
        </p:nvSpPr>
        <p:spPr>
          <a:xfrm>
            <a:off x="933480" y="2752560"/>
            <a:ext cx="1781640" cy="3591360"/>
          </a:xfrm>
          <a:custGeom>
            <a:avLst/>
            <a:gdLst/>
            <a:ahLst/>
            <a:rect l="0" t="0" r="r" b="b"/>
            <a:pathLst>
              <a:path w="4949" h="9976">
                <a:moveTo>
                  <a:pt x="2126" y="0"/>
                </a:moveTo>
                <a:lnTo>
                  <a:pt x="1980" y="0"/>
                </a:lnTo>
                <a:lnTo>
                  <a:pt x="1833" y="52"/>
                </a:lnTo>
                <a:lnTo>
                  <a:pt x="1723" y="105"/>
                </a:lnTo>
                <a:lnTo>
                  <a:pt x="1576" y="185"/>
                </a:lnTo>
                <a:lnTo>
                  <a:pt x="1466" y="264"/>
                </a:lnTo>
                <a:lnTo>
                  <a:pt x="1357" y="317"/>
                </a:lnTo>
                <a:lnTo>
                  <a:pt x="1247" y="343"/>
                </a:lnTo>
                <a:lnTo>
                  <a:pt x="1136" y="396"/>
                </a:lnTo>
                <a:lnTo>
                  <a:pt x="1062" y="476"/>
                </a:lnTo>
                <a:lnTo>
                  <a:pt x="989" y="555"/>
                </a:lnTo>
                <a:lnTo>
                  <a:pt x="916" y="635"/>
                </a:lnTo>
                <a:lnTo>
                  <a:pt x="879" y="740"/>
                </a:lnTo>
                <a:lnTo>
                  <a:pt x="842" y="820"/>
                </a:lnTo>
                <a:lnTo>
                  <a:pt x="769" y="899"/>
                </a:lnTo>
                <a:lnTo>
                  <a:pt x="732" y="978"/>
                </a:lnTo>
                <a:lnTo>
                  <a:pt x="623" y="1084"/>
                </a:lnTo>
                <a:lnTo>
                  <a:pt x="586" y="1164"/>
                </a:lnTo>
                <a:lnTo>
                  <a:pt x="513" y="1270"/>
                </a:lnTo>
                <a:lnTo>
                  <a:pt x="439" y="1375"/>
                </a:lnTo>
                <a:lnTo>
                  <a:pt x="366" y="1455"/>
                </a:lnTo>
                <a:lnTo>
                  <a:pt x="293" y="1561"/>
                </a:lnTo>
                <a:lnTo>
                  <a:pt x="219" y="1640"/>
                </a:lnTo>
                <a:lnTo>
                  <a:pt x="183" y="1746"/>
                </a:lnTo>
                <a:lnTo>
                  <a:pt x="109" y="1878"/>
                </a:lnTo>
                <a:lnTo>
                  <a:pt x="73" y="1984"/>
                </a:lnTo>
                <a:lnTo>
                  <a:pt x="36" y="2090"/>
                </a:lnTo>
                <a:lnTo>
                  <a:pt x="0" y="2169"/>
                </a:lnTo>
                <a:lnTo>
                  <a:pt x="0" y="2248"/>
                </a:lnTo>
                <a:lnTo>
                  <a:pt x="0" y="2381"/>
                </a:lnTo>
                <a:lnTo>
                  <a:pt x="0" y="2541"/>
                </a:lnTo>
                <a:lnTo>
                  <a:pt x="0" y="2620"/>
                </a:lnTo>
                <a:lnTo>
                  <a:pt x="0" y="2699"/>
                </a:lnTo>
                <a:lnTo>
                  <a:pt x="0" y="2779"/>
                </a:lnTo>
                <a:lnTo>
                  <a:pt x="0" y="2884"/>
                </a:lnTo>
                <a:lnTo>
                  <a:pt x="0" y="2964"/>
                </a:lnTo>
                <a:lnTo>
                  <a:pt x="73" y="3043"/>
                </a:lnTo>
                <a:lnTo>
                  <a:pt x="146" y="3123"/>
                </a:lnTo>
                <a:lnTo>
                  <a:pt x="219" y="3202"/>
                </a:lnTo>
                <a:lnTo>
                  <a:pt x="293" y="3281"/>
                </a:lnTo>
                <a:lnTo>
                  <a:pt x="403" y="3361"/>
                </a:lnTo>
                <a:lnTo>
                  <a:pt x="476" y="3440"/>
                </a:lnTo>
                <a:lnTo>
                  <a:pt x="586" y="3519"/>
                </a:lnTo>
                <a:lnTo>
                  <a:pt x="696" y="3572"/>
                </a:lnTo>
                <a:lnTo>
                  <a:pt x="842" y="3678"/>
                </a:lnTo>
                <a:lnTo>
                  <a:pt x="989" y="3758"/>
                </a:lnTo>
                <a:lnTo>
                  <a:pt x="1062" y="3837"/>
                </a:lnTo>
                <a:lnTo>
                  <a:pt x="1172" y="3890"/>
                </a:lnTo>
                <a:lnTo>
                  <a:pt x="1283" y="3969"/>
                </a:lnTo>
                <a:lnTo>
                  <a:pt x="1357" y="4049"/>
                </a:lnTo>
                <a:lnTo>
                  <a:pt x="1466" y="4128"/>
                </a:lnTo>
                <a:lnTo>
                  <a:pt x="1576" y="4181"/>
                </a:lnTo>
                <a:lnTo>
                  <a:pt x="1723" y="4287"/>
                </a:lnTo>
                <a:lnTo>
                  <a:pt x="1833" y="4393"/>
                </a:lnTo>
                <a:lnTo>
                  <a:pt x="1870" y="4498"/>
                </a:lnTo>
                <a:lnTo>
                  <a:pt x="1906" y="4631"/>
                </a:lnTo>
                <a:lnTo>
                  <a:pt x="1906" y="4710"/>
                </a:lnTo>
                <a:lnTo>
                  <a:pt x="1906" y="4816"/>
                </a:lnTo>
                <a:lnTo>
                  <a:pt x="1906" y="4922"/>
                </a:lnTo>
                <a:lnTo>
                  <a:pt x="1906" y="5001"/>
                </a:lnTo>
                <a:lnTo>
                  <a:pt x="1906" y="5107"/>
                </a:lnTo>
                <a:lnTo>
                  <a:pt x="1906" y="5186"/>
                </a:lnTo>
                <a:lnTo>
                  <a:pt x="1906" y="5292"/>
                </a:lnTo>
                <a:lnTo>
                  <a:pt x="1906" y="5398"/>
                </a:lnTo>
                <a:lnTo>
                  <a:pt x="1906" y="5477"/>
                </a:lnTo>
                <a:lnTo>
                  <a:pt x="1906" y="5557"/>
                </a:lnTo>
                <a:lnTo>
                  <a:pt x="1870" y="5689"/>
                </a:lnTo>
                <a:lnTo>
                  <a:pt x="1796" y="5848"/>
                </a:lnTo>
                <a:lnTo>
                  <a:pt x="1796" y="5927"/>
                </a:lnTo>
                <a:lnTo>
                  <a:pt x="1760" y="6007"/>
                </a:lnTo>
                <a:lnTo>
                  <a:pt x="1723" y="6139"/>
                </a:lnTo>
                <a:lnTo>
                  <a:pt x="1686" y="6218"/>
                </a:lnTo>
                <a:lnTo>
                  <a:pt x="1650" y="6351"/>
                </a:lnTo>
                <a:lnTo>
                  <a:pt x="1613" y="6430"/>
                </a:lnTo>
                <a:lnTo>
                  <a:pt x="1613" y="6536"/>
                </a:lnTo>
                <a:lnTo>
                  <a:pt x="1576" y="6615"/>
                </a:lnTo>
                <a:lnTo>
                  <a:pt x="1540" y="6694"/>
                </a:lnTo>
                <a:lnTo>
                  <a:pt x="1540" y="6774"/>
                </a:lnTo>
                <a:lnTo>
                  <a:pt x="1503" y="6853"/>
                </a:lnTo>
                <a:lnTo>
                  <a:pt x="1466" y="6933"/>
                </a:lnTo>
                <a:lnTo>
                  <a:pt x="1466" y="7038"/>
                </a:lnTo>
                <a:lnTo>
                  <a:pt x="1430" y="7144"/>
                </a:lnTo>
                <a:lnTo>
                  <a:pt x="1393" y="7224"/>
                </a:lnTo>
                <a:lnTo>
                  <a:pt x="1357" y="7329"/>
                </a:lnTo>
                <a:lnTo>
                  <a:pt x="1357" y="7409"/>
                </a:lnTo>
                <a:lnTo>
                  <a:pt x="1320" y="7489"/>
                </a:lnTo>
                <a:lnTo>
                  <a:pt x="1283" y="7622"/>
                </a:lnTo>
                <a:lnTo>
                  <a:pt x="1283" y="7701"/>
                </a:lnTo>
                <a:lnTo>
                  <a:pt x="1283" y="7833"/>
                </a:lnTo>
                <a:lnTo>
                  <a:pt x="1283" y="7939"/>
                </a:lnTo>
                <a:lnTo>
                  <a:pt x="1283" y="8018"/>
                </a:lnTo>
                <a:lnTo>
                  <a:pt x="1283" y="8124"/>
                </a:lnTo>
                <a:lnTo>
                  <a:pt x="1283" y="8230"/>
                </a:lnTo>
                <a:lnTo>
                  <a:pt x="1283" y="8336"/>
                </a:lnTo>
                <a:lnTo>
                  <a:pt x="1283" y="8415"/>
                </a:lnTo>
                <a:lnTo>
                  <a:pt x="1283" y="8495"/>
                </a:lnTo>
                <a:lnTo>
                  <a:pt x="1283" y="8627"/>
                </a:lnTo>
                <a:lnTo>
                  <a:pt x="1283" y="8706"/>
                </a:lnTo>
                <a:lnTo>
                  <a:pt x="1283" y="8786"/>
                </a:lnTo>
                <a:lnTo>
                  <a:pt x="1283" y="8892"/>
                </a:lnTo>
                <a:lnTo>
                  <a:pt x="1283" y="8971"/>
                </a:lnTo>
                <a:lnTo>
                  <a:pt x="1320" y="9050"/>
                </a:lnTo>
                <a:lnTo>
                  <a:pt x="1357" y="9130"/>
                </a:lnTo>
                <a:lnTo>
                  <a:pt x="1430" y="9209"/>
                </a:lnTo>
                <a:lnTo>
                  <a:pt x="1540" y="9341"/>
                </a:lnTo>
                <a:lnTo>
                  <a:pt x="1650" y="9421"/>
                </a:lnTo>
                <a:lnTo>
                  <a:pt x="1760" y="9474"/>
                </a:lnTo>
                <a:lnTo>
                  <a:pt x="1870" y="9553"/>
                </a:lnTo>
                <a:lnTo>
                  <a:pt x="1980" y="9659"/>
                </a:lnTo>
                <a:lnTo>
                  <a:pt x="2090" y="9738"/>
                </a:lnTo>
                <a:lnTo>
                  <a:pt x="2199" y="9791"/>
                </a:lnTo>
                <a:lnTo>
                  <a:pt x="2346" y="9870"/>
                </a:lnTo>
                <a:lnTo>
                  <a:pt x="2456" y="9897"/>
                </a:lnTo>
                <a:lnTo>
                  <a:pt x="2603" y="9923"/>
                </a:lnTo>
                <a:lnTo>
                  <a:pt x="2749" y="9950"/>
                </a:lnTo>
                <a:lnTo>
                  <a:pt x="2896" y="9976"/>
                </a:lnTo>
                <a:lnTo>
                  <a:pt x="3006" y="9976"/>
                </a:lnTo>
                <a:lnTo>
                  <a:pt x="3189" y="9976"/>
                </a:lnTo>
                <a:lnTo>
                  <a:pt x="3336" y="9976"/>
                </a:lnTo>
                <a:lnTo>
                  <a:pt x="3446" y="9976"/>
                </a:lnTo>
                <a:lnTo>
                  <a:pt x="3556" y="9976"/>
                </a:lnTo>
                <a:lnTo>
                  <a:pt x="3702" y="9950"/>
                </a:lnTo>
                <a:lnTo>
                  <a:pt x="3850" y="9897"/>
                </a:lnTo>
                <a:lnTo>
                  <a:pt x="3960" y="9897"/>
                </a:lnTo>
                <a:lnTo>
                  <a:pt x="4106" y="9870"/>
                </a:lnTo>
                <a:lnTo>
                  <a:pt x="4253" y="9844"/>
                </a:lnTo>
                <a:lnTo>
                  <a:pt x="4399" y="9818"/>
                </a:lnTo>
                <a:lnTo>
                  <a:pt x="4509" y="9791"/>
                </a:lnTo>
                <a:lnTo>
                  <a:pt x="4619" y="9765"/>
                </a:lnTo>
                <a:lnTo>
                  <a:pt x="4729" y="9712"/>
                </a:lnTo>
                <a:lnTo>
                  <a:pt x="4839" y="9685"/>
                </a:lnTo>
                <a:lnTo>
                  <a:pt x="4949" y="9659"/>
                </a:lnTo>
                <a:lnTo>
                  <a:pt x="2126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4" name="" descr=""/>
          <p:cNvPicPr/>
          <p:nvPr/>
        </p:nvPicPr>
        <p:blipFill>
          <a:blip r:embed="rId5"/>
          <a:stretch/>
        </p:blipFill>
        <p:spPr>
          <a:xfrm>
            <a:off x="1312920" y="1874880"/>
            <a:ext cx="679320" cy="911160"/>
          </a:xfrm>
          <a:prstGeom prst="rect">
            <a:avLst/>
          </a:prstGeom>
          <a:ln w="0">
            <a:noFill/>
          </a:ln>
        </p:spPr>
      </p:pic>
      <p:sp>
        <p:nvSpPr>
          <p:cNvPr id="4315" name=""/>
          <p:cNvSpPr txBox="1"/>
          <p:nvPr/>
        </p:nvSpPr>
        <p:spPr>
          <a:xfrm>
            <a:off x="419040" y="2981160"/>
            <a:ext cx="2612880" cy="276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Broadcast Service (I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magery (CI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ater Data (CINC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Tasking Order (JFAC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et Broadcast (Nav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ISS Products (multi-sour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ther Reporting (multi-sour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hawk Mission Data (Nav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uation Awareness (Servic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 (Servic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(Servic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bc3700"/>
              </a:buClr>
              <a:buSzPct val="75000"/>
              <a:buFont typeface="Monotype Sorts"/>
              <a:buChar char=""/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RO, CNN, Mov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 txBox="1"/>
          <p:nvPr/>
        </p:nvSpPr>
        <p:spPr>
          <a:xfrm>
            <a:off x="923760" y="6200640"/>
            <a:ext cx="10288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5859360" y="3268800"/>
            <a:ext cx="1959480" cy="2438640"/>
          </a:xfrm>
          <a:custGeom>
            <a:avLst/>
            <a:gdLst/>
            <a:ahLst/>
            <a:rect l="0" t="0" r="r" b="b"/>
            <a:pathLst>
              <a:path w="5443" h="6774">
                <a:moveTo>
                  <a:pt x="1715" y="6774"/>
                </a:moveTo>
                <a:lnTo>
                  <a:pt x="0" y="0"/>
                </a:lnTo>
                <a:lnTo>
                  <a:pt x="5443" y="6554"/>
                </a:lnTo>
                <a:lnTo>
                  <a:pt x="1715" y="677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6461280" y="5421240"/>
            <a:ext cx="1373040" cy="49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5398920" y="3357720"/>
            <a:ext cx="857520" cy="1627560"/>
          </a:xfrm>
          <a:custGeom>
            <a:avLst/>
            <a:gdLst/>
            <a:ahLst/>
            <a:rect l="0" t="0" r="r" b="b"/>
            <a:pathLst>
              <a:path w="2382" h="4521">
                <a:moveTo>
                  <a:pt x="0" y="4502"/>
                </a:moveTo>
                <a:lnTo>
                  <a:pt x="1074" y="0"/>
                </a:lnTo>
                <a:lnTo>
                  <a:pt x="2382" y="4521"/>
                </a:lnTo>
                <a:lnTo>
                  <a:pt x="0" y="450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5405400" y="4809960"/>
            <a:ext cx="844560" cy="31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5405400" y="4809960"/>
            <a:ext cx="844560" cy="31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5032440" y="3929040"/>
            <a:ext cx="540000" cy="1182960"/>
          </a:xfrm>
          <a:custGeom>
            <a:avLst/>
            <a:gdLst/>
            <a:ahLst/>
            <a:rect l="0" t="0" r="r" b="b"/>
            <a:pathLst>
              <a:path w="1500" h="3286">
                <a:moveTo>
                  <a:pt x="1500" y="374"/>
                </a:moveTo>
                <a:lnTo>
                  <a:pt x="0" y="3286"/>
                </a:lnTo>
                <a:lnTo>
                  <a:pt x="549" y="0"/>
                </a:lnTo>
                <a:lnTo>
                  <a:pt x="1500" y="37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5208480" y="3919680"/>
            <a:ext cx="390600" cy="15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4" name=""/>
          <p:cNvGrpSpPr/>
          <p:nvPr/>
        </p:nvGrpSpPr>
        <p:grpSpPr>
          <a:xfrm>
            <a:off x="3467160" y="4441680"/>
            <a:ext cx="5239080" cy="1522800"/>
            <a:chOff x="3467160" y="4441680"/>
            <a:chExt cx="5239080" cy="1522800"/>
          </a:xfrm>
        </p:grpSpPr>
        <p:sp>
          <p:nvSpPr>
            <p:cNvPr id="4325" name=""/>
            <p:cNvSpPr/>
            <p:nvPr/>
          </p:nvSpPr>
          <p:spPr>
            <a:xfrm>
              <a:off x="3467160" y="4656240"/>
              <a:ext cx="1935360" cy="1295640"/>
            </a:xfrm>
            <a:custGeom>
              <a:avLst/>
              <a:gdLst/>
              <a:ahLst/>
              <a:rect l="0" t="0" r="r" b="b"/>
              <a:pathLst>
                <a:path w="5376" h="3599">
                  <a:moveTo>
                    <a:pt x="0" y="273"/>
                  </a:moveTo>
                  <a:lnTo>
                    <a:pt x="67" y="281"/>
                  </a:lnTo>
                  <a:lnTo>
                    <a:pt x="43" y="287"/>
                  </a:lnTo>
                  <a:lnTo>
                    <a:pt x="67" y="308"/>
                  </a:lnTo>
                  <a:lnTo>
                    <a:pt x="198" y="308"/>
                  </a:lnTo>
                  <a:lnTo>
                    <a:pt x="208" y="322"/>
                  </a:lnTo>
                  <a:lnTo>
                    <a:pt x="271" y="316"/>
                  </a:lnTo>
                  <a:lnTo>
                    <a:pt x="281" y="351"/>
                  </a:lnTo>
                  <a:lnTo>
                    <a:pt x="116" y="392"/>
                  </a:lnTo>
                  <a:lnTo>
                    <a:pt x="82" y="427"/>
                  </a:lnTo>
                  <a:lnTo>
                    <a:pt x="106" y="450"/>
                  </a:lnTo>
                  <a:lnTo>
                    <a:pt x="164" y="456"/>
                  </a:lnTo>
                  <a:lnTo>
                    <a:pt x="140" y="470"/>
                  </a:lnTo>
                  <a:lnTo>
                    <a:pt x="164" y="491"/>
                  </a:lnTo>
                  <a:lnTo>
                    <a:pt x="198" y="491"/>
                  </a:lnTo>
                  <a:lnTo>
                    <a:pt x="223" y="470"/>
                  </a:lnTo>
                  <a:lnTo>
                    <a:pt x="257" y="511"/>
                  </a:lnTo>
                  <a:lnTo>
                    <a:pt x="232" y="534"/>
                  </a:lnTo>
                  <a:lnTo>
                    <a:pt x="305" y="505"/>
                  </a:lnTo>
                  <a:lnTo>
                    <a:pt x="363" y="540"/>
                  </a:lnTo>
                  <a:lnTo>
                    <a:pt x="446" y="511"/>
                  </a:lnTo>
                  <a:lnTo>
                    <a:pt x="373" y="595"/>
                  </a:lnTo>
                  <a:lnTo>
                    <a:pt x="305" y="610"/>
                  </a:lnTo>
                  <a:lnTo>
                    <a:pt x="305" y="624"/>
                  </a:lnTo>
                  <a:lnTo>
                    <a:pt x="232" y="633"/>
                  </a:lnTo>
                  <a:lnTo>
                    <a:pt x="189" y="659"/>
                  </a:lnTo>
                  <a:lnTo>
                    <a:pt x="257" y="639"/>
                  </a:lnTo>
                  <a:lnTo>
                    <a:pt x="329" y="639"/>
                  </a:lnTo>
                  <a:lnTo>
                    <a:pt x="354" y="610"/>
                  </a:lnTo>
                  <a:lnTo>
                    <a:pt x="397" y="610"/>
                  </a:lnTo>
                  <a:lnTo>
                    <a:pt x="553" y="549"/>
                  </a:lnTo>
                  <a:lnTo>
                    <a:pt x="587" y="526"/>
                  </a:lnTo>
                  <a:lnTo>
                    <a:pt x="562" y="505"/>
                  </a:lnTo>
                  <a:lnTo>
                    <a:pt x="693" y="435"/>
                  </a:lnTo>
                  <a:lnTo>
                    <a:pt x="718" y="441"/>
                  </a:lnTo>
                  <a:lnTo>
                    <a:pt x="669" y="456"/>
                  </a:lnTo>
                  <a:lnTo>
                    <a:pt x="645" y="491"/>
                  </a:lnTo>
                  <a:lnTo>
                    <a:pt x="684" y="491"/>
                  </a:lnTo>
                  <a:lnTo>
                    <a:pt x="645" y="511"/>
                  </a:lnTo>
                  <a:lnTo>
                    <a:pt x="776" y="485"/>
                  </a:lnTo>
                  <a:lnTo>
                    <a:pt x="810" y="450"/>
                  </a:lnTo>
                  <a:lnTo>
                    <a:pt x="873" y="441"/>
                  </a:lnTo>
                  <a:lnTo>
                    <a:pt x="858" y="456"/>
                  </a:lnTo>
                  <a:lnTo>
                    <a:pt x="965" y="485"/>
                  </a:lnTo>
                  <a:lnTo>
                    <a:pt x="1164" y="491"/>
                  </a:lnTo>
                  <a:lnTo>
                    <a:pt x="1188" y="511"/>
                  </a:lnTo>
                  <a:lnTo>
                    <a:pt x="1222" y="534"/>
                  </a:lnTo>
                  <a:lnTo>
                    <a:pt x="1261" y="549"/>
                  </a:lnTo>
                  <a:lnTo>
                    <a:pt x="1343" y="540"/>
                  </a:lnTo>
                  <a:lnTo>
                    <a:pt x="1402" y="560"/>
                  </a:lnTo>
                  <a:lnTo>
                    <a:pt x="1402" y="584"/>
                  </a:lnTo>
                  <a:lnTo>
                    <a:pt x="1484" y="619"/>
                  </a:lnTo>
                  <a:lnTo>
                    <a:pt x="1518" y="674"/>
                  </a:lnTo>
                  <a:lnTo>
                    <a:pt x="1615" y="744"/>
                  </a:lnTo>
                  <a:lnTo>
                    <a:pt x="1625" y="787"/>
                  </a:lnTo>
                  <a:lnTo>
                    <a:pt x="1756" y="822"/>
                  </a:lnTo>
                  <a:lnTo>
                    <a:pt x="1814" y="828"/>
                  </a:lnTo>
                  <a:lnTo>
                    <a:pt x="1838" y="877"/>
                  </a:lnTo>
                  <a:lnTo>
                    <a:pt x="1756" y="877"/>
                  </a:lnTo>
                  <a:lnTo>
                    <a:pt x="1780" y="941"/>
                  </a:lnTo>
                  <a:lnTo>
                    <a:pt x="1765" y="1110"/>
                  </a:lnTo>
                  <a:lnTo>
                    <a:pt x="1848" y="1200"/>
                  </a:lnTo>
                  <a:lnTo>
                    <a:pt x="1921" y="1278"/>
                  </a:lnTo>
                  <a:lnTo>
                    <a:pt x="2003" y="1293"/>
                  </a:lnTo>
                  <a:lnTo>
                    <a:pt x="2061" y="1328"/>
                  </a:lnTo>
                  <a:lnTo>
                    <a:pt x="2120" y="1403"/>
                  </a:lnTo>
                  <a:lnTo>
                    <a:pt x="2226" y="1476"/>
                  </a:lnTo>
                  <a:lnTo>
                    <a:pt x="2260" y="1531"/>
                  </a:lnTo>
                  <a:lnTo>
                    <a:pt x="2343" y="1581"/>
                  </a:lnTo>
                  <a:lnTo>
                    <a:pt x="2382" y="1566"/>
                  </a:lnTo>
                  <a:lnTo>
                    <a:pt x="2168" y="1398"/>
                  </a:lnTo>
                  <a:lnTo>
                    <a:pt x="2154" y="1348"/>
                  </a:lnTo>
                  <a:lnTo>
                    <a:pt x="2192" y="1357"/>
                  </a:lnTo>
                  <a:lnTo>
                    <a:pt x="2275" y="1432"/>
                  </a:lnTo>
                  <a:lnTo>
                    <a:pt x="2382" y="1488"/>
                  </a:lnTo>
                  <a:lnTo>
                    <a:pt x="2382" y="1511"/>
                  </a:lnTo>
                  <a:lnTo>
                    <a:pt x="2522" y="1586"/>
                  </a:lnTo>
                  <a:lnTo>
                    <a:pt x="2547" y="1621"/>
                  </a:lnTo>
                  <a:lnTo>
                    <a:pt x="2532" y="1650"/>
                  </a:lnTo>
                  <a:lnTo>
                    <a:pt x="2566" y="1679"/>
                  </a:lnTo>
                  <a:lnTo>
                    <a:pt x="2853" y="1755"/>
                  </a:lnTo>
                  <a:lnTo>
                    <a:pt x="2984" y="1749"/>
                  </a:lnTo>
                  <a:lnTo>
                    <a:pt x="3067" y="1790"/>
                  </a:lnTo>
                  <a:lnTo>
                    <a:pt x="3159" y="1814"/>
                  </a:lnTo>
                  <a:lnTo>
                    <a:pt x="3241" y="1820"/>
                  </a:lnTo>
                  <a:lnTo>
                    <a:pt x="3324" y="1875"/>
                  </a:lnTo>
                  <a:lnTo>
                    <a:pt x="3333" y="1904"/>
                  </a:lnTo>
                  <a:lnTo>
                    <a:pt x="3358" y="1904"/>
                  </a:lnTo>
                  <a:lnTo>
                    <a:pt x="3440" y="1948"/>
                  </a:lnTo>
                  <a:lnTo>
                    <a:pt x="3537" y="1974"/>
                  </a:lnTo>
                  <a:lnTo>
                    <a:pt x="3547" y="1948"/>
                  </a:lnTo>
                  <a:lnTo>
                    <a:pt x="3595" y="1925"/>
                  </a:lnTo>
                  <a:lnTo>
                    <a:pt x="3644" y="1948"/>
                  </a:lnTo>
                  <a:lnTo>
                    <a:pt x="3644" y="1968"/>
                  </a:lnTo>
                  <a:lnTo>
                    <a:pt x="3663" y="2053"/>
                  </a:lnTo>
                  <a:lnTo>
                    <a:pt x="3561" y="2131"/>
                  </a:lnTo>
                  <a:lnTo>
                    <a:pt x="3523" y="2207"/>
                  </a:lnTo>
                  <a:lnTo>
                    <a:pt x="3523" y="2291"/>
                  </a:lnTo>
                  <a:lnTo>
                    <a:pt x="3605" y="2355"/>
                  </a:lnTo>
                  <a:lnTo>
                    <a:pt x="3712" y="2494"/>
                  </a:lnTo>
                  <a:lnTo>
                    <a:pt x="3950" y="2593"/>
                  </a:lnTo>
                  <a:lnTo>
                    <a:pt x="3959" y="2677"/>
                  </a:lnTo>
                  <a:lnTo>
                    <a:pt x="3901" y="2875"/>
                  </a:lnTo>
                  <a:lnTo>
                    <a:pt x="3901" y="2974"/>
                  </a:lnTo>
                  <a:lnTo>
                    <a:pt x="3819" y="3099"/>
                  </a:lnTo>
                  <a:lnTo>
                    <a:pt x="3809" y="3212"/>
                  </a:lnTo>
                  <a:lnTo>
                    <a:pt x="3877" y="3227"/>
                  </a:lnTo>
                  <a:lnTo>
                    <a:pt x="3867" y="3311"/>
                  </a:lnTo>
                  <a:lnTo>
                    <a:pt x="3794" y="3372"/>
                  </a:lnTo>
                  <a:lnTo>
                    <a:pt x="3785" y="3410"/>
                  </a:lnTo>
                  <a:lnTo>
                    <a:pt x="3819" y="3456"/>
                  </a:lnTo>
                  <a:lnTo>
                    <a:pt x="3809" y="3506"/>
                  </a:lnTo>
                  <a:lnTo>
                    <a:pt x="3853" y="3520"/>
                  </a:lnTo>
                  <a:lnTo>
                    <a:pt x="3853" y="3555"/>
                  </a:lnTo>
                  <a:lnTo>
                    <a:pt x="3877" y="3584"/>
                  </a:lnTo>
                  <a:lnTo>
                    <a:pt x="3925" y="3599"/>
                  </a:lnTo>
                  <a:lnTo>
                    <a:pt x="3935" y="3564"/>
                  </a:lnTo>
                  <a:lnTo>
                    <a:pt x="4032" y="3549"/>
                  </a:lnTo>
                  <a:lnTo>
                    <a:pt x="3998" y="3529"/>
                  </a:lnTo>
                  <a:lnTo>
                    <a:pt x="4056" y="3471"/>
                  </a:lnTo>
                  <a:lnTo>
                    <a:pt x="4139" y="3395"/>
                  </a:lnTo>
                  <a:lnTo>
                    <a:pt x="4066" y="3352"/>
                  </a:lnTo>
                  <a:lnTo>
                    <a:pt x="4149" y="3326"/>
                  </a:lnTo>
                  <a:lnTo>
                    <a:pt x="4221" y="3233"/>
                  </a:lnTo>
                  <a:lnTo>
                    <a:pt x="4163" y="3198"/>
                  </a:lnTo>
                  <a:lnTo>
                    <a:pt x="4265" y="3198"/>
                  </a:lnTo>
                  <a:lnTo>
                    <a:pt x="4280" y="3143"/>
                  </a:lnTo>
                  <a:lnTo>
                    <a:pt x="4454" y="3128"/>
                  </a:lnTo>
                  <a:lnTo>
                    <a:pt x="4503" y="3084"/>
                  </a:lnTo>
                  <a:lnTo>
                    <a:pt x="4430" y="3009"/>
                  </a:lnTo>
                  <a:lnTo>
                    <a:pt x="4575" y="3029"/>
                  </a:lnTo>
                  <a:lnTo>
                    <a:pt x="4634" y="2994"/>
                  </a:lnTo>
                  <a:lnTo>
                    <a:pt x="4833" y="2855"/>
                  </a:lnTo>
                  <a:lnTo>
                    <a:pt x="4842" y="2776"/>
                  </a:lnTo>
                  <a:lnTo>
                    <a:pt x="4998" y="2712"/>
                  </a:lnTo>
                  <a:lnTo>
                    <a:pt x="5129" y="2692"/>
                  </a:lnTo>
                  <a:lnTo>
                    <a:pt x="5211" y="2579"/>
                  </a:lnTo>
                  <a:lnTo>
                    <a:pt x="5221" y="2474"/>
                  </a:lnTo>
                  <a:lnTo>
                    <a:pt x="5376" y="2369"/>
                  </a:lnTo>
                  <a:lnTo>
                    <a:pt x="5361" y="2276"/>
                  </a:lnTo>
                  <a:lnTo>
                    <a:pt x="5211" y="2221"/>
                  </a:lnTo>
                  <a:lnTo>
                    <a:pt x="4998" y="2215"/>
                  </a:lnTo>
                  <a:lnTo>
                    <a:pt x="4988" y="2186"/>
                  </a:lnTo>
                  <a:lnTo>
                    <a:pt x="4891" y="2166"/>
                  </a:lnTo>
                  <a:lnTo>
                    <a:pt x="4716" y="2201"/>
                  </a:lnTo>
                  <a:lnTo>
                    <a:pt x="4726" y="2157"/>
                  </a:lnTo>
                  <a:lnTo>
                    <a:pt x="4784" y="2108"/>
                  </a:lnTo>
                  <a:lnTo>
                    <a:pt x="4716" y="2053"/>
                  </a:lnTo>
                  <a:lnTo>
                    <a:pt x="4619" y="2009"/>
                  </a:lnTo>
                  <a:lnTo>
                    <a:pt x="4493" y="2009"/>
                  </a:lnTo>
                  <a:lnTo>
                    <a:pt x="4372" y="1948"/>
                  </a:lnTo>
                  <a:lnTo>
                    <a:pt x="4328" y="1919"/>
                  </a:lnTo>
                  <a:lnTo>
                    <a:pt x="4255" y="1898"/>
                  </a:lnTo>
                  <a:lnTo>
                    <a:pt x="4042" y="1890"/>
                  </a:lnTo>
                  <a:lnTo>
                    <a:pt x="3959" y="1849"/>
                  </a:lnTo>
                  <a:lnTo>
                    <a:pt x="3916" y="1884"/>
                  </a:lnTo>
                  <a:lnTo>
                    <a:pt x="3901" y="1849"/>
                  </a:lnTo>
                  <a:lnTo>
                    <a:pt x="3760" y="1884"/>
                  </a:lnTo>
                  <a:lnTo>
                    <a:pt x="3688" y="1954"/>
                  </a:lnTo>
                  <a:lnTo>
                    <a:pt x="3663" y="1939"/>
                  </a:lnTo>
                  <a:lnTo>
                    <a:pt x="3595" y="1913"/>
                  </a:lnTo>
                  <a:lnTo>
                    <a:pt x="3513" y="1933"/>
                  </a:lnTo>
                  <a:lnTo>
                    <a:pt x="3455" y="1913"/>
                  </a:lnTo>
                  <a:lnTo>
                    <a:pt x="3416" y="1884"/>
                  </a:lnTo>
                  <a:lnTo>
                    <a:pt x="3431" y="1778"/>
                  </a:lnTo>
                  <a:lnTo>
                    <a:pt x="3358" y="1755"/>
                  </a:lnTo>
                  <a:lnTo>
                    <a:pt x="3193" y="1755"/>
                  </a:lnTo>
                  <a:lnTo>
                    <a:pt x="3241" y="1700"/>
                  </a:lnTo>
                  <a:lnTo>
                    <a:pt x="3290" y="1621"/>
                  </a:lnTo>
                  <a:lnTo>
                    <a:pt x="3241" y="1610"/>
                  </a:lnTo>
                  <a:lnTo>
                    <a:pt x="3135" y="1630"/>
                  </a:lnTo>
                  <a:lnTo>
                    <a:pt x="3086" y="1694"/>
                  </a:lnTo>
                  <a:lnTo>
                    <a:pt x="2921" y="1685"/>
                  </a:lnTo>
                  <a:lnTo>
                    <a:pt x="2839" y="1601"/>
                  </a:lnTo>
                  <a:lnTo>
                    <a:pt x="2877" y="1502"/>
                  </a:lnTo>
                  <a:lnTo>
                    <a:pt x="2863" y="1453"/>
                  </a:lnTo>
                  <a:lnTo>
                    <a:pt x="2960" y="1403"/>
                  </a:lnTo>
                  <a:lnTo>
                    <a:pt x="3076" y="1398"/>
                  </a:lnTo>
                  <a:lnTo>
                    <a:pt x="3183" y="1427"/>
                  </a:lnTo>
                  <a:lnTo>
                    <a:pt x="3183" y="1398"/>
                  </a:lnTo>
                  <a:lnTo>
                    <a:pt x="3241" y="1368"/>
                  </a:lnTo>
                  <a:lnTo>
                    <a:pt x="3406" y="1398"/>
                  </a:lnTo>
                  <a:lnTo>
                    <a:pt x="3455" y="1418"/>
                  </a:lnTo>
                  <a:lnTo>
                    <a:pt x="3455" y="1467"/>
                  </a:lnTo>
                  <a:lnTo>
                    <a:pt x="3513" y="1525"/>
                  </a:lnTo>
                  <a:lnTo>
                    <a:pt x="3537" y="1525"/>
                  </a:lnTo>
                  <a:lnTo>
                    <a:pt x="3561" y="1476"/>
                  </a:lnTo>
                  <a:lnTo>
                    <a:pt x="3498" y="1368"/>
                  </a:lnTo>
                  <a:lnTo>
                    <a:pt x="3537" y="1328"/>
                  </a:lnTo>
                  <a:lnTo>
                    <a:pt x="3736" y="1244"/>
                  </a:lnTo>
                  <a:lnTo>
                    <a:pt x="3712" y="1180"/>
                  </a:lnTo>
                  <a:lnTo>
                    <a:pt x="3736" y="1200"/>
                  </a:lnTo>
                  <a:lnTo>
                    <a:pt x="3770" y="1151"/>
                  </a:lnTo>
                  <a:lnTo>
                    <a:pt x="3809" y="1095"/>
                  </a:lnTo>
                  <a:lnTo>
                    <a:pt x="3974" y="1075"/>
                  </a:lnTo>
                  <a:lnTo>
                    <a:pt x="3925" y="1060"/>
                  </a:lnTo>
                  <a:lnTo>
                    <a:pt x="3959" y="1020"/>
                  </a:lnTo>
                  <a:lnTo>
                    <a:pt x="4090" y="982"/>
                  </a:lnTo>
                  <a:lnTo>
                    <a:pt x="4090" y="970"/>
                  </a:lnTo>
                  <a:lnTo>
                    <a:pt x="4182" y="947"/>
                  </a:lnTo>
                  <a:lnTo>
                    <a:pt x="4182" y="970"/>
                  </a:lnTo>
                  <a:lnTo>
                    <a:pt x="4246" y="962"/>
                  </a:lnTo>
                  <a:lnTo>
                    <a:pt x="4124" y="991"/>
                  </a:lnTo>
                  <a:lnTo>
                    <a:pt x="4163" y="1020"/>
                  </a:lnTo>
                  <a:lnTo>
                    <a:pt x="4207" y="991"/>
                  </a:lnTo>
                  <a:lnTo>
                    <a:pt x="4328" y="970"/>
                  </a:lnTo>
                  <a:lnTo>
                    <a:pt x="4372" y="941"/>
                  </a:lnTo>
                  <a:lnTo>
                    <a:pt x="4347" y="912"/>
                  </a:lnTo>
                  <a:lnTo>
                    <a:pt x="4313" y="956"/>
                  </a:lnTo>
                  <a:lnTo>
                    <a:pt x="4221" y="947"/>
                  </a:lnTo>
                  <a:lnTo>
                    <a:pt x="4163" y="912"/>
                  </a:lnTo>
                  <a:lnTo>
                    <a:pt x="4182" y="892"/>
                  </a:lnTo>
                  <a:lnTo>
                    <a:pt x="4115" y="886"/>
                  </a:lnTo>
                  <a:lnTo>
                    <a:pt x="4207" y="863"/>
                  </a:lnTo>
                  <a:lnTo>
                    <a:pt x="4149" y="848"/>
                  </a:lnTo>
                  <a:lnTo>
                    <a:pt x="4018" y="857"/>
                  </a:lnTo>
                  <a:lnTo>
                    <a:pt x="4115" y="813"/>
                  </a:lnTo>
                  <a:lnTo>
                    <a:pt x="4372" y="813"/>
                  </a:lnTo>
                  <a:lnTo>
                    <a:pt x="4551" y="752"/>
                  </a:lnTo>
                  <a:lnTo>
                    <a:pt x="4537" y="703"/>
                  </a:lnTo>
                  <a:lnTo>
                    <a:pt x="4493" y="709"/>
                  </a:lnTo>
                  <a:lnTo>
                    <a:pt x="4493" y="688"/>
                  </a:lnTo>
                  <a:lnTo>
                    <a:pt x="4362" y="717"/>
                  </a:lnTo>
                  <a:lnTo>
                    <a:pt x="4328" y="703"/>
                  </a:lnTo>
                  <a:lnTo>
                    <a:pt x="4478" y="674"/>
                  </a:lnTo>
                  <a:lnTo>
                    <a:pt x="4362" y="633"/>
                  </a:lnTo>
                  <a:lnTo>
                    <a:pt x="4304" y="604"/>
                  </a:lnTo>
                  <a:lnTo>
                    <a:pt x="4304" y="569"/>
                  </a:lnTo>
                  <a:lnTo>
                    <a:pt x="4246" y="555"/>
                  </a:lnTo>
                  <a:lnTo>
                    <a:pt x="4255" y="534"/>
                  </a:lnTo>
                  <a:lnTo>
                    <a:pt x="4231" y="511"/>
                  </a:lnTo>
                  <a:lnTo>
                    <a:pt x="4182" y="470"/>
                  </a:lnTo>
                  <a:lnTo>
                    <a:pt x="4149" y="491"/>
                  </a:lnTo>
                  <a:lnTo>
                    <a:pt x="4115" y="526"/>
                  </a:lnTo>
                  <a:lnTo>
                    <a:pt x="4032" y="549"/>
                  </a:lnTo>
                  <a:lnTo>
                    <a:pt x="4032" y="526"/>
                  </a:lnTo>
                  <a:lnTo>
                    <a:pt x="3935" y="540"/>
                  </a:lnTo>
                  <a:lnTo>
                    <a:pt x="3998" y="505"/>
                  </a:lnTo>
                  <a:lnTo>
                    <a:pt x="3984" y="485"/>
                  </a:lnTo>
                  <a:lnTo>
                    <a:pt x="3984" y="441"/>
                  </a:lnTo>
                  <a:lnTo>
                    <a:pt x="3901" y="441"/>
                  </a:lnTo>
                  <a:lnTo>
                    <a:pt x="3901" y="427"/>
                  </a:lnTo>
                  <a:lnTo>
                    <a:pt x="3809" y="392"/>
                  </a:lnTo>
                  <a:lnTo>
                    <a:pt x="3760" y="401"/>
                  </a:lnTo>
                  <a:lnTo>
                    <a:pt x="3654" y="392"/>
                  </a:lnTo>
                  <a:lnTo>
                    <a:pt x="3629" y="415"/>
                  </a:lnTo>
                  <a:lnTo>
                    <a:pt x="3663" y="427"/>
                  </a:lnTo>
                  <a:lnTo>
                    <a:pt x="3629" y="456"/>
                  </a:lnTo>
                  <a:lnTo>
                    <a:pt x="3678" y="499"/>
                  </a:lnTo>
                  <a:lnTo>
                    <a:pt x="3605" y="526"/>
                  </a:lnTo>
                  <a:lnTo>
                    <a:pt x="3663" y="549"/>
                  </a:lnTo>
                  <a:lnTo>
                    <a:pt x="3688" y="619"/>
                  </a:lnTo>
                  <a:lnTo>
                    <a:pt x="3571" y="674"/>
                  </a:lnTo>
                  <a:lnTo>
                    <a:pt x="3620" y="744"/>
                  </a:lnTo>
                  <a:lnTo>
                    <a:pt x="3644" y="752"/>
                  </a:lnTo>
                  <a:lnTo>
                    <a:pt x="3571" y="787"/>
                  </a:lnTo>
                  <a:lnTo>
                    <a:pt x="3513" y="787"/>
                  </a:lnTo>
                  <a:lnTo>
                    <a:pt x="3537" y="764"/>
                  </a:lnTo>
                  <a:lnTo>
                    <a:pt x="3464" y="723"/>
                  </a:lnTo>
                  <a:lnTo>
                    <a:pt x="3464" y="653"/>
                  </a:lnTo>
                  <a:lnTo>
                    <a:pt x="3333" y="645"/>
                  </a:lnTo>
                  <a:lnTo>
                    <a:pt x="3193" y="595"/>
                  </a:lnTo>
                  <a:lnTo>
                    <a:pt x="3110" y="584"/>
                  </a:lnTo>
                  <a:lnTo>
                    <a:pt x="3042" y="595"/>
                  </a:lnTo>
                  <a:lnTo>
                    <a:pt x="3028" y="526"/>
                  </a:lnTo>
                  <a:lnTo>
                    <a:pt x="2984" y="540"/>
                  </a:lnTo>
                  <a:lnTo>
                    <a:pt x="2970" y="435"/>
                  </a:lnTo>
                  <a:lnTo>
                    <a:pt x="3052" y="406"/>
                  </a:lnTo>
                  <a:lnTo>
                    <a:pt x="3052" y="377"/>
                  </a:lnTo>
                  <a:lnTo>
                    <a:pt x="3135" y="372"/>
                  </a:lnTo>
                  <a:lnTo>
                    <a:pt x="3018" y="331"/>
                  </a:lnTo>
                  <a:lnTo>
                    <a:pt x="3135" y="351"/>
                  </a:lnTo>
                  <a:lnTo>
                    <a:pt x="3159" y="331"/>
                  </a:lnTo>
                  <a:lnTo>
                    <a:pt x="3232" y="331"/>
                  </a:lnTo>
                  <a:lnTo>
                    <a:pt x="3275" y="287"/>
                  </a:lnTo>
                  <a:lnTo>
                    <a:pt x="3193" y="281"/>
                  </a:lnTo>
                  <a:lnTo>
                    <a:pt x="3159" y="258"/>
                  </a:lnTo>
                  <a:lnTo>
                    <a:pt x="3290" y="273"/>
                  </a:lnTo>
                  <a:lnTo>
                    <a:pt x="3300" y="232"/>
                  </a:lnTo>
                  <a:lnTo>
                    <a:pt x="3431" y="238"/>
                  </a:lnTo>
                  <a:lnTo>
                    <a:pt x="3498" y="209"/>
                  </a:lnTo>
                  <a:lnTo>
                    <a:pt x="3455" y="154"/>
                  </a:lnTo>
                  <a:lnTo>
                    <a:pt x="3513" y="148"/>
                  </a:lnTo>
                  <a:lnTo>
                    <a:pt x="3333" y="98"/>
                  </a:lnTo>
                  <a:lnTo>
                    <a:pt x="3372" y="139"/>
                  </a:lnTo>
                  <a:lnTo>
                    <a:pt x="3324" y="148"/>
                  </a:lnTo>
                  <a:lnTo>
                    <a:pt x="3266" y="203"/>
                  </a:lnTo>
                  <a:lnTo>
                    <a:pt x="3241" y="162"/>
                  </a:lnTo>
                  <a:lnTo>
                    <a:pt x="3183" y="119"/>
                  </a:lnTo>
                  <a:lnTo>
                    <a:pt x="3149" y="162"/>
                  </a:lnTo>
                  <a:lnTo>
                    <a:pt x="3101" y="119"/>
                  </a:lnTo>
                  <a:lnTo>
                    <a:pt x="3042" y="104"/>
                  </a:lnTo>
                  <a:lnTo>
                    <a:pt x="3052" y="84"/>
                  </a:lnTo>
                  <a:lnTo>
                    <a:pt x="3101" y="84"/>
                  </a:lnTo>
                  <a:lnTo>
                    <a:pt x="3028" y="34"/>
                  </a:lnTo>
                  <a:lnTo>
                    <a:pt x="2945" y="0"/>
                  </a:lnTo>
                  <a:lnTo>
                    <a:pt x="2902" y="34"/>
                  </a:lnTo>
                  <a:lnTo>
                    <a:pt x="2887" y="84"/>
                  </a:lnTo>
                  <a:lnTo>
                    <a:pt x="3004" y="113"/>
                  </a:lnTo>
                  <a:lnTo>
                    <a:pt x="3018" y="148"/>
                  </a:lnTo>
                  <a:lnTo>
                    <a:pt x="2921" y="168"/>
                  </a:lnTo>
                  <a:lnTo>
                    <a:pt x="2936" y="203"/>
                  </a:lnTo>
                  <a:lnTo>
                    <a:pt x="2902" y="197"/>
                  </a:lnTo>
                  <a:lnTo>
                    <a:pt x="2887" y="168"/>
                  </a:lnTo>
                  <a:lnTo>
                    <a:pt x="2819" y="183"/>
                  </a:lnTo>
                  <a:lnTo>
                    <a:pt x="2648" y="188"/>
                  </a:lnTo>
                  <a:lnTo>
                    <a:pt x="2614" y="168"/>
                  </a:lnTo>
                  <a:lnTo>
                    <a:pt x="2498" y="133"/>
                  </a:lnTo>
                  <a:lnTo>
                    <a:pt x="2391" y="162"/>
                  </a:lnTo>
                  <a:lnTo>
                    <a:pt x="2425" y="168"/>
                  </a:lnTo>
                  <a:lnTo>
                    <a:pt x="2508" y="148"/>
                  </a:lnTo>
                  <a:lnTo>
                    <a:pt x="2450" y="209"/>
                  </a:lnTo>
                  <a:lnTo>
                    <a:pt x="2343" y="168"/>
                  </a:lnTo>
                  <a:lnTo>
                    <a:pt x="2120" y="174"/>
                  </a:lnTo>
                  <a:lnTo>
                    <a:pt x="2178" y="154"/>
                  </a:lnTo>
                  <a:lnTo>
                    <a:pt x="2037" y="133"/>
                  </a:lnTo>
                  <a:lnTo>
                    <a:pt x="1824" y="98"/>
                  </a:lnTo>
                  <a:lnTo>
                    <a:pt x="1756" y="119"/>
                  </a:lnTo>
                  <a:lnTo>
                    <a:pt x="1756" y="84"/>
                  </a:lnTo>
                  <a:lnTo>
                    <a:pt x="1707" y="119"/>
                  </a:lnTo>
                  <a:lnTo>
                    <a:pt x="1625" y="78"/>
                  </a:lnTo>
                  <a:lnTo>
                    <a:pt x="1494" y="124"/>
                  </a:lnTo>
                  <a:lnTo>
                    <a:pt x="1484" y="113"/>
                  </a:lnTo>
                  <a:lnTo>
                    <a:pt x="1343" y="124"/>
                  </a:lnTo>
                  <a:lnTo>
                    <a:pt x="1368" y="154"/>
                  </a:lnTo>
                  <a:lnTo>
                    <a:pt x="1096" y="98"/>
                  </a:lnTo>
                  <a:lnTo>
                    <a:pt x="659" y="69"/>
                  </a:lnTo>
                  <a:lnTo>
                    <a:pt x="635" y="49"/>
                  </a:lnTo>
                  <a:lnTo>
                    <a:pt x="504" y="34"/>
                  </a:lnTo>
                  <a:lnTo>
                    <a:pt x="460" y="29"/>
                  </a:lnTo>
                  <a:lnTo>
                    <a:pt x="412" y="49"/>
                  </a:lnTo>
                  <a:lnTo>
                    <a:pt x="315" y="63"/>
                  </a:lnTo>
                  <a:lnTo>
                    <a:pt x="223" y="84"/>
                  </a:lnTo>
                  <a:lnTo>
                    <a:pt x="174" y="124"/>
                  </a:lnTo>
                  <a:lnTo>
                    <a:pt x="67" y="133"/>
                  </a:lnTo>
                  <a:lnTo>
                    <a:pt x="43" y="162"/>
                  </a:lnTo>
                  <a:lnTo>
                    <a:pt x="174" y="209"/>
                  </a:lnTo>
                  <a:lnTo>
                    <a:pt x="232" y="232"/>
                  </a:lnTo>
                  <a:lnTo>
                    <a:pt x="281" y="247"/>
                  </a:lnTo>
                  <a:lnTo>
                    <a:pt x="174" y="252"/>
                  </a:lnTo>
                  <a:lnTo>
                    <a:pt x="174" y="232"/>
                  </a:lnTo>
                  <a:lnTo>
                    <a:pt x="140" y="232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4680000" y="5222880"/>
              <a:ext cx="154440" cy="32040"/>
            </a:xfrm>
            <a:custGeom>
              <a:avLst/>
              <a:gdLst/>
              <a:ahLst/>
              <a:rect l="0" t="0" r="r" b="b"/>
              <a:pathLst>
                <a:path w="429" h="89">
                  <a:moveTo>
                    <a:pt x="0" y="36"/>
                  </a:moveTo>
                  <a:lnTo>
                    <a:pt x="44" y="6"/>
                  </a:lnTo>
                  <a:lnTo>
                    <a:pt x="168" y="0"/>
                  </a:lnTo>
                  <a:lnTo>
                    <a:pt x="429" y="80"/>
                  </a:lnTo>
                  <a:lnTo>
                    <a:pt x="286" y="89"/>
                  </a:lnTo>
                  <a:lnTo>
                    <a:pt x="251" y="42"/>
                  </a:lnTo>
                  <a:lnTo>
                    <a:pt x="109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834080" y="5254560"/>
              <a:ext cx="84600" cy="16200"/>
            </a:xfrm>
            <a:custGeom>
              <a:avLst/>
              <a:gdLst/>
              <a:ahLst/>
              <a:rect l="0" t="0" r="r" b="b"/>
              <a:pathLst>
                <a:path w="235" h="45">
                  <a:moveTo>
                    <a:pt x="0" y="34"/>
                  </a:moveTo>
                  <a:lnTo>
                    <a:pt x="72" y="34"/>
                  </a:lnTo>
                  <a:lnTo>
                    <a:pt x="33" y="0"/>
                  </a:lnTo>
                  <a:lnTo>
                    <a:pt x="163" y="5"/>
                  </a:lnTo>
                  <a:lnTo>
                    <a:pt x="235" y="25"/>
                  </a:lnTo>
                  <a:lnTo>
                    <a:pt x="105" y="4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4878360" y="5937120"/>
              <a:ext cx="87840" cy="27360"/>
            </a:xfrm>
            <a:custGeom>
              <a:avLst/>
              <a:gdLst/>
              <a:ahLst/>
              <a:rect l="0" t="0" r="r" b="b"/>
              <a:pathLst>
                <a:path w="244" h="76">
                  <a:moveTo>
                    <a:pt x="0" y="63"/>
                  </a:moveTo>
                  <a:lnTo>
                    <a:pt x="9" y="48"/>
                  </a:lnTo>
                  <a:lnTo>
                    <a:pt x="33" y="23"/>
                  </a:lnTo>
                  <a:lnTo>
                    <a:pt x="100" y="0"/>
                  </a:lnTo>
                  <a:lnTo>
                    <a:pt x="138" y="34"/>
                  </a:lnTo>
                  <a:lnTo>
                    <a:pt x="244" y="68"/>
                  </a:lnTo>
                  <a:lnTo>
                    <a:pt x="100" y="76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5049720" y="4935600"/>
              <a:ext cx="98640" cy="52920"/>
            </a:xfrm>
            <a:custGeom>
              <a:avLst/>
              <a:gdLst/>
              <a:ahLst/>
              <a:rect l="0" t="0" r="r" b="b"/>
              <a:pathLst>
                <a:path w="274" h="147">
                  <a:moveTo>
                    <a:pt x="0" y="118"/>
                  </a:moveTo>
                  <a:lnTo>
                    <a:pt x="117" y="5"/>
                  </a:lnTo>
                  <a:lnTo>
                    <a:pt x="166" y="0"/>
                  </a:lnTo>
                  <a:lnTo>
                    <a:pt x="142" y="49"/>
                  </a:lnTo>
                  <a:lnTo>
                    <a:pt x="166" y="75"/>
                  </a:lnTo>
                  <a:lnTo>
                    <a:pt x="240" y="69"/>
                  </a:lnTo>
                  <a:lnTo>
                    <a:pt x="264" y="103"/>
                  </a:lnTo>
                  <a:lnTo>
                    <a:pt x="274" y="124"/>
                  </a:lnTo>
                  <a:lnTo>
                    <a:pt x="215" y="147"/>
                  </a:lnTo>
                  <a:lnTo>
                    <a:pt x="215" y="113"/>
                  </a:lnTo>
                  <a:lnTo>
                    <a:pt x="131" y="124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657600" y="4859280"/>
              <a:ext cx="38520" cy="11520"/>
            </a:xfrm>
            <a:custGeom>
              <a:avLst/>
              <a:gdLst/>
              <a:ahLst/>
              <a:rect l="0" t="0" r="r" b="b"/>
              <a:pathLst>
                <a:path w="107" h="32">
                  <a:moveTo>
                    <a:pt x="0" y="13"/>
                  </a:moveTo>
                  <a:lnTo>
                    <a:pt x="34" y="32"/>
                  </a:lnTo>
                  <a:lnTo>
                    <a:pt x="107" y="7"/>
                  </a:lnTo>
                  <a:lnTo>
                    <a:pt x="34" y="0"/>
                  </a:lnTo>
                  <a:lnTo>
                    <a:pt x="3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5559480" y="4743360"/>
              <a:ext cx="160560" cy="43200"/>
            </a:xfrm>
            <a:custGeom>
              <a:avLst/>
              <a:gdLst/>
              <a:ahLst/>
              <a:rect l="0" t="0" r="r" b="b"/>
              <a:pathLst>
                <a:path w="446" h="120">
                  <a:moveTo>
                    <a:pt x="0" y="43"/>
                  </a:moveTo>
                  <a:lnTo>
                    <a:pt x="58" y="0"/>
                  </a:lnTo>
                  <a:lnTo>
                    <a:pt x="125" y="49"/>
                  </a:lnTo>
                  <a:lnTo>
                    <a:pt x="247" y="8"/>
                  </a:lnTo>
                  <a:lnTo>
                    <a:pt x="397" y="0"/>
                  </a:lnTo>
                  <a:lnTo>
                    <a:pt x="446" y="49"/>
                  </a:lnTo>
                  <a:lnTo>
                    <a:pt x="222" y="120"/>
                  </a:lnTo>
                  <a:lnTo>
                    <a:pt x="67" y="10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641840" y="4751280"/>
              <a:ext cx="93960" cy="38520"/>
            </a:xfrm>
            <a:custGeom>
              <a:avLst/>
              <a:gdLst/>
              <a:ahLst/>
              <a:rect l="0" t="0" r="r" b="b"/>
              <a:pathLst>
                <a:path w="261" h="107">
                  <a:moveTo>
                    <a:pt x="0" y="93"/>
                  </a:moveTo>
                  <a:lnTo>
                    <a:pt x="49" y="72"/>
                  </a:lnTo>
                  <a:lnTo>
                    <a:pt x="68" y="0"/>
                  </a:lnTo>
                  <a:lnTo>
                    <a:pt x="261" y="93"/>
                  </a:lnTo>
                  <a:lnTo>
                    <a:pt x="83" y="10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078440" y="4613400"/>
              <a:ext cx="159120" cy="55800"/>
            </a:xfrm>
            <a:custGeom>
              <a:avLst/>
              <a:gdLst/>
              <a:ahLst/>
              <a:rect l="0" t="0" r="r" b="b"/>
              <a:pathLst>
                <a:path w="442" h="155">
                  <a:moveTo>
                    <a:pt x="0" y="120"/>
                  </a:moveTo>
                  <a:lnTo>
                    <a:pt x="93" y="34"/>
                  </a:lnTo>
                  <a:lnTo>
                    <a:pt x="58" y="5"/>
                  </a:lnTo>
                  <a:lnTo>
                    <a:pt x="192" y="0"/>
                  </a:lnTo>
                  <a:lnTo>
                    <a:pt x="275" y="29"/>
                  </a:lnTo>
                  <a:lnTo>
                    <a:pt x="344" y="14"/>
                  </a:lnTo>
                  <a:lnTo>
                    <a:pt x="442" y="49"/>
                  </a:lnTo>
                  <a:lnTo>
                    <a:pt x="236" y="105"/>
                  </a:lnTo>
                  <a:lnTo>
                    <a:pt x="211" y="140"/>
                  </a:lnTo>
                  <a:lnTo>
                    <a:pt x="128" y="155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4179960" y="4637160"/>
              <a:ext cx="265320" cy="74880"/>
            </a:xfrm>
            <a:custGeom>
              <a:avLst/>
              <a:gdLst/>
              <a:ahLst/>
              <a:rect l="0" t="0" r="r" b="b"/>
              <a:pathLst>
                <a:path w="737" h="208">
                  <a:moveTo>
                    <a:pt x="0" y="60"/>
                  </a:moveTo>
                  <a:lnTo>
                    <a:pt x="107" y="5"/>
                  </a:lnTo>
                  <a:lnTo>
                    <a:pt x="282" y="40"/>
                  </a:lnTo>
                  <a:lnTo>
                    <a:pt x="449" y="0"/>
                  </a:lnTo>
                  <a:lnTo>
                    <a:pt x="556" y="20"/>
                  </a:lnTo>
                  <a:lnTo>
                    <a:pt x="591" y="94"/>
                  </a:lnTo>
                  <a:lnTo>
                    <a:pt x="737" y="139"/>
                  </a:lnTo>
                  <a:lnTo>
                    <a:pt x="664" y="193"/>
                  </a:lnTo>
                  <a:lnTo>
                    <a:pt x="508" y="167"/>
                  </a:lnTo>
                  <a:lnTo>
                    <a:pt x="238" y="208"/>
                  </a:lnTo>
                  <a:lnTo>
                    <a:pt x="73" y="139"/>
                  </a:lnTo>
                  <a:lnTo>
                    <a:pt x="58" y="119"/>
                  </a:lnTo>
                  <a:lnTo>
                    <a:pt x="141" y="74"/>
                  </a:lnTo>
                  <a:lnTo>
                    <a:pt x="34" y="8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6545160" y="5537160"/>
              <a:ext cx="103680" cy="119520"/>
            </a:xfrm>
            <a:custGeom>
              <a:avLst/>
              <a:gdLst/>
              <a:ahLst/>
              <a:rect l="0" t="0" r="r" b="b"/>
              <a:pathLst>
                <a:path w="288" h="332">
                  <a:moveTo>
                    <a:pt x="0" y="237"/>
                  </a:moveTo>
                  <a:lnTo>
                    <a:pt x="19" y="307"/>
                  </a:lnTo>
                  <a:lnTo>
                    <a:pt x="85" y="332"/>
                  </a:lnTo>
                  <a:lnTo>
                    <a:pt x="169" y="307"/>
                  </a:lnTo>
                  <a:lnTo>
                    <a:pt x="288" y="82"/>
                  </a:lnTo>
                  <a:lnTo>
                    <a:pt x="239" y="0"/>
                  </a:lnTo>
                  <a:lnTo>
                    <a:pt x="19" y="132"/>
                  </a:lnTo>
                  <a:lnTo>
                    <a:pt x="44" y="189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7577280" y="5522760"/>
              <a:ext cx="576720" cy="263880"/>
            </a:xfrm>
            <a:custGeom>
              <a:avLst/>
              <a:gdLst/>
              <a:ahLst/>
              <a:rect l="0" t="0" r="r" b="b"/>
              <a:pathLst>
                <a:path w="1602" h="733">
                  <a:moveTo>
                    <a:pt x="0" y="398"/>
                  </a:moveTo>
                  <a:lnTo>
                    <a:pt x="9" y="299"/>
                  </a:lnTo>
                  <a:lnTo>
                    <a:pt x="116" y="250"/>
                  </a:lnTo>
                  <a:lnTo>
                    <a:pt x="281" y="221"/>
                  </a:lnTo>
                  <a:lnTo>
                    <a:pt x="339" y="158"/>
                  </a:lnTo>
                  <a:lnTo>
                    <a:pt x="495" y="83"/>
                  </a:lnTo>
                  <a:lnTo>
                    <a:pt x="592" y="103"/>
                  </a:lnTo>
                  <a:lnTo>
                    <a:pt x="660" y="54"/>
                  </a:lnTo>
                  <a:lnTo>
                    <a:pt x="733" y="14"/>
                  </a:lnTo>
                  <a:lnTo>
                    <a:pt x="922" y="40"/>
                  </a:lnTo>
                  <a:lnTo>
                    <a:pt x="883" y="109"/>
                  </a:lnTo>
                  <a:lnTo>
                    <a:pt x="1063" y="181"/>
                  </a:lnTo>
                  <a:lnTo>
                    <a:pt x="1106" y="152"/>
                  </a:lnTo>
                  <a:lnTo>
                    <a:pt x="1131" y="34"/>
                  </a:lnTo>
                  <a:lnTo>
                    <a:pt x="1179" y="0"/>
                  </a:lnTo>
                  <a:lnTo>
                    <a:pt x="1272" y="109"/>
                  </a:lnTo>
                  <a:lnTo>
                    <a:pt x="1321" y="207"/>
                  </a:lnTo>
                  <a:lnTo>
                    <a:pt x="1428" y="242"/>
                  </a:lnTo>
                  <a:lnTo>
                    <a:pt x="1500" y="325"/>
                  </a:lnTo>
                  <a:lnTo>
                    <a:pt x="1583" y="363"/>
                  </a:lnTo>
                  <a:lnTo>
                    <a:pt x="1602" y="447"/>
                  </a:lnTo>
                  <a:lnTo>
                    <a:pt x="1593" y="522"/>
                  </a:lnTo>
                  <a:lnTo>
                    <a:pt x="1520" y="586"/>
                  </a:lnTo>
                  <a:lnTo>
                    <a:pt x="1462" y="698"/>
                  </a:lnTo>
                  <a:lnTo>
                    <a:pt x="1321" y="724"/>
                  </a:lnTo>
                  <a:lnTo>
                    <a:pt x="1263" y="704"/>
                  </a:lnTo>
                  <a:lnTo>
                    <a:pt x="1189" y="733"/>
                  </a:lnTo>
                  <a:lnTo>
                    <a:pt x="1063" y="689"/>
                  </a:lnTo>
                  <a:lnTo>
                    <a:pt x="1039" y="635"/>
                  </a:lnTo>
                  <a:lnTo>
                    <a:pt x="966" y="557"/>
                  </a:lnTo>
                  <a:lnTo>
                    <a:pt x="898" y="626"/>
                  </a:lnTo>
                  <a:lnTo>
                    <a:pt x="825" y="557"/>
                  </a:lnTo>
                  <a:lnTo>
                    <a:pt x="709" y="531"/>
                  </a:lnTo>
                  <a:lnTo>
                    <a:pt x="495" y="551"/>
                  </a:lnTo>
                  <a:lnTo>
                    <a:pt x="403" y="591"/>
                  </a:lnTo>
                  <a:lnTo>
                    <a:pt x="247" y="591"/>
                  </a:lnTo>
                  <a:lnTo>
                    <a:pt x="164" y="626"/>
                  </a:lnTo>
                  <a:lnTo>
                    <a:pt x="48" y="600"/>
                  </a:lnTo>
                  <a:lnTo>
                    <a:pt x="82" y="537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8029440" y="580536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0" y="20"/>
                  </a:moveTo>
                  <a:lnTo>
                    <a:pt x="9" y="0"/>
                  </a:lnTo>
                  <a:lnTo>
                    <a:pt x="127" y="5"/>
                  </a:lnTo>
                  <a:lnTo>
                    <a:pt x="151" y="50"/>
                  </a:lnTo>
                  <a:lnTo>
                    <a:pt x="83" y="8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8345520" y="5805360"/>
              <a:ext cx="113040" cy="65520"/>
            </a:xfrm>
            <a:custGeom>
              <a:avLst/>
              <a:gdLst/>
              <a:ahLst/>
              <a:rect l="0" t="0" r="r" b="b"/>
              <a:pathLst>
                <a:path w="314" h="182">
                  <a:moveTo>
                    <a:pt x="0" y="156"/>
                  </a:moveTo>
                  <a:lnTo>
                    <a:pt x="69" y="105"/>
                  </a:lnTo>
                  <a:lnTo>
                    <a:pt x="179" y="62"/>
                  </a:lnTo>
                  <a:lnTo>
                    <a:pt x="239" y="0"/>
                  </a:lnTo>
                  <a:lnTo>
                    <a:pt x="314" y="34"/>
                  </a:lnTo>
                  <a:lnTo>
                    <a:pt x="264" y="97"/>
                  </a:lnTo>
                  <a:lnTo>
                    <a:pt x="204" y="97"/>
                  </a:lnTo>
                  <a:lnTo>
                    <a:pt x="94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8435880" y="5742000"/>
              <a:ext cx="82800" cy="70200"/>
            </a:xfrm>
            <a:custGeom>
              <a:avLst/>
              <a:gdLst/>
              <a:ahLst/>
              <a:rect l="0" t="0" r="r" b="b"/>
              <a:pathLst>
                <a:path w="230" h="195">
                  <a:moveTo>
                    <a:pt x="0" y="0"/>
                  </a:moveTo>
                  <a:lnTo>
                    <a:pt x="129" y="68"/>
                  </a:lnTo>
                  <a:lnTo>
                    <a:pt x="230" y="91"/>
                  </a:lnTo>
                  <a:lnTo>
                    <a:pt x="211" y="132"/>
                  </a:lnTo>
                  <a:lnTo>
                    <a:pt x="129" y="195"/>
                  </a:lnTo>
                  <a:lnTo>
                    <a:pt x="47" y="137"/>
                  </a:lnTo>
                  <a:lnTo>
                    <a:pt x="90" y="103"/>
                  </a:lnTo>
                  <a:lnTo>
                    <a:pt x="81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662440" y="5091120"/>
              <a:ext cx="1005120" cy="651240"/>
            </a:xfrm>
            <a:custGeom>
              <a:avLst/>
              <a:gdLst/>
              <a:ahLst/>
              <a:rect l="0" t="0" r="r" b="b"/>
              <a:pathLst>
                <a:path w="2792" h="1809">
                  <a:moveTo>
                    <a:pt x="96" y="656"/>
                  </a:moveTo>
                  <a:lnTo>
                    <a:pt x="106" y="676"/>
                  </a:lnTo>
                  <a:lnTo>
                    <a:pt x="179" y="717"/>
                  </a:lnTo>
                  <a:lnTo>
                    <a:pt x="247" y="766"/>
                  </a:lnTo>
                  <a:lnTo>
                    <a:pt x="411" y="830"/>
                  </a:lnTo>
                  <a:lnTo>
                    <a:pt x="634" y="830"/>
                  </a:lnTo>
                  <a:lnTo>
                    <a:pt x="906" y="795"/>
                  </a:lnTo>
                  <a:lnTo>
                    <a:pt x="964" y="836"/>
                  </a:lnTo>
                  <a:lnTo>
                    <a:pt x="1046" y="824"/>
                  </a:lnTo>
                  <a:lnTo>
                    <a:pt x="1070" y="958"/>
                  </a:lnTo>
                  <a:lnTo>
                    <a:pt x="1201" y="1063"/>
                  </a:lnTo>
                  <a:lnTo>
                    <a:pt x="1274" y="1203"/>
                  </a:lnTo>
                  <a:lnTo>
                    <a:pt x="1187" y="1367"/>
                  </a:lnTo>
                  <a:lnTo>
                    <a:pt x="1293" y="1501"/>
                  </a:lnTo>
                  <a:lnTo>
                    <a:pt x="1332" y="1626"/>
                  </a:lnTo>
                  <a:lnTo>
                    <a:pt x="1459" y="1809"/>
                  </a:lnTo>
                  <a:lnTo>
                    <a:pt x="1813" y="1789"/>
                  </a:lnTo>
                  <a:lnTo>
                    <a:pt x="2026" y="1655"/>
                  </a:lnTo>
                  <a:lnTo>
                    <a:pt x="2036" y="1577"/>
                  </a:lnTo>
                  <a:lnTo>
                    <a:pt x="2142" y="1542"/>
                  </a:lnTo>
                  <a:lnTo>
                    <a:pt x="2118" y="1431"/>
                  </a:lnTo>
                  <a:lnTo>
                    <a:pt x="2346" y="1316"/>
                  </a:lnTo>
                  <a:lnTo>
                    <a:pt x="2356" y="1197"/>
                  </a:lnTo>
                  <a:lnTo>
                    <a:pt x="2283" y="1092"/>
                  </a:lnTo>
                  <a:lnTo>
                    <a:pt x="2404" y="979"/>
                  </a:lnTo>
                  <a:lnTo>
                    <a:pt x="2637" y="845"/>
                  </a:lnTo>
                  <a:lnTo>
                    <a:pt x="2792" y="691"/>
                  </a:lnTo>
                  <a:lnTo>
                    <a:pt x="2768" y="647"/>
                  </a:lnTo>
                  <a:lnTo>
                    <a:pt x="2535" y="691"/>
                  </a:lnTo>
                  <a:lnTo>
                    <a:pt x="2462" y="626"/>
                  </a:lnTo>
                  <a:lnTo>
                    <a:pt x="2322" y="571"/>
                  </a:lnTo>
                  <a:lnTo>
                    <a:pt x="2273" y="493"/>
                  </a:lnTo>
                  <a:lnTo>
                    <a:pt x="2157" y="343"/>
                  </a:lnTo>
                  <a:lnTo>
                    <a:pt x="2026" y="195"/>
                  </a:lnTo>
                  <a:lnTo>
                    <a:pt x="1953" y="148"/>
                  </a:lnTo>
                  <a:lnTo>
                    <a:pt x="1886" y="168"/>
                  </a:lnTo>
                  <a:lnTo>
                    <a:pt x="1721" y="148"/>
                  </a:lnTo>
                  <a:lnTo>
                    <a:pt x="1522" y="133"/>
                  </a:lnTo>
                  <a:lnTo>
                    <a:pt x="1474" y="183"/>
                  </a:lnTo>
                  <a:lnTo>
                    <a:pt x="1318" y="125"/>
                  </a:lnTo>
                  <a:lnTo>
                    <a:pt x="1104" y="84"/>
                  </a:lnTo>
                  <a:lnTo>
                    <a:pt x="1167" y="0"/>
                  </a:lnTo>
                  <a:lnTo>
                    <a:pt x="1070" y="0"/>
                  </a:lnTo>
                  <a:lnTo>
                    <a:pt x="775" y="5"/>
                  </a:lnTo>
                  <a:lnTo>
                    <a:pt x="625" y="49"/>
                  </a:lnTo>
                  <a:lnTo>
                    <a:pt x="484" y="34"/>
                  </a:lnTo>
                  <a:lnTo>
                    <a:pt x="353" y="119"/>
                  </a:lnTo>
                  <a:lnTo>
                    <a:pt x="305" y="209"/>
                  </a:lnTo>
                  <a:lnTo>
                    <a:pt x="188" y="244"/>
                  </a:lnTo>
                  <a:lnTo>
                    <a:pt x="33" y="422"/>
                  </a:lnTo>
                  <a:lnTo>
                    <a:pt x="72" y="487"/>
                  </a:lnTo>
                  <a:lnTo>
                    <a:pt x="0" y="577"/>
                  </a:lnTo>
                  <a:lnTo>
                    <a:pt x="96" y="6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827840" y="5432400"/>
              <a:ext cx="292320" cy="86040"/>
            </a:xfrm>
            <a:custGeom>
              <a:avLst/>
              <a:gdLst/>
              <a:ahLst/>
              <a:rect l="0" t="0" r="r" b="b"/>
              <a:pathLst>
                <a:path w="812" h="239">
                  <a:moveTo>
                    <a:pt x="0" y="20"/>
                  </a:moveTo>
                  <a:lnTo>
                    <a:pt x="120" y="43"/>
                  </a:lnTo>
                  <a:lnTo>
                    <a:pt x="72" y="84"/>
                  </a:lnTo>
                  <a:lnTo>
                    <a:pt x="294" y="120"/>
                  </a:lnTo>
                  <a:lnTo>
                    <a:pt x="284" y="198"/>
                  </a:lnTo>
                  <a:lnTo>
                    <a:pt x="483" y="218"/>
                  </a:lnTo>
                  <a:lnTo>
                    <a:pt x="541" y="178"/>
                  </a:lnTo>
                  <a:lnTo>
                    <a:pt x="812" y="239"/>
                  </a:lnTo>
                  <a:lnTo>
                    <a:pt x="672" y="143"/>
                  </a:lnTo>
                  <a:lnTo>
                    <a:pt x="284" y="20"/>
                  </a:lnTo>
                  <a:lnTo>
                    <a:pt x="6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7696080" y="5345280"/>
              <a:ext cx="57600" cy="35280"/>
            </a:xfrm>
            <a:custGeom>
              <a:avLst/>
              <a:gdLst/>
              <a:ahLst/>
              <a:rect l="0" t="0" r="r" b="b"/>
              <a:pathLst>
                <a:path w="160" h="98">
                  <a:moveTo>
                    <a:pt x="0" y="62"/>
                  </a:moveTo>
                  <a:lnTo>
                    <a:pt x="32" y="35"/>
                  </a:lnTo>
                  <a:lnTo>
                    <a:pt x="137" y="0"/>
                  </a:lnTo>
                  <a:lnTo>
                    <a:pt x="160" y="56"/>
                  </a:lnTo>
                  <a:lnTo>
                    <a:pt x="137" y="98"/>
                  </a:lnTo>
                  <a:lnTo>
                    <a:pt x="71" y="4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7666200" y="5262480"/>
              <a:ext cx="59040" cy="57600"/>
            </a:xfrm>
            <a:custGeom>
              <a:avLst/>
              <a:gdLst/>
              <a:ahLst/>
              <a:rect l="0" t="0" r="r" b="b"/>
              <a:pathLst>
                <a:path w="164" h="160">
                  <a:moveTo>
                    <a:pt x="0" y="66"/>
                  </a:moveTo>
                  <a:lnTo>
                    <a:pt x="33" y="0"/>
                  </a:lnTo>
                  <a:lnTo>
                    <a:pt x="92" y="8"/>
                  </a:lnTo>
                  <a:lnTo>
                    <a:pt x="106" y="45"/>
                  </a:lnTo>
                  <a:lnTo>
                    <a:pt x="57" y="87"/>
                  </a:lnTo>
                  <a:lnTo>
                    <a:pt x="164" y="160"/>
                  </a:lnTo>
                  <a:lnTo>
                    <a:pt x="33" y="12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650000" y="5415120"/>
              <a:ext cx="92520" cy="63720"/>
            </a:xfrm>
            <a:custGeom>
              <a:avLst/>
              <a:gdLst/>
              <a:ahLst/>
              <a:rect l="0" t="0" r="r" b="b"/>
              <a:pathLst>
                <a:path w="257" h="177">
                  <a:moveTo>
                    <a:pt x="0" y="107"/>
                  </a:moveTo>
                  <a:lnTo>
                    <a:pt x="23" y="168"/>
                  </a:lnTo>
                  <a:lnTo>
                    <a:pt x="105" y="177"/>
                  </a:lnTo>
                  <a:lnTo>
                    <a:pt x="162" y="148"/>
                  </a:lnTo>
                  <a:lnTo>
                    <a:pt x="105" y="83"/>
                  </a:lnTo>
                  <a:lnTo>
                    <a:pt x="219" y="28"/>
                  </a:lnTo>
                  <a:lnTo>
                    <a:pt x="257" y="0"/>
                  </a:lnTo>
                  <a:lnTo>
                    <a:pt x="95" y="8"/>
                  </a:lnTo>
                  <a:lnTo>
                    <a:pt x="56" y="23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7508880" y="5369040"/>
              <a:ext cx="149760" cy="98640"/>
            </a:xfrm>
            <a:custGeom>
              <a:avLst/>
              <a:gdLst/>
              <a:ahLst/>
              <a:rect l="0" t="0" r="r" b="b"/>
              <a:pathLst>
                <a:path w="416" h="274">
                  <a:moveTo>
                    <a:pt x="0" y="162"/>
                  </a:moveTo>
                  <a:lnTo>
                    <a:pt x="24" y="132"/>
                  </a:lnTo>
                  <a:lnTo>
                    <a:pt x="333" y="0"/>
                  </a:lnTo>
                  <a:lnTo>
                    <a:pt x="416" y="43"/>
                  </a:lnTo>
                  <a:lnTo>
                    <a:pt x="333" y="83"/>
                  </a:lnTo>
                  <a:lnTo>
                    <a:pt x="357" y="147"/>
                  </a:lnTo>
                  <a:lnTo>
                    <a:pt x="239" y="274"/>
                  </a:lnTo>
                  <a:lnTo>
                    <a:pt x="48" y="245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7453440" y="5481720"/>
              <a:ext cx="132120" cy="25920"/>
            </a:xfrm>
            <a:custGeom>
              <a:avLst/>
              <a:gdLst/>
              <a:ahLst/>
              <a:rect l="0" t="0" r="r" b="b"/>
              <a:pathLst>
                <a:path w="367" h="72">
                  <a:moveTo>
                    <a:pt x="0" y="21"/>
                  </a:moveTo>
                  <a:lnTo>
                    <a:pt x="19" y="0"/>
                  </a:lnTo>
                  <a:lnTo>
                    <a:pt x="284" y="21"/>
                  </a:lnTo>
                  <a:lnTo>
                    <a:pt x="367" y="50"/>
                  </a:lnTo>
                  <a:lnTo>
                    <a:pt x="367" y="72"/>
                  </a:lnTo>
                  <a:lnTo>
                    <a:pt x="68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304040" y="5380200"/>
              <a:ext cx="163800" cy="101880"/>
            </a:xfrm>
            <a:custGeom>
              <a:avLst/>
              <a:gdLst/>
              <a:ahLst/>
              <a:rect l="0" t="0" r="r" b="b"/>
              <a:pathLst>
                <a:path w="455" h="283">
                  <a:moveTo>
                    <a:pt x="0" y="0"/>
                  </a:moveTo>
                  <a:lnTo>
                    <a:pt x="97" y="14"/>
                  </a:lnTo>
                  <a:lnTo>
                    <a:pt x="337" y="113"/>
                  </a:lnTo>
                  <a:lnTo>
                    <a:pt x="347" y="158"/>
                  </a:lnTo>
                  <a:lnTo>
                    <a:pt x="455" y="213"/>
                  </a:lnTo>
                  <a:lnTo>
                    <a:pt x="396" y="283"/>
                  </a:lnTo>
                  <a:lnTo>
                    <a:pt x="298" y="242"/>
                  </a:lnTo>
                  <a:lnTo>
                    <a:pt x="156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7959600" y="5003640"/>
              <a:ext cx="84600" cy="38520"/>
            </a:xfrm>
            <a:custGeom>
              <a:avLst/>
              <a:gdLst/>
              <a:ahLst/>
              <a:rect l="0" t="0" r="r" b="b"/>
              <a:pathLst>
                <a:path w="235" h="107">
                  <a:moveTo>
                    <a:pt x="0" y="96"/>
                  </a:moveTo>
                  <a:lnTo>
                    <a:pt x="24" y="96"/>
                  </a:lnTo>
                  <a:lnTo>
                    <a:pt x="127" y="107"/>
                  </a:lnTo>
                  <a:lnTo>
                    <a:pt x="235" y="65"/>
                  </a:lnTo>
                  <a:lnTo>
                    <a:pt x="225" y="36"/>
                  </a:lnTo>
                  <a:lnTo>
                    <a:pt x="83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7983360" y="4902120"/>
              <a:ext cx="47880" cy="97200"/>
            </a:xfrm>
            <a:custGeom>
              <a:avLst/>
              <a:gdLst/>
              <a:ahLst/>
              <a:rect l="0" t="0" r="r" b="b"/>
              <a:pathLst>
                <a:path w="133" h="270">
                  <a:moveTo>
                    <a:pt x="0" y="64"/>
                  </a:moveTo>
                  <a:lnTo>
                    <a:pt x="24" y="270"/>
                  </a:lnTo>
                  <a:lnTo>
                    <a:pt x="133" y="185"/>
                  </a:lnTo>
                  <a:lnTo>
                    <a:pt x="3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827840" y="504684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213"/>
                  </a:moveTo>
                  <a:lnTo>
                    <a:pt x="72" y="170"/>
                  </a:lnTo>
                  <a:lnTo>
                    <a:pt x="203" y="170"/>
                  </a:lnTo>
                  <a:lnTo>
                    <a:pt x="261" y="114"/>
                  </a:lnTo>
                  <a:lnTo>
                    <a:pt x="354" y="79"/>
                  </a:lnTo>
                  <a:lnTo>
                    <a:pt x="426" y="0"/>
                  </a:lnTo>
                  <a:lnTo>
                    <a:pt x="460" y="58"/>
                  </a:lnTo>
                  <a:lnTo>
                    <a:pt x="393" y="178"/>
                  </a:lnTo>
                  <a:lnTo>
                    <a:pt x="237" y="204"/>
                  </a:lnTo>
                  <a:lnTo>
                    <a:pt x="131" y="199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085160" y="534528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0" y="0"/>
                  </a:moveTo>
                  <a:lnTo>
                    <a:pt x="14" y="94"/>
                  </a:lnTo>
                  <a:lnTo>
                    <a:pt x="72" y="73"/>
                  </a:lnTo>
                  <a:lnTo>
                    <a:pt x="3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073920" y="4513320"/>
              <a:ext cx="159120" cy="66960"/>
            </a:xfrm>
            <a:custGeom>
              <a:avLst/>
              <a:gdLst/>
              <a:ahLst/>
              <a:rect l="0" t="0" r="r" b="b"/>
              <a:pathLst>
                <a:path w="442" h="186">
                  <a:moveTo>
                    <a:pt x="0" y="20"/>
                  </a:moveTo>
                  <a:lnTo>
                    <a:pt x="0" y="44"/>
                  </a:lnTo>
                  <a:lnTo>
                    <a:pt x="83" y="100"/>
                  </a:lnTo>
                  <a:lnTo>
                    <a:pt x="201" y="85"/>
                  </a:lnTo>
                  <a:lnTo>
                    <a:pt x="118" y="115"/>
                  </a:lnTo>
                  <a:lnTo>
                    <a:pt x="216" y="142"/>
                  </a:lnTo>
                  <a:lnTo>
                    <a:pt x="133" y="142"/>
                  </a:lnTo>
                  <a:lnTo>
                    <a:pt x="260" y="186"/>
                  </a:lnTo>
                  <a:lnTo>
                    <a:pt x="442" y="64"/>
                  </a:lnTo>
                  <a:lnTo>
                    <a:pt x="226" y="0"/>
                  </a:lnTo>
                  <a:lnTo>
                    <a:pt x="236" y="64"/>
                  </a:lnTo>
                  <a:lnTo>
                    <a:pt x="15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183360" y="4502160"/>
              <a:ext cx="132120" cy="27360"/>
            </a:xfrm>
            <a:custGeom>
              <a:avLst/>
              <a:gdLst/>
              <a:ahLst/>
              <a:rect l="0" t="0" r="r" b="b"/>
              <a:pathLst>
                <a:path w="367" h="76">
                  <a:moveTo>
                    <a:pt x="0" y="37"/>
                  </a:moveTo>
                  <a:lnTo>
                    <a:pt x="58" y="56"/>
                  </a:lnTo>
                  <a:lnTo>
                    <a:pt x="201" y="76"/>
                  </a:lnTo>
                  <a:lnTo>
                    <a:pt x="367" y="37"/>
                  </a:lnTo>
                  <a:lnTo>
                    <a:pt x="274" y="8"/>
                  </a:lnTo>
                  <a:lnTo>
                    <a:pt x="165" y="37"/>
                  </a:lnTo>
                  <a:lnTo>
                    <a:pt x="58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218280" y="4549680"/>
              <a:ext cx="63720" cy="18000"/>
            </a:xfrm>
            <a:custGeom>
              <a:avLst/>
              <a:gdLst/>
              <a:ahLst/>
              <a:rect l="0" t="0" r="r" b="b"/>
              <a:pathLst>
                <a:path w="177" h="50">
                  <a:moveTo>
                    <a:pt x="0" y="41"/>
                  </a:moveTo>
                  <a:lnTo>
                    <a:pt x="23" y="15"/>
                  </a:lnTo>
                  <a:lnTo>
                    <a:pt x="96" y="0"/>
                  </a:lnTo>
                  <a:lnTo>
                    <a:pt x="177" y="20"/>
                  </a:lnTo>
                  <a:lnTo>
                    <a:pt x="71" y="5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667560" y="4638600"/>
              <a:ext cx="89280" cy="38520"/>
            </a:xfrm>
            <a:custGeom>
              <a:avLst/>
              <a:gdLst/>
              <a:ahLst/>
              <a:rect l="0" t="0" r="r" b="b"/>
              <a:pathLst>
                <a:path w="248" h="107">
                  <a:moveTo>
                    <a:pt x="0" y="50"/>
                  </a:moveTo>
                  <a:lnTo>
                    <a:pt x="107" y="81"/>
                  </a:lnTo>
                  <a:lnTo>
                    <a:pt x="92" y="107"/>
                  </a:lnTo>
                  <a:lnTo>
                    <a:pt x="248" y="107"/>
                  </a:lnTo>
                  <a:lnTo>
                    <a:pt x="165" y="14"/>
                  </a:lnTo>
                  <a:lnTo>
                    <a:pt x="73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697800" y="4572000"/>
              <a:ext cx="209880" cy="65520"/>
            </a:xfrm>
            <a:custGeom>
              <a:avLst/>
              <a:gdLst/>
              <a:ahLst/>
              <a:rect l="0" t="0" r="r" b="b"/>
              <a:pathLst>
                <a:path w="583" h="182">
                  <a:moveTo>
                    <a:pt x="0" y="154"/>
                  </a:moveTo>
                  <a:lnTo>
                    <a:pt x="129" y="182"/>
                  </a:lnTo>
                  <a:lnTo>
                    <a:pt x="279" y="98"/>
                  </a:lnTo>
                  <a:lnTo>
                    <a:pt x="583" y="40"/>
                  </a:lnTo>
                  <a:lnTo>
                    <a:pt x="563" y="0"/>
                  </a:lnTo>
                  <a:lnTo>
                    <a:pt x="294" y="34"/>
                  </a:lnTo>
                  <a:lnTo>
                    <a:pt x="81" y="89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5770440" y="4888080"/>
              <a:ext cx="66960" cy="43200"/>
            </a:xfrm>
            <a:custGeom>
              <a:avLst/>
              <a:gdLst/>
              <a:ahLst/>
              <a:rect l="0" t="0" r="r" b="b"/>
              <a:pathLst>
                <a:path w="186" h="120">
                  <a:moveTo>
                    <a:pt x="15" y="120"/>
                  </a:moveTo>
                  <a:lnTo>
                    <a:pt x="161" y="113"/>
                  </a:lnTo>
                  <a:lnTo>
                    <a:pt x="186" y="30"/>
                  </a:lnTo>
                  <a:lnTo>
                    <a:pt x="111" y="0"/>
                  </a:lnTo>
                  <a:lnTo>
                    <a:pt x="0" y="51"/>
                  </a:lnTo>
                  <a:lnTo>
                    <a:pt x="50" y="83"/>
                  </a:lnTo>
                  <a:lnTo>
                    <a:pt x="15" y="1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5832360" y="4849920"/>
              <a:ext cx="108360" cy="105120"/>
            </a:xfrm>
            <a:custGeom>
              <a:avLst/>
              <a:gdLst/>
              <a:ahLst/>
              <a:rect l="0" t="0" r="r" b="b"/>
              <a:pathLst>
                <a:path w="301" h="292">
                  <a:moveTo>
                    <a:pt x="0" y="70"/>
                  </a:moveTo>
                  <a:lnTo>
                    <a:pt x="47" y="0"/>
                  </a:lnTo>
                  <a:lnTo>
                    <a:pt x="105" y="0"/>
                  </a:lnTo>
                  <a:lnTo>
                    <a:pt x="71" y="35"/>
                  </a:lnTo>
                  <a:lnTo>
                    <a:pt x="162" y="41"/>
                  </a:lnTo>
                  <a:lnTo>
                    <a:pt x="105" y="91"/>
                  </a:lnTo>
                  <a:lnTo>
                    <a:pt x="177" y="105"/>
                  </a:lnTo>
                  <a:lnTo>
                    <a:pt x="244" y="171"/>
                  </a:lnTo>
                  <a:lnTo>
                    <a:pt x="235" y="197"/>
                  </a:lnTo>
                  <a:lnTo>
                    <a:pt x="301" y="206"/>
                  </a:lnTo>
                  <a:lnTo>
                    <a:pt x="292" y="256"/>
                  </a:lnTo>
                  <a:lnTo>
                    <a:pt x="14" y="292"/>
                  </a:lnTo>
                  <a:lnTo>
                    <a:pt x="105" y="247"/>
                  </a:lnTo>
                  <a:lnTo>
                    <a:pt x="23" y="227"/>
                  </a:lnTo>
                  <a:lnTo>
                    <a:pt x="47" y="197"/>
                  </a:lnTo>
                  <a:lnTo>
                    <a:pt x="119" y="177"/>
                  </a:lnTo>
                  <a:lnTo>
                    <a:pt x="119" y="126"/>
                  </a:lnTo>
                  <a:lnTo>
                    <a:pt x="38" y="135"/>
                  </a:lnTo>
                  <a:lnTo>
                    <a:pt x="23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35760" y="5048280"/>
              <a:ext cx="25920" cy="24120"/>
            </a:xfrm>
            <a:custGeom>
              <a:avLst/>
              <a:gdLst/>
              <a:ahLst/>
              <a:rect l="0" t="0" r="r" b="b"/>
              <a:pathLst>
                <a:path w="72" h="67">
                  <a:moveTo>
                    <a:pt x="0" y="6"/>
                  </a:moveTo>
                  <a:lnTo>
                    <a:pt x="10" y="60"/>
                  </a:lnTo>
                  <a:lnTo>
                    <a:pt x="36" y="67"/>
                  </a:lnTo>
                  <a:lnTo>
                    <a:pt x="72" y="22"/>
                  </a:lnTo>
                  <a:lnTo>
                    <a:pt x="5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099120" y="50785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0" y="5"/>
                  </a:moveTo>
                  <a:lnTo>
                    <a:pt x="105" y="41"/>
                  </a:lnTo>
                  <a:lnTo>
                    <a:pt x="1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783400" y="4559400"/>
              <a:ext cx="2910240" cy="856080"/>
            </a:xfrm>
            <a:custGeom>
              <a:avLst/>
              <a:gdLst/>
              <a:ahLst/>
              <a:rect l="0" t="0" r="r" b="b"/>
              <a:pathLst>
                <a:path w="8084" h="2378">
                  <a:moveTo>
                    <a:pt x="1685" y="1675"/>
                  </a:moveTo>
                  <a:lnTo>
                    <a:pt x="1792" y="1684"/>
                  </a:lnTo>
                  <a:lnTo>
                    <a:pt x="1923" y="1833"/>
                  </a:lnTo>
                  <a:lnTo>
                    <a:pt x="2025" y="1937"/>
                  </a:lnTo>
                  <a:lnTo>
                    <a:pt x="2098" y="2021"/>
                  </a:lnTo>
                  <a:lnTo>
                    <a:pt x="2132" y="2111"/>
                  </a:lnTo>
                  <a:lnTo>
                    <a:pt x="2346" y="2077"/>
                  </a:lnTo>
                  <a:lnTo>
                    <a:pt x="2593" y="2001"/>
                  </a:lnTo>
                  <a:lnTo>
                    <a:pt x="2710" y="1952"/>
                  </a:lnTo>
                  <a:lnTo>
                    <a:pt x="2793" y="1868"/>
                  </a:lnTo>
                  <a:lnTo>
                    <a:pt x="2642" y="1774"/>
                  </a:lnTo>
                  <a:lnTo>
                    <a:pt x="2559" y="1824"/>
                  </a:lnTo>
                  <a:lnTo>
                    <a:pt x="2487" y="1818"/>
                  </a:lnTo>
                  <a:lnTo>
                    <a:pt x="2428" y="1804"/>
                  </a:lnTo>
                  <a:lnTo>
                    <a:pt x="2336" y="1704"/>
                  </a:lnTo>
                  <a:lnTo>
                    <a:pt x="2321" y="1669"/>
                  </a:lnTo>
                  <a:lnTo>
                    <a:pt x="2394" y="1669"/>
                  </a:lnTo>
                  <a:lnTo>
                    <a:pt x="2453" y="1724"/>
                  </a:lnTo>
                  <a:lnTo>
                    <a:pt x="2700" y="1782"/>
                  </a:lnTo>
                  <a:lnTo>
                    <a:pt x="3065" y="1789"/>
                  </a:lnTo>
                  <a:lnTo>
                    <a:pt x="3220" y="1908"/>
                  </a:lnTo>
                  <a:lnTo>
                    <a:pt x="3278" y="1902"/>
                  </a:lnTo>
                  <a:lnTo>
                    <a:pt x="3376" y="2036"/>
                  </a:lnTo>
                  <a:lnTo>
                    <a:pt x="3419" y="2120"/>
                  </a:lnTo>
                  <a:lnTo>
                    <a:pt x="3502" y="2225"/>
                  </a:lnTo>
                  <a:lnTo>
                    <a:pt x="3609" y="2169"/>
                  </a:lnTo>
                  <a:lnTo>
                    <a:pt x="3623" y="2036"/>
                  </a:lnTo>
                  <a:lnTo>
                    <a:pt x="3939" y="1873"/>
                  </a:lnTo>
                  <a:lnTo>
                    <a:pt x="4022" y="1882"/>
                  </a:lnTo>
                  <a:lnTo>
                    <a:pt x="4081" y="1859"/>
                  </a:lnTo>
                  <a:lnTo>
                    <a:pt x="4202" y="1972"/>
                  </a:lnTo>
                  <a:lnTo>
                    <a:pt x="4202" y="2027"/>
                  </a:lnTo>
                  <a:lnTo>
                    <a:pt x="4295" y="1992"/>
                  </a:lnTo>
                  <a:lnTo>
                    <a:pt x="4353" y="2219"/>
                  </a:lnTo>
                  <a:lnTo>
                    <a:pt x="4435" y="2259"/>
                  </a:lnTo>
                  <a:lnTo>
                    <a:pt x="4484" y="2344"/>
                  </a:lnTo>
                  <a:lnTo>
                    <a:pt x="4591" y="2378"/>
                  </a:lnTo>
                  <a:lnTo>
                    <a:pt x="4567" y="2294"/>
                  </a:lnTo>
                  <a:lnTo>
                    <a:pt x="4450" y="2239"/>
                  </a:lnTo>
                  <a:lnTo>
                    <a:pt x="4392" y="2169"/>
                  </a:lnTo>
                  <a:lnTo>
                    <a:pt x="4435" y="2085"/>
                  </a:lnTo>
                  <a:lnTo>
                    <a:pt x="4567" y="2161"/>
                  </a:lnTo>
                  <a:lnTo>
                    <a:pt x="4625" y="2210"/>
                  </a:lnTo>
                  <a:lnTo>
                    <a:pt x="4805" y="2135"/>
                  </a:lnTo>
                  <a:lnTo>
                    <a:pt x="4780" y="2042"/>
                  </a:lnTo>
                  <a:lnTo>
                    <a:pt x="4649" y="1958"/>
                  </a:lnTo>
                  <a:lnTo>
                    <a:pt x="4756" y="1888"/>
                  </a:lnTo>
                  <a:lnTo>
                    <a:pt x="4839" y="1923"/>
                  </a:lnTo>
                  <a:lnTo>
                    <a:pt x="4955" y="1882"/>
                  </a:lnTo>
                  <a:lnTo>
                    <a:pt x="5179" y="1810"/>
                  </a:lnTo>
                  <a:lnTo>
                    <a:pt x="5310" y="1629"/>
                  </a:lnTo>
                  <a:lnTo>
                    <a:pt x="5203" y="1536"/>
                  </a:lnTo>
                  <a:lnTo>
                    <a:pt x="5344" y="1472"/>
                  </a:lnTo>
                  <a:lnTo>
                    <a:pt x="5276" y="1460"/>
                  </a:lnTo>
                  <a:lnTo>
                    <a:pt x="5203" y="1472"/>
                  </a:lnTo>
                  <a:lnTo>
                    <a:pt x="5145" y="1437"/>
                  </a:lnTo>
                  <a:lnTo>
                    <a:pt x="5310" y="1367"/>
                  </a:lnTo>
                  <a:lnTo>
                    <a:pt x="5286" y="1431"/>
                  </a:lnTo>
                  <a:lnTo>
                    <a:pt x="5465" y="1411"/>
                  </a:lnTo>
                  <a:lnTo>
                    <a:pt x="5509" y="1460"/>
                  </a:lnTo>
                  <a:lnTo>
                    <a:pt x="5490" y="1550"/>
                  </a:lnTo>
                  <a:lnTo>
                    <a:pt x="5630" y="1507"/>
                  </a:lnTo>
                  <a:lnTo>
                    <a:pt x="5548" y="1402"/>
                  </a:lnTo>
                  <a:lnTo>
                    <a:pt x="5723" y="1298"/>
                  </a:lnTo>
                  <a:lnTo>
                    <a:pt x="5781" y="1318"/>
                  </a:lnTo>
                  <a:lnTo>
                    <a:pt x="6068" y="1144"/>
                  </a:lnTo>
                  <a:lnTo>
                    <a:pt x="6111" y="1025"/>
                  </a:lnTo>
                  <a:lnTo>
                    <a:pt x="6043" y="952"/>
                  </a:lnTo>
                  <a:lnTo>
                    <a:pt x="5854" y="941"/>
                  </a:lnTo>
                  <a:lnTo>
                    <a:pt x="6160" y="784"/>
                  </a:lnTo>
                  <a:lnTo>
                    <a:pt x="6408" y="784"/>
                  </a:lnTo>
                  <a:lnTo>
                    <a:pt x="6646" y="784"/>
                  </a:lnTo>
                  <a:lnTo>
                    <a:pt x="6753" y="694"/>
                  </a:lnTo>
                  <a:lnTo>
                    <a:pt x="6879" y="688"/>
                  </a:lnTo>
                  <a:lnTo>
                    <a:pt x="6869" y="738"/>
                  </a:lnTo>
                  <a:lnTo>
                    <a:pt x="7034" y="674"/>
                  </a:lnTo>
                  <a:lnTo>
                    <a:pt x="6728" y="833"/>
                  </a:lnTo>
                  <a:lnTo>
                    <a:pt x="6689" y="877"/>
                  </a:lnTo>
                  <a:lnTo>
                    <a:pt x="6728" y="1066"/>
                  </a:lnTo>
                  <a:lnTo>
                    <a:pt x="6937" y="941"/>
                  </a:lnTo>
                  <a:lnTo>
                    <a:pt x="6937" y="828"/>
                  </a:lnTo>
                  <a:lnTo>
                    <a:pt x="7000" y="764"/>
                  </a:lnTo>
                  <a:lnTo>
                    <a:pt x="7185" y="738"/>
                  </a:lnTo>
                  <a:lnTo>
                    <a:pt x="7282" y="764"/>
                  </a:lnTo>
                  <a:lnTo>
                    <a:pt x="7554" y="665"/>
                  </a:lnTo>
                  <a:lnTo>
                    <a:pt x="7646" y="645"/>
                  </a:lnTo>
                  <a:lnTo>
                    <a:pt x="7612" y="580"/>
                  </a:lnTo>
                  <a:lnTo>
                    <a:pt x="7729" y="545"/>
                  </a:lnTo>
                  <a:lnTo>
                    <a:pt x="7977" y="589"/>
                  </a:lnTo>
                  <a:lnTo>
                    <a:pt x="8084" y="525"/>
                  </a:lnTo>
                  <a:lnTo>
                    <a:pt x="7860" y="461"/>
                  </a:lnTo>
                  <a:lnTo>
                    <a:pt x="7598" y="385"/>
                  </a:lnTo>
                  <a:lnTo>
                    <a:pt x="7292" y="356"/>
                  </a:lnTo>
                  <a:lnTo>
                    <a:pt x="7267" y="412"/>
                  </a:lnTo>
                  <a:lnTo>
                    <a:pt x="7141" y="385"/>
                  </a:lnTo>
                  <a:lnTo>
                    <a:pt x="6918" y="391"/>
                  </a:lnTo>
                  <a:lnTo>
                    <a:pt x="6811" y="322"/>
                  </a:lnTo>
                  <a:lnTo>
                    <a:pt x="6563" y="327"/>
                  </a:lnTo>
                  <a:lnTo>
                    <a:pt x="6432" y="266"/>
                  </a:lnTo>
                  <a:lnTo>
                    <a:pt x="6087" y="237"/>
                  </a:lnTo>
                  <a:lnTo>
                    <a:pt x="5970" y="307"/>
                  </a:lnTo>
                  <a:lnTo>
                    <a:pt x="5747" y="272"/>
                  </a:lnTo>
                  <a:lnTo>
                    <a:pt x="5698" y="327"/>
                  </a:lnTo>
                  <a:lnTo>
                    <a:pt x="5616" y="223"/>
                  </a:lnTo>
                  <a:lnTo>
                    <a:pt x="5368" y="188"/>
                  </a:lnTo>
                  <a:lnTo>
                    <a:pt x="5368" y="223"/>
                  </a:lnTo>
                  <a:lnTo>
                    <a:pt x="5062" y="194"/>
                  </a:lnTo>
                  <a:lnTo>
                    <a:pt x="4863" y="194"/>
                  </a:lnTo>
                  <a:lnTo>
                    <a:pt x="4683" y="223"/>
                  </a:lnTo>
                  <a:lnTo>
                    <a:pt x="4955" y="133"/>
                  </a:lnTo>
                  <a:lnTo>
                    <a:pt x="4980" y="89"/>
                  </a:lnTo>
                  <a:lnTo>
                    <a:pt x="4873" y="49"/>
                  </a:lnTo>
                  <a:lnTo>
                    <a:pt x="4673" y="60"/>
                  </a:lnTo>
                  <a:lnTo>
                    <a:pt x="4722" y="34"/>
                  </a:lnTo>
                  <a:lnTo>
                    <a:pt x="4591" y="0"/>
                  </a:lnTo>
                  <a:lnTo>
                    <a:pt x="4367" y="69"/>
                  </a:lnTo>
                  <a:lnTo>
                    <a:pt x="4163" y="89"/>
                  </a:lnTo>
                  <a:lnTo>
                    <a:pt x="3929" y="133"/>
                  </a:lnTo>
                  <a:lnTo>
                    <a:pt x="3881" y="188"/>
                  </a:lnTo>
                  <a:lnTo>
                    <a:pt x="3633" y="203"/>
                  </a:lnTo>
                  <a:lnTo>
                    <a:pt x="3657" y="258"/>
                  </a:lnTo>
                  <a:lnTo>
                    <a:pt x="3750" y="287"/>
                  </a:lnTo>
                  <a:lnTo>
                    <a:pt x="3550" y="258"/>
                  </a:lnTo>
                  <a:lnTo>
                    <a:pt x="3550" y="322"/>
                  </a:lnTo>
                  <a:lnTo>
                    <a:pt x="3444" y="307"/>
                  </a:lnTo>
                  <a:lnTo>
                    <a:pt x="3410" y="258"/>
                  </a:lnTo>
                  <a:lnTo>
                    <a:pt x="3327" y="293"/>
                  </a:lnTo>
                  <a:lnTo>
                    <a:pt x="3385" y="327"/>
                  </a:lnTo>
                  <a:lnTo>
                    <a:pt x="3337" y="461"/>
                  </a:lnTo>
                  <a:lnTo>
                    <a:pt x="3269" y="229"/>
                  </a:lnTo>
                  <a:lnTo>
                    <a:pt x="3186" y="229"/>
                  </a:lnTo>
                  <a:lnTo>
                    <a:pt x="3079" y="377"/>
                  </a:lnTo>
                  <a:lnTo>
                    <a:pt x="3172" y="412"/>
                  </a:lnTo>
                  <a:lnTo>
                    <a:pt x="3137" y="435"/>
                  </a:lnTo>
                  <a:lnTo>
                    <a:pt x="2972" y="385"/>
                  </a:lnTo>
                  <a:lnTo>
                    <a:pt x="2841" y="371"/>
                  </a:lnTo>
                  <a:lnTo>
                    <a:pt x="2841" y="406"/>
                  </a:lnTo>
                  <a:lnTo>
                    <a:pt x="2584" y="441"/>
                  </a:lnTo>
                  <a:lnTo>
                    <a:pt x="2545" y="406"/>
                  </a:lnTo>
                  <a:lnTo>
                    <a:pt x="2321" y="470"/>
                  </a:lnTo>
                  <a:lnTo>
                    <a:pt x="2156" y="435"/>
                  </a:lnTo>
                  <a:lnTo>
                    <a:pt x="2156" y="531"/>
                  </a:lnTo>
                  <a:lnTo>
                    <a:pt x="2088" y="504"/>
                  </a:lnTo>
                  <a:lnTo>
                    <a:pt x="1991" y="545"/>
                  </a:lnTo>
                  <a:lnTo>
                    <a:pt x="2025" y="589"/>
                  </a:lnTo>
                  <a:lnTo>
                    <a:pt x="1860" y="580"/>
                  </a:lnTo>
                  <a:lnTo>
                    <a:pt x="1899" y="616"/>
                  </a:lnTo>
                  <a:lnTo>
                    <a:pt x="1777" y="589"/>
                  </a:lnTo>
                  <a:lnTo>
                    <a:pt x="1777" y="531"/>
                  </a:lnTo>
                  <a:lnTo>
                    <a:pt x="1661" y="481"/>
                  </a:lnTo>
                  <a:lnTo>
                    <a:pt x="1943" y="525"/>
                  </a:lnTo>
                  <a:lnTo>
                    <a:pt x="2040" y="461"/>
                  </a:lnTo>
                  <a:lnTo>
                    <a:pt x="1826" y="397"/>
                  </a:lnTo>
                  <a:lnTo>
                    <a:pt x="1661" y="362"/>
                  </a:lnTo>
                  <a:lnTo>
                    <a:pt x="1530" y="356"/>
                  </a:lnTo>
                  <a:lnTo>
                    <a:pt x="1627" y="342"/>
                  </a:lnTo>
                  <a:lnTo>
                    <a:pt x="1496" y="313"/>
                  </a:lnTo>
                  <a:lnTo>
                    <a:pt x="1379" y="322"/>
                  </a:lnTo>
                  <a:lnTo>
                    <a:pt x="1306" y="362"/>
                  </a:lnTo>
                  <a:lnTo>
                    <a:pt x="1248" y="351"/>
                  </a:lnTo>
                  <a:lnTo>
                    <a:pt x="1165" y="391"/>
                  </a:lnTo>
                  <a:lnTo>
                    <a:pt x="1107" y="385"/>
                  </a:lnTo>
                  <a:lnTo>
                    <a:pt x="1083" y="412"/>
                  </a:lnTo>
                  <a:lnTo>
                    <a:pt x="1000" y="441"/>
                  </a:lnTo>
                  <a:lnTo>
                    <a:pt x="869" y="560"/>
                  </a:lnTo>
                  <a:lnTo>
                    <a:pt x="762" y="610"/>
                  </a:lnTo>
                  <a:lnTo>
                    <a:pt x="578" y="680"/>
                  </a:lnTo>
                  <a:lnTo>
                    <a:pt x="680" y="700"/>
                  </a:lnTo>
                  <a:lnTo>
                    <a:pt x="578" y="723"/>
                  </a:lnTo>
                  <a:lnTo>
                    <a:pt x="597" y="807"/>
                  </a:lnTo>
                  <a:lnTo>
                    <a:pt x="694" y="822"/>
                  </a:lnTo>
                  <a:lnTo>
                    <a:pt x="801" y="764"/>
                  </a:lnTo>
                  <a:lnTo>
                    <a:pt x="845" y="848"/>
                  </a:lnTo>
                  <a:lnTo>
                    <a:pt x="893" y="877"/>
                  </a:lnTo>
                  <a:lnTo>
                    <a:pt x="884" y="918"/>
                  </a:lnTo>
                  <a:lnTo>
                    <a:pt x="1015" y="891"/>
                  </a:lnTo>
                  <a:lnTo>
                    <a:pt x="1049" y="813"/>
                  </a:lnTo>
                  <a:lnTo>
                    <a:pt x="1024" y="807"/>
                  </a:lnTo>
                  <a:lnTo>
                    <a:pt x="1131" y="764"/>
                  </a:lnTo>
                  <a:lnTo>
                    <a:pt x="1073" y="738"/>
                  </a:lnTo>
                  <a:lnTo>
                    <a:pt x="1073" y="665"/>
                  </a:lnTo>
                  <a:lnTo>
                    <a:pt x="1248" y="589"/>
                  </a:lnTo>
                  <a:lnTo>
                    <a:pt x="1262" y="539"/>
                  </a:lnTo>
                  <a:lnTo>
                    <a:pt x="1345" y="531"/>
                  </a:lnTo>
                  <a:lnTo>
                    <a:pt x="1403" y="565"/>
                  </a:lnTo>
                  <a:lnTo>
                    <a:pt x="1224" y="651"/>
                  </a:lnTo>
                  <a:lnTo>
                    <a:pt x="1238" y="738"/>
                  </a:lnTo>
                  <a:lnTo>
                    <a:pt x="1296" y="764"/>
                  </a:lnTo>
                  <a:lnTo>
                    <a:pt x="1496" y="738"/>
                  </a:lnTo>
                  <a:lnTo>
                    <a:pt x="1593" y="758"/>
                  </a:lnTo>
                  <a:lnTo>
                    <a:pt x="1321" y="778"/>
                  </a:lnTo>
                  <a:lnTo>
                    <a:pt x="1345" y="868"/>
                  </a:lnTo>
                  <a:lnTo>
                    <a:pt x="1282" y="833"/>
                  </a:lnTo>
                  <a:lnTo>
                    <a:pt x="1224" y="868"/>
                  </a:lnTo>
                  <a:lnTo>
                    <a:pt x="1224" y="918"/>
                  </a:lnTo>
                  <a:lnTo>
                    <a:pt x="1165" y="947"/>
                  </a:lnTo>
                  <a:lnTo>
                    <a:pt x="1073" y="941"/>
                  </a:lnTo>
                  <a:lnTo>
                    <a:pt x="942" y="976"/>
                  </a:lnTo>
                  <a:lnTo>
                    <a:pt x="884" y="947"/>
                  </a:lnTo>
                  <a:lnTo>
                    <a:pt x="811" y="952"/>
                  </a:lnTo>
                  <a:lnTo>
                    <a:pt x="752" y="932"/>
                  </a:lnTo>
                  <a:lnTo>
                    <a:pt x="811" y="891"/>
                  </a:lnTo>
                  <a:lnTo>
                    <a:pt x="786" y="842"/>
                  </a:lnTo>
                  <a:lnTo>
                    <a:pt x="704" y="868"/>
                  </a:lnTo>
                  <a:lnTo>
                    <a:pt x="694" y="912"/>
                  </a:lnTo>
                  <a:lnTo>
                    <a:pt x="718" y="990"/>
                  </a:lnTo>
                  <a:lnTo>
                    <a:pt x="680" y="976"/>
                  </a:lnTo>
                  <a:lnTo>
                    <a:pt x="597" y="990"/>
                  </a:lnTo>
                  <a:lnTo>
                    <a:pt x="578" y="1037"/>
                  </a:lnTo>
                  <a:lnTo>
                    <a:pt x="446" y="1066"/>
                  </a:lnTo>
                  <a:lnTo>
                    <a:pt x="398" y="1109"/>
                  </a:lnTo>
                  <a:lnTo>
                    <a:pt x="306" y="1100"/>
                  </a:lnTo>
                  <a:lnTo>
                    <a:pt x="315" y="1135"/>
                  </a:lnTo>
                  <a:lnTo>
                    <a:pt x="184" y="1144"/>
                  </a:lnTo>
                  <a:lnTo>
                    <a:pt x="199" y="1164"/>
                  </a:lnTo>
                  <a:lnTo>
                    <a:pt x="306" y="1179"/>
                  </a:lnTo>
                  <a:lnTo>
                    <a:pt x="291" y="1193"/>
                  </a:lnTo>
                  <a:lnTo>
                    <a:pt x="349" y="1243"/>
                  </a:lnTo>
                  <a:lnTo>
                    <a:pt x="306" y="1298"/>
                  </a:lnTo>
                  <a:lnTo>
                    <a:pt x="43" y="1292"/>
                  </a:lnTo>
                  <a:lnTo>
                    <a:pt x="0" y="1304"/>
                  </a:lnTo>
                  <a:lnTo>
                    <a:pt x="0" y="1431"/>
                  </a:lnTo>
                  <a:lnTo>
                    <a:pt x="19" y="1481"/>
                  </a:lnTo>
                  <a:lnTo>
                    <a:pt x="82" y="1472"/>
                  </a:lnTo>
                  <a:lnTo>
                    <a:pt x="291" y="1486"/>
                  </a:lnTo>
                  <a:lnTo>
                    <a:pt x="374" y="1431"/>
                  </a:lnTo>
                  <a:lnTo>
                    <a:pt x="364" y="1411"/>
                  </a:lnTo>
                  <a:lnTo>
                    <a:pt x="412" y="1367"/>
                  </a:lnTo>
                  <a:lnTo>
                    <a:pt x="505" y="1338"/>
                  </a:lnTo>
                  <a:lnTo>
                    <a:pt x="505" y="1298"/>
                  </a:lnTo>
                  <a:lnTo>
                    <a:pt x="539" y="1292"/>
                  </a:lnTo>
                  <a:lnTo>
                    <a:pt x="621" y="1304"/>
                  </a:lnTo>
                  <a:lnTo>
                    <a:pt x="680" y="1283"/>
                  </a:lnTo>
                  <a:lnTo>
                    <a:pt x="728" y="1263"/>
                  </a:lnTo>
                  <a:lnTo>
                    <a:pt x="786" y="1277"/>
                  </a:lnTo>
                  <a:lnTo>
                    <a:pt x="825" y="1327"/>
                  </a:lnTo>
                  <a:lnTo>
                    <a:pt x="1000" y="1388"/>
                  </a:lnTo>
                  <a:lnTo>
                    <a:pt x="1024" y="1452"/>
                  </a:lnTo>
                  <a:lnTo>
                    <a:pt x="1058" y="1417"/>
                  </a:lnTo>
                  <a:lnTo>
                    <a:pt x="1049" y="1382"/>
                  </a:lnTo>
                  <a:lnTo>
                    <a:pt x="1117" y="1388"/>
                  </a:lnTo>
                  <a:lnTo>
                    <a:pt x="966" y="1333"/>
                  </a:lnTo>
                  <a:lnTo>
                    <a:pt x="869" y="1269"/>
                  </a:lnTo>
                  <a:lnTo>
                    <a:pt x="869" y="1234"/>
                  </a:lnTo>
                  <a:lnTo>
                    <a:pt x="952" y="1243"/>
                  </a:lnTo>
                  <a:lnTo>
                    <a:pt x="1024" y="1292"/>
                  </a:lnTo>
                  <a:lnTo>
                    <a:pt x="1156" y="1338"/>
                  </a:lnTo>
                  <a:lnTo>
                    <a:pt x="1156" y="1382"/>
                  </a:lnTo>
                  <a:lnTo>
                    <a:pt x="1190" y="1402"/>
                  </a:lnTo>
                  <a:lnTo>
                    <a:pt x="1224" y="1446"/>
                  </a:lnTo>
                  <a:lnTo>
                    <a:pt x="1306" y="1446"/>
                  </a:lnTo>
                  <a:lnTo>
                    <a:pt x="1224" y="1460"/>
                  </a:lnTo>
                  <a:lnTo>
                    <a:pt x="1248" y="1486"/>
                  </a:lnTo>
                  <a:lnTo>
                    <a:pt x="1306" y="1495"/>
                  </a:lnTo>
                  <a:lnTo>
                    <a:pt x="1345" y="1446"/>
                  </a:lnTo>
                  <a:lnTo>
                    <a:pt x="1282" y="1423"/>
                  </a:lnTo>
                  <a:lnTo>
                    <a:pt x="1321" y="1417"/>
                  </a:lnTo>
                  <a:lnTo>
                    <a:pt x="1296" y="1376"/>
                  </a:lnTo>
                  <a:lnTo>
                    <a:pt x="1496" y="1367"/>
                  </a:lnTo>
                  <a:lnTo>
                    <a:pt x="1486" y="1327"/>
                  </a:lnTo>
                  <a:lnTo>
                    <a:pt x="1530" y="1283"/>
                  </a:lnTo>
                  <a:lnTo>
                    <a:pt x="1568" y="1234"/>
                  </a:lnTo>
                  <a:lnTo>
                    <a:pt x="1593" y="1205"/>
                  </a:lnTo>
                  <a:lnTo>
                    <a:pt x="1661" y="1193"/>
                  </a:lnTo>
                  <a:lnTo>
                    <a:pt x="1661" y="1214"/>
                  </a:lnTo>
                  <a:lnTo>
                    <a:pt x="1734" y="1214"/>
                  </a:lnTo>
                  <a:lnTo>
                    <a:pt x="1695" y="1234"/>
                  </a:lnTo>
                  <a:lnTo>
                    <a:pt x="1743" y="1263"/>
                  </a:lnTo>
                  <a:lnTo>
                    <a:pt x="1860" y="1234"/>
                  </a:lnTo>
                  <a:lnTo>
                    <a:pt x="1792" y="1243"/>
                  </a:lnTo>
                  <a:lnTo>
                    <a:pt x="1792" y="1219"/>
                  </a:lnTo>
                  <a:lnTo>
                    <a:pt x="1802" y="1205"/>
                  </a:lnTo>
                  <a:lnTo>
                    <a:pt x="1957" y="1179"/>
                  </a:lnTo>
                  <a:lnTo>
                    <a:pt x="1909" y="1193"/>
                  </a:lnTo>
                  <a:lnTo>
                    <a:pt x="1860" y="1243"/>
                  </a:lnTo>
                  <a:lnTo>
                    <a:pt x="2049" y="1312"/>
                  </a:lnTo>
                  <a:lnTo>
                    <a:pt x="2049" y="1347"/>
                  </a:lnTo>
                  <a:lnTo>
                    <a:pt x="1923" y="1367"/>
                  </a:lnTo>
                  <a:lnTo>
                    <a:pt x="1802" y="1333"/>
                  </a:lnTo>
                  <a:lnTo>
                    <a:pt x="1637" y="1362"/>
                  </a:lnTo>
                  <a:lnTo>
                    <a:pt x="1554" y="1362"/>
                  </a:lnTo>
                  <a:lnTo>
                    <a:pt x="1578" y="1376"/>
                  </a:lnTo>
                  <a:lnTo>
                    <a:pt x="1437" y="1396"/>
                  </a:lnTo>
                  <a:lnTo>
                    <a:pt x="1471" y="1437"/>
                  </a:lnTo>
                  <a:lnTo>
                    <a:pt x="1486" y="1486"/>
                  </a:lnTo>
                  <a:lnTo>
                    <a:pt x="1578" y="1501"/>
                  </a:lnTo>
                  <a:lnTo>
                    <a:pt x="1627" y="1481"/>
                  </a:lnTo>
                  <a:lnTo>
                    <a:pt x="1709" y="1507"/>
                  </a:lnTo>
                  <a:lnTo>
                    <a:pt x="1841" y="1481"/>
                  </a:lnTo>
                  <a:lnTo>
                    <a:pt x="1826" y="1544"/>
                  </a:lnTo>
                  <a:lnTo>
                    <a:pt x="1743" y="1634"/>
                  </a:lnTo>
                  <a:lnTo>
                    <a:pt x="1612" y="1629"/>
                  </a:lnTo>
                  <a:lnTo>
                    <a:pt x="1685" y="167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853160" y="4441680"/>
              <a:ext cx="886320" cy="390960"/>
            </a:xfrm>
            <a:custGeom>
              <a:avLst/>
              <a:gdLst/>
              <a:ahLst/>
              <a:rect l="0" t="0" r="r" b="b"/>
              <a:pathLst>
                <a:path w="2462" h="1086">
                  <a:moveTo>
                    <a:pt x="0" y="303"/>
                  </a:moveTo>
                  <a:lnTo>
                    <a:pt x="14" y="283"/>
                  </a:lnTo>
                  <a:lnTo>
                    <a:pt x="165" y="253"/>
                  </a:lnTo>
                  <a:lnTo>
                    <a:pt x="272" y="253"/>
                  </a:lnTo>
                  <a:lnTo>
                    <a:pt x="354" y="183"/>
                  </a:lnTo>
                  <a:lnTo>
                    <a:pt x="286" y="206"/>
                  </a:lnTo>
                  <a:lnTo>
                    <a:pt x="213" y="183"/>
                  </a:lnTo>
                  <a:lnTo>
                    <a:pt x="354" y="133"/>
                  </a:lnTo>
                  <a:lnTo>
                    <a:pt x="461" y="133"/>
                  </a:lnTo>
                  <a:lnTo>
                    <a:pt x="461" y="98"/>
                  </a:lnTo>
                  <a:lnTo>
                    <a:pt x="628" y="122"/>
                  </a:lnTo>
                  <a:lnTo>
                    <a:pt x="520" y="93"/>
                  </a:lnTo>
                  <a:lnTo>
                    <a:pt x="710" y="63"/>
                  </a:lnTo>
                  <a:lnTo>
                    <a:pt x="793" y="84"/>
                  </a:lnTo>
                  <a:lnTo>
                    <a:pt x="924" y="93"/>
                  </a:lnTo>
                  <a:lnTo>
                    <a:pt x="890" y="58"/>
                  </a:lnTo>
                  <a:lnTo>
                    <a:pt x="1124" y="98"/>
                  </a:lnTo>
                  <a:lnTo>
                    <a:pt x="1279" y="63"/>
                  </a:lnTo>
                  <a:lnTo>
                    <a:pt x="1090" y="23"/>
                  </a:lnTo>
                  <a:lnTo>
                    <a:pt x="1182" y="14"/>
                  </a:lnTo>
                  <a:lnTo>
                    <a:pt x="1348" y="43"/>
                  </a:lnTo>
                  <a:lnTo>
                    <a:pt x="1411" y="23"/>
                  </a:lnTo>
                  <a:lnTo>
                    <a:pt x="1386" y="0"/>
                  </a:lnTo>
                  <a:lnTo>
                    <a:pt x="1800" y="14"/>
                  </a:lnTo>
                  <a:lnTo>
                    <a:pt x="1966" y="37"/>
                  </a:lnTo>
                  <a:lnTo>
                    <a:pt x="2073" y="49"/>
                  </a:lnTo>
                  <a:lnTo>
                    <a:pt x="1634" y="78"/>
                  </a:lnTo>
                  <a:lnTo>
                    <a:pt x="1586" y="107"/>
                  </a:lnTo>
                  <a:lnTo>
                    <a:pt x="1908" y="98"/>
                  </a:lnTo>
                  <a:lnTo>
                    <a:pt x="1834" y="122"/>
                  </a:lnTo>
                  <a:lnTo>
                    <a:pt x="2034" y="84"/>
                  </a:lnTo>
                  <a:lnTo>
                    <a:pt x="2049" y="122"/>
                  </a:lnTo>
                  <a:lnTo>
                    <a:pt x="1952" y="177"/>
                  </a:lnTo>
                  <a:lnTo>
                    <a:pt x="2131" y="122"/>
                  </a:lnTo>
                  <a:lnTo>
                    <a:pt x="2248" y="98"/>
                  </a:lnTo>
                  <a:lnTo>
                    <a:pt x="2345" y="93"/>
                  </a:lnTo>
                  <a:lnTo>
                    <a:pt x="2462" y="113"/>
                  </a:lnTo>
                  <a:lnTo>
                    <a:pt x="2355" y="157"/>
                  </a:lnTo>
                  <a:lnTo>
                    <a:pt x="2093" y="168"/>
                  </a:lnTo>
                  <a:lnTo>
                    <a:pt x="2307" y="177"/>
                  </a:lnTo>
                  <a:lnTo>
                    <a:pt x="2131" y="197"/>
                  </a:lnTo>
                  <a:lnTo>
                    <a:pt x="2190" y="241"/>
                  </a:lnTo>
                  <a:lnTo>
                    <a:pt x="2107" y="267"/>
                  </a:lnTo>
                  <a:lnTo>
                    <a:pt x="2175" y="318"/>
                  </a:lnTo>
                  <a:lnTo>
                    <a:pt x="2131" y="338"/>
                  </a:lnTo>
                  <a:lnTo>
                    <a:pt x="2224" y="347"/>
                  </a:lnTo>
                  <a:lnTo>
                    <a:pt x="2117" y="376"/>
                  </a:lnTo>
                  <a:lnTo>
                    <a:pt x="2156" y="402"/>
                  </a:lnTo>
                  <a:lnTo>
                    <a:pt x="2165" y="451"/>
                  </a:lnTo>
                  <a:lnTo>
                    <a:pt x="2073" y="437"/>
                  </a:lnTo>
                  <a:lnTo>
                    <a:pt x="2107" y="480"/>
                  </a:lnTo>
                  <a:lnTo>
                    <a:pt x="2190" y="495"/>
                  </a:lnTo>
                  <a:lnTo>
                    <a:pt x="2049" y="495"/>
                  </a:lnTo>
                  <a:lnTo>
                    <a:pt x="2141" y="515"/>
                  </a:lnTo>
                  <a:lnTo>
                    <a:pt x="2049" y="544"/>
                  </a:lnTo>
                  <a:lnTo>
                    <a:pt x="1976" y="515"/>
                  </a:lnTo>
                  <a:lnTo>
                    <a:pt x="1869" y="544"/>
                  </a:lnTo>
                  <a:lnTo>
                    <a:pt x="1927" y="600"/>
                  </a:lnTo>
                  <a:lnTo>
                    <a:pt x="1966" y="585"/>
                  </a:lnTo>
                  <a:lnTo>
                    <a:pt x="2083" y="629"/>
                  </a:lnTo>
                  <a:lnTo>
                    <a:pt x="2083" y="669"/>
                  </a:lnTo>
                  <a:lnTo>
                    <a:pt x="1966" y="635"/>
                  </a:lnTo>
                  <a:lnTo>
                    <a:pt x="1844" y="605"/>
                  </a:lnTo>
                  <a:lnTo>
                    <a:pt x="1824" y="649"/>
                  </a:lnTo>
                  <a:lnTo>
                    <a:pt x="1883" y="678"/>
                  </a:lnTo>
                  <a:lnTo>
                    <a:pt x="1800" y="684"/>
                  </a:lnTo>
                  <a:lnTo>
                    <a:pt x="2059" y="690"/>
                  </a:lnTo>
                  <a:lnTo>
                    <a:pt x="1893" y="748"/>
                  </a:lnTo>
                  <a:lnTo>
                    <a:pt x="1741" y="768"/>
                  </a:lnTo>
                  <a:lnTo>
                    <a:pt x="1610" y="789"/>
                  </a:lnTo>
                  <a:lnTo>
                    <a:pt x="1552" y="839"/>
                  </a:lnTo>
                  <a:lnTo>
                    <a:pt x="1430" y="839"/>
                  </a:lnTo>
                  <a:lnTo>
                    <a:pt x="1411" y="874"/>
                  </a:lnTo>
                  <a:lnTo>
                    <a:pt x="1338" y="874"/>
                  </a:lnTo>
                  <a:lnTo>
                    <a:pt x="1289" y="903"/>
                  </a:lnTo>
                  <a:lnTo>
                    <a:pt x="1304" y="953"/>
                  </a:lnTo>
                  <a:lnTo>
                    <a:pt x="1231" y="987"/>
                  </a:lnTo>
                  <a:lnTo>
                    <a:pt x="1255" y="1022"/>
                  </a:lnTo>
                  <a:lnTo>
                    <a:pt x="1221" y="1086"/>
                  </a:lnTo>
                  <a:lnTo>
                    <a:pt x="1138" y="1086"/>
                  </a:lnTo>
                  <a:lnTo>
                    <a:pt x="1031" y="1051"/>
                  </a:lnTo>
                  <a:lnTo>
                    <a:pt x="949" y="1016"/>
                  </a:lnTo>
                  <a:lnTo>
                    <a:pt x="852" y="932"/>
                  </a:lnTo>
                  <a:lnTo>
                    <a:pt x="793" y="859"/>
                  </a:lnTo>
                  <a:lnTo>
                    <a:pt x="783" y="803"/>
                  </a:lnTo>
                  <a:lnTo>
                    <a:pt x="817" y="762"/>
                  </a:lnTo>
                  <a:lnTo>
                    <a:pt x="900" y="719"/>
                  </a:lnTo>
                  <a:lnTo>
                    <a:pt x="910" y="690"/>
                  </a:lnTo>
                  <a:lnTo>
                    <a:pt x="842" y="684"/>
                  </a:lnTo>
                  <a:lnTo>
                    <a:pt x="745" y="664"/>
                  </a:lnTo>
                  <a:lnTo>
                    <a:pt x="910" y="664"/>
                  </a:lnTo>
                  <a:lnTo>
                    <a:pt x="817" y="629"/>
                  </a:lnTo>
                  <a:lnTo>
                    <a:pt x="852" y="620"/>
                  </a:lnTo>
                  <a:lnTo>
                    <a:pt x="769" y="629"/>
                  </a:lnTo>
                  <a:lnTo>
                    <a:pt x="710" y="629"/>
                  </a:lnTo>
                  <a:lnTo>
                    <a:pt x="710" y="600"/>
                  </a:lnTo>
                  <a:lnTo>
                    <a:pt x="745" y="565"/>
                  </a:lnTo>
                  <a:lnTo>
                    <a:pt x="652" y="486"/>
                  </a:lnTo>
                  <a:lnTo>
                    <a:pt x="578" y="422"/>
                  </a:lnTo>
                  <a:lnTo>
                    <a:pt x="496" y="402"/>
                  </a:lnTo>
                  <a:lnTo>
                    <a:pt x="320" y="416"/>
                  </a:lnTo>
                  <a:lnTo>
                    <a:pt x="145" y="396"/>
                  </a:lnTo>
                  <a:lnTo>
                    <a:pt x="204" y="381"/>
                  </a:lnTo>
                  <a:lnTo>
                    <a:pt x="63" y="361"/>
                  </a:lnTo>
                  <a:lnTo>
                    <a:pt x="296" y="332"/>
                  </a:lnTo>
                  <a:lnTo>
                    <a:pt x="155" y="338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4522680" y="4624560"/>
              <a:ext cx="79560" cy="30600"/>
            </a:xfrm>
            <a:custGeom>
              <a:avLst/>
              <a:gdLst/>
              <a:ahLst/>
              <a:rect l="0" t="0" r="r" b="b"/>
              <a:pathLst>
                <a:path w="221" h="85">
                  <a:moveTo>
                    <a:pt x="0" y="55"/>
                  </a:moveTo>
                  <a:lnTo>
                    <a:pt x="111" y="85"/>
                  </a:lnTo>
                  <a:lnTo>
                    <a:pt x="221" y="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4422600" y="4579920"/>
              <a:ext cx="71640" cy="27360"/>
            </a:xfrm>
            <a:custGeom>
              <a:avLst/>
              <a:gdLst/>
              <a:ahLst/>
              <a:rect l="0" t="0" r="r" b="b"/>
              <a:pathLst>
                <a:path w="199" h="76">
                  <a:moveTo>
                    <a:pt x="0" y="48"/>
                  </a:moveTo>
                  <a:lnTo>
                    <a:pt x="23" y="5"/>
                  </a:lnTo>
                  <a:lnTo>
                    <a:pt x="185" y="0"/>
                  </a:lnTo>
                  <a:lnTo>
                    <a:pt x="199" y="53"/>
                  </a:lnTo>
                  <a:lnTo>
                    <a:pt x="175" y="76"/>
                  </a:lnTo>
                  <a:lnTo>
                    <a:pt x="80" y="6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4422600" y="4624560"/>
              <a:ext cx="89280" cy="44640"/>
            </a:xfrm>
            <a:custGeom>
              <a:avLst/>
              <a:gdLst/>
              <a:ahLst/>
              <a:rect l="0" t="0" r="r" b="b"/>
              <a:pathLst>
                <a:path w="248" h="124">
                  <a:moveTo>
                    <a:pt x="0" y="60"/>
                  </a:moveTo>
                  <a:lnTo>
                    <a:pt x="95" y="0"/>
                  </a:lnTo>
                  <a:lnTo>
                    <a:pt x="210" y="34"/>
                  </a:lnTo>
                  <a:lnTo>
                    <a:pt x="167" y="54"/>
                  </a:lnTo>
                  <a:lnTo>
                    <a:pt x="234" y="54"/>
                  </a:lnTo>
                  <a:lnTo>
                    <a:pt x="248" y="95"/>
                  </a:lnTo>
                  <a:lnTo>
                    <a:pt x="143" y="12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200480" y="4573440"/>
              <a:ext cx="179640" cy="43200"/>
            </a:xfrm>
            <a:custGeom>
              <a:avLst/>
              <a:gdLst/>
              <a:ahLst/>
              <a:rect l="0" t="0" r="r" b="b"/>
              <a:pathLst>
                <a:path w="499" h="120">
                  <a:moveTo>
                    <a:pt x="0" y="79"/>
                  </a:moveTo>
                  <a:lnTo>
                    <a:pt x="107" y="20"/>
                  </a:lnTo>
                  <a:lnTo>
                    <a:pt x="200" y="34"/>
                  </a:lnTo>
                  <a:lnTo>
                    <a:pt x="264" y="64"/>
                  </a:lnTo>
                  <a:lnTo>
                    <a:pt x="357" y="64"/>
                  </a:lnTo>
                  <a:lnTo>
                    <a:pt x="299" y="20"/>
                  </a:lnTo>
                  <a:lnTo>
                    <a:pt x="357" y="0"/>
                  </a:lnTo>
                  <a:lnTo>
                    <a:pt x="391" y="29"/>
                  </a:lnTo>
                  <a:lnTo>
                    <a:pt x="465" y="43"/>
                  </a:lnTo>
                  <a:lnTo>
                    <a:pt x="499" y="64"/>
                  </a:lnTo>
                  <a:lnTo>
                    <a:pt x="474" y="85"/>
                  </a:lnTo>
                  <a:lnTo>
                    <a:pt x="367" y="85"/>
                  </a:lnTo>
                  <a:lnTo>
                    <a:pt x="200" y="12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4124160" y="4559400"/>
              <a:ext cx="106560" cy="33840"/>
            </a:xfrm>
            <a:custGeom>
              <a:avLst/>
              <a:gdLst/>
              <a:ahLst/>
              <a:rect l="0" t="0" r="r" b="b"/>
              <a:pathLst>
                <a:path w="296" h="94">
                  <a:moveTo>
                    <a:pt x="0" y="79"/>
                  </a:moveTo>
                  <a:lnTo>
                    <a:pt x="106" y="94"/>
                  </a:lnTo>
                  <a:lnTo>
                    <a:pt x="204" y="42"/>
                  </a:lnTo>
                  <a:lnTo>
                    <a:pt x="214" y="73"/>
                  </a:lnTo>
                  <a:lnTo>
                    <a:pt x="286" y="51"/>
                  </a:lnTo>
                  <a:lnTo>
                    <a:pt x="296" y="11"/>
                  </a:lnTo>
                  <a:lnTo>
                    <a:pt x="262" y="0"/>
                  </a:lnTo>
                  <a:lnTo>
                    <a:pt x="145" y="11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4379760" y="4527720"/>
              <a:ext cx="89280" cy="27360"/>
            </a:xfrm>
            <a:custGeom>
              <a:avLst/>
              <a:gdLst/>
              <a:ahLst/>
              <a:rect l="0" t="0" r="r" b="b"/>
              <a:pathLst>
                <a:path w="248" h="76">
                  <a:moveTo>
                    <a:pt x="0" y="0"/>
                  </a:moveTo>
                  <a:lnTo>
                    <a:pt x="24" y="29"/>
                  </a:lnTo>
                  <a:lnTo>
                    <a:pt x="24" y="44"/>
                  </a:lnTo>
                  <a:lnTo>
                    <a:pt x="248" y="76"/>
                  </a:lnTo>
                  <a:lnTo>
                    <a:pt x="239" y="38"/>
                  </a:lnTo>
                  <a:lnTo>
                    <a:pt x="131" y="6"/>
                  </a:lnTo>
                  <a:lnTo>
                    <a:pt x="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503600" y="4568760"/>
              <a:ext cx="249480" cy="44640"/>
            </a:xfrm>
            <a:custGeom>
              <a:avLst/>
              <a:gdLst/>
              <a:ahLst/>
              <a:rect l="0" t="0" r="r" b="b"/>
              <a:pathLst>
                <a:path w="693" h="124">
                  <a:moveTo>
                    <a:pt x="0" y="22"/>
                  </a:moveTo>
                  <a:lnTo>
                    <a:pt x="43" y="0"/>
                  </a:lnTo>
                  <a:lnTo>
                    <a:pt x="329" y="56"/>
                  </a:lnTo>
                  <a:lnTo>
                    <a:pt x="446" y="82"/>
                  </a:lnTo>
                  <a:lnTo>
                    <a:pt x="586" y="61"/>
                  </a:lnTo>
                  <a:lnTo>
                    <a:pt x="693" y="90"/>
                  </a:lnTo>
                  <a:lnTo>
                    <a:pt x="683" y="124"/>
                  </a:lnTo>
                  <a:lnTo>
                    <a:pt x="208" y="124"/>
                  </a:lnTo>
                  <a:lnTo>
                    <a:pt x="82" y="4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573440" y="4452840"/>
              <a:ext cx="448200" cy="133560"/>
            </a:xfrm>
            <a:custGeom>
              <a:avLst/>
              <a:gdLst/>
              <a:ahLst/>
              <a:rect l="0" t="0" r="r" b="b"/>
              <a:pathLst>
                <a:path w="1245" h="371">
                  <a:moveTo>
                    <a:pt x="0" y="78"/>
                  </a:moveTo>
                  <a:lnTo>
                    <a:pt x="107" y="78"/>
                  </a:lnTo>
                  <a:lnTo>
                    <a:pt x="107" y="127"/>
                  </a:lnTo>
                  <a:lnTo>
                    <a:pt x="190" y="138"/>
                  </a:lnTo>
                  <a:lnTo>
                    <a:pt x="581" y="92"/>
                  </a:lnTo>
                  <a:lnTo>
                    <a:pt x="356" y="153"/>
                  </a:lnTo>
                  <a:lnTo>
                    <a:pt x="224" y="153"/>
                  </a:lnTo>
                  <a:lnTo>
                    <a:pt x="224" y="176"/>
                  </a:lnTo>
                  <a:lnTo>
                    <a:pt x="356" y="223"/>
                  </a:lnTo>
                  <a:lnTo>
                    <a:pt x="425" y="223"/>
                  </a:lnTo>
                  <a:lnTo>
                    <a:pt x="356" y="238"/>
                  </a:lnTo>
                  <a:lnTo>
                    <a:pt x="273" y="232"/>
                  </a:lnTo>
                  <a:lnTo>
                    <a:pt x="214" y="238"/>
                  </a:lnTo>
                  <a:lnTo>
                    <a:pt x="175" y="273"/>
                  </a:lnTo>
                  <a:lnTo>
                    <a:pt x="248" y="281"/>
                  </a:lnTo>
                  <a:lnTo>
                    <a:pt x="141" y="287"/>
                  </a:lnTo>
                  <a:lnTo>
                    <a:pt x="214" y="322"/>
                  </a:lnTo>
                  <a:lnTo>
                    <a:pt x="107" y="336"/>
                  </a:lnTo>
                  <a:lnTo>
                    <a:pt x="117" y="356"/>
                  </a:lnTo>
                  <a:lnTo>
                    <a:pt x="214" y="351"/>
                  </a:lnTo>
                  <a:lnTo>
                    <a:pt x="258" y="371"/>
                  </a:lnTo>
                  <a:lnTo>
                    <a:pt x="273" y="356"/>
                  </a:lnTo>
                  <a:lnTo>
                    <a:pt x="439" y="371"/>
                  </a:lnTo>
                  <a:lnTo>
                    <a:pt x="547" y="356"/>
                  </a:lnTo>
                  <a:lnTo>
                    <a:pt x="581" y="296"/>
                  </a:lnTo>
                  <a:lnTo>
                    <a:pt x="556" y="281"/>
                  </a:lnTo>
                  <a:lnTo>
                    <a:pt x="654" y="281"/>
                  </a:lnTo>
                  <a:lnTo>
                    <a:pt x="712" y="246"/>
                  </a:lnTo>
                  <a:lnTo>
                    <a:pt x="581" y="232"/>
                  </a:lnTo>
                  <a:lnTo>
                    <a:pt x="747" y="197"/>
                  </a:lnTo>
                  <a:lnTo>
                    <a:pt x="698" y="182"/>
                  </a:lnTo>
                  <a:lnTo>
                    <a:pt x="830" y="189"/>
                  </a:lnTo>
                  <a:lnTo>
                    <a:pt x="903" y="153"/>
                  </a:lnTo>
                  <a:lnTo>
                    <a:pt x="1113" y="92"/>
                  </a:lnTo>
                  <a:lnTo>
                    <a:pt x="888" y="112"/>
                  </a:lnTo>
                  <a:lnTo>
                    <a:pt x="1021" y="83"/>
                  </a:lnTo>
                  <a:lnTo>
                    <a:pt x="927" y="78"/>
                  </a:lnTo>
                  <a:lnTo>
                    <a:pt x="1055" y="78"/>
                  </a:lnTo>
                  <a:lnTo>
                    <a:pt x="1245" y="49"/>
                  </a:lnTo>
                  <a:lnTo>
                    <a:pt x="1152" y="8"/>
                  </a:lnTo>
                  <a:lnTo>
                    <a:pt x="938" y="20"/>
                  </a:lnTo>
                  <a:lnTo>
                    <a:pt x="1030" y="0"/>
                  </a:lnTo>
                  <a:lnTo>
                    <a:pt x="556" y="0"/>
                  </a:lnTo>
                  <a:lnTo>
                    <a:pt x="449" y="0"/>
                  </a:lnTo>
                  <a:lnTo>
                    <a:pt x="342" y="34"/>
                  </a:lnTo>
                  <a:lnTo>
                    <a:pt x="238" y="28"/>
                  </a:lnTo>
                  <a:lnTo>
                    <a:pt x="190" y="49"/>
                  </a:lnTo>
                  <a:lnTo>
                    <a:pt x="141" y="4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511520" y="4492800"/>
              <a:ext cx="163800" cy="59040"/>
            </a:xfrm>
            <a:custGeom>
              <a:avLst/>
              <a:gdLst/>
              <a:ahLst/>
              <a:rect l="0" t="0" r="r" b="b"/>
              <a:pathLst>
                <a:path w="455" h="164">
                  <a:moveTo>
                    <a:pt x="0" y="35"/>
                  </a:moveTo>
                  <a:lnTo>
                    <a:pt x="115" y="26"/>
                  </a:lnTo>
                  <a:lnTo>
                    <a:pt x="57" y="5"/>
                  </a:lnTo>
                  <a:lnTo>
                    <a:pt x="198" y="0"/>
                  </a:lnTo>
                  <a:lnTo>
                    <a:pt x="232" y="26"/>
                  </a:lnTo>
                  <a:lnTo>
                    <a:pt x="348" y="35"/>
                  </a:lnTo>
                  <a:lnTo>
                    <a:pt x="348" y="87"/>
                  </a:lnTo>
                  <a:lnTo>
                    <a:pt x="421" y="77"/>
                  </a:lnTo>
                  <a:lnTo>
                    <a:pt x="455" y="101"/>
                  </a:lnTo>
                  <a:lnTo>
                    <a:pt x="329" y="113"/>
                  </a:lnTo>
                  <a:lnTo>
                    <a:pt x="305" y="164"/>
                  </a:lnTo>
                  <a:lnTo>
                    <a:pt x="173" y="164"/>
                  </a:lnTo>
                  <a:lnTo>
                    <a:pt x="101" y="113"/>
                  </a:lnTo>
                  <a:lnTo>
                    <a:pt x="247" y="101"/>
                  </a:lnTo>
                  <a:lnTo>
                    <a:pt x="67" y="10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4603680" y="4627440"/>
              <a:ext cx="417960" cy="179640"/>
            </a:xfrm>
            <a:custGeom>
              <a:avLst/>
              <a:gdLst/>
              <a:ahLst/>
              <a:rect l="0" t="0" r="r" b="b"/>
              <a:pathLst>
                <a:path w="1161" h="499">
                  <a:moveTo>
                    <a:pt x="0" y="112"/>
                  </a:moveTo>
                  <a:lnTo>
                    <a:pt x="0" y="55"/>
                  </a:lnTo>
                  <a:lnTo>
                    <a:pt x="131" y="0"/>
                  </a:lnTo>
                  <a:lnTo>
                    <a:pt x="199" y="5"/>
                  </a:lnTo>
                  <a:lnTo>
                    <a:pt x="141" y="69"/>
                  </a:lnTo>
                  <a:lnTo>
                    <a:pt x="190" y="104"/>
                  </a:lnTo>
                  <a:lnTo>
                    <a:pt x="214" y="69"/>
                  </a:lnTo>
                  <a:lnTo>
                    <a:pt x="258" y="28"/>
                  </a:lnTo>
                  <a:lnTo>
                    <a:pt x="342" y="5"/>
                  </a:lnTo>
                  <a:lnTo>
                    <a:pt x="366" y="89"/>
                  </a:lnTo>
                  <a:lnTo>
                    <a:pt x="498" y="49"/>
                  </a:lnTo>
                  <a:lnTo>
                    <a:pt x="590" y="63"/>
                  </a:lnTo>
                  <a:lnTo>
                    <a:pt x="639" y="89"/>
                  </a:lnTo>
                  <a:lnTo>
                    <a:pt x="673" y="118"/>
                  </a:lnTo>
                  <a:lnTo>
                    <a:pt x="712" y="98"/>
                  </a:lnTo>
                  <a:lnTo>
                    <a:pt x="780" y="124"/>
                  </a:lnTo>
                  <a:lnTo>
                    <a:pt x="795" y="153"/>
                  </a:lnTo>
                  <a:lnTo>
                    <a:pt x="888" y="162"/>
                  </a:lnTo>
                  <a:lnTo>
                    <a:pt x="927" y="173"/>
                  </a:lnTo>
                  <a:lnTo>
                    <a:pt x="863" y="197"/>
                  </a:lnTo>
                  <a:lnTo>
                    <a:pt x="961" y="202"/>
                  </a:lnTo>
                  <a:lnTo>
                    <a:pt x="879" y="231"/>
                  </a:lnTo>
                  <a:lnTo>
                    <a:pt x="971" y="258"/>
                  </a:lnTo>
                  <a:lnTo>
                    <a:pt x="1020" y="253"/>
                  </a:lnTo>
                  <a:lnTo>
                    <a:pt x="1161" y="316"/>
                  </a:lnTo>
                  <a:lnTo>
                    <a:pt x="1078" y="351"/>
                  </a:lnTo>
                  <a:lnTo>
                    <a:pt x="1078" y="386"/>
                  </a:lnTo>
                  <a:lnTo>
                    <a:pt x="937" y="316"/>
                  </a:lnTo>
                  <a:lnTo>
                    <a:pt x="888" y="322"/>
                  </a:lnTo>
                  <a:lnTo>
                    <a:pt x="947" y="386"/>
                  </a:lnTo>
                  <a:lnTo>
                    <a:pt x="1020" y="392"/>
                  </a:lnTo>
                  <a:lnTo>
                    <a:pt x="1020" y="476"/>
                  </a:lnTo>
                  <a:lnTo>
                    <a:pt x="853" y="426"/>
                  </a:lnTo>
                  <a:lnTo>
                    <a:pt x="971" y="499"/>
                  </a:lnTo>
                  <a:lnTo>
                    <a:pt x="761" y="455"/>
                  </a:lnTo>
                  <a:lnTo>
                    <a:pt x="629" y="400"/>
                  </a:lnTo>
                  <a:lnTo>
                    <a:pt x="532" y="415"/>
                  </a:lnTo>
                  <a:lnTo>
                    <a:pt x="507" y="366"/>
                  </a:lnTo>
                  <a:lnTo>
                    <a:pt x="663" y="366"/>
                  </a:lnTo>
                  <a:lnTo>
                    <a:pt x="629" y="331"/>
                  </a:lnTo>
                  <a:lnTo>
                    <a:pt x="722" y="287"/>
                  </a:lnTo>
                  <a:lnTo>
                    <a:pt x="653" y="231"/>
                  </a:lnTo>
                  <a:lnTo>
                    <a:pt x="532" y="231"/>
                  </a:lnTo>
                  <a:lnTo>
                    <a:pt x="532" y="217"/>
                  </a:lnTo>
                  <a:lnTo>
                    <a:pt x="580" y="202"/>
                  </a:lnTo>
                  <a:lnTo>
                    <a:pt x="498" y="182"/>
                  </a:lnTo>
                  <a:lnTo>
                    <a:pt x="439" y="153"/>
                  </a:lnTo>
                  <a:lnTo>
                    <a:pt x="449" y="182"/>
                  </a:lnTo>
                  <a:lnTo>
                    <a:pt x="366" y="182"/>
                  </a:lnTo>
                  <a:lnTo>
                    <a:pt x="73" y="162"/>
                  </a:lnTo>
                  <a:lnTo>
                    <a:pt x="24" y="124"/>
                  </a:lnTo>
                  <a:lnTo>
                    <a:pt x="107" y="124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7669080" y="520704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0" y="35"/>
                  </a:moveTo>
                  <a:lnTo>
                    <a:pt x="25" y="85"/>
                  </a:lnTo>
                  <a:lnTo>
                    <a:pt x="76" y="0"/>
                  </a:lnTo>
                  <a:lnTo>
                    <a:pt x="40" y="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626240" y="5504040"/>
              <a:ext cx="32040" cy="6840"/>
            </a:xfrm>
            <a:custGeom>
              <a:avLst/>
              <a:gdLst/>
              <a:ahLst/>
              <a:rect l="0" t="0" r="r" b="b"/>
              <a:pathLst>
                <a:path w="89" h="19">
                  <a:moveTo>
                    <a:pt x="0" y="8"/>
                  </a:moveTo>
                  <a:lnTo>
                    <a:pt x="9" y="19"/>
                  </a:lnTo>
                  <a:lnTo>
                    <a:pt x="89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7724880" y="5504040"/>
              <a:ext cx="51120" cy="19440"/>
            </a:xfrm>
            <a:custGeom>
              <a:avLst/>
              <a:gdLst/>
              <a:ahLst/>
              <a:rect l="0" t="0" r="r" b="b"/>
              <a:pathLst>
                <a:path w="142" h="54">
                  <a:moveTo>
                    <a:pt x="0" y="32"/>
                  </a:moveTo>
                  <a:lnTo>
                    <a:pt x="0" y="54"/>
                  </a:lnTo>
                  <a:lnTo>
                    <a:pt x="142" y="0"/>
                  </a:lnTo>
                  <a:lnTo>
                    <a:pt x="34" y="1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7780320" y="5413320"/>
              <a:ext cx="16200" cy="24120"/>
            </a:xfrm>
            <a:custGeom>
              <a:avLst/>
              <a:gdLst/>
              <a:ahLst/>
              <a:rect l="0" t="0" r="r" b="b"/>
              <a:pathLst>
                <a:path w="45" h="67">
                  <a:moveTo>
                    <a:pt x="0" y="19"/>
                  </a:moveTo>
                  <a:lnTo>
                    <a:pt x="0" y="53"/>
                  </a:lnTo>
                  <a:lnTo>
                    <a:pt x="35" y="67"/>
                  </a:lnTo>
                  <a:lnTo>
                    <a:pt x="9" y="39"/>
                  </a:lnTo>
                  <a:lnTo>
                    <a:pt x="45" y="34"/>
                  </a:lnTo>
                  <a:lnTo>
                    <a:pt x="35" y="13"/>
                  </a:lnTo>
                  <a:lnTo>
                    <a:pt x="0" y="27"/>
                  </a:lnTo>
                  <a:lnTo>
                    <a:pt x="2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783560" y="5452920"/>
              <a:ext cx="44640" cy="9720"/>
            </a:xfrm>
            <a:custGeom>
              <a:avLst/>
              <a:gdLst/>
              <a:ahLst/>
              <a:rect l="0" t="0" r="r" b="b"/>
              <a:pathLst>
                <a:path w="124" h="27">
                  <a:moveTo>
                    <a:pt x="0" y="11"/>
                  </a:moveTo>
                  <a:lnTo>
                    <a:pt x="78" y="0"/>
                  </a:lnTo>
                  <a:lnTo>
                    <a:pt x="124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7832880" y="5494320"/>
              <a:ext cx="8280" cy="5040"/>
            </a:xfrm>
            <a:custGeom>
              <a:avLst/>
              <a:gdLst/>
              <a:ahLst/>
              <a:rect l="0" t="0" r="r" b="b"/>
              <a:pathLst>
                <a:path w="23" h="14">
                  <a:moveTo>
                    <a:pt x="0" y="14"/>
                  </a:moveTo>
                  <a:lnTo>
                    <a:pt x="8" y="0"/>
                  </a:lnTo>
                  <a:lnTo>
                    <a:pt x="23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7812000" y="51246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1"/>
                  </a:moveTo>
                  <a:lnTo>
                    <a:pt x="9" y="45"/>
                  </a:lnTo>
                  <a:lnTo>
                    <a:pt x="25" y="21"/>
                  </a:lnTo>
                  <a:lnTo>
                    <a:pt x="35" y="30"/>
                  </a:lnTo>
                  <a:lnTo>
                    <a:pt x="25" y="72"/>
                  </a:lnTo>
                  <a:lnTo>
                    <a:pt x="69" y="72"/>
                  </a:lnTo>
                  <a:lnTo>
                    <a:pt x="94" y="30"/>
                  </a:lnTo>
                  <a:lnTo>
                    <a:pt x="84" y="8"/>
                  </a:lnTo>
                  <a:lnTo>
                    <a:pt x="35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848720" y="5122800"/>
              <a:ext cx="35280" cy="14760"/>
            </a:xfrm>
            <a:custGeom>
              <a:avLst/>
              <a:gdLst/>
              <a:ahLst/>
              <a:rect l="0" t="0" r="r" b="b"/>
              <a:pathLst>
                <a:path w="98" h="41">
                  <a:moveTo>
                    <a:pt x="0" y="20"/>
                  </a:moveTo>
                  <a:lnTo>
                    <a:pt x="35" y="41"/>
                  </a:lnTo>
                  <a:lnTo>
                    <a:pt x="87" y="26"/>
                  </a:lnTo>
                  <a:lnTo>
                    <a:pt x="9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8083440" y="5467320"/>
              <a:ext cx="62280" cy="19440"/>
            </a:xfrm>
            <a:custGeom>
              <a:avLst/>
              <a:gdLst/>
              <a:ahLst/>
              <a:rect l="0" t="0" r="r" b="b"/>
              <a:pathLst>
                <a:path w="173" h="54">
                  <a:moveTo>
                    <a:pt x="0" y="32"/>
                  </a:moveTo>
                  <a:lnTo>
                    <a:pt x="103" y="54"/>
                  </a:lnTo>
                  <a:lnTo>
                    <a:pt x="173" y="16"/>
                  </a:lnTo>
                  <a:lnTo>
                    <a:pt x="150" y="0"/>
                  </a:lnTo>
                  <a:lnTo>
                    <a:pt x="126" y="1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8120160" y="5452920"/>
              <a:ext cx="33840" cy="18000"/>
            </a:xfrm>
            <a:custGeom>
              <a:avLst/>
              <a:gdLst/>
              <a:ahLst/>
              <a:rect l="0" t="0" r="r" b="b"/>
              <a:pathLst>
                <a:path w="94" h="50">
                  <a:moveTo>
                    <a:pt x="0" y="0"/>
                  </a:moveTo>
                  <a:lnTo>
                    <a:pt x="75" y="28"/>
                  </a:lnTo>
                  <a:lnTo>
                    <a:pt x="94" y="50"/>
                  </a:lnTo>
                  <a:lnTo>
                    <a:pt x="8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628040" y="533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72"/>
                  </a:moveTo>
                  <a:lnTo>
                    <a:pt x="77" y="37"/>
                  </a:lnTo>
                  <a:lnTo>
                    <a:pt x="102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674120" y="5315040"/>
              <a:ext cx="19440" cy="9720"/>
            </a:xfrm>
            <a:custGeom>
              <a:avLst/>
              <a:gdLst/>
              <a:ahLst/>
              <a:rect l="0" t="0" r="r" b="b"/>
              <a:pathLst>
                <a:path w="54" h="27">
                  <a:moveTo>
                    <a:pt x="0" y="0"/>
                  </a:moveTo>
                  <a:lnTo>
                    <a:pt x="27" y="0"/>
                  </a:lnTo>
                  <a:lnTo>
                    <a:pt x="54" y="0"/>
                  </a:lnTo>
                  <a:lnTo>
                    <a:pt x="3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696080" y="5329080"/>
              <a:ext cx="16200" cy="11520"/>
            </a:xfrm>
            <a:custGeom>
              <a:avLst/>
              <a:gdLst/>
              <a:ahLst/>
              <a:rect l="0" t="0" r="r" b="b"/>
              <a:pathLst>
                <a:path w="45" h="32">
                  <a:moveTo>
                    <a:pt x="0" y="0"/>
                  </a:moveTo>
                  <a:lnTo>
                    <a:pt x="8" y="32"/>
                  </a:lnTo>
                  <a:lnTo>
                    <a:pt x="4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707240" y="533880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30"/>
                  </a:moveTo>
                  <a:lnTo>
                    <a:pt x="0" y="14"/>
                  </a:lnTo>
                  <a:lnTo>
                    <a:pt x="45" y="0"/>
                  </a:lnTo>
                  <a:lnTo>
                    <a:pt x="28" y="4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595920" y="4502160"/>
              <a:ext cx="71640" cy="18000"/>
            </a:xfrm>
            <a:custGeom>
              <a:avLst/>
              <a:gdLst/>
              <a:ahLst/>
              <a:rect l="0" t="0" r="r" b="b"/>
              <a:pathLst>
                <a:path w="199" h="50">
                  <a:moveTo>
                    <a:pt x="0" y="39"/>
                  </a:moveTo>
                  <a:lnTo>
                    <a:pt x="43" y="23"/>
                  </a:lnTo>
                  <a:lnTo>
                    <a:pt x="9" y="15"/>
                  </a:lnTo>
                  <a:lnTo>
                    <a:pt x="165" y="0"/>
                  </a:lnTo>
                  <a:lnTo>
                    <a:pt x="189" y="0"/>
                  </a:lnTo>
                  <a:lnTo>
                    <a:pt x="151" y="8"/>
                  </a:lnTo>
                  <a:lnTo>
                    <a:pt x="199" y="8"/>
                  </a:lnTo>
                  <a:lnTo>
                    <a:pt x="67" y="44"/>
                  </a:lnTo>
                  <a:lnTo>
                    <a:pt x="43" y="50"/>
                  </a:lnTo>
                  <a:lnTo>
                    <a:pt x="58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829560" y="4487760"/>
              <a:ext cx="44640" cy="18000"/>
            </a:xfrm>
            <a:custGeom>
              <a:avLst/>
              <a:gdLst/>
              <a:ahLst/>
              <a:rect l="0" t="0" r="r" b="b"/>
              <a:pathLst>
                <a:path w="124" h="50">
                  <a:moveTo>
                    <a:pt x="0" y="33"/>
                  </a:moveTo>
                  <a:lnTo>
                    <a:pt x="39" y="50"/>
                  </a:lnTo>
                  <a:lnTo>
                    <a:pt x="124" y="33"/>
                  </a:lnTo>
                  <a:lnTo>
                    <a:pt x="7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246800" y="4518000"/>
              <a:ext cx="36720" cy="6840"/>
            </a:xfrm>
            <a:custGeom>
              <a:avLst/>
              <a:gdLst/>
              <a:ahLst/>
              <a:rect l="0" t="0" r="r" b="b"/>
              <a:pathLst>
                <a:path w="102" h="19">
                  <a:moveTo>
                    <a:pt x="0" y="0"/>
                  </a:moveTo>
                  <a:lnTo>
                    <a:pt x="46" y="19"/>
                  </a:lnTo>
                  <a:lnTo>
                    <a:pt x="36" y="19"/>
                  </a:lnTo>
                  <a:lnTo>
                    <a:pt x="79" y="19"/>
                  </a:lnTo>
                  <a:lnTo>
                    <a:pt x="10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254720" y="4494240"/>
              <a:ext cx="87840" cy="24120"/>
            </a:xfrm>
            <a:custGeom>
              <a:avLst/>
              <a:gdLst/>
              <a:ahLst/>
              <a:rect l="0" t="0" r="r" b="b"/>
              <a:pathLst>
                <a:path w="244" h="67">
                  <a:moveTo>
                    <a:pt x="0" y="61"/>
                  </a:moveTo>
                  <a:lnTo>
                    <a:pt x="57" y="15"/>
                  </a:lnTo>
                  <a:lnTo>
                    <a:pt x="162" y="0"/>
                  </a:lnTo>
                  <a:lnTo>
                    <a:pt x="244" y="30"/>
                  </a:lnTo>
                  <a:lnTo>
                    <a:pt x="220" y="37"/>
                  </a:lnTo>
                  <a:lnTo>
                    <a:pt x="235" y="52"/>
                  </a:lnTo>
                  <a:lnTo>
                    <a:pt x="96" y="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272360" y="4514760"/>
              <a:ext cx="103680" cy="28800"/>
            </a:xfrm>
            <a:custGeom>
              <a:avLst/>
              <a:gdLst/>
              <a:ahLst/>
              <a:rect l="0" t="0" r="r" b="b"/>
              <a:pathLst>
                <a:path w="288" h="80">
                  <a:moveTo>
                    <a:pt x="0" y="36"/>
                  </a:moveTo>
                  <a:lnTo>
                    <a:pt x="56" y="36"/>
                  </a:lnTo>
                  <a:lnTo>
                    <a:pt x="90" y="65"/>
                  </a:lnTo>
                  <a:lnTo>
                    <a:pt x="113" y="59"/>
                  </a:lnTo>
                  <a:lnTo>
                    <a:pt x="241" y="80"/>
                  </a:lnTo>
                  <a:lnTo>
                    <a:pt x="274" y="74"/>
                  </a:lnTo>
                  <a:lnTo>
                    <a:pt x="241" y="49"/>
                  </a:lnTo>
                  <a:lnTo>
                    <a:pt x="274" y="59"/>
                  </a:lnTo>
                  <a:lnTo>
                    <a:pt x="288" y="21"/>
                  </a:lnTo>
                  <a:lnTo>
                    <a:pt x="232" y="6"/>
                  </a:lnTo>
                  <a:lnTo>
                    <a:pt x="160" y="27"/>
                  </a:lnTo>
                  <a:lnTo>
                    <a:pt x="218" y="12"/>
                  </a:lnTo>
                  <a:lnTo>
                    <a:pt x="184" y="0"/>
                  </a:lnTo>
                  <a:lnTo>
                    <a:pt x="90" y="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367760" y="4529160"/>
              <a:ext cx="90720" cy="30600"/>
            </a:xfrm>
            <a:custGeom>
              <a:avLst/>
              <a:gdLst/>
              <a:ahLst/>
              <a:rect l="0" t="0" r="r" b="b"/>
              <a:pathLst>
                <a:path w="252" h="85">
                  <a:moveTo>
                    <a:pt x="0" y="76"/>
                  </a:moveTo>
                  <a:lnTo>
                    <a:pt x="24" y="85"/>
                  </a:lnTo>
                  <a:lnTo>
                    <a:pt x="227" y="70"/>
                  </a:lnTo>
                  <a:lnTo>
                    <a:pt x="252" y="38"/>
                  </a:lnTo>
                  <a:lnTo>
                    <a:pt x="193" y="15"/>
                  </a:lnTo>
                  <a:lnTo>
                    <a:pt x="143" y="22"/>
                  </a:lnTo>
                  <a:lnTo>
                    <a:pt x="158" y="6"/>
                  </a:lnTo>
                  <a:lnTo>
                    <a:pt x="118" y="0"/>
                  </a:lnTo>
                  <a:lnTo>
                    <a:pt x="24" y="59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912080" y="4592520"/>
              <a:ext cx="98640" cy="27360"/>
            </a:xfrm>
            <a:custGeom>
              <a:avLst/>
              <a:gdLst/>
              <a:ahLst/>
              <a:rect l="0" t="0" r="r" b="b"/>
              <a:pathLst>
                <a:path w="274" h="76">
                  <a:moveTo>
                    <a:pt x="0" y="42"/>
                  </a:moveTo>
                  <a:lnTo>
                    <a:pt x="58" y="0"/>
                  </a:lnTo>
                  <a:lnTo>
                    <a:pt x="92" y="0"/>
                  </a:lnTo>
                  <a:lnTo>
                    <a:pt x="157" y="28"/>
                  </a:lnTo>
                  <a:lnTo>
                    <a:pt x="166" y="5"/>
                  </a:lnTo>
                  <a:lnTo>
                    <a:pt x="240" y="20"/>
                  </a:lnTo>
                  <a:lnTo>
                    <a:pt x="225" y="48"/>
                  </a:lnTo>
                  <a:lnTo>
                    <a:pt x="274" y="63"/>
                  </a:lnTo>
                  <a:lnTo>
                    <a:pt x="131" y="63"/>
                  </a:lnTo>
                  <a:lnTo>
                    <a:pt x="117" y="53"/>
                  </a:lnTo>
                  <a:lnTo>
                    <a:pt x="92" y="7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980480" y="4592520"/>
              <a:ext cx="60840" cy="19440"/>
            </a:xfrm>
            <a:custGeom>
              <a:avLst/>
              <a:gdLst/>
              <a:ahLst/>
              <a:rect l="0" t="0" r="r" b="b"/>
              <a:pathLst>
                <a:path w="169" h="54">
                  <a:moveTo>
                    <a:pt x="0" y="0"/>
                  </a:moveTo>
                  <a:lnTo>
                    <a:pt x="60" y="20"/>
                  </a:lnTo>
                  <a:lnTo>
                    <a:pt x="50" y="34"/>
                  </a:lnTo>
                  <a:lnTo>
                    <a:pt x="69" y="54"/>
                  </a:lnTo>
                  <a:lnTo>
                    <a:pt x="119" y="54"/>
                  </a:lnTo>
                  <a:lnTo>
                    <a:pt x="169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8053560" y="4602240"/>
              <a:ext cx="66960" cy="14760"/>
            </a:xfrm>
            <a:custGeom>
              <a:avLst/>
              <a:gdLst/>
              <a:ahLst/>
              <a:rect l="0" t="0" r="r" b="b"/>
              <a:pathLst>
                <a:path w="186" h="41">
                  <a:moveTo>
                    <a:pt x="0" y="0"/>
                  </a:moveTo>
                  <a:lnTo>
                    <a:pt x="33" y="26"/>
                  </a:lnTo>
                  <a:lnTo>
                    <a:pt x="114" y="41"/>
                  </a:lnTo>
                  <a:lnTo>
                    <a:pt x="18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41760" y="52545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0" y="11"/>
                  </a:moveTo>
                  <a:lnTo>
                    <a:pt x="0" y="0"/>
                  </a:lnTo>
                  <a:lnTo>
                    <a:pt x="45" y="21"/>
                  </a:lnTo>
                  <a:lnTo>
                    <a:pt x="13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924360" y="4859280"/>
              <a:ext cx="22680" cy="8280"/>
            </a:xfrm>
            <a:custGeom>
              <a:avLst/>
              <a:gdLst/>
              <a:ahLst/>
              <a:rect l="0" t="0" r="r" b="b"/>
              <a:pathLst>
                <a:path w="63" h="23">
                  <a:moveTo>
                    <a:pt x="0" y="0"/>
                  </a:moveTo>
                  <a:lnTo>
                    <a:pt x="26" y="23"/>
                  </a:lnTo>
                  <a:lnTo>
                    <a:pt x="26" y="14"/>
                  </a:lnTo>
                  <a:lnTo>
                    <a:pt x="63" y="23"/>
                  </a:lnTo>
                  <a:lnTo>
                    <a:pt x="26" y="14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932280" y="4867200"/>
              <a:ext cx="14760" cy="14760"/>
            </a:xfrm>
            <a:custGeom>
              <a:avLst/>
              <a:gdLst/>
              <a:ahLst/>
              <a:rect l="0" t="0" r="r" b="b"/>
              <a:pathLst>
                <a:path w="41" h="41">
                  <a:moveTo>
                    <a:pt x="0" y="0"/>
                  </a:moveTo>
                  <a:lnTo>
                    <a:pt x="41" y="5"/>
                  </a:lnTo>
                  <a:lnTo>
                    <a:pt x="4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946680" y="4859280"/>
              <a:ext cx="16200" cy="9720"/>
            </a:xfrm>
            <a:custGeom>
              <a:avLst/>
              <a:gdLst/>
              <a:ahLst/>
              <a:rect l="0" t="0" r="r" b="b"/>
              <a:pathLst>
                <a:path w="45" h="27">
                  <a:moveTo>
                    <a:pt x="0" y="0"/>
                  </a:moveTo>
                  <a:lnTo>
                    <a:pt x="13" y="27"/>
                  </a:lnTo>
                  <a:lnTo>
                    <a:pt x="36" y="27"/>
                  </a:lnTo>
                  <a:lnTo>
                    <a:pt x="23" y="0"/>
                  </a:lnTo>
                  <a:lnTo>
                    <a:pt x="45" y="22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959280" y="48704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0"/>
                  </a:moveTo>
                  <a:lnTo>
                    <a:pt x="36" y="23"/>
                  </a:lnTo>
                  <a:lnTo>
                    <a:pt x="3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962520" y="4881600"/>
              <a:ext cx="24120" cy="16200"/>
            </a:xfrm>
            <a:custGeom>
              <a:avLst/>
              <a:gdLst/>
              <a:ahLst/>
              <a:rect l="0" t="0" r="r" b="b"/>
              <a:pathLst>
                <a:path w="67" h="45">
                  <a:moveTo>
                    <a:pt x="0" y="0"/>
                  </a:moveTo>
                  <a:lnTo>
                    <a:pt x="56" y="14"/>
                  </a:lnTo>
                  <a:lnTo>
                    <a:pt x="67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994200" y="4888080"/>
              <a:ext cx="12960" cy="6840"/>
            </a:xfrm>
            <a:custGeom>
              <a:avLst/>
              <a:gdLst/>
              <a:ahLst/>
              <a:rect l="0" t="0" r="r" b="b"/>
              <a:pathLst>
                <a:path w="36" h="19">
                  <a:moveTo>
                    <a:pt x="0" y="13"/>
                  </a:moveTo>
                  <a:lnTo>
                    <a:pt x="26" y="0"/>
                  </a:lnTo>
                  <a:lnTo>
                    <a:pt x="36" y="1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8663040" y="4786200"/>
              <a:ext cx="43200" cy="9720"/>
            </a:xfrm>
            <a:custGeom>
              <a:avLst/>
              <a:gdLst/>
              <a:ahLst/>
              <a:rect l="0" t="0" r="r" b="b"/>
              <a:pathLst>
                <a:path w="120" h="27">
                  <a:moveTo>
                    <a:pt x="0" y="7"/>
                  </a:moveTo>
                  <a:lnTo>
                    <a:pt x="75" y="0"/>
                  </a:lnTo>
                  <a:lnTo>
                    <a:pt x="120" y="14"/>
                  </a:lnTo>
                  <a:lnTo>
                    <a:pt x="100" y="2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4" name="" descr=""/>
          <p:cNvPicPr/>
          <p:nvPr/>
        </p:nvPicPr>
        <p:blipFill>
          <a:blip r:embed="rId6"/>
          <a:stretch/>
        </p:blipFill>
        <p:spPr>
          <a:xfrm>
            <a:off x="3672000" y="4280040"/>
            <a:ext cx="549360" cy="771480"/>
          </a:xfrm>
          <a:prstGeom prst="rect">
            <a:avLst/>
          </a:prstGeom>
          <a:ln w="0">
            <a:noFill/>
          </a:ln>
        </p:spPr>
      </p:pic>
      <p:grpSp>
        <p:nvGrpSpPr>
          <p:cNvPr id="4405" name=""/>
          <p:cNvGrpSpPr/>
          <p:nvPr/>
        </p:nvGrpSpPr>
        <p:grpSpPr>
          <a:xfrm>
            <a:off x="4137120" y="5032440"/>
            <a:ext cx="935280" cy="625680"/>
            <a:chOff x="4137120" y="5032440"/>
            <a:chExt cx="935280" cy="625680"/>
          </a:xfrm>
        </p:grpSpPr>
        <p:sp>
          <p:nvSpPr>
            <p:cNvPr id="4406" name=""/>
            <p:cNvSpPr/>
            <p:nvPr/>
          </p:nvSpPr>
          <p:spPr>
            <a:xfrm>
              <a:off x="4622760" y="5381640"/>
              <a:ext cx="44640" cy="18000"/>
            </a:xfrm>
            <a:custGeom>
              <a:avLst/>
              <a:gdLst/>
              <a:ahLst/>
              <a:rect l="0" t="0" r="r" b="b"/>
              <a:pathLst>
                <a:path w="124" h="50">
                  <a:moveTo>
                    <a:pt x="53" y="0"/>
                  </a:moveTo>
                  <a:lnTo>
                    <a:pt x="0" y="18"/>
                  </a:lnTo>
                  <a:lnTo>
                    <a:pt x="56" y="50"/>
                  </a:lnTo>
                  <a:lnTo>
                    <a:pt x="124" y="20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886280" y="5475240"/>
              <a:ext cx="41760" cy="18000"/>
            </a:xfrm>
            <a:custGeom>
              <a:avLst/>
              <a:gdLst/>
              <a:ahLst/>
              <a:rect l="0" t="0" r="r" b="b"/>
              <a:pathLst>
                <a:path w="116" h="50">
                  <a:moveTo>
                    <a:pt x="51" y="0"/>
                  </a:moveTo>
                  <a:lnTo>
                    <a:pt x="0" y="21"/>
                  </a:lnTo>
                  <a:lnTo>
                    <a:pt x="61" y="50"/>
                  </a:lnTo>
                  <a:lnTo>
                    <a:pt x="116" y="23"/>
                  </a:lnTo>
                  <a:lnTo>
                    <a:pt x="68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844880" y="5407200"/>
              <a:ext cx="36720" cy="49680"/>
            </a:xfrm>
            <a:custGeom>
              <a:avLst/>
              <a:gdLst/>
              <a:ahLst/>
              <a:rect l="0" t="0" r="r" b="b"/>
              <a:pathLst>
                <a:path w="102" h="138">
                  <a:moveTo>
                    <a:pt x="0" y="64"/>
                  </a:moveTo>
                  <a:lnTo>
                    <a:pt x="0" y="57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3" y="20"/>
                  </a:lnTo>
                  <a:lnTo>
                    <a:pt x="7" y="13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34" y="1"/>
                  </a:lnTo>
                  <a:lnTo>
                    <a:pt x="45" y="3"/>
                  </a:lnTo>
                  <a:lnTo>
                    <a:pt x="87" y="20"/>
                  </a:lnTo>
                  <a:lnTo>
                    <a:pt x="92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6" y="40"/>
                  </a:lnTo>
                  <a:lnTo>
                    <a:pt x="98" y="47"/>
                  </a:lnTo>
                  <a:lnTo>
                    <a:pt x="98" y="55"/>
                  </a:lnTo>
                  <a:lnTo>
                    <a:pt x="102" y="62"/>
                  </a:lnTo>
                  <a:lnTo>
                    <a:pt x="102" y="68"/>
                  </a:lnTo>
                  <a:lnTo>
                    <a:pt x="102" y="72"/>
                  </a:lnTo>
                  <a:lnTo>
                    <a:pt x="98" y="77"/>
                  </a:lnTo>
                  <a:lnTo>
                    <a:pt x="98" y="85"/>
                  </a:lnTo>
                  <a:lnTo>
                    <a:pt x="96" y="92"/>
                  </a:lnTo>
                  <a:lnTo>
                    <a:pt x="96" y="100"/>
                  </a:lnTo>
                  <a:lnTo>
                    <a:pt x="94" y="102"/>
                  </a:lnTo>
                  <a:lnTo>
                    <a:pt x="92" y="108"/>
                  </a:lnTo>
                  <a:lnTo>
                    <a:pt x="89" y="112"/>
                  </a:lnTo>
                  <a:lnTo>
                    <a:pt x="87" y="118"/>
                  </a:lnTo>
                  <a:lnTo>
                    <a:pt x="83" y="121"/>
                  </a:lnTo>
                  <a:lnTo>
                    <a:pt x="79" y="123"/>
                  </a:lnTo>
                  <a:lnTo>
                    <a:pt x="77" y="129"/>
                  </a:lnTo>
                  <a:lnTo>
                    <a:pt x="73" y="131"/>
                  </a:lnTo>
                  <a:lnTo>
                    <a:pt x="67" y="133"/>
                  </a:lnTo>
                  <a:lnTo>
                    <a:pt x="64" y="136"/>
                  </a:lnTo>
                  <a:lnTo>
                    <a:pt x="58" y="136"/>
                  </a:lnTo>
                  <a:lnTo>
                    <a:pt x="54" y="136"/>
                  </a:lnTo>
                  <a:lnTo>
                    <a:pt x="45" y="138"/>
                  </a:lnTo>
                  <a:lnTo>
                    <a:pt x="44" y="138"/>
                  </a:lnTo>
                  <a:lnTo>
                    <a:pt x="40" y="138"/>
                  </a:lnTo>
                  <a:lnTo>
                    <a:pt x="34" y="138"/>
                  </a:lnTo>
                  <a:lnTo>
                    <a:pt x="28" y="138"/>
                  </a:lnTo>
                  <a:lnTo>
                    <a:pt x="21" y="138"/>
                  </a:lnTo>
                  <a:lnTo>
                    <a:pt x="21" y="118"/>
                  </a:lnTo>
                  <a:lnTo>
                    <a:pt x="17" y="110"/>
                  </a:lnTo>
                  <a:lnTo>
                    <a:pt x="11" y="108"/>
                  </a:lnTo>
                  <a:lnTo>
                    <a:pt x="11" y="102"/>
                  </a:lnTo>
                  <a:lnTo>
                    <a:pt x="9" y="94"/>
                  </a:lnTo>
                  <a:lnTo>
                    <a:pt x="7" y="89"/>
                  </a:lnTo>
                  <a:lnTo>
                    <a:pt x="3" y="83"/>
                  </a:lnTo>
                  <a:lnTo>
                    <a:pt x="1" y="75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829040" y="5405400"/>
              <a:ext cx="38520" cy="51120"/>
            </a:xfrm>
            <a:custGeom>
              <a:avLst/>
              <a:gdLst/>
              <a:ahLst/>
              <a:rect l="0" t="0" r="r" b="b"/>
              <a:pathLst>
                <a:path w="107" h="142">
                  <a:moveTo>
                    <a:pt x="0" y="72"/>
                  </a:moveTo>
                  <a:lnTo>
                    <a:pt x="0" y="64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5" y="20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8" y="1"/>
                  </a:lnTo>
                  <a:lnTo>
                    <a:pt x="49" y="0"/>
                  </a:lnTo>
                  <a:lnTo>
                    <a:pt x="89" y="10"/>
                  </a:lnTo>
                  <a:lnTo>
                    <a:pt x="91" y="18"/>
                  </a:lnTo>
                  <a:lnTo>
                    <a:pt x="92" y="23"/>
                  </a:lnTo>
                  <a:lnTo>
                    <a:pt x="98" y="27"/>
                  </a:lnTo>
                  <a:lnTo>
                    <a:pt x="100" y="34"/>
                  </a:lnTo>
                  <a:lnTo>
                    <a:pt x="102" y="42"/>
                  </a:lnTo>
                  <a:lnTo>
                    <a:pt x="104" y="45"/>
                  </a:lnTo>
                  <a:lnTo>
                    <a:pt x="107" y="53"/>
                  </a:lnTo>
                  <a:lnTo>
                    <a:pt x="107" y="60"/>
                  </a:lnTo>
                  <a:lnTo>
                    <a:pt x="107" y="67"/>
                  </a:lnTo>
                  <a:lnTo>
                    <a:pt x="107" y="77"/>
                  </a:lnTo>
                  <a:lnTo>
                    <a:pt x="107" y="79"/>
                  </a:lnTo>
                  <a:lnTo>
                    <a:pt x="107" y="87"/>
                  </a:lnTo>
                  <a:lnTo>
                    <a:pt x="104" y="94"/>
                  </a:lnTo>
                  <a:lnTo>
                    <a:pt x="104" y="99"/>
                  </a:lnTo>
                  <a:lnTo>
                    <a:pt x="102" y="107"/>
                  </a:lnTo>
                  <a:lnTo>
                    <a:pt x="100" y="112"/>
                  </a:lnTo>
                  <a:lnTo>
                    <a:pt x="94" y="116"/>
                  </a:lnTo>
                  <a:lnTo>
                    <a:pt x="92" y="121"/>
                  </a:lnTo>
                  <a:lnTo>
                    <a:pt x="91" y="123"/>
                  </a:lnTo>
                  <a:lnTo>
                    <a:pt x="89" y="131"/>
                  </a:lnTo>
                  <a:lnTo>
                    <a:pt x="83" y="132"/>
                  </a:lnTo>
                  <a:lnTo>
                    <a:pt x="78" y="136"/>
                  </a:lnTo>
                  <a:lnTo>
                    <a:pt x="73" y="140"/>
                  </a:lnTo>
                  <a:lnTo>
                    <a:pt x="71" y="140"/>
                  </a:lnTo>
                  <a:lnTo>
                    <a:pt x="65" y="142"/>
                  </a:lnTo>
                  <a:lnTo>
                    <a:pt x="62" y="142"/>
                  </a:lnTo>
                  <a:lnTo>
                    <a:pt x="56" y="142"/>
                  </a:lnTo>
                  <a:lnTo>
                    <a:pt x="52" y="142"/>
                  </a:lnTo>
                  <a:lnTo>
                    <a:pt x="47" y="140"/>
                  </a:lnTo>
                  <a:lnTo>
                    <a:pt x="43" y="140"/>
                  </a:lnTo>
                  <a:lnTo>
                    <a:pt x="38" y="140"/>
                  </a:lnTo>
                  <a:lnTo>
                    <a:pt x="34" y="134"/>
                  </a:lnTo>
                  <a:lnTo>
                    <a:pt x="28" y="132"/>
                  </a:lnTo>
                  <a:lnTo>
                    <a:pt x="24" y="127"/>
                  </a:lnTo>
                  <a:lnTo>
                    <a:pt x="20" y="121"/>
                  </a:lnTo>
                  <a:lnTo>
                    <a:pt x="18" y="118"/>
                  </a:lnTo>
                  <a:lnTo>
                    <a:pt x="14" y="112"/>
                  </a:lnTo>
                  <a:lnTo>
                    <a:pt x="9" y="109"/>
                  </a:lnTo>
                  <a:lnTo>
                    <a:pt x="7" y="105"/>
                  </a:lnTo>
                  <a:lnTo>
                    <a:pt x="5" y="98"/>
                  </a:lnTo>
                  <a:lnTo>
                    <a:pt x="5" y="90"/>
                  </a:lnTo>
                  <a:lnTo>
                    <a:pt x="1" y="83"/>
                  </a:lnTo>
                  <a:lnTo>
                    <a:pt x="1" y="7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4838760" y="5415120"/>
              <a:ext cx="16200" cy="28800"/>
            </a:xfrm>
            <a:custGeom>
              <a:avLst/>
              <a:gdLst/>
              <a:ahLst/>
              <a:rect l="0" t="0" r="r" b="b"/>
              <a:pathLst>
                <a:path w="45" h="80">
                  <a:moveTo>
                    <a:pt x="0" y="43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7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3"/>
                  </a:lnTo>
                  <a:lnTo>
                    <a:pt x="43" y="27"/>
                  </a:lnTo>
                  <a:lnTo>
                    <a:pt x="43" y="29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45" y="45"/>
                  </a:lnTo>
                  <a:lnTo>
                    <a:pt x="45" y="49"/>
                  </a:lnTo>
                  <a:lnTo>
                    <a:pt x="45" y="53"/>
                  </a:lnTo>
                  <a:lnTo>
                    <a:pt x="43" y="53"/>
                  </a:lnTo>
                  <a:lnTo>
                    <a:pt x="43" y="57"/>
                  </a:lnTo>
                  <a:lnTo>
                    <a:pt x="43" y="59"/>
                  </a:lnTo>
                  <a:lnTo>
                    <a:pt x="41" y="64"/>
                  </a:lnTo>
                  <a:lnTo>
                    <a:pt x="41" y="66"/>
                  </a:lnTo>
                  <a:lnTo>
                    <a:pt x="37" y="66"/>
                  </a:lnTo>
                  <a:lnTo>
                    <a:pt x="37" y="70"/>
                  </a:lnTo>
                  <a:lnTo>
                    <a:pt x="35" y="72"/>
                  </a:lnTo>
                  <a:lnTo>
                    <a:pt x="35" y="74"/>
                  </a:lnTo>
                  <a:lnTo>
                    <a:pt x="34" y="76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0" y="80"/>
                  </a:lnTo>
                  <a:lnTo>
                    <a:pt x="18" y="76"/>
                  </a:lnTo>
                  <a:lnTo>
                    <a:pt x="16" y="76"/>
                  </a:lnTo>
                  <a:lnTo>
                    <a:pt x="14" y="74"/>
                  </a:lnTo>
                  <a:lnTo>
                    <a:pt x="11" y="72"/>
                  </a:lnTo>
                  <a:lnTo>
                    <a:pt x="11" y="70"/>
                  </a:lnTo>
                  <a:lnTo>
                    <a:pt x="9" y="66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5" y="57"/>
                  </a:lnTo>
                  <a:lnTo>
                    <a:pt x="5" y="53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4826160" y="5405400"/>
              <a:ext cx="36720" cy="55800"/>
            </a:xfrm>
            <a:custGeom>
              <a:avLst/>
              <a:gdLst/>
              <a:ahLst/>
              <a:rect l="0" t="0" r="r" b="b"/>
              <a:pathLst>
                <a:path w="102" h="155">
                  <a:moveTo>
                    <a:pt x="1" y="80"/>
                  </a:moveTo>
                  <a:lnTo>
                    <a:pt x="1" y="78"/>
                  </a:lnTo>
                  <a:lnTo>
                    <a:pt x="0" y="67"/>
                  </a:lnTo>
                  <a:lnTo>
                    <a:pt x="1" y="60"/>
                  </a:lnTo>
                  <a:lnTo>
                    <a:pt x="1" y="54"/>
                  </a:lnTo>
                  <a:lnTo>
                    <a:pt x="1" y="48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9" y="31"/>
                  </a:lnTo>
                  <a:lnTo>
                    <a:pt x="11" y="26"/>
                  </a:lnTo>
                  <a:lnTo>
                    <a:pt x="15" y="22"/>
                  </a:lnTo>
                  <a:lnTo>
                    <a:pt x="16" y="16"/>
                  </a:lnTo>
                  <a:lnTo>
                    <a:pt x="15" y="0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3" y="3"/>
                  </a:lnTo>
                  <a:lnTo>
                    <a:pt x="37" y="3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7" y="3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68" y="7"/>
                  </a:lnTo>
                  <a:lnTo>
                    <a:pt x="74" y="9"/>
                  </a:lnTo>
                  <a:lnTo>
                    <a:pt x="79" y="15"/>
                  </a:lnTo>
                  <a:lnTo>
                    <a:pt x="83" y="18"/>
                  </a:lnTo>
                  <a:lnTo>
                    <a:pt x="83" y="24"/>
                  </a:lnTo>
                  <a:lnTo>
                    <a:pt x="89" y="26"/>
                  </a:lnTo>
                  <a:lnTo>
                    <a:pt x="91" y="33"/>
                  </a:lnTo>
                  <a:lnTo>
                    <a:pt x="93" y="41"/>
                  </a:lnTo>
                  <a:lnTo>
                    <a:pt x="94" y="43"/>
                  </a:lnTo>
                  <a:lnTo>
                    <a:pt x="98" y="50"/>
                  </a:lnTo>
                  <a:lnTo>
                    <a:pt x="100" y="58"/>
                  </a:lnTo>
                  <a:lnTo>
                    <a:pt x="100" y="63"/>
                  </a:lnTo>
                  <a:lnTo>
                    <a:pt x="100" y="71"/>
                  </a:lnTo>
                  <a:lnTo>
                    <a:pt x="102" y="78"/>
                  </a:lnTo>
                  <a:lnTo>
                    <a:pt x="102" y="83"/>
                  </a:lnTo>
                  <a:lnTo>
                    <a:pt x="102" y="91"/>
                  </a:lnTo>
                  <a:lnTo>
                    <a:pt x="100" y="96"/>
                  </a:lnTo>
                  <a:lnTo>
                    <a:pt x="100" y="106"/>
                  </a:lnTo>
                  <a:lnTo>
                    <a:pt x="100" y="110"/>
                  </a:lnTo>
                  <a:lnTo>
                    <a:pt x="98" y="115"/>
                  </a:lnTo>
                  <a:lnTo>
                    <a:pt x="94" y="119"/>
                  </a:lnTo>
                  <a:lnTo>
                    <a:pt x="93" y="125"/>
                  </a:lnTo>
                  <a:lnTo>
                    <a:pt x="91" y="128"/>
                  </a:lnTo>
                  <a:lnTo>
                    <a:pt x="85" y="136"/>
                  </a:lnTo>
                  <a:lnTo>
                    <a:pt x="83" y="142"/>
                  </a:lnTo>
                  <a:lnTo>
                    <a:pt x="81" y="142"/>
                  </a:lnTo>
                  <a:lnTo>
                    <a:pt x="76" y="145"/>
                  </a:lnTo>
                  <a:lnTo>
                    <a:pt x="74" y="147"/>
                  </a:lnTo>
                  <a:lnTo>
                    <a:pt x="68" y="151"/>
                  </a:lnTo>
                  <a:lnTo>
                    <a:pt x="66" y="151"/>
                  </a:lnTo>
                  <a:lnTo>
                    <a:pt x="62" y="151"/>
                  </a:lnTo>
                  <a:lnTo>
                    <a:pt x="59" y="153"/>
                  </a:lnTo>
                  <a:lnTo>
                    <a:pt x="53" y="153"/>
                  </a:lnTo>
                  <a:lnTo>
                    <a:pt x="46" y="155"/>
                  </a:lnTo>
                  <a:lnTo>
                    <a:pt x="45" y="155"/>
                  </a:lnTo>
                  <a:lnTo>
                    <a:pt x="39" y="155"/>
                  </a:lnTo>
                  <a:lnTo>
                    <a:pt x="35" y="155"/>
                  </a:lnTo>
                  <a:lnTo>
                    <a:pt x="30" y="155"/>
                  </a:lnTo>
                  <a:lnTo>
                    <a:pt x="24" y="155"/>
                  </a:lnTo>
                  <a:lnTo>
                    <a:pt x="24" y="132"/>
                  </a:lnTo>
                  <a:lnTo>
                    <a:pt x="18" y="127"/>
                  </a:lnTo>
                  <a:lnTo>
                    <a:pt x="15" y="123"/>
                  </a:lnTo>
                  <a:lnTo>
                    <a:pt x="15" y="117"/>
                  </a:lnTo>
                  <a:lnTo>
                    <a:pt x="11" y="113"/>
                  </a:lnTo>
                  <a:lnTo>
                    <a:pt x="9" y="108"/>
                  </a:lnTo>
                  <a:lnTo>
                    <a:pt x="7" y="100"/>
                  </a:lnTo>
                  <a:lnTo>
                    <a:pt x="5" y="95"/>
                  </a:lnTo>
                  <a:lnTo>
                    <a:pt x="1" y="87"/>
                  </a:lnTo>
                  <a:lnTo>
                    <a:pt x="1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4809960" y="5405400"/>
              <a:ext cx="38520" cy="55800"/>
            </a:xfrm>
            <a:custGeom>
              <a:avLst/>
              <a:gdLst/>
              <a:ahLst/>
              <a:rect l="0" t="0" r="r" b="b"/>
              <a:pathLst>
                <a:path w="107" h="155">
                  <a:moveTo>
                    <a:pt x="0" y="82"/>
                  </a:moveTo>
                  <a:lnTo>
                    <a:pt x="0" y="79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5" y="33"/>
                  </a:lnTo>
                  <a:lnTo>
                    <a:pt x="5" y="27"/>
                  </a:lnTo>
                  <a:lnTo>
                    <a:pt x="11" y="24"/>
                  </a:lnTo>
                  <a:lnTo>
                    <a:pt x="13" y="16"/>
                  </a:lnTo>
                  <a:lnTo>
                    <a:pt x="18" y="11"/>
                  </a:lnTo>
                  <a:lnTo>
                    <a:pt x="22" y="11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1" y="5"/>
                  </a:lnTo>
                  <a:lnTo>
                    <a:pt x="67" y="5"/>
                  </a:lnTo>
                  <a:lnTo>
                    <a:pt x="72" y="9"/>
                  </a:lnTo>
                  <a:lnTo>
                    <a:pt x="76" y="11"/>
                  </a:lnTo>
                  <a:lnTo>
                    <a:pt x="81" y="14"/>
                  </a:lnTo>
                  <a:lnTo>
                    <a:pt x="83" y="18"/>
                  </a:lnTo>
                  <a:lnTo>
                    <a:pt x="88" y="26"/>
                  </a:lnTo>
                  <a:lnTo>
                    <a:pt x="90" y="27"/>
                  </a:lnTo>
                  <a:lnTo>
                    <a:pt x="92" y="35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2" y="53"/>
                  </a:lnTo>
                  <a:lnTo>
                    <a:pt x="105" y="61"/>
                  </a:lnTo>
                  <a:lnTo>
                    <a:pt x="105" y="65"/>
                  </a:lnTo>
                  <a:lnTo>
                    <a:pt x="107" y="74"/>
                  </a:lnTo>
                  <a:lnTo>
                    <a:pt x="107" y="79"/>
                  </a:lnTo>
                  <a:lnTo>
                    <a:pt x="107" y="88"/>
                  </a:lnTo>
                  <a:lnTo>
                    <a:pt x="107" y="92"/>
                  </a:lnTo>
                  <a:lnTo>
                    <a:pt x="107" y="99"/>
                  </a:lnTo>
                  <a:lnTo>
                    <a:pt x="105" y="108"/>
                  </a:lnTo>
                  <a:lnTo>
                    <a:pt x="102" y="114"/>
                  </a:lnTo>
                  <a:lnTo>
                    <a:pt x="102" y="118"/>
                  </a:lnTo>
                  <a:lnTo>
                    <a:pt x="100" y="123"/>
                  </a:lnTo>
                  <a:lnTo>
                    <a:pt x="96" y="127"/>
                  </a:lnTo>
                  <a:lnTo>
                    <a:pt x="92" y="134"/>
                  </a:lnTo>
                  <a:lnTo>
                    <a:pt x="90" y="138"/>
                  </a:lnTo>
                  <a:lnTo>
                    <a:pt x="88" y="142"/>
                  </a:lnTo>
                  <a:lnTo>
                    <a:pt x="83" y="146"/>
                  </a:lnTo>
                  <a:lnTo>
                    <a:pt x="78" y="151"/>
                  </a:lnTo>
                  <a:lnTo>
                    <a:pt x="72" y="151"/>
                  </a:lnTo>
                  <a:lnTo>
                    <a:pt x="70" y="153"/>
                  </a:lnTo>
                  <a:lnTo>
                    <a:pt x="67" y="155"/>
                  </a:lnTo>
                  <a:lnTo>
                    <a:pt x="61" y="155"/>
                  </a:lnTo>
                  <a:lnTo>
                    <a:pt x="57" y="155"/>
                  </a:lnTo>
                  <a:lnTo>
                    <a:pt x="52" y="155"/>
                  </a:lnTo>
                  <a:lnTo>
                    <a:pt x="48" y="153"/>
                  </a:lnTo>
                  <a:lnTo>
                    <a:pt x="42" y="153"/>
                  </a:lnTo>
                  <a:lnTo>
                    <a:pt x="38" y="151"/>
                  </a:lnTo>
                  <a:lnTo>
                    <a:pt x="33" y="147"/>
                  </a:lnTo>
                  <a:lnTo>
                    <a:pt x="29" y="144"/>
                  </a:lnTo>
                  <a:lnTo>
                    <a:pt x="22" y="142"/>
                  </a:lnTo>
                  <a:lnTo>
                    <a:pt x="20" y="136"/>
                  </a:lnTo>
                  <a:lnTo>
                    <a:pt x="15" y="133"/>
                  </a:lnTo>
                  <a:lnTo>
                    <a:pt x="13" y="125"/>
                  </a:lnTo>
                  <a:lnTo>
                    <a:pt x="9" y="123"/>
                  </a:lnTo>
                  <a:lnTo>
                    <a:pt x="5" y="116"/>
                  </a:lnTo>
                  <a:lnTo>
                    <a:pt x="5" y="108"/>
                  </a:lnTo>
                  <a:lnTo>
                    <a:pt x="3" y="105"/>
                  </a:lnTo>
                  <a:lnTo>
                    <a:pt x="1" y="97"/>
                  </a:lnTo>
                  <a:lnTo>
                    <a:pt x="0" y="9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4821120" y="5419800"/>
              <a:ext cx="16200" cy="27360"/>
            </a:xfrm>
            <a:custGeom>
              <a:avLst/>
              <a:gdLst/>
              <a:ahLst/>
              <a:rect l="0" t="0" r="r" b="b"/>
              <a:pathLst>
                <a:path w="45" h="76">
                  <a:moveTo>
                    <a:pt x="0" y="39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9"/>
                  </a:lnTo>
                  <a:lnTo>
                    <a:pt x="3" y="5"/>
                  </a:lnTo>
                  <a:lnTo>
                    <a:pt x="5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9" y="15"/>
                  </a:lnTo>
                  <a:lnTo>
                    <a:pt x="41" y="20"/>
                  </a:lnTo>
                  <a:lnTo>
                    <a:pt x="41" y="22"/>
                  </a:lnTo>
                  <a:lnTo>
                    <a:pt x="43" y="24"/>
                  </a:lnTo>
                  <a:lnTo>
                    <a:pt x="43" y="29"/>
                  </a:lnTo>
                  <a:lnTo>
                    <a:pt x="43" y="33"/>
                  </a:lnTo>
                  <a:lnTo>
                    <a:pt x="43" y="35"/>
                  </a:lnTo>
                  <a:lnTo>
                    <a:pt x="45" y="39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3" y="49"/>
                  </a:lnTo>
                  <a:lnTo>
                    <a:pt x="43" y="52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71"/>
                  </a:lnTo>
                  <a:lnTo>
                    <a:pt x="35" y="71"/>
                  </a:lnTo>
                  <a:lnTo>
                    <a:pt x="33" y="73"/>
                  </a:lnTo>
                  <a:lnTo>
                    <a:pt x="33" y="76"/>
                  </a:lnTo>
                  <a:lnTo>
                    <a:pt x="31" y="76"/>
                  </a:lnTo>
                  <a:lnTo>
                    <a:pt x="29" y="76"/>
                  </a:lnTo>
                  <a:lnTo>
                    <a:pt x="25" y="76"/>
                  </a:lnTo>
                  <a:lnTo>
                    <a:pt x="24" y="76"/>
                  </a:lnTo>
                  <a:lnTo>
                    <a:pt x="21" y="76"/>
                  </a:lnTo>
                  <a:lnTo>
                    <a:pt x="19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11" y="71"/>
                  </a:lnTo>
                  <a:lnTo>
                    <a:pt x="11" y="69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H="1">
              <a:off x="4556160" y="523548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 flipH="1">
              <a:off x="4559400" y="5248440"/>
              <a:ext cx="270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592520" y="5251320"/>
              <a:ext cx="66960" cy="16200"/>
            </a:xfrm>
            <a:custGeom>
              <a:avLst/>
              <a:gdLst/>
              <a:ahLst/>
              <a:rect l="0" t="0" r="r" b="b"/>
              <a:pathLst>
                <a:path w="186" h="45">
                  <a:moveTo>
                    <a:pt x="186" y="21"/>
                  </a:moveTo>
                  <a:lnTo>
                    <a:pt x="146" y="37"/>
                  </a:lnTo>
                  <a:lnTo>
                    <a:pt x="87" y="45"/>
                  </a:lnTo>
                  <a:lnTo>
                    <a:pt x="0" y="21"/>
                  </a:lnTo>
                  <a:lnTo>
                    <a:pt x="94" y="0"/>
                  </a:lnTo>
                  <a:lnTo>
                    <a:pt x="184" y="21"/>
                  </a:lnTo>
                  <a:lnTo>
                    <a:pt x="186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624560" y="5264280"/>
              <a:ext cx="19440" cy="27360"/>
            </a:xfrm>
            <a:custGeom>
              <a:avLst/>
              <a:gdLst/>
              <a:ahLst/>
              <a:rect l="0" t="0" r="r" b="b"/>
              <a:pathLst>
                <a:path w="54" h="76">
                  <a:moveTo>
                    <a:pt x="54" y="0"/>
                  </a:moveTo>
                  <a:lnTo>
                    <a:pt x="54" y="76"/>
                  </a:lnTo>
                  <a:lnTo>
                    <a:pt x="0" y="76"/>
                  </a:lnTo>
                  <a:lnTo>
                    <a:pt x="0" y="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592520" y="526104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89" y="85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89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611600" y="52912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0"/>
                  </a:moveTo>
                  <a:lnTo>
                    <a:pt x="89" y="30"/>
                  </a:lnTo>
                  <a:lnTo>
                    <a:pt x="46" y="72"/>
                  </a:lnTo>
                  <a:lnTo>
                    <a:pt x="0" y="72"/>
                  </a:lnTo>
                  <a:lnTo>
                    <a:pt x="36" y="3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627440" y="5254560"/>
              <a:ext cx="35280" cy="62280"/>
            </a:xfrm>
            <a:custGeom>
              <a:avLst/>
              <a:gdLst/>
              <a:ahLst/>
              <a:rect l="0" t="0" r="r" b="b"/>
              <a:pathLst>
                <a:path w="98" h="173">
                  <a:moveTo>
                    <a:pt x="98" y="0"/>
                  </a:moveTo>
                  <a:lnTo>
                    <a:pt x="98" y="86"/>
                  </a:lnTo>
                  <a:lnTo>
                    <a:pt x="92" y="128"/>
                  </a:lnTo>
                  <a:lnTo>
                    <a:pt x="87" y="138"/>
                  </a:lnTo>
                  <a:lnTo>
                    <a:pt x="50" y="173"/>
                  </a:lnTo>
                  <a:lnTo>
                    <a:pt x="0" y="17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H="1">
              <a:off x="4564080" y="5264280"/>
              <a:ext cx="284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H="1">
              <a:off x="4568760" y="5280120"/>
              <a:ext cx="2376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4624560" y="5291280"/>
              <a:ext cx="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H="1" flipV="1">
              <a:off x="4592520" y="5286240"/>
              <a:ext cx="3204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H="1" flipV="1">
              <a:off x="4592520" y="5292720"/>
              <a:ext cx="3204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 flipH="1" flipV="1">
              <a:off x="4592520" y="5299200"/>
              <a:ext cx="2700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564080" y="530208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23"/>
                  </a:moveTo>
                  <a:lnTo>
                    <a:pt x="79" y="0"/>
                  </a:lnTo>
                  <a:lnTo>
                    <a:pt x="0" y="9"/>
                  </a:lnTo>
                  <a:lnTo>
                    <a:pt x="147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4592520" y="52801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H="1">
              <a:off x="4643280" y="5283360"/>
              <a:ext cx="190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616280" y="5165640"/>
              <a:ext cx="11160" cy="92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02120" y="5423040"/>
              <a:ext cx="12960" cy="63720"/>
            </a:xfrm>
            <a:custGeom>
              <a:avLst/>
              <a:gdLst/>
              <a:ahLst/>
              <a:rect l="0" t="0" r="r" b="b"/>
              <a:pathLst>
                <a:path w="36" h="177">
                  <a:moveTo>
                    <a:pt x="0" y="0"/>
                  </a:moveTo>
                  <a:lnTo>
                    <a:pt x="0" y="33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1" y="98"/>
                  </a:lnTo>
                  <a:lnTo>
                    <a:pt x="5" y="124"/>
                  </a:lnTo>
                  <a:lnTo>
                    <a:pt x="7" y="134"/>
                  </a:lnTo>
                  <a:lnTo>
                    <a:pt x="7" y="166"/>
                  </a:lnTo>
                  <a:lnTo>
                    <a:pt x="5" y="169"/>
                  </a:lnTo>
                  <a:lnTo>
                    <a:pt x="5" y="173"/>
                  </a:lnTo>
                  <a:lnTo>
                    <a:pt x="7" y="175"/>
                  </a:lnTo>
                  <a:lnTo>
                    <a:pt x="10" y="177"/>
                  </a:lnTo>
                  <a:lnTo>
                    <a:pt x="15" y="177"/>
                  </a:lnTo>
                  <a:lnTo>
                    <a:pt x="20" y="175"/>
                  </a:lnTo>
                  <a:lnTo>
                    <a:pt x="25" y="173"/>
                  </a:lnTo>
                  <a:lnTo>
                    <a:pt x="27" y="169"/>
                  </a:lnTo>
                  <a:lnTo>
                    <a:pt x="27" y="168"/>
                  </a:lnTo>
                  <a:lnTo>
                    <a:pt x="23" y="166"/>
                  </a:lnTo>
                  <a:lnTo>
                    <a:pt x="23" y="132"/>
                  </a:lnTo>
                  <a:lnTo>
                    <a:pt x="25" y="128"/>
                  </a:lnTo>
                  <a:lnTo>
                    <a:pt x="27" y="121"/>
                  </a:lnTo>
                  <a:lnTo>
                    <a:pt x="29" y="106"/>
                  </a:lnTo>
                  <a:lnTo>
                    <a:pt x="34" y="94"/>
                  </a:lnTo>
                  <a:lnTo>
                    <a:pt x="36" y="76"/>
                  </a:lnTo>
                  <a:lnTo>
                    <a:pt x="3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4613400" y="52434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 flipH="1">
              <a:off x="4662360" y="52657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H="1">
              <a:off x="4662360" y="528624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H="1">
              <a:off x="4659480" y="53006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4592520" y="5302080"/>
              <a:ext cx="76680" cy="19440"/>
            </a:xfrm>
            <a:custGeom>
              <a:avLst/>
              <a:gdLst/>
              <a:ahLst/>
              <a:rect l="0" t="0" r="r" b="b"/>
              <a:pathLst>
                <a:path w="213" h="54">
                  <a:moveTo>
                    <a:pt x="213" y="1"/>
                  </a:moveTo>
                  <a:lnTo>
                    <a:pt x="195" y="1"/>
                  </a:lnTo>
                  <a:lnTo>
                    <a:pt x="145" y="54"/>
                  </a:lnTo>
                  <a:lnTo>
                    <a:pt x="54" y="54"/>
                  </a:lnTo>
                  <a:lnTo>
                    <a:pt x="48" y="41"/>
                  </a:lnTo>
                  <a:lnTo>
                    <a:pt x="7" y="24"/>
                  </a:lnTo>
                  <a:lnTo>
                    <a:pt x="0" y="0"/>
                  </a:lnTo>
                  <a:lnTo>
                    <a:pt x="213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 flipH="1" flipV="1">
              <a:off x="4575240" y="5303880"/>
              <a:ext cx="2052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4659480" y="52592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4637160" y="5335560"/>
              <a:ext cx="158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4956120" y="542772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943520" y="5433840"/>
              <a:ext cx="7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4818240" y="539748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5" y="0"/>
                  </a:moveTo>
                  <a:lnTo>
                    <a:pt x="3" y="3"/>
                  </a:lnTo>
                  <a:lnTo>
                    <a:pt x="0" y="9"/>
                  </a:lnTo>
                  <a:lnTo>
                    <a:pt x="3" y="13"/>
                  </a:lnTo>
                  <a:lnTo>
                    <a:pt x="18" y="19"/>
                  </a:lnTo>
                  <a:lnTo>
                    <a:pt x="37" y="24"/>
                  </a:lnTo>
                  <a:lnTo>
                    <a:pt x="57" y="29"/>
                  </a:lnTo>
                  <a:lnTo>
                    <a:pt x="72" y="34"/>
                  </a:lnTo>
                  <a:lnTo>
                    <a:pt x="88" y="38"/>
                  </a:lnTo>
                  <a:lnTo>
                    <a:pt x="105" y="41"/>
                  </a:lnTo>
                  <a:lnTo>
                    <a:pt x="107" y="34"/>
                  </a:lnTo>
                  <a:lnTo>
                    <a:pt x="111" y="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5030640" y="5443560"/>
              <a:ext cx="35280" cy="12960"/>
            </a:xfrm>
            <a:custGeom>
              <a:avLst/>
              <a:gdLst/>
              <a:ahLst/>
              <a:rect l="0" t="0" r="r" b="b"/>
              <a:pathLst>
                <a:path w="98" h="36">
                  <a:moveTo>
                    <a:pt x="44" y="0"/>
                  </a:moveTo>
                  <a:lnTo>
                    <a:pt x="0" y="12"/>
                  </a:lnTo>
                  <a:lnTo>
                    <a:pt x="51" y="36"/>
                  </a:lnTo>
                  <a:lnTo>
                    <a:pt x="98" y="15"/>
                  </a:lnTo>
                  <a:lnTo>
                    <a:pt x="55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5054760" y="5394240"/>
              <a:ext cx="9360" cy="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5040360" y="5398920"/>
              <a:ext cx="93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564080" y="5254560"/>
              <a:ext cx="105120" cy="87840"/>
            </a:xfrm>
            <a:custGeom>
              <a:avLst/>
              <a:gdLst/>
              <a:ahLst/>
              <a:rect l="0" t="0" r="r" b="b"/>
              <a:pathLst>
                <a:path w="292" h="244">
                  <a:moveTo>
                    <a:pt x="0" y="144"/>
                  </a:moveTo>
                  <a:lnTo>
                    <a:pt x="292" y="244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4508640" y="5218200"/>
              <a:ext cx="60840" cy="87840"/>
            </a:xfrm>
            <a:custGeom>
              <a:avLst/>
              <a:gdLst/>
              <a:ahLst/>
              <a:rect l="0" t="0" r="r" b="b"/>
              <a:pathLst>
                <a:path w="169" h="244">
                  <a:moveTo>
                    <a:pt x="0" y="0"/>
                  </a:moveTo>
                  <a:lnTo>
                    <a:pt x="134" y="74"/>
                  </a:lnTo>
                  <a:lnTo>
                    <a:pt x="169" y="188"/>
                  </a:lnTo>
                  <a:lnTo>
                    <a:pt x="164" y="205"/>
                  </a:lnTo>
                  <a:lnTo>
                    <a:pt x="156" y="2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 flipV="1">
              <a:off x="4510080" y="523080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4586400" y="52354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1" y="0"/>
                  </a:moveTo>
                  <a:lnTo>
                    <a:pt x="0" y="36"/>
                  </a:lnTo>
                  <a:lnTo>
                    <a:pt x="80" y="2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 flipH="1">
              <a:off x="5032440" y="5388120"/>
              <a:ext cx="33120" cy="10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 flipH="1">
              <a:off x="4933800" y="5421240"/>
              <a:ext cx="3348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5043600" y="540720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5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7" y="86"/>
                  </a:lnTo>
                  <a:lnTo>
                    <a:pt x="7" y="94"/>
                  </a:lnTo>
                  <a:lnTo>
                    <a:pt x="7" y="105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7" y="118"/>
                  </a:lnTo>
                  <a:lnTo>
                    <a:pt x="11" y="120"/>
                  </a:lnTo>
                  <a:lnTo>
                    <a:pt x="14" y="120"/>
                  </a:lnTo>
                  <a:lnTo>
                    <a:pt x="19" y="118"/>
                  </a:lnTo>
                  <a:lnTo>
                    <a:pt x="21" y="114"/>
                  </a:lnTo>
                  <a:lnTo>
                    <a:pt x="19" y="108"/>
                  </a:lnTo>
                  <a:lnTo>
                    <a:pt x="18" y="105"/>
                  </a:lnTo>
                  <a:lnTo>
                    <a:pt x="19" y="86"/>
                  </a:lnTo>
                  <a:lnTo>
                    <a:pt x="27" y="59"/>
                  </a:lnTo>
                  <a:lnTo>
                    <a:pt x="27" y="40"/>
                  </a:lnTo>
                  <a:lnTo>
                    <a:pt x="27" y="0"/>
                  </a:lnTo>
                  <a:lnTo>
                    <a:pt x="14" y="1"/>
                  </a:lnTo>
                  <a:lnTo>
                    <a:pt x="3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4989600" y="5402160"/>
              <a:ext cx="33840" cy="27360"/>
            </a:xfrm>
            <a:custGeom>
              <a:avLst/>
              <a:gdLst/>
              <a:ahLst/>
              <a:rect l="0" t="0" r="r" b="b"/>
              <a:pathLst>
                <a:path w="94" h="76">
                  <a:moveTo>
                    <a:pt x="94" y="0"/>
                  </a:moveTo>
                  <a:lnTo>
                    <a:pt x="94" y="7"/>
                  </a:lnTo>
                  <a:lnTo>
                    <a:pt x="94" y="14"/>
                  </a:lnTo>
                  <a:lnTo>
                    <a:pt x="94" y="18"/>
                  </a:lnTo>
                  <a:lnTo>
                    <a:pt x="92" y="26"/>
                  </a:lnTo>
                  <a:lnTo>
                    <a:pt x="92" y="33"/>
                  </a:lnTo>
                  <a:lnTo>
                    <a:pt x="90" y="37"/>
                  </a:lnTo>
                  <a:lnTo>
                    <a:pt x="88" y="43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1" y="54"/>
                  </a:lnTo>
                  <a:lnTo>
                    <a:pt x="79" y="60"/>
                  </a:lnTo>
                  <a:lnTo>
                    <a:pt x="73" y="62"/>
                  </a:lnTo>
                  <a:lnTo>
                    <a:pt x="68" y="67"/>
                  </a:lnTo>
                  <a:lnTo>
                    <a:pt x="64" y="69"/>
                  </a:lnTo>
                  <a:lnTo>
                    <a:pt x="60" y="69"/>
                  </a:lnTo>
                  <a:lnTo>
                    <a:pt x="58" y="69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5" y="73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1" y="76"/>
                  </a:lnTo>
                  <a:lnTo>
                    <a:pt x="15" y="76"/>
                  </a:lnTo>
                  <a:lnTo>
                    <a:pt x="3" y="71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9" y="44"/>
                  </a:lnTo>
                  <a:lnTo>
                    <a:pt x="5" y="41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4975200" y="5407200"/>
              <a:ext cx="32040" cy="20880"/>
            </a:xfrm>
            <a:custGeom>
              <a:avLst/>
              <a:gdLst/>
              <a:ahLst/>
              <a:rect l="0" t="0" r="r" b="b"/>
              <a:pathLst>
                <a:path w="89" h="58">
                  <a:moveTo>
                    <a:pt x="89" y="0"/>
                  </a:moveTo>
                  <a:lnTo>
                    <a:pt x="89" y="5"/>
                  </a:lnTo>
                  <a:lnTo>
                    <a:pt x="87" y="12"/>
                  </a:lnTo>
                  <a:lnTo>
                    <a:pt x="87" y="20"/>
                  </a:lnTo>
                  <a:lnTo>
                    <a:pt x="83" y="24"/>
                  </a:lnTo>
                  <a:lnTo>
                    <a:pt x="79" y="30"/>
                  </a:lnTo>
                  <a:lnTo>
                    <a:pt x="77" y="37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4" y="49"/>
                  </a:lnTo>
                  <a:lnTo>
                    <a:pt x="61" y="50"/>
                  </a:lnTo>
                  <a:lnTo>
                    <a:pt x="55" y="54"/>
                  </a:lnTo>
                  <a:lnTo>
                    <a:pt x="51" y="56"/>
                  </a:lnTo>
                  <a:lnTo>
                    <a:pt x="49" y="56"/>
                  </a:lnTo>
                  <a:lnTo>
                    <a:pt x="43" y="58"/>
                  </a:lnTo>
                  <a:lnTo>
                    <a:pt x="35" y="58"/>
                  </a:lnTo>
                  <a:lnTo>
                    <a:pt x="33" y="58"/>
                  </a:lnTo>
                  <a:lnTo>
                    <a:pt x="30" y="56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6" y="50"/>
                  </a:lnTo>
                  <a:lnTo>
                    <a:pt x="9" y="49"/>
                  </a:lnTo>
                  <a:lnTo>
                    <a:pt x="5" y="45"/>
                  </a:lnTo>
                  <a:lnTo>
                    <a:pt x="3" y="39"/>
                  </a:lnTo>
                  <a:lnTo>
                    <a:pt x="0" y="3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4984920" y="54118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27" y="0"/>
                  </a:moveTo>
                  <a:lnTo>
                    <a:pt x="27" y="1"/>
                  </a:lnTo>
                  <a:lnTo>
                    <a:pt x="27" y="4"/>
                  </a:lnTo>
                  <a:lnTo>
                    <a:pt x="27" y="6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0" y="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4668840" y="5311800"/>
              <a:ext cx="402120" cy="124200"/>
            </a:xfrm>
            <a:custGeom>
              <a:avLst/>
              <a:gdLst/>
              <a:ahLst/>
              <a:rect l="0" t="0" r="r" b="b"/>
              <a:pathLst>
                <a:path w="1117" h="345">
                  <a:moveTo>
                    <a:pt x="1117" y="204"/>
                  </a:moveTo>
                  <a:lnTo>
                    <a:pt x="729" y="345"/>
                  </a:lnTo>
                  <a:lnTo>
                    <a:pt x="0" y="96"/>
                  </a:lnTo>
                  <a:lnTo>
                    <a:pt x="346" y="0"/>
                  </a:lnTo>
                  <a:lnTo>
                    <a:pt x="1117" y="2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4668840" y="5221440"/>
              <a:ext cx="127440" cy="89280"/>
            </a:xfrm>
            <a:custGeom>
              <a:avLst/>
              <a:gdLst/>
              <a:ahLst/>
              <a:rect l="0" t="0" r="r" b="b"/>
              <a:pathLst>
                <a:path w="354" h="248">
                  <a:moveTo>
                    <a:pt x="0" y="89"/>
                  </a:moveTo>
                  <a:lnTo>
                    <a:pt x="354" y="0"/>
                  </a:lnTo>
                  <a:lnTo>
                    <a:pt x="354" y="24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4843440" y="5032440"/>
              <a:ext cx="228960" cy="295560"/>
            </a:xfrm>
            <a:custGeom>
              <a:avLst/>
              <a:gdLst/>
              <a:ahLst/>
              <a:rect l="0" t="0" r="r" b="b"/>
              <a:pathLst>
                <a:path w="636" h="821">
                  <a:moveTo>
                    <a:pt x="2" y="45"/>
                  </a:moveTo>
                  <a:lnTo>
                    <a:pt x="1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28" y="6"/>
                  </a:lnTo>
                  <a:lnTo>
                    <a:pt x="35" y="11"/>
                  </a:lnTo>
                  <a:lnTo>
                    <a:pt x="44" y="18"/>
                  </a:lnTo>
                  <a:lnTo>
                    <a:pt x="53" y="26"/>
                  </a:lnTo>
                  <a:lnTo>
                    <a:pt x="64" y="36"/>
                  </a:lnTo>
                  <a:lnTo>
                    <a:pt x="69" y="42"/>
                  </a:lnTo>
                  <a:lnTo>
                    <a:pt x="77" y="51"/>
                  </a:lnTo>
                  <a:lnTo>
                    <a:pt x="86" y="62"/>
                  </a:lnTo>
                  <a:lnTo>
                    <a:pt x="98" y="75"/>
                  </a:lnTo>
                  <a:lnTo>
                    <a:pt x="110" y="90"/>
                  </a:lnTo>
                  <a:lnTo>
                    <a:pt x="125" y="107"/>
                  </a:lnTo>
                  <a:lnTo>
                    <a:pt x="140" y="126"/>
                  </a:lnTo>
                  <a:lnTo>
                    <a:pt x="157" y="146"/>
                  </a:lnTo>
                  <a:lnTo>
                    <a:pt x="176" y="169"/>
                  </a:lnTo>
                  <a:lnTo>
                    <a:pt x="194" y="192"/>
                  </a:lnTo>
                  <a:lnTo>
                    <a:pt x="214" y="216"/>
                  </a:lnTo>
                  <a:lnTo>
                    <a:pt x="234" y="242"/>
                  </a:lnTo>
                  <a:lnTo>
                    <a:pt x="255" y="269"/>
                  </a:lnTo>
                  <a:lnTo>
                    <a:pt x="277" y="296"/>
                  </a:lnTo>
                  <a:lnTo>
                    <a:pt x="299" y="325"/>
                  </a:lnTo>
                  <a:lnTo>
                    <a:pt x="322" y="353"/>
                  </a:lnTo>
                  <a:lnTo>
                    <a:pt x="344" y="382"/>
                  </a:lnTo>
                  <a:lnTo>
                    <a:pt x="367" y="412"/>
                  </a:lnTo>
                  <a:lnTo>
                    <a:pt x="389" y="441"/>
                  </a:lnTo>
                  <a:lnTo>
                    <a:pt x="411" y="470"/>
                  </a:lnTo>
                  <a:lnTo>
                    <a:pt x="433" y="500"/>
                  </a:lnTo>
                  <a:lnTo>
                    <a:pt x="455" y="528"/>
                  </a:lnTo>
                  <a:lnTo>
                    <a:pt x="475" y="556"/>
                  </a:lnTo>
                  <a:lnTo>
                    <a:pt x="495" y="583"/>
                  </a:lnTo>
                  <a:lnTo>
                    <a:pt x="514" y="610"/>
                  </a:lnTo>
                  <a:lnTo>
                    <a:pt x="532" y="636"/>
                  </a:lnTo>
                  <a:lnTo>
                    <a:pt x="549" y="661"/>
                  </a:lnTo>
                  <a:lnTo>
                    <a:pt x="565" y="684"/>
                  </a:lnTo>
                  <a:lnTo>
                    <a:pt x="580" y="707"/>
                  </a:lnTo>
                  <a:lnTo>
                    <a:pt x="594" y="727"/>
                  </a:lnTo>
                  <a:lnTo>
                    <a:pt x="605" y="747"/>
                  </a:lnTo>
                  <a:lnTo>
                    <a:pt x="615" y="764"/>
                  </a:lnTo>
                  <a:lnTo>
                    <a:pt x="619" y="771"/>
                  </a:lnTo>
                  <a:lnTo>
                    <a:pt x="623" y="778"/>
                  </a:lnTo>
                  <a:lnTo>
                    <a:pt x="627" y="785"/>
                  </a:lnTo>
                  <a:lnTo>
                    <a:pt x="630" y="791"/>
                  </a:lnTo>
                  <a:lnTo>
                    <a:pt x="632" y="797"/>
                  </a:lnTo>
                  <a:lnTo>
                    <a:pt x="634" y="803"/>
                  </a:lnTo>
                  <a:lnTo>
                    <a:pt x="635" y="808"/>
                  </a:lnTo>
                  <a:lnTo>
                    <a:pt x="636" y="811"/>
                  </a:lnTo>
                  <a:lnTo>
                    <a:pt x="635" y="815"/>
                  </a:lnTo>
                  <a:lnTo>
                    <a:pt x="634" y="817"/>
                  </a:lnTo>
                  <a:lnTo>
                    <a:pt x="632" y="819"/>
                  </a:lnTo>
                  <a:lnTo>
                    <a:pt x="628" y="821"/>
                  </a:lnTo>
                  <a:lnTo>
                    <a:pt x="625" y="821"/>
                  </a:lnTo>
                  <a:lnTo>
                    <a:pt x="619" y="821"/>
                  </a:lnTo>
                  <a:lnTo>
                    <a:pt x="613" y="819"/>
                  </a:lnTo>
                  <a:lnTo>
                    <a:pt x="605" y="817"/>
                  </a:lnTo>
                  <a:lnTo>
                    <a:pt x="601" y="815"/>
                  </a:lnTo>
                  <a:lnTo>
                    <a:pt x="595" y="813"/>
                  </a:lnTo>
                  <a:lnTo>
                    <a:pt x="589" y="811"/>
                  </a:lnTo>
                  <a:lnTo>
                    <a:pt x="583" y="808"/>
                  </a:lnTo>
                  <a:lnTo>
                    <a:pt x="575" y="806"/>
                  </a:lnTo>
                  <a:lnTo>
                    <a:pt x="567" y="802"/>
                  </a:lnTo>
                  <a:lnTo>
                    <a:pt x="558" y="799"/>
                  </a:lnTo>
                  <a:lnTo>
                    <a:pt x="549" y="795"/>
                  </a:lnTo>
                  <a:lnTo>
                    <a:pt x="539" y="791"/>
                  </a:lnTo>
                  <a:lnTo>
                    <a:pt x="529" y="788"/>
                  </a:lnTo>
                  <a:lnTo>
                    <a:pt x="519" y="784"/>
                  </a:lnTo>
                  <a:lnTo>
                    <a:pt x="508" y="779"/>
                  </a:lnTo>
                  <a:lnTo>
                    <a:pt x="498" y="774"/>
                  </a:lnTo>
                  <a:lnTo>
                    <a:pt x="487" y="770"/>
                  </a:lnTo>
                  <a:lnTo>
                    <a:pt x="476" y="765"/>
                  </a:lnTo>
                  <a:lnTo>
                    <a:pt x="465" y="760"/>
                  </a:lnTo>
                  <a:lnTo>
                    <a:pt x="454" y="756"/>
                  </a:lnTo>
                  <a:lnTo>
                    <a:pt x="443" y="751"/>
                  </a:lnTo>
                  <a:lnTo>
                    <a:pt x="433" y="747"/>
                  </a:lnTo>
                  <a:lnTo>
                    <a:pt x="422" y="742"/>
                  </a:lnTo>
                  <a:lnTo>
                    <a:pt x="413" y="737"/>
                  </a:lnTo>
                  <a:lnTo>
                    <a:pt x="403" y="732"/>
                  </a:lnTo>
                  <a:lnTo>
                    <a:pt x="393" y="728"/>
                  </a:lnTo>
                  <a:lnTo>
                    <a:pt x="384" y="724"/>
                  </a:lnTo>
                  <a:lnTo>
                    <a:pt x="377" y="719"/>
                  </a:lnTo>
                  <a:lnTo>
                    <a:pt x="369" y="715"/>
                  </a:lnTo>
                  <a:lnTo>
                    <a:pt x="362" y="712"/>
                  </a:lnTo>
                  <a:lnTo>
                    <a:pt x="356" y="708"/>
                  </a:lnTo>
                  <a:lnTo>
                    <a:pt x="350" y="704"/>
                  </a:lnTo>
                  <a:lnTo>
                    <a:pt x="346" y="701"/>
                  </a:lnTo>
                  <a:lnTo>
                    <a:pt x="343" y="699"/>
                  </a:lnTo>
                  <a:lnTo>
                    <a:pt x="340" y="696"/>
                  </a:lnTo>
                  <a:lnTo>
                    <a:pt x="289" y="760"/>
                  </a:lnTo>
                  <a:lnTo>
                    <a:pt x="289" y="760"/>
                  </a:lnTo>
                  <a:lnTo>
                    <a:pt x="287" y="759"/>
                  </a:lnTo>
                  <a:lnTo>
                    <a:pt x="285" y="758"/>
                  </a:lnTo>
                  <a:lnTo>
                    <a:pt x="282" y="756"/>
                  </a:lnTo>
                  <a:lnTo>
                    <a:pt x="277" y="753"/>
                  </a:lnTo>
                  <a:lnTo>
                    <a:pt x="273" y="751"/>
                  </a:lnTo>
                  <a:lnTo>
                    <a:pt x="267" y="748"/>
                  </a:lnTo>
                  <a:lnTo>
                    <a:pt x="261" y="744"/>
                  </a:lnTo>
                  <a:lnTo>
                    <a:pt x="254" y="740"/>
                  </a:lnTo>
                  <a:lnTo>
                    <a:pt x="248" y="736"/>
                  </a:lnTo>
                  <a:lnTo>
                    <a:pt x="240" y="732"/>
                  </a:lnTo>
                  <a:lnTo>
                    <a:pt x="232" y="727"/>
                  </a:lnTo>
                  <a:lnTo>
                    <a:pt x="224" y="723"/>
                  </a:lnTo>
                  <a:lnTo>
                    <a:pt x="216" y="718"/>
                  </a:lnTo>
                  <a:lnTo>
                    <a:pt x="207" y="713"/>
                  </a:lnTo>
                  <a:lnTo>
                    <a:pt x="198" y="708"/>
                  </a:lnTo>
                  <a:lnTo>
                    <a:pt x="190" y="703"/>
                  </a:lnTo>
                  <a:lnTo>
                    <a:pt x="182" y="697"/>
                  </a:lnTo>
                  <a:lnTo>
                    <a:pt x="173" y="692"/>
                  </a:lnTo>
                  <a:lnTo>
                    <a:pt x="165" y="687"/>
                  </a:lnTo>
                  <a:lnTo>
                    <a:pt x="157" y="682"/>
                  </a:lnTo>
                  <a:lnTo>
                    <a:pt x="149" y="677"/>
                  </a:lnTo>
                  <a:lnTo>
                    <a:pt x="142" y="672"/>
                  </a:lnTo>
                  <a:lnTo>
                    <a:pt x="135" y="667"/>
                  </a:lnTo>
                  <a:lnTo>
                    <a:pt x="128" y="663"/>
                  </a:lnTo>
                  <a:lnTo>
                    <a:pt x="123" y="658"/>
                  </a:lnTo>
                  <a:lnTo>
                    <a:pt x="118" y="654"/>
                  </a:lnTo>
                  <a:lnTo>
                    <a:pt x="113" y="651"/>
                  </a:lnTo>
                  <a:lnTo>
                    <a:pt x="109" y="647"/>
                  </a:lnTo>
                  <a:lnTo>
                    <a:pt x="106" y="644"/>
                  </a:lnTo>
                  <a:lnTo>
                    <a:pt x="104" y="641"/>
                  </a:lnTo>
                  <a:lnTo>
                    <a:pt x="103" y="639"/>
                  </a:lnTo>
                  <a:lnTo>
                    <a:pt x="102" y="636"/>
                  </a:lnTo>
                  <a:lnTo>
                    <a:pt x="101" y="633"/>
                  </a:lnTo>
                  <a:lnTo>
                    <a:pt x="100" y="629"/>
                  </a:lnTo>
                  <a:lnTo>
                    <a:pt x="98" y="625"/>
                  </a:lnTo>
                  <a:lnTo>
                    <a:pt x="96" y="620"/>
                  </a:lnTo>
                  <a:lnTo>
                    <a:pt x="94" y="615"/>
                  </a:lnTo>
                  <a:lnTo>
                    <a:pt x="92" y="609"/>
                  </a:lnTo>
                  <a:lnTo>
                    <a:pt x="89" y="603"/>
                  </a:lnTo>
                  <a:lnTo>
                    <a:pt x="86" y="596"/>
                  </a:lnTo>
                  <a:lnTo>
                    <a:pt x="84" y="590"/>
                  </a:lnTo>
                  <a:lnTo>
                    <a:pt x="81" y="582"/>
                  </a:lnTo>
                  <a:lnTo>
                    <a:pt x="78" y="575"/>
                  </a:lnTo>
                  <a:lnTo>
                    <a:pt x="75" y="568"/>
                  </a:lnTo>
                  <a:lnTo>
                    <a:pt x="72" y="559"/>
                  </a:lnTo>
                  <a:lnTo>
                    <a:pt x="69" y="552"/>
                  </a:lnTo>
                  <a:lnTo>
                    <a:pt x="66" y="544"/>
                  </a:lnTo>
                  <a:lnTo>
                    <a:pt x="63" y="536"/>
                  </a:lnTo>
                  <a:lnTo>
                    <a:pt x="60" y="529"/>
                  </a:lnTo>
                  <a:lnTo>
                    <a:pt x="56" y="521"/>
                  </a:lnTo>
                  <a:lnTo>
                    <a:pt x="54" y="513"/>
                  </a:lnTo>
                  <a:lnTo>
                    <a:pt x="51" y="506"/>
                  </a:lnTo>
                  <a:lnTo>
                    <a:pt x="49" y="499"/>
                  </a:lnTo>
                  <a:lnTo>
                    <a:pt x="46" y="492"/>
                  </a:lnTo>
                  <a:lnTo>
                    <a:pt x="44" y="485"/>
                  </a:lnTo>
                  <a:lnTo>
                    <a:pt x="41" y="479"/>
                  </a:lnTo>
                  <a:lnTo>
                    <a:pt x="40" y="474"/>
                  </a:lnTo>
                  <a:lnTo>
                    <a:pt x="38" y="468"/>
                  </a:lnTo>
                  <a:lnTo>
                    <a:pt x="36" y="463"/>
                  </a:lnTo>
                  <a:lnTo>
                    <a:pt x="35" y="459"/>
                  </a:lnTo>
                  <a:lnTo>
                    <a:pt x="34" y="455"/>
                  </a:lnTo>
                  <a:lnTo>
                    <a:pt x="34" y="452"/>
                  </a:lnTo>
                  <a:lnTo>
                    <a:pt x="34" y="450"/>
                  </a:lnTo>
                  <a:lnTo>
                    <a:pt x="83" y="392"/>
                  </a:lnTo>
                  <a:lnTo>
                    <a:pt x="82" y="387"/>
                  </a:lnTo>
                  <a:lnTo>
                    <a:pt x="80" y="381"/>
                  </a:lnTo>
                  <a:lnTo>
                    <a:pt x="78" y="374"/>
                  </a:lnTo>
                  <a:lnTo>
                    <a:pt x="76" y="365"/>
                  </a:lnTo>
                  <a:lnTo>
                    <a:pt x="74" y="355"/>
                  </a:lnTo>
                  <a:lnTo>
                    <a:pt x="71" y="345"/>
                  </a:lnTo>
                  <a:lnTo>
                    <a:pt x="68" y="334"/>
                  </a:lnTo>
                  <a:lnTo>
                    <a:pt x="65" y="322"/>
                  </a:lnTo>
                  <a:lnTo>
                    <a:pt x="62" y="309"/>
                  </a:lnTo>
                  <a:lnTo>
                    <a:pt x="59" y="296"/>
                  </a:lnTo>
                  <a:lnTo>
                    <a:pt x="56" y="282"/>
                  </a:lnTo>
                  <a:lnTo>
                    <a:pt x="53" y="268"/>
                  </a:lnTo>
                  <a:lnTo>
                    <a:pt x="49" y="253"/>
                  </a:lnTo>
                  <a:lnTo>
                    <a:pt x="46" y="239"/>
                  </a:lnTo>
                  <a:lnTo>
                    <a:pt x="43" y="224"/>
                  </a:lnTo>
                  <a:lnTo>
                    <a:pt x="39" y="209"/>
                  </a:lnTo>
                  <a:lnTo>
                    <a:pt x="36" y="195"/>
                  </a:lnTo>
                  <a:lnTo>
                    <a:pt x="32" y="181"/>
                  </a:lnTo>
                  <a:lnTo>
                    <a:pt x="29" y="166"/>
                  </a:lnTo>
                  <a:lnTo>
                    <a:pt x="26" y="152"/>
                  </a:lnTo>
                  <a:lnTo>
                    <a:pt x="23" y="138"/>
                  </a:lnTo>
                  <a:lnTo>
                    <a:pt x="20" y="126"/>
                  </a:lnTo>
                  <a:lnTo>
                    <a:pt x="17" y="113"/>
                  </a:lnTo>
                  <a:lnTo>
                    <a:pt x="14" y="102"/>
                  </a:lnTo>
                  <a:lnTo>
                    <a:pt x="12" y="91"/>
                  </a:lnTo>
                  <a:lnTo>
                    <a:pt x="10" y="81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5" y="57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V="1">
              <a:off x="4879800" y="5273640"/>
              <a:ext cx="2232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4894200" y="5284800"/>
              <a:ext cx="468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4927680" y="5110200"/>
              <a:ext cx="101880" cy="127440"/>
            </a:xfrm>
            <a:custGeom>
              <a:avLst/>
              <a:gdLst/>
              <a:ahLst/>
              <a:rect l="0" t="0" r="r" b="b"/>
              <a:pathLst>
                <a:path w="283" h="354">
                  <a:moveTo>
                    <a:pt x="171" y="7"/>
                  </a:moveTo>
                  <a:lnTo>
                    <a:pt x="177" y="6"/>
                  </a:lnTo>
                  <a:lnTo>
                    <a:pt x="183" y="5"/>
                  </a:lnTo>
                  <a:lnTo>
                    <a:pt x="190" y="4"/>
                  </a:lnTo>
                  <a:lnTo>
                    <a:pt x="196" y="3"/>
                  </a:lnTo>
                  <a:lnTo>
                    <a:pt x="202" y="2"/>
                  </a:lnTo>
                  <a:lnTo>
                    <a:pt x="207" y="1"/>
                  </a:lnTo>
                  <a:lnTo>
                    <a:pt x="213" y="0"/>
                  </a:lnTo>
                  <a:lnTo>
                    <a:pt x="218" y="0"/>
                  </a:lnTo>
                  <a:lnTo>
                    <a:pt x="223" y="0"/>
                  </a:lnTo>
                  <a:lnTo>
                    <a:pt x="227" y="0"/>
                  </a:lnTo>
                  <a:lnTo>
                    <a:pt x="232" y="1"/>
                  </a:lnTo>
                  <a:lnTo>
                    <a:pt x="236" y="3"/>
                  </a:lnTo>
                  <a:lnTo>
                    <a:pt x="240" y="5"/>
                  </a:lnTo>
                  <a:lnTo>
                    <a:pt x="243" y="9"/>
                  </a:lnTo>
                  <a:lnTo>
                    <a:pt x="246" y="13"/>
                  </a:lnTo>
                  <a:lnTo>
                    <a:pt x="249" y="19"/>
                  </a:lnTo>
                  <a:lnTo>
                    <a:pt x="253" y="15"/>
                  </a:lnTo>
                  <a:lnTo>
                    <a:pt x="258" y="12"/>
                  </a:lnTo>
                  <a:lnTo>
                    <a:pt x="262" y="10"/>
                  </a:lnTo>
                  <a:lnTo>
                    <a:pt x="266" y="9"/>
                  </a:lnTo>
                  <a:lnTo>
                    <a:pt x="270" y="9"/>
                  </a:lnTo>
                  <a:lnTo>
                    <a:pt x="273" y="10"/>
                  </a:lnTo>
                  <a:lnTo>
                    <a:pt x="276" y="12"/>
                  </a:lnTo>
                  <a:lnTo>
                    <a:pt x="279" y="14"/>
                  </a:lnTo>
                  <a:lnTo>
                    <a:pt x="280" y="17"/>
                  </a:lnTo>
                  <a:lnTo>
                    <a:pt x="282" y="19"/>
                  </a:lnTo>
                  <a:lnTo>
                    <a:pt x="283" y="23"/>
                  </a:lnTo>
                  <a:lnTo>
                    <a:pt x="282" y="27"/>
                  </a:lnTo>
                  <a:lnTo>
                    <a:pt x="281" y="31"/>
                  </a:lnTo>
                  <a:lnTo>
                    <a:pt x="279" y="35"/>
                  </a:lnTo>
                  <a:lnTo>
                    <a:pt x="276" y="39"/>
                  </a:lnTo>
                  <a:lnTo>
                    <a:pt x="272" y="43"/>
                  </a:lnTo>
                  <a:lnTo>
                    <a:pt x="274" y="47"/>
                  </a:lnTo>
                  <a:lnTo>
                    <a:pt x="277" y="51"/>
                  </a:lnTo>
                  <a:lnTo>
                    <a:pt x="279" y="55"/>
                  </a:lnTo>
                  <a:lnTo>
                    <a:pt x="281" y="60"/>
                  </a:lnTo>
                  <a:lnTo>
                    <a:pt x="282" y="65"/>
                  </a:lnTo>
                  <a:lnTo>
                    <a:pt x="282" y="70"/>
                  </a:lnTo>
                  <a:lnTo>
                    <a:pt x="281" y="75"/>
                  </a:lnTo>
                  <a:lnTo>
                    <a:pt x="279" y="81"/>
                  </a:lnTo>
                  <a:lnTo>
                    <a:pt x="279" y="84"/>
                  </a:lnTo>
                  <a:lnTo>
                    <a:pt x="278" y="89"/>
                  </a:lnTo>
                  <a:lnTo>
                    <a:pt x="277" y="94"/>
                  </a:lnTo>
                  <a:lnTo>
                    <a:pt x="275" y="100"/>
                  </a:lnTo>
                  <a:lnTo>
                    <a:pt x="274" y="108"/>
                  </a:lnTo>
                  <a:lnTo>
                    <a:pt x="272" y="115"/>
                  </a:lnTo>
                  <a:lnTo>
                    <a:pt x="270" y="124"/>
                  </a:lnTo>
                  <a:lnTo>
                    <a:pt x="269" y="134"/>
                  </a:lnTo>
                  <a:lnTo>
                    <a:pt x="267" y="144"/>
                  </a:lnTo>
                  <a:lnTo>
                    <a:pt x="264" y="155"/>
                  </a:lnTo>
                  <a:lnTo>
                    <a:pt x="263" y="166"/>
                  </a:lnTo>
                  <a:lnTo>
                    <a:pt x="260" y="177"/>
                  </a:lnTo>
                  <a:lnTo>
                    <a:pt x="259" y="190"/>
                  </a:lnTo>
                  <a:lnTo>
                    <a:pt x="256" y="201"/>
                  </a:lnTo>
                  <a:lnTo>
                    <a:pt x="255" y="213"/>
                  </a:lnTo>
                  <a:lnTo>
                    <a:pt x="252" y="226"/>
                  </a:lnTo>
                  <a:lnTo>
                    <a:pt x="250" y="238"/>
                  </a:lnTo>
                  <a:lnTo>
                    <a:pt x="247" y="250"/>
                  </a:lnTo>
                  <a:lnTo>
                    <a:pt x="246" y="262"/>
                  </a:lnTo>
                  <a:lnTo>
                    <a:pt x="244" y="274"/>
                  </a:lnTo>
                  <a:lnTo>
                    <a:pt x="242" y="285"/>
                  </a:lnTo>
                  <a:lnTo>
                    <a:pt x="240" y="296"/>
                  </a:lnTo>
                  <a:lnTo>
                    <a:pt x="239" y="306"/>
                  </a:lnTo>
                  <a:lnTo>
                    <a:pt x="237" y="315"/>
                  </a:lnTo>
                  <a:lnTo>
                    <a:pt x="235" y="324"/>
                  </a:lnTo>
                  <a:lnTo>
                    <a:pt x="234" y="331"/>
                  </a:lnTo>
                  <a:lnTo>
                    <a:pt x="233" y="338"/>
                  </a:lnTo>
                  <a:lnTo>
                    <a:pt x="232" y="343"/>
                  </a:lnTo>
                  <a:lnTo>
                    <a:pt x="231" y="348"/>
                  </a:lnTo>
                  <a:lnTo>
                    <a:pt x="230" y="352"/>
                  </a:lnTo>
                  <a:lnTo>
                    <a:pt x="230" y="354"/>
                  </a:lnTo>
                  <a:lnTo>
                    <a:pt x="230" y="354"/>
                  </a:lnTo>
                  <a:lnTo>
                    <a:pt x="214" y="334"/>
                  </a:lnTo>
                  <a:lnTo>
                    <a:pt x="255" y="119"/>
                  </a:lnTo>
                  <a:lnTo>
                    <a:pt x="257" y="104"/>
                  </a:lnTo>
                  <a:lnTo>
                    <a:pt x="243" y="105"/>
                  </a:lnTo>
                  <a:lnTo>
                    <a:pt x="170" y="276"/>
                  </a:lnTo>
                  <a:lnTo>
                    <a:pt x="159" y="250"/>
                  </a:lnTo>
                  <a:lnTo>
                    <a:pt x="227" y="99"/>
                  </a:lnTo>
                  <a:lnTo>
                    <a:pt x="225" y="99"/>
                  </a:lnTo>
                  <a:lnTo>
                    <a:pt x="222" y="98"/>
                  </a:lnTo>
                  <a:lnTo>
                    <a:pt x="220" y="97"/>
                  </a:lnTo>
                  <a:lnTo>
                    <a:pt x="217" y="95"/>
                  </a:lnTo>
                  <a:lnTo>
                    <a:pt x="214" y="92"/>
                  </a:lnTo>
                  <a:lnTo>
                    <a:pt x="210" y="89"/>
                  </a:lnTo>
                  <a:lnTo>
                    <a:pt x="207" y="85"/>
                  </a:lnTo>
                  <a:lnTo>
                    <a:pt x="205" y="81"/>
                  </a:lnTo>
                  <a:lnTo>
                    <a:pt x="202" y="78"/>
                  </a:lnTo>
                  <a:lnTo>
                    <a:pt x="199" y="75"/>
                  </a:lnTo>
                  <a:lnTo>
                    <a:pt x="197" y="71"/>
                  </a:lnTo>
                  <a:lnTo>
                    <a:pt x="195" y="68"/>
                  </a:lnTo>
                  <a:lnTo>
                    <a:pt x="193" y="64"/>
                  </a:lnTo>
                  <a:lnTo>
                    <a:pt x="192" y="61"/>
                  </a:lnTo>
                  <a:lnTo>
                    <a:pt x="191" y="58"/>
                  </a:lnTo>
                  <a:lnTo>
                    <a:pt x="191" y="55"/>
                  </a:lnTo>
                  <a:lnTo>
                    <a:pt x="64" y="118"/>
                  </a:lnTo>
                  <a:lnTo>
                    <a:pt x="51" y="96"/>
                  </a:lnTo>
                  <a:lnTo>
                    <a:pt x="186" y="39"/>
                  </a:lnTo>
                  <a:lnTo>
                    <a:pt x="188" y="21"/>
                  </a:lnTo>
                  <a:lnTo>
                    <a:pt x="17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4" y="32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38" y="30"/>
                  </a:lnTo>
                  <a:lnTo>
                    <a:pt x="44" y="29"/>
                  </a:lnTo>
                  <a:lnTo>
                    <a:pt x="49" y="27"/>
                  </a:lnTo>
                  <a:lnTo>
                    <a:pt x="55" y="26"/>
                  </a:lnTo>
                  <a:lnTo>
                    <a:pt x="61" y="25"/>
                  </a:lnTo>
                  <a:lnTo>
                    <a:pt x="68" y="24"/>
                  </a:lnTo>
                  <a:lnTo>
                    <a:pt x="74" y="23"/>
                  </a:lnTo>
                  <a:lnTo>
                    <a:pt x="81" y="22"/>
                  </a:lnTo>
                  <a:lnTo>
                    <a:pt x="87" y="21"/>
                  </a:lnTo>
                  <a:lnTo>
                    <a:pt x="94" y="19"/>
                  </a:lnTo>
                  <a:lnTo>
                    <a:pt x="101" y="18"/>
                  </a:lnTo>
                  <a:lnTo>
                    <a:pt x="108" y="17"/>
                  </a:lnTo>
                  <a:lnTo>
                    <a:pt x="115" y="16"/>
                  </a:lnTo>
                  <a:lnTo>
                    <a:pt x="122" y="15"/>
                  </a:lnTo>
                  <a:lnTo>
                    <a:pt x="129" y="14"/>
                  </a:lnTo>
                  <a:lnTo>
                    <a:pt x="136" y="12"/>
                  </a:lnTo>
                  <a:lnTo>
                    <a:pt x="144" y="11"/>
                  </a:lnTo>
                  <a:lnTo>
                    <a:pt x="151" y="10"/>
                  </a:lnTo>
                  <a:lnTo>
                    <a:pt x="157" y="9"/>
                  </a:lnTo>
                  <a:lnTo>
                    <a:pt x="165" y="8"/>
                  </a:lnTo>
                  <a:lnTo>
                    <a:pt x="171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4832280" y="5116680"/>
              <a:ext cx="27360" cy="81360"/>
            </a:xfrm>
            <a:custGeom>
              <a:avLst/>
              <a:gdLst/>
              <a:ahLst/>
              <a:rect l="0" t="0" r="r" b="b"/>
              <a:pathLst>
                <a:path w="76" h="226">
                  <a:moveTo>
                    <a:pt x="0" y="0"/>
                  </a:moveTo>
                  <a:lnTo>
                    <a:pt x="0" y="2"/>
                  </a:lnTo>
                  <a:lnTo>
                    <a:pt x="71" y="226"/>
                  </a:lnTo>
                  <a:lnTo>
                    <a:pt x="76" y="224"/>
                  </a:lnTo>
                  <a:lnTo>
                    <a:pt x="6" y="0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4832280" y="5037120"/>
              <a:ext cx="11520" cy="78120"/>
            </a:xfrm>
            <a:custGeom>
              <a:avLst/>
              <a:gdLst/>
              <a:ahLst/>
              <a:rect l="0" t="0" r="r" b="b"/>
              <a:pathLst>
                <a:path w="32" h="217">
                  <a:moveTo>
                    <a:pt x="30" y="0"/>
                  </a:moveTo>
                  <a:lnTo>
                    <a:pt x="27" y="0"/>
                  </a:lnTo>
                  <a:lnTo>
                    <a:pt x="0" y="216"/>
                  </a:lnTo>
                  <a:lnTo>
                    <a:pt x="5" y="217"/>
                  </a:lnTo>
                  <a:lnTo>
                    <a:pt x="3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4832280" y="5116680"/>
              <a:ext cx="35280" cy="76680"/>
            </a:xfrm>
            <a:custGeom>
              <a:avLst/>
              <a:gdLst/>
              <a:ahLst/>
              <a:rect l="0" t="0" r="r" b="b"/>
              <a:pathLst>
                <a:path w="98" h="213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3" y="11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10" y="27"/>
                  </a:lnTo>
                  <a:lnTo>
                    <a:pt x="13" y="35"/>
                  </a:lnTo>
                  <a:lnTo>
                    <a:pt x="16" y="42"/>
                  </a:lnTo>
                  <a:lnTo>
                    <a:pt x="20" y="50"/>
                  </a:lnTo>
                  <a:lnTo>
                    <a:pt x="23" y="60"/>
                  </a:lnTo>
                  <a:lnTo>
                    <a:pt x="28" y="69"/>
                  </a:lnTo>
                  <a:lnTo>
                    <a:pt x="32" y="78"/>
                  </a:lnTo>
                  <a:lnTo>
                    <a:pt x="36" y="88"/>
                  </a:lnTo>
                  <a:lnTo>
                    <a:pt x="41" y="98"/>
                  </a:lnTo>
                  <a:lnTo>
                    <a:pt x="45" y="107"/>
                  </a:lnTo>
                  <a:lnTo>
                    <a:pt x="50" y="117"/>
                  </a:lnTo>
                  <a:lnTo>
                    <a:pt x="55" y="127"/>
                  </a:lnTo>
                  <a:lnTo>
                    <a:pt x="59" y="136"/>
                  </a:lnTo>
                  <a:lnTo>
                    <a:pt x="64" y="146"/>
                  </a:lnTo>
                  <a:lnTo>
                    <a:pt x="68" y="155"/>
                  </a:lnTo>
                  <a:lnTo>
                    <a:pt x="72" y="164"/>
                  </a:lnTo>
                  <a:lnTo>
                    <a:pt x="75" y="173"/>
                  </a:lnTo>
                  <a:lnTo>
                    <a:pt x="79" y="180"/>
                  </a:lnTo>
                  <a:lnTo>
                    <a:pt x="83" y="187"/>
                  </a:lnTo>
                  <a:lnTo>
                    <a:pt x="86" y="194"/>
                  </a:lnTo>
                  <a:lnTo>
                    <a:pt x="88" y="200"/>
                  </a:lnTo>
                  <a:lnTo>
                    <a:pt x="90" y="204"/>
                  </a:lnTo>
                  <a:lnTo>
                    <a:pt x="92" y="208"/>
                  </a:lnTo>
                  <a:lnTo>
                    <a:pt x="93" y="210"/>
                  </a:lnTo>
                  <a:lnTo>
                    <a:pt x="95" y="212"/>
                  </a:lnTo>
                  <a:lnTo>
                    <a:pt x="95" y="213"/>
                  </a:lnTo>
                  <a:lnTo>
                    <a:pt x="98" y="211"/>
                  </a:lnTo>
                  <a:lnTo>
                    <a:pt x="97" y="211"/>
                  </a:lnTo>
                  <a:lnTo>
                    <a:pt x="96" y="209"/>
                  </a:lnTo>
                  <a:lnTo>
                    <a:pt x="95" y="206"/>
                  </a:lnTo>
                  <a:lnTo>
                    <a:pt x="93" y="202"/>
                  </a:lnTo>
                  <a:lnTo>
                    <a:pt x="91" y="198"/>
                  </a:lnTo>
                  <a:lnTo>
                    <a:pt x="89" y="192"/>
                  </a:lnTo>
                  <a:lnTo>
                    <a:pt x="86" y="186"/>
                  </a:lnTo>
                  <a:lnTo>
                    <a:pt x="82" y="179"/>
                  </a:lnTo>
                  <a:lnTo>
                    <a:pt x="78" y="171"/>
                  </a:lnTo>
                  <a:lnTo>
                    <a:pt x="75" y="163"/>
                  </a:lnTo>
                  <a:lnTo>
                    <a:pt x="71" y="153"/>
                  </a:lnTo>
                  <a:lnTo>
                    <a:pt x="67" y="145"/>
                  </a:lnTo>
                  <a:lnTo>
                    <a:pt x="62" y="135"/>
                  </a:lnTo>
                  <a:lnTo>
                    <a:pt x="58" y="126"/>
                  </a:lnTo>
                  <a:lnTo>
                    <a:pt x="53" y="115"/>
                  </a:lnTo>
                  <a:lnTo>
                    <a:pt x="48" y="106"/>
                  </a:lnTo>
                  <a:lnTo>
                    <a:pt x="44" y="97"/>
                  </a:lnTo>
                  <a:lnTo>
                    <a:pt x="39" y="86"/>
                  </a:lnTo>
                  <a:lnTo>
                    <a:pt x="35" y="77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3" y="49"/>
                  </a:lnTo>
                  <a:lnTo>
                    <a:pt x="19" y="41"/>
                  </a:lnTo>
                  <a:lnTo>
                    <a:pt x="16" y="33"/>
                  </a:lnTo>
                  <a:lnTo>
                    <a:pt x="13" y="26"/>
                  </a:lnTo>
                  <a:lnTo>
                    <a:pt x="10" y="20"/>
                  </a:lnTo>
                  <a:lnTo>
                    <a:pt x="8" y="14"/>
                  </a:lnTo>
                  <a:lnTo>
                    <a:pt x="5" y="9"/>
                  </a:lnTo>
                  <a:lnTo>
                    <a:pt x="4" y="6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4834080" y="5054760"/>
              <a:ext cx="12960" cy="60840"/>
            </a:xfrm>
            <a:custGeom>
              <a:avLst/>
              <a:gdLst/>
              <a:ahLst/>
              <a:rect l="0" t="0" r="r" b="b"/>
              <a:pathLst>
                <a:path w="36" h="169">
                  <a:moveTo>
                    <a:pt x="33" y="0"/>
                  </a:moveTo>
                  <a:lnTo>
                    <a:pt x="33" y="2"/>
                  </a:lnTo>
                  <a:lnTo>
                    <a:pt x="32" y="6"/>
                  </a:lnTo>
                  <a:lnTo>
                    <a:pt x="30" y="14"/>
                  </a:lnTo>
                  <a:lnTo>
                    <a:pt x="29" y="25"/>
                  </a:lnTo>
                  <a:lnTo>
                    <a:pt x="26" y="38"/>
                  </a:lnTo>
                  <a:lnTo>
                    <a:pt x="24" y="53"/>
                  </a:lnTo>
                  <a:lnTo>
                    <a:pt x="21" y="68"/>
                  </a:lnTo>
                  <a:lnTo>
                    <a:pt x="17" y="83"/>
                  </a:lnTo>
                  <a:lnTo>
                    <a:pt x="14" y="99"/>
                  </a:lnTo>
                  <a:lnTo>
                    <a:pt x="11" y="114"/>
                  </a:lnTo>
                  <a:lnTo>
                    <a:pt x="8" y="128"/>
                  </a:lnTo>
                  <a:lnTo>
                    <a:pt x="6" y="141"/>
                  </a:lnTo>
                  <a:lnTo>
                    <a:pt x="3" y="151"/>
                  </a:lnTo>
                  <a:lnTo>
                    <a:pt x="1" y="160"/>
                  </a:lnTo>
                  <a:lnTo>
                    <a:pt x="0" y="165"/>
                  </a:lnTo>
                  <a:lnTo>
                    <a:pt x="0" y="166"/>
                  </a:lnTo>
                  <a:lnTo>
                    <a:pt x="0" y="169"/>
                  </a:lnTo>
                  <a:lnTo>
                    <a:pt x="2" y="166"/>
                  </a:lnTo>
                  <a:lnTo>
                    <a:pt x="4" y="161"/>
                  </a:lnTo>
                  <a:lnTo>
                    <a:pt x="6" y="153"/>
                  </a:lnTo>
                  <a:lnTo>
                    <a:pt x="8" y="143"/>
                  </a:lnTo>
                  <a:lnTo>
                    <a:pt x="11" y="130"/>
                  </a:lnTo>
                  <a:lnTo>
                    <a:pt x="14" y="115"/>
                  </a:lnTo>
                  <a:lnTo>
                    <a:pt x="17" y="99"/>
                  </a:lnTo>
                  <a:lnTo>
                    <a:pt x="21" y="84"/>
                  </a:lnTo>
                  <a:lnTo>
                    <a:pt x="24" y="69"/>
                  </a:lnTo>
                  <a:lnTo>
                    <a:pt x="26" y="54"/>
                  </a:lnTo>
                  <a:lnTo>
                    <a:pt x="29" y="39"/>
                  </a:lnTo>
                  <a:lnTo>
                    <a:pt x="31" y="26"/>
                  </a:lnTo>
                  <a:lnTo>
                    <a:pt x="33" y="16"/>
                  </a:lnTo>
                  <a:lnTo>
                    <a:pt x="35" y="8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4834080" y="5067360"/>
              <a:ext cx="16200" cy="47880"/>
            </a:xfrm>
            <a:custGeom>
              <a:avLst/>
              <a:gdLst/>
              <a:ahLst/>
              <a:rect l="0" t="0" r="r" b="b"/>
              <a:pathLst>
                <a:path w="45" h="133">
                  <a:moveTo>
                    <a:pt x="2" y="131"/>
                  </a:moveTo>
                  <a:lnTo>
                    <a:pt x="3" y="132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2" y="1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4834080" y="5116680"/>
              <a:ext cx="35280" cy="68760"/>
            </a:xfrm>
            <a:custGeom>
              <a:avLst/>
              <a:gdLst/>
              <a:ahLst/>
              <a:rect l="0" t="0" r="r" b="b"/>
              <a:pathLst>
                <a:path w="98" h="191">
                  <a:moveTo>
                    <a:pt x="96" y="190"/>
                  </a:moveTo>
                  <a:lnTo>
                    <a:pt x="98" y="189"/>
                  </a:lnTo>
                  <a:lnTo>
                    <a:pt x="2" y="0"/>
                  </a:lnTo>
                  <a:lnTo>
                    <a:pt x="0" y="2"/>
                  </a:lnTo>
                  <a:lnTo>
                    <a:pt x="95" y="191"/>
                  </a:lnTo>
                  <a:lnTo>
                    <a:pt x="96" y="1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4834080" y="5116680"/>
              <a:ext cx="43200" cy="49680"/>
            </a:xfrm>
            <a:custGeom>
              <a:avLst/>
              <a:gdLst/>
              <a:ahLst/>
              <a:rect l="0" t="0" r="r" b="b"/>
              <a:pathLst>
                <a:path w="120" h="138">
                  <a:moveTo>
                    <a:pt x="1" y="0"/>
                  </a:moveTo>
                  <a:lnTo>
                    <a:pt x="1" y="2"/>
                  </a:lnTo>
                  <a:lnTo>
                    <a:pt x="117" y="138"/>
                  </a:lnTo>
                  <a:lnTo>
                    <a:pt x="120" y="136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4834080" y="5083200"/>
              <a:ext cx="20880" cy="32040"/>
            </a:xfrm>
            <a:custGeom>
              <a:avLst/>
              <a:gdLst/>
              <a:ahLst/>
              <a:rect l="0" t="0" r="r" b="b"/>
              <a:pathLst>
                <a:path w="58" h="89">
                  <a:moveTo>
                    <a:pt x="57" y="0"/>
                  </a:moveTo>
                  <a:lnTo>
                    <a:pt x="55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58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4854600" y="514980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1" y="97"/>
                  </a:moveTo>
                  <a:lnTo>
                    <a:pt x="2" y="98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0" y="96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4851360" y="5143320"/>
              <a:ext cx="16200" cy="30600"/>
            </a:xfrm>
            <a:custGeom>
              <a:avLst/>
              <a:gdLst/>
              <a:ahLst/>
              <a:rect l="0" t="0" r="r" b="b"/>
              <a:pathLst>
                <a:path w="45" h="85">
                  <a:moveTo>
                    <a:pt x="1" y="85"/>
                  </a:moveTo>
                  <a:lnTo>
                    <a:pt x="2" y="85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0" y="84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4849920" y="5121360"/>
              <a:ext cx="11520" cy="46440"/>
            </a:xfrm>
            <a:custGeom>
              <a:avLst/>
              <a:gdLst/>
              <a:ahLst/>
              <a:rect l="0" t="0" r="r" b="b"/>
              <a:pathLst>
                <a:path w="32" h="129">
                  <a:moveTo>
                    <a:pt x="1" y="129"/>
                  </a:moveTo>
                  <a:lnTo>
                    <a:pt x="3" y="129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128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4838760" y="5068800"/>
              <a:ext cx="3600" cy="79560"/>
            </a:xfrm>
            <a:custGeom>
              <a:avLst/>
              <a:gdLst/>
              <a:ahLst/>
              <a:rect l="0" t="0" r="r" b="b"/>
              <a:pathLst>
                <a:path w="10" h="221">
                  <a:moveTo>
                    <a:pt x="9" y="221"/>
                  </a:moveTo>
                  <a:lnTo>
                    <a:pt x="10" y="221"/>
                  </a:lnTo>
                  <a:lnTo>
                    <a:pt x="3" y="0"/>
                  </a:lnTo>
                  <a:lnTo>
                    <a:pt x="0" y="0"/>
                  </a:lnTo>
                  <a:lnTo>
                    <a:pt x="8" y="221"/>
                  </a:lnTo>
                  <a:lnTo>
                    <a:pt x="9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4834080" y="5116680"/>
              <a:ext cx="27360" cy="5040"/>
            </a:xfrm>
            <a:custGeom>
              <a:avLst/>
              <a:gdLst/>
              <a:ahLst/>
              <a:rect l="0" t="0" r="r" b="b"/>
              <a:pathLst>
                <a:path w="76" h="14">
                  <a:moveTo>
                    <a:pt x="76" y="13"/>
                  </a:moveTo>
                  <a:lnTo>
                    <a:pt x="76" y="11"/>
                  </a:lnTo>
                  <a:lnTo>
                    <a:pt x="0" y="0"/>
                  </a:lnTo>
                  <a:lnTo>
                    <a:pt x="0" y="2"/>
                  </a:lnTo>
                  <a:lnTo>
                    <a:pt x="76" y="14"/>
                  </a:lnTo>
                  <a:lnTo>
                    <a:pt x="76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4834080" y="5119560"/>
              <a:ext cx="28800" cy="8280"/>
            </a:xfrm>
            <a:custGeom>
              <a:avLst/>
              <a:gdLst/>
              <a:ahLst/>
              <a:rect l="0" t="0" r="r" b="b"/>
              <a:pathLst>
                <a:path w="80" h="23">
                  <a:moveTo>
                    <a:pt x="79" y="21"/>
                  </a:moveTo>
                  <a:lnTo>
                    <a:pt x="80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79" y="23"/>
                  </a:lnTo>
                  <a:lnTo>
                    <a:pt x="79" y="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4842000" y="5135400"/>
              <a:ext cx="22680" cy="8280"/>
            </a:xfrm>
            <a:custGeom>
              <a:avLst/>
              <a:gdLst/>
              <a:ahLst/>
              <a:rect l="0" t="0" r="r" b="b"/>
              <a:pathLst>
                <a:path w="63" h="23">
                  <a:moveTo>
                    <a:pt x="63" y="1"/>
                  </a:moveTo>
                  <a:lnTo>
                    <a:pt x="62" y="0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63" y="3"/>
                  </a:lnTo>
                  <a:lnTo>
                    <a:pt x="63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4840200" y="5060880"/>
              <a:ext cx="14760" cy="54360"/>
            </a:xfrm>
            <a:custGeom>
              <a:avLst/>
              <a:gdLst/>
              <a:ahLst/>
              <a:rect l="0" t="0" r="r" b="b"/>
              <a:pathLst>
                <a:path w="41" h="151">
                  <a:moveTo>
                    <a:pt x="41" y="151"/>
                  </a:moveTo>
                  <a:lnTo>
                    <a:pt x="41" y="150"/>
                  </a:lnTo>
                  <a:lnTo>
                    <a:pt x="3" y="0"/>
                  </a:lnTo>
                  <a:lnTo>
                    <a:pt x="0" y="1"/>
                  </a:lnTo>
                  <a:lnTo>
                    <a:pt x="38" y="151"/>
                  </a:lnTo>
                  <a:lnTo>
                    <a:pt x="38" y="150"/>
                  </a:lnTo>
                  <a:lnTo>
                    <a:pt x="41" y="151"/>
                  </a:lnTo>
                  <a:lnTo>
                    <a:pt x="41" y="150"/>
                  </a:lnTo>
                  <a:lnTo>
                    <a:pt x="41" y="1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4846680" y="5114880"/>
              <a:ext cx="8280" cy="43200"/>
            </a:xfrm>
            <a:custGeom>
              <a:avLst/>
              <a:gdLst/>
              <a:ahLst/>
              <a:rect l="0" t="0" r="r" b="b"/>
              <a:pathLst>
                <a:path w="23" h="120">
                  <a:moveTo>
                    <a:pt x="1" y="120"/>
                  </a:moveTo>
                  <a:lnTo>
                    <a:pt x="3" y="12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0" y="120"/>
                  </a:lnTo>
                  <a:lnTo>
                    <a:pt x="1" y="1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4834080" y="510696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25"/>
                  </a:moveTo>
                  <a:lnTo>
                    <a:pt x="1" y="27"/>
                  </a:lnTo>
                  <a:lnTo>
                    <a:pt x="67" y="3"/>
                  </a:lnTo>
                  <a:lnTo>
                    <a:pt x="66" y="0"/>
                  </a:lnTo>
                  <a:lnTo>
                    <a:pt x="0" y="2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4933800" y="5299200"/>
              <a:ext cx="71640" cy="35280"/>
            </a:xfrm>
            <a:custGeom>
              <a:avLst/>
              <a:gdLst/>
              <a:ahLst/>
              <a:rect l="0" t="0" r="r" b="b"/>
              <a:pathLst>
                <a:path w="199" h="98">
                  <a:moveTo>
                    <a:pt x="197" y="90"/>
                  </a:moveTo>
                  <a:lnTo>
                    <a:pt x="199" y="90"/>
                  </a:lnTo>
                  <a:lnTo>
                    <a:pt x="2" y="0"/>
                  </a:lnTo>
                  <a:lnTo>
                    <a:pt x="0" y="6"/>
                  </a:lnTo>
                  <a:lnTo>
                    <a:pt x="197" y="97"/>
                  </a:lnTo>
                  <a:lnTo>
                    <a:pt x="198" y="98"/>
                  </a:lnTo>
                  <a:lnTo>
                    <a:pt x="197" y="97"/>
                  </a:lnTo>
                  <a:lnTo>
                    <a:pt x="197" y="98"/>
                  </a:lnTo>
                  <a:lnTo>
                    <a:pt x="198" y="98"/>
                  </a:lnTo>
                  <a:lnTo>
                    <a:pt x="197" y="9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5005440" y="5326200"/>
              <a:ext cx="60840" cy="8280"/>
            </a:xfrm>
            <a:custGeom>
              <a:avLst/>
              <a:gdLst/>
              <a:ahLst/>
              <a:rect l="0" t="0" r="r" b="b"/>
              <a:pathLst>
                <a:path w="169" h="23">
                  <a:moveTo>
                    <a:pt x="168" y="2"/>
                  </a:moveTo>
                  <a:lnTo>
                    <a:pt x="168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169" y="6"/>
                  </a:lnTo>
                  <a:lnTo>
                    <a:pt x="16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4938840" y="5292720"/>
              <a:ext cx="66960" cy="41760"/>
            </a:xfrm>
            <a:custGeom>
              <a:avLst/>
              <a:gdLst/>
              <a:ahLst/>
              <a:rect l="0" t="0" r="r" b="b"/>
              <a:pathLst>
                <a:path w="186" h="116">
                  <a:moveTo>
                    <a:pt x="183" y="114"/>
                  </a:moveTo>
                  <a:lnTo>
                    <a:pt x="183" y="114"/>
                  </a:lnTo>
                  <a:lnTo>
                    <a:pt x="184" y="114"/>
                  </a:lnTo>
                  <a:lnTo>
                    <a:pt x="183" y="113"/>
                  </a:lnTo>
                  <a:lnTo>
                    <a:pt x="180" y="112"/>
                  </a:lnTo>
                  <a:lnTo>
                    <a:pt x="177" y="110"/>
                  </a:lnTo>
                  <a:lnTo>
                    <a:pt x="173" y="108"/>
                  </a:lnTo>
                  <a:lnTo>
                    <a:pt x="168" y="105"/>
                  </a:lnTo>
                  <a:lnTo>
                    <a:pt x="162" y="102"/>
                  </a:lnTo>
                  <a:lnTo>
                    <a:pt x="156" y="98"/>
                  </a:lnTo>
                  <a:lnTo>
                    <a:pt x="149" y="94"/>
                  </a:lnTo>
                  <a:lnTo>
                    <a:pt x="142" y="90"/>
                  </a:lnTo>
                  <a:lnTo>
                    <a:pt x="135" y="84"/>
                  </a:lnTo>
                  <a:lnTo>
                    <a:pt x="127" y="79"/>
                  </a:lnTo>
                  <a:lnTo>
                    <a:pt x="119" y="74"/>
                  </a:lnTo>
                  <a:lnTo>
                    <a:pt x="110" y="69"/>
                  </a:lnTo>
                  <a:lnTo>
                    <a:pt x="102" y="64"/>
                  </a:lnTo>
                  <a:lnTo>
                    <a:pt x="92" y="59"/>
                  </a:lnTo>
                  <a:lnTo>
                    <a:pt x="84" y="54"/>
                  </a:lnTo>
                  <a:lnTo>
                    <a:pt x="75" y="48"/>
                  </a:lnTo>
                  <a:lnTo>
                    <a:pt x="67" y="42"/>
                  </a:lnTo>
                  <a:lnTo>
                    <a:pt x="59" y="38"/>
                  </a:lnTo>
                  <a:lnTo>
                    <a:pt x="51" y="32"/>
                  </a:lnTo>
                  <a:lnTo>
                    <a:pt x="44" y="27"/>
                  </a:lnTo>
                  <a:lnTo>
                    <a:pt x="36" y="22"/>
                  </a:lnTo>
                  <a:lnTo>
                    <a:pt x="29" y="18"/>
                  </a:lnTo>
                  <a:lnTo>
                    <a:pt x="23" y="14"/>
                  </a:lnTo>
                  <a:lnTo>
                    <a:pt x="18" y="11"/>
                  </a:lnTo>
                  <a:lnTo>
                    <a:pt x="13" y="7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6" y="13"/>
                  </a:lnTo>
                  <a:lnTo>
                    <a:pt x="22" y="16"/>
                  </a:lnTo>
                  <a:lnTo>
                    <a:pt x="29" y="20"/>
                  </a:lnTo>
                  <a:lnTo>
                    <a:pt x="35" y="24"/>
                  </a:lnTo>
                  <a:lnTo>
                    <a:pt x="42" y="30"/>
                  </a:lnTo>
                  <a:lnTo>
                    <a:pt x="50" y="34"/>
                  </a:lnTo>
                  <a:lnTo>
                    <a:pt x="58" y="40"/>
                  </a:lnTo>
                  <a:lnTo>
                    <a:pt x="65" y="45"/>
                  </a:lnTo>
                  <a:lnTo>
                    <a:pt x="74" y="50"/>
                  </a:lnTo>
                  <a:lnTo>
                    <a:pt x="82" y="56"/>
                  </a:lnTo>
                  <a:lnTo>
                    <a:pt x="91" y="61"/>
                  </a:lnTo>
                  <a:lnTo>
                    <a:pt x="101" y="66"/>
                  </a:lnTo>
                  <a:lnTo>
                    <a:pt x="109" y="71"/>
                  </a:lnTo>
                  <a:lnTo>
                    <a:pt x="118" y="77"/>
                  </a:lnTo>
                  <a:lnTo>
                    <a:pt x="126" y="81"/>
                  </a:lnTo>
                  <a:lnTo>
                    <a:pt x="134" y="86"/>
                  </a:lnTo>
                  <a:lnTo>
                    <a:pt x="142" y="92"/>
                  </a:lnTo>
                  <a:lnTo>
                    <a:pt x="148" y="96"/>
                  </a:lnTo>
                  <a:lnTo>
                    <a:pt x="155" y="100"/>
                  </a:lnTo>
                  <a:lnTo>
                    <a:pt x="161" y="104"/>
                  </a:lnTo>
                  <a:lnTo>
                    <a:pt x="167" y="108"/>
                  </a:lnTo>
                  <a:lnTo>
                    <a:pt x="172" y="110"/>
                  </a:lnTo>
                  <a:lnTo>
                    <a:pt x="176" y="112"/>
                  </a:lnTo>
                  <a:lnTo>
                    <a:pt x="179" y="114"/>
                  </a:lnTo>
                  <a:lnTo>
                    <a:pt x="181" y="115"/>
                  </a:lnTo>
                  <a:lnTo>
                    <a:pt x="183" y="116"/>
                  </a:lnTo>
                  <a:lnTo>
                    <a:pt x="186" y="114"/>
                  </a:lnTo>
                  <a:lnTo>
                    <a:pt x="183" y="1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5005440" y="5318280"/>
              <a:ext cx="51120" cy="14760"/>
            </a:xfrm>
            <a:custGeom>
              <a:avLst/>
              <a:gdLst/>
              <a:ahLst/>
              <a:rect l="0" t="0" r="r" b="b"/>
              <a:pathLst>
                <a:path w="142" h="41">
                  <a:moveTo>
                    <a:pt x="141" y="0"/>
                  </a:moveTo>
                  <a:lnTo>
                    <a:pt x="139" y="0"/>
                  </a:lnTo>
                  <a:lnTo>
                    <a:pt x="135" y="1"/>
                  </a:lnTo>
                  <a:lnTo>
                    <a:pt x="128" y="3"/>
                  </a:lnTo>
                  <a:lnTo>
                    <a:pt x="119" y="5"/>
                  </a:lnTo>
                  <a:lnTo>
                    <a:pt x="108" y="7"/>
                  </a:lnTo>
                  <a:lnTo>
                    <a:pt x="96" y="12"/>
                  </a:lnTo>
                  <a:lnTo>
                    <a:pt x="84" y="14"/>
                  </a:lnTo>
                  <a:lnTo>
                    <a:pt x="70" y="18"/>
                  </a:lnTo>
                  <a:lnTo>
                    <a:pt x="57" y="21"/>
                  </a:lnTo>
                  <a:lnTo>
                    <a:pt x="45" y="24"/>
                  </a:lnTo>
                  <a:lnTo>
                    <a:pt x="33" y="28"/>
                  </a:lnTo>
                  <a:lnTo>
                    <a:pt x="22" y="32"/>
                  </a:lnTo>
                  <a:lnTo>
                    <a:pt x="13" y="35"/>
                  </a:lnTo>
                  <a:lnTo>
                    <a:pt x="6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7" y="39"/>
                  </a:lnTo>
                  <a:lnTo>
                    <a:pt x="14" y="37"/>
                  </a:lnTo>
                  <a:lnTo>
                    <a:pt x="22" y="35"/>
                  </a:lnTo>
                  <a:lnTo>
                    <a:pt x="33" y="30"/>
                  </a:lnTo>
                  <a:lnTo>
                    <a:pt x="45" y="27"/>
                  </a:lnTo>
                  <a:lnTo>
                    <a:pt x="58" y="24"/>
                  </a:lnTo>
                  <a:lnTo>
                    <a:pt x="70" y="20"/>
                  </a:lnTo>
                  <a:lnTo>
                    <a:pt x="84" y="17"/>
                  </a:lnTo>
                  <a:lnTo>
                    <a:pt x="97" y="14"/>
                  </a:lnTo>
                  <a:lnTo>
                    <a:pt x="109" y="11"/>
                  </a:lnTo>
                  <a:lnTo>
                    <a:pt x="119" y="7"/>
                  </a:lnTo>
                  <a:lnTo>
                    <a:pt x="128" y="5"/>
                  </a:lnTo>
                  <a:lnTo>
                    <a:pt x="135" y="3"/>
                  </a:lnTo>
                  <a:lnTo>
                    <a:pt x="140" y="3"/>
                  </a:lnTo>
                  <a:lnTo>
                    <a:pt x="142" y="2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5005440" y="5316480"/>
              <a:ext cx="41760" cy="14760"/>
            </a:xfrm>
            <a:custGeom>
              <a:avLst/>
              <a:gdLst/>
              <a:ahLst/>
              <a:rect l="0" t="0" r="r" b="b"/>
              <a:pathLst>
                <a:path w="116" h="41">
                  <a:moveTo>
                    <a:pt x="0" y="41"/>
                  </a:moveTo>
                  <a:lnTo>
                    <a:pt x="1" y="41"/>
                  </a:lnTo>
                  <a:lnTo>
                    <a:pt x="116" y="2"/>
                  </a:lnTo>
                  <a:lnTo>
                    <a:pt x="115" y="0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4946760" y="5289480"/>
              <a:ext cx="59040" cy="41760"/>
            </a:xfrm>
            <a:custGeom>
              <a:avLst/>
              <a:gdLst/>
              <a:ahLst/>
              <a:rect l="0" t="0" r="r" b="b"/>
              <a:pathLst>
                <a:path w="164" h="116">
                  <a:moveTo>
                    <a:pt x="0" y="1"/>
                  </a:moveTo>
                  <a:lnTo>
                    <a:pt x="0" y="2"/>
                  </a:lnTo>
                  <a:lnTo>
                    <a:pt x="162" y="116"/>
                  </a:lnTo>
                  <a:lnTo>
                    <a:pt x="164" y="11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4964040" y="528012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114" y="139"/>
                  </a:moveTo>
                  <a:lnTo>
                    <a:pt x="116" y="14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4" y="141"/>
                  </a:lnTo>
                  <a:lnTo>
                    <a:pt x="116" y="141"/>
                  </a:lnTo>
                  <a:lnTo>
                    <a:pt x="114" y="141"/>
                  </a:lnTo>
                  <a:lnTo>
                    <a:pt x="115" y="142"/>
                  </a:lnTo>
                  <a:lnTo>
                    <a:pt x="116" y="141"/>
                  </a:lnTo>
                  <a:lnTo>
                    <a:pt x="114" y="1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5005440" y="5311800"/>
              <a:ext cx="27360" cy="19440"/>
            </a:xfrm>
            <a:custGeom>
              <a:avLst/>
              <a:gdLst/>
              <a:ahLst/>
              <a:rect l="0" t="0" r="r" b="b"/>
              <a:pathLst>
                <a:path w="76" h="54">
                  <a:moveTo>
                    <a:pt x="76" y="1"/>
                  </a:moveTo>
                  <a:lnTo>
                    <a:pt x="75" y="0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76" y="2"/>
                  </a:lnTo>
                  <a:lnTo>
                    <a:pt x="76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954680" y="5294160"/>
              <a:ext cx="28800" cy="14760"/>
            </a:xfrm>
            <a:custGeom>
              <a:avLst/>
              <a:gdLst/>
              <a:ahLst/>
              <a:rect l="0" t="0" r="r" b="b"/>
              <a:pathLst>
                <a:path w="80" h="41">
                  <a:moveTo>
                    <a:pt x="0" y="40"/>
                  </a:moveTo>
                  <a:lnTo>
                    <a:pt x="1" y="41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0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959360" y="5300640"/>
              <a:ext cx="41760" cy="11520"/>
            </a:xfrm>
            <a:custGeom>
              <a:avLst/>
              <a:gdLst/>
              <a:ahLst/>
              <a:rect l="0" t="0" r="r" b="b"/>
              <a:pathLst>
                <a:path w="116" h="32">
                  <a:moveTo>
                    <a:pt x="0" y="31"/>
                  </a:moveTo>
                  <a:lnTo>
                    <a:pt x="0" y="3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976640" y="5319720"/>
              <a:ext cx="73440" cy="8280"/>
            </a:xfrm>
            <a:custGeom>
              <a:avLst/>
              <a:gdLst/>
              <a:ahLst/>
              <a:rect l="0" t="0" r="r" b="b"/>
              <a:pathLst>
                <a:path w="204" h="23">
                  <a:moveTo>
                    <a:pt x="0" y="1"/>
                  </a:moveTo>
                  <a:lnTo>
                    <a:pt x="0" y="2"/>
                  </a:lnTo>
                  <a:lnTo>
                    <a:pt x="204" y="23"/>
                  </a:lnTo>
                  <a:lnTo>
                    <a:pt x="204" y="2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5000760" y="5299200"/>
              <a:ext cx="5040" cy="33840"/>
            </a:xfrm>
            <a:custGeom>
              <a:avLst/>
              <a:gdLst/>
              <a:ahLst/>
              <a:rect l="0" t="0" r="r" b="b"/>
              <a:pathLst>
                <a:path w="14" h="94">
                  <a:moveTo>
                    <a:pt x="1" y="0"/>
                  </a:moveTo>
                  <a:lnTo>
                    <a:pt x="0" y="0"/>
                  </a:lnTo>
                  <a:lnTo>
                    <a:pt x="11" y="94"/>
                  </a:lnTo>
                  <a:lnTo>
                    <a:pt x="14" y="93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994280" y="529920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1" y="0"/>
                  </a:moveTo>
                  <a:lnTo>
                    <a:pt x="0" y="0"/>
                  </a:lnTo>
                  <a:lnTo>
                    <a:pt x="20" y="94"/>
                  </a:lnTo>
                  <a:lnTo>
                    <a:pt x="23" y="93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979880" y="529596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6" y="0"/>
                  </a:moveTo>
                  <a:lnTo>
                    <a:pt x="24" y="0"/>
                  </a:lnTo>
                  <a:lnTo>
                    <a:pt x="0" y="71"/>
                  </a:lnTo>
                  <a:lnTo>
                    <a:pt x="2" y="72"/>
                  </a:lnTo>
                  <a:lnTo>
                    <a:pt x="27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005440" y="5310360"/>
              <a:ext cx="49680" cy="18000"/>
            </a:xfrm>
            <a:custGeom>
              <a:avLst/>
              <a:gdLst/>
              <a:ahLst/>
              <a:rect l="0" t="0" r="r" b="b"/>
              <a:pathLst>
                <a:path w="138" h="50">
                  <a:moveTo>
                    <a:pt x="0" y="2"/>
                  </a:moveTo>
                  <a:lnTo>
                    <a:pt x="0" y="2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4967280" y="5310360"/>
              <a:ext cx="38520" cy="6840"/>
            </a:xfrm>
            <a:custGeom>
              <a:avLst/>
              <a:gdLst/>
              <a:ahLst/>
              <a:rect l="0" t="0" r="r" b="b"/>
              <a:pathLst>
                <a:path w="107" h="19">
                  <a:moveTo>
                    <a:pt x="0" y="18"/>
                  </a:moveTo>
                  <a:lnTo>
                    <a:pt x="0" y="19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005440" y="5305320"/>
              <a:ext cx="9720" cy="27360"/>
            </a:xfrm>
            <a:custGeom>
              <a:avLst/>
              <a:gdLst/>
              <a:ahLst/>
              <a:rect l="0" t="0" r="r" b="b"/>
              <a:pathLst>
                <a:path w="27" h="76">
                  <a:moveTo>
                    <a:pt x="1" y="76"/>
                  </a:moveTo>
                  <a:lnTo>
                    <a:pt x="2" y="76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0" y="75"/>
                  </a:lnTo>
                  <a:lnTo>
                    <a:pt x="1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 flipV="1">
              <a:off x="4932360" y="5126040"/>
              <a:ext cx="73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 flipH="1">
              <a:off x="4992840" y="5146560"/>
              <a:ext cx="2376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 flipV="1">
              <a:off x="5000760" y="5143680"/>
              <a:ext cx="20520" cy="7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4933800" y="5135400"/>
              <a:ext cx="7956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4898880" y="5343480"/>
              <a:ext cx="86040" cy="59040"/>
            </a:xfrm>
            <a:custGeom>
              <a:avLst/>
              <a:gdLst/>
              <a:ahLst/>
              <a:rect l="0" t="0" r="r" b="b"/>
              <a:pathLst>
                <a:path w="239" h="164">
                  <a:moveTo>
                    <a:pt x="239" y="100"/>
                  </a:moveTo>
                  <a:lnTo>
                    <a:pt x="71" y="0"/>
                  </a:lnTo>
                  <a:lnTo>
                    <a:pt x="0" y="164"/>
                  </a:lnTo>
                  <a:lnTo>
                    <a:pt x="239" y="1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727520" y="5316480"/>
              <a:ext cx="84600" cy="49680"/>
            </a:xfrm>
            <a:custGeom>
              <a:avLst/>
              <a:gdLst/>
              <a:ahLst/>
              <a:rect l="0" t="0" r="r" b="b"/>
              <a:pathLst>
                <a:path w="235" h="138">
                  <a:moveTo>
                    <a:pt x="235" y="74"/>
                  </a:moveTo>
                  <a:lnTo>
                    <a:pt x="148" y="0"/>
                  </a:lnTo>
                  <a:lnTo>
                    <a:pt x="0" y="138"/>
                  </a:lnTo>
                  <a:lnTo>
                    <a:pt x="235" y="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 flipH="1" flipV="1">
              <a:off x="4780080" y="5316480"/>
              <a:ext cx="144360" cy="27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 flipH="1" flipV="1">
              <a:off x="4911840" y="5272200"/>
              <a:ext cx="14040" cy="71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 flipV="1">
              <a:off x="4782960" y="5261040"/>
              <a:ext cx="74880" cy="55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4819680" y="5292720"/>
              <a:ext cx="98640" cy="38520"/>
            </a:xfrm>
            <a:custGeom>
              <a:avLst/>
              <a:gdLst/>
              <a:ahLst/>
              <a:rect l="0" t="0" r="r" b="b"/>
              <a:pathLst>
                <a:path w="274" h="107">
                  <a:moveTo>
                    <a:pt x="274" y="43"/>
                  </a:moveTo>
                  <a:lnTo>
                    <a:pt x="103" y="107"/>
                  </a:lnTo>
                  <a:lnTo>
                    <a:pt x="0" y="0"/>
                  </a:lnTo>
                  <a:lnTo>
                    <a:pt x="274" y="4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4856040" y="5259240"/>
              <a:ext cx="57600" cy="19440"/>
            </a:xfrm>
            <a:custGeom>
              <a:avLst/>
              <a:gdLst/>
              <a:ahLst/>
              <a:rect l="0" t="0" r="r" b="b"/>
              <a:pathLst>
                <a:path w="160" h="54">
                  <a:moveTo>
                    <a:pt x="82" y="0"/>
                  </a:moveTo>
                  <a:lnTo>
                    <a:pt x="0" y="8"/>
                  </a:lnTo>
                  <a:lnTo>
                    <a:pt x="32" y="54"/>
                  </a:lnTo>
                  <a:lnTo>
                    <a:pt x="160" y="4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 flipH="1">
              <a:off x="4913280" y="5278320"/>
              <a:ext cx="2556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 flipV="1">
              <a:off x="4846680" y="5207040"/>
              <a:ext cx="1260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 flipV="1">
              <a:off x="4865760" y="5235480"/>
              <a:ext cx="38160" cy="4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V="1">
              <a:off x="4884840" y="5256360"/>
              <a:ext cx="2700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4854600" y="5234040"/>
              <a:ext cx="3348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V="1">
              <a:off x="4813200" y="5278320"/>
              <a:ext cx="55800" cy="111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3640" bIns="53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4889520" y="5262480"/>
              <a:ext cx="4680" cy="93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H="1">
              <a:off x="4646520" y="5338800"/>
              <a:ext cx="972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4638600" y="5338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4506840" y="5213520"/>
              <a:ext cx="422640" cy="233640"/>
            </a:xfrm>
            <a:custGeom>
              <a:avLst/>
              <a:gdLst/>
              <a:ahLst/>
              <a:rect l="0" t="0" r="r" b="b"/>
              <a:pathLst>
                <a:path w="1174" h="649">
                  <a:moveTo>
                    <a:pt x="217" y="56"/>
                  </a:moveTo>
                  <a:lnTo>
                    <a:pt x="56" y="0"/>
                  </a:lnTo>
                  <a:lnTo>
                    <a:pt x="0" y="7"/>
                  </a:lnTo>
                  <a:lnTo>
                    <a:pt x="14" y="52"/>
                  </a:lnTo>
                  <a:lnTo>
                    <a:pt x="117" y="97"/>
                  </a:lnTo>
                  <a:lnTo>
                    <a:pt x="149" y="196"/>
                  </a:lnTo>
                  <a:lnTo>
                    <a:pt x="129" y="275"/>
                  </a:lnTo>
                  <a:lnTo>
                    <a:pt x="1173" y="649"/>
                  </a:lnTo>
                  <a:lnTo>
                    <a:pt x="1174" y="621"/>
                  </a:lnTo>
                  <a:lnTo>
                    <a:pt x="217" y="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4927680" y="5386320"/>
              <a:ext cx="140040" cy="68760"/>
            </a:xfrm>
            <a:custGeom>
              <a:avLst/>
              <a:gdLst/>
              <a:ahLst/>
              <a:rect l="0" t="0" r="r" b="b"/>
              <a:pathLst>
                <a:path w="389" h="191">
                  <a:moveTo>
                    <a:pt x="389" y="0"/>
                  </a:moveTo>
                  <a:lnTo>
                    <a:pt x="389" y="45"/>
                  </a:lnTo>
                  <a:lnTo>
                    <a:pt x="0" y="191"/>
                  </a:lnTo>
                  <a:lnTo>
                    <a:pt x="0" y="157"/>
                  </a:lnTo>
                  <a:lnTo>
                    <a:pt x="3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4886280" y="5396040"/>
              <a:ext cx="270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4970520" y="5372280"/>
              <a:ext cx="270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4802040" y="5376960"/>
              <a:ext cx="270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718160" y="5354640"/>
              <a:ext cx="270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4795920" y="5334120"/>
              <a:ext cx="2844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4879800" y="5348160"/>
              <a:ext cx="270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4626000" y="5294160"/>
              <a:ext cx="292320" cy="346320"/>
            </a:xfrm>
            <a:custGeom>
              <a:avLst/>
              <a:gdLst/>
              <a:ahLst/>
              <a:rect l="0" t="0" r="r" b="b"/>
              <a:pathLst>
                <a:path w="812" h="962">
                  <a:moveTo>
                    <a:pt x="754" y="0"/>
                  </a:moveTo>
                  <a:lnTo>
                    <a:pt x="754" y="29"/>
                  </a:lnTo>
                  <a:lnTo>
                    <a:pt x="754" y="59"/>
                  </a:lnTo>
                  <a:lnTo>
                    <a:pt x="754" y="97"/>
                  </a:lnTo>
                  <a:lnTo>
                    <a:pt x="773" y="127"/>
                  </a:lnTo>
                  <a:lnTo>
                    <a:pt x="803" y="155"/>
                  </a:lnTo>
                  <a:lnTo>
                    <a:pt x="812" y="185"/>
                  </a:lnTo>
                  <a:lnTo>
                    <a:pt x="812" y="222"/>
                  </a:lnTo>
                  <a:lnTo>
                    <a:pt x="812" y="252"/>
                  </a:lnTo>
                  <a:lnTo>
                    <a:pt x="812" y="292"/>
                  </a:lnTo>
                  <a:lnTo>
                    <a:pt x="812" y="329"/>
                  </a:lnTo>
                  <a:lnTo>
                    <a:pt x="803" y="359"/>
                  </a:lnTo>
                  <a:lnTo>
                    <a:pt x="773" y="378"/>
                  </a:lnTo>
                  <a:lnTo>
                    <a:pt x="743" y="399"/>
                  </a:lnTo>
                  <a:lnTo>
                    <a:pt x="706" y="417"/>
                  </a:lnTo>
                  <a:lnTo>
                    <a:pt x="676" y="436"/>
                  </a:lnTo>
                  <a:lnTo>
                    <a:pt x="666" y="466"/>
                  </a:lnTo>
                  <a:lnTo>
                    <a:pt x="657" y="505"/>
                  </a:lnTo>
                  <a:lnTo>
                    <a:pt x="657" y="535"/>
                  </a:lnTo>
                  <a:lnTo>
                    <a:pt x="657" y="574"/>
                  </a:lnTo>
                  <a:lnTo>
                    <a:pt x="685" y="611"/>
                  </a:lnTo>
                  <a:lnTo>
                    <a:pt x="715" y="632"/>
                  </a:lnTo>
                  <a:lnTo>
                    <a:pt x="734" y="669"/>
                  </a:lnTo>
                  <a:lnTo>
                    <a:pt x="734" y="699"/>
                  </a:lnTo>
                  <a:lnTo>
                    <a:pt x="734" y="739"/>
                  </a:lnTo>
                  <a:lnTo>
                    <a:pt x="734" y="776"/>
                  </a:lnTo>
                  <a:lnTo>
                    <a:pt x="734" y="806"/>
                  </a:lnTo>
                  <a:lnTo>
                    <a:pt x="724" y="864"/>
                  </a:lnTo>
                  <a:lnTo>
                    <a:pt x="706" y="904"/>
                  </a:lnTo>
                  <a:lnTo>
                    <a:pt x="676" y="932"/>
                  </a:lnTo>
                  <a:lnTo>
                    <a:pt x="638" y="951"/>
                  </a:lnTo>
                  <a:lnTo>
                    <a:pt x="609" y="951"/>
                  </a:lnTo>
                  <a:lnTo>
                    <a:pt x="569" y="962"/>
                  </a:lnTo>
                  <a:lnTo>
                    <a:pt x="523" y="962"/>
                  </a:lnTo>
                  <a:lnTo>
                    <a:pt x="493" y="962"/>
                  </a:lnTo>
                  <a:lnTo>
                    <a:pt x="463" y="962"/>
                  </a:lnTo>
                  <a:lnTo>
                    <a:pt x="426" y="962"/>
                  </a:lnTo>
                  <a:lnTo>
                    <a:pt x="386" y="941"/>
                  </a:lnTo>
                  <a:lnTo>
                    <a:pt x="346" y="904"/>
                  </a:lnTo>
                  <a:lnTo>
                    <a:pt x="318" y="874"/>
                  </a:lnTo>
                  <a:lnTo>
                    <a:pt x="309" y="844"/>
                  </a:lnTo>
                  <a:lnTo>
                    <a:pt x="309" y="806"/>
                  </a:lnTo>
                  <a:lnTo>
                    <a:pt x="300" y="776"/>
                  </a:lnTo>
                  <a:lnTo>
                    <a:pt x="289" y="739"/>
                  </a:lnTo>
                  <a:lnTo>
                    <a:pt x="270" y="709"/>
                  </a:lnTo>
                  <a:lnTo>
                    <a:pt x="231" y="690"/>
                  </a:lnTo>
                  <a:lnTo>
                    <a:pt x="193" y="669"/>
                  </a:lnTo>
                  <a:lnTo>
                    <a:pt x="164" y="669"/>
                  </a:lnTo>
                  <a:lnTo>
                    <a:pt x="124" y="660"/>
                  </a:lnTo>
                  <a:lnTo>
                    <a:pt x="87" y="632"/>
                  </a:lnTo>
                  <a:lnTo>
                    <a:pt x="87" y="602"/>
                  </a:lnTo>
                  <a:lnTo>
                    <a:pt x="87" y="563"/>
                  </a:lnTo>
                  <a:lnTo>
                    <a:pt x="87" y="525"/>
                  </a:lnTo>
                  <a:lnTo>
                    <a:pt x="87" y="495"/>
                  </a:lnTo>
                  <a:lnTo>
                    <a:pt x="87" y="457"/>
                  </a:lnTo>
                  <a:lnTo>
                    <a:pt x="87" y="427"/>
                  </a:lnTo>
                  <a:lnTo>
                    <a:pt x="57" y="408"/>
                  </a:lnTo>
                  <a:lnTo>
                    <a:pt x="29" y="378"/>
                  </a:lnTo>
                  <a:lnTo>
                    <a:pt x="0" y="378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4605480" y="5286240"/>
              <a:ext cx="292320" cy="346320"/>
            </a:xfrm>
            <a:custGeom>
              <a:avLst/>
              <a:gdLst/>
              <a:ahLst/>
              <a:rect l="0" t="0" r="r" b="b"/>
              <a:pathLst>
                <a:path w="812" h="962">
                  <a:moveTo>
                    <a:pt x="754" y="0"/>
                  </a:moveTo>
                  <a:lnTo>
                    <a:pt x="754" y="29"/>
                  </a:lnTo>
                  <a:lnTo>
                    <a:pt x="754" y="59"/>
                  </a:lnTo>
                  <a:lnTo>
                    <a:pt x="754" y="97"/>
                  </a:lnTo>
                  <a:lnTo>
                    <a:pt x="773" y="127"/>
                  </a:lnTo>
                  <a:lnTo>
                    <a:pt x="803" y="155"/>
                  </a:lnTo>
                  <a:lnTo>
                    <a:pt x="812" y="185"/>
                  </a:lnTo>
                  <a:lnTo>
                    <a:pt x="812" y="222"/>
                  </a:lnTo>
                  <a:lnTo>
                    <a:pt x="812" y="252"/>
                  </a:lnTo>
                  <a:lnTo>
                    <a:pt x="812" y="292"/>
                  </a:lnTo>
                  <a:lnTo>
                    <a:pt x="812" y="329"/>
                  </a:lnTo>
                  <a:lnTo>
                    <a:pt x="803" y="359"/>
                  </a:lnTo>
                  <a:lnTo>
                    <a:pt x="773" y="378"/>
                  </a:lnTo>
                  <a:lnTo>
                    <a:pt x="743" y="399"/>
                  </a:lnTo>
                  <a:lnTo>
                    <a:pt x="706" y="417"/>
                  </a:lnTo>
                  <a:lnTo>
                    <a:pt x="676" y="436"/>
                  </a:lnTo>
                  <a:lnTo>
                    <a:pt x="666" y="466"/>
                  </a:lnTo>
                  <a:lnTo>
                    <a:pt x="657" y="505"/>
                  </a:lnTo>
                  <a:lnTo>
                    <a:pt x="657" y="535"/>
                  </a:lnTo>
                  <a:lnTo>
                    <a:pt x="657" y="574"/>
                  </a:lnTo>
                  <a:lnTo>
                    <a:pt x="685" y="611"/>
                  </a:lnTo>
                  <a:lnTo>
                    <a:pt x="715" y="632"/>
                  </a:lnTo>
                  <a:lnTo>
                    <a:pt x="734" y="669"/>
                  </a:lnTo>
                  <a:lnTo>
                    <a:pt x="734" y="699"/>
                  </a:lnTo>
                  <a:lnTo>
                    <a:pt x="734" y="739"/>
                  </a:lnTo>
                  <a:lnTo>
                    <a:pt x="734" y="776"/>
                  </a:lnTo>
                  <a:lnTo>
                    <a:pt x="734" y="806"/>
                  </a:lnTo>
                  <a:lnTo>
                    <a:pt x="724" y="864"/>
                  </a:lnTo>
                  <a:lnTo>
                    <a:pt x="706" y="904"/>
                  </a:lnTo>
                  <a:lnTo>
                    <a:pt x="676" y="932"/>
                  </a:lnTo>
                  <a:lnTo>
                    <a:pt x="638" y="951"/>
                  </a:lnTo>
                  <a:lnTo>
                    <a:pt x="609" y="951"/>
                  </a:lnTo>
                  <a:lnTo>
                    <a:pt x="569" y="962"/>
                  </a:lnTo>
                  <a:lnTo>
                    <a:pt x="523" y="962"/>
                  </a:lnTo>
                  <a:lnTo>
                    <a:pt x="493" y="962"/>
                  </a:lnTo>
                  <a:lnTo>
                    <a:pt x="463" y="962"/>
                  </a:lnTo>
                  <a:lnTo>
                    <a:pt x="426" y="962"/>
                  </a:lnTo>
                  <a:lnTo>
                    <a:pt x="386" y="941"/>
                  </a:lnTo>
                  <a:lnTo>
                    <a:pt x="346" y="904"/>
                  </a:lnTo>
                  <a:lnTo>
                    <a:pt x="318" y="874"/>
                  </a:lnTo>
                  <a:lnTo>
                    <a:pt x="309" y="844"/>
                  </a:lnTo>
                  <a:lnTo>
                    <a:pt x="309" y="806"/>
                  </a:lnTo>
                  <a:lnTo>
                    <a:pt x="300" y="776"/>
                  </a:lnTo>
                  <a:lnTo>
                    <a:pt x="289" y="739"/>
                  </a:lnTo>
                  <a:lnTo>
                    <a:pt x="270" y="709"/>
                  </a:lnTo>
                  <a:lnTo>
                    <a:pt x="231" y="690"/>
                  </a:lnTo>
                  <a:lnTo>
                    <a:pt x="193" y="669"/>
                  </a:lnTo>
                  <a:lnTo>
                    <a:pt x="164" y="669"/>
                  </a:lnTo>
                  <a:lnTo>
                    <a:pt x="124" y="660"/>
                  </a:lnTo>
                  <a:lnTo>
                    <a:pt x="87" y="632"/>
                  </a:lnTo>
                  <a:lnTo>
                    <a:pt x="87" y="602"/>
                  </a:lnTo>
                  <a:lnTo>
                    <a:pt x="87" y="563"/>
                  </a:lnTo>
                  <a:lnTo>
                    <a:pt x="87" y="525"/>
                  </a:lnTo>
                  <a:lnTo>
                    <a:pt x="87" y="495"/>
                  </a:lnTo>
                  <a:lnTo>
                    <a:pt x="87" y="457"/>
                  </a:lnTo>
                  <a:lnTo>
                    <a:pt x="87" y="427"/>
                  </a:lnTo>
                  <a:lnTo>
                    <a:pt x="57" y="408"/>
                  </a:lnTo>
                  <a:lnTo>
                    <a:pt x="29" y="378"/>
                  </a:lnTo>
                  <a:lnTo>
                    <a:pt x="0" y="378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4608360" y="5311800"/>
              <a:ext cx="292320" cy="346320"/>
            </a:xfrm>
            <a:custGeom>
              <a:avLst/>
              <a:gdLst/>
              <a:ahLst/>
              <a:rect l="0" t="0" r="r" b="b"/>
              <a:pathLst>
                <a:path w="812" h="962">
                  <a:moveTo>
                    <a:pt x="754" y="0"/>
                  </a:moveTo>
                  <a:lnTo>
                    <a:pt x="754" y="29"/>
                  </a:lnTo>
                  <a:lnTo>
                    <a:pt x="754" y="59"/>
                  </a:lnTo>
                  <a:lnTo>
                    <a:pt x="754" y="97"/>
                  </a:lnTo>
                  <a:lnTo>
                    <a:pt x="773" y="127"/>
                  </a:lnTo>
                  <a:lnTo>
                    <a:pt x="803" y="155"/>
                  </a:lnTo>
                  <a:lnTo>
                    <a:pt x="812" y="185"/>
                  </a:lnTo>
                  <a:lnTo>
                    <a:pt x="812" y="222"/>
                  </a:lnTo>
                  <a:lnTo>
                    <a:pt x="812" y="252"/>
                  </a:lnTo>
                  <a:lnTo>
                    <a:pt x="812" y="292"/>
                  </a:lnTo>
                  <a:lnTo>
                    <a:pt x="812" y="329"/>
                  </a:lnTo>
                  <a:lnTo>
                    <a:pt x="803" y="359"/>
                  </a:lnTo>
                  <a:lnTo>
                    <a:pt x="773" y="378"/>
                  </a:lnTo>
                  <a:lnTo>
                    <a:pt x="743" y="399"/>
                  </a:lnTo>
                  <a:lnTo>
                    <a:pt x="706" y="417"/>
                  </a:lnTo>
                  <a:lnTo>
                    <a:pt x="676" y="436"/>
                  </a:lnTo>
                  <a:lnTo>
                    <a:pt x="666" y="466"/>
                  </a:lnTo>
                  <a:lnTo>
                    <a:pt x="657" y="505"/>
                  </a:lnTo>
                  <a:lnTo>
                    <a:pt x="657" y="535"/>
                  </a:lnTo>
                  <a:lnTo>
                    <a:pt x="657" y="574"/>
                  </a:lnTo>
                  <a:lnTo>
                    <a:pt x="685" y="611"/>
                  </a:lnTo>
                  <a:lnTo>
                    <a:pt x="715" y="632"/>
                  </a:lnTo>
                  <a:lnTo>
                    <a:pt x="734" y="669"/>
                  </a:lnTo>
                  <a:lnTo>
                    <a:pt x="734" y="699"/>
                  </a:lnTo>
                  <a:lnTo>
                    <a:pt x="734" y="739"/>
                  </a:lnTo>
                  <a:lnTo>
                    <a:pt x="734" y="776"/>
                  </a:lnTo>
                  <a:lnTo>
                    <a:pt x="734" y="806"/>
                  </a:lnTo>
                  <a:lnTo>
                    <a:pt x="724" y="864"/>
                  </a:lnTo>
                  <a:lnTo>
                    <a:pt x="706" y="904"/>
                  </a:lnTo>
                  <a:lnTo>
                    <a:pt x="676" y="932"/>
                  </a:lnTo>
                  <a:lnTo>
                    <a:pt x="638" y="951"/>
                  </a:lnTo>
                  <a:lnTo>
                    <a:pt x="609" y="951"/>
                  </a:lnTo>
                  <a:lnTo>
                    <a:pt x="569" y="962"/>
                  </a:lnTo>
                  <a:lnTo>
                    <a:pt x="523" y="962"/>
                  </a:lnTo>
                  <a:lnTo>
                    <a:pt x="493" y="962"/>
                  </a:lnTo>
                  <a:lnTo>
                    <a:pt x="463" y="962"/>
                  </a:lnTo>
                  <a:lnTo>
                    <a:pt x="426" y="962"/>
                  </a:lnTo>
                  <a:lnTo>
                    <a:pt x="386" y="941"/>
                  </a:lnTo>
                  <a:lnTo>
                    <a:pt x="346" y="904"/>
                  </a:lnTo>
                  <a:lnTo>
                    <a:pt x="318" y="874"/>
                  </a:lnTo>
                  <a:lnTo>
                    <a:pt x="309" y="844"/>
                  </a:lnTo>
                  <a:lnTo>
                    <a:pt x="309" y="806"/>
                  </a:lnTo>
                  <a:lnTo>
                    <a:pt x="300" y="776"/>
                  </a:lnTo>
                  <a:lnTo>
                    <a:pt x="289" y="739"/>
                  </a:lnTo>
                  <a:lnTo>
                    <a:pt x="270" y="709"/>
                  </a:lnTo>
                  <a:lnTo>
                    <a:pt x="231" y="690"/>
                  </a:lnTo>
                  <a:lnTo>
                    <a:pt x="193" y="669"/>
                  </a:lnTo>
                  <a:lnTo>
                    <a:pt x="164" y="669"/>
                  </a:lnTo>
                  <a:lnTo>
                    <a:pt x="124" y="660"/>
                  </a:lnTo>
                  <a:lnTo>
                    <a:pt x="87" y="632"/>
                  </a:lnTo>
                  <a:lnTo>
                    <a:pt x="87" y="602"/>
                  </a:lnTo>
                  <a:lnTo>
                    <a:pt x="87" y="563"/>
                  </a:lnTo>
                  <a:lnTo>
                    <a:pt x="87" y="525"/>
                  </a:lnTo>
                  <a:lnTo>
                    <a:pt x="87" y="495"/>
                  </a:lnTo>
                  <a:lnTo>
                    <a:pt x="87" y="457"/>
                  </a:lnTo>
                  <a:lnTo>
                    <a:pt x="87" y="427"/>
                  </a:lnTo>
                  <a:lnTo>
                    <a:pt x="57" y="408"/>
                  </a:lnTo>
                  <a:lnTo>
                    <a:pt x="29" y="378"/>
                  </a:lnTo>
                  <a:lnTo>
                    <a:pt x="0" y="378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4253040" y="5418000"/>
              <a:ext cx="44640" cy="18000"/>
            </a:xfrm>
            <a:custGeom>
              <a:avLst/>
              <a:gdLst/>
              <a:ahLst/>
              <a:rect l="0" t="0" r="r" b="b"/>
              <a:pathLst>
                <a:path w="124" h="50">
                  <a:moveTo>
                    <a:pt x="48" y="0"/>
                  </a:moveTo>
                  <a:lnTo>
                    <a:pt x="0" y="14"/>
                  </a:lnTo>
                  <a:lnTo>
                    <a:pt x="57" y="50"/>
                  </a:lnTo>
                  <a:lnTo>
                    <a:pt x="124" y="18"/>
                  </a:lnTo>
                  <a:lnTo>
                    <a:pt x="6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4137120" y="5208480"/>
              <a:ext cx="567000" cy="273240"/>
            </a:xfrm>
            <a:custGeom>
              <a:avLst/>
              <a:gdLst/>
              <a:ahLst/>
              <a:rect l="0" t="0" r="r" b="b"/>
              <a:pathLst>
                <a:path w="1575" h="759">
                  <a:moveTo>
                    <a:pt x="410" y="464"/>
                  </a:moveTo>
                  <a:lnTo>
                    <a:pt x="410" y="516"/>
                  </a:lnTo>
                  <a:lnTo>
                    <a:pt x="401" y="534"/>
                  </a:lnTo>
                  <a:lnTo>
                    <a:pt x="396" y="543"/>
                  </a:lnTo>
                  <a:lnTo>
                    <a:pt x="392" y="561"/>
                  </a:lnTo>
                  <a:lnTo>
                    <a:pt x="388" y="578"/>
                  </a:lnTo>
                  <a:lnTo>
                    <a:pt x="388" y="591"/>
                  </a:lnTo>
                  <a:lnTo>
                    <a:pt x="388" y="596"/>
                  </a:lnTo>
                  <a:lnTo>
                    <a:pt x="392" y="605"/>
                  </a:lnTo>
                  <a:lnTo>
                    <a:pt x="388" y="609"/>
                  </a:lnTo>
                  <a:lnTo>
                    <a:pt x="388" y="613"/>
                  </a:lnTo>
                  <a:lnTo>
                    <a:pt x="383" y="613"/>
                  </a:lnTo>
                  <a:lnTo>
                    <a:pt x="379" y="613"/>
                  </a:lnTo>
                  <a:lnTo>
                    <a:pt x="370" y="613"/>
                  </a:lnTo>
                  <a:lnTo>
                    <a:pt x="366" y="609"/>
                  </a:lnTo>
                  <a:lnTo>
                    <a:pt x="366" y="605"/>
                  </a:lnTo>
                  <a:lnTo>
                    <a:pt x="366" y="600"/>
                  </a:lnTo>
                  <a:lnTo>
                    <a:pt x="366" y="596"/>
                  </a:lnTo>
                  <a:lnTo>
                    <a:pt x="370" y="591"/>
                  </a:lnTo>
                  <a:lnTo>
                    <a:pt x="370" y="587"/>
                  </a:lnTo>
                  <a:lnTo>
                    <a:pt x="370" y="561"/>
                  </a:lnTo>
                  <a:lnTo>
                    <a:pt x="361" y="534"/>
                  </a:lnTo>
                  <a:lnTo>
                    <a:pt x="361" y="516"/>
                  </a:lnTo>
                  <a:lnTo>
                    <a:pt x="361" y="450"/>
                  </a:lnTo>
                  <a:lnTo>
                    <a:pt x="158" y="380"/>
                  </a:lnTo>
                  <a:lnTo>
                    <a:pt x="158" y="361"/>
                  </a:lnTo>
                  <a:lnTo>
                    <a:pt x="158" y="366"/>
                  </a:lnTo>
                  <a:lnTo>
                    <a:pt x="105" y="211"/>
                  </a:lnTo>
                  <a:lnTo>
                    <a:pt x="22" y="158"/>
                  </a:lnTo>
                  <a:lnTo>
                    <a:pt x="22" y="163"/>
                  </a:lnTo>
                  <a:lnTo>
                    <a:pt x="22" y="180"/>
                  </a:lnTo>
                  <a:lnTo>
                    <a:pt x="17" y="211"/>
                  </a:lnTo>
                  <a:lnTo>
                    <a:pt x="17" y="224"/>
                  </a:lnTo>
                  <a:lnTo>
                    <a:pt x="8" y="224"/>
                  </a:lnTo>
                  <a:lnTo>
                    <a:pt x="8" y="211"/>
                  </a:lnTo>
                  <a:lnTo>
                    <a:pt x="4" y="176"/>
                  </a:lnTo>
                  <a:lnTo>
                    <a:pt x="4" y="149"/>
                  </a:lnTo>
                  <a:lnTo>
                    <a:pt x="0" y="145"/>
                  </a:lnTo>
                  <a:lnTo>
                    <a:pt x="0" y="114"/>
                  </a:lnTo>
                  <a:lnTo>
                    <a:pt x="17" y="110"/>
                  </a:lnTo>
                  <a:lnTo>
                    <a:pt x="220" y="163"/>
                  </a:lnTo>
                  <a:lnTo>
                    <a:pt x="295" y="189"/>
                  </a:lnTo>
                  <a:lnTo>
                    <a:pt x="295" y="185"/>
                  </a:lnTo>
                  <a:lnTo>
                    <a:pt x="361" y="211"/>
                  </a:lnTo>
                  <a:lnTo>
                    <a:pt x="383" y="216"/>
                  </a:lnTo>
                  <a:lnTo>
                    <a:pt x="449" y="216"/>
                  </a:lnTo>
                  <a:lnTo>
                    <a:pt x="449" y="74"/>
                  </a:lnTo>
                  <a:lnTo>
                    <a:pt x="493" y="61"/>
                  </a:lnTo>
                  <a:lnTo>
                    <a:pt x="493" y="39"/>
                  </a:lnTo>
                  <a:lnTo>
                    <a:pt x="696" y="0"/>
                  </a:lnTo>
                  <a:lnTo>
                    <a:pt x="749" y="13"/>
                  </a:lnTo>
                  <a:lnTo>
                    <a:pt x="790" y="4"/>
                  </a:lnTo>
                  <a:lnTo>
                    <a:pt x="1570" y="167"/>
                  </a:lnTo>
                  <a:lnTo>
                    <a:pt x="1575" y="167"/>
                  </a:lnTo>
                  <a:lnTo>
                    <a:pt x="1575" y="591"/>
                  </a:lnTo>
                  <a:lnTo>
                    <a:pt x="1562" y="596"/>
                  </a:lnTo>
                  <a:lnTo>
                    <a:pt x="1562" y="644"/>
                  </a:lnTo>
                  <a:lnTo>
                    <a:pt x="1473" y="662"/>
                  </a:lnTo>
                  <a:lnTo>
                    <a:pt x="1473" y="627"/>
                  </a:lnTo>
                  <a:lnTo>
                    <a:pt x="1469" y="627"/>
                  </a:lnTo>
                  <a:lnTo>
                    <a:pt x="1288" y="693"/>
                  </a:lnTo>
                  <a:lnTo>
                    <a:pt x="1288" y="728"/>
                  </a:lnTo>
                  <a:lnTo>
                    <a:pt x="1196" y="759"/>
                  </a:lnTo>
                  <a:lnTo>
                    <a:pt x="1196" y="724"/>
                  </a:lnTo>
                  <a:lnTo>
                    <a:pt x="1187" y="724"/>
                  </a:lnTo>
                  <a:lnTo>
                    <a:pt x="405" y="464"/>
                  </a:lnTo>
                  <a:lnTo>
                    <a:pt x="410" y="4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4518000" y="5513400"/>
              <a:ext cx="41760" cy="18000"/>
            </a:xfrm>
            <a:custGeom>
              <a:avLst/>
              <a:gdLst/>
              <a:ahLst/>
              <a:rect l="0" t="0" r="r" b="b"/>
              <a:pathLst>
                <a:path w="116" h="50">
                  <a:moveTo>
                    <a:pt x="49" y="0"/>
                  </a:moveTo>
                  <a:lnTo>
                    <a:pt x="0" y="18"/>
                  </a:lnTo>
                  <a:lnTo>
                    <a:pt x="62" y="50"/>
                  </a:lnTo>
                  <a:lnTo>
                    <a:pt x="116" y="23"/>
                  </a:lnTo>
                  <a:lnTo>
                    <a:pt x="67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4476600" y="5443560"/>
              <a:ext cx="35280" cy="51120"/>
            </a:xfrm>
            <a:custGeom>
              <a:avLst/>
              <a:gdLst/>
              <a:ahLst/>
              <a:rect l="0" t="0" r="r" b="b"/>
              <a:pathLst>
                <a:path w="98" h="142">
                  <a:moveTo>
                    <a:pt x="0" y="66"/>
                  </a:moveTo>
                  <a:lnTo>
                    <a:pt x="0" y="5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30" y="4"/>
                  </a:lnTo>
                  <a:lnTo>
                    <a:pt x="44" y="4"/>
                  </a:lnTo>
                  <a:lnTo>
                    <a:pt x="84" y="22"/>
                  </a:lnTo>
                  <a:lnTo>
                    <a:pt x="89" y="22"/>
                  </a:lnTo>
                  <a:lnTo>
                    <a:pt x="93" y="30"/>
                  </a:lnTo>
                  <a:lnTo>
                    <a:pt x="93" y="35"/>
                  </a:lnTo>
                  <a:lnTo>
                    <a:pt x="93" y="39"/>
                  </a:lnTo>
                  <a:lnTo>
                    <a:pt x="98" y="48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98" y="70"/>
                  </a:lnTo>
                  <a:lnTo>
                    <a:pt x="98" y="80"/>
                  </a:lnTo>
                  <a:lnTo>
                    <a:pt x="98" y="89"/>
                  </a:lnTo>
                  <a:lnTo>
                    <a:pt x="93" y="93"/>
                  </a:lnTo>
                  <a:lnTo>
                    <a:pt x="93" y="102"/>
                  </a:lnTo>
                  <a:lnTo>
                    <a:pt x="89" y="106"/>
                  </a:lnTo>
                  <a:lnTo>
                    <a:pt x="89" y="115"/>
                  </a:lnTo>
                  <a:lnTo>
                    <a:pt x="84" y="120"/>
                  </a:lnTo>
                  <a:lnTo>
                    <a:pt x="80" y="124"/>
                  </a:lnTo>
                  <a:lnTo>
                    <a:pt x="75" y="128"/>
                  </a:lnTo>
                  <a:lnTo>
                    <a:pt x="71" y="133"/>
                  </a:lnTo>
                  <a:lnTo>
                    <a:pt x="67" y="133"/>
                  </a:lnTo>
                  <a:lnTo>
                    <a:pt x="62" y="137"/>
                  </a:lnTo>
                  <a:lnTo>
                    <a:pt x="58" y="137"/>
                  </a:lnTo>
                  <a:lnTo>
                    <a:pt x="53" y="137"/>
                  </a:lnTo>
                  <a:lnTo>
                    <a:pt x="44" y="142"/>
                  </a:lnTo>
                  <a:lnTo>
                    <a:pt x="39" y="142"/>
                  </a:lnTo>
                  <a:lnTo>
                    <a:pt x="30" y="142"/>
                  </a:lnTo>
                  <a:lnTo>
                    <a:pt x="26" y="142"/>
                  </a:lnTo>
                  <a:lnTo>
                    <a:pt x="22" y="142"/>
                  </a:lnTo>
                  <a:lnTo>
                    <a:pt x="22" y="120"/>
                  </a:lnTo>
                  <a:lnTo>
                    <a:pt x="17" y="111"/>
                  </a:lnTo>
                  <a:lnTo>
                    <a:pt x="13" y="106"/>
                  </a:lnTo>
                  <a:lnTo>
                    <a:pt x="13" y="102"/>
                  </a:lnTo>
                  <a:lnTo>
                    <a:pt x="8" y="98"/>
                  </a:lnTo>
                  <a:lnTo>
                    <a:pt x="4" y="89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460760" y="5440320"/>
              <a:ext cx="38520" cy="54360"/>
            </a:xfrm>
            <a:custGeom>
              <a:avLst/>
              <a:gdLst/>
              <a:ahLst/>
              <a:rect l="0" t="0" r="r" b="b"/>
              <a:pathLst>
                <a:path w="107" h="151">
                  <a:moveTo>
                    <a:pt x="0" y="75"/>
                  </a:moveTo>
                  <a:lnTo>
                    <a:pt x="0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8" y="13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49" y="0"/>
                  </a:lnTo>
                  <a:lnTo>
                    <a:pt x="90" y="13"/>
                  </a:lnTo>
                  <a:lnTo>
                    <a:pt x="90" y="22"/>
                  </a:lnTo>
                  <a:lnTo>
                    <a:pt x="94" y="26"/>
                  </a:lnTo>
                  <a:lnTo>
                    <a:pt x="99" y="30"/>
                  </a:lnTo>
                  <a:lnTo>
                    <a:pt x="99" y="40"/>
                  </a:lnTo>
                  <a:lnTo>
                    <a:pt x="103" y="45"/>
                  </a:lnTo>
                  <a:lnTo>
                    <a:pt x="103" y="49"/>
                  </a:lnTo>
                  <a:lnTo>
                    <a:pt x="107" y="58"/>
                  </a:lnTo>
                  <a:lnTo>
                    <a:pt x="107" y="62"/>
                  </a:lnTo>
                  <a:lnTo>
                    <a:pt x="107" y="71"/>
                  </a:lnTo>
                  <a:lnTo>
                    <a:pt x="107" y="80"/>
                  </a:lnTo>
                  <a:lnTo>
                    <a:pt x="107" y="84"/>
                  </a:lnTo>
                  <a:lnTo>
                    <a:pt x="107" y="89"/>
                  </a:lnTo>
                  <a:lnTo>
                    <a:pt x="103" y="98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99" y="116"/>
                  </a:lnTo>
                  <a:lnTo>
                    <a:pt x="94" y="125"/>
                  </a:lnTo>
                  <a:lnTo>
                    <a:pt x="94" y="129"/>
                  </a:lnTo>
                  <a:lnTo>
                    <a:pt x="90" y="129"/>
                  </a:lnTo>
                  <a:lnTo>
                    <a:pt x="90" y="138"/>
                  </a:lnTo>
                  <a:lnTo>
                    <a:pt x="81" y="138"/>
                  </a:lnTo>
                  <a:lnTo>
                    <a:pt x="75" y="143"/>
                  </a:lnTo>
                  <a:lnTo>
                    <a:pt x="71" y="147"/>
                  </a:lnTo>
                  <a:lnTo>
                    <a:pt x="67" y="151"/>
                  </a:lnTo>
                  <a:lnTo>
                    <a:pt x="62" y="151"/>
                  </a:lnTo>
                  <a:lnTo>
                    <a:pt x="58" y="151"/>
                  </a:lnTo>
                  <a:lnTo>
                    <a:pt x="49" y="151"/>
                  </a:lnTo>
                  <a:lnTo>
                    <a:pt x="45" y="147"/>
                  </a:lnTo>
                  <a:lnTo>
                    <a:pt x="40" y="147"/>
                  </a:lnTo>
                  <a:lnTo>
                    <a:pt x="36" y="147"/>
                  </a:lnTo>
                  <a:lnTo>
                    <a:pt x="31" y="143"/>
                  </a:lnTo>
                  <a:lnTo>
                    <a:pt x="26" y="138"/>
                  </a:lnTo>
                  <a:lnTo>
                    <a:pt x="22" y="134"/>
                  </a:lnTo>
                  <a:lnTo>
                    <a:pt x="17" y="129"/>
                  </a:lnTo>
                  <a:lnTo>
                    <a:pt x="17" y="125"/>
                  </a:lnTo>
                  <a:lnTo>
                    <a:pt x="13" y="116"/>
                  </a:lnTo>
                  <a:lnTo>
                    <a:pt x="8" y="116"/>
                  </a:lnTo>
                  <a:lnTo>
                    <a:pt x="4" y="111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470480" y="5451480"/>
              <a:ext cx="16200" cy="27360"/>
            </a:xfrm>
            <a:custGeom>
              <a:avLst/>
              <a:gdLst/>
              <a:ahLst/>
              <a:rect l="0" t="0" r="r" b="b"/>
              <a:pathLst>
                <a:path w="45" h="76">
                  <a:moveTo>
                    <a:pt x="0" y="40"/>
                  </a:move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8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0" y="23"/>
                  </a:lnTo>
                  <a:lnTo>
                    <a:pt x="45" y="27"/>
                  </a:lnTo>
                  <a:lnTo>
                    <a:pt x="45" y="31"/>
                  </a:lnTo>
                  <a:lnTo>
                    <a:pt x="45" y="36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45" y="49"/>
                  </a:lnTo>
                  <a:lnTo>
                    <a:pt x="45" y="53"/>
                  </a:lnTo>
                  <a:lnTo>
                    <a:pt x="45" y="59"/>
                  </a:lnTo>
                  <a:lnTo>
                    <a:pt x="40" y="63"/>
                  </a:lnTo>
                  <a:lnTo>
                    <a:pt x="40" y="68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1" y="76"/>
                  </a:lnTo>
                  <a:lnTo>
                    <a:pt x="27" y="76"/>
                  </a:lnTo>
                  <a:lnTo>
                    <a:pt x="23" y="76"/>
                  </a:lnTo>
                  <a:lnTo>
                    <a:pt x="17" y="76"/>
                  </a:lnTo>
                  <a:lnTo>
                    <a:pt x="13" y="72"/>
                  </a:lnTo>
                  <a:lnTo>
                    <a:pt x="13" y="68"/>
                  </a:lnTo>
                  <a:lnTo>
                    <a:pt x="8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4" y="53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456080" y="5442120"/>
              <a:ext cx="38520" cy="55800"/>
            </a:xfrm>
            <a:custGeom>
              <a:avLst/>
              <a:gdLst/>
              <a:ahLst/>
              <a:rect l="0" t="0" r="r" b="b"/>
              <a:pathLst>
                <a:path w="107" h="155">
                  <a:moveTo>
                    <a:pt x="4" y="80"/>
                  </a:moveTo>
                  <a:lnTo>
                    <a:pt x="4" y="74"/>
                  </a:lnTo>
                  <a:lnTo>
                    <a:pt x="0" y="66"/>
                  </a:lnTo>
                  <a:lnTo>
                    <a:pt x="4" y="57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8" y="39"/>
                  </a:lnTo>
                  <a:lnTo>
                    <a:pt x="13" y="30"/>
                  </a:lnTo>
                  <a:lnTo>
                    <a:pt x="13" y="26"/>
                  </a:lnTo>
                  <a:lnTo>
                    <a:pt x="17" y="22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71" y="4"/>
                  </a:lnTo>
                  <a:lnTo>
                    <a:pt x="71" y="8"/>
                  </a:lnTo>
                  <a:lnTo>
                    <a:pt x="75" y="8"/>
                  </a:lnTo>
                  <a:lnTo>
                    <a:pt x="81" y="13"/>
                  </a:lnTo>
                  <a:lnTo>
                    <a:pt x="85" y="17"/>
                  </a:lnTo>
                  <a:lnTo>
                    <a:pt x="85" y="22"/>
                  </a:lnTo>
                  <a:lnTo>
                    <a:pt x="90" y="26"/>
                  </a:lnTo>
                  <a:lnTo>
                    <a:pt x="94" y="35"/>
                  </a:lnTo>
                  <a:lnTo>
                    <a:pt x="94" y="39"/>
                  </a:lnTo>
                  <a:lnTo>
                    <a:pt x="99" y="44"/>
                  </a:lnTo>
                  <a:lnTo>
                    <a:pt x="103" y="48"/>
                  </a:lnTo>
                  <a:lnTo>
                    <a:pt x="103" y="57"/>
                  </a:lnTo>
                  <a:lnTo>
                    <a:pt x="103" y="66"/>
                  </a:lnTo>
                  <a:lnTo>
                    <a:pt x="103" y="70"/>
                  </a:lnTo>
                  <a:lnTo>
                    <a:pt x="107" y="74"/>
                  </a:lnTo>
                  <a:lnTo>
                    <a:pt x="107" y="84"/>
                  </a:lnTo>
                  <a:lnTo>
                    <a:pt x="107" y="93"/>
                  </a:lnTo>
                  <a:lnTo>
                    <a:pt x="103" y="98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103" y="115"/>
                  </a:lnTo>
                  <a:lnTo>
                    <a:pt x="99" y="120"/>
                  </a:lnTo>
                  <a:lnTo>
                    <a:pt x="94" y="124"/>
                  </a:lnTo>
                  <a:lnTo>
                    <a:pt x="94" y="128"/>
                  </a:lnTo>
                  <a:lnTo>
                    <a:pt x="90" y="137"/>
                  </a:lnTo>
                  <a:lnTo>
                    <a:pt x="85" y="142"/>
                  </a:lnTo>
                  <a:lnTo>
                    <a:pt x="81" y="146"/>
                  </a:lnTo>
                  <a:lnTo>
                    <a:pt x="75" y="150"/>
                  </a:lnTo>
                  <a:lnTo>
                    <a:pt x="71" y="150"/>
                  </a:lnTo>
                  <a:lnTo>
                    <a:pt x="62" y="150"/>
                  </a:lnTo>
                  <a:lnTo>
                    <a:pt x="62" y="155"/>
                  </a:lnTo>
                  <a:lnTo>
                    <a:pt x="53" y="155"/>
                  </a:lnTo>
                  <a:lnTo>
                    <a:pt x="49" y="155"/>
                  </a:lnTo>
                  <a:lnTo>
                    <a:pt x="45" y="155"/>
                  </a:lnTo>
                  <a:lnTo>
                    <a:pt x="40" y="155"/>
                  </a:lnTo>
                  <a:lnTo>
                    <a:pt x="31" y="155"/>
                  </a:lnTo>
                  <a:lnTo>
                    <a:pt x="26" y="155"/>
                  </a:lnTo>
                  <a:lnTo>
                    <a:pt x="26" y="133"/>
                  </a:lnTo>
                  <a:lnTo>
                    <a:pt x="22" y="128"/>
                  </a:lnTo>
                  <a:lnTo>
                    <a:pt x="17" y="124"/>
                  </a:lnTo>
                  <a:lnTo>
                    <a:pt x="17" y="120"/>
                  </a:lnTo>
                  <a:lnTo>
                    <a:pt x="13" y="111"/>
                  </a:lnTo>
                  <a:lnTo>
                    <a:pt x="13" y="106"/>
                  </a:lnTo>
                  <a:lnTo>
                    <a:pt x="8" y="102"/>
                  </a:lnTo>
                  <a:lnTo>
                    <a:pt x="8" y="93"/>
                  </a:lnTo>
                  <a:lnTo>
                    <a:pt x="4" y="84"/>
                  </a:lnTo>
                  <a:lnTo>
                    <a:pt x="4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441680" y="5440320"/>
              <a:ext cx="38520" cy="57600"/>
            </a:xfrm>
            <a:custGeom>
              <a:avLst/>
              <a:gdLst/>
              <a:ahLst/>
              <a:rect l="0" t="0" r="r" b="b"/>
              <a:pathLst>
                <a:path w="107" h="160">
                  <a:moveTo>
                    <a:pt x="0" y="84"/>
                  </a:moveTo>
                  <a:lnTo>
                    <a:pt x="0" y="80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4" y="35"/>
                  </a:lnTo>
                  <a:lnTo>
                    <a:pt x="4" y="30"/>
                  </a:lnTo>
                  <a:lnTo>
                    <a:pt x="13" y="26"/>
                  </a:lnTo>
                  <a:lnTo>
                    <a:pt x="13" y="17"/>
                  </a:lnTo>
                  <a:lnTo>
                    <a:pt x="17" y="13"/>
                  </a:lnTo>
                  <a:lnTo>
                    <a:pt x="22" y="13"/>
                  </a:lnTo>
                  <a:lnTo>
                    <a:pt x="26" y="8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9" y="0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13"/>
                  </a:lnTo>
                  <a:lnTo>
                    <a:pt x="75" y="13"/>
                  </a:lnTo>
                  <a:lnTo>
                    <a:pt x="81" y="17"/>
                  </a:lnTo>
                  <a:lnTo>
                    <a:pt x="85" y="22"/>
                  </a:lnTo>
                  <a:lnTo>
                    <a:pt x="90" y="26"/>
                  </a:lnTo>
                  <a:lnTo>
                    <a:pt x="90" y="30"/>
                  </a:lnTo>
                  <a:lnTo>
                    <a:pt x="94" y="39"/>
                  </a:lnTo>
                  <a:lnTo>
                    <a:pt x="99" y="45"/>
                  </a:lnTo>
                  <a:lnTo>
                    <a:pt x="99" y="49"/>
                  </a:lnTo>
                  <a:lnTo>
                    <a:pt x="103" y="58"/>
                  </a:lnTo>
                  <a:lnTo>
                    <a:pt x="103" y="62"/>
                  </a:lnTo>
                  <a:lnTo>
                    <a:pt x="103" y="71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7" y="98"/>
                  </a:lnTo>
                  <a:lnTo>
                    <a:pt x="107" y="102"/>
                  </a:lnTo>
                  <a:lnTo>
                    <a:pt x="103" y="111"/>
                  </a:lnTo>
                  <a:lnTo>
                    <a:pt x="103" y="115"/>
                  </a:lnTo>
                  <a:lnTo>
                    <a:pt x="103" y="125"/>
                  </a:lnTo>
                  <a:lnTo>
                    <a:pt x="99" y="129"/>
                  </a:lnTo>
                  <a:lnTo>
                    <a:pt x="94" y="134"/>
                  </a:lnTo>
                  <a:lnTo>
                    <a:pt x="94" y="138"/>
                  </a:lnTo>
                  <a:lnTo>
                    <a:pt x="90" y="143"/>
                  </a:lnTo>
                  <a:lnTo>
                    <a:pt x="90" y="147"/>
                  </a:lnTo>
                  <a:lnTo>
                    <a:pt x="85" y="151"/>
                  </a:lnTo>
                  <a:lnTo>
                    <a:pt x="81" y="156"/>
                  </a:lnTo>
                  <a:lnTo>
                    <a:pt x="71" y="156"/>
                  </a:lnTo>
                  <a:lnTo>
                    <a:pt x="71" y="160"/>
                  </a:lnTo>
                  <a:lnTo>
                    <a:pt x="67" y="160"/>
                  </a:lnTo>
                  <a:lnTo>
                    <a:pt x="62" y="160"/>
                  </a:lnTo>
                  <a:lnTo>
                    <a:pt x="58" y="160"/>
                  </a:lnTo>
                  <a:lnTo>
                    <a:pt x="53" y="160"/>
                  </a:lnTo>
                  <a:lnTo>
                    <a:pt x="49" y="160"/>
                  </a:lnTo>
                  <a:lnTo>
                    <a:pt x="40" y="160"/>
                  </a:lnTo>
                  <a:lnTo>
                    <a:pt x="36" y="156"/>
                  </a:lnTo>
                  <a:lnTo>
                    <a:pt x="31" y="156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22" y="143"/>
                  </a:lnTo>
                  <a:lnTo>
                    <a:pt x="17" y="138"/>
                  </a:lnTo>
                  <a:lnTo>
                    <a:pt x="13" y="129"/>
                  </a:lnTo>
                  <a:lnTo>
                    <a:pt x="8" y="129"/>
                  </a:lnTo>
                  <a:lnTo>
                    <a:pt x="4" y="121"/>
                  </a:lnTo>
                  <a:lnTo>
                    <a:pt x="4" y="111"/>
                  </a:lnTo>
                  <a:lnTo>
                    <a:pt x="4" y="106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451400" y="5456160"/>
              <a:ext cx="16200" cy="25920"/>
            </a:xfrm>
            <a:custGeom>
              <a:avLst/>
              <a:gdLst/>
              <a:ahLst/>
              <a:rect l="0" t="0" r="r" b="b"/>
              <a:pathLst>
                <a:path w="45" h="72">
                  <a:moveTo>
                    <a:pt x="0" y="36"/>
                  </a:moveTo>
                  <a:lnTo>
                    <a:pt x="0" y="31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5" y="23"/>
                  </a:lnTo>
                  <a:lnTo>
                    <a:pt x="45" y="27"/>
                  </a:lnTo>
                  <a:lnTo>
                    <a:pt x="45" y="31"/>
                  </a:lnTo>
                  <a:lnTo>
                    <a:pt x="45" y="36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45" y="53"/>
                  </a:lnTo>
                  <a:lnTo>
                    <a:pt x="45" y="59"/>
                  </a:lnTo>
                  <a:lnTo>
                    <a:pt x="40" y="59"/>
                  </a:lnTo>
                  <a:lnTo>
                    <a:pt x="40" y="63"/>
                  </a:lnTo>
                  <a:lnTo>
                    <a:pt x="40" y="68"/>
                  </a:lnTo>
                  <a:lnTo>
                    <a:pt x="36" y="68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3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4" y="53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311720" y="5213520"/>
              <a:ext cx="378360" cy="90720"/>
            </a:xfrm>
            <a:custGeom>
              <a:avLst/>
              <a:gdLst/>
              <a:ahLst/>
              <a:rect l="0" t="0" r="r" b="b"/>
              <a:pathLst>
                <a:path w="1051" h="252">
                  <a:moveTo>
                    <a:pt x="4" y="61"/>
                  </a:moveTo>
                  <a:lnTo>
                    <a:pt x="702" y="252"/>
                  </a:lnTo>
                  <a:lnTo>
                    <a:pt x="1051" y="155"/>
                  </a:lnTo>
                  <a:lnTo>
                    <a:pt x="309" y="0"/>
                  </a:lnTo>
                  <a:lnTo>
                    <a:pt x="0" y="61"/>
                  </a:lnTo>
                  <a:lnTo>
                    <a:pt x="4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314960" y="5222880"/>
              <a:ext cx="2196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H="1">
              <a:off x="4184640" y="5267160"/>
              <a:ext cx="33480" cy="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 flipH="1">
              <a:off x="4187880" y="5281560"/>
              <a:ext cx="284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221000" y="5284800"/>
              <a:ext cx="68760" cy="14760"/>
            </a:xfrm>
            <a:custGeom>
              <a:avLst/>
              <a:gdLst/>
              <a:ahLst/>
              <a:rect l="0" t="0" r="r" b="b"/>
              <a:pathLst>
                <a:path w="191" h="41">
                  <a:moveTo>
                    <a:pt x="191" y="23"/>
                  </a:moveTo>
                  <a:lnTo>
                    <a:pt x="151" y="37"/>
                  </a:lnTo>
                  <a:lnTo>
                    <a:pt x="93" y="41"/>
                  </a:lnTo>
                  <a:lnTo>
                    <a:pt x="0" y="23"/>
                  </a:lnTo>
                  <a:lnTo>
                    <a:pt x="98" y="0"/>
                  </a:lnTo>
                  <a:lnTo>
                    <a:pt x="187" y="23"/>
                  </a:lnTo>
                  <a:lnTo>
                    <a:pt x="191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254480" y="5297400"/>
              <a:ext cx="19440" cy="27360"/>
            </a:xfrm>
            <a:custGeom>
              <a:avLst/>
              <a:gdLst/>
              <a:ahLst/>
              <a:rect l="0" t="0" r="r" b="b"/>
              <a:pathLst>
                <a:path w="54" h="76">
                  <a:moveTo>
                    <a:pt x="54" y="0"/>
                  </a:moveTo>
                  <a:lnTo>
                    <a:pt x="54" y="76"/>
                  </a:lnTo>
                  <a:lnTo>
                    <a:pt x="0" y="76"/>
                  </a:lnTo>
                  <a:lnTo>
                    <a:pt x="0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221000" y="5292720"/>
              <a:ext cx="33840" cy="32040"/>
            </a:xfrm>
            <a:custGeom>
              <a:avLst/>
              <a:gdLst/>
              <a:ahLst/>
              <a:rect l="0" t="0" r="r" b="b"/>
              <a:pathLst>
                <a:path w="94" h="89">
                  <a:moveTo>
                    <a:pt x="94" y="89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94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240080" y="5324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0"/>
                  </a:moveTo>
                  <a:lnTo>
                    <a:pt x="94" y="31"/>
                  </a:lnTo>
                  <a:lnTo>
                    <a:pt x="49" y="72"/>
                  </a:lnTo>
                  <a:lnTo>
                    <a:pt x="0" y="72"/>
                  </a:lnTo>
                  <a:lnTo>
                    <a:pt x="40" y="3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55920" y="5286240"/>
              <a:ext cx="36720" cy="63720"/>
            </a:xfrm>
            <a:custGeom>
              <a:avLst/>
              <a:gdLst/>
              <a:ahLst/>
              <a:rect l="0" t="0" r="r" b="b"/>
              <a:pathLst>
                <a:path w="102" h="177">
                  <a:moveTo>
                    <a:pt x="102" y="0"/>
                  </a:moveTo>
                  <a:lnTo>
                    <a:pt x="102" y="89"/>
                  </a:lnTo>
                  <a:lnTo>
                    <a:pt x="98" y="133"/>
                  </a:lnTo>
                  <a:lnTo>
                    <a:pt x="89" y="142"/>
                  </a:lnTo>
                  <a:lnTo>
                    <a:pt x="53" y="177"/>
                  </a:lnTo>
                  <a:lnTo>
                    <a:pt x="0" y="17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 flipH="1">
              <a:off x="4194000" y="5297400"/>
              <a:ext cx="2700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H="1">
              <a:off x="4197240" y="5313240"/>
              <a:ext cx="2376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254480" y="5324400"/>
              <a:ext cx="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 flipH="1" flipV="1">
              <a:off x="4221000" y="5319720"/>
              <a:ext cx="3348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H="1" flipV="1">
              <a:off x="4221000" y="5326200"/>
              <a:ext cx="33480" cy="10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 flipH="1" flipV="1">
              <a:off x="4221000" y="5332320"/>
              <a:ext cx="2880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94000" y="5335560"/>
              <a:ext cx="52920" cy="9720"/>
            </a:xfrm>
            <a:custGeom>
              <a:avLst/>
              <a:gdLst/>
              <a:ahLst/>
              <a:rect l="0" t="0" r="r" b="b"/>
              <a:pathLst>
                <a:path w="147" h="27">
                  <a:moveTo>
                    <a:pt x="147" y="27"/>
                  </a:moveTo>
                  <a:lnTo>
                    <a:pt x="75" y="0"/>
                  </a:lnTo>
                  <a:lnTo>
                    <a:pt x="0" y="14"/>
                  </a:lnTo>
                  <a:lnTo>
                    <a:pt x="147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221000" y="5313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 flipH="1">
              <a:off x="4273560" y="5316480"/>
              <a:ext cx="190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46560" y="5195880"/>
              <a:ext cx="11160" cy="93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533840" y="5459400"/>
              <a:ext cx="12960" cy="65520"/>
            </a:xfrm>
            <a:custGeom>
              <a:avLst/>
              <a:gdLst/>
              <a:ahLst/>
              <a:rect l="0" t="0" r="r" b="b"/>
              <a:pathLst>
                <a:path w="36" h="182">
                  <a:moveTo>
                    <a:pt x="0" y="0"/>
                  </a:moveTo>
                  <a:lnTo>
                    <a:pt x="0" y="3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0" y="102"/>
                  </a:lnTo>
                  <a:lnTo>
                    <a:pt x="4" y="128"/>
                  </a:lnTo>
                  <a:lnTo>
                    <a:pt x="4" y="138"/>
                  </a:lnTo>
                  <a:lnTo>
                    <a:pt x="4" y="169"/>
                  </a:lnTo>
                  <a:lnTo>
                    <a:pt x="4" y="173"/>
                  </a:lnTo>
                  <a:lnTo>
                    <a:pt x="4" y="178"/>
                  </a:lnTo>
                  <a:lnTo>
                    <a:pt x="8" y="182"/>
                  </a:lnTo>
                  <a:lnTo>
                    <a:pt x="17" y="182"/>
                  </a:lnTo>
                  <a:lnTo>
                    <a:pt x="23" y="178"/>
                  </a:lnTo>
                  <a:lnTo>
                    <a:pt x="27" y="178"/>
                  </a:lnTo>
                  <a:lnTo>
                    <a:pt x="27" y="173"/>
                  </a:lnTo>
                  <a:lnTo>
                    <a:pt x="27" y="169"/>
                  </a:lnTo>
                  <a:lnTo>
                    <a:pt x="23" y="169"/>
                  </a:lnTo>
                  <a:lnTo>
                    <a:pt x="23" y="133"/>
                  </a:lnTo>
                  <a:lnTo>
                    <a:pt x="27" y="128"/>
                  </a:lnTo>
                  <a:lnTo>
                    <a:pt x="27" y="124"/>
                  </a:lnTo>
                  <a:lnTo>
                    <a:pt x="31" y="106"/>
                  </a:lnTo>
                  <a:lnTo>
                    <a:pt x="36" y="98"/>
                  </a:lnTo>
                  <a:lnTo>
                    <a:pt x="36" y="80"/>
                  </a:lnTo>
                  <a:lnTo>
                    <a:pt x="3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43320" y="527688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 flipH="1">
              <a:off x="4292640" y="52992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>
              <a:off x="4292640" y="532116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 flipH="1">
              <a:off x="4289400" y="533556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21000" y="5335560"/>
              <a:ext cx="78120" cy="19440"/>
            </a:xfrm>
            <a:custGeom>
              <a:avLst/>
              <a:gdLst/>
              <a:ahLst/>
              <a:rect l="0" t="0" r="r" b="b"/>
              <a:pathLst>
                <a:path w="217" h="54">
                  <a:moveTo>
                    <a:pt x="217" y="4"/>
                  </a:moveTo>
                  <a:lnTo>
                    <a:pt x="199" y="4"/>
                  </a:lnTo>
                  <a:lnTo>
                    <a:pt x="150" y="54"/>
                  </a:lnTo>
                  <a:lnTo>
                    <a:pt x="57" y="54"/>
                  </a:lnTo>
                  <a:lnTo>
                    <a:pt x="52" y="41"/>
                  </a:lnTo>
                  <a:lnTo>
                    <a:pt x="8" y="27"/>
                  </a:lnTo>
                  <a:lnTo>
                    <a:pt x="0" y="0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 flipH="1" flipV="1">
              <a:off x="4203720" y="5337000"/>
              <a:ext cx="20520" cy="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87960" y="529272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564080" y="5268960"/>
              <a:ext cx="140040" cy="200520"/>
            </a:xfrm>
            <a:custGeom>
              <a:avLst/>
              <a:gdLst/>
              <a:ahLst/>
              <a:rect l="0" t="0" r="r" b="b"/>
              <a:pathLst>
                <a:path w="389" h="557">
                  <a:moveTo>
                    <a:pt x="0" y="557"/>
                  </a:moveTo>
                  <a:lnTo>
                    <a:pt x="0" y="105"/>
                  </a:lnTo>
                  <a:lnTo>
                    <a:pt x="389" y="0"/>
                  </a:lnTo>
                  <a:lnTo>
                    <a:pt x="0" y="105"/>
                  </a:lnTo>
                  <a:lnTo>
                    <a:pt x="389" y="0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572000" y="5276880"/>
              <a:ext cx="124200" cy="181440"/>
            </a:xfrm>
            <a:custGeom>
              <a:avLst/>
              <a:gdLst/>
              <a:ahLst/>
              <a:rect l="0" t="0" r="r" b="b"/>
              <a:pathLst>
                <a:path w="345" h="504">
                  <a:moveTo>
                    <a:pt x="0" y="504"/>
                  </a:moveTo>
                  <a:lnTo>
                    <a:pt x="345" y="390"/>
                  </a:lnTo>
                  <a:lnTo>
                    <a:pt x="345" y="0"/>
                  </a:lnTo>
                  <a:lnTo>
                    <a:pt x="0" y="101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267080" y="5370480"/>
              <a:ext cx="158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303800" y="5240160"/>
              <a:ext cx="255960" cy="222480"/>
            </a:xfrm>
            <a:custGeom>
              <a:avLst/>
              <a:gdLst/>
              <a:ahLst/>
              <a:rect l="0" t="0" r="r" b="b"/>
              <a:pathLst>
                <a:path w="711" h="618">
                  <a:moveTo>
                    <a:pt x="711" y="618"/>
                  </a:moveTo>
                  <a:lnTo>
                    <a:pt x="711" y="198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711" y="6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578480" y="5303880"/>
              <a:ext cx="47880" cy="146520"/>
            </a:xfrm>
            <a:custGeom>
              <a:avLst/>
              <a:gdLst/>
              <a:ahLst/>
              <a:rect l="0" t="0" r="r" b="b"/>
              <a:pathLst>
                <a:path w="133" h="407">
                  <a:moveTo>
                    <a:pt x="133" y="0"/>
                  </a:moveTo>
                  <a:lnTo>
                    <a:pt x="133" y="368"/>
                  </a:lnTo>
                  <a:lnTo>
                    <a:pt x="0" y="407"/>
                  </a:lnTo>
                  <a:lnTo>
                    <a:pt x="0" y="3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632480" y="529596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626000" y="5392800"/>
              <a:ext cx="18000" cy="19440"/>
            </a:xfrm>
            <a:custGeom>
              <a:avLst/>
              <a:gdLst/>
              <a:ahLst/>
              <a:rect l="0" t="0" r="r" b="b"/>
              <a:pathLst>
                <a:path w="50" h="54">
                  <a:moveTo>
                    <a:pt x="0" y="18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5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 flipH="1">
              <a:off x="4578480" y="5378400"/>
              <a:ext cx="4752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 flipH="1">
              <a:off x="4578480" y="5398920"/>
              <a:ext cx="47520" cy="12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 flipH="1">
              <a:off x="4578480" y="5418000"/>
              <a:ext cx="4752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 flipH="1">
              <a:off x="4578480" y="5407200"/>
              <a:ext cx="4752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 flipH="1">
              <a:off x="4578480" y="5425920"/>
              <a:ext cx="4752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 flipH="1">
              <a:off x="4578480" y="5388120"/>
              <a:ext cx="47520" cy="1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626000" y="531828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8"/>
                  </a:moveTo>
                  <a:lnTo>
                    <a:pt x="50" y="0"/>
                  </a:lnTo>
                  <a:lnTo>
                    <a:pt x="50" y="36"/>
                  </a:lnTo>
                  <a:lnTo>
                    <a:pt x="0" y="5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626000" y="5356080"/>
              <a:ext cx="18000" cy="19440"/>
            </a:xfrm>
            <a:custGeom>
              <a:avLst/>
              <a:gdLst/>
              <a:ahLst/>
              <a:rect l="0" t="0" r="r" b="b"/>
              <a:pathLst>
                <a:path w="50" h="54">
                  <a:moveTo>
                    <a:pt x="0" y="18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5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594320" y="5462640"/>
              <a:ext cx="4680" cy="4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579920" y="5468760"/>
              <a:ext cx="324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540320" y="5305320"/>
              <a:ext cx="19440" cy="33840"/>
            </a:xfrm>
            <a:custGeom>
              <a:avLst/>
              <a:gdLst/>
              <a:ahLst/>
              <a:rect l="0" t="0" r="r" b="b"/>
              <a:pathLst>
                <a:path w="54" h="94">
                  <a:moveTo>
                    <a:pt x="0" y="0"/>
                  </a:moveTo>
                  <a:lnTo>
                    <a:pt x="0" y="81"/>
                  </a:lnTo>
                  <a:lnTo>
                    <a:pt x="54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545000" y="5318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14"/>
                  </a:moveTo>
                  <a:lnTo>
                    <a:pt x="0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303800" y="5246640"/>
              <a:ext cx="19440" cy="25920"/>
            </a:xfrm>
            <a:custGeom>
              <a:avLst/>
              <a:gdLst/>
              <a:ahLst/>
              <a:rect l="0" t="0" r="r" b="b"/>
              <a:pathLst>
                <a:path w="54" h="72">
                  <a:moveTo>
                    <a:pt x="54" y="0"/>
                  </a:moveTo>
                  <a:lnTo>
                    <a:pt x="54" y="72"/>
                  </a:lnTo>
                  <a:lnTo>
                    <a:pt x="0" y="5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309920" y="525312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5" y="23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448160" y="5432400"/>
              <a:ext cx="39960" cy="16200"/>
            </a:xfrm>
            <a:custGeom>
              <a:avLst/>
              <a:gdLst/>
              <a:ahLst/>
              <a:rect l="0" t="0" r="r" b="b"/>
              <a:pathLst>
                <a:path w="111" h="45">
                  <a:moveTo>
                    <a:pt x="8" y="0"/>
                  </a:moveTo>
                  <a:lnTo>
                    <a:pt x="4" y="4"/>
                  </a:lnTo>
                  <a:lnTo>
                    <a:pt x="0" y="8"/>
                  </a:lnTo>
                  <a:lnTo>
                    <a:pt x="4" y="13"/>
                  </a:lnTo>
                  <a:lnTo>
                    <a:pt x="17" y="17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5" y="36"/>
                  </a:lnTo>
                  <a:lnTo>
                    <a:pt x="93" y="40"/>
                  </a:lnTo>
                  <a:lnTo>
                    <a:pt x="106" y="45"/>
                  </a:lnTo>
                  <a:lnTo>
                    <a:pt x="111" y="3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662360" y="5479920"/>
              <a:ext cx="36720" cy="14760"/>
            </a:xfrm>
            <a:custGeom>
              <a:avLst/>
              <a:gdLst/>
              <a:ahLst/>
              <a:rect l="0" t="0" r="r" b="b"/>
              <a:pathLst>
                <a:path w="102" h="41">
                  <a:moveTo>
                    <a:pt x="48" y="0"/>
                  </a:moveTo>
                  <a:lnTo>
                    <a:pt x="0" y="14"/>
                  </a:lnTo>
                  <a:lnTo>
                    <a:pt x="53" y="41"/>
                  </a:lnTo>
                  <a:lnTo>
                    <a:pt x="102" y="18"/>
                  </a:lnTo>
                  <a:lnTo>
                    <a:pt x="5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692600" y="5430960"/>
              <a:ext cx="468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678200" y="5435640"/>
              <a:ext cx="468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299120" y="5235480"/>
              <a:ext cx="264960" cy="71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194000" y="5286240"/>
              <a:ext cx="105120" cy="89280"/>
            </a:xfrm>
            <a:custGeom>
              <a:avLst/>
              <a:gdLst/>
              <a:ahLst/>
              <a:rect l="0" t="0" r="r" b="b"/>
              <a:pathLst>
                <a:path w="292" h="248">
                  <a:moveTo>
                    <a:pt x="0" y="150"/>
                  </a:moveTo>
                  <a:lnTo>
                    <a:pt x="292" y="248"/>
                  </a:lnTo>
                  <a:lnTo>
                    <a:pt x="292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137120" y="5249880"/>
              <a:ext cx="60840" cy="89280"/>
            </a:xfrm>
            <a:custGeom>
              <a:avLst/>
              <a:gdLst/>
              <a:ahLst/>
              <a:rect l="0" t="0" r="r" b="b"/>
              <a:pathLst>
                <a:path w="169" h="248">
                  <a:moveTo>
                    <a:pt x="0" y="0"/>
                  </a:moveTo>
                  <a:lnTo>
                    <a:pt x="134" y="75"/>
                  </a:lnTo>
                  <a:lnTo>
                    <a:pt x="169" y="191"/>
                  </a:lnTo>
                  <a:lnTo>
                    <a:pt x="165" y="209"/>
                  </a:lnTo>
                  <a:lnTo>
                    <a:pt x="160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 flipH="1" flipV="1">
              <a:off x="4138560" y="526248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16320" y="5267160"/>
              <a:ext cx="27360" cy="14760"/>
            </a:xfrm>
            <a:custGeom>
              <a:avLst/>
              <a:gdLst/>
              <a:ahLst/>
              <a:rect l="0" t="0" r="r" b="b"/>
              <a:pathLst>
                <a:path w="76" h="41">
                  <a:moveTo>
                    <a:pt x="0" y="0"/>
                  </a:moveTo>
                  <a:lnTo>
                    <a:pt x="0" y="41"/>
                  </a:lnTo>
                  <a:lnTo>
                    <a:pt x="7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 flipH="1">
              <a:off x="4314960" y="5213520"/>
              <a:ext cx="9180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 flipH="1">
              <a:off x="4665600" y="5423040"/>
              <a:ext cx="33480" cy="10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H="1">
              <a:off x="4567320" y="5457960"/>
              <a:ext cx="33120" cy="10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676760" y="5442120"/>
              <a:ext cx="9720" cy="44640"/>
            </a:xfrm>
            <a:custGeom>
              <a:avLst/>
              <a:gdLst/>
              <a:ahLst/>
              <a:rect l="0" t="0" r="r" b="b"/>
              <a:pathLst>
                <a:path w="27" h="124">
                  <a:moveTo>
                    <a:pt x="0" y="8"/>
                  </a:moveTo>
                  <a:lnTo>
                    <a:pt x="0" y="35"/>
                  </a:lnTo>
                  <a:lnTo>
                    <a:pt x="0" y="61"/>
                  </a:lnTo>
                  <a:lnTo>
                    <a:pt x="4" y="75"/>
                  </a:lnTo>
                  <a:lnTo>
                    <a:pt x="8" y="93"/>
                  </a:lnTo>
                  <a:lnTo>
                    <a:pt x="8" y="98"/>
                  </a:lnTo>
                  <a:lnTo>
                    <a:pt x="8" y="111"/>
                  </a:lnTo>
                  <a:lnTo>
                    <a:pt x="4" y="111"/>
                  </a:lnTo>
                  <a:lnTo>
                    <a:pt x="4" y="120"/>
                  </a:lnTo>
                  <a:lnTo>
                    <a:pt x="4" y="124"/>
                  </a:lnTo>
                  <a:lnTo>
                    <a:pt x="8" y="124"/>
                  </a:lnTo>
                  <a:lnTo>
                    <a:pt x="14" y="124"/>
                  </a:lnTo>
                  <a:lnTo>
                    <a:pt x="18" y="124"/>
                  </a:lnTo>
                  <a:lnTo>
                    <a:pt x="23" y="120"/>
                  </a:lnTo>
                  <a:lnTo>
                    <a:pt x="18" y="111"/>
                  </a:lnTo>
                  <a:lnTo>
                    <a:pt x="18" y="93"/>
                  </a:lnTo>
                  <a:lnTo>
                    <a:pt x="27" y="67"/>
                  </a:lnTo>
                  <a:lnTo>
                    <a:pt x="27" y="44"/>
                  </a:lnTo>
                  <a:lnTo>
                    <a:pt x="27" y="0"/>
                  </a:lnTo>
                  <a:lnTo>
                    <a:pt x="14" y="4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622760" y="5438880"/>
              <a:ext cx="33840" cy="27360"/>
            </a:xfrm>
            <a:custGeom>
              <a:avLst/>
              <a:gdLst/>
              <a:ahLst/>
              <a:rect l="0" t="0" r="r" b="b"/>
              <a:pathLst>
                <a:path w="94" h="76">
                  <a:moveTo>
                    <a:pt x="94" y="0"/>
                  </a:moveTo>
                  <a:lnTo>
                    <a:pt x="94" y="4"/>
                  </a:lnTo>
                  <a:lnTo>
                    <a:pt x="94" y="13"/>
                  </a:lnTo>
                  <a:lnTo>
                    <a:pt x="94" y="17"/>
                  </a:lnTo>
                  <a:lnTo>
                    <a:pt x="90" y="27"/>
                  </a:lnTo>
                  <a:lnTo>
                    <a:pt x="90" y="31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1" y="49"/>
                  </a:lnTo>
                  <a:lnTo>
                    <a:pt x="81" y="53"/>
                  </a:lnTo>
                  <a:lnTo>
                    <a:pt x="76" y="53"/>
                  </a:lnTo>
                  <a:lnTo>
                    <a:pt x="76" y="59"/>
                  </a:lnTo>
                  <a:lnTo>
                    <a:pt x="72" y="63"/>
                  </a:lnTo>
                  <a:lnTo>
                    <a:pt x="67" y="68"/>
                  </a:lnTo>
                  <a:lnTo>
                    <a:pt x="62" y="68"/>
                  </a:lnTo>
                  <a:lnTo>
                    <a:pt x="58" y="68"/>
                  </a:lnTo>
                  <a:lnTo>
                    <a:pt x="53" y="72"/>
                  </a:lnTo>
                  <a:lnTo>
                    <a:pt x="45" y="76"/>
                  </a:lnTo>
                  <a:lnTo>
                    <a:pt x="40" y="76"/>
                  </a:lnTo>
                  <a:lnTo>
                    <a:pt x="36" y="76"/>
                  </a:lnTo>
                  <a:lnTo>
                    <a:pt x="31" y="76"/>
                  </a:lnTo>
                  <a:lnTo>
                    <a:pt x="13" y="76"/>
                  </a:lnTo>
                  <a:lnTo>
                    <a:pt x="4" y="72"/>
                  </a:lnTo>
                  <a:lnTo>
                    <a:pt x="13" y="53"/>
                  </a:lnTo>
                  <a:lnTo>
                    <a:pt x="8" y="49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608360" y="5442120"/>
              <a:ext cx="32040" cy="22680"/>
            </a:xfrm>
            <a:custGeom>
              <a:avLst/>
              <a:gdLst/>
              <a:ahLst/>
              <a:rect l="0" t="0" r="r" b="b"/>
              <a:pathLst>
                <a:path w="89" h="63">
                  <a:moveTo>
                    <a:pt x="89" y="0"/>
                  </a:moveTo>
                  <a:lnTo>
                    <a:pt x="89" y="8"/>
                  </a:lnTo>
                  <a:lnTo>
                    <a:pt x="84" y="18"/>
                  </a:lnTo>
                  <a:lnTo>
                    <a:pt x="84" y="23"/>
                  </a:lnTo>
                  <a:lnTo>
                    <a:pt x="84" y="27"/>
                  </a:lnTo>
                  <a:lnTo>
                    <a:pt x="80" y="36"/>
                  </a:lnTo>
                  <a:lnTo>
                    <a:pt x="75" y="40"/>
                  </a:lnTo>
                  <a:lnTo>
                    <a:pt x="71" y="45"/>
                  </a:lnTo>
                  <a:lnTo>
                    <a:pt x="67" y="50"/>
                  </a:lnTo>
                  <a:lnTo>
                    <a:pt x="67" y="54"/>
                  </a:lnTo>
                  <a:lnTo>
                    <a:pt x="58" y="54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63"/>
                  </a:lnTo>
                  <a:lnTo>
                    <a:pt x="35" y="63"/>
                  </a:lnTo>
                  <a:lnTo>
                    <a:pt x="26" y="59"/>
                  </a:lnTo>
                  <a:lnTo>
                    <a:pt x="22" y="59"/>
                  </a:lnTo>
                  <a:lnTo>
                    <a:pt x="17" y="59"/>
                  </a:lnTo>
                  <a:lnTo>
                    <a:pt x="17" y="54"/>
                  </a:lnTo>
                  <a:lnTo>
                    <a:pt x="8" y="54"/>
                  </a:lnTo>
                  <a:lnTo>
                    <a:pt x="4" y="50"/>
                  </a:lnTo>
                  <a:lnTo>
                    <a:pt x="4" y="45"/>
                  </a:lnTo>
                  <a:lnTo>
                    <a:pt x="0" y="36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618080" y="5448240"/>
              <a:ext cx="8280" cy="5040"/>
            </a:xfrm>
            <a:custGeom>
              <a:avLst/>
              <a:gdLst/>
              <a:ahLst/>
              <a:rect l="0" t="0" r="r" b="b"/>
              <a:pathLst>
                <a:path w="23" h="14">
                  <a:moveTo>
                    <a:pt x="23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8" y="14"/>
                  </a:lnTo>
                  <a:lnTo>
                    <a:pt x="4" y="9"/>
                  </a:lnTo>
                  <a:lnTo>
                    <a:pt x="0" y="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1" name="" descr=""/>
          <p:cNvPicPr/>
          <p:nvPr/>
        </p:nvPicPr>
        <p:blipFill>
          <a:blip r:embed="rId7"/>
          <a:stretch/>
        </p:blipFill>
        <p:spPr>
          <a:xfrm>
            <a:off x="7772400" y="4673520"/>
            <a:ext cx="374760" cy="423720"/>
          </a:xfrm>
          <a:prstGeom prst="rect">
            <a:avLst/>
          </a:prstGeom>
          <a:ln w="0">
            <a:noFill/>
          </a:ln>
        </p:spPr>
      </p:pic>
      <p:pic>
        <p:nvPicPr>
          <p:cNvPr id="4602" name="" descr=""/>
          <p:cNvPicPr/>
          <p:nvPr/>
        </p:nvPicPr>
        <p:blipFill>
          <a:blip r:embed="rId8"/>
          <a:stretch/>
        </p:blipFill>
        <p:spPr>
          <a:xfrm>
            <a:off x="7196040" y="4395960"/>
            <a:ext cx="457200" cy="290520"/>
          </a:xfrm>
          <a:prstGeom prst="rect">
            <a:avLst/>
          </a:prstGeom>
          <a:ln w="0">
            <a:noFill/>
          </a:ln>
        </p:spPr>
      </p:pic>
      <p:grpSp>
        <p:nvGrpSpPr>
          <p:cNvPr id="4603" name=""/>
          <p:cNvGrpSpPr/>
          <p:nvPr/>
        </p:nvGrpSpPr>
        <p:grpSpPr>
          <a:xfrm>
            <a:off x="6730920" y="5334120"/>
            <a:ext cx="584280" cy="257040"/>
            <a:chOff x="6730920" y="5334120"/>
            <a:chExt cx="584280" cy="257040"/>
          </a:xfrm>
        </p:grpSpPr>
        <p:sp>
          <p:nvSpPr>
            <p:cNvPr id="4604" name=""/>
            <p:cNvSpPr/>
            <p:nvPr/>
          </p:nvSpPr>
          <p:spPr>
            <a:xfrm>
              <a:off x="7005600" y="5391000"/>
              <a:ext cx="9720" cy="100440"/>
            </a:xfrm>
            <a:custGeom>
              <a:avLst/>
              <a:gdLst/>
              <a:ahLst/>
              <a:rect l="0" t="0" r="r" b="b"/>
              <a:pathLst>
                <a:path w="27" h="279">
                  <a:moveTo>
                    <a:pt x="18" y="0"/>
                  </a:moveTo>
                  <a:lnTo>
                    <a:pt x="27" y="279"/>
                  </a:lnTo>
                  <a:lnTo>
                    <a:pt x="0" y="279"/>
                  </a:lnTo>
                  <a:lnTo>
                    <a:pt x="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7007400" y="5391000"/>
              <a:ext cx="8280" cy="100440"/>
            </a:xfrm>
            <a:custGeom>
              <a:avLst/>
              <a:gdLst/>
              <a:ahLst/>
              <a:rect l="0" t="0" r="r" b="b"/>
              <a:pathLst>
                <a:path w="23" h="279">
                  <a:moveTo>
                    <a:pt x="5" y="0"/>
                  </a:moveTo>
                  <a:lnTo>
                    <a:pt x="14" y="0"/>
                  </a:lnTo>
                  <a:lnTo>
                    <a:pt x="23" y="279"/>
                  </a:lnTo>
                  <a:lnTo>
                    <a:pt x="0" y="27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7007400" y="5391000"/>
              <a:ext cx="6840" cy="100440"/>
            </a:xfrm>
            <a:custGeom>
              <a:avLst/>
              <a:gdLst/>
              <a:ahLst/>
              <a:rect l="0" t="0" r="r" b="b"/>
              <a:pathLst>
                <a:path w="19" h="279">
                  <a:moveTo>
                    <a:pt x="4" y="0"/>
                  </a:moveTo>
                  <a:lnTo>
                    <a:pt x="11" y="0"/>
                  </a:lnTo>
                  <a:lnTo>
                    <a:pt x="19" y="279"/>
                  </a:lnTo>
                  <a:lnTo>
                    <a:pt x="0" y="27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7008840" y="5391000"/>
              <a:ext cx="5040" cy="100440"/>
            </a:xfrm>
            <a:custGeom>
              <a:avLst/>
              <a:gdLst/>
              <a:ahLst/>
              <a:rect l="0" t="0" r="r" b="b"/>
              <a:pathLst>
                <a:path w="14" h="279">
                  <a:moveTo>
                    <a:pt x="3" y="0"/>
                  </a:moveTo>
                  <a:lnTo>
                    <a:pt x="9" y="0"/>
                  </a:lnTo>
                  <a:lnTo>
                    <a:pt x="14" y="279"/>
                  </a:lnTo>
                  <a:lnTo>
                    <a:pt x="0" y="27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7008840" y="539100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3" y="0"/>
                  </a:moveTo>
                  <a:lnTo>
                    <a:pt x="6" y="0"/>
                  </a:lnTo>
                  <a:lnTo>
                    <a:pt x="10" y="279"/>
                  </a:lnTo>
                  <a:lnTo>
                    <a:pt x="0" y="27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010280" y="5391000"/>
              <a:ext cx="1800" cy="100440"/>
            </a:xfrm>
            <a:custGeom>
              <a:avLst/>
              <a:gdLst/>
              <a:ahLst/>
              <a:rect l="0" t="0" r="r" b="b"/>
              <a:pathLst>
                <a:path w="5" h="279">
                  <a:moveTo>
                    <a:pt x="1" y="0"/>
                  </a:moveTo>
                  <a:lnTo>
                    <a:pt x="3" y="0"/>
                  </a:lnTo>
                  <a:lnTo>
                    <a:pt x="5" y="279"/>
                  </a:lnTo>
                  <a:lnTo>
                    <a:pt x="0" y="27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7010280" y="5391000"/>
              <a:ext cx="0" cy="99720"/>
            </a:xfrm>
            <a:custGeom>
              <a:avLst/>
              <a:gdLst/>
              <a:ahLst/>
              <a:rect l="0" t="0" r="r" b="b"/>
              <a:pathLst>
                <a:path w="0" h="277">
                  <a:moveTo>
                    <a:pt x="0" y="0"/>
                  </a:moveTo>
                  <a:lnTo>
                    <a:pt x="0" y="0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8600" bIns="48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7010280" y="5391000"/>
              <a:ext cx="1800" cy="100440"/>
            </a:xfrm>
            <a:custGeom>
              <a:avLst/>
              <a:gdLst/>
              <a:ahLst/>
              <a:rect l="0" t="0" r="r" b="b"/>
              <a:pathLst>
                <a:path w="5" h="279">
                  <a:moveTo>
                    <a:pt x="1" y="0"/>
                  </a:moveTo>
                  <a:lnTo>
                    <a:pt x="0" y="279"/>
                  </a:lnTo>
                  <a:lnTo>
                    <a:pt x="5" y="279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005600" y="5391000"/>
              <a:ext cx="16200" cy="105120"/>
            </a:xfrm>
            <a:custGeom>
              <a:avLst/>
              <a:gdLst/>
              <a:ahLst/>
              <a:rect l="0" t="0" r="r" b="b"/>
              <a:pathLst>
                <a:path w="45" h="292">
                  <a:moveTo>
                    <a:pt x="29" y="0"/>
                  </a:moveTo>
                  <a:lnTo>
                    <a:pt x="45" y="292"/>
                  </a:lnTo>
                  <a:lnTo>
                    <a:pt x="0" y="292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6959520" y="5445000"/>
              <a:ext cx="44640" cy="18000"/>
            </a:xfrm>
            <a:custGeom>
              <a:avLst/>
              <a:gdLst/>
              <a:ahLst/>
              <a:rect l="0" t="0" r="r" b="b"/>
              <a:pathLst>
                <a:path w="124" h="50">
                  <a:moveTo>
                    <a:pt x="0" y="0"/>
                  </a:moveTo>
                  <a:lnTo>
                    <a:pt x="49" y="50"/>
                  </a:lnTo>
                  <a:lnTo>
                    <a:pt x="12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6959520" y="5445000"/>
              <a:ext cx="49680" cy="24120"/>
            </a:xfrm>
            <a:custGeom>
              <a:avLst/>
              <a:gdLst/>
              <a:ahLst/>
              <a:rect l="0" t="0" r="r" b="b"/>
              <a:pathLst>
                <a:path w="138" h="67">
                  <a:moveTo>
                    <a:pt x="0" y="0"/>
                  </a:moveTo>
                  <a:lnTo>
                    <a:pt x="55" y="67"/>
                  </a:lnTo>
                  <a:lnTo>
                    <a:pt x="138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H="1">
              <a:off x="6873840" y="5487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H="1">
              <a:off x="6873840" y="549108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6956280" y="5451480"/>
              <a:ext cx="78120" cy="54360"/>
            </a:xfrm>
            <a:custGeom>
              <a:avLst/>
              <a:gdLst/>
              <a:ahLst/>
              <a:rect l="0" t="0" r="r" b="b"/>
              <a:pathLst>
                <a:path w="217" h="151">
                  <a:moveTo>
                    <a:pt x="0" y="115"/>
                  </a:moveTo>
                  <a:lnTo>
                    <a:pt x="37" y="13"/>
                  </a:lnTo>
                  <a:lnTo>
                    <a:pt x="137" y="0"/>
                  </a:lnTo>
                  <a:lnTo>
                    <a:pt x="217" y="151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6958080" y="5451480"/>
              <a:ext cx="73440" cy="54360"/>
            </a:xfrm>
            <a:custGeom>
              <a:avLst/>
              <a:gdLst/>
              <a:ahLst/>
              <a:rect l="0" t="0" r="r" b="b"/>
              <a:pathLst>
                <a:path w="204" h="151">
                  <a:moveTo>
                    <a:pt x="35" y="13"/>
                  </a:moveTo>
                  <a:lnTo>
                    <a:pt x="130" y="0"/>
                  </a:lnTo>
                  <a:lnTo>
                    <a:pt x="204" y="151"/>
                  </a:lnTo>
                  <a:lnTo>
                    <a:pt x="0" y="115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6959520" y="5452920"/>
              <a:ext cx="66960" cy="51120"/>
            </a:xfrm>
            <a:custGeom>
              <a:avLst/>
              <a:gdLst/>
              <a:ahLst/>
              <a:rect l="0" t="0" r="r" b="b"/>
              <a:pathLst>
                <a:path w="186" h="142">
                  <a:moveTo>
                    <a:pt x="34" y="11"/>
                  </a:moveTo>
                  <a:lnTo>
                    <a:pt x="121" y="0"/>
                  </a:lnTo>
                  <a:lnTo>
                    <a:pt x="186" y="142"/>
                  </a:lnTo>
                  <a:lnTo>
                    <a:pt x="0" y="110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6962760" y="5452920"/>
              <a:ext cx="60840" cy="51120"/>
            </a:xfrm>
            <a:custGeom>
              <a:avLst/>
              <a:gdLst/>
              <a:ahLst/>
              <a:rect l="0" t="0" r="r" b="b"/>
              <a:pathLst>
                <a:path w="169" h="142">
                  <a:moveTo>
                    <a:pt x="29" y="11"/>
                  </a:moveTo>
                  <a:lnTo>
                    <a:pt x="108" y="0"/>
                  </a:lnTo>
                  <a:lnTo>
                    <a:pt x="169" y="142"/>
                  </a:lnTo>
                  <a:lnTo>
                    <a:pt x="0" y="112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6964200" y="5452920"/>
              <a:ext cx="55800" cy="51120"/>
            </a:xfrm>
            <a:custGeom>
              <a:avLst/>
              <a:gdLst/>
              <a:ahLst/>
              <a:rect l="0" t="0" r="r" b="b"/>
              <a:pathLst>
                <a:path w="155" h="142">
                  <a:moveTo>
                    <a:pt x="29" y="11"/>
                  </a:moveTo>
                  <a:lnTo>
                    <a:pt x="100" y="0"/>
                  </a:lnTo>
                  <a:lnTo>
                    <a:pt x="155" y="142"/>
                  </a:lnTo>
                  <a:lnTo>
                    <a:pt x="0" y="114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6966000" y="5454720"/>
              <a:ext cx="51120" cy="47880"/>
            </a:xfrm>
            <a:custGeom>
              <a:avLst/>
              <a:gdLst/>
              <a:ahLst/>
              <a:rect l="0" t="0" r="r" b="b"/>
              <a:pathLst>
                <a:path w="142" h="133">
                  <a:moveTo>
                    <a:pt x="27" y="6"/>
                  </a:moveTo>
                  <a:lnTo>
                    <a:pt x="92" y="0"/>
                  </a:lnTo>
                  <a:lnTo>
                    <a:pt x="142" y="133"/>
                  </a:lnTo>
                  <a:lnTo>
                    <a:pt x="0" y="109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6969240" y="5454720"/>
              <a:ext cx="44640" cy="47880"/>
            </a:xfrm>
            <a:custGeom>
              <a:avLst/>
              <a:gdLst/>
              <a:ahLst/>
              <a:rect l="0" t="0" r="r" b="b"/>
              <a:pathLst>
                <a:path w="124" h="133">
                  <a:moveTo>
                    <a:pt x="22" y="6"/>
                  </a:moveTo>
                  <a:lnTo>
                    <a:pt x="81" y="0"/>
                  </a:lnTo>
                  <a:lnTo>
                    <a:pt x="124" y="133"/>
                  </a:lnTo>
                  <a:lnTo>
                    <a:pt x="0" y="110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6970680" y="545472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0" y="113"/>
                  </a:moveTo>
                  <a:lnTo>
                    <a:pt x="22" y="6"/>
                  </a:lnTo>
                  <a:lnTo>
                    <a:pt x="75" y="0"/>
                  </a:lnTo>
                  <a:lnTo>
                    <a:pt x="111" y="13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6956280" y="5451480"/>
              <a:ext cx="82800" cy="59040"/>
            </a:xfrm>
            <a:custGeom>
              <a:avLst/>
              <a:gdLst/>
              <a:ahLst/>
              <a:rect l="0" t="0" r="r" b="b"/>
              <a:pathLst>
                <a:path w="230" h="164">
                  <a:moveTo>
                    <a:pt x="0" y="123"/>
                  </a:moveTo>
                  <a:lnTo>
                    <a:pt x="39" y="15"/>
                  </a:lnTo>
                  <a:lnTo>
                    <a:pt x="145" y="0"/>
                  </a:lnTo>
                  <a:lnTo>
                    <a:pt x="230" y="164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6869160" y="5491080"/>
              <a:ext cx="90720" cy="12960"/>
            </a:xfrm>
            <a:custGeom>
              <a:avLst/>
              <a:gdLst/>
              <a:ahLst/>
              <a:rect l="0" t="0" r="r" b="b"/>
              <a:pathLst>
                <a:path w="252" h="36">
                  <a:moveTo>
                    <a:pt x="14" y="1"/>
                  </a:moveTo>
                  <a:lnTo>
                    <a:pt x="252" y="0"/>
                  </a:lnTo>
                  <a:lnTo>
                    <a:pt x="247" y="36"/>
                  </a:lnTo>
                  <a:lnTo>
                    <a:pt x="0" y="34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6869160" y="5491080"/>
              <a:ext cx="95760" cy="18000"/>
            </a:xfrm>
            <a:custGeom>
              <a:avLst/>
              <a:gdLst/>
              <a:ahLst/>
              <a:rect l="0" t="0" r="r" b="b"/>
              <a:pathLst>
                <a:path w="266" h="50">
                  <a:moveTo>
                    <a:pt x="14" y="2"/>
                  </a:moveTo>
                  <a:lnTo>
                    <a:pt x="266" y="0"/>
                  </a:lnTo>
                  <a:lnTo>
                    <a:pt x="261" y="50"/>
                  </a:lnTo>
                  <a:lnTo>
                    <a:pt x="0" y="4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6811920" y="5556240"/>
              <a:ext cx="5040" cy="18000"/>
            </a:xfrm>
            <a:custGeom>
              <a:avLst/>
              <a:gdLst/>
              <a:ahLst/>
              <a:rect l="0" t="0" r="r" b="b"/>
              <a:pathLst>
                <a:path w="14" h="50">
                  <a:moveTo>
                    <a:pt x="1" y="8"/>
                  </a:move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6811920" y="5556240"/>
              <a:ext cx="9720" cy="22680"/>
            </a:xfrm>
            <a:custGeom>
              <a:avLst/>
              <a:gdLst/>
              <a:ahLst/>
              <a:rect l="0" t="0" r="r" b="b"/>
              <a:pathLst>
                <a:path w="27" h="63">
                  <a:moveTo>
                    <a:pt x="2" y="10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27" y="5"/>
                  </a:lnTo>
                  <a:lnTo>
                    <a:pt x="15" y="63"/>
                  </a:lnTo>
                  <a:lnTo>
                    <a:pt x="9" y="63"/>
                  </a:lnTo>
                  <a:lnTo>
                    <a:pt x="7" y="63"/>
                  </a:lnTo>
                  <a:lnTo>
                    <a:pt x="2" y="61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6850080" y="5568840"/>
              <a:ext cx="149760" cy="12960"/>
            </a:xfrm>
            <a:custGeom>
              <a:avLst/>
              <a:gdLst/>
              <a:ahLst/>
              <a:rect l="0" t="0" r="r" b="b"/>
              <a:pathLst>
                <a:path w="416" h="36">
                  <a:moveTo>
                    <a:pt x="416" y="32"/>
                  </a:moveTo>
                  <a:lnTo>
                    <a:pt x="100" y="32"/>
                  </a:lnTo>
                  <a:lnTo>
                    <a:pt x="98" y="32"/>
                  </a:lnTo>
                  <a:lnTo>
                    <a:pt x="91" y="34"/>
                  </a:lnTo>
                  <a:lnTo>
                    <a:pt x="79" y="34"/>
                  </a:lnTo>
                  <a:lnTo>
                    <a:pt x="67" y="36"/>
                  </a:lnTo>
                  <a:lnTo>
                    <a:pt x="52" y="34"/>
                  </a:lnTo>
                  <a:lnTo>
                    <a:pt x="38" y="32"/>
                  </a:lnTo>
                  <a:lnTo>
                    <a:pt x="23" y="29"/>
                  </a:lnTo>
                  <a:lnTo>
                    <a:pt x="11" y="23"/>
                  </a:lnTo>
                  <a:lnTo>
                    <a:pt x="2" y="12"/>
                  </a:lnTo>
                  <a:lnTo>
                    <a:pt x="0" y="0"/>
                  </a:lnTo>
                  <a:lnTo>
                    <a:pt x="378" y="10"/>
                  </a:lnTo>
                  <a:lnTo>
                    <a:pt x="416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6850080" y="5568840"/>
              <a:ext cx="154440" cy="18000"/>
            </a:xfrm>
            <a:custGeom>
              <a:avLst/>
              <a:gdLst/>
              <a:ahLst/>
              <a:rect l="0" t="0" r="r" b="b"/>
              <a:pathLst>
                <a:path w="429" h="50">
                  <a:moveTo>
                    <a:pt x="429" y="45"/>
                  </a:moveTo>
                  <a:lnTo>
                    <a:pt x="103" y="45"/>
                  </a:lnTo>
                  <a:lnTo>
                    <a:pt x="101" y="45"/>
                  </a:lnTo>
                  <a:lnTo>
                    <a:pt x="93" y="48"/>
                  </a:lnTo>
                  <a:lnTo>
                    <a:pt x="81" y="48"/>
                  </a:lnTo>
                  <a:lnTo>
                    <a:pt x="69" y="50"/>
                  </a:lnTo>
                  <a:lnTo>
                    <a:pt x="54" y="48"/>
                  </a:lnTo>
                  <a:lnTo>
                    <a:pt x="39" y="45"/>
                  </a:lnTo>
                  <a:lnTo>
                    <a:pt x="24" y="40"/>
                  </a:lnTo>
                  <a:lnTo>
                    <a:pt x="12" y="32"/>
                  </a:lnTo>
                  <a:lnTo>
                    <a:pt x="2" y="17"/>
                  </a:lnTo>
                  <a:lnTo>
                    <a:pt x="0" y="0"/>
                  </a:lnTo>
                  <a:lnTo>
                    <a:pt x="390" y="15"/>
                  </a:lnTo>
                  <a:lnTo>
                    <a:pt x="429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7159680" y="5477040"/>
              <a:ext cx="8280" cy="12960"/>
            </a:xfrm>
            <a:custGeom>
              <a:avLst/>
              <a:gdLst/>
              <a:ahLst/>
              <a:rect l="0" t="0" r="r" b="b"/>
              <a:pathLst>
                <a:path w="23" h="36">
                  <a:moveTo>
                    <a:pt x="9" y="1"/>
                  </a:move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159680" y="5477040"/>
              <a:ext cx="12960" cy="19440"/>
            </a:xfrm>
            <a:custGeom>
              <a:avLst/>
              <a:gdLst/>
              <a:ahLst/>
              <a:rect l="0" t="0" r="r" b="b"/>
              <a:pathLst>
                <a:path w="36" h="54">
                  <a:moveTo>
                    <a:pt x="15" y="2"/>
                  </a:moveTo>
                  <a:lnTo>
                    <a:pt x="12" y="5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5" y="36"/>
                  </a:lnTo>
                  <a:lnTo>
                    <a:pt x="7" y="31"/>
                  </a:lnTo>
                  <a:lnTo>
                    <a:pt x="12" y="23"/>
                  </a:lnTo>
                  <a:lnTo>
                    <a:pt x="15" y="16"/>
                  </a:lnTo>
                  <a:lnTo>
                    <a:pt x="21" y="7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7164360" y="547200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5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7164360" y="54738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14" y="10"/>
                  </a:moveTo>
                  <a:lnTo>
                    <a:pt x="19" y="10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149960" y="546264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7161120" y="547848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31" y="0"/>
                  </a:moveTo>
                  <a:lnTo>
                    <a:pt x="25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2" y="57"/>
                  </a:lnTo>
                  <a:lnTo>
                    <a:pt x="17" y="59"/>
                  </a:lnTo>
                  <a:lnTo>
                    <a:pt x="21" y="61"/>
                  </a:lnTo>
                  <a:lnTo>
                    <a:pt x="25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40" y="61"/>
                  </a:lnTo>
                  <a:lnTo>
                    <a:pt x="46" y="59"/>
                  </a:lnTo>
                  <a:lnTo>
                    <a:pt x="51" y="57"/>
                  </a:lnTo>
                  <a:lnTo>
                    <a:pt x="53" y="55"/>
                  </a:lnTo>
                  <a:lnTo>
                    <a:pt x="57" y="51"/>
                  </a:lnTo>
                  <a:lnTo>
                    <a:pt x="59" y="46"/>
                  </a:lnTo>
                  <a:lnTo>
                    <a:pt x="61" y="42"/>
                  </a:lnTo>
                  <a:lnTo>
                    <a:pt x="61" y="35"/>
                  </a:lnTo>
                  <a:lnTo>
                    <a:pt x="63" y="31"/>
                  </a:lnTo>
                  <a:lnTo>
                    <a:pt x="61" y="27"/>
                  </a:lnTo>
                  <a:lnTo>
                    <a:pt x="61" y="21"/>
                  </a:lnTo>
                  <a:lnTo>
                    <a:pt x="59" y="17"/>
                  </a:lnTo>
                  <a:lnTo>
                    <a:pt x="57" y="12"/>
                  </a:lnTo>
                  <a:lnTo>
                    <a:pt x="53" y="8"/>
                  </a:lnTo>
                  <a:lnTo>
                    <a:pt x="51" y="6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7161120" y="5478480"/>
              <a:ext cx="27360" cy="27360"/>
            </a:xfrm>
            <a:custGeom>
              <a:avLst/>
              <a:gdLst/>
              <a:ahLst/>
              <a:rect l="0" t="0" r="r" b="b"/>
              <a:pathLst>
                <a:path w="76" h="76">
                  <a:moveTo>
                    <a:pt x="38" y="0"/>
                  </a:move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9"/>
                  </a:lnTo>
                  <a:lnTo>
                    <a:pt x="7" y="14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2" y="50"/>
                  </a:lnTo>
                  <a:lnTo>
                    <a:pt x="4" y="55"/>
                  </a:lnTo>
                  <a:lnTo>
                    <a:pt x="7" y="61"/>
                  </a:lnTo>
                  <a:lnTo>
                    <a:pt x="9" y="66"/>
                  </a:lnTo>
                  <a:lnTo>
                    <a:pt x="14" y="69"/>
                  </a:lnTo>
                  <a:lnTo>
                    <a:pt x="20" y="71"/>
                  </a:lnTo>
                  <a:lnTo>
                    <a:pt x="25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3" y="76"/>
                  </a:lnTo>
                  <a:lnTo>
                    <a:pt x="48" y="74"/>
                  </a:lnTo>
                  <a:lnTo>
                    <a:pt x="55" y="71"/>
                  </a:lnTo>
                  <a:lnTo>
                    <a:pt x="61" y="69"/>
                  </a:lnTo>
                  <a:lnTo>
                    <a:pt x="64" y="66"/>
                  </a:lnTo>
                  <a:lnTo>
                    <a:pt x="69" y="61"/>
                  </a:lnTo>
                  <a:lnTo>
                    <a:pt x="71" y="55"/>
                  </a:lnTo>
                  <a:lnTo>
                    <a:pt x="74" y="50"/>
                  </a:lnTo>
                  <a:lnTo>
                    <a:pt x="74" y="43"/>
                  </a:lnTo>
                  <a:lnTo>
                    <a:pt x="76" y="38"/>
                  </a:lnTo>
                  <a:lnTo>
                    <a:pt x="74" y="33"/>
                  </a:lnTo>
                  <a:lnTo>
                    <a:pt x="74" y="25"/>
                  </a:lnTo>
                  <a:lnTo>
                    <a:pt x="71" y="20"/>
                  </a:lnTo>
                  <a:lnTo>
                    <a:pt x="69" y="14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5" y="4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6994440" y="5367240"/>
              <a:ext cx="12960" cy="84600"/>
            </a:xfrm>
            <a:custGeom>
              <a:avLst/>
              <a:gdLst/>
              <a:ahLst/>
              <a:rect l="0" t="0" r="r" b="b"/>
              <a:pathLst>
                <a:path w="36" h="235">
                  <a:moveTo>
                    <a:pt x="23" y="0"/>
                  </a:moveTo>
                  <a:lnTo>
                    <a:pt x="21" y="7"/>
                  </a:lnTo>
                  <a:lnTo>
                    <a:pt x="15" y="19"/>
                  </a:lnTo>
                  <a:lnTo>
                    <a:pt x="10" y="34"/>
                  </a:lnTo>
                  <a:lnTo>
                    <a:pt x="5" y="52"/>
                  </a:lnTo>
                  <a:lnTo>
                    <a:pt x="2" y="75"/>
                  </a:lnTo>
                  <a:lnTo>
                    <a:pt x="0" y="100"/>
                  </a:lnTo>
                  <a:lnTo>
                    <a:pt x="2" y="130"/>
                  </a:lnTo>
                  <a:lnTo>
                    <a:pt x="10" y="162"/>
                  </a:lnTo>
                  <a:lnTo>
                    <a:pt x="21" y="198"/>
                  </a:lnTo>
                  <a:lnTo>
                    <a:pt x="36" y="23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 flipV="1">
              <a:off x="7040520" y="5467320"/>
              <a:ext cx="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V="1">
              <a:off x="6977160" y="5467320"/>
              <a:ext cx="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 flipV="1">
              <a:off x="6986520" y="5467320"/>
              <a:ext cx="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 flipH="1">
              <a:off x="6977160" y="546876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H="1">
              <a:off x="6977160" y="547200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 flipH="1">
              <a:off x="6977160" y="54752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962760" y="5446800"/>
              <a:ext cx="192600" cy="79560"/>
            </a:xfrm>
            <a:custGeom>
              <a:avLst/>
              <a:gdLst/>
              <a:ahLst/>
              <a:rect l="0" t="0" r="r" b="b"/>
              <a:pathLst>
                <a:path w="535" h="221">
                  <a:moveTo>
                    <a:pt x="506" y="33"/>
                  </a:moveTo>
                  <a:lnTo>
                    <a:pt x="525" y="0"/>
                  </a:lnTo>
                  <a:lnTo>
                    <a:pt x="325" y="0"/>
                  </a:lnTo>
                  <a:lnTo>
                    <a:pt x="325" y="87"/>
                  </a:lnTo>
                  <a:lnTo>
                    <a:pt x="36" y="87"/>
                  </a:lnTo>
                  <a:lnTo>
                    <a:pt x="0" y="164"/>
                  </a:lnTo>
                  <a:lnTo>
                    <a:pt x="535" y="221"/>
                  </a:lnTo>
                  <a:lnTo>
                    <a:pt x="506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6962760" y="5446800"/>
              <a:ext cx="197280" cy="84600"/>
            </a:xfrm>
            <a:custGeom>
              <a:avLst/>
              <a:gdLst/>
              <a:ahLst/>
              <a:rect l="0" t="0" r="r" b="b"/>
              <a:pathLst>
                <a:path w="548" h="235">
                  <a:moveTo>
                    <a:pt x="518" y="35"/>
                  </a:moveTo>
                  <a:lnTo>
                    <a:pt x="538" y="0"/>
                  </a:lnTo>
                  <a:lnTo>
                    <a:pt x="334" y="0"/>
                  </a:lnTo>
                  <a:lnTo>
                    <a:pt x="334" y="93"/>
                  </a:lnTo>
                  <a:lnTo>
                    <a:pt x="37" y="93"/>
                  </a:lnTo>
                  <a:lnTo>
                    <a:pt x="0" y="174"/>
                  </a:lnTo>
                  <a:lnTo>
                    <a:pt x="548" y="235"/>
                  </a:lnTo>
                  <a:lnTo>
                    <a:pt x="518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6999120" y="538308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5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999120" y="5383080"/>
              <a:ext cx="16200" cy="8280"/>
            </a:xfrm>
            <a:custGeom>
              <a:avLst/>
              <a:gdLst/>
              <a:ahLst/>
              <a:rect l="0" t="0" r="r" b="b"/>
              <a:pathLst>
                <a:path w="45" h="23">
                  <a:moveTo>
                    <a:pt x="45" y="2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9" y="17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5" y="23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V="1">
              <a:off x="7012080" y="535320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V="1">
              <a:off x="7012080" y="535320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7012080" y="5367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4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7012080" y="53690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0" y="1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7005600" y="537516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3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005600" y="5375160"/>
              <a:ext cx="8280" cy="5040"/>
            </a:xfrm>
            <a:custGeom>
              <a:avLst/>
              <a:gdLst/>
              <a:ahLst/>
              <a:rect l="0" t="0" r="r" b="b"/>
              <a:pathLst>
                <a:path w="23" h="14">
                  <a:moveTo>
                    <a:pt x="20" y="0"/>
                  </a:moveTo>
                  <a:lnTo>
                    <a:pt x="18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3" y="11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002360" y="53640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3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14" y="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7002360" y="53658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2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6986520" y="536904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2" y="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016760" y="5408640"/>
              <a:ext cx="12960" cy="3600"/>
            </a:xfrm>
            <a:custGeom>
              <a:avLst/>
              <a:gdLst/>
              <a:ahLst/>
              <a:rect l="0" t="0" r="r" b="b"/>
              <a:pathLst>
                <a:path w="36" h="10">
                  <a:moveTo>
                    <a:pt x="0" y="1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22" y="5"/>
                  </a:lnTo>
                  <a:lnTo>
                    <a:pt x="27" y="5"/>
                  </a:lnTo>
                  <a:lnTo>
                    <a:pt x="32" y="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016760" y="5408640"/>
              <a:ext cx="18000" cy="8280"/>
            </a:xfrm>
            <a:custGeom>
              <a:avLst/>
              <a:gdLst/>
              <a:ahLst/>
              <a:rect l="0" t="0" r="r" b="b"/>
              <a:pathLst>
                <a:path w="50" h="23">
                  <a:moveTo>
                    <a:pt x="0" y="23"/>
                  </a:move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7" y="12"/>
                  </a:lnTo>
                  <a:lnTo>
                    <a:pt x="22" y="12"/>
                  </a:lnTo>
                  <a:lnTo>
                    <a:pt x="30" y="12"/>
                  </a:lnTo>
                  <a:lnTo>
                    <a:pt x="38" y="12"/>
                  </a:lnTo>
                  <a:lnTo>
                    <a:pt x="45" y="12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020000" y="539424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020000" y="5396040"/>
              <a:ext cx="12960" cy="3600"/>
            </a:xfrm>
            <a:custGeom>
              <a:avLst/>
              <a:gdLst/>
              <a:ahLst/>
              <a:rect l="0" t="0" r="r" b="b"/>
              <a:pathLst>
                <a:path w="36" h="10">
                  <a:moveTo>
                    <a:pt x="36" y="1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015320" y="54021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55" y="19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016760" y="540540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026120" y="5402160"/>
              <a:ext cx="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023240" y="540072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4" y="0"/>
                  </a:moveTo>
                  <a:lnTo>
                    <a:pt x="4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023240" y="540072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9" y="0"/>
                  </a:moveTo>
                  <a:lnTo>
                    <a:pt x="9" y="8"/>
                  </a:lnTo>
                  <a:lnTo>
                    <a:pt x="7" y="12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23" y="17"/>
                  </a:lnTo>
                  <a:lnTo>
                    <a:pt x="20" y="14"/>
                  </a:lnTo>
                  <a:lnTo>
                    <a:pt x="18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129440" y="543708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0"/>
                  </a:moveTo>
                  <a:lnTo>
                    <a:pt x="1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129440" y="54370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7102440" y="54500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7116840" y="5450040"/>
              <a:ext cx="9720" cy="1800"/>
            </a:xfrm>
            <a:custGeom>
              <a:avLst/>
              <a:gdLst/>
              <a:ahLst/>
              <a:rect l="0" t="0" r="r" b="b"/>
              <a:pathLst>
                <a:path w="27" h="5">
                  <a:moveTo>
                    <a:pt x="20" y="5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130880" y="545004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33" y="5"/>
                  </a:moveTo>
                  <a:lnTo>
                    <a:pt x="45" y="0"/>
                  </a:lnTo>
                  <a:lnTo>
                    <a:pt x="7" y="0"/>
                  </a:lnTo>
                  <a:lnTo>
                    <a:pt x="0" y="5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045200" y="54738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14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7045200" y="5473800"/>
              <a:ext cx="9720" cy="6840"/>
            </a:xfrm>
            <a:custGeom>
              <a:avLst/>
              <a:gdLst/>
              <a:ahLst/>
              <a:rect l="0" t="0" r="r" b="b"/>
              <a:pathLst>
                <a:path w="27" h="19">
                  <a:moveTo>
                    <a:pt x="27" y="0"/>
                  </a:moveTo>
                  <a:lnTo>
                    <a:pt x="27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 flipV="1">
              <a:off x="7050240" y="537696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 flipV="1">
              <a:off x="7134120" y="53402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 flipV="1">
              <a:off x="7080120" y="540720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 flipV="1">
              <a:off x="7151760" y="54259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077240" y="544680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094520" y="5460840"/>
              <a:ext cx="24120" cy="41760"/>
            </a:xfrm>
            <a:custGeom>
              <a:avLst/>
              <a:gdLst/>
              <a:ahLst/>
              <a:rect l="0" t="0" r="r" b="b"/>
              <a:pathLst>
                <a:path w="67" h="116">
                  <a:moveTo>
                    <a:pt x="0" y="116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67" y="34"/>
                  </a:lnTo>
                  <a:lnTo>
                    <a:pt x="67" y="114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094520" y="5460840"/>
              <a:ext cx="30600" cy="46440"/>
            </a:xfrm>
            <a:custGeom>
              <a:avLst/>
              <a:gdLst/>
              <a:ahLst/>
              <a:rect l="0" t="0" r="r" b="b"/>
              <a:pathLst>
                <a:path w="85" h="129">
                  <a:moveTo>
                    <a:pt x="0" y="129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85" y="38"/>
                  </a:lnTo>
                  <a:lnTo>
                    <a:pt x="85" y="127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094520" y="5475240"/>
              <a:ext cx="43200" cy="32040"/>
            </a:xfrm>
            <a:custGeom>
              <a:avLst/>
              <a:gdLst/>
              <a:ahLst/>
              <a:rect l="0" t="0" r="r" b="b"/>
              <a:pathLst>
                <a:path w="120" h="89">
                  <a:moveTo>
                    <a:pt x="0" y="0"/>
                  </a:moveTo>
                  <a:lnTo>
                    <a:pt x="103" y="0"/>
                  </a:lnTo>
                  <a:lnTo>
                    <a:pt x="120" y="42"/>
                  </a:lnTo>
                  <a:lnTo>
                    <a:pt x="110" y="86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6838920" y="5513400"/>
              <a:ext cx="25920" cy="1800"/>
            </a:xfrm>
            <a:custGeom>
              <a:avLst/>
              <a:gdLst/>
              <a:ahLst/>
              <a:rect l="0" t="0" r="r" b="b"/>
              <a:pathLst>
                <a:path w="72" h="5">
                  <a:moveTo>
                    <a:pt x="70" y="5"/>
                  </a:moveTo>
                  <a:lnTo>
                    <a:pt x="70" y="5"/>
                  </a:lnTo>
                  <a:lnTo>
                    <a:pt x="72" y="5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6838920" y="5513400"/>
              <a:ext cx="30600" cy="8280"/>
            </a:xfrm>
            <a:custGeom>
              <a:avLst/>
              <a:gdLst/>
              <a:ahLst/>
              <a:rect l="0" t="0" r="r" b="b"/>
              <a:pathLst>
                <a:path w="85" h="23">
                  <a:moveTo>
                    <a:pt x="83" y="23"/>
                  </a:moveTo>
                  <a:lnTo>
                    <a:pt x="83" y="23"/>
                  </a:lnTo>
                  <a:lnTo>
                    <a:pt x="85" y="23"/>
                  </a:lnTo>
                  <a:lnTo>
                    <a:pt x="85" y="20"/>
                  </a:lnTo>
                  <a:lnTo>
                    <a:pt x="85" y="2"/>
                  </a:lnTo>
                  <a:lnTo>
                    <a:pt x="8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83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6838920" y="55213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4" y="19"/>
                  </a:moveTo>
                  <a:lnTo>
                    <a:pt x="4" y="18"/>
                  </a:lnTo>
                  <a:lnTo>
                    <a:pt x="5" y="18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838920" y="5521320"/>
              <a:ext cx="8280" cy="12960"/>
            </a:xfrm>
            <a:custGeom>
              <a:avLst/>
              <a:gdLst/>
              <a:ahLst/>
              <a:rect l="0" t="0" r="r" b="b"/>
              <a:pathLst>
                <a:path w="23" h="36">
                  <a:moveTo>
                    <a:pt x="20" y="36"/>
                  </a:moveTo>
                  <a:lnTo>
                    <a:pt x="20" y="33"/>
                  </a:lnTo>
                  <a:lnTo>
                    <a:pt x="23" y="3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V="1">
              <a:off x="6889680" y="541008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6872400" y="5506920"/>
              <a:ext cx="73440" cy="22680"/>
            </a:xfrm>
            <a:custGeom>
              <a:avLst/>
              <a:gdLst/>
              <a:ahLst/>
              <a:rect l="0" t="0" r="r" b="b"/>
              <a:pathLst>
                <a:path w="204" h="63">
                  <a:moveTo>
                    <a:pt x="2" y="59"/>
                  </a:moveTo>
                  <a:lnTo>
                    <a:pt x="0" y="0"/>
                  </a:lnTo>
                  <a:lnTo>
                    <a:pt x="198" y="0"/>
                  </a:lnTo>
                  <a:lnTo>
                    <a:pt x="204" y="63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72400" y="550692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" y="75"/>
                  </a:moveTo>
                  <a:lnTo>
                    <a:pt x="0" y="0"/>
                  </a:lnTo>
                  <a:lnTo>
                    <a:pt x="214" y="0"/>
                  </a:lnTo>
                  <a:lnTo>
                    <a:pt x="221" y="80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897600" y="5513400"/>
              <a:ext cx="8280" cy="18000"/>
            </a:xfrm>
            <a:custGeom>
              <a:avLst/>
              <a:gdLst/>
              <a:ahLst/>
              <a:rect l="0" t="0" r="r" b="b"/>
              <a:pathLst>
                <a:path w="23" h="50">
                  <a:moveTo>
                    <a:pt x="20" y="50"/>
                  </a:moveTo>
                  <a:lnTo>
                    <a:pt x="20" y="50"/>
                  </a:lnTo>
                  <a:lnTo>
                    <a:pt x="23" y="47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20" y="5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6880320" y="5510160"/>
              <a:ext cx="6840" cy="20880"/>
            </a:xfrm>
            <a:custGeom>
              <a:avLst/>
              <a:gdLst/>
              <a:ahLst/>
              <a:rect l="0" t="0" r="r" b="b"/>
              <a:pathLst>
                <a:path w="19" h="58">
                  <a:moveTo>
                    <a:pt x="16" y="58"/>
                  </a:moveTo>
                  <a:lnTo>
                    <a:pt x="19" y="58"/>
                  </a:lnTo>
                  <a:lnTo>
                    <a:pt x="19" y="55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5"/>
                  </a:lnTo>
                  <a:lnTo>
                    <a:pt x="2" y="58"/>
                  </a:lnTo>
                  <a:lnTo>
                    <a:pt x="16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6886440" y="551196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16" y="32"/>
                  </a:moveTo>
                  <a:lnTo>
                    <a:pt x="21" y="32"/>
                  </a:lnTo>
                  <a:lnTo>
                    <a:pt x="25" y="30"/>
                  </a:lnTo>
                  <a:lnTo>
                    <a:pt x="30" y="27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7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015320" y="5481720"/>
              <a:ext cx="11520" cy="27360"/>
            </a:xfrm>
            <a:custGeom>
              <a:avLst/>
              <a:gdLst/>
              <a:ahLst/>
              <a:rect l="0" t="0" r="r" b="b"/>
              <a:pathLst>
                <a:path w="32" h="76">
                  <a:moveTo>
                    <a:pt x="32" y="76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32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 flipH="1">
              <a:off x="6977160" y="5481720"/>
              <a:ext cx="936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047000" y="5481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305840" y="5423040"/>
              <a:ext cx="6840" cy="79560"/>
            </a:xfrm>
            <a:custGeom>
              <a:avLst/>
              <a:gdLst/>
              <a:ahLst/>
              <a:rect l="0" t="0" r="r" b="b"/>
              <a:pathLst>
                <a:path w="19" h="221">
                  <a:moveTo>
                    <a:pt x="19" y="0"/>
                  </a:moveTo>
                  <a:lnTo>
                    <a:pt x="19" y="158"/>
                  </a:lnTo>
                  <a:lnTo>
                    <a:pt x="2" y="181"/>
                  </a:lnTo>
                  <a:lnTo>
                    <a:pt x="0" y="2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 flipH="1">
              <a:off x="7292880" y="5473800"/>
              <a:ext cx="1908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6819840" y="550080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0"/>
                  </a:moveTo>
                  <a:lnTo>
                    <a:pt x="0" y="20"/>
                  </a:lnTo>
                  <a:lnTo>
                    <a:pt x="9" y="2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6819840" y="550080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0" y="0"/>
                  </a:moveTo>
                  <a:lnTo>
                    <a:pt x="0" y="31"/>
                  </a:lnTo>
                  <a:lnTo>
                    <a:pt x="24" y="36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6777000" y="5524560"/>
              <a:ext cx="11520" cy="3600"/>
            </a:xfrm>
            <a:custGeom>
              <a:avLst/>
              <a:gdLst/>
              <a:ahLst/>
              <a:rect l="0" t="0" r="r" b="b"/>
              <a:pathLst>
                <a:path w="32" h="10">
                  <a:moveTo>
                    <a:pt x="13" y="0"/>
                  </a:moveTo>
                  <a:lnTo>
                    <a:pt x="1" y="4"/>
                  </a:lnTo>
                  <a:lnTo>
                    <a:pt x="0" y="9"/>
                  </a:lnTo>
                  <a:lnTo>
                    <a:pt x="32" y="10"/>
                  </a:lnTo>
                  <a:lnTo>
                    <a:pt x="31" y="4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777000" y="5524560"/>
              <a:ext cx="18000" cy="8280"/>
            </a:xfrm>
            <a:custGeom>
              <a:avLst/>
              <a:gdLst/>
              <a:ahLst/>
              <a:rect l="0" t="0" r="r" b="b"/>
              <a:pathLst>
                <a:path w="50" h="23">
                  <a:moveTo>
                    <a:pt x="21" y="0"/>
                  </a:moveTo>
                  <a:lnTo>
                    <a:pt x="2" y="9"/>
                  </a:lnTo>
                  <a:lnTo>
                    <a:pt x="0" y="20"/>
                  </a:lnTo>
                  <a:lnTo>
                    <a:pt x="50" y="23"/>
                  </a:lnTo>
                  <a:lnTo>
                    <a:pt x="47" y="9"/>
                  </a:lnTo>
                  <a:lnTo>
                    <a:pt x="34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819840" y="5514840"/>
              <a:ext cx="18000" cy="8280"/>
            </a:xfrm>
            <a:custGeom>
              <a:avLst/>
              <a:gdLst/>
              <a:ahLst/>
              <a:rect l="0" t="0" r="r" b="b"/>
              <a:pathLst>
                <a:path w="50" h="23">
                  <a:moveTo>
                    <a:pt x="33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0" y="8"/>
                  </a:lnTo>
                  <a:lnTo>
                    <a:pt x="50" y="12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44" y="23"/>
                  </a:lnTo>
                  <a:lnTo>
                    <a:pt x="40" y="23"/>
                  </a:lnTo>
                  <a:lnTo>
                    <a:pt x="33" y="23"/>
                  </a:lnTo>
                  <a:lnTo>
                    <a:pt x="26" y="21"/>
                  </a:lnTo>
                  <a:lnTo>
                    <a:pt x="20" y="18"/>
                  </a:lnTo>
                  <a:lnTo>
                    <a:pt x="14" y="14"/>
                  </a:lnTo>
                  <a:lnTo>
                    <a:pt x="7" y="12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5"/>
                  </a:lnTo>
                  <a:lnTo>
                    <a:pt x="9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6819840" y="5514840"/>
              <a:ext cx="22680" cy="14760"/>
            </a:xfrm>
            <a:custGeom>
              <a:avLst/>
              <a:gdLst/>
              <a:ahLst/>
              <a:rect l="0" t="0" r="r" b="b"/>
              <a:pathLst>
                <a:path w="63" h="41">
                  <a:moveTo>
                    <a:pt x="42" y="0"/>
                  </a:moveTo>
                  <a:lnTo>
                    <a:pt x="42" y="0"/>
                  </a:lnTo>
                  <a:lnTo>
                    <a:pt x="45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5"/>
                  </a:lnTo>
                  <a:lnTo>
                    <a:pt x="63" y="20"/>
                  </a:lnTo>
                  <a:lnTo>
                    <a:pt x="63" y="28"/>
                  </a:lnTo>
                  <a:lnTo>
                    <a:pt x="61" y="34"/>
                  </a:lnTo>
                  <a:lnTo>
                    <a:pt x="56" y="41"/>
                  </a:lnTo>
                  <a:lnTo>
                    <a:pt x="51" y="41"/>
                  </a:lnTo>
                  <a:lnTo>
                    <a:pt x="42" y="41"/>
                  </a:lnTo>
                  <a:lnTo>
                    <a:pt x="33" y="39"/>
                  </a:lnTo>
                  <a:lnTo>
                    <a:pt x="25" y="34"/>
                  </a:lnTo>
                  <a:lnTo>
                    <a:pt x="18" y="25"/>
                  </a:lnTo>
                  <a:lnTo>
                    <a:pt x="9" y="20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2" y="9"/>
                  </a:lnTo>
                  <a:lnTo>
                    <a:pt x="7" y="9"/>
                  </a:lnTo>
                  <a:lnTo>
                    <a:pt x="12" y="9"/>
                  </a:lnTo>
                  <a:lnTo>
                    <a:pt x="18" y="7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824520" y="550872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6824520" y="550872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12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19"/>
                  </a:lnTo>
                  <a:lnTo>
                    <a:pt x="0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6823080" y="550224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0" y="14"/>
                  </a:moveTo>
                  <a:lnTo>
                    <a:pt x="1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6823080" y="55069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0" y="0"/>
                  </a:moveTo>
                  <a:lnTo>
                    <a:pt x="2" y="5"/>
                  </a:lnTo>
                  <a:lnTo>
                    <a:pt x="32" y="5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6743880" y="551340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0" y="13"/>
                  </a:moveTo>
                  <a:lnTo>
                    <a:pt x="0" y="11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7" y="36"/>
                  </a:lnTo>
                  <a:lnTo>
                    <a:pt x="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6743880" y="5513400"/>
              <a:ext cx="14760" cy="18000"/>
            </a:xfrm>
            <a:custGeom>
              <a:avLst/>
              <a:gdLst/>
              <a:ahLst/>
              <a:rect l="0" t="0" r="r" b="b"/>
              <a:pathLst>
                <a:path w="41" h="50">
                  <a:moveTo>
                    <a:pt x="0" y="19"/>
                  </a:moveTo>
                  <a:lnTo>
                    <a:pt x="0" y="17"/>
                  </a:lnTo>
                  <a:lnTo>
                    <a:pt x="4" y="11"/>
                  </a:lnTo>
                  <a:lnTo>
                    <a:pt x="9" y="6"/>
                  </a:lnTo>
                  <a:lnTo>
                    <a:pt x="15" y="2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4" y="4"/>
                  </a:lnTo>
                  <a:lnTo>
                    <a:pt x="39" y="9"/>
                  </a:lnTo>
                  <a:lnTo>
                    <a:pt x="39" y="14"/>
                  </a:lnTo>
                  <a:lnTo>
                    <a:pt x="41" y="17"/>
                  </a:lnTo>
                  <a:lnTo>
                    <a:pt x="41" y="50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6738840" y="551484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12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3" y="6"/>
                  </a:lnTo>
                  <a:lnTo>
                    <a:pt x="4" y="10"/>
                  </a:lnTo>
                  <a:lnTo>
                    <a:pt x="6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29" y="29"/>
                  </a:lnTo>
                  <a:lnTo>
                    <a:pt x="27" y="27"/>
                  </a:lnTo>
                  <a:lnTo>
                    <a:pt x="23" y="26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0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738840" y="551484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1" y="31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45" y="45"/>
                  </a:lnTo>
                  <a:lnTo>
                    <a:pt x="42" y="42"/>
                  </a:lnTo>
                  <a:lnTo>
                    <a:pt x="40" y="40"/>
                  </a:lnTo>
                  <a:lnTo>
                    <a:pt x="38" y="38"/>
                  </a:lnTo>
                  <a:lnTo>
                    <a:pt x="33" y="35"/>
                  </a:lnTo>
                  <a:lnTo>
                    <a:pt x="28" y="31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6789600" y="5510160"/>
              <a:ext cx="39960" cy="3600"/>
            </a:xfrm>
            <a:custGeom>
              <a:avLst/>
              <a:gdLst/>
              <a:ahLst/>
              <a:rect l="0" t="0" r="r" b="b"/>
              <a:pathLst>
                <a:path w="111" h="10">
                  <a:moveTo>
                    <a:pt x="0" y="3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12" y="9"/>
                  </a:lnTo>
                  <a:lnTo>
                    <a:pt x="19" y="9"/>
                  </a:lnTo>
                  <a:lnTo>
                    <a:pt x="25" y="9"/>
                  </a:lnTo>
                  <a:lnTo>
                    <a:pt x="36" y="10"/>
                  </a:lnTo>
                  <a:lnTo>
                    <a:pt x="49" y="10"/>
                  </a:lnTo>
                  <a:lnTo>
                    <a:pt x="63" y="10"/>
                  </a:lnTo>
                  <a:lnTo>
                    <a:pt x="74" y="9"/>
                  </a:lnTo>
                  <a:lnTo>
                    <a:pt x="85" y="9"/>
                  </a:lnTo>
                  <a:lnTo>
                    <a:pt x="91" y="9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6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09" y="5"/>
                  </a:lnTo>
                  <a:lnTo>
                    <a:pt x="106" y="5"/>
                  </a:lnTo>
                  <a:lnTo>
                    <a:pt x="104" y="4"/>
                  </a:lnTo>
                  <a:lnTo>
                    <a:pt x="100" y="4"/>
                  </a:lnTo>
                  <a:lnTo>
                    <a:pt x="96" y="4"/>
                  </a:lnTo>
                  <a:lnTo>
                    <a:pt x="89" y="3"/>
                  </a:lnTo>
                  <a:lnTo>
                    <a:pt x="85" y="3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6789600" y="5510160"/>
              <a:ext cx="44640" cy="9720"/>
            </a:xfrm>
            <a:custGeom>
              <a:avLst/>
              <a:gdLst/>
              <a:ahLst/>
              <a:rect l="0" t="0" r="r" b="b"/>
              <a:pathLst>
                <a:path w="124" h="27">
                  <a:moveTo>
                    <a:pt x="0" y="7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4" y="22"/>
                  </a:lnTo>
                  <a:lnTo>
                    <a:pt x="21" y="24"/>
                  </a:lnTo>
                  <a:lnTo>
                    <a:pt x="29" y="24"/>
                  </a:lnTo>
                  <a:lnTo>
                    <a:pt x="41" y="27"/>
                  </a:lnTo>
                  <a:lnTo>
                    <a:pt x="55" y="27"/>
                  </a:lnTo>
                  <a:lnTo>
                    <a:pt x="71" y="27"/>
                  </a:lnTo>
                  <a:lnTo>
                    <a:pt x="83" y="24"/>
                  </a:lnTo>
                  <a:lnTo>
                    <a:pt x="95" y="24"/>
                  </a:lnTo>
                  <a:lnTo>
                    <a:pt x="102" y="22"/>
                  </a:lnTo>
                  <a:lnTo>
                    <a:pt x="109" y="19"/>
                  </a:lnTo>
                  <a:lnTo>
                    <a:pt x="114" y="19"/>
                  </a:lnTo>
                  <a:lnTo>
                    <a:pt x="119" y="16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2" y="14"/>
                  </a:lnTo>
                  <a:lnTo>
                    <a:pt x="119" y="14"/>
                  </a:lnTo>
                  <a:lnTo>
                    <a:pt x="117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0" y="7"/>
                  </a:lnTo>
                  <a:lnTo>
                    <a:pt x="95" y="7"/>
                  </a:lnTo>
                  <a:lnTo>
                    <a:pt x="90" y="5"/>
                  </a:lnTo>
                  <a:lnTo>
                    <a:pt x="85" y="2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5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6775560" y="5508720"/>
              <a:ext cx="12960" cy="5040"/>
            </a:xfrm>
            <a:custGeom>
              <a:avLst/>
              <a:gdLst/>
              <a:ahLst/>
              <a:rect l="0" t="0" r="r" b="b"/>
              <a:pathLst>
                <a:path w="36" h="14">
                  <a:moveTo>
                    <a:pt x="36" y="12"/>
                  </a:moveTo>
                  <a:lnTo>
                    <a:pt x="36" y="10"/>
                  </a:lnTo>
                  <a:lnTo>
                    <a:pt x="34" y="10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6"/>
                  </a:lnTo>
                  <a:lnTo>
                    <a:pt x="14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3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775560" y="5508720"/>
              <a:ext cx="18000" cy="11520"/>
            </a:xfrm>
            <a:custGeom>
              <a:avLst/>
              <a:gdLst/>
              <a:ahLst/>
              <a:rect l="0" t="0" r="r" b="b"/>
              <a:pathLst>
                <a:path w="50" h="32">
                  <a:moveTo>
                    <a:pt x="50" y="27"/>
                  </a:moveTo>
                  <a:lnTo>
                    <a:pt x="50" y="25"/>
                  </a:lnTo>
                  <a:lnTo>
                    <a:pt x="47" y="25"/>
                  </a:lnTo>
                  <a:lnTo>
                    <a:pt x="42" y="21"/>
                  </a:lnTo>
                  <a:lnTo>
                    <a:pt x="36" y="21"/>
                  </a:lnTo>
                  <a:lnTo>
                    <a:pt x="31" y="19"/>
                  </a:lnTo>
                  <a:lnTo>
                    <a:pt x="26" y="16"/>
                  </a:lnTo>
                  <a:lnTo>
                    <a:pt x="21" y="13"/>
                  </a:lnTo>
                  <a:lnTo>
                    <a:pt x="16" y="11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5" y="25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3" y="30"/>
                  </a:lnTo>
                  <a:lnTo>
                    <a:pt x="26" y="30"/>
                  </a:lnTo>
                  <a:lnTo>
                    <a:pt x="31" y="30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45" y="27"/>
                  </a:lnTo>
                  <a:lnTo>
                    <a:pt x="47" y="25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778800" y="551664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778800" y="5516640"/>
              <a:ext cx="16200" cy="5040"/>
            </a:xfrm>
            <a:custGeom>
              <a:avLst/>
              <a:gdLst/>
              <a:ahLst/>
              <a:rect l="0" t="0" r="r" b="b"/>
              <a:pathLst>
                <a:path w="45" h="14">
                  <a:moveTo>
                    <a:pt x="0" y="5"/>
                  </a:moveTo>
                  <a:lnTo>
                    <a:pt x="0" y="5"/>
                  </a:lnTo>
                  <a:lnTo>
                    <a:pt x="4" y="8"/>
                  </a:lnTo>
                  <a:lnTo>
                    <a:pt x="7" y="11"/>
                  </a:lnTo>
                  <a:lnTo>
                    <a:pt x="14" y="11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5" y="14"/>
                  </a:lnTo>
                  <a:lnTo>
                    <a:pt x="40" y="11"/>
                  </a:lnTo>
                  <a:lnTo>
                    <a:pt x="45" y="5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7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800760" y="551988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3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5" y="4"/>
                  </a:lnTo>
                  <a:lnTo>
                    <a:pt x="25" y="7"/>
                  </a:lnTo>
                  <a:lnTo>
                    <a:pt x="25" y="10"/>
                  </a:lnTo>
                  <a:lnTo>
                    <a:pt x="25" y="14"/>
                  </a:lnTo>
                  <a:lnTo>
                    <a:pt x="27" y="18"/>
                  </a:lnTo>
                  <a:lnTo>
                    <a:pt x="27" y="2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800760" y="55198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5" y="9"/>
                  </a:moveTo>
                  <a:lnTo>
                    <a:pt x="7" y="9"/>
                  </a:lnTo>
                  <a:lnTo>
                    <a:pt x="10" y="9"/>
                  </a:lnTo>
                  <a:lnTo>
                    <a:pt x="15" y="9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2" y="7"/>
                  </a:lnTo>
                  <a:lnTo>
                    <a:pt x="42" y="11"/>
                  </a:lnTo>
                  <a:lnTo>
                    <a:pt x="42" y="16"/>
                  </a:lnTo>
                  <a:lnTo>
                    <a:pt x="42" y="22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6"/>
                  </a:lnTo>
                  <a:lnTo>
                    <a:pt x="0" y="36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6781680" y="5504040"/>
              <a:ext cx="3816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6804000" y="55148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0" y="1"/>
                  </a:moveTo>
                  <a:lnTo>
                    <a:pt x="0" y="14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6804000" y="551484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0" y="2"/>
                  </a:moveTo>
                  <a:lnTo>
                    <a:pt x="0" y="27"/>
                  </a:lnTo>
                  <a:lnTo>
                    <a:pt x="27" y="22"/>
                  </a:lnTo>
                  <a:lnTo>
                    <a:pt x="2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740640" y="551988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6740640" y="552456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6740640" y="552924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6740640" y="5500800"/>
              <a:ext cx="567000" cy="59040"/>
            </a:xfrm>
            <a:custGeom>
              <a:avLst/>
              <a:gdLst/>
              <a:ahLst/>
              <a:rect l="0" t="0" r="r" b="b"/>
              <a:pathLst>
                <a:path w="1575" h="164">
                  <a:moveTo>
                    <a:pt x="1575" y="0"/>
                  </a:moveTo>
                  <a:lnTo>
                    <a:pt x="549" y="9"/>
                  </a:lnTo>
                  <a:lnTo>
                    <a:pt x="546" y="11"/>
                  </a:lnTo>
                  <a:lnTo>
                    <a:pt x="537" y="16"/>
                  </a:lnTo>
                  <a:lnTo>
                    <a:pt x="524" y="23"/>
                  </a:lnTo>
                  <a:lnTo>
                    <a:pt x="505" y="32"/>
                  </a:lnTo>
                  <a:lnTo>
                    <a:pt x="485" y="44"/>
                  </a:lnTo>
                  <a:lnTo>
                    <a:pt x="465" y="55"/>
                  </a:lnTo>
                  <a:lnTo>
                    <a:pt x="445" y="65"/>
                  </a:lnTo>
                  <a:lnTo>
                    <a:pt x="426" y="74"/>
                  </a:lnTo>
                  <a:lnTo>
                    <a:pt x="408" y="81"/>
                  </a:lnTo>
                  <a:lnTo>
                    <a:pt x="396" y="84"/>
                  </a:lnTo>
                  <a:lnTo>
                    <a:pt x="2" y="79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19"/>
                  </a:lnTo>
                  <a:lnTo>
                    <a:pt x="2" y="129"/>
                  </a:lnTo>
                  <a:lnTo>
                    <a:pt x="4" y="136"/>
                  </a:lnTo>
                  <a:lnTo>
                    <a:pt x="7" y="145"/>
                  </a:lnTo>
                  <a:lnTo>
                    <a:pt x="12" y="150"/>
                  </a:lnTo>
                  <a:lnTo>
                    <a:pt x="1459" y="164"/>
                  </a:lnTo>
                  <a:lnTo>
                    <a:pt x="157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6740640" y="5500800"/>
              <a:ext cx="572040" cy="63720"/>
            </a:xfrm>
            <a:custGeom>
              <a:avLst/>
              <a:gdLst/>
              <a:ahLst/>
              <a:rect l="0" t="0" r="r" b="b"/>
              <a:pathLst>
                <a:path w="1589" h="177">
                  <a:moveTo>
                    <a:pt x="1589" y="0"/>
                  </a:moveTo>
                  <a:lnTo>
                    <a:pt x="555" y="10"/>
                  </a:lnTo>
                  <a:lnTo>
                    <a:pt x="552" y="12"/>
                  </a:lnTo>
                  <a:lnTo>
                    <a:pt x="542" y="17"/>
                  </a:lnTo>
                  <a:lnTo>
                    <a:pt x="530" y="25"/>
                  </a:lnTo>
                  <a:lnTo>
                    <a:pt x="510" y="35"/>
                  </a:lnTo>
                  <a:lnTo>
                    <a:pt x="490" y="47"/>
                  </a:lnTo>
                  <a:lnTo>
                    <a:pt x="470" y="60"/>
                  </a:lnTo>
                  <a:lnTo>
                    <a:pt x="450" y="70"/>
                  </a:lnTo>
                  <a:lnTo>
                    <a:pt x="430" y="80"/>
                  </a:lnTo>
                  <a:lnTo>
                    <a:pt x="413" y="89"/>
                  </a:lnTo>
                  <a:lnTo>
                    <a:pt x="400" y="91"/>
                  </a:lnTo>
                  <a:lnTo>
                    <a:pt x="2" y="85"/>
                  </a:lnTo>
                  <a:lnTo>
                    <a:pt x="2" y="89"/>
                  </a:lnTo>
                  <a:lnTo>
                    <a:pt x="2" y="91"/>
                  </a:lnTo>
                  <a:lnTo>
                    <a:pt x="2" y="99"/>
                  </a:lnTo>
                  <a:lnTo>
                    <a:pt x="0" y="109"/>
                  </a:lnTo>
                  <a:lnTo>
                    <a:pt x="0" y="119"/>
                  </a:lnTo>
                  <a:lnTo>
                    <a:pt x="0" y="129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7" y="157"/>
                  </a:lnTo>
                  <a:lnTo>
                    <a:pt x="12" y="162"/>
                  </a:lnTo>
                  <a:lnTo>
                    <a:pt x="1472" y="177"/>
                  </a:lnTo>
                  <a:lnTo>
                    <a:pt x="158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6743880" y="5551560"/>
              <a:ext cx="527400" cy="30600"/>
            </a:xfrm>
            <a:custGeom>
              <a:avLst/>
              <a:gdLst/>
              <a:ahLst/>
              <a:rect l="0" t="0" r="r" b="b"/>
              <a:pathLst>
                <a:path w="1465" h="85">
                  <a:moveTo>
                    <a:pt x="0" y="6"/>
                  </a:moveTo>
                  <a:lnTo>
                    <a:pt x="1465" y="0"/>
                  </a:lnTo>
                  <a:lnTo>
                    <a:pt x="1425" y="61"/>
                  </a:lnTo>
                  <a:lnTo>
                    <a:pt x="1423" y="63"/>
                  </a:lnTo>
                  <a:lnTo>
                    <a:pt x="1418" y="66"/>
                  </a:lnTo>
                  <a:lnTo>
                    <a:pt x="1413" y="70"/>
                  </a:lnTo>
                  <a:lnTo>
                    <a:pt x="1405" y="72"/>
                  </a:lnTo>
                  <a:lnTo>
                    <a:pt x="1398" y="77"/>
                  </a:lnTo>
                  <a:lnTo>
                    <a:pt x="1388" y="79"/>
                  </a:lnTo>
                  <a:lnTo>
                    <a:pt x="1378" y="83"/>
                  </a:lnTo>
                  <a:lnTo>
                    <a:pt x="1369" y="85"/>
                  </a:lnTo>
                  <a:lnTo>
                    <a:pt x="1356" y="85"/>
                  </a:lnTo>
                  <a:lnTo>
                    <a:pt x="637" y="81"/>
                  </a:lnTo>
                  <a:lnTo>
                    <a:pt x="632" y="81"/>
                  </a:lnTo>
                  <a:lnTo>
                    <a:pt x="615" y="81"/>
                  </a:lnTo>
                  <a:lnTo>
                    <a:pt x="592" y="79"/>
                  </a:lnTo>
                  <a:lnTo>
                    <a:pt x="563" y="79"/>
                  </a:lnTo>
                  <a:lnTo>
                    <a:pt x="533" y="77"/>
                  </a:lnTo>
                  <a:lnTo>
                    <a:pt x="501" y="75"/>
                  </a:lnTo>
                  <a:lnTo>
                    <a:pt x="469" y="72"/>
                  </a:lnTo>
                  <a:lnTo>
                    <a:pt x="442" y="70"/>
                  </a:lnTo>
                  <a:lnTo>
                    <a:pt x="420" y="68"/>
                  </a:lnTo>
                  <a:lnTo>
                    <a:pt x="408" y="63"/>
                  </a:lnTo>
                  <a:lnTo>
                    <a:pt x="396" y="61"/>
                  </a:lnTo>
                  <a:lnTo>
                    <a:pt x="374" y="56"/>
                  </a:lnTo>
                  <a:lnTo>
                    <a:pt x="344" y="52"/>
                  </a:lnTo>
                  <a:lnTo>
                    <a:pt x="312" y="48"/>
                  </a:lnTo>
                  <a:lnTo>
                    <a:pt x="275" y="41"/>
                  </a:lnTo>
                  <a:lnTo>
                    <a:pt x="238" y="39"/>
                  </a:lnTo>
                  <a:lnTo>
                    <a:pt x="201" y="35"/>
                  </a:lnTo>
                  <a:lnTo>
                    <a:pt x="167" y="33"/>
                  </a:lnTo>
                  <a:lnTo>
                    <a:pt x="135" y="31"/>
                  </a:lnTo>
                  <a:lnTo>
                    <a:pt x="113" y="31"/>
                  </a:lnTo>
                  <a:lnTo>
                    <a:pt x="108" y="31"/>
                  </a:lnTo>
                  <a:lnTo>
                    <a:pt x="100" y="31"/>
                  </a:lnTo>
                  <a:lnTo>
                    <a:pt x="88" y="33"/>
                  </a:lnTo>
                  <a:lnTo>
                    <a:pt x="76" y="33"/>
                  </a:lnTo>
                  <a:lnTo>
                    <a:pt x="59" y="31"/>
                  </a:lnTo>
                  <a:lnTo>
                    <a:pt x="41" y="28"/>
                  </a:lnTo>
                  <a:lnTo>
                    <a:pt x="27" y="26"/>
                  </a:lnTo>
                  <a:lnTo>
                    <a:pt x="14" y="22"/>
                  </a:lnTo>
                  <a:lnTo>
                    <a:pt x="4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6931080" y="5484960"/>
              <a:ext cx="11520" cy="3600"/>
            </a:xfrm>
            <a:custGeom>
              <a:avLst/>
              <a:gdLst/>
              <a:ahLst/>
              <a:rect l="0" t="0" r="r" b="b"/>
              <a:pathLst>
                <a:path w="32" h="10">
                  <a:moveTo>
                    <a:pt x="32" y="10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6931080" y="5484960"/>
              <a:ext cx="18000" cy="8280"/>
            </a:xfrm>
            <a:custGeom>
              <a:avLst/>
              <a:gdLst/>
              <a:ahLst/>
              <a:rect l="0" t="0" r="r" b="b"/>
              <a:pathLst>
                <a:path w="50" h="23">
                  <a:moveTo>
                    <a:pt x="50" y="23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172280" y="54878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6" y="10"/>
                  </a:moveTo>
                  <a:lnTo>
                    <a:pt x="9" y="10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172280" y="548784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14" y="27"/>
                  </a:moveTo>
                  <a:lnTo>
                    <a:pt x="18" y="27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27" y="12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 flipH="1">
              <a:off x="6869160" y="5495760"/>
              <a:ext cx="44280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 flipH="1">
              <a:off x="6872400" y="5492880"/>
              <a:ext cx="43956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 flipH="1">
              <a:off x="6873840" y="5489640"/>
              <a:ext cx="43812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6865920" y="54831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23" y="0"/>
                  </a:moveTo>
                  <a:lnTo>
                    <a:pt x="23" y="27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 flipH="1">
              <a:off x="6873840" y="548496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311960" y="5487840"/>
              <a:ext cx="0" cy="12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 flipV="1">
              <a:off x="6740640" y="5516640"/>
              <a:ext cx="0" cy="1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 flipV="1">
              <a:off x="6783480" y="5516640"/>
              <a:ext cx="0" cy="1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 flipV="1">
              <a:off x="6829560" y="551664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 flipV="1">
              <a:off x="6877080" y="5519880"/>
              <a:ext cx="0" cy="1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262640" y="55069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3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8" y="7"/>
                  </a:lnTo>
                  <a:lnTo>
                    <a:pt x="43" y="9"/>
                  </a:lnTo>
                  <a:lnTo>
                    <a:pt x="47" y="11"/>
                  </a:lnTo>
                  <a:lnTo>
                    <a:pt x="51" y="15"/>
                  </a:lnTo>
                  <a:lnTo>
                    <a:pt x="53" y="17"/>
                  </a:lnTo>
                  <a:lnTo>
                    <a:pt x="54" y="21"/>
                  </a:lnTo>
                  <a:lnTo>
                    <a:pt x="53" y="21"/>
                  </a:lnTo>
                  <a:lnTo>
                    <a:pt x="51" y="24"/>
                  </a:lnTo>
                  <a:lnTo>
                    <a:pt x="47" y="25"/>
                  </a:lnTo>
                  <a:lnTo>
                    <a:pt x="43" y="27"/>
                  </a:lnTo>
                  <a:lnTo>
                    <a:pt x="38" y="29"/>
                  </a:lnTo>
                  <a:lnTo>
                    <a:pt x="33" y="33"/>
                  </a:lnTo>
                  <a:lnTo>
                    <a:pt x="29" y="37"/>
                  </a:lnTo>
                  <a:lnTo>
                    <a:pt x="25" y="39"/>
                  </a:lnTo>
                  <a:lnTo>
                    <a:pt x="23" y="43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8" y="43"/>
                  </a:lnTo>
                  <a:lnTo>
                    <a:pt x="14" y="41"/>
                  </a:lnTo>
                  <a:lnTo>
                    <a:pt x="11" y="35"/>
                  </a:lnTo>
                  <a:lnTo>
                    <a:pt x="14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9" y="19"/>
                  </a:lnTo>
                  <a:lnTo>
                    <a:pt x="5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262640" y="5506920"/>
              <a:ext cx="25920" cy="20880"/>
            </a:xfrm>
            <a:custGeom>
              <a:avLst/>
              <a:gdLst/>
              <a:ahLst/>
              <a:rect l="0" t="0" r="r" b="b"/>
              <a:pathLst>
                <a:path w="72" h="58">
                  <a:moveTo>
                    <a:pt x="0" y="17"/>
                  </a:move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8" y="2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7" y="12"/>
                  </a:lnTo>
                  <a:lnTo>
                    <a:pt x="62" y="14"/>
                  </a:lnTo>
                  <a:lnTo>
                    <a:pt x="67" y="19"/>
                  </a:lnTo>
                  <a:lnTo>
                    <a:pt x="70" y="22"/>
                  </a:lnTo>
                  <a:lnTo>
                    <a:pt x="72" y="27"/>
                  </a:lnTo>
                  <a:lnTo>
                    <a:pt x="70" y="27"/>
                  </a:lnTo>
                  <a:lnTo>
                    <a:pt x="67" y="30"/>
                  </a:lnTo>
                  <a:lnTo>
                    <a:pt x="62" y="33"/>
                  </a:lnTo>
                  <a:lnTo>
                    <a:pt x="57" y="35"/>
                  </a:lnTo>
                  <a:lnTo>
                    <a:pt x="51" y="38"/>
                  </a:lnTo>
                  <a:lnTo>
                    <a:pt x="43" y="43"/>
                  </a:lnTo>
                  <a:lnTo>
                    <a:pt x="38" y="48"/>
                  </a:lnTo>
                  <a:lnTo>
                    <a:pt x="33" y="50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3" y="55"/>
                  </a:lnTo>
                  <a:lnTo>
                    <a:pt x="17" y="53"/>
                  </a:lnTo>
                  <a:lnTo>
                    <a:pt x="15" y="45"/>
                  </a:lnTo>
                  <a:lnTo>
                    <a:pt x="17" y="38"/>
                  </a:lnTo>
                  <a:lnTo>
                    <a:pt x="15" y="35"/>
                  </a:lnTo>
                  <a:lnTo>
                    <a:pt x="15" y="30"/>
                  </a:lnTo>
                  <a:lnTo>
                    <a:pt x="12" y="24"/>
                  </a:lnTo>
                  <a:lnTo>
                    <a:pt x="7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262640" y="551340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6743880" y="5553000"/>
              <a:ext cx="527400" cy="27360"/>
            </a:xfrm>
            <a:custGeom>
              <a:avLst/>
              <a:gdLst/>
              <a:ahLst/>
              <a:rect l="0" t="0" r="r" b="b"/>
              <a:pathLst>
                <a:path w="1465" h="76">
                  <a:moveTo>
                    <a:pt x="1356" y="76"/>
                  </a:moveTo>
                  <a:lnTo>
                    <a:pt x="637" y="70"/>
                  </a:lnTo>
                  <a:lnTo>
                    <a:pt x="632" y="70"/>
                  </a:lnTo>
                  <a:lnTo>
                    <a:pt x="615" y="70"/>
                  </a:lnTo>
                  <a:lnTo>
                    <a:pt x="592" y="70"/>
                  </a:lnTo>
                  <a:lnTo>
                    <a:pt x="563" y="68"/>
                  </a:lnTo>
                  <a:lnTo>
                    <a:pt x="533" y="68"/>
                  </a:lnTo>
                  <a:lnTo>
                    <a:pt x="501" y="66"/>
                  </a:lnTo>
                  <a:lnTo>
                    <a:pt x="469" y="64"/>
                  </a:lnTo>
                  <a:lnTo>
                    <a:pt x="442" y="62"/>
                  </a:lnTo>
                  <a:lnTo>
                    <a:pt x="420" y="60"/>
                  </a:lnTo>
                  <a:lnTo>
                    <a:pt x="408" y="55"/>
                  </a:lnTo>
                  <a:lnTo>
                    <a:pt x="396" y="53"/>
                  </a:lnTo>
                  <a:lnTo>
                    <a:pt x="374" y="48"/>
                  </a:lnTo>
                  <a:lnTo>
                    <a:pt x="344" y="44"/>
                  </a:lnTo>
                  <a:lnTo>
                    <a:pt x="312" y="40"/>
                  </a:lnTo>
                  <a:lnTo>
                    <a:pt x="275" y="36"/>
                  </a:lnTo>
                  <a:lnTo>
                    <a:pt x="238" y="32"/>
                  </a:lnTo>
                  <a:lnTo>
                    <a:pt x="201" y="30"/>
                  </a:lnTo>
                  <a:lnTo>
                    <a:pt x="167" y="28"/>
                  </a:lnTo>
                  <a:lnTo>
                    <a:pt x="135" y="25"/>
                  </a:lnTo>
                  <a:lnTo>
                    <a:pt x="113" y="25"/>
                  </a:lnTo>
                  <a:lnTo>
                    <a:pt x="108" y="25"/>
                  </a:lnTo>
                  <a:lnTo>
                    <a:pt x="100" y="28"/>
                  </a:lnTo>
                  <a:lnTo>
                    <a:pt x="88" y="28"/>
                  </a:lnTo>
                  <a:lnTo>
                    <a:pt x="76" y="28"/>
                  </a:lnTo>
                  <a:lnTo>
                    <a:pt x="59" y="25"/>
                  </a:lnTo>
                  <a:lnTo>
                    <a:pt x="41" y="25"/>
                  </a:lnTo>
                  <a:lnTo>
                    <a:pt x="27" y="21"/>
                  </a:lnTo>
                  <a:lnTo>
                    <a:pt x="14" y="16"/>
                  </a:lnTo>
                  <a:lnTo>
                    <a:pt x="4" y="12"/>
                  </a:lnTo>
                  <a:lnTo>
                    <a:pt x="0" y="4"/>
                  </a:lnTo>
                  <a:lnTo>
                    <a:pt x="1465" y="0"/>
                  </a:lnTo>
                  <a:lnTo>
                    <a:pt x="1425" y="53"/>
                  </a:lnTo>
                  <a:lnTo>
                    <a:pt x="1423" y="55"/>
                  </a:lnTo>
                  <a:lnTo>
                    <a:pt x="1418" y="58"/>
                  </a:lnTo>
                  <a:lnTo>
                    <a:pt x="1413" y="62"/>
                  </a:lnTo>
                  <a:lnTo>
                    <a:pt x="1405" y="64"/>
                  </a:lnTo>
                  <a:lnTo>
                    <a:pt x="1398" y="66"/>
                  </a:lnTo>
                  <a:lnTo>
                    <a:pt x="1388" y="70"/>
                  </a:lnTo>
                  <a:lnTo>
                    <a:pt x="1378" y="72"/>
                  </a:lnTo>
                  <a:lnTo>
                    <a:pt x="1369" y="74"/>
                  </a:lnTo>
                  <a:lnTo>
                    <a:pt x="1356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6743880" y="5553000"/>
              <a:ext cx="527400" cy="24120"/>
            </a:xfrm>
            <a:custGeom>
              <a:avLst/>
              <a:gdLst/>
              <a:ahLst/>
              <a:rect l="0" t="0" r="r" b="b"/>
              <a:pathLst>
                <a:path w="1465" h="67">
                  <a:moveTo>
                    <a:pt x="1356" y="67"/>
                  </a:moveTo>
                  <a:lnTo>
                    <a:pt x="637" y="63"/>
                  </a:lnTo>
                  <a:lnTo>
                    <a:pt x="632" y="63"/>
                  </a:lnTo>
                  <a:lnTo>
                    <a:pt x="615" y="63"/>
                  </a:lnTo>
                  <a:lnTo>
                    <a:pt x="592" y="61"/>
                  </a:lnTo>
                  <a:lnTo>
                    <a:pt x="563" y="61"/>
                  </a:lnTo>
                  <a:lnTo>
                    <a:pt x="533" y="59"/>
                  </a:lnTo>
                  <a:lnTo>
                    <a:pt x="501" y="57"/>
                  </a:lnTo>
                  <a:lnTo>
                    <a:pt x="469" y="57"/>
                  </a:lnTo>
                  <a:lnTo>
                    <a:pt x="442" y="55"/>
                  </a:lnTo>
                  <a:lnTo>
                    <a:pt x="420" y="53"/>
                  </a:lnTo>
                  <a:lnTo>
                    <a:pt x="408" y="49"/>
                  </a:lnTo>
                  <a:lnTo>
                    <a:pt x="396" y="47"/>
                  </a:lnTo>
                  <a:lnTo>
                    <a:pt x="374" y="43"/>
                  </a:lnTo>
                  <a:lnTo>
                    <a:pt x="344" y="39"/>
                  </a:lnTo>
                  <a:lnTo>
                    <a:pt x="312" y="37"/>
                  </a:lnTo>
                  <a:lnTo>
                    <a:pt x="275" y="32"/>
                  </a:lnTo>
                  <a:lnTo>
                    <a:pt x="238" y="28"/>
                  </a:lnTo>
                  <a:lnTo>
                    <a:pt x="201" y="26"/>
                  </a:lnTo>
                  <a:lnTo>
                    <a:pt x="167" y="24"/>
                  </a:lnTo>
                  <a:lnTo>
                    <a:pt x="135" y="22"/>
                  </a:lnTo>
                  <a:lnTo>
                    <a:pt x="113" y="22"/>
                  </a:lnTo>
                  <a:lnTo>
                    <a:pt x="108" y="22"/>
                  </a:lnTo>
                  <a:lnTo>
                    <a:pt x="100" y="24"/>
                  </a:lnTo>
                  <a:lnTo>
                    <a:pt x="88" y="24"/>
                  </a:lnTo>
                  <a:lnTo>
                    <a:pt x="76" y="24"/>
                  </a:lnTo>
                  <a:lnTo>
                    <a:pt x="59" y="22"/>
                  </a:lnTo>
                  <a:lnTo>
                    <a:pt x="41" y="22"/>
                  </a:lnTo>
                  <a:lnTo>
                    <a:pt x="27" y="18"/>
                  </a:lnTo>
                  <a:lnTo>
                    <a:pt x="14" y="16"/>
                  </a:lnTo>
                  <a:lnTo>
                    <a:pt x="4" y="10"/>
                  </a:lnTo>
                  <a:lnTo>
                    <a:pt x="0" y="4"/>
                  </a:lnTo>
                  <a:lnTo>
                    <a:pt x="1465" y="0"/>
                  </a:lnTo>
                  <a:lnTo>
                    <a:pt x="1425" y="47"/>
                  </a:lnTo>
                  <a:lnTo>
                    <a:pt x="1423" y="49"/>
                  </a:lnTo>
                  <a:lnTo>
                    <a:pt x="1418" y="51"/>
                  </a:lnTo>
                  <a:lnTo>
                    <a:pt x="1413" y="53"/>
                  </a:lnTo>
                  <a:lnTo>
                    <a:pt x="1405" y="57"/>
                  </a:lnTo>
                  <a:lnTo>
                    <a:pt x="1398" y="59"/>
                  </a:lnTo>
                  <a:lnTo>
                    <a:pt x="1388" y="61"/>
                  </a:lnTo>
                  <a:lnTo>
                    <a:pt x="1378" y="65"/>
                  </a:lnTo>
                  <a:lnTo>
                    <a:pt x="1369" y="65"/>
                  </a:lnTo>
                  <a:lnTo>
                    <a:pt x="1356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6743880" y="5553000"/>
              <a:ext cx="527400" cy="20880"/>
            </a:xfrm>
            <a:custGeom>
              <a:avLst/>
              <a:gdLst/>
              <a:ahLst/>
              <a:rect l="0" t="0" r="r" b="b"/>
              <a:pathLst>
                <a:path w="1465" h="58">
                  <a:moveTo>
                    <a:pt x="1356" y="58"/>
                  </a:moveTo>
                  <a:lnTo>
                    <a:pt x="637" y="54"/>
                  </a:lnTo>
                  <a:lnTo>
                    <a:pt x="632" y="54"/>
                  </a:lnTo>
                  <a:lnTo>
                    <a:pt x="615" y="54"/>
                  </a:lnTo>
                  <a:lnTo>
                    <a:pt x="592" y="54"/>
                  </a:lnTo>
                  <a:lnTo>
                    <a:pt x="563" y="52"/>
                  </a:lnTo>
                  <a:lnTo>
                    <a:pt x="533" y="52"/>
                  </a:lnTo>
                  <a:lnTo>
                    <a:pt x="501" y="50"/>
                  </a:lnTo>
                  <a:lnTo>
                    <a:pt x="469" y="48"/>
                  </a:lnTo>
                  <a:lnTo>
                    <a:pt x="442" y="46"/>
                  </a:lnTo>
                  <a:lnTo>
                    <a:pt x="420" y="44"/>
                  </a:lnTo>
                  <a:lnTo>
                    <a:pt x="408" y="43"/>
                  </a:lnTo>
                  <a:lnTo>
                    <a:pt x="396" y="41"/>
                  </a:lnTo>
                  <a:lnTo>
                    <a:pt x="374" y="39"/>
                  </a:lnTo>
                  <a:lnTo>
                    <a:pt x="344" y="35"/>
                  </a:lnTo>
                  <a:lnTo>
                    <a:pt x="312" y="31"/>
                  </a:lnTo>
                  <a:lnTo>
                    <a:pt x="275" y="28"/>
                  </a:lnTo>
                  <a:lnTo>
                    <a:pt x="238" y="24"/>
                  </a:lnTo>
                  <a:lnTo>
                    <a:pt x="201" y="22"/>
                  </a:lnTo>
                  <a:lnTo>
                    <a:pt x="167" y="21"/>
                  </a:lnTo>
                  <a:lnTo>
                    <a:pt x="135" y="19"/>
                  </a:lnTo>
                  <a:lnTo>
                    <a:pt x="113" y="21"/>
                  </a:lnTo>
                  <a:lnTo>
                    <a:pt x="108" y="21"/>
                  </a:lnTo>
                  <a:lnTo>
                    <a:pt x="100" y="21"/>
                  </a:lnTo>
                  <a:lnTo>
                    <a:pt x="88" y="21"/>
                  </a:lnTo>
                  <a:lnTo>
                    <a:pt x="76" y="21"/>
                  </a:lnTo>
                  <a:lnTo>
                    <a:pt x="59" y="21"/>
                  </a:lnTo>
                  <a:lnTo>
                    <a:pt x="41" y="19"/>
                  </a:lnTo>
                  <a:lnTo>
                    <a:pt x="27" y="17"/>
                  </a:lnTo>
                  <a:lnTo>
                    <a:pt x="14" y="13"/>
                  </a:lnTo>
                  <a:lnTo>
                    <a:pt x="4" y="9"/>
                  </a:lnTo>
                  <a:lnTo>
                    <a:pt x="0" y="3"/>
                  </a:lnTo>
                  <a:lnTo>
                    <a:pt x="1465" y="0"/>
                  </a:lnTo>
                  <a:lnTo>
                    <a:pt x="1425" y="41"/>
                  </a:lnTo>
                  <a:lnTo>
                    <a:pt x="1425" y="43"/>
                  </a:lnTo>
                  <a:lnTo>
                    <a:pt x="1423" y="43"/>
                  </a:lnTo>
                  <a:lnTo>
                    <a:pt x="1418" y="44"/>
                  </a:lnTo>
                  <a:lnTo>
                    <a:pt x="1413" y="46"/>
                  </a:lnTo>
                  <a:lnTo>
                    <a:pt x="1405" y="48"/>
                  </a:lnTo>
                  <a:lnTo>
                    <a:pt x="1398" y="52"/>
                  </a:lnTo>
                  <a:lnTo>
                    <a:pt x="1388" y="54"/>
                  </a:lnTo>
                  <a:lnTo>
                    <a:pt x="1378" y="56"/>
                  </a:lnTo>
                  <a:lnTo>
                    <a:pt x="1369" y="58"/>
                  </a:lnTo>
                  <a:lnTo>
                    <a:pt x="1356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6743880" y="5553000"/>
              <a:ext cx="527400" cy="19440"/>
            </a:xfrm>
            <a:custGeom>
              <a:avLst/>
              <a:gdLst/>
              <a:ahLst/>
              <a:rect l="0" t="0" r="r" b="b"/>
              <a:pathLst>
                <a:path w="1465" h="54">
                  <a:moveTo>
                    <a:pt x="1356" y="54"/>
                  </a:moveTo>
                  <a:lnTo>
                    <a:pt x="637" y="51"/>
                  </a:lnTo>
                  <a:lnTo>
                    <a:pt x="632" y="51"/>
                  </a:lnTo>
                  <a:lnTo>
                    <a:pt x="615" y="51"/>
                  </a:lnTo>
                  <a:lnTo>
                    <a:pt x="592" y="49"/>
                  </a:lnTo>
                  <a:lnTo>
                    <a:pt x="563" y="49"/>
                  </a:lnTo>
                  <a:lnTo>
                    <a:pt x="533" y="47"/>
                  </a:lnTo>
                  <a:lnTo>
                    <a:pt x="501" y="47"/>
                  </a:lnTo>
                  <a:lnTo>
                    <a:pt x="469" y="45"/>
                  </a:lnTo>
                  <a:lnTo>
                    <a:pt x="442" y="43"/>
                  </a:lnTo>
                  <a:lnTo>
                    <a:pt x="420" y="41"/>
                  </a:lnTo>
                  <a:lnTo>
                    <a:pt x="408" y="38"/>
                  </a:lnTo>
                  <a:lnTo>
                    <a:pt x="396" y="36"/>
                  </a:lnTo>
                  <a:lnTo>
                    <a:pt x="374" y="35"/>
                  </a:lnTo>
                  <a:lnTo>
                    <a:pt x="344" y="31"/>
                  </a:lnTo>
                  <a:lnTo>
                    <a:pt x="312" y="29"/>
                  </a:lnTo>
                  <a:lnTo>
                    <a:pt x="275" y="25"/>
                  </a:lnTo>
                  <a:lnTo>
                    <a:pt x="238" y="23"/>
                  </a:lnTo>
                  <a:lnTo>
                    <a:pt x="201" y="21"/>
                  </a:lnTo>
                  <a:lnTo>
                    <a:pt x="167" y="19"/>
                  </a:lnTo>
                  <a:lnTo>
                    <a:pt x="135" y="19"/>
                  </a:lnTo>
                  <a:lnTo>
                    <a:pt x="113" y="19"/>
                  </a:lnTo>
                  <a:lnTo>
                    <a:pt x="108" y="19"/>
                  </a:lnTo>
                  <a:lnTo>
                    <a:pt x="100" y="19"/>
                  </a:lnTo>
                  <a:lnTo>
                    <a:pt x="88" y="19"/>
                  </a:lnTo>
                  <a:lnTo>
                    <a:pt x="76" y="19"/>
                  </a:lnTo>
                  <a:lnTo>
                    <a:pt x="59" y="19"/>
                  </a:lnTo>
                  <a:lnTo>
                    <a:pt x="41" y="18"/>
                  </a:lnTo>
                  <a:lnTo>
                    <a:pt x="27" y="16"/>
                  </a:lnTo>
                  <a:lnTo>
                    <a:pt x="14" y="14"/>
                  </a:lnTo>
                  <a:lnTo>
                    <a:pt x="4" y="7"/>
                  </a:lnTo>
                  <a:lnTo>
                    <a:pt x="0" y="3"/>
                  </a:lnTo>
                  <a:lnTo>
                    <a:pt x="1465" y="0"/>
                  </a:lnTo>
                  <a:lnTo>
                    <a:pt x="1425" y="38"/>
                  </a:lnTo>
                  <a:lnTo>
                    <a:pt x="1423" y="38"/>
                  </a:lnTo>
                  <a:lnTo>
                    <a:pt x="1418" y="41"/>
                  </a:lnTo>
                  <a:lnTo>
                    <a:pt x="1413" y="43"/>
                  </a:lnTo>
                  <a:lnTo>
                    <a:pt x="1405" y="45"/>
                  </a:lnTo>
                  <a:lnTo>
                    <a:pt x="1398" y="47"/>
                  </a:lnTo>
                  <a:lnTo>
                    <a:pt x="1388" y="49"/>
                  </a:lnTo>
                  <a:lnTo>
                    <a:pt x="1378" y="51"/>
                  </a:lnTo>
                  <a:lnTo>
                    <a:pt x="1369" y="53"/>
                  </a:lnTo>
                  <a:lnTo>
                    <a:pt x="1356" y="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6743880" y="5553000"/>
              <a:ext cx="527400" cy="16200"/>
            </a:xfrm>
            <a:custGeom>
              <a:avLst/>
              <a:gdLst/>
              <a:ahLst/>
              <a:rect l="0" t="0" r="r" b="b"/>
              <a:pathLst>
                <a:path w="1465" h="45">
                  <a:moveTo>
                    <a:pt x="1356" y="45"/>
                  </a:moveTo>
                  <a:lnTo>
                    <a:pt x="637" y="41"/>
                  </a:lnTo>
                  <a:lnTo>
                    <a:pt x="632" y="41"/>
                  </a:lnTo>
                  <a:lnTo>
                    <a:pt x="615" y="41"/>
                  </a:lnTo>
                  <a:lnTo>
                    <a:pt x="592" y="41"/>
                  </a:lnTo>
                  <a:lnTo>
                    <a:pt x="563" y="41"/>
                  </a:lnTo>
                  <a:lnTo>
                    <a:pt x="533" y="39"/>
                  </a:lnTo>
                  <a:lnTo>
                    <a:pt x="501" y="39"/>
                  </a:lnTo>
                  <a:lnTo>
                    <a:pt x="469" y="38"/>
                  </a:lnTo>
                  <a:lnTo>
                    <a:pt x="442" y="36"/>
                  </a:lnTo>
                  <a:lnTo>
                    <a:pt x="420" y="34"/>
                  </a:lnTo>
                  <a:lnTo>
                    <a:pt x="408" y="32"/>
                  </a:lnTo>
                  <a:lnTo>
                    <a:pt x="396" y="30"/>
                  </a:lnTo>
                  <a:lnTo>
                    <a:pt x="374" y="29"/>
                  </a:lnTo>
                  <a:lnTo>
                    <a:pt x="344" y="27"/>
                  </a:lnTo>
                  <a:lnTo>
                    <a:pt x="312" y="23"/>
                  </a:lnTo>
                  <a:lnTo>
                    <a:pt x="275" y="21"/>
                  </a:lnTo>
                  <a:lnTo>
                    <a:pt x="238" y="19"/>
                  </a:lnTo>
                  <a:lnTo>
                    <a:pt x="201" y="17"/>
                  </a:lnTo>
                  <a:lnTo>
                    <a:pt x="167" y="15"/>
                  </a:lnTo>
                  <a:lnTo>
                    <a:pt x="135" y="15"/>
                  </a:lnTo>
                  <a:lnTo>
                    <a:pt x="113" y="15"/>
                  </a:lnTo>
                  <a:lnTo>
                    <a:pt x="108" y="15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6" y="15"/>
                  </a:lnTo>
                  <a:lnTo>
                    <a:pt x="59" y="15"/>
                  </a:lnTo>
                  <a:lnTo>
                    <a:pt x="41" y="14"/>
                  </a:lnTo>
                  <a:lnTo>
                    <a:pt x="27" y="12"/>
                  </a:lnTo>
                  <a:lnTo>
                    <a:pt x="14" y="10"/>
                  </a:lnTo>
                  <a:lnTo>
                    <a:pt x="4" y="7"/>
                  </a:lnTo>
                  <a:lnTo>
                    <a:pt x="0" y="3"/>
                  </a:lnTo>
                  <a:lnTo>
                    <a:pt x="1465" y="0"/>
                  </a:lnTo>
                  <a:lnTo>
                    <a:pt x="1425" y="32"/>
                  </a:lnTo>
                  <a:lnTo>
                    <a:pt x="1423" y="32"/>
                  </a:lnTo>
                  <a:lnTo>
                    <a:pt x="1418" y="34"/>
                  </a:lnTo>
                  <a:lnTo>
                    <a:pt x="1413" y="36"/>
                  </a:lnTo>
                  <a:lnTo>
                    <a:pt x="1405" y="38"/>
                  </a:lnTo>
                  <a:lnTo>
                    <a:pt x="1398" y="39"/>
                  </a:lnTo>
                  <a:lnTo>
                    <a:pt x="1388" y="41"/>
                  </a:lnTo>
                  <a:lnTo>
                    <a:pt x="1378" y="43"/>
                  </a:lnTo>
                  <a:lnTo>
                    <a:pt x="1369" y="43"/>
                  </a:lnTo>
                  <a:lnTo>
                    <a:pt x="1356" y="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6743880" y="5553000"/>
              <a:ext cx="527400" cy="14760"/>
            </a:xfrm>
            <a:custGeom>
              <a:avLst/>
              <a:gdLst/>
              <a:ahLst/>
              <a:rect l="0" t="0" r="r" b="b"/>
              <a:pathLst>
                <a:path w="1465" h="41">
                  <a:moveTo>
                    <a:pt x="1356" y="41"/>
                  </a:moveTo>
                  <a:lnTo>
                    <a:pt x="637" y="39"/>
                  </a:lnTo>
                  <a:lnTo>
                    <a:pt x="632" y="39"/>
                  </a:lnTo>
                  <a:lnTo>
                    <a:pt x="615" y="39"/>
                  </a:lnTo>
                  <a:lnTo>
                    <a:pt x="592" y="38"/>
                  </a:lnTo>
                  <a:lnTo>
                    <a:pt x="563" y="38"/>
                  </a:lnTo>
                  <a:lnTo>
                    <a:pt x="533" y="38"/>
                  </a:lnTo>
                  <a:lnTo>
                    <a:pt x="501" y="36"/>
                  </a:lnTo>
                  <a:lnTo>
                    <a:pt x="469" y="36"/>
                  </a:lnTo>
                  <a:lnTo>
                    <a:pt x="442" y="34"/>
                  </a:lnTo>
                  <a:lnTo>
                    <a:pt x="420" y="32"/>
                  </a:lnTo>
                  <a:lnTo>
                    <a:pt x="408" y="29"/>
                  </a:lnTo>
                  <a:lnTo>
                    <a:pt x="396" y="29"/>
                  </a:lnTo>
                  <a:lnTo>
                    <a:pt x="374" y="26"/>
                  </a:lnTo>
                  <a:lnTo>
                    <a:pt x="344" y="24"/>
                  </a:lnTo>
                  <a:lnTo>
                    <a:pt x="312" y="22"/>
                  </a:lnTo>
                  <a:lnTo>
                    <a:pt x="275" y="20"/>
                  </a:lnTo>
                  <a:lnTo>
                    <a:pt x="238" y="19"/>
                  </a:lnTo>
                  <a:lnTo>
                    <a:pt x="201" y="17"/>
                  </a:lnTo>
                  <a:lnTo>
                    <a:pt x="167" y="15"/>
                  </a:lnTo>
                  <a:lnTo>
                    <a:pt x="135" y="15"/>
                  </a:lnTo>
                  <a:lnTo>
                    <a:pt x="113" y="15"/>
                  </a:lnTo>
                  <a:lnTo>
                    <a:pt x="108" y="15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6" y="15"/>
                  </a:lnTo>
                  <a:lnTo>
                    <a:pt x="59" y="15"/>
                  </a:lnTo>
                  <a:lnTo>
                    <a:pt x="41" y="13"/>
                  </a:lnTo>
                  <a:lnTo>
                    <a:pt x="27" y="13"/>
                  </a:lnTo>
                  <a:lnTo>
                    <a:pt x="14" y="9"/>
                  </a:lnTo>
                  <a:lnTo>
                    <a:pt x="4" y="7"/>
                  </a:lnTo>
                  <a:lnTo>
                    <a:pt x="0" y="1"/>
                  </a:lnTo>
                  <a:lnTo>
                    <a:pt x="1465" y="0"/>
                  </a:lnTo>
                  <a:lnTo>
                    <a:pt x="1425" y="29"/>
                  </a:lnTo>
                  <a:lnTo>
                    <a:pt x="1423" y="29"/>
                  </a:lnTo>
                  <a:lnTo>
                    <a:pt x="1418" y="32"/>
                  </a:lnTo>
                  <a:lnTo>
                    <a:pt x="1413" y="34"/>
                  </a:lnTo>
                  <a:lnTo>
                    <a:pt x="1405" y="36"/>
                  </a:lnTo>
                  <a:lnTo>
                    <a:pt x="1398" y="38"/>
                  </a:lnTo>
                  <a:lnTo>
                    <a:pt x="1388" y="39"/>
                  </a:lnTo>
                  <a:lnTo>
                    <a:pt x="1378" y="39"/>
                  </a:lnTo>
                  <a:lnTo>
                    <a:pt x="1369" y="41"/>
                  </a:lnTo>
                  <a:lnTo>
                    <a:pt x="1356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6743880" y="5553000"/>
              <a:ext cx="527400" cy="12960"/>
            </a:xfrm>
            <a:custGeom>
              <a:avLst/>
              <a:gdLst/>
              <a:ahLst/>
              <a:rect l="0" t="0" r="r" b="b"/>
              <a:pathLst>
                <a:path w="1465" h="36">
                  <a:moveTo>
                    <a:pt x="0" y="1"/>
                  </a:moveTo>
                  <a:lnTo>
                    <a:pt x="1465" y="0"/>
                  </a:lnTo>
                  <a:lnTo>
                    <a:pt x="1425" y="25"/>
                  </a:lnTo>
                  <a:lnTo>
                    <a:pt x="1423" y="25"/>
                  </a:lnTo>
                  <a:lnTo>
                    <a:pt x="1418" y="27"/>
                  </a:lnTo>
                  <a:lnTo>
                    <a:pt x="1413" y="29"/>
                  </a:lnTo>
                  <a:lnTo>
                    <a:pt x="1405" y="29"/>
                  </a:lnTo>
                  <a:lnTo>
                    <a:pt x="1398" y="30"/>
                  </a:lnTo>
                  <a:lnTo>
                    <a:pt x="1388" y="32"/>
                  </a:lnTo>
                  <a:lnTo>
                    <a:pt x="1378" y="34"/>
                  </a:lnTo>
                  <a:lnTo>
                    <a:pt x="1369" y="34"/>
                  </a:lnTo>
                  <a:lnTo>
                    <a:pt x="1356" y="36"/>
                  </a:lnTo>
                  <a:lnTo>
                    <a:pt x="637" y="32"/>
                  </a:lnTo>
                  <a:lnTo>
                    <a:pt x="632" y="32"/>
                  </a:lnTo>
                  <a:lnTo>
                    <a:pt x="615" y="32"/>
                  </a:lnTo>
                  <a:lnTo>
                    <a:pt x="592" y="32"/>
                  </a:lnTo>
                  <a:lnTo>
                    <a:pt x="563" y="32"/>
                  </a:lnTo>
                  <a:lnTo>
                    <a:pt x="533" y="30"/>
                  </a:lnTo>
                  <a:lnTo>
                    <a:pt x="501" y="30"/>
                  </a:lnTo>
                  <a:lnTo>
                    <a:pt x="469" y="29"/>
                  </a:lnTo>
                  <a:lnTo>
                    <a:pt x="442" y="29"/>
                  </a:lnTo>
                  <a:lnTo>
                    <a:pt x="420" y="27"/>
                  </a:lnTo>
                  <a:lnTo>
                    <a:pt x="408" y="25"/>
                  </a:lnTo>
                  <a:lnTo>
                    <a:pt x="396" y="25"/>
                  </a:lnTo>
                  <a:lnTo>
                    <a:pt x="374" y="23"/>
                  </a:lnTo>
                  <a:lnTo>
                    <a:pt x="344" y="22"/>
                  </a:lnTo>
                  <a:lnTo>
                    <a:pt x="312" y="20"/>
                  </a:lnTo>
                  <a:lnTo>
                    <a:pt x="275" y="17"/>
                  </a:lnTo>
                  <a:lnTo>
                    <a:pt x="238" y="15"/>
                  </a:lnTo>
                  <a:lnTo>
                    <a:pt x="201" y="14"/>
                  </a:lnTo>
                  <a:lnTo>
                    <a:pt x="167" y="12"/>
                  </a:lnTo>
                  <a:lnTo>
                    <a:pt x="135" y="12"/>
                  </a:lnTo>
                  <a:lnTo>
                    <a:pt x="113" y="12"/>
                  </a:lnTo>
                  <a:lnTo>
                    <a:pt x="108" y="12"/>
                  </a:lnTo>
                  <a:lnTo>
                    <a:pt x="100" y="12"/>
                  </a:lnTo>
                  <a:lnTo>
                    <a:pt x="88" y="12"/>
                  </a:lnTo>
                  <a:lnTo>
                    <a:pt x="76" y="12"/>
                  </a:lnTo>
                  <a:lnTo>
                    <a:pt x="59" y="12"/>
                  </a:lnTo>
                  <a:lnTo>
                    <a:pt x="41" y="12"/>
                  </a:lnTo>
                  <a:lnTo>
                    <a:pt x="27" y="10"/>
                  </a:lnTo>
                  <a:lnTo>
                    <a:pt x="14" y="8"/>
                  </a:lnTo>
                  <a:lnTo>
                    <a:pt x="4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6743880" y="5553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6743880" y="5553000"/>
              <a:ext cx="533880" cy="35280"/>
            </a:xfrm>
            <a:custGeom>
              <a:avLst/>
              <a:gdLst/>
              <a:ahLst/>
              <a:rect l="0" t="0" r="r" b="b"/>
              <a:pathLst>
                <a:path w="1483" h="98">
                  <a:moveTo>
                    <a:pt x="0" y="7"/>
                  </a:moveTo>
                  <a:lnTo>
                    <a:pt x="1483" y="0"/>
                  </a:lnTo>
                  <a:lnTo>
                    <a:pt x="1443" y="70"/>
                  </a:lnTo>
                  <a:lnTo>
                    <a:pt x="1441" y="73"/>
                  </a:lnTo>
                  <a:lnTo>
                    <a:pt x="1436" y="75"/>
                  </a:lnTo>
                  <a:lnTo>
                    <a:pt x="1431" y="78"/>
                  </a:lnTo>
                  <a:lnTo>
                    <a:pt x="1423" y="83"/>
                  </a:lnTo>
                  <a:lnTo>
                    <a:pt x="1416" y="85"/>
                  </a:lnTo>
                  <a:lnTo>
                    <a:pt x="1406" y="90"/>
                  </a:lnTo>
                  <a:lnTo>
                    <a:pt x="1396" y="93"/>
                  </a:lnTo>
                  <a:lnTo>
                    <a:pt x="1386" y="95"/>
                  </a:lnTo>
                  <a:lnTo>
                    <a:pt x="1374" y="98"/>
                  </a:lnTo>
                  <a:lnTo>
                    <a:pt x="645" y="90"/>
                  </a:lnTo>
                  <a:lnTo>
                    <a:pt x="640" y="90"/>
                  </a:lnTo>
                  <a:lnTo>
                    <a:pt x="623" y="90"/>
                  </a:lnTo>
                  <a:lnTo>
                    <a:pt x="601" y="90"/>
                  </a:lnTo>
                  <a:lnTo>
                    <a:pt x="571" y="88"/>
                  </a:lnTo>
                  <a:lnTo>
                    <a:pt x="541" y="88"/>
                  </a:lnTo>
                  <a:lnTo>
                    <a:pt x="509" y="85"/>
                  </a:lnTo>
                  <a:lnTo>
                    <a:pt x="476" y="83"/>
                  </a:lnTo>
                  <a:lnTo>
                    <a:pt x="449" y="80"/>
                  </a:lnTo>
                  <a:lnTo>
                    <a:pt x="426" y="75"/>
                  </a:lnTo>
                  <a:lnTo>
                    <a:pt x="414" y="73"/>
                  </a:lnTo>
                  <a:lnTo>
                    <a:pt x="401" y="68"/>
                  </a:lnTo>
                  <a:lnTo>
                    <a:pt x="379" y="63"/>
                  </a:lnTo>
                  <a:lnTo>
                    <a:pt x="348" y="58"/>
                  </a:lnTo>
                  <a:lnTo>
                    <a:pt x="316" y="53"/>
                  </a:lnTo>
                  <a:lnTo>
                    <a:pt x="278" y="47"/>
                  </a:lnTo>
                  <a:lnTo>
                    <a:pt x="241" y="42"/>
                  </a:lnTo>
                  <a:lnTo>
                    <a:pt x="204" y="39"/>
                  </a:lnTo>
                  <a:lnTo>
                    <a:pt x="169" y="34"/>
                  </a:lnTo>
                  <a:lnTo>
                    <a:pt x="136" y="34"/>
                  </a:lnTo>
                  <a:lnTo>
                    <a:pt x="114" y="34"/>
                  </a:lnTo>
                  <a:lnTo>
                    <a:pt x="109" y="34"/>
                  </a:lnTo>
                  <a:lnTo>
                    <a:pt x="102" y="34"/>
                  </a:lnTo>
                  <a:lnTo>
                    <a:pt x="89" y="34"/>
                  </a:lnTo>
                  <a:lnTo>
                    <a:pt x="77" y="34"/>
                  </a:lnTo>
                  <a:lnTo>
                    <a:pt x="59" y="34"/>
                  </a:lnTo>
                  <a:lnTo>
                    <a:pt x="42" y="32"/>
                  </a:lnTo>
                  <a:lnTo>
                    <a:pt x="27" y="29"/>
                  </a:lnTo>
                  <a:lnTo>
                    <a:pt x="14" y="22"/>
                  </a:lnTo>
                  <a:lnTo>
                    <a:pt x="4" y="1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6923160" y="5564160"/>
              <a:ext cx="124200" cy="5040"/>
            </a:xfrm>
            <a:custGeom>
              <a:avLst/>
              <a:gdLst/>
              <a:ahLst/>
              <a:rect l="0" t="0" r="r" b="b"/>
              <a:pathLst>
                <a:path w="345" h="14">
                  <a:moveTo>
                    <a:pt x="0" y="0"/>
                  </a:moveTo>
                  <a:lnTo>
                    <a:pt x="9" y="2"/>
                  </a:lnTo>
                  <a:lnTo>
                    <a:pt x="24" y="4"/>
                  </a:lnTo>
                  <a:lnTo>
                    <a:pt x="44" y="6"/>
                  </a:lnTo>
                  <a:lnTo>
                    <a:pt x="64" y="6"/>
                  </a:lnTo>
                  <a:lnTo>
                    <a:pt x="90" y="9"/>
                  </a:lnTo>
                  <a:lnTo>
                    <a:pt x="113" y="12"/>
                  </a:lnTo>
                  <a:lnTo>
                    <a:pt x="135" y="12"/>
                  </a:lnTo>
                  <a:lnTo>
                    <a:pt x="155" y="14"/>
                  </a:lnTo>
                  <a:lnTo>
                    <a:pt x="172" y="14"/>
                  </a:lnTo>
                  <a:lnTo>
                    <a:pt x="185" y="14"/>
                  </a:lnTo>
                  <a:lnTo>
                    <a:pt x="197" y="14"/>
                  </a:lnTo>
                  <a:lnTo>
                    <a:pt x="212" y="14"/>
                  </a:lnTo>
                  <a:lnTo>
                    <a:pt x="232" y="12"/>
                  </a:lnTo>
                  <a:lnTo>
                    <a:pt x="252" y="12"/>
                  </a:lnTo>
                  <a:lnTo>
                    <a:pt x="273" y="9"/>
                  </a:lnTo>
                  <a:lnTo>
                    <a:pt x="293" y="6"/>
                  </a:lnTo>
                  <a:lnTo>
                    <a:pt x="311" y="6"/>
                  </a:lnTo>
                  <a:lnTo>
                    <a:pt x="326" y="4"/>
                  </a:lnTo>
                  <a:lnTo>
                    <a:pt x="338" y="2"/>
                  </a:lnTo>
                  <a:lnTo>
                    <a:pt x="3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791400" y="5560920"/>
              <a:ext cx="5040" cy="16200"/>
            </a:xfrm>
            <a:custGeom>
              <a:avLst/>
              <a:gdLst/>
              <a:ahLst/>
              <a:rect l="0" t="0" r="r" b="b"/>
              <a:pathLst>
                <a:path w="14" h="45">
                  <a:moveTo>
                    <a:pt x="1" y="1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5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8" y="41"/>
                  </a:lnTo>
                  <a:lnTo>
                    <a:pt x="3" y="45"/>
                  </a:lnTo>
                  <a:lnTo>
                    <a:pt x="1" y="45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6791400" y="5560920"/>
              <a:ext cx="9720" cy="20880"/>
            </a:xfrm>
            <a:custGeom>
              <a:avLst/>
              <a:gdLst/>
              <a:ahLst/>
              <a:rect l="0" t="0" r="r" b="b"/>
              <a:pathLst>
                <a:path w="27" h="58">
                  <a:moveTo>
                    <a:pt x="2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2" y="45"/>
                  </a:lnTo>
                  <a:lnTo>
                    <a:pt x="20" y="48"/>
                  </a:lnTo>
                  <a:lnTo>
                    <a:pt x="15" y="53"/>
                  </a:lnTo>
                  <a:lnTo>
                    <a:pt x="7" y="58"/>
                  </a:lnTo>
                  <a:lnTo>
                    <a:pt x="2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6804000" y="5560920"/>
              <a:ext cx="5040" cy="16200"/>
            </a:xfrm>
            <a:custGeom>
              <a:avLst/>
              <a:gdLst/>
              <a:ahLst/>
              <a:rect l="0" t="0" r="r" b="b"/>
              <a:pathLst>
                <a:path w="14" h="45">
                  <a:moveTo>
                    <a:pt x="2" y="7"/>
                  </a:moveTo>
                  <a:lnTo>
                    <a:pt x="2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8" y="45"/>
                  </a:lnTo>
                  <a:lnTo>
                    <a:pt x="6" y="45"/>
                  </a:lnTo>
                  <a:lnTo>
                    <a:pt x="5" y="45"/>
                  </a:lnTo>
                  <a:lnTo>
                    <a:pt x="3" y="45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804000" y="5560920"/>
              <a:ext cx="9720" cy="22680"/>
            </a:xfrm>
            <a:custGeom>
              <a:avLst/>
              <a:gdLst/>
              <a:ahLst/>
              <a:rect l="0" t="0" r="r" b="b"/>
              <a:pathLst>
                <a:path w="27" h="63">
                  <a:moveTo>
                    <a:pt x="4" y="10"/>
                  </a:moveTo>
                  <a:lnTo>
                    <a:pt x="4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5"/>
                  </a:lnTo>
                  <a:lnTo>
                    <a:pt x="16" y="63"/>
                  </a:lnTo>
                  <a:lnTo>
                    <a:pt x="14" y="63"/>
                  </a:lnTo>
                  <a:lnTo>
                    <a:pt x="11" y="63"/>
                  </a:lnTo>
                  <a:lnTo>
                    <a:pt x="6" y="63"/>
                  </a:lnTo>
                  <a:lnTo>
                    <a:pt x="2" y="61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 flipV="1">
              <a:off x="6889680" y="5533920"/>
              <a:ext cx="236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V="1">
              <a:off x="6889680" y="5533920"/>
              <a:ext cx="236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 flipV="1">
              <a:off x="6889680" y="5530680"/>
              <a:ext cx="236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7184880" y="5519880"/>
              <a:ext cx="14760" cy="24120"/>
            </a:xfrm>
            <a:custGeom>
              <a:avLst/>
              <a:gdLst/>
              <a:ahLst/>
              <a:rect l="0" t="0" r="r" b="b"/>
              <a:pathLst>
                <a:path w="41" h="67">
                  <a:moveTo>
                    <a:pt x="9" y="26"/>
                  </a:moveTo>
                  <a:lnTo>
                    <a:pt x="12" y="24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31"/>
                  </a:lnTo>
                  <a:lnTo>
                    <a:pt x="39" y="34"/>
                  </a:lnTo>
                  <a:lnTo>
                    <a:pt x="41" y="38"/>
                  </a:lnTo>
                  <a:lnTo>
                    <a:pt x="41" y="40"/>
                  </a:lnTo>
                  <a:lnTo>
                    <a:pt x="41" y="44"/>
                  </a:lnTo>
                  <a:lnTo>
                    <a:pt x="41" y="46"/>
                  </a:lnTo>
                  <a:lnTo>
                    <a:pt x="41" y="50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7" y="58"/>
                  </a:lnTo>
                  <a:lnTo>
                    <a:pt x="36" y="63"/>
                  </a:lnTo>
                  <a:lnTo>
                    <a:pt x="34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19" y="67"/>
                  </a:lnTo>
                  <a:lnTo>
                    <a:pt x="16" y="67"/>
                  </a:lnTo>
                  <a:lnTo>
                    <a:pt x="14" y="67"/>
                  </a:lnTo>
                  <a:lnTo>
                    <a:pt x="12" y="67"/>
                  </a:lnTo>
                  <a:lnTo>
                    <a:pt x="9" y="65"/>
                  </a:lnTo>
                  <a:lnTo>
                    <a:pt x="5" y="65"/>
                  </a:lnTo>
                  <a:lnTo>
                    <a:pt x="3" y="63"/>
                  </a:lnTo>
                  <a:lnTo>
                    <a:pt x="1" y="60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9" y="56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5" y="60"/>
                  </a:lnTo>
                  <a:lnTo>
                    <a:pt x="27" y="58"/>
                  </a:lnTo>
                  <a:lnTo>
                    <a:pt x="32" y="54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4" y="40"/>
                  </a:lnTo>
                  <a:lnTo>
                    <a:pt x="32" y="36"/>
                  </a:lnTo>
                  <a:lnTo>
                    <a:pt x="27" y="34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2" y="34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1" y="38"/>
                  </a:lnTo>
                  <a:lnTo>
                    <a:pt x="5" y="0"/>
                  </a:lnTo>
                  <a:lnTo>
                    <a:pt x="37" y="0"/>
                  </a:lnTo>
                  <a:lnTo>
                    <a:pt x="37" y="8"/>
                  </a:lnTo>
                  <a:lnTo>
                    <a:pt x="12" y="8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7184880" y="5519880"/>
              <a:ext cx="19440" cy="28800"/>
            </a:xfrm>
            <a:custGeom>
              <a:avLst/>
              <a:gdLst/>
              <a:ahLst/>
              <a:rect l="0" t="0" r="r" b="b"/>
              <a:pathLst>
                <a:path w="54" h="80">
                  <a:moveTo>
                    <a:pt x="12" y="32"/>
                  </a:moveTo>
                  <a:lnTo>
                    <a:pt x="16" y="29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8" y="27"/>
                  </a:lnTo>
                  <a:lnTo>
                    <a:pt x="31" y="27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4" y="32"/>
                  </a:lnTo>
                  <a:lnTo>
                    <a:pt x="47" y="34"/>
                  </a:lnTo>
                  <a:lnTo>
                    <a:pt x="49" y="37"/>
                  </a:lnTo>
                  <a:lnTo>
                    <a:pt x="52" y="39"/>
                  </a:lnTo>
                  <a:lnTo>
                    <a:pt x="54" y="45"/>
                  </a:lnTo>
                  <a:lnTo>
                    <a:pt x="54" y="48"/>
                  </a:lnTo>
                  <a:lnTo>
                    <a:pt x="54" y="53"/>
                  </a:lnTo>
                  <a:lnTo>
                    <a:pt x="54" y="55"/>
                  </a:lnTo>
                  <a:lnTo>
                    <a:pt x="54" y="60"/>
                  </a:lnTo>
                  <a:lnTo>
                    <a:pt x="54" y="63"/>
                  </a:lnTo>
                  <a:lnTo>
                    <a:pt x="52" y="67"/>
                  </a:lnTo>
                  <a:lnTo>
                    <a:pt x="49" y="70"/>
                  </a:lnTo>
                  <a:lnTo>
                    <a:pt x="47" y="75"/>
                  </a:lnTo>
                  <a:lnTo>
                    <a:pt x="44" y="77"/>
                  </a:lnTo>
                  <a:lnTo>
                    <a:pt x="38" y="80"/>
                  </a:lnTo>
                  <a:lnTo>
                    <a:pt x="33" y="80"/>
                  </a:lnTo>
                  <a:lnTo>
                    <a:pt x="26" y="80"/>
                  </a:lnTo>
                  <a:lnTo>
                    <a:pt x="21" y="80"/>
                  </a:lnTo>
                  <a:lnTo>
                    <a:pt x="18" y="80"/>
                  </a:lnTo>
                  <a:lnTo>
                    <a:pt x="16" y="80"/>
                  </a:lnTo>
                  <a:lnTo>
                    <a:pt x="12" y="77"/>
                  </a:lnTo>
                  <a:lnTo>
                    <a:pt x="7" y="77"/>
                  </a:lnTo>
                  <a:lnTo>
                    <a:pt x="5" y="75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10" y="65"/>
                  </a:lnTo>
                  <a:lnTo>
                    <a:pt x="12" y="67"/>
                  </a:lnTo>
                  <a:lnTo>
                    <a:pt x="18" y="70"/>
                  </a:lnTo>
                  <a:lnTo>
                    <a:pt x="21" y="72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6" y="70"/>
                  </a:lnTo>
                  <a:lnTo>
                    <a:pt x="42" y="65"/>
                  </a:lnTo>
                  <a:lnTo>
                    <a:pt x="44" y="60"/>
                  </a:lnTo>
                  <a:lnTo>
                    <a:pt x="44" y="55"/>
                  </a:lnTo>
                  <a:lnTo>
                    <a:pt x="44" y="48"/>
                  </a:lnTo>
                  <a:lnTo>
                    <a:pt x="42" y="43"/>
                  </a:lnTo>
                  <a:lnTo>
                    <a:pt x="36" y="39"/>
                  </a:lnTo>
                  <a:lnTo>
                    <a:pt x="31" y="37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18" y="37"/>
                  </a:lnTo>
                  <a:lnTo>
                    <a:pt x="16" y="39"/>
                  </a:lnTo>
                  <a:lnTo>
                    <a:pt x="12" y="43"/>
                  </a:lnTo>
                  <a:lnTo>
                    <a:pt x="10" y="45"/>
                  </a:lnTo>
                  <a:lnTo>
                    <a:pt x="2" y="45"/>
                  </a:lnTo>
                  <a:lnTo>
                    <a:pt x="7" y="0"/>
                  </a:lnTo>
                  <a:lnTo>
                    <a:pt x="49" y="0"/>
                  </a:lnTo>
                  <a:lnTo>
                    <a:pt x="49" y="9"/>
                  </a:lnTo>
                  <a:lnTo>
                    <a:pt x="16" y="9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209000" y="5519880"/>
              <a:ext cx="6840" cy="24120"/>
            </a:xfrm>
            <a:custGeom>
              <a:avLst/>
              <a:gdLst/>
              <a:ahLst/>
              <a:rect l="0" t="0" r="r" b="b"/>
              <a:pathLst>
                <a:path w="19" h="67">
                  <a:moveTo>
                    <a:pt x="19" y="67"/>
                  </a:moveTo>
                  <a:lnTo>
                    <a:pt x="12" y="67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7209000" y="5519880"/>
              <a:ext cx="11520" cy="28800"/>
            </a:xfrm>
            <a:custGeom>
              <a:avLst/>
              <a:gdLst/>
              <a:ahLst/>
              <a:rect l="0" t="0" r="r" b="b"/>
              <a:pathLst>
                <a:path w="32" h="80">
                  <a:moveTo>
                    <a:pt x="32" y="80"/>
                  </a:moveTo>
                  <a:lnTo>
                    <a:pt x="21" y="8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7186680" y="551988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8" y="24"/>
                  </a:moveTo>
                  <a:lnTo>
                    <a:pt x="10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1"/>
                  </a:lnTo>
                  <a:lnTo>
                    <a:pt x="36" y="36"/>
                  </a:lnTo>
                  <a:lnTo>
                    <a:pt x="36" y="38"/>
                  </a:lnTo>
                  <a:lnTo>
                    <a:pt x="36" y="42"/>
                  </a:lnTo>
                  <a:lnTo>
                    <a:pt x="36" y="44"/>
                  </a:lnTo>
                  <a:lnTo>
                    <a:pt x="36" y="48"/>
                  </a:lnTo>
                  <a:lnTo>
                    <a:pt x="36" y="50"/>
                  </a:lnTo>
                  <a:lnTo>
                    <a:pt x="34" y="54"/>
                  </a:lnTo>
                  <a:lnTo>
                    <a:pt x="32" y="56"/>
                  </a:lnTo>
                  <a:lnTo>
                    <a:pt x="31" y="60"/>
                  </a:lnTo>
                  <a:lnTo>
                    <a:pt x="29" y="63"/>
                  </a:lnTo>
                  <a:lnTo>
                    <a:pt x="26" y="65"/>
                  </a:lnTo>
                  <a:lnTo>
                    <a:pt x="22" y="65"/>
                  </a:lnTo>
                  <a:lnTo>
                    <a:pt x="16" y="67"/>
                  </a:lnTo>
                  <a:lnTo>
                    <a:pt x="15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8" y="63"/>
                  </a:lnTo>
                  <a:lnTo>
                    <a:pt x="6" y="63"/>
                  </a:lnTo>
                  <a:lnTo>
                    <a:pt x="5" y="60"/>
                  </a:lnTo>
                  <a:lnTo>
                    <a:pt x="3" y="58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5" y="58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6" y="56"/>
                  </a:lnTo>
                  <a:lnTo>
                    <a:pt x="27" y="52"/>
                  </a:lnTo>
                  <a:lnTo>
                    <a:pt x="29" y="48"/>
                  </a:lnTo>
                  <a:lnTo>
                    <a:pt x="29" y="44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4" y="31"/>
                  </a:lnTo>
                  <a:lnTo>
                    <a:pt x="21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31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1" y="36"/>
                  </a:lnTo>
                  <a:lnTo>
                    <a:pt x="5" y="0"/>
                  </a:lnTo>
                  <a:lnTo>
                    <a:pt x="34" y="0"/>
                  </a:lnTo>
                  <a:lnTo>
                    <a:pt x="34" y="6"/>
                  </a:lnTo>
                  <a:lnTo>
                    <a:pt x="10" y="6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186680" y="5519880"/>
              <a:ext cx="19440" cy="28800"/>
            </a:xfrm>
            <a:custGeom>
              <a:avLst/>
              <a:gdLst/>
              <a:ahLst/>
              <a:rect l="0" t="0" r="r" b="b"/>
              <a:pathLst>
                <a:path w="54" h="80">
                  <a:moveTo>
                    <a:pt x="12" y="29"/>
                  </a:moveTo>
                  <a:lnTo>
                    <a:pt x="16" y="29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3" y="24"/>
                  </a:lnTo>
                  <a:lnTo>
                    <a:pt x="28" y="24"/>
                  </a:lnTo>
                  <a:lnTo>
                    <a:pt x="33" y="24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7" y="32"/>
                  </a:lnTo>
                  <a:lnTo>
                    <a:pt x="49" y="34"/>
                  </a:lnTo>
                  <a:lnTo>
                    <a:pt x="52" y="37"/>
                  </a:lnTo>
                  <a:lnTo>
                    <a:pt x="54" y="43"/>
                  </a:lnTo>
                  <a:lnTo>
                    <a:pt x="54" y="45"/>
                  </a:lnTo>
                  <a:lnTo>
                    <a:pt x="54" y="50"/>
                  </a:lnTo>
                  <a:lnTo>
                    <a:pt x="54" y="53"/>
                  </a:lnTo>
                  <a:lnTo>
                    <a:pt x="54" y="58"/>
                  </a:lnTo>
                  <a:lnTo>
                    <a:pt x="54" y="60"/>
                  </a:lnTo>
                  <a:lnTo>
                    <a:pt x="52" y="65"/>
                  </a:lnTo>
                  <a:lnTo>
                    <a:pt x="49" y="67"/>
                  </a:lnTo>
                  <a:lnTo>
                    <a:pt x="47" y="72"/>
                  </a:lnTo>
                  <a:lnTo>
                    <a:pt x="44" y="75"/>
                  </a:lnTo>
                  <a:lnTo>
                    <a:pt x="38" y="77"/>
                  </a:lnTo>
                  <a:lnTo>
                    <a:pt x="33" y="77"/>
                  </a:lnTo>
                  <a:lnTo>
                    <a:pt x="26" y="80"/>
                  </a:lnTo>
                  <a:lnTo>
                    <a:pt x="23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5" y="70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0" y="58"/>
                  </a:lnTo>
                  <a:lnTo>
                    <a:pt x="10" y="63"/>
                  </a:lnTo>
                  <a:lnTo>
                    <a:pt x="12" y="65"/>
                  </a:lnTo>
                  <a:lnTo>
                    <a:pt x="18" y="67"/>
                  </a:lnTo>
                  <a:lnTo>
                    <a:pt x="23" y="70"/>
                  </a:lnTo>
                  <a:lnTo>
                    <a:pt x="28" y="70"/>
                  </a:lnTo>
                  <a:lnTo>
                    <a:pt x="33" y="70"/>
                  </a:lnTo>
                  <a:lnTo>
                    <a:pt x="38" y="67"/>
                  </a:lnTo>
                  <a:lnTo>
                    <a:pt x="42" y="63"/>
                  </a:lnTo>
                  <a:lnTo>
                    <a:pt x="44" y="58"/>
                  </a:lnTo>
                  <a:lnTo>
                    <a:pt x="44" y="53"/>
                  </a:lnTo>
                  <a:lnTo>
                    <a:pt x="44" y="45"/>
                  </a:lnTo>
                  <a:lnTo>
                    <a:pt x="42" y="39"/>
                  </a:lnTo>
                  <a:lnTo>
                    <a:pt x="36" y="37"/>
                  </a:lnTo>
                  <a:lnTo>
                    <a:pt x="31" y="34"/>
                  </a:lnTo>
                  <a:lnTo>
                    <a:pt x="26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8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2" y="43"/>
                  </a:lnTo>
                  <a:lnTo>
                    <a:pt x="7" y="0"/>
                  </a:lnTo>
                  <a:lnTo>
                    <a:pt x="52" y="0"/>
                  </a:lnTo>
                  <a:lnTo>
                    <a:pt x="52" y="7"/>
                  </a:lnTo>
                  <a:lnTo>
                    <a:pt x="16" y="7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7211880" y="5519880"/>
              <a:ext cx="3600" cy="22680"/>
            </a:xfrm>
            <a:custGeom>
              <a:avLst/>
              <a:gdLst/>
              <a:ahLst/>
              <a:rect l="0" t="0" r="r" b="b"/>
              <a:pathLst>
                <a:path w="10" h="63">
                  <a:moveTo>
                    <a:pt x="10" y="63"/>
                  </a:moveTo>
                  <a:lnTo>
                    <a:pt x="6" y="63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211880" y="5519880"/>
              <a:ext cx="9720" cy="28800"/>
            </a:xfrm>
            <a:custGeom>
              <a:avLst/>
              <a:gdLst/>
              <a:ahLst/>
              <a:rect l="0" t="0" r="r" b="b"/>
              <a:pathLst>
                <a:path w="27" h="80">
                  <a:moveTo>
                    <a:pt x="27" y="80"/>
                  </a:moveTo>
                  <a:lnTo>
                    <a:pt x="17" y="80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6732720" y="548640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3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6735600" y="5491080"/>
              <a:ext cx="22320" cy="3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6858000" y="5513400"/>
              <a:ext cx="8280" cy="14760"/>
            </a:xfrm>
            <a:custGeom>
              <a:avLst/>
              <a:gdLst/>
              <a:ahLst/>
              <a:rect l="0" t="0" r="r" b="b"/>
              <a:pathLst>
                <a:path w="23" h="41">
                  <a:moveTo>
                    <a:pt x="0" y="4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6858000" y="5513400"/>
              <a:ext cx="12960" cy="20880"/>
            </a:xfrm>
            <a:custGeom>
              <a:avLst/>
              <a:gdLst/>
              <a:ahLst/>
              <a:rect l="0" t="0" r="r" b="b"/>
              <a:pathLst>
                <a:path w="36" h="58">
                  <a:moveTo>
                    <a:pt x="0" y="58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36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6730920" y="5334120"/>
              <a:ext cx="584280" cy="2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6" name="" descr=""/>
          <p:cNvPicPr/>
          <p:nvPr/>
        </p:nvPicPr>
        <p:blipFill>
          <a:blip r:embed="rId9"/>
          <a:stretch/>
        </p:blipFill>
        <p:spPr>
          <a:xfrm>
            <a:off x="7039080" y="5673600"/>
            <a:ext cx="522360" cy="149400"/>
          </a:xfrm>
          <a:prstGeom prst="rect">
            <a:avLst/>
          </a:prstGeom>
          <a:ln w="0">
            <a:noFill/>
          </a:ln>
        </p:spPr>
      </p:pic>
      <p:pic>
        <p:nvPicPr>
          <p:cNvPr id="4777" name="" descr=""/>
          <p:cNvPicPr/>
          <p:nvPr/>
        </p:nvPicPr>
        <p:blipFill>
          <a:blip r:embed="rId10"/>
          <a:stretch/>
        </p:blipFill>
        <p:spPr>
          <a:xfrm>
            <a:off x="5483160" y="4510080"/>
            <a:ext cx="542880" cy="177840"/>
          </a:xfrm>
          <a:prstGeom prst="rect">
            <a:avLst/>
          </a:prstGeom>
          <a:ln w="0">
            <a:noFill/>
          </a:ln>
        </p:spPr>
      </p:pic>
      <p:grpSp>
        <p:nvGrpSpPr>
          <p:cNvPr id="4778" name=""/>
          <p:cNvGrpSpPr/>
          <p:nvPr/>
        </p:nvGrpSpPr>
        <p:grpSpPr>
          <a:xfrm>
            <a:off x="5767560" y="4797360"/>
            <a:ext cx="155880" cy="214920"/>
            <a:chOff x="5767560" y="4797360"/>
            <a:chExt cx="155880" cy="214920"/>
          </a:xfrm>
        </p:grpSpPr>
        <p:sp>
          <p:nvSpPr>
            <p:cNvPr id="4779" name=""/>
            <p:cNvSpPr/>
            <p:nvPr/>
          </p:nvSpPr>
          <p:spPr>
            <a:xfrm>
              <a:off x="5767560" y="4797360"/>
              <a:ext cx="15084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5870520" y="4829040"/>
              <a:ext cx="0" cy="1191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55080" bIns="55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5792760" y="4938840"/>
              <a:ext cx="130680" cy="73440"/>
            </a:xfrm>
            <a:custGeom>
              <a:avLst/>
              <a:gdLst/>
              <a:ahLst/>
              <a:rect l="0" t="0" r="r" b="b"/>
              <a:pathLst>
                <a:path w="363" h="204">
                  <a:moveTo>
                    <a:pt x="0" y="204"/>
                  </a:moveTo>
                  <a:lnTo>
                    <a:pt x="291" y="204"/>
                  </a:lnTo>
                  <a:lnTo>
                    <a:pt x="363" y="164"/>
                  </a:lnTo>
                  <a:lnTo>
                    <a:pt x="363" y="0"/>
                  </a:lnTo>
                  <a:lnTo>
                    <a:pt x="291" y="40"/>
                  </a:lnTo>
                  <a:lnTo>
                    <a:pt x="291" y="204"/>
                  </a:lnTo>
                  <a:lnTo>
                    <a:pt x="291" y="40"/>
                  </a:lnTo>
                  <a:lnTo>
                    <a:pt x="0" y="40"/>
                  </a:lnTo>
                  <a:lnTo>
                    <a:pt x="72" y="0"/>
                  </a:lnTo>
                  <a:lnTo>
                    <a:pt x="363" y="0"/>
                  </a:lnTo>
                  <a:lnTo>
                    <a:pt x="72" y="0"/>
                  </a:lnTo>
                  <a:lnTo>
                    <a:pt x="0" y="4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2" name=""/>
          <p:cNvSpPr txBox="1"/>
          <p:nvPr/>
        </p:nvSpPr>
        <p:spPr>
          <a:xfrm>
            <a:off x="3884760" y="5545080"/>
            <a:ext cx="110952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ater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 txBox="1"/>
          <p:nvPr/>
        </p:nvSpPr>
        <p:spPr>
          <a:xfrm>
            <a:off x="3297240" y="3743280"/>
            <a:ext cx="110952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 flipV="1">
            <a:off x="5075280" y="4091040"/>
            <a:ext cx="291960" cy="898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2511360" y="5367240"/>
            <a:ext cx="1897560" cy="1232280"/>
          </a:xfrm>
          <a:custGeom>
            <a:avLst/>
            <a:gdLst/>
            <a:ahLst/>
            <a:rect l="0" t="0" r="r" b="b"/>
            <a:pathLst>
              <a:path fill="none" w="5271" h="3423">
                <a:moveTo>
                  <a:pt x="5271" y="0"/>
                </a:moveTo>
                <a:lnTo>
                  <a:pt x="5201" y="0"/>
                </a:lnTo>
                <a:lnTo>
                  <a:pt x="5108" y="0"/>
                </a:lnTo>
                <a:lnTo>
                  <a:pt x="5108" y="88"/>
                </a:lnTo>
                <a:lnTo>
                  <a:pt x="5108" y="158"/>
                </a:lnTo>
                <a:lnTo>
                  <a:pt x="5108" y="251"/>
                </a:lnTo>
                <a:lnTo>
                  <a:pt x="5108" y="339"/>
                </a:lnTo>
                <a:lnTo>
                  <a:pt x="5086" y="410"/>
                </a:lnTo>
                <a:lnTo>
                  <a:pt x="4993" y="432"/>
                </a:lnTo>
                <a:lnTo>
                  <a:pt x="4905" y="454"/>
                </a:lnTo>
                <a:lnTo>
                  <a:pt x="4768" y="476"/>
                </a:lnTo>
                <a:lnTo>
                  <a:pt x="4676" y="476"/>
                </a:lnTo>
                <a:lnTo>
                  <a:pt x="4583" y="476"/>
                </a:lnTo>
                <a:lnTo>
                  <a:pt x="4495" y="524"/>
                </a:lnTo>
                <a:lnTo>
                  <a:pt x="4424" y="568"/>
                </a:lnTo>
                <a:lnTo>
                  <a:pt x="4358" y="639"/>
                </a:lnTo>
                <a:lnTo>
                  <a:pt x="4288" y="683"/>
                </a:lnTo>
                <a:lnTo>
                  <a:pt x="4288" y="776"/>
                </a:lnTo>
                <a:lnTo>
                  <a:pt x="4266" y="865"/>
                </a:lnTo>
                <a:lnTo>
                  <a:pt x="4244" y="935"/>
                </a:lnTo>
                <a:lnTo>
                  <a:pt x="4195" y="1024"/>
                </a:lnTo>
                <a:lnTo>
                  <a:pt x="4151" y="1094"/>
                </a:lnTo>
                <a:lnTo>
                  <a:pt x="4058" y="1160"/>
                </a:lnTo>
                <a:lnTo>
                  <a:pt x="3970" y="1209"/>
                </a:lnTo>
                <a:lnTo>
                  <a:pt x="3947" y="1301"/>
                </a:lnTo>
                <a:lnTo>
                  <a:pt x="3947" y="1390"/>
                </a:lnTo>
                <a:lnTo>
                  <a:pt x="3947" y="1460"/>
                </a:lnTo>
                <a:lnTo>
                  <a:pt x="3947" y="1548"/>
                </a:lnTo>
                <a:lnTo>
                  <a:pt x="3947" y="1619"/>
                </a:lnTo>
                <a:lnTo>
                  <a:pt x="4036" y="1711"/>
                </a:lnTo>
                <a:lnTo>
                  <a:pt x="4058" y="1822"/>
                </a:lnTo>
                <a:lnTo>
                  <a:pt x="4058" y="1936"/>
                </a:lnTo>
                <a:lnTo>
                  <a:pt x="4058" y="2029"/>
                </a:lnTo>
                <a:lnTo>
                  <a:pt x="4058" y="2100"/>
                </a:lnTo>
                <a:lnTo>
                  <a:pt x="4058" y="2188"/>
                </a:lnTo>
                <a:lnTo>
                  <a:pt x="4058" y="2258"/>
                </a:lnTo>
                <a:lnTo>
                  <a:pt x="4036" y="2346"/>
                </a:lnTo>
                <a:lnTo>
                  <a:pt x="3970" y="2439"/>
                </a:lnTo>
                <a:lnTo>
                  <a:pt x="3921" y="2532"/>
                </a:lnTo>
                <a:lnTo>
                  <a:pt x="3855" y="2625"/>
                </a:lnTo>
                <a:lnTo>
                  <a:pt x="3833" y="2713"/>
                </a:lnTo>
                <a:lnTo>
                  <a:pt x="3762" y="2736"/>
                </a:lnTo>
                <a:lnTo>
                  <a:pt x="3647" y="2806"/>
                </a:lnTo>
                <a:lnTo>
                  <a:pt x="3559" y="2828"/>
                </a:lnTo>
                <a:lnTo>
                  <a:pt x="3489" y="2850"/>
                </a:lnTo>
                <a:lnTo>
                  <a:pt x="3396" y="2921"/>
                </a:lnTo>
                <a:lnTo>
                  <a:pt x="3308" y="2987"/>
                </a:lnTo>
                <a:lnTo>
                  <a:pt x="3237" y="3057"/>
                </a:lnTo>
                <a:lnTo>
                  <a:pt x="3149" y="3124"/>
                </a:lnTo>
                <a:lnTo>
                  <a:pt x="3056" y="3194"/>
                </a:lnTo>
                <a:lnTo>
                  <a:pt x="2986" y="3194"/>
                </a:lnTo>
                <a:lnTo>
                  <a:pt x="2871" y="3216"/>
                </a:lnTo>
                <a:lnTo>
                  <a:pt x="2783" y="3238"/>
                </a:lnTo>
                <a:lnTo>
                  <a:pt x="2712" y="3260"/>
                </a:lnTo>
                <a:lnTo>
                  <a:pt x="2624" y="3260"/>
                </a:lnTo>
                <a:lnTo>
                  <a:pt x="2510" y="3287"/>
                </a:lnTo>
                <a:lnTo>
                  <a:pt x="2417" y="3309"/>
                </a:lnTo>
                <a:lnTo>
                  <a:pt x="2346" y="3309"/>
                </a:lnTo>
                <a:lnTo>
                  <a:pt x="2236" y="3331"/>
                </a:lnTo>
                <a:lnTo>
                  <a:pt x="2166" y="3331"/>
                </a:lnTo>
                <a:lnTo>
                  <a:pt x="2051" y="3353"/>
                </a:lnTo>
                <a:lnTo>
                  <a:pt x="1963" y="3353"/>
                </a:lnTo>
                <a:lnTo>
                  <a:pt x="1870" y="3375"/>
                </a:lnTo>
                <a:lnTo>
                  <a:pt x="1778" y="3397"/>
                </a:lnTo>
                <a:lnTo>
                  <a:pt x="1685" y="3397"/>
                </a:lnTo>
                <a:lnTo>
                  <a:pt x="1597" y="3423"/>
                </a:lnTo>
                <a:lnTo>
                  <a:pt x="1460" y="3423"/>
                </a:lnTo>
                <a:lnTo>
                  <a:pt x="1345" y="3423"/>
                </a:lnTo>
                <a:lnTo>
                  <a:pt x="1274" y="3423"/>
                </a:lnTo>
                <a:lnTo>
                  <a:pt x="1164" y="3423"/>
                </a:lnTo>
                <a:lnTo>
                  <a:pt x="1093" y="3423"/>
                </a:lnTo>
                <a:lnTo>
                  <a:pt x="1023" y="3423"/>
                </a:lnTo>
                <a:lnTo>
                  <a:pt x="934" y="3397"/>
                </a:lnTo>
                <a:lnTo>
                  <a:pt x="798" y="3397"/>
                </a:lnTo>
                <a:lnTo>
                  <a:pt x="705" y="3397"/>
                </a:lnTo>
                <a:lnTo>
                  <a:pt x="590" y="3397"/>
                </a:lnTo>
                <a:lnTo>
                  <a:pt x="502" y="3375"/>
                </a:lnTo>
                <a:lnTo>
                  <a:pt x="432" y="3353"/>
                </a:lnTo>
                <a:lnTo>
                  <a:pt x="339" y="3331"/>
                </a:lnTo>
                <a:lnTo>
                  <a:pt x="251" y="3331"/>
                </a:lnTo>
                <a:lnTo>
                  <a:pt x="180" y="3331"/>
                </a:lnTo>
                <a:lnTo>
                  <a:pt x="88" y="3309"/>
                </a:lnTo>
                <a:lnTo>
                  <a:pt x="44" y="3238"/>
                </a:lnTo>
                <a:lnTo>
                  <a:pt x="0" y="3146"/>
                </a:lnTo>
                <a:lnTo>
                  <a:pt x="0" y="3057"/>
                </a:lnTo>
                <a:lnTo>
                  <a:pt x="0" y="2987"/>
                </a:lnTo>
                <a:lnTo>
                  <a:pt x="88" y="2921"/>
                </a:lnTo>
                <a:lnTo>
                  <a:pt x="158" y="2872"/>
                </a:lnTo>
                <a:lnTo>
                  <a:pt x="273" y="2806"/>
                </a:lnTo>
                <a:lnTo>
                  <a:pt x="361" y="2736"/>
                </a:lnTo>
                <a:lnTo>
                  <a:pt x="432" y="2713"/>
                </a:lnTo>
                <a:lnTo>
                  <a:pt x="502" y="2647"/>
                </a:lnTo>
                <a:lnTo>
                  <a:pt x="639" y="2647"/>
                </a:lnTo>
                <a:lnTo>
                  <a:pt x="749" y="2647"/>
                </a:lnTo>
                <a:lnTo>
                  <a:pt x="820" y="2599"/>
                </a:lnTo>
                <a:lnTo>
                  <a:pt x="912" y="2599"/>
                </a:lnTo>
                <a:lnTo>
                  <a:pt x="956" y="2510"/>
                </a:lnTo>
                <a:lnTo>
                  <a:pt x="978" y="243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 txBox="1"/>
          <p:nvPr/>
        </p:nvSpPr>
        <p:spPr>
          <a:xfrm>
            <a:off x="3502080" y="1887480"/>
            <a:ext cx="1362240" cy="53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 txBox="1"/>
          <p:nvPr/>
        </p:nvSpPr>
        <p:spPr>
          <a:xfrm>
            <a:off x="2313000" y="4807080"/>
            <a:ext cx="1467000" cy="84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Managemen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S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9" name=""/>
          <p:cNvGrpSpPr/>
          <p:nvPr/>
        </p:nvGrpSpPr>
        <p:grpSpPr>
          <a:xfrm>
            <a:off x="122400" y="1173240"/>
            <a:ext cx="3095640" cy="4746600"/>
            <a:chOff x="122400" y="1173240"/>
            <a:chExt cx="3095640" cy="4746600"/>
          </a:xfrm>
        </p:grpSpPr>
        <p:sp>
          <p:nvSpPr>
            <p:cNvPr id="4790" name=""/>
            <p:cNvSpPr/>
            <p:nvPr/>
          </p:nvSpPr>
          <p:spPr>
            <a:xfrm>
              <a:off x="344520" y="1173240"/>
              <a:ext cx="277344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857160" y="2036880"/>
              <a:ext cx="2260440" cy="388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344520" y="2036880"/>
              <a:ext cx="512640" cy="388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343080" y="5118120"/>
              <a:ext cx="27748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 txBox="1"/>
            <p:nvPr/>
          </p:nvSpPr>
          <p:spPr>
            <a:xfrm>
              <a:off x="870120" y="1251000"/>
              <a:ext cx="1693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AR T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-9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 txBox="1"/>
            <p:nvPr/>
          </p:nvSpPr>
          <p:spPr>
            <a:xfrm>
              <a:off x="828720" y="2070000"/>
              <a:ext cx="2389320" cy="19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  <a:tabLst>
                  <a:tab algn="l" pos="351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BBS Common Data Trans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3976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  <a:tabLst>
                  <a:tab algn="l" pos="111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eamlined TIBS to TDDS data conver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  <a:tabLst>
                  <a:tab algn="l" pos="351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nel Sharing (TB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  <a:tabLst>
                  <a:tab algn="l" pos="351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ed inter-op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3976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  <a:tabLst>
                  <a:tab algn="l" pos="111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ardrail to be a TIBS producer/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3976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  <a:tabLst>
                  <a:tab algn="l" pos="111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int policy/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3976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  <a:tabLst>
                  <a:tab algn="l" pos="111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  <a:tabLst>
                  <a:tab algn="l" pos="351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N Int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 txBox="1"/>
            <p:nvPr/>
          </p:nvSpPr>
          <p:spPr>
            <a:xfrm>
              <a:off x="907920" y="5133960"/>
              <a:ext cx="22604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JTT interim termin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Font typeface="Monotype Sorts"/>
                <a:buChar char=""/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y/assess JTT applic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 txBox="1"/>
            <p:nvPr/>
          </p:nvSpPr>
          <p:spPr>
            <a:xfrm>
              <a:off x="122400" y="338148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adcas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 txBox="1"/>
            <p:nvPr/>
          </p:nvSpPr>
          <p:spPr>
            <a:xfrm>
              <a:off x="185760" y="5286240"/>
              <a:ext cx="852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9" name=""/>
          <p:cNvSpPr/>
          <p:nvPr/>
        </p:nvSpPr>
        <p:spPr>
          <a:xfrm>
            <a:off x="3236760" y="1409760"/>
            <a:ext cx="2773440" cy="863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3749760" y="2273400"/>
            <a:ext cx="2260440" cy="3882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236760" y="2273400"/>
            <a:ext cx="512640" cy="3882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3235320" y="5361120"/>
            <a:ext cx="277344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 txBox="1"/>
          <p:nvPr/>
        </p:nvSpPr>
        <p:spPr>
          <a:xfrm>
            <a:off x="3889440" y="1487520"/>
            <a:ext cx="1440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D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8-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 txBox="1"/>
          <p:nvPr/>
        </p:nvSpPr>
        <p:spPr>
          <a:xfrm>
            <a:off x="3720960" y="2306520"/>
            <a:ext cx="23893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TDDS/TIBS/TRI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97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  <a:tabLst>
                <a:tab algn="l" pos="111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DIL-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TN network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grated with TD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BINOCULAR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DDS/TIBS cooperative data management for optimum UHF bandwidth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 txBox="1"/>
          <p:nvPr/>
        </p:nvSpPr>
        <p:spPr>
          <a:xfrm>
            <a:off x="3800520" y="5370480"/>
            <a:ext cx="2260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IBS Modules (CIBS-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31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TT family 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 txBox="1"/>
          <p:nvPr/>
        </p:nvSpPr>
        <p:spPr>
          <a:xfrm>
            <a:off x="3014640" y="361800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a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 txBox="1"/>
          <p:nvPr/>
        </p:nvSpPr>
        <p:spPr>
          <a:xfrm>
            <a:off x="3078000" y="5522760"/>
            <a:ext cx="8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rm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6132600" y="1677960"/>
            <a:ext cx="2773440" cy="863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6645240" y="2541600"/>
            <a:ext cx="2260440" cy="3882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6132600" y="2541600"/>
            <a:ext cx="512640" cy="3882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6130800" y="5629320"/>
            <a:ext cx="276876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 txBox="1"/>
          <p:nvPr/>
        </p:nvSpPr>
        <p:spPr>
          <a:xfrm>
            <a:off x="6756480" y="1755720"/>
            <a:ext cx="1496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 txBox="1"/>
          <p:nvPr/>
        </p:nvSpPr>
        <p:spPr>
          <a:xfrm>
            <a:off x="6616800" y="2575080"/>
            <a:ext cx="238932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ions of UHF broadcast transitioned to GBS and other common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d leverage off commercial technology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  <a:tabLst>
                <a:tab algn="l" pos="35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adcasts and interactive networks integrated into DoD Communications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 txBox="1"/>
          <p:nvPr/>
        </p:nvSpPr>
        <p:spPr>
          <a:xfrm>
            <a:off x="6696000" y="5638680"/>
            <a:ext cx="2260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d leverage off commercial technology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 txBox="1"/>
          <p:nvPr/>
        </p:nvSpPr>
        <p:spPr>
          <a:xfrm>
            <a:off x="5910120" y="388620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a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 txBox="1"/>
          <p:nvPr/>
        </p:nvSpPr>
        <p:spPr>
          <a:xfrm>
            <a:off x="5973840" y="5791320"/>
            <a:ext cx="85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rm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t Col Ho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"/>
          <p:cNvSpPr txBox="1"/>
          <p:nvPr/>
        </p:nvSpPr>
        <p:spPr>
          <a:xfrm>
            <a:off x="861840" y="142920"/>
            <a:ext cx="6951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JPO Functiona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 txBox="1"/>
          <p:nvPr/>
        </p:nvSpPr>
        <p:spPr>
          <a:xfrm>
            <a:off x="5757840" y="3971880"/>
            <a:ext cx="239544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erminal planning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Procurement of broadcast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r-service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 txBox="1"/>
          <p:nvPr/>
        </p:nvSpPr>
        <p:spPr>
          <a:xfrm>
            <a:off x="349200" y="4260960"/>
            <a:ext cx="279072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7440" indent="-21744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Architecture Development/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Requirements/CONOP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Spec’s IC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End-end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 txBox="1"/>
          <p:nvPr/>
        </p:nvSpPr>
        <p:spPr>
          <a:xfrm>
            <a:off x="3056040" y="4260960"/>
            <a:ext cx="1843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fo Broadcast Mgt 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rface into DI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3429000" y="1495440"/>
            <a:ext cx="2209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 txBox="1"/>
          <p:nvPr/>
        </p:nvSpPr>
        <p:spPr>
          <a:xfrm>
            <a:off x="3352680" y="1571760"/>
            <a:ext cx="236232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or - SMC/M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G Kwiatkow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380880" y="3247920"/>
            <a:ext cx="2514600" cy="914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4419720" y="2867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 txBox="1"/>
          <p:nvPr/>
        </p:nvSpPr>
        <p:spPr>
          <a:xfrm>
            <a:off x="3433680" y="2104920"/>
            <a:ext cx="2281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R Ayotte (ac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1625760" y="3019320"/>
            <a:ext cx="5689800" cy="228960"/>
          </a:xfrm>
          <a:custGeom>
            <a:avLst/>
            <a:gdLst/>
            <a:ahLst/>
            <a:rect l="0" t="0" r="r" b="b"/>
            <a:pathLst>
              <a:path fill="none" w="15805" h="636">
                <a:moveTo>
                  <a:pt x="33" y="601"/>
                </a:moveTo>
                <a:lnTo>
                  <a:pt x="0" y="540"/>
                </a:lnTo>
                <a:lnTo>
                  <a:pt x="0" y="0"/>
                </a:lnTo>
                <a:lnTo>
                  <a:pt x="15771" y="0"/>
                </a:lnTo>
                <a:lnTo>
                  <a:pt x="15771" y="636"/>
                </a:lnTo>
                <a:lnTo>
                  <a:pt x="15805" y="61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 txBox="1"/>
          <p:nvPr/>
        </p:nvSpPr>
        <p:spPr>
          <a:xfrm>
            <a:off x="484200" y="3400560"/>
            <a:ext cx="241128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s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C Howard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 txBox="1"/>
          <p:nvPr/>
        </p:nvSpPr>
        <p:spPr>
          <a:xfrm>
            <a:off x="6680160" y="3400560"/>
            <a:ext cx="1320840" cy="11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l Proc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C Ludwig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 txBox="1"/>
          <p:nvPr/>
        </p:nvSpPr>
        <p:spPr>
          <a:xfrm>
            <a:off x="3179880" y="3324240"/>
            <a:ext cx="2479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adcas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 Col Troxel (US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3429000" y="2181240"/>
            <a:ext cx="220968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3162240" y="324792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5791320" y="3247920"/>
            <a:ext cx="312408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4419720" y="2028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1714680" y="5133960"/>
            <a:ext cx="316224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 txBox="1"/>
          <p:nvPr/>
        </p:nvSpPr>
        <p:spPr>
          <a:xfrm>
            <a:off x="2112840" y="5076720"/>
            <a:ext cx="2479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shington Integration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T Lee (US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3048120" y="3019320"/>
            <a:ext cx="2880" cy="211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"/>
          <p:cNvSpPr txBox="1"/>
          <p:nvPr/>
        </p:nvSpPr>
        <p:spPr>
          <a:xfrm>
            <a:off x="1225440" y="0"/>
            <a:ext cx="61405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JPO Systems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 txBox="1"/>
          <p:nvPr/>
        </p:nvSpPr>
        <p:spPr>
          <a:xfrm>
            <a:off x="701640" y="2314440"/>
            <a:ext cx="772308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&amp;I activities currently focused on integrating leg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with new concept and architec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uency management &amp;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ellation effectiveness &amp;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s link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wnlink availability and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put traffic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"/>
          <p:cNvSpPr txBox="1"/>
          <p:nvPr/>
        </p:nvSpPr>
        <p:spPr>
          <a:xfrm>
            <a:off x="861840" y="141120"/>
            <a:ext cx="64674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quency Management Ground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 txBox="1"/>
          <p:nvPr/>
        </p:nvSpPr>
        <p:spPr>
          <a:xfrm>
            <a:off x="272880" y="1774800"/>
            <a:ext cx="881208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bands considered in original GBS syst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and Ka bands investigated in depth for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a band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SC, JROC endorsed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BS JPO 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actors may suggest other than Ka ban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must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ign coordinat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to/from MILSATCOM and other mil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Nation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"/>
          <p:cNvSpPr txBox="1"/>
          <p:nvPr/>
        </p:nvSpPr>
        <p:spPr>
          <a:xfrm>
            <a:off x="627120" y="219240"/>
            <a:ext cx="70866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on Link Budget Ground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 txBox="1"/>
          <p:nvPr/>
        </p:nvSpPr>
        <p:spPr>
          <a:xfrm>
            <a:off x="955800" y="1917720"/>
            <a:ext cx="7491240" cy="24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link budget format developed and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BS JPO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ontractors may use own budget formats, b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t reconcile those with GBS JPO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"/>
          <p:cNvSpPr txBox="1"/>
          <p:nvPr/>
        </p:nvSpPr>
        <p:spPr>
          <a:xfrm>
            <a:off x="1273320" y="219240"/>
            <a:ext cx="6140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ink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 txBox="1"/>
          <p:nvPr/>
        </p:nvSpPr>
        <p:spPr>
          <a:xfrm>
            <a:off x="987480" y="1298520"/>
            <a:ext cx="74739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Rain/Atmosphere Availability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(GLIMP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availability against rain, atmospher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ss at reference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coordinated Crane model to calculate a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ual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BS JPO 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actors provide comm link margin against rai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mospheric loss at reference geometry - GBS J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assess using GLIM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adcast Managemen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t Col Tro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JPO Functiona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 txBox="1"/>
          <p:nvPr/>
        </p:nvSpPr>
        <p:spPr>
          <a:xfrm>
            <a:off x="5757840" y="3771720"/>
            <a:ext cx="239544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erminal planning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Procurement of broadcast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r-service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 txBox="1"/>
          <p:nvPr/>
        </p:nvSpPr>
        <p:spPr>
          <a:xfrm>
            <a:off x="382680" y="4060800"/>
            <a:ext cx="259704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Architecture Development/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Requirements/CONOP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Spec’s IC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End-end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 txBox="1"/>
          <p:nvPr/>
        </p:nvSpPr>
        <p:spPr>
          <a:xfrm>
            <a:off x="3056040" y="4060800"/>
            <a:ext cx="1960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7440" indent="-21744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fo Broadcast Mgt 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rface into DI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3429000" y="1295280"/>
            <a:ext cx="2209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 txBox="1"/>
          <p:nvPr/>
        </p:nvSpPr>
        <p:spPr>
          <a:xfrm>
            <a:off x="3352680" y="1371600"/>
            <a:ext cx="236232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or - SMC/M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G Kwiatkow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380880" y="304812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441972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 txBox="1"/>
          <p:nvPr/>
        </p:nvSpPr>
        <p:spPr>
          <a:xfrm>
            <a:off x="3433680" y="1905120"/>
            <a:ext cx="2281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R Ayotte (ac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1625760" y="2819520"/>
            <a:ext cx="5689800" cy="228960"/>
          </a:xfrm>
          <a:custGeom>
            <a:avLst/>
            <a:gdLst/>
            <a:ahLst/>
            <a:rect l="0" t="0" r="r" b="b"/>
            <a:pathLst>
              <a:path fill="none" w="15805" h="636">
                <a:moveTo>
                  <a:pt x="33" y="601"/>
                </a:moveTo>
                <a:lnTo>
                  <a:pt x="0" y="540"/>
                </a:lnTo>
                <a:lnTo>
                  <a:pt x="0" y="0"/>
                </a:lnTo>
                <a:lnTo>
                  <a:pt x="15771" y="0"/>
                </a:lnTo>
                <a:lnTo>
                  <a:pt x="15771" y="636"/>
                </a:lnTo>
                <a:lnTo>
                  <a:pt x="15805" y="61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 txBox="1"/>
          <p:nvPr/>
        </p:nvSpPr>
        <p:spPr>
          <a:xfrm>
            <a:off x="484200" y="3200400"/>
            <a:ext cx="241128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s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C Howard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 txBox="1"/>
          <p:nvPr/>
        </p:nvSpPr>
        <p:spPr>
          <a:xfrm>
            <a:off x="6680160" y="3200400"/>
            <a:ext cx="1320840" cy="11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l Proc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C Ludwig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 txBox="1"/>
          <p:nvPr/>
        </p:nvSpPr>
        <p:spPr>
          <a:xfrm>
            <a:off x="3179880" y="3124080"/>
            <a:ext cx="2479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adcas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 Col Troxel (US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3429000" y="1981080"/>
            <a:ext cx="220968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3086280" y="3048120"/>
            <a:ext cx="2629080" cy="914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5791320" y="3048120"/>
            <a:ext cx="312408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4419720" y="1828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1714680" y="4933800"/>
            <a:ext cx="316224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 txBox="1"/>
          <p:nvPr/>
        </p:nvSpPr>
        <p:spPr>
          <a:xfrm>
            <a:off x="2112840" y="4876920"/>
            <a:ext cx="2479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shington Integration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T Lee (US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3048120" y="2819520"/>
            <a:ext cx="2880" cy="213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We Are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7880" y="1517760"/>
            <a:ext cx="3355920" cy="66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67320" y="1073160"/>
            <a:ext cx="0" cy="5403960"/>
          </a:xfrm>
          <a:prstGeom prst="line">
            <a:avLst/>
          </a:prstGeom>
          <a:ln w="1522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82800" y="2182680"/>
            <a:ext cx="2746800" cy="2665800"/>
          </a:xfrm>
          <a:custGeom>
            <a:avLst/>
            <a:gdLst/>
            <a:ahLst/>
            <a:rect l="0" t="0" r="r" b="b"/>
            <a:pathLst>
              <a:path w="7630" h="7405">
                <a:moveTo>
                  <a:pt x="0" y="7405"/>
                </a:moveTo>
                <a:lnTo>
                  <a:pt x="7630" y="7405"/>
                </a:lnTo>
                <a:lnTo>
                  <a:pt x="3815" y="0"/>
                </a:lnTo>
                <a:lnTo>
                  <a:pt x="0" y="74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670040" y="1887480"/>
            <a:ext cx="1371600" cy="2952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77880" y="4848120"/>
            <a:ext cx="33559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70040" y="5218200"/>
            <a:ext cx="1371600" cy="2970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670040" y="4552920"/>
            <a:ext cx="1371600" cy="2952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qui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440000" y="3886200"/>
            <a:ext cx="620640" cy="60156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4940280" y="1135080"/>
            <a:ext cx="3954600" cy="3121200"/>
            <a:chOff x="4940280" y="1135080"/>
            <a:chExt cx="3954600" cy="3121200"/>
          </a:xfrm>
        </p:grpSpPr>
        <p:grpSp>
          <p:nvGrpSpPr>
            <p:cNvPr id="579" name=""/>
            <p:cNvGrpSpPr/>
            <p:nvPr/>
          </p:nvGrpSpPr>
          <p:grpSpPr>
            <a:xfrm>
              <a:off x="5072040" y="1135080"/>
              <a:ext cx="3407400" cy="3121200"/>
              <a:chOff x="5072040" y="1135080"/>
              <a:chExt cx="3407400" cy="31212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6089760" y="1924200"/>
                <a:ext cx="1757520" cy="1665360"/>
                <a:chOff x="6089760" y="1924200"/>
                <a:chExt cx="1757520" cy="16653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6089760" y="1924200"/>
                  <a:ext cx="1757520" cy="1665360"/>
                </a:xfrm>
                <a:prstGeom prst="ellipse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6294600" y="2168640"/>
                  <a:ext cx="1292040" cy="1019520"/>
                  <a:chOff x="6294600" y="2168640"/>
                  <a:chExt cx="1292040" cy="1019520"/>
                </a:xfrm>
              </p:grpSpPr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94600" y="2168640"/>
                    <a:ext cx="566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4" name=""/>
                  <p:cNvSpPr/>
                  <p:nvPr/>
                </p:nvSpPr>
                <p:spPr>
                  <a:xfrm>
                    <a:off x="6626160" y="2276640"/>
                    <a:ext cx="0" cy="846000"/>
                  </a:xfrm>
                  <a:prstGeom prst="line">
                    <a:avLst/>
                  </a:prstGeom>
                  <a:ln w="12600">
                    <a:solidFill>
                      <a:srgbClr val="00b7a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626160" y="2276640"/>
                    <a:ext cx="917640" cy="512640"/>
                  </a:xfrm>
                  <a:prstGeom prst="line">
                    <a:avLst/>
                  </a:prstGeom>
                  <a:ln w="12600">
                    <a:solidFill>
                      <a:srgbClr val="00b7a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595920" y="2789280"/>
                    <a:ext cx="990720" cy="361800"/>
                  </a:xfrm>
                  <a:prstGeom prst="ellipse">
                    <a:avLst/>
                  </a:prstGeom>
                  <a:solidFill>
                    <a:srgbClr val="c0fef9"/>
                  </a:solidFill>
                  <a:ln w="12600">
                    <a:solidFill>
                      <a:srgbClr val="00b7a5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5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56440" y="2874960"/>
                    <a:ext cx="1951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8600" y="2975040"/>
                    <a:ext cx="230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6950160" y="2992320"/>
                    <a:ext cx="209880" cy="195840"/>
                    <a:chOff x="6950160" y="2992320"/>
                    <a:chExt cx="209880" cy="19584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6950160" y="2992320"/>
                      <a:ext cx="90720" cy="159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2" h="442">
                          <a:moveTo>
                            <a:pt x="105" y="64"/>
                          </a:moveTo>
                          <a:lnTo>
                            <a:pt x="93" y="69"/>
                          </a:lnTo>
                          <a:lnTo>
                            <a:pt x="81" y="80"/>
                          </a:lnTo>
                          <a:lnTo>
                            <a:pt x="64" y="90"/>
                          </a:lnTo>
                          <a:lnTo>
                            <a:pt x="56" y="118"/>
                          </a:lnTo>
                          <a:lnTo>
                            <a:pt x="46" y="151"/>
                          </a:lnTo>
                          <a:lnTo>
                            <a:pt x="43" y="165"/>
                          </a:lnTo>
                          <a:lnTo>
                            <a:pt x="46" y="182"/>
                          </a:lnTo>
                          <a:lnTo>
                            <a:pt x="40" y="182"/>
                          </a:lnTo>
                          <a:lnTo>
                            <a:pt x="44" y="195"/>
                          </a:lnTo>
                          <a:lnTo>
                            <a:pt x="0" y="217"/>
                          </a:lnTo>
                          <a:lnTo>
                            <a:pt x="6" y="231"/>
                          </a:lnTo>
                          <a:lnTo>
                            <a:pt x="54" y="210"/>
                          </a:lnTo>
                          <a:lnTo>
                            <a:pt x="59" y="214"/>
                          </a:lnTo>
                          <a:lnTo>
                            <a:pt x="68" y="243"/>
                          </a:lnTo>
                          <a:lnTo>
                            <a:pt x="83" y="252"/>
                          </a:lnTo>
                          <a:lnTo>
                            <a:pt x="77" y="263"/>
                          </a:lnTo>
                          <a:lnTo>
                            <a:pt x="77" y="277"/>
                          </a:lnTo>
                          <a:lnTo>
                            <a:pt x="90" y="296"/>
                          </a:lnTo>
                          <a:lnTo>
                            <a:pt x="90" y="309"/>
                          </a:lnTo>
                          <a:lnTo>
                            <a:pt x="84" y="334"/>
                          </a:lnTo>
                          <a:lnTo>
                            <a:pt x="84" y="355"/>
                          </a:lnTo>
                          <a:lnTo>
                            <a:pt x="90" y="367"/>
                          </a:lnTo>
                          <a:lnTo>
                            <a:pt x="99" y="379"/>
                          </a:lnTo>
                          <a:lnTo>
                            <a:pt x="101" y="396"/>
                          </a:lnTo>
                          <a:lnTo>
                            <a:pt x="100" y="409"/>
                          </a:lnTo>
                          <a:lnTo>
                            <a:pt x="92" y="421"/>
                          </a:lnTo>
                          <a:lnTo>
                            <a:pt x="79" y="432"/>
                          </a:lnTo>
                          <a:lnTo>
                            <a:pt x="89" y="442"/>
                          </a:lnTo>
                          <a:lnTo>
                            <a:pt x="112" y="437"/>
                          </a:lnTo>
                          <a:lnTo>
                            <a:pt x="127" y="424"/>
                          </a:lnTo>
                          <a:lnTo>
                            <a:pt x="132" y="412"/>
                          </a:lnTo>
                          <a:lnTo>
                            <a:pt x="130" y="401"/>
                          </a:lnTo>
                          <a:lnTo>
                            <a:pt x="133" y="385"/>
                          </a:lnTo>
                          <a:lnTo>
                            <a:pt x="135" y="375"/>
                          </a:lnTo>
                          <a:lnTo>
                            <a:pt x="137" y="368"/>
                          </a:lnTo>
                          <a:lnTo>
                            <a:pt x="139" y="367"/>
                          </a:lnTo>
                          <a:lnTo>
                            <a:pt x="139" y="396"/>
                          </a:lnTo>
                          <a:lnTo>
                            <a:pt x="145" y="412"/>
                          </a:lnTo>
                          <a:lnTo>
                            <a:pt x="161" y="413"/>
                          </a:lnTo>
                          <a:lnTo>
                            <a:pt x="165" y="390"/>
                          </a:lnTo>
                          <a:lnTo>
                            <a:pt x="165" y="376"/>
                          </a:lnTo>
                          <a:lnTo>
                            <a:pt x="157" y="365"/>
                          </a:lnTo>
                          <a:lnTo>
                            <a:pt x="159" y="354"/>
                          </a:lnTo>
                          <a:lnTo>
                            <a:pt x="168" y="344"/>
                          </a:lnTo>
                          <a:lnTo>
                            <a:pt x="176" y="333"/>
                          </a:lnTo>
                          <a:lnTo>
                            <a:pt x="179" y="315"/>
                          </a:lnTo>
                          <a:lnTo>
                            <a:pt x="183" y="293"/>
                          </a:lnTo>
                          <a:lnTo>
                            <a:pt x="192" y="280"/>
                          </a:lnTo>
                          <a:lnTo>
                            <a:pt x="194" y="260"/>
                          </a:lnTo>
                          <a:lnTo>
                            <a:pt x="193" y="250"/>
                          </a:lnTo>
                          <a:lnTo>
                            <a:pt x="201" y="241"/>
                          </a:lnTo>
                          <a:lnTo>
                            <a:pt x="204" y="231"/>
                          </a:lnTo>
                          <a:lnTo>
                            <a:pt x="204" y="216"/>
                          </a:lnTo>
                          <a:lnTo>
                            <a:pt x="203" y="201"/>
                          </a:lnTo>
                          <a:lnTo>
                            <a:pt x="194" y="194"/>
                          </a:lnTo>
                          <a:lnTo>
                            <a:pt x="192" y="185"/>
                          </a:lnTo>
                          <a:lnTo>
                            <a:pt x="203" y="177"/>
                          </a:lnTo>
                          <a:lnTo>
                            <a:pt x="214" y="168"/>
                          </a:lnTo>
                          <a:lnTo>
                            <a:pt x="232" y="168"/>
                          </a:lnTo>
                          <a:lnTo>
                            <a:pt x="249" y="151"/>
                          </a:lnTo>
                          <a:lnTo>
                            <a:pt x="252" y="133"/>
                          </a:lnTo>
                          <a:lnTo>
                            <a:pt x="244" y="119"/>
                          </a:lnTo>
                          <a:lnTo>
                            <a:pt x="232" y="106"/>
                          </a:lnTo>
                          <a:lnTo>
                            <a:pt x="217" y="88"/>
                          </a:lnTo>
                          <a:lnTo>
                            <a:pt x="190" y="67"/>
                          </a:lnTo>
                          <a:lnTo>
                            <a:pt x="173" y="58"/>
                          </a:lnTo>
                          <a:lnTo>
                            <a:pt x="157" y="57"/>
                          </a:lnTo>
                          <a:lnTo>
                            <a:pt x="152" y="57"/>
                          </a:lnTo>
                          <a:lnTo>
                            <a:pt x="155" y="41"/>
                          </a:lnTo>
                          <a:lnTo>
                            <a:pt x="154" y="26"/>
                          </a:lnTo>
                          <a:lnTo>
                            <a:pt x="150" y="12"/>
                          </a:lnTo>
                          <a:lnTo>
                            <a:pt x="141" y="2"/>
                          </a:lnTo>
                          <a:lnTo>
                            <a:pt x="133" y="0"/>
                          </a:lnTo>
                          <a:lnTo>
                            <a:pt x="118" y="0"/>
                          </a:lnTo>
                          <a:lnTo>
                            <a:pt x="107" y="2"/>
                          </a:lnTo>
                          <a:lnTo>
                            <a:pt x="98" y="11"/>
                          </a:lnTo>
                          <a:lnTo>
                            <a:pt x="95" y="20"/>
                          </a:lnTo>
                          <a:lnTo>
                            <a:pt x="93" y="33"/>
                          </a:lnTo>
                          <a:lnTo>
                            <a:pt x="90" y="41"/>
                          </a:lnTo>
                          <a:lnTo>
                            <a:pt x="97" y="44"/>
                          </a:lnTo>
                          <a:lnTo>
                            <a:pt x="107" y="61"/>
                          </a:lnTo>
                          <a:lnTo>
                            <a:pt x="105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919191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980400" y="3022560"/>
                      <a:ext cx="90720" cy="157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2" h="438">
                          <a:moveTo>
                            <a:pt x="105" y="64"/>
                          </a:moveTo>
                          <a:lnTo>
                            <a:pt x="93" y="68"/>
                          </a:lnTo>
                          <a:lnTo>
                            <a:pt x="81" y="79"/>
                          </a:lnTo>
                          <a:lnTo>
                            <a:pt x="64" y="89"/>
                          </a:lnTo>
                          <a:lnTo>
                            <a:pt x="56" y="116"/>
                          </a:lnTo>
                          <a:lnTo>
                            <a:pt x="46" y="149"/>
                          </a:lnTo>
                          <a:lnTo>
                            <a:pt x="43" y="163"/>
                          </a:lnTo>
                          <a:lnTo>
                            <a:pt x="46" y="180"/>
                          </a:lnTo>
                          <a:lnTo>
                            <a:pt x="40" y="180"/>
                          </a:lnTo>
                          <a:lnTo>
                            <a:pt x="44" y="193"/>
                          </a:lnTo>
                          <a:lnTo>
                            <a:pt x="0" y="215"/>
                          </a:lnTo>
                          <a:lnTo>
                            <a:pt x="6" y="228"/>
                          </a:lnTo>
                          <a:lnTo>
                            <a:pt x="54" y="208"/>
                          </a:lnTo>
                          <a:lnTo>
                            <a:pt x="59" y="212"/>
                          </a:lnTo>
                          <a:lnTo>
                            <a:pt x="68" y="240"/>
                          </a:lnTo>
                          <a:lnTo>
                            <a:pt x="83" y="249"/>
                          </a:lnTo>
                          <a:lnTo>
                            <a:pt x="77" y="261"/>
                          </a:lnTo>
                          <a:lnTo>
                            <a:pt x="77" y="274"/>
                          </a:lnTo>
                          <a:lnTo>
                            <a:pt x="90" y="294"/>
                          </a:lnTo>
                          <a:lnTo>
                            <a:pt x="90" y="305"/>
                          </a:lnTo>
                          <a:lnTo>
                            <a:pt x="84" y="331"/>
                          </a:lnTo>
                          <a:lnTo>
                            <a:pt x="84" y="351"/>
                          </a:lnTo>
                          <a:lnTo>
                            <a:pt x="90" y="363"/>
                          </a:lnTo>
                          <a:lnTo>
                            <a:pt x="99" y="375"/>
                          </a:lnTo>
                          <a:lnTo>
                            <a:pt x="101" y="392"/>
                          </a:lnTo>
                          <a:lnTo>
                            <a:pt x="100" y="405"/>
                          </a:lnTo>
                          <a:lnTo>
                            <a:pt x="92" y="417"/>
                          </a:lnTo>
                          <a:lnTo>
                            <a:pt x="79" y="428"/>
                          </a:lnTo>
                          <a:lnTo>
                            <a:pt x="89" y="438"/>
                          </a:lnTo>
                          <a:lnTo>
                            <a:pt x="112" y="433"/>
                          </a:lnTo>
                          <a:lnTo>
                            <a:pt x="127" y="419"/>
                          </a:lnTo>
                          <a:lnTo>
                            <a:pt x="132" y="407"/>
                          </a:lnTo>
                          <a:lnTo>
                            <a:pt x="130" y="397"/>
                          </a:lnTo>
                          <a:lnTo>
                            <a:pt x="133" y="381"/>
                          </a:lnTo>
                          <a:lnTo>
                            <a:pt x="135" y="372"/>
                          </a:lnTo>
                          <a:lnTo>
                            <a:pt x="137" y="365"/>
                          </a:lnTo>
                          <a:lnTo>
                            <a:pt x="139" y="363"/>
                          </a:lnTo>
                          <a:lnTo>
                            <a:pt x="139" y="392"/>
                          </a:lnTo>
                          <a:lnTo>
                            <a:pt x="145" y="407"/>
                          </a:lnTo>
                          <a:lnTo>
                            <a:pt x="161" y="409"/>
                          </a:lnTo>
                          <a:lnTo>
                            <a:pt x="165" y="386"/>
                          </a:lnTo>
                          <a:lnTo>
                            <a:pt x="165" y="372"/>
                          </a:lnTo>
                          <a:lnTo>
                            <a:pt x="157" y="362"/>
                          </a:lnTo>
                          <a:lnTo>
                            <a:pt x="159" y="351"/>
                          </a:lnTo>
                          <a:lnTo>
                            <a:pt x="168" y="340"/>
                          </a:lnTo>
                          <a:lnTo>
                            <a:pt x="176" y="330"/>
                          </a:lnTo>
                          <a:lnTo>
                            <a:pt x="179" y="312"/>
                          </a:lnTo>
                          <a:lnTo>
                            <a:pt x="183" y="291"/>
                          </a:lnTo>
                          <a:lnTo>
                            <a:pt x="192" y="277"/>
                          </a:lnTo>
                          <a:lnTo>
                            <a:pt x="194" y="258"/>
                          </a:lnTo>
                          <a:lnTo>
                            <a:pt x="193" y="248"/>
                          </a:lnTo>
                          <a:lnTo>
                            <a:pt x="201" y="239"/>
                          </a:lnTo>
                          <a:lnTo>
                            <a:pt x="204" y="228"/>
                          </a:lnTo>
                          <a:lnTo>
                            <a:pt x="204" y="214"/>
                          </a:lnTo>
                          <a:lnTo>
                            <a:pt x="203" y="199"/>
                          </a:lnTo>
                          <a:lnTo>
                            <a:pt x="194" y="192"/>
                          </a:lnTo>
                          <a:lnTo>
                            <a:pt x="192" y="183"/>
                          </a:lnTo>
                          <a:lnTo>
                            <a:pt x="203" y="175"/>
                          </a:lnTo>
                          <a:lnTo>
                            <a:pt x="214" y="166"/>
                          </a:lnTo>
                          <a:lnTo>
                            <a:pt x="232" y="166"/>
                          </a:lnTo>
                          <a:lnTo>
                            <a:pt x="249" y="149"/>
                          </a:lnTo>
                          <a:lnTo>
                            <a:pt x="252" y="131"/>
                          </a:lnTo>
                          <a:lnTo>
                            <a:pt x="244" y="118"/>
                          </a:lnTo>
                          <a:lnTo>
                            <a:pt x="232" y="105"/>
                          </a:lnTo>
                          <a:lnTo>
                            <a:pt x="217" y="87"/>
                          </a:lnTo>
                          <a:lnTo>
                            <a:pt x="190" y="67"/>
                          </a:lnTo>
                          <a:lnTo>
                            <a:pt x="173" y="58"/>
                          </a:lnTo>
                          <a:lnTo>
                            <a:pt x="157" y="56"/>
                          </a:lnTo>
                          <a:lnTo>
                            <a:pt x="152" y="56"/>
                          </a:lnTo>
                          <a:lnTo>
                            <a:pt x="155" y="41"/>
                          </a:lnTo>
                          <a:lnTo>
                            <a:pt x="154" y="26"/>
                          </a:lnTo>
                          <a:lnTo>
                            <a:pt x="150" y="12"/>
                          </a:lnTo>
                          <a:lnTo>
                            <a:pt x="141" y="2"/>
                          </a:lnTo>
                          <a:lnTo>
                            <a:pt x="133" y="0"/>
                          </a:lnTo>
                          <a:lnTo>
                            <a:pt x="118" y="0"/>
                          </a:lnTo>
                          <a:lnTo>
                            <a:pt x="107" y="2"/>
                          </a:lnTo>
                          <a:lnTo>
                            <a:pt x="98" y="11"/>
                          </a:lnTo>
                          <a:lnTo>
                            <a:pt x="95" y="20"/>
                          </a:lnTo>
                          <a:lnTo>
                            <a:pt x="93" y="33"/>
                          </a:lnTo>
                          <a:lnTo>
                            <a:pt x="90" y="41"/>
                          </a:lnTo>
                          <a:lnTo>
                            <a:pt x="97" y="44"/>
                          </a:lnTo>
                          <a:lnTo>
                            <a:pt x="107" y="61"/>
                          </a:lnTo>
                          <a:lnTo>
                            <a:pt x="105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919191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7074000" y="3029040"/>
                      <a:ext cx="86040" cy="159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39" h="442">
                          <a:moveTo>
                            <a:pt x="100" y="64"/>
                          </a:moveTo>
                          <a:lnTo>
                            <a:pt x="88" y="69"/>
                          </a:lnTo>
                          <a:lnTo>
                            <a:pt x="77" y="80"/>
                          </a:lnTo>
                          <a:lnTo>
                            <a:pt x="60" y="90"/>
                          </a:lnTo>
                          <a:lnTo>
                            <a:pt x="53" y="118"/>
                          </a:lnTo>
                          <a:lnTo>
                            <a:pt x="43" y="151"/>
                          </a:lnTo>
                          <a:lnTo>
                            <a:pt x="40" y="165"/>
                          </a:lnTo>
                          <a:lnTo>
                            <a:pt x="43" y="182"/>
                          </a:lnTo>
                          <a:lnTo>
                            <a:pt x="37" y="182"/>
                          </a:lnTo>
                          <a:lnTo>
                            <a:pt x="42" y="195"/>
                          </a:lnTo>
                          <a:lnTo>
                            <a:pt x="0" y="217"/>
                          </a:lnTo>
                          <a:lnTo>
                            <a:pt x="6" y="231"/>
                          </a:lnTo>
                          <a:lnTo>
                            <a:pt x="51" y="210"/>
                          </a:lnTo>
                          <a:lnTo>
                            <a:pt x="56" y="214"/>
                          </a:lnTo>
                          <a:lnTo>
                            <a:pt x="65" y="243"/>
                          </a:lnTo>
                          <a:lnTo>
                            <a:pt x="78" y="252"/>
                          </a:lnTo>
                          <a:lnTo>
                            <a:pt x="73" y="263"/>
                          </a:lnTo>
                          <a:lnTo>
                            <a:pt x="73" y="277"/>
                          </a:lnTo>
                          <a:lnTo>
                            <a:pt x="85" y="296"/>
                          </a:lnTo>
                          <a:lnTo>
                            <a:pt x="85" y="309"/>
                          </a:lnTo>
                          <a:lnTo>
                            <a:pt x="80" y="334"/>
                          </a:lnTo>
                          <a:lnTo>
                            <a:pt x="80" y="355"/>
                          </a:lnTo>
                          <a:lnTo>
                            <a:pt x="85" y="367"/>
                          </a:lnTo>
                          <a:lnTo>
                            <a:pt x="94" y="379"/>
                          </a:lnTo>
                          <a:lnTo>
                            <a:pt x="96" y="396"/>
                          </a:lnTo>
                          <a:lnTo>
                            <a:pt x="94" y="409"/>
                          </a:lnTo>
                          <a:lnTo>
                            <a:pt x="87" y="421"/>
                          </a:lnTo>
                          <a:lnTo>
                            <a:pt x="75" y="432"/>
                          </a:lnTo>
                          <a:lnTo>
                            <a:pt x="84" y="442"/>
                          </a:lnTo>
                          <a:lnTo>
                            <a:pt x="106" y="437"/>
                          </a:lnTo>
                          <a:lnTo>
                            <a:pt x="120" y="424"/>
                          </a:lnTo>
                          <a:lnTo>
                            <a:pt x="125" y="412"/>
                          </a:lnTo>
                          <a:lnTo>
                            <a:pt x="123" y="401"/>
                          </a:lnTo>
                          <a:lnTo>
                            <a:pt x="126" y="385"/>
                          </a:lnTo>
                          <a:lnTo>
                            <a:pt x="128" y="375"/>
                          </a:lnTo>
                          <a:lnTo>
                            <a:pt x="129" y="368"/>
                          </a:lnTo>
                          <a:lnTo>
                            <a:pt x="132" y="367"/>
                          </a:lnTo>
                          <a:lnTo>
                            <a:pt x="132" y="396"/>
                          </a:lnTo>
                          <a:lnTo>
                            <a:pt x="138" y="412"/>
                          </a:lnTo>
                          <a:lnTo>
                            <a:pt x="153" y="413"/>
                          </a:lnTo>
                          <a:lnTo>
                            <a:pt x="157" y="390"/>
                          </a:lnTo>
                          <a:lnTo>
                            <a:pt x="156" y="376"/>
                          </a:lnTo>
                          <a:lnTo>
                            <a:pt x="149" y="365"/>
                          </a:lnTo>
                          <a:lnTo>
                            <a:pt x="151" y="354"/>
                          </a:lnTo>
                          <a:lnTo>
                            <a:pt x="159" y="344"/>
                          </a:lnTo>
                          <a:lnTo>
                            <a:pt x="167" y="333"/>
                          </a:lnTo>
                          <a:lnTo>
                            <a:pt x="170" y="315"/>
                          </a:lnTo>
                          <a:lnTo>
                            <a:pt x="173" y="293"/>
                          </a:lnTo>
                          <a:lnTo>
                            <a:pt x="182" y="280"/>
                          </a:lnTo>
                          <a:lnTo>
                            <a:pt x="184" y="260"/>
                          </a:lnTo>
                          <a:lnTo>
                            <a:pt x="183" y="250"/>
                          </a:lnTo>
                          <a:lnTo>
                            <a:pt x="191" y="241"/>
                          </a:lnTo>
                          <a:lnTo>
                            <a:pt x="193" y="231"/>
                          </a:lnTo>
                          <a:lnTo>
                            <a:pt x="193" y="216"/>
                          </a:lnTo>
                          <a:lnTo>
                            <a:pt x="192" y="201"/>
                          </a:lnTo>
                          <a:lnTo>
                            <a:pt x="184" y="194"/>
                          </a:lnTo>
                          <a:lnTo>
                            <a:pt x="182" y="185"/>
                          </a:lnTo>
                          <a:lnTo>
                            <a:pt x="192" y="177"/>
                          </a:lnTo>
                          <a:lnTo>
                            <a:pt x="203" y="168"/>
                          </a:lnTo>
                          <a:lnTo>
                            <a:pt x="220" y="168"/>
                          </a:lnTo>
                          <a:lnTo>
                            <a:pt x="236" y="151"/>
                          </a:lnTo>
                          <a:lnTo>
                            <a:pt x="239" y="133"/>
                          </a:lnTo>
                          <a:lnTo>
                            <a:pt x="231" y="119"/>
                          </a:lnTo>
                          <a:lnTo>
                            <a:pt x="220" y="106"/>
                          </a:lnTo>
                          <a:lnTo>
                            <a:pt x="206" y="88"/>
                          </a:lnTo>
                          <a:lnTo>
                            <a:pt x="180" y="67"/>
                          </a:lnTo>
                          <a:lnTo>
                            <a:pt x="164" y="58"/>
                          </a:lnTo>
                          <a:lnTo>
                            <a:pt x="148" y="57"/>
                          </a:lnTo>
                          <a:lnTo>
                            <a:pt x="144" y="57"/>
                          </a:lnTo>
                          <a:lnTo>
                            <a:pt x="147" y="41"/>
                          </a:lnTo>
                          <a:lnTo>
                            <a:pt x="146" y="26"/>
                          </a:lnTo>
                          <a:lnTo>
                            <a:pt x="142" y="12"/>
                          </a:lnTo>
                          <a:lnTo>
                            <a:pt x="134" y="2"/>
                          </a:lnTo>
                          <a:lnTo>
                            <a:pt x="126" y="0"/>
                          </a:lnTo>
                          <a:lnTo>
                            <a:pt x="112" y="0"/>
                          </a:lnTo>
                          <a:lnTo>
                            <a:pt x="101" y="2"/>
                          </a:lnTo>
                          <a:lnTo>
                            <a:pt x="93" y="11"/>
                          </a:lnTo>
                          <a:lnTo>
                            <a:pt x="90" y="20"/>
                          </a:lnTo>
                          <a:lnTo>
                            <a:pt x="88" y="33"/>
                          </a:lnTo>
                          <a:lnTo>
                            <a:pt x="85" y="41"/>
                          </a:lnTo>
                          <a:lnTo>
                            <a:pt x="92" y="44"/>
                          </a:lnTo>
                          <a:lnTo>
                            <a:pt x="101" y="61"/>
                          </a:lnTo>
                          <a:lnTo>
                            <a:pt x="100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919191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7640" y="2789280"/>
                    <a:ext cx="287280" cy="1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3360" y="2747880"/>
                    <a:ext cx="490680" cy="1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95" name=""/>
              <p:cNvGrpSpPr/>
              <p:nvPr/>
            </p:nvGrpSpPr>
            <p:grpSpPr>
              <a:xfrm>
                <a:off x="5072040" y="1135080"/>
                <a:ext cx="3407400" cy="3121200"/>
                <a:chOff x="5072040" y="1135080"/>
                <a:chExt cx="3407400" cy="31212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478480" y="3057480"/>
                  <a:ext cx="2621160" cy="1198800"/>
                </a:xfrm>
                <a:custGeom>
                  <a:avLst/>
                  <a:gdLst/>
                  <a:ahLst/>
                  <a:rect l="0" t="0" r="r" b="b"/>
                  <a:pathLst>
                    <a:path w="7281" h="3330">
                      <a:moveTo>
                        <a:pt x="2830" y="3030"/>
                      </a:moveTo>
                      <a:lnTo>
                        <a:pt x="2909" y="3056"/>
                      </a:lnTo>
                      <a:lnTo>
                        <a:pt x="3015" y="3086"/>
                      </a:lnTo>
                      <a:lnTo>
                        <a:pt x="3117" y="3107"/>
                      </a:lnTo>
                      <a:lnTo>
                        <a:pt x="3192" y="3128"/>
                      </a:lnTo>
                      <a:lnTo>
                        <a:pt x="3284" y="3141"/>
                      </a:lnTo>
                      <a:lnTo>
                        <a:pt x="3373" y="3158"/>
                      </a:lnTo>
                      <a:lnTo>
                        <a:pt x="3461" y="3180"/>
                      </a:lnTo>
                      <a:lnTo>
                        <a:pt x="3549" y="3188"/>
                      </a:lnTo>
                      <a:lnTo>
                        <a:pt x="3647" y="3193"/>
                      </a:lnTo>
                      <a:lnTo>
                        <a:pt x="3758" y="3210"/>
                      </a:lnTo>
                      <a:lnTo>
                        <a:pt x="3859" y="3214"/>
                      </a:lnTo>
                      <a:lnTo>
                        <a:pt x="3956" y="3218"/>
                      </a:lnTo>
                      <a:lnTo>
                        <a:pt x="4062" y="3223"/>
                      </a:lnTo>
                      <a:lnTo>
                        <a:pt x="4173" y="3223"/>
                      </a:lnTo>
                      <a:lnTo>
                        <a:pt x="4265" y="3223"/>
                      </a:lnTo>
                      <a:lnTo>
                        <a:pt x="4358" y="3201"/>
                      </a:lnTo>
                      <a:lnTo>
                        <a:pt x="4446" y="3206"/>
                      </a:lnTo>
                      <a:lnTo>
                        <a:pt x="4539" y="3188"/>
                      </a:lnTo>
                      <a:lnTo>
                        <a:pt x="4632" y="3184"/>
                      </a:lnTo>
                      <a:lnTo>
                        <a:pt x="4742" y="3171"/>
                      </a:lnTo>
                      <a:lnTo>
                        <a:pt x="4848" y="3150"/>
                      </a:lnTo>
                      <a:lnTo>
                        <a:pt x="4941" y="3133"/>
                      </a:lnTo>
                      <a:lnTo>
                        <a:pt x="5029" y="3120"/>
                      </a:lnTo>
                      <a:lnTo>
                        <a:pt x="5184" y="3081"/>
                      </a:lnTo>
                      <a:lnTo>
                        <a:pt x="5329" y="3043"/>
                      </a:lnTo>
                      <a:lnTo>
                        <a:pt x="5484" y="2996"/>
                      </a:lnTo>
                      <a:lnTo>
                        <a:pt x="5630" y="2931"/>
                      </a:lnTo>
                      <a:lnTo>
                        <a:pt x="5740" y="2893"/>
                      </a:lnTo>
                      <a:lnTo>
                        <a:pt x="5864" y="2837"/>
                      </a:lnTo>
                      <a:lnTo>
                        <a:pt x="6009" y="2777"/>
                      </a:lnTo>
                      <a:lnTo>
                        <a:pt x="6124" y="2709"/>
                      </a:lnTo>
                      <a:lnTo>
                        <a:pt x="6252" y="2636"/>
                      </a:lnTo>
                      <a:lnTo>
                        <a:pt x="6398" y="2554"/>
                      </a:lnTo>
                      <a:lnTo>
                        <a:pt x="6932" y="3330"/>
                      </a:lnTo>
                      <a:lnTo>
                        <a:pt x="7281" y="848"/>
                      </a:lnTo>
                      <a:lnTo>
                        <a:pt x="4720" y="137"/>
                      </a:lnTo>
                      <a:lnTo>
                        <a:pt x="5299" y="951"/>
                      </a:lnTo>
                      <a:lnTo>
                        <a:pt x="5175" y="1006"/>
                      </a:lnTo>
                      <a:lnTo>
                        <a:pt x="5069" y="1054"/>
                      </a:lnTo>
                      <a:lnTo>
                        <a:pt x="4950" y="1101"/>
                      </a:lnTo>
                      <a:lnTo>
                        <a:pt x="4848" y="1139"/>
                      </a:lnTo>
                      <a:lnTo>
                        <a:pt x="4751" y="1174"/>
                      </a:lnTo>
                      <a:lnTo>
                        <a:pt x="4667" y="1204"/>
                      </a:lnTo>
                      <a:lnTo>
                        <a:pt x="4566" y="1229"/>
                      </a:lnTo>
                      <a:lnTo>
                        <a:pt x="4455" y="1251"/>
                      </a:lnTo>
                      <a:lnTo>
                        <a:pt x="4332" y="1264"/>
                      </a:lnTo>
                      <a:lnTo>
                        <a:pt x="4230" y="1285"/>
                      </a:lnTo>
                      <a:lnTo>
                        <a:pt x="4151" y="1285"/>
                      </a:lnTo>
                      <a:lnTo>
                        <a:pt x="4018" y="1289"/>
                      </a:lnTo>
                      <a:lnTo>
                        <a:pt x="3908" y="1285"/>
                      </a:lnTo>
                      <a:lnTo>
                        <a:pt x="3828" y="1276"/>
                      </a:lnTo>
                      <a:lnTo>
                        <a:pt x="3731" y="1264"/>
                      </a:lnTo>
                      <a:lnTo>
                        <a:pt x="3602" y="1238"/>
                      </a:lnTo>
                      <a:lnTo>
                        <a:pt x="3479" y="1204"/>
                      </a:lnTo>
                      <a:lnTo>
                        <a:pt x="3359" y="1156"/>
                      </a:lnTo>
                      <a:lnTo>
                        <a:pt x="3183" y="1084"/>
                      </a:lnTo>
                      <a:lnTo>
                        <a:pt x="2971" y="985"/>
                      </a:lnTo>
                      <a:lnTo>
                        <a:pt x="2803" y="882"/>
                      </a:lnTo>
                      <a:lnTo>
                        <a:pt x="2671" y="762"/>
                      </a:lnTo>
                      <a:lnTo>
                        <a:pt x="2516" y="638"/>
                      </a:lnTo>
                      <a:lnTo>
                        <a:pt x="2406" y="492"/>
                      </a:lnTo>
                      <a:lnTo>
                        <a:pt x="2273" y="351"/>
                      </a:lnTo>
                      <a:lnTo>
                        <a:pt x="2181" y="192"/>
                      </a:lnTo>
                      <a:lnTo>
                        <a:pt x="2097" y="0"/>
                      </a:lnTo>
                      <a:lnTo>
                        <a:pt x="0" y="145"/>
                      </a:lnTo>
                      <a:lnTo>
                        <a:pt x="35" y="257"/>
                      </a:lnTo>
                      <a:lnTo>
                        <a:pt x="83" y="385"/>
                      </a:lnTo>
                      <a:lnTo>
                        <a:pt x="119" y="501"/>
                      </a:lnTo>
                      <a:lnTo>
                        <a:pt x="167" y="612"/>
                      </a:lnTo>
                      <a:lnTo>
                        <a:pt x="211" y="724"/>
                      </a:lnTo>
                      <a:lnTo>
                        <a:pt x="264" y="848"/>
                      </a:lnTo>
                      <a:lnTo>
                        <a:pt x="322" y="951"/>
                      </a:lnTo>
                      <a:lnTo>
                        <a:pt x="370" y="1054"/>
                      </a:lnTo>
                      <a:lnTo>
                        <a:pt x="450" y="1161"/>
                      </a:lnTo>
                      <a:lnTo>
                        <a:pt x="503" y="1264"/>
                      </a:lnTo>
                      <a:lnTo>
                        <a:pt x="573" y="1366"/>
                      </a:lnTo>
                      <a:lnTo>
                        <a:pt x="640" y="1465"/>
                      </a:lnTo>
                      <a:lnTo>
                        <a:pt x="701" y="1563"/>
                      </a:lnTo>
                      <a:lnTo>
                        <a:pt x="768" y="1645"/>
                      </a:lnTo>
                      <a:lnTo>
                        <a:pt x="856" y="1753"/>
                      </a:lnTo>
                      <a:lnTo>
                        <a:pt x="944" y="1856"/>
                      </a:lnTo>
                      <a:lnTo>
                        <a:pt x="1046" y="1959"/>
                      </a:lnTo>
                      <a:lnTo>
                        <a:pt x="1125" y="2032"/>
                      </a:lnTo>
                      <a:lnTo>
                        <a:pt x="1205" y="2113"/>
                      </a:lnTo>
                      <a:lnTo>
                        <a:pt x="1298" y="2194"/>
                      </a:lnTo>
                      <a:lnTo>
                        <a:pt x="1381" y="2263"/>
                      </a:lnTo>
                      <a:lnTo>
                        <a:pt x="1479" y="2349"/>
                      </a:lnTo>
                      <a:lnTo>
                        <a:pt x="1580" y="2426"/>
                      </a:lnTo>
                      <a:lnTo>
                        <a:pt x="1690" y="2499"/>
                      </a:lnTo>
                      <a:lnTo>
                        <a:pt x="1801" y="2571"/>
                      </a:lnTo>
                      <a:lnTo>
                        <a:pt x="1933" y="2640"/>
                      </a:lnTo>
                      <a:lnTo>
                        <a:pt x="2017" y="2691"/>
                      </a:lnTo>
                      <a:lnTo>
                        <a:pt x="2145" y="2760"/>
                      </a:lnTo>
                      <a:lnTo>
                        <a:pt x="2273" y="2820"/>
                      </a:lnTo>
                      <a:lnTo>
                        <a:pt x="2379" y="2863"/>
                      </a:lnTo>
                      <a:lnTo>
                        <a:pt x="2490" y="2910"/>
                      </a:lnTo>
                      <a:lnTo>
                        <a:pt x="2613" y="2966"/>
                      </a:lnTo>
                      <a:lnTo>
                        <a:pt x="2732" y="3004"/>
                      </a:lnTo>
                      <a:lnTo>
                        <a:pt x="2830" y="3030"/>
                      </a:lnTo>
                      <a:close/>
                    </a:path>
                  </a:pathLst>
                </a:custGeom>
                <a:solidFill>
                  <a:srgbClr val="c1ce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072040" y="1262160"/>
                  <a:ext cx="2321280" cy="2135520"/>
                </a:xfrm>
                <a:custGeom>
                  <a:avLst/>
                  <a:gdLst/>
                  <a:ahLst/>
                  <a:rect l="0" t="0" r="r" b="b"/>
                  <a:pathLst>
                    <a:path w="6448" h="5932">
                      <a:moveTo>
                        <a:pt x="6448" y="175"/>
                      </a:moveTo>
                      <a:lnTo>
                        <a:pt x="6364" y="158"/>
                      </a:lnTo>
                      <a:lnTo>
                        <a:pt x="6289" y="137"/>
                      </a:lnTo>
                      <a:lnTo>
                        <a:pt x="6174" y="111"/>
                      </a:lnTo>
                      <a:lnTo>
                        <a:pt x="6094" y="85"/>
                      </a:lnTo>
                      <a:lnTo>
                        <a:pt x="6002" y="72"/>
                      </a:lnTo>
                      <a:lnTo>
                        <a:pt x="5918" y="64"/>
                      </a:lnTo>
                      <a:lnTo>
                        <a:pt x="5825" y="42"/>
                      </a:lnTo>
                      <a:lnTo>
                        <a:pt x="5741" y="34"/>
                      </a:lnTo>
                      <a:lnTo>
                        <a:pt x="5653" y="25"/>
                      </a:lnTo>
                      <a:lnTo>
                        <a:pt x="5534" y="12"/>
                      </a:lnTo>
                      <a:lnTo>
                        <a:pt x="5437" y="8"/>
                      </a:lnTo>
                      <a:lnTo>
                        <a:pt x="5336" y="4"/>
                      </a:lnTo>
                      <a:lnTo>
                        <a:pt x="5234" y="4"/>
                      </a:lnTo>
                      <a:lnTo>
                        <a:pt x="5128" y="0"/>
                      </a:lnTo>
                      <a:lnTo>
                        <a:pt x="5031" y="8"/>
                      </a:lnTo>
                      <a:lnTo>
                        <a:pt x="4934" y="17"/>
                      </a:lnTo>
                      <a:lnTo>
                        <a:pt x="4841" y="21"/>
                      </a:lnTo>
                      <a:lnTo>
                        <a:pt x="4757" y="34"/>
                      </a:lnTo>
                      <a:lnTo>
                        <a:pt x="4656" y="42"/>
                      </a:lnTo>
                      <a:lnTo>
                        <a:pt x="4550" y="55"/>
                      </a:lnTo>
                      <a:lnTo>
                        <a:pt x="4449" y="85"/>
                      </a:lnTo>
                      <a:lnTo>
                        <a:pt x="4347" y="98"/>
                      </a:lnTo>
                      <a:lnTo>
                        <a:pt x="4254" y="115"/>
                      </a:lnTo>
                      <a:lnTo>
                        <a:pt x="4100" y="149"/>
                      </a:lnTo>
                      <a:lnTo>
                        <a:pt x="3945" y="205"/>
                      </a:lnTo>
                      <a:lnTo>
                        <a:pt x="3818" y="239"/>
                      </a:lnTo>
                      <a:lnTo>
                        <a:pt x="3663" y="299"/>
                      </a:lnTo>
                      <a:lnTo>
                        <a:pt x="3544" y="346"/>
                      </a:lnTo>
                      <a:lnTo>
                        <a:pt x="3420" y="406"/>
                      </a:lnTo>
                      <a:lnTo>
                        <a:pt x="3288" y="466"/>
                      </a:lnTo>
                      <a:lnTo>
                        <a:pt x="3168" y="531"/>
                      </a:lnTo>
                      <a:lnTo>
                        <a:pt x="3040" y="608"/>
                      </a:lnTo>
                      <a:lnTo>
                        <a:pt x="2912" y="676"/>
                      </a:lnTo>
                      <a:lnTo>
                        <a:pt x="2788" y="766"/>
                      </a:lnTo>
                      <a:lnTo>
                        <a:pt x="2674" y="835"/>
                      </a:lnTo>
                      <a:lnTo>
                        <a:pt x="2563" y="929"/>
                      </a:lnTo>
                      <a:lnTo>
                        <a:pt x="2444" y="1023"/>
                      </a:lnTo>
                      <a:lnTo>
                        <a:pt x="2334" y="1121"/>
                      </a:lnTo>
                      <a:lnTo>
                        <a:pt x="2224" y="1233"/>
                      </a:lnTo>
                      <a:lnTo>
                        <a:pt x="2087" y="1370"/>
                      </a:lnTo>
                      <a:lnTo>
                        <a:pt x="1963" y="1503"/>
                      </a:lnTo>
                      <a:lnTo>
                        <a:pt x="1848" y="1635"/>
                      </a:lnTo>
                      <a:lnTo>
                        <a:pt x="1751" y="1790"/>
                      </a:lnTo>
                      <a:lnTo>
                        <a:pt x="1637" y="1952"/>
                      </a:lnTo>
                      <a:lnTo>
                        <a:pt x="1500" y="2162"/>
                      </a:lnTo>
                      <a:lnTo>
                        <a:pt x="1407" y="2342"/>
                      </a:lnTo>
                      <a:lnTo>
                        <a:pt x="1328" y="2509"/>
                      </a:lnTo>
                      <a:lnTo>
                        <a:pt x="1253" y="2680"/>
                      </a:lnTo>
                      <a:lnTo>
                        <a:pt x="1204" y="2843"/>
                      </a:lnTo>
                      <a:lnTo>
                        <a:pt x="1138" y="3020"/>
                      </a:lnTo>
                      <a:lnTo>
                        <a:pt x="1089" y="3195"/>
                      </a:lnTo>
                      <a:lnTo>
                        <a:pt x="1045" y="3396"/>
                      </a:lnTo>
                      <a:lnTo>
                        <a:pt x="1019" y="3611"/>
                      </a:lnTo>
                      <a:lnTo>
                        <a:pt x="992" y="3799"/>
                      </a:lnTo>
                      <a:lnTo>
                        <a:pt x="979" y="4000"/>
                      </a:lnTo>
                      <a:lnTo>
                        <a:pt x="975" y="4202"/>
                      </a:lnTo>
                      <a:lnTo>
                        <a:pt x="988" y="4386"/>
                      </a:lnTo>
                      <a:lnTo>
                        <a:pt x="0" y="4454"/>
                      </a:lnTo>
                      <a:lnTo>
                        <a:pt x="2210" y="5932"/>
                      </a:lnTo>
                      <a:lnTo>
                        <a:pt x="4157" y="4214"/>
                      </a:lnTo>
                      <a:lnTo>
                        <a:pt x="3009" y="4253"/>
                      </a:lnTo>
                      <a:lnTo>
                        <a:pt x="2978" y="4069"/>
                      </a:lnTo>
                      <a:lnTo>
                        <a:pt x="2991" y="3923"/>
                      </a:lnTo>
                      <a:lnTo>
                        <a:pt x="3000" y="3773"/>
                      </a:lnTo>
                      <a:lnTo>
                        <a:pt x="3022" y="3628"/>
                      </a:lnTo>
                      <a:lnTo>
                        <a:pt x="3071" y="3495"/>
                      </a:lnTo>
                      <a:lnTo>
                        <a:pt x="3119" y="3375"/>
                      </a:lnTo>
                      <a:lnTo>
                        <a:pt x="3172" y="3251"/>
                      </a:lnTo>
                      <a:lnTo>
                        <a:pt x="3226" y="3127"/>
                      </a:lnTo>
                      <a:lnTo>
                        <a:pt x="3310" y="2994"/>
                      </a:lnTo>
                      <a:lnTo>
                        <a:pt x="3389" y="2860"/>
                      </a:lnTo>
                      <a:lnTo>
                        <a:pt x="3500" y="2723"/>
                      </a:lnTo>
                      <a:lnTo>
                        <a:pt x="3601" y="2620"/>
                      </a:lnTo>
                      <a:lnTo>
                        <a:pt x="3716" y="2509"/>
                      </a:lnTo>
                      <a:lnTo>
                        <a:pt x="3826" y="2410"/>
                      </a:lnTo>
                      <a:lnTo>
                        <a:pt x="3954" y="2333"/>
                      </a:lnTo>
                      <a:lnTo>
                        <a:pt x="4047" y="2265"/>
                      </a:lnTo>
                      <a:lnTo>
                        <a:pt x="4140" y="2226"/>
                      </a:lnTo>
                      <a:lnTo>
                        <a:pt x="4237" y="2175"/>
                      </a:lnTo>
                      <a:lnTo>
                        <a:pt x="4325" y="2132"/>
                      </a:lnTo>
                      <a:lnTo>
                        <a:pt x="4431" y="2089"/>
                      </a:lnTo>
                      <a:lnTo>
                        <a:pt x="4519" y="2064"/>
                      </a:lnTo>
                      <a:lnTo>
                        <a:pt x="4629" y="2025"/>
                      </a:lnTo>
                      <a:lnTo>
                        <a:pt x="4718" y="2008"/>
                      </a:lnTo>
                      <a:lnTo>
                        <a:pt x="4832" y="1978"/>
                      </a:lnTo>
                      <a:lnTo>
                        <a:pt x="4956" y="1961"/>
                      </a:lnTo>
                      <a:lnTo>
                        <a:pt x="5053" y="1952"/>
                      </a:lnTo>
                      <a:lnTo>
                        <a:pt x="5141" y="1944"/>
                      </a:lnTo>
                      <a:lnTo>
                        <a:pt x="5265" y="1935"/>
                      </a:lnTo>
                      <a:lnTo>
                        <a:pt x="5380" y="1944"/>
                      </a:lnTo>
                      <a:lnTo>
                        <a:pt x="5552" y="1974"/>
                      </a:lnTo>
                      <a:lnTo>
                        <a:pt x="6448" y="17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953400" y="1135080"/>
                  <a:ext cx="1526040" cy="2643480"/>
                </a:xfrm>
                <a:custGeom>
                  <a:avLst/>
                  <a:gdLst/>
                  <a:ahLst/>
                  <a:rect l="0" t="0" r="r" b="b"/>
                  <a:pathLst>
                    <a:path w="4239" h="7343">
                      <a:moveTo>
                        <a:pt x="2446" y="1075"/>
                      </a:moveTo>
                      <a:lnTo>
                        <a:pt x="2508" y="1126"/>
                      </a:lnTo>
                      <a:lnTo>
                        <a:pt x="2592" y="1186"/>
                      </a:lnTo>
                      <a:lnTo>
                        <a:pt x="2676" y="1250"/>
                      </a:lnTo>
                      <a:lnTo>
                        <a:pt x="2733" y="1302"/>
                      </a:lnTo>
                      <a:lnTo>
                        <a:pt x="2799" y="1353"/>
                      </a:lnTo>
                      <a:lnTo>
                        <a:pt x="2870" y="1413"/>
                      </a:lnTo>
                      <a:lnTo>
                        <a:pt x="2936" y="1469"/>
                      </a:lnTo>
                      <a:lnTo>
                        <a:pt x="2985" y="1529"/>
                      </a:lnTo>
                      <a:lnTo>
                        <a:pt x="3060" y="1602"/>
                      </a:lnTo>
                      <a:lnTo>
                        <a:pt x="3139" y="1679"/>
                      </a:lnTo>
                      <a:lnTo>
                        <a:pt x="3206" y="1747"/>
                      </a:lnTo>
                      <a:lnTo>
                        <a:pt x="3268" y="1820"/>
                      </a:lnTo>
                      <a:lnTo>
                        <a:pt x="3343" y="1897"/>
                      </a:lnTo>
                      <a:lnTo>
                        <a:pt x="3414" y="1979"/>
                      </a:lnTo>
                      <a:lnTo>
                        <a:pt x="3462" y="2060"/>
                      </a:lnTo>
                      <a:lnTo>
                        <a:pt x="3515" y="2141"/>
                      </a:lnTo>
                      <a:lnTo>
                        <a:pt x="3568" y="2206"/>
                      </a:lnTo>
                      <a:lnTo>
                        <a:pt x="3608" y="2287"/>
                      </a:lnTo>
                      <a:lnTo>
                        <a:pt x="3670" y="2364"/>
                      </a:lnTo>
                      <a:lnTo>
                        <a:pt x="3718" y="2454"/>
                      </a:lnTo>
                      <a:lnTo>
                        <a:pt x="3767" y="2553"/>
                      </a:lnTo>
                      <a:lnTo>
                        <a:pt x="3807" y="2634"/>
                      </a:lnTo>
                      <a:lnTo>
                        <a:pt x="3855" y="2720"/>
                      </a:lnTo>
                      <a:lnTo>
                        <a:pt x="3917" y="2852"/>
                      </a:lnTo>
                      <a:lnTo>
                        <a:pt x="3979" y="3011"/>
                      </a:lnTo>
                      <a:lnTo>
                        <a:pt x="4027" y="3127"/>
                      </a:lnTo>
                      <a:lnTo>
                        <a:pt x="4076" y="3285"/>
                      </a:lnTo>
                      <a:lnTo>
                        <a:pt x="4102" y="3405"/>
                      </a:lnTo>
                      <a:lnTo>
                        <a:pt x="4129" y="3525"/>
                      </a:lnTo>
                      <a:lnTo>
                        <a:pt x="4164" y="3666"/>
                      </a:lnTo>
                      <a:lnTo>
                        <a:pt x="4186" y="3800"/>
                      </a:lnTo>
                      <a:lnTo>
                        <a:pt x="4208" y="3954"/>
                      </a:lnTo>
                      <a:lnTo>
                        <a:pt x="4222" y="4091"/>
                      </a:lnTo>
                      <a:lnTo>
                        <a:pt x="4230" y="4241"/>
                      </a:lnTo>
                      <a:lnTo>
                        <a:pt x="4239" y="4370"/>
                      </a:lnTo>
                      <a:lnTo>
                        <a:pt x="4235" y="4520"/>
                      </a:lnTo>
                      <a:lnTo>
                        <a:pt x="4230" y="4665"/>
                      </a:lnTo>
                      <a:lnTo>
                        <a:pt x="4217" y="4807"/>
                      </a:lnTo>
                      <a:lnTo>
                        <a:pt x="4204" y="4965"/>
                      </a:lnTo>
                      <a:lnTo>
                        <a:pt x="4173" y="5158"/>
                      </a:lnTo>
                      <a:lnTo>
                        <a:pt x="4138" y="5329"/>
                      </a:lnTo>
                      <a:lnTo>
                        <a:pt x="4098" y="5505"/>
                      </a:lnTo>
                      <a:lnTo>
                        <a:pt x="4045" y="5663"/>
                      </a:lnTo>
                      <a:lnTo>
                        <a:pt x="3983" y="5852"/>
                      </a:lnTo>
                      <a:lnTo>
                        <a:pt x="3895" y="6088"/>
                      </a:lnTo>
                      <a:lnTo>
                        <a:pt x="3807" y="6267"/>
                      </a:lnTo>
                      <a:lnTo>
                        <a:pt x="3723" y="6435"/>
                      </a:lnTo>
                      <a:lnTo>
                        <a:pt x="3621" y="6584"/>
                      </a:lnTo>
                      <a:lnTo>
                        <a:pt x="3529" y="6734"/>
                      </a:lnTo>
                      <a:lnTo>
                        <a:pt x="3427" y="6889"/>
                      </a:lnTo>
                      <a:lnTo>
                        <a:pt x="3303" y="7039"/>
                      </a:lnTo>
                      <a:lnTo>
                        <a:pt x="3166" y="7184"/>
                      </a:lnTo>
                      <a:lnTo>
                        <a:pt x="3020" y="7343"/>
                      </a:lnTo>
                      <a:lnTo>
                        <a:pt x="3197" y="6156"/>
                      </a:lnTo>
                      <a:lnTo>
                        <a:pt x="1797" y="5758"/>
                      </a:lnTo>
                      <a:lnTo>
                        <a:pt x="1916" y="5586"/>
                      </a:lnTo>
                      <a:lnTo>
                        <a:pt x="1983" y="5484"/>
                      </a:lnTo>
                      <a:lnTo>
                        <a:pt x="2049" y="5364"/>
                      </a:lnTo>
                      <a:lnTo>
                        <a:pt x="2111" y="5218"/>
                      </a:lnTo>
                      <a:lnTo>
                        <a:pt x="2159" y="5072"/>
                      </a:lnTo>
                      <a:lnTo>
                        <a:pt x="2208" y="4910"/>
                      </a:lnTo>
                      <a:lnTo>
                        <a:pt x="2225" y="4772"/>
                      </a:lnTo>
                      <a:lnTo>
                        <a:pt x="2239" y="4614"/>
                      </a:lnTo>
                      <a:lnTo>
                        <a:pt x="2247" y="4460"/>
                      </a:lnTo>
                      <a:lnTo>
                        <a:pt x="2247" y="4318"/>
                      </a:lnTo>
                      <a:lnTo>
                        <a:pt x="2239" y="4203"/>
                      </a:lnTo>
                      <a:lnTo>
                        <a:pt x="2212" y="4109"/>
                      </a:lnTo>
                      <a:lnTo>
                        <a:pt x="2194" y="4001"/>
                      </a:lnTo>
                      <a:lnTo>
                        <a:pt x="2177" y="3899"/>
                      </a:lnTo>
                      <a:lnTo>
                        <a:pt x="2137" y="3787"/>
                      </a:lnTo>
                      <a:lnTo>
                        <a:pt x="2106" y="3706"/>
                      </a:lnTo>
                      <a:lnTo>
                        <a:pt x="2071" y="3615"/>
                      </a:lnTo>
                      <a:lnTo>
                        <a:pt x="2031" y="3525"/>
                      </a:lnTo>
                      <a:lnTo>
                        <a:pt x="1983" y="3431"/>
                      </a:lnTo>
                      <a:lnTo>
                        <a:pt x="1921" y="3328"/>
                      </a:lnTo>
                      <a:lnTo>
                        <a:pt x="1859" y="3234"/>
                      </a:lnTo>
                      <a:lnTo>
                        <a:pt x="1815" y="3165"/>
                      </a:lnTo>
                      <a:lnTo>
                        <a:pt x="1744" y="3067"/>
                      </a:lnTo>
                      <a:lnTo>
                        <a:pt x="1674" y="2994"/>
                      </a:lnTo>
                      <a:lnTo>
                        <a:pt x="1616" y="2934"/>
                      </a:lnTo>
                      <a:lnTo>
                        <a:pt x="1546" y="2861"/>
                      </a:lnTo>
                      <a:lnTo>
                        <a:pt x="1440" y="2788"/>
                      </a:lnTo>
                      <a:lnTo>
                        <a:pt x="1342" y="2711"/>
                      </a:lnTo>
                      <a:lnTo>
                        <a:pt x="1232" y="2647"/>
                      </a:lnTo>
                      <a:lnTo>
                        <a:pt x="1126" y="2587"/>
                      </a:lnTo>
                      <a:lnTo>
                        <a:pt x="1059" y="2553"/>
                      </a:lnTo>
                      <a:lnTo>
                        <a:pt x="591" y="3469"/>
                      </a:lnTo>
                      <a:lnTo>
                        <a:pt x="0" y="1079"/>
                      </a:lnTo>
                      <a:lnTo>
                        <a:pt x="2340" y="0"/>
                      </a:lnTo>
                      <a:lnTo>
                        <a:pt x="1938" y="788"/>
                      </a:lnTo>
                      <a:lnTo>
                        <a:pt x="2013" y="831"/>
                      </a:lnTo>
                      <a:lnTo>
                        <a:pt x="2128" y="891"/>
                      </a:lnTo>
                      <a:lnTo>
                        <a:pt x="2247" y="955"/>
                      </a:lnTo>
                      <a:lnTo>
                        <a:pt x="2353" y="1019"/>
                      </a:lnTo>
                      <a:lnTo>
                        <a:pt x="2446" y="1075"/>
                      </a:lnTo>
                      <a:close/>
                    </a:path>
                  </a:pathLst>
                </a:custGeom>
                <a:solidFill>
                  <a:srgbClr val="e3be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99" name="" descr=""/>
            <p:cNvPicPr/>
            <p:nvPr/>
          </p:nvPicPr>
          <p:blipFill>
            <a:blip r:embed="rId7"/>
            <a:stretch/>
          </p:blipFill>
          <p:spPr>
            <a:xfrm>
              <a:off x="4940280" y="1486080"/>
              <a:ext cx="3954600" cy="25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"/>
          <p:cNvSpPr txBox="1"/>
          <p:nvPr/>
        </p:nvSpPr>
        <p:spPr>
          <a:xfrm>
            <a:off x="5751360" y="4565520"/>
            <a:ext cx="24764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65fb"/>
                </a:solidFill>
                <a:latin typeface="ARIAL"/>
                <a:ea typeface="ARIAL"/>
              </a:rPr>
              <a:t>Total Product</a:t>
            </a:r>
            <a:br>
              <a:rPr sz="2800"/>
            </a:br>
            <a:r>
              <a:rPr b="1" lang="en-US" sz="2800" spc="-1" strike="noStrike">
                <a:solidFill>
                  <a:srgbClr val="3365fb"/>
                </a:solidFill>
                <a:latin typeface="ARIAL"/>
                <a:ea typeface="ARIAL"/>
              </a:rPr>
              <a:t>to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8"/>
          <a:stretch/>
        </p:blipFill>
        <p:spPr>
          <a:xfrm>
            <a:off x="2279520" y="3589200"/>
            <a:ext cx="752400" cy="7318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9"/>
          <a:stretch/>
        </p:blipFill>
        <p:spPr>
          <a:xfrm>
            <a:off x="2050920" y="2847960"/>
            <a:ext cx="609480" cy="6015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814320" y="173664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N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882800" y="1514520"/>
            <a:ext cx="1020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179880" y="1736640"/>
            <a:ext cx="601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We Need From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 txBox="1"/>
          <p:nvPr/>
        </p:nvSpPr>
        <p:spPr>
          <a:xfrm>
            <a:off x="636480" y="1265400"/>
            <a:ext cx="7772400" cy="46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ovative and Cost Effective Solutions That Meet the DOD’s Global Broadcast Servic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Solution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ize the Use of Commercial Off The Shelf (COTS) and Non-Developmental Items (N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 Upon / Draw From Capabilities Developed as Part of Other GBS Related Activities (BC2A, BADD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pen Standards That Permit Flexibility &amp; Future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l Acquisition and Development Approaches That Meet Schedu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WID 97 Demo - Summer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BS Phase 2 IOC - April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Broadcas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2" name=""/>
          <p:cNvGrpSpPr/>
          <p:nvPr/>
        </p:nvGrpSpPr>
        <p:grpSpPr>
          <a:xfrm>
            <a:off x="4484520" y="1562040"/>
            <a:ext cx="4394880" cy="3121560"/>
            <a:chOff x="4484520" y="1562040"/>
            <a:chExt cx="4394880" cy="3121560"/>
          </a:xfrm>
        </p:grpSpPr>
        <p:grpSp>
          <p:nvGrpSpPr>
            <p:cNvPr id="4873" name=""/>
            <p:cNvGrpSpPr/>
            <p:nvPr/>
          </p:nvGrpSpPr>
          <p:grpSpPr>
            <a:xfrm>
              <a:off x="4484520" y="1582560"/>
              <a:ext cx="4394880" cy="3101040"/>
              <a:chOff x="4484520" y="1582560"/>
              <a:chExt cx="4394880" cy="3101040"/>
            </a:xfrm>
          </p:grpSpPr>
          <p:grpSp>
            <p:nvGrpSpPr>
              <p:cNvPr id="4874" name=""/>
              <p:cNvGrpSpPr/>
              <p:nvPr/>
            </p:nvGrpSpPr>
            <p:grpSpPr>
              <a:xfrm>
                <a:off x="4836960" y="2587680"/>
                <a:ext cx="797400" cy="773640"/>
                <a:chOff x="4836960" y="2587680"/>
                <a:chExt cx="797400" cy="773640"/>
              </a:xfrm>
            </p:grpSpPr>
            <p:sp>
              <p:nvSpPr>
                <p:cNvPr id="4875" name=""/>
                <p:cNvSpPr/>
                <p:nvPr/>
              </p:nvSpPr>
              <p:spPr>
                <a:xfrm>
                  <a:off x="5083200" y="2587680"/>
                  <a:ext cx="551160" cy="773640"/>
                </a:xfrm>
                <a:custGeom>
                  <a:avLst/>
                  <a:gdLst/>
                  <a:ahLst/>
                  <a:rect l="0" t="0" r="r" b="b"/>
                  <a:pathLst>
                    <a:path w="1531" h="2149">
                      <a:moveTo>
                        <a:pt x="847" y="25"/>
                      </a:moveTo>
                      <a:lnTo>
                        <a:pt x="810" y="54"/>
                      </a:lnTo>
                      <a:lnTo>
                        <a:pt x="754" y="100"/>
                      </a:lnTo>
                      <a:lnTo>
                        <a:pt x="750" y="180"/>
                      </a:lnTo>
                      <a:lnTo>
                        <a:pt x="700" y="201"/>
                      </a:lnTo>
                      <a:lnTo>
                        <a:pt x="679" y="205"/>
                      </a:lnTo>
                      <a:lnTo>
                        <a:pt x="624" y="226"/>
                      </a:lnTo>
                      <a:lnTo>
                        <a:pt x="624" y="289"/>
                      </a:lnTo>
                      <a:lnTo>
                        <a:pt x="607" y="364"/>
                      </a:lnTo>
                      <a:lnTo>
                        <a:pt x="607" y="402"/>
                      </a:lnTo>
                      <a:lnTo>
                        <a:pt x="549" y="423"/>
                      </a:lnTo>
                      <a:lnTo>
                        <a:pt x="532" y="469"/>
                      </a:lnTo>
                      <a:lnTo>
                        <a:pt x="553" y="511"/>
                      </a:lnTo>
                      <a:lnTo>
                        <a:pt x="524" y="584"/>
                      </a:lnTo>
                      <a:lnTo>
                        <a:pt x="477" y="701"/>
                      </a:lnTo>
                      <a:lnTo>
                        <a:pt x="461" y="722"/>
                      </a:lnTo>
                      <a:lnTo>
                        <a:pt x="415" y="797"/>
                      </a:lnTo>
                      <a:lnTo>
                        <a:pt x="448" y="797"/>
                      </a:lnTo>
                      <a:lnTo>
                        <a:pt x="490" y="781"/>
                      </a:lnTo>
                      <a:lnTo>
                        <a:pt x="549" y="684"/>
                      </a:lnTo>
                      <a:lnTo>
                        <a:pt x="603" y="684"/>
                      </a:lnTo>
                      <a:lnTo>
                        <a:pt x="658" y="709"/>
                      </a:lnTo>
                      <a:lnTo>
                        <a:pt x="725" y="718"/>
                      </a:lnTo>
                      <a:lnTo>
                        <a:pt x="754" y="735"/>
                      </a:lnTo>
                      <a:lnTo>
                        <a:pt x="776" y="814"/>
                      </a:lnTo>
                      <a:lnTo>
                        <a:pt x="758" y="856"/>
                      </a:lnTo>
                      <a:lnTo>
                        <a:pt x="758" y="932"/>
                      </a:lnTo>
                      <a:lnTo>
                        <a:pt x="776" y="953"/>
                      </a:lnTo>
                      <a:lnTo>
                        <a:pt x="733" y="1028"/>
                      </a:lnTo>
                      <a:lnTo>
                        <a:pt x="729" y="1078"/>
                      </a:lnTo>
                      <a:lnTo>
                        <a:pt x="754" y="1146"/>
                      </a:lnTo>
                      <a:lnTo>
                        <a:pt x="810" y="1179"/>
                      </a:lnTo>
                      <a:lnTo>
                        <a:pt x="750" y="1200"/>
                      </a:lnTo>
                      <a:lnTo>
                        <a:pt x="754" y="1305"/>
                      </a:lnTo>
                      <a:lnTo>
                        <a:pt x="712" y="1326"/>
                      </a:lnTo>
                      <a:lnTo>
                        <a:pt x="628" y="1376"/>
                      </a:lnTo>
                      <a:lnTo>
                        <a:pt x="540" y="1376"/>
                      </a:lnTo>
                      <a:lnTo>
                        <a:pt x="461" y="1397"/>
                      </a:lnTo>
                      <a:lnTo>
                        <a:pt x="461" y="1552"/>
                      </a:lnTo>
                      <a:lnTo>
                        <a:pt x="415" y="1621"/>
                      </a:lnTo>
                      <a:lnTo>
                        <a:pt x="373" y="1642"/>
                      </a:lnTo>
                      <a:lnTo>
                        <a:pt x="268" y="1646"/>
                      </a:lnTo>
                      <a:lnTo>
                        <a:pt x="213" y="1700"/>
                      </a:lnTo>
                      <a:lnTo>
                        <a:pt x="213" y="1734"/>
                      </a:lnTo>
                      <a:lnTo>
                        <a:pt x="297" y="1734"/>
                      </a:lnTo>
                      <a:lnTo>
                        <a:pt x="364" y="1717"/>
                      </a:lnTo>
                      <a:lnTo>
                        <a:pt x="364" y="1763"/>
                      </a:lnTo>
                      <a:lnTo>
                        <a:pt x="461" y="1763"/>
                      </a:lnTo>
                      <a:lnTo>
                        <a:pt x="465" y="1809"/>
                      </a:lnTo>
                      <a:lnTo>
                        <a:pt x="410" y="1843"/>
                      </a:lnTo>
                      <a:lnTo>
                        <a:pt x="352" y="1885"/>
                      </a:lnTo>
                      <a:lnTo>
                        <a:pt x="293" y="1906"/>
                      </a:lnTo>
                      <a:lnTo>
                        <a:pt x="247" y="1956"/>
                      </a:lnTo>
                      <a:lnTo>
                        <a:pt x="134" y="2069"/>
                      </a:lnTo>
                      <a:lnTo>
                        <a:pt x="0" y="2128"/>
                      </a:lnTo>
                      <a:lnTo>
                        <a:pt x="33" y="2149"/>
                      </a:lnTo>
                      <a:lnTo>
                        <a:pt x="280" y="2078"/>
                      </a:lnTo>
                      <a:lnTo>
                        <a:pt x="364" y="2107"/>
                      </a:lnTo>
                      <a:lnTo>
                        <a:pt x="440" y="2078"/>
                      </a:lnTo>
                      <a:lnTo>
                        <a:pt x="503" y="2032"/>
                      </a:lnTo>
                      <a:lnTo>
                        <a:pt x="658" y="2048"/>
                      </a:lnTo>
                      <a:lnTo>
                        <a:pt x="805" y="2036"/>
                      </a:lnTo>
                      <a:lnTo>
                        <a:pt x="1099" y="2032"/>
                      </a:lnTo>
                      <a:lnTo>
                        <a:pt x="1120" y="2053"/>
                      </a:lnTo>
                      <a:lnTo>
                        <a:pt x="1292" y="2032"/>
                      </a:lnTo>
                      <a:lnTo>
                        <a:pt x="1384" y="1981"/>
                      </a:lnTo>
                      <a:lnTo>
                        <a:pt x="1363" y="1939"/>
                      </a:lnTo>
                      <a:lnTo>
                        <a:pt x="1304" y="1889"/>
                      </a:lnTo>
                      <a:lnTo>
                        <a:pt x="1262" y="1864"/>
                      </a:lnTo>
                      <a:lnTo>
                        <a:pt x="1413" y="1788"/>
                      </a:lnTo>
                      <a:lnTo>
                        <a:pt x="1480" y="1713"/>
                      </a:lnTo>
                      <a:lnTo>
                        <a:pt x="1531" y="1519"/>
                      </a:lnTo>
                      <a:lnTo>
                        <a:pt x="1489" y="1494"/>
                      </a:lnTo>
                      <a:lnTo>
                        <a:pt x="1380" y="1494"/>
                      </a:lnTo>
                      <a:lnTo>
                        <a:pt x="1321" y="1531"/>
                      </a:lnTo>
                      <a:lnTo>
                        <a:pt x="1267" y="1490"/>
                      </a:lnTo>
                      <a:lnTo>
                        <a:pt x="1321" y="1448"/>
                      </a:lnTo>
                      <a:lnTo>
                        <a:pt x="1317" y="1380"/>
                      </a:lnTo>
                      <a:lnTo>
                        <a:pt x="1288" y="1288"/>
                      </a:lnTo>
                      <a:lnTo>
                        <a:pt x="1288" y="1246"/>
                      </a:lnTo>
                      <a:lnTo>
                        <a:pt x="1275" y="1150"/>
                      </a:lnTo>
                      <a:lnTo>
                        <a:pt x="1187" y="1057"/>
                      </a:lnTo>
                      <a:lnTo>
                        <a:pt x="1216" y="1003"/>
                      </a:lnTo>
                      <a:lnTo>
                        <a:pt x="1174" y="940"/>
                      </a:lnTo>
                      <a:lnTo>
                        <a:pt x="1124" y="894"/>
                      </a:lnTo>
                      <a:lnTo>
                        <a:pt x="1116" y="806"/>
                      </a:lnTo>
                      <a:lnTo>
                        <a:pt x="1049" y="789"/>
                      </a:lnTo>
                      <a:lnTo>
                        <a:pt x="1032" y="722"/>
                      </a:lnTo>
                      <a:lnTo>
                        <a:pt x="973" y="667"/>
                      </a:lnTo>
                      <a:lnTo>
                        <a:pt x="923" y="684"/>
                      </a:lnTo>
                      <a:lnTo>
                        <a:pt x="969" y="638"/>
                      </a:lnTo>
                      <a:lnTo>
                        <a:pt x="1023" y="638"/>
                      </a:lnTo>
                      <a:lnTo>
                        <a:pt x="1019" y="588"/>
                      </a:lnTo>
                      <a:lnTo>
                        <a:pt x="998" y="571"/>
                      </a:lnTo>
                      <a:lnTo>
                        <a:pt x="1070" y="571"/>
                      </a:lnTo>
                      <a:lnTo>
                        <a:pt x="1132" y="503"/>
                      </a:lnTo>
                      <a:lnTo>
                        <a:pt x="1195" y="482"/>
                      </a:lnTo>
                      <a:lnTo>
                        <a:pt x="1216" y="423"/>
                      </a:lnTo>
                      <a:lnTo>
                        <a:pt x="1275" y="297"/>
                      </a:lnTo>
                      <a:lnTo>
                        <a:pt x="1082" y="293"/>
                      </a:lnTo>
                      <a:lnTo>
                        <a:pt x="1015" y="276"/>
                      </a:lnTo>
                      <a:lnTo>
                        <a:pt x="961" y="276"/>
                      </a:lnTo>
                      <a:lnTo>
                        <a:pt x="881" y="293"/>
                      </a:lnTo>
                      <a:lnTo>
                        <a:pt x="898" y="247"/>
                      </a:lnTo>
                      <a:lnTo>
                        <a:pt x="965" y="230"/>
                      </a:lnTo>
                      <a:lnTo>
                        <a:pt x="1011" y="184"/>
                      </a:lnTo>
                      <a:lnTo>
                        <a:pt x="1095" y="130"/>
                      </a:lnTo>
                      <a:lnTo>
                        <a:pt x="1141" y="62"/>
                      </a:lnTo>
                      <a:lnTo>
                        <a:pt x="1074" y="0"/>
                      </a:lnTo>
                      <a:lnTo>
                        <a:pt x="893" y="54"/>
                      </a:lnTo>
                      <a:lnTo>
                        <a:pt x="847" y="25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12600">
                  <a:solidFill>
                    <a:srgbClr val="037c03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>
                  <a:off x="4836960" y="2871720"/>
                  <a:ext cx="322560" cy="321120"/>
                </a:xfrm>
                <a:custGeom>
                  <a:avLst/>
                  <a:gdLst/>
                  <a:ahLst/>
                  <a:rect l="0" t="0" r="r" b="b"/>
                  <a:pathLst>
                    <a:path w="896" h="892">
                      <a:moveTo>
                        <a:pt x="653" y="0"/>
                      </a:moveTo>
                      <a:lnTo>
                        <a:pt x="728" y="0"/>
                      </a:lnTo>
                      <a:lnTo>
                        <a:pt x="762" y="33"/>
                      </a:lnTo>
                      <a:lnTo>
                        <a:pt x="799" y="33"/>
                      </a:lnTo>
                      <a:lnTo>
                        <a:pt x="779" y="66"/>
                      </a:lnTo>
                      <a:lnTo>
                        <a:pt x="737" y="83"/>
                      </a:lnTo>
                      <a:lnTo>
                        <a:pt x="661" y="125"/>
                      </a:lnTo>
                      <a:lnTo>
                        <a:pt x="628" y="184"/>
                      </a:lnTo>
                      <a:lnTo>
                        <a:pt x="657" y="226"/>
                      </a:lnTo>
                      <a:lnTo>
                        <a:pt x="674" y="260"/>
                      </a:lnTo>
                      <a:lnTo>
                        <a:pt x="720" y="260"/>
                      </a:lnTo>
                      <a:lnTo>
                        <a:pt x="833" y="209"/>
                      </a:lnTo>
                      <a:lnTo>
                        <a:pt x="871" y="302"/>
                      </a:lnTo>
                      <a:lnTo>
                        <a:pt x="896" y="339"/>
                      </a:lnTo>
                      <a:lnTo>
                        <a:pt x="871" y="381"/>
                      </a:lnTo>
                      <a:lnTo>
                        <a:pt x="871" y="490"/>
                      </a:lnTo>
                      <a:lnTo>
                        <a:pt x="825" y="636"/>
                      </a:lnTo>
                      <a:lnTo>
                        <a:pt x="703" y="800"/>
                      </a:lnTo>
                      <a:lnTo>
                        <a:pt x="461" y="800"/>
                      </a:lnTo>
                      <a:lnTo>
                        <a:pt x="426" y="850"/>
                      </a:lnTo>
                      <a:lnTo>
                        <a:pt x="359" y="850"/>
                      </a:lnTo>
                      <a:lnTo>
                        <a:pt x="334" y="792"/>
                      </a:lnTo>
                      <a:lnTo>
                        <a:pt x="309" y="876"/>
                      </a:lnTo>
                      <a:lnTo>
                        <a:pt x="246" y="876"/>
                      </a:lnTo>
                      <a:lnTo>
                        <a:pt x="200" y="892"/>
                      </a:lnTo>
                      <a:lnTo>
                        <a:pt x="66" y="892"/>
                      </a:lnTo>
                      <a:lnTo>
                        <a:pt x="0" y="825"/>
                      </a:lnTo>
                      <a:lnTo>
                        <a:pt x="20" y="763"/>
                      </a:lnTo>
                      <a:lnTo>
                        <a:pt x="0" y="704"/>
                      </a:lnTo>
                      <a:lnTo>
                        <a:pt x="66" y="704"/>
                      </a:lnTo>
                      <a:lnTo>
                        <a:pt x="142" y="661"/>
                      </a:lnTo>
                      <a:lnTo>
                        <a:pt x="167" y="607"/>
                      </a:lnTo>
                      <a:lnTo>
                        <a:pt x="217" y="582"/>
                      </a:lnTo>
                      <a:lnTo>
                        <a:pt x="267" y="456"/>
                      </a:lnTo>
                      <a:lnTo>
                        <a:pt x="213" y="410"/>
                      </a:lnTo>
                      <a:lnTo>
                        <a:pt x="192" y="360"/>
                      </a:lnTo>
                      <a:lnTo>
                        <a:pt x="234" y="339"/>
                      </a:lnTo>
                      <a:lnTo>
                        <a:pt x="259" y="323"/>
                      </a:lnTo>
                      <a:lnTo>
                        <a:pt x="263" y="163"/>
                      </a:lnTo>
                      <a:lnTo>
                        <a:pt x="347" y="184"/>
                      </a:lnTo>
                      <a:lnTo>
                        <a:pt x="376" y="217"/>
                      </a:lnTo>
                      <a:lnTo>
                        <a:pt x="422" y="213"/>
                      </a:lnTo>
                      <a:lnTo>
                        <a:pt x="465" y="243"/>
                      </a:lnTo>
                      <a:lnTo>
                        <a:pt x="532" y="243"/>
                      </a:lnTo>
                      <a:lnTo>
                        <a:pt x="532" y="184"/>
                      </a:lnTo>
                      <a:lnTo>
                        <a:pt x="582" y="138"/>
                      </a:lnTo>
                      <a:lnTo>
                        <a:pt x="536" y="112"/>
                      </a:lnTo>
                      <a:lnTo>
                        <a:pt x="553" y="87"/>
                      </a:lnTo>
                      <a:lnTo>
                        <a:pt x="611" y="66"/>
                      </a:lnTo>
                      <a:lnTo>
                        <a:pt x="653" y="0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12600">
                  <a:solidFill>
                    <a:srgbClr val="037c03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>
                  <a:off x="5060880" y="2886120"/>
                  <a:ext cx="152640" cy="106560"/>
                </a:xfrm>
                <a:custGeom>
                  <a:avLst/>
                  <a:gdLst/>
                  <a:ahLst/>
                  <a:rect l="0" t="0" r="r" b="b"/>
                  <a:pathLst>
                    <a:path w="424" h="296">
                      <a:moveTo>
                        <a:pt x="171" y="0"/>
                      </a:moveTo>
                      <a:lnTo>
                        <a:pt x="223" y="0"/>
                      </a:lnTo>
                      <a:lnTo>
                        <a:pt x="248" y="33"/>
                      </a:lnTo>
                      <a:lnTo>
                        <a:pt x="277" y="4"/>
                      </a:lnTo>
                      <a:lnTo>
                        <a:pt x="344" y="33"/>
                      </a:lnTo>
                      <a:lnTo>
                        <a:pt x="394" y="4"/>
                      </a:lnTo>
                      <a:lnTo>
                        <a:pt x="390" y="54"/>
                      </a:lnTo>
                      <a:lnTo>
                        <a:pt x="424" y="122"/>
                      </a:lnTo>
                      <a:lnTo>
                        <a:pt x="424" y="174"/>
                      </a:lnTo>
                      <a:lnTo>
                        <a:pt x="374" y="271"/>
                      </a:lnTo>
                      <a:lnTo>
                        <a:pt x="340" y="271"/>
                      </a:lnTo>
                      <a:lnTo>
                        <a:pt x="306" y="292"/>
                      </a:lnTo>
                      <a:lnTo>
                        <a:pt x="269" y="296"/>
                      </a:lnTo>
                      <a:lnTo>
                        <a:pt x="244" y="271"/>
                      </a:lnTo>
                      <a:lnTo>
                        <a:pt x="205" y="174"/>
                      </a:lnTo>
                      <a:lnTo>
                        <a:pt x="134" y="207"/>
                      </a:lnTo>
                      <a:lnTo>
                        <a:pt x="96" y="224"/>
                      </a:lnTo>
                      <a:lnTo>
                        <a:pt x="46" y="224"/>
                      </a:lnTo>
                      <a:lnTo>
                        <a:pt x="25" y="182"/>
                      </a:lnTo>
                      <a:lnTo>
                        <a:pt x="0" y="143"/>
                      </a:lnTo>
                      <a:lnTo>
                        <a:pt x="37" y="80"/>
                      </a:lnTo>
                      <a:lnTo>
                        <a:pt x="108" y="42"/>
                      </a:lnTo>
                      <a:lnTo>
                        <a:pt x="146" y="21"/>
                      </a:lnTo>
                      <a:lnTo>
                        <a:pt x="171" y="0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12600">
                  <a:solidFill>
                    <a:srgbClr val="037c03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8" name=""/>
              <p:cNvSpPr/>
              <p:nvPr/>
            </p:nvSpPr>
            <p:spPr>
              <a:xfrm>
                <a:off x="6002280" y="1625760"/>
                <a:ext cx="1275120" cy="1067040"/>
              </a:xfrm>
              <a:custGeom>
                <a:avLst/>
                <a:gdLst/>
                <a:ahLst/>
                <a:rect l="0" t="0" r="r" b="b"/>
                <a:pathLst>
                  <a:path w="3542" h="2964">
                    <a:moveTo>
                      <a:pt x="3542" y="264"/>
                    </a:moveTo>
                    <a:lnTo>
                      <a:pt x="3542" y="96"/>
                    </a:lnTo>
                    <a:lnTo>
                      <a:pt x="3474" y="50"/>
                    </a:lnTo>
                    <a:lnTo>
                      <a:pt x="3399" y="50"/>
                    </a:lnTo>
                    <a:lnTo>
                      <a:pt x="3345" y="29"/>
                    </a:lnTo>
                    <a:lnTo>
                      <a:pt x="3273" y="46"/>
                    </a:lnTo>
                    <a:lnTo>
                      <a:pt x="3198" y="0"/>
                    </a:lnTo>
                    <a:lnTo>
                      <a:pt x="3156" y="0"/>
                    </a:lnTo>
                    <a:lnTo>
                      <a:pt x="3106" y="96"/>
                    </a:lnTo>
                    <a:lnTo>
                      <a:pt x="3055" y="25"/>
                    </a:lnTo>
                    <a:lnTo>
                      <a:pt x="2997" y="75"/>
                    </a:lnTo>
                    <a:lnTo>
                      <a:pt x="2921" y="25"/>
                    </a:lnTo>
                    <a:lnTo>
                      <a:pt x="2863" y="0"/>
                    </a:lnTo>
                    <a:lnTo>
                      <a:pt x="2787" y="79"/>
                    </a:lnTo>
                    <a:lnTo>
                      <a:pt x="2695" y="121"/>
                    </a:lnTo>
                    <a:lnTo>
                      <a:pt x="2544" y="121"/>
                    </a:lnTo>
                    <a:lnTo>
                      <a:pt x="2548" y="192"/>
                    </a:lnTo>
                    <a:lnTo>
                      <a:pt x="2494" y="243"/>
                    </a:lnTo>
                    <a:lnTo>
                      <a:pt x="2339" y="318"/>
                    </a:lnTo>
                    <a:lnTo>
                      <a:pt x="2318" y="268"/>
                    </a:lnTo>
                    <a:lnTo>
                      <a:pt x="2272" y="322"/>
                    </a:lnTo>
                    <a:lnTo>
                      <a:pt x="2259" y="398"/>
                    </a:lnTo>
                    <a:lnTo>
                      <a:pt x="2167" y="398"/>
                    </a:lnTo>
                    <a:lnTo>
                      <a:pt x="2117" y="431"/>
                    </a:lnTo>
                    <a:lnTo>
                      <a:pt x="2079" y="482"/>
                    </a:lnTo>
                    <a:lnTo>
                      <a:pt x="2012" y="482"/>
                    </a:lnTo>
                    <a:lnTo>
                      <a:pt x="1849" y="607"/>
                    </a:lnTo>
                    <a:lnTo>
                      <a:pt x="1755" y="607"/>
                    </a:lnTo>
                    <a:lnTo>
                      <a:pt x="1726" y="679"/>
                    </a:lnTo>
                    <a:lnTo>
                      <a:pt x="1734" y="704"/>
                    </a:lnTo>
                    <a:lnTo>
                      <a:pt x="1755" y="754"/>
                    </a:lnTo>
                    <a:lnTo>
                      <a:pt x="1709" y="775"/>
                    </a:lnTo>
                    <a:lnTo>
                      <a:pt x="1676" y="850"/>
                    </a:lnTo>
                    <a:lnTo>
                      <a:pt x="1739" y="876"/>
                    </a:lnTo>
                    <a:lnTo>
                      <a:pt x="1684" y="917"/>
                    </a:lnTo>
                    <a:lnTo>
                      <a:pt x="1558" y="922"/>
                    </a:lnTo>
                    <a:lnTo>
                      <a:pt x="1554" y="980"/>
                    </a:lnTo>
                    <a:lnTo>
                      <a:pt x="1483" y="993"/>
                    </a:lnTo>
                    <a:lnTo>
                      <a:pt x="1462" y="1039"/>
                    </a:lnTo>
                    <a:lnTo>
                      <a:pt x="1512" y="1089"/>
                    </a:lnTo>
                    <a:lnTo>
                      <a:pt x="1487" y="1119"/>
                    </a:lnTo>
                    <a:lnTo>
                      <a:pt x="1441" y="1119"/>
                    </a:lnTo>
                    <a:lnTo>
                      <a:pt x="1437" y="1190"/>
                    </a:lnTo>
                    <a:lnTo>
                      <a:pt x="1391" y="1190"/>
                    </a:lnTo>
                    <a:lnTo>
                      <a:pt x="1336" y="1265"/>
                    </a:lnTo>
                    <a:lnTo>
                      <a:pt x="1299" y="1265"/>
                    </a:lnTo>
                    <a:lnTo>
                      <a:pt x="1299" y="1341"/>
                    </a:lnTo>
                    <a:lnTo>
                      <a:pt x="1211" y="1358"/>
                    </a:lnTo>
                    <a:lnTo>
                      <a:pt x="1164" y="1387"/>
                    </a:lnTo>
                    <a:lnTo>
                      <a:pt x="1144" y="1466"/>
                    </a:lnTo>
                    <a:lnTo>
                      <a:pt x="1014" y="1488"/>
                    </a:lnTo>
                    <a:lnTo>
                      <a:pt x="959" y="1530"/>
                    </a:lnTo>
                    <a:lnTo>
                      <a:pt x="900" y="1581"/>
                    </a:lnTo>
                    <a:lnTo>
                      <a:pt x="880" y="1631"/>
                    </a:lnTo>
                    <a:lnTo>
                      <a:pt x="930" y="1681"/>
                    </a:lnTo>
                    <a:lnTo>
                      <a:pt x="930" y="1732"/>
                    </a:lnTo>
                    <a:lnTo>
                      <a:pt x="829" y="1732"/>
                    </a:lnTo>
                    <a:lnTo>
                      <a:pt x="808" y="1790"/>
                    </a:lnTo>
                    <a:lnTo>
                      <a:pt x="729" y="1761"/>
                    </a:lnTo>
                    <a:lnTo>
                      <a:pt x="683" y="1836"/>
                    </a:lnTo>
                    <a:lnTo>
                      <a:pt x="628" y="1807"/>
                    </a:lnTo>
                    <a:lnTo>
                      <a:pt x="586" y="1857"/>
                    </a:lnTo>
                    <a:lnTo>
                      <a:pt x="486" y="1832"/>
                    </a:lnTo>
                    <a:lnTo>
                      <a:pt x="435" y="1903"/>
                    </a:lnTo>
                    <a:lnTo>
                      <a:pt x="368" y="1903"/>
                    </a:lnTo>
                    <a:lnTo>
                      <a:pt x="347" y="2012"/>
                    </a:lnTo>
                    <a:lnTo>
                      <a:pt x="247" y="1983"/>
                    </a:lnTo>
                    <a:lnTo>
                      <a:pt x="150" y="1983"/>
                    </a:lnTo>
                    <a:lnTo>
                      <a:pt x="50" y="2323"/>
                    </a:lnTo>
                    <a:lnTo>
                      <a:pt x="100" y="2419"/>
                    </a:lnTo>
                    <a:lnTo>
                      <a:pt x="75" y="2574"/>
                    </a:lnTo>
                    <a:lnTo>
                      <a:pt x="75" y="2687"/>
                    </a:lnTo>
                    <a:lnTo>
                      <a:pt x="96" y="2691"/>
                    </a:lnTo>
                    <a:lnTo>
                      <a:pt x="96" y="2754"/>
                    </a:lnTo>
                    <a:lnTo>
                      <a:pt x="0" y="2784"/>
                    </a:lnTo>
                    <a:lnTo>
                      <a:pt x="0" y="2817"/>
                    </a:lnTo>
                    <a:lnTo>
                      <a:pt x="71" y="2846"/>
                    </a:lnTo>
                    <a:lnTo>
                      <a:pt x="121" y="2964"/>
                    </a:lnTo>
                    <a:lnTo>
                      <a:pt x="238" y="2943"/>
                    </a:lnTo>
                    <a:lnTo>
                      <a:pt x="364" y="2943"/>
                    </a:lnTo>
                    <a:lnTo>
                      <a:pt x="465" y="2914"/>
                    </a:lnTo>
                    <a:lnTo>
                      <a:pt x="561" y="2897"/>
                    </a:lnTo>
                    <a:lnTo>
                      <a:pt x="653" y="2821"/>
                    </a:lnTo>
                    <a:lnTo>
                      <a:pt x="750" y="2775"/>
                    </a:lnTo>
                    <a:lnTo>
                      <a:pt x="854" y="2654"/>
                    </a:lnTo>
                    <a:lnTo>
                      <a:pt x="930" y="2700"/>
                    </a:lnTo>
                    <a:lnTo>
                      <a:pt x="997" y="2775"/>
                    </a:lnTo>
                    <a:lnTo>
                      <a:pt x="1047" y="2691"/>
                    </a:lnTo>
                    <a:lnTo>
                      <a:pt x="1081" y="2570"/>
                    </a:lnTo>
                    <a:lnTo>
                      <a:pt x="1164" y="2461"/>
                    </a:lnTo>
                    <a:lnTo>
                      <a:pt x="1164" y="2323"/>
                    </a:lnTo>
                    <a:lnTo>
                      <a:pt x="1244" y="2218"/>
                    </a:lnTo>
                    <a:lnTo>
                      <a:pt x="1164" y="2147"/>
                    </a:lnTo>
                    <a:lnTo>
                      <a:pt x="1164" y="2012"/>
                    </a:lnTo>
                    <a:lnTo>
                      <a:pt x="1219" y="1757"/>
                    </a:lnTo>
                    <a:lnTo>
                      <a:pt x="1366" y="1610"/>
                    </a:lnTo>
                    <a:lnTo>
                      <a:pt x="1441" y="1614"/>
                    </a:lnTo>
                    <a:lnTo>
                      <a:pt x="1537" y="1627"/>
                    </a:lnTo>
                    <a:lnTo>
                      <a:pt x="1563" y="1518"/>
                    </a:lnTo>
                    <a:lnTo>
                      <a:pt x="1558" y="1441"/>
                    </a:lnTo>
                    <a:lnTo>
                      <a:pt x="1634" y="1341"/>
                    </a:lnTo>
                    <a:lnTo>
                      <a:pt x="1663" y="1169"/>
                    </a:lnTo>
                    <a:lnTo>
                      <a:pt x="1755" y="1123"/>
                    </a:lnTo>
                    <a:lnTo>
                      <a:pt x="1802" y="993"/>
                    </a:lnTo>
                    <a:lnTo>
                      <a:pt x="1878" y="884"/>
                    </a:lnTo>
                    <a:lnTo>
                      <a:pt x="1920" y="775"/>
                    </a:lnTo>
                    <a:lnTo>
                      <a:pt x="1966" y="695"/>
                    </a:lnTo>
                    <a:lnTo>
                      <a:pt x="2075" y="641"/>
                    </a:lnTo>
                    <a:lnTo>
                      <a:pt x="2125" y="553"/>
                    </a:lnTo>
                    <a:lnTo>
                      <a:pt x="2205" y="557"/>
                    </a:lnTo>
                    <a:lnTo>
                      <a:pt x="2330" y="557"/>
                    </a:lnTo>
                    <a:lnTo>
                      <a:pt x="2418" y="536"/>
                    </a:lnTo>
                    <a:lnTo>
                      <a:pt x="2397" y="410"/>
                    </a:lnTo>
                    <a:lnTo>
                      <a:pt x="2523" y="393"/>
                    </a:lnTo>
                    <a:lnTo>
                      <a:pt x="2586" y="406"/>
                    </a:lnTo>
                    <a:lnTo>
                      <a:pt x="2661" y="465"/>
                    </a:lnTo>
                    <a:lnTo>
                      <a:pt x="2913" y="507"/>
                    </a:lnTo>
                    <a:lnTo>
                      <a:pt x="2976" y="490"/>
                    </a:lnTo>
                    <a:lnTo>
                      <a:pt x="3055" y="461"/>
                    </a:lnTo>
                    <a:lnTo>
                      <a:pt x="3072" y="356"/>
                    </a:lnTo>
                    <a:lnTo>
                      <a:pt x="3127" y="222"/>
                    </a:lnTo>
                    <a:lnTo>
                      <a:pt x="3169" y="238"/>
                    </a:lnTo>
                    <a:lnTo>
                      <a:pt x="3244" y="176"/>
                    </a:lnTo>
                    <a:lnTo>
                      <a:pt x="3311" y="188"/>
                    </a:lnTo>
                    <a:lnTo>
                      <a:pt x="3395" y="268"/>
                    </a:lnTo>
                    <a:lnTo>
                      <a:pt x="3462" y="289"/>
                    </a:lnTo>
                    <a:lnTo>
                      <a:pt x="3542" y="264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6862680" y="1687680"/>
                <a:ext cx="589320" cy="865440"/>
              </a:xfrm>
              <a:custGeom>
                <a:avLst/>
                <a:gdLst/>
                <a:ahLst/>
                <a:rect l="0" t="0" r="r" b="b"/>
                <a:pathLst>
                  <a:path w="1637" h="2404">
                    <a:moveTo>
                      <a:pt x="778" y="62"/>
                    </a:moveTo>
                    <a:lnTo>
                      <a:pt x="732" y="50"/>
                    </a:lnTo>
                    <a:lnTo>
                      <a:pt x="677" y="200"/>
                    </a:lnTo>
                    <a:lnTo>
                      <a:pt x="661" y="284"/>
                    </a:lnTo>
                    <a:lnTo>
                      <a:pt x="531" y="326"/>
                    </a:lnTo>
                    <a:lnTo>
                      <a:pt x="271" y="288"/>
                    </a:lnTo>
                    <a:lnTo>
                      <a:pt x="192" y="230"/>
                    </a:lnTo>
                    <a:lnTo>
                      <a:pt x="125" y="217"/>
                    </a:lnTo>
                    <a:lnTo>
                      <a:pt x="0" y="234"/>
                    </a:lnTo>
                    <a:lnTo>
                      <a:pt x="25" y="364"/>
                    </a:lnTo>
                    <a:lnTo>
                      <a:pt x="163" y="343"/>
                    </a:lnTo>
                    <a:lnTo>
                      <a:pt x="217" y="393"/>
                    </a:lnTo>
                    <a:lnTo>
                      <a:pt x="351" y="435"/>
                    </a:lnTo>
                    <a:lnTo>
                      <a:pt x="418" y="435"/>
                    </a:lnTo>
                    <a:lnTo>
                      <a:pt x="443" y="556"/>
                    </a:lnTo>
                    <a:lnTo>
                      <a:pt x="410" y="623"/>
                    </a:lnTo>
                    <a:lnTo>
                      <a:pt x="514" y="820"/>
                    </a:lnTo>
                    <a:lnTo>
                      <a:pt x="506" y="958"/>
                    </a:lnTo>
                    <a:lnTo>
                      <a:pt x="497" y="1013"/>
                    </a:lnTo>
                    <a:lnTo>
                      <a:pt x="573" y="1067"/>
                    </a:lnTo>
                    <a:lnTo>
                      <a:pt x="690" y="1193"/>
                    </a:lnTo>
                    <a:lnTo>
                      <a:pt x="627" y="1193"/>
                    </a:lnTo>
                    <a:lnTo>
                      <a:pt x="497" y="1290"/>
                    </a:lnTo>
                    <a:lnTo>
                      <a:pt x="472" y="1411"/>
                    </a:lnTo>
                    <a:lnTo>
                      <a:pt x="380" y="1483"/>
                    </a:lnTo>
                    <a:lnTo>
                      <a:pt x="213" y="1654"/>
                    </a:lnTo>
                    <a:lnTo>
                      <a:pt x="138" y="1751"/>
                    </a:lnTo>
                    <a:lnTo>
                      <a:pt x="184" y="1889"/>
                    </a:lnTo>
                    <a:lnTo>
                      <a:pt x="255" y="1985"/>
                    </a:lnTo>
                    <a:lnTo>
                      <a:pt x="234" y="2111"/>
                    </a:lnTo>
                    <a:lnTo>
                      <a:pt x="234" y="2207"/>
                    </a:lnTo>
                    <a:lnTo>
                      <a:pt x="326" y="2278"/>
                    </a:lnTo>
                    <a:lnTo>
                      <a:pt x="451" y="2337"/>
                    </a:lnTo>
                    <a:lnTo>
                      <a:pt x="497" y="2404"/>
                    </a:lnTo>
                    <a:lnTo>
                      <a:pt x="619" y="2374"/>
                    </a:lnTo>
                    <a:lnTo>
                      <a:pt x="765" y="2333"/>
                    </a:lnTo>
                    <a:lnTo>
                      <a:pt x="837" y="2303"/>
                    </a:lnTo>
                    <a:lnTo>
                      <a:pt x="929" y="2249"/>
                    </a:lnTo>
                    <a:lnTo>
                      <a:pt x="1093" y="2236"/>
                    </a:lnTo>
                    <a:lnTo>
                      <a:pt x="1218" y="2161"/>
                    </a:lnTo>
                    <a:lnTo>
                      <a:pt x="1406" y="1956"/>
                    </a:lnTo>
                    <a:lnTo>
                      <a:pt x="1586" y="1822"/>
                    </a:lnTo>
                    <a:lnTo>
                      <a:pt x="1637" y="1700"/>
                    </a:lnTo>
                    <a:lnTo>
                      <a:pt x="1637" y="1558"/>
                    </a:lnTo>
                    <a:lnTo>
                      <a:pt x="1557" y="1504"/>
                    </a:lnTo>
                    <a:lnTo>
                      <a:pt x="1490" y="1395"/>
                    </a:lnTo>
                    <a:lnTo>
                      <a:pt x="1457" y="1252"/>
                    </a:lnTo>
                    <a:lnTo>
                      <a:pt x="1381" y="1117"/>
                    </a:lnTo>
                    <a:lnTo>
                      <a:pt x="1360" y="954"/>
                    </a:lnTo>
                    <a:lnTo>
                      <a:pt x="1285" y="887"/>
                    </a:lnTo>
                    <a:lnTo>
                      <a:pt x="1151" y="720"/>
                    </a:lnTo>
                    <a:lnTo>
                      <a:pt x="1151" y="640"/>
                    </a:lnTo>
                    <a:lnTo>
                      <a:pt x="1247" y="598"/>
                    </a:lnTo>
                    <a:lnTo>
                      <a:pt x="1247" y="535"/>
                    </a:lnTo>
                    <a:lnTo>
                      <a:pt x="1201" y="464"/>
                    </a:lnTo>
                    <a:lnTo>
                      <a:pt x="1113" y="414"/>
                    </a:lnTo>
                    <a:lnTo>
                      <a:pt x="1026" y="376"/>
                    </a:lnTo>
                    <a:lnTo>
                      <a:pt x="1026" y="301"/>
                    </a:lnTo>
                    <a:lnTo>
                      <a:pt x="1072" y="117"/>
                    </a:lnTo>
                    <a:lnTo>
                      <a:pt x="1009" y="96"/>
                    </a:lnTo>
                    <a:lnTo>
                      <a:pt x="917" y="8"/>
                    </a:lnTo>
                    <a:lnTo>
                      <a:pt x="850" y="0"/>
                    </a:lnTo>
                    <a:lnTo>
                      <a:pt x="778" y="62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6361200" y="1809720"/>
                <a:ext cx="690840" cy="1111680"/>
              </a:xfrm>
              <a:custGeom>
                <a:avLst/>
                <a:gdLst/>
                <a:ahLst/>
                <a:rect l="0" t="0" r="r" b="b"/>
                <a:pathLst>
                  <a:path w="1919" h="3088">
                    <a:moveTo>
                      <a:pt x="1818" y="96"/>
                    </a:moveTo>
                    <a:lnTo>
                      <a:pt x="1755" y="96"/>
                    </a:lnTo>
                    <a:lnTo>
                      <a:pt x="1617" y="50"/>
                    </a:lnTo>
                    <a:lnTo>
                      <a:pt x="1554" y="0"/>
                    </a:lnTo>
                    <a:lnTo>
                      <a:pt x="1415" y="20"/>
                    </a:lnTo>
                    <a:lnTo>
                      <a:pt x="1331" y="46"/>
                    </a:lnTo>
                    <a:lnTo>
                      <a:pt x="1121" y="41"/>
                    </a:lnTo>
                    <a:lnTo>
                      <a:pt x="1079" y="125"/>
                    </a:lnTo>
                    <a:lnTo>
                      <a:pt x="966" y="180"/>
                    </a:lnTo>
                    <a:lnTo>
                      <a:pt x="919" y="268"/>
                    </a:lnTo>
                    <a:lnTo>
                      <a:pt x="873" y="376"/>
                    </a:lnTo>
                    <a:lnTo>
                      <a:pt x="801" y="477"/>
                    </a:lnTo>
                    <a:lnTo>
                      <a:pt x="759" y="603"/>
                    </a:lnTo>
                    <a:lnTo>
                      <a:pt x="663" y="657"/>
                    </a:lnTo>
                    <a:lnTo>
                      <a:pt x="633" y="830"/>
                    </a:lnTo>
                    <a:lnTo>
                      <a:pt x="554" y="934"/>
                    </a:lnTo>
                    <a:lnTo>
                      <a:pt x="562" y="1006"/>
                    </a:lnTo>
                    <a:lnTo>
                      <a:pt x="545" y="1073"/>
                    </a:lnTo>
                    <a:lnTo>
                      <a:pt x="541" y="1106"/>
                    </a:lnTo>
                    <a:lnTo>
                      <a:pt x="369" y="1098"/>
                    </a:lnTo>
                    <a:lnTo>
                      <a:pt x="218" y="1240"/>
                    </a:lnTo>
                    <a:lnTo>
                      <a:pt x="167" y="1500"/>
                    </a:lnTo>
                    <a:lnTo>
                      <a:pt x="163" y="1630"/>
                    </a:lnTo>
                    <a:lnTo>
                      <a:pt x="243" y="1705"/>
                    </a:lnTo>
                    <a:lnTo>
                      <a:pt x="163" y="1806"/>
                    </a:lnTo>
                    <a:lnTo>
                      <a:pt x="163" y="1948"/>
                    </a:lnTo>
                    <a:lnTo>
                      <a:pt x="79" y="2053"/>
                    </a:lnTo>
                    <a:lnTo>
                      <a:pt x="58" y="2145"/>
                    </a:lnTo>
                    <a:lnTo>
                      <a:pt x="37" y="2199"/>
                    </a:lnTo>
                    <a:lnTo>
                      <a:pt x="0" y="2262"/>
                    </a:lnTo>
                    <a:lnTo>
                      <a:pt x="0" y="2527"/>
                    </a:lnTo>
                    <a:lnTo>
                      <a:pt x="46" y="2582"/>
                    </a:lnTo>
                    <a:lnTo>
                      <a:pt x="54" y="2808"/>
                    </a:lnTo>
                    <a:lnTo>
                      <a:pt x="151" y="2875"/>
                    </a:lnTo>
                    <a:lnTo>
                      <a:pt x="151" y="2963"/>
                    </a:lnTo>
                    <a:lnTo>
                      <a:pt x="201" y="3034"/>
                    </a:lnTo>
                    <a:lnTo>
                      <a:pt x="264" y="3088"/>
                    </a:lnTo>
                    <a:lnTo>
                      <a:pt x="360" y="3088"/>
                    </a:lnTo>
                    <a:lnTo>
                      <a:pt x="432" y="3021"/>
                    </a:lnTo>
                    <a:lnTo>
                      <a:pt x="554" y="2967"/>
                    </a:lnTo>
                    <a:lnTo>
                      <a:pt x="663" y="2984"/>
                    </a:lnTo>
                    <a:lnTo>
                      <a:pt x="734" y="2833"/>
                    </a:lnTo>
                    <a:lnTo>
                      <a:pt x="776" y="2498"/>
                    </a:lnTo>
                    <a:lnTo>
                      <a:pt x="776" y="2380"/>
                    </a:lnTo>
                    <a:lnTo>
                      <a:pt x="902" y="2355"/>
                    </a:lnTo>
                    <a:lnTo>
                      <a:pt x="1125" y="2287"/>
                    </a:lnTo>
                    <a:lnTo>
                      <a:pt x="1201" y="2166"/>
                    </a:lnTo>
                    <a:lnTo>
                      <a:pt x="1130" y="2049"/>
                    </a:lnTo>
                    <a:lnTo>
                      <a:pt x="1029" y="2003"/>
                    </a:lnTo>
                    <a:lnTo>
                      <a:pt x="940" y="1906"/>
                    </a:lnTo>
                    <a:lnTo>
                      <a:pt x="873" y="1797"/>
                    </a:lnTo>
                    <a:lnTo>
                      <a:pt x="962" y="1680"/>
                    </a:lnTo>
                    <a:lnTo>
                      <a:pt x="936" y="1575"/>
                    </a:lnTo>
                    <a:lnTo>
                      <a:pt x="983" y="1487"/>
                    </a:lnTo>
                    <a:lnTo>
                      <a:pt x="1067" y="1404"/>
                    </a:lnTo>
                    <a:lnTo>
                      <a:pt x="1151" y="1366"/>
                    </a:lnTo>
                    <a:lnTo>
                      <a:pt x="1285" y="1236"/>
                    </a:lnTo>
                    <a:lnTo>
                      <a:pt x="1402" y="1161"/>
                    </a:lnTo>
                    <a:lnTo>
                      <a:pt x="1545" y="1056"/>
                    </a:lnTo>
                    <a:lnTo>
                      <a:pt x="1596" y="968"/>
                    </a:lnTo>
                    <a:lnTo>
                      <a:pt x="1566" y="872"/>
                    </a:lnTo>
                    <a:lnTo>
                      <a:pt x="1600" y="745"/>
                    </a:lnTo>
                    <a:lnTo>
                      <a:pt x="1646" y="724"/>
                    </a:lnTo>
                    <a:lnTo>
                      <a:pt x="1692" y="678"/>
                    </a:lnTo>
                    <a:lnTo>
                      <a:pt x="1894" y="678"/>
                    </a:lnTo>
                    <a:lnTo>
                      <a:pt x="1910" y="615"/>
                    </a:lnTo>
                    <a:lnTo>
                      <a:pt x="1919" y="485"/>
                    </a:lnTo>
                    <a:lnTo>
                      <a:pt x="1810" y="288"/>
                    </a:lnTo>
                    <a:lnTo>
                      <a:pt x="1847" y="221"/>
                    </a:lnTo>
                    <a:lnTo>
                      <a:pt x="1818" y="9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6386400" y="3735360"/>
                <a:ext cx="738720" cy="536760"/>
              </a:xfrm>
              <a:custGeom>
                <a:avLst/>
                <a:gdLst/>
                <a:ahLst/>
                <a:rect l="0" t="0" r="r" b="b"/>
                <a:pathLst>
                  <a:path w="2052" h="1491">
                    <a:moveTo>
                      <a:pt x="8" y="12"/>
                    </a:moveTo>
                    <a:lnTo>
                      <a:pt x="125" y="12"/>
                    </a:lnTo>
                    <a:lnTo>
                      <a:pt x="234" y="46"/>
                    </a:lnTo>
                    <a:lnTo>
                      <a:pt x="301" y="0"/>
                    </a:lnTo>
                    <a:lnTo>
                      <a:pt x="372" y="12"/>
                    </a:lnTo>
                    <a:lnTo>
                      <a:pt x="431" y="0"/>
                    </a:lnTo>
                    <a:lnTo>
                      <a:pt x="545" y="4"/>
                    </a:lnTo>
                    <a:lnTo>
                      <a:pt x="578" y="41"/>
                    </a:lnTo>
                    <a:lnTo>
                      <a:pt x="658" y="92"/>
                    </a:lnTo>
                    <a:lnTo>
                      <a:pt x="808" y="184"/>
                    </a:lnTo>
                    <a:lnTo>
                      <a:pt x="955" y="226"/>
                    </a:lnTo>
                    <a:lnTo>
                      <a:pt x="1155" y="155"/>
                    </a:lnTo>
                    <a:lnTo>
                      <a:pt x="1315" y="117"/>
                    </a:lnTo>
                    <a:lnTo>
                      <a:pt x="1448" y="167"/>
                    </a:lnTo>
                    <a:lnTo>
                      <a:pt x="1536" y="314"/>
                    </a:lnTo>
                    <a:lnTo>
                      <a:pt x="1634" y="348"/>
                    </a:lnTo>
                    <a:lnTo>
                      <a:pt x="1680" y="495"/>
                    </a:lnTo>
                    <a:lnTo>
                      <a:pt x="1868" y="495"/>
                    </a:lnTo>
                    <a:lnTo>
                      <a:pt x="1918" y="612"/>
                    </a:lnTo>
                    <a:lnTo>
                      <a:pt x="1889" y="692"/>
                    </a:lnTo>
                    <a:lnTo>
                      <a:pt x="1947" y="756"/>
                    </a:lnTo>
                    <a:lnTo>
                      <a:pt x="2002" y="865"/>
                    </a:lnTo>
                    <a:lnTo>
                      <a:pt x="1968" y="1000"/>
                    </a:lnTo>
                    <a:lnTo>
                      <a:pt x="1968" y="1117"/>
                    </a:lnTo>
                    <a:lnTo>
                      <a:pt x="2052" y="1147"/>
                    </a:lnTo>
                    <a:lnTo>
                      <a:pt x="2052" y="1243"/>
                    </a:lnTo>
                    <a:lnTo>
                      <a:pt x="2014" y="1310"/>
                    </a:lnTo>
                    <a:lnTo>
                      <a:pt x="1981" y="1399"/>
                    </a:lnTo>
                    <a:lnTo>
                      <a:pt x="1847" y="1407"/>
                    </a:lnTo>
                    <a:lnTo>
                      <a:pt x="1826" y="1453"/>
                    </a:lnTo>
                    <a:lnTo>
                      <a:pt x="1701" y="1491"/>
                    </a:lnTo>
                    <a:lnTo>
                      <a:pt x="1571" y="1478"/>
                    </a:lnTo>
                    <a:lnTo>
                      <a:pt x="1503" y="1344"/>
                    </a:lnTo>
                    <a:lnTo>
                      <a:pt x="1503" y="1134"/>
                    </a:lnTo>
                    <a:lnTo>
                      <a:pt x="1457" y="1109"/>
                    </a:lnTo>
                    <a:lnTo>
                      <a:pt x="1340" y="1075"/>
                    </a:lnTo>
                    <a:lnTo>
                      <a:pt x="1273" y="1008"/>
                    </a:lnTo>
                    <a:lnTo>
                      <a:pt x="1231" y="1008"/>
                    </a:lnTo>
                    <a:lnTo>
                      <a:pt x="1235" y="1130"/>
                    </a:lnTo>
                    <a:lnTo>
                      <a:pt x="1227" y="1201"/>
                    </a:lnTo>
                    <a:lnTo>
                      <a:pt x="1139" y="1193"/>
                    </a:lnTo>
                    <a:lnTo>
                      <a:pt x="1022" y="1130"/>
                    </a:lnTo>
                    <a:lnTo>
                      <a:pt x="946" y="1075"/>
                    </a:lnTo>
                    <a:lnTo>
                      <a:pt x="846" y="1029"/>
                    </a:lnTo>
                    <a:lnTo>
                      <a:pt x="762" y="928"/>
                    </a:lnTo>
                    <a:lnTo>
                      <a:pt x="645" y="865"/>
                    </a:lnTo>
                    <a:lnTo>
                      <a:pt x="528" y="832"/>
                    </a:lnTo>
                    <a:lnTo>
                      <a:pt x="439" y="823"/>
                    </a:lnTo>
                    <a:lnTo>
                      <a:pt x="405" y="743"/>
                    </a:lnTo>
                    <a:lnTo>
                      <a:pt x="330" y="663"/>
                    </a:lnTo>
                    <a:lnTo>
                      <a:pt x="380" y="633"/>
                    </a:lnTo>
                    <a:lnTo>
                      <a:pt x="301" y="571"/>
                    </a:lnTo>
                    <a:lnTo>
                      <a:pt x="276" y="466"/>
                    </a:lnTo>
                    <a:lnTo>
                      <a:pt x="217" y="394"/>
                    </a:lnTo>
                    <a:lnTo>
                      <a:pt x="129" y="382"/>
                    </a:lnTo>
                    <a:lnTo>
                      <a:pt x="104" y="432"/>
                    </a:lnTo>
                    <a:lnTo>
                      <a:pt x="58" y="487"/>
                    </a:lnTo>
                    <a:lnTo>
                      <a:pt x="4" y="453"/>
                    </a:lnTo>
                    <a:lnTo>
                      <a:pt x="4" y="369"/>
                    </a:lnTo>
                    <a:lnTo>
                      <a:pt x="20" y="319"/>
                    </a:lnTo>
                    <a:lnTo>
                      <a:pt x="20" y="239"/>
                    </a:lnTo>
                    <a:lnTo>
                      <a:pt x="50" y="226"/>
                    </a:lnTo>
                    <a:lnTo>
                      <a:pt x="0" y="117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6867360" y="1582560"/>
                <a:ext cx="2011680" cy="2875320"/>
              </a:xfrm>
              <a:custGeom>
                <a:avLst/>
                <a:gdLst/>
                <a:ahLst/>
                <a:rect l="0" t="0" r="r" b="b"/>
                <a:pathLst>
                  <a:path w="5588" h="7987">
                    <a:moveTo>
                      <a:pt x="5588" y="4"/>
                    </a:moveTo>
                    <a:lnTo>
                      <a:pt x="4407" y="0"/>
                    </a:lnTo>
                    <a:lnTo>
                      <a:pt x="4180" y="163"/>
                    </a:lnTo>
                    <a:lnTo>
                      <a:pt x="4109" y="305"/>
                    </a:lnTo>
                    <a:lnTo>
                      <a:pt x="3992" y="377"/>
                    </a:lnTo>
                    <a:lnTo>
                      <a:pt x="3958" y="318"/>
                    </a:lnTo>
                    <a:lnTo>
                      <a:pt x="3963" y="247"/>
                    </a:lnTo>
                    <a:lnTo>
                      <a:pt x="3879" y="171"/>
                    </a:lnTo>
                    <a:lnTo>
                      <a:pt x="3799" y="297"/>
                    </a:lnTo>
                    <a:lnTo>
                      <a:pt x="3703" y="318"/>
                    </a:lnTo>
                    <a:lnTo>
                      <a:pt x="3594" y="456"/>
                    </a:lnTo>
                    <a:lnTo>
                      <a:pt x="3477" y="544"/>
                    </a:lnTo>
                    <a:lnTo>
                      <a:pt x="3410" y="599"/>
                    </a:lnTo>
                    <a:lnTo>
                      <a:pt x="3410" y="703"/>
                    </a:lnTo>
                    <a:lnTo>
                      <a:pt x="3301" y="787"/>
                    </a:lnTo>
                    <a:lnTo>
                      <a:pt x="3083" y="678"/>
                    </a:lnTo>
                    <a:lnTo>
                      <a:pt x="3087" y="607"/>
                    </a:lnTo>
                    <a:lnTo>
                      <a:pt x="3221" y="511"/>
                    </a:lnTo>
                    <a:lnTo>
                      <a:pt x="3192" y="469"/>
                    </a:lnTo>
                    <a:lnTo>
                      <a:pt x="3062" y="494"/>
                    </a:lnTo>
                    <a:lnTo>
                      <a:pt x="2991" y="444"/>
                    </a:lnTo>
                    <a:lnTo>
                      <a:pt x="2844" y="448"/>
                    </a:lnTo>
                    <a:lnTo>
                      <a:pt x="2751" y="456"/>
                    </a:lnTo>
                    <a:lnTo>
                      <a:pt x="2865" y="540"/>
                    </a:lnTo>
                    <a:lnTo>
                      <a:pt x="2932" y="729"/>
                    </a:lnTo>
                    <a:lnTo>
                      <a:pt x="2995" y="749"/>
                    </a:lnTo>
                    <a:lnTo>
                      <a:pt x="3083" y="796"/>
                    </a:lnTo>
                    <a:lnTo>
                      <a:pt x="3112" y="888"/>
                    </a:lnTo>
                    <a:lnTo>
                      <a:pt x="3133" y="963"/>
                    </a:lnTo>
                    <a:lnTo>
                      <a:pt x="3003" y="942"/>
                    </a:lnTo>
                    <a:lnTo>
                      <a:pt x="2890" y="946"/>
                    </a:lnTo>
                    <a:lnTo>
                      <a:pt x="2617" y="1202"/>
                    </a:lnTo>
                    <a:lnTo>
                      <a:pt x="2646" y="1248"/>
                    </a:lnTo>
                    <a:lnTo>
                      <a:pt x="2747" y="1282"/>
                    </a:lnTo>
                    <a:lnTo>
                      <a:pt x="2811" y="1361"/>
                    </a:lnTo>
                    <a:lnTo>
                      <a:pt x="2760" y="1462"/>
                    </a:lnTo>
                    <a:lnTo>
                      <a:pt x="2634" y="1470"/>
                    </a:lnTo>
                    <a:lnTo>
                      <a:pt x="2525" y="1445"/>
                    </a:lnTo>
                    <a:lnTo>
                      <a:pt x="2349" y="1361"/>
                    </a:lnTo>
                    <a:lnTo>
                      <a:pt x="2299" y="1349"/>
                    </a:lnTo>
                    <a:lnTo>
                      <a:pt x="2236" y="1420"/>
                    </a:lnTo>
                    <a:lnTo>
                      <a:pt x="2303" y="1453"/>
                    </a:lnTo>
                    <a:lnTo>
                      <a:pt x="2454" y="1458"/>
                    </a:lnTo>
                    <a:lnTo>
                      <a:pt x="2471" y="1479"/>
                    </a:lnTo>
                    <a:lnTo>
                      <a:pt x="2479" y="1558"/>
                    </a:lnTo>
                    <a:lnTo>
                      <a:pt x="2525" y="1613"/>
                    </a:lnTo>
                    <a:lnTo>
                      <a:pt x="2408" y="1634"/>
                    </a:lnTo>
                    <a:lnTo>
                      <a:pt x="2286" y="1638"/>
                    </a:lnTo>
                    <a:lnTo>
                      <a:pt x="2207" y="1579"/>
                    </a:lnTo>
                    <a:lnTo>
                      <a:pt x="2131" y="1550"/>
                    </a:lnTo>
                    <a:lnTo>
                      <a:pt x="2027" y="1533"/>
                    </a:lnTo>
                    <a:lnTo>
                      <a:pt x="1997" y="1453"/>
                    </a:lnTo>
                    <a:lnTo>
                      <a:pt x="1939" y="1328"/>
                    </a:lnTo>
                    <a:lnTo>
                      <a:pt x="1934" y="1240"/>
                    </a:lnTo>
                    <a:lnTo>
                      <a:pt x="1842" y="1168"/>
                    </a:lnTo>
                    <a:lnTo>
                      <a:pt x="1754" y="1148"/>
                    </a:lnTo>
                    <a:lnTo>
                      <a:pt x="1683" y="1101"/>
                    </a:lnTo>
                    <a:lnTo>
                      <a:pt x="1578" y="1051"/>
                    </a:lnTo>
                    <a:lnTo>
                      <a:pt x="1541" y="930"/>
                    </a:lnTo>
                    <a:lnTo>
                      <a:pt x="1658" y="1005"/>
                    </a:lnTo>
                    <a:lnTo>
                      <a:pt x="1746" y="1005"/>
                    </a:lnTo>
                    <a:lnTo>
                      <a:pt x="1826" y="997"/>
                    </a:lnTo>
                    <a:lnTo>
                      <a:pt x="1939" y="1039"/>
                    </a:lnTo>
                    <a:lnTo>
                      <a:pt x="2094" y="1030"/>
                    </a:lnTo>
                    <a:lnTo>
                      <a:pt x="2182" y="1064"/>
                    </a:lnTo>
                    <a:lnTo>
                      <a:pt x="2353" y="1060"/>
                    </a:lnTo>
                    <a:lnTo>
                      <a:pt x="2408" y="1089"/>
                    </a:lnTo>
                    <a:lnTo>
                      <a:pt x="2458" y="1064"/>
                    </a:lnTo>
                    <a:lnTo>
                      <a:pt x="2525" y="1055"/>
                    </a:lnTo>
                    <a:lnTo>
                      <a:pt x="2638" y="946"/>
                    </a:lnTo>
                    <a:lnTo>
                      <a:pt x="2659" y="888"/>
                    </a:lnTo>
                    <a:lnTo>
                      <a:pt x="2667" y="783"/>
                    </a:lnTo>
                    <a:lnTo>
                      <a:pt x="2563" y="716"/>
                    </a:lnTo>
                    <a:lnTo>
                      <a:pt x="2487" y="666"/>
                    </a:lnTo>
                    <a:lnTo>
                      <a:pt x="2437" y="666"/>
                    </a:lnTo>
                    <a:lnTo>
                      <a:pt x="2399" y="611"/>
                    </a:lnTo>
                    <a:lnTo>
                      <a:pt x="2320" y="641"/>
                    </a:lnTo>
                    <a:lnTo>
                      <a:pt x="2089" y="582"/>
                    </a:lnTo>
                    <a:lnTo>
                      <a:pt x="1997" y="574"/>
                    </a:lnTo>
                    <a:lnTo>
                      <a:pt x="1905" y="506"/>
                    </a:lnTo>
                    <a:lnTo>
                      <a:pt x="1859" y="515"/>
                    </a:lnTo>
                    <a:lnTo>
                      <a:pt x="1620" y="444"/>
                    </a:lnTo>
                    <a:lnTo>
                      <a:pt x="1574" y="448"/>
                    </a:lnTo>
                    <a:lnTo>
                      <a:pt x="1440" y="490"/>
                    </a:lnTo>
                    <a:lnTo>
                      <a:pt x="1348" y="414"/>
                    </a:lnTo>
                    <a:lnTo>
                      <a:pt x="1214" y="322"/>
                    </a:lnTo>
                    <a:lnTo>
                      <a:pt x="1135" y="280"/>
                    </a:lnTo>
                    <a:lnTo>
                      <a:pt x="1135" y="385"/>
                    </a:lnTo>
                    <a:lnTo>
                      <a:pt x="1051" y="410"/>
                    </a:lnTo>
                    <a:lnTo>
                      <a:pt x="1009" y="607"/>
                    </a:lnTo>
                    <a:lnTo>
                      <a:pt x="1005" y="670"/>
                    </a:lnTo>
                    <a:lnTo>
                      <a:pt x="1176" y="758"/>
                    </a:lnTo>
                    <a:lnTo>
                      <a:pt x="1227" y="825"/>
                    </a:lnTo>
                    <a:lnTo>
                      <a:pt x="1227" y="888"/>
                    </a:lnTo>
                    <a:lnTo>
                      <a:pt x="1135" y="934"/>
                    </a:lnTo>
                    <a:lnTo>
                      <a:pt x="1135" y="1013"/>
                    </a:lnTo>
                    <a:lnTo>
                      <a:pt x="1227" y="1135"/>
                    </a:lnTo>
                    <a:lnTo>
                      <a:pt x="1348" y="1256"/>
                    </a:lnTo>
                    <a:lnTo>
                      <a:pt x="1361" y="1407"/>
                    </a:lnTo>
                    <a:lnTo>
                      <a:pt x="1440" y="1550"/>
                    </a:lnTo>
                    <a:lnTo>
                      <a:pt x="1470" y="1684"/>
                    </a:lnTo>
                    <a:lnTo>
                      <a:pt x="1545" y="1801"/>
                    </a:lnTo>
                    <a:lnTo>
                      <a:pt x="1620" y="1856"/>
                    </a:lnTo>
                    <a:lnTo>
                      <a:pt x="1620" y="1998"/>
                    </a:lnTo>
                    <a:lnTo>
                      <a:pt x="1574" y="2111"/>
                    </a:lnTo>
                    <a:lnTo>
                      <a:pt x="1377" y="2254"/>
                    </a:lnTo>
                    <a:lnTo>
                      <a:pt x="1206" y="2455"/>
                    </a:lnTo>
                    <a:lnTo>
                      <a:pt x="1344" y="2526"/>
                    </a:lnTo>
                    <a:lnTo>
                      <a:pt x="1457" y="2547"/>
                    </a:lnTo>
                    <a:lnTo>
                      <a:pt x="1599" y="2534"/>
                    </a:lnTo>
                    <a:lnTo>
                      <a:pt x="1641" y="2635"/>
                    </a:lnTo>
                    <a:lnTo>
                      <a:pt x="1499" y="2731"/>
                    </a:lnTo>
                    <a:lnTo>
                      <a:pt x="1415" y="2689"/>
                    </a:lnTo>
                    <a:lnTo>
                      <a:pt x="1285" y="2736"/>
                    </a:lnTo>
                    <a:lnTo>
                      <a:pt x="1210" y="2891"/>
                    </a:lnTo>
                    <a:lnTo>
                      <a:pt x="996" y="2803"/>
                    </a:lnTo>
                    <a:lnTo>
                      <a:pt x="917" y="2748"/>
                    </a:lnTo>
                    <a:lnTo>
                      <a:pt x="787" y="2798"/>
                    </a:lnTo>
                    <a:lnTo>
                      <a:pt x="603" y="2945"/>
                    </a:lnTo>
                    <a:lnTo>
                      <a:pt x="557" y="3016"/>
                    </a:lnTo>
                    <a:lnTo>
                      <a:pt x="636" y="3041"/>
                    </a:lnTo>
                    <a:lnTo>
                      <a:pt x="716" y="3008"/>
                    </a:lnTo>
                    <a:lnTo>
                      <a:pt x="728" y="3146"/>
                    </a:lnTo>
                    <a:lnTo>
                      <a:pt x="707" y="3318"/>
                    </a:lnTo>
                    <a:lnTo>
                      <a:pt x="624" y="3452"/>
                    </a:lnTo>
                    <a:lnTo>
                      <a:pt x="540" y="3398"/>
                    </a:lnTo>
                    <a:lnTo>
                      <a:pt x="360" y="3251"/>
                    </a:lnTo>
                    <a:lnTo>
                      <a:pt x="192" y="3423"/>
                    </a:lnTo>
                    <a:lnTo>
                      <a:pt x="154" y="3477"/>
                    </a:lnTo>
                    <a:lnTo>
                      <a:pt x="171" y="3561"/>
                    </a:lnTo>
                    <a:lnTo>
                      <a:pt x="171" y="3737"/>
                    </a:lnTo>
                    <a:lnTo>
                      <a:pt x="104" y="3854"/>
                    </a:lnTo>
                    <a:lnTo>
                      <a:pt x="50" y="3921"/>
                    </a:lnTo>
                    <a:lnTo>
                      <a:pt x="0" y="3963"/>
                    </a:lnTo>
                    <a:lnTo>
                      <a:pt x="113" y="4073"/>
                    </a:lnTo>
                    <a:lnTo>
                      <a:pt x="221" y="4090"/>
                    </a:lnTo>
                    <a:lnTo>
                      <a:pt x="582" y="4069"/>
                    </a:lnTo>
                    <a:lnTo>
                      <a:pt x="686" y="4207"/>
                    </a:lnTo>
                    <a:lnTo>
                      <a:pt x="766" y="4417"/>
                    </a:lnTo>
                    <a:lnTo>
                      <a:pt x="636" y="4538"/>
                    </a:lnTo>
                    <a:lnTo>
                      <a:pt x="712" y="4668"/>
                    </a:lnTo>
                    <a:lnTo>
                      <a:pt x="770" y="4823"/>
                    </a:lnTo>
                    <a:lnTo>
                      <a:pt x="787" y="4974"/>
                    </a:lnTo>
                    <a:lnTo>
                      <a:pt x="670" y="5041"/>
                    </a:lnTo>
                    <a:lnTo>
                      <a:pt x="577" y="5230"/>
                    </a:lnTo>
                    <a:lnTo>
                      <a:pt x="531" y="5385"/>
                    </a:lnTo>
                    <a:lnTo>
                      <a:pt x="531" y="5611"/>
                    </a:lnTo>
                    <a:lnTo>
                      <a:pt x="615" y="5682"/>
                    </a:lnTo>
                    <a:lnTo>
                      <a:pt x="691" y="5607"/>
                    </a:lnTo>
                    <a:lnTo>
                      <a:pt x="929" y="5678"/>
                    </a:lnTo>
                    <a:lnTo>
                      <a:pt x="1030" y="5657"/>
                    </a:lnTo>
                    <a:lnTo>
                      <a:pt x="1130" y="5644"/>
                    </a:lnTo>
                    <a:lnTo>
                      <a:pt x="1289" y="5632"/>
                    </a:lnTo>
                    <a:lnTo>
                      <a:pt x="1377" y="5581"/>
                    </a:lnTo>
                    <a:lnTo>
                      <a:pt x="1520" y="5749"/>
                    </a:lnTo>
                    <a:lnTo>
                      <a:pt x="1704" y="5933"/>
                    </a:lnTo>
                    <a:lnTo>
                      <a:pt x="1687" y="6076"/>
                    </a:lnTo>
                    <a:lnTo>
                      <a:pt x="1738" y="6243"/>
                    </a:lnTo>
                    <a:lnTo>
                      <a:pt x="1842" y="6281"/>
                    </a:lnTo>
                    <a:lnTo>
                      <a:pt x="1914" y="6243"/>
                    </a:lnTo>
                    <a:lnTo>
                      <a:pt x="1997" y="6260"/>
                    </a:lnTo>
                    <a:lnTo>
                      <a:pt x="2027" y="6290"/>
                    </a:lnTo>
                    <a:lnTo>
                      <a:pt x="1981" y="6436"/>
                    </a:lnTo>
                    <a:lnTo>
                      <a:pt x="1922" y="6470"/>
                    </a:lnTo>
                    <a:lnTo>
                      <a:pt x="1842" y="6658"/>
                    </a:lnTo>
                    <a:lnTo>
                      <a:pt x="1893" y="6646"/>
                    </a:lnTo>
                    <a:lnTo>
                      <a:pt x="1809" y="6792"/>
                    </a:lnTo>
                    <a:lnTo>
                      <a:pt x="1759" y="6931"/>
                    </a:lnTo>
                    <a:lnTo>
                      <a:pt x="1738" y="7027"/>
                    </a:lnTo>
                    <a:lnTo>
                      <a:pt x="1763" y="7132"/>
                    </a:lnTo>
                    <a:lnTo>
                      <a:pt x="2060" y="7371"/>
                    </a:lnTo>
                    <a:lnTo>
                      <a:pt x="2253" y="7316"/>
                    </a:lnTo>
                    <a:lnTo>
                      <a:pt x="2445" y="7333"/>
                    </a:lnTo>
                    <a:lnTo>
                      <a:pt x="2646" y="7232"/>
                    </a:lnTo>
                    <a:lnTo>
                      <a:pt x="2932" y="7086"/>
                    </a:lnTo>
                    <a:lnTo>
                      <a:pt x="3163" y="7086"/>
                    </a:lnTo>
                    <a:lnTo>
                      <a:pt x="3351" y="7061"/>
                    </a:lnTo>
                    <a:lnTo>
                      <a:pt x="3406" y="7119"/>
                    </a:lnTo>
                    <a:lnTo>
                      <a:pt x="3581" y="7140"/>
                    </a:lnTo>
                    <a:lnTo>
                      <a:pt x="3699" y="7153"/>
                    </a:lnTo>
                    <a:lnTo>
                      <a:pt x="3854" y="7232"/>
                    </a:lnTo>
                    <a:lnTo>
                      <a:pt x="4030" y="7257"/>
                    </a:lnTo>
                    <a:lnTo>
                      <a:pt x="4587" y="7237"/>
                    </a:lnTo>
                    <a:lnTo>
                      <a:pt x="4683" y="7149"/>
                    </a:lnTo>
                    <a:lnTo>
                      <a:pt x="4779" y="7061"/>
                    </a:lnTo>
                    <a:lnTo>
                      <a:pt x="4884" y="7073"/>
                    </a:lnTo>
                    <a:lnTo>
                      <a:pt x="5014" y="7040"/>
                    </a:lnTo>
                    <a:lnTo>
                      <a:pt x="5085" y="7107"/>
                    </a:lnTo>
                    <a:lnTo>
                      <a:pt x="5186" y="7178"/>
                    </a:lnTo>
                    <a:lnTo>
                      <a:pt x="5286" y="7400"/>
                    </a:lnTo>
                    <a:lnTo>
                      <a:pt x="5408" y="7417"/>
                    </a:lnTo>
                    <a:lnTo>
                      <a:pt x="5588" y="7987"/>
                    </a:lnTo>
                    <a:lnTo>
                      <a:pt x="5588" y="4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6480000" y="3006720"/>
                <a:ext cx="675000" cy="514800"/>
              </a:xfrm>
              <a:custGeom>
                <a:avLst/>
                <a:gdLst/>
                <a:ahLst/>
                <a:rect l="0" t="0" r="r" b="b"/>
                <a:pathLst>
                  <a:path w="1875" h="1430">
                    <a:moveTo>
                      <a:pt x="226" y="146"/>
                    </a:moveTo>
                    <a:lnTo>
                      <a:pt x="486" y="87"/>
                    </a:lnTo>
                    <a:lnTo>
                      <a:pt x="695" y="0"/>
                    </a:lnTo>
                    <a:lnTo>
                      <a:pt x="834" y="113"/>
                    </a:lnTo>
                    <a:lnTo>
                      <a:pt x="1040" y="134"/>
                    </a:lnTo>
                    <a:lnTo>
                      <a:pt x="1149" y="67"/>
                    </a:lnTo>
                    <a:lnTo>
                      <a:pt x="1191" y="108"/>
                    </a:lnTo>
                    <a:lnTo>
                      <a:pt x="1292" y="125"/>
                    </a:lnTo>
                    <a:lnTo>
                      <a:pt x="1539" y="113"/>
                    </a:lnTo>
                    <a:lnTo>
                      <a:pt x="1665" y="100"/>
                    </a:lnTo>
                    <a:lnTo>
                      <a:pt x="1761" y="238"/>
                    </a:lnTo>
                    <a:lnTo>
                      <a:pt x="1849" y="461"/>
                    </a:lnTo>
                    <a:lnTo>
                      <a:pt x="1715" y="579"/>
                    </a:lnTo>
                    <a:lnTo>
                      <a:pt x="1787" y="700"/>
                    </a:lnTo>
                    <a:lnTo>
                      <a:pt x="1854" y="872"/>
                    </a:lnTo>
                    <a:lnTo>
                      <a:pt x="1875" y="1014"/>
                    </a:lnTo>
                    <a:lnTo>
                      <a:pt x="1745" y="1091"/>
                    </a:lnTo>
                    <a:lnTo>
                      <a:pt x="1652" y="1284"/>
                    </a:lnTo>
                    <a:lnTo>
                      <a:pt x="1610" y="1430"/>
                    </a:lnTo>
                    <a:lnTo>
                      <a:pt x="1510" y="1393"/>
                    </a:lnTo>
                    <a:lnTo>
                      <a:pt x="1455" y="1321"/>
                    </a:lnTo>
                    <a:lnTo>
                      <a:pt x="1380" y="1346"/>
                    </a:lnTo>
                    <a:lnTo>
                      <a:pt x="1212" y="1355"/>
                    </a:lnTo>
                    <a:lnTo>
                      <a:pt x="1133" y="1380"/>
                    </a:lnTo>
                    <a:lnTo>
                      <a:pt x="1061" y="1380"/>
                    </a:lnTo>
                    <a:lnTo>
                      <a:pt x="986" y="1338"/>
                    </a:lnTo>
                    <a:lnTo>
                      <a:pt x="948" y="1367"/>
                    </a:lnTo>
                    <a:lnTo>
                      <a:pt x="901" y="1355"/>
                    </a:lnTo>
                    <a:lnTo>
                      <a:pt x="796" y="1242"/>
                    </a:lnTo>
                    <a:lnTo>
                      <a:pt x="700" y="1246"/>
                    </a:lnTo>
                    <a:lnTo>
                      <a:pt x="649" y="1145"/>
                    </a:lnTo>
                    <a:lnTo>
                      <a:pt x="582" y="1095"/>
                    </a:lnTo>
                    <a:lnTo>
                      <a:pt x="306" y="1056"/>
                    </a:lnTo>
                    <a:lnTo>
                      <a:pt x="272" y="998"/>
                    </a:lnTo>
                    <a:lnTo>
                      <a:pt x="201" y="964"/>
                    </a:lnTo>
                    <a:lnTo>
                      <a:pt x="109" y="935"/>
                    </a:lnTo>
                    <a:lnTo>
                      <a:pt x="58" y="872"/>
                    </a:lnTo>
                    <a:lnTo>
                      <a:pt x="109" y="780"/>
                    </a:lnTo>
                    <a:lnTo>
                      <a:pt x="109" y="604"/>
                    </a:lnTo>
                    <a:lnTo>
                      <a:pt x="0" y="449"/>
                    </a:lnTo>
                    <a:lnTo>
                      <a:pt x="109" y="284"/>
                    </a:lnTo>
                    <a:lnTo>
                      <a:pt x="180" y="263"/>
                    </a:lnTo>
                    <a:lnTo>
                      <a:pt x="226" y="14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6588000" y="3576600"/>
                <a:ext cx="500400" cy="241560"/>
              </a:xfrm>
              <a:custGeom>
                <a:avLst/>
                <a:gdLst/>
                <a:ahLst/>
                <a:rect l="0" t="0" r="r" b="b"/>
                <a:pathLst>
                  <a:path w="1390" h="671">
                    <a:moveTo>
                      <a:pt x="1306" y="58"/>
                    </a:moveTo>
                    <a:lnTo>
                      <a:pt x="1218" y="54"/>
                    </a:lnTo>
                    <a:lnTo>
                      <a:pt x="1185" y="25"/>
                    </a:lnTo>
                    <a:lnTo>
                      <a:pt x="1042" y="33"/>
                    </a:lnTo>
                    <a:lnTo>
                      <a:pt x="862" y="0"/>
                    </a:lnTo>
                    <a:lnTo>
                      <a:pt x="758" y="58"/>
                    </a:lnTo>
                    <a:lnTo>
                      <a:pt x="644" y="67"/>
                    </a:lnTo>
                    <a:lnTo>
                      <a:pt x="447" y="171"/>
                    </a:lnTo>
                    <a:lnTo>
                      <a:pt x="347" y="180"/>
                    </a:lnTo>
                    <a:lnTo>
                      <a:pt x="213" y="100"/>
                    </a:lnTo>
                    <a:lnTo>
                      <a:pt x="154" y="125"/>
                    </a:lnTo>
                    <a:lnTo>
                      <a:pt x="129" y="205"/>
                    </a:lnTo>
                    <a:lnTo>
                      <a:pt x="83" y="209"/>
                    </a:lnTo>
                    <a:lnTo>
                      <a:pt x="58" y="318"/>
                    </a:lnTo>
                    <a:lnTo>
                      <a:pt x="0" y="390"/>
                    </a:lnTo>
                    <a:lnTo>
                      <a:pt x="83" y="537"/>
                    </a:lnTo>
                    <a:lnTo>
                      <a:pt x="246" y="637"/>
                    </a:lnTo>
                    <a:lnTo>
                      <a:pt x="401" y="671"/>
                    </a:lnTo>
                    <a:lnTo>
                      <a:pt x="594" y="604"/>
                    </a:lnTo>
                    <a:lnTo>
                      <a:pt x="762" y="566"/>
                    </a:lnTo>
                    <a:lnTo>
                      <a:pt x="887" y="616"/>
                    </a:lnTo>
                    <a:lnTo>
                      <a:pt x="1126" y="495"/>
                    </a:lnTo>
                    <a:lnTo>
                      <a:pt x="1243" y="247"/>
                    </a:lnTo>
                    <a:lnTo>
                      <a:pt x="1306" y="213"/>
                    </a:lnTo>
                    <a:lnTo>
                      <a:pt x="1390" y="138"/>
                    </a:lnTo>
                    <a:lnTo>
                      <a:pt x="1306" y="58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064280" y="3954600"/>
                <a:ext cx="484560" cy="281520"/>
              </a:xfrm>
              <a:custGeom>
                <a:avLst/>
                <a:gdLst/>
                <a:ahLst/>
                <a:rect l="0" t="0" r="r" b="b"/>
                <a:pathLst>
                  <a:path w="1346" h="782">
                    <a:moveTo>
                      <a:pt x="33" y="0"/>
                    </a:moveTo>
                    <a:lnTo>
                      <a:pt x="150" y="117"/>
                    </a:lnTo>
                    <a:lnTo>
                      <a:pt x="378" y="151"/>
                    </a:lnTo>
                    <a:lnTo>
                      <a:pt x="600" y="163"/>
                    </a:lnTo>
                    <a:lnTo>
                      <a:pt x="742" y="113"/>
                    </a:lnTo>
                    <a:lnTo>
                      <a:pt x="889" y="37"/>
                    </a:lnTo>
                    <a:lnTo>
                      <a:pt x="1024" y="46"/>
                    </a:lnTo>
                    <a:lnTo>
                      <a:pt x="1175" y="41"/>
                    </a:lnTo>
                    <a:lnTo>
                      <a:pt x="1300" y="58"/>
                    </a:lnTo>
                    <a:lnTo>
                      <a:pt x="1346" y="50"/>
                    </a:lnTo>
                    <a:lnTo>
                      <a:pt x="1271" y="202"/>
                    </a:lnTo>
                    <a:lnTo>
                      <a:pt x="1242" y="269"/>
                    </a:lnTo>
                    <a:lnTo>
                      <a:pt x="1217" y="336"/>
                    </a:lnTo>
                    <a:lnTo>
                      <a:pt x="1196" y="429"/>
                    </a:lnTo>
                    <a:lnTo>
                      <a:pt x="1225" y="546"/>
                    </a:lnTo>
                    <a:lnTo>
                      <a:pt x="1070" y="517"/>
                    </a:lnTo>
                    <a:lnTo>
                      <a:pt x="1024" y="593"/>
                    </a:lnTo>
                    <a:lnTo>
                      <a:pt x="897" y="631"/>
                    </a:lnTo>
                    <a:lnTo>
                      <a:pt x="792" y="782"/>
                    </a:lnTo>
                    <a:lnTo>
                      <a:pt x="491" y="782"/>
                    </a:lnTo>
                    <a:lnTo>
                      <a:pt x="470" y="686"/>
                    </a:lnTo>
                    <a:lnTo>
                      <a:pt x="390" y="757"/>
                    </a:lnTo>
                    <a:lnTo>
                      <a:pt x="305" y="757"/>
                    </a:lnTo>
                    <a:lnTo>
                      <a:pt x="238" y="715"/>
                    </a:lnTo>
                    <a:lnTo>
                      <a:pt x="129" y="706"/>
                    </a:lnTo>
                    <a:lnTo>
                      <a:pt x="159" y="627"/>
                    </a:lnTo>
                    <a:lnTo>
                      <a:pt x="159" y="542"/>
                    </a:lnTo>
                    <a:lnTo>
                      <a:pt x="79" y="512"/>
                    </a:lnTo>
                    <a:lnTo>
                      <a:pt x="75" y="387"/>
                    </a:lnTo>
                    <a:lnTo>
                      <a:pt x="113" y="261"/>
                    </a:lnTo>
                    <a:lnTo>
                      <a:pt x="71" y="159"/>
                    </a:lnTo>
                    <a:lnTo>
                      <a:pt x="0" y="7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6907320" y="3589200"/>
                <a:ext cx="692640" cy="425880"/>
              </a:xfrm>
              <a:custGeom>
                <a:avLst/>
                <a:gdLst/>
                <a:ahLst/>
                <a:rect l="0" t="0" r="r" b="b"/>
                <a:pathLst>
                  <a:path w="1924" h="1183">
                    <a:moveTo>
                      <a:pt x="574" y="20"/>
                    </a:moveTo>
                    <a:lnTo>
                      <a:pt x="482" y="113"/>
                    </a:lnTo>
                    <a:lnTo>
                      <a:pt x="423" y="163"/>
                    </a:lnTo>
                    <a:lnTo>
                      <a:pt x="356" y="205"/>
                    </a:lnTo>
                    <a:lnTo>
                      <a:pt x="226" y="457"/>
                    </a:lnTo>
                    <a:lnTo>
                      <a:pt x="0" y="579"/>
                    </a:lnTo>
                    <a:lnTo>
                      <a:pt x="71" y="717"/>
                    </a:lnTo>
                    <a:lnTo>
                      <a:pt x="175" y="759"/>
                    </a:lnTo>
                    <a:lnTo>
                      <a:pt x="222" y="907"/>
                    </a:lnTo>
                    <a:lnTo>
                      <a:pt x="414" y="907"/>
                    </a:lnTo>
                    <a:lnTo>
                      <a:pt x="469" y="1020"/>
                    </a:lnTo>
                    <a:lnTo>
                      <a:pt x="583" y="1133"/>
                    </a:lnTo>
                    <a:lnTo>
                      <a:pt x="851" y="1175"/>
                    </a:lnTo>
                    <a:lnTo>
                      <a:pt x="1035" y="1183"/>
                    </a:lnTo>
                    <a:lnTo>
                      <a:pt x="1182" y="1137"/>
                    </a:lnTo>
                    <a:lnTo>
                      <a:pt x="1320" y="1062"/>
                    </a:lnTo>
                    <a:lnTo>
                      <a:pt x="1463" y="1070"/>
                    </a:lnTo>
                    <a:lnTo>
                      <a:pt x="1585" y="1058"/>
                    </a:lnTo>
                    <a:lnTo>
                      <a:pt x="1736" y="1083"/>
                    </a:lnTo>
                    <a:lnTo>
                      <a:pt x="1815" y="903"/>
                    </a:lnTo>
                    <a:lnTo>
                      <a:pt x="1878" y="864"/>
                    </a:lnTo>
                    <a:lnTo>
                      <a:pt x="1924" y="709"/>
                    </a:lnTo>
                    <a:lnTo>
                      <a:pt x="1899" y="679"/>
                    </a:lnTo>
                    <a:lnTo>
                      <a:pt x="1807" y="658"/>
                    </a:lnTo>
                    <a:lnTo>
                      <a:pt x="1736" y="700"/>
                    </a:lnTo>
                    <a:lnTo>
                      <a:pt x="1635" y="667"/>
                    </a:lnTo>
                    <a:lnTo>
                      <a:pt x="1585" y="499"/>
                    </a:lnTo>
                    <a:lnTo>
                      <a:pt x="1597" y="348"/>
                    </a:lnTo>
                    <a:lnTo>
                      <a:pt x="1379" y="138"/>
                    </a:lnTo>
                    <a:lnTo>
                      <a:pt x="1266" y="0"/>
                    </a:lnTo>
                    <a:lnTo>
                      <a:pt x="1173" y="50"/>
                    </a:lnTo>
                    <a:lnTo>
                      <a:pt x="1044" y="58"/>
                    </a:lnTo>
                    <a:lnTo>
                      <a:pt x="926" y="71"/>
                    </a:lnTo>
                    <a:lnTo>
                      <a:pt x="817" y="96"/>
                    </a:lnTo>
                    <a:lnTo>
                      <a:pt x="574" y="2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383600" y="4114800"/>
                <a:ext cx="1495800" cy="565560"/>
              </a:xfrm>
              <a:custGeom>
                <a:avLst/>
                <a:gdLst/>
                <a:ahLst/>
                <a:rect l="0" t="0" r="r" b="b"/>
                <a:pathLst>
                  <a:path w="4155" h="1571">
                    <a:moveTo>
                      <a:pt x="4155" y="926"/>
                    </a:moveTo>
                    <a:lnTo>
                      <a:pt x="4155" y="1093"/>
                    </a:lnTo>
                    <a:lnTo>
                      <a:pt x="4051" y="1093"/>
                    </a:lnTo>
                    <a:lnTo>
                      <a:pt x="3636" y="1164"/>
                    </a:lnTo>
                    <a:lnTo>
                      <a:pt x="3532" y="1186"/>
                    </a:lnTo>
                    <a:lnTo>
                      <a:pt x="3423" y="1190"/>
                    </a:lnTo>
                    <a:lnTo>
                      <a:pt x="3251" y="1303"/>
                    </a:lnTo>
                    <a:lnTo>
                      <a:pt x="2798" y="1299"/>
                    </a:lnTo>
                    <a:lnTo>
                      <a:pt x="2668" y="1366"/>
                    </a:lnTo>
                    <a:lnTo>
                      <a:pt x="2588" y="1370"/>
                    </a:lnTo>
                    <a:lnTo>
                      <a:pt x="2484" y="1337"/>
                    </a:lnTo>
                    <a:lnTo>
                      <a:pt x="2488" y="1483"/>
                    </a:lnTo>
                    <a:lnTo>
                      <a:pt x="2400" y="1521"/>
                    </a:lnTo>
                    <a:lnTo>
                      <a:pt x="2316" y="1525"/>
                    </a:lnTo>
                    <a:lnTo>
                      <a:pt x="2337" y="1454"/>
                    </a:lnTo>
                    <a:lnTo>
                      <a:pt x="2337" y="1358"/>
                    </a:lnTo>
                    <a:lnTo>
                      <a:pt x="2207" y="1408"/>
                    </a:lnTo>
                    <a:lnTo>
                      <a:pt x="1964" y="1362"/>
                    </a:lnTo>
                    <a:lnTo>
                      <a:pt x="1906" y="1509"/>
                    </a:lnTo>
                    <a:lnTo>
                      <a:pt x="1763" y="1571"/>
                    </a:lnTo>
                    <a:lnTo>
                      <a:pt x="1521" y="1525"/>
                    </a:lnTo>
                    <a:lnTo>
                      <a:pt x="1286" y="1425"/>
                    </a:lnTo>
                    <a:lnTo>
                      <a:pt x="1110" y="1425"/>
                    </a:lnTo>
                    <a:lnTo>
                      <a:pt x="1025" y="1483"/>
                    </a:lnTo>
                    <a:lnTo>
                      <a:pt x="942" y="1559"/>
                    </a:lnTo>
                    <a:lnTo>
                      <a:pt x="820" y="1550"/>
                    </a:lnTo>
                    <a:lnTo>
                      <a:pt x="716" y="1504"/>
                    </a:lnTo>
                    <a:lnTo>
                      <a:pt x="544" y="1454"/>
                    </a:lnTo>
                    <a:lnTo>
                      <a:pt x="368" y="1458"/>
                    </a:lnTo>
                    <a:lnTo>
                      <a:pt x="343" y="1400"/>
                    </a:lnTo>
                    <a:lnTo>
                      <a:pt x="343" y="1287"/>
                    </a:lnTo>
                    <a:lnTo>
                      <a:pt x="293" y="1245"/>
                    </a:lnTo>
                    <a:lnTo>
                      <a:pt x="293" y="1182"/>
                    </a:lnTo>
                    <a:lnTo>
                      <a:pt x="276" y="1152"/>
                    </a:lnTo>
                    <a:lnTo>
                      <a:pt x="234" y="1139"/>
                    </a:lnTo>
                    <a:lnTo>
                      <a:pt x="142" y="1127"/>
                    </a:lnTo>
                    <a:lnTo>
                      <a:pt x="87" y="1014"/>
                    </a:lnTo>
                    <a:lnTo>
                      <a:pt x="196" y="1055"/>
                    </a:lnTo>
                    <a:lnTo>
                      <a:pt x="230" y="1026"/>
                    </a:lnTo>
                    <a:lnTo>
                      <a:pt x="209" y="955"/>
                    </a:lnTo>
                    <a:lnTo>
                      <a:pt x="200" y="905"/>
                    </a:lnTo>
                    <a:lnTo>
                      <a:pt x="142" y="859"/>
                    </a:lnTo>
                    <a:lnTo>
                      <a:pt x="150" y="788"/>
                    </a:lnTo>
                    <a:lnTo>
                      <a:pt x="96" y="762"/>
                    </a:lnTo>
                    <a:lnTo>
                      <a:pt x="29" y="746"/>
                    </a:lnTo>
                    <a:lnTo>
                      <a:pt x="33" y="649"/>
                    </a:lnTo>
                    <a:lnTo>
                      <a:pt x="79" y="566"/>
                    </a:lnTo>
                    <a:lnTo>
                      <a:pt x="100" y="486"/>
                    </a:lnTo>
                    <a:lnTo>
                      <a:pt x="37" y="478"/>
                    </a:lnTo>
                    <a:lnTo>
                      <a:pt x="0" y="444"/>
                    </a:lnTo>
                    <a:lnTo>
                      <a:pt x="83" y="322"/>
                    </a:lnTo>
                    <a:lnTo>
                      <a:pt x="54" y="171"/>
                    </a:lnTo>
                    <a:lnTo>
                      <a:pt x="129" y="142"/>
                    </a:lnTo>
                    <a:lnTo>
                      <a:pt x="184" y="66"/>
                    </a:lnTo>
                    <a:lnTo>
                      <a:pt x="347" y="100"/>
                    </a:lnTo>
                    <a:lnTo>
                      <a:pt x="632" y="330"/>
                    </a:lnTo>
                    <a:lnTo>
                      <a:pt x="820" y="272"/>
                    </a:lnTo>
                    <a:lnTo>
                      <a:pt x="1009" y="293"/>
                    </a:lnTo>
                    <a:lnTo>
                      <a:pt x="1500" y="41"/>
                    </a:lnTo>
                    <a:lnTo>
                      <a:pt x="1722" y="46"/>
                    </a:lnTo>
                    <a:lnTo>
                      <a:pt x="1918" y="25"/>
                    </a:lnTo>
                    <a:lnTo>
                      <a:pt x="1973" y="79"/>
                    </a:lnTo>
                    <a:lnTo>
                      <a:pt x="2262" y="113"/>
                    </a:lnTo>
                    <a:lnTo>
                      <a:pt x="2421" y="188"/>
                    </a:lnTo>
                    <a:lnTo>
                      <a:pt x="2609" y="217"/>
                    </a:lnTo>
                    <a:lnTo>
                      <a:pt x="3155" y="192"/>
                    </a:lnTo>
                    <a:lnTo>
                      <a:pt x="3343" y="25"/>
                    </a:lnTo>
                    <a:lnTo>
                      <a:pt x="3456" y="29"/>
                    </a:lnTo>
                    <a:lnTo>
                      <a:pt x="3582" y="0"/>
                    </a:lnTo>
                    <a:lnTo>
                      <a:pt x="3657" y="71"/>
                    </a:lnTo>
                    <a:lnTo>
                      <a:pt x="3749" y="133"/>
                    </a:lnTo>
                    <a:lnTo>
                      <a:pt x="3858" y="360"/>
                    </a:lnTo>
                    <a:lnTo>
                      <a:pt x="3980" y="376"/>
                    </a:lnTo>
                    <a:lnTo>
                      <a:pt x="4155" y="92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6327720" y="3341520"/>
                <a:ext cx="732240" cy="300240"/>
              </a:xfrm>
              <a:custGeom>
                <a:avLst/>
                <a:gdLst/>
                <a:ahLst/>
                <a:rect l="0" t="0" r="r" b="b"/>
                <a:pathLst>
                  <a:path w="2034" h="834">
                    <a:moveTo>
                      <a:pt x="540" y="0"/>
                    </a:moveTo>
                    <a:lnTo>
                      <a:pt x="401" y="37"/>
                    </a:lnTo>
                    <a:lnTo>
                      <a:pt x="259" y="75"/>
                    </a:lnTo>
                    <a:lnTo>
                      <a:pt x="213" y="113"/>
                    </a:lnTo>
                    <a:lnTo>
                      <a:pt x="142" y="117"/>
                    </a:lnTo>
                    <a:lnTo>
                      <a:pt x="138" y="192"/>
                    </a:lnTo>
                    <a:lnTo>
                      <a:pt x="79" y="196"/>
                    </a:lnTo>
                    <a:lnTo>
                      <a:pt x="0" y="288"/>
                    </a:lnTo>
                    <a:lnTo>
                      <a:pt x="37" y="360"/>
                    </a:lnTo>
                    <a:lnTo>
                      <a:pt x="54" y="424"/>
                    </a:lnTo>
                    <a:lnTo>
                      <a:pt x="142" y="499"/>
                    </a:lnTo>
                    <a:lnTo>
                      <a:pt x="234" y="591"/>
                    </a:lnTo>
                    <a:lnTo>
                      <a:pt x="326" y="650"/>
                    </a:lnTo>
                    <a:lnTo>
                      <a:pt x="418" y="604"/>
                    </a:lnTo>
                    <a:lnTo>
                      <a:pt x="485" y="541"/>
                    </a:lnTo>
                    <a:lnTo>
                      <a:pt x="569" y="520"/>
                    </a:lnTo>
                    <a:lnTo>
                      <a:pt x="611" y="566"/>
                    </a:lnTo>
                    <a:lnTo>
                      <a:pt x="712" y="591"/>
                    </a:lnTo>
                    <a:lnTo>
                      <a:pt x="808" y="612"/>
                    </a:lnTo>
                    <a:lnTo>
                      <a:pt x="837" y="658"/>
                    </a:lnTo>
                    <a:lnTo>
                      <a:pt x="929" y="746"/>
                    </a:lnTo>
                    <a:lnTo>
                      <a:pt x="1038" y="817"/>
                    </a:lnTo>
                    <a:lnTo>
                      <a:pt x="1071" y="834"/>
                    </a:lnTo>
                    <a:lnTo>
                      <a:pt x="1172" y="830"/>
                    </a:lnTo>
                    <a:lnTo>
                      <a:pt x="1268" y="779"/>
                    </a:lnTo>
                    <a:lnTo>
                      <a:pt x="1360" y="725"/>
                    </a:lnTo>
                    <a:lnTo>
                      <a:pt x="1477" y="725"/>
                    </a:lnTo>
                    <a:lnTo>
                      <a:pt x="1591" y="658"/>
                    </a:lnTo>
                    <a:lnTo>
                      <a:pt x="1716" y="679"/>
                    </a:lnTo>
                    <a:lnTo>
                      <a:pt x="1809" y="696"/>
                    </a:lnTo>
                    <a:lnTo>
                      <a:pt x="1913" y="696"/>
                    </a:lnTo>
                    <a:lnTo>
                      <a:pt x="1972" y="708"/>
                    </a:lnTo>
                    <a:lnTo>
                      <a:pt x="2034" y="712"/>
                    </a:lnTo>
                    <a:lnTo>
                      <a:pt x="2034" y="495"/>
                    </a:lnTo>
                    <a:lnTo>
                      <a:pt x="1942" y="470"/>
                    </a:lnTo>
                    <a:lnTo>
                      <a:pt x="1875" y="385"/>
                    </a:lnTo>
                    <a:lnTo>
                      <a:pt x="1800" y="414"/>
                    </a:lnTo>
                    <a:lnTo>
                      <a:pt x="1637" y="414"/>
                    </a:lnTo>
                    <a:lnTo>
                      <a:pt x="1578" y="440"/>
                    </a:lnTo>
                    <a:lnTo>
                      <a:pt x="1490" y="449"/>
                    </a:lnTo>
                    <a:lnTo>
                      <a:pt x="1410" y="402"/>
                    </a:lnTo>
                    <a:lnTo>
                      <a:pt x="1368" y="428"/>
                    </a:lnTo>
                    <a:lnTo>
                      <a:pt x="1318" y="414"/>
                    </a:lnTo>
                    <a:lnTo>
                      <a:pt x="1222" y="314"/>
                    </a:lnTo>
                    <a:lnTo>
                      <a:pt x="1130" y="314"/>
                    </a:lnTo>
                    <a:lnTo>
                      <a:pt x="1080" y="209"/>
                    </a:lnTo>
                    <a:lnTo>
                      <a:pt x="1013" y="154"/>
                    </a:lnTo>
                    <a:lnTo>
                      <a:pt x="816" y="134"/>
                    </a:lnTo>
                    <a:lnTo>
                      <a:pt x="737" y="121"/>
                    </a:lnTo>
                    <a:lnTo>
                      <a:pt x="699" y="67"/>
                    </a:lnTo>
                    <a:lnTo>
                      <a:pt x="628" y="29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6902280" y="4173480"/>
                <a:ext cx="513000" cy="510120"/>
              </a:xfrm>
              <a:custGeom>
                <a:avLst/>
                <a:gdLst/>
                <a:ahLst/>
                <a:rect l="0" t="0" r="r" b="b"/>
                <a:pathLst>
                  <a:path w="1425" h="1417">
                    <a:moveTo>
                      <a:pt x="1396" y="0"/>
                    </a:moveTo>
                    <a:lnTo>
                      <a:pt x="1333" y="33"/>
                    </a:lnTo>
                    <a:lnTo>
                      <a:pt x="1241" y="167"/>
                    </a:lnTo>
                    <a:lnTo>
                      <a:pt x="951" y="167"/>
                    </a:lnTo>
                    <a:lnTo>
                      <a:pt x="931" y="67"/>
                    </a:lnTo>
                    <a:lnTo>
                      <a:pt x="838" y="142"/>
                    </a:lnTo>
                    <a:lnTo>
                      <a:pt x="767" y="142"/>
                    </a:lnTo>
                    <a:lnTo>
                      <a:pt x="661" y="92"/>
                    </a:lnTo>
                    <a:lnTo>
                      <a:pt x="578" y="92"/>
                    </a:lnTo>
                    <a:lnTo>
                      <a:pt x="544" y="180"/>
                    </a:lnTo>
                    <a:lnTo>
                      <a:pt x="414" y="180"/>
                    </a:lnTo>
                    <a:lnTo>
                      <a:pt x="389" y="226"/>
                    </a:lnTo>
                    <a:lnTo>
                      <a:pt x="263" y="272"/>
                    </a:lnTo>
                    <a:lnTo>
                      <a:pt x="117" y="251"/>
                    </a:lnTo>
                    <a:lnTo>
                      <a:pt x="184" y="361"/>
                    </a:lnTo>
                    <a:lnTo>
                      <a:pt x="113" y="482"/>
                    </a:lnTo>
                    <a:lnTo>
                      <a:pt x="12" y="470"/>
                    </a:lnTo>
                    <a:lnTo>
                      <a:pt x="46" y="549"/>
                    </a:lnTo>
                    <a:lnTo>
                      <a:pt x="0" y="608"/>
                    </a:lnTo>
                    <a:lnTo>
                      <a:pt x="12" y="675"/>
                    </a:lnTo>
                    <a:lnTo>
                      <a:pt x="75" y="708"/>
                    </a:lnTo>
                    <a:lnTo>
                      <a:pt x="104" y="750"/>
                    </a:lnTo>
                    <a:lnTo>
                      <a:pt x="167" y="750"/>
                    </a:lnTo>
                    <a:lnTo>
                      <a:pt x="138" y="788"/>
                    </a:lnTo>
                    <a:lnTo>
                      <a:pt x="155" y="851"/>
                    </a:lnTo>
                    <a:lnTo>
                      <a:pt x="213" y="872"/>
                    </a:lnTo>
                    <a:lnTo>
                      <a:pt x="301" y="867"/>
                    </a:lnTo>
                    <a:lnTo>
                      <a:pt x="389" y="897"/>
                    </a:lnTo>
                    <a:lnTo>
                      <a:pt x="561" y="897"/>
                    </a:lnTo>
                    <a:lnTo>
                      <a:pt x="661" y="980"/>
                    </a:lnTo>
                    <a:lnTo>
                      <a:pt x="624" y="1018"/>
                    </a:lnTo>
                    <a:lnTo>
                      <a:pt x="523" y="1018"/>
                    </a:lnTo>
                    <a:lnTo>
                      <a:pt x="444" y="985"/>
                    </a:lnTo>
                    <a:lnTo>
                      <a:pt x="410" y="947"/>
                    </a:lnTo>
                    <a:lnTo>
                      <a:pt x="347" y="968"/>
                    </a:lnTo>
                    <a:lnTo>
                      <a:pt x="280" y="976"/>
                    </a:lnTo>
                    <a:lnTo>
                      <a:pt x="251" y="1027"/>
                    </a:lnTo>
                    <a:lnTo>
                      <a:pt x="238" y="1082"/>
                    </a:lnTo>
                    <a:lnTo>
                      <a:pt x="305" y="1120"/>
                    </a:lnTo>
                    <a:lnTo>
                      <a:pt x="364" y="1174"/>
                    </a:lnTo>
                    <a:lnTo>
                      <a:pt x="364" y="1254"/>
                    </a:lnTo>
                    <a:lnTo>
                      <a:pt x="431" y="1237"/>
                    </a:lnTo>
                    <a:lnTo>
                      <a:pt x="490" y="1346"/>
                    </a:lnTo>
                    <a:lnTo>
                      <a:pt x="532" y="1417"/>
                    </a:lnTo>
                    <a:lnTo>
                      <a:pt x="578" y="1404"/>
                    </a:lnTo>
                    <a:lnTo>
                      <a:pt x="573" y="1329"/>
                    </a:lnTo>
                    <a:lnTo>
                      <a:pt x="670" y="1363"/>
                    </a:lnTo>
                    <a:lnTo>
                      <a:pt x="729" y="1392"/>
                    </a:lnTo>
                    <a:lnTo>
                      <a:pt x="699" y="1291"/>
                    </a:lnTo>
                    <a:lnTo>
                      <a:pt x="628" y="1208"/>
                    </a:lnTo>
                    <a:lnTo>
                      <a:pt x="628" y="1120"/>
                    </a:lnTo>
                    <a:lnTo>
                      <a:pt x="755" y="1174"/>
                    </a:lnTo>
                    <a:lnTo>
                      <a:pt x="788" y="1132"/>
                    </a:lnTo>
                    <a:lnTo>
                      <a:pt x="687" y="1099"/>
                    </a:lnTo>
                    <a:lnTo>
                      <a:pt x="682" y="1035"/>
                    </a:lnTo>
                    <a:lnTo>
                      <a:pt x="742" y="1006"/>
                    </a:lnTo>
                    <a:lnTo>
                      <a:pt x="809" y="989"/>
                    </a:lnTo>
                    <a:lnTo>
                      <a:pt x="884" y="1027"/>
                    </a:lnTo>
                    <a:lnTo>
                      <a:pt x="960" y="1018"/>
                    </a:lnTo>
                    <a:lnTo>
                      <a:pt x="926" y="939"/>
                    </a:lnTo>
                    <a:lnTo>
                      <a:pt x="838" y="888"/>
                    </a:lnTo>
                    <a:lnTo>
                      <a:pt x="755" y="834"/>
                    </a:lnTo>
                    <a:lnTo>
                      <a:pt x="674" y="805"/>
                    </a:lnTo>
                    <a:lnTo>
                      <a:pt x="674" y="721"/>
                    </a:lnTo>
                    <a:lnTo>
                      <a:pt x="707" y="662"/>
                    </a:lnTo>
                    <a:lnTo>
                      <a:pt x="532" y="511"/>
                    </a:lnTo>
                    <a:lnTo>
                      <a:pt x="532" y="386"/>
                    </a:lnTo>
                    <a:lnTo>
                      <a:pt x="607" y="411"/>
                    </a:lnTo>
                    <a:lnTo>
                      <a:pt x="717" y="511"/>
                    </a:lnTo>
                    <a:lnTo>
                      <a:pt x="822" y="482"/>
                    </a:lnTo>
                    <a:lnTo>
                      <a:pt x="889" y="457"/>
                    </a:lnTo>
                    <a:lnTo>
                      <a:pt x="889" y="373"/>
                    </a:lnTo>
                    <a:lnTo>
                      <a:pt x="893" y="293"/>
                    </a:lnTo>
                    <a:lnTo>
                      <a:pt x="1169" y="293"/>
                    </a:lnTo>
                    <a:lnTo>
                      <a:pt x="1253" y="263"/>
                    </a:lnTo>
                    <a:lnTo>
                      <a:pt x="1345" y="272"/>
                    </a:lnTo>
                    <a:lnTo>
                      <a:pt x="1425" y="159"/>
                    </a:lnTo>
                    <a:lnTo>
                      <a:pt x="1396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6824520" y="4095720"/>
                <a:ext cx="146520" cy="298800"/>
              </a:xfrm>
              <a:custGeom>
                <a:avLst/>
                <a:gdLst/>
                <a:ahLst/>
                <a:rect l="0" t="0" r="r" b="b"/>
                <a:pathLst>
                  <a:path w="407" h="830">
                    <a:moveTo>
                      <a:pt x="12" y="0"/>
                    </a:moveTo>
                    <a:lnTo>
                      <a:pt x="50" y="0"/>
                    </a:lnTo>
                    <a:lnTo>
                      <a:pt x="130" y="71"/>
                    </a:lnTo>
                    <a:lnTo>
                      <a:pt x="231" y="92"/>
                    </a:lnTo>
                    <a:lnTo>
                      <a:pt x="289" y="134"/>
                    </a:lnTo>
                    <a:lnTo>
                      <a:pt x="289" y="345"/>
                    </a:lnTo>
                    <a:lnTo>
                      <a:pt x="361" y="484"/>
                    </a:lnTo>
                    <a:lnTo>
                      <a:pt x="407" y="573"/>
                    </a:lnTo>
                    <a:lnTo>
                      <a:pt x="332" y="699"/>
                    </a:lnTo>
                    <a:lnTo>
                      <a:pt x="231" y="691"/>
                    </a:lnTo>
                    <a:lnTo>
                      <a:pt x="264" y="762"/>
                    </a:lnTo>
                    <a:lnTo>
                      <a:pt x="218" y="830"/>
                    </a:lnTo>
                    <a:lnTo>
                      <a:pt x="155" y="800"/>
                    </a:lnTo>
                    <a:lnTo>
                      <a:pt x="105" y="745"/>
                    </a:lnTo>
                    <a:lnTo>
                      <a:pt x="83" y="678"/>
                    </a:lnTo>
                    <a:lnTo>
                      <a:pt x="33" y="653"/>
                    </a:lnTo>
                    <a:lnTo>
                      <a:pt x="0" y="602"/>
                    </a:lnTo>
                    <a:lnTo>
                      <a:pt x="0" y="548"/>
                    </a:lnTo>
                    <a:lnTo>
                      <a:pt x="16" y="480"/>
                    </a:lnTo>
                    <a:lnTo>
                      <a:pt x="20" y="370"/>
                    </a:lnTo>
                    <a:lnTo>
                      <a:pt x="41" y="298"/>
                    </a:lnTo>
                    <a:lnTo>
                      <a:pt x="0" y="201"/>
                    </a:lnTo>
                    <a:lnTo>
                      <a:pt x="12" y="1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5861160" y="3409920"/>
                <a:ext cx="46440" cy="62280"/>
              </a:xfrm>
              <a:custGeom>
                <a:avLst/>
                <a:gdLst/>
                <a:ahLst/>
                <a:rect l="0" t="0" r="r" b="b"/>
                <a:pathLst>
                  <a:path w="129" h="173">
                    <a:moveTo>
                      <a:pt x="0" y="41"/>
                    </a:moveTo>
                    <a:lnTo>
                      <a:pt x="34" y="0"/>
                    </a:lnTo>
                    <a:lnTo>
                      <a:pt x="95" y="37"/>
                    </a:lnTo>
                    <a:lnTo>
                      <a:pt x="129" y="173"/>
                    </a:lnTo>
                    <a:lnTo>
                      <a:pt x="20" y="14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103800" y="3527280"/>
                <a:ext cx="563760" cy="243360"/>
              </a:xfrm>
              <a:custGeom>
                <a:avLst/>
                <a:gdLst/>
                <a:ahLst/>
                <a:rect l="0" t="0" r="r" b="b"/>
                <a:pathLst>
                  <a:path w="1566" h="676">
                    <a:moveTo>
                      <a:pt x="25" y="373"/>
                    </a:moveTo>
                    <a:lnTo>
                      <a:pt x="108" y="373"/>
                    </a:lnTo>
                    <a:lnTo>
                      <a:pt x="192" y="357"/>
                    </a:lnTo>
                    <a:lnTo>
                      <a:pt x="460" y="353"/>
                    </a:lnTo>
                    <a:lnTo>
                      <a:pt x="552" y="332"/>
                    </a:lnTo>
                    <a:lnTo>
                      <a:pt x="594" y="332"/>
                    </a:lnTo>
                    <a:lnTo>
                      <a:pt x="665" y="353"/>
                    </a:lnTo>
                    <a:lnTo>
                      <a:pt x="686" y="323"/>
                    </a:lnTo>
                    <a:lnTo>
                      <a:pt x="690" y="210"/>
                    </a:lnTo>
                    <a:lnTo>
                      <a:pt x="719" y="181"/>
                    </a:lnTo>
                    <a:lnTo>
                      <a:pt x="796" y="146"/>
                    </a:lnTo>
                    <a:lnTo>
                      <a:pt x="842" y="58"/>
                    </a:lnTo>
                    <a:lnTo>
                      <a:pt x="871" y="88"/>
                    </a:lnTo>
                    <a:lnTo>
                      <a:pt x="951" y="134"/>
                    </a:lnTo>
                    <a:lnTo>
                      <a:pt x="1043" y="79"/>
                    </a:lnTo>
                    <a:lnTo>
                      <a:pt x="1110" y="20"/>
                    </a:lnTo>
                    <a:lnTo>
                      <a:pt x="1189" y="0"/>
                    </a:lnTo>
                    <a:lnTo>
                      <a:pt x="1223" y="46"/>
                    </a:lnTo>
                    <a:lnTo>
                      <a:pt x="1424" y="92"/>
                    </a:lnTo>
                    <a:lnTo>
                      <a:pt x="1453" y="134"/>
                    </a:lnTo>
                    <a:lnTo>
                      <a:pt x="1566" y="239"/>
                    </a:lnTo>
                    <a:lnTo>
                      <a:pt x="1503" y="265"/>
                    </a:lnTo>
                    <a:lnTo>
                      <a:pt x="1478" y="344"/>
                    </a:lnTo>
                    <a:lnTo>
                      <a:pt x="1432" y="344"/>
                    </a:lnTo>
                    <a:lnTo>
                      <a:pt x="1411" y="449"/>
                    </a:lnTo>
                    <a:lnTo>
                      <a:pt x="1352" y="530"/>
                    </a:lnTo>
                    <a:lnTo>
                      <a:pt x="1440" y="676"/>
                    </a:lnTo>
                    <a:lnTo>
                      <a:pt x="1365" y="630"/>
                    </a:lnTo>
                    <a:lnTo>
                      <a:pt x="1327" y="584"/>
                    </a:lnTo>
                    <a:lnTo>
                      <a:pt x="1235" y="584"/>
                    </a:lnTo>
                    <a:lnTo>
                      <a:pt x="1156" y="597"/>
                    </a:lnTo>
                    <a:lnTo>
                      <a:pt x="1089" y="584"/>
                    </a:lnTo>
                    <a:lnTo>
                      <a:pt x="1022" y="630"/>
                    </a:lnTo>
                    <a:lnTo>
                      <a:pt x="900" y="592"/>
                    </a:lnTo>
                    <a:lnTo>
                      <a:pt x="770" y="597"/>
                    </a:lnTo>
                    <a:lnTo>
                      <a:pt x="544" y="550"/>
                    </a:lnTo>
                    <a:lnTo>
                      <a:pt x="468" y="482"/>
                    </a:lnTo>
                    <a:lnTo>
                      <a:pt x="326" y="503"/>
                    </a:lnTo>
                    <a:lnTo>
                      <a:pt x="255" y="525"/>
                    </a:lnTo>
                    <a:lnTo>
                      <a:pt x="184" y="550"/>
                    </a:lnTo>
                    <a:lnTo>
                      <a:pt x="113" y="509"/>
                    </a:lnTo>
                    <a:lnTo>
                      <a:pt x="79" y="503"/>
                    </a:lnTo>
                    <a:lnTo>
                      <a:pt x="29" y="449"/>
                    </a:lnTo>
                    <a:lnTo>
                      <a:pt x="0" y="399"/>
                    </a:lnTo>
                    <a:lnTo>
                      <a:pt x="25" y="373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4610160" y="3925800"/>
                <a:ext cx="938520" cy="740160"/>
              </a:xfrm>
              <a:custGeom>
                <a:avLst/>
                <a:gdLst/>
                <a:ahLst/>
                <a:rect l="0" t="0" r="r" b="b"/>
                <a:pathLst>
                  <a:path w="2607" h="2056">
                    <a:moveTo>
                      <a:pt x="188" y="83"/>
                    </a:moveTo>
                    <a:lnTo>
                      <a:pt x="29" y="138"/>
                    </a:lnTo>
                    <a:lnTo>
                      <a:pt x="37" y="201"/>
                    </a:lnTo>
                    <a:lnTo>
                      <a:pt x="71" y="255"/>
                    </a:lnTo>
                    <a:lnTo>
                      <a:pt x="46" y="348"/>
                    </a:lnTo>
                    <a:lnTo>
                      <a:pt x="96" y="373"/>
                    </a:lnTo>
                    <a:lnTo>
                      <a:pt x="150" y="423"/>
                    </a:lnTo>
                    <a:lnTo>
                      <a:pt x="259" y="423"/>
                    </a:lnTo>
                    <a:lnTo>
                      <a:pt x="360" y="402"/>
                    </a:lnTo>
                    <a:lnTo>
                      <a:pt x="456" y="461"/>
                    </a:lnTo>
                    <a:lnTo>
                      <a:pt x="502" y="541"/>
                    </a:lnTo>
                    <a:lnTo>
                      <a:pt x="527" y="596"/>
                    </a:lnTo>
                    <a:lnTo>
                      <a:pt x="435" y="621"/>
                    </a:lnTo>
                    <a:lnTo>
                      <a:pt x="364" y="684"/>
                    </a:lnTo>
                    <a:lnTo>
                      <a:pt x="339" y="751"/>
                    </a:lnTo>
                    <a:lnTo>
                      <a:pt x="335" y="835"/>
                    </a:lnTo>
                    <a:lnTo>
                      <a:pt x="263" y="936"/>
                    </a:lnTo>
                    <a:lnTo>
                      <a:pt x="268" y="1007"/>
                    </a:lnTo>
                    <a:lnTo>
                      <a:pt x="142" y="1087"/>
                    </a:lnTo>
                    <a:lnTo>
                      <a:pt x="142" y="1233"/>
                    </a:lnTo>
                    <a:lnTo>
                      <a:pt x="167" y="1263"/>
                    </a:lnTo>
                    <a:lnTo>
                      <a:pt x="87" y="1435"/>
                    </a:lnTo>
                    <a:lnTo>
                      <a:pt x="0" y="1574"/>
                    </a:lnTo>
                    <a:lnTo>
                      <a:pt x="0" y="1683"/>
                    </a:lnTo>
                    <a:lnTo>
                      <a:pt x="50" y="1738"/>
                    </a:lnTo>
                    <a:lnTo>
                      <a:pt x="142" y="1796"/>
                    </a:lnTo>
                    <a:lnTo>
                      <a:pt x="213" y="1859"/>
                    </a:lnTo>
                    <a:lnTo>
                      <a:pt x="230" y="1935"/>
                    </a:lnTo>
                    <a:lnTo>
                      <a:pt x="322" y="2056"/>
                    </a:lnTo>
                    <a:lnTo>
                      <a:pt x="414" y="1981"/>
                    </a:lnTo>
                    <a:lnTo>
                      <a:pt x="569" y="1931"/>
                    </a:lnTo>
                    <a:lnTo>
                      <a:pt x="716" y="1872"/>
                    </a:lnTo>
                    <a:lnTo>
                      <a:pt x="867" y="1872"/>
                    </a:lnTo>
                    <a:lnTo>
                      <a:pt x="1026" y="1876"/>
                    </a:lnTo>
                    <a:lnTo>
                      <a:pt x="1185" y="1889"/>
                    </a:lnTo>
                    <a:lnTo>
                      <a:pt x="1282" y="1796"/>
                    </a:lnTo>
                    <a:lnTo>
                      <a:pt x="1429" y="1717"/>
                    </a:lnTo>
                    <a:lnTo>
                      <a:pt x="1530" y="1650"/>
                    </a:lnTo>
                    <a:lnTo>
                      <a:pt x="1618" y="1498"/>
                    </a:lnTo>
                    <a:lnTo>
                      <a:pt x="1777" y="1443"/>
                    </a:lnTo>
                    <a:lnTo>
                      <a:pt x="1798" y="1405"/>
                    </a:lnTo>
                    <a:lnTo>
                      <a:pt x="1723" y="1246"/>
                    </a:lnTo>
                    <a:lnTo>
                      <a:pt x="1723" y="1158"/>
                    </a:lnTo>
                    <a:lnTo>
                      <a:pt x="1928" y="936"/>
                    </a:lnTo>
                    <a:lnTo>
                      <a:pt x="2033" y="915"/>
                    </a:lnTo>
                    <a:lnTo>
                      <a:pt x="2033" y="843"/>
                    </a:lnTo>
                    <a:lnTo>
                      <a:pt x="2125" y="831"/>
                    </a:lnTo>
                    <a:lnTo>
                      <a:pt x="2305" y="776"/>
                    </a:lnTo>
                    <a:lnTo>
                      <a:pt x="2426" y="726"/>
                    </a:lnTo>
                    <a:lnTo>
                      <a:pt x="2514" y="655"/>
                    </a:lnTo>
                    <a:lnTo>
                      <a:pt x="2607" y="600"/>
                    </a:lnTo>
                    <a:lnTo>
                      <a:pt x="2607" y="507"/>
                    </a:lnTo>
                    <a:lnTo>
                      <a:pt x="2473" y="511"/>
                    </a:lnTo>
                    <a:lnTo>
                      <a:pt x="2359" y="465"/>
                    </a:lnTo>
                    <a:lnTo>
                      <a:pt x="2297" y="373"/>
                    </a:lnTo>
                    <a:lnTo>
                      <a:pt x="2150" y="348"/>
                    </a:lnTo>
                    <a:lnTo>
                      <a:pt x="1924" y="327"/>
                    </a:lnTo>
                    <a:lnTo>
                      <a:pt x="1773" y="297"/>
                    </a:lnTo>
                    <a:lnTo>
                      <a:pt x="1752" y="255"/>
                    </a:lnTo>
                    <a:lnTo>
                      <a:pt x="1656" y="205"/>
                    </a:lnTo>
                    <a:lnTo>
                      <a:pt x="1584" y="150"/>
                    </a:lnTo>
                    <a:lnTo>
                      <a:pt x="1454" y="205"/>
                    </a:lnTo>
                    <a:lnTo>
                      <a:pt x="1139" y="113"/>
                    </a:lnTo>
                    <a:lnTo>
                      <a:pt x="980" y="104"/>
                    </a:lnTo>
                    <a:lnTo>
                      <a:pt x="821" y="83"/>
                    </a:lnTo>
                    <a:lnTo>
                      <a:pt x="787" y="58"/>
                    </a:lnTo>
                    <a:lnTo>
                      <a:pt x="594" y="33"/>
                    </a:lnTo>
                    <a:lnTo>
                      <a:pt x="481" y="50"/>
                    </a:lnTo>
                    <a:lnTo>
                      <a:pt x="339" y="0"/>
                    </a:lnTo>
                    <a:lnTo>
                      <a:pt x="251" y="33"/>
                    </a:lnTo>
                    <a:lnTo>
                      <a:pt x="188" y="83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4484520" y="4048200"/>
                <a:ext cx="314640" cy="511560"/>
              </a:xfrm>
              <a:custGeom>
                <a:avLst/>
                <a:gdLst/>
                <a:ahLst/>
                <a:rect l="0" t="0" r="r" b="b"/>
                <a:pathLst>
                  <a:path w="874" h="1421">
                    <a:moveTo>
                      <a:pt x="396" y="0"/>
                    </a:moveTo>
                    <a:lnTo>
                      <a:pt x="350" y="108"/>
                    </a:lnTo>
                    <a:lnTo>
                      <a:pt x="350" y="301"/>
                    </a:lnTo>
                    <a:lnTo>
                      <a:pt x="325" y="377"/>
                    </a:lnTo>
                    <a:lnTo>
                      <a:pt x="150" y="671"/>
                    </a:lnTo>
                    <a:lnTo>
                      <a:pt x="79" y="717"/>
                    </a:lnTo>
                    <a:lnTo>
                      <a:pt x="16" y="796"/>
                    </a:lnTo>
                    <a:lnTo>
                      <a:pt x="0" y="872"/>
                    </a:lnTo>
                    <a:lnTo>
                      <a:pt x="25" y="909"/>
                    </a:lnTo>
                    <a:lnTo>
                      <a:pt x="83" y="905"/>
                    </a:lnTo>
                    <a:lnTo>
                      <a:pt x="50" y="1010"/>
                    </a:lnTo>
                    <a:lnTo>
                      <a:pt x="116" y="1027"/>
                    </a:lnTo>
                    <a:lnTo>
                      <a:pt x="121" y="1043"/>
                    </a:lnTo>
                    <a:lnTo>
                      <a:pt x="91" y="1064"/>
                    </a:lnTo>
                    <a:lnTo>
                      <a:pt x="45" y="1237"/>
                    </a:lnTo>
                    <a:lnTo>
                      <a:pt x="20" y="1308"/>
                    </a:lnTo>
                    <a:lnTo>
                      <a:pt x="0" y="1375"/>
                    </a:lnTo>
                    <a:lnTo>
                      <a:pt x="20" y="1400"/>
                    </a:lnTo>
                    <a:lnTo>
                      <a:pt x="167" y="1400"/>
                    </a:lnTo>
                    <a:lnTo>
                      <a:pt x="246" y="1421"/>
                    </a:lnTo>
                    <a:lnTo>
                      <a:pt x="417" y="1405"/>
                    </a:lnTo>
                    <a:lnTo>
                      <a:pt x="355" y="1342"/>
                    </a:lnTo>
                    <a:lnTo>
                      <a:pt x="355" y="1229"/>
                    </a:lnTo>
                    <a:lnTo>
                      <a:pt x="456" y="1064"/>
                    </a:lnTo>
                    <a:lnTo>
                      <a:pt x="523" y="922"/>
                    </a:lnTo>
                    <a:lnTo>
                      <a:pt x="498" y="893"/>
                    </a:lnTo>
                    <a:lnTo>
                      <a:pt x="498" y="746"/>
                    </a:lnTo>
                    <a:lnTo>
                      <a:pt x="623" y="671"/>
                    </a:lnTo>
                    <a:lnTo>
                      <a:pt x="619" y="595"/>
                    </a:lnTo>
                    <a:lnTo>
                      <a:pt x="694" y="499"/>
                    </a:lnTo>
                    <a:lnTo>
                      <a:pt x="694" y="407"/>
                    </a:lnTo>
                    <a:lnTo>
                      <a:pt x="719" y="335"/>
                    </a:lnTo>
                    <a:lnTo>
                      <a:pt x="786" y="284"/>
                    </a:lnTo>
                    <a:lnTo>
                      <a:pt x="874" y="255"/>
                    </a:lnTo>
                    <a:lnTo>
                      <a:pt x="853" y="192"/>
                    </a:lnTo>
                    <a:lnTo>
                      <a:pt x="807" y="121"/>
                    </a:lnTo>
                    <a:lnTo>
                      <a:pt x="715" y="62"/>
                    </a:lnTo>
                    <a:lnTo>
                      <a:pt x="615" y="83"/>
                    </a:lnTo>
                    <a:lnTo>
                      <a:pt x="502" y="79"/>
                    </a:lnTo>
                    <a:lnTo>
                      <a:pt x="448" y="29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648400" y="3260880"/>
                <a:ext cx="252720" cy="201960"/>
              </a:xfrm>
              <a:custGeom>
                <a:avLst/>
                <a:gdLst/>
                <a:ahLst/>
                <a:rect l="0" t="0" r="r" b="b"/>
                <a:pathLst>
                  <a:path w="702" h="561">
                    <a:moveTo>
                      <a:pt x="420" y="0"/>
                    </a:moveTo>
                    <a:lnTo>
                      <a:pt x="496" y="0"/>
                    </a:lnTo>
                    <a:lnTo>
                      <a:pt x="546" y="16"/>
                    </a:lnTo>
                    <a:lnTo>
                      <a:pt x="601" y="100"/>
                    </a:lnTo>
                    <a:lnTo>
                      <a:pt x="655" y="158"/>
                    </a:lnTo>
                    <a:lnTo>
                      <a:pt x="651" y="234"/>
                    </a:lnTo>
                    <a:lnTo>
                      <a:pt x="702" y="289"/>
                    </a:lnTo>
                    <a:lnTo>
                      <a:pt x="702" y="352"/>
                    </a:lnTo>
                    <a:lnTo>
                      <a:pt x="597" y="452"/>
                    </a:lnTo>
                    <a:lnTo>
                      <a:pt x="618" y="561"/>
                    </a:lnTo>
                    <a:lnTo>
                      <a:pt x="521" y="527"/>
                    </a:lnTo>
                    <a:lnTo>
                      <a:pt x="446" y="402"/>
                    </a:lnTo>
                    <a:lnTo>
                      <a:pt x="298" y="381"/>
                    </a:lnTo>
                    <a:lnTo>
                      <a:pt x="138" y="229"/>
                    </a:lnTo>
                    <a:lnTo>
                      <a:pt x="0" y="117"/>
                    </a:lnTo>
                    <a:lnTo>
                      <a:pt x="138" y="91"/>
                    </a:lnTo>
                    <a:lnTo>
                      <a:pt x="251" y="50"/>
                    </a:lnTo>
                    <a:lnTo>
                      <a:pt x="319" y="66"/>
                    </a:lnTo>
                    <a:lnTo>
                      <a:pt x="395" y="66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6095880" y="2770200"/>
                <a:ext cx="303480" cy="289440"/>
              </a:xfrm>
              <a:custGeom>
                <a:avLst/>
                <a:gdLst/>
                <a:ahLst/>
                <a:rect l="0" t="0" r="r" b="b"/>
                <a:pathLst>
                  <a:path w="843" h="804">
                    <a:moveTo>
                      <a:pt x="339" y="0"/>
                    </a:moveTo>
                    <a:lnTo>
                      <a:pt x="222" y="54"/>
                    </a:lnTo>
                    <a:lnTo>
                      <a:pt x="180" y="117"/>
                    </a:lnTo>
                    <a:lnTo>
                      <a:pt x="71" y="202"/>
                    </a:lnTo>
                    <a:lnTo>
                      <a:pt x="0" y="391"/>
                    </a:lnTo>
                    <a:lnTo>
                      <a:pt x="79" y="442"/>
                    </a:lnTo>
                    <a:lnTo>
                      <a:pt x="41" y="530"/>
                    </a:lnTo>
                    <a:lnTo>
                      <a:pt x="50" y="653"/>
                    </a:lnTo>
                    <a:lnTo>
                      <a:pt x="175" y="804"/>
                    </a:lnTo>
                    <a:lnTo>
                      <a:pt x="247" y="716"/>
                    </a:lnTo>
                    <a:lnTo>
                      <a:pt x="280" y="728"/>
                    </a:lnTo>
                    <a:lnTo>
                      <a:pt x="356" y="728"/>
                    </a:lnTo>
                    <a:lnTo>
                      <a:pt x="503" y="762"/>
                    </a:lnTo>
                    <a:lnTo>
                      <a:pt x="646" y="741"/>
                    </a:lnTo>
                    <a:lnTo>
                      <a:pt x="734" y="691"/>
                    </a:lnTo>
                    <a:lnTo>
                      <a:pt x="843" y="691"/>
                    </a:lnTo>
                    <a:lnTo>
                      <a:pt x="834" y="391"/>
                    </a:lnTo>
                    <a:lnTo>
                      <a:pt x="788" y="316"/>
                    </a:lnTo>
                    <a:lnTo>
                      <a:pt x="742" y="316"/>
                    </a:lnTo>
                    <a:lnTo>
                      <a:pt x="696" y="341"/>
                    </a:lnTo>
                    <a:lnTo>
                      <a:pt x="663" y="379"/>
                    </a:lnTo>
                    <a:lnTo>
                      <a:pt x="663" y="429"/>
                    </a:lnTo>
                    <a:lnTo>
                      <a:pt x="717" y="463"/>
                    </a:lnTo>
                    <a:lnTo>
                      <a:pt x="717" y="509"/>
                    </a:lnTo>
                    <a:lnTo>
                      <a:pt x="671" y="538"/>
                    </a:lnTo>
                    <a:lnTo>
                      <a:pt x="608" y="538"/>
                    </a:lnTo>
                    <a:lnTo>
                      <a:pt x="554" y="492"/>
                    </a:lnTo>
                    <a:lnTo>
                      <a:pt x="528" y="467"/>
                    </a:lnTo>
                    <a:lnTo>
                      <a:pt x="474" y="463"/>
                    </a:lnTo>
                    <a:lnTo>
                      <a:pt x="432" y="501"/>
                    </a:lnTo>
                    <a:lnTo>
                      <a:pt x="364" y="538"/>
                    </a:lnTo>
                    <a:lnTo>
                      <a:pt x="351" y="501"/>
                    </a:lnTo>
                    <a:lnTo>
                      <a:pt x="347" y="404"/>
                    </a:lnTo>
                    <a:lnTo>
                      <a:pt x="393" y="265"/>
                    </a:lnTo>
                    <a:lnTo>
                      <a:pt x="449" y="286"/>
                    </a:lnTo>
                    <a:lnTo>
                      <a:pt x="503" y="286"/>
                    </a:lnTo>
                    <a:lnTo>
                      <a:pt x="524" y="176"/>
                    </a:lnTo>
                    <a:lnTo>
                      <a:pt x="398" y="142"/>
                    </a:lnTo>
                    <a:lnTo>
                      <a:pt x="424" y="50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873760" y="3016080"/>
                <a:ext cx="648000" cy="648000"/>
              </a:xfrm>
              <a:custGeom>
                <a:avLst/>
                <a:gdLst/>
                <a:ahLst/>
                <a:rect l="0" t="0" r="r" b="b"/>
                <a:pathLst>
                  <a:path w="1800" h="1800">
                    <a:moveTo>
                      <a:pt x="1118" y="71"/>
                    </a:moveTo>
                    <a:lnTo>
                      <a:pt x="980" y="37"/>
                    </a:lnTo>
                    <a:lnTo>
                      <a:pt x="899" y="37"/>
                    </a:lnTo>
                    <a:lnTo>
                      <a:pt x="874" y="25"/>
                    </a:lnTo>
                    <a:lnTo>
                      <a:pt x="786" y="121"/>
                    </a:lnTo>
                    <a:lnTo>
                      <a:pt x="723" y="163"/>
                    </a:lnTo>
                    <a:lnTo>
                      <a:pt x="640" y="276"/>
                    </a:lnTo>
                    <a:lnTo>
                      <a:pt x="589" y="280"/>
                    </a:lnTo>
                    <a:lnTo>
                      <a:pt x="531" y="230"/>
                    </a:lnTo>
                    <a:lnTo>
                      <a:pt x="439" y="243"/>
                    </a:lnTo>
                    <a:lnTo>
                      <a:pt x="439" y="339"/>
                    </a:lnTo>
                    <a:lnTo>
                      <a:pt x="405" y="364"/>
                    </a:lnTo>
                    <a:lnTo>
                      <a:pt x="326" y="410"/>
                    </a:lnTo>
                    <a:lnTo>
                      <a:pt x="255" y="465"/>
                    </a:lnTo>
                    <a:lnTo>
                      <a:pt x="309" y="511"/>
                    </a:lnTo>
                    <a:lnTo>
                      <a:pt x="288" y="591"/>
                    </a:lnTo>
                    <a:lnTo>
                      <a:pt x="230" y="624"/>
                    </a:lnTo>
                    <a:lnTo>
                      <a:pt x="129" y="708"/>
                    </a:lnTo>
                    <a:lnTo>
                      <a:pt x="150" y="788"/>
                    </a:lnTo>
                    <a:lnTo>
                      <a:pt x="121" y="834"/>
                    </a:lnTo>
                    <a:lnTo>
                      <a:pt x="25" y="838"/>
                    </a:lnTo>
                    <a:lnTo>
                      <a:pt x="20" y="915"/>
                    </a:lnTo>
                    <a:lnTo>
                      <a:pt x="71" y="973"/>
                    </a:lnTo>
                    <a:lnTo>
                      <a:pt x="75" y="1032"/>
                    </a:lnTo>
                    <a:lnTo>
                      <a:pt x="0" y="1099"/>
                    </a:lnTo>
                    <a:lnTo>
                      <a:pt x="58" y="1133"/>
                    </a:lnTo>
                    <a:lnTo>
                      <a:pt x="96" y="1267"/>
                    </a:lnTo>
                    <a:lnTo>
                      <a:pt x="163" y="1305"/>
                    </a:lnTo>
                    <a:lnTo>
                      <a:pt x="288" y="1313"/>
                    </a:lnTo>
                    <a:lnTo>
                      <a:pt x="384" y="1334"/>
                    </a:lnTo>
                    <a:lnTo>
                      <a:pt x="384" y="1431"/>
                    </a:lnTo>
                    <a:lnTo>
                      <a:pt x="338" y="1582"/>
                    </a:lnTo>
                    <a:lnTo>
                      <a:pt x="292" y="1682"/>
                    </a:lnTo>
                    <a:lnTo>
                      <a:pt x="493" y="1728"/>
                    </a:lnTo>
                    <a:lnTo>
                      <a:pt x="602" y="1682"/>
                    </a:lnTo>
                    <a:lnTo>
                      <a:pt x="635" y="1716"/>
                    </a:lnTo>
                    <a:lnTo>
                      <a:pt x="669" y="1800"/>
                    </a:lnTo>
                    <a:lnTo>
                      <a:pt x="753" y="1800"/>
                    </a:lnTo>
                    <a:lnTo>
                      <a:pt x="832" y="1779"/>
                    </a:lnTo>
                    <a:lnTo>
                      <a:pt x="1109" y="1779"/>
                    </a:lnTo>
                    <a:lnTo>
                      <a:pt x="1168" y="1762"/>
                    </a:lnTo>
                    <a:lnTo>
                      <a:pt x="1231" y="1754"/>
                    </a:lnTo>
                    <a:lnTo>
                      <a:pt x="1306" y="1779"/>
                    </a:lnTo>
                    <a:lnTo>
                      <a:pt x="1331" y="1741"/>
                    </a:lnTo>
                    <a:lnTo>
                      <a:pt x="1331" y="1640"/>
                    </a:lnTo>
                    <a:lnTo>
                      <a:pt x="1360" y="1607"/>
                    </a:lnTo>
                    <a:lnTo>
                      <a:pt x="1440" y="1573"/>
                    </a:lnTo>
                    <a:lnTo>
                      <a:pt x="1482" y="1481"/>
                    </a:lnTo>
                    <a:lnTo>
                      <a:pt x="1318" y="1326"/>
                    </a:lnTo>
                    <a:lnTo>
                      <a:pt x="1298" y="1267"/>
                    </a:lnTo>
                    <a:lnTo>
                      <a:pt x="1260" y="1196"/>
                    </a:lnTo>
                    <a:lnTo>
                      <a:pt x="1335" y="1108"/>
                    </a:lnTo>
                    <a:lnTo>
                      <a:pt x="1402" y="1099"/>
                    </a:lnTo>
                    <a:lnTo>
                      <a:pt x="1402" y="1032"/>
                    </a:lnTo>
                    <a:lnTo>
                      <a:pt x="1482" y="1020"/>
                    </a:lnTo>
                    <a:lnTo>
                      <a:pt x="1515" y="986"/>
                    </a:lnTo>
                    <a:lnTo>
                      <a:pt x="1641" y="953"/>
                    </a:lnTo>
                    <a:lnTo>
                      <a:pt x="1800" y="915"/>
                    </a:lnTo>
                    <a:lnTo>
                      <a:pt x="1749" y="842"/>
                    </a:lnTo>
                    <a:lnTo>
                      <a:pt x="1800" y="754"/>
                    </a:lnTo>
                    <a:lnTo>
                      <a:pt x="1800" y="570"/>
                    </a:lnTo>
                    <a:lnTo>
                      <a:pt x="1691" y="423"/>
                    </a:lnTo>
                    <a:lnTo>
                      <a:pt x="1800" y="255"/>
                    </a:lnTo>
                    <a:lnTo>
                      <a:pt x="1708" y="188"/>
                    </a:lnTo>
                    <a:lnTo>
                      <a:pt x="1632" y="163"/>
                    </a:lnTo>
                    <a:lnTo>
                      <a:pt x="1582" y="71"/>
                    </a:lnTo>
                    <a:lnTo>
                      <a:pt x="1469" y="0"/>
                    </a:lnTo>
                    <a:lnTo>
                      <a:pt x="1344" y="0"/>
                    </a:lnTo>
                    <a:lnTo>
                      <a:pt x="1272" y="46"/>
                    </a:lnTo>
                    <a:lnTo>
                      <a:pt x="1118" y="71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792760" y="3100320"/>
                <a:ext cx="228960" cy="217800"/>
              </a:xfrm>
              <a:custGeom>
                <a:avLst/>
                <a:gdLst/>
                <a:ahLst/>
                <a:rect l="0" t="0" r="r" b="b"/>
                <a:pathLst>
                  <a:path w="636" h="605">
                    <a:moveTo>
                      <a:pt x="636" y="130"/>
                    </a:moveTo>
                    <a:lnTo>
                      <a:pt x="564" y="167"/>
                    </a:lnTo>
                    <a:lnTo>
                      <a:pt x="484" y="230"/>
                    </a:lnTo>
                    <a:lnTo>
                      <a:pt x="539" y="276"/>
                    </a:lnTo>
                    <a:lnTo>
                      <a:pt x="518" y="357"/>
                    </a:lnTo>
                    <a:lnTo>
                      <a:pt x="459" y="391"/>
                    </a:lnTo>
                    <a:lnTo>
                      <a:pt x="358" y="470"/>
                    </a:lnTo>
                    <a:lnTo>
                      <a:pt x="379" y="554"/>
                    </a:lnTo>
                    <a:lnTo>
                      <a:pt x="345" y="605"/>
                    </a:lnTo>
                    <a:lnTo>
                      <a:pt x="243" y="605"/>
                    </a:lnTo>
                    <a:lnTo>
                      <a:pt x="189" y="538"/>
                    </a:lnTo>
                    <a:lnTo>
                      <a:pt x="142" y="466"/>
                    </a:lnTo>
                    <a:lnTo>
                      <a:pt x="96" y="445"/>
                    </a:lnTo>
                    <a:lnTo>
                      <a:pt x="16" y="445"/>
                    </a:lnTo>
                    <a:lnTo>
                      <a:pt x="0" y="378"/>
                    </a:lnTo>
                    <a:lnTo>
                      <a:pt x="63" y="293"/>
                    </a:lnTo>
                    <a:lnTo>
                      <a:pt x="117" y="222"/>
                    </a:lnTo>
                    <a:lnTo>
                      <a:pt x="147" y="226"/>
                    </a:lnTo>
                    <a:lnTo>
                      <a:pt x="210" y="272"/>
                    </a:lnTo>
                    <a:lnTo>
                      <a:pt x="260" y="272"/>
                    </a:lnTo>
                    <a:lnTo>
                      <a:pt x="290" y="155"/>
                    </a:lnTo>
                    <a:lnTo>
                      <a:pt x="243" y="109"/>
                    </a:lnTo>
                    <a:lnTo>
                      <a:pt x="243" y="54"/>
                    </a:lnTo>
                    <a:lnTo>
                      <a:pt x="329" y="0"/>
                    </a:lnTo>
                    <a:lnTo>
                      <a:pt x="408" y="0"/>
                    </a:lnTo>
                    <a:lnTo>
                      <a:pt x="480" y="50"/>
                    </a:lnTo>
                    <a:lnTo>
                      <a:pt x="636" y="13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083200" y="3301920"/>
                <a:ext cx="930600" cy="810000"/>
              </a:xfrm>
              <a:custGeom>
                <a:avLst/>
                <a:gdLst/>
                <a:ahLst/>
                <a:rect l="0" t="0" r="r" b="b"/>
                <a:pathLst>
                  <a:path w="2585" h="2250">
                    <a:moveTo>
                      <a:pt x="1575" y="0"/>
                    </a:moveTo>
                    <a:lnTo>
                      <a:pt x="1726" y="125"/>
                    </a:lnTo>
                    <a:lnTo>
                      <a:pt x="1868" y="263"/>
                    </a:lnTo>
                    <a:lnTo>
                      <a:pt x="2015" y="284"/>
                    </a:lnTo>
                    <a:lnTo>
                      <a:pt x="2090" y="414"/>
                    </a:lnTo>
                    <a:lnTo>
                      <a:pt x="2174" y="439"/>
                    </a:lnTo>
                    <a:lnTo>
                      <a:pt x="2287" y="469"/>
                    </a:lnTo>
                    <a:lnTo>
                      <a:pt x="2358" y="506"/>
                    </a:lnTo>
                    <a:lnTo>
                      <a:pt x="2488" y="515"/>
                    </a:lnTo>
                    <a:lnTo>
                      <a:pt x="2585" y="536"/>
                    </a:lnTo>
                    <a:lnTo>
                      <a:pt x="2585" y="637"/>
                    </a:lnTo>
                    <a:lnTo>
                      <a:pt x="2539" y="792"/>
                    </a:lnTo>
                    <a:lnTo>
                      <a:pt x="2488" y="897"/>
                    </a:lnTo>
                    <a:lnTo>
                      <a:pt x="2413" y="943"/>
                    </a:lnTo>
                    <a:lnTo>
                      <a:pt x="2317" y="964"/>
                    </a:lnTo>
                    <a:lnTo>
                      <a:pt x="2266" y="964"/>
                    </a:lnTo>
                    <a:lnTo>
                      <a:pt x="2266" y="1031"/>
                    </a:lnTo>
                    <a:lnTo>
                      <a:pt x="2187" y="1077"/>
                    </a:lnTo>
                    <a:lnTo>
                      <a:pt x="2136" y="1131"/>
                    </a:lnTo>
                    <a:lnTo>
                      <a:pt x="2116" y="1198"/>
                    </a:lnTo>
                    <a:lnTo>
                      <a:pt x="2090" y="1228"/>
                    </a:lnTo>
                    <a:lnTo>
                      <a:pt x="2145" y="1211"/>
                    </a:lnTo>
                    <a:lnTo>
                      <a:pt x="2195" y="1202"/>
                    </a:lnTo>
                    <a:lnTo>
                      <a:pt x="2237" y="1202"/>
                    </a:lnTo>
                    <a:lnTo>
                      <a:pt x="2216" y="1278"/>
                    </a:lnTo>
                    <a:lnTo>
                      <a:pt x="2258" y="1341"/>
                    </a:lnTo>
                    <a:lnTo>
                      <a:pt x="2283" y="1424"/>
                    </a:lnTo>
                    <a:lnTo>
                      <a:pt x="2283" y="1508"/>
                    </a:lnTo>
                    <a:lnTo>
                      <a:pt x="2245" y="1533"/>
                    </a:lnTo>
                    <a:lnTo>
                      <a:pt x="2216" y="1542"/>
                    </a:lnTo>
                    <a:lnTo>
                      <a:pt x="2216" y="1609"/>
                    </a:lnTo>
                    <a:lnTo>
                      <a:pt x="2229" y="1613"/>
                    </a:lnTo>
                    <a:lnTo>
                      <a:pt x="2216" y="1672"/>
                    </a:lnTo>
                    <a:lnTo>
                      <a:pt x="2216" y="1760"/>
                    </a:lnTo>
                    <a:lnTo>
                      <a:pt x="2258" y="1790"/>
                    </a:lnTo>
                    <a:lnTo>
                      <a:pt x="2287" y="1848"/>
                    </a:lnTo>
                    <a:lnTo>
                      <a:pt x="2262" y="1882"/>
                    </a:lnTo>
                    <a:lnTo>
                      <a:pt x="2199" y="1953"/>
                    </a:lnTo>
                    <a:lnTo>
                      <a:pt x="2136" y="2012"/>
                    </a:lnTo>
                    <a:lnTo>
                      <a:pt x="2011" y="2062"/>
                    </a:lnTo>
                    <a:lnTo>
                      <a:pt x="1906" y="2054"/>
                    </a:lnTo>
                    <a:lnTo>
                      <a:pt x="1797" y="2024"/>
                    </a:lnTo>
                    <a:lnTo>
                      <a:pt x="1621" y="1953"/>
                    </a:lnTo>
                    <a:lnTo>
                      <a:pt x="1466" y="1953"/>
                    </a:lnTo>
                    <a:lnTo>
                      <a:pt x="1362" y="2008"/>
                    </a:lnTo>
                    <a:lnTo>
                      <a:pt x="1307" y="2112"/>
                    </a:lnTo>
                    <a:lnTo>
                      <a:pt x="1289" y="2246"/>
                    </a:lnTo>
                    <a:lnTo>
                      <a:pt x="1160" y="2250"/>
                    </a:lnTo>
                    <a:lnTo>
                      <a:pt x="1047" y="2204"/>
                    </a:lnTo>
                    <a:lnTo>
                      <a:pt x="984" y="2112"/>
                    </a:lnTo>
                    <a:lnTo>
                      <a:pt x="862" y="2087"/>
                    </a:lnTo>
                    <a:lnTo>
                      <a:pt x="603" y="2066"/>
                    </a:lnTo>
                    <a:lnTo>
                      <a:pt x="460" y="2033"/>
                    </a:lnTo>
                    <a:lnTo>
                      <a:pt x="439" y="1999"/>
                    </a:lnTo>
                    <a:lnTo>
                      <a:pt x="326" y="1932"/>
                    </a:lnTo>
                    <a:lnTo>
                      <a:pt x="326" y="1874"/>
                    </a:lnTo>
                    <a:lnTo>
                      <a:pt x="360" y="1827"/>
                    </a:lnTo>
                    <a:lnTo>
                      <a:pt x="389" y="1744"/>
                    </a:lnTo>
                    <a:lnTo>
                      <a:pt x="427" y="1655"/>
                    </a:lnTo>
                    <a:lnTo>
                      <a:pt x="485" y="1563"/>
                    </a:lnTo>
                    <a:lnTo>
                      <a:pt x="477" y="1433"/>
                    </a:lnTo>
                    <a:lnTo>
                      <a:pt x="519" y="1345"/>
                    </a:lnTo>
                    <a:lnTo>
                      <a:pt x="552" y="1295"/>
                    </a:lnTo>
                    <a:lnTo>
                      <a:pt x="590" y="1140"/>
                    </a:lnTo>
                    <a:lnTo>
                      <a:pt x="381" y="1035"/>
                    </a:lnTo>
                    <a:lnTo>
                      <a:pt x="460" y="909"/>
                    </a:lnTo>
                    <a:lnTo>
                      <a:pt x="393" y="888"/>
                    </a:lnTo>
                    <a:lnTo>
                      <a:pt x="389" y="842"/>
                    </a:lnTo>
                    <a:lnTo>
                      <a:pt x="322" y="784"/>
                    </a:lnTo>
                    <a:lnTo>
                      <a:pt x="259" y="779"/>
                    </a:lnTo>
                    <a:lnTo>
                      <a:pt x="167" y="763"/>
                    </a:lnTo>
                    <a:lnTo>
                      <a:pt x="83" y="733"/>
                    </a:lnTo>
                    <a:lnTo>
                      <a:pt x="0" y="696"/>
                    </a:lnTo>
                    <a:lnTo>
                      <a:pt x="67" y="641"/>
                    </a:lnTo>
                    <a:lnTo>
                      <a:pt x="67" y="587"/>
                    </a:lnTo>
                    <a:lnTo>
                      <a:pt x="96" y="540"/>
                    </a:lnTo>
                    <a:lnTo>
                      <a:pt x="255" y="540"/>
                    </a:lnTo>
                    <a:lnTo>
                      <a:pt x="381" y="473"/>
                    </a:lnTo>
                    <a:lnTo>
                      <a:pt x="406" y="515"/>
                    </a:lnTo>
                    <a:lnTo>
                      <a:pt x="485" y="548"/>
                    </a:lnTo>
                    <a:lnTo>
                      <a:pt x="515" y="561"/>
                    </a:lnTo>
                    <a:lnTo>
                      <a:pt x="615" y="561"/>
                    </a:lnTo>
                    <a:lnTo>
                      <a:pt x="678" y="540"/>
                    </a:lnTo>
                    <a:lnTo>
                      <a:pt x="678" y="268"/>
                    </a:lnTo>
                    <a:lnTo>
                      <a:pt x="774" y="297"/>
                    </a:lnTo>
                    <a:lnTo>
                      <a:pt x="774" y="368"/>
                    </a:lnTo>
                    <a:lnTo>
                      <a:pt x="837" y="414"/>
                    </a:lnTo>
                    <a:lnTo>
                      <a:pt x="954" y="414"/>
                    </a:lnTo>
                    <a:lnTo>
                      <a:pt x="1072" y="368"/>
                    </a:lnTo>
                    <a:lnTo>
                      <a:pt x="1093" y="322"/>
                    </a:lnTo>
                    <a:lnTo>
                      <a:pt x="1197" y="301"/>
                    </a:lnTo>
                    <a:lnTo>
                      <a:pt x="1248" y="268"/>
                    </a:lnTo>
                    <a:lnTo>
                      <a:pt x="1345" y="196"/>
                    </a:lnTo>
                    <a:lnTo>
                      <a:pt x="1483" y="54"/>
                    </a:lnTo>
                    <a:lnTo>
                      <a:pt x="1575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835600" y="3618000"/>
                <a:ext cx="335160" cy="200520"/>
              </a:xfrm>
              <a:custGeom>
                <a:avLst/>
                <a:gdLst/>
                <a:ahLst/>
                <a:rect l="0" t="0" r="r" b="b"/>
                <a:pathLst>
                  <a:path w="931" h="557">
                    <a:moveTo>
                      <a:pt x="406" y="4"/>
                    </a:moveTo>
                    <a:lnTo>
                      <a:pt x="322" y="58"/>
                    </a:lnTo>
                    <a:lnTo>
                      <a:pt x="238" y="75"/>
                    </a:lnTo>
                    <a:lnTo>
                      <a:pt x="167" y="79"/>
                    </a:lnTo>
                    <a:lnTo>
                      <a:pt x="167" y="152"/>
                    </a:lnTo>
                    <a:lnTo>
                      <a:pt x="92" y="198"/>
                    </a:lnTo>
                    <a:lnTo>
                      <a:pt x="41" y="249"/>
                    </a:lnTo>
                    <a:lnTo>
                      <a:pt x="20" y="312"/>
                    </a:lnTo>
                    <a:lnTo>
                      <a:pt x="0" y="350"/>
                    </a:lnTo>
                    <a:lnTo>
                      <a:pt x="67" y="333"/>
                    </a:lnTo>
                    <a:lnTo>
                      <a:pt x="104" y="325"/>
                    </a:lnTo>
                    <a:lnTo>
                      <a:pt x="142" y="329"/>
                    </a:lnTo>
                    <a:lnTo>
                      <a:pt x="117" y="400"/>
                    </a:lnTo>
                    <a:lnTo>
                      <a:pt x="171" y="469"/>
                    </a:lnTo>
                    <a:lnTo>
                      <a:pt x="188" y="557"/>
                    </a:lnTo>
                    <a:lnTo>
                      <a:pt x="217" y="553"/>
                    </a:lnTo>
                    <a:lnTo>
                      <a:pt x="360" y="448"/>
                    </a:lnTo>
                    <a:lnTo>
                      <a:pt x="452" y="448"/>
                    </a:lnTo>
                    <a:lnTo>
                      <a:pt x="503" y="486"/>
                    </a:lnTo>
                    <a:lnTo>
                      <a:pt x="587" y="549"/>
                    </a:lnTo>
                    <a:lnTo>
                      <a:pt x="659" y="400"/>
                    </a:lnTo>
                    <a:lnTo>
                      <a:pt x="780" y="422"/>
                    </a:lnTo>
                    <a:lnTo>
                      <a:pt x="805" y="384"/>
                    </a:lnTo>
                    <a:lnTo>
                      <a:pt x="872" y="304"/>
                    </a:lnTo>
                    <a:lnTo>
                      <a:pt x="931" y="295"/>
                    </a:lnTo>
                    <a:lnTo>
                      <a:pt x="864" y="253"/>
                    </a:lnTo>
                    <a:lnTo>
                      <a:pt x="835" y="253"/>
                    </a:lnTo>
                    <a:lnTo>
                      <a:pt x="772" y="194"/>
                    </a:lnTo>
                    <a:lnTo>
                      <a:pt x="755" y="152"/>
                    </a:lnTo>
                    <a:lnTo>
                      <a:pt x="776" y="122"/>
                    </a:lnTo>
                    <a:lnTo>
                      <a:pt x="747" y="37"/>
                    </a:lnTo>
                    <a:lnTo>
                      <a:pt x="709" y="0"/>
                    </a:lnTo>
                    <a:lnTo>
                      <a:pt x="596" y="46"/>
                    </a:lnTo>
                    <a:lnTo>
                      <a:pt x="406" y="4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923080" y="4221000"/>
                <a:ext cx="135360" cy="230400"/>
              </a:xfrm>
              <a:custGeom>
                <a:avLst/>
                <a:gdLst/>
                <a:ahLst/>
                <a:rect l="0" t="0" r="r" b="b"/>
                <a:pathLst>
                  <a:path w="376" h="640">
                    <a:moveTo>
                      <a:pt x="278" y="0"/>
                    </a:moveTo>
                    <a:lnTo>
                      <a:pt x="215" y="42"/>
                    </a:lnTo>
                    <a:lnTo>
                      <a:pt x="177" y="109"/>
                    </a:lnTo>
                    <a:lnTo>
                      <a:pt x="67" y="109"/>
                    </a:lnTo>
                    <a:lnTo>
                      <a:pt x="29" y="84"/>
                    </a:lnTo>
                    <a:lnTo>
                      <a:pt x="0" y="134"/>
                    </a:lnTo>
                    <a:lnTo>
                      <a:pt x="42" y="222"/>
                    </a:lnTo>
                    <a:lnTo>
                      <a:pt x="80" y="269"/>
                    </a:lnTo>
                    <a:lnTo>
                      <a:pt x="80" y="307"/>
                    </a:lnTo>
                    <a:lnTo>
                      <a:pt x="21" y="333"/>
                    </a:lnTo>
                    <a:lnTo>
                      <a:pt x="75" y="358"/>
                    </a:lnTo>
                    <a:lnTo>
                      <a:pt x="75" y="425"/>
                    </a:lnTo>
                    <a:lnTo>
                      <a:pt x="42" y="463"/>
                    </a:lnTo>
                    <a:lnTo>
                      <a:pt x="29" y="531"/>
                    </a:lnTo>
                    <a:lnTo>
                      <a:pt x="75" y="619"/>
                    </a:lnTo>
                    <a:lnTo>
                      <a:pt x="110" y="640"/>
                    </a:lnTo>
                    <a:lnTo>
                      <a:pt x="152" y="627"/>
                    </a:lnTo>
                    <a:lnTo>
                      <a:pt x="152" y="577"/>
                    </a:lnTo>
                    <a:lnTo>
                      <a:pt x="173" y="518"/>
                    </a:lnTo>
                    <a:lnTo>
                      <a:pt x="278" y="526"/>
                    </a:lnTo>
                    <a:lnTo>
                      <a:pt x="322" y="497"/>
                    </a:lnTo>
                    <a:lnTo>
                      <a:pt x="326" y="434"/>
                    </a:lnTo>
                    <a:lnTo>
                      <a:pt x="376" y="341"/>
                    </a:lnTo>
                    <a:lnTo>
                      <a:pt x="351" y="273"/>
                    </a:lnTo>
                    <a:lnTo>
                      <a:pt x="372" y="227"/>
                    </a:lnTo>
                    <a:lnTo>
                      <a:pt x="372" y="172"/>
                    </a:lnTo>
                    <a:lnTo>
                      <a:pt x="347" y="96"/>
                    </a:lnTo>
                    <a:lnTo>
                      <a:pt x="347" y="50"/>
                    </a:lnTo>
                    <a:lnTo>
                      <a:pt x="313" y="4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981760" y="4060800"/>
                <a:ext cx="76680" cy="147960"/>
              </a:xfrm>
              <a:custGeom>
                <a:avLst/>
                <a:gdLst/>
                <a:ahLst/>
                <a:rect l="0" t="0" r="r" b="b"/>
                <a:pathLst>
                  <a:path w="213" h="411">
                    <a:moveTo>
                      <a:pt x="184" y="0"/>
                    </a:moveTo>
                    <a:lnTo>
                      <a:pt x="184" y="71"/>
                    </a:lnTo>
                    <a:lnTo>
                      <a:pt x="140" y="112"/>
                    </a:lnTo>
                    <a:lnTo>
                      <a:pt x="89" y="87"/>
                    </a:lnTo>
                    <a:lnTo>
                      <a:pt x="0" y="138"/>
                    </a:lnTo>
                    <a:lnTo>
                      <a:pt x="4" y="289"/>
                    </a:lnTo>
                    <a:lnTo>
                      <a:pt x="33" y="335"/>
                    </a:lnTo>
                    <a:lnTo>
                      <a:pt x="8" y="365"/>
                    </a:lnTo>
                    <a:lnTo>
                      <a:pt x="60" y="411"/>
                    </a:lnTo>
                    <a:lnTo>
                      <a:pt x="157" y="406"/>
                    </a:lnTo>
                    <a:lnTo>
                      <a:pt x="128" y="348"/>
                    </a:lnTo>
                    <a:lnTo>
                      <a:pt x="157" y="289"/>
                    </a:lnTo>
                    <a:lnTo>
                      <a:pt x="213" y="247"/>
                    </a:lnTo>
                    <a:lnTo>
                      <a:pt x="213" y="25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6261120" y="4518000"/>
                <a:ext cx="249480" cy="138600"/>
              </a:xfrm>
              <a:custGeom>
                <a:avLst/>
                <a:gdLst/>
                <a:ahLst/>
                <a:rect l="0" t="0" r="r" b="b"/>
                <a:pathLst>
                  <a:path w="693" h="385">
                    <a:moveTo>
                      <a:pt x="630" y="12"/>
                    </a:moveTo>
                    <a:lnTo>
                      <a:pt x="539" y="12"/>
                    </a:lnTo>
                    <a:lnTo>
                      <a:pt x="463" y="67"/>
                    </a:lnTo>
                    <a:lnTo>
                      <a:pt x="368" y="33"/>
                    </a:lnTo>
                    <a:lnTo>
                      <a:pt x="187" y="37"/>
                    </a:lnTo>
                    <a:lnTo>
                      <a:pt x="154" y="0"/>
                    </a:lnTo>
                    <a:lnTo>
                      <a:pt x="129" y="29"/>
                    </a:lnTo>
                    <a:lnTo>
                      <a:pt x="62" y="16"/>
                    </a:lnTo>
                    <a:lnTo>
                      <a:pt x="33" y="33"/>
                    </a:lnTo>
                    <a:lnTo>
                      <a:pt x="0" y="114"/>
                    </a:lnTo>
                    <a:lnTo>
                      <a:pt x="41" y="186"/>
                    </a:lnTo>
                    <a:lnTo>
                      <a:pt x="50" y="161"/>
                    </a:lnTo>
                    <a:lnTo>
                      <a:pt x="154" y="216"/>
                    </a:lnTo>
                    <a:lnTo>
                      <a:pt x="296" y="253"/>
                    </a:lnTo>
                    <a:lnTo>
                      <a:pt x="325" y="287"/>
                    </a:lnTo>
                    <a:lnTo>
                      <a:pt x="397" y="287"/>
                    </a:lnTo>
                    <a:lnTo>
                      <a:pt x="488" y="385"/>
                    </a:lnTo>
                    <a:lnTo>
                      <a:pt x="555" y="356"/>
                    </a:lnTo>
                    <a:lnTo>
                      <a:pt x="622" y="385"/>
                    </a:lnTo>
                    <a:lnTo>
                      <a:pt x="634" y="318"/>
                    </a:lnTo>
                    <a:lnTo>
                      <a:pt x="622" y="241"/>
                    </a:lnTo>
                    <a:lnTo>
                      <a:pt x="589" y="182"/>
                    </a:lnTo>
                    <a:lnTo>
                      <a:pt x="634" y="97"/>
                    </a:lnTo>
                    <a:lnTo>
                      <a:pt x="676" y="46"/>
                    </a:lnTo>
                    <a:lnTo>
                      <a:pt x="693" y="12"/>
                    </a:lnTo>
                    <a:lnTo>
                      <a:pt x="630" y="12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878440" y="3700440"/>
                <a:ext cx="871920" cy="841680"/>
              </a:xfrm>
              <a:custGeom>
                <a:avLst/>
                <a:gdLst/>
                <a:ahLst/>
                <a:rect l="0" t="0" r="r" b="b"/>
                <a:pathLst>
                  <a:path w="2422" h="2338">
                    <a:moveTo>
                      <a:pt x="528" y="167"/>
                    </a:moveTo>
                    <a:lnTo>
                      <a:pt x="461" y="305"/>
                    </a:lnTo>
                    <a:lnTo>
                      <a:pt x="331" y="209"/>
                    </a:lnTo>
                    <a:lnTo>
                      <a:pt x="234" y="213"/>
                    </a:lnTo>
                    <a:lnTo>
                      <a:pt x="96" y="318"/>
                    </a:lnTo>
                    <a:lnTo>
                      <a:pt x="62" y="318"/>
                    </a:lnTo>
                    <a:lnTo>
                      <a:pt x="62" y="402"/>
                    </a:lnTo>
                    <a:lnTo>
                      <a:pt x="37" y="418"/>
                    </a:lnTo>
                    <a:lnTo>
                      <a:pt x="0" y="431"/>
                    </a:lnTo>
                    <a:lnTo>
                      <a:pt x="0" y="506"/>
                    </a:lnTo>
                    <a:lnTo>
                      <a:pt x="16" y="515"/>
                    </a:lnTo>
                    <a:lnTo>
                      <a:pt x="0" y="552"/>
                    </a:lnTo>
                    <a:lnTo>
                      <a:pt x="4" y="661"/>
                    </a:lnTo>
                    <a:lnTo>
                      <a:pt x="41" y="682"/>
                    </a:lnTo>
                    <a:lnTo>
                      <a:pt x="71" y="741"/>
                    </a:lnTo>
                    <a:lnTo>
                      <a:pt x="142" y="758"/>
                    </a:lnTo>
                    <a:lnTo>
                      <a:pt x="188" y="766"/>
                    </a:lnTo>
                    <a:lnTo>
                      <a:pt x="276" y="712"/>
                    </a:lnTo>
                    <a:lnTo>
                      <a:pt x="302" y="653"/>
                    </a:lnTo>
                    <a:lnTo>
                      <a:pt x="373" y="649"/>
                    </a:lnTo>
                    <a:lnTo>
                      <a:pt x="634" y="753"/>
                    </a:lnTo>
                    <a:lnTo>
                      <a:pt x="659" y="779"/>
                    </a:lnTo>
                    <a:lnTo>
                      <a:pt x="718" y="963"/>
                    </a:lnTo>
                    <a:lnTo>
                      <a:pt x="710" y="1017"/>
                    </a:lnTo>
                    <a:lnTo>
                      <a:pt x="831" y="1135"/>
                    </a:lnTo>
                    <a:lnTo>
                      <a:pt x="856" y="1182"/>
                    </a:lnTo>
                    <a:lnTo>
                      <a:pt x="898" y="1182"/>
                    </a:lnTo>
                    <a:lnTo>
                      <a:pt x="986" y="1265"/>
                    </a:lnTo>
                    <a:lnTo>
                      <a:pt x="1062" y="1316"/>
                    </a:lnTo>
                    <a:lnTo>
                      <a:pt x="1104" y="1404"/>
                    </a:lnTo>
                    <a:lnTo>
                      <a:pt x="1171" y="1471"/>
                    </a:lnTo>
                    <a:lnTo>
                      <a:pt x="1331" y="1533"/>
                    </a:lnTo>
                    <a:lnTo>
                      <a:pt x="1498" y="1600"/>
                    </a:lnTo>
                    <a:lnTo>
                      <a:pt x="1607" y="1621"/>
                    </a:lnTo>
                    <a:lnTo>
                      <a:pt x="1641" y="1709"/>
                    </a:lnTo>
                    <a:lnTo>
                      <a:pt x="1637" y="1768"/>
                    </a:lnTo>
                    <a:lnTo>
                      <a:pt x="1805" y="1772"/>
                    </a:lnTo>
                    <a:lnTo>
                      <a:pt x="1852" y="1827"/>
                    </a:lnTo>
                    <a:lnTo>
                      <a:pt x="1877" y="1965"/>
                    </a:lnTo>
                    <a:lnTo>
                      <a:pt x="1911" y="2082"/>
                    </a:lnTo>
                    <a:lnTo>
                      <a:pt x="1856" y="2170"/>
                    </a:lnTo>
                    <a:lnTo>
                      <a:pt x="1864" y="2204"/>
                    </a:lnTo>
                    <a:lnTo>
                      <a:pt x="1831" y="2271"/>
                    </a:lnTo>
                    <a:lnTo>
                      <a:pt x="1792" y="2275"/>
                    </a:lnTo>
                    <a:lnTo>
                      <a:pt x="1805" y="2338"/>
                    </a:lnTo>
                    <a:lnTo>
                      <a:pt x="1932" y="2338"/>
                    </a:lnTo>
                    <a:lnTo>
                      <a:pt x="1919" y="2262"/>
                    </a:lnTo>
                    <a:lnTo>
                      <a:pt x="1999" y="2241"/>
                    </a:lnTo>
                    <a:lnTo>
                      <a:pt x="2011" y="2166"/>
                    </a:lnTo>
                    <a:lnTo>
                      <a:pt x="2003" y="2111"/>
                    </a:lnTo>
                    <a:lnTo>
                      <a:pt x="2074" y="2074"/>
                    </a:lnTo>
                    <a:lnTo>
                      <a:pt x="2133" y="2082"/>
                    </a:lnTo>
                    <a:lnTo>
                      <a:pt x="2154" y="2074"/>
                    </a:lnTo>
                    <a:lnTo>
                      <a:pt x="2150" y="2032"/>
                    </a:lnTo>
                    <a:lnTo>
                      <a:pt x="2125" y="1902"/>
                    </a:lnTo>
                    <a:lnTo>
                      <a:pt x="2011" y="1869"/>
                    </a:lnTo>
                    <a:lnTo>
                      <a:pt x="2011" y="1814"/>
                    </a:lnTo>
                    <a:lnTo>
                      <a:pt x="2057" y="1730"/>
                    </a:lnTo>
                    <a:lnTo>
                      <a:pt x="2099" y="1676"/>
                    </a:lnTo>
                    <a:lnTo>
                      <a:pt x="2125" y="1705"/>
                    </a:lnTo>
                    <a:lnTo>
                      <a:pt x="2259" y="1722"/>
                    </a:lnTo>
                    <a:lnTo>
                      <a:pt x="2347" y="1852"/>
                    </a:lnTo>
                    <a:lnTo>
                      <a:pt x="2368" y="1848"/>
                    </a:lnTo>
                    <a:lnTo>
                      <a:pt x="2422" y="1764"/>
                    </a:lnTo>
                    <a:lnTo>
                      <a:pt x="2343" y="1626"/>
                    </a:lnTo>
                    <a:lnTo>
                      <a:pt x="2280" y="1605"/>
                    </a:lnTo>
                    <a:lnTo>
                      <a:pt x="2175" y="1546"/>
                    </a:lnTo>
                    <a:lnTo>
                      <a:pt x="2091" y="1525"/>
                    </a:lnTo>
                    <a:lnTo>
                      <a:pt x="2003" y="1479"/>
                    </a:lnTo>
                    <a:lnTo>
                      <a:pt x="1873" y="1446"/>
                    </a:lnTo>
                    <a:lnTo>
                      <a:pt x="1831" y="1412"/>
                    </a:lnTo>
                    <a:lnTo>
                      <a:pt x="1898" y="1387"/>
                    </a:lnTo>
                    <a:lnTo>
                      <a:pt x="1923" y="1337"/>
                    </a:lnTo>
                    <a:lnTo>
                      <a:pt x="1906" y="1320"/>
                    </a:lnTo>
                    <a:lnTo>
                      <a:pt x="1700" y="1320"/>
                    </a:lnTo>
                    <a:lnTo>
                      <a:pt x="1628" y="1270"/>
                    </a:lnTo>
                    <a:lnTo>
                      <a:pt x="1557" y="1270"/>
                    </a:lnTo>
                    <a:lnTo>
                      <a:pt x="1461" y="1122"/>
                    </a:lnTo>
                    <a:lnTo>
                      <a:pt x="1465" y="1021"/>
                    </a:lnTo>
                    <a:lnTo>
                      <a:pt x="1431" y="967"/>
                    </a:lnTo>
                    <a:lnTo>
                      <a:pt x="1385" y="959"/>
                    </a:lnTo>
                    <a:lnTo>
                      <a:pt x="1381" y="879"/>
                    </a:lnTo>
                    <a:lnTo>
                      <a:pt x="1314" y="825"/>
                    </a:lnTo>
                    <a:lnTo>
                      <a:pt x="1226" y="783"/>
                    </a:lnTo>
                    <a:lnTo>
                      <a:pt x="1163" y="741"/>
                    </a:lnTo>
                    <a:lnTo>
                      <a:pt x="1096" y="619"/>
                    </a:lnTo>
                    <a:lnTo>
                      <a:pt x="1091" y="569"/>
                    </a:lnTo>
                    <a:lnTo>
                      <a:pt x="1150" y="536"/>
                    </a:lnTo>
                    <a:lnTo>
                      <a:pt x="1146" y="381"/>
                    </a:lnTo>
                    <a:lnTo>
                      <a:pt x="1200" y="364"/>
                    </a:lnTo>
                    <a:lnTo>
                      <a:pt x="1414" y="364"/>
                    </a:lnTo>
                    <a:lnTo>
                      <a:pt x="1435" y="356"/>
                    </a:lnTo>
                    <a:lnTo>
                      <a:pt x="1469" y="330"/>
                    </a:lnTo>
                    <a:lnTo>
                      <a:pt x="1423" y="217"/>
                    </a:lnTo>
                    <a:lnTo>
                      <a:pt x="1427" y="108"/>
                    </a:lnTo>
                    <a:lnTo>
                      <a:pt x="1314" y="96"/>
                    </a:lnTo>
                    <a:lnTo>
                      <a:pt x="1175" y="71"/>
                    </a:lnTo>
                    <a:lnTo>
                      <a:pt x="1100" y="0"/>
                    </a:lnTo>
                    <a:lnTo>
                      <a:pt x="974" y="16"/>
                    </a:lnTo>
                    <a:lnTo>
                      <a:pt x="877" y="41"/>
                    </a:lnTo>
                    <a:lnTo>
                      <a:pt x="806" y="62"/>
                    </a:lnTo>
                    <a:lnTo>
                      <a:pt x="752" y="71"/>
                    </a:lnTo>
                    <a:lnTo>
                      <a:pt x="655" y="188"/>
                    </a:lnTo>
                    <a:lnTo>
                      <a:pt x="528" y="167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5" name=""/>
            <p:cNvSpPr/>
            <p:nvPr/>
          </p:nvSpPr>
          <p:spPr>
            <a:xfrm>
              <a:off x="5035680" y="1562040"/>
              <a:ext cx="378360" cy="225720"/>
            </a:xfrm>
            <a:custGeom>
              <a:avLst/>
              <a:gdLst/>
              <a:ahLst/>
              <a:rect l="0" t="0" r="r" b="b"/>
              <a:pathLst>
                <a:path w="1051" h="627">
                  <a:moveTo>
                    <a:pt x="197" y="25"/>
                  </a:moveTo>
                  <a:lnTo>
                    <a:pt x="109" y="84"/>
                  </a:lnTo>
                  <a:lnTo>
                    <a:pt x="243" y="130"/>
                  </a:lnTo>
                  <a:lnTo>
                    <a:pt x="303" y="184"/>
                  </a:lnTo>
                  <a:lnTo>
                    <a:pt x="209" y="205"/>
                  </a:lnTo>
                  <a:lnTo>
                    <a:pt x="71" y="172"/>
                  </a:lnTo>
                  <a:lnTo>
                    <a:pt x="163" y="247"/>
                  </a:lnTo>
                  <a:lnTo>
                    <a:pt x="92" y="268"/>
                  </a:lnTo>
                  <a:lnTo>
                    <a:pt x="138" y="320"/>
                  </a:lnTo>
                  <a:lnTo>
                    <a:pt x="117" y="358"/>
                  </a:lnTo>
                  <a:lnTo>
                    <a:pt x="0" y="354"/>
                  </a:lnTo>
                  <a:lnTo>
                    <a:pt x="92" y="412"/>
                  </a:lnTo>
                  <a:lnTo>
                    <a:pt x="83" y="496"/>
                  </a:lnTo>
                  <a:lnTo>
                    <a:pt x="121" y="576"/>
                  </a:lnTo>
                  <a:lnTo>
                    <a:pt x="209" y="610"/>
                  </a:lnTo>
                  <a:lnTo>
                    <a:pt x="416" y="627"/>
                  </a:lnTo>
                  <a:lnTo>
                    <a:pt x="592" y="593"/>
                  </a:lnTo>
                  <a:lnTo>
                    <a:pt x="660" y="622"/>
                  </a:lnTo>
                  <a:lnTo>
                    <a:pt x="812" y="601"/>
                  </a:lnTo>
                  <a:lnTo>
                    <a:pt x="980" y="547"/>
                  </a:lnTo>
                  <a:lnTo>
                    <a:pt x="1051" y="442"/>
                  </a:lnTo>
                  <a:lnTo>
                    <a:pt x="1026" y="333"/>
                  </a:lnTo>
                  <a:lnTo>
                    <a:pt x="1001" y="247"/>
                  </a:lnTo>
                  <a:lnTo>
                    <a:pt x="1047" y="218"/>
                  </a:lnTo>
                  <a:lnTo>
                    <a:pt x="954" y="226"/>
                  </a:lnTo>
                  <a:lnTo>
                    <a:pt x="954" y="172"/>
                  </a:lnTo>
                  <a:lnTo>
                    <a:pt x="904" y="159"/>
                  </a:lnTo>
                  <a:lnTo>
                    <a:pt x="850" y="201"/>
                  </a:lnTo>
                  <a:lnTo>
                    <a:pt x="748" y="180"/>
                  </a:lnTo>
                  <a:lnTo>
                    <a:pt x="681" y="193"/>
                  </a:lnTo>
                  <a:lnTo>
                    <a:pt x="618" y="180"/>
                  </a:lnTo>
                  <a:lnTo>
                    <a:pt x="521" y="147"/>
                  </a:lnTo>
                  <a:lnTo>
                    <a:pt x="492" y="189"/>
                  </a:lnTo>
                  <a:lnTo>
                    <a:pt x="383" y="159"/>
                  </a:lnTo>
                  <a:lnTo>
                    <a:pt x="336" y="0"/>
                  </a:lnTo>
                  <a:lnTo>
                    <a:pt x="307" y="88"/>
                  </a:lnTo>
                  <a:lnTo>
                    <a:pt x="197" y="25"/>
                  </a:lnTo>
                  <a:close/>
                </a:path>
              </a:pathLst>
            </a:custGeom>
            <a:solidFill>
              <a:srgbClr val="037c03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6" name="" descr=""/>
          <p:cNvPicPr/>
          <p:nvPr/>
        </p:nvPicPr>
        <p:blipFill>
          <a:blip r:embed="rId1"/>
          <a:stretch/>
        </p:blipFill>
        <p:spPr>
          <a:xfrm>
            <a:off x="0" y="1947960"/>
            <a:ext cx="4145040" cy="3683160"/>
          </a:xfrm>
          <a:prstGeom prst="rect">
            <a:avLst/>
          </a:prstGeom>
          <a:ln w="0">
            <a:noFill/>
          </a:ln>
        </p:spPr>
      </p:pic>
      <p:pic>
        <p:nvPicPr>
          <p:cNvPr id="4907" name="" descr=""/>
          <p:cNvPicPr/>
          <p:nvPr/>
        </p:nvPicPr>
        <p:blipFill>
          <a:blip r:embed="rId2"/>
          <a:stretch/>
        </p:blipFill>
        <p:spPr>
          <a:xfrm>
            <a:off x="2041560" y="995400"/>
            <a:ext cx="2533680" cy="1558800"/>
          </a:xfrm>
          <a:prstGeom prst="rect">
            <a:avLst/>
          </a:prstGeom>
          <a:ln w="0">
            <a:noFill/>
          </a:ln>
        </p:spPr>
      </p:pic>
      <p:sp>
        <p:nvSpPr>
          <p:cNvPr id="4908" name=""/>
          <p:cNvSpPr/>
          <p:nvPr/>
        </p:nvSpPr>
        <p:spPr>
          <a:xfrm>
            <a:off x="3692520" y="1531800"/>
            <a:ext cx="316080" cy="4050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>
            <a:off x="3714840" y="1554120"/>
            <a:ext cx="3321000" cy="1860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>
            <a:off x="398520" y="2676600"/>
            <a:ext cx="2541960" cy="3259440"/>
          </a:xfrm>
          <a:custGeom>
            <a:avLst/>
            <a:gdLst/>
            <a:ahLst/>
            <a:rect l="0" t="0" r="r" b="b"/>
            <a:pathLst>
              <a:path w="7061" h="9054">
                <a:moveTo>
                  <a:pt x="0" y="0"/>
                </a:moveTo>
                <a:lnTo>
                  <a:pt x="0" y="9054"/>
                </a:lnTo>
                <a:lnTo>
                  <a:pt x="4398" y="5190"/>
                </a:lnTo>
                <a:lnTo>
                  <a:pt x="4398" y="5898"/>
                </a:lnTo>
                <a:lnTo>
                  <a:pt x="7061" y="4265"/>
                </a:lnTo>
                <a:lnTo>
                  <a:pt x="4398" y="2627"/>
                </a:lnTo>
                <a:lnTo>
                  <a:pt x="4398" y="3354"/>
                </a:lnTo>
                <a:lnTo>
                  <a:pt x="0" y="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 txBox="1"/>
          <p:nvPr/>
        </p:nvSpPr>
        <p:spPr>
          <a:xfrm>
            <a:off x="420840" y="2884320"/>
            <a:ext cx="58752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 txBox="1"/>
          <p:nvPr/>
        </p:nvSpPr>
        <p:spPr>
          <a:xfrm>
            <a:off x="420840" y="3276720"/>
            <a:ext cx="115416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gis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 txBox="1"/>
          <p:nvPr/>
        </p:nvSpPr>
        <p:spPr>
          <a:xfrm>
            <a:off x="420840" y="3666960"/>
            <a:ext cx="91296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Medi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 txBox="1"/>
          <p:nvPr/>
        </p:nvSpPr>
        <p:spPr>
          <a:xfrm>
            <a:off x="420840" y="4057560"/>
            <a:ext cx="107316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a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 txBox="1"/>
          <p:nvPr/>
        </p:nvSpPr>
        <p:spPr>
          <a:xfrm>
            <a:off x="420840" y="4448160"/>
            <a:ext cx="78120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dm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420840" y="4838760"/>
            <a:ext cx="781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MC&amp;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420840" y="5230800"/>
            <a:ext cx="21718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pen Source New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 txBox="1"/>
          <p:nvPr/>
        </p:nvSpPr>
        <p:spPr>
          <a:xfrm>
            <a:off x="1468440" y="3963960"/>
            <a:ext cx="1165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roadca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9" name=""/>
          <p:cNvGrpSpPr/>
          <p:nvPr/>
        </p:nvGrpSpPr>
        <p:grpSpPr>
          <a:xfrm>
            <a:off x="2693880" y="3668760"/>
            <a:ext cx="654480" cy="868680"/>
            <a:chOff x="2693880" y="3668760"/>
            <a:chExt cx="654480" cy="868680"/>
          </a:xfrm>
        </p:grpSpPr>
        <p:sp>
          <p:nvSpPr>
            <p:cNvPr id="4920" name=""/>
            <p:cNvSpPr/>
            <p:nvPr/>
          </p:nvSpPr>
          <p:spPr>
            <a:xfrm>
              <a:off x="3044880" y="4049640"/>
              <a:ext cx="30600" cy="74880"/>
            </a:xfrm>
            <a:custGeom>
              <a:avLst/>
              <a:gdLst/>
              <a:ahLst/>
              <a:rect l="0" t="0" r="r" b="b"/>
              <a:pathLst>
                <a:path w="85" h="208">
                  <a:moveTo>
                    <a:pt x="17" y="0"/>
                  </a:moveTo>
                  <a:lnTo>
                    <a:pt x="0" y="208"/>
                  </a:lnTo>
                  <a:lnTo>
                    <a:pt x="85" y="150"/>
                  </a:lnTo>
                  <a:lnTo>
                    <a:pt x="83" y="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2803680" y="3900600"/>
              <a:ext cx="47880" cy="89280"/>
            </a:xfrm>
            <a:custGeom>
              <a:avLst/>
              <a:gdLst/>
              <a:ahLst/>
              <a:rect l="0" t="0" r="r" b="b"/>
              <a:pathLst>
                <a:path w="133" h="248">
                  <a:moveTo>
                    <a:pt x="99" y="0"/>
                  </a:moveTo>
                  <a:lnTo>
                    <a:pt x="0" y="192"/>
                  </a:lnTo>
                  <a:lnTo>
                    <a:pt x="18" y="248"/>
                  </a:lnTo>
                  <a:lnTo>
                    <a:pt x="133" y="5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2736720" y="3735360"/>
              <a:ext cx="224280" cy="617760"/>
            </a:xfrm>
            <a:custGeom>
              <a:avLst/>
              <a:gdLst/>
              <a:ahLst/>
              <a:rect l="0" t="0" r="r" b="b"/>
              <a:pathLst>
                <a:path w="623" h="1716">
                  <a:moveTo>
                    <a:pt x="210" y="0"/>
                  </a:moveTo>
                  <a:lnTo>
                    <a:pt x="0" y="181"/>
                  </a:lnTo>
                  <a:lnTo>
                    <a:pt x="579" y="1716"/>
                  </a:lnTo>
                  <a:lnTo>
                    <a:pt x="623" y="1700"/>
                  </a:lnTo>
                  <a:lnTo>
                    <a:pt x="97" y="305"/>
                  </a:lnTo>
                  <a:lnTo>
                    <a:pt x="268" y="154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3" name=""/>
            <p:cNvGrpSpPr/>
            <p:nvPr/>
          </p:nvGrpSpPr>
          <p:grpSpPr>
            <a:xfrm>
              <a:off x="2928960" y="4179960"/>
              <a:ext cx="22680" cy="113040"/>
              <a:chOff x="2928960" y="4179960"/>
              <a:chExt cx="22680" cy="113040"/>
            </a:xfrm>
          </p:grpSpPr>
          <p:sp>
            <p:nvSpPr>
              <p:cNvPr id="4924" name=""/>
              <p:cNvSpPr/>
              <p:nvPr/>
            </p:nvSpPr>
            <p:spPr>
              <a:xfrm>
                <a:off x="2928960" y="4179960"/>
                <a:ext cx="22680" cy="113040"/>
              </a:xfrm>
              <a:custGeom>
                <a:avLst/>
                <a:gdLst/>
                <a:ahLst/>
                <a:rect l="0" t="0" r="r" b="b"/>
                <a:pathLst>
                  <a:path w="63" h="314">
                    <a:moveTo>
                      <a:pt x="63" y="0"/>
                    </a:moveTo>
                    <a:lnTo>
                      <a:pt x="63" y="314"/>
                    </a:lnTo>
                    <a:lnTo>
                      <a:pt x="0" y="314"/>
                    </a:lnTo>
                    <a:lnTo>
                      <a:pt x="0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2940120" y="417996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6" name=""/>
            <p:cNvSpPr/>
            <p:nvPr/>
          </p:nvSpPr>
          <p:spPr>
            <a:xfrm>
              <a:off x="2828880" y="4106880"/>
              <a:ext cx="76680" cy="182880"/>
            </a:xfrm>
            <a:custGeom>
              <a:avLst/>
              <a:gdLst/>
              <a:ahLst/>
              <a:rect l="0" t="0" r="r" b="b"/>
              <a:pathLst>
                <a:path w="213" h="508">
                  <a:moveTo>
                    <a:pt x="0" y="0"/>
                  </a:moveTo>
                  <a:lnTo>
                    <a:pt x="213" y="0"/>
                  </a:lnTo>
                  <a:lnTo>
                    <a:pt x="213" y="508"/>
                  </a:lnTo>
                  <a:lnTo>
                    <a:pt x="0" y="5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2943360" y="4303800"/>
              <a:ext cx="147960" cy="9720"/>
            </a:xfrm>
            <a:custGeom>
              <a:avLst/>
              <a:gdLst/>
              <a:ahLst/>
              <a:rect l="0" t="0" r="r" b="b"/>
              <a:pathLst>
                <a:path w="411" h="27">
                  <a:moveTo>
                    <a:pt x="0" y="0"/>
                  </a:moveTo>
                  <a:lnTo>
                    <a:pt x="411" y="0"/>
                  </a:lnTo>
                  <a:lnTo>
                    <a:pt x="411" y="27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2811600" y="4289400"/>
              <a:ext cx="536760" cy="136800"/>
            </a:xfrm>
            <a:custGeom>
              <a:avLst/>
              <a:gdLst/>
              <a:ahLst/>
              <a:rect l="0" t="0" r="r" b="b"/>
              <a:pathLst>
                <a:path w="1491" h="380">
                  <a:moveTo>
                    <a:pt x="0" y="380"/>
                  </a:moveTo>
                  <a:lnTo>
                    <a:pt x="0" y="0"/>
                  </a:lnTo>
                  <a:lnTo>
                    <a:pt x="325" y="0"/>
                  </a:lnTo>
                  <a:lnTo>
                    <a:pt x="389" y="62"/>
                  </a:lnTo>
                  <a:lnTo>
                    <a:pt x="584" y="62"/>
                  </a:lnTo>
                  <a:lnTo>
                    <a:pt x="647" y="127"/>
                  </a:lnTo>
                  <a:lnTo>
                    <a:pt x="1297" y="127"/>
                  </a:lnTo>
                  <a:lnTo>
                    <a:pt x="1297" y="254"/>
                  </a:lnTo>
                  <a:lnTo>
                    <a:pt x="1491" y="254"/>
                  </a:lnTo>
                  <a:lnTo>
                    <a:pt x="1491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2811600" y="4379760"/>
              <a:ext cx="397080" cy="46440"/>
            </a:xfrm>
            <a:custGeom>
              <a:avLst/>
              <a:gdLst/>
              <a:ahLst/>
              <a:rect l="0" t="0" r="r" b="b"/>
              <a:pathLst>
                <a:path w="1103" h="129">
                  <a:moveTo>
                    <a:pt x="0" y="129"/>
                  </a:moveTo>
                  <a:lnTo>
                    <a:pt x="1103" y="129"/>
                  </a:lnTo>
                  <a:lnTo>
                    <a:pt x="1103" y="0"/>
                  </a:lnTo>
                  <a:lnTo>
                    <a:pt x="0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792520" y="40989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2779560" y="4178160"/>
              <a:ext cx="33840" cy="38520"/>
            </a:xfrm>
            <a:custGeom>
              <a:avLst/>
              <a:gdLst/>
              <a:ahLst/>
              <a:rect l="0" t="0" r="r" b="b"/>
              <a:pathLst>
                <a:path w="94" h="107">
                  <a:moveTo>
                    <a:pt x="0" y="10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38"/>
                  </a:lnTo>
                  <a:lnTo>
                    <a:pt x="31" y="38"/>
                  </a:lnTo>
                  <a:lnTo>
                    <a:pt x="31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2975040" y="4149720"/>
              <a:ext cx="119520" cy="163800"/>
            </a:xfrm>
            <a:custGeom>
              <a:avLst/>
              <a:gdLst/>
              <a:ahLst/>
              <a:rect l="0" t="0" r="r" b="b"/>
              <a:pathLst>
                <a:path w="332" h="455">
                  <a:moveTo>
                    <a:pt x="0" y="0"/>
                  </a:moveTo>
                  <a:lnTo>
                    <a:pt x="332" y="455"/>
                  </a:lnTo>
                  <a:lnTo>
                    <a:pt x="284" y="446"/>
                  </a:lnTo>
                  <a:lnTo>
                    <a:pt x="0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2717640" y="4245120"/>
              <a:ext cx="93960" cy="181440"/>
            </a:xfrm>
            <a:custGeom>
              <a:avLst/>
              <a:gdLst/>
              <a:ahLst/>
              <a:rect l="0" t="0" r="r" b="b"/>
              <a:pathLst>
                <a:path w="261" h="504">
                  <a:moveTo>
                    <a:pt x="196" y="0"/>
                  </a:moveTo>
                  <a:lnTo>
                    <a:pt x="0" y="189"/>
                  </a:lnTo>
                  <a:lnTo>
                    <a:pt x="0" y="504"/>
                  </a:lnTo>
                  <a:lnTo>
                    <a:pt x="261" y="504"/>
                  </a:lnTo>
                  <a:lnTo>
                    <a:pt x="261" y="12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2693880" y="4511520"/>
              <a:ext cx="652680" cy="25920"/>
            </a:xfrm>
            <a:custGeom>
              <a:avLst/>
              <a:gdLst/>
              <a:ahLst/>
              <a:rect l="0" t="0" r="r" b="b"/>
              <a:pathLst>
                <a:path w="1813" h="72">
                  <a:moveTo>
                    <a:pt x="0" y="72"/>
                  </a:moveTo>
                  <a:lnTo>
                    <a:pt x="1813" y="72"/>
                  </a:lnTo>
                  <a:lnTo>
                    <a:pt x="1813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2693880" y="4470480"/>
              <a:ext cx="652680" cy="39960"/>
            </a:xfrm>
            <a:custGeom>
              <a:avLst/>
              <a:gdLst/>
              <a:ahLst/>
              <a:rect l="0" t="0" r="r" b="b"/>
              <a:pathLst>
                <a:path w="1813" h="111">
                  <a:moveTo>
                    <a:pt x="0" y="111"/>
                  </a:moveTo>
                  <a:lnTo>
                    <a:pt x="1813" y="111"/>
                  </a:lnTo>
                  <a:lnTo>
                    <a:pt x="1813" y="0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2693880" y="4425840"/>
              <a:ext cx="652680" cy="44640"/>
            </a:xfrm>
            <a:custGeom>
              <a:avLst/>
              <a:gdLst/>
              <a:ahLst/>
              <a:rect l="0" t="0" r="r" b="b"/>
              <a:pathLst>
                <a:path w="1813" h="124">
                  <a:moveTo>
                    <a:pt x="0" y="124"/>
                  </a:moveTo>
                  <a:lnTo>
                    <a:pt x="1813" y="124"/>
                  </a:lnTo>
                  <a:lnTo>
                    <a:pt x="1813" y="0"/>
                  </a:lnTo>
                  <a:lnTo>
                    <a:pt x="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3259080" y="4389480"/>
              <a:ext cx="70200" cy="24120"/>
            </a:xfrm>
            <a:custGeom>
              <a:avLst/>
              <a:gdLst/>
              <a:ahLst/>
              <a:rect l="0" t="0" r="r" b="b"/>
              <a:pathLst>
                <a:path w="195" h="67">
                  <a:moveTo>
                    <a:pt x="0" y="0"/>
                  </a:moveTo>
                  <a:lnTo>
                    <a:pt x="195" y="0"/>
                  </a:lnTo>
                  <a:lnTo>
                    <a:pt x="195" y="6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2762280" y="4219560"/>
              <a:ext cx="46080" cy="44280"/>
            </a:xfrm>
            <a:prstGeom prst="ellipse">
              <a:avLst/>
            </a:pr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2928960" y="4129200"/>
              <a:ext cx="46440" cy="47880"/>
            </a:xfrm>
            <a:custGeom>
              <a:avLst/>
              <a:gdLst/>
              <a:ahLst/>
              <a:rect l="0" t="0" r="r" b="b"/>
              <a:pathLst>
                <a:path w="129" h="133">
                  <a:moveTo>
                    <a:pt x="129" y="0"/>
                  </a:moveTo>
                  <a:lnTo>
                    <a:pt x="129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2905200" y="4106880"/>
              <a:ext cx="187560" cy="182880"/>
            </a:xfrm>
            <a:custGeom>
              <a:avLst/>
              <a:gdLst/>
              <a:ahLst/>
              <a:rect l="0" t="0" r="r" b="b"/>
              <a:pathLst>
                <a:path w="521" h="508">
                  <a:moveTo>
                    <a:pt x="65" y="508"/>
                  </a:moveTo>
                  <a:lnTo>
                    <a:pt x="65" y="63"/>
                  </a:lnTo>
                  <a:lnTo>
                    <a:pt x="521" y="63"/>
                  </a:lnTo>
                  <a:lnTo>
                    <a:pt x="521" y="0"/>
                  </a:lnTo>
                  <a:lnTo>
                    <a:pt x="0" y="0"/>
                  </a:lnTo>
                  <a:lnTo>
                    <a:pt x="0" y="508"/>
                  </a:lnTo>
                  <a:lnTo>
                    <a:pt x="65" y="508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1" name=""/>
            <p:cNvGrpSpPr/>
            <p:nvPr/>
          </p:nvGrpSpPr>
          <p:grpSpPr>
            <a:xfrm>
              <a:off x="2749680" y="3936960"/>
              <a:ext cx="208080" cy="181080"/>
              <a:chOff x="2749680" y="3936960"/>
              <a:chExt cx="208080" cy="181080"/>
            </a:xfrm>
          </p:grpSpPr>
          <p:sp>
            <p:nvSpPr>
              <p:cNvPr id="4942" name=""/>
              <p:cNvSpPr/>
              <p:nvPr/>
            </p:nvSpPr>
            <p:spPr>
              <a:xfrm>
                <a:off x="2768760" y="3936960"/>
                <a:ext cx="189000" cy="181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2749680" y="3936960"/>
                <a:ext cx="190440" cy="181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4" name=""/>
            <p:cNvGrpSpPr/>
            <p:nvPr/>
          </p:nvGrpSpPr>
          <p:grpSpPr>
            <a:xfrm>
              <a:off x="2833560" y="4289400"/>
              <a:ext cx="71640" cy="181440"/>
              <a:chOff x="2833560" y="4289400"/>
              <a:chExt cx="71640" cy="181440"/>
            </a:xfrm>
          </p:grpSpPr>
          <p:sp>
            <p:nvSpPr>
              <p:cNvPr id="4945" name=""/>
              <p:cNvSpPr/>
              <p:nvPr/>
            </p:nvSpPr>
            <p:spPr>
              <a:xfrm>
                <a:off x="2833560" y="4289400"/>
                <a:ext cx="71640" cy="181440"/>
              </a:xfrm>
              <a:custGeom>
                <a:avLst/>
                <a:gdLst/>
                <a:ahLst/>
                <a:rect l="0" t="0" r="r" b="b"/>
                <a:pathLst>
                  <a:path w="199" h="504">
                    <a:moveTo>
                      <a:pt x="0" y="0"/>
                    </a:moveTo>
                    <a:lnTo>
                      <a:pt x="199" y="0"/>
                    </a:lnTo>
                    <a:lnTo>
                      <a:pt x="199" y="504"/>
                    </a:lnTo>
                    <a:lnTo>
                      <a:pt x="0" y="5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6" name=""/>
              <p:cNvGrpSpPr/>
              <p:nvPr/>
            </p:nvGrpSpPr>
            <p:grpSpPr>
              <a:xfrm>
                <a:off x="2833560" y="4309920"/>
                <a:ext cx="71640" cy="138240"/>
                <a:chOff x="2833560" y="4309920"/>
                <a:chExt cx="71640" cy="138240"/>
              </a:xfrm>
            </p:grpSpPr>
            <p:sp>
              <p:nvSpPr>
                <p:cNvPr id="4947" name=""/>
                <p:cNvSpPr/>
                <p:nvPr/>
              </p:nvSpPr>
              <p:spPr>
                <a:xfrm>
                  <a:off x="2833560" y="4335480"/>
                  <a:ext cx="7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8" name=""/>
                <p:cNvSpPr/>
                <p:nvPr/>
              </p:nvSpPr>
              <p:spPr>
                <a:xfrm>
                  <a:off x="2833560" y="4400640"/>
                  <a:ext cx="7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>
                  <a:off x="2833560" y="4379760"/>
                  <a:ext cx="7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>
                  <a:off x="2833560" y="4357800"/>
                  <a:ext cx="7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1" name=""/>
                <p:cNvSpPr/>
                <p:nvPr/>
              </p:nvSpPr>
              <p:spPr>
                <a:xfrm>
                  <a:off x="2833560" y="4309920"/>
                  <a:ext cx="7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2" name=""/>
                <p:cNvSpPr/>
                <p:nvPr/>
              </p:nvSpPr>
              <p:spPr>
                <a:xfrm>
                  <a:off x="2833560" y="4425840"/>
                  <a:ext cx="7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"/>
                <p:cNvSpPr/>
                <p:nvPr/>
              </p:nvSpPr>
              <p:spPr>
                <a:xfrm>
                  <a:off x="2833560" y="4448160"/>
                  <a:ext cx="7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54" name=""/>
            <p:cNvSpPr/>
            <p:nvPr/>
          </p:nvSpPr>
          <p:spPr>
            <a:xfrm>
              <a:off x="3279600" y="4335480"/>
              <a:ext cx="22680" cy="44640"/>
            </a:xfrm>
            <a:custGeom>
              <a:avLst/>
              <a:gdLst/>
              <a:ahLst/>
              <a:rect l="0" t="0" r="r" b="b"/>
              <a:pathLst>
                <a:path w="63" h="124">
                  <a:moveTo>
                    <a:pt x="0" y="0"/>
                  </a:moveTo>
                  <a:lnTo>
                    <a:pt x="63" y="0"/>
                  </a:lnTo>
                  <a:lnTo>
                    <a:pt x="63" y="124"/>
                  </a:lnTo>
                  <a:lnTo>
                    <a:pt x="0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5" name=""/>
            <p:cNvGrpSpPr/>
            <p:nvPr/>
          </p:nvGrpSpPr>
          <p:grpSpPr>
            <a:xfrm>
              <a:off x="3021120" y="3757680"/>
              <a:ext cx="119160" cy="125640"/>
              <a:chOff x="3021120" y="3757680"/>
              <a:chExt cx="119160" cy="125640"/>
            </a:xfrm>
          </p:grpSpPr>
          <p:sp>
            <p:nvSpPr>
              <p:cNvPr id="4956" name=""/>
              <p:cNvSpPr/>
              <p:nvPr/>
            </p:nvSpPr>
            <p:spPr>
              <a:xfrm>
                <a:off x="3116160" y="3790800"/>
                <a:ext cx="24120" cy="92520"/>
              </a:xfrm>
              <a:custGeom>
                <a:avLst/>
                <a:gdLst/>
                <a:ahLst/>
                <a:rect l="0" t="0" r="r" b="b"/>
                <a:pathLst>
                  <a:path w="67" h="257">
                    <a:moveTo>
                      <a:pt x="42" y="0"/>
                    </a:moveTo>
                    <a:lnTo>
                      <a:pt x="0" y="229"/>
                    </a:lnTo>
                    <a:lnTo>
                      <a:pt x="36" y="257"/>
                    </a:lnTo>
                    <a:lnTo>
                      <a:pt x="67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fb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021120" y="3757680"/>
                <a:ext cx="95760" cy="52920"/>
              </a:xfrm>
              <a:custGeom>
                <a:avLst/>
                <a:gdLst/>
                <a:ahLst/>
                <a:rect l="0" t="0" r="r" b="b"/>
                <a:pathLst>
                  <a:path w="266" h="147">
                    <a:moveTo>
                      <a:pt x="250" y="0"/>
                    </a:moveTo>
                    <a:lnTo>
                      <a:pt x="0" y="129"/>
                    </a:lnTo>
                    <a:lnTo>
                      <a:pt x="49" y="147"/>
                    </a:lnTo>
                    <a:lnTo>
                      <a:pt x="266" y="19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bfb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8" name=""/>
            <p:cNvGrpSpPr/>
            <p:nvPr/>
          </p:nvGrpSpPr>
          <p:grpSpPr>
            <a:xfrm>
              <a:off x="2744640" y="3668760"/>
              <a:ext cx="545040" cy="438480"/>
              <a:chOff x="2744640" y="3668760"/>
              <a:chExt cx="545040" cy="438480"/>
            </a:xfrm>
          </p:grpSpPr>
          <p:sp>
            <p:nvSpPr>
              <p:cNvPr id="4959" name=""/>
              <p:cNvSpPr/>
              <p:nvPr/>
            </p:nvSpPr>
            <p:spPr>
              <a:xfrm>
                <a:off x="2744640" y="3672000"/>
                <a:ext cx="545040" cy="435240"/>
              </a:xfrm>
              <a:custGeom>
                <a:avLst/>
                <a:gdLst/>
                <a:ahLst/>
                <a:rect l="0" t="0" r="r" b="b"/>
                <a:pathLst>
                  <a:path w="1514" h="1209">
                    <a:moveTo>
                      <a:pt x="0" y="67"/>
                    </a:moveTo>
                    <a:lnTo>
                      <a:pt x="2" y="116"/>
                    </a:lnTo>
                    <a:lnTo>
                      <a:pt x="9" y="175"/>
                    </a:lnTo>
                    <a:lnTo>
                      <a:pt x="28" y="234"/>
                    </a:lnTo>
                    <a:lnTo>
                      <a:pt x="51" y="294"/>
                    </a:lnTo>
                    <a:lnTo>
                      <a:pt x="91" y="366"/>
                    </a:lnTo>
                    <a:lnTo>
                      <a:pt x="140" y="457"/>
                    </a:lnTo>
                    <a:lnTo>
                      <a:pt x="202" y="556"/>
                    </a:lnTo>
                    <a:lnTo>
                      <a:pt x="287" y="664"/>
                    </a:lnTo>
                    <a:lnTo>
                      <a:pt x="390" y="761"/>
                    </a:lnTo>
                    <a:lnTo>
                      <a:pt x="534" y="868"/>
                    </a:lnTo>
                    <a:lnTo>
                      <a:pt x="675" y="969"/>
                    </a:lnTo>
                    <a:lnTo>
                      <a:pt x="784" y="1029"/>
                    </a:lnTo>
                    <a:lnTo>
                      <a:pt x="930" y="1097"/>
                    </a:lnTo>
                    <a:lnTo>
                      <a:pt x="1072" y="1147"/>
                    </a:lnTo>
                    <a:lnTo>
                      <a:pt x="1200" y="1180"/>
                    </a:lnTo>
                    <a:lnTo>
                      <a:pt x="1288" y="1200"/>
                    </a:lnTo>
                    <a:lnTo>
                      <a:pt x="1375" y="1207"/>
                    </a:lnTo>
                    <a:lnTo>
                      <a:pt x="1441" y="1209"/>
                    </a:lnTo>
                    <a:lnTo>
                      <a:pt x="1487" y="1192"/>
                    </a:lnTo>
                    <a:lnTo>
                      <a:pt x="1514" y="1162"/>
                    </a:lnTo>
                    <a:lnTo>
                      <a:pt x="1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2749680" y="3668760"/>
                <a:ext cx="538560" cy="425880"/>
              </a:xfrm>
              <a:custGeom>
                <a:avLst/>
                <a:gdLst/>
                <a:ahLst/>
                <a:rect l="0" t="0" r="r" b="b"/>
                <a:pathLst>
                  <a:path w="1496" h="1183">
                    <a:moveTo>
                      <a:pt x="0" y="0"/>
                    </a:moveTo>
                    <a:lnTo>
                      <a:pt x="2" y="32"/>
                    </a:lnTo>
                    <a:lnTo>
                      <a:pt x="28" y="97"/>
                    </a:lnTo>
                    <a:lnTo>
                      <a:pt x="61" y="174"/>
                    </a:lnTo>
                    <a:lnTo>
                      <a:pt x="92" y="235"/>
                    </a:lnTo>
                    <a:lnTo>
                      <a:pt x="134" y="313"/>
                    </a:lnTo>
                    <a:lnTo>
                      <a:pt x="185" y="403"/>
                    </a:lnTo>
                    <a:lnTo>
                      <a:pt x="246" y="494"/>
                    </a:lnTo>
                    <a:lnTo>
                      <a:pt x="340" y="605"/>
                    </a:lnTo>
                    <a:lnTo>
                      <a:pt x="464" y="724"/>
                    </a:lnTo>
                    <a:lnTo>
                      <a:pt x="585" y="815"/>
                    </a:lnTo>
                    <a:lnTo>
                      <a:pt x="725" y="909"/>
                    </a:lnTo>
                    <a:lnTo>
                      <a:pt x="843" y="976"/>
                    </a:lnTo>
                    <a:lnTo>
                      <a:pt x="932" y="1016"/>
                    </a:lnTo>
                    <a:lnTo>
                      <a:pt x="1017" y="1055"/>
                    </a:lnTo>
                    <a:lnTo>
                      <a:pt x="1103" y="1092"/>
                    </a:lnTo>
                    <a:lnTo>
                      <a:pt x="1198" y="1123"/>
                    </a:lnTo>
                    <a:lnTo>
                      <a:pt x="1263" y="1144"/>
                    </a:lnTo>
                    <a:lnTo>
                      <a:pt x="1328" y="1158"/>
                    </a:lnTo>
                    <a:lnTo>
                      <a:pt x="1400" y="1170"/>
                    </a:lnTo>
                    <a:lnTo>
                      <a:pt x="1460" y="1183"/>
                    </a:lnTo>
                    <a:lnTo>
                      <a:pt x="1495" y="1179"/>
                    </a:lnTo>
                    <a:lnTo>
                      <a:pt x="1496" y="1153"/>
                    </a:lnTo>
                    <a:lnTo>
                      <a:pt x="1483" y="1125"/>
                    </a:lnTo>
                    <a:lnTo>
                      <a:pt x="1462" y="1092"/>
                    </a:lnTo>
                    <a:lnTo>
                      <a:pt x="1424" y="1033"/>
                    </a:lnTo>
                    <a:lnTo>
                      <a:pt x="1380" y="956"/>
                    </a:lnTo>
                    <a:lnTo>
                      <a:pt x="1331" y="886"/>
                    </a:lnTo>
                    <a:lnTo>
                      <a:pt x="1275" y="806"/>
                    </a:lnTo>
                    <a:lnTo>
                      <a:pt x="1207" y="723"/>
                    </a:lnTo>
                    <a:lnTo>
                      <a:pt x="1146" y="659"/>
                    </a:lnTo>
                    <a:lnTo>
                      <a:pt x="1091" y="604"/>
                    </a:lnTo>
                    <a:lnTo>
                      <a:pt x="1015" y="533"/>
                    </a:lnTo>
                    <a:lnTo>
                      <a:pt x="943" y="472"/>
                    </a:lnTo>
                    <a:lnTo>
                      <a:pt x="859" y="408"/>
                    </a:lnTo>
                    <a:lnTo>
                      <a:pt x="740" y="333"/>
                    </a:lnTo>
                    <a:lnTo>
                      <a:pt x="654" y="279"/>
                    </a:lnTo>
                    <a:lnTo>
                      <a:pt x="534" y="208"/>
                    </a:lnTo>
                    <a:lnTo>
                      <a:pt x="429" y="163"/>
                    </a:lnTo>
                    <a:lnTo>
                      <a:pt x="324" y="114"/>
                    </a:lnTo>
                    <a:lnTo>
                      <a:pt x="245" y="80"/>
                    </a:lnTo>
                    <a:lnTo>
                      <a:pt x="162" y="45"/>
                    </a:lnTo>
                    <a:lnTo>
                      <a:pt x="103" y="23"/>
                    </a:lnTo>
                    <a:lnTo>
                      <a:pt x="4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1" name=""/>
            <p:cNvGrpSpPr/>
            <p:nvPr/>
          </p:nvGrpSpPr>
          <p:grpSpPr>
            <a:xfrm>
              <a:off x="2811600" y="3699000"/>
              <a:ext cx="374760" cy="373320"/>
              <a:chOff x="2811600" y="3699000"/>
              <a:chExt cx="374760" cy="373320"/>
            </a:xfrm>
          </p:grpSpPr>
          <p:sp>
            <p:nvSpPr>
              <p:cNvPr id="4962" name=""/>
              <p:cNvSpPr/>
              <p:nvPr/>
            </p:nvSpPr>
            <p:spPr>
              <a:xfrm>
                <a:off x="2811600" y="3699000"/>
                <a:ext cx="340200" cy="114840"/>
              </a:xfrm>
              <a:custGeom>
                <a:avLst/>
                <a:gdLst/>
                <a:ahLst/>
                <a:rect l="0" t="0" r="r" b="b"/>
                <a:pathLst>
                  <a:path w="945" h="319">
                    <a:moveTo>
                      <a:pt x="0" y="290"/>
                    </a:moveTo>
                    <a:lnTo>
                      <a:pt x="941" y="0"/>
                    </a:lnTo>
                    <a:lnTo>
                      <a:pt x="945" y="31"/>
                    </a:lnTo>
                    <a:lnTo>
                      <a:pt x="14" y="319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dfd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170160" y="3754440"/>
                <a:ext cx="16200" cy="317880"/>
              </a:xfrm>
              <a:custGeom>
                <a:avLst/>
                <a:gdLst/>
                <a:ahLst/>
                <a:rect l="0" t="0" r="r" b="b"/>
                <a:pathLst>
                  <a:path w="45" h="883">
                    <a:moveTo>
                      <a:pt x="8" y="28"/>
                    </a:moveTo>
                    <a:lnTo>
                      <a:pt x="0" y="874"/>
                    </a:lnTo>
                    <a:lnTo>
                      <a:pt x="39" y="883"/>
                    </a:lnTo>
                    <a:lnTo>
                      <a:pt x="45" y="0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dfd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"/>
            <p:cNvGrpSpPr/>
            <p:nvPr/>
          </p:nvGrpSpPr>
          <p:grpSpPr>
            <a:xfrm>
              <a:off x="3098880" y="3672000"/>
              <a:ext cx="127440" cy="120960"/>
              <a:chOff x="3098880" y="3672000"/>
              <a:chExt cx="127440" cy="120960"/>
            </a:xfrm>
          </p:grpSpPr>
          <p:sp>
            <p:nvSpPr>
              <p:cNvPr id="4965" name=""/>
              <p:cNvSpPr/>
              <p:nvPr/>
            </p:nvSpPr>
            <p:spPr>
              <a:xfrm>
                <a:off x="3098880" y="3699000"/>
                <a:ext cx="105120" cy="93960"/>
              </a:xfrm>
              <a:custGeom>
                <a:avLst/>
                <a:gdLst/>
                <a:ahLst/>
                <a:rect l="0" t="0" r="r" b="b"/>
                <a:pathLst>
                  <a:path w="292" h="261">
                    <a:moveTo>
                      <a:pt x="172" y="0"/>
                    </a:moveTo>
                    <a:lnTo>
                      <a:pt x="4" y="133"/>
                    </a:lnTo>
                    <a:lnTo>
                      <a:pt x="0" y="146"/>
                    </a:lnTo>
                    <a:lnTo>
                      <a:pt x="5" y="170"/>
                    </a:lnTo>
                    <a:lnTo>
                      <a:pt x="20" y="201"/>
                    </a:lnTo>
                    <a:lnTo>
                      <a:pt x="28" y="218"/>
                    </a:lnTo>
                    <a:lnTo>
                      <a:pt x="51" y="240"/>
                    </a:lnTo>
                    <a:lnTo>
                      <a:pt x="77" y="254"/>
                    </a:lnTo>
                    <a:lnTo>
                      <a:pt x="109" y="261"/>
                    </a:lnTo>
                    <a:lnTo>
                      <a:pt x="125" y="258"/>
                    </a:lnTo>
                    <a:lnTo>
                      <a:pt x="140" y="252"/>
                    </a:lnTo>
                    <a:lnTo>
                      <a:pt x="292" y="107"/>
                    </a:lnTo>
                    <a:lnTo>
                      <a:pt x="246" y="93"/>
                    </a:lnTo>
                    <a:lnTo>
                      <a:pt x="217" y="75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bfb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3146400" y="3687840"/>
                <a:ext cx="73440" cy="68760"/>
              </a:xfrm>
              <a:custGeom>
                <a:avLst/>
                <a:gdLst/>
                <a:ahLst/>
                <a:rect l="0" t="0" r="r" b="b"/>
                <a:pathLst>
                  <a:path w="204" h="191">
                    <a:moveTo>
                      <a:pt x="85" y="16"/>
                    </a:moveTo>
                    <a:lnTo>
                      <a:pt x="73" y="6"/>
                    </a:lnTo>
                    <a:lnTo>
                      <a:pt x="53" y="0"/>
                    </a:lnTo>
                    <a:lnTo>
                      <a:pt x="23" y="2"/>
                    </a:lnTo>
                    <a:lnTo>
                      <a:pt x="8" y="12"/>
                    </a:lnTo>
                    <a:lnTo>
                      <a:pt x="4" y="26"/>
                    </a:lnTo>
                    <a:lnTo>
                      <a:pt x="0" y="47"/>
                    </a:lnTo>
                    <a:lnTo>
                      <a:pt x="4" y="74"/>
                    </a:lnTo>
                    <a:lnTo>
                      <a:pt x="10" y="88"/>
                    </a:lnTo>
                    <a:lnTo>
                      <a:pt x="20" y="105"/>
                    </a:lnTo>
                    <a:lnTo>
                      <a:pt x="37" y="131"/>
                    </a:lnTo>
                    <a:lnTo>
                      <a:pt x="57" y="151"/>
                    </a:lnTo>
                    <a:lnTo>
                      <a:pt x="79" y="167"/>
                    </a:lnTo>
                    <a:lnTo>
                      <a:pt x="99" y="179"/>
                    </a:lnTo>
                    <a:lnTo>
                      <a:pt x="120" y="188"/>
                    </a:lnTo>
                    <a:lnTo>
                      <a:pt x="142" y="191"/>
                    </a:lnTo>
                    <a:lnTo>
                      <a:pt x="169" y="190"/>
                    </a:lnTo>
                    <a:lnTo>
                      <a:pt x="188" y="182"/>
                    </a:lnTo>
                    <a:lnTo>
                      <a:pt x="202" y="166"/>
                    </a:lnTo>
                    <a:lnTo>
                      <a:pt x="204" y="147"/>
                    </a:lnTo>
                    <a:lnTo>
                      <a:pt x="197" y="122"/>
                    </a:lnTo>
                    <a:lnTo>
                      <a:pt x="182" y="99"/>
                    </a:lnTo>
                    <a:lnTo>
                      <a:pt x="158" y="69"/>
                    </a:lnTo>
                    <a:lnTo>
                      <a:pt x="114" y="34"/>
                    </a:lnTo>
                    <a:lnTo>
                      <a:pt x="85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3165480" y="3672000"/>
                <a:ext cx="60840" cy="65520"/>
              </a:xfrm>
              <a:custGeom>
                <a:avLst/>
                <a:gdLst/>
                <a:ahLst/>
                <a:rect l="0" t="0" r="r" b="b"/>
                <a:pathLst>
                  <a:path w="169" h="182">
                    <a:moveTo>
                      <a:pt x="3" y="85"/>
                    </a:moveTo>
                    <a:lnTo>
                      <a:pt x="107" y="16"/>
                    </a:lnTo>
                    <a:lnTo>
                      <a:pt x="134" y="2"/>
                    </a:lnTo>
                    <a:lnTo>
                      <a:pt x="153" y="0"/>
                    </a:lnTo>
                    <a:lnTo>
                      <a:pt x="161" y="3"/>
                    </a:lnTo>
                    <a:lnTo>
                      <a:pt x="168" y="19"/>
                    </a:lnTo>
                    <a:lnTo>
                      <a:pt x="169" y="44"/>
                    </a:lnTo>
                    <a:lnTo>
                      <a:pt x="99" y="178"/>
                    </a:lnTo>
                    <a:lnTo>
                      <a:pt x="84" y="182"/>
                    </a:lnTo>
                    <a:lnTo>
                      <a:pt x="63" y="182"/>
                    </a:lnTo>
                    <a:lnTo>
                      <a:pt x="46" y="174"/>
                    </a:lnTo>
                    <a:lnTo>
                      <a:pt x="24" y="161"/>
                    </a:lnTo>
                    <a:lnTo>
                      <a:pt x="10" y="146"/>
                    </a:lnTo>
                    <a:lnTo>
                      <a:pt x="1" y="125"/>
                    </a:lnTo>
                    <a:lnTo>
                      <a:pt x="0" y="103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9f9fb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3119400" y="373536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fill="none" w="124" h="120">
                    <a:moveTo>
                      <a:pt x="0" y="0"/>
                    </a:moveTo>
                    <a:lnTo>
                      <a:pt x="3" y="25"/>
                    </a:lnTo>
                    <a:lnTo>
                      <a:pt x="11" y="46"/>
                    </a:lnTo>
                    <a:lnTo>
                      <a:pt x="27" y="71"/>
                    </a:lnTo>
                    <a:lnTo>
                      <a:pt x="39" y="92"/>
                    </a:lnTo>
                    <a:lnTo>
                      <a:pt x="65" y="106"/>
                    </a:lnTo>
                    <a:lnTo>
                      <a:pt x="84" y="114"/>
                    </a:lnTo>
                    <a:lnTo>
                      <a:pt x="97" y="118"/>
                    </a:lnTo>
                    <a:lnTo>
                      <a:pt x="110" y="120"/>
                    </a:lnTo>
                    <a:lnTo>
                      <a:pt x="124" y="12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130560" y="37209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fill="none" w="133" h="120">
                    <a:moveTo>
                      <a:pt x="0" y="0"/>
                    </a:moveTo>
                    <a:lnTo>
                      <a:pt x="4" y="26"/>
                    </a:lnTo>
                    <a:lnTo>
                      <a:pt x="12" y="47"/>
                    </a:lnTo>
                    <a:lnTo>
                      <a:pt x="27" y="71"/>
                    </a:lnTo>
                    <a:lnTo>
                      <a:pt x="44" y="91"/>
                    </a:lnTo>
                    <a:lnTo>
                      <a:pt x="68" y="105"/>
                    </a:lnTo>
                    <a:lnTo>
                      <a:pt x="89" y="114"/>
                    </a:lnTo>
                    <a:lnTo>
                      <a:pt x="104" y="118"/>
                    </a:lnTo>
                    <a:lnTo>
                      <a:pt x="118" y="120"/>
                    </a:lnTo>
                    <a:lnTo>
                      <a:pt x="133" y="12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0" name=""/>
          <p:cNvSpPr/>
          <p:nvPr/>
        </p:nvSpPr>
        <p:spPr>
          <a:xfrm>
            <a:off x="3271680" y="1700280"/>
            <a:ext cx="373320" cy="1881720"/>
          </a:xfrm>
          <a:custGeom>
            <a:avLst/>
            <a:gdLst/>
            <a:ahLst/>
            <a:rect l="0" t="0" r="r" b="b"/>
            <a:pathLst>
              <a:path fill="none" w="1037" h="5227">
                <a:moveTo>
                  <a:pt x="58" y="5227"/>
                </a:moveTo>
                <a:lnTo>
                  <a:pt x="1037" y="3247"/>
                </a:lnTo>
                <a:lnTo>
                  <a:pt x="205" y="3541"/>
                </a:lnTo>
                <a:lnTo>
                  <a:pt x="640" y="1152"/>
                </a:lnTo>
                <a:lnTo>
                  <a:pt x="0" y="1393"/>
                </a:lnTo>
                <a:lnTo>
                  <a:pt x="220" y="0"/>
                </a:ln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1" name=""/>
          <p:cNvGrpSpPr/>
          <p:nvPr/>
        </p:nvGrpSpPr>
        <p:grpSpPr>
          <a:xfrm>
            <a:off x="6475320" y="3591000"/>
            <a:ext cx="609480" cy="568080"/>
            <a:chOff x="6475320" y="3591000"/>
            <a:chExt cx="609480" cy="568080"/>
          </a:xfrm>
        </p:grpSpPr>
        <p:pic>
          <p:nvPicPr>
            <p:cNvPr id="4972" name="" descr=""/>
            <p:cNvPicPr/>
            <p:nvPr/>
          </p:nvPicPr>
          <p:blipFill>
            <a:blip r:embed="rId3"/>
            <a:stretch/>
          </p:blipFill>
          <p:spPr>
            <a:xfrm>
              <a:off x="6475320" y="3722760"/>
              <a:ext cx="34920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3" name="" descr=""/>
            <p:cNvPicPr/>
            <p:nvPr/>
          </p:nvPicPr>
          <p:blipFill>
            <a:blip r:embed="rId4"/>
            <a:stretch/>
          </p:blipFill>
          <p:spPr>
            <a:xfrm>
              <a:off x="6735600" y="3591000"/>
              <a:ext cx="34920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4" name="" descr=""/>
            <p:cNvPicPr/>
            <p:nvPr/>
          </p:nvPicPr>
          <p:blipFill>
            <a:blip r:embed="rId5"/>
            <a:stretch/>
          </p:blipFill>
          <p:spPr>
            <a:xfrm>
              <a:off x="6735600" y="3852720"/>
              <a:ext cx="349200" cy="3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5" name=""/>
          <p:cNvGrpSpPr/>
          <p:nvPr/>
        </p:nvGrpSpPr>
        <p:grpSpPr>
          <a:xfrm>
            <a:off x="5027760" y="4722840"/>
            <a:ext cx="1017360" cy="555480"/>
            <a:chOff x="5027760" y="4722840"/>
            <a:chExt cx="1017360" cy="555480"/>
          </a:xfrm>
        </p:grpSpPr>
        <p:pic>
          <p:nvPicPr>
            <p:cNvPr id="4976" name="" descr=""/>
            <p:cNvPicPr/>
            <p:nvPr/>
          </p:nvPicPr>
          <p:blipFill>
            <a:blip r:embed="rId6"/>
            <a:stretch/>
          </p:blipFill>
          <p:spPr>
            <a:xfrm>
              <a:off x="5027760" y="4997520"/>
              <a:ext cx="5698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7" name="" descr=""/>
            <p:cNvPicPr/>
            <p:nvPr/>
          </p:nvPicPr>
          <p:blipFill>
            <a:blip r:embed="rId7"/>
            <a:stretch/>
          </p:blipFill>
          <p:spPr>
            <a:xfrm>
              <a:off x="5475240" y="4722840"/>
              <a:ext cx="5698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8" name="" descr=""/>
            <p:cNvPicPr/>
            <p:nvPr/>
          </p:nvPicPr>
          <p:blipFill>
            <a:blip r:embed="rId8"/>
            <a:stretch/>
          </p:blipFill>
          <p:spPr>
            <a:xfrm>
              <a:off x="5230800" y="5133960"/>
              <a:ext cx="56988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9" name="" descr=""/>
            <p:cNvPicPr/>
            <p:nvPr/>
          </p:nvPicPr>
          <p:blipFill>
            <a:blip r:embed="rId9"/>
            <a:stretch/>
          </p:blipFill>
          <p:spPr>
            <a:xfrm>
              <a:off x="5067360" y="4815000"/>
              <a:ext cx="569880" cy="1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0" name=""/>
          <p:cNvGrpSpPr/>
          <p:nvPr/>
        </p:nvGrpSpPr>
        <p:grpSpPr>
          <a:xfrm>
            <a:off x="4294080" y="5477040"/>
            <a:ext cx="502200" cy="719280"/>
            <a:chOff x="4294080" y="5477040"/>
            <a:chExt cx="502200" cy="719280"/>
          </a:xfrm>
        </p:grpSpPr>
        <p:grpSp>
          <p:nvGrpSpPr>
            <p:cNvPr id="4981" name=""/>
            <p:cNvGrpSpPr/>
            <p:nvPr/>
          </p:nvGrpSpPr>
          <p:grpSpPr>
            <a:xfrm>
              <a:off x="4294080" y="5477040"/>
              <a:ext cx="357840" cy="411480"/>
              <a:chOff x="4294080" y="5477040"/>
              <a:chExt cx="357840" cy="411480"/>
            </a:xfrm>
          </p:grpSpPr>
          <p:sp>
            <p:nvSpPr>
              <p:cNvPr id="4982" name=""/>
              <p:cNvSpPr/>
              <p:nvPr/>
            </p:nvSpPr>
            <p:spPr>
              <a:xfrm>
                <a:off x="4294080" y="5477040"/>
                <a:ext cx="157680" cy="344880"/>
              </a:xfrm>
              <a:custGeom>
                <a:avLst/>
                <a:gdLst/>
                <a:ahLst/>
                <a:rect l="0" t="0" r="r" b="b"/>
                <a:pathLst>
                  <a:path w="438" h="958">
                    <a:moveTo>
                      <a:pt x="184" y="140"/>
                    </a:moveTo>
                    <a:lnTo>
                      <a:pt x="163" y="150"/>
                    </a:lnTo>
                    <a:lnTo>
                      <a:pt x="142" y="173"/>
                    </a:lnTo>
                    <a:lnTo>
                      <a:pt x="112" y="196"/>
                    </a:lnTo>
                    <a:lnTo>
                      <a:pt x="98" y="254"/>
                    </a:lnTo>
                    <a:lnTo>
                      <a:pt x="80" y="327"/>
                    </a:lnTo>
                    <a:lnTo>
                      <a:pt x="75" y="358"/>
                    </a:lnTo>
                    <a:lnTo>
                      <a:pt x="80" y="394"/>
                    </a:lnTo>
                    <a:lnTo>
                      <a:pt x="69" y="394"/>
                    </a:lnTo>
                    <a:lnTo>
                      <a:pt x="77" y="423"/>
                    </a:lnTo>
                    <a:lnTo>
                      <a:pt x="0" y="471"/>
                    </a:lnTo>
                    <a:lnTo>
                      <a:pt x="11" y="500"/>
                    </a:lnTo>
                    <a:lnTo>
                      <a:pt x="94" y="456"/>
                    </a:lnTo>
                    <a:lnTo>
                      <a:pt x="102" y="464"/>
                    </a:lnTo>
                    <a:lnTo>
                      <a:pt x="120" y="526"/>
                    </a:lnTo>
                    <a:lnTo>
                      <a:pt x="145" y="546"/>
                    </a:lnTo>
                    <a:lnTo>
                      <a:pt x="135" y="571"/>
                    </a:lnTo>
                    <a:lnTo>
                      <a:pt x="135" y="600"/>
                    </a:lnTo>
                    <a:lnTo>
                      <a:pt x="158" y="643"/>
                    </a:lnTo>
                    <a:lnTo>
                      <a:pt x="158" y="669"/>
                    </a:lnTo>
                    <a:lnTo>
                      <a:pt x="148" y="724"/>
                    </a:lnTo>
                    <a:lnTo>
                      <a:pt x="148" y="768"/>
                    </a:lnTo>
                    <a:lnTo>
                      <a:pt x="158" y="795"/>
                    </a:lnTo>
                    <a:lnTo>
                      <a:pt x="173" y="821"/>
                    </a:lnTo>
                    <a:lnTo>
                      <a:pt x="177" y="857"/>
                    </a:lnTo>
                    <a:lnTo>
                      <a:pt x="174" y="886"/>
                    </a:lnTo>
                    <a:lnTo>
                      <a:pt x="162" y="913"/>
                    </a:lnTo>
                    <a:lnTo>
                      <a:pt x="138" y="935"/>
                    </a:lnTo>
                    <a:lnTo>
                      <a:pt x="156" y="958"/>
                    </a:lnTo>
                    <a:lnTo>
                      <a:pt x="195" y="947"/>
                    </a:lnTo>
                    <a:lnTo>
                      <a:pt x="220" y="917"/>
                    </a:lnTo>
                    <a:lnTo>
                      <a:pt x="229" y="891"/>
                    </a:lnTo>
                    <a:lnTo>
                      <a:pt x="226" y="868"/>
                    </a:lnTo>
                    <a:lnTo>
                      <a:pt x="231" y="834"/>
                    </a:lnTo>
                    <a:lnTo>
                      <a:pt x="234" y="813"/>
                    </a:lnTo>
                    <a:lnTo>
                      <a:pt x="237" y="798"/>
                    </a:lnTo>
                    <a:lnTo>
                      <a:pt x="241" y="795"/>
                    </a:lnTo>
                    <a:lnTo>
                      <a:pt x="241" y="857"/>
                    </a:lnTo>
                    <a:lnTo>
                      <a:pt x="252" y="891"/>
                    </a:lnTo>
                    <a:lnTo>
                      <a:pt x="280" y="895"/>
                    </a:lnTo>
                    <a:lnTo>
                      <a:pt x="287" y="845"/>
                    </a:lnTo>
                    <a:lnTo>
                      <a:pt x="286" y="814"/>
                    </a:lnTo>
                    <a:lnTo>
                      <a:pt x="273" y="791"/>
                    </a:lnTo>
                    <a:lnTo>
                      <a:pt x="276" y="767"/>
                    </a:lnTo>
                    <a:lnTo>
                      <a:pt x="291" y="744"/>
                    </a:lnTo>
                    <a:lnTo>
                      <a:pt x="305" y="721"/>
                    </a:lnTo>
                    <a:lnTo>
                      <a:pt x="311" y="684"/>
                    </a:lnTo>
                    <a:lnTo>
                      <a:pt x="317" y="636"/>
                    </a:lnTo>
                    <a:lnTo>
                      <a:pt x="334" y="607"/>
                    </a:lnTo>
                    <a:lnTo>
                      <a:pt x="338" y="564"/>
                    </a:lnTo>
                    <a:lnTo>
                      <a:pt x="337" y="543"/>
                    </a:lnTo>
                    <a:lnTo>
                      <a:pt x="350" y="523"/>
                    </a:lnTo>
                    <a:lnTo>
                      <a:pt x="355" y="500"/>
                    </a:lnTo>
                    <a:lnTo>
                      <a:pt x="355" y="467"/>
                    </a:lnTo>
                    <a:lnTo>
                      <a:pt x="353" y="436"/>
                    </a:lnTo>
                    <a:lnTo>
                      <a:pt x="338" y="420"/>
                    </a:lnTo>
                    <a:lnTo>
                      <a:pt x="334" y="400"/>
                    </a:lnTo>
                    <a:lnTo>
                      <a:pt x="353" y="384"/>
                    </a:lnTo>
                    <a:lnTo>
                      <a:pt x="373" y="364"/>
                    </a:lnTo>
                    <a:lnTo>
                      <a:pt x="403" y="364"/>
                    </a:lnTo>
                    <a:lnTo>
                      <a:pt x="433" y="327"/>
                    </a:lnTo>
                    <a:lnTo>
                      <a:pt x="438" y="287"/>
                    </a:lnTo>
                    <a:lnTo>
                      <a:pt x="424" y="258"/>
                    </a:lnTo>
                    <a:lnTo>
                      <a:pt x="403" y="231"/>
                    </a:lnTo>
                    <a:lnTo>
                      <a:pt x="378" y="191"/>
                    </a:lnTo>
                    <a:lnTo>
                      <a:pt x="331" y="147"/>
                    </a:lnTo>
                    <a:lnTo>
                      <a:pt x="301" y="127"/>
                    </a:lnTo>
                    <a:lnTo>
                      <a:pt x="272" y="124"/>
                    </a:lnTo>
                    <a:lnTo>
                      <a:pt x="263" y="124"/>
                    </a:lnTo>
                    <a:lnTo>
                      <a:pt x="269" y="90"/>
                    </a:lnTo>
                    <a:lnTo>
                      <a:pt x="267" y="57"/>
                    </a:lnTo>
                    <a:lnTo>
                      <a:pt x="260" y="27"/>
                    </a:lnTo>
                    <a:lnTo>
                      <a:pt x="245" y="4"/>
                    </a:lnTo>
                    <a:lnTo>
                      <a:pt x="231" y="0"/>
                    </a:lnTo>
                    <a:lnTo>
                      <a:pt x="206" y="0"/>
                    </a:lnTo>
                    <a:lnTo>
                      <a:pt x="187" y="4"/>
                    </a:lnTo>
                    <a:lnTo>
                      <a:pt x="172" y="24"/>
                    </a:lnTo>
                    <a:lnTo>
                      <a:pt x="166" y="44"/>
                    </a:lnTo>
                    <a:lnTo>
                      <a:pt x="163" y="73"/>
                    </a:lnTo>
                    <a:lnTo>
                      <a:pt x="158" y="90"/>
                    </a:lnTo>
                    <a:lnTo>
                      <a:pt x="170" y="96"/>
                    </a:lnTo>
                    <a:lnTo>
                      <a:pt x="187" y="134"/>
                    </a:lnTo>
                    <a:lnTo>
                      <a:pt x="18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341960" y="5532480"/>
                <a:ext cx="159120" cy="346320"/>
              </a:xfrm>
              <a:custGeom>
                <a:avLst/>
                <a:gdLst/>
                <a:ahLst/>
                <a:rect l="0" t="0" r="r" b="b"/>
                <a:pathLst>
                  <a:path w="442" h="962">
                    <a:moveTo>
                      <a:pt x="186" y="141"/>
                    </a:moveTo>
                    <a:lnTo>
                      <a:pt x="165" y="151"/>
                    </a:lnTo>
                    <a:lnTo>
                      <a:pt x="144" y="174"/>
                    </a:lnTo>
                    <a:lnTo>
                      <a:pt x="113" y="197"/>
                    </a:lnTo>
                    <a:lnTo>
                      <a:pt x="99" y="255"/>
                    </a:lnTo>
                    <a:lnTo>
                      <a:pt x="81" y="327"/>
                    </a:lnTo>
                    <a:lnTo>
                      <a:pt x="75" y="358"/>
                    </a:lnTo>
                    <a:lnTo>
                      <a:pt x="81" y="395"/>
                    </a:lnTo>
                    <a:lnTo>
                      <a:pt x="70" y="395"/>
                    </a:lnTo>
                    <a:lnTo>
                      <a:pt x="78" y="424"/>
                    </a:lnTo>
                    <a:lnTo>
                      <a:pt x="0" y="472"/>
                    </a:lnTo>
                    <a:lnTo>
                      <a:pt x="11" y="503"/>
                    </a:lnTo>
                    <a:lnTo>
                      <a:pt x="95" y="457"/>
                    </a:lnTo>
                    <a:lnTo>
                      <a:pt x="103" y="465"/>
                    </a:lnTo>
                    <a:lnTo>
                      <a:pt x="121" y="529"/>
                    </a:lnTo>
                    <a:lnTo>
                      <a:pt x="147" y="549"/>
                    </a:lnTo>
                    <a:lnTo>
                      <a:pt x="137" y="573"/>
                    </a:lnTo>
                    <a:lnTo>
                      <a:pt x="137" y="603"/>
                    </a:lnTo>
                    <a:lnTo>
                      <a:pt x="159" y="646"/>
                    </a:lnTo>
                    <a:lnTo>
                      <a:pt x="159" y="672"/>
                    </a:lnTo>
                    <a:lnTo>
                      <a:pt x="149" y="726"/>
                    </a:lnTo>
                    <a:lnTo>
                      <a:pt x="149" y="771"/>
                    </a:lnTo>
                    <a:lnTo>
                      <a:pt x="159" y="797"/>
                    </a:lnTo>
                    <a:lnTo>
                      <a:pt x="175" y="824"/>
                    </a:lnTo>
                    <a:lnTo>
                      <a:pt x="179" y="860"/>
                    </a:lnTo>
                    <a:lnTo>
                      <a:pt x="176" y="889"/>
                    </a:lnTo>
                    <a:lnTo>
                      <a:pt x="163" y="916"/>
                    </a:lnTo>
                    <a:lnTo>
                      <a:pt x="140" y="939"/>
                    </a:lnTo>
                    <a:lnTo>
                      <a:pt x="158" y="962"/>
                    </a:lnTo>
                    <a:lnTo>
                      <a:pt x="197" y="950"/>
                    </a:lnTo>
                    <a:lnTo>
                      <a:pt x="222" y="921"/>
                    </a:lnTo>
                    <a:lnTo>
                      <a:pt x="231" y="894"/>
                    </a:lnTo>
                    <a:lnTo>
                      <a:pt x="228" y="871"/>
                    </a:lnTo>
                    <a:lnTo>
                      <a:pt x="234" y="837"/>
                    </a:lnTo>
                    <a:lnTo>
                      <a:pt x="236" y="815"/>
                    </a:lnTo>
                    <a:lnTo>
                      <a:pt x="239" y="801"/>
                    </a:lnTo>
                    <a:lnTo>
                      <a:pt x="243" y="797"/>
                    </a:lnTo>
                    <a:lnTo>
                      <a:pt x="243" y="860"/>
                    </a:lnTo>
                    <a:lnTo>
                      <a:pt x="255" y="894"/>
                    </a:lnTo>
                    <a:lnTo>
                      <a:pt x="283" y="898"/>
                    </a:lnTo>
                    <a:lnTo>
                      <a:pt x="290" y="848"/>
                    </a:lnTo>
                    <a:lnTo>
                      <a:pt x="288" y="817"/>
                    </a:lnTo>
                    <a:lnTo>
                      <a:pt x="276" y="794"/>
                    </a:lnTo>
                    <a:lnTo>
                      <a:pt x="279" y="769"/>
                    </a:lnTo>
                    <a:lnTo>
                      <a:pt x="294" y="746"/>
                    </a:lnTo>
                    <a:lnTo>
                      <a:pt x="308" y="723"/>
                    </a:lnTo>
                    <a:lnTo>
                      <a:pt x="314" y="687"/>
                    </a:lnTo>
                    <a:lnTo>
                      <a:pt x="321" y="639"/>
                    </a:lnTo>
                    <a:lnTo>
                      <a:pt x="337" y="610"/>
                    </a:lnTo>
                    <a:lnTo>
                      <a:pt x="341" y="567"/>
                    </a:lnTo>
                    <a:lnTo>
                      <a:pt x="340" y="545"/>
                    </a:lnTo>
                    <a:lnTo>
                      <a:pt x="354" y="526"/>
                    </a:lnTo>
                    <a:lnTo>
                      <a:pt x="358" y="503"/>
                    </a:lnTo>
                    <a:lnTo>
                      <a:pt x="358" y="469"/>
                    </a:lnTo>
                    <a:lnTo>
                      <a:pt x="357" y="437"/>
                    </a:lnTo>
                    <a:lnTo>
                      <a:pt x="341" y="421"/>
                    </a:lnTo>
                    <a:lnTo>
                      <a:pt x="337" y="401"/>
                    </a:lnTo>
                    <a:lnTo>
                      <a:pt x="357" y="385"/>
                    </a:lnTo>
                    <a:lnTo>
                      <a:pt x="376" y="365"/>
                    </a:lnTo>
                    <a:lnTo>
                      <a:pt x="407" y="365"/>
                    </a:lnTo>
                    <a:lnTo>
                      <a:pt x="437" y="327"/>
                    </a:lnTo>
                    <a:lnTo>
                      <a:pt x="442" y="288"/>
                    </a:lnTo>
                    <a:lnTo>
                      <a:pt x="428" y="258"/>
                    </a:lnTo>
                    <a:lnTo>
                      <a:pt x="407" y="232"/>
                    </a:lnTo>
                    <a:lnTo>
                      <a:pt x="382" y="192"/>
                    </a:lnTo>
                    <a:lnTo>
                      <a:pt x="334" y="148"/>
                    </a:lnTo>
                    <a:lnTo>
                      <a:pt x="304" y="128"/>
                    </a:lnTo>
                    <a:lnTo>
                      <a:pt x="274" y="125"/>
                    </a:lnTo>
                    <a:lnTo>
                      <a:pt x="266" y="125"/>
                    </a:lnTo>
                    <a:lnTo>
                      <a:pt x="272" y="90"/>
                    </a:lnTo>
                    <a:lnTo>
                      <a:pt x="270" y="57"/>
                    </a:lnTo>
                    <a:lnTo>
                      <a:pt x="263" y="27"/>
                    </a:lnTo>
                    <a:lnTo>
                      <a:pt x="248" y="4"/>
                    </a:lnTo>
                    <a:lnTo>
                      <a:pt x="234" y="0"/>
                    </a:lnTo>
                    <a:lnTo>
                      <a:pt x="208" y="0"/>
                    </a:lnTo>
                    <a:lnTo>
                      <a:pt x="189" y="4"/>
                    </a:lnTo>
                    <a:lnTo>
                      <a:pt x="173" y="24"/>
                    </a:lnTo>
                    <a:lnTo>
                      <a:pt x="168" y="44"/>
                    </a:lnTo>
                    <a:lnTo>
                      <a:pt x="165" y="74"/>
                    </a:lnTo>
                    <a:lnTo>
                      <a:pt x="159" y="90"/>
                    </a:lnTo>
                    <a:lnTo>
                      <a:pt x="172" y="97"/>
                    </a:lnTo>
                    <a:lnTo>
                      <a:pt x="189" y="134"/>
                    </a:lnTo>
                    <a:lnTo>
                      <a:pt x="186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492800" y="5543640"/>
                <a:ext cx="159120" cy="344880"/>
              </a:xfrm>
              <a:custGeom>
                <a:avLst/>
                <a:gdLst/>
                <a:ahLst/>
                <a:rect l="0" t="0" r="r" b="b"/>
                <a:pathLst>
                  <a:path w="442" h="958">
                    <a:moveTo>
                      <a:pt x="186" y="140"/>
                    </a:moveTo>
                    <a:lnTo>
                      <a:pt x="165" y="150"/>
                    </a:lnTo>
                    <a:lnTo>
                      <a:pt x="144" y="173"/>
                    </a:lnTo>
                    <a:lnTo>
                      <a:pt x="113" y="196"/>
                    </a:lnTo>
                    <a:lnTo>
                      <a:pt x="99" y="254"/>
                    </a:lnTo>
                    <a:lnTo>
                      <a:pt x="81" y="327"/>
                    </a:lnTo>
                    <a:lnTo>
                      <a:pt x="75" y="358"/>
                    </a:lnTo>
                    <a:lnTo>
                      <a:pt x="81" y="394"/>
                    </a:lnTo>
                    <a:lnTo>
                      <a:pt x="70" y="394"/>
                    </a:lnTo>
                    <a:lnTo>
                      <a:pt x="78" y="423"/>
                    </a:lnTo>
                    <a:lnTo>
                      <a:pt x="0" y="471"/>
                    </a:lnTo>
                    <a:lnTo>
                      <a:pt x="11" y="500"/>
                    </a:lnTo>
                    <a:lnTo>
                      <a:pt x="95" y="456"/>
                    </a:lnTo>
                    <a:lnTo>
                      <a:pt x="103" y="464"/>
                    </a:lnTo>
                    <a:lnTo>
                      <a:pt x="121" y="526"/>
                    </a:lnTo>
                    <a:lnTo>
                      <a:pt x="147" y="546"/>
                    </a:lnTo>
                    <a:lnTo>
                      <a:pt x="137" y="571"/>
                    </a:lnTo>
                    <a:lnTo>
                      <a:pt x="137" y="600"/>
                    </a:lnTo>
                    <a:lnTo>
                      <a:pt x="159" y="643"/>
                    </a:lnTo>
                    <a:lnTo>
                      <a:pt x="159" y="669"/>
                    </a:lnTo>
                    <a:lnTo>
                      <a:pt x="149" y="724"/>
                    </a:lnTo>
                    <a:lnTo>
                      <a:pt x="149" y="768"/>
                    </a:lnTo>
                    <a:lnTo>
                      <a:pt x="159" y="795"/>
                    </a:lnTo>
                    <a:lnTo>
                      <a:pt x="175" y="821"/>
                    </a:lnTo>
                    <a:lnTo>
                      <a:pt x="179" y="857"/>
                    </a:lnTo>
                    <a:lnTo>
                      <a:pt x="176" y="886"/>
                    </a:lnTo>
                    <a:lnTo>
                      <a:pt x="163" y="913"/>
                    </a:lnTo>
                    <a:lnTo>
                      <a:pt x="140" y="935"/>
                    </a:lnTo>
                    <a:lnTo>
                      <a:pt x="158" y="958"/>
                    </a:lnTo>
                    <a:lnTo>
                      <a:pt x="197" y="947"/>
                    </a:lnTo>
                    <a:lnTo>
                      <a:pt x="222" y="917"/>
                    </a:lnTo>
                    <a:lnTo>
                      <a:pt x="231" y="891"/>
                    </a:lnTo>
                    <a:lnTo>
                      <a:pt x="228" y="868"/>
                    </a:lnTo>
                    <a:lnTo>
                      <a:pt x="234" y="834"/>
                    </a:lnTo>
                    <a:lnTo>
                      <a:pt x="236" y="813"/>
                    </a:lnTo>
                    <a:lnTo>
                      <a:pt x="239" y="798"/>
                    </a:lnTo>
                    <a:lnTo>
                      <a:pt x="243" y="795"/>
                    </a:lnTo>
                    <a:lnTo>
                      <a:pt x="243" y="857"/>
                    </a:lnTo>
                    <a:lnTo>
                      <a:pt x="255" y="891"/>
                    </a:lnTo>
                    <a:lnTo>
                      <a:pt x="283" y="895"/>
                    </a:lnTo>
                    <a:lnTo>
                      <a:pt x="290" y="845"/>
                    </a:lnTo>
                    <a:lnTo>
                      <a:pt x="288" y="814"/>
                    </a:lnTo>
                    <a:lnTo>
                      <a:pt x="276" y="791"/>
                    </a:lnTo>
                    <a:lnTo>
                      <a:pt x="279" y="767"/>
                    </a:lnTo>
                    <a:lnTo>
                      <a:pt x="294" y="744"/>
                    </a:lnTo>
                    <a:lnTo>
                      <a:pt x="308" y="721"/>
                    </a:lnTo>
                    <a:lnTo>
                      <a:pt x="314" y="684"/>
                    </a:lnTo>
                    <a:lnTo>
                      <a:pt x="321" y="636"/>
                    </a:lnTo>
                    <a:lnTo>
                      <a:pt x="337" y="607"/>
                    </a:lnTo>
                    <a:lnTo>
                      <a:pt x="341" y="564"/>
                    </a:lnTo>
                    <a:lnTo>
                      <a:pt x="340" y="543"/>
                    </a:lnTo>
                    <a:lnTo>
                      <a:pt x="354" y="523"/>
                    </a:lnTo>
                    <a:lnTo>
                      <a:pt x="358" y="500"/>
                    </a:lnTo>
                    <a:lnTo>
                      <a:pt x="358" y="467"/>
                    </a:lnTo>
                    <a:lnTo>
                      <a:pt x="357" y="436"/>
                    </a:lnTo>
                    <a:lnTo>
                      <a:pt x="341" y="420"/>
                    </a:lnTo>
                    <a:lnTo>
                      <a:pt x="337" y="400"/>
                    </a:lnTo>
                    <a:lnTo>
                      <a:pt x="357" y="384"/>
                    </a:lnTo>
                    <a:lnTo>
                      <a:pt x="376" y="364"/>
                    </a:lnTo>
                    <a:lnTo>
                      <a:pt x="407" y="364"/>
                    </a:lnTo>
                    <a:lnTo>
                      <a:pt x="437" y="327"/>
                    </a:lnTo>
                    <a:lnTo>
                      <a:pt x="442" y="287"/>
                    </a:lnTo>
                    <a:lnTo>
                      <a:pt x="428" y="258"/>
                    </a:lnTo>
                    <a:lnTo>
                      <a:pt x="407" y="231"/>
                    </a:lnTo>
                    <a:lnTo>
                      <a:pt x="382" y="191"/>
                    </a:lnTo>
                    <a:lnTo>
                      <a:pt x="334" y="147"/>
                    </a:lnTo>
                    <a:lnTo>
                      <a:pt x="304" y="127"/>
                    </a:lnTo>
                    <a:lnTo>
                      <a:pt x="274" y="124"/>
                    </a:lnTo>
                    <a:lnTo>
                      <a:pt x="266" y="124"/>
                    </a:lnTo>
                    <a:lnTo>
                      <a:pt x="272" y="90"/>
                    </a:lnTo>
                    <a:lnTo>
                      <a:pt x="270" y="57"/>
                    </a:lnTo>
                    <a:lnTo>
                      <a:pt x="263" y="27"/>
                    </a:lnTo>
                    <a:lnTo>
                      <a:pt x="248" y="4"/>
                    </a:lnTo>
                    <a:lnTo>
                      <a:pt x="234" y="0"/>
                    </a:lnTo>
                    <a:lnTo>
                      <a:pt x="208" y="0"/>
                    </a:lnTo>
                    <a:lnTo>
                      <a:pt x="189" y="4"/>
                    </a:lnTo>
                    <a:lnTo>
                      <a:pt x="173" y="24"/>
                    </a:lnTo>
                    <a:lnTo>
                      <a:pt x="168" y="44"/>
                    </a:lnTo>
                    <a:lnTo>
                      <a:pt x="165" y="73"/>
                    </a:lnTo>
                    <a:lnTo>
                      <a:pt x="159" y="90"/>
                    </a:lnTo>
                    <a:lnTo>
                      <a:pt x="172" y="96"/>
                    </a:lnTo>
                    <a:lnTo>
                      <a:pt x="189" y="134"/>
                    </a:lnTo>
                    <a:lnTo>
                      <a:pt x="186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5" name=""/>
            <p:cNvGrpSpPr/>
            <p:nvPr/>
          </p:nvGrpSpPr>
          <p:grpSpPr>
            <a:xfrm>
              <a:off x="4438800" y="5613480"/>
              <a:ext cx="357480" cy="411480"/>
              <a:chOff x="4438800" y="5613480"/>
              <a:chExt cx="357480" cy="411480"/>
            </a:xfrm>
          </p:grpSpPr>
          <p:sp>
            <p:nvSpPr>
              <p:cNvPr id="4986" name=""/>
              <p:cNvSpPr/>
              <p:nvPr/>
            </p:nvSpPr>
            <p:spPr>
              <a:xfrm>
                <a:off x="4438800" y="5613480"/>
                <a:ext cx="159120" cy="344880"/>
              </a:xfrm>
              <a:custGeom>
                <a:avLst/>
                <a:gdLst/>
                <a:ahLst/>
                <a:rect l="0" t="0" r="r" b="b"/>
                <a:pathLst>
                  <a:path w="442" h="958">
                    <a:moveTo>
                      <a:pt x="186" y="140"/>
                    </a:moveTo>
                    <a:lnTo>
                      <a:pt x="165" y="150"/>
                    </a:lnTo>
                    <a:lnTo>
                      <a:pt x="144" y="173"/>
                    </a:lnTo>
                    <a:lnTo>
                      <a:pt x="113" y="196"/>
                    </a:lnTo>
                    <a:lnTo>
                      <a:pt x="99" y="254"/>
                    </a:lnTo>
                    <a:lnTo>
                      <a:pt x="81" y="327"/>
                    </a:lnTo>
                    <a:lnTo>
                      <a:pt x="75" y="358"/>
                    </a:lnTo>
                    <a:lnTo>
                      <a:pt x="81" y="394"/>
                    </a:lnTo>
                    <a:lnTo>
                      <a:pt x="70" y="394"/>
                    </a:lnTo>
                    <a:lnTo>
                      <a:pt x="78" y="423"/>
                    </a:lnTo>
                    <a:lnTo>
                      <a:pt x="0" y="471"/>
                    </a:lnTo>
                    <a:lnTo>
                      <a:pt x="11" y="500"/>
                    </a:lnTo>
                    <a:lnTo>
                      <a:pt x="95" y="456"/>
                    </a:lnTo>
                    <a:lnTo>
                      <a:pt x="103" y="464"/>
                    </a:lnTo>
                    <a:lnTo>
                      <a:pt x="121" y="526"/>
                    </a:lnTo>
                    <a:lnTo>
                      <a:pt x="147" y="546"/>
                    </a:lnTo>
                    <a:lnTo>
                      <a:pt x="137" y="571"/>
                    </a:lnTo>
                    <a:lnTo>
                      <a:pt x="137" y="600"/>
                    </a:lnTo>
                    <a:lnTo>
                      <a:pt x="159" y="643"/>
                    </a:lnTo>
                    <a:lnTo>
                      <a:pt x="159" y="669"/>
                    </a:lnTo>
                    <a:lnTo>
                      <a:pt x="149" y="724"/>
                    </a:lnTo>
                    <a:lnTo>
                      <a:pt x="149" y="768"/>
                    </a:lnTo>
                    <a:lnTo>
                      <a:pt x="159" y="795"/>
                    </a:lnTo>
                    <a:lnTo>
                      <a:pt x="175" y="821"/>
                    </a:lnTo>
                    <a:lnTo>
                      <a:pt x="179" y="857"/>
                    </a:lnTo>
                    <a:lnTo>
                      <a:pt x="176" y="886"/>
                    </a:lnTo>
                    <a:lnTo>
                      <a:pt x="163" y="913"/>
                    </a:lnTo>
                    <a:lnTo>
                      <a:pt x="140" y="935"/>
                    </a:lnTo>
                    <a:lnTo>
                      <a:pt x="158" y="958"/>
                    </a:lnTo>
                    <a:lnTo>
                      <a:pt x="197" y="947"/>
                    </a:lnTo>
                    <a:lnTo>
                      <a:pt x="222" y="917"/>
                    </a:lnTo>
                    <a:lnTo>
                      <a:pt x="231" y="891"/>
                    </a:lnTo>
                    <a:lnTo>
                      <a:pt x="228" y="868"/>
                    </a:lnTo>
                    <a:lnTo>
                      <a:pt x="234" y="834"/>
                    </a:lnTo>
                    <a:lnTo>
                      <a:pt x="236" y="813"/>
                    </a:lnTo>
                    <a:lnTo>
                      <a:pt x="239" y="798"/>
                    </a:lnTo>
                    <a:lnTo>
                      <a:pt x="243" y="795"/>
                    </a:lnTo>
                    <a:lnTo>
                      <a:pt x="243" y="857"/>
                    </a:lnTo>
                    <a:lnTo>
                      <a:pt x="255" y="891"/>
                    </a:lnTo>
                    <a:lnTo>
                      <a:pt x="283" y="895"/>
                    </a:lnTo>
                    <a:lnTo>
                      <a:pt x="290" y="845"/>
                    </a:lnTo>
                    <a:lnTo>
                      <a:pt x="288" y="814"/>
                    </a:lnTo>
                    <a:lnTo>
                      <a:pt x="276" y="791"/>
                    </a:lnTo>
                    <a:lnTo>
                      <a:pt x="279" y="767"/>
                    </a:lnTo>
                    <a:lnTo>
                      <a:pt x="294" y="744"/>
                    </a:lnTo>
                    <a:lnTo>
                      <a:pt x="308" y="721"/>
                    </a:lnTo>
                    <a:lnTo>
                      <a:pt x="314" y="684"/>
                    </a:lnTo>
                    <a:lnTo>
                      <a:pt x="321" y="636"/>
                    </a:lnTo>
                    <a:lnTo>
                      <a:pt x="337" y="607"/>
                    </a:lnTo>
                    <a:lnTo>
                      <a:pt x="341" y="564"/>
                    </a:lnTo>
                    <a:lnTo>
                      <a:pt x="340" y="543"/>
                    </a:lnTo>
                    <a:lnTo>
                      <a:pt x="354" y="523"/>
                    </a:lnTo>
                    <a:lnTo>
                      <a:pt x="358" y="500"/>
                    </a:lnTo>
                    <a:lnTo>
                      <a:pt x="358" y="467"/>
                    </a:lnTo>
                    <a:lnTo>
                      <a:pt x="357" y="436"/>
                    </a:lnTo>
                    <a:lnTo>
                      <a:pt x="341" y="420"/>
                    </a:lnTo>
                    <a:lnTo>
                      <a:pt x="337" y="400"/>
                    </a:lnTo>
                    <a:lnTo>
                      <a:pt x="357" y="384"/>
                    </a:lnTo>
                    <a:lnTo>
                      <a:pt x="376" y="364"/>
                    </a:lnTo>
                    <a:lnTo>
                      <a:pt x="407" y="364"/>
                    </a:lnTo>
                    <a:lnTo>
                      <a:pt x="437" y="327"/>
                    </a:lnTo>
                    <a:lnTo>
                      <a:pt x="442" y="287"/>
                    </a:lnTo>
                    <a:lnTo>
                      <a:pt x="428" y="258"/>
                    </a:lnTo>
                    <a:lnTo>
                      <a:pt x="407" y="231"/>
                    </a:lnTo>
                    <a:lnTo>
                      <a:pt x="382" y="191"/>
                    </a:lnTo>
                    <a:lnTo>
                      <a:pt x="334" y="147"/>
                    </a:lnTo>
                    <a:lnTo>
                      <a:pt x="304" y="127"/>
                    </a:lnTo>
                    <a:lnTo>
                      <a:pt x="274" y="124"/>
                    </a:lnTo>
                    <a:lnTo>
                      <a:pt x="266" y="124"/>
                    </a:lnTo>
                    <a:lnTo>
                      <a:pt x="272" y="90"/>
                    </a:lnTo>
                    <a:lnTo>
                      <a:pt x="270" y="57"/>
                    </a:lnTo>
                    <a:lnTo>
                      <a:pt x="263" y="27"/>
                    </a:lnTo>
                    <a:lnTo>
                      <a:pt x="248" y="4"/>
                    </a:lnTo>
                    <a:lnTo>
                      <a:pt x="234" y="0"/>
                    </a:lnTo>
                    <a:lnTo>
                      <a:pt x="208" y="0"/>
                    </a:lnTo>
                    <a:lnTo>
                      <a:pt x="189" y="4"/>
                    </a:lnTo>
                    <a:lnTo>
                      <a:pt x="173" y="24"/>
                    </a:lnTo>
                    <a:lnTo>
                      <a:pt x="168" y="44"/>
                    </a:lnTo>
                    <a:lnTo>
                      <a:pt x="165" y="73"/>
                    </a:lnTo>
                    <a:lnTo>
                      <a:pt x="159" y="90"/>
                    </a:lnTo>
                    <a:lnTo>
                      <a:pt x="172" y="96"/>
                    </a:lnTo>
                    <a:lnTo>
                      <a:pt x="189" y="134"/>
                    </a:lnTo>
                    <a:lnTo>
                      <a:pt x="186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487760" y="5668920"/>
                <a:ext cx="157680" cy="346320"/>
              </a:xfrm>
              <a:custGeom>
                <a:avLst/>
                <a:gdLst/>
                <a:ahLst/>
                <a:rect l="0" t="0" r="r" b="b"/>
                <a:pathLst>
                  <a:path w="438" h="962">
                    <a:moveTo>
                      <a:pt x="184" y="141"/>
                    </a:moveTo>
                    <a:lnTo>
                      <a:pt x="163" y="151"/>
                    </a:lnTo>
                    <a:lnTo>
                      <a:pt x="142" y="174"/>
                    </a:lnTo>
                    <a:lnTo>
                      <a:pt x="112" y="197"/>
                    </a:lnTo>
                    <a:lnTo>
                      <a:pt x="98" y="255"/>
                    </a:lnTo>
                    <a:lnTo>
                      <a:pt x="80" y="327"/>
                    </a:lnTo>
                    <a:lnTo>
                      <a:pt x="75" y="358"/>
                    </a:lnTo>
                    <a:lnTo>
                      <a:pt x="80" y="395"/>
                    </a:lnTo>
                    <a:lnTo>
                      <a:pt x="69" y="395"/>
                    </a:lnTo>
                    <a:lnTo>
                      <a:pt x="77" y="424"/>
                    </a:lnTo>
                    <a:lnTo>
                      <a:pt x="0" y="472"/>
                    </a:lnTo>
                    <a:lnTo>
                      <a:pt x="11" y="503"/>
                    </a:lnTo>
                    <a:lnTo>
                      <a:pt x="94" y="457"/>
                    </a:lnTo>
                    <a:lnTo>
                      <a:pt x="102" y="465"/>
                    </a:lnTo>
                    <a:lnTo>
                      <a:pt x="120" y="529"/>
                    </a:lnTo>
                    <a:lnTo>
                      <a:pt x="145" y="549"/>
                    </a:lnTo>
                    <a:lnTo>
                      <a:pt x="135" y="573"/>
                    </a:lnTo>
                    <a:lnTo>
                      <a:pt x="135" y="603"/>
                    </a:lnTo>
                    <a:lnTo>
                      <a:pt x="158" y="646"/>
                    </a:lnTo>
                    <a:lnTo>
                      <a:pt x="158" y="672"/>
                    </a:lnTo>
                    <a:lnTo>
                      <a:pt x="148" y="726"/>
                    </a:lnTo>
                    <a:lnTo>
                      <a:pt x="148" y="771"/>
                    </a:lnTo>
                    <a:lnTo>
                      <a:pt x="158" y="797"/>
                    </a:lnTo>
                    <a:lnTo>
                      <a:pt x="173" y="824"/>
                    </a:lnTo>
                    <a:lnTo>
                      <a:pt x="177" y="860"/>
                    </a:lnTo>
                    <a:lnTo>
                      <a:pt x="174" y="889"/>
                    </a:lnTo>
                    <a:lnTo>
                      <a:pt x="162" y="916"/>
                    </a:lnTo>
                    <a:lnTo>
                      <a:pt x="138" y="939"/>
                    </a:lnTo>
                    <a:lnTo>
                      <a:pt x="156" y="962"/>
                    </a:lnTo>
                    <a:lnTo>
                      <a:pt x="195" y="950"/>
                    </a:lnTo>
                    <a:lnTo>
                      <a:pt x="220" y="921"/>
                    </a:lnTo>
                    <a:lnTo>
                      <a:pt x="229" y="894"/>
                    </a:lnTo>
                    <a:lnTo>
                      <a:pt x="226" y="871"/>
                    </a:lnTo>
                    <a:lnTo>
                      <a:pt x="231" y="837"/>
                    </a:lnTo>
                    <a:lnTo>
                      <a:pt x="234" y="815"/>
                    </a:lnTo>
                    <a:lnTo>
                      <a:pt x="237" y="801"/>
                    </a:lnTo>
                    <a:lnTo>
                      <a:pt x="241" y="797"/>
                    </a:lnTo>
                    <a:lnTo>
                      <a:pt x="241" y="860"/>
                    </a:lnTo>
                    <a:lnTo>
                      <a:pt x="252" y="894"/>
                    </a:lnTo>
                    <a:lnTo>
                      <a:pt x="280" y="898"/>
                    </a:lnTo>
                    <a:lnTo>
                      <a:pt x="287" y="848"/>
                    </a:lnTo>
                    <a:lnTo>
                      <a:pt x="286" y="817"/>
                    </a:lnTo>
                    <a:lnTo>
                      <a:pt x="273" y="794"/>
                    </a:lnTo>
                    <a:lnTo>
                      <a:pt x="276" y="769"/>
                    </a:lnTo>
                    <a:lnTo>
                      <a:pt x="291" y="746"/>
                    </a:lnTo>
                    <a:lnTo>
                      <a:pt x="305" y="723"/>
                    </a:lnTo>
                    <a:lnTo>
                      <a:pt x="311" y="687"/>
                    </a:lnTo>
                    <a:lnTo>
                      <a:pt x="317" y="639"/>
                    </a:lnTo>
                    <a:lnTo>
                      <a:pt x="334" y="610"/>
                    </a:lnTo>
                    <a:lnTo>
                      <a:pt x="338" y="567"/>
                    </a:lnTo>
                    <a:lnTo>
                      <a:pt x="337" y="545"/>
                    </a:lnTo>
                    <a:lnTo>
                      <a:pt x="350" y="526"/>
                    </a:lnTo>
                    <a:lnTo>
                      <a:pt x="355" y="503"/>
                    </a:lnTo>
                    <a:lnTo>
                      <a:pt x="355" y="469"/>
                    </a:lnTo>
                    <a:lnTo>
                      <a:pt x="353" y="437"/>
                    </a:lnTo>
                    <a:lnTo>
                      <a:pt x="338" y="421"/>
                    </a:lnTo>
                    <a:lnTo>
                      <a:pt x="334" y="401"/>
                    </a:lnTo>
                    <a:lnTo>
                      <a:pt x="353" y="385"/>
                    </a:lnTo>
                    <a:lnTo>
                      <a:pt x="373" y="365"/>
                    </a:lnTo>
                    <a:lnTo>
                      <a:pt x="403" y="365"/>
                    </a:lnTo>
                    <a:lnTo>
                      <a:pt x="433" y="327"/>
                    </a:lnTo>
                    <a:lnTo>
                      <a:pt x="438" y="288"/>
                    </a:lnTo>
                    <a:lnTo>
                      <a:pt x="424" y="258"/>
                    </a:lnTo>
                    <a:lnTo>
                      <a:pt x="403" y="232"/>
                    </a:lnTo>
                    <a:lnTo>
                      <a:pt x="378" y="192"/>
                    </a:lnTo>
                    <a:lnTo>
                      <a:pt x="331" y="148"/>
                    </a:lnTo>
                    <a:lnTo>
                      <a:pt x="301" y="128"/>
                    </a:lnTo>
                    <a:lnTo>
                      <a:pt x="272" y="125"/>
                    </a:lnTo>
                    <a:lnTo>
                      <a:pt x="263" y="125"/>
                    </a:lnTo>
                    <a:lnTo>
                      <a:pt x="269" y="90"/>
                    </a:lnTo>
                    <a:lnTo>
                      <a:pt x="267" y="57"/>
                    </a:lnTo>
                    <a:lnTo>
                      <a:pt x="260" y="27"/>
                    </a:lnTo>
                    <a:lnTo>
                      <a:pt x="245" y="4"/>
                    </a:lnTo>
                    <a:lnTo>
                      <a:pt x="231" y="0"/>
                    </a:lnTo>
                    <a:lnTo>
                      <a:pt x="206" y="0"/>
                    </a:lnTo>
                    <a:lnTo>
                      <a:pt x="187" y="4"/>
                    </a:lnTo>
                    <a:lnTo>
                      <a:pt x="172" y="24"/>
                    </a:lnTo>
                    <a:lnTo>
                      <a:pt x="166" y="44"/>
                    </a:lnTo>
                    <a:lnTo>
                      <a:pt x="163" y="74"/>
                    </a:lnTo>
                    <a:lnTo>
                      <a:pt x="158" y="90"/>
                    </a:lnTo>
                    <a:lnTo>
                      <a:pt x="170" y="97"/>
                    </a:lnTo>
                    <a:lnTo>
                      <a:pt x="187" y="134"/>
                    </a:lnTo>
                    <a:lnTo>
                      <a:pt x="184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638600" y="5680080"/>
                <a:ext cx="157680" cy="344880"/>
              </a:xfrm>
              <a:custGeom>
                <a:avLst/>
                <a:gdLst/>
                <a:ahLst/>
                <a:rect l="0" t="0" r="r" b="b"/>
                <a:pathLst>
                  <a:path w="438" h="958">
                    <a:moveTo>
                      <a:pt x="184" y="140"/>
                    </a:moveTo>
                    <a:lnTo>
                      <a:pt x="163" y="150"/>
                    </a:lnTo>
                    <a:lnTo>
                      <a:pt x="142" y="173"/>
                    </a:lnTo>
                    <a:lnTo>
                      <a:pt x="112" y="196"/>
                    </a:lnTo>
                    <a:lnTo>
                      <a:pt x="98" y="254"/>
                    </a:lnTo>
                    <a:lnTo>
                      <a:pt x="80" y="327"/>
                    </a:lnTo>
                    <a:lnTo>
                      <a:pt x="75" y="358"/>
                    </a:lnTo>
                    <a:lnTo>
                      <a:pt x="80" y="394"/>
                    </a:lnTo>
                    <a:lnTo>
                      <a:pt x="69" y="394"/>
                    </a:lnTo>
                    <a:lnTo>
                      <a:pt x="77" y="423"/>
                    </a:lnTo>
                    <a:lnTo>
                      <a:pt x="0" y="471"/>
                    </a:lnTo>
                    <a:lnTo>
                      <a:pt x="11" y="500"/>
                    </a:lnTo>
                    <a:lnTo>
                      <a:pt x="94" y="456"/>
                    </a:lnTo>
                    <a:lnTo>
                      <a:pt x="102" y="464"/>
                    </a:lnTo>
                    <a:lnTo>
                      <a:pt x="120" y="526"/>
                    </a:lnTo>
                    <a:lnTo>
                      <a:pt x="145" y="546"/>
                    </a:lnTo>
                    <a:lnTo>
                      <a:pt x="135" y="571"/>
                    </a:lnTo>
                    <a:lnTo>
                      <a:pt x="135" y="600"/>
                    </a:lnTo>
                    <a:lnTo>
                      <a:pt x="158" y="643"/>
                    </a:lnTo>
                    <a:lnTo>
                      <a:pt x="158" y="669"/>
                    </a:lnTo>
                    <a:lnTo>
                      <a:pt x="148" y="724"/>
                    </a:lnTo>
                    <a:lnTo>
                      <a:pt x="148" y="768"/>
                    </a:lnTo>
                    <a:lnTo>
                      <a:pt x="158" y="795"/>
                    </a:lnTo>
                    <a:lnTo>
                      <a:pt x="173" y="821"/>
                    </a:lnTo>
                    <a:lnTo>
                      <a:pt x="177" y="857"/>
                    </a:lnTo>
                    <a:lnTo>
                      <a:pt x="174" y="886"/>
                    </a:lnTo>
                    <a:lnTo>
                      <a:pt x="162" y="913"/>
                    </a:lnTo>
                    <a:lnTo>
                      <a:pt x="138" y="935"/>
                    </a:lnTo>
                    <a:lnTo>
                      <a:pt x="156" y="958"/>
                    </a:lnTo>
                    <a:lnTo>
                      <a:pt x="195" y="947"/>
                    </a:lnTo>
                    <a:lnTo>
                      <a:pt x="220" y="917"/>
                    </a:lnTo>
                    <a:lnTo>
                      <a:pt x="229" y="891"/>
                    </a:lnTo>
                    <a:lnTo>
                      <a:pt x="226" y="868"/>
                    </a:lnTo>
                    <a:lnTo>
                      <a:pt x="231" y="834"/>
                    </a:lnTo>
                    <a:lnTo>
                      <a:pt x="234" y="813"/>
                    </a:lnTo>
                    <a:lnTo>
                      <a:pt x="237" y="798"/>
                    </a:lnTo>
                    <a:lnTo>
                      <a:pt x="241" y="795"/>
                    </a:lnTo>
                    <a:lnTo>
                      <a:pt x="241" y="857"/>
                    </a:lnTo>
                    <a:lnTo>
                      <a:pt x="252" y="891"/>
                    </a:lnTo>
                    <a:lnTo>
                      <a:pt x="280" y="895"/>
                    </a:lnTo>
                    <a:lnTo>
                      <a:pt x="287" y="845"/>
                    </a:lnTo>
                    <a:lnTo>
                      <a:pt x="286" y="814"/>
                    </a:lnTo>
                    <a:lnTo>
                      <a:pt x="273" y="791"/>
                    </a:lnTo>
                    <a:lnTo>
                      <a:pt x="276" y="767"/>
                    </a:lnTo>
                    <a:lnTo>
                      <a:pt x="291" y="744"/>
                    </a:lnTo>
                    <a:lnTo>
                      <a:pt x="305" y="721"/>
                    </a:lnTo>
                    <a:lnTo>
                      <a:pt x="311" y="684"/>
                    </a:lnTo>
                    <a:lnTo>
                      <a:pt x="317" y="636"/>
                    </a:lnTo>
                    <a:lnTo>
                      <a:pt x="334" y="607"/>
                    </a:lnTo>
                    <a:lnTo>
                      <a:pt x="338" y="564"/>
                    </a:lnTo>
                    <a:lnTo>
                      <a:pt x="337" y="543"/>
                    </a:lnTo>
                    <a:lnTo>
                      <a:pt x="350" y="523"/>
                    </a:lnTo>
                    <a:lnTo>
                      <a:pt x="355" y="500"/>
                    </a:lnTo>
                    <a:lnTo>
                      <a:pt x="355" y="467"/>
                    </a:lnTo>
                    <a:lnTo>
                      <a:pt x="353" y="436"/>
                    </a:lnTo>
                    <a:lnTo>
                      <a:pt x="338" y="420"/>
                    </a:lnTo>
                    <a:lnTo>
                      <a:pt x="334" y="400"/>
                    </a:lnTo>
                    <a:lnTo>
                      <a:pt x="353" y="384"/>
                    </a:lnTo>
                    <a:lnTo>
                      <a:pt x="373" y="364"/>
                    </a:lnTo>
                    <a:lnTo>
                      <a:pt x="403" y="364"/>
                    </a:lnTo>
                    <a:lnTo>
                      <a:pt x="433" y="327"/>
                    </a:lnTo>
                    <a:lnTo>
                      <a:pt x="438" y="287"/>
                    </a:lnTo>
                    <a:lnTo>
                      <a:pt x="424" y="258"/>
                    </a:lnTo>
                    <a:lnTo>
                      <a:pt x="403" y="231"/>
                    </a:lnTo>
                    <a:lnTo>
                      <a:pt x="378" y="191"/>
                    </a:lnTo>
                    <a:lnTo>
                      <a:pt x="331" y="147"/>
                    </a:lnTo>
                    <a:lnTo>
                      <a:pt x="301" y="127"/>
                    </a:lnTo>
                    <a:lnTo>
                      <a:pt x="272" y="124"/>
                    </a:lnTo>
                    <a:lnTo>
                      <a:pt x="263" y="124"/>
                    </a:lnTo>
                    <a:lnTo>
                      <a:pt x="269" y="90"/>
                    </a:lnTo>
                    <a:lnTo>
                      <a:pt x="267" y="57"/>
                    </a:lnTo>
                    <a:lnTo>
                      <a:pt x="260" y="27"/>
                    </a:lnTo>
                    <a:lnTo>
                      <a:pt x="245" y="4"/>
                    </a:lnTo>
                    <a:lnTo>
                      <a:pt x="231" y="0"/>
                    </a:lnTo>
                    <a:lnTo>
                      <a:pt x="206" y="0"/>
                    </a:lnTo>
                    <a:lnTo>
                      <a:pt x="187" y="4"/>
                    </a:lnTo>
                    <a:lnTo>
                      <a:pt x="172" y="24"/>
                    </a:lnTo>
                    <a:lnTo>
                      <a:pt x="166" y="44"/>
                    </a:lnTo>
                    <a:lnTo>
                      <a:pt x="163" y="73"/>
                    </a:lnTo>
                    <a:lnTo>
                      <a:pt x="158" y="90"/>
                    </a:lnTo>
                    <a:lnTo>
                      <a:pt x="170" y="96"/>
                    </a:lnTo>
                    <a:lnTo>
                      <a:pt x="187" y="134"/>
                    </a:lnTo>
                    <a:lnTo>
                      <a:pt x="18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9" name=""/>
            <p:cNvGrpSpPr/>
            <p:nvPr/>
          </p:nvGrpSpPr>
          <p:grpSpPr>
            <a:xfrm>
              <a:off x="4381560" y="5784840"/>
              <a:ext cx="356040" cy="411480"/>
              <a:chOff x="4381560" y="5784840"/>
              <a:chExt cx="356040" cy="411480"/>
            </a:xfrm>
          </p:grpSpPr>
          <p:sp>
            <p:nvSpPr>
              <p:cNvPr id="4990" name=""/>
              <p:cNvSpPr/>
              <p:nvPr/>
            </p:nvSpPr>
            <p:spPr>
              <a:xfrm>
                <a:off x="4381560" y="5784840"/>
                <a:ext cx="157680" cy="344880"/>
              </a:xfrm>
              <a:custGeom>
                <a:avLst/>
                <a:gdLst/>
                <a:ahLst/>
                <a:rect l="0" t="0" r="r" b="b"/>
                <a:pathLst>
                  <a:path w="438" h="958">
                    <a:moveTo>
                      <a:pt x="184" y="140"/>
                    </a:moveTo>
                    <a:lnTo>
                      <a:pt x="163" y="150"/>
                    </a:lnTo>
                    <a:lnTo>
                      <a:pt x="142" y="173"/>
                    </a:lnTo>
                    <a:lnTo>
                      <a:pt x="112" y="196"/>
                    </a:lnTo>
                    <a:lnTo>
                      <a:pt x="98" y="254"/>
                    </a:lnTo>
                    <a:lnTo>
                      <a:pt x="80" y="327"/>
                    </a:lnTo>
                    <a:lnTo>
                      <a:pt x="75" y="358"/>
                    </a:lnTo>
                    <a:lnTo>
                      <a:pt x="80" y="394"/>
                    </a:lnTo>
                    <a:lnTo>
                      <a:pt x="69" y="394"/>
                    </a:lnTo>
                    <a:lnTo>
                      <a:pt x="77" y="423"/>
                    </a:lnTo>
                    <a:lnTo>
                      <a:pt x="0" y="471"/>
                    </a:lnTo>
                    <a:lnTo>
                      <a:pt x="11" y="500"/>
                    </a:lnTo>
                    <a:lnTo>
                      <a:pt x="94" y="456"/>
                    </a:lnTo>
                    <a:lnTo>
                      <a:pt x="102" y="464"/>
                    </a:lnTo>
                    <a:lnTo>
                      <a:pt x="120" y="526"/>
                    </a:lnTo>
                    <a:lnTo>
                      <a:pt x="145" y="546"/>
                    </a:lnTo>
                    <a:lnTo>
                      <a:pt x="135" y="571"/>
                    </a:lnTo>
                    <a:lnTo>
                      <a:pt x="135" y="600"/>
                    </a:lnTo>
                    <a:lnTo>
                      <a:pt x="158" y="643"/>
                    </a:lnTo>
                    <a:lnTo>
                      <a:pt x="158" y="669"/>
                    </a:lnTo>
                    <a:lnTo>
                      <a:pt x="148" y="724"/>
                    </a:lnTo>
                    <a:lnTo>
                      <a:pt x="148" y="768"/>
                    </a:lnTo>
                    <a:lnTo>
                      <a:pt x="158" y="795"/>
                    </a:lnTo>
                    <a:lnTo>
                      <a:pt x="173" y="821"/>
                    </a:lnTo>
                    <a:lnTo>
                      <a:pt x="177" y="857"/>
                    </a:lnTo>
                    <a:lnTo>
                      <a:pt x="174" y="886"/>
                    </a:lnTo>
                    <a:lnTo>
                      <a:pt x="162" y="913"/>
                    </a:lnTo>
                    <a:lnTo>
                      <a:pt x="138" y="935"/>
                    </a:lnTo>
                    <a:lnTo>
                      <a:pt x="156" y="958"/>
                    </a:lnTo>
                    <a:lnTo>
                      <a:pt x="195" y="947"/>
                    </a:lnTo>
                    <a:lnTo>
                      <a:pt x="220" y="917"/>
                    </a:lnTo>
                    <a:lnTo>
                      <a:pt x="229" y="891"/>
                    </a:lnTo>
                    <a:lnTo>
                      <a:pt x="226" y="868"/>
                    </a:lnTo>
                    <a:lnTo>
                      <a:pt x="231" y="834"/>
                    </a:lnTo>
                    <a:lnTo>
                      <a:pt x="234" y="813"/>
                    </a:lnTo>
                    <a:lnTo>
                      <a:pt x="237" y="798"/>
                    </a:lnTo>
                    <a:lnTo>
                      <a:pt x="241" y="795"/>
                    </a:lnTo>
                    <a:lnTo>
                      <a:pt x="241" y="857"/>
                    </a:lnTo>
                    <a:lnTo>
                      <a:pt x="252" y="891"/>
                    </a:lnTo>
                    <a:lnTo>
                      <a:pt x="280" y="895"/>
                    </a:lnTo>
                    <a:lnTo>
                      <a:pt x="287" y="845"/>
                    </a:lnTo>
                    <a:lnTo>
                      <a:pt x="286" y="814"/>
                    </a:lnTo>
                    <a:lnTo>
                      <a:pt x="273" y="791"/>
                    </a:lnTo>
                    <a:lnTo>
                      <a:pt x="276" y="767"/>
                    </a:lnTo>
                    <a:lnTo>
                      <a:pt x="291" y="744"/>
                    </a:lnTo>
                    <a:lnTo>
                      <a:pt x="305" y="721"/>
                    </a:lnTo>
                    <a:lnTo>
                      <a:pt x="311" y="684"/>
                    </a:lnTo>
                    <a:lnTo>
                      <a:pt x="317" y="636"/>
                    </a:lnTo>
                    <a:lnTo>
                      <a:pt x="334" y="607"/>
                    </a:lnTo>
                    <a:lnTo>
                      <a:pt x="338" y="564"/>
                    </a:lnTo>
                    <a:lnTo>
                      <a:pt x="337" y="543"/>
                    </a:lnTo>
                    <a:lnTo>
                      <a:pt x="350" y="523"/>
                    </a:lnTo>
                    <a:lnTo>
                      <a:pt x="355" y="500"/>
                    </a:lnTo>
                    <a:lnTo>
                      <a:pt x="355" y="467"/>
                    </a:lnTo>
                    <a:lnTo>
                      <a:pt x="353" y="436"/>
                    </a:lnTo>
                    <a:lnTo>
                      <a:pt x="338" y="420"/>
                    </a:lnTo>
                    <a:lnTo>
                      <a:pt x="334" y="400"/>
                    </a:lnTo>
                    <a:lnTo>
                      <a:pt x="353" y="384"/>
                    </a:lnTo>
                    <a:lnTo>
                      <a:pt x="373" y="364"/>
                    </a:lnTo>
                    <a:lnTo>
                      <a:pt x="403" y="364"/>
                    </a:lnTo>
                    <a:lnTo>
                      <a:pt x="433" y="327"/>
                    </a:lnTo>
                    <a:lnTo>
                      <a:pt x="438" y="287"/>
                    </a:lnTo>
                    <a:lnTo>
                      <a:pt x="424" y="258"/>
                    </a:lnTo>
                    <a:lnTo>
                      <a:pt x="403" y="231"/>
                    </a:lnTo>
                    <a:lnTo>
                      <a:pt x="378" y="191"/>
                    </a:lnTo>
                    <a:lnTo>
                      <a:pt x="331" y="147"/>
                    </a:lnTo>
                    <a:lnTo>
                      <a:pt x="301" y="127"/>
                    </a:lnTo>
                    <a:lnTo>
                      <a:pt x="272" y="124"/>
                    </a:lnTo>
                    <a:lnTo>
                      <a:pt x="263" y="124"/>
                    </a:lnTo>
                    <a:lnTo>
                      <a:pt x="269" y="90"/>
                    </a:lnTo>
                    <a:lnTo>
                      <a:pt x="267" y="57"/>
                    </a:lnTo>
                    <a:lnTo>
                      <a:pt x="260" y="27"/>
                    </a:lnTo>
                    <a:lnTo>
                      <a:pt x="245" y="4"/>
                    </a:lnTo>
                    <a:lnTo>
                      <a:pt x="231" y="0"/>
                    </a:lnTo>
                    <a:lnTo>
                      <a:pt x="206" y="0"/>
                    </a:lnTo>
                    <a:lnTo>
                      <a:pt x="187" y="4"/>
                    </a:lnTo>
                    <a:lnTo>
                      <a:pt x="172" y="24"/>
                    </a:lnTo>
                    <a:lnTo>
                      <a:pt x="166" y="44"/>
                    </a:lnTo>
                    <a:lnTo>
                      <a:pt x="163" y="73"/>
                    </a:lnTo>
                    <a:lnTo>
                      <a:pt x="158" y="90"/>
                    </a:lnTo>
                    <a:lnTo>
                      <a:pt x="170" y="96"/>
                    </a:lnTo>
                    <a:lnTo>
                      <a:pt x="187" y="134"/>
                    </a:lnTo>
                    <a:lnTo>
                      <a:pt x="18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429080" y="5842080"/>
                <a:ext cx="159120" cy="343440"/>
              </a:xfrm>
              <a:custGeom>
                <a:avLst/>
                <a:gdLst/>
                <a:ahLst/>
                <a:rect l="0" t="0" r="r" b="b"/>
                <a:pathLst>
                  <a:path w="442" h="954">
                    <a:moveTo>
                      <a:pt x="186" y="140"/>
                    </a:moveTo>
                    <a:lnTo>
                      <a:pt x="165" y="150"/>
                    </a:lnTo>
                    <a:lnTo>
                      <a:pt x="144" y="172"/>
                    </a:lnTo>
                    <a:lnTo>
                      <a:pt x="113" y="195"/>
                    </a:lnTo>
                    <a:lnTo>
                      <a:pt x="99" y="253"/>
                    </a:lnTo>
                    <a:lnTo>
                      <a:pt x="81" y="325"/>
                    </a:lnTo>
                    <a:lnTo>
                      <a:pt x="75" y="356"/>
                    </a:lnTo>
                    <a:lnTo>
                      <a:pt x="81" y="392"/>
                    </a:lnTo>
                    <a:lnTo>
                      <a:pt x="70" y="392"/>
                    </a:lnTo>
                    <a:lnTo>
                      <a:pt x="78" y="421"/>
                    </a:lnTo>
                    <a:lnTo>
                      <a:pt x="0" y="469"/>
                    </a:lnTo>
                    <a:lnTo>
                      <a:pt x="11" y="498"/>
                    </a:lnTo>
                    <a:lnTo>
                      <a:pt x="95" y="454"/>
                    </a:lnTo>
                    <a:lnTo>
                      <a:pt x="103" y="462"/>
                    </a:lnTo>
                    <a:lnTo>
                      <a:pt x="121" y="524"/>
                    </a:lnTo>
                    <a:lnTo>
                      <a:pt x="147" y="544"/>
                    </a:lnTo>
                    <a:lnTo>
                      <a:pt x="137" y="568"/>
                    </a:lnTo>
                    <a:lnTo>
                      <a:pt x="137" y="597"/>
                    </a:lnTo>
                    <a:lnTo>
                      <a:pt x="159" y="640"/>
                    </a:lnTo>
                    <a:lnTo>
                      <a:pt x="159" y="666"/>
                    </a:lnTo>
                    <a:lnTo>
                      <a:pt x="149" y="721"/>
                    </a:lnTo>
                    <a:lnTo>
                      <a:pt x="149" y="765"/>
                    </a:lnTo>
                    <a:lnTo>
                      <a:pt x="159" y="791"/>
                    </a:lnTo>
                    <a:lnTo>
                      <a:pt x="175" y="817"/>
                    </a:lnTo>
                    <a:lnTo>
                      <a:pt x="179" y="853"/>
                    </a:lnTo>
                    <a:lnTo>
                      <a:pt x="176" y="882"/>
                    </a:lnTo>
                    <a:lnTo>
                      <a:pt x="163" y="908"/>
                    </a:lnTo>
                    <a:lnTo>
                      <a:pt x="140" y="931"/>
                    </a:lnTo>
                    <a:lnTo>
                      <a:pt x="158" y="954"/>
                    </a:lnTo>
                    <a:lnTo>
                      <a:pt x="197" y="943"/>
                    </a:lnTo>
                    <a:lnTo>
                      <a:pt x="222" y="913"/>
                    </a:lnTo>
                    <a:lnTo>
                      <a:pt x="231" y="887"/>
                    </a:lnTo>
                    <a:lnTo>
                      <a:pt x="228" y="864"/>
                    </a:lnTo>
                    <a:lnTo>
                      <a:pt x="234" y="830"/>
                    </a:lnTo>
                    <a:lnTo>
                      <a:pt x="236" y="809"/>
                    </a:lnTo>
                    <a:lnTo>
                      <a:pt x="239" y="794"/>
                    </a:lnTo>
                    <a:lnTo>
                      <a:pt x="243" y="791"/>
                    </a:lnTo>
                    <a:lnTo>
                      <a:pt x="243" y="853"/>
                    </a:lnTo>
                    <a:lnTo>
                      <a:pt x="255" y="887"/>
                    </a:lnTo>
                    <a:lnTo>
                      <a:pt x="283" y="890"/>
                    </a:lnTo>
                    <a:lnTo>
                      <a:pt x="290" y="841"/>
                    </a:lnTo>
                    <a:lnTo>
                      <a:pt x="288" y="810"/>
                    </a:lnTo>
                    <a:lnTo>
                      <a:pt x="276" y="788"/>
                    </a:lnTo>
                    <a:lnTo>
                      <a:pt x="279" y="763"/>
                    </a:lnTo>
                    <a:lnTo>
                      <a:pt x="294" y="740"/>
                    </a:lnTo>
                    <a:lnTo>
                      <a:pt x="308" y="718"/>
                    </a:lnTo>
                    <a:lnTo>
                      <a:pt x="314" y="681"/>
                    </a:lnTo>
                    <a:lnTo>
                      <a:pt x="321" y="633"/>
                    </a:lnTo>
                    <a:lnTo>
                      <a:pt x="337" y="604"/>
                    </a:lnTo>
                    <a:lnTo>
                      <a:pt x="341" y="562"/>
                    </a:lnTo>
                    <a:lnTo>
                      <a:pt x="340" y="540"/>
                    </a:lnTo>
                    <a:lnTo>
                      <a:pt x="354" y="521"/>
                    </a:lnTo>
                    <a:lnTo>
                      <a:pt x="358" y="498"/>
                    </a:lnTo>
                    <a:lnTo>
                      <a:pt x="358" y="465"/>
                    </a:lnTo>
                    <a:lnTo>
                      <a:pt x="357" y="434"/>
                    </a:lnTo>
                    <a:lnTo>
                      <a:pt x="341" y="418"/>
                    </a:lnTo>
                    <a:lnTo>
                      <a:pt x="337" y="398"/>
                    </a:lnTo>
                    <a:lnTo>
                      <a:pt x="357" y="382"/>
                    </a:lnTo>
                    <a:lnTo>
                      <a:pt x="376" y="363"/>
                    </a:lnTo>
                    <a:lnTo>
                      <a:pt x="407" y="363"/>
                    </a:lnTo>
                    <a:lnTo>
                      <a:pt x="437" y="325"/>
                    </a:lnTo>
                    <a:lnTo>
                      <a:pt x="442" y="286"/>
                    </a:lnTo>
                    <a:lnTo>
                      <a:pt x="428" y="257"/>
                    </a:lnTo>
                    <a:lnTo>
                      <a:pt x="407" y="229"/>
                    </a:lnTo>
                    <a:lnTo>
                      <a:pt x="382" y="190"/>
                    </a:lnTo>
                    <a:lnTo>
                      <a:pt x="334" y="146"/>
                    </a:lnTo>
                    <a:lnTo>
                      <a:pt x="304" y="127"/>
                    </a:lnTo>
                    <a:lnTo>
                      <a:pt x="274" y="123"/>
                    </a:lnTo>
                    <a:lnTo>
                      <a:pt x="266" y="123"/>
                    </a:lnTo>
                    <a:lnTo>
                      <a:pt x="272" y="89"/>
                    </a:lnTo>
                    <a:lnTo>
                      <a:pt x="270" y="57"/>
                    </a:lnTo>
                    <a:lnTo>
                      <a:pt x="263" y="27"/>
                    </a:lnTo>
                    <a:lnTo>
                      <a:pt x="248" y="4"/>
                    </a:lnTo>
                    <a:lnTo>
                      <a:pt x="234" y="0"/>
                    </a:lnTo>
                    <a:lnTo>
                      <a:pt x="208" y="0"/>
                    </a:lnTo>
                    <a:lnTo>
                      <a:pt x="189" y="4"/>
                    </a:lnTo>
                    <a:lnTo>
                      <a:pt x="173" y="24"/>
                    </a:lnTo>
                    <a:lnTo>
                      <a:pt x="168" y="44"/>
                    </a:lnTo>
                    <a:lnTo>
                      <a:pt x="165" y="73"/>
                    </a:lnTo>
                    <a:lnTo>
                      <a:pt x="159" y="89"/>
                    </a:lnTo>
                    <a:lnTo>
                      <a:pt x="172" y="96"/>
                    </a:lnTo>
                    <a:lnTo>
                      <a:pt x="189" y="133"/>
                    </a:lnTo>
                    <a:lnTo>
                      <a:pt x="186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579920" y="5850000"/>
                <a:ext cx="157680" cy="346320"/>
              </a:xfrm>
              <a:custGeom>
                <a:avLst/>
                <a:gdLst/>
                <a:ahLst/>
                <a:rect l="0" t="0" r="r" b="b"/>
                <a:pathLst>
                  <a:path w="438" h="962">
                    <a:moveTo>
                      <a:pt x="184" y="141"/>
                    </a:moveTo>
                    <a:lnTo>
                      <a:pt x="163" y="151"/>
                    </a:lnTo>
                    <a:lnTo>
                      <a:pt x="142" y="174"/>
                    </a:lnTo>
                    <a:lnTo>
                      <a:pt x="112" y="197"/>
                    </a:lnTo>
                    <a:lnTo>
                      <a:pt x="98" y="255"/>
                    </a:lnTo>
                    <a:lnTo>
                      <a:pt x="80" y="327"/>
                    </a:lnTo>
                    <a:lnTo>
                      <a:pt x="75" y="358"/>
                    </a:lnTo>
                    <a:lnTo>
                      <a:pt x="80" y="395"/>
                    </a:lnTo>
                    <a:lnTo>
                      <a:pt x="69" y="395"/>
                    </a:lnTo>
                    <a:lnTo>
                      <a:pt x="77" y="424"/>
                    </a:lnTo>
                    <a:lnTo>
                      <a:pt x="0" y="472"/>
                    </a:lnTo>
                    <a:lnTo>
                      <a:pt x="11" y="503"/>
                    </a:lnTo>
                    <a:lnTo>
                      <a:pt x="94" y="457"/>
                    </a:lnTo>
                    <a:lnTo>
                      <a:pt x="102" y="465"/>
                    </a:lnTo>
                    <a:lnTo>
                      <a:pt x="120" y="529"/>
                    </a:lnTo>
                    <a:lnTo>
                      <a:pt x="145" y="549"/>
                    </a:lnTo>
                    <a:lnTo>
                      <a:pt x="135" y="573"/>
                    </a:lnTo>
                    <a:lnTo>
                      <a:pt x="135" y="603"/>
                    </a:lnTo>
                    <a:lnTo>
                      <a:pt x="158" y="646"/>
                    </a:lnTo>
                    <a:lnTo>
                      <a:pt x="158" y="672"/>
                    </a:lnTo>
                    <a:lnTo>
                      <a:pt x="148" y="726"/>
                    </a:lnTo>
                    <a:lnTo>
                      <a:pt x="148" y="771"/>
                    </a:lnTo>
                    <a:lnTo>
                      <a:pt x="158" y="797"/>
                    </a:lnTo>
                    <a:lnTo>
                      <a:pt x="173" y="824"/>
                    </a:lnTo>
                    <a:lnTo>
                      <a:pt x="177" y="860"/>
                    </a:lnTo>
                    <a:lnTo>
                      <a:pt x="174" y="889"/>
                    </a:lnTo>
                    <a:lnTo>
                      <a:pt x="162" y="916"/>
                    </a:lnTo>
                    <a:lnTo>
                      <a:pt x="138" y="939"/>
                    </a:lnTo>
                    <a:lnTo>
                      <a:pt x="156" y="962"/>
                    </a:lnTo>
                    <a:lnTo>
                      <a:pt x="195" y="950"/>
                    </a:lnTo>
                    <a:lnTo>
                      <a:pt x="220" y="921"/>
                    </a:lnTo>
                    <a:lnTo>
                      <a:pt x="229" y="894"/>
                    </a:lnTo>
                    <a:lnTo>
                      <a:pt x="226" y="871"/>
                    </a:lnTo>
                    <a:lnTo>
                      <a:pt x="231" y="837"/>
                    </a:lnTo>
                    <a:lnTo>
                      <a:pt x="234" y="815"/>
                    </a:lnTo>
                    <a:lnTo>
                      <a:pt x="237" y="801"/>
                    </a:lnTo>
                    <a:lnTo>
                      <a:pt x="241" y="797"/>
                    </a:lnTo>
                    <a:lnTo>
                      <a:pt x="241" y="860"/>
                    </a:lnTo>
                    <a:lnTo>
                      <a:pt x="252" y="894"/>
                    </a:lnTo>
                    <a:lnTo>
                      <a:pt x="280" y="898"/>
                    </a:lnTo>
                    <a:lnTo>
                      <a:pt x="287" y="848"/>
                    </a:lnTo>
                    <a:lnTo>
                      <a:pt x="286" y="817"/>
                    </a:lnTo>
                    <a:lnTo>
                      <a:pt x="273" y="794"/>
                    </a:lnTo>
                    <a:lnTo>
                      <a:pt x="276" y="769"/>
                    </a:lnTo>
                    <a:lnTo>
                      <a:pt x="291" y="746"/>
                    </a:lnTo>
                    <a:lnTo>
                      <a:pt x="305" y="723"/>
                    </a:lnTo>
                    <a:lnTo>
                      <a:pt x="311" y="687"/>
                    </a:lnTo>
                    <a:lnTo>
                      <a:pt x="317" y="639"/>
                    </a:lnTo>
                    <a:lnTo>
                      <a:pt x="334" y="610"/>
                    </a:lnTo>
                    <a:lnTo>
                      <a:pt x="338" y="567"/>
                    </a:lnTo>
                    <a:lnTo>
                      <a:pt x="337" y="545"/>
                    </a:lnTo>
                    <a:lnTo>
                      <a:pt x="350" y="526"/>
                    </a:lnTo>
                    <a:lnTo>
                      <a:pt x="355" y="503"/>
                    </a:lnTo>
                    <a:lnTo>
                      <a:pt x="355" y="469"/>
                    </a:lnTo>
                    <a:lnTo>
                      <a:pt x="353" y="437"/>
                    </a:lnTo>
                    <a:lnTo>
                      <a:pt x="338" y="421"/>
                    </a:lnTo>
                    <a:lnTo>
                      <a:pt x="334" y="401"/>
                    </a:lnTo>
                    <a:lnTo>
                      <a:pt x="353" y="385"/>
                    </a:lnTo>
                    <a:lnTo>
                      <a:pt x="373" y="365"/>
                    </a:lnTo>
                    <a:lnTo>
                      <a:pt x="403" y="365"/>
                    </a:lnTo>
                    <a:lnTo>
                      <a:pt x="433" y="327"/>
                    </a:lnTo>
                    <a:lnTo>
                      <a:pt x="438" y="288"/>
                    </a:lnTo>
                    <a:lnTo>
                      <a:pt x="424" y="258"/>
                    </a:lnTo>
                    <a:lnTo>
                      <a:pt x="403" y="232"/>
                    </a:lnTo>
                    <a:lnTo>
                      <a:pt x="378" y="192"/>
                    </a:lnTo>
                    <a:lnTo>
                      <a:pt x="331" y="148"/>
                    </a:lnTo>
                    <a:lnTo>
                      <a:pt x="301" y="128"/>
                    </a:lnTo>
                    <a:lnTo>
                      <a:pt x="272" y="125"/>
                    </a:lnTo>
                    <a:lnTo>
                      <a:pt x="263" y="125"/>
                    </a:lnTo>
                    <a:lnTo>
                      <a:pt x="269" y="90"/>
                    </a:lnTo>
                    <a:lnTo>
                      <a:pt x="267" y="57"/>
                    </a:lnTo>
                    <a:lnTo>
                      <a:pt x="260" y="27"/>
                    </a:lnTo>
                    <a:lnTo>
                      <a:pt x="245" y="4"/>
                    </a:lnTo>
                    <a:lnTo>
                      <a:pt x="231" y="0"/>
                    </a:lnTo>
                    <a:lnTo>
                      <a:pt x="206" y="0"/>
                    </a:lnTo>
                    <a:lnTo>
                      <a:pt x="187" y="4"/>
                    </a:lnTo>
                    <a:lnTo>
                      <a:pt x="172" y="24"/>
                    </a:lnTo>
                    <a:lnTo>
                      <a:pt x="166" y="44"/>
                    </a:lnTo>
                    <a:lnTo>
                      <a:pt x="163" y="74"/>
                    </a:lnTo>
                    <a:lnTo>
                      <a:pt x="158" y="90"/>
                    </a:lnTo>
                    <a:lnTo>
                      <a:pt x="170" y="97"/>
                    </a:lnTo>
                    <a:lnTo>
                      <a:pt x="187" y="134"/>
                    </a:lnTo>
                    <a:lnTo>
                      <a:pt x="184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93" name=""/>
          <p:cNvGrpSpPr/>
          <p:nvPr/>
        </p:nvGrpSpPr>
        <p:grpSpPr>
          <a:xfrm>
            <a:off x="5008680" y="5576760"/>
            <a:ext cx="973080" cy="543240"/>
            <a:chOff x="5008680" y="5576760"/>
            <a:chExt cx="973080" cy="543240"/>
          </a:xfrm>
        </p:grpSpPr>
        <p:pic>
          <p:nvPicPr>
            <p:cNvPr id="4994" name="" descr=""/>
            <p:cNvPicPr/>
            <p:nvPr/>
          </p:nvPicPr>
          <p:blipFill>
            <a:blip r:embed="rId10"/>
            <a:stretch/>
          </p:blipFill>
          <p:spPr>
            <a:xfrm>
              <a:off x="5008680" y="5576760"/>
              <a:ext cx="47628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5" name="" descr=""/>
            <p:cNvPicPr/>
            <p:nvPr/>
          </p:nvPicPr>
          <p:blipFill>
            <a:blip r:embed="rId11"/>
            <a:stretch/>
          </p:blipFill>
          <p:spPr>
            <a:xfrm>
              <a:off x="5229360" y="5667480"/>
              <a:ext cx="477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6" name="" descr=""/>
            <p:cNvPicPr/>
            <p:nvPr/>
          </p:nvPicPr>
          <p:blipFill>
            <a:blip r:embed="rId12"/>
            <a:stretch/>
          </p:blipFill>
          <p:spPr>
            <a:xfrm>
              <a:off x="5538960" y="5802480"/>
              <a:ext cx="44280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7" name=""/>
          <p:cNvGrpSpPr/>
          <p:nvPr/>
        </p:nvGrpSpPr>
        <p:grpSpPr>
          <a:xfrm>
            <a:off x="4714920" y="4270320"/>
            <a:ext cx="675000" cy="257400"/>
            <a:chOff x="4714920" y="4270320"/>
            <a:chExt cx="675000" cy="257400"/>
          </a:xfrm>
        </p:grpSpPr>
        <p:grpSp>
          <p:nvGrpSpPr>
            <p:cNvPr id="4998" name=""/>
            <p:cNvGrpSpPr/>
            <p:nvPr/>
          </p:nvGrpSpPr>
          <p:grpSpPr>
            <a:xfrm>
              <a:off x="5181480" y="4270320"/>
              <a:ext cx="136800" cy="126000"/>
              <a:chOff x="5181480" y="4270320"/>
              <a:chExt cx="136800" cy="126000"/>
            </a:xfrm>
          </p:grpSpPr>
          <p:grpSp>
            <p:nvGrpSpPr>
              <p:cNvPr id="4999" name=""/>
              <p:cNvGrpSpPr/>
              <p:nvPr/>
            </p:nvGrpSpPr>
            <p:grpSpPr>
              <a:xfrm>
                <a:off x="5181480" y="4343400"/>
                <a:ext cx="76680" cy="52920"/>
                <a:chOff x="5181480" y="4343400"/>
                <a:chExt cx="76680" cy="52920"/>
              </a:xfrm>
            </p:grpSpPr>
            <p:sp>
              <p:nvSpPr>
                <p:cNvPr id="5000" name=""/>
                <p:cNvSpPr/>
                <p:nvPr/>
              </p:nvSpPr>
              <p:spPr>
                <a:xfrm>
                  <a:off x="5181480" y="4343400"/>
                  <a:ext cx="76680" cy="52920"/>
                </a:xfrm>
                <a:custGeom>
                  <a:avLst/>
                  <a:gdLst/>
                  <a:ahLst/>
                  <a:rect l="0" t="0" r="r" b="b"/>
                  <a:pathLst>
                    <a:path w="213" h="147">
                      <a:moveTo>
                        <a:pt x="0" y="147"/>
                      </a:moveTo>
                      <a:lnTo>
                        <a:pt x="34" y="114"/>
                      </a:lnTo>
                      <a:lnTo>
                        <a:pt x="34" y="65"/>
                      </a:lnTo>
                      <a:lnTo>
                        <a:pt x="71" y="0"/>
                      </a:lnTo>
                      <a:lnTo>
                        <a:pt x="179" y="48"/>
                      </a:lnTo>
                      <a:lnTo>
                        <a:pt x="179" y="114"/>
                      </a:lnTo>
                      <a:lnTo>
                        <a:pt x="213" y="147"/>
                      </a:lnTo>
                      <a:lnTo>
                        <a:pt x="89" y="147"/>
                      </a:lnTo>
                      <a:lnTo>
                        <a:pt x="123" y="96"/>
                      </a:lnTo>
                      <a:lnTo>
                        <a:pt x="107" y="31"/>
                      </a:lnTo>
                      <a:lnTo>
                        <a:pt x="52" y="114"/>
                      </a:lnTo>
                      <a:lnTo>
                        <a:pt x="71" y="147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>
                  <a:off x="5210280" y="4349880"/>
                  <a:ext cx="3636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>
                  <a:off x="5187960" y="4384800"/>
                  <a:ext cx="1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>
                  <a:off x="5227560" y="4376880"/>
                  <a:ext cx="1908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"/>
                <p:cNvSpPr/>
                <p:nvPr/>
              </p:nvSpPr>
              <p:spPr>
                <a:xfrm>
                  <a:off x="5194440" y="4349880"/>
                  <a:ext cx="16200" cy="43200"/>
                </a:xfrm>
                <a:custGeom>
                  <a:avLst/>
                  <a:gdLst/>
                  <a:ahLst/>
                  <a:rect l="0" t="0" r="r" b="b"/>
                  <a:pathLst>
                    <a:path w="45" h="120">
                      <a:moveTo>
                        <a:pt x="45" y="0"/>
                      </a:moveTo>
                      <a:lnTo>
                        <a:pt x="0" y="89"/>
                      </a:lnTo>
                      <a:lnTo>
                        <a:pt x="0" y="12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5" name=""/>
                <p:cNvSpPr/>
                <p:nvPr/>
              </p:nvSpPr>
              <p:spPr>
                <a:xfrm>
                  <a:off x="5194440" y="4349880"/>
                  <a:ext cx="19440" cy="46440"/>
                </a:xfrm>
                <a:custGeom>
                  <a:avLst/>
                  <a:gdLst/>
                  <a:ahLst/>
                  <a:rect l="0" t="0" r="r" b="b"/>
                  <a:pathLst>
                    <a:path fill="none" w="54" h="129">
                      <a:moveTo>
                        <a:pt x="54" y="0"/>
                      </a:moveTo>
                      <a:lnTo>
                        <a:pt x="0" y="95"/>
                      </a:lnTo>
                      <a:lnTo>
                        <a:pt x="0" y="12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>
                  <a:off x="5234040" y="4362480"/>
                  <a:ext cx="0" cy="29880"/>
                </a:xfrm>
                <a:custGeom>
                  <a:avLst/>
                  <a:gdLst/>
                  <a:ahLst/>
                  <a:rect l="0" t="0" r="r" b="b"/>
                  <a:pathLst>
                    <a:path w="0" h="83">
                      <a:moveTo>
                        <a:pt x="0" y="0"/>
                      </a:moveTo>
                      <a:lnTo>
                        <a:pt x="0" y="55"/>
                      </a:lnTo>
                      <a:lnTo>
                        <a:pt x="0" y="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>
                  <a:off x="5234040" y="4362480"/>
                  <a:ext cx="0" cy="33120"/>
                </a:xfrm>
                <a:custGeom>
                  <a:avLst/>
                  <a:gdLst/>
                  <a:ahLst/>
                  <a:rect l="0" t="0" r="r" b="b"/>
                  <a:pathLst>
                    <a:path fill="none" w="0" h="92">
                      <a:moveTo>
                        <a:pt x="0" y="0"/>
                      </a:moveTo>
                      <a:lnTo>
                        <a:pt x="0" y="61"/>
                      </a:lnTo>
                      <a:lnTo>
                        <a:pt x="0" y="9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8" name=""/>
              <p:cNvGrpSpPr/>
              <p:nvPr/>
            </p:nvGrpSpPr>
            <p:grpSpPr>
              <a:xfrm>
                <a:off x="5181480" y="4270320"/>
                <a:ext cx="136800" cy="97200"/>
                <a:chOff x="5181480" y="4270320"/>
                <a:chExt cx="136800" cy="97200"/>
              </a:xfrm>
            </p:grpSpPr>
            <p:sp>
              <p:nvSpPr>
                <p:cNvPr id="5009" name=""/>
                <p:cNvSpPr/>
                <p:nvPr/>
              </p:nvSpPr>
              <p:spPr>
                <a:xfrm>
                  <a:off x="5181480" y="4270320"/>
                  <a:ext cx="136800" cy="97200"/>
                </a:xfrm>
                <a:custGeom>
                  <a:avLst/>
                  <a:gdLst/>
                  <a:ahLst/>
                  <a:rect l="0" t="0" r="r" b="b"/>
                  <a:pathLst>
                    <a:path w="380" h="270">
                      <a:moveTo>
                        <a:pt x="0" y="0"/>
                      </a:moveTo>
                      <a:lnTo>
                        <a:pt x="380" y="190"/>
                      </a:lnTo>
                      <a:lnTo>
                        <a:pt x="234" y="207"/>
                      </a:lnTo>
                      <a:lnTo>
                        <a:pt x="180" y="270"/>
                      </a:lnTo>
                      <a:lnTo>
                        <a:pt x="0" y="159"/>
                      </a:lnTo>
                      <a:lnTo>
                        <a:pt x="34" y="1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>
                  <a:off x="5194440" y="4309920"/>
                  <a:ext cx="7128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1" name=""/>
                <p:cNvSpPr/>
                <p:nvPr/>
              </p:nvSpPr>
              <p:spPr>
                <a:xfrm>
                  <a:off x="5246640" y="4299120"/>
                  <a:ext cx="7920" cy="7920"/>
                </a:xfrm>
                <a:prstGeom prst="round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>
                  <a:off x="5246640" y="429912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32" h="1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17" y="19"/>
                      </a:lnTo>
                      <a:lnTo>
                        <a:pt x="0" y="19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13" name=""/>
            <p:cNvGrpSpPr/>
            <p:nvPr/>
          </p:nvGrpSpPr>
          <p:grpSpPr>
            <a:xfrm>
              <a:off x="5000760" y="4354560"/>
              <a:ext cx="128880" cy="97200"/>
              <a:chOff x="5000760" y="4354560"/>
              <a:chExt cx="128880" cy="97200"/>
            </a:xfrm>
          </p:grpSpPr>
          <p:sp>
            <p:nvSpPr>
              <p:cNvPr id="5014" name=""/>
              <p:cNvSpPr/>
              <p:nvPr/>
            </p:nvSpPr>
            <p:spPr>
              <a:xfrm>
                <a:off x="5000760" y="4354560"/>
                <a:ext cx="128880" cy="97200"/>
              </a:xfrm>
              <a:custGeom>
                <a:avLst/>
                <a:gdLst/>
                <a:ahLst/>
                <a:rect l="0" t="0" r="r" b="b"/>
                <a:pathLst>
                  <a:path w="358" h="270">
                    <a:moveTo>
                      <a:pt x="358" y="112"/>
                    </a:moveTo>
                    <a:lnTo>
                      <a:pt x="358" y="48"/>
                    </a:lnTo>
                    <a:lnTo>
                      <a:pt x="178" y="48"/>
                    </a:lnTo>
                    <a:lnTo>
                      <a:pt x="178" y="0"/>
                    </a:lnTo>
                    <a:lnTo>
                      <a:pt x="0" y="0"/>
                    </a:lnTo>
                    <a:lnTo>
                      <a:pt x="0" y="270"/>
                    </a:lnTo>
                    <a:lnTo>
                      <a:pt x="214" y="270"/>
                    </a:lnTo>
                    <a:lnTo>
                      <a:pt x="358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15" name=""/>
              <p:cNvGrpSpPr/>
              <p:nvPr/>
            </p:nvGrpSpPr>
            <p:grpSpPr>
              <a:xfrm>
                <a:off x="5000760" y="4354560"/>
                <a:ext cx="128520" cy="97200"/>
                <a:chOff x="5000760" y="4354560"/>
                <a:chExt cx="128520" cy="97200"/>
              </a:xfrm>
            </p:grpSpPr>
            <p:sp>
              <p:nvSpPr>
                <p:cNvPr id="5016" name=""/>
                <p:cNvSpPr/>
                <p:nvPr/>
              </p:nvSpPr>
              <p:spPr>
                <a:xfrm>
                  <a:off x="5038560" y="444672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7" name=""/>
                <p:cNvSpPr/>
                <p:nvPr/>
              </p:nvSpPr>
              <p:spPr>
                <a:xfrm>
                  <a:off x="5006880" y="4446720"/>
                  <a:ext cx="65520" cy="1800"/>
                </a:xfrm>
                <a:custGeom>
                  <a:avLst/>
                  <a:gdLst/>
                  <a:ahLst/>
                  <a:rect l="0" t="0" r="r" b="b"/>
                  <a:pathLst>
                    <a:path w="182" h="5">
                      <a:moveTo>
                        <a:pt x="182" y="5"/>
                      </a:moveTo>
                      <a:lnTo>
                        <a:pt x="150" y="0"/>
                      </a:lnTo>
                      <a:lnTo>
                        <a:pt x="115" y="0"/>
                      </a:lnTo>
                      <a:lnTo>
                        <a:pt x="0" y="5"/>
                      </a:lnTo>
                      <a:lnTo>
                        <a:pt x="18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5006880" y="4446720"/>
                  <a:ext cx="716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4">
                      <a:moveTo>
                        <a:pt x="199" y="14"/>
                      </a:moveTo>
                      <a:lnTo>
                        <a:pt x="164" y="0"/>
                      </a:lnTo>
                      <a:lnTo>
                        <a:pt x="127" y="0"/>
                      </a:lnTo>
                      <a:lnTo>
                        <a:pt x="0" y="14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5045040" y="4446720"/>
                  <a:ext cx="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 flipH="1">
                  <a:off x="5006880" y="4435560"/>
                  <a:ext cx="8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5064120" y="4371840"/>
                  <a:ext cx="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5072040" y="4371840"/>
                  <a:ext cx="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5122800" y="4371840"/>
                  <a:ext cx="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>
                  <a:off x="5072040" y="4371840"/>
                  <a:ext cx="57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5" name=""/>
                <p:cNvSpPr/>
                <p:nvPr/>
              </p:nvSpPr>
              <p:spPr>
                <a:xfrm>
                  <a:off x="5064120" y="435456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6" name=""/>
                <p:cNvSpPr/>
                <p:nvPr/>
              </p:nvSpPr>
              <p:spPr>
                <a:xfrm>
                  <a:off x="5006880" y="4362480"/>
                  <a:ext cx="57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 flipH="1">
                  <a:off x="5000760" y="4367160"/>
                  <a:ext cx="63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 flipH="1">
                  <a:off x="5006880" y="4395960"/>
                  <a:ext cx="52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5030640" y="4435560"/>
                  <a:ext cx="49680" cy="8280"/>
                </a:xfrm>
                <a:custGeom>
                  <a:avLst/>
                  <a:gdLst/>
                  <a:ahLst/>
                  <a:rect l="0" t="0" r="r" b="b"/>
                  <a:pathLst>
                    <a:path w="138" h="2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138" y="23"/>
                      </a:lnTo>
                      <a:lnTo>
                        <a:pt x="13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5030640" y="4435560"/>
                  <a:ext cx="5436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151" h="32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51" y="32"/>
                      </a:lnTo>
                      <a:lnTo>
                        <a:pt x="151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5038560" y="444024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5006880" y="4424400"/>
                  <a:ext cx="52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5006880" y="4427640"/>
                  <a:ext cx="57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5072040" y="4435560"/>
                  <a:ext cx="1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5072040" y="4395960"/>
                  <a:ext cx="50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>
                  <a:off x="5072040" y="4400640"/>
                  <a:ext cx="31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"/>
                <p:cNvSpPr/>
                <p:nvPr/>
              </p:nvSpPr>
              <p:spPr>
                <a:xfrm>
                  <a:off x="5072040" y="4411800"/>
                  <a:ext cx="31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>
                  <a:off x="5072040" y="441180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9" name=""/>
            <p:cNvSpPr/>
            <p:nvPr/>
          </p:nvSpPr>
          <p:spPr>
            <a:xfrm>
              <a:off x="4921200" y="44053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0" y="45"/>
                  </a:moveTo>
                  <a:lnTo>
                    <a:pt x="15" y="30"/>
                  </a:lnTo>
                  <a:lnTo>
                    <a:pt x="15" y="45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32" y="5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4921200" y="4405320"/>
              <a:ext cx="25920" cy="22680"/>
            </a:xfrm>
            <a:custGeom>
              <a:avLst/>
              <a:gdLst/>
              <a:ahLst/>
              <a:rect l="0" t="0" r="r" b="b"/>
              <a:pathLst>
                <a:path fill="none" w="72" h="63">
                  <a:moveTo>
                    <a:pt x="0" y="49"/>
                  </a:moveTo>
                  <a:lnTo>
                    <a:pt x="19" y="32"/>
                  </a:lnTo>
                  <a:lnTo>
                    <a:pt x="19" y="49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37" y="6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4722840" y="4440240"/>
              <a:ext cx="133560" cy="35280"/>
            </a:xfrm>
            <a:custGeom>
              <a:avLst/>
              <a:gdLst/>
              <a:ahLst/>
              <a:rect l="0" t="0" r="r" b="b"/>
              <a:pathLst>
                <a:path w="371" h="98">
                  <a:moveTo>
                    <a:pt x="0" y="48"/>
                  </a:moveTo>
                  <a:lnTo>
                    <a:pt x="282" y="66"/>
                  </a:lnTo>
                  <a:lnTo>
                    <a:pt x="319" y="98"/>
                  </a:lnTo>
                  <a:lnTo>
                    <a:pt x="371" y="98"/>
                  </a:lnTo>
                  <a:lnTo>
                    <a:pt x="248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03720" y="4419720"/>
              <a:ext cx="143280" cy="55800"/>
            </a:xfrm>
            <a:custGeom>
              <a:avLst/>
              <a:gdLst/>
              <a:ahLst/>
              <a:rect l="0" t="0" r="r" b="b"/>
              <a:pathLst>
                <a:path w="398" h="155">
                  <a:moveTo>
                    <a:pt x="380" y="125"/>
                  </a:moveTo>
                  <a:lnTo>
                    <a:pt x="73" y="125"/>
                  </a:lnTo>
                  <a:lnTo>
                    <a:pt x="73" y="155"/>
                  </a:lnTo>
                  <a:lnTo>
                    <a:pt x="18" y="155"/>
                  </a:lnTo>
                  <a:lnTo>
                    <a:pt x="0" y="141"/>
                  </a:lnTo>
                  <a:lnTo>
                    <a:pt x="55" y="30"/>
                  </a:lnTo>
                  <a:lnTo>
                    <a:pt x="90" y="0"/>
                  </a:lnTo>
                  <a:lnTo>
                    <a:pt x="308" y="0"/>
                  </a:lnTo>
                  <a:lnTo>
                    <a:pt x="380" y="79"/>
                  </a:lnTo>
                  <a:lnTo>
                    <a:pt x="398" y="79"/>
                  </a:lnTo>
                  <a:lnTo>
                    <a:pt x="380" y="1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43" name="" descr=""/>
            <p:cNvPicPr/>
            <p:nvPr/>
          </p:nvPicPr>
          <p:blipFill>
            <a:blip r:embed="rId13"/>
            <a:stretch/>
          </p:blipFill>
          <p:spPr>
            <a:xfrm>
              <a:off x="4722840" y="4336920"/>
              <a:ext cx="531720" cy="1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4" name=""/>
            <p:cNvSpPr/>
            <p:nvPr/>
          </p:nvSpPr>
          <p:spPr>
            <a:xfrm>
              <a:off x="4722840" y="4336920"/>
              <a:ext cx="535320" cy="138600"/>
            </a:xfrm>
            <a:custGeom>
              <a:avLst/>
              <a:gdLst/>
              <a:ahLst/>
              <a:rect l="0" t="0" r="r" b="b"/>
              <a:pathLst>
                <a:path w="1487" h="385">
                  <a:moveTo>
                    <a:pt x="0" y="290"/>
                  </a:moveTo>
                  <a:lnTo>
                    <a:pt x="0" y="209"/>
                  </a:lnTo>
                  <a:lnTo>
                    <a:pt x="18" y="178"/>
                  </a:lnTo>
                  <a:lnTo>
                    <a:pt x="34" y="161"/>
                  </a:lnTo>
                  <a:lnTo>
                    <a:pt x="89" y="161"/>
                  </a:lnTo>
                  <a:lnTo>
                    <a:pt x="124" y="161"/>
                  </a:lnTo>
                  <a:lnTo>
                    <a:pt x="161" y="161"/>
                  </a:lnTo>
                  <a:lnTo>
                    <a:pt x="285" y="145"/>
                  </a:lnTo>
                  <a:lnTo>
                    <a:pt x="464" y="145"/>
                  </a:lnTo>
                  <a:lnTo>
                    <a:pt x="483" y="0"/>
                  </a:lnTo>
                  <a:lnTo>
                    <a:pt x="501" y="0"/>
                  </a:lnTo>
                  <a:lnTo>
                    <a:pt x="501" y="338"/>
                  </a:lnTo>
                  <a:lnTo>
                    <a:pt x="950" y="338"/>
                  </a:lnTo>
                  <a:lnTo>
                    <a:pt x="1003" y="307"/>
                  </a:lnTo>
                  <a:lnTo>
                    <a:pt x="1040" y="256"/>
                  </a:lnTo>
                  <a:lnTo>
                    <a:pt x="1056" y="192"/>
                  </a:lnTo>
                  <a:lnTo>
                    <a:pt x="1075" y="178"/>
                  </a:lnTo>
                  <a:lnTo>
                    <a:pt x="1487" y="178"/>
                  </a:lnTo>
                  <a:lnTo>
                    <a:pt x="1487" y="354"/>
                  </a:lnTo>
                  <a:lnTo>
                    <a:pt x="1452" y="354"/>
                  </a:lnTo>
                  <a:lnTo>
                    <a:pt x="1452" y="307"/>
                  </a:lnTo>
                  <a:lnTo>
                    <a:pt x="1415" y="307"/>
                  </a:lnTo>
                  <a:lnTo>
                    <a:pt x="1381" y="273"/>
                  </a:lnTo>
                  <a:lnTo>
                    <a:pt x="1344" y="242"/>
                  </a:lnTo>
                  <a:lnTo>
                    <a:pt x="1146" y="242"/>
                  </a:lnTo>
                  <a:lnTo>
                    <a:pt x="1093" y="273"/>
                  </a:lnTo>
                  <a:lnTo>
                    <a:pt x="1075" y="321"/>
                  </a:lnTo>
                  <a:lnTo>
                    <a:pt x="1040" y="354"/>
                  </a:lnTo>
                  <a:lnTo>
                    <a:pt x="1022" y="385"/>
                  </a:lnTo>
                  <a:lnTo>
                    <a:pt x="358" y="385"/>
                  </a:lnTo>
                  <a:lnTo>
                    <a:pt x="232" y="290"/>
                  </a:lnTo>
                  <a:lnTo>
                    <a:pt x="71" y="27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4903920" y="4336920"/>
              <a:ext cx="98280" cy="9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6" name="" descr=""/>
            <p:cNvPicPr/>
            <p:nvPr/>
          </p:nvPicPr>
          <p:blipFill>
            <a:blip r:embed="rId14"/>
            <a:stretch/>
          </p:blipFill>
          <p:spPr>
            <a:xfrm>
              <a:off x="4903920" y="4343400"/>
              <a:ext cx="201600" cy="1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7" name=""/>
            <p:cNvSpPr/>
            <p:nvPr/>
          </p:nvSpPr>
          <p:spPr>
            <a:xfrm>
              <a:off x="4903920" y="4343400"/>
              <a:ext cx="208440" cy="114840"/>
            </a:xfrm>
            <a:custGeom>
              <a:avLst/>
              <a:gdLst/>
              <a:ahLst/>
              <a:rect l="0" t="0" r="r" b="b"/>
              <a:pathLst>
                <a:path w="579" h="319">
                  <a:moveTo>
                    <a:pt x="579" y="160"/>
                  </a:moveTo>
                  <a:lnTo>
                    <a:pt x="561" y="160"/>
                  </a:lnTo>
                  <a:lnTo>
                    <a:pt x="544" y="160"/>
                  </a:lnTo>
                  <a:lnTo>
                    <a:pt x="544" y="207"/>
                  </a:lnTo>
                  <a:lnTo>
                    <a:pt x="489" y="303"/>
                  </a:lnTo>
                  <a:lnTo>
                    <a:pt x="290" y="303"/>
                  </a:lnTo>
                  <a:lnTo>
                    <a:pt x="290" y="0"/>
                  </a:lnTo>
                  <a:lnTo>
                    <a:pt x="253" y="0"/>
                  </a:lnTo>
                  <a:lnTo>
                    <a:pt x="253" y="160"/>
                  </a:lnTo>
                  <a:lnTo>
                    <a:pt x="235" y="160"/>
                  </a:lnTo>
                  <a:lnTo>
                    <a:pt x="216" y="238"/>
                  </a:lnTo>
                  <a:lnTo>
                    <a:pt x="253" y="303"/>
                  </a:lnTo>
                  <a:lnTo>
                    <a:pt x="0" y="303"/>
                  </a:lnTo>
                  <a:lnTo>
                    <a:pt x="0" y="319"/>
                  </a:lnTo>
                  <a:lnTo>
                    <a:pt x="454" y="319"/>
                  </a:lnTo>
                  <a:lnTo>
                    <a:pt x="507" y="288"/>
                  </a:lnTo>
                  <a:lnTo>
                    <a:pt x="544" y="238"/>
                  </a:lnTo>
                  <a:lnTo>
                    <a:pt x="561" y="175"/>
                  </a:lnTo>
                  <a:lnTo>
                    <a:pt x="579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4722840" y="4411800"/>
              <a:ext cx="133560" cy="63720"/>
            </a:xfrm>
            <a:custGeom>
              <a:avLst/>
              <a:gdLst/>
              <a:ahLst/>
              <a:rect l="0" t="0" r="r" b="b"/>
              <a:pathLst>
                <a:path fill="none" w="371" h="177">
                  <a:moveTo>
                    <a:pt x="0" y="64"/>
                  </a:moveTo>
                  <a:lnTo>
                    <a:pt x="18" y="64"/>
                  </a:lnTo>
                  <a:lnTo>
                    <a:pt x="34" y="3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248" y="0"/>
                  </a:lnTo>
                  <a:lnTo>
                    <a:pt x="282" y="16"/>
                  </a:lnTo>
                  <a:lnTo>
                    <a:pt x="300" y="47"/>
                  </a:lnTo>
                  <a:lnTo>
                    <a:pt x="371" y="1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4889520" y="438948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46640" y="444672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4838760" y="4389480"/>
              <a:ext cx="27000" cy="7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4903920" y="4400640"/>
              <a:ext cx="89280" cy="51120"/>
            </a:xfrm>
            <a:custGeom>
              <a:avLst/>
              <a:gdLst/>
              <a:ahLst/>
              <a:rect l="0" t="0" r="r" b="b"/>
              <a:pathLst>
                <a:path w="248" h="142">
                  <a:moveTo>
                    <a:pt x="248" y="0"/>
                  </a:moveTo>
                  <a:lnTo>
                    <a:pt x="212" y="78"/>
                  </a:lnTo>
                  <a:lnTo>
                    <a:pt x="89" y="78"/>
                  </a:lnTo>
                  <a:lnTo>
                    <a:pt x="52" y="47"/>
                  </a:lnTo>
                  <a:lnTo>
                    <a:pt x="52" y="30"/>
                  </a:lnTo>
                  <a:lnTo>
                    <a:pt x="0" y="30"/>
                  </a:lnTo>
                  <a:lnTo>
                    <a:pt x="0" y="142"/>
                  </a:lnTo>
                  <a:lnTo>
                    <a:pt x="248" y="142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4910040" y="4395960"/>
              <a:ext cx="22320" cy="6480"/>
            </a:xfrm>
            <a:prstGeom prst="round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4910040" y="43894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35" y="0"/>
                  </a:moveTo>
                  <a:lnTo>
                    <a:pt x="54" y="31"/>
                  </a:lnTo>
                  <a:lnTo>
                    <a:pt x="0" y="45"/>
                  </a:lnTo>
                  <a:lnTo>
                    <a:pt x="0" y="1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4903920" y="4389480"/>
              <a:ext cx="7920" cy="23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4921200" y="4376880"/>
              <a:ext cx="11160" cy="36360"/>
            </a:xfrm>
            <a:prstGeom prst="round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4916520" y="4376880"/>
              <a:ext cx="19440" cy="35280"/>
            </a:xfrm>
            <a:custGeom>
              <a:avLst/>
              <a:gdLst/>
              <a:ahLst/>
              <a:rect l="0" t="0" r="r" b="b"/>
              <a:pathLst>
                <a:path w="54" h="98">
                  <a:moveTo>
                    <a:pt x="17" y="0"/>
                  </a:moveTo>
                  <a:lnTo>
                    <a:pt x="54" y="81"/>
                  </a:lnTo>
                  <a:lnTo>
                    <a:pt x="54" y="98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4830840" y="4405320"/>
              <a:ext cx="59040" cy="22680"/>
            </a:xfrm>
            <a:custGeom>
              <a:avLst/>
              <a:gdLst/>
              <a:ahLst/>
              <a:rect l="0" t="0" r="r" b="b"/>
              <a:pathLst>
                <a:path fill="none" w="164" h="63">
                  <a:moveTo>
                    <a:pt x="0" y="63"/>
                  </a:moveTo>
                  <a:lnTo>
                    <a:pt x="55" y="63"/>
                  </a:lnTo>
                  <a:lnTo>
                    <a:pt x="129" y="0"/>
                  </a:lnTo>
                  <a:lnTo>
                    <a:pt x="16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4813200" y="4440240"/>
              <a:ext cx="33840" cy="18000"/>
            </a:xfrm>
            <a:custGeom>
              <a:avLst/>
              <a:gdLst/>
              <a:ahLst/>
              <a:rect l="0" t="0" r="r" b="b"/>
              <a:pathLst>
                <a:path fill="none" w="94" h="50">
                  <a:moveTo>
                    <a:pt x="94" y="50"/>
                  </a:moveTo>
                  <a:lnTo>
                    <a:pt x="75" y="1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4870440" y="438948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41" y="36"/>
                  </a:moveTo>
                  <a:lnTo>
                    <a:pt x="41" y="25"/>
                  </a:lnTo>
                  <a:lnTo>
                    <a:pt x="28" y="2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14" y="36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4870440" y="4389480"/>
              <a:ext cx="19440" cy="16200"/>
            </a:xfrm>
            <a:custGeom>
              <a:avLst/>
              <a:gdLst/>
              <a:ahLst/>
              <a:rect l="0" t="0" r="r" b="b"/>
              <a:pathLst>
                <a:path fill="none" w="54" h="45">
                  <a:moveTo>
                    <a:pt x="54" y="45"/>
                  </a:moveTo>
                  <a:lnTo>
                    <a:pt x="54" y="31"/>
                  </a:lnTo>
                  <a:lnTo>
                    <a:pt x="37" y="3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9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4722840" y="4395960"/>
              <a:ext cx="147960" cy="16200"/>
            </a:xfrm>
            <a:custGeom>
              <a:avLst/>
              <a:gdLst/>
              <a:ahLst/>
              <a:rect l="0" t="0" r="r" b="b"/>
              <a:pathLst>
                <a:path fill="none" w="411" h="45">
                  <a:moveTo>
                    <a:pt x="0" y="45"/>
                  </a:moveTo>
                  <a:lnTo>
                    <a:pt x="0" y="29"/>
                  </a:lnTo>
                  <a:lnTo>
                    <a:pt x="34" y="15"/>
                  </a:lnTo>
                  <a:lnTo>
                    <a:pt x="107" y="0"/>
                  </a:lnTo>
                  <a:lnTo>
                    <a:pt x="232" y="0"/>
                  </a:lnTo>
                  <a:lnTo>
                    <a:pt x="41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4916520" y="4376880"/>
              <a:ext cx="16200" cy="32040"/>
            </a:xfrm>
            <a:custGeom>
              <a:avLst/>
              <a:gdLst/>
              <a:ahLst/>
              <a:rect l="0" t="0" r="r" b="b"/>
              <a:pathLst>
                <a:path w="45" h="89">
                  <a:moveTo>
                    <a:pt x="0" y="0"/>
                  </a:moveTo>
                  <a:lnTo>
                    <a:pt x="0" y="45"/>
                  </a:lnTo>
                  <a:lnTo>
                    <a:pt x="13" y="60"/>
                  </a:lnTo>
                  <a:lnTo>
                    <a:pt x="45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4916520" y="4376880"/>
              <a:ext cx="19440" cy="35280"/>
            </a:xfrm>
            <a:custGeom>
              <a:avLst/>
              <a:gdLst/>
              <a:ahLst/>
              <a:rect l="0" t="0" r="r" b="b"/>
              <a:pathLst>
                <a:path fill="none" w="54" h="98">
                  <a:moveTo>
                    <a:pt x="0" y="0"/>
                  </a:moveTo>
                  <a:lnTo>
                    <a:pt x="0" y="50"/>
                  </a:lnTo>
                  <a:lnTo>
                    <a:pt x="17" y="66"/>
                  </a:lnTo>
                  <a:lnTo>
                    <a:pt x="54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4903920" y="4427640"/>
              <a:ext cx="76680" cy="24120"/>
            </a:xfrm>
            <a:custGeom>
              <a:avLst/>
              <a:gdLst/>
              <a:ahLst/>
              <a:rect l="0" t="0" r="r" b="b"/>
              <a:pathLst>
                <a:path fill="none" w="213" h="67">
                  <a:moveTo>
                    <a:pt x="89" y="0"/>
                  </a:moveTo>
                  <a:lnTo>
                    <a:pt x="0" y="0"/>
                  </a:lnTo>
                  <a:lnTo>
                    <a:pt x="18" y="52"/>
                  </a:lnTo>
                  <a:lnTo>
                    <a:pt x="89" y="52"/>
                  </a:lnTo>
                  <a:lnTo>
                    <a:pt x="197" y="67"/>
                  </a:lnTo>
                  <a:lnTo>
                    <a:pt x="21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935600" y="4446720"/>
              <a:ext cx="4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4903920" y="4395960"/>
              <a:ext cx="7920" cy="12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4903920" y="4435560"/>
              <a:ext cx="7920" cy="12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4903920" y="4389480"/>
              <a:ext cx="612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4722840" y="4395960"/>
              <a:ext cx="116280" cy="32040"/>
            </a:xfrm>
            <a:custGeom>
              <a:avLst/>
              <a:gdLst/>
              <a:ahLst/>
              <a:rect l="0" t="0" r="r" b="b"/>
              <a:pathLst>
                <a:path fill="none" w="323" h="89">
                  <a:moveTo>
                    <a:pt x="323" y="0"/>
                  </a:moveTo>
                  <a:lnTo>
                    <a:pt x="305" y="15"/>
                  </a:lnTo>
                  <a:lnTo>
                    <a:pt x="125" y="15"/>
                  </a:lnTo>
                  <a:lnTo>
                    <a:pt x="71" y="28"/>
                  </a:lnTo>
                  <a:lnTo>
                    <a:pt x="71" y="45"/>
                  </a:lnTo>
                  <a:lnTo>
                    <a:pt x="34" y="60"/>
                  </a:lnTo>
                  <a:lnTo>
                    <a:pt x="18" y="89"/>
                  </a:lnTo>
                  <a:lnTo>
                    <a:pt x="0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4838760" y="4400640"/>
              <a:ext cx="9360" cy="30240"/>
            </a:xfrm>
            <a:prstGeom prst="roundRect">
              <a:avLst/>
            </a:prstGeom>
            <a:solidFill>
              <a:srgbClr val="c08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4830840" y="4400640"/>
              <a:ext cx="19440" cy="27360"/>
            </a:xfrm>
            <a:custGeom>
              <a:avLst/>
              <a:gdLst/>
              <a:ahLst/>
              <a:rect l="0" t="0" r="r" b="b"/>
              <a:pathLst>
                <a:path w="54" h="76">
                  <a:moveTo>
                    <a:pt x="18" y="0"/>
                  </a:moveTo>
                  <a:lnTo>
                    <a:pt x="54" y="63"/>
                  </a:lnTo>
                  <a:lnTo>
                    <a:pt x="36" y="7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4830840" y="4400640"/>
              <a:ext cx="1584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4830840" y="4400640"/>
              <a:ext cx="158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4846680" y="44244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4849920" y="4424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 flipH="1" flipV="1">
              <a:off x="4838760" y="4400640"/>
              <a:ext cx="1116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 flipH="1" flipV="1">
              <a:off x="4838760" y="4400640"/>
              <a:ext cx="1116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4722840" y="4419720"/>
              <a:ext cx="64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727520" y="4411800"/>
              <a:ext cx="14400" cy="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4714920" y="4411800"/>
              <a:ext cx="8280" cy="16200"/>
            </a:xfrm>
            <a:custGeom>
              <a:avLst/>
              <a:gdLst/>
              <a:ahLst/>
              <a:rect l="0" t="0" r="r" b="b"/>
              <a:pathLst>
                <a:path fill="none" w="23" h="45">
                  <a:moveTo>
                    <a:pt x="23" y="0"/>
                  </a:moveTo>
                  <a:lnTo>
                    <a:pt x="0" y="31"/>
                  </a:lnTo>
                  <a:lnTo>
                    <a:pt x="23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2" name=""/>
            <p:cNvGrpSpPr/>
            <p:nvPr/>
          </p:nvGrpSpPr>
          <p:grpSpPr>
            <a:xfrm>
              <a:off x="4722840" y="4427640"/>
              <a:ext cx="111240" cy="100080"/>
              <a:chOff x="4722840" y="4427640"/>
              <a:chExt cx="111240" cy="100080"/>
            </a:xfrm>
          </p:grpSpPr>
          <p:sp>
            <p:nvSpPr>
              <p:cNvPr id="5083" name=""/>
              <p:cNvSpPr/>
              <p:nvPr/>
            </p:nvSpPr>
            <p:spPr>
              <a:xfrm>
                <a:off x="4722840" y="4427640"/>
                <a:ext cx="111240" cy="100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734000" y="4435560"/>
                <a:ext cx="93600" cy="82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4748040" y="4451400"/>
                <a:ext cx="58680" cy="540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4754520" y="4457880"/>
                <a:ext cx="46080" cy="4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4765680" y="4470480"/>
                <a:ext cx="28440" cy="223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4773600" y="4470480"/>
                <a:ext cx="1584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4773600" y="4470480"/>
                <a:ext cx="7920" cy="64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4780080" y="4470480"/>
                <a:ext cx="9360" cy="64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4786200" y="4475160"/>
                <a:ext cx="7920" cy="7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4780080" y="4479840"/>
                <a:ext cx="9360" cy="7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4773600" y="4486320"/>
                <a:ext cx="7920" cy="64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4765680" y="4479840"/>
                <a:ext cx="9360" cy="7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4765680" y="4475160"/>
                <a:ext cx="9360" cy="7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6" name=""/>
            <p:cNvSpPr/>
            <p:nvPr/>
          </p:nvSpPr>
          <p:spPr>
            <a:xfrm>
              <a:off x="5103720" y="4446720"/>
              <a:ext cx="143280" cy="16200"/>
            </a:xfrm>
            <a:custGeom>
              <a:avLst/>
              <a:gdLst/>
              <a:ahLst/>
              <a:rect l="0" t="0" r="r" b="b"/>
              <a:pathLst>
                <a:path fill="none" w="398" h="45">
                  <a:moveTo>
                    <a:pt x="398" y="13"/>
                  </a:moveTo>
                  <a:lnTo>
                    <a:pt x="362" y="0"/>
                  </a:lnTo>
                  <a:lnTo>
                    <a:pt x="308" y="0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7" name=""/>
            <p:cNvGrpSpPr/>
            <p:nvPr/>
          </p:nvGrpSpPr>
          <p:grpSpPr>
            <a:xfrm>
              <a:off x="5006880" y="4457880"/>
              <a:ext cx="46440" cy="68400"/>
              <a:chOff x="5006880" y="4457880"/>
              <a:chExt cx="46440" cy="68400"/>
            </a:xfrm>
          </p:grpSpPr>
          <p:sp>
            <p:nvSpPr>
              <p:cNvPr id="5098" name=""/>
              <p:cNvSpPr/>
              <p:nvPr/>
            </p:nvSpPr>
            <p:spPr>
              <a:xfrm>
                <a:off x="5006880" y="4479840"/>
                <a:ext cx="46440" cy="46440"/>
              </a:xfrm>
              <a:custGeom>
                <a:avLst/>
                <a:gdLst/>
                <a:ahLst/>
                <a:rect l="0" t="0" r="r" b="b"/>
                <a:pathLst>
                  <a:path w="129" h="129">
                    <a:moveTo>
                      <a:pt x="0" y="129"/>
                    </a:moveTo>
                    <a:lnTo>
                      <a:pt x="36" y="98"/>
                    </a:lnTo>
                    <a:lnTo>
                      <a:pt x="36" y="81"/>
                    </a:lnTo>
                    <a:lnTo>
                      <a:pt x="36" y="16"/>
                    </a:lnTo>
                    <a:lnTo>
                      <a:pt x="55" y="0"/>
                    </a:lnTo>
                    <a:lnTo>
                      <a:pt x="74" y="0"/>
                    </a:lnTo>
                    <a:lnTo>
                      <a:pt x="74" y="98"/>
                    </a:lnTo>
                    <a:lnTo>
                      <a:pt x="129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5013360" y="4462560"/>
                <a:ext cx="27000" cy="20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5019840" y="4457880"/>
                <a:ext cx="14400" cy="6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1" name=""/>
            <p:cNvSpPr/>
            <p:nvPr/>
          </p:nvSpPr>
          <p:spPr>
            <a:xfrm>
              <a:off x="4935600" y="4400640"/>
              <a:ext cx="57600" cy="39960"/>
            </a:xfrm>
            <a:custGeom>
              <a:avLst/>
              <a:gdLst/>
              <a:ahLst/>
              <a:rect l="0" t="0" r="r" b="b"/>
              <a:pathLst>
                <a:path fill="none" w="160" h="111">
                  <a:moveTo>
                    <a:pt x="160" y="0"/>
                  </a:moveTo>
                  <a:lnTo>
                    <a:pt x="142" y="0"/>
                  </a:lnTo>
                  <a:lnTo>
                    <a:pt x="124" y="78"/>
                  </a:lnTo>
                  <a:lnTo>
                    <a:pt x="124" y="111"/>
                  </a:lnTo>
                  <a:lnTo>
                    <a:pt x="71" y="94"/>
                  </a:lnTo>
                  <a:lnTo>
                    <a:pt x="18" y="78"/>
                  </a:lnTo>
                  <a:lnTo>
                    <a:pt x="0" y="94"/>
                  </a:lnTo>
                  <a:lnTo>
                    <a:pt x="0" y="1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2" name=""/>
            <p:cNvGrpSpPr/>
            <p:nvPr/>
          </p:nvGrpSpPr>
          <p:grpSpPr>
            <a:xfrm>
              <a:off x="5116680" y="4427640"/>
              <a:ext cx="112680" cy="100080"/>
              <a:chOff x="5116680" y="4427640"/>
              <a:chExt cx="112680" cy="100080"/>
            </a:xfrm>
          </p:grpSpPr>
          <p:sp>
            <p:nvSpPr>
              <p:cNvPr id="5103" name=""/>
              <p:cNvSpPr/>
              <p:nvPr/>
            </p:nvSpPr>
            <p:spPr>
              <a:xfrm>
                <a:off x="5116680" y="4427640"/>
                <a:ext cx="112680" cy="100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122800" y="4435560"/>
                <a:ext cx="92160" cy="82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5143320" y="4451400"/>
                <a:ext cx="60480" cy="540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5149800" y="4457880"/>
                <a:ext cx="47520" cy="4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5162400" y="4470480"/>
                <a:ext cx="27000" cy="223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162400" y="4470480"/>
                <a:ext cx="1584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168880" y="4470480"/>
                <a:ext cx="9360" cy="64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5175360" y="4470480"/>
                <a:ext cx="7920" cy="64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5181480" y="4475160"/>
                <a:ext cx="7920" cy="7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5175360" y="4479840"/>
                <a:ext cx="7920" cy="7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168880" y="4486320"/>
                <a:ext cx="9360" cy="64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162400" y="4479840"/>
                <a:ext cx="9360" cy="7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162400" y="4475160"/>
                <a:ext cx="9360" cy="7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6" name=""/>
            <p:cNvGrpSpPr/>
            <p:nvPr/>
          </p:nvGrpSpPr>
          <p:grpSpPr>
            <a:xfrm>
              <a:off x="5257800" y="4405320"/>
              <a:ext cx="132120" cy="120960"/>
              <a:chOff x="5257800" y="4405320"/>
              <a:chExt cx="132120" cy="120960"/>
            </a:xfrm>
          </p:grpSpPr>
          <p:grpSp>
            <p:nvGrpSpPr>
              <p:cNvPr id="5117" name=""/>
              <p:cNvGrpSpPr/>
              <p:nvPr/>
            </p:nvGrpSpPr>
            <p:grpSpPr>
              <a:xfrm>
                <a:off x="5257800" y="4446720"/>
                <a:ext cx="8280" cy="24120"/>
                <a:chOff x="5257800" y="4446720"/>
                <a:chExt cx="8280" cy="24120"/>
              </a:xfrm>
            </p:grpSpPr>
            <p:sp>
              <p:nvSpPr>
                <p:cNvPr id="5118" name=""/>
                <p:cNvSpPr/>
                <p:nvPr/>
              </p:nvSpPr>
              <p:spPr>
                <a:xfrm>
                  <a:off x="5257800" y="4446720"/>
                  <a:ext cx="8280" cy="24120"/>
                </a:xfrm>
                <a:custGeom>
                  <a:avLst/>
                  <a:gdLst/>
                  <a:ahLst/>
                  <a:rect l="0" t="0" r="r" b="b"/>
                  <a:pathLst>
                    <a:path w="23" h="67">
                      <a:moveTo>
                        <a:pt x="0" y="0"/>
                      </a:moveTo>
                      <a:lnTo>
                        <a:pt x="23" y="15"/>
                      </a:lnTo>
                      <a:lnTo>
                        <a:pt x="23" y="50"/>
                      </a:lnTo>
                      <a:lnTo>
                        <a:pt x="23" y="67"/>
                      </a:lnTo>
                      <a:lnTo>
                        <a:pt x="0" y="67"/>
                      </a:lnTo>
                      <a:lnTo>
                        <a:pt x="0" y="5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9" name=""/>
                <p:cNvSpPr/>
                <p:nvPr/>
              </p:nvSpPr>
              <p:spPr>
                <a:xfrm flipH="1">
                  <a:off x="5257800" y="445788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0" name=""/>
              <p:cNvSpPr/>
              <p:nvPr/>
            </p:nvSpPr>
            <p:spPr>
              <a:xfrm>
                <a:off x="5257800" y="4405320"/>
                <a:ext cx="105120" cy="98640"/>
              </a:xfrm>
              <a:custGeom>
                <a:avLst/>
                <a:gdLst/>
                <a:ahLst/>
                <a:rect l="0" t="0" r="r" b="b"/>
                <a:pathLst>
                  <a:path w="292" h="274">
                    <a:moveTo>
                      <a:pt x="18" y="0"/>
                    </a:moveTo>
                    <a:lnTo>
                      <a:pt x="74" y="0"/>
                    </a:lnTo>
                    <a:lnTo>
                      <a:pt x="166" y="128"/>
                    </a:lnTo>
                    <a:lnTo>
                      <a:pt x="201" y="128"/>
                    </a:lnTo>
                    <a:lnTo>
                      <a:pt x="201" y="178"/>
                    </a:lnTo>
                    <a:lnTo>
                      <a:pt x="219" y="210"/>
                    </a:lnTo>
                    <a:lnTo>
                      <a:pt x="238" y="210"/>
                    </a:lnTo>
                    <a:lnTo>
                      <a:pt x="238" y="193"/>
                    </a:lnTo>
                    <a:lnTo>
                      <a:pt x="292" y="193"/>
                    </a:lnTo>
                    <a:lnTo>
                      <a:pt x="292" y="210"/>
                    </a:lnTo>
                    <a:lnTo>
                      <a:pt x="273" y="210"/>
                    </a:lnTo>
                    <a:lnTo>
                      <a:pt x="292" y="210"/>
                    </a:lnTo>
                    <a:lnTo>
                      <a:pt x="292" y="274"/>
                    </a:lnTo>
                    <a:lnTo>
                      <a:pt x="201" y="274"/>
                    </a:lnTo>
                    <a:lnTo>
                      <a:pt x="201" y="257"/>
                    </a:lnTo>
                    <a:lnTo>
                      <a:pt x="74" y="145"/>
                    </a:lnTo>
                    <a:lnTo>
                      <a:pt x="74" y="162"/>
                    </a:lnTo>
                    <a:lnTo>
                      <a:pt x="18" y="162"/>
                    </a:lnTo>
                    <a:lnTo>
                      <a:pt x="18" y="128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55" y="33"/>
                    </a:lnTo>
                    <a:lnTo>
                      <a:pt x="55" y="49"/>
                    </a:lnTo>
                    <a:lnTo>
                      <a:pt x="55" y="80"/>
                    </a:lnTo>
                    <a:lnTo>
                      <a:pt x="147" y="162"/>
                    </a:lnTo>
                    <a:lnTo>
                      <a:pt x="55" y="49"/>
                    </a:lnTo>
                    <a:lnTo>
                      <a:pt x="55" y="33"/>
                    </a:lnTo>
                    <a:lnTo>
                      <a:pt x="37" y="33"/>
                    </a:lnTo>
                    <a:lnTo>
                      <a:pt x="0" y="3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5318280" y="4503600"/>
                <a:ext cx="71640" cy="22680"/>
              </a:xfrm>
              <a:custGeom>
                <a:avLst/>
                <a:gdLst/>
                <a:ahLst/>
                <a:rect l="0" t="0" r="r" b="b"/>
                <a:pathLst>
                  <a:path w="199" h="63">
                    <a:moveTo>
                      <a:pt x="108" y="0"/>
                    </a:moveTo>
                    <a:lnTo>
                      <a:pt x="108" y="15"/>
                    </a:lnTo>
                    <a:lnTo>
                      <a:pt x="199" y="63"/>
                    </a:lnTo>
                    <a:lnTo>
                      <a:pt x="0" y="63"/>
                    </a:lnTo>
                    <a:lnTo>
                      <a:pt x="88" y="15"/>
                    </a:lnTo>
                    <a:lnTo>
                      <a:pt x="8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 flipV="1">
                <a:off x="5330880" y="447984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 flipH="1">
                <a:off x="5330880" y="447984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257800" y="443556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25" name=""/>
          <p:cNvGrpSpPr/>
          <p:nvPr/>
        </p:nvGrpSpPr>
        <p:grpSpPr>
          <a:xfrm>
            <a:off x="5705640" y="3689280"/>
            <a:ext cx="592560" cy="457560"/>
            <a:chOff x="5705640" y="3689280"/>
            <a:chExt cx="592560" cy="457560"/>
          </a:xfrm>
        </p:grpSpPr>
        <p:sp>
          <p:nvSpPr>
            <p:cNvPr id="5126" name=""/>
            <p:cNvSpPr/>
            <p:nvPr/>
          </p:nvSpPr>
          <p:spPr>
            <a:xfrm>
              <a:off x="5705640" y="3689280"/>
              <a:ext cx="119160" cy="204840"/>
            </a:xfrm>
            <a:prstGeom prst="ellipse">
              <a:avLst/>
            </a:prstGeom>
            <a:gradFill rotWithShape="0">
              <a:gsLst>
                <a:gs pos="0">
                  <a:srgbClr val="394c4a"/>
                </a:gs>
                <a:gs pos="100000">
                  <a:srgbClr val="c0fef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5981760" y="393552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0" y="0"/>
                  </a:moveTo>
                  <a:lnTo>
                    <a:pt x="0" y="20"/>
                  </a:lnTo>
                  <a:lnTo>
                    <a:pt x="14" y="38"/>
                  </a:lnTo>
                  <a:lnTo>
                    <a:pt x="9" y="39"/>
                  </a:lnTo>
                  <a:lnTo>
                    <a:pt x="135" y="58"/>
                  </a:lnTo>
                  <a:lnTo>
                    <a:pt x="147" y="46"/>
                  </a:lnTo>
                  <a:lnTo>
                    <a:pt x="155" y="2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981760" y="3894120"/>
              <a:ext cx="70200" cy="51120"/>
            </a:xfrm>
            <a:custGeom>
              <a:avLst/>
              <a:gdLst/>
              <a:ahLst/>
              <a:rect l="0" t="0" r="r" b="b"/>
              <a:pathLst>
                <a:path w="195" h="142">
                  <a:moveTo>
                    <a:pt x="159" y="142"/>
                  </a:moveTo>
                  <a:lnTo>
                    <a:pt x="0" y="112"/>
                  </a:lnTo>
                  <a:lnTo>
                    <a:pt x="35" y="0"/>
                  </a:lnTo>
                  <a:lnTo>
                    <a:pt x="195" y="39"/>
                  </a:lnTo>
                  <a:lnTo>
                    <a:pt x="159" y="14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919191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994360" y="3924360"/>
              <a:ext cx="7920" cy="64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6005520" y="3925800"/>
              <a:ext cx="11160" cy="64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6019920" y="3929040"/>
              <a:ext cx="6480" cy="64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6031080" y="3932280"/>
              <a:ext cx="9360" cy="64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999040" y="3903840"/>
              <a:ext cx="43200" cy="22680"/>
            </a:xfrm>
            <a:custGeom>
              <a:avLst/>
              <a:gdLst/>
              <a:ahLst/>
              <a:rect l="0" t="0" r="r" b="b"/>
              <a:pathLst>
                <a:path w="120" h="63">
                  <a:moveTo>
                    <a:pt x="11" y="0"/>
                  </a:moveTo>
                  <a:lnTo>
                    <a:pt x="120" y="26"/>
                  </a:lnTo>
                  <a:lnTo>
                    <a:pt x="110" y="63"/>
                  </a:lnTo>
                  <a:lnTo>
                    <a:pt x="0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6037200" y="3774960"/>
              <a:ext cx="230400" cy="281520"/>
            </a:xfrm>
            <a:custGeom>
              <a:avLst/>
              <a:gdLst/>
              <a:ahLst/>
              <a:rect l="0" t="0" r="r" b="b"/>
              <a:pathLst>
                <a:path w="640" h="782">
                  <a:moveTo>
                    <a:pt x="243" y="35"/>
                  </a:moveTo>
                  <a:lnTo>
                    <a:pt x="201" y="130"/>
                  </a:lnTo>
                  <a:lnTo>
                    <a:pt x="213" y="163"/>
                  </a:lnTo>
                  <a:lnTo>
                    <a:pt x="179" y="238"/>
                  </a:lnTo>
                  <a:lnTo>
                    <a:pt x="179" y="258"/>
                  </a:lnTo>
                  <a:lnTo>
                    <a:pt x="185" y="276"/>
                  </a:lnTo>
                  <a:lnTo>
                    <a:pt x="182" y="288"/>
                  </a:lnTo>
                  <a:lnTo>
                    <a:pt x="150" y="307"/>
                  </a:lnTo>
                  <a:lnTo>
                    <a:pt x="150" y="322"/>
                  </a:lnTo>
                  <a:lnTo>
                    <a:pt x="132" y="319"/>
                  </a:lnTo>
                  <a:lnTo>
                    <a:pt x="60" y="368"/>
                  </a:lnTo>
                  <a:lnTo>
                    <a:pt x="60" y="403"/>
                  </a:lnTo>
                  <a:lnTo>
                    <a:pt x="79" y="429"/>
                  </a:lnTo>
                  <a:lnTo>
                    <a:pt x="54" y="485"/>
                  </a:lnTo>
                  <a:lnTo>
                    <a:pt x="0" y="553"/>
                  </a:lnTo>
                  <a:lnTo>
                    <a:pt x="0" y="576"/>
                  </a:lnTo>
                  <a:lnTo>
                    <a:pt x="63" y="767"/>
                  </a:lnTo>
                  <a:lnTo>
                    <a:pt x="165" y="782"/>
                  </a:lnTo>
                  <a:lnTo>
                    <a:pt x="397" y="733"/>
                  </a:lnTo>
                  <a:lnTo>
                    <a:pt x="574" y="738"/>
                  </a:lnTo>
                  <a:lnTo>
                    <a:pt x="632" y="503"/>
                  </a:lnTo>
                  <a:lnTo>
                    <a:pt x="640" y="437"/>
                  </a:lnTo>
                  <a:lnTo>
                    <a:pt x="614" y="330"/>
                  </a:lnTo>
                  <a:lnTo>
                    <a:pt x="554" y="206"/>
                  </a:lnTo>
                  <a:lnTo>
                    <a:pt x="465" y="73"/>
                  </a:lnTo>
                  <a:lnTo>
                    <a:pt x="424" y="39"/>
                  </a:lnTo>
                  <a:lnTo>
                    <a:pt x="344" y="0"/>
                  </a:lnTo>
                  <a:lnTo>
                    <a:pt x="329" y="0"/>
                  </a:lnTo>
                  <a:lnTo>
                    <a:pt x="299" y="17"/>
                  </a:lnTo>
                  <a:lnTo>
                    <a:pt x="272" y="23"/>
                  </a:lnTo>
                  <a:lnTo>
                    <a:pt x="243" y="35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6041880" y="3701880"/>
              <a:ext cx="105120" cy="71640"/>
            </a:xfrm>
            <a:custGeom>
              <a:avLst/>
              <a:gdLst/>
              <a:ahLst/>
              <a:rect l="0" t="0" r="r" b="b"/>
              <a:pathLst>
                <a:path w="292" h="199">
                  <a:moveTo>
                    <a:pt x="0" y="173"/>
                  </a:moveTo>
                  <a:lnTo>
                    <a:pt x="3" y="177"/>
                  </a:lnTo>
                  <a:lnTo>
                    <a:pt x="17" y="182"/>
                  </a:lnTo>
                  <a:lnTo>
                    <a:pt x="56" y="192"/>
                  </a:lnTo>
                  <a:lnTo>
                    <a:pt x="110" y="198"/>
                  </a:lnTo>
                  <a:lnTo>
                    <a:pt x="186" y="199"/>
                  </a:lnTo>
                  <a:lnTo>
                    <a:pt x="266" y="195"/>
                  </a:lnTo>
                  <a:lnTo>
                    <a:pt x="292" y="182"/>
                  </a:lnTo>
                  <a:lnTo>
                    <a:pt x="276" y="84"/>
                  </a:lnTo>
                  <a:lnTo>
                    <a:pt x="231" y="25"/>
                  </a:lnTo>
                  <a:lnTo>
                    <a:pt x="154" y="0"/>
                  </a:lnTo>
                  <a:lnTo>
                    <a:pt x="109" y="5"/>
                  </a:lnTo>
                  <a:lnTo>
                    <a:pt x="69" y="21"/>
                  </a:lnTo>
                  <a:lnTo>
                    <a:pt x="49" y="40"/>
                  </a:lnTo>
                  <a:lnTo>
                    <a:pt x="33" y="57"/>
                  </a:lnTo>
                  <a:lnTo>
                    <a:pt x="20" y="78"/>
                  </a:lnTo>
                  <a:lnTo>
                    <a:pt x="11" y="106"/>
                  </a:lnTo>
                  <a:lnTo>
                    <a:pt x="6" y="128"/>
                  </a:lnTo>
                  <a:lnTo>
                    <a:pt x="2" y="152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6253200" y="4032360"/>
              <a:ext cx="27360" cy="49680"/>
            </a:xfrm>
            <a:custGeom>
              <a:avLst/>
              <a:gdLst/>
              <a:ahLst/>
              <a:rect l="0" t="0" r="r" b="b"/>
              <a:pathLst>
                <a:path w="76" h="138">
                  <a:moveTo>
                    <a:pt x="12" y="0"/>
                  </a:moveTo>
                  <a:lnTo>
                    <a:pt x="26" y="19"/>
                  </a:lnTo>
                  <a:lnTo>
                    <a:pt x="34" y="30"/>
                  </a:lnTo>
                  <a:lnTo>
                    <a:pt x="66" y="63"/>
                  </a:lnTo>
                  <a:lnTo>
                    <a:pt x="76" y="91"/>
                  </a:lnTo>
                  <a:lnTo>
                    <a:pt x="61" y="138"/>
                  </a:lnTo>
                  <a:lnTo>
                    <a:pt x="48" y="138"/>
                  </a:lnTo>
                  <a:lnTo>
                    <a:pt x="26" y="109"/>
                  </a:lnTo>
                  <a:lnTo>
                    <a:pt x="14" y="51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235b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6031080" y="4070520"/>
              <a:ext cx="105120" cy="71640"/>
            </a:xfrm>
            <a:custGeom>
              <a:avLst/>
              <a:gdLst/>
              <a:ahLst/>
              <a:rect l="0" t="0" r="r" b="b"/>
              <a:pathLst>
                <a:path w="292" h="199">
                  <a:moveTo>
                    <a:pt x="287" y="39"/>
                  </a:moveTo>
                  <a:lnTo>
                    <a:pt x="283" y="32"/>
                  </a:lnTo>
                  <a:lnTo>
                    <a:pt x="272" y="20"/>
                  </a:lnTo>
                  <a:lnTo>
                    <a:pt x="264" y="0"/>
                  </a:lnTo>
                  <a:lnTo>
                    <a:pt x="128" y="10"/>
                  </a:lnTo>
                  <a:lnTo>
                    <a:pt x="117" y="70"/>
                  </a:lnTo>
                  <a:lnTo>
                    <a:pt x="79" y="94"/>
                  </a:lnTo>
                  <a:lnTo>
                    <a:pt x="21" y="114"/>
                  </a:lnTo>
                  <a:lnTo>
                    <a:pt x="0" y="145"/>
                  </a:lnTo>
                  <a:lnTo>
                    <a:pt x="3" y="186"/>
                  </a:lnTo>
                  <a:lnTo>
                    <a:pt x="54" y="199"/>
                  </a:lnTo>
                  <a:lnTo>
                    <a:pt x="109" y="196"/>
                  </a:lnTo>
                  <a:lnTo>
                    <a:pt x="211" y="163"/>
                  </a:lnTo>
                  <a:lnTo>
                    <a:pt x="219" y="176"/>
                  </a:lnTo>
                  <a:lnTo>
                    <a:pt x="228" y="189"/>
                  </a:lnTo>
                  <a:lnTo>
                    <a:pt x="277" y="144"/>
                  </a:lnTo>
                  <a:lnTo>
                    <a:pt x="292" y="53"/>
                  </a:lnTo>
                  <a:lnTo>
                    <a:pt x="287" y="39"/>
                  </a:lnTo>
                  <a:close/>
                </a:path>
              </a:pathLst>
            </a:custGeom>
            <a:solidFill>
              <a:srgbClr val="00235b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6070680" y="3770280"/>
              <a:ext cx="68760" cy="39960"/>
            </a:xfrm>
            <a:custGeom>
              <a:avLst/>
              <a:gdLst/>
              <a:ahLst/>
              <a:rect l="0" t="0" r="r" b="b"/>
              <a:pathLst>
                <a:path w="191" h="111">
                  <a:moveTo>
                    <a:pt x="118" y="111"/>
                  </a:moveTo>
                  <a:lnTo>
                    <a:pt x="101" y="100"/>
                  </a:lnTo>
                  <a:lnTo>
                    <a:pt x="81" y="100"/>
                  </a:lnTo>
                  <a:lnTo>
                    <a:pt x="56" y="106"/>
                  </a:lnTo>
                  <a:lnTo>
                    <a:pt x="20" y="75"/>
                  </a:lnTo>
                  <a:lnTo>
                    <a:pt x="0" y="0"/>
                  </a:lnTo>
                  <a:lnTo>
                    <a:pt x="51" y="3"/>
                  </a:lnTo>
                  <a:lnTo>
                    <a:pt x="101" y="4"/>
                  </a:lnTo>
                  <a:lnTo>
                    <a:pt x="159" y="5"/>
                  </a:lnTo>
                  <a:lnTo>
                    <a:pt x="181" y="3"/>
                  </a:lnTo>
                  <a:lnTo>
                    <a:pt x="191" y="33"/>
                  </a:lnTo>
                  <a:lnTo>
                    <a:pt x="152" y="47"/>
                  </a:lnTo>
                  <a:lnTo>
                    <a:pt x="140" y="82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6026040" y="3913200"/>
              <a:ext cx="35280" cy="30600"/>
            </a:xfrm>
            <a:custGeom>
              <a:avLst/>
              <a:gdLst/>
              <a:ahLst/>
              <a:rect l="0" t="0" r="r" b="b"/>
              <a:pathLst>
                <a:path w="98" h="85">
                  <a:moveTo>
                    <a:pt x="51" y="82"/>
                  </a:moveTo>
                  <a:lnTo>
                    <a:pt x="81" y="61"/>
                  </a:lnTo>
                  <a:lnTo>
                    <a:pt x="98" y="34"/>
                  </a:lnTo>
                  <a:lnTo>
                    <a:pt x="84" y="0"/>
                  </a:lnTo>
                  <a:lnTo>
                    <a:pt x="32" y="33"/>
                  </a:lnTo>
                  <a:lnTo>
                    <a:pt x="0" y="53"/>
                  </a:lnTo>
                  <a:lnTo>
                    <a:pt x="32" y="54"/>
                  </a:lnTo>
                  <a:lnTo>
                    <a:pt x="6" y="68"/>
                  </a:lnTo>
                  <a:lnTo>
                    <a:pt x="13" y="73"/>
                  </a:lnTo>
                  <a:lnTo>
                    <a:pt x="48" y="70"/>
                  </a:lnTo>
                  <a:lnTo>
                    <a:pt x="26" y="85"/>
                  </a:lnTo>
                  <a:lnTo>
                    <a:pt x="51" y="82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6207120" y="3946680"/>
              <a:ext cx="62280" cy="89280"/>
            </a:xfrm>
            <a:custGeom>
              <a:avLst/>
              <a:gdLst/>
              <a:ahLst/>
              <a:rect l="0" t="0" r="r" b="b"/>
              <a:pathLst>
                <a:path w="173" h="248">
                  <a:moveTo>
                    <a:pt x="11" y="0"/>
                  </a:moveTo>
                  <a:lnTo>
                    <a:pt x="4" y="3"/>
                  </a:lnTo>
                  <a:lnTo>
                    <a:pt x="0" y="19"/>
                  </a:lnTo>
                  <a:lnTo>
                    <a:pt x="7" y="35"/>
                  </a:lnTo>
                  <a:lnTo>
                    <a:pt x="23" y="108"/>
                  </a:lnTo>
                  <a:lnTo>
                    <a:pt x="25" y="135"/>
                  </a:lnTo>
                  <a:lnTo>
                    <a:pt x="68" y="185"/>
                  </a:lnTo>
                  <a:lnTo>
                    <a:pt x="96" y="248"/>
                  </a:lnTo>
                  <a:lnTo>
                    <a:pt x="172" y="50"/>
                  </a:lnTo>
                  <a:lnTo>
                    <a:pt x="173" y="37"/>
                  </a:lnTo>
                  <a:lnTo>
                    <a:pt x="167" y="25"/>
                  </a:lnTo>
                  <a:lnTo>
                    <a:pt x="93" y="2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6072120" y="3935520"/>
              <a:ext cx="163800" cy="119520"/>
            </a:xfrm>
            <a:custGeom>
              <a:avLst/>
              <a:gdLst/>
              <a:ahLst/>
              <a:rect l="0" t="0" r="r" b="b"/>
              <a:pathLst>
                <a:path w="455" h="332">
                  <a:moveTo>
                    <a:pt x="397" y="168"/>
                  </a:moveTo>
                  <a:lnTo>
                    <a:pt x="344" y="168"/>
                  </a:lnTo>
                  <a:lnTo>
                    <a:pt x="289" y="115"/>
                  </a:lnTo>
                  <a:lnTo>
                    <a:pt x="337" y="191"/>
                  </a:lnTo>
                  <a:lnTo>
                    <a:pt x="285" y="166"/>
                  </a:lnTo>
                  <a:lnTo>
                    <a:pt x="262" y="50"/>
                  </a:lnTo>
                  <a:lnTo>
                    <a:pt x="234" y="22"/>
                  </a:lnTo>
                  <a:lnTo>
                    <a:pt x="250" y="53"/>
                  </a:lnTo>
                  <a:lnTo>
                    <a:pt x="250" y="121"/>
                  </a:lnTo>
                  <a:lnTo>
                    <a:pt x="234" y="63"/>
                  </a:lnTo>
                  <a:lnTo>
                    <a:pt x="168" y="0"/>
                  </a:lnTo>
                  <a:lnTo>
                    <a:pt x="168" y="41"/>
                  </a:lnTo>
                  <a:lnTo>
                    <a:pt x="93" y="28"/>
                  </a:lnTo>
                  <a:lnTo>
                    <a:pt x="120" y="63"/>
                  </a:lnTo>
                  <a:lnTo>
                    <a:pt x="55" y="63"/>
                  </a:lnTo>
                  <a:lnTo>
                    <a:pt x="55" y="86"/>
                  </a:lnTo>
                  <a:lnTo>
                    <a:pt x="26" y="63"/>
                  </a:lnTo>
                  <a:lnTo>
                    <a:pt x="2" y="3"/>
                  </a:lnTo>
                  <a:lnTo>
                    <a:pt x="11" y="60"/>
                  </a:lnTo>
                  <a:lnTo>
                    <a:pt x="55" y="105"/>
                  </a:lnTo>
                  <a:lnTo>
                    <a:pt x="55" y="128"/>
                  </a:lnTo>
                  <a:lnTo>
                    <a:pt x="34" y="128"/>
                  </a:lnTo>
                  <a:lnTo>
                    <a:pt x="79" y="204"/>
                  </a:lnTo>
                  <a:lnTo>
                    <a:pt x="73" y="207"/>
                  </a:lnTo>
                  <a:lnTo>
                    <a:pt x="7" y="134"/>
                  </a:lnTo>
                  <a:lnTo>
                    <a:pt x="0" y="157"/>
                  </a:lnTo>
                  <a:lnTo>
                    <a:pt x="11" y="188"/>
                  </a:lnTo>
                  <a:lnTo>
                    <a:pt x="80" y="269"/>
                  </a:lnTo>
                  <a:lnTo>
                    <a:pt x="50" y="269"/>
                  </a:lnTo>
                  <a:lnTo>
                    <a:pt x="98" y="332"/>
                  </a:lnTo>
                  <a:lnTo>
                    <a:pt x="289" y="269"/>
                  </a:lnTo>
                  <a:lnTo>
                    <a:pt x="455" y="241"/>
                  </a:lnTo>
                  <a:lnTo>
                    <a:pt x="445" y="220"/>
                  </a:lnTo>
                  <a:lnTo>
                    <a:pt x="409" y="181"/>
                  </a:lnTo>
                  <a:lnTo>
                    <a:pt x="397" y="16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6170760" y="3841920"/>
              <a:ext cx="73440" cy="132120"/>
            </a:xfrm>
            <a:custGeom>
              <a:avLst/>
              <a:gdLst/>
              <a:ahLst/>
              <a:rect l="0" t="0" r="r" b="b"/>
              <a:pathLst>
                <a:path w="204" h="367">
                  <a:moveTo>
                    <a:pt x="98" y="53"/>
                  </a:moveTo>
                  <a:lnTo>
                    <a:pt x="98" y="124"/>
                  </a:lnTo>
                  <a:lnTo>
                    <a:pt x="125" y="146"/>
                  </a:lnTo>
                  <a:lnTo>
                    <a:pt x="144" y="181"/>
                  </a:lnTo>
                  <a:lnTo>
                    <a:pt x="41" y="252"/>
                  </a:lnTo>
                  <a:lnTo>
                    <a:pt x="12" y="246"/>
                  </a:lnTo>
                  <a:lnTo>
                    <a:pt x="0" y="258"/>
                  </a:lnTo>
                  <a:lnTo>
                    <a:pt x="41" y="287"/>
                  </a:lnTo>
                  <a:lnTo>
                    <a:pt x="79" y="325"/>
                  </a:lnTo>
                  <a:lnTo>
                    <a:pt x="106" y="367"/>
                  </a:lnTo>
                  <a:lnTo>
                    <a:pt x="101" y="312"/>
                  </a:lnTo>
                  <a:lnTo>
                    <a:pt x="115" y="268"/>
                  </a:lnTo>
                  <a:lnTo>
                    <a:pt x="164" y="248"/>
                  </a:lnTo>
                  <a:lnTo>
                    <a:pt x="77" y="255"/>
                  </a:lnTo>
                  <a:lnTo>
                    <a:pt x="84" y="236"/>
                  </a:lnTo>
                  <a:lnTo>
                    <a:pt x="167" y="220"/>
                  </a:lnTo>
                  <a:lnTo>
                    <a:pt x="183" y="185"/>
                  </a:lnTo>
                  <a:lnTo>
                    <a:pt x="204" y="188"/>
                  </a:lnTo>
                  <a:lnTo>
                    <a:pt x="204" y="126"/>
                  </a:lnTo>
                  <a:lnTo>
                    <a:pt x="171" y="82"/>
                  </a:lnTo>
                  <a:lnTo>
                    <a:pt x="171" y="47"/>
                  </a:lnTo>
                  <a:lnTo>
                    <a:pt x="87" y="0"/>
                  </a:lnTo>
                  <a:lnTo>
                    <a:pt x="35" y="2"/>
                  </a:lnTo>
                  <a:lnTo>
                    <a:pt x="10" y="47"/>
                  </a:lnTo>
                  <a:lnTo>
                    <a:pt x="61" y="31"/>
                  </a:lnTo>
                  <a:lnTo>
                    <a:pt x="89" y="44"/>
                  </a:lnTo>
                  <a:lnTo>
                    <a:pt x="98" y="53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6100920" y="3786120"/>
              <a:ext cx="38520" cy="114840"/>
            </a:xfrm>
            <a:custGeom>
              <a:avLst/>
              <a:gdLst/>
              <a:ahLst/>
              <a:rect l="0" t="0" r="r" b="b"/>
              <a:pathLst>
                <a:path w="107" h="319">
                  <a:moveTo>
                    <a:pt x="6" y="253"/>
                  </a:moveTo>
                  <a:lnTo>
                    <a:pt x="0" y="279"/>
                  </a:lnTo>
                  <a:lnTo>
                    <a:pt x="11" y="319"/>
                  </a:lnTo>
                  <a:lnTo>
                    <a:pt x="23" y="301"/>
                  </a:lnTo>
                  <a:lnTo>
                    <a:pt x="29" y="275"/>
                  </a:lnTo>
                  <a:lnTo>
                    <a:pt x="21" y="250"/>
                  </a:lnTo>
                  <a:lnTo>
                    <a:pt x="13" y="228"/>
                  </a:lnTo>
                  <a:lnTo>
                    <a:pt x="26" y="208"/>
                  </a:lnTo>
                  <a:lnTo>
                    <a:pt x="55" y="136"/>
                  </a:lnTo>
                  <a:lnTo>
                    <a:pt x="55" y="69"/>
                  </a:lnTo>
                  <a:lnTo>
                    <a:pt x="74" y="18"/>
                  </a:lnTo>
                  <a:lnTo>
                    <a:pt x="107" y="0"/>
                  </a:lnTo>
                  <a:lnTo>
                    <a:pt x="67" y="5"/>
                  </a:lnTo>
                  <a:lnTo>
                    <a:pt x="43" y="63"/>
                  </a:lnTo>
                  <a:lnTo>
                    <a:pt x="18" y="108"/>
                  </a:lnTo>
                  <a:lnTo>
                    <a:pt x="33" y="136"/>
                  </a:lnTo>
                  <a:lnTo>
                    <a:pt x="1" y="212"/>
                  </a:lnTo>
                  <a:lnTo>
                    <a:pt x="1" y="233"/>
                  </a:lnTo>
                  <a:lnTo>
                    <a:pt x="11" y="247"/>
                  </a:lnTo>
                  <a:lnTo>
                    <a:pt x="6" y="253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6059520" y="3782880"/>
              <a:ext cx="155880" cy="149760"/>
            </a:xfrm>
            <a:custGeom>
              <a:avLst/>
              <a:gdLst/>
              <a:ahLst/>
              <a:rect l="0" t="0" r="r" b="b"/>
              <a:pathLst>
                <a:path w="433" h="416">
                  <a:moveTo>
                    <a:pt x="254" y="21"/>
                  </a:moveTo>
                  <a:lnTo>
                    <a:pt x="254" y="76"/>
                  </a:lnTo>
                  <a:lnTo>
                    <a:pt x="276" y="105"/>
                  </a:lnTo>
                  <a:lnTo>
                    <a:pt x="254" y="179"/>
                  </a:lnTo>
                  <a:lnTo>
                    <a:pt x="208" y="217"/>
                  </a:lnTo>
                  <a:lnTo>
                    <a:pt x="208" y="248"/>
                  </a:lnTo>
                  <a:lnTo>
                    <a:pt x="168" y="287"/>
                  </a:lnTo>
                  <a:lnTo>
                    <a:pt x="145" y="362"/>
                  </a:lnTo>
                  <a:lnTo>
                    <a:pt x="113" y="371"/>
                  </a:lnTo>
                  <a:lnTo>
                    <a:pt x="90" y="362"/>
                  </a:lnTo>
                  <a:lnTo>
                    <a:pt x="56" y="326"/>
                  </a:lnTo>
                  <a:lnTo>
                    <a:pt x="0" y="365"/>
                  </a:lnTo>
                  <a:lnTo>
                    <a:pt x="0" y="387"/>
                  </a:lnTo>
                  <a:lnTo>
                    <a:pt x="24" y="409"/>
                  </a:lnTo>
                  <a:lnTo>
                    <a:pt x="47" y="387"/>
                  </a:lnTo>
                  <a:lnTo>
                    <a:pt x="94" y="387"/>
                  </a:lnTo>
                  <a:lnTo>
                    <a:pt x="156" y="416"/>
                  </a:lnTo>
                  <a:lnTo>
                    <a:pt x="213" y="397"/>
                  </a:lnTo>
                  <a:lnTo>
                    <a:pt x="274" y="397"/>
                  </a:lnTo>
                  <a:lnTo>
                    <a:pt x="295" y="416"/>
                  </a:lnTo>
                  <a:lnTo>
                    <a:pt x="312" y="416"/>
                  </a:lnTo>
                  <a:lnTo>
                    <a:pt x="328" y="409"/>
                  </a:lnTo>
                  <a:lnTo>
                    <a:pt x="348" y="416"/>
                  </a:lnTo>
                  <a:lnTo>
                    <a:pt x="390" y="387"/>
                  </a:lnTo>
                  <a:lnTo>
                    <a:pt x="348" y="371"/>
                  </a:lnTo>
                  <a:lnTo>
                    <a:pt x="433" y="336"/>
                  </a:lnTo>
                  <a:lnTo>
                    <a:pt x="409" y="317"/>
                  </a:lnTo>
                  <a:lnTo>
                    <a:pt x="317" y="323"/>
                  </a:lnTo>
                  <a:lnTo>
                    <a:pt x="321" y="239"/>
                  </a:lnTo>
                  <a:lnTo>
                    <a:pt x="340" y="205"/>
                  </a:lnTo>
                  <a:lnTo>
                    <a:pt x="348" y="182"/>
                  </a:lnTo>
                  <a:lnTo>
                    <a:pt x="297" y="188"/>
                  </a:lnTo>
                  <a:lnTo>
                    <a:pt x="319" y="115"/>
                  </a:lnTo>
                  <a:lnTo>
                    <a:pt x="307" y="37"/>
                  </a:lnTo>
                  <a:lnTo>
                    <a:pt x="290" y="98"/>
                  </a:lnTo>
                  <a:lnTo>
                    <a:pt x="259" y="0"/>
                  </a:lnTo>
                  <a:lnTo>
                    <a:pt x="254" y="2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6054840" y="3700440"/>
              <a:ext cx="93960" cy="70200"/>
            </a:xfrm>
            <a:custGeom>
              <a:avLst/>
              <a:gdLst/>
              <a:ahLst/>
              <a:rect l="0" t="0" r="r" b="b"/>
              <a:pathLst>
                <a:path w="261" h="195">
                  <a:moveTo>
                    <a:pt x="89" y="195"/>
                  </a:moveTo>
                  <a:lnTo>
                    <a:pt x="56" y="164"/>
                  </a:lnTo>
                  <a:lnTo>
                    <a:pt x="137" y="167"/>
                  </a:lnTo>
                  <a:lnTo>
                    <a:pt x="82" y="146"/>
                  </a:lnTo>
                  <a:lnTo>
                    <a:pt x="28" y="139"/>
                  </a:lnTo>
                  <a:lnTo>
                    <a:pt x="0" y="130"/>
                  </a:lnTo>
                  <a:lnTo>
                    <a:pt x="13" y="89"/>
                  </a:lnTo>
                  <a:lnTo>
                    <a:pt x="115" y="43"/>
                  </a:lnTo>
                  <a:lnTo>
                    <a:pt x="122" y="49"/>
                  </a:lnTo>
                  <a:lnTo>
                    <a:pt x="113" y="83"/>
                  </a:lnTo>
                  <a:lnTo>
                    <a:pt x="154" y="83"/>
                  </a:lnTo>
                  <a:lnTo>
                    <a:pt x="158" y="127"/>
                  </a:lnTo>
                  <a:lnTo>
                    <a:pt x="190" y="121"/>
                  </a:lnTo>
                  <a:lnTo>
                    <a:pt x="168" y="55"/>
                  </a:lnTo>
                  <a:lnTo>
                    <a:pt x="129" y="22"/>
                  </a:lnTo>
                  <a:lnTo>
                    <a:pt x="140" y="15"/>
                  </a:lnTo>
                  <a:lnTo>
                    <a:pt x="106" y="9"/>
                  </a:lnTo>
                  <a:lnTo>
                    <a:pt x="78" y="12"/>
                  </a:lnTo>
                  <a:lnTo>
                    <a:pt x="26" y="34"/>
                  </a:lnTo>
                  <a:lnTo>
                    <a:pt x="66" y="9"/>
                  </a:lnTo>
                  <a:lnTo>
                    <a:pt x="110" y="0"/>
                  </a:lnTo>
                  <a:lnTo>
                    <a:pt x="156" y="5"/>
                  </a:lnTo>
                  <a:lnTo>
                    <a:pt x="186" y="18"/>
                  </a:lnTo>
                  <a:lnTo>
                    <a:pt x="220" y="43"/>
                  </a:lnTo>
                  <a:lnTo>
                    <a:pt x="239" y="71"/>
                  </a:lnTo>
                  <a:lnTo>
                    <a:pt x="251" y="106"/>
                  </a:lnTo>
                  <a:lnTo>
                    <a:pt x="251" y="155"/>
                  </a:lnTo>
                  <a:lnTo>
                    <a:pt x="261" y="179"/>
                  </a:lnTo>
                  <a:lnTo>
                    <a:pt x="208" y="195"/>
                  </a:lnTo>
                  <a:lnTo>
                    <a:pt x="89" y="195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6041880" y="37465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47" y="67"/>
                  </a:moveTo>
                  <a:lnTo>
                    <a:pt x="40" y="109"/>
                  </a:lnTo>
                  <a:lnTo>
                    <a:pt x="44" y="114"/>
                  </a:lnTo>
                  <a:lnTo>
                    <a:pt x="65" y="116"/>
                  </a:lnTo>
                  <a:lnTo>
                    <a:pt x="70" y="128"/>
                  </a:lnTo>
                  <a:lnTo>
                    <a:pt x="80" y="128"/>
                  </a:lnTo>
                  <a:lnTo>
                    <a:pt x="96" y="139"/>
                  </a:lnTo>
                  <a:lnTo>
                    <a:pt x="85" y="152"/>
                  </a:lnTo>
                  <a:lnTo>
                    <a:pt x="88" y="156"/>
                  </a:lnTo>
                  <a:lnTo>
                    <a:pt x="93" y="155"/>
                  </a:lnTo>
                  <a:lnTo>
                    <a:pt x="99" y="160"/>
                  </a:lnTo>
                  <a:lnTo>
                    <a:pt x="99" y="173"/>
                  </a:lnTo>
                  <a:lnTo>
                    <a:pt x="102" y="176"/>
                  </a:lnTo>
                  <a:lnTo>
                    <a:pt x="109" y="181"/>
                  </a:lnTo>
                  <a:lnTo>
                    <a:pt x="114" y="182"/>
                  </a:lnTo>
                  <a:lnTo>
                    <a:pt x="125" y="181"/>
                  </a:lnTo>
                  <a:lnTo>
                    <a:pt x="142" y="176"/>
                  </a:lnTo>
                  <a:lnTo>
                    <a:pt x="159" y="170"/>
                  </a:lnTo>
                  <a:lnTo>
                    <a:pt x="169" y="170"/>
                  </a:lnTo>
                  <a:lnTo>
                    <a:pt x="180" y="171"/>
                  </a:lnTo>
                  <a:lnTo>
                    <a:pt x="193" y="179"/>
                  </a:lnTo>
                  <a:lnTo>
                    <a:pt x="179" y="168"/>
                  </a:lnTo>
                  <a:lnTo>
                    <a:pt x="170" y="166"/>
                  </a:lnTo>
                  <a:lnTo>
                    <a:pt x="158" y="166"/>
                  </a:lnTo>
                  <a:lnTo>
                    <a:pt x="138" y="171"/>
                  </a:lnTo>
                  <a:lnTo>
                    <a:pt x="126" y="156"/>
                  </a:lnTo>
                  <a:lnTo>
                    <a:pt x="118" y="156"/>
                  </a:lnTo>
                  <a:lnTo>
                    <a:pt x="100" y="143"/>
                  </a:lnTo>
                  <a:lnTo>
                    <a:pt x="96" y="119"/>
                  </a:lnTo>
                  <a:lnTo>
                    <a:pt x="114" y="107"/>
                  </a:lnTo>
                  <a:lnTo>
                    <a:pt x="138" y="127"/>
                  </a:lnTo>
                  <a:lnTo>
                    <a:pt x="148" y="119"/>
                  </a:lnTo>
                  <a:lnTo>
                    <a:pt x="189" y="119"/>
                  </a:lnTo>
                  <a:lnTo>
                    <a:pt x="243" y="104"/>
                  </a:lnTo>
                  <a:lnTo>
                    <a:pt x="203" y="110"/>
                  </a:lnTo>
                  <a:lnTo>
                    <a:pt x="229" y="96"/>
                  </a:lnTo>
                  <a:lnTo>
                    <a:pt x="239" y="87"/>
                  </a:lnTo>
                  <a:lnTo>
                    <a:pt x="252" y="74"/>
                  </a:lnTo>
                  <a:lnTo>
                    <a:pt x="276" y="70"/>
                  </a:lnTo>
                  <a:lnTo>
                    <a:pt x="300" y="60"/>
                  </a:lnTo>
                  <a:lnTo>
                    <a:pt x="305" y="57"/>
                  </a:lnTo>
                  <a:lnTo>
                    <a:pt x="294" y="47"/>
                  </a:lnTo>
                  <a:lnTo>
                    <a:pt x="289" y="34"/>
                  </a:lnTo>
                  <a:lnTo>
                    <a:pt x="286" y="18"/>
                  </a:lnTo>
                  <a:lnTo>
                    <a:pt x="283" y="0"/>
                  </a:lnTo>
                  <a:lnTo>
                    <a:pt x="284" y="18"/>
                  </a:lnTo>
                  <a:lnTo>
                    <a:pt x="286" y="39"/>
                  </a:lnTo>
                  <a:lnTo>
                    <a:pt x="289" y="51"/>
                  </a:lnTo>
                  <a:lnTo>
                    <a:pt x="289" y="53"/>
                  </a:lnTo>
                  <a:lnTo>
                    <a:pt x="286" y="61"/>
                  </a:lnTo>
                  <a:lnTo>
                    <a:pt x="281" y="64"/>
                  </a:lnTo>
                  <a:lnTo>
                    <a:pt x="256" y="67"/>
                  </a:lnTo>
                  <a:lnTo>
                    <a:pt x="235" y="70"/>
                  </a:lnTo>
                  <a:lnTo>
                    <a:pt x="146" y="70"/>
                  </a:lnTo>
                  <a:lnTo>
                    <a:pt x="86" y="67"/>
                  </a:lnTo>
                  <a:lnTo>
                    <a:pt x="49" y="62"/>
                  </a:lnTo>
                  <a:lnTo>
                    <a:pt x="21" y="57"/>
                  </a:lnTo>
                  <a:lnTo>
                    <a:pt x="4" y="51"/>
                  </a:lnTo>
                  <a:lnTo>
                    <a:pt x="2" y="47"/>
                  </a:lnTo>
                  <a:lnTo>
                    <a:pt x="4" y="11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3" y="57"/>
                  </a:lnTo>
                  <a:lnTo>
                    <a:pt x="39" y="65"/>
                  </a:lnTo>
                  <a:lnTo>
                    <a:pt x="4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6086520" y="3789360"/>
              <a:ext cx="11520" cy="19440"/>
            </a:xfrm>
            <a:custGeom>
              <a:avLst/>
              <a:gdLst/>
              <a:ahLst/>
              <a:rect l="0" t="0" r="r" b="b"/>
              <a:pathLst>
                <a:path w="32" h="54">
                  <a:moveTo>
                    <a:pt x="0" y="0"/>
                  </a:moveTo>
                  <a:lnTo>
                    <a:pt x="0" y="16"/>
                  </a:lnTo>
                  <a:lnTo>
                    <a:pt x="25" y="54"/>
                  </a:lnTo>
                  <a:lnTo>
                    <a:pt x="32" y="52"/>
                  </a:lnTo>
                  <a:lnTo>
                    <a:pt x="21" y="38"/>
                  </a:lnTo>
                  <a:lnTo>
                    <a:pt x="1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6119640" y="3774960"/>
              <a:ext cx="60840" cy="27360"/>
            </a:xfrm>
            <a:custGeom>
              <a:avLst/>
              <a:gdLst/>
              <a:ahLst/>
              <a:rect l="0" t="0" r="r" b="b"/>
              <a:pathLst>
                <a:path w="169" h="76">
                  <a:moveTo>
                    <a:pt x="98" y="3"/>
                  </a:moveTo>
                  <a:lnTo>
                    <a:pt x="72" y="20"/>
                  </a:lnTo>
                  <a:lnTo>
                    <a:pt x="14" y="36"/>
                  </a:lnTo>
                  <a:lnTo>
                    <a:pt x="0" y="76"/>
                  </a:lnTo>
                  <a:lnTo>
                    <a:pt x="10" y="35"/>
                  </a:lnTo>
                  <a:lnTo>
                    <a:pt x="72" y="13"/>
                  </a:lnTo>
                  <a:lnTo>
                    <a:pt x="99" y="0"/>
                  </a:lnTo>
                  <a:lnTo>
                    <a:pt x="110" y="0"/>
                  </a:lnTo>
                  <a:lnTo>
                    <a:pt x="169" y="26"/>
                  </a:lnTo>
                  <a:lnTo>
                    <a:pt x="113" y="3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6134040" y="377028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0" y="0"/>
                  </a:moveTo>
                  <a:lnTo>
                    <a:pt x="9" y="36"/>
                  </a:lnTo>
                  <a:lnTo>
                    <a:pt x="14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6041880" y="3699000"/>
              <a:ext cx="103680" cy="62280"/>
            </a:xfrm>
            <a:custGeom>
              <a:avLst/>
              <a:gdLst/>
              <a:ahLst/>
              <a:rect l="0" t="0" r="r" b="b"/>
              <a:pathLst>
                <a:path w="288" h="173">
                  <a:moveTo>
                    <a:pt x="4" y="134"/>
                  </a:moveTo>
                  <a:lnTo>
                    <a:pt x="12" y="101"/>
                  </a:lnTo>
                  <a:lnTo>
                    <a:pt x="23" y="75"/>
                  </a:lnTo>
                  <a:lnTo>
                    <a:pt x="42" y="49"/>
                  </a:lnTo>
                  <a:lnTo>
                    <a:pt x="64" y="27"/>
                  </a:lnTo>
                  <a:lnTo>
                    <a:pt x="87" y="14"/>
                  </a:lnTo>
                  <a:lnTo>
                    <a:pt x="111" y="4"/>
                  </a:lnTo>
                  <a:lnTo>
                    <a:pt x="131" y="1"/>
                  </a:lnTo>
                  <a:lnTo>
                    <a:pt x="150" y="0"/>
                  </a:lnTo>
                  <a:lnTo>
                    <a:pt x="179" y="2"/>
                  </a:lnTo>
                  <a:lnTo>
                    <a:pt x="204" y="9"/>
                  </a:lnTo>
                  <a:lnTo>
                    <a:pt x="229" y="22"/>
                  </a:lnTo>
                  <a:lnTo>
                    <a:pt x="246" y="35"/>
                  </a:lnTo>
                  <a:lnTo>
                    <a:pt x="260" y="51"/>
                  </a:lnTo>
                  <a:lnTo>
                    <a:pt x="272" y="70"/>
                  </a:lnTo>
                  <a:lnTo>
                    <a:pt x="281" y="87"/>
                  </a:lnTo>
                  <a:lnTo>
                    <a:pt x="285" y="107"/>
                  </a:lnTo>
                  <a:lnTo>
                    <a:pt x="288" y="141"/>
                  </a:lnTo>
                  <a:lnTo>
                    <a:pt x="283" y="105"/>
                  </a:lnTo>
                  <a:lnTo>
                    <a:pt x="275" y="81"/>
                  </a:lnTo>
                  <a:lnTo>
                    <a:pt x="260" y="55"/>
                  </a:lnTo>
                  <a:lnTo>
                    <a:pt x="241" y="33"/>
                  </a:lnTo>
                  <a:lnTo>
                    <a:pt x="218" y="17"/>
                  </a:lnTo>
                  <a:lnTo>
                    <a:pt x="191" y="8"/>
                  </a:lnTo>
                  <a:lnTo>
                    <a:pt x="164" y="4"/>
                  </a:lnTo>
                  <a:lnTo>
                    <a:pt x="144" y="3"/>
                  </a:lnTo>
                  <a:lnTo>
                    <a:pt x="115" y="7"/>
                  </a:lnTo>
                  <a:lnTo>
                    <a:pt x="89" y="17"/>
                  </a:lnTo>
                  <a:lnTo>
                    <a:pt x="70" y="27"/>
                  </a:lnTo>
                  <a:lnTo>
                    <a:pt x="55" y="41"/>
                  </a:lnTo>
                  <a:lnTo>
                    <a:pt x="39" y="59"/>
                  </a:lnTo>
                  <a:lnTo>
                    <a:pt x="25" y="79"/>
                  </a:lnTo>
                  <a:lnTo>
                    <a:pt x="14" y="107"/>
                  </a:lnTo>
                  <a:lnTo>
                    <a:pt x="6" y="138"/>
                  </a:lnTo>
                  <a:lnTo>
                    <a:pt x="0" y="173"/>
                  </a:lnTo>
                  <a:lnTo>
                    <a:pt x="4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6045120" y="3754440"/>
              <a:ext cx="101880" cy="8280"/>
            </a:xfrm>
            <a:custGeom>
              <a:avLst/>
              <a:gdLst/>
              <a:ahLst/>
              <a:rect l="0" t="0" r="r" b="b"/>
              <a:pathLst>
                <a:path w="283" h="23">
                  <a:moveTo>
                    <a:pt x="283" y="15"/>
                  </a:moveTo>
                  <a:lnTo>
                    <a:pt x="264" y="18"/>
                  </a:lnTo>
                  <a:lnTo>
                    <a:pt x="244" y="19"/>
                  </a:lnTo>
                  <a:lnTo>
                    <a:pt x="211" y="20"/>
                  </a:lnTo>
                  <a:lnTo>
                    <a:pt x="133" y="20"/>
                  </a:lnTo>
                  <a:lnTo>
                    <a:pt x="95" y="18"/>
                  </a:lnTo>
                  <a:lnTo>
                    <a:pt x="58" y="15"/>
                  </a:lnTo>
                  <a:lnTo>
                    <a:pt x="20" y="7"/>
                  </a:lnTo>
                  <a:lnTo>
                    <a:pt x="0" y="0"/>
                  </a:lnTo>
                  <a:lnTo>
                    <a:pt x="0" y="1"/>
                  </a:lnTo>
                  <a:lnTo>
                    <a:pt x="20" y="8"/>
                  </a:lnTo>
                  <a:lnTo>
                    <a:pt x="58" y="17"/>
                  </a:lnTo>
                  <a:lnTo>
                    <a:pt x="95" y="20"/>
                  </a:lnTo>
                  <a:lnTo>
                    <a:pt x="133" y="23"/>
                  </a:lnTo>
                  <a:lnTo>
                    <a:pt x="211" y="23"/>
                  </a:lnTo>
                  <a:lnTo>
                    <a:pt x="244" y="21"/>
                  </a:lnTo>
                  <a:lnTo>
                    <a:pt x="264" y="20"/>
                  </a:lnTo>
                  <a:lnTo>
                    <a:pt x="283" y="17"/>
                  </a:lnTo>
                  <a:lnTo>
                    <a:pt x="28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6045120" y="3745080"/>
              <a:ext cx="100440" cy="9720"/>
            </a:xfrm>
            <a:custGeom>
              <a:avLst/>
              <a:gdLst/>
              <a:ahLst/>
              <a:rect l="0" t="0" r="r" b="b"/>
              <a:pathLst>
                <a:path w="279" h="27">
                  <a:moveTo>
                    <a:pt x="279" y="18"/>
                  </a:moveTo>
                  <a:lnTo>
                    <a:pt x="262" y="22"/>
                  </a:lnTo>
                  <a:lnTo>
                    <a:pt x="241" y="23"/>
                  </a:lnTo>
                  <a:lnTo>
                    <a:pt x="207" y="24"/>
                  </a:lnTo>
                  <a:lnTo>
                    <a:pt x="133" y="24"/>
                  </a:lnTo>
                  <a:lnTo>
                    <a:pt x="95" y="22"/>
                  </a:lnTo>
                  <a:lnTo>
                    <a:pt x="58" y="18"/>
                  </a:lnTo>
                  <a:lnTo>
                    <a:pt x="20" y="9"/>
                  </a:lnTo>
                  <a:lnTo>
                    <a:pt x="0" y="0"/>
                  </a:lnTo>
                  <a:lnTo>
                    <a:pt x="0" y="2"/>
                  </a:lnTo>
                  <a:lnTo>
                    <a:pt x="20" y="12"/>
                  </a:lnTo>
                  <a:lnTo>
                    <a:pt x="58" y="21"/>
                  </a:lnTo>
                  <a:lnTo>
                    <a:pt x="95" y="24"/>
                  </a:lnTo>
                  <a:lnTo>
                    <a:pt x="133" y="27"/>
                  </a:lnTo>
                  <a:lnTo>
                    <a:pt x="207" y="27"/>
                  </a:lnTo>
                  <a:lnTo>
                    <a:pt x="241" y="27"/>
                  </a:lnTo>
                  <a:lnTo>
                    <a:pt x="262" y="24"/>
                  </a:lnTo>
                  <a:lnTo>
                    <a:pt x="279" y="21"/>
                  </a:lnTo>
                  <a:lnTo>
                    <a:pt x="27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6108840" y="3710160"/>
              <a:ext cx="39960" cy="60840"/>
            </a:xfrm>
            <a:custGeom>
              <a:avLst/>
              <a:gdLst/>
              <a:ahLst/>
              <a:rect l="0" t="0" r="r" b="b"/>
              <a:pathLst>
                <a:path w="111" h="169">
                  <a:moveTo>
                    <a:pt x="60" y="169"/>
                  </a:moveTo>
                  <a:lnTo>
                    <a:pt x="42" y="151"/>
                  </a:lnTo>
                  <a:lnTo>
                    <a:pt x="0" y="142"/>
                  </a:lnTo>
                  <a:lnTo>
                    <a:pt x="62" y="139"/>
                  </a:lnTo>
                  <a:lnTo>
                    <a:pt x="70" y="116"/>
                  </a:lnTo>
                  <a:lnTo>
                    <a:pt x="48" y="116"/>
                  </a:lnTo>
                  <a:lnTo>
                    <a:pt x="67" y="97"/>
                  </a:lnTo>
                  <a:lnTo>
                    <a:pt x="56" y="41"/>
                  </a:lnTo>
                  <a:lnTo>
                    <a:pt x="45" y="65"/>
                  </a:lnTo>
                  <a:lnTo>
                    <a:pt x="29" y="23"/>
                  </a:lnTo>
                  <a:lnTo>
                    <a:pt x="0" y="0"/>
                  </a:lnTo>
                  <a:lnTo>
                    <a:pt x="53" y="18"/>
                  </a:lnTo>
                  <a:lnTo>
                    <a:pt x="79" y="56"/>
                  </a:lnTo>
                  <a:lnTo>
                    <a:pt x="97" y="111"/>
                  </a:lnTo>
                  <a:lnTo>
                    <a:pt x="101" y="137"/>
                  </a:lnTo>
                  <a:lnTo>
                    <a:pt x="111" y="153"/>
                  </a:lnTo>
                  <a:lnTo>
                    <a:pt x="97" y="166"/>
                  </a:lnTo>
                  <a:lnTo>
                    <a:pt x="6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6091200" y="3760920"/>
              <a:ext cx="19440" cy="5040"/>
            </a:xfrm>
            <a:custGeom>
              <a:avLst/>
              <a:gdLst/>
              <a:ahLst/>
              <a:rect l="0" t="0" r="r" b="b"/>
              <a:pathLst>
                <a:path w="54" h="14">
                  <a:moveTo>
                    <a:pt x="54" y="1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6056280" y="3730680"/>
              <a:ext cx="47880" cy="24120"/>
            </a:xfrm>
            <a:custGeom>
              <a:avLst/>
              <a:gdLst/>
              <a:ahLst/>
              <a:rect l="0" t="0" r="r" b="b"/>
              <a:pathLst>
                <a:path w="133" h="67">
                  <a:moveTo>
                    <a:pt x="79" y="62"/>
                  </a:moveTo>
                  <a:lnTo>
                    <a:pt x="90" y="42"/>
                  </a:lnTo>
                  <a:lnTo>
                    <a:pt x="81" y="37"/>
                  </a:lnTo>
                  <a:lnTo>
                    <a:pt x="33" y="61"/>
                  </a:lnTo>
                  <a:lnTo>
                    <a:pt x="0" y="53"/>
                  </a:lnTo>
                  <a:lnTo>
                    <a:pt x="13" y="28"/>
                  </a:lnTo>
                  <a:lnTo>
                    <a:pt x="63" y="0"/>
                  </a:lnTo>
                  <a:lnTo>
                    <a:pt x="90" y="0"/>
                  </a:lnTo>
                  <a:lnTo>
                    <a:pt x="74" y="25"/>
                  </a:lnTo>
                  <a:lnTo>
                    <a:pt x="105" y="20"/>
                  </a:lnTo>
                  <a:lnTo>
                    <a:pt x="129" y="46"/>
                  </a:lnTo>
                  <a:lnTo>
                    <a:pt x="114" y="53"/>
                  </a:lnTo>
                  <a:lnTo>
                    <a:pt x="133" y="67"/>
                  </a:lnTo>
                  <a:lnTo>
                    <a:pt x="98" y="67"/>
                  </a:lnTo>
                  <a:lnTo>
                    <a:pt x="7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6100920" y="3800520"/>
              <a:ext cx="19440" cy="76680"/>
            </a:xfrm>
            <a:custGeom>
              <a:avLst/>
              <a:gdLst/>
              <a:ahLst/>
              <a:rect l="0" t="0" r="r" b="b"/>
              <a:pathLst>
                <a:path w="54" h="213">
                  <a:moveTo>
                    <a:pt x="54" y="0"/>
                  </a:moveTo>
                  <a:lnTo>
                    <a:pt x="39" y="13"/>
                  </a:lnTo>
                  <a:lnTo>
                    <a:pt x="19" y="68"/>
                  </a:lnTo>
                  <a:lnTo>
                    <a:pt x="28" y="81"/>
                  </a:lnTo>
                  <a:lnTo>
                    <a:pt x="23" y="68"/>
                  </a:lnTo>
                  <a:lnTo>
                    <a:pt x="39" y="54"/>
                  </a:lnTo>
                  <a:lnTo>
                    <a:pt x="39" y="74"/>
                  </a:lnTo>
                  <a:lnTo>
                    <a:pt x="0" y="173"/>
                  </a:lnTo>
                  <a:lnTo>
                    <a:pt x="0" y="192"/>
                  </a:lnTo>
                  <a:lnTo>
                    <a:pt x="9" y="213"/>
                  </a:lnTo>
                  <a:lnTo>
                    <a:pt x="2" y="192"/>
                  </a:lnTo>
                  <a:lnTo>
                    <a:pt x="2" y="174"/>
                  </a:lnTo>
                  <a:lnTo>
                    <a:pt x="23" y="156"/>
                  </a:lnTo>
                  <a:lnTo>
                    <a:pt x="45" y="79"/>
                  </a:lnTo>
                  <a:lnTo>
                    <a:pt x="45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6100920" y="3873600"/>
              <a:ext cx="11520" cy="27360"/>
            </a:xfrm>
            <a:custGeom>
              <a:avLst/>
              <a:gdLst/>
              <a:ahLst/>
              <a:rect l="0" t="0" r="r" b="b"/>
              <a:pathLst>
                <a:path w="32" h="76">
                  <a:moveTo>
                    <a:pt x="13" y="76"/>
                  </a:moveTo>
                  <a:lnTo>
                    <a:pt x="0" y="28"/>
                  </a:lnTo>
                  <a:lnTo>
                    <a:pt x="9" y="0"/>
                  </a:lnTo>
                  <a:lnTo>
                    <a:pt x="22" y="5"/>
                  </a:lnTo>
                  <a:lnTo>
                    <a:pt x="32" y="28"/>
                  </a:lnTo>
                  <a:lnTo>
                    <a:pt x="32" y="44"/>
                  </a:lnTo>
                  <a:lnTo>
                    <a:pt x="22" y="65"/>
                  </a:lnTo>
                  <a:lnTo>
                    <a:pt x="30" y="44"/>
                  </a:lnTo>
                  <a:lnTo>
                    <a:pt x="30" y="32"/>
                  </a:lnTo>
                  <a:lnTo>
                    <a:pt x="11" y="15"/>
                  </a:lnTo>
                  <a:lnTo>
                    <a:pt x="4" y="30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6121440" y="3825720"/>
              <a:ext cx="54360" cy="68760"/>
            </a:xfrm>
            <a:custGeom>
              <a:avLst/>
              <a:gdLst/>
              <a:ahLst/>
              <a:rect l="0" t="0" r="r" b="b"/>
              <a:pathLst>
                <a:path w="151" h="191">
                  <a:moveTo>
                    <a:pt x="0" y="191"/>
                  </a:moveTo>
                  <a:lnTo>
                    <a:pt x="16" y="166"/>
                  </a:lnTo>
                  <a:lnTo>
                    <a:pt x="64" y="126"/>
                  </a:lnTo>
                  <a:lnTo>
                    <a:pt x="64" y="104"/>
                  </a:lnTo>
                  <a:lnTo>
                    <a:pt x="103" y="64"/>
                  </a:lnTo>
                  <a:lnTo>
                    <a:pt x="123" y="11"/>
                  </a:lnTo>
                  <a:lnTo>
                    <a:pt x="132" y="0"/>
                  </a:lnTo>
                  <a:lnTo>
                    <a:pt x="127" y="32"/>
                  </a:lnTo>
                  <a:lnTo>
                    <a:pt x="115" y="41"/>
                  </a:lnTo>
                  <a:lnTo>
                    <a:pt x="108" y="71"/>
                  </a:lnTo>
                  <a:lnTo>
                    <a:pt x="84" y="110"/>
                  </a:lnTo>
                  <a:lnTo>
                    <a:pt x="130" y="84"/>
                  </a:lnTo>
                  <a:lnTo>
                    <a:pt x="151" y="82"/>
                  </a:lnTo>
                  <a:lnTo>
                    <a:pt x="93" y="121"/>
                  </a:lnTo>
                  <a:lnTo>
                    <a:pt x="56" y="174"/>
                  </a:lnTo>
                  <a:lnTo>
                    <a:pt x="31" y="16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066000" y="3900600"/>
              <a:ext cx="49680" cy="32040"/>
            </a:xfrm>
            <a:custGeom>
              <a:avLst/>
              <a:gdLst/>
              <a:ahLst/>
              <a:rect l="0" t="0" r="r" b="b"/>
              <a:pathLst>
                <a:path w="138" h="89">
                  <a:moveTo>
                    <a:pt x="11" y="15"/>
                  </a:moveTo>
                  <a:lnTo>
                    <a:pt x="11" y="28"/>
                  </a:lnTo>
                  <a:lnTo>
                    <a:pt x="31" y="56"/>
                  </a:lnTo>
                  <a:lnTo>
                    <a:pt x="20" y="56"/>
                  </a:lnTo>
                  <a:lnTo>
                    <a:pt x="0" y="80"/>
                  </a:lnTo>
                  <a:lnTo>
                    <a:pt x="26" y="63"/>
                  </a:lnTo>
                  <a:lnTo>
                    <a:pt x="72" y="63"/>
                  </a:lnTo>
                  <a:lnTo>
                    <a:pt x="138" y="89"/>
                  </a:lnTo>
                  <a:lnTo>
                    <a:pt x="108" y="69"/>
                  </a:lnTo>
                  <a:lnTo>
                    <a:pt x="96" y="56"/>
                  </a:lnTo>
                  <a:lnTo>
                    <a:pt x="67" y="41"/>
                  </a:lnTo>
                  <a:lnTo>
                    <a:pt x="38" y="0"/>
                  </a:lnTo>
                  <a:lnTo>
                    <a:pt x="65" y="56"/>
                  </a:lnTo>
                  <a:lnTo>
                    <a:pt x="55" y="56"/>
                  </a:lnTo>
                  <a:lnTo>
                    <a:pt x="44" y="43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6114960" y="3903840"/>
              <a:ext cx="87840" cy="32040"/>
            </a:xfrm>
            <a:custGeom>
              <a:avLst/>
              <a:gdLst/>
              <a:ahLst/>
              <a:rect l="0" t="0" r="r" b="b"/>
              <a:pathLst>
                <a:path w="244" h="89">
                  <a:moveTo>
                    <a:pt x="0" y="84"/>
                  </a:moveTo>
                  <a:lnTo>
                    <a:pt x="60" y="67"/>
                  </a:lnTo>
                  <a:lnTo>
                    <a:pt x="108" y="67"/>
                  </a:lnTo>
                  <a:lnTo>
                    <a:pt x="153" y="89"/>
                  </a:lnTo>
                  <a:lnTo>
                    <a:pt x="122" y="63"/>
                  </a:lnTo>
                  <a:lnTo>
                    <a:pt x="177" y="20"/>
                  </a:lnTo>
                  <a:lnTo>
                    <a:pt x="244" y="0"/>
                  </a:lnTo>
                  <a:lnTo>
                    <a:pt x="217" y="0"/>
                  </a:lnTo>
                  <a:lnTo>
                    <a:pt x="165" y="20"/>
                  </a:lnTo>
                  <a:lnTo>
                    <a:pt x="104" y="61"/>
                  </a:lnTo>
                  <a:lnTo>
                    <a:pt x="82" y="61"/>
                  </a:lnTo>
                  <a:lnTo>
                    <a:pt x="127" y="20"/>
                  </a:lnTo>
                  <a:lnTo>
                    <a:pt x="95" y="30"/>
                  </a:lnTo>
                  <a:lnTo>
                    <a:pt x="102" y="12"/>
                  </a:lnTo>
                  <a:lnTo>
                    <a:pt x="47" y="41"/>
                  </a:lnTo>
                  <a:lnTo>
                    <a:pt x="47" y="63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6151680" y="3857760"/>
              <a:ext cx="30600" cy="51120"/>
            </a:xfrm>
            <a:custGeom>
              <a:avLst/>
              <a:gdLst/>
              <a:ahLst/>
              <a:rect l="0" t="0" r="r" b="b"/>
              <a:pathLst>
                <a:path w="85" h="142">
                  <a:moveTo>
                    <a:pt x="0" y="142"/>
                  </a:moveTo>
                  <a:lnTo>
                    <a:pt x="27" y="121"/>
                  </a:lnTo>
                  <a:lnTo>
                    <a:pt x="32" y="139"/>
                  </a:lnTo>
                  <a:lnTo>
                    <a:pt x="51" y="36"/>
                  </a:lnTo>
                  <a:lnTo>
                    <a:pt x="85" y="0"/>
                  </a:lnTo>
                  <a:lnTo>
                    <a:pt x="46" y="34"/>
                  </a:lnTo>
                  <a:lnTo>
                    <a:pt x="15" y="101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6186600" y="3844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10"/>
                  </a:moveTo>
                  <a:lnTo>
                    <a:pt x="41" y="0"/>
                  </a:lnTo>
                  <a:lnTo>
                    <a:pt x="63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6167520" y="3922560"/>
              <a:ext cx="55800" cy="41760"/>
            </a:xfrm>
            <a:custGeom>
              <a:avLst/>
              <a:gdLst/>
              <a:ahLst/>
              <a:rect l="0" t="0" r="r" b="b"/>
              <a:pathLst>
                <a:path w="155" h="116">
                  <a:moveTo>
                    <a:pt x="0" y="24"/>
                  </a:moveTo>
                  <a:lnTo>
                    <a:pt x="67" y="76"/>
                  </a:lnTo>
                  <a:lnTo>
                    <a:pt x="89" y="116"/>
                  </a:lnTo>
                  <a:lnTo>
                    <a:pt x="89" y="92"/>
                  </a:lnTo>
                  <a:lnTo>
                    <a:pt x="65" y="64"/>
                  </a:lnTo>
                  <a:lnTo>
                    <a:pt x="65" y="45"/>
                  </a:lnTo>
                  <a:lnTo>
                    <a:pt x="155" y="22"/>
                  </a:lnTo>
                  <a:lnTo>
                    <a:pt x="31" y="41"/>
                  </a:lnTo>
                  <a:lnTo>
                    <a:pt x="16" y="26"/>
                  </a:lnTo>
                  <a:lnTo>
                    <a:pt x="49" y="9"/>
                  </a:lnTo>
                  <a:lnTo>
                    <a:pt x="49" y="0"/>
                  </a:lnTo>
                  <a:lnTo>
                    <a:pt x="6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6176880" y="3924360"/>
              <a:ext cx="33840" cy="8280"/>
            </a:xfrm>
            <a:custGeom>
              <a:avLst/>
              <a:gdLst/>
              <a:ahLst/>
              <a:rect l="0" t="0" r="r" b="b"/>
              <a:pathLst>
                <a:path fill="none" w="94" h="23">
                  <a:moveTo>
                    <a:pt x="0" y="18"/>
                  </a:moveTo>
                  <a:lnTo>
                    <a:pt x="17" y="23"/>
                  </a:lnTo>
                  <a:lnTo>
                    <a:pt x="58" y="0"/>
                  </a:lnTo>
                  <a:lnTo>
                    <a:pt x="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6203880" y="3859200"/>
              <a:ext cx="33840" cy="65520"/>
            </a:xfrm>
            <a:custGeom>
              <a:avLst/>
              <a:gdLst/>
              <a:ahLst/>
              <a:rect l="0" t="0" r="r" b="b"/>
              <a:pathLst>
                <a:path w="94" h="182">
                  <a:moveTo>
                    <a:pt x="0" y="182"/>
                  </a:moveTo>
                  <a:lnTo>
                    <a:pt x="39" y="165"/>
                  </a:lnTo>
                  <a:lnTo>
                    <a:pt x="55" y="165"/>
                  </a:lnTo>
                  <a:lnTo>
                    <a:pt x="75" y="135"/>
                  </a:lnTo>
                  <a:lnTo>
                    <a:pt x="48" y="91"/>
                  </a:lnTo>
                  <a:lnTo>
                    <a:pt x="66" y="71"/>
                  </a:lnTo>
                  <a:lnTo>
                    <a:pt x="51" y="49"/>
                  </a:lnTo>
                  <a:lnTo>
                    <a:pt x="39" y="69"/>
                  </a:lnTo>
                  <a:lnTo>
                    <a:pt x="9" y="0"/>
                  </a:lnTo>
                  <a:lnTo>
                    <a:pt x="20" y="0"/>
                  </a:lnTo>
                  <a:lnTo>
                    <a:pt x="62" y="15"/>
                  </a:lnTo>
                  <a:lnTo>
                    <a:pt x="58" y="31"/>
                  </a:lnTo>
                  <a:lnTo>
                    <a:pt x="94" y="78"/>
                  </a:lnTo>
                  <a:lnTo>
                    <a:pt x="94" y="115"/>
                  </a:lnTo>
                  <a:lnTo>
                    <a:pt x="71" y="111"/>
                  </a:lnTo>
                  <a:lnTo>
                    <a:pt x="83" y="144"/>
                  </a:lnTo>
                  <a:lnTo>
                    <a:pt x="83" y="160"/>
                  </a:lnTo>
                  <a:lnTo>
                    <a:pt x="59" y="171"/>
                  </a:lnTo>
                  <a:lnTo>
                    <a:pt x="83" y="171"/>
                  </a:lnTo>
                  <a:lnTo>
                    <a:pt x="69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6188040" y="3789360"/>
              <a:ext cx="79560" cy="159120"/>
            </a:xfrm>
            <a:custGeom>
              <a:avLst/>
              <a:gdLst/>
              <a:ahLst/>
              <a:rect l="0" t="0" r="r" b="b"/>
              <a:pathLst>
                <a:path w="221" h="442">
                  <a:moveTo>
                    <a:pt x="0" y="0"/>
                  </a:moveTo>
                  <a:lnTo>
                    <a:pt x="40" y="34"/>
                  </a:lnTo>
                  <a:lnTo>
                    <a:pt x="139" y="174"/>
                  </a:lnTo>
                  <a:lnTo>
                    <a:pt x="198" y="291"/>
                  </a:lnTo>
                  <a:lnTo>
                    <a:pt x="221" y="396"/>
                  </a:lnTo>
                  <a:lnTo>
                    <a:pt x="213" y="442"/>
                  </a:lnTo>
                  <a:lnTo>
                    <a:pt x="218" y="399"/>
                  </a:lnTo>
                  <a:lnTo>
                    <a:pt x="191" y="291"/>
                  </a:lnTo>
                  <a:lnTo>
                    <a:pt x="134" y="178"/>
                  </a:lnTo>
                  <a:lnTo>
                    <a:pt x="37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6207120" y="3943440"/>
              <a:ext cx="60840" cy="16200"/>
            </a:xfrm>
            <a:custGeom>
              <a:avLst/>
              <a:gdLst/>
              <a:ahLst/>
              <a:rect l="0" t="0" r="r" b="b"/>
              <a:pathLst>
                <a:path w="169" h="45">
                  <a:moveTo>
                    <a:pt x="0" y="12"/>
                  </a:moveTo>
                  <a:lnTo>
                    <a:pt x="12" y="12"/>
                  </a:lnTo>
                  <a:lnTo>
                    <a:pt x="94" y="40"/>
                  </a:lnTo>
                  <a:lnTo>
                    <a:pt x="123" y="42"/>
                  </a:lnTo>
                  <a:lnTo>
                    <a:pt x="166" y="45"/>
                  </a:lnTo>
                  <a:lnTo>
                    <a:pt x="169" y="40"/>
                  </a:lnTo>
                  <a:lnTo>
                    <a:pt x="169" y="35"/>
                  </a:lnTo>
                  <a:lnTo>
                    <a:pt x="165" y="30"/>
                  </a:lnTo>
                  <a:lnTo>
                    <a:pt x="128" y="30"/>
                  </a:lnTo>
                  <a:lnTo>
                    <a:pt x="94" y="26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203880" y="3948120"/>
              <a:ext cx="57600" cy="97200"/>
            </a:xfrm>
            <a:custGeom>
              <a:avLst/>
              <a:gdLst/>
              <a:ahLst/>
              <a:rect l="0" t="0" r="r" b="b"/>
              <a:pathLst>
                <a:path w="160" h="270">
                  <a:moveTo>
                    <a:pt x="104" y="53"/>
                  </a:moveTo>
                  <a:lnTo>
                    <a:pt x="96" y="85"/>
                  </a:lnTo>
                  <a:lnTo>
                    <a:pt x="88" y="85"/>
                  </a:lnTo>
                  <a:lnTo>
                    <a:pt x="84" y="89"/>
                  </a:lnTo>
                  <a:lnTo>
                    <a:pt x="84" y="95"/>
                  </a:lnTo>
                  <a:lnTo>
                    <a:pt x="86" y="103"/>
                  </a:lnTo>
                  <a:lnTo>
                    <a:pt x="93" y="106"/>
                  </a:lnTo>
                  <a:lnTo>
                    <a:pt x="101" y="103"/>
                  </a:lnTo>
                  <a:lnTo>
                    <a:pt x="160" y="111"/>
                  </a:lnTo>
                  <a:lnTo>
                    <a:pt x="155" y="173"/>
                  </a:lnTo>
                  <a:lnTo>
                    <a:pt x="148" y="232"/>
                  </a:lnTo>
                  <a:lnTo>
                    <a:pt x="144" y="257"/>
                  </a:lnTo>
                  <a:lnTo>
                    <a:pt x="137" y="268"/>
                  </a:lnTo>
                  <a:lnTo>
                    <a:pt x="131" y="270"/>
                  </a:lnTo>
                  <a:lnTo>
                    <a:pt x="114" y="263"/>
                  </a:lnTo>
                  <a:lnTo>
                    <a:pt x="109" y="252"/>
                  </a:lnTo>
                  <a:lnTo>
                    <a:pt x="102" y="234"/>
                  </a:lnTo>
                  <a:lnTo>
                    <a:pt x="95" y="200"/>
                  </a:lnTo>
                  <a:lnTo>
                    <a:pt x="82" y="174"/>
                  </a:lnTo>
                  <a:lnTo>
                    <a:pt x="64" y="152"/>
                  </a:lnTo>
                  <a:lnTo>
                    <a:pt x="57" y="140"/>
                  </a:lnTo>
                  <a:lnTo>
                    <a:pt x="54" y="126"/>
                  </a:lnTo>
                  <a:lnTo>
                    <a:pt x="52" y="117"/>
                  </a:lnTo>
                  <a:lnTo>
                    <a:pt x="28" y="103"/>
                  </a:lnTo>
                  <a:lnTo>
                    <a:pt x="14" y="87"/>
                  </a:lnTo>
                  <a:lnTo>
                    <a:pt x="7" y="69"/>
                  </a:lnTo>
                  <a:lnTo>
                    <a:pt x="3" y="51"/>
                  </a:lnTo>
                  <a:lnTo>
                    <a:pt x="0" y="33"/>
                  </a:lnTo>
                  <a:lnTo>
                    <a:pt x="1" y="17"/>
                  </a:lnTo>
                  <a:lnTo>
                    <a:pt x="6" y="0"/>
                  </a:lnTo>
                  <a:lnTo>
                    <a:pt x="6" y="17"/>
                  </a:lnTo>
                  <a:lnTo>
                    <a:pt x="14" y="25"/>
                  </a:lnTo>
                  <a:lnTo>
                    <a:pt x="60" y="43"/>
                  </a:lnTo>
                  <a:lnTo>
                    <a:pt x="92" y="53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6234120" y="39625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13"/>
                  </a:moveTo>
                  <a:lnTo>
                    <a:pt x="46" y="20"/>
                  </a:lnTo>
                  <a:lnTo>
                    <a:pt x="75" y="20"/>
                  </a:lnTo>
                  <a:lnTo>
                    <a:pt x="88" y="13"/>
                  </a:lnTo>
                  <a:lnTo>
                    <a:pt x="94" y="9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94" y="37"/>
                  </a:lnTo>
                  <a:lnTo>
                    <a:pt x="89" y="50"/>
                  </a:lnTo>
                  <a:lnTo>
                    <a:pt x="83" y="61"/>
                  </a:lnTo>
                  <a:lnTo>
                    <a:pt x="75" y="72"/>
                  </a:lnTo>
                  <a:lnTo>
                    <a:pt x="13" y="65"/>
                  </a:lnTo>
                  <a:lnTo>
                    <a:pt x="20" y="57"/>
                  </a:lnTo>
                  <a:lnTo>
                    <a:pt x="20" y="50"/>
                  </a:lnTo>
                  <a:lnTo>
                    <a:pt x="12" y="4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6210360" y="3979800"/>
              <a:ext cx="35280" cy="63720"/>
            </a:xfrm>
            <a:custGeom>
              <a:avLst/>
              <a:gdLst/>
              <a:ahLst/>
              <a:rect l="0" t="0" r="r" b="b"/>
              <a:pathLst>
                <a:path w="98" h="177">
                  <a:moveTo>
                    <a:pt x="0" y="0"/>
                  </a:moveTo>
                  <a:lnTo>
                    <a:pt x="2" y="22"/>
                  </a:lnTo>
                  <a:lnTo>
                    <a:pt x="9" y="46"/>
                  </a:lnTo>
                  <a:lnTo>
                    <a:pt x="21" y="62"/>
                  </a:lnTo>
                  <a:lnTo>
                    <a:pt x="43" y="85"/>
                  </a:lnTo>
                  <a:lnTo>
                    <a:pt x="56" y="103"/>
                  </a:lnTo>
                  <a:lnTo>
                    <a:pt x="65" y="120"/>
                  </a:lnTo>
                  <a:lnTo>
                    <a:pt x="76" y="154"/>
                  </a:lnTo>
                  <a:lnTo>
                    <a:pt x="86" y="168"/>
                  </a:lnTo>
                  <a:lnTo>
                    <a:pt x="98" y="177"/>
                  </a:lnTo>
                  <a:lnTo>
                    <a:pt x="81" y="146"/>
                  </a:lnTo>
                  <a:lnTo>
                    <a:pt x="65" y="110"/>
                  </a:lnTo>
                  <a:lnTo>
                    <a:pt x="56" y="89"/>
                  </a:lnTo>
                  <a:lnTo>
                    <a:pt x="36" y="69"/>
                  </a:lnTo>
                  <a:lnTo>
                    <a:pt x="27" y="56"/>
                  </a:lnTo>
                  <a:lnTo>
                    <a:pt x="19" y="41"/>
                  </a:lnTo>
                  <a:lnTo>
                    <a:pt x="12" y="29"/>
                  </a:lnTo>
                  <a:lnTo>
                    <a:pt x="1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6256440" y="4027320"/>
              <a:ext cx="5040" cy="11520"/>
            </a:xfrm>
            <a:custGeom>
              <a:avLst/>
              <a:gdLst/>
              <a:ahLst/>
              <a:rect l="0" t="0" r="r" b="b"/>
              <a:pathLst>
                <a:path w="14" h="32">
                  <a:moveTo>
                    <a:pt x="4" y="0"/>
                  </a:moveTo>
                  <a:lnTo>
                    <a:pt x="14" y="32"/>
                  </a:ln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6070680" y="3932280"/>
              <a:ext cx="227520" cy="162360"/>
            </a:xfrm>
            <a:custGeom>
              <a:avLst/>
              <a:gdLst/>
              <a:ahLst/>
              <a:rect l="0" t="0" r="r" b="b"/>
              <a:pathLst>
                <a:path w="632" h="451">
                  <a:moveTo>
                    <a:pt x="539" y="300"/>
                  </a:moveTo>
                  <a:lnTo>
                    <a:pt x="576" y="334"/>
                  </a:lnTo>
                  <a:lnTo>
                    <a:pt x="588" y="367"/>
                  </a:lnTo>
                  <a:lnTo>
                    <a:pt x="588" y="388"/>
                  </a:lnTo>
                  <a:lnTo>
                    <a:pt x="583" y="409"/>
                  </a:lnTo>
                  <a:lnTo>
                    <a:pt x="632" y="451"/>
                  </a:lnTo>
                  <a:lnTo>
                    <a:pt x="586" y="431"/>
                  </a:lnTo>
                  <a:lnTo>
                    <a:pt x="553" y="427"/>
                  </a:lnTo>
                  <a:lnTo>
                    <a:pt x="507" y="405"/>
                  </a:lnTo>
                  <a:lnTo>
                    <a:pt x="489" y="359"/>
                  </a:lnTo>
                  <a:lnTo>
                    <a:pt x="478" y="343"/>
                  </a:lnTo>
                  <a:lnTo>
                    <a:pt x="453" y="323"/>
                  </a:lnTo>
                  <a:lnTo>
                    <a:pt x="454" y="347"/>
                  </a:lnTo>
                  <a:lnTo>
                    <a:pt x="448" y="371"/>
                  </a:lnTo>
                  <a:lnTo>
                    <a:pt x="435" y="385"/>
                  </a:lnTo>
                  <a:lnTo>
                    <a:pt x="410" y="385"/>
                  </a:lnTo>
                  <a:lnTo>
                    <a:pt x="385" y="377"/>
                  </a:lnTo>
                  <a:lnTo>
                    <a:pt x="354" y="343"/>
                  </a:lnTo>
                  <a:lnTo>
                    <a:pt x="329" y="330"/>
                  </a:lnTo>
                  <a:lnTo>
                    <a:pt x="297" y="323"/>
                  </a:lnTo>
                  <a:lnTo>
                    <a:pt x="260" y="326"/>
                  </a:lnTo>
                  <a:lnTo>
                    <a:pt x="198" y="331"/>
                  </a:lnTo>
                  <a:lnTo>
                    <a:pt x="151" y="341"/>
                  </a:lnTo>
                  <a:lnTo>
                    <a:pt x="150" y="254"/>
                  </a:lnTo>
                  <a:lnTo>
                    <a:pt x="136" y="203"/>
                  </a:lnTo>
                  <a:lnTo>
                    <a:pt x="119" y="183"/>
                  </a:lnTo>
                  <a:lnTo>
                    <a:pt x="101" y="169"/>
                  </a:lnTo>
                  <a:lnTo>
                    <a:pt x="91" y="155"/>
                  </a:lnTo>
                  <a:lnTo>
                    <a:pt x="83" y="143"/>
                  </a:lnTo>
                  <a:lnTo>
                    <a:pt x="64" y="123"/>
                  </a:lnTo>
                  <a:lnTo>
                    <a:pt x="32" y="94"/>
                  </a:lnTo>
                  <a:lnTo>
                    <a:pt x="17" y="74"/>
                  </a:lnTo>
                  <a:lnTo>
                    <a:pt x="9" y="51"/>
                  </a:lnTo>
                  <a:lnTo>
                    <a:pt x="7" y="2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17" y="58"/>
                  </a:lnTo>
                  <a:lnTo>
                    <a:pt x="29" y="82"/>
                  </a:lnTo>
                  <a:lnTo>
                    <a:pt x="53" y="102"/>
                  </a:lnTo>
                  <a:lnTo>
                    <a:pt x="89" y="121"/>
                  </a:lnTo>
                  <a:lnTo>
                    <a:pt x="117" y="139"/>
                  </a:lnTo>
                  <a:lnTo>
                    <a:pt x="136" y="164"/>
                  </a:lnTo>
                  <a:lnTo>
                    <a:pt x="148" y="177"/>
                  </a:lnTo>
                  <a:lnTo>
                    <a:pt x="179" y="177"/>
                  </a:lnTo>
                  <a:lnTo>
                    <a:pt x="223" y="202"/>
                  </a:lnTo>
                  <a:lnTo>
                    <a:pt x="235" y="197"/>
                  </a:lnTo>
                  <a:lnTo>
                    <a:pt x="117" y="95"/>
                  </a:lnTo>
                  <a:lnTo>
                    <a:pt x="79" y="82"/>
                  </a:lnTo>
                  <a:lnTo>
                    <a:pt x="104" y="82"/>
                  </a:lnTo>
                  <a:lnTo>
                    <a:pt x="176" y="102"/>
                  </a:lnTo>
                  <a:lnTo>
                    <a:pt x="162" y="119"/>
                  </a:lnTo>
                  <a:lnTo>
                    <a:pt x="170" y="133"/>
                  </a:lnTo>
                  <a:lnTo>
                    <a:pt x="262" y="203"/>
                  </a:lnTo>
                  <a:lnTo>
                    <a:pt x="301" y="225"/>
                  </a:lnTo>
                  <a:lnTo>
                    <a:pt x="342" y="240"/>
                  </a:lnTo>
                  <a:lnTo>
                    <a:pt x="387" y="249"/>
                  </a:lnTo>
                  <a:lnTo>
                    <a:pt x="436" y="251"/>
                  </a:lnTo>
                  <a:lnTo>
                    <a:pt x="456" y="247"/>
                  </a:lnTo>
                  <a:lnTo>
                    <a:pt x="478" y="290"/>
                  </a:lnTo>
                  <a:lnTo>
                    <a:pt x="513" y="302"/>
                  </a:lnTo>
                  <a:lnTo>
                    <a:pt x="531" y="318"/>
                  </a:lnTo>
                  <a:lnTo>
                    <a:pt x="535" y="331"/>
                  </a:lnTo>
                  <a:lnTo>
                    <a:pt x="537" y="349"/>
                  </a:lnTo>
                  <a:lnTo>
                    <a:pt x="542" y="367"/>
                  </a:lnTo>
                  <a:lnTo>
                    <a:pt x="548" y="383"/>
                  </a:lnTo>
                  <a:lnTo>
                    <a:pt x="556" y="392"/>
                  </a:lnTo>
                  <a:lnTo>
                    <a:pt x="562" y="392"/>
                  </a:lnTo>
                  <a:lnTo>
                    <a:pt x="563" y="388"/>
                  </a:lnTo>
                  <a:lnTo>
                    <a:pt x="566" y="375"/>
                  </a:lnTo>
                  <a:lnTo>
                    <a:pt x="563" y="363"/>
                  </a:lnTo>
                  <a:lnTo>
                    <a:pt x="562" y="349"/>
                  </a:lnTo>
                  <a:lnTo>
                    <a:pt x="566" y="347"/>
                  </a:lnTo>
                  <a:lnTo>
                    <a:pt x="570" y="349"/>
                  </a:lnTo>
                  <a:lnTo>
                    <a:pt x="579" y="367"/>
                  </a:lnTo>
                  <a:lnTo>
                    <a:pt x="577" y="349"/>
                  </a:lnTo>
                  <a:lnTo>
                    <a:pt x="571" y="334"/>
                  </a:lnTo>
                  <a:lnTo>
                    <a:pt x="539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6118200" y="3944880"/>
              <a:ext cx="51120" cy="63720"/>
            </a:xfrm>
            <a:custGeom>
              <a:avLst/>
              <a:gdLst/>
              <a:ahLst/>
              <a:rect l="0" t="0" r="r" b="b"/>
              <a:pathLst>
                <a:path w="142" h="177">
                  <a:moveTo>
                    <a:pt x="0" y="18"/>
                  </a:moveTo>
                  <a:lnTo>
                    <a:pt x="43" y="45"/>
                  </a:lnTo>
                  <a:lnTo>
                    <a:pt x="79" y="45"/>
                  </a:lnTo>
                  <a:lnTo>
                    <a:pt x="56" y="0"/>
                  </a:lnTo>
                  <a:lnTo>
                    <a:pt x="103" y="65"/>
                  </a:lnTo>
                  <a:lnTo>
                    <a:pt x="124" y="136"/>
                  </a:lnTo>
                  <a:lnTo>
                    <a:pt x="135" y="107"/>
                  </a:lnTo>
                  <a:lnTo>
                    <a:pt x="135" y="51"/>
                  </a:lnTo>
                  <a:lnTo>
                    <a:pt x="142" y="107"/>
                  </a:lnTo>
                  <a:lnTo>
                    <a:pt x="132" y="177"/>
                  </a:lnTo>
                  <a:lnTo>
                    <a:pt x="103" y="101"/>
                  </a:lnTo>
                  <a:lnTo>
                    <a:pt x="84" y="82"/>
                  </a:lnTo>
                  <a:lnTo>
                    <a:pt x="81" y="67"/>
                  </a:lnTo>
                  <a:lnTo>
                    <a:pt x="53" y="51"/>
                  </a:lnTo>
                  <a:lnTo>
                    <a:pt x="38" y="5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6064200" y="3954600"/>
              <a:ext cx="46440" cy="41760"/>
            </a:xfrm>
            <a:custGeom>
              <a:avLst/>
              <a:gdLst/>
              <a:ahLst/>
              <a:rect l="0" t="0" r="r" b="b"/>
              <a:pathLst>
                <a:path w="129" h="116">
                  <a:moveTo>
                    <a:pt x="0" y="0"/>
                  </a:moveTo>
                  <a:lnTo>
                    <a:pt x="85" y="94"/>
                  </a:lnTo>
                  <a:lnTo>
                    <a:pt x="129" y="116"/>
                  </a:lnTo>
                  <a:lnTo>
                    <a:pt x="107" y="116"/>
                  </a:lnTo>
                  <a:lnTo>
                    <a:pt x="65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6066000" y="3973680"/>
              <a:ext cx="27360" cy="49680"/>
            </a:xfrm>
            <a:custGeom>
              <a:avLst/>
              <a:gdLst/>
              <a:ahLst/>
              <a:rect l="0" t="0" r="r" b="b"/>
              <a:pathLst>
                <a:path w="76" h="138">
                  <a:moveTo>
                    <a:pt x="56" y="62"/>
                  </a:moveTo>
                  <a:lnTo>
                    <a:pt x="0" y="0"/>
                  </a:lnTo>
                  <a:lnTo>
                    <a:pt x="2" y="25"/>
                  </a:lnTo>
                  <a:lnTo>
                    <a:pt x="25" y="94"/>
                  </a:lnTo>
                  <a:lnTo>
                    <a:pt x="76" y="138"/>
                  </a:lnTo>
                  <a:lnTo>
                    <a:pt x="26" y="84"/>
                  </a:lnTo>
                  <a:lnTo>
                    <a:pt x="18" y="62"/>
                  </a:lnTo>
                  <a:lnTo>
                    <a:pt x="18" y="46"/>
                  </a:lnTo>
                  <a:lnTo>
                    <a:pt x="35" y="46"/>
                  </a:lnTo>
                  <a:lnTo>
                    <a:pt x="5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033960" y="395604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62" y="13"/>
                  </a:moveTo>
                  <a:lnTo>
                    <a:pt x="102" y="138"/>
                  </a:lnTo>
                  <a:lnTo>
                    <a:pt x="190" y="253"/>
                  </a:lnTo>
                  <a:lnTo>
                    <a:pt x="95" y="144"/>
                  </a:lnTo>
                  <a:lnTo>
                    <a:pt x="95" y="162"/>
                  </a:lnTo>
                  <a:lnTo>
                    <a:pt x="138" y="235"/>
                  </a:lnTo>
                  <a:lnTo>
                    <a:pt x="105" y="194"/>
                  </a:lnTo>
                  <a:lnTo>
                    <a:pt x="115" y="244"/>
                  </a:lnTo>
                  <a:lnTo>
                    <a:pt x="142" y="262"/>
                  </a:lnTo>
                  <a:lnTo>
                    <a:pt x="175" y="264"/>
                  </a:lnTo>
                  <a:lnTo>
                    <a:pt x="208" y="261"/>
                  </a:lnTo>
                  <a:lnTo>
                    <a:pt x="228" y="253"/>
                  </a:lnTo>
                  <a:lnTo>
                    <a:pt x="242" y="242"/>
                  </a:lnTo>
                  <a:lnTo>
                    <a:pt x="253" y="229"/>
                  </a:lnTo>
                  <a:lnTo>
                    <a:pt x="257" y="276"/>
                  </a:lnTo>
                  <a:lnTo>
                    <a:pt x="259" y="315"/>
                  </a:lnTo>
                  <a:lnTo>
                    <a:pt x="265" y="338"/>
                  </a:lnTo>
                  <a:lnTo>
                    <a:pt x="274" y="347"/>
                  </a:lnTo>
                  <a:lnTo>
                    <a:pt x="262" y="339"/>
                  </a:lnTo>
                  <a:lnTo>
                    <a:pt x="255" y="327"/>
                  </a:lnTo>
                  <a:lnTo>
                    <a:pt x="226" y="331"/>
                  </a:lnTo>
                  <a:lnTo>
                    <a:pt x="202" y="331"/>
                  </a:lnTo>
                  <a:lnTo>
                    <a:pt x="187" y="329"/>
                  </a:lnTo>
                  <a:lnTo>
                    <a:pt x="202" y="341"/>
                  </a:lnTo>
                  <a:lnTo>
                    <a:pt x="223" y="350"/>
                  </a:lnTo>
                  <a:lnTo>
                    <a:pt x="259" y="353"/>
                  </a:lnTo>
                  <a:lnTo>
                    <a:pt x="243" y="363"/>
                  </a:lnTo>
                  <a:lnTo>
                    <a:pt x="223" y="366"/>
                  </a:lnTo>
                  <a:lnTo>
                    <a:pt x="196" y="366"/>
                  </a:lnTo>
                  <a:lnTo>
                    <a:pt x="172" y="357"/>
                  </a:lnTo>
                  <a:lnTo>
                    <a:pt x="153" y="351"/>
                  </a:lnTo>
                  <a:lnTo>
                    <a:pt x="146" y="351"/>
                  </a:lnTo>
                  <a:lnTo>
                    <a:pt x="136" y="361"/>
                  </a:lnTo>
                  <a:lnTo>
                    <a:pt x="106" y="385"/>
                  </a:lnTo>
                  <a:lnTo>
                    <a:pt x="97" y="357"/>
                  </a:lnTo>
                  <a:lnTo>
                    <a:pt x="84" y="350"/>
                  </a:lnTo>
                  <a:lnTo>
                    <a:pt x="33" y="269"/>
                  </a:lnTo>
                  <a:lnTo>
                    <a:pt x="11" y="174"/>
                  </a:lnTo>
                  <a:lnTo>
                    <a:pt x="12" y="123"/>
                  </a:lnTo>
                  <a:lnTo>
                    <a:pt x="0" y="61"/>
                  </a:lnTo>
                  <a:lnTo>
                    <a:pt x="1" y="45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9" y="45"/>
                  </a:lnTo>
                  <a:lnTo>
                    <a:pt x="7" y="57"/>
                  </a:lnTo>
                  <a:lnTo>
                    <a:pt x="11" y="81"/>
                  </a:lnTo>
                  <a:lnTo>
                    <a:pt x="21" y="110"/>
                  </a:lnTo>
                  <a:lnTo>
                    <a:pt x="33" y="69"/>
                  </a:lnTo>
                  <a:lnTo>
                    <a:pt x="50" y="57"/>
                  </a:lnTo>
                  <a:lnTo>
                    <a:pt x="35" y="41"/>
                  </a:lnTo>
                  <a:lnTo>
                    <a:pt x="40" y="21"/>
                  </a:lnTo>
                  <a:lnTo>
                    <a:pt x="50" y="5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6024600" y="4084560"/>
              <a:ext cx="106560" cy="62280"/>
            </a:xfrm>
            <a:custGeom>
              <a:avLst/>
              <a:gdLst/>
              <a:ahLst/>
              <a:rect l="0" t="0" r="r" b="b"/>
              <a:pathLst>
                <a:path w="296" h="173">
                  <a:moveTo>
                    <a:pt x="176" y="0"/>
                  </a:moveTo>
                  <a:lnTo>
                    <a:pt x="169" y="16"/>
                  </a:lnTo>
                  <a:lnTo>
                    <a:pt x="144" y="37"/>
                  </a:lnTo>
                  <a:lnTo>
                    <a:pt x="106" y="59"/>
                  </a:lnTo>
                  <a:lnTo>
                    <a:pt x="60" y="75"/>
                  </a:lnTo>
                  <a:lnTo>
                    <a:pt x="73" y="78"/>
                  </a:lnTo>
                  <a:lnTo>
                    <a:pt x="87" y="84"/>
                  </a:lnTo>
                  <a:lnTo>
                    <a:pt x="99" y="84"/>
                  </a:lnTo>
                  <a:lnTo>
                    <a:pt x="99" y="78"/>
                  </a:lnTo>
                  <a:lnTo>
                    <a:pt x="121" y="76"/>
                  </a:lnTo>
                  <a:lnTo>
                    <a:pt x="117" y="67"/>
                  </a:lnTo>
                  <a:lnTo>
                    <a:pt x="175" y="39"/>
                  </a:lnTo>
                  <a:lnTo>
                    <a:pt x="169" y="32"/>
                  </a:lnTo>
                  <a:lnTo>
                    <a:pt x="195" y="39"/>
                  </a:lnTo>
                  <a:lnTo>
                    <a:pt x="214" y="45"/>
                  </a:lnTo>
                  <a:lnTo>
                    <a:pt x="239" y="45"/>
                  </a:lnTo>
                  <a:lnTo>
                    <a:pt x="210" y="36"/>
                  </a:lnTo>
                  <a:lnTo>
                    <a:pt x="181" y="24"/>
                  </a:lnTo>
                  <a:lnTo>
                    <a:pt x="216" y="29"/>
                  </a:lnTo>
                  <a:lnTo>
                    <a:pt x="243" y="32"/>
                  </a:lnTo>
                  <a:lnTo>
                    <a:pt x="264" y="29"/>
                  </a:lnTo>
                  <a:lnTo>
                    <a:pt x="283" y="26"/>
                  </a:lnTo>
                  <a:lnTo>
                    <a:pt x="296" y="18"/>
                  </a:lnTo>
                  <a:lnTo>
                    <a:pt x="292" y="27"/>
                  </a:lnTo>
                  <a:lnTo>
                    <a:pt x="281" y="39"/>
                  </a:lnTo>
                  <a:lnTo>
                    <a:pt x="266" y="47"/>
                  </a:lnTo>
                  <a:lnTo>
                    <a:pt x="252" y="55"/>
                  </a:lnTo>
                  <a:lnTo>
                    <a:pt x="240" y="67"/>
                  </a:lnTo>
                  <a:lnTo>
                    <a:pt x="238" y="76"/>
                  </a:lnTo>
                  <a:lnTo>
                    <a:pt x="238" y="91"/>
                  </a:lnTo>
                  <a:lnTo>
                    <a:pt x="208" y="91"/>
                  </a:lnTo>
                  <a:lnTo>
                    <a:pt x="191" y="84"/>
                  </a:lnTo>
                  <a:lnTo>
                    <a:pt x="167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23" y="105"/>
                  </a:lnTo>
                  <a:lnTo>
                    <a:pt x="99" y="112"/>
                  </a:lnTo>
                  <a:lnTo>
                    <a:pt x="91" y="114"/>
                  </a:lnTo>
                  <a:lnTo>
                    <a:pt x="86" y="121"/>
                  </a:lnTo>
                  <a:lnTo>
                    <a:pt x="84" y="129"/>
                  </a:lnTo>
                  <a:lnTo>
                    <a:pt x="84" y="140"/>
                  </a:lnTo>
                  <a:lnTo>
                    <a:pt x="84" y="173"/>
                  </a:lnTo>
                  <a:lnTo>
                    <a:pt x="64" y="173"/>
                  </a:lnTo>
                  <a:lnTo>
                    <a:pt x="42" y="168"/>
                  </a:lnTo>
                  <a:lnTo>
                    <a:pt x="24" y="158"/>
                  </a:lnTo>
                  <a:lnTo>
                    <a:pt x="9" y="141"/>
                  </a:lnTo>
                  <a:lnTo>
                    <a:pt x="0" y="127"/>
                  </a:lnTo>
                  <a:lnTo>
                    <a:pt x="4" y="103"/>
                  </a:lnTo>
                  <a:lnTo>
                    <a:pt x="12" y="89"/>
                  </a:lnTo>
                  <a:lnTo>
                    <a:pt x="26" y="75"/>
                  </a:lnTo>
                  <a:lnTo>
                    <a:pt x="45" y="67"/>
                  </a:lnTo>
                  <a:lnTo>
                    <a:pt x="71" y="61"/>
                  </a:lnTo>
                  <a:lnTo>
                    <a:pt x="97" y="53"/>
                  </a:lnTo>
                  <a:lnTo>
                    <a:pt x="120" y="39"/>
                  </a:lnTo>
                  <a:lnTo>
                    <a:pt x="138" y="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6051600" y="4084560"/>
              <a:ext cx="89280" cy="62280"/>
            </a:xfrm>
            <a:custGeom>
              <a:avLst/>
              <a:gdLst/>
              <a:ahLst/>
              <a:rect l="0" t="0" r="r" b="b"/>
              <a:pathLst>
                <a:path w="248" h="173">
                  <a:moveTo>
                    <a:pt x="230" y="0"/>
                  </a:moveTo>
                  <a:lnTo>
                    <a:pt x="236" y="14"/>
                  </a:lnTo>
                  <a:lnTo>
                    <a:pt x="242" y="51"/>
                  </a:lnTo>
                  <a:lnTo>
                    <a:pt x="248" y="96"/>
                  </a:lnTo>
                  <a:lnTo>
                    <a:pt x="227" y="122"/>
                  </a:lnTo>
                  <a:lnTo>
                    <a:pt x="203" y="144"/>
                  </a:lnTo>
                  <a:lnTo>
                    <a:pt x="170" y="151"/>
                  </a:lnTo>
                  <a:lnTo>
                    <a:pt x="161" y="135"/>
                  </a:lnTo>
                  <a:lnTo>
                    <a:pt x="171" y="145"/>
                  </a:lnTo>
                  <a:lnTo>
                    <a:pt x="171" y="120"/>
                  </a:lnTo>
                  <a:lnTo>
                    <a:pt x="142" y="139"/>
                  </a:lnTo>
                  <a:lnTo>
                    <a:pt x="98" y="158"/>
                  </a:lnTo>
                  <a:lnTo>
                    <a:pt x="51" y="170"/>
                  </a:lnTo>
                  <a:lnTo>
                    <a:pt x="24" y="173"/>
                  </a:lnTo>
                  <a:lnTo>
                    <a:pt x="6" y="173"/>
                  </a:lnTo>
                  <a:lnTo>
                    <a:pt x="0" y="137"/>
                  </a:lnTo>
                  <a:lnTo>
                    <a:pt x="4" y="133"/>
                  </a:lnTo>
                  <a:lnTo>
                    <a:pt x="15" y="137"/>
                  </a:lnTo>
                  <a:lnTo>
                    <a:pt x="31" y="137"/>
                  </a:lnTo>
                  <a:lnTo>
                    <a:pt x="57" y="133"/>
                  </a:lnTo>
                  <a:lnTo>
                    <a:pt x="85" y="125"/>
                  </a:lnTo>
                  <a:lnTo>
                    <a:pt x="114" y="112"/>
                  </a:lnTo>
                  <a:lnTo>
                    <a:pt x="138" y="98"/>
                  </a:lnTo>
                  <a:lnTo>
                    <a:pt x="152" y="90"/>
                  </a:lnTo>
                  <a:lnTo>
                    <a:pt x="175" y="86"/>
                  </a:lnTo>
                  <a:lnTo>
                    <a:pt x="197" y="75"/>
                  </a:lnTo>
                  <a:lnTo>
                    <a:pt x="205" y="67"/>
                  </a:lnTo>
                  <a:lnTo>
                    <a:pt x="209" y="53"/>
                  </a:lnTo>
                  <a:lnTo>
                    <a:pt x="219" y="42"/>
                  </a:lnTo>
                  <a:lnTo>
                    <a:pt x="228" y="32"/>
                  </a:lnTo>
                  <a:lnTo>
                    <a:pt x="232" y="24"/>
                  </a:lnTo>
                  <a:lnTo>
                    <a:pt x="233" y="14"/>
                  </a:lnTo>
                  <a:lnTo>
                    <a:pt x="232" y="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 flipV="1">
              <a:off x="5815080" y="3873600"/>
              <a:ext cx="3240" cy="114120"/>
            </a:xfrm>
            <a:prstGeom prst="line">
              <a:avLst/>
            </a:prstGeom>
            <a:ln w="152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816520" y="3933720"/>
              <a:ext cx="89280" cy="68760"/>
            </a:xfrm>
            <a:custGeom>
              <a:avLst/>
              <a:gdLst/>
              <a:ahLst/>
              <a:rect l="0" t="0" r="r" b="b"/>
              <a:pathLst>
                <a:path w="248" h="191">
                  <a:moveTo>
                    <a:pt x="4" y="0"/>
                  </a:moveTo>
                  <a:lnTo>
                    <a:pt x="244" y="93"/>
                  </a:lnTo>
                  <a:lnTo>
                    <a:pt x="248" y="191"/>
                  </a:lnTo>
                  <a:lnTo>
                    <a:pt x="0" y="16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738760" y="3929040"/>
              <a:ext cx="79560" cy="120960"/>
            </a:xfrm>
            <a:custGeom>
              <a:avLst/>
              <a:gdLst/>
              <a:ahLst/>
              <a:rect l="0" t="0" r="r" b="b"/>
              <a:pathLst>
                <a:path w="221" h="336">
                  <a:moveTo>
                    <a:pt x="221" y="0"/>
                  </a:moveTo>
                  <a:lnTo>
                    <a:pt x="0" y="245"/>
                  </a:lnTo>
                  <a:lnTo>
                    <a:pt x="0" y="336"/>
                  </a:lnTo>
                  <a:lnTo>
                    <a:pt x="217" y="16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749920" y="3914640"/>
              <a:ext cx="68760" cy="74880"/>
            </a:xfrm>
            <a:custGeom>
              <a:avLst/>
              <a:gdLst/>
              <a:ahLst/>
              <a:rect l="0" t="0" r="r" b="b"/>
              <a:pathLst>
                <a:path fill="none" w="191" h="208">
                  <a:moveTo>
                    <a:pt x="191" y="43"/>
                  </a:moveTo>
                  <a:lnTo>
                    <a:pt x="7" y="0"/>
                  </a:lnTo>
                  <a:lnTo>
                    <a:pt x="0" y="77"/>
                  </a:lnTo>
                  <a:lnTo>
                    <a:pt x="179" y="20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830920" y="3951360"/>
              <a:ext cx="14400" cy="28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856120" y="3963960"/>
              <a:ext cx="12600" cy="2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880240" y="3970440"/>
              <a:ext cx="12600" cy="1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786280" y="3938760"/>
              <a:ext cx="1440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773680" y="3930480"/>
              <a:ext cx="1116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757840" y="3921120"/>
              <a:ext cx="7920" cy="1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786280" y="3965400"/>
              <a:ext cx="14400" cy="3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764320" y="3989520"/>
              <a:ext cx="126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46680" y="4008600"/>
              <a:ext cx="11160" cy="2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73680" y="374652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63"/>
                  </a:moveTo>
                  <a:lnTo>
                    <a:pt x="171" y="173"/>
                  </a:lnTo>
                  <a:lnTo>
                    <a:pt x="274" y="120"/>
                  </a:lnTo>
                  <a:lnTo>
                    <a:pt x="94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62520" y="3770280"/>
              <a:ext cx="71640" cy="125640"/>
            </a:xfrm>
            <a:custGeom>
              <a:avLst/>
              <a:gdLst/>
              <a:ahLst/>
              <a:rect l="0" t="0" r="r" b="b"/>
              <a:pathLst>
                <a:path w="199" h="349">
                  <a:moveTo>
                    <a:pt x="199" y="110"/>
                  </a:moveTo>
                  <a:lnTo>
                    <a:pt x="171" y="349"/>
                  </a:lnTo>
                  <a:lnTo>
                    <a:pt x="0" y="229"/>
                  </a:lnTo>
                  <a:lnTo>
                    <a:pt x="32" y="0"/>
                  </a:lnTo>
                  <a:lnTo>
                    <a:pt x="199" y="110"/>
                  </a:lnTo>
                  <a:close/>
                </a:path>
              </a:pathLst>
            </a:custGeom>
            <a:solidFill>
              <a:srgbClr val="c0fef9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826240" y="3795840"/>
              <a:ext cx="44640" cy="101880"/>
            </a:xfrm>
            <a:custGeom>
              <a:avLst/>
              <a:gdLst/>
              <a:ahLst/>
              <a:rect l="0" t="0" r="r" b="b"/>
              <a:pathLst>
                <a:path w="124" h="283">
                  <a:moveTo>
                    <a:pt x="124" y="0"/>
                  </a:moveTo>
                  <a:lnTo>
                    <a:pt x="95" y="240"/>
                  </a:lnTo>
                  <a:lnTo>
                    <a:pt x="0" y="283"/>
                  </a:lnTo>
                  <a:lnTo>
                    <a:pt x="32" y="4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845320" y="3887640"/>
              <a:ext cx="136800" cy="47880"/>
            </a:xfrm>
            <a:custGeom>
              <a:avLst/>
              <a:gdLst/>
              <a:ahLst/>
              <a:rect l="0" t="0" r="r" b="b"/>
              <a:pathLst>
                <a:path fill="none" w="380" h="133">
                  <a:moveTo>
                    <a:pt x="380" y="119"/>
                  </a:moveTo>
                  <a:lnTo>
                    <a:pt x="380" y="111"/>
                  </a:lnTo>
                  <a:lnTo>
                    <a:pt x="361" y="100"/>
                  </a:lnTo>
                  <a:lnTo>
                    <a:pt x="352" y="95"/>
                  </a:lnTo>
                  <a:lnTo>
                    <a:pt x="345" y="87"/>
                  </a:lnTo>
                  <a:lnTo>
                    <a:pt x="335" y="79"/>
                  </a:lnTo>
                  <a:lnTo>
                    <a:pt x="327" y="73"/>
                  </a:lnTo>
                  <a:lnTo>
                    <a:pt x="317" y="65"/>
                  </a:lnTo>
                  <a:lnTo>
                    <a:pt x="304" y="61"/>
                  </a:lnTo>
                  <a:lnTo>
                    <a:pt x="294" y="59"/>
                  </a:lnTo>
                  <a:lnTo>
                    <a:pt x="287" y="56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64" y="68"/>
                  </a:lnTo>
                  <a:lnTo>
                    <a:pt x="259" y="77"/>
                  </a:lnTo>
                  <a:lnTo>
                    <a:pt x="253" y="85"/>
                  </a:lnTo>
                  <a:lnTo>
                    <a:pt x="246" y="90"/>
                  </a:lnTo>
                  <a:lnTo>
                    <a:pt x="241" y="98"/>
                  </a:lnTo>
                  <a:lnTo>
                    <a:pt x="232" y="106"/>
                  </a:lnTo>
                  <a:lnTo>
                    <a:pt x="225" y="117"/>
                  </a:lnTo>
                  <a:lnTo>
                    <a:pt x="218" y="122"/>
                  </a:lnTo>
                  <a:lnTo>
                    <a:pt x="208" y="127"/>
                  </a:lnTo>
                  <a:lnTo>
                    <a:pt x="200" y="133"/>
                  </a:lnTo>
                  <a:lnTo>
                    <a:pt x="179" y="133"/>
                  </a:lnTo>
                  <a:lnTo>
                    <a:pt x="161" y="133"/>
                  </a:lnTo>
                  <a:lnTo>
                    <a:pt x="153" y="133"/>
                  </a:lnTo>
                  <a:lnTo>
                    <a:pt x="143" y="133"/>
                  </a:lnTo>
                  <a:lnTo>
                    <a:pt x="133" y="133"/>
                  </a:lnTo>
                  <a:lnTo>
                    <a:pt x="125" y="133"/>
                  </a:lnTo>
                  <a:lnTo>
                    <a:pt x="118" y="133"/>
                  </a:lnTo>
                  <a:lnTo>
                    <a:pt x="110" y="127"/>
                  </a:lnTo>
                  <a:lnTo>
                    <a:pt x="102" y="125"/>
                  </a:lnTo>
                  <a:lnTo>
                    <a:pt x="92" y="119"/>
                  </a:lnTo>
                  <a:lnTo>
                    <a:pt x="83" y="100"/>
                  </a:lnTo>
                  <a:lnTo>
                    <a:pt x="74" y="90"/>
                  </a:lnTo>
                  <a:lnTo>
                    <a:pt x="60" y="85"/>
                  </a:lnTo>
                  <a:lnTo>
                    <a:pt x="44" y="77"/>
                  </a:lnTo>
                  <a:lnTo>
                    <a:pt x="34" y="65"/>
                  </a:lnTo>
                  <a:lnTo>
                    <a:pt x="27" y="53"/>
                  </a:lnTo>
                  <a:lnTo>
                    <a:pt x="21" y="48"/>
                  </a:lnTo>
                  <a:lnTo>
                    <a:pt x="16" y="40"/>
                  </a:lnTo>
                  <a:lnTo>
                    <a:pt x="9" y="32"/>
                  </a:lnTo>
                  <a:lnTo>
                    <a:pt x="6" y="15"/>
                  </a:lnTo>
                  <a:lnTo>
                    <a:pt x="2" y="7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840280" y="3889440"/>
              <a:ext cx="136800" cy="49680"/>
            </a:xfrm>
            <a:custGeom>
              <a:avLst/>
              <a:gdLst/>
              <a:ahLst/>
              <a:rect l="0" t="0" r="r" b="b"/>
              <a:pathLst>
                <a:path fill="none" w="380" h="138">
                  <a:moveTo>
                    <a:pt x="380" y="124"/>
                  </a:moveTo>
                  <a:lnTo>
                    <a:pt x="380" y="116"/>
                  </a:lnTo>
                  <a:lnTo>
                    <a:pt x="361" y="105"/>
                  </a:lnTo>
                  <a:lnTo>
                    <a:pt x="352" y="98"/>
                  </a:lnTo>
                  <a:lnTo>
                    <a:pt x="345" y="90"/>
                  </a:lnTo>
                  <a:lnTo>
                    <a:pt x="335" y="82"/>
                  </a:lnTo>
                  <a:lnTo>
                    <a:pt x="327" y="76"/>
                  </a:lnTo>
                  <a:lnTo>
                    <a:pt x="317" y="68"/>
                  </a:lnTo>
                  <a:lnTo>
                    <a:pt x="304" y="64"/>
                  </a:lnTo>
                  <a:lnTo>
                    <a:pt x="294" y="62"/>
                  </a:lnTo>
                  <a:lnTo>
                    <a:pt x="287" y="58"/>
                  </a:lnTo>
                  <a:lnTo>
                    <a:pt x="278" y="62"/>
                  </a:lnTo>
                  <a:lnTo>
                    <a:pt x="271" y="68"/>
                  </a:lnTo>
                  <a:lnTo>
                    <a:pt x="264" y="70"/>
                  </a:lnTo>
                  <a:lnTo>
                    <a:pt x="259" y="79"/>
                  </a:lnTo>
                  <a:lnTo>
                    <a:pt x="253" y="87"/>
                  </a:lnTo>
                  <a:lnTo>
                    <a:pt x="246" y="93"/>
                  </a:lnTo>
                  <a:lnTo>
                    <a:pt x="241" y="101"/>
                  </a:lnTo>
                  <a:lnTo>
                    <a:pt x="232" y="110"/>
                  </a:lnTo>
                  <a:lnTo>
                    <a:pt x="225" y="122"/>
                  </a:lnTo>
                  <a:lnTo>
                    <a:pt x="218" y="127"/>
                  </a:lnTo>
                  <a:lnTo>
                    <a:pt x="208" y="132"/>
                  </a:lnTo>
                  <a:lnTo>
                    <a:pt x="200" y="138"/>
                  </a:lnTo>
                  <a:lnTo>
                    <a:pt x="179" y="138"/>
                  </a:lnTo>
                  <a:lnTo>
                    <a:pt x="161" y="138"/>
                  </a:lnTo>
                  <a:lnTo>
                    <a:pt x="153" y="138"/>
                  </a:lnTo>
                  <a:lnTo>
                    <a:pt x="143" y="138"/>
                  </a:lnTo>
                  <a:lnTo>
                    <a:pt x="133" y="138"/>
                  </a:lnTo>
                  <a:lnTo>
                    <a:pt x="125" y="138"/>
                  </a:lnTo>
                  <a:lnTo>
                    <a:pt x="118" y="138"/>
                  </a:lnTo>
                  <a:lnTo>
                    <a:pt x="110" y="132"/>
                  </a:lnTo>
                  <a:lnTo>
                    <a:pt x="102" y="130"/>
                  </a:lnTo>
                  <a:lnTo>
                    <a:pt x="92" y="124"/>
                  </a:lnTo>
                  <a:lnTo>
                    <a:pt x="83" y="105"/>
                  </a:lnTo>
                  <a:lnTo>
                    <a:pt x="74" y="93"/>
                  </a:lnTo>
                  <a:lnTo>
                    <a:pt x="60" y="87"/>
                  </a:lnTo>
                  <a:lnTo>
                    <a:pt x="44" y="79"/>
                  </a:lnTo>
                  <a:lnTo>
                    <a:pt x="34" y="68"/>
                  </a:lnTo>
                  <a:lnTo>
                    <a:pt x="27" y="56"/>
                  </a:lnTo>
                  <a:lnTo>
                    <a:pt x="21" y="50"/>
                  </a:lnTo>
                  <a:lnTo>
                    <a:pt x="16" y="42"/>
                  </a:lnTo>
                  <a:lnTo>
                    <a:pt x="9" y="33"/>
                  </a:lnTo>
                  <a:lnTo>
                    <a:pt x="6" y="16"/>
                  </a:lnTo>
                  <a:lnTo>
                    <a:pt x="2" y="8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919191"/>
              </a:solidFill>
              <a:round/>
            </a:ln>
          </p:spPr>
          <p:txBody>
            <a:bodyPr lIns="102600" rIns="1026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5896080" y="4156200"/>
            <a:ext cx="851040" cy="587160"/>
            <a:chOff x="5896080" y="4156200"/>
            <a:chExt cx="851040" cy="587160"/>
          </a:xfrm>
        </p:grpSpPr>
        <p:pic>
          <p:nvPicPr>
            <p:cNvPr id="5198" name="" descr=""/>
            <p:cNvPicPr/>
            <p:nvPr/>
          </p:nvPicPr>
          <p:blipFill>
            <a:blip r:embed="rId15"/>
            <a:stretch/>
          </p:blipFill>
          <p:spPr>
            <a:xfrm>
              <a:off x="6437160" y="4156200"/>
              <a:ext cx="1573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9" name="" descr=""/>
            <p:cNvPicPr/>
            <p:nvPr/>
          </p:nvPicPr>
          <p:blipFill>
            <a:blip r:embed="rId16"/>
            <a:stretch/>
          </p:blipFill>
          <p:spPr>
            <a:xfrm>
              <a:off x="5896080" y="4351320"/>
              <a:ext cx="85104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0" name=""/>
          <p:cNvGrpSpPr/>
          <p:nvPr/>
        </p:nvGrpSpPr>
        <p:grpSpPr>
          <a:xfrm>
            <a:off x="4240080" y="4930920"/>
            <a:ext cx="538920" cy="370800"/>
            <a:chOff x="4240080" y="4930920"/>
            <a:chExt cx="538920" cy="370800"/>
          </a:xfrm>
        </p:grpSpPr>
        <p:grpSp>
          <p:nvGrpSpPr>
            <p:cNvPr id="5201" name=""/>
            <p:cNvGrpSpPr/>
            <p:nvPr/>
          </p:nvGrpSpPr>
          <p:grpSpPr>
            <a:xfrm>
              <a:off x="4287960" y="4930920"/>
              <a:ext cx="294120" cy="192240"/>
              <a:chOff x="4287960" y="4930920"/>
              <a:chExt cx="294120" cy="192240"/>
            </a:xfrm>
          </p:grpSpPr>
          <p:sp>
            <p:nvSpPr>
              <p:cNvPr id="5202" name=""/>
              <p:cNvSpPr/>
              <p:nvPr/>
            </p:nvSpPr>
            <p:spPr>
              <a:xfrm>
                <a:off x="4287960" y="4930920"/>
                <a:ext cx="294120" cy="184680"/>
              </a:xfrm>
              <a:custGeom>
                <a:avLst/>
                <a:gdLst/>
                <a:ahLst/>
                <a:rect l="0" t="0" r="r" b="b"/>
                <a:pathLst>
                  <a:path w="817" h="513">
                    <a:moveTo>
                      <a:pt x="0" y="513"/>
                    </a:moveTo>
                    <a:lnTo>
                      <a:pt x="817" y="513"/>
                    </a:lnTo>
                    <a:lnTo>
                      <a:pt x="408" y="0"/>
                    </a:lnTo>
                    <a:lnTo>
                      <a:pt x="0" y="513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4374360" y="5002200"/>
                <a:ext cx="34560" cy="120960"/>
              </a:xfrm>
              <a:custGeom>
                <a:avLst/>
                <a:gdLst/>
                <a:ahLst/>
                <a:rect l="0" t="0" r="r" b="b"/>
                <a:pathLst>
                  <a:path w="96" h="336">
                    <a:moveTo>
                      <a:pt x="0" y="336"/>
                    </a:moveTo>
                    <a:lnTo>
                      <a:pt x="96" y="336"/>
                    </a:lnTo>
                    <a:lnTo>
                      <a:pt x="96" y="336"/>
                    </a:lnTo>
                    <a:lnTo>
                      <a:pt x="96" y="336"/>
                    </a:lnTo>
                    <a:cubicBezTo>
                      <a:pt x="96" y="277"/>
                      <a:pt x="92" y="219"/>
                      <a:pt x="83" y="168"/>
                    </a:cubicBezTo>
                    <a:cubicBezTo>
                      <a:pt x="75" y="117"/>
                      <a:pt x="63" y="75"/>
                      <a:pt x="48" y="45"/>
                    </a:cubicBezTo>
                    <a:cubicBezTo>
                      <a:pt x="33" y="16"/>
                      <a:pt x="17" y="0"/>
                      <a:pt x="0" y="0"/>
                    </a:cubicBez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4457880" y="5002200"/>
                <a:ext cx="33840" cy="120960"/>
              </a:xfrm>
              <a:custGeom>
                <a:avLst/>
                <a:gdLst/>
                <a:ahLst/>
                <a:rect l="0" t="0" r="r" b="b"/>
                <a:pathLst>
                  <a:path w="94" h="336">
                    <a:moveTo>
                      <a:pt x="94" y="336"/>
                    </a:moveTo>
                    <a:lnTo>
                      <a:pt x="94" y="0"/>
                    </a:lnTo>
                    <a:lnTo>
                      <a:pt x="94" y="0"/>
                    </a:lnTo>
                    <a:cubicBezTo>
                      <a:pt x="77" y="0"/>
                      <a:pt x="61" y="16"/>
                      <a:pt x="47" y="45"/>
                    </a:cubicBezTo>
                    <a:cubicBezTo>
                      <a:pt x="33" y="75"/>
                      <a:pt x="21" y="117"/>
                      <a:pt x="13" y="168"/>
                    </a:cubicBezTo>
                    <a:cubicBezTo>
                      <a:pt x="4" y="219"/>
                      <a:pt x="0" y="277"/>
                      <a:pt x="0" y="336"/>
                    </a:cubicBezTo>
                    <a:lnTo>
                      <a:pt x="94" y="33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4354560" y="4989600"/>
                <a:ext cx="163800" cy="125640"/>
              </a:xfrm>
              <a:custGeom>
                <a:avLst/>
                <a:gdLst/>
                <a:ahLst/>
                <a:rect l="0" t="0" r="r" b="b"/>
                <a:pathLst>
                  <a:path w="455" h="349">
                    <a:moveTo>
                      <a:pt x="220" y="0"/>
                    </a:moveTo>
                    <a:lnTo>
                      <a:pt x="220" y="11"/>
                    </a:lnTo>
                    <a:lnTo>
                      <a:pt x="220" y="19"/>
                    </a:lnTo>
                    <a:lnTo>
                      <a:pt x="218" y="28"/>
                    </a:lnTo>
                    <a:lnTo>
                      <a:pt x="216" y="37"/>
                    </a:lnTo>
                    <a:lnTo>
                      <a:pt x="213" y="45"/>
                    </a:lnTo>
                    <a:lnTo>
                      <a:pt x="208" y="56"/>
                    </a:lnTo>
                    <a:lnTo>
                      <a:pt x="205" y="65"/>
                    </a:lnTo>
                    <a:lnTo>
                      <a:pt x="203" y="74"/>
                    </a:lnTo>
                    <a:lnTo>
                      <a:pt x="198" y="85"/>
                    </a:lnTo>
                    <a:lnTo>
                      <a:pt x="191" y="97"/>
                    </a:lnTo>
                    <a:lnTo>
                      <a:pt x="183" y="102"/>
                    </a:lnTo>
                    <a:lnTo>
                      <a:pt x="179" y="111"/>
                    </a:lnTo>
                    <a:lnTo>
                      <a:pt x="171" y="116"/>
                    </a:lnTo>
                    <a:lnTo>
                      <a:pt x="166" y="125"/>
                    </a:lnTo>
                    <a:lnTo>
                      <a:pt x="164" y="137"/>
                    </a:lnTo>
                    <a:lnTo>
                      <a:pt x="158" y="151"/>
                    </a:lnTo>
                    <a:lnTo>
                      <a:pt x="154" y="165"/>
                    </a:lnTo>
                    <a:lnTo>
                      <a:pt x="143" y="178"/>
                    </a:lnTo>
                    <a:lnTo>
                      <a:pt x="134" y="183"/>
                    </a:lnTo>
                    <a:lnTo>
                      <a:pt x="126" y="195"/>
                    </a:lnTo>
                    <a:lnTo>
                      <a:pt x="121" y="203"/>
                    </a:lnTo>
                    <a:lnTo>
                      <a:pt x="118" y="212"/>
                    </a:lnTo>
                    <a:lnTo>
                      <a:pt x="111" y="223"/>
                    </a:lnTo>
                    <a:lnTo>
                      <a:pt x="101" y="232"/>
                    </a:lnTo>
                    <a:lnTo>
                      <a:pt x="92" y="243"/>
                    </a:lnTo>
                    <a:lnTo>
                      <a:pt x="87" y="252"/>
                    </a:lnTo>
                    <a:lnTo>
                      <a:pt x="81" y="263"/>
                    </a:lnTo>
                    <a:lnTo>
                      <a:pt x="77" y="272"/>
                    </a:lnTo>
                    <a:lnTo>
                      <a:pt x="67" y="281"/>
                    </a:lnTo>
                    <a:lnTo>
                      <a:pt x="57" y="289"/>
                    </a:lnTo>
                    <a:lnTo>
                      <a:pt x="47" y="300"/>
                    </a:lnTo>
                    <a:lnTo>
                      <a:pt x="40" y="309"/>
                    </a:lnTo>
                    <a:lnTo>
                      <a:pt x="32" y="317"/>
                    </a:lnTo>
                    <a:lnTo>
                      <a:pt x="22" y="326"/>
                    </a:lnTo>
                    <a:lnTo>
                      <a:pt x="15" y="335"/>
                    </a:lnTo>
                    <a:lnTo>
                      <a:pt x="7" y="341"/>
                    </a:lnTo>
                    <a:lnTo>
                      <a:pt x="0" y="349"/>
                    </a:lnTo>
                    <a:lnTo>
                      <a:pt x="455" y="349"/>
                    </a:lnTo>
                    <a:lnTo>
                      <a:pt x="452" y="335"/>
                    </a:lnTo>
                    <a:lnTo>
                      <a:pt x="445" y="335"/>
                    </a:lnTo>
                    <a:lnTo>
                      <a:pt x="435" y="329"/>
                    </a:lnTo>
                    <a:lnTo>
                      <a:pt x="425" y="323"/>
                    </a:lnTo>
                    <a:lnTo>
                      <a:pt x="417" y="314"/>
                    </a:lnTo>
                    <a:lnTo>
                      <a:pt x="413" y="306"/>
                    </a:lnTo>
                    <a:lnTo>
                      <a:pt x="408" y="295"/>
                    </a:lnTo>
                    <a:lnTo>
                      <a:pt x="400" y="286"/>
                    </a:lnTo>
                    <a:lnTo>
                      <a:pt x="393" y="277"/>
                    </a:lnTo>
                    <a:lnTo>
                      <a:pt x="383" y="269"/>
                    </a:lnTo>
                    <a:lnTo>
                      <a:pt x="376" y="263"/>
                    </a:lnTo>
                    <a:lnTo>
                      <a:pt x="368" y="255"/>
                    </a:lnTo>
                    <a:lnTo>
                      <a:pt x="360" y="246"/>
                    </a:lnTo>
                    <a:lnTo>
                      <a:pt x="353" y="241"/>
                    </a:lnTo>
                    <a:lnTo>
                      <a:pt x="346" y="232"/>
                    </a:lnTo>
                    <a:lnTo>
                      <a:pt x="341" y="220"/>
                    </a:lnTo>
                    <a:lnTo>
                      <a:pt x="336" y="212"/>
                    </a:lnTo>
                    <a:lnTo>
                      <a:pt x="330" y="203"/>
                    </a:lnTo>
                    <a:lnTo>
                      <a:pt x="326" y="195"/>
                    </a:lnTo>
                    <a:lnTo>
                      <a:pt x="318" y="186"/>
                    </a:lnTo>
                    <a:lnTo>
                      <a:pt x="311" y="180"/>
                    </a:lnTo>
                    <a:lnTo>
                      <a:pt x="304" y="174"/>
                    </a:lnTo>
                    <a:lnTo>
                      <a:pt x="293" y="168"/>
                    </a:lnTo>
                    <a:lnTo>
                      <a:pt x="288" y="159"/>
                    </a:lnTo>
                    <a:lnTo>
                      <a:pt x="281" y="151"/>
                    </a:lnTo>
                    <a:lnTo>
                      <a:pt x="279" y="142"/>
                    </a:lnTo>
                    <a:lnTo>
                      <a:pt x="271" y="131"/>
                    </a:lnTo>
                    <a:lnTo>
                      <a:pt x="266" y="123"/>
                    </a:lnTo>
                    <a:lnTo>
                      <a:pt x="259" y="113"/>
                    </a:lnTo>
                    <a:lnTo>
                      <a:pt x="251" y="105"/>
                    </a:lnTo>
                    <a:lnTo>
                      <a:pt x="244" y="97"/>
                    </a:lnTo>
                    <a:lnTo>
                      <a:pt x="239" y="88"/>
                    </a:lnTo>
                    <a:lnTo>
                      <a:pt x="236" y="80"/>
                    </a:lnTo>
                    <a:lnTo>
                      <a:pt x="234" y="71"/>
                    </a:lnTo>
                    <a:lnTo>
                      <a:pt x="231" y="62"/>
                    </a:lnTo>
                    <a:lnTo>
                      <a:pt x="226" y="54"/>
                    </a:lnTo>
                    <a:lnTo>
                      <a:pt x="223" y="45"/>
                    </a:lnTo>
                    <a:lnTo>
                      <a:pt x="218" y="34"/>
                    </a:lnTo>
                    <a:lnTo>
                      <a:pt x="213" y="26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 flipH="1" flipV="1">
                <a:off x="4441680" y="5091120"/>
                <a:ext cx="5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7" name=""/>
            <p:cNvGrpSpPr/>
            <p:nvPr/>
          </p:nvGrpSpPr>
          <p:grpSpPr>
            <a:xfrm>
              <a:off x="4386240" y="4975200"/>
              <a:ext cx="294120" cy="192600"/>
              <a:chOff x="4386240" y="4975200"/>
              <a:chExt cx="294120" cy="192600"/>
            </a:xfrm>
          </p:grpSpPr>
          <p:sp>
            <p:nvSpPr>
              <p:cNvPr id="5208" name=""/>
              <p:cNvSpPr/>
              <p:nvPr/>
            </p:nvSpPr>
            <p:spPr>
              <a:xfrm>
                <a:off x="4386240" y="4975200"/>
                <a:ext cx="294120" cy="184680"/>
              </a:xfrm>
              <a:custGeom>
                <a:avLst/>
                <a:gdLst/>
                <a:ahLst/>
                <a:rect l="0" t="0" r="r" b="b"/>
                <a:pathLst>
                  <a:path w="817" h="513">
                    <a:moveTo>
                      <a:pt x="0" y="513"/>
                    </a:moveTo>
                    <a:lnTo>
                      <a:pt x="817" y="513"/>
                    </a:lnTo>
                    <a:lnTo>
                      <a:pt x="408" y="0"/>
                    </a:lnTo>
                    <a:lnTo>
                      <a:pt x="0" y="513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4471920" y="5046840"/>
                <a:ext cx="33840" cy="120240"/>
              </a:xfrm>
              <a:custGeom>
                <a:avLst/>
                <a:gdLst/>
                <a:ahLst/>
                <a:rect l="0" t="0" r="r" b="b"/>
                <a:pathLst>
                  <a:path w="94" h="334">
                    <a:moveTo>
                      <a:pt x="0" y="334"/>
                    </a:moveTo>
                    <a:lnTo>
                      <a:pt x="94" y="334"/>
                    </a:lnTo>
                    <a:lnTo>
                      <a:pt x="94" y="334"/>
                    </a:lnTo>
                    <a:lnTo>
                      <a:pt x="94" y="334"/>
                    </a:lnTo>
                    <a:cubicBezTo>
                      <a:pt x="94" y="275"/>
                      <a:pt x="90" y="218"/>
                      <a:pt x="81" y="167"/>
                    </a:cubicBezTo>
                    <a:cubicBezTo>
                      <a:pt x="73" y="116"/>
                      <a:pt x="61" y="74"/>
                      <a:pt x="47" y="45"/>
                    </a:cubicBezTo>
                    <a:cubicBezTo>
                      <a:pt x="33" y="15"/>
                      <a:pt x="17" y="0"/>
                      <a:pt x="0" y="0"/>
                    </a:cubicBez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4556160" y="5046840"/>
                <a:ext cx="33840" cy="120960"/>
              </a:xfrm>
              <a:custGeom>
                <a:avLst/>
                <a:gdLst/>
                <a:ahLst/>
                <a:rect l="0" t="0" r="r" b="b"/>
                <a:pathLst>
                  <a:path w="94" h="336">
                    <a:moveTo>
                      <a:pt x="94" y="336"/>
                    </a:moveTo>
                    <a:lnTo>
                      <a:pt x="94" y="0"/>
                    </a:lnTo>
                    <a:lnTo>
                      <a:pt x="94" y="0"/>
                    </a:lnTo>
                    <a:cubicBezTo>
                      <a:pt x="77" y="0"/>
                      <a:pt x="61" y="16"/>
                      <a:pt x="47" y="45"/>
                    </a:cubicBezTo>
                    <a:cubicBezTo>
                      <a:pt x="33" y="75"/>
                      <a:pt x="21" y="117"/>
                      <a:pt x="13" y="168"/>
                    </a:cubicBezTo>
                    <a:cubicBezTo>
                      <a:pt x="4" y="219"/>
                      <a:pt x="0" y="277"/>
                      <a:pt x="0" y="336"/>
                    </a:cubicBezTo>
                    <a:lnTo>
                      <a:pt x="94" y="33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4452840" y="5033880"/>
                <a:ext cx="162360" cy="125640"/>
              </a:xfrm>
              <a:custGeom>
                <a:avLst/>
                <a:gdLst/>
                <a:ahLst/>
                <a:rect l="0" t="0" r="r" b="b"/>
                <a:pathLst>
                  <a:path w="451" h="349">
                    <a:moveTo>
                      <a:pt x="219" y="0"/>
                    </a:moveTo>
                    <a:lnTo>
                      <a:pt x="219" y="11"/>
                    </a:lnTo>
                    <a:lnTo>
                      <a:pt x="219" y="19"/>
                    </a:lnTo>
                    <a:lnTo>
                      <a:pt x="217" y="28"/>
                    </a:lnTo>
                    <a:lnTo>
                      <a:pt x="215" y="37"/>
                    </a:lnTo>
                    <a:lnTo>
                      <a:pt x="212" y="45"/>
                    </a:lnTo>
                    <a:lnTo>
                      <a:pt x="207" y="56"/>
                    </a:lnTo>
                    <a:lnTo>
                      <a:pt x="204" y="65"/>
                    </a:lnTo>
                    <a:lnTo>
                      <a:pt x="202" y="74"/>
                    </a:lnTo>
                    <a:lnTo>
                      <a:pt x="197" y="85"/>
                    </a:lnTo>
                    <a:lnTo>
                      <a:pt x="190" y="97"/>
                    </a:lnTo>
                    <a:lnTo>
                      <a:pt x="182" y="102"/>
                    </a:lnTo>
                    <a:lnTo>
                      <a:pt x="178" y="111"/>
                    </a:lnTo>
                    <a:lnTo>
                      <a:pt x="170" y="116"/>
                    </a:lnTo>
                    <a:lnTo>
                      <a:pt x="165" y="125"/>
                    </a:lnTo>
                    <a:lnTo>
                      <a:pt x="163" y="137"/>
                    </a:lnTo>
                    <a:lnTo>
                      <a:pt x="158" y="151"/>
                    </a:lnTo>
                    <a:lnTo>
                      <a:pt x="153" y="165"/>
                    </a:lnTo>
                    <a:lnTo>
                      <a:pt x="143" y="178"/>
                    </a:lnTo>
                    <a:lnTo>
                      <a:pt x="133" y="183"/>
                    </a:lnTo>
                    <a:lnTo>
                      <a:pt x="126" y="195"/>
                    </a:lnTo>
                    <a:lnTo>
                      <a:pt x="121" y="203"/>
                    </a:lnTo>
                    <a:lnTo>
                      <a:pt x="118" y="212"/>
                    </a:lnTo>
                    <a:lnTo>
                      <a:pt x="110" y="223"/>
                    </a:lnTo>
                    <a:lnTo>
                      <a:pt x="100" y="232"/>
                    </a:lnTo>
                    <a:lnTo>
                      <a:pt x="91" y="243"/>
                    </a:lnTo>
                    <a:lnTo>
                      <a:pt x="86" y="252"/>
                    </a:lnTo>
                    <a:lnTo>
                      <a:pt x="80" y="263"/>
                    </a:lnTo>
                    <a:lnTo>
                      <a:pt x="76" y="272"/>
                    </a:lnTo>
                    <a:lnTo>
                      <a:pt x="66" y="281"/>
                    </a:lnTo>
                    <a:lnTo>
                      <a:pt x="56" y="289"/>
                    </a:lnTo>
                    <a:lnTo>
                      <a:pt x="46" y="300"/>
                    </a:lnTo>
                    <a:lnTo>
                      <a:pt x="39" y="309"/>
                    </a:lnTo>
                    <a:lnTo>
                      <a:pt x="31" y="317"/>
                    </a:lnTo>
                    <a:lnTo>
                      <a:pt x="22" y="326"/>
                    </a:lnTo>
                    <a:lnTo>
                      <a:pt x="14" y="335"/>
                    </a:lnTo>
                    <a:lnTo>
                      <a:pt x="7" y="341"/>
                    </a:lnTo>
                    <a:lnTo>
                      <a:pt x="0" y="349"/>
                    </a:lnTo>
                    <a:lnTo>
                      <a:pt x="451" y="349"/>
                    </a:lnTo>
                    <a:lnTo>
                      <a:pt x="449" y="335"/>
                    </a:lnTo>
                    <a:lnTo>
                      <a:pt x="442" y="335"/>
                    </a:lnTo>
                    <a:lnTo>
                      <a:pt x="432" y="329"/>
                    </a:lnTo>
                    <a:lnTo>
                      <a:pt x="422" y="323"/>
                    </a:lnTo>
                    <a:lnTo>
                      <a:pt x="414" y="314"/>
                    </a:lnTo>
                    <a:lnTo>
                      <a:pt x="410" y="306"/>
                    </a:lnTo>
                    <a:lnTo>
                      <a:pt x="405" y="295"/>
                    </a:lnTo>
                    <a:lnTo>
                      <a:pt x="398" y="286"/>
                    </a:lnTo>
                    <a:lnTo>
                      <a:pt x="390" y="277"/>
                    </a:lnTo>
                    <a:lnTo>
                      <a:pt x="380" y="269"/>
                    </a:lnTo>
                    <a:lnTo>
                      <a:pt x="373" y="263"/>
                    </a:lnTo>
                    <a:lnTo>
                      <a:pt x="365" y="255"/>
                    </a:lnTo>
                    <a:lnTo>
                      <a:pt x="358" y="246"/>
                    </a:lnTo>
                    <a:lnTo>
                      <a:pt x="351" y="241"/>
                    </a:lnTo>
                    <a:lnTo>
                      <a:pt x="343" y="232"/>
                    </a:lnTo>
                    <a:lnTo>
                      <a:pt x="339" y="220"/>
                    </a:lnTo>
                    <a:lnTo>
                      <a:pt x="333" y="212"/>
                    </a:lnTo>
                    <a:lnTo>
                      <a:pt x="327" y="203"/>
                    </a:lnTo>
                    <a:lnTo>
                      <a:pt x="323" y="195"/>
                    </a:lnTo>
                    <a:lnTo>
                      <a:pt x="315" y="186"/>
                    </a:lnTo>
                    <a:lnTo>
                      <a:pt x="308" y="180"/>
                    </a:lnTo>
                    <a:lnTo>
                      <a:pt x="301" y="174"/>
                    </a:lnTo>
                    <a:lnTo>
                      <a:pt x="290" y="168"/>
                    </a:lnTo>
                    <a:lnTo>
                      <a:pt x="286" y="159"/>
                    </a:lnTo>
                    <a:lnTo>
                      <a:pt x="278" y="151"/>
                    </a:lnTo>
                    <a:lnTo>
                      <a:pt x="276" y="142"/>
                    </a:lnTo>
                    <a:lnTo>
                      <a:pt x="269" y="131"/>
                    </a:lnTo>
                    <a:lnTo>
                      <a:pt x="264" y="123"/>
                    </a:lnTo>
                    <a:lnTo>
                      <a:pt x="256" y="113"/>
                    </a:lnTo>
                    <a:lnTo>
                      <a:pt x="249" y="105"/>
                    </a:lnTo>
                    <a:lnTo>
                      <a:pt x="241" y="97"/>
                    </a:lnTo>
                    <a:lnTo>
                      <a:pt x="237" y="88"/>
                    </a:lnTo>
                    <a:lnTo>
                      <a:pt x="234" y="80"/>
                    </a:lnTo>
                    <a:lnTo>
                      <a:pt x="232" y="71"/>
                    </a:lnTo>
                    <a:lnTo>
                      <a:pt x="229" y="62"/>
                    </a:lnTo>
                    <a:lnTo>
                      <a:pt x="224" y="54"/>
                    </a:lnTo>
                    <a:lnTo>
                      <a:pt x="222" y="45"/>
                    </a:lnTo>
                    <a:lnTo>
                      <a:pt x="217" y="34"/>
                    </a:lnTo>
                    <a:lnTo>
                      <a:pt x="212" y="26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 flipH="1" flipV="1">
                <a:off x="4540320" y="513396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3" name=""/>
            <p:cNvGrpSpPr/>
            <p:nvPr/>
          </p:nvGrpSpPr>
          <p:grpSpPr>
            <a:xfrm>
              <a:off x="4516560" y="5038560"/>
              <a:ext cx="262440" cy="174240"/>
              <a:chOff x="4516560" y="5038560"/>
              <a:chExt cx="262440" cy="174240"/>
            </a:xfrm>
          </p:grpSpPr>
          <p:sp>
            <p:nvSpPr>
              <p:cNvPr id="5214" name=""/>
              <p:cNvSpPr/>
              <p:nvPr/>
            </p:nvSpPr>
            <p:spPr>
              <a:xfrm>
                <a:off x="4516560" y="5038560"/>
                <a:ext cx="262440" cy="167040"/>
              </a:xfrm>
              <a:custGeom>
                <a:avLst/>
                <a:gdLst/>
                <a:ahLst/>
                <a:rect l="0" t="0" r="r" b="b"/>
                <a:pathLst>
                  <a:path w="729" h="464">
                    <a:moveTo>
                      <a:pt x="0" y="464"/>
                    </a:moveTo>
                    <a:lnTo>
                      <a:pt x="729" y="464"/>
                    </a:lnTo>
                    <a:lnTo>
                      <a:pt x="364" y="0"/>
                    </a:lnTo>
                    <a:lnTo>
                      <a:pt x="0" y="464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4592520" y="5102280"/>
                <a:ext cx="30600" cy="109080"/>
              </a:xfrm>
              <a:custGeom>
                <a:avLst/>
                <a:gdLst/>
                <a:ahLst/>
                <a:rect l="0" t="0" r="r" b="b"/>
                <a:pathLst>
                  <a:path w="85" h="303">
                    <a:moveTo>
                      <a:pt x="0" y="303"/>
                    </a:moveTo>
                    <a:lnTo>
                      <a:pt x="85" y="303"/>
                    </a:lnTo>
                    <a:lnTo>
                      <a:pt x="85" y="303"/>
                    </a:lnTo>
                    <a:lnTo>
                      <a:pt x="85" y="303"/>
                    </a:lnTo>
                    <a:cubicBezTo>
                      <a:pt x="85" y="250"/>
                      <a:pt x="81" y="198"/>
                      <a:pt x="74" y="151"/>
                    </a:cubicBezTo>
                    <a:cubicBezTo>
                      <a:pt x="66" y="105"/>
                      <a:pt x="55" y="67"/>
                      <a:pt x="42" y="41"/>
                    </a:cubicBezTo>
                    <a:cubicBezTo>
                      <a:pt x="30" y="14"/>
                      <a:pt x="15" y="0"/>
                      <a:pt x="0" y="0"/>
                    </a:cubicBez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4667400" y="5103720"/>
                <a:ext cx="30600" cy="109080"/>
              </a:xfrm>
              <a:custGeom>
                <a:avLst/>
                <a:gdLst/>
                <a:ahLst/>
                <a:rect l="0" t="0" r="r" b="b"/>
                <a:pathLst>
                  <a:path w="85" h="303">
                    <a:moveTo>
                      <a:pt x="85" y="303"/>
                    </a:moveTo>
                    <a:lnTo>
                      <a:pt x="85" y="0"/>
                    </a:lnTo>
                    <a:lnTo>
                      <a:pt x="85" y="0"/>
                    </a:lnTo>
                    <a:cubicBezTo>
                      <a:pt x="70" y="0"/>
                      <a:pt x="55" y="14"/>
                      <a:pt x="42" y="41"/>
                    </a:cubicBezTo>
                    <a:cubicBezTo>
                      <a:pt x="30" y="67"/>
                      <a:pt x="19" y="105"/>
                      <a:pt x="11" y="152"/>
                    </a:cubicBezTo>
                    <a:cubicBezTo>
                      <a:pt x="4" y="198"/>
                      <a:pt x="0" y="250"/>
                      <a:pt x="0" y="303"/>
                    </a:cubicBezTo>
                    <a:lnTo>
                      <a:pt x="85" y="303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4575240" y="5092560"/>
                <a:ext cx="146520" cy="113040"/>
              </a:xfrm>
              <a:custGeom>
                <a:avLst/>
                <a:gdLst/>
                <a:ahLst/>
                <a:rect l="0" t="0" r="r" b="b"/>
                <a:pathLst>
                  <a:path w="407" h="314">
                    <a:moveTo>
                      <a:pt x="198" y="0"/>
                    </a:moveTo>
                    <a:lnTo>
                      <a:pt x="198" y="10"/>
                    </a:lnTo>
                    <a:lnTo>
                      <a:pt x="198" y="17"/>
                    </a:lnTo>
                    <a:lnTo>
                      <a:pt x="195" y="25"/>
                    </a:lnTo>
                    <a:lnTo>
                      <a:pt x="194" y="33"/>
                    </a:lnTo>
                    <a:lnTo>
                      <a:pt x="191" y="41"/>
                    </a:lnTo>
                    <a:lnTo>
                      <a:pt x="187" y="51"/>
                    </a:lnTo>
                    <a:lnTo>
                      <a:pt x="184" y="59"/>
                    </a:lnTo>
                    <a:lnTo>
                      <a:pt x="182" y="66"/>
                    </a:lnTo>
                    <a:lnTo>
                      <a:pt x="178" y="76"/>
                    </a:lnTo>
                    <a:lnTo>
                      <a:pt x="172" y="87"/>
                    </a:lnTo>
                    <a:lnTo>
                      <a:pt x="164" y="92"/>
                    </a:lnTo>
                    <a:lnTo>
                      <a:pt x="161" y="100"/>
                    </a:lnTo>
                    <a:lnTo>
                      <a:pt x="153" y="105"/>
                    </a:lnTo>
                    <a:lnTo>
                      <a:pt x="149" y="113"/>
                    </a:lnTo>
                    <a:lnTo>
                      <a:pt x="147" y="123"/>
                    </a:lnTo>
                    <a:lnTo>
                      <a:pt x="142" y="136"/>
                    </a:lnTo>
                    <a:lnTo>
                      <a:pt x="138" y="149"/>
                    </a:lnTo>
                    <a:lnTo>
                      <a:pt x="129" y="160"/>
                    </a:lnTo>
                    <a:lnTo>
                      <a:pt x="120" y="165"/>
                    </a:lnTo>
                    <a:lnTo>
                      <a:pt x="114" y="175"/>
                    </a:lnTo>
                    <a:lnTo>
                      <a:pt x="109" y="183"/>
                    </a:lnTo>
                    <a:lnTo>
                      <a:pt x="107" y="191"/>
                    </a:lnTo>
                    <a:lnTo>
                      <a:pt x="99" y="201"/>
                    </a:lnTo>
                    <a:lnTo>
                      <a:pt x="90" y="208"/>
                    </a:lnTo>
                    <a:lnTo>
                      <a:pt x="82" y="218"/>
                    </a:lnTo>
                    <a:lnTo>
                      <a:pt x="77" y="227"/>
                    </a:lnTo>
                    <a:lnTo>
                      <a:pt x="72" y="237"/>
                    </a:lnTo>
                    <a:lnTo>
                      <a:pt x="69" y="244"/>
                    </a:lnTo>
                    <a:lnTo>
                      <a:pt x="60" y="252"/>
                    </a:lnTo>
                    <a:lnTo>
                      <a:pt x="50" y="260"/>
                    </a:lnTo>
                    <a:lnTo>
                      <a:pt x="42" y="270"/>
                    </a:lnTo>
                    <a:lnTo>
                      <a:pt x="35" y="278"/>
                    </a:lnTo>
                    <a:lnTo>
                      <a:pt x="28" y="285"/>
                    </a:lnTo>
                    <a:lnTo>
                      <a:pt x="20" y="293"/>
                    </a:lnTo>
                    <a:lnTo>
                      <a:pt x="13" y="301"/>
                    </a:lnTo>
                    <a:lnTo>
                      <a:pt x="6" y="306"/>
                    </a:lnTo>
                    <a:lnTo>
                      <a:pt x="0" y="314"/>
                    </a:lnTo>
                    <a:lnTo>
                      <a:pt x="407" y="314"/>
                    </a:lnTo>
                    <a:lnTo>
                      <a:pt x="405" y="301"/>
                    </a:lnTo>
                    <a:lnTo>
                      <a:pt x="398" y="301"/>
                    </a:lnTo>
                    <a:lnTo>
                      <a:pt x="389" y="295"/>
                    </a:lnTo>
                    <a:lnTo>
                      <a:pt x="381" y="291"/>
                    </a:lnTo>
                    <a:lnTo>
                      <a:pt x="374" y="283"/>
                    </a:lnTo>
                    <a:lnTo>
                      <a:pt x="370" y="275"/>
                    </a:lnTo>
                    <a:lnTo>
                      <a:pt x="365" y="265"/>
                    </a:lnTo>
                    <a:lnTo>
                      <a:pt x="359" y="257"/>
                    </a:lnTo>
                    <a:lnTo>
                      <a:pt x="352" y="249"/>
                    </a:lnTo>
                    <a:lnTo>
                      <a:pt x="343" y="242"/>
                    </a:lnTo>
                    <a:lnTo>
                      <a:pt x="336" y="237"/>
                    </a:lnTo>
                    <a:lnTo>
                      <a:pt x="329" y="229"/>
                    </a:lnTo>
                    <a:lnTo>
                      <a:pt x="323" y="221"/>
                    </a:lnTo>
                    <a:lnTo>
                      <a:pt x="316" y="216"/>
                    </a:lnTo>
                    <a:lnTo>
                      <a:pt x="310" y="208"/>
                    </a:lnTo>
                    <a:lnTo>
                      <a:pt x="304" y="198"/>
                    </a:lnTo>
                    <a:lnTo>
                      <a:pt x="300" y="191"/>
                    </a:lnTo>
                    <a:lnTo>
                      <a:pt x="295" y="183"/>
                    </a:lnTo>
                    <a:lnTo>
                      <a:pt x="291" y="175"/>
                    </a:lnTo>
                    <a:lnTo>
                      <a:pt x="284" y="167"/>
                    </a:lnTo>
                    <a:lnTo>
                      <a:pt x="278" y="162"/>
                    </a:lnTo>
                    <a:lnTo>
                      <a:pt x="271" y="156"/>
                    </a:lnTo>
                    <a:lnTo>
                      <a:pt x="262" y="151"/>
                    </a:lnTo>
                    <a:lnTo>
                      <a:pt x="258" y="143"/>
                    </a:lnTo>
                    <a:lnTo>
                      <a:pt x="251" y="136"/>
                    </a:lnTo>
                    <a:lnTo>
                      <a:pt x="249" y="128"/>
                    </a:lnTo>
                    <a:lnTo>
                      <a:pt x="242" y="118"/>
                    </a:lnTo>
                    <a:lnTo>
                      <a:pt x="238" y="110"/>
                    </a:lnTo>
                    <a:lnTo>
                      <a:pt x="231" y="102"/>
                    </a:lnTo>
                    <a:lnTo>
                      <a:pt x="224" y="94"/>
                    </a:lnTo>
                    <a:lnTo>
                      <a:pt x="218" y="87"/>
                    </a:lnTo>
                    <a:lnTo>
                      <a:pt x="213" y="79"/>
                    </a:lnTo>
                    <a:lnTo>
                      <a:pt x="211" y="72"/>
                    </a:lnTo>
                    <a:lnTo>
                      <a:pt x="209" y="63"/>
                    </a:lnTo>
                    <a:lnTo>
                      <a:pt x="207" y="56"/>
                    </a:lnTo>
                    <a:lnTo>
                      <a:pt x="203" y="48"/>
                    </a:lnTo>
                    <a:lnTo>
                      <a:pt x="200" y="41"/>
                    </a:lnTo>
                    <a:lnTo>
                      <a:pt x="195" y="30"/>
                    </a:lnTo>
                    <a:lnTo>
                      <a:pt x="191" y="23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 flipH="1">
                <a:off x="4651200" y="5183280"/>
                <a:ext cx="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9" name=""/>
            <p:cNvGrpSpPr/>
            <p:nvPr/>
          </p:nvGrpSpPr>
          <p:grpSpPr>
            <a:xfrm>
              <a:off x="4240080" y="5019840"/>
              <a:ext cx="294120" cy="193680"/>
              <a:chOff x="4240080" y="5019840"/>
              <a:chExt cx="294120" cy="193680"/>
            </a:xfrm>
          </p:grpSpPr>
          <p:sp>
            <p:nvSpPr>
              <p:cNvPr id="5220" name=""/>
              <p:cNvSpPr/>
              <p:nvPr/>
            </p:nvSpPr>
            <p:spPr>
              <a:xfrm>
                <a:off x="4240080" y="5019840"/>
                <a:ext cx="294120" cy="186120"/>
              </a:xfrm>
              <a:custGeom>
                <a:avLst/>
                <a:gdLst/>
                <a:ahLst/>
                <a:rect l="0" t="0" r="r" b="b"/>
                <a:pathLst>
                  <a:path w="817" h="517">
                    <a:moveTo>
                      <a:pt x="0" y="517"/>
                    </a:moveTo>
                    <a:lnTo>
                      <a:pt x="817" y="517"/>
                    </a:lnTo>
                    <a:lnTo>
                      <a:pt x="408" y="0"/>
                    </a:lnTo>
                    <a:lnTo>
                      <a:pt x="0" y="517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4325040" y="5091120"/>
                <a:ext cx="34560" cy="120960"/>
              </a:xfrm>
              <a:custGeom>
                <a:avLst/>
                <a:gdLst/>
                <a:ahLst/>
                <a:rect l="0" t="0" r="r" b="b"/>
                <a:pathLst>
                  <a:path w="96" h="336">
                    <a:moveTo>
                      <a:pt x="0" y="336"/>
                    </a:moveTo>
                    <a:lnTo>
                      <a:pt x="96" y="336"/>
                    </a:lnTo>
                    <a:lnTo>
                      <a:pt x="96" y="336"/>
                    </a:lnTo>
                    <a:lnTo>
                      <a:pt x="96" y="336"/>
                    </a:lnTo>
                    <a:cubicBezTo>
                      <a:pt x="96" y="277"/>
                      <a:pt x="92" y="219"/>
                      <a:pt x="83" y="168"/>
                    </a:cubicBezTo>
                    <a:cubicBezTo>
                      <a:pt x="75" y="117"/>
                      <a:pt x="63" y="75"/>
                      <a:pt x="48" y="45"/>
                    </a:cubicBezTo>
                    <a:cubicBezTo>
                      <a:pt x="33" y="16"/>
                      <a:pt x="17" y="0"/>
                      <a:pt x="0" y="0"/>
                    </a:cubicBez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4408560" y="5092560"/>
                <a:ext cx="34560" cy="120960"/>
              </a:xfrm>
              <a:custGeom>
                <a:avLst/>
                <a:gdLst/>
                <a:ahLst/>
                <a:rect l="0" t="0" r="r" b="b"/>
                <a:pathLst>
                  <a:path w="96" h="336">
                    <a:moveTo>
                      <a:pt x="96" y="336"/>
                    </a:moveTo>
                    <a:lnTo>
                      <a:pt x="96" y="0"/>
                    </a:lnTo>
                    <a:lnTo>
                      <a:pt x="96" y="0"/>
                    </a:lnTo>
                    <a:cubicBezTo>
                      <a:pt x="79" y="0"/>
                      <a:pt x="63" y="16"/>
                      <a:pt x="48" y="45"/>
                    </a:cubicBezTo>
                    <a:cubicBezTo>
                      <a:pt x="33" y="75"/>
                      <a:pt x="21" y="117"/>
                      <a:pt x="13" y="168"/>
                    </a:cubicBezTo>
                    <a:cubicBezTo>
                      <a:pt x="4" y="219"/>
                      <a:pt x="0" y="277"/>
                      <a:pt x="0" y="336"/>
                    </a:cubicBezTo>
                    <a:lnTo>
                      <a:pt x="96" y="33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4307040" y="5078520"/>
                <a:ext cx="162360" cy="127440"/>
              </a:xfrm>
              <a:custGeom>
                <a:avLst/>
                <a:gdLst/>
                <a:ahLst/>
                <a:rect l="0" t="0" r="r" b="b"/>
                <a:pathLst>
                  <a:path w="451" h="354">
                    <a:moveTo>
                      <a:pt x="219" y="0"/>
                    </a:moveTo>
                    <a:lnTo>
                      <a:pt x="219" y="11"/>
                    </a:lnTo>
                    <a:lnTo>
                      <a:pt x="219" y="20"/>
                    </a:lnTo>
                    <a:lnTo>
                      <a:pt x="217" y="28"/>
                    </a:lnTo>
                    <a:lnTo>
                      <a:pt x="215" y="37"/>
                    </a:lnTo>
                    <a:lnTo>
                      <a:pt x="212" y="46"/>
                    </a:lnTo>
                    <a:lnTo>
                      <a:pt x="207" y="57"/>
                    </a:lnTo>
                    <a:lnTo>
                      <a:pt x="204" y="66"/>
                    </a:lnTo>
                    <a:lnTo>
                      <a:pt x="202" y="74"/>
                    </a:lnTo>
                    <a:lnTo>
                      <a:pt x="197" y="86"/>
                    </a:lnTo>
                    <a:lnTo>
                      <a:pt x="190" y="99"/>
                    </a:lnTo>
                    <a:lnTo>
                      <a:pt x="182" y="104"/>
                    </a:lnTo>
                    <a:lnTo>
                      <a:pt x="178" y="114"/>
                    </a:lnTo>
                    <a:lnTo>
                      <a:pt x="170" y="119"/>
                    </a:lnTo>
                    <a:lnTo>
                      <a:pt x="165" y="128"/>
                    </a:lnTo>
                    <a:lnTo>
                      <a:pt x="163" y="139"/>
                    </a:lnTo>
                    <a:lnTo>
                      <a:pt x="158" y="154"/>
                    </a:lnTo>
                    <a:lnTo>
                      <a:pt x="153" y="168"/>
                    </a:lnTo>
                    <a:lnTo>
                      <a:pt x="143" y="180"/>
                    </a:lnTo>
                    <a:lnTo>
                      <a:pt x="133" y="186"/>
                    </a:lnTo>
                    <a:lnTo>
                      <a:pt x="126" y="197"/>
                    </a:lnTo>
                    <a:lnTo>
                      <a:pt x="121" y="206"/>
                    </a:lnTo>
                    <a:lnTo>
                      <a:pt x="118" y="215"/>
                    </a:lnTo>
                    <a:lnTo>
                      <a:pt x="110" y="226"/>
                    </a:lnTo>
                    <a:lnTo>
                      <a:pt x="100" y="235"/>
                    </a:lnTo>
                    <a:lnTo>
                      <a:pt x="91" y="246"/>
                    </a:lnTo>
                    <a:lnTo>
                      <a:pt x="86" y="255"/>
                    </a:lnTo>
                    <a:lnTo>
                      <a:pt x="80" y="268"/>
                    </a:lnTo>
                    <a:lnTo>
                      <a:pt x="76" y="276"/>
                    </a:lnTo>
                    <a:lnTo>
                      <a:pt x="66" y="285"/>
                    </a:lnTo>
                    <a:lnTo>
                      <a:pt x="56" y="294"/>
                    </a:lnTo>
                    <a:lnTo>
                      <a:pt x="46" y="305"/>
                    </a:lnTo>
                    <a:lnTo>
                      <a:pt x="39" y="314"/>
                    </a:lnTo>
                    <a:lnTo>
                      <a:pt x="31" y="322"/>
                    </a:lnTo>
                    <a:lnTo>
                      <a:pt x="22" y="331"/>
                    </a:lnTo>
                    <a:lnTo>
                      <a:pt x="14" y="340"/>
                    </a:lnTo>
                    <a:lnTo>
                      <a:pt x="7" y="346"/>
                    </a:lnTo>
                    <a:lnTo>
                      <a:pt x="0" y="354"/>
                    </a:lnTo>
                    <a:lnTo>
                      <a:pt x="451" y="354"/>
                    </a:lnTo>
                    <a:lnTo>
                      <a:pt x="449" y="340"/>
                    </a:lnTo>
                    <a:lnTo>
                      <a:pt x="442" y="340"/>
                    </a:lnTo>
                    <a:lnTo>
                      <a:pt x="432" y="334"/>
                    </a:lnTo>
                    <a:lnTo>
                      <a:pt x="422" y="329"/>
                    </a:lnTo>
                    <a:lnTo>
                      <a:pt x="414" y="319"/>
                    </a:lnTo>
                    <a:lnTo>
                      <a:pt x="410" y="311"/>
                    </a:lnTo>
                    <a:lnTo>
                      <a:pt x="405" y="300"/>
                    </a:lnTo>
                    <a:lnTo>
                      <a:pt x="398" y="290"/>
                    </a:lnTo>
                    <a:lnTo>
                      <a:pt x="390" y="282"/>
                    </a:lnTo>
                    <a:lnTo>
                      <a:pt x="380" y="273"/>
                    </a:lnTo>
                    <a:lnTo>
                      <a:pt x="373" y="268"/>
                    </a:lnTo>
                    <a:lnTo>
                      <a:pt x="365" y="258"/>
                    </a:lnTo>
                    <a:lnTo>
                      <a:pt x="358" y="249"/>
                    </a:lnTo>
                    <a:lnTo>
                      <a:pt x="351" y="244"/>
                    </a:lnTo>
                    <a:lnTo>
                      <a:pt x="343" y="235"/>
                    </a:lnTo>
                    <a:lnTo>
                      <a:pt x="339" y="223"/>
                    </a:lnTo>
                    <a:lnTo>
                      <a:pt x="333" y="215"/>
                    </a:lnTo>
                    <a:lnTo>
                      <a:pt x="327" y="206"/>
                    </a:lnTo>
                    <a:lnTo>
                      <a:pt x="323" y="197"/>
                    </a:lnTo>
                    <a:lnTo>
                      <a:pt x="315" y="188"/>
                    </a:lnTo>
                    <a:lnTo>
                      <a:pt x="308" y="183"/>
                    </a:lnTo>
                    <a:lnTo>
                      <a:pt x="301" y="177"/>
                    </a:lnTo>
                    <a:lnTo>
                      <a:pt x="290" y="171"/>
                    </a:lnTo>
                    <a:lnTo>
                      <a:pt x="286" y="162"/>
                    </a:lnTo>
                    <a:lnTo>
                      <a:pt x="278" y="154"/>
                    </a:lnTo>
                    <a:lnTo>
                      <a:pt x="276" y="145"/>
                    </a:lnTo>
                    <a:lnTo>
                      <a:pt x="269" y="134"/>
                    </a:lnTo>
                    <a:lnTo>
                      <a:pt x="264" y="125"/>
                    </a:lnTo>
                    <a:lnTo>
                      <a:pt x="256" y="116"/>
                    </a:lnTo>
                    <a:lnTo>
                      <a:pt x="249" y="107"/>
                    </a:lnTo>
                    <a:lnTo>
                      <a:pt x="241" y="99"/>
                    </a:lnTo>
                    <a:lnTo>
                      <a:pt x="237" y="90"/>
                    </a:lnTo>
                    <a:lnTo>
                      <a:pt x="234" y="81"/>
                    </a:lnTo>
                    <a:lnTo>
                      <a:pt x="232" y="72"/>
                    </a:lnTo>
                    <a:lnTo>
                      <a:pt x="229" y="63"/>
                    </a:lnTo>
                    <a:lnTo>
                      <a:pt x="224" y="55"/>
                    </a:lnTo>
                    <a:lnTo>
                      <a:pt x="222" y="46"/>
                    </a:lnTo>
                    <a:lnTo>
                      <a:pt x="217" y="34"/>
                    </a:lnTo>
                    <a:lnTo>
                      <a:pt x="212" y="26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 flipH="1" flipV="1">
                <a:off x="4392720" y="518004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5" name=""/>
            <p:cNvGrpSpPr/>
            <p:nvPr/>
          </p:nvGrpSpPr>
          <p:grpSpPr>
            <a:xfrm>
              <a:off x="4336920" y="5064120"/>
              <a:ext cx="295560" cy="192240"/>
              <a:chOff x="4336920" y="5064120"/>
              <a:chExt cx="295560" cy="192240"/>
            </a:xfrm>
          </p:grpSpPr>
          <p:sp>
            <p:nvSpPr>
              <p:cNvPr id="5226" name=""/>
              <p:cNvSpPr/>
              <p:nvPr/>
            </p:nvSpPr>
            <p:spPr>
              <a:xfrm>
                <a:off x="4336920" y="5064120"/>
                <a:ext cx="295560" cy="184680"/>
              </a:xfrm>
              <a:custGeom>
                <a:avLst/>
                <a:gdLst/>
                <a:ahLst/>
                <a:rect l="0" t="0" r="r" b="b"/>
                <a:pathLst>
                  <a:path w="821" h="513">
                    <a:moveTo>
                      <a:pt x="0" y="513"/>
                    </a:moveTo>
                    <a:lnTo>
                      <a:pt x="821" y="513"/>
                    </a:lnTo>
                    <a:lnTo>
                      <a:pt x="411" y="0"/>
                    </a:lnTo>
                    <a:lnTo>
                      <a:pt x="0" y="513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4423680" y="5135400"/>
                <a:ext cx="34560" cy="120960"/>
              </a:xfrm>
              <a:custGeom>
                <a:avLst/>
                <a:gdLst/>
                <a:ahLst/>
                <a:rect l="0" t="0" r="r" b="b"/>
                <a:pathLst>
                  <a:path w="96" h="336">
                    <a:moveTo>
                      <a:pt x="0" y="336"/>
                    </a:moveTo>
                    <a:lnTo>
                      <a:pt x="96" y="336"/>
                    </a:lnTo>
                    <a:lnTo>
                      <a:pt x="96" y="336"/>
                    </a:lnTo>
                    <a:lnTo>
                      <a:pt x="96" y="336"/>
                    </a:lnTo>
                    <a:cubicBezTo>
                      <a:pt x="96" y="277"/>
                      <a:pt x="92" y="219"/>
                      <a:pt x="83" y="168"/>
                    </a:cubicBezTo>
                    <a:cubicBezTo>
                      <a:pt x="75" y="117"/>
                      <a:pt x="63" y="75"/>
                      <a:pt x="48" y="45"/>
                    </a:cubicBezTo>
                    <a:cubicBezTo>
                      <a:pt x="33" y="16"/>
                      <a:pt x="17" y="0"/>
                      <a:pt x="0" y="0"/>
                    </a:cubicBez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4506840" y="5135400"/>
                <a:ext cx="34560" cy="120960"/>
              </a:xfrm>
              <a:custGeom>
                <a:avLst/>
                <a:gdLst/>
                <a:ahLst/>
                <a:rect l="0" t="0" r="r" b="b"/>
                <a:pathLst>
                  <a:path w="96" h="336">
                    <a:moveTo>
                      <a:pt x="96" y="336"/>
                    </a:moveTo>
                    <a:lnTo>
                      <a:pt x="96" y="0"/>
                    </a:lnTo>
                    <a:lnTo>
                      <a:pt x="96" y="0"/>
                    </a:lnTo>
                    <a:cubicBezTo>
                      <a:pt x="79" y="0"/>
                      <a:pt x="63" y="16"/>
                      <a:pt x="48" y="45"/>
                    </a:cubicBezTo>
                    <a:cubicBezTo>
                      <a:pt x="33" y="75"/>
                      <a:pt x="21" y="117"/>
                      <a:pt x="13" y="168"/>
                    </a:cubicBezTo>
                    <a:cubicBezTo>
                      <a:pt x="4" y="219"/>
                      <a:pt x="0" y="277"/>
                      <a:pt x="0" y="336"/>
                    </a:cubicBezTo>
                    <a:lnTo>
                      <a:pt x="96" y="336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4403880" y="5122800"/>
                <a:ext cx="163800" cy="125640"/>
              </a:xfrm>
              <a:custGeom>
                <a:avLst/>
                <a:gdLst/>
                <a:ahLst/>
                <a:rect l="0" t="0" r="r" b="b"/>
                <a:pathLst>
                  <a:path w="455" h="349">
                    <a:moveTo>
                      <a:pt x="220" y="0"/>
                    </a:moveTo>
                    <a:lnTo>
                      <a:pt x="220" y="11"/>
                    </a:lnTo>
                    <a:lnTo>
                      <a:pt x="220" y="19"/>
                    </a:lnTo>
                    <a:lnTo>
                      <a:pt x="218" y="28"/>
                    </a:lnTo>
                    <a:lnTo>
                      <a:pt x="216" y="37"/>
                    </a:lnTo>
                    <a:lnTo>
                      <a:pt x="213" y="45"/>
                    </a:lnTo>
                    <a:lnTo>
                      <a:pt x="208" y="56"/>
                    </a:lnTo>
                    <a:lnTo>
                      <a:pt x="205" y="65"/>
                    </a:lnTo>
                    <a:lnTo>
                      <a:pt x="203" y="74"/>
                    </a:lnTo>
                    <a:lnTo>
                      <a:pt x="198" y="85"/>
                    </a:lnTo>
                    <a:lnTo>
                      <a:pt x="191" y="97"/>
                    </a:lnTo>
                    <a:lnTo>
                      <a:pt x="183" y="102"/>
                    </a:lnTo>
                    <a:lnTo>
                      <a:pt x="179" y="111"/>
                    </a:lnTo>
                    <a:lnTo>
                      <a:pt x="171" y="116"/>
                    </a:lnTo>
                    <a:lnTo>
                      <a:pt x="166" y="125"/>
                    </a:lnTo>
                    <a:lnTo>
                      <a:pt x="164" y="137"/>
                    </a:lnTo>
                    <a:lnTo>
                      <a:pt x="158" y="151"/>
                    </a:lnTo>
                    <a:lnTo>
                      <a:pt x="154" y="165"/>
                    </a:lnTo>
                    <a:lnTo>
                      <a:pt x="143" y="178"/>
                    </a:lnTo>
                    <a:lnTo>
                      <a:pt x="134" y="183"/>
                    </a:lnTo>
                    <a:lnTo>
                      <a:pt x="126" y="195"/>
                    </a:lnTo>
                    <a:lnTo>
                      <a:pt x="121" y="203"/>
                    </a:lnTo>
                    <a:lnTo>
                      <a:pt x="118" y="212"/>
                    </a:lnTo>
                    <a:lnTo>
                      <a:pt x="111" y="223"/>
                    </a:lnTo>
                    <a:lnTo>
                      <a:pt x="101" y="232"/>
                    </a:lnTo>
                    <a:lnTo>
                      <a:pt x="92" y="243"/>
                    </a:lnTo>
                    <a:lnTo>
                      <a:pt x="87" y="252"/>
                    </a:lnTo>
                    <a:lnTo>
                      <a:pt x="81" y="263"/>
                    </a:lnTo>
                    <a:lnTo>
                      <a:pt x="77" y="272"/>
                    </a:lnTo>
                    <a:lnTo>
                      <a:pt x="67" y="281"/>
                    </a:lnTo>
                    <a:lnTo>
                      <a:pt x="57" y="289"/>
                    </a:lnTo>
                    <a:lnTo>
                      <a:pt x="47" y="300"/>
                    </a:lnTo>
                    <a:lnTo>
                      <a:pt x="40" y="309"/>
                    </a:lnTo>
                    <a:lnTo>
                      <a:pt x="32" y="317"/>
                    </a:lnTo>
                    <a:lnTo>
                      <a:pt x="22" y="326"/>
                    </a:lnTo>
                    <a:lnTo>
                      <a:pt x="15" y="335"/>
                    </a:lnTo>
                    <a:lnTo>
                      <a:pt x="7" y="341"/>
                    </a:lnTo>
                    <a:lnTo>
                      <a:pt x="0" y="349"/>
                    </a:lnTo>
                    <a:lnTo>
                      <a:pt x="455" y="349"/>
                    </a:lnTo>
                    <a:lnTo>
                      <a:pt x="452" y="335"/>
                    </a:lnTo>
                    <a:lnTo>
                      <a:pt x="445" y="335"/>
                    </a:lnTo>
                    <a:lnTo>
                      <a:pt x="435" y="329"/>
                    </a:lnTo>
                    <a:lnTo>
                      <a:pt x="425" y="323"/>
                    </a:lnTo>
                    <a:lnTo>
                      <a:pt x="417" y="314"/>
                    </a:lnTo>
                    <a:lnTo>
                      <a:pt x="413" y="306"/>
                    </a:lnTo>
                    <a:lnTo>
                      <a:pt x="408" y="295"/>
                    </a:lnTo>
                    <a:lnTo>
                      <a:pt x="400" y="286"/>
                    </a:lnTo>
                    <a:lnTo>
                      <a:pt x="393" y="277"/>
                    </a:lnTo>
                    <a:lnTo>
                      <a:pt x="383" y="269"/>
                    </a:lnTo>
                    <a:lnTo>
                      <a:pt x="376" y="263"/>
                    </a:lnTo>
                    <a:lnTo>
                      <a:pt x="368" y="255"/>
                    </a:lnTo>
                    <a:lnTo>
                      <a:pt x="360" y="246"/>
                    </a:lnTo>
                    <a:lnTo>
                      <a:pt x="353" y="241"/>
                    </a:lnTo>
                    <a:lnTo>
                      <a:pt x="346" y="232"/>
                    </a:lnTo>
                    <a:lnTo>
                      <a:pt x="341" y="220"/>
                    </a:lnTo>
                    <a:lnTo>
                      <a:pt x="336" y="212"/>
                    </a:lnTo>
                    <a:lnTo>
                      <a:pt x="330" y="203"/>
                    </a:lnTo>
                    <a:lnTo>
                      <a:pt x="326" y="195"/>
                    </a:lnTo>
                    <a:lnTo>
                      <a:pt x="318" y="186"/>
                    </a:lnTo>
                    <a:lnTo>
                      <a:pt x="311" y="180"/>
                    </a:lnTo>
                    <a:lnTo>
                      <a:pt x="304" y="174"/>
                    </a:lnTo>
                    <a:lnTo>
                      <a:pt x="293" y="168"/>
                    </a:lnTo>
                    <a:lnTo>
                      <a:pt x="288" y="159"/>
                    </a:lnTo>
                    <a:lnTo>
                      <a:pt x="281" y="151"/>
                    </a:lnTo>
                    <a:lnTo>
                      <a:pt x="279" y="142"/>
                    </a:lnTo>
                    <a:lnTo>
                      <a:pt x="271" y="131"/>
                    </a:lnTo>
                    <a:lnTo>
                      <a:pt x="266" y="123"/>
                    </a:lnTo>
                    <a:lnTo>
                      <a:pt x="259" y="113"/>
                    </a:lnTo>
                    <a:lnTo>
                      <a:pt x="251" y="105"/>
                    </a:lnTo>
                    <a:lnTo>
                      <a:pt x="244" y="97"/>
                    </a:lnTo>
                    <a:lnTo>
                      <a:pt x="239" y="88"/>
                    </a:lnTo>
                    <a:lnTo>
                      <a:pt x="236" y="80"/>
                    </a:lnTo>
                    <a:lnTo>
                      <a:pt x="234" y="71"/>
                    </a:lnTo>
                    <a:lnTo>
                      <a:pt x="231" y="62"/>
                    </a:lnTo>
                    <a:lnTo>
                      <a:pt x="226" y="54"/>
                    </a:lnTo>
                    <a:lnTo>
                      <a:pt x="223" y="45"/>
                    </a:lnTo>
                    <a:lnTo>
                      <a:pt x="218" y="34"/>
                    </a:lnTo>
                    <a:lnTo>
                      <a:pt x="213" y="26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 flipH="1" flipV="1">
                <a:off x="4489560" y="52243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1" name=""/>
            <p:cNvGrpSpPr/>
            <p:nvPr/>
          </p:nvGrpSpPr>
          <p:grpSpPr>
            <a:xfrm>
              <a:off x="4465800" y="5129280"/>
              <a:ext cx="263880" cy="172440"/>
              <a:chOff x="4465800" y="5129280"/>
              <a:chExt cx="263880" cy="172440"/>
            </a:xfrm>
          </p:grpSpPr>
          <p:sp>
            <p:nvSpPr>
              <p:cNvPr id="5232" name=""/>
              <p:cNvSpPr/>
              <p:nvPr/>
            </p:nvSpPr>
            <p:spPr>
              <a:xfrm>
                <a:off x="4465800" y="5129280"/>
                <a:ext cx="263880" cy="165600"/>
              </a:xfrm>
              <a:custGeom>
                <a:avLst/>
                <a:gdLst/>
                <a:ahLst/>
                <a:rect l="0" t="0" r="r" b="b"/>
                <a:pathLst>
                  <a:path w="733" h="460">
                    <a:moveTo>
                      <a:pt x="0" y="460"/>
                    </a:moveTo>
                    <a:lnTo>
                      <a:pt x="733" y="460"/>
                    </a:lnTo>
                    <a:lnTo>
                      <a:pt x="367" y="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4543560" y="5192640"/>
                <a:ext cx="30600" cy="108360"/>
              </a:xfrm>
              <a:custGeom>
                <a:avLst/>
                <a:gdLst/>
                <a:ahLst/>
                <a:rect l="0" t="0" r="r" b="b"/>
                <a:pathLst>
                  <a:path w="85" h="301">
                    <a:moveTo>
                      <a:pt x="0" y="301"/>
                    </a:moveTo>
                    <a:lnTo>
                      <a:pt x="85" y="301"/>
                    </a:lnTo>
                    <a:lnTo>
                      <a:pt x="85" y="301"/>
                    </a:lnTo>
                    <a:lnTo>
                      <a:pt x="85" y="301"/>
                    </a:lnTo>
                    <a:cubicBezTo>
                      <a:pt x="85" y="248"/>
                      <a:pt x="81" y="196"/>
                      <a:pt x="74" y="150"/>
                    </a:cubicBezTo>
                    <a:cubicBezTo>
                      <a:pt x="66" y="105"/>
                      <a:pt x="55" y="67"/>
                      <a:pt x="42" y="40"/>
                    </a:cubicBezTo>
                    <a:cubicBezTo>
                      <a:pt x="30" y="14"/>
                      <a:pt x="15" y="0"/>
                      <a:pt x="0" y="0"/>
                    </a:cubicBez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4618080" y="5192640"/>
                <a:ext cx="30600" cy="109080"/>
              </a:xfrm>
              <a:custGeom>
                <a:avLst/>
                <a:gdLst/>
                <a:ahLst/>
                <a:rect l="0" t="0" r="r" b="b"/>
                <a:pathLst>
                  <a:path w="85" h="303">
                    <a:moveTo>
                      <a:pt x="85" y="303"/>
                    </a:moveTo>
                    <a:lnTo>
                      <a:pt x="85" y="0"/>
                    </a:lnTo>
                    <a:lnTo>
                      <a:pt x="85" y="0"/>
                    </a:lnTo>
                    <a:cubicBezTo>
                      <a:pt x="70" y="0"/>
                      <a:pt x="55" y="14"/>
                      <a:pt x="42" y="41"/>
                    </a:cubicBezTo>
                    <a:cubicBezTo>
                      <a:pt x="30" y="67"/>
                      <a:pt x="19" y="105"/>
                      <a:pt x="11" y="152"/>
                    </a:cubicBezTo>
                    <a:cubicBezTo>
                      <a:pt x="4" y="198"/>
                      <a:pt x="0" y="250"/>
                      <a:pt x="0" y="303"/>
                    </a:cubicBezTo>
                    <a:lnTo>
                      <a:pt x="85" y="303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4524480" y="5183280"/>
                <a:ext cx="147960" cy="111600"/>
              </a:xfrm>
              <a:custGeom>
                <a:avLst/>
                <a:gdLst/>
                <a:ahLst/>
                <a:rect l="0" t="0" r="r" b="b"/>
                <a:pathLst>
                  <a:path w="411" h="310">
                    <a:moveTo>
                      <a:pt x="199" y="0"/>
                    </a:moveTo>
                    <a:lnTo>
                      <a:pt x="199" y="10"/>
                    </a:lnTo>
                    <a:lnTo>
                      <a:pt x="199" y="17"/>
                    </a:lnTo>
                    <a:lnTo>
                      <a:pt x="197" y="25"/>
                    </a:lnTo>
                    <a:lnTo>
                      <a:pt x="195" y="33"/>
                    </a:lnTo>
                    <a:lnTo>
                      <a:pt x="192" y="40"/>
                    </a:lnTo>
                    <a:lnTo>
                      <a:pt x="188" y="50"/>
                    </a:lnTo>
                    <a:lnTo>
                      <a:pt x="185" y="58"/>
                    </a:lnTo>
                    <a:lnTo>
                      <a:pt x="183" y="65"/>
                    </a:lnTo>
                    <a:lnTo>
                      <a:pt x="179" y="75"/>
                    </a:lnTo>
                    <a:lnTo>
                      <a:pt x="172" y="87"/>
                    </a:lnTo>
                    <a:lnTo>
                      <a:pt x="165" y="91"/>
                    </a:lnTo>
                    <a:lnTo>
                      <a:pt x="161" y="100"/>
                    </a:lnTo>
                    <a:lnTo>
                      <a:pt x="154" y="104"/>
                    </a:lnTo>
                    <a:lnTo>
                      <a:pt x="150" y="112"/>
                    </a:lnTo>
                    <a:lnTo>
                      <a:pt x="148" y="122"/>
                    </a:lnTo>
                    <a:lnTo>
                      <a:pt x="143" y="135"/>
                    </a:lnTo>
                    <a:lnTo>
                      <a:pt x="139" y="147"/>
                    </a:lnTo>
                    <a:lnTo>
                      <a:pt x="129" y="157"/>
                    </a:lnTo>
                    <a:lnTo>
                      <a:pt x="121" y="163"/>
                    </a:lnTo>
                    <a:lnTo>
                      <a:pt x="114" y="173"/>
                    </a:lnTo>
                    <a:lnTo>
                      <a:pt x="109" y="180"/>
                    </a:lnTo>
                    <a:lnTo>
                      <a:pt x="107" y="188"/>
                    </a:lnTo>
                    <a:lnTo>
                      <a:pt x="100" y="198"/>
                    </a:lnTo>
                    <a:lnTo>
                      <a:pt x="91" y="205"/>
                    </a:lnTo>
                    <a:lnTo>
                      <a:pt x="83" y="215"/>
                    </a:lnTo>
                    <a:lnTo>
                      <a:pt x="78" y="223"/>
                    </a:lnTo>
                    <a:lnTo>
                      <a:pt x="73" y="234"/>
                    </a:lnTo>
                    <a:lnTo>
                      <a:pt x="69" y="242"/>
                    </a:lnTo>
                    <a:lnTo>
                      <a:pt x="60" y="250"/>
                    </a:lnTo>
                    <a:lnTo>
                      <a:pt x="51" y="257"/>
                    </a:lnTo>
                    <a:lnTo>
                      <a:pt x="42" y="267"/>
                    </a:lnTo>
                    <a:lnTo>
                      <a:pt x="36" y="275"/>
                    </a:lnTo>
                    <a:lnTo>
                      <a:pt x="29" y="282"/>
                    </a:lnTo>
                    <a:lnTo>
                      <a:pt x="20" y="290"/>
                    </a:lnTo>
                    <a:lnTo>
                      <a:pt x="13" y="298"/>
                    </a:lnTo>
                    <a:lnTo>
                      <a:pt x="6" y="303"/>
                    </a:lnTo>
                    <a:lnTo>
                      <a:pt x="0" y="310"/>
                    </a:lnTo>
                    <a:lnTo>
                      <a:pt x="411" y="310"/>
                    </a:lnTo>
                    <a:lnTo>
                      <a:pt x="409" y="298"/>
                    </a:lnTo>
                    <a:lnTo>
                      <a:pt x="402" y="298"/>
                    </a:lnTo>
                    <a:lnTo>
                      <a:pt x="393" y="292"/>
                    </a:lnTo>
                    <a:lnTo>
                      <a:pt x="384" y="288"/>
                    </a:lnTo>
                    <a:lnTo>
                      <a:pt x="377" y="280"/>
                    </a:lnTo>
                    <a:lnTo>
                      <a:pt x="373" y="272"/>
                    </a:lnTo>
                    <a:lnTo>
                      <a:pt x="368" y="262"/>
                    </a:lnTo>
                    <a:lnTo>
                      <a:pt x="362" y="254"/>
                    </a:lnTo>
                    <a:lnTo>
                      <a:pt x="354" y="247"/>
                    </a:lnTo>
                    <a:lnTo>
                      <a:pt x="346" y="239"/>
                    </a:lnTo>
                    <a:lnTo>
                      <a:pt x="339" y="234"/>
                    </a:lnTo>
                    <a:lnTo>
                      <a:pt x="332" y="226"/>
                    </a:lnTo>
                    <a:lnTo>
                      <a:pt x="325" y="218"/>
                    </a:lnTo>
                    <a:lnTo>
                      <a:pt x="319" y="213"/>
                    </a:lnTo>
                    <a:lnTo>
                      <a:pt x="312" y="205"/>
                    </a:lnTo>
                    <a:lnTo>
                      <a:pt x="308" y="195"/>
                    </a:lnTo>
                    <a:lnTo>
                      <a:pt x="303" y="188"/>
                    </a:lnTo>
                    <a:lnTo>
                      <a:pt x="298" y="180"/>
                    </a:lnTo>
                    <a:lnTo>
                      <a:pt x="294" y="173"/>
                    </a:lnTo>
                    <a:lnTo>
                      <a:pt x="287" y="165"/>
                    </a:lnTo>
                    <a:lnTo>
                      <a:pt x="281" y="160"/>
                    </a:lnTo>
                    <a:lnTo>
                      <a:pt x="274" y="155"/>
                    </a:lnTo>
                    <a:lnTo>
                      <a:pt x="265" y="150"/>
                    </a:lnTo>
                    <a:lnTo>
                      <a:pt x="261" y="142"/>
                    </a:lnTo>
                    <a:lnTo>
                      <a:pt x="254" y="135"/>
                    </a:lnTo>
                    <a:lnTo>
                      <a:pt x="252" y="127"/>
                    </a:lnTo>
                    <a:lnTo>
                      <a:pt x="245" y="117"/>
                    </a:lnTo>
                    <a:lnTo>
                      <a:pt x="241" y="110"/>
                    </a:lnTo>
                    <a:lnTo>
                      <a:pt x="233" y="101"/>
                    </a:lnTo>
                    <a:lnTo>
                      <a:pt x="227" y="94"/>
                    </a:lnTo>
                    <a:lnTo>
                      <a:pt x="220" y="87"/>
                    </a:lnTo>
                    <a:lnTo>
                      <a:pt x="216" y="79"/>
                    </a:lnTo>
                    <a:lnTo>
                      <a:pt x="214" y="71"/>
                    </a:lnTo>
                    <a:lnTo>
                      <a:pt x="211" y="63"/>
                    </a:lnTo>
                    <a:lnTo>
                      <a:pt x="209" y="55"/>
                    </a:lnTo>
                    <a:lnTo>
                      <a:pt x="204" y="48"/>
                    </a:lnTo>
                    <a:lnTo>
                      <a:pt x="201" y="40"/>
                    </a:lnTo>
                    <a:lnTo>
                      <a:pt x="197" y="30"/>
                    </a:lnTo>
                    <a:lnTo>
                      <a:pt x="192" y="23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H="1">
                <a:off x="4603680" y="527364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7" name=""/>
          <p:cNvGrpSpPr/>
          <p:nvPr/>
        </p:nvGrpSpPr>
        <p:grpSpPr>
          <a:xfrm>
            <a:off x="6600960" y="4952880"/>
            <a:ext cx="648000" cy="403560"/>
            <a:chOff x="6600960" y="4952880"/>
            <a:chExt cx="648000" cy="403560"/>
          </a:xfrm>
        </p:grpSpPr>
        <p:grpSp>
          <p:nvGrpSpPr>
            <p:cNvPr id="5238" name=""/>
            <p:cNvGrpSpPr/>
            <p:nvPr/>
          </p:nvGrpSpPr>
          <p:grpSpPr>
            <a:xfrm>
              <a:off x="7050240" y="4952880"/>
              <a:ext cx="130680" cy="197280"/>
              <a:chOff x="7050240" y="4952880"/>
              <a:chExt cx="130680" cy="197280"/>
            </a:xfrm>
          </p:grpSpPr>
          <p:grpSp>
            <p:nvGrpSpPr>
              <p:cNvPr id="5239" name=""/>
              <p:cNvGrpSpPr/>
              <p:nvPr/>
            </p:nvGrpSpPr>
            <p:grpSpPr>
              <a:xfrm>
                <a:off x="7050240" y="5068800"/>
                <a:ext cx="73440" cy="81360"/>
                <a:chOff x="7050240" y="5068800"/>
                <a:chExt cx="73440" cy="81360"/>
              </a:xfrm>
            </p:grpSpPr>
            <p:sp>
              <p:nvSpPr>
                <p:cNvPr id="5240" name=""/>
                <p:cNvSpPr/>
                <p:nvPr/>
              </p:nvSpPr>
              <p:spPr>
                <a:xfrm>
                  <a:off x="7050240" y="5068800"/>
                  <a:ext cx="73440" cy="81360"/>
                </a:xfrm>
                <a:custGeom>
                  <a:avLst/>
                  <a:gdLst/>
                  <a:ahLst/>
                  <a:rect l="0" t="0" r="r" b="b"/>
                  <a:pathLst>
                    <a:path w="204" h="226">
                      <a:moveTo>
                        <a:pt x="0" y="226"/>
                      </a:moveTo>
                      <a:lnTo>
                        <a:pt x="32" y="175"/>
                      </a:lnTo>
                      <a:lnTo>
                        <a:pt x="32" y="100"/>
                      </a:lnTo>
                      <a:lnTo>
                        <a:pt x="68" y="0"/>
                      </a:lnTo>
                      <a:lnTo>
                        <a:pt x="172" y="75"/>
                      </a:lnTo>
                      <a:lnTo>
                        <a:pt x="172" y="175"/>
                      </a:lnTo>
                      <a:lnTo>
                        <a:pt x="204" y="226"/>
                      </a:lnTo>
                      <a:lnTo>
                        <a:pt x="86" y="226"/>
                      </a:lnTo>
                      <a:lnTo>
                        <a:pt x="118" y="149"/>
                      </a:lnTo>
                      <a:lnTo>
                        <a:pt x="103" y="48"/>
                      </a:lnTo>
                      <a:lnTo>
                        <a:pt x="50" y="175"/>
                      </a:lnTo>
                      <a:lnTo>
                        <a:pt x="68" y="226"/>
                      </a:lnTo>
                      <a:lnTo>
                        <a:pt x="0" y="2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7077240" y="5076720"/>
                  <a:ext cx="3492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7054920" y="5130720"/>
                  <a:ext cx="1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7094520" y="5121360"/>
                  <a:ext cx="1764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7061040" y="5076720"/>
                  <a:ext cx="16200" cy="66960"/>
                </a:xfrm>
                <a:custGeom>
                  <a:avLst/>
                  <a:gdLst/>
                  <a:ahLst/>
                  <a:rect l="0" t="0" r="r" b="b"/>
                  <a:pathLst>
                    <a:path w="45" h="186">
                      <a:moveTo>
                        <a:pt x="45" y="0"/>
                      </a:moveTo>
                      <a:lnTo>
                        <a:pt x="0" y="138"/>
                      </a:lnTo>
                      <a:lnTo>
                        <a:pt x="0" y="186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7061040" y="5076720"/>
                  <a:ext cx="20880" cy="73440"/>
                </a:xfrm>
                <a:custGeom>
                  <a:avLst/>
                  <a:gdLst/>
                  <a:ahLst/>
                  <a:rect l="0" t="0" r="r" b="b"/>
                  <a:pathLst>
                    <a:path fill="none" w="58" h="204">
                      <a:moveTo>
                        <a:pt x="58" y="0"/>
                      </a:moveTo>
                      <a:lnTo>
                        <a:pt x="0" y="151"/>
                      </a:lnTo>
                      <a:lnTo>
                        <a:pt x="0" y="204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7097760" y="509580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7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7097760" y="5095800"/>
                  <a:ext cx="0" cy="53640"/>
                </a:xfrm>
                <a:custGeom>
                  <a:avLst/>
                  <a:gdLst/>
                  <a:ahLst/>
                  <a:rect l="0" t="0" r="r" b="b"/>
                  <a:pathLst>
                    <a:path fill="none" w="0" h="14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0" y="14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8" name=""/>
              <p:cNvGrpSpPr/>
              <p:nvPr/>
            </p:nvGrpSpPr>
            <p:grpSpPr>
              <a:xfrm>
                <a:off x="7050240" y="4952880"/>
                <a:ext cx="130680" cy="151200"/>
                <a:chOff x="7050240" y="4952880"/>
                <a:chExt cx="130680" cy="151200"/>
              </a:xfrm>
            </p:grpSpPr>
            <p:sp>
              <p:nvSpPr>
                <p:cNvPr id="5249" name=""/>
                <p:cNvSpPr/>
                <p:nvPr/>
              </p:nvSpPr>
              <p:spPr>
                <a:xfrm>
                  <a:off x="7050240" y="4952880"/>
                  <a:ext cx="130680" cy="151200"/>
                </a:xfrm>
                <a:custGeom>
                  <a:avLst/>
                  <a:gdLst/>
                  <a:ahLst/>
                  <a:rect l="0" t="0" r="r" b="b"/>
                  <a:pathLst>
                    <a:path w="363" h="420">
                      <a:moveTo>
                        <a:pt x="0" y="0"/>
                      </a:moveTo>
                      <a:lnTo>
                        <a:pt x="363" y="296"/>
                      </a:lnTo>
                      <a:lnTo>
                        <a:pt x="223" y="322"/>
                      </a:lnTo>
                      <a:lnTo>
                        <a:pt x="173" y="420"/>
                      </a:lnTo>
                      <a:lnTo>
                        <a:pt x="0" y="248"/>
                      </a:lnTo>
                      <a:lnTo>
                        <a:pt x="33" y="1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7061040" y="5014800"/>
                  <a:ext cx="6984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7112160" y="4998960"/>
                  <a:ext cx="6480" cy="9360"/>
                </a:xfrm>
                <a:prstGeom prst="round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7112160" y="49989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fill="none" w="32" h="23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17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53" name=""/>
            <p:cNvGrpSpPr/>
            <p:nvPr/>
          </p:nvGrpSpPr>
          <p:grpSpPr>
            <a:xfrm>
              <a:off x="6873840" y="5086440"/>
              <a:ext cx="125640" cy="151200"/>
              <a:chOff x="6873840" y="5086440"/>
              <a:chExt cx="125640" cy="151200"/>
            </a:xfrm>
          </p:grpSpPr>
          <p:sp>
            <p:nvSpPr>
              <p:cNvPr id="5254" name=""/>
              <p:cNvSpPr/>
              <p:nvPr/>
            </p:nvSpPr>
            <p:spPr>
              <a:xfrm>
                <a:off x="6873840" y="5086440"/>
                <a:ext cx="125640" cy="151200"/>
              </a:xfrm>
              <a:custGeom>
                <a:avLst/>
                <a:gdLst/>
                <a:ahLst/>
                <a:rect l="0" t="0" r="r" b="b"/>
                <a:pathLst>
                  <a:path w="349" h="420">
                    <a:moveTo>
                      <a:pt x="349" y="175"/>
                    </a:moveTo>
                    <a:lnTo>
                      <a:pt x="349" y="75"/>
                    </a:lnTo>
                    <a:lnTo>
                      <a:pt x="174" y="75"/>
                    </a:lnTo>
                    <a:lnTo>
                      <a:pt x="174" y="0"/>
                    </a:lnTo>
                    <a:lnTo>
                      <a:pt x="0" y="0"/>
                    </a:lnTo>
                    <a:lnTo>
                      <a:pt x="0" y="420"/>
                    </a:lnTo>
                    <a:lnTo>
                      <a:pt x="208" y="420"/>
                    </a:lnTo>
                    <a:lnTo>
                      <a:pt x="349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55" name=""/>
              <p:cNvGrpSpPr/>
              <p:nvPr/>
            </p:nvGrpSpPr>
            <p:grpSpPr>
              <a:xfrm>
                <a:off x="6873840" y="5086440"/>
                <a:ext cx="125280" cy="150840"/>
                <a:chOff x="6873840" y="5086440"/>
                <a:chExt cx="125280" cy="150840"/>
              </a:xfrm>
            </p:grpSpPr>
            <p:sp>
              <p:nvSpPr>
                <p:cNvPr id="5256" name=""/>
                <p:cNvSpPr/>
                <p:nvPr/>
              </p:nvSpPr>
              <p:spPr>
                <a:xfrm>
                  <a:off x="6913440" y="5227560"/>
                  <a:ext cx="24120" cy="5040"/>
                </a:xfrm>
                <a:custGeom>
                  <a:avLst/>
                  <a:gdLst/>
                  <a:ahLst/>
                  <a:rect l="0" t="0" r="r" b="b"/>
                  <a:pathLst>
                    <a:path w="67" h="14">
                      <a:moveTo>
                        <a:pt x="0" y="0"/>
                      </a:moveTo>
                      <a:lnTo>
                        <a:pt x="67" y="0"/>
                      </a:lnTo>
                      <a:lnTo>
                        <a:pt x="67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>
                  <a:off x="6881760" y="5227560"/>
                  <a:ext cx="62280" cy="5040"/>
                </a:xfrm>
                <a:custGeom>
                  <a:avLst/>
                  <a:gdLst/>
                  <a:ahLst/>
                  <a:rect l="0" t="0" r="r" b="b"/>
                  <a:pathLst>
                    <a:path w="173" h="14">
                      <a:moveTo>
                        <a:pt x="173" y="14"/>
                      </a:moveTo>
                      <a:lnTo>
                        <a:pt x="143" y="0"/>
                      </a:lnTo>
                      <a:lnTo>
                        <a:pt x="110" y="0"/>
                      </a:lnTo>
                      <a:lnTo>
                        <a:pt x="0" y="14"/>
                      </a:lnTo>
                      <a:lnTo>
                        <a:pt x="17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6881760" y="5227560"/>
                  <a:ext cx="6876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191" h="27">
                      <a:moveTo>
                        <a:pt x="191" y="27"/>
                      </a:moveTo>
                      <a:lnTo>
                        <a:pt x="158" y="0"/>
                      </a:lnTo>
                      <a:lnTo>
                        <a:pt x="121" y="0"/>
                      </a:lnTo>
                      <a:lnTo>
                        <a:pt x="0" y="27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>
                  <a:off x="6919920" y="5227560"/>
                  <a:ext cx="0" cy="9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 flipH="1">
                  <a:off x="6881760" y="5211720"/>
                  <a:ext cx="81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6937200" y="511488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2" name=""/>
                <p:cNvSpPr/>
                <p:nvPr/>
              </p:nvSpPr>
              <p:spPr>
                <a:xfrm>
                  <a:off x="6943680" y="511488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3" name=""/>
                <p:cNvSpPr/>
                <p:nvPr/>
              </p:nvSpPr>
              <p:spPr>
                <a:xfrm>
                  <a:off x="6993000" y="5114880"/>
                  <a:ext cx="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4" name=""/>
                <p:cNvSpPr/>
                <p:nvPr/>
              </p:nvSpPr>
              <p:spPr>
                <a:xfrm>
                  <a:off x="6943680" y="511488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5" name=""/>
                <p:cNvSpPr/>
                <p:nvPr/>
              </p:nvSpPr>
              <p:spPr>
                <a:xfrm>
                  <a:off x="6937200" y="5086440"/>
                  <a:ext cx="0" cy="12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6" name=""/>
                <p:cNvSpPr/>
                <p:nvPr/>
              </p:nvSpPr>
              <p:spPr>
                <a:xfrm>
                  <a:off x="6881760" y="509580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7" name=""/>
                <p:cNvSpPr/>
                <p:nvPr/>
              </p:nvSpPr>
              <p:spPr>
                <a:xfrm flipH="1">
                  <a:off x="6873840" y="5103720"/>
                  <a:ext cx="63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8" name=""/>
                <p:cNvSpPr/>
                <p:nvPr/>
              </p:nvSpPr>
              <p:spPr>
                <a:xfrm flipH="1">
                  <a:off x="6881760" y="5149800"/>
                  <a:ext cx="4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>
                  <a:off x="6905520" y="52117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29" y="32"/>
                      </a:lnTo>
                      <a:lnTo>
                        <a:pt x="1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6905520" y="5211720"/>
                  <a:ext cx="51120" cy="16200"/>
                </a:xfrm>
                <a:custGeom>
                  <a:avLst/>
                  <a:gdLst/>
                  <a:ahLst/>
                  <a:rect l="0" t="0" r="r" b="b"/>
                  <a:pathLst>
                    <a:path fill="none" w="142" h="45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42" y="45"/>
                      </a:lnTo>
                      <a:lnTo>
                        <a:pt x="142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1" name=""/>
                <p:cNvSpPr/>
                <p:nvPr/>
              </p:nvSpPr>
              <p:spPr>
                <a:xfrm>
                  <a:off x="6913440" y="521964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>
                  <a:off x="6881760" y="5192640"/>
                  <a:ext cx="4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6881760" y="520236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4" name=""/>
                <p:cNvSpPr/>
                <p:nvPr/>
              </p:nvSpPr>
              <p:spPr>
                <a:xfrm>
                  <a:off x="6943680" y="5211720"/>
                  <a:ext cx="1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5" name=""/>
                <p:cNvSpPr/>
                <p:nvPr/>
              </p:nvSpPr>
              <p:spPr>
                <a:xfrm>
                  <a:off x="6943680" y="5149800"/>
                  <a:ext cx="4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6943680" y="5157720"/>
                  <a:ext cx="31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7" name=""/>
                <p:cNvSpPr/>
                <p:nvPr/>
              </p:nvSpPr>
              <p:spPr>
                <a:xfrm>
                  <a:off x="6943680" y="5175360"/>
                  <a:ext cx="31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>
                  <a:off x="6943680" y="517536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9" name=""/>
            <p:cNvSpPr/>
            <p:nvPr/>
          </p:nvSpPr>
          <p:spPr>
            <a:xfrm>
              <a:off x="6800760" y="5165640"/>
              <a:ext cx="20880" cy="28800"/>
            </a:xfrm>
            <a:custGeom>
              <a:avLst/>
              <a:gdLst/>
              <a:ahLst/>
              <a:rect l="0" t="0" r="r" b="b"/>
              <a:pathLst>
                <a:path w="58" h="80">
                  <a:moveTo>
                    <a:pt x="0" y="62"/>
                  </a:moveTo>
                  <a:lnTo>
                    <a:pt x="14" y="41"/>
                  </a:lnTo>
                  <a:lnTo>
                    <a:pt x="14" y="62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30" y="8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800760" y="5165640"/>
              <a:ext cx="24120" cy="36720"/>
            </a:xfrm>
            <a:custGeom>
              <a:avLst/>
              <a:gdLst/>
              <a:ahLst/>
              <a:rect l="0" t="0" r="r" b="b"/>
              <a:pathLst>
                <a:path fill="none" w="67" h="102">
                  <a:moveTo>
                    <a:pt x="0" y="79"/>
                  </a:moveTo>
                  <a:lnTo>
                    <a:pt x="17" y="53"/>
                  </a:lnTo>
                  <a:lnTo>
                    <a:pt x="17" y="79"/>
                  </a:lnTo>
                  <a:lnTo>
                    <a:pt x="52" y="0"/>
                  </a:lnTo>
                  <a:lnTo>
                    <a:pt x="67" y="0"/>
                  </a:lnTo>
                  <a:lnTo>
                    <a:pt x="35" y="1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6608880" y="5219640"/>
              <a:ext cx="130680" cy="52920"/>
            </a:xfrm>
            <a:custGeom>
              <a:avLst/>
              <a:gdLst/>
              <a:ahLst/>
              <a:rect l="0" t="0" r="r" b="b"/>
              <a:pathLst>
                <a:path w="363" h="147">
                  <a:moveTo>
                    <a:pt x="0" y="73"/>
                  </a:moveTo>
                  <a:lnTo>
                    <a:pt x="277" y="98"/>
                  </a:lnTo>
                  <a:lnTo>
                    <a:pt x="312" y="147"/>
                  </a:lnTo>
                  <a:lnTo>
                    <a:pt x="363" y="147"/>
                  </a:lnTo>
                  <a:lnTo>
                    <a:pt x="242" y="0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6975360" y="5184720"/>
              <a:ext cx="136800" cy="87840"/>
            </a:xfrm>
            <a:custGeom>
              <a:avLst/>
              <a:gdLst/>
              <a:ahLst/>
              <a:rect l="0" t="0" r="r" b="b"/>
              <a:pathLst>
                <a:path w="380" h="244">
                  <a:moveTo>
                    <a:pt x="362" y="197"/>
                  </a:moveTo>
                  <a:lnTo>
                    <a:pt x="70" y="197"/>
                  </a:lnTo>
                  <a:lnTo>
                    <a:pt x="70" y="244"/>
                  </a:lnTo>
                  <a:lnTo>
                    <a:pt x="17" y="244"/>
                  </a:lnTo>
                  <a:lnTo>
                    <a:pt x="0" y="222"/>
                  </a:lnTo>
                  <a:lnTo>
                    <a:pt x="52" y="47"/>
                  </a:lnTo>
                  <a:lnTo>
                    <a:pt x="86" y="0"/>
                  </a:lnTo>
                  <a:lnTo>
                    <a:pt x="294" y="0"/>
                  </a:lnTo>
                  <a:lnTo>
                    <a:pt x="362" y="123"/>
                  </a:lnTo>
                  <a:lnTo>
                    <a:pt x="380" y="123"/>
                  </a:lnTo>
                  <a:lnTo>
                    <a:pt x="362" y="1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83" name="" descr=""/>
            <p:cNvPicPr/>
            <p:nvPr/>
          </p:nvPicPr>
          <p:blipFill>
            <a:blip r:embed="rId17"/>
            <a:stretch/>
          </p:blipFill>
          <p:spPr>
            <a:xfrm>
              <a:off x="6608880" y="5059440"/>
              <a:ext cx="509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"/>
            <p:cNvSpPr/>
            <p:nvPr/>
          </p:nvSpPr>
          <p:spPr>
            <a:xfrm>
              <a:off x="6608880" y="5059440"/>
              <a:ext cx="514800" cy="213120"/>
            </a:xfrm>
            <a:custGeom>
              <a:avLst/>
              <a:gdLst/>
              <a:ahLst/>
              <a:rect l="0" t="0" r="r" b="b"/>
              <a:pathLst>
                <a:path w="1430" h="592">
                  <a:moveTo>
                    <a:pt x="0" y="446"/>
                  </a:moveTo>
                  <a:lnTo>
                    <a:pt x="0" y="321"/>
                  </a:lnTo>
                  <a:lnTo>
                    <a:pt x="17" y="273"/>
                  </a:lnTo>
                  <a:lnTo>
                    <a:pt x="33" y="248"/>
                  </a:lnTo>
                  <a:lnTo>
                    <a:pt x="86" y="248"/>
                  </a:lnTo>
                  <a:lnTo>
                    <a:pt x="119" y="248"/>
                  </a:lnTo>
                  <a:lnTo>
                    <a:pt x="154" y="248"/>
                  </a:lnTo>
                  <a:lnTo>
                    <a:pt x="274" y="223"/>
                  </a:lnTo>
                  <a:lnTo>
                    <a:pt x="447" y="223"/>
                  </a:lnTo>
                  <a:lnTo>
                    <a:pt x="465" y="0"/>
                  </a:lnTo>
                  <a:lnTo>
                    <a:pt x="483" y="0"/>
                  </a:lnTo>
                  <a:lnTo>
                    <a:pt x="483" y="519"/>
                  </a:lnTo>
                  <a:lnTo>
                    <a:pt x="914" y="519"/>
                  </a:lnTo>
                  <a:lnTo>
                    <a:pt x="965" y="471"/>
                  </a:lnTo>
                  <a:lnTo>
                    <a:pt x="1000" y="394"/>
                  </a:lnTo>
                  <a:lnTo>
                    <a:pt x="1016" y="296"/>
                  </a:lnTo>
                  <a:lnTo>
                    <a:pt x="1033" y="273"/>
                  </a:lnTo>
                  <a:lnTo>
                    <a:pt x="1430" y="273"/>
                  </a:lnTo>
                  <a:lnTo>
                    <a:pt x="1430" y="545"/>
                  </a:lnTo>
                  <a:lnTo>
                    <a:pt x="1397" y="545"/>
                  </a:lnTo>
                  <a:lnTo>
                    <a:pt x="1397" y="471"/>
                  </a:lnTo>
                  <a:lnTo>
                    <a:pt x="1362" y="471"/>
                  </a:lnTo>
                  <a:lnTo>
                    <a:pt x="1328" y="420"/>
                  </a:lnTo>
                  <a:lnTo>
                    <a:pt x="1293" y="372"/>
                  </a:lnTo>
                  <a:lnTo>
                    <a:pt x="1103" y="372"/>
                  </a:lnTo>
                  <a:lnTo>
                    <a:pt x="1051" y="420"/>
                  </a:lnTo>
                  <a:lnTo>
                    <a:pt x="1033" y="494"/>
                  </a:lnTo>
                  <a:lnTo>
                    <a:pt x="1000" y="545"/>
                  </a:lnTo>
                  <a:lnTo>
                    <a:pt x="982" y="592"/>
                  </a:lnTo>
                  <a:lnTo>
                    <a:pt x="344" y="592"/>
                  </a:lnTo>
                  <a:lnTo>
                    <a:pt x="223" y="446"/>
                  </a:lnTo>
                  <a:lnTo>
                    <a:pt x="68" y="420"/>
                  </a:lnTo>
                  <a:lnTo>
                    <a:pt x="0" y="4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781680" y="5059440"/>
              <a:ext cx="95400" cy="12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6" name="" descr=""/>
            <p:cNvPicPr/>
            <p:nvPr/>
          </p:nvPicPr>
          <p:blipFill>
            <a:blip r:embed="rId18"/>
            <a:stretch/>
          </p:blipFill>
          <p:spPr>
            <a:xfrm>
              <a:off x="6781680" y="5068800"/>
              <a:ext cx="19512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"/>
            <p:cNvSpPr/>
            <p:nvPr/>
          </p:nvSpPr>
          <p:spPr>
            <a:xfrm>
              <a:off x="6781680" y="5068800"/>
              <a:ext cx="200520" cy="178200"/>
            </a:xfrm>
            <a:custGeom>
              <a:avLst/>
              <a:gdLst/>
              <a:ahLst/>
              <a:rect l="0" t="0" r="r" b="b"/>
              <a:pathLst>
                <a:path w="557" h="495">
                  <a:moveTo>
                    <a:pt x="557" y="249"/>
                  </a:moveTo>
                  <a:lnTo>
                    <a:pt x="539" y="249"/>
                  </a:lnTo>
                  <a:lnTo>
                    <a:pt x="524" y="249"/>
                  </a:lnTo>
                  <a:lnTo>
                    <a:pt x="524" y="322"/>
                  </a:lnTo>
                  <a:lnTo>
                    <a:pt x="470" y="470"/>
                  </a:lnTo>
                  <a:lnTo>
                    <a:pt x="279" y="470"/>
                  </a:lnTo>
                  <a:lnTo>
                    <a:pt x="279" y="0"/>
                  </a:lnTo>
                  <a:lnTo>
                    <a:pt x="244" y="0"/>
                  </a:lnTo>
                  <a:lnTo>
                    <a:pt x="244" y="249"/>
                  </a:lnTo>
                  <a:lnTo>
                    <a:pt x="226" y="249"/>
                  </a:lnTo>
                  <a:lnTo>
                    <a:pt x="208" y="370"/>
                  </a:lnTo>
                  <a:lnTo>
                    <a:pt x="244" y="470"/>
                  </a:lnTo>
                  <a:lnTo>
                    <a:pt x="0" y="470"/>
                  </a:lnTo>
                  <a:lnTo>
                    <a:pt x="0" y="495"/>
                  </a:lnTo>
                  <a:lnTo>
                    <a:pt x="437" y="495"/>
                  </a:lnTo>
                  <a:lnTo>
                    <a:pt x="488" y="447"/>
                  </a:lnTo>
                  <a:lnTo>
                    <a:pt x="524" y="370"/>
                  </a:lnTo>
                  <a:lnTo>
                    <a:pt x="539" y="271"/>
                  </a:lnTo>
                  <a:lnTo>
                    <a:pt x="557" y="2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608880" y="5175360"/>
              <a:ext cx="130680" cy="97200"/>
            </a:xfrm>
            <a:custGeom>
              <a:avLst/>
              <a:gdLst/>
              <a:ahLst/>
              <a:rect l="0" t="0" r="r" b="b"/>
              <a:pathLst>
                <a:path fill="none" w="363" h="270">
                  <a:moveTo>
                    <a:pt x="0" y="99"/>
                  </a:moveTo>
                  <a:lnTo>
                    <a:pt x="17" y="99"/>
                  </a:lnTo>
                  <a:lnTo>
                    <a:pt x="33" y="50"/>
                  </a:lnTo>
                  <a:lnTo>
                    <a:pt x="51" y="0"/>
                  </a:lnTo>
                  <a:lnTo>
                    <a:pt x="68" y="0"/>
                  </a:lnTo>
                  <a:lnTo>
                    <a:pt x="242" y="0"/>
                  </a:lnTo>
                  <a:lnTo>
                    <a:pt x="277" y="25"/>
                  </a:lnTo>
                  <a:lnTo>
                    <a:pt x="294" y="73"/>
                  </a:lnTo>
                  <a:lnTo>
                    <a:pt x="363" y="2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6769080" y="51386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7112160" y="522756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6719760" y="5138640"/>
              <a:ext cx="27000" cy="14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6781680" y="5157720"/>
              <a:ext cx="87840" cy="79560"/>
            </a:xfrm>
            <a:custGeom>
              <a:avLst/>
              <a:gdLst/>
              <a:ahLst/>
              <a:rect l="0" t="0" r="r" b="b"/>
              <a:pathLst>
                <a:path w="244" h="221">
                  <a:moveTo>
                    <a:pt x="244" y="0"/>
                  </a:moveTo>
                  <a:lnTo>
                    <a:pt x="209" y="122"/>
                  </a:lnTo>
                  <a:lnTo>
                    <a:pt x="87" y="122"/>
                  </a:lnTo>
                  <a:lnTo>
                    <a:pt x="51" y="73"/>
                  </a:lnTo>
                  <a:lnTo>
                    <a:pt x="51" y="48"/>
                  </a:lnTo>
                  <a:lnTo>
                    <a:pt x="0" y="48"/>
                  </a:lnTo>
                  <a:lnTo>
                    <a:pt x="0" y="221"/>
                  </a:lnTo>
                  <a:lnTo>
                    <a:pt x="244" y="22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6788160" y="5149800"/>
              <a:ext cx="22320" cy="9360"/>
            </a:xfrm>
            <a:prstGeom prst="round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6788160" y="5138640"/>
              <a:ext cx="20880" cy="27360"/>
            </a:xfrm>
            <a:custGeom>
              <a:avLst/>
              <a:gdLst/>
              <a:ahLst/>
              <a:rect l="0" t="0" r="r" b="b"/>
              <a:pathLst>
                <a:path w="58" h="76">
                  <a:moveTo>
                    <a:pt x="38" y="0"/>
                  </a:moveTo>
                  <a:lnTo>
                    <a:pt x="58" y="52"/>
                  </a:lnTo>
                  <a:lnTo>
                    <a:pt x="0" y="76"/>
                  </a:lnTo>
                  <a:lnTo>
                    <a:pt x="0" y="2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6781680" y="5138640"/>
              <a:ext cx="7920" cy="39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6800760" y="5121360"/>
              <a:ext cx="9360" cy="57240"/>
            </a:xfrm>
            <a:prstGeom prst="round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6796080" y="5121360"/>
              <a:ext cx="16200" cy="54360"/>
            </a:xfrm>
            <a:custGeom>
              <a:avLst/>
              <a:gdLst/>
              <a:ahLst/>
              <a:rect l="0" t="0" r="r" b="b"/>
              <a:pathLst>
                <a:path w="45" h="151">
                  <a:moveTo>
                    <a:pt x="13" y="0"/>
                  </a:moveTo>
                  <a:lnTo>
                    <a:pt x="45" y="126"/>
                  </a:lnTo>
                  <a:lnTo>
                    <a:pt x="45" y="151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6713640" y="5165640"/>
              <a:ext cx="55800" cy="36720"/>
            </a:xfrm>
            <a:custGeom>
              <a:avLst/>
              <a:gdLst/>
              <a:ahLst/>
              <a:rect l="0" t="0" r="r" b="b"/>
              <a:pathLst>
                <a:path fill="none" w="155" h="102">
                  <a:moveTo>
                    <a:pt x="0" y="102"/>
                  </a:moveTo>
                  <a:lnTo>
                    <a:pt x="52" y="102"/>
                  </a:lnTo>
                  <a:lnTo>
                    <a:pt x="122" y="0"/>
                  </a:lnTo>
                  <a:lnTo>
                    <a:pt x="15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6696000" y="5219640"/>
              <a:ext cx="30600" cy="27360"/>
            </a:xfrm>
            <a:custGeom>
              <a:avLst/>
              <a:gdLst/>
              <a:ahLst/>
              <a:rect l="0" t="0" r="r" b="b"/>
              <a:pathLst>
                <a:path fill="none" w="85" h="76">
                  <a:moveTo>
                    <a:pt x="85" y="76"/>
                  </a:moveTo>
                  <a:lnTo>
                    <a:pt x="68" y="2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6751800" y="5138640"/>
              <a:ext cx="14760" cy="20880"/>
            </a:xfrm>
            <a:custGeom>
              <a:avLst/>
              <a:gdLst/>
              <a:ahLst/>
              <a:rect l="0" t="0" r="r" b="b"/>
              <a:pathLst>
                <a:path w="41" h="58">
                  <a:moveTo>
                    <a:pt x="41" y="58"/>
                  </a:moveTo>
                  <a:lnTo>
                    <a:pt x="41" y="40"/>
                  </a:lnTo>
                  <a:lnTo>
                    <a:pt x="28" y="4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4" y="58"/>
                  </a:lnTo>
                  <a:lnTo>
                    <a:pt x="4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6751800" y="5138640"/>
              <a:ext cx="18000" cy="27360"/>
            </a:xfrm>
            <a:custGeom>
              <a:avLst/>
              <a:gdLst/>
              <a:ahLst/>
              <a:rect l="0" t="0" r="r" b="b"/>
              <a:pathLst>
                <a:path fill="none" w="50" h="76">
                  <a:moveTo>
                    <a:pt x="50" y="76"/>
                  </a:moveTo>
                  <a:lnTo>
                    <a:pt x="50" y="52"/>
                  </a:lnTo>
                  <a:lnTo>
                    <a:pt x="34" y="52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17" y="7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6608880" y="5149800"/>
              <a:ext cx="143280" cy="25920"/>
            </a:xfrm>
            <a:custGeom>
              <a:avLst/>
              <a:gdLst/>
              <a:ahLst/>
              <a:rect l="0" t="0" r="r" b="b"/>
              <a:pathLst>
                <a:path fill="none" w="398" h="72">
                  <a:moveTo>
                    <a:pt x="0" y="72"/>
                  </a:moveTo>
                  <a:lnTo>
                    <a:pt x="0" y="47"/>
                  </a:lnTo>
                  <a:lnTo>
                    <a:pt x="33" y="25"/>
                  </a:lnTo>
                  <a:lnTo>
                    <a:pt x="105" y="0"/>
                  </a:lnTo>
                  <a:lnTo>
                    <a:pt x="224" y="0"/>
                  </a:lnTo>
                  <a:lnTo>
                    <a:pt x="39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6796080" y="5121360"/>
              <a:ext cx="14760" cy="49680"/>
            </a:xfrm>
            <a:custGeom>
              <a:avLst/>
              <a:gdLst/>
              <a:ahLst/>
              <a:rect l="0" t="0" r="r" b="b"/>
              <a:pathLst>
                <a:path w="41" h="138">
                  <a:moveTo>
                    <a:pt x="0" y="0"/>
                  </a:moveTo>
                  <a:lnTo>
                    <a:pt x="0" y="70"/>
                  </a:lnTo>
                  <a:lnTo>
                    <a:pt x="13" y="93"/>
                  </a:lnTo>
                  <a:lnTo>
                    <a:pt x="41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6796080" y="5121360"/>
              <a:ext cx="16200" cy="54360"/>
            </a:xfrm>
            <a:custGeom>
              <a:avLst/>
              <a:gdLst/>
              <a:ahLst/>
              <a:rect l="0" t="0" r="r" b="b"/>
              <a:pathLst>
                <a:path fill="none" w="45" h="151">
                  <a:moveTo>
                    <a:pt x="0" y="0"/>
                  </a:moveTo>
                  <a:lnTo>
                    <a:pt x="0" y="77"/>
                  </a:lnTo>
                  <a:lnTo>
                    <a:pt x="13" y="102"/>
                  </a:lnTo>
                  <a:lnTo>
                    <a:pt x="45" y="1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6781680" y="5202360"/>
              <a:ext cx="74880" cy="35280"/>
            </a:xfrm>
            <a:custGeom>
              <a:avLst/>
              <a:gdLst/>
              <a:ahLst/>
              <a:rect l="0" t="0" r="r" b="b"/>
              <a:pathLst>
                <a:path fill="none" w="208" h="98">
                  <a:moveTo>
                    <a:pt x="86" y="0"/>
                  </a:moveTo>
                  <a:lnTo>
                    <a:pt x="0" y="0"/>
                  </a:lnTo>
                  <a:lnTo>
                    <a:pt x="17" y="75"/>
                  </a:lnTo>
                  <a:lnTo>
                    <a:pt x="86" y="75"/>
                  </a:lnTo>
                  <a:lnTo>
                    <a:pt x="192" y="98"/>
                  </a:lnTo>
                  <a:lnTo>
                    <a:pt x="20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6811920" y="5227560"/>
              <a:ext cx="648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781680" y="5149800"/>
              <a:ext cx="7920" cy="20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781680" y="5211720"/>
              <a:ext cx="7920" cy="20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781680" y="5138640"/>
              <a:ext cx="648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608880" y="5149800"/>
              <a:ext cx="111600" cy="52920"/>
            </a:xfrm>
            <a:custGeom>
              <a:avLst/>
              <a:gdLst/>
              <a:ahLst/>
              <a:rect l="0" t="0" r="r" b="b"/>
              <a:pathLst>
                <a:path fill="none" w="310" h="147">
                  <a:moveTo>
                    <a:pt x="310" y="0"/>
                  </a:moveTo>
                  <a:lnTo>
                    <a:pt x="293" y="25"/>
                  </a:lnTo>
                  <a:lnTo>
                    <a:pt x="120" y="25"/>
                  </a:lnTo>
                  <a:lnTo>
                    <a:pt x="68" y="48"/>
                  </a:lnTo>
                  <a:lnTo>
                    <a:pt x="68" y="73"/>
                  </a:lnTo>
                  <a:lnTo>
                    <a:pt x="33" y="98"/>
                  </a:lnTo>
                  <a:lnTo>
                    <a:pt x="17" y="147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719760" y="5157720"/>
              <a:ext cx="7920" cy="47520"/>
            </a:xfrm>
            <a:prstGeom prst="roundRect">
              <a:avLst/>
            </a:prstGeom>
            <a:solidFill>
              <a:srgbClr val="c08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713640" y="5157720"/>
              <a:ext cx="19440" cy="44640"/>
            </a:xfrm>
            <a:custGeom>
              <a:avLst/>
              <a:gdLst/>
              <a:ahLst/>
              <a:rect l="0" t="0" r="r" b="b"/>
              <a:pathLst>
                <a:path w="54" h="124">
                  <a:moveTo>
                    <a:pt x="18" y="0"/>
                  </a:moveTo>
                  <a:lnTo>
                    <a:pt x="54" y="101"/>
                  </a:lnTo>
                  <a:lnTo>
                    <a:pt x="36" y="124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6713640" y="5157720"/>
              <a:ext cx="12600" cy="3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6713640" y="5157720"/>
              <a:ext cx="1260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726240" y="519264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732720" y="5192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H="1" flipV="1">
              <a:off x="6719760" y="5157720"/>
              <a:ext cx="12960" cy="3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 flipV="1">
              <a:off x="6719760" y="5157720"/>
              <a:ext cx="1296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608880" y="5184720"/>
              <a:ext cx="6480" cy="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613560" y="5175360"/>
              <a:ext cx="15840" cy="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6600960" y="5175360"/>
              <a:ext cx="8280" cy="27360"/>
            </a:xfrm>
            <a:custGeom>
              <a:avLst/>
              <a:gdLst/>
              <a:ahLst/>
              <a:rect l="0" t="0" r="r" b="b"/>
              <a:pathLst>
                <a:path fill="none" w="23" h="76">
                  <a:moveTo>
                    <a:pt x="23" y="0"/>
                  </a:moveTo>
                  <a:lnTo>
                    <a:pt x="0" y="52"/>
                  </a:lnTo>
                  <a:lnTo>
                    <a:pt x="23" y="7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2" name=""/>
            <p:cNvGrpSpPr/>
            <p:nvPr/>
          </p:nvGrpSpPr>
          <p:grpSpPr>
            <a:xfrm>
              <a:off x="6608880" y="5202360"/>
              <a:ext cx="106200" cy="154080"/>
              <a:chOff x="6608880" y="5202360"/>
              <a:chExt cx="106200" cy="154080"/>
            </a:xfrm>
          </p:grpSpPr>
          <p:sp>
            <p:nvSpPr>
              <p:cNvPr id="5323" name=""/>
              <p:cNvSpPr/>
              <p:nvPr/>
            </p:nvSpPr>
            <p:spPr>
              <a:xfrm>
                <a:off x="6608880" y="5202360"/>
                <a:ext cx="106200" cy="154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621480" y="5211720"/>
                <a:ext cx="88920" cy="127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630840" y="5237280"/>
                <a:ext cx="60480" cy="842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640560" y="5246640"/>
                <a:ext cx="44280" cy="63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649920" y="5265720"/>
                <a:ext cx="28440" cy="36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6657840" y="5265720"/>
                <a:ext cx="14400" cy="19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6657840" y="5265720"/>
                <a:ext cx="6480" cy="9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662880" y="5265720"/>
                <a:ext cx="9360" cy="9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669000" y="5272200"/>
                <a:ext cx="93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6662880" y="5281560"/>
                <a:ext cx="93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6657840" y="5291280"/>
                <a:ext cx="6480" cy="111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649920" y="5281560"/>
                <a:ext cx="93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6649920" y="5272200"/>
                <a:ext cx="93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6" name=""/>
            <p:cNvSpPr/>
            <p:nvPr/>
          </p:nvSpPr>
          <p:spPr>
            <a:xfrm>
              <a:off x="6975360" y="5227560"/>
              <a:ext cx="136800" cy="27360"/>
            </a:xfrm>
            <a:custGeom>
              <a:avLst/>
              <a:gdLst/>
              <a:ahLst/>
              <a:rect l="0" t="0" r="r" b="b"/>
              <a:pathLst>
                <a:path fill="none" w="380" h="76">
                  <a:moveTo>
                    <a:pt x="380" y="24"/>
                  </a:moveTo>
                  <a:lnTo>
                    <a:pt x="345" y="0"/>
                  </a:lnTo>
                  <a:lnTo>
                    <a:pt x="294" y="0"/>
                  </a:lnTo>
                  <a:lnTo>
                    <a:pt x="0" y="7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7" name=""/>
            <p:cNvGrpSpPr/>
            <p:nvPr/>
          </p:nvGrpSpPr>
          <p:grpSpPr>
            <a:xfrm>
              <a:off x="6881760" y="5246640"/>
              <a:ext cx="44640" cy="106560"/>
              <a:chOff x="6881760" y="5246640"/>
              <a:chExt cx="44640" cy="106560"/>
            </a:xfrm>
          </p:grpSpPr>
          <p:sp>
            <p:nvSpPr>
              <p:cNvPr id="5338" name=""/>
              <p:cNvSpPr/>
              <p:nvPr/>
            </p:nvSpPr>
            <p:spPr>
              <a:xfrm>
                <a:off x="6881760" y="5281560"/>
                <a:ext cx="44640" cy="71640"/>
              </a:xfrm>
              <a:custGeom>
                <a:avLst/>
                <a:gdLst/>
                <a:ahLst/>
                <a:rect l="0" t="0" r="r" b="b"/>
                <a:pathLst>
                  <a:path w="124" h="199">
                    <a:moveTo>
                      <a:pt x="0" y="199"/>
                    </a:moveTo>
                    <a:lnTo>
                      <a:pt x="34" y="151"/>
                    </a:lnTo>
                    <a:lnTo>
                      <a:pt x="34" y="125"/>
                    </a:lnTo>
                    <a:lnTo>
                      <a:pt x="34" y="25"/>
                    </a:lnTo>
                    <a:lnTo>
                      <a:pt x="52" y="0"/>
                    </a:lnTo>
                    <a:lnTo>
                      <a:pt x="71" y="0"/>
                    </a:lnTo>
                    <a:lnTo>
                      <a:pt x="71" y="151"/>
                    </a:lnTo>
                    <a:lnTo>
                      <a:pt x="124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6888240" y="5254560"/>
                <a:ext cx="2556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6894360" y="5246640"/>
                <a:ext cx="126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1" name=""/>
            <p:cNvSpPr/>
            <p:nvPr/>
          </p:nvSpPr>
          <p:spPr>
            <a:xfrm>
              <a:off x="6811920" y="5157720"/>
              <a:ext cx="57600" cy="62280"/>
            </a:xfrm>
            <a:custGeom>
              <a:avLst/>
              <a:gdLst/>
              <a:ahLst/>
              <a:rect l="0" t="0" r="r" b="b"/>
              <a:pathLst>
                <a:path fill="none" w="160" h="173">
                  <a:moveTo>
                    <a:pt x="160" y="0"/>
                  </a:moveTo>
                  <a:lnTo>
                    <a:pt x="142" y="0"/>
                  </a:lnTo>
                  <a:lnTo>
                    <a:pt x="124" y="122"/>
                  </a:lnTo>
                  <a:lnTo>
                    <a:pt x="124" y="173"/>
                  </a:lnTo>
                  <a:lnTo>
                    <a:pt x="71" y="148"/>
                  </a:lnTo>
                  <a:lnTo>
                    <a:pt x="18" y="122"/>
                  </a:lnTo>
                  <a:lnTo>
                    <a:pt x="0" y="148"/>
                  </a:lnTo>
                  <a:lnTo>
                    <a:pt x="0" y="17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2" name=""/>
            <p:cNvGrpSpPr/>
            <p:nvPr/>
          </p:nvGrpSpPr>
          <p:grpSpPr>
            <a:xfrm>
              <a:off x="6986520" y="5202360"/>
              <a:ext cx="108000" cy="154080"/>
              <a:chOff x="6986520" y="5202360"/>
              <a:chExt cx="108000" cy="154080"/>
            </a:xfrm>
          </p:grpSpPr>
          <p:sp>
            <p:nvSpPr>
              <p:cNvPr id="5343" name=""/>
              <p:cNvSpPr/>
              <p:nvPr/>
            </p:nvSpPr>
            <p:spPr>
              <a:xfrm>
                <a:off x="6986520" y="5202360"/>
                <a:ext cx="108000" cy="154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6993000" y="5211720"/>
                <a:ext cx="90360" cy="127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7012080" y="5237280"/>
                <a:ext cx="57240" cy="842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7018200" y="5246640"/>
                <a:ext cx="44280" cy="63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7031160" y="5265720"/>
                <a:ext cx="27000" cy="36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7031160" y="5265720"/>
                <a:ext cx="15840" cy="190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7037280" y="5265720"/>
                <a:ext cx="9360" cy="9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7042320" y="5265720"/>
                <a:ext cx="11160" cy="9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7050240" y="5272200"/>
                <a:ext cx="792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7042320" y="5281560"/>
                <a:ext cx="111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037280" y="5291280"/>
                <a:ext cx="9360" cy="111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7031160" y="5281560"/>
                <a:ext cx="93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7031160" y="5272200"/>
                <a:ext cx="93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6" name=""/>
            <p:cNvGrpSpPr/>
            <p:nvPr/>
          </p:nvGrpSpPr>
          <p:grpSpPr>
            <a:xfrm>
              <a:off x="7122960" y="5165640"/>
              <a:ext cx="126000" cy="187560"/>
              <a:chOff x="7122960" y="5165640"/>
              <a:chExt cx="126000" cy="187560"/>
            </a:xfrm>
          </p:grpSpPr>
          <p:grpSp>
            <p:nvGrpSpPr>
              <p:cNvPr id="5357" name=""/>
              <p:cNvGrpSpPr/>
              <p:nvPr/>
            </p:nvGrpSpPr>
            <p:grpSpPr>
              <a:xfrm>
                <a:off x="7122960" y="5227560"/>
                <a:ext cx="8280" cy="38520"/>
                <a:chOff x="7122960" y="5227560"/>
                <a:chExt cx="8280" cy="38520"/>
              </a:xfrm>
            </p:grpSpPr>
            <p:sp>
              <p:nvSpPr>
                <p:cNvPr id="5358" name=""/>
                <p:cNvSpPr/>
                <p:nvPr/>
              </p:nvSpPr>
              <p:spPr>
                <a:xfrm>
                  <a:off x="7122960" y="5227560"/>
                  <a:ext cx="8280" cy="38520"/>
                </a:xfrm>
                <a:custGeom>
                  <a:avLst/>
                  <a:gdLst/>
                  <a:ahLst/>
                  <a:rect l="0" t="0" r="r" b="b"/>
                  <a:pathLst>
                    <a:path w="23" h="107">
                      <a:moveTo>
                        <a:pt x="0" y="0"/>
                      </a:moveTo>
                      <a:lnTo>
                        <a:pt x="23" y="24"/>
                      </a:lnTo>
                      <a:lnTo>
                        <a:pt x="23" y="79"/>
                      </a:lnTo>
                      <a:lnTo>
                        <a:pt x="23" y="107"/>
                      </a:lnTo>
                      <a:lnTo>
                        <a:pt x="0" y="107"/>
                      </a:lnTo>
                      <a:lnTo>
                        <a:pt x="0" y="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 flipH="1">
                  <a:off x="7122960" y="5246640"/>
                  <a:ext cx="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0" name=""/>
              <p:cNvSpPr/>
              <p:nvPr/>
            </p:nvSpPr>
            <p:spPr>
              <a:xfrm>
                <a:off x="7122960" y="5165640"/>
                <a:ext cx="100440" cy="151200"/>
              </a:xfrm>
              <a:custGeom>
                <a:avLst/>
                <a:gdLst/>
                <a:ahLst/>
                <a:rect l="0" t="0" r="r" b="b"/>
                <a:pathLst>
                  <a:path w="279" h="420">
                    <a:moveTo>
                      <a:pt x="17" y="0"/>
                    </a:moveTo>
                    <a:lnTo>
                      <a:pt x="71" y="0"/>
                    </a:lnTo>
                    <a:lnTo>
                      <a:pt x="158" y="197"/>
                    </a:lnTo>
                    <a:lnTo>
                      <a:pt x="192" y="197"/>
                    </a:lnTo>
                    <a:lnTo>
                      <a:pt x="192" y="273"/>
                    </a:lnTo>
                    <a:lnTo>
                      <a:pt x="210" y="322"/>
                    </a:lnTo>
                    <a:lnTo>
                      <a:pt x="228" y="322"/>
                    </a:lnTo>
                    <a:lnTo>
                      <a:pt x="228" y="296"/>
                    </a:lnTo>
                    <a:lnTo>
                      <a:pt x="279" y="296"/>
                    </a:lnTo>
                    <a:lnTo>
                      <a:pt x="279" y="322"/>
                    </a:lnTo>
                    <a:lnTo>
                      <a:pt x="262" y="322"/>
                    </a:lnTo>
                    <a:lnTo>
                      <a:pt x="279" y="322"/>
                    </a:lnTo>
                    <a:lnTo>
                      <a:pt x="279" y="420"/>
                    </a:lnTo>
                    <a:lnTo>
                      <a:pt x="192" y="420"/>
                    </a:lnTo>
                    <a:lnTo>
                      <a:pt x="192" y="395"/>
                    </a:lnTo>
                    <a:lnTo>
                      <a:pt x="71" y="223"/>
                    </a:lnTo>
                    <a:lnTo>
                      <a:pt x="71" y="248"/>
                    </a:lnTo>
                    <a:lnTo>
                      <a:pt x="17" y="248"/>
                    </a:lnTo>
                    <a:lnTo>
                      <a:pt x="17" y="197"/>
                    </a:lnTo>
                    <a:lnTo>
                      <a:pt x="0" y="175"/>
                    </a:lnTo>
                    <a:lnTo>
                      <a:pt x="0" y="124"/>
                    </a:lnTo>
                    <a:lnTo>
                      <a:pt x="53" y="50"/>
                    </a:lnTo>
                    <a:lnTo>
                      <a:pt x="53" y="75"/>
                    </a:lnTo>
                    <a:lnTo>
                      <a:pt x="53" y="124"/>
                    </a:lnTo>
                    <a:lnTo>
                      <a:pt x="140" y="248"/>
                    </a:lnTo>
                    <a:lnTo>
                      <a:pt x="53" y="75"/>
                    </a:lnTo>
                    <a:lnTo>
                      <a:pt x="53" y="50"/>
                    </a:lnTo>
                    <a:lnTo>
                      <a:pt x="35" y="50"/>
                    </a:lnTo>
                    <a:lnTo>
                      <a:pt x="0" y="5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180200" y="5316480"/>
                <a:ext cx="68760" cy="36720"/>
              </a:xfrm>
              <a:custGeom>
                <a:avLst/>
                <a:gdLst/>
                <a:ahLst/>
                <a:rect l="0" t="0" r="r" b="b"/>
                <a:pathLst>
                  <a:path w="191" h="102">
                    <a:moveTo>
                      <a:pt x="103" y="0"/>
                    </a:moveTo>
                    <a:lnTo>
                      <a:pt x="103" y="26"/>
                    </a:lnTo>
                    <a:lnTo>
                      <a:pt x="191" y="102"/>
                    </a:lnTo>
                    <a:lnTo>
                      <a:pt x="0" y="102"/>
                    </a:lnTo>
                    <a:lnTo>
                      <a:pt x="85" y="26"/>
                    </a:lnTo>
                    <a:lnTo>
                      <a:pt x="85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 flipV="1">
                <a:off x="7192800" y="52815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 flipH="1">
                <a:off x="7192800" y="5281560"/>
                <a:ext cx="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122960" y="5211720"/>
                <a:ext cx="2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5" name=""/>
          <p:cNvGrpSpPr/>
          <p:nvPr/>
        </p:nvGrpSpPr>
        <p:grpSpPr>
          <a:xfrm>
            <a:off x="6311880" y="5372280"/>
            <a:ext cx="590760" cy="457560"/>
            <a:chOff x="6311880" y="5372280"/>
            <a:chExt cx="590760" cy="457560"/>
          </a:xfrm>
        </p:grpSpPr>
        <p:sp>
          <p:nvSpPr>
            <p:cNvPr id="5366" name=""/>
            <p:cNvSpPr/>
            <p:nvPr/>
          </p:nvSpPr>
          <p:spPr>
            <a:xfrm>
              <a:off x="6311880" y="5372280"/>
              <a:ext cx="119160" cy="204840"/>
            </a:xfrm>
            <a:prstGeom prst="ellipse">
              <a:avLst/>
            </a:prstGeom>
            <a:gradFill rotWithShape="0">
              <a:gsLst>
                <a:gs pos="0">
                  <a:srgbClr val="394c4a"/>
                </a:gs>
                <a:gs pos="100000">
                  <a:srgbClr val="c0fef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588000" y="561816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0" y="0"/>
                  </a:moveTo>
                  <a:lnTo>
                    <a:pt x="0" y="20"/>
                  </a:lnTo>
                  <a:lnTo>
                    <a:pt x="14" y="38"/>
                  </a:lnTo>
                  <a:lnTo>
                    <a:pt x="9" y="39"/>
                  </a:lnTo>
                  <a:lnTo>
                    <a:pt x="135" y="58"/>
                  </a:lnTo>
                  <a:lnTo>
                    <a:pt x="147" y="46"/>
                  </a:lnTo>
                  <a:lnTo>
                    <a:pt x="155" y="2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588000" y="5576760"/>
              <a:ext cx="70200" cy="52920"/>
            </a:xfrm>
            <a:custGeom>
              <a:avLst/>
              <a:gdLst/>
              <a:ahLst/>
              <a:rect l="0" t="0" r="r" b="b"/>
              <a:pathLst>
                <a:path w="195" h="147">
                  <a:moveTo>
                    <a:pt x="159" y="147"/>
                  </a:moveTo>
                  <a:lnTo>
                    <a:pt x="0" y="117"/>
                  </a:lnTo>
                  <a:lnTo>
                    <a:pt x="35" y="0"/>
                  </a:lnTo>
                  <a:lnTo>
                    <a:pt x="195" y="41"/>
                  </a:lnTo>
                  <a:lnTo>
                    <a:pt x="159" y="14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919191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600960" y="5607000"/>
              <a:ext cx="7920" cy="64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611760" y="5608800"/>
              <a:ext cx="11160" cy="64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626160" y="5611680"/>
              <a:ext cx="6480" cy="64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637320" y="5614920"/>
              <a:ext cx="9360" cy="64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605640" y="5586480"/>
              <a:ext cx="43200" cy="22680"/>
            </a:xfrm>
            <a:custGeom>
              <a:avLst/>
              <a:gdLst/>
              <a:ahLst/>
              <a:rect l="0" t="0" r="r" b="b"/>
              <a:pathLst>
                <a:path w="120" h="63">
                  <a:moveTo>
                    <a:pt x="11" y="0"/>
                  </a:moveTo>
                  <a:lnTo>
                    <a:pt x="120" y="26"/>
                  </a:lnTo>
                  <a:lnTo>
                    <a:pt x="110" y="63"/>
                  </a:lnTo>
                  <a:lnTo>
                    <a:pt x="0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6643800" y="5457960"/>
              <a:ext cx="228960" cy="281520"/>
            </a:xfrm>
            <a:custGeom>
              <a:avLst/>
              <a:gdLst/>
              <a:ahLst/>
              <a:rect l="0" t="0" r="r" b="b"/>
              <a:pathLst>
                <a:path w="636" h="782">
                  <a:moveTo>
                    <a:pt x="242" y="35"/>
                  </a:moveTo>
                  <a:lnTo>
                    <a:pt x="200" y="130"/>
                  </a:lnTo>
                  <a:lnTo>
                    <a:pt x="212" y="163"/>
                  </a:lnTo>
                  <a:lnTo>
                    <a:pt x="177" y="238"/>
                  </a:lnTo>
                  <a:lnTo>
                    <a:pt x="177" y="258"/>
                  </a:lnTo>
                  <a:lnTo>
                    <a:pt x="184" y="276"/>
                  </a:lnTo>
                  <a:lnTo>
                    <a:pt x="181" y="288"/>
                  </a:lnTo>
                  <a:lnTo>
                    <a:pt x="149" y="307"/>
                  </a:lnTo>
                  <a:lnTo>
                    <a:pt x="149" y="322"/>
                  </a:lnTo>
                  <a:lnTo>
                    <a:pt x="132" y="319"/>
                  </a:lnTo>
                  <a:lnTo>
                    <a:pt x="59" y="368"/>
                  </a:lnTo>
                  <a:lnTo>
                    <a:pt x="59" y="403"/>
                  </a:lnTo>
                  <a:lnTo>
                    <a:pt x="78" y="429"/>
                  </a:lnTo>
                  <a:lnTo>
                    <a:pt x="54" y="485"/>
                  </a:lnTo>
                  <a:lnTo>
                    <a:pt x="0" y="553"/>
                  </a:lnTo>
                  <a:lnTo>
                    <a:pt x="0" y="576"/>
                  </a:lnTo>
                  <a:lnTo>
                    <a:pt x="62" y="767"/>
                  </a:lnTo>
                  <a:lnTo>
                    <a:pt x="164" y="782"/>
                  </a:lnTo>
                  <a:lnTo>
                    <a:pt x="394" y="733"/>
                  </a:lnTo>
                  <a:lnTo>
                    <a:pt x="570" y="738"/>
                  </a:lnTo>
                  <a:lnTo>
                    <a:pt x="628" y="503"/>
                  </a:lnTo>
                  <a:lnTo>
                    <a:pt x="636" y="437"/>
                  </a:lnTo>
                  <a:lnTo>
                    <a:pt x="610" y="330"/>
                  </a:lnTo>
                  <a:lnTo>
                    <a:pt x="550" y="206"/>
                  </a:lnTo>
                  <a:lnTo>
                    <a:pt x="462" y="73"/>
                  </a:lnTo>
                  <a:lnTo>
                    <a:pt x="421" y="39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297" y="17"/>
                  </a:lnTo>
                  <a:lnTo>
                    <a:pt x="270" y="23"/>
                  </a:lnTo>
                  <a:lnTo>
                    <a:pt x="242" y="35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648480" y="5384880"/>
              <a:ext cx="103680" cy="71640"/>
            </a:xfrm>
            <a:custGeom>
              <a:avLst/>
              <a:gdLst/>
              <a:ahLst/>
              <a:rect l="0" t="0" r="r" b="b"/>
              <a:pathLst>
                <a:path w="288" h="199">
                  <a:moveTo>
                    <a:pt x="0" y="173"/>
                  </a:moveTo>
                  <a:lnTo>
                    <a:pt x="3" y="177"/>
                  </a:lnTo>
                  <a:lnTo>
                    <a:pt x="17" y="182"/>
                  </a:lnTo>
                  <a:lnTo>
                    <a:pt x="55" y="192"/>
                  </a:lnTo>
                  <a:lnTo>
                    <a:pt x="109" y="198"/>
                  </a:lnTo>
                  <a:lnTo>
                    <a:pt x="183" y="199"/>
                  </a:lnTo>
                  <a:lnTo>
                    <a:pt x="263" y="195"/>
                  </a:lnTo>
                  <a:lnTo>
                    <a:pt x="288" y="182"/>
                  </a:lnTo>
                  <a:lnTo>
                    <a:pt x="273" y="84"/>
                  </a:lnTo>
                  <a:lnTo>
                    <a:pt x="229" y="25"/>
                  </a:lnTo>
                  <a:lnTo>
                    <a:pt x="152" y="0"/>
                  </a:lnTo>
                  <a:lnTo>
                    <a:pt x="108" y="5"/>
                  </a:lnTo>
                  <a:lnTo>
                    <a:pt x="68" y="21"/>
                  </a:lnTo>
                  <a:lnTo>
                    <a:pt x="48" y="40"/>
                  </a:lnTo>
                  <a:lnTo>
                    <a:pt x="33" y="57"/>
                  </a:lnTo>
                  <a:lnTo>
                    <a:pt x="20" y="78"/>
                  </a:lnTo>
                  <a:lnTo>
                    <a:pt x="11" y="106"/>
                  </a:lnTo>
                  <a:lnTo>
                    <a:pt x="6" y="128"/>
                  </a:lnTo>
                  <a:lnTo>
                    <a:pt x="2" y="152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859440" y="5715000"/>
              <a:ext cx="27360" cy="49680"/>
            </a:xfrm>
            <a:custGeom>
              <a:avLst/>
              <a:gdLst/>
              <a:ahLst/>
              <a:rect l="0" t="0" r="r" b="b"/>
              <a:pathLst>
                <a:path w="76" h="138">
                  <a:moveTo>
                    <a:pt x="12" y="0"/>
                  </a:moveTo>
                  <a:lnTo>
                    <a:pt x="26" y="19"/>
                  </a:lnTo>
                  <a:lnTo>
                    <a:pt x="34" y="30"/>
                  </a:lnTo>
                  <a:lnTo>
                    <a:pt x="66" y="63"/>
                  </a:lnTo>
                  <a:lnTo>
                    <a:pt x="76" y="91"/>
                  </a:lnTo>
                  <a:lnTo>
                    <a:pt x="61" y="138"/>
                  </a:lnTo>
                  <a:lnTo>
                    <a:pt x="48" y="138"/>
                  </a:lnTo>
                  <a:lnTo>
                    <a:pt x="26" y="109"/>
                  </a:lnTo>
                  <a:lnTo>
                    <a:pt x="14" y="51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235b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637320" y="5754600"/>
              <a:ext cx="105120" cy="70200"/>
            </a:xfrm>
            <a:custGeom>
              <a:avLst/>
              <a:gdLst/>
              <a:ahLst/>
              <a:rect l="0" t="0" r="r" b="b"/>
              <a:pathLst>
                <a:path w="292" h="195">
                  <a:moveTo>
                    <a:pt x="287" y="38"/>
                  </a:moveTo>
                  <a:lnTo>
                    <a:pt x="283" y="31"/>
                  </a:lnTo>
                  <a:lnTo>
                    <a:pt x="272" y="20"/>
                  </a:lnTo>
                  <a:lnTo>
                    <a:pt x="264" y="0"/>
                  </a:lnTo>
                  <a:lnTo>
                    <a:pt x="128" y="10"/>
                  </a:lnTo>
                  <a:lnTo>
                    <a:pt x="117" y="69"/>
                  </a:lnTo>
                  <a:lnTo>
                    <a:pt x="79" y="92"/>
                  </a:lnTo>
                  <a:lnTo>
                    <a:pt x="21" y="112"/>
                  </a:lnTo>
                  <a:lnTo>
                    <a:pt x="0" y="142"/>
                  </a:lnTo>
                  <a:lnTo>
                    <a:pt x="3" y="181"/>
                  </a:lnTo>
                  <a:lnTo>
                    <a:pt x="54" y="195"/>
                  </a:lnTo>
                  <a:lnTo>
                    <a:pt x="109" y="192"/>
                  </a:lnTo>
                  <a:lnTo>
                    <a:pt x="211" y="159"/>
                  </a:lnTo>
                  <a:lnTo>
                    <a:pt x="219" y="172"/>
                  </a:lnTo>
                  <a:lnTo>
                    <a:pt x="228" y="184"/>
                  </a:lnTo>
                  <a:lnTo>
                    <a:pt x="277" y="141"/>
                  </a:lnTo>
                  <a:lnTo>
                    <a:pt x="292" y="52"/>
                  </a:lnTo>
                  <a:lnTo>
                    <a:pt x="287" y="38"/>
                  </a:lnTo>
                  <a:close/>
                </a:path>
              </a:pathLst>
            </a:custGeom>
            <a:solidFill>
              <a:srgbClr val="00235b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676920" y="5454720"/>
              <a:ext cx="68760" cy="38520"/>
            </a:xfrm>
            <a:custGeom>
              <a:avLst/>
              <a:gdLst/>
              <a:ahLst/>
              <a:rect l="0" t="0" r="r" b="b"/>
              <a:pathLst>
                <a:path w="191" h="107">
                  <a:moveTo>
                    <a:pt x="118" y="107"/>
                  </a:moveTo>
                  <a:lnTo>
                    <a:pt x="101" y="97"/>
                  </a:lnTo>
                  <a:lnTo>
                    <a:pt x="81" y="97"/>
                  </a:lnTo>
                  <a:lnTo>
                    <a:pt x="56" y="103"/>
                  </a:lnTo>
                  <a:lnTo>
                    <a:pt x="20" y="72"/>
                  </a:lnTo>
                  <a:lnTo>
                    <a:pt x="0" y="0"/>
                  </a:lnTo>
                  <a:lnTo>
                    <a:pt x="51" y="3"/>
                  </a:lnTo>
                  <a:lnTo>
                    <a:pt x="101" y="3"/>
                  </a:lnTo>
                  <a:lnTo>
                    <a:pt x="159" y="5"/>
                  </a:lnTo>
                  <a:lnTo>
                    <a:pt x="181" y="3"/>
                  </a:lnTo>
                  <a:lnTo>
                    <a:pt x="191" y="33"/>
                  </a:lnTo>
                  <a:lnTo>
                    <a:pt x="152" y="46"/>
                  </a:lnTo>
                  <a:lnTo>
                    <a:pt x="140" y="78"/>
                  </a:lnTo>
                  <a:lnTo>
                    <a:pt x="118" y="10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630840" y="5597640"/>
              <a:ext cx="36720" cy="28800"/>
            </a:xfrm>
            <a:custGeom>
              <a:avLst/>
              <a:gdLst/>
              <a:ahLst/>
              <a:rect l="0" t="0" r="r" b="b"/>
              <a:pathLst>
                <a:path w="102" h="80">
                  <a:moveTo>
                    <a:pt x="53" y="77"/>
                  </a:moveTo>
                  <a:lnTo>
                    <a:pt x="84" y="58"/>
                  </a:lnTo>
                  <a:lnTo>
                    <a:pt x="102" y="31"/>
                  </a:lnTo>
                  <a:lnTo>
                    <a:pt x="88" y="0"/>
                  </a:lnTo>
                  <a:lnTo>
                    <a:pt x="34" y="30"/>
                  </a:lnTo>
                  <a:lnTo>
                    <a:pt x="0" y="50"/>
                  </a:lnTo>
                  <a:lnTo>
                    <a:pt x="34" y="51"/>
                  </a:lnTo>
                  <a:lnTo>
                    <a:pt x="7" y="64"/>
                  </a:lnTo>
                  <a:lnTo>
                    <a:pt x="14" y="69"/>
                  </a:lnTo>
                  <a:lnTo>
                    <a:pt x="50" y="66"/>
                  </a:lnTo>
                  <a:lnTo>
                    <a:pt x="27" y="80"/>
                  </a:lnTo>
                  <a:lnTo>
                    <a:pt x="53" y="7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6811920" y="5630760"/>
              <a:ext cx="63720" cy="89280"/>
            </a:xfrm>
            <a:custGeom>
              <a:avLst/>
              <a:gdLst/>
              <a:ahLst/>
              <a:rect l="0" t="0" r="r" b="b"/>
              <a:pathLst>
                <a:path w="177" h="248">
                  <a:moveTo>
                    <a:pt x="12" y="0"/>
                  </a:moveTo>
                  <a:lnTo>
                    <a:pt x="4" y="3"/>
                  </a:lnTo>
                  <a:lnTo>
                    <a:pt x="0" y="19"/>
                  </a:lnTo>
                  <a:lnTo>
                    <a:pt x="7" y="35"/>
                  </a:lnTo>
                  <a:lnTo>
                    <a:pt x="24" y="108"/>
                  </a:lnTo>
                  <a:lnTo>
                    <a:pt x="26" y="135"/>
                  </a:lnTo>
                  <a:lnTo>
                    <a:pt x="69" y="185"/>
                  </a:lnTo>
                  <a:lnTo>
                    <a:pt x="99" y="248"/>
                  </a:lnTo>
                  <a:lnTo>
                    <a:pt x="175" y="50"/>
                  </a:lnTo>
                  <a:lnTo>
                    <a:pt x="177" y="37"/>
                  </a:lnTo>
                  <a:lnTo>
                    <a:pt x="170" y="25"/>
                  </a:lnTo>
                  <a:lnTo>
                    <a:pt x="96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6678720" y="5618160"/>
              <a:ext cx="163800" cy="119520"/>
            </a:xfrm>
            <a:custGeom>
              <a:avLst/>
              <a:gdLst/>
              <a:ahLst/>
              <a:rect l="0" t="0" r="r" b="b"/>
              <a:pathLst>
                <a:path w="455" h="332">
                  <a:moveTo>
                    <a:pt x="397" y="168"/>
                  </a:moveTo>
                  <a:lnTo>
                    <a:pt x="344" y="168"/>
                  </a:lnTo>
                  <a:lnTo>
                    <a:pt x="289" y="115"/>
                  </a:lnTo>
                  <a:lnTo>
                    <a:pt x="337" y="191"/>
                  </a:lnTo>
                  <a:lnTo>
                    <a:pt x="285" y="166"/>
                  </a:lnTo>
                  <a:lnTo>
                    <a:pt x="262" y="50"/>
                  </a:lnTo>
                  <a:lnTo>
                    <a:pt x="234" y="22"/>
                  </a:lnTo>
                  <a:lnTo>
                    <a:pt x="250" y="53"/>
                  </a:lnTo>
                  <a:lnTo>
                    <a:pt x="250" y="121"/>
                  </a:lnTo>
                  <a:lnTo>
                    <a:pt x="234" y="63"/>
                  </a:lnTo>
                  <a:lnTo>
                    <a:pt x="168" y="0"/>
                  </a:lnTo>
                  <a:lnTo>
                    <a:pt x="168" y="41"/>
                  </a:lnTo>
                  <a:lnTo>
                    <a:pt x="93" y="28"/>
                  </a:lnTo>
                  <a:lnTo>
                    <a:pt x="120" y="63"/>
                  </a:lnTo>
                  <a:lnTo>
                    <a:pt x="55" y="63"/>
                  </a:lnTo>
                  <a:lnTo>
                    <a:pt x="55" y="86"/>
                  </a:lnTo>
                  <a:lnTo>
                    <a:pt x="26" y="63"/>
                  </a:lnTo>
                  <a:lnTo>
                    <a:pt x="2" y="3"/>
                  </a:lnTo>
                  <a:lnTo>
                    <a:pt x="11" y="60"/>
                  </a:lnTo>
                  <a:lnTo>
                    <a:pt x="55" y="105"/>
                  </a:lnTo>
                  <a:lnTo>
                    <a:pt x="55" y="128"/>
                  </a:lnTo>
                  <a:lnTo>
                    <a:pt x="34" y="128"/>
                  </a:lnTo>
                  <a:lnTo>
                    <a:pt x="79" y="204"/>
                  </a:lnTo>
                  <a:lnTo>
                    <a:pt x="73" y="207"/>
                  </a:lnTo>
                  <a:lnTo>
                    <a:pt x="7" y="134"/>
                  </a:lnTo>
                  <a:lnTo>
                    <a:pt x="0" y="157"/>
                  </a:lnTo>
                  <a:lnTo>
                    <a:pt x="11" y="188"/>
                  </a:lnTo>
                  <a:lnTo>
                    <a:pt x="80" y="269"/>
                  </a:lnTo>
                  <a:lnTo>
                    <a:pt x="50" y="269"/>
                  </a:lnTo>
                  <a:lnTo>
                    <a:pt x="98" y="332"/>
                  </a:lnTo>
                  <a:lnTo>
                    <a:pt x="289" y="269"/>
                  </a:lnTo>
                  <a:lnTo>
                    <a:pt x="455" y="241"/>
                  </a:lnTo>
                  <a:lnTo>
                    <a:pt x="445" y="220"/>
                  </a:lnTo>
                  <a:lnTo>
                    <a:pt x="409" y="181"/>
                  </a:lnTo>
                  <a:lnTo>
                    <a:pt x="397" y="16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777000" y="5524560"/>
              <a:ext cx="73440" cy="132120"/>
            </a:xfrm>
            <a:custGeom>
              <a:avLst/>
              <a:gdLst/>
              <a:ahLst/>
              <a:rect l="0" t="0" r="r" b="b"/>
              <a:pathLst>
                <a:path w="204" h="367">
                  <a:moveTo>
                    <a:pt x="98" y="53"/>
                  </a:moveTo>
                  <a:lnTo>
                    <a:pt x="98" y="124"/>
                  </a:lnTo>
                  <a:lnTo>
                    <a:pt x="125" y="146"/>
                  </a:lnTo>
                  <a:lnTo>
                    <a:pt x="144" y="181"/>
                  </a:lnTo>
                  <a:lnTo>
                    <a:pt x="41" y="252"/>
                  </a:lnTo>
                  <a:lnTo>
                    <a:pt x="12" y="246"/>
                  </a:lnTo>
                  <a:lnTo>
                    <a:pt x="0" y="258"/>
                  </a:lnTo>
                  <a:lnTo>
                    <a:pt x="41" y="287"/>
                  </a:lnTo>
                  <a:lnTo>
                    <a:pt x="79" y="325"/>
                  </a:lnTo>
                  <a:lnTo>
                    <a:pt x="106" y="367"/>
                  </a:lnTo>
                  <a:lnTo>
                    <a:pt x="101" y="312"/>
                  </a:lnTo>
                  <a:lnTo>
                    <a:pt x="115" y="268"/>
                  </a:lnTo>
                  <a:lnTo>
                    <a:pt x="164" y="248"/>
                  </a:lnTo>
                  <a:lnTo>
                    <a:pt x="77" y="255"/>
                  </a:lnTo>
                  <a:lnTo>
                    <a:pt x="84" y="236"/>
                  </a:lnTo>
                  <a:lnTo>
                    <a:pt x="167" y="220"/>
                  </a:lnTo>
                  <a:lnTo>
                    <a:pt x="183" y="185"/>
                  </a:lnTo>
                  <a:lnTo>
                    <a:pt x="204" y="188"/>
                  </a:lnTo>
                  <a:lnTo>
                    <a:pt x="204" y="126"/>
                  </a:lnTo>
                  <a:lnTo>
                    <a:pt x="171" y="82"/>
                  </a:lnTo>
                  <a:lnTo>
                    <a:pt x="171" y="47"/>
                  </a:lnTo>
                  <a:lnTo>
                    <a:pt x="87" y="0"/>
                  </a:lnTo>
                  <a:lnTo>
                    <a:pt x="35" y="2"/>
                  </a:lnTo>
                  <a:lnTo>
                    <a:pt x="10" y="47"/>
                  </a:lnTo>
                  <a:lnTo>
                    <a:pt x="61" y="31"/>
                  </a:lnTo>
                  <a:lnTo>
                    <a:pt x="89" y="44"/>
                  </a:lnTo>
                  <a:lnTo>
                    <a:pt x="98" y="53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707160" y="5468760"/>
              <a:ext cx="38520" cy="114840"/>
            </a:xfrm>
            <a:custGeom>
              <a:avLst/>
              <a:gdLst/>
              <a:ahLst/>
              <a:rect l="0" t="0" r="r" b="b"/>
              <a:pathLst>
                <a:path w="107" h="319">
                  <a:moveTo>
                    <a:pt x="6" y="253"/>
                  </a:moveTo>
                  <a:lnTo>
                    <a:pt x="0" y="279"/>
                  </a:lnTo>
                  <a:lnTo>
                    <a:pt x="11" y="319"/>
                  </a:lnTo>
                  <a:lnTo>
                    <a:pt x="23" y="301"/>
                  </a:lnTo>
                  <a:lnTo>
                    <a:pt x="29" y="275"/>
                  </a:lnTo>
                  <a:lnTo>
                    <a:pt x="21" y="250"/>
                  </a:lnTo>
                  <a:lnTo>
                    <a:pt x="13" y="228"/>
                  </a:lnTo>
                  <a:lnTo>
                    <a:pt x="26" y="208"/>
                  </a:lnTo>
                  <a:lnTo>
                    <a:pt x="55" y="136"/>
                  </a:lnTo>
                  <a:lnTo>
                    <a:pt x="55" y="69"/>
                  </a:lnTo>
                  <a:lnTo>
                    <a:pt x="74" y="18"/>
                  </a:lnTo>
                  <a:lnTo>
                    <a:pt x="107" y="0"/>
                  </a:lnTo>
                  <a:lnTo>
                    <a:pt x="67" y="5"/>
                  </a:lnTo>
                  <a:lnTo>
                    <a:pt x="43" y="63"/>
                  </a:lnTo>
                  <a:lnTo>
                    <a:pt x="18" y="108"/>
                  </a:lnTo>
                  <a:lnTo>
                    <a:pt x="33" y="136"/>
                  </a:lnTo>
                  <a:lnTo>
                    <a:pt x="1" y="212"/>
                  </a:lnTo>
                  <a:lnTo>
                    <a:pt x="1" y="233"/>
                  </a:lnTo>
                  <a:lnTo>
                    <a:pt x="11" y="247"/>
                  </a:lnTo>
                  <a:lnTo>
                    <a:pt x="6" y="253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665760" y="5465880"/>
              <a:ext cx="155880" cy="149760"/>
            </a:xfrm>
            <a:custGeom>
              <a:avLst/>
              <a:gdLst/>
              <a:ahLst/>
              <a:rect l="0" t="0" r="r" b="b"/>
              <a:pathLst>
                <a:path w="433" h="416">
                  <a:moveTo>
                    <a:pt x="254" y="21"/>
                  </a:moveTo>
                  <a:lnTo>
                    <a:pt x="254" y="76"/>
                  </a:lnTo>
                  <a:lnTo>
                    <a:pt x="276" y="105"/>
                  </a:lnTo>
                  <a:lnTo>
                    <a:pt x="254" y="179"/>
                  </a:lnTo>
                  <a:lnTo>
                    <a:pt x="208" y="217"/>
                  </a:lnTo>
                  <a:lnTo>
                    <a:pt x="208" y="248"/>
                  </a:lnTo>
                  <a:lnTo>
                    <a:pt x="168" y="287"/>
                  </a:lnTo>
                  <a:lnTo>
                    <a:pt x="145" y="362"/>
                  </a:lnTo>
                  <a:lnTo>
                    <a:pt x="113" y="371"/>
                  </a:lnTo>
                  <a:lnTo>
                    <a:pt x="90" y="362"/>
                  </a:lnTo>
                  <a:lnTo>
                    <a:pt x="56" y="326"/>
                  </a:lnTo>
                  <a:lnTo>
                    <a:pt x="0" y="365"/>
                  </a:lnTo>
                  <a:lnTo>
                    <a:pt x="0" y="387"/>
                  </a:lnTo>
                  <a:lnTo>
                    <a:pt x="24" y="409"/>
                  </a:lnTo>
                  <a:lnTo>
                    <a:pt x="47" y="387"/>
                  </a:lnTo>
                  <a:lnTo>
                    <a:pt x="94" y="387"/>
                  </a:lnTo>
                  <a:lnTo>
                    <a:pt x="156" y="416"/>
                  </a:lnTo>
                  <a:lnTo>
                    <a:pt x="213" y="397"/>
                  </a:lnTo>
                  <a:lnTo>
                    <a:pt x="274" y="397"/>
                  </a:lnTo>
                  <a:lnTo>
                    <a:pt x="295" y="416"/>
                  </a:lnTo>
                  <a:lnTo>
                    <a:pt x="312" y="416"/>
                  </a:lnTo>
                  <a:lnTo>
                    <a:pt x="328" y="409"/>
                  </a:lnTo>
                  <a:lnTo>
                    <a:pt x="348" y="416"/>
                  </a:lnTo>
                  <a:lnTo>
                    <a:pt x="390" y="387"/>
                  </a:lnTo>
                  <a:lnTo>
                    <a:pt x="348" y="371"/>
                  </a:lnTo>
                  <a:lnTo>
                    <a:pt x="433" y="336"/>
                  </a:lnTo>
                  <a:lnTo>
                    <a:pt x="409" y="317"/>
                  </a:lnTo>
                  <a:lnTo>
                    <a:pt x="317" y="323"/>
                  </a:lnTo>
                  <a:lnTo>
                    <a:pt x="321" y="239"/>
                  </a:lnTo>
                  <a:lnTo>
                    <a:pt x="340" y="205"/>
                  </a:lnTo>
                  <a:lnTo>
                    <a:pt x="348" y="182"/>
                  </a:lnTo>
                  <a:lnTo>
                    <a:pt x="297" y="188"/>
                  </a:lnTo>
                  <a:lnTo>
                    <a:pt x="319" y="115"/>
                  </a:lnTo>
                  <a:lnTo>
                    <a:pt x="307" y="37"/>
                  </a:lnTo>
                  <a:lnTo>
                    <a:pt x="290" y="98"/>
                  </a:lnTo>
                  <a:lnTo>
                    <a:pt x="259" y="0"/>
                  </a:lnTo>
                  <a:lnTo>
                    <a:pt x="254" y="2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661080" y="5383080"/>
              <a:ext cx="92520" cy="71640"/>
            </a:xfrm>
            <a:custGeom>
              <a:avLst/>
              <a:gdLst/>
              <a:ahLst/>
              <a:rect l="0" t="0" r="r" b="b"/>
              <a:pathLst>
                <a:path w="257" h="199">
                  <a:moveTo>
                    <a:pt x="89" y="199"/>
                  </a:moveTo>
                  <a:lnTo>
                    <a:pt x="55" y="167"/>
                  </a:lnTo>
                  <a:lnTo>
                    <a:pt x="135" y="171"/>
                  </a:lnTo>
                  <a:lnTo>
                    <a:pt x="81" y="149"/>
                  </a:lnTo>
                  <a:lnTo>
                    <a:pt x="28" y="142"/>
                  </a:lnTo>
                  <a:lnTo>
                    <a:pt x="0" y="133"/>
                  </a:lnTo>
                  <a:lnTo>
                    <a:pt x="13" y="91"/>
                  </a:lnTo>
                  <a:lnTo>
                    <a:pt x="114" y="44"/>
                  </a:lnTo>
                  <a:lnTo>
                    <a:pt x="121" y="50"/>
                  </a:lnTo>
                  <a:lnTo>
                    <a:pt x="112" y="84"/>
                  </a:lnTo>
                  <a:lnTo>
                    <a:pt x="152" y="84"/>
                  </a:lnTo>
                  <a:lnTo>
                    <a:pt x="156" y="130"/>
                  </a:lnTo>
                  <a:lnTo>
                    <a:pt x="186" y="123"/>
                  </a:lnTo>
                  <a:lnTo>
                    <a:pt x="165" y="56"/>
                  </a:lnTo>
                  <a:lnTo>
                    <a:pt x="128" y="22"/>
                  </a:lnTo>
                  <a:lnTo>
                    <a:pt x="138" y="15"/>
                  </a:lnTo>
                  <a:lnTo>
                    <a:pt x="105" y="9"/>
                  </a:lnTo>
                  <a:lnTo>
                    <a:pt x="77" y="12"/>
                  </a:lnTo>
                  <a:lnTo>
                    <a:pt x="25" y="35"/>
                  </a:lnTo>
                  <a:lnTo>
                    <a:pt x="66" y="9"/>
                  </a:lnTo>
                  <a:lnTo>
                    <a:pt x="109" y="0"/>
                  </a:lnTo>
                  <a:lnTo>
                    <a:pt x="154" y="6"/>
                  </a:lnTo>
                  <a:lnTo>
                    <a:pt x="183" y="18"/>
                  </a:lnTo>
                  <a:lnTo>
                    <a:pt x="218" y="44"/>
                  </a:lnTo>
                  <a:lnTo>
                    <a:pt x="236" y="72"/>
                  </a:lnTo>
                  <a:lnTo>
                    <a:pt x="248" y="108"/>
                  </a:lnTo>
                  <a:lnTo>
                    <a:pt x="248" y="159"/>
                  </a:lnTo>
                  <a:lnTo>
                    <a:pt x="257" y="183"/>
                  </a:lnTo>
                  <a:lnTo>
                    <a:pt x="206" y="199"/>
                  </a:lnTo>
                  <a:lnTo>
                    <a:pt x="89" y="19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648480" y="542916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47" y="67"/>
                  </a:moveTo>
                  <a:lnTo>
                    <a:pt x="40" y="109"/>
                  </a:lnTo>
                  <a:lnTo>
                    <a:pt x="44" y="114"/>
                  </a:lnTo>
                  <a:lnTo>
                    <a:pt x="65" y="116"/>
                  </a:lnTo>
                  <a:lnTo>
                    <a:pt x="70" y="128"/>
                  </a:lnTo>
                  <a:lnTo>
                    <a:pt x="80" y="128"/>
                  </a:lnTo>
                  <a:lnTo>
                    <a:pt x="96" y="139"/>
                  </a:lnTo>
                  <a:lnTo>
                    <a:pt x="85" y="152"/>
                  </a:lnTo>
                  <a:lnTo>
                    <a:pt x="88" y="156"/>
                  </a:lnTo>
                  <a:lnTo>
                    <a:pt x="93" y="155"/>
                  </a:lnTo>
                  <a:lnTo>
                    <a:pt x="99" y="160"/>
                  </a:lnTo>
                  <a:lnTo>
                    <a:pt x="99" y="173"/>
                  </a:lnTo>
                  <a:lnTo>
                    <a:pt x="102" y="176"/>
                  </a:lnTo>
                  <a:lnTo>
                    <a:pt x="109" y="181"/>
                  </a:lnTo>
                  <a:lnTo>
                    <a:pt x="114" y="182"/>
                  </a:lnTo>
                  <a:lnTo>
                    <a:pt x="125" y="181"/>
                  </a:lnTo>
                  <a:lnTo>
                    <a:pt x="142" y="176"/>
                  </a:lnTo>
                  <a:lnTo>
                    <a:pt x="159" y="170"/>
                  </a:lnTo>
                  <a:lnTo>
                    <a:pt x="169" y="170"/>
                  </a:lnTo>
                  <a:lnTo>
                    <a:pt x="180" y="171"/>
                  </a:lnTo>
                  <a:lnTo>
                    <a:pt x="193" y="179"/>
                  </a:lnTo>
                  <a:lnTo>
                    <a:pt x="179" y="168"/>
                  </a:lnTo>
                  <a:lnTo>
                    <a:pt x="170" y="166"/>
                  </a:lnTo>
                  <a:lnTo>
                    <a:pt x="158" y="166"/>
                  </a:lnTo>
                  <a:lnTo>
                    <a:pt x="138" y="171"/>
                  </a:lnTo>
                  <a:lnTo>
                    <a:pt x="126" y="156"/>
                  </a:lnTo>
                  <a:lnTo>
                    <a:pt x="118" y="156"/>
                  </a:lnTo>
                  <a:lnTo>
                    <a:pt x="100" y="143"/>
                  </a:lnTo>
                  <a:lnTo>
                    <a:pt x="96" y="119"/>
                  </a:lnTo>
                  <a:lnTo>
                    <a:pt x="114" y="107"/>
                  </a:lnTo>
                  <a:lnTo>
                    <a:pt x="138" y="127"/>
                  </a:lnTo>
                  <a:lnTo>
                    <a:pt x="148" y="119"/>
                  </a:lnTo>
                  <a:lnTo>
                    <a:pt x="189" y="119"/>
                  </a:lnTo>
                  <a:lnTo>
                    <a:pt x="243" y="104"/>
                  </a:lnTo>
                  <a:lnTo>
                    <a:pt x="203" y="110"/>
                  </a:lnTo>
                  <a:lnTo>
                    <a:pt x="229" y="96"/>
                  </a:lnTo>
                  <a:lnTo>
                    <a:pt x="239" y="87"/>
                  </a:lnTo>
                  <a:lnTo>
                    <a:pt x="252" y="74"/>
                  </a:lnTo>
                  <a:lnTo>
                    <a:pt x="276" y="70"/>
                  </a:lnTo>
                  <a:lnTo>
                    <a:pt x="300" y="60"/>
                  </a:lnTo>
                  <a:lnTo>
                    <a:pt x="305" y="57"/>
                  </a:lnTo>
                  <a:lnTo>
                    <a:pt x="294" y="47"/>
                  </a:lnTo>
                  <a:lnTo>
                    <a:pt x="289" y="34"/>
                  </a:lnTo>
                  <a:lnTo>
                    <a:pt x="286" y="18"/>
                  </a:lnTo>
                  <a:lnTo>
                    <a:pt x="283" y="0"/>
                  </a:lnTo>
                  <a:lnTo>
                    <a:pt x="284" y="18"/>
                  </a:lnTo>
                  <a:lnTo>
                    <a:pt x="286" y="39"/>
                  </a:lnTo>
                  <a:lnTo>
                    <a:pt x="289" y="51"/>
                  </a:lnTo>
                  <a:lnTo>
                    <a:pt x="289" y="53"/>
                  </a:lnTo>
                  <a:lnTo>
                    <a:pt x="286" y="61"/>
                  </a:lnTo>
                  <a:lnTo>
                    <a:pt x="281" y="64"/>
                  </a:lnTo>
                  <a:lnTo>
                    <a:pt x="256" y="67"/>
                  </a:lnTo>
                  <a:lnTo>
                    <a:pt x="235" y="70"/>
                  </a:lnTo>
                  <a:lnTo>
                    <a:pt x="146" y="70"/>
                  </a:lnTo>
                  <a:lnTo>
                    <a:pt x="86" y="67"/>
                  </a:lnTo>
                  <a:lnTo>
                    <a:pt x="49" y="62"/>
                  </a:lnTo>
                  <a:lnTo>
                    <a:pt x="21" y="57"/>
                  </a:lnTo>
                  <a:lnTo>
                    <a:pt x="4" y="51"/>
                  </a:lnTo>
                  <a:lnTo>
                    <a:pt x="2" y="47"/>
                  </a:lnTo>
                  <a:lnTo>
                    <a:pt x="4" y="11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3" y="57"/>
                  </a:lnTo>
                  <a:lnTo>
                    <a:pt x="39" y="65"/>
                  </a:lnTo>
                  <a:lnTo>
                    <a:pt x="4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691320" y="5472000"/>
              <a:ext cx="12960" cy="19440"/>
            </a:xfrm>
            <a:custGeom>
              <a:avLst/>
              <a:gdLst/>
              <a:ahLst/>
              <a:rect l="0" t="0" r="r" b="b"/>
              <a:pathLst>
                <a:path w="36" h="54">
                  <a:moveTo>
                    <a:pt x="0" y="0"/>
                  </a:moveTo>
                  <a:lnTo>
                    <a:pt x="0" y="16"/>
                  </a:lnTo>
                  <a:lnTo>
                    <a:pt x="28" y="54"/>
                  </a:lnTo>
                  <a:lnTo>
                    <a:pt x="36" y="52"/>
                  </a:lnTo>
                  <a:lnTo>
                    <a:pt x="24" y="38"/>
                  </a:lnTo>
                  <a:lnTo>
                    <a:pt x="2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726240" y="5457960"/>
              <a:ext cx="60840" cy="27360"/>
            </a:xfrm>
            <a:custGeom>
              <a:avLst/>
              <a:gdLst/>
              <a:ahLst/>
              <a:rect l="0" t="0" r="r" b="b"/>
              <a:pathLst>
                <a:path w="169" h="76">
                  <a:moveTo>
                    <a:pt x="98" y="3"/>
                  </a:moveTo>
                  <a:lnTo>
                    <a:pt x="72" y="20"/>
                  </a:lnTo>
                  <a:lnTo>
                    <a:pt x="14" y="36"/>
                  </a:lnTo>
                  <a:lnTo>
                    <a:pt x="0" y="76"/>
                  </a:lnTo>
                  <a:lnTo>
                    <a:pt x="10" y="35"/>
                  </a:lnTo>
                  <a:lnTo>
                    <a:pt x="72" y="13"/>
                  </a:lnTo>
                  <a:lnTo>
                    <a:pt x="99" y="0"/>
                  </a:lnTo>
                  <a:lnTo>
                    <a:pt x="110" y="0"/>
                  </a:lnTo>
                  <a:lnTo>
                    <a:pt x="169" y="26"/>
                  </a:lnTo>
                  <a:lnTo>
                    <a:pt x="113" y="3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6740640" y="5454720"/>
              <a:ext cx="5040" cy="11520"/>
            </a:xfrm>
            <a:custGeom>
              <a:avLst/>
              <a:gdLst/>
              <a:ahLst/>
              <a:rect l="0" t="0" r="r" b="b"/>
              <a:pathLst>
                <a:path w="14" h="32">
                  <a:moveTo>
                    <a:pt x="0" y="0"/>
                  </a:moveTo>
                  <a:lnTo>
                    <a:pt x="9" y="32"/>
                  </a:lnTo>
                  <a:lnTo>
                    <a:pt x="14" y="3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6648480" y="5381640"/>
              <a:ext cx="103680" cy="62280"/>
            </a:xfrm>
            <a:custGeom>
              <a:avLst/>
              <a:gdLst/>
              <a:ahLst/>
              <a:rect l="0" t="0" r="r" b="b"/>
              <a:pathLst>
                <a:path w="288" h="173">
                  <a:moveTo>
                    <a:pt x="4" y="134"/>
                  </a:moveTo>
                  <a:lnTo>
                    <a:pt x="12" y="101"/>
                  </a:lnTo>
                  <a:lnTo>
                    <a:pt x="23" y="75"/>
                  </a:lnTo>
                  <a:lnTo>
                    <a:pt x="42" y="49"/>
                  </a:lnTo>
                  <a:lnTo>
                    <a:pt x="64" y="27"/>
                  </a:lnTo>
                  <a:lnTo>
                    <a:pt x="87" y="14"/>
                  </a:lnTo>
                  <a:lnTo>
                    <a:pt x="111" y="4"/>
                  </a:lnTo>
                  <a:lnTo>
                    <a:pt x="131" y="1"/>
                  </a:lnTo>
                  <a:lnTo>
                    <a:pt x="150" y="0"/>
                  </a:lnTo>
                  <a:lnTo>
                    <a:pt x="179" y="2"/>
                  </a:lnTo>
                  <a:lnTo>
                    <a:pt x="204" y="9"/>
                  </a:lnTo>
                  <a:lnTo>
                    <a:pt x="229" y="22"/>
                  </a:lnTo>
                  <a:lnTo>
                    <a:pt x="246" y="35"/>
                  </a:lnTo>
                  <a:lnTo>
                    <a:pt x="260" y="51"/>
                  </a:lnTo>
                  <a:lnTo>
                    <a:pt x="272" y="70"/>
                  </a:lnTo>
                  <a:lnTo>
                    <a:pt x="281" y="87"/>
                  </a:lnTo>
                  <a:lnTo>
                    <a:pt x="285" y="107"/>
                  </a:lnTo>
                  <a:lnTo>
                    <a:pt x="288" y="141"/>
                  </a:lnTo>
                  <a:lnTo>
                    <a:pt x="283" y="105"/>
                  </a:lnTo>
                  <a:lnTo>
                    <a:pt x="275" y="81"/>
                  </a:lnTo>
                  <a:lnTo>
                    <a:pt x="260" y="55"/>
                  </a:lnTo>
                  <a:lnTo>
                    <a:pt x="241" y="33"/>
                  </a:lnTo>
                  <a:lnTo>
                    <a:pt x="218" y="17"/>
                  </a:lnTo>
                  <a:lnTo>
                    <a:pt x="191" y="8"/>
                  </a:lnTo>
                  <a:lnTo>
                    <a:pt x="164" y="4"/>
                  </a:lnTo>
                  <a:lnTo>
                    <a:pt x="144" y="3"/>
                  </a:lnTo>
                  <a:lnTo>
                    <a:pt x="115" y="7"/>
                  </a:lnTo>
                  <a:lnTo>
                    <a:pt x="89" y="17"/>
                  </a:lnTo>
                  <a:lnTo>
                    <a:pt x="70" y="27"/>
                  </a:lnTo>
                  <a:lnTo>
                    <a:pt x="55" y="41"/>
                  </a:lnTo>
                  <a:lnTo>
                    <a:pt x="39" y="59"/>
                  </a:lnTo>
                  <a:lnTo>
                    <a:pt x="25" y="79"/>
                  </a:lnTo>
                  <a:lnTo>
                    <a:pt x="14" y="107"/>
                  </a:lnTo>
                  <a:lnTo>
                    <a:pt x="6" y="138"/>
                  </a:lnTo>
                  <a:lnTo>
                    <a:pt x="0" y="173"/>
                  </a:lnTo>
                  <a:lnTo>
                    <a:pt x="4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6651720" y="5437080"/>
              <a:ext cx="100440" cy="8280"/>
            </a:xfrm>
            <a:custGeom>
              <a:avLst/>
              <a:gdLst/>
              <a:ahLst/>
              <a:rect l="0" t="0" r="r" b="b"/>
              <a:pathLst>
                <a:path w="279" h="23">
                  <a:moveTo>
                    <a:pt x="279" y="15"/>
                  </a:moveTo>
                  <a:lnTo>
                    <a:pt x="261" y="18"/>
                  </a:lnTo>
                  <a:lnTo>
                    <a:pt x="241" y="19"/>
                  </a:lnTo>
                  <a:lnTo>
                    <a:pt x="208" y="20"/>
                  </a:lnTo>
                  <a:lnTo>
                    <a:pt x="132" y="20"/>
                  </a:lnTo>
                  <a:lnTo>
                    <a:pt x="95" y="18"/>
                  </a:lnTo>
                  <a:lnTo>
                    <a:pt x="57" y="15"/>
                  </a:lnTo>
                  <a:lnTo>
                    <a:pt x="20" y="7"/>
                  </a:lnTo>
                  <a:lnTo>
                    <a:pt x="0" y="0"/>
                  </a:lnTo>
                  <a:lnTo>
                    <a:pt x="0" y="1"/>
                  </a:lnTo>
                  <a:lnTo>
                    <a:pt x="20" y="8"/>
                  </a:lnTo>
                  <a:lnTo>
                    <a:pt x="57" y="17"/>
                  </a:lnTo>
                  <a:lnTo>
                    <a:pt x="95" y="20"/>
                  </a:lnTo>
                  <a:lnTo>
                    <a:pt x="132" y="23"/>
                  </a:lnTo>
                  <a:lnTo>
                    <a:pt x="208" y="23"/>
                  </a:lnTo>
                  <a:lnTo>
                    <a:pt x="241" y="21"/>
                  </a:lnTo>
                  <a:lnTo>
                    <a:pt x="261" y="20"/>
                  </a:lnTo>
                  <a:lnTo>
                    <a:pt x="279" y="17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651720" y="5427720"/>
              <a:ext cx="100440" cy="9720"/>
            </a:xfrm>
            <a:custGeom>
              <a:avLst/>
              <a:gdLst/>
              <a:ahLst/>
              <a:rect l="0" t="0" r="r" b="b"/>
              <a:pathLst>
                <a:path w="279" h="27">
                  <a:moveTo>
                    <a:pt x="279" y="18"/>
                  </a:moveTo>
                  <a:lnTo>
                    <a:pt x="262" y="22"/>
                  </a:lnTo>
                  <a:lnTo>
                    <a:pt x="241" y="23"/>
                  </a:lnTo>
                  <a:lnTo>
                    <a:pt x="207" y="24"/>
                  </a:lnTo>
                  <a:lnTo>
                    <a:pt x="133" y="24"/>
                  </a:lnTo>
                  <a:lnTo>
                    <a:pt x="95" y="22"/>
                  </a:lnTo>
                  <a:lnTo>
                    <a:pt x="58" y="18"/>
                  </a:lnTo>
                  <a:lnTo>
                    <a:pt x="20" y="9"/>
                  </a:lnTo>
                  <a:lnTo>
                    <a:pt x="0" y="0"/>
                  </a:lnTo>
                  <a:lnTo>
                    <a:pt x="0" y="2"/>
                  </a:lnTo>
                  <a:lnTo>
                    <a:pt x="20" y="12"/>
                  </a:lnTo>
                  <a:lnTo>
                    <a:pt x="58" y="21"/>
                  </a:lnTo>
                  <a:lnTo>
                    <a:pt x="95" y="24"/>
                  </a:lnTo>
                  <a:lnTo>
                    <a:pt x="133" y="27"/>
                  </a:lnTo>
                  <a:lnTo>
                    <a:pt x="207" y="27"/>
                  </a:lnTo>
                  <a:lnTo>
                    <a:pt x="241" y="27"/>
                  </a:lnTo>
                  <a:lnTo>
                    <a:pt x="262" y="24"/>
                  </a:lnTo>
                  <a:lnTo>
                    <a:pt x="279" y="21"/>
                  </a:lnTo>
                  <a:lnTo>
                    <a:pt x="27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715080" y="5394240"/>
              <a:ext cx="39960" cy="60840"/>
            </a:xfrm>
            <a:custGeom>
              <a:avLst/>
              <a:gdLst/>
              <a:ahLst/>
              <a:rect l="0" t="0" r="r" b="b"/>
              <a:pathLst>
                <a:path w="111" h="169">
                  <a:moveTo>
                    <a:pt x="60" y="169"/>
                  </a:moveTo>
                  <a:lnTo>
                    <a:pt x="42" y="151"/>
                  </a:lnTo>
                  <a:lnTo>
                    <a:pt x="0" y="142"/>
                  </a:lnTo>
                  <a:lnTo>
                    <a:pt x="62" y="139"/>
                  </a:lnTo>
                  <a:lnTo>
                    <a:pt x="70" y="116"/>
                  </a:lnTo>
                  <a:lnTo>
                    <a:pt x="48" y="116"/>
                  </a:lnTo>
                  <a:lnTo>
                    <a:pt x="67" y="97"/>
                  </a:lnTo>
                  <a:lnTo>
                    <a:pt x="56" y="41"/>
                  </a:lnTo>
                  <a:lnTo>
                    <a:pt x="45" y="65"/>
                  </a:lnTo>
                  <a:lnTo>
                    <a:pt x="29" y="23"/>
                  </a:lnTo>
                  <a:lnTo>
                    <a:pt x="0" y="0"/>
                  </a:lnTo>
                  <a:lnTo>
                    <a:pt x="53" y="18"/>
                  </a:lnTo>
                  <a:lnTo>
                    <a:pt x="79" y="56"/>
                  </a:lnTo>
                  <a:lnTo>
                    <a:pt x="97" y="111"/>
                  </a:lnTo>
                  <a:lnTo>
                    <a:pt x="101" y="137"/>
                  </a:lnTo>
                  <a:lnTo>
                    <a:pt x="111" y="153"/>
                  </a:lnTo>
                  <a:lnTo>
                    <a:pt x="97" y="166"/>
                  </a:lnTo>
                  <a:lnTo>
                    <a:pt x="6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697800" y="5443560"/>
              <a:ext cx="19440" cy="6840"/>
            </a:xfrm>
            <a:custGeom>
              <a:avLst/>
              <a:gdLst/>
              <a:ahLst/>
              <a:rect l="0" t="0" r="r" b="b"/>
              <a:pathLst>
                <a:path w="54" h="19">
                  <a:moveTo>
                    <a:pt x="54" y="2"/>
                  </a:moveTo>
                  <a:lnTo>
                    <a:pt x="23" y="19"/>
                  </a:lnTo>
                  <a:lnTo>
                    <a:pt x="0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661080" y="5413320"/>
              <a:ext cx="49680" cy="24120"/>
            </a:xfrm>
            <a:custGeom>
              <a:avLst/>
              <a:gdLst/>
              <a:ahLst/>
              <a:rect l="0" t="0" r="r" b="b"/>
              <a:pathLst>
                <a:path w="138" h="67">
                  <a:moveTo>
                    <a:pt x="82" y="62"/>
                  </a:moveTo>
                  <a:lnTo>
                    <a:pt x="93" y="42"/>
                  </a:lnTo>
                  <a:lnTo>
                    <a:pt x="84" y="37"/>
                  </a:lnTo>
                  <a:lnTo>
                    <a:pt x="36" y="61"/>
                  </a:lnTo>
                  <a:lnTo>
                    <a:pt x="0" y="53"/>
                  </a:lnTo>
                  <a:lnTo>
                    <a:pt x="13" y="28"/>
                  </a:lnTo>
                  <a:lnTo>
                    <a:pt x="66" y="0"/>
                  </a:lnTo>
                  <a:lnTo>
                    <a:pt x="93" y="0"/>
                  </a:lnTo>
                  <a:lnTo>
                    <a:pt x="77" y="25"/>
                  </a:lnTo>
                  <a:lnTo>
                    <a:pt x="110" y="20"/>
                  </a:lnTo>
                  <a:lnTo>
                    <a:pt x="134" y="46"/>
                  </a:lnTo>
                  <a:lnTo>
                    <a:pt x="119" y="53"/>
                  </a:lnTo>
                  <a:lnTo>
                    <a:pt x="138" y="67"/>
                  </a:lnTo>
                  <a:lnTo>
                    <a:pt x="102" y="67"/>
                  </a:lnTo>
                  <a:lnTo>
                    <a:pt x="8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707160" y="5484960"/>
              <a:ext cx="19440" cy="74880"/>
            </a:xfrm>
            <a:custGeom>
              <a:avLst/>
              <a:gdLst/>
              <a:ahLst/>
              <a:rect l="0" t="0" r="r" b="b"/>
              <a:pathLst>
                <a:path w="54" h="208">
                  <a:moveTo>
                    <a:pt x="54" y="0"/>
                  </a:moveTo>
                  <a:lnTo>
                    <a:pt x="39" y="12"/>
                  </a:lnTo>
                  <a:lnTo>
                    <a:pt x="19" y="66"/>
                  </a:lnTo>
                  <a:lnTo>
                    <a:pt x="28" y="79"/>
                  </a:lnTo>
                  <a:lnTo>
                    <a:pt x="23" y="66"/>
                  </a:lnTo>
                  <a:lnTo>
                    <a:pt x="39" y="52"/>
                  </a:lnTo>
                  <a:lnTo>
                    <a:pt x="39" y="72"/>
                  </a:lnTo>
                  <a:lnTo>
                    <a:pt x="0" y="168"/>
                  </a:lnTo>
                  <a:lnTo>
                    <a:pt x="0" y="187"/>
                  </a:lnTo>
                  <a:lnTo>
                    <a:pt x="9" y="208"/>
                  </a:lnTo>
                  <a:lnTo>
                    <a:pt x="2" y="187"/>
                  </a:lnTo>
                  <a:lnTo>
                    <a:pt x="2" y="170"/>
                  </a:lnTo>
                  <a:lnTo>
                    <a:pt x="23" y="153"/>
                  </a:lnTo>
                  <a:lnTo>
                    <a:pt x="45" y="76"/>
                  </a:lnTo>
                  <a:lnTo>
                    <a:pt x="45" y="2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707160" y="5556240"/>
              <a:ext cx="11520" cy="27360"/>
            </a:xfrm>
            <a:custGeom>
              <a:avLst/>
              <a:gdLst/>
              <a:ahLst/>
              <a:rect l="0" t="0" r="r" b="b"/>
              <a:pathLst>
                <a:path w="32" h="76">
                  <a:moveTo>
                    <a:pt x="13" y="76"/>
                  </a:moveTo>
                  <a:lnTo>
                    <a:pt x="0" y="28"/>
                  </a:lnTo>
                  <a:lnTo>
                    <a:pt x="9" y="0"/>
                  </a:lnTo>
                  <a:lnTo>
                    <a:pt x="22" y="5"/>
                  </a:lnTo>
                  <a:lnTo>
                    <a:pt x="32" y="28"/>
                  </a:lnTo>
                  <a:lnTo>
                    <a:pt x="32" y="44"/>
                  </a:lnTo>
                  <a:lnTo>
                    <a:pt x="22" y="65"/>
                  </a:lnTo>
                  <a:lnTo>
                    <a:pt x="30" y="44"/>
                  </a:lnTo>
                  <a:lnTo>
                    <a:pt x="30" y="32"/>
                  </a:lnTo>
                  <a:lnTo>
                    <a:pt x="11" y="15"/>
                  </a:lnTo>
                  <a:lnTo>
                    <a:pt x="4" y="30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727680" y="55101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0" y="186"/>
                  </a:moveTo>
                  <a:lnTo>
                    <a:pt x="16" y="161"/>
                  </a:lnTo>
                  <a:lnTo>
                    <a:pt x="64" y="123"/>
                  </a:lnTo>
                  <a:lnTo>
                    <a:pt x="64" y="101"/>
                  </a:lnTo>
                  <a:lnTo>
                    <a:pt x="103" y="61"/>
                  </a:lnTo>
                  <a:lnTo>
                    <a:pt x="123" y="10"/>
                  </a:lnTo>
                  <a:lnTo>
                    <a:pt x="132" y="0"/>
                  </a:lnTo>
                  <a:lnTo>
                    <a:pt x="127" y="32"/>
                  </a:lnTo>
                  <a:lnTo>
                    <a:pt x="115" y="40"/>
                  </a:lnTo>
                  <a:lnTo>
                    <a:pt x="108" y="68"/>
                  </a:lnTo>
                  <a:lnTo>
                    <a:pt x="84" y="107"/>
                  </a:lnTo>
                  <a:lnTo>
                    <a:pt x="130" y="81"/>
                  </a:lnTo>
                  <a:lnTo>
                    <a:pt x="151" y="79"/>
                  </a:lnTo>
                  <a:lnTo>
                    <a:pt x="93" y="118"/>
                  </a:lnTo>
                  <a:lnTo>
                    <a:pt x="56" y="169"/>
                  </a:lnTo>
                  <a:lnTo>
                    <a:pt x="31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672240" y="5583240"/>
              <a:ext cx="49680" cy="32040"/>
            </a:xfrm>
            <a:custGeom>
              <a:avLst/>
              <a:gdLst/>
              <a:ahLst/>
              <a:rect l="0" t="0" r="r" b="b"/>
              <a:pathLst>
                <a:path w="138" h="89">
                  <a:moveTo>
                    <a:pt x="11" y="15"/>
                  </a:moveTo>
                  <a:lnTo>
                    <a:pt x="11" y="28"/>
                  </a:lnTo>
                  <a:lnTo>
                    <a:pt x="31" y="56"/>
                  </a:lnTo>
                  <a:lnTo>
                    <a:pt x="20" y="56"/>
                  </a:lnTo>
                  <a:lnTo>
                    <a:pt x="0" y="80"/>
                  </a:lnTo>
                  <a:lnTo>
                    <a:pt x="26" y="63"/>
                  </a:lnTo>
                  <a:lnTo>
                    <a:pt x="72" y="63"/>
                  </a:lnTo>
                  <a:lnTo>
                    <a:pt x="138" y="89"/>
                  </a:lnTo>
                  <a:lnTo>
                    <a:pt x="108" y="69"/>
                  </a:lnTo>
                  <a:lnTo>
                    <a:pt x="96" y="56"/>
                  </a:lnTo>
                  <a:lnTo>
                    <a:pt x="67" y="41"/>
                  </a:lnTo>
                  <a:lnTo>
                    <a:pt x="38" y="0"/>
                  </a:lnTo>
                  <a:lnTo>
                    <a:pt x="65" y="56"/>
                  </a:lnTo>
                  <a:lnTo>
                    <a:pt x="55" y="56"/>
                  </a:lnTo>
                  <a:lnTo>
                    <a:pt x="44" y="43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721560" y="5586480"/>
              <a:ext cx="87840" cy="32040"/>
            </a:xfrm>
            <a:custGeom>
              <a:avLst/>
              <a:gdLst/>
              <a:ahLst/>
              <a:rect l="0" t="0" r="r" b="b"/>
              <a:pathLst>
                <a:path w="244" h="89">
                  <a:moveTo>
                    <a:pt x="0" y="84"/>
                  </a:moveTo>
                  <a:lnTo>
                    <a:pt x="60" y="67"/>
                  </a:lnTo>
                  <a:lnTo>
                    <a:pt x="108" y="67"/>
                  </a:lnTo>
                  <a:lnTo>
                    <a:pt x="153" y="89"/>
                  </a:lnTo>
                  <a:lnTo>
                    <a:pt x="122" y="63"/>
                  </a:lnTo>
                  <a:lnTo>
                    <a:pt x="177" y="20"/>
                  </a:lnTo>
                  <a:lnTo>
                    <a:pt x="244" y="0"/>
                  </a:lnTo>
                  <a:lnTo>
                    <a:pt x="217" y="0"/>
                  </a:lnTo>
                  <a:lnTo>
                    <a:pt x="165" y="20"/>
                  </a:lnTo>
                  <a:lnTo>
                    <a:pt x="104" y="61"/>
                  </a:lnTo>
                  <a:lnTo>
                    <a:pt x="82" y="61"/>
                  </a:lnTo>
                  <a:lnTo>
                    <a:pt x="127" y="20"/>
                  </a:lnTo>
                  <a:lnTo>
                    <a:pt x="95" y="30"/>
                  </a:lnTo>
                  <a:lnTo>
                    <a:pt x="102" y="12"/>
                  </a:lnTo>
                  <a:lnTo>
                    <a:pt x="47" y="41"/>
                  </a:lnTo>
                  <a:lnTo>
                    <a:pt x="47" y="63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757920" y="5541840"/>
              <a:ext cx="30600" cy="49680"/>
            </a:xfrm>
            <a:custGeom>
              <a:avLst/>
              <a:gdLst/>
              <a:ahLst/>
              <a:rect l="0" t="0" r="r" b="b"/>
              <a:pathLst>
                <a:path w="85" h="138">
                  <a:moveTo>
                    <a:pt x="0" y="138"/>
                  </a:moveTo>
                  <a:lnTo>
                    <a:pt x="27" y="118"/>
                  </a:lnTo>
                  <a:lnTo>
                    <a:pt x="32" y="135"/>
                  </a:lnTo>
                  <a:lnTo>
                    <a:pt x="51" y="36"/>
                  </a:lnTo>
                  <a:lnTo>
                    <a:pt x="85" y="0"/>
                  </a:lnTo>
                  <a:lnTo>
                    <a:pt x="46" y="33"/>
                  </a:lnTo>
                  <a:lnTo>
                    <a:pt x="15" y="9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792840" y="552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10"/>
                  </a:moveTo>
                  <a:lnTo>
                    <a:pt x="41" y="0"/>
                  </a:lnTo>
                  <a:lnTo>
                    <a:pt x="63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6773760" y="5607000"/>
              <a:ext cx="55800" cy="39960"/>
            </a:xfrm>
            <a:custGeom>
              <a:avLst/>
              <a:gdLst/>
              <a:ahLst/>
              <a:rect l="0" t="0" r="r" b="b"/>
              <a:pathLst>
                <a:path w="155" h="111">
                  <a:moveTo>
                    <a:pt x="0" y="23"/>
                  </a:moveTo>
                  <a:lnTo>
                    <a:pt x="67" y="73"/>
                  </a:lnTo>
                  <a:lnTo>
                    <a:pt x="89" y="111"/>
                  </a:lnTo>
                  <a:lnTo>
                    <a:pt x="89" y="87"/>
                  </a:lnTo>
                  <a:lnTo>
                    <a:pt x="65" y="61"/>
                  </a:lnTo>
                  <a:lnTo>
                    <a:pt x="65" y="43"/>
                  </a:lnTo>
                  <a:lnTo>
                    <a:pt x="155" y="21"/>
                  </a:lnTo>
                  <a:lnTo>
                    <a:pt x="31" y="38"/>
                  </a:lnTo>
                  <a:lnTo>
                    <a:pt x="16" y="25"/>
                  </a:lnTo>
                  <a:lnTo>
                    <a:pt x="49" y="8"/>
                  </a:lnTo>
                  <a:lnTo>
                    <a:pt x="49" y="0"/>
                  </a:lnTo>
                  <a:lnTo>
                    <a:pt x="6" y="1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6781680" y="5607000"/>
              <a:ext cx="35280" cy="8280"/>
            </a:xfrm>
            <a:custGeom>
              <a:avLst/>
              <a:gdLst/>
              <a:ahLst/>
              <a:rect l="0" t="0" r="r" b="b"/>
              <a:pathLst>
                <a:path fill="none" w="98" h="23">
                  <a:moveTo>
                    <a:pt x="0" y="18"/>
                  </a:moveTo>
                  <a:lnTo>
                    <a:pt x="17" y="23"/>
                  </a:lnTo>
                  <a:lnTo>
                    <a:pt x="61" y="0"/>
                  </a:lnTo>
                  <a:lnTo>
                    <a:pt x="98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6810480" y="5543640"/>
              <a:ext cx="32040" cy="63720"/>
            </a:xfrm>
            <a:custGeom>
              <a:avLst/>
              <a:gdLst/>
              <a:ahLst/>
              <a:rect l="0" t="0" r="r" b="b"/>
              <a:pathLst>
                <a:path w="89" h="177">
                  <a:moveTo>
                    <a:pt x="0" y="177"/>
                  </a:moveTo>
                  <a:lnTo>
                    <a:pt x="36" y="160"/>
                  </a:lnTo>
                  <a:lnTo>
                    <a:pt x="53" y="160"/>
                  </a:lnTo>
                  <a:lnTo>
                    <a:pt x="70" y="132"/>
                  </a:lnTo>
                  <a:lnTo>
                    <a:pt x="45" y="89"/>
                  </a:lnTo>
                  <a:lnTo>
                    <a:pt x="62" y="69"/>
                  </a:lnTo>
                  <a:lnTo>
                    <a:pt x="48" y="47"/>
                  </a:lnTo>
                  <a:lnTo>
                    <a:pt x="36" y="66"/>
                  </a:lnTo>
                  <a:lnTo>
                    <a:pt x="9" y="0"/>
                  </a:lnTo>
                  <a:lnTo>
                    <a:pt x="19" y="0"/>
                  </a:lnTo>
                  <a:lnTo>
                    <a:pt x="59" y="15"/>
                  </a:lnTo>
                  <a:lnTo>
                    <a:pt x="55" y="30"/>
                  </a:lnTo>
                  <a:lnTo>
                    <a:pt x="89" y="75"/>
                  </a:lnTo>
                  <a:lnTo>
                    <a:pt x="89" y="112"/>
                  </a:lnTo>
                  <a:lnTo>
                    <a:pt x="67" y="108"/>
                  </a:lnTo>
                  <a:lnTo>
                    <a:pt x="78" y="140"/>
                  </a:lnTo>
                  <a:lnTo>
                    <a:pt x="78" y="155"/>
                  </a:lnTo>
                  <a:lnTo>
                    <a:pt x="56" y="166"/>
                  </a:lnTo>
                  <a:lnTo>
                    <a:pt x="78" y="166"/>
                  </a:lnTo>
                  <a:lnTo>
                    <a:pt x="66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794640" y="5472000"/>
              <a:ext cx="78120" cy="160560"/>
            </a:xfrm>
            <a:custGeom>
              <a:avLst/>
              <a:gdLst/>
              <a:ahLst/>
              <a:rect l="0" t="0" r="r" b="b"/>
              <a:pathLst>
                <a:path w="217" h="446">
                  <a:moveTo>
                    <a:pt x="0" y="0"/>
                  </a:moveTo>
                  <a:lnTo>
                    <a:pt x="39" y="35"/>
                  </a:lnTo>
                  <a:lnTo>
                    <a:pt x="136" y="175"/>
                  </a:lnTo>
                  <a:lnTo>
                    <a:pt x="194" y="294"/>
                  </a:lnTo>
                  <a:lnTo>
                    <a:pt x="217" y="399"/>
                  </a:lnTo>
                  <a:lnTo>
                    <a:pt x="208" y="446"/>
                  </a:lnTo>
                  <a:lnTo>
                    <a:pt x="214" y="402"/>
                  </a:lnTo>
                  <a:lnTo>
                    <a:pt x="187" y="294"/>
                  </a:lnTo>
                  <a:lnTo>
                    <a:pt x="131" y="179"/>
                  </a:lnTo>
                  <a:lnTo>
                    <a:pt x="36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811920" y="5626080"/>
              <a:ext cx="60840" cy="16200"/>
            </a:xfrm>
            <a:custGeom>
              <a:avLst/>
              <a:gdLst/>
              <a:ahLst/>
              <a:rect l="0" t="0" r="r" b="b"/>
              <a:pathLst>
                <a:path w="169" h="45">
                  <a:moveTo>
                    <a:pt x="0" y="12"/>
                  </a:moveTo>
                  <a:lnTo>
                    <a:pt x="12" y="12"/>
                  </a:lnTo>
                  <a:lnTo>
                    <a:pt x="94" y="40"/>
                  </a:lnTo>
                  <a:lnTo>
                    <a:pt x="123" y="42"/>
                  </a:lnTo>
                  <a:lnTo>
                    <a:pt x="166" y="45"/>
                  </a:lnTo>
                  <a:lnTo>
                    <a:pt x="169" y="40"/>
                  </a:lnTo>
                  <a:lnTo>
                    <a:pt x="169" y="35"/>
                  </a:lnTo>
                  <a:lnTo>
                    <a:pt x="165" y="30"/>
                  </a:lnTo>
                  <a:lnTo>
                    <a:pt x="128" y="30"/>
                  </a:lnTo>
                  <a:lnTo>
                    <a:pt x="94" y="26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810480" y="5632560"/>
              <a:ext cx="57600" cy="95760"/>
            </a:xfrm>
            <a:custGeom>
              <a:avLst/>
              <a:gdLst/>
              <a:ahLst/>
              <a:rect l="0" t="0" r="r" b="b"/>
              <a:pathLst>
                <a:path w="160" h="266">
                  <a:moveTo>
                    <a:pt x="104" y="52"/>
                  </a:moveTo>
                  <a:lnTo>
                    <a:pt x="96" y="83"/>
                  </a:lnTo>
                  <a:lnTo>
                    <a:pt x="88" y="83"/>
                  </a:lnTo>
                  <a:lnTo>
                    <a:pt x="84" y="87"/>
                  </a:lnTo>
                  <a:lnTo>
                    <a:pt x="84" y="93"/>
                  </a:lnTo>
                  <a:lnTo>
                    <a:pt x="86" y="102"/>
                  </a:lnTo>
                  <a:lnTo>
                    <a:pt x="93" y="104"/>
                  </a:lnTo>
                  <a:lnTo>
                    <a:pt x="101" y="102"/>
                  </a:lnTo>
                  <a:lnTo>
                    <a:pt x="160" y="109"/>
                  </a:lnTo>
                  <a:lnTo>
                    <a:pt x="155" y="170"/>
                  </a:lnTo>
                  <a:lnTo>
                    <a:pt x="148" y="228"/>
                  </a:lnTo>
                  <a:lnTo>
                    <a:pt x="144" y="252"/>
                  </a:lnTo>
                  <a:lnTo>
                    <a:pt x="137" y="264"/>
                  </a:lnTo>
                  <a:lnTo>
                    <a:pt x="131" y="266"/>
                  </a:lnTo>
                  <a:lnTo>
                    <a:pt x="114" y="259"/>
                  </a:lnTo>
                  <a:lnTo>
                    <a:pt x="109" y="248"/>
                  </a:lnTo>
                  <a:lnTo>
                    <a:pt x="102" y="231"/>
                  </a:lnTo>
                  <a:lnTo>
                    <a:pt x="95" y="197"/>
                  </a:lnTo>
                  <a:lnTo>
                    <a:pt x="82" y="171"/>
                  </a:lnTo>
                  <a:lnTo>
                    <a:pt x="64" y="149"/>
                  </a:lnTo>
                  <a:lnTo>
                    <a:pt x="57" y="138"/>
                  </a:lnTo>
                  <a:lnTo>
                    <a:pt x="54" y="124"/>
                  </a:lnTo>
                  <a:lnTo>
                    <a:pt x="52" y="115"/>
                  </a:lnTo>
                  <a:lnTo>
                    <a:pt x="28" y="102"/>
                  </a:lnTo>
                  <a:lnTo>
                    <a:pt x="14" y="85"/>
                  </a:lnTo>
                  <a:lnTo>
                    <a:pt x="7" y="67"/>
                  </a:lnTo>
                  <a:lnTo>
                    <a:pt x="3" y="50"/>
                  </a:lnTo>
                  <a:lnTo>
                    <a:pt x="0" y="33"/>
                  </a:lnTo>
                  <a:lnTo>
                    <a:pt x="1" y="16"/>
                  </a:lnTo>
                  <a:lnTo>
                    <a:pt x="6" y="0"/>
                  </a:lnTo>
                  <a:lnTo>
                    <a:pt x="6" y="16"/>
                  </a:lnTo>
                  <a:lnTo>
                    <a:pt x="14" y="25"/>
                  </a:lnTo>
                  <a:lnTo>
                    <a:pt x="60" y="42"/>
                  </a:lnTo>
                  <a:lnTo>
                    <a:pt x="92" y="52"/>
                  </a:lnTo>
                  <a:lnTo>
                    <a:pt x="10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840360" y="5645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13"/>
                  </a:moveTo>
                  <a:lnTo>
                    <a:pt x="46" y="20"/>
                  </a:lnTo>
                  <a:lnTo>
                    <a:pt x="75" y="20"/>
                  </a:lnTo>
                  <a:lnTo>
                    <a:pt x="88" y="13"/>
                  </a:lnTo>
                  <a:lnTo>
                    <a:pt x="94" y="9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94" y="37"/>
                  </a:lnTo>
                  <a:lnTo>
                    <a:pt x="89" y="50"/>
                  </a:lnTo>
                  <a:lnTo>
                    <a:pt x="83" y="61"/>
                  </a:lnTo>
                  <a:lnTo>
                    <a:pt x="75" y="72"/>
                  </a:lnTo>
                  <a:lnTo>
                    <a:pt x="13" y="65"/>
                  </a:lnTo>
                  <a:lnTo>
                    <a:pt x="20" y="57"/>
                  </a:lnTo>
                  <a:lnTo>
                    <a:pt x="20" y="50"/>
                  </a:lnTo>
                  <a:lnTo>
                    <a:pt x="12" y="4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816600" y="5664240"/>
              <a:ext cx="35280" cy="63720"/>
            </a:xfrm>
            <a:custGeom>
              <a:avLst/>
              <a:gdLst/>
              <a:ahLst/>
              <a:rect l="0" t="0" r="r" b="b"/>
              <a:pathLst>
                <a:path w="98" h="177">
                  <a:moveTo>
                    <a:pt x="0" y="0"/>
                  </a:moveTo>
                  <a:lnTo>
                    <a:pt x="2" y="22"/>
                  </a:lnTo>
                  <a:lnTo>
                    <a:pt x="9" y="46"/>
                  </a:lnTo>
                  <a:lnTo>
                    <a:pt x="21" y="62"/>
                  </a:lnTo>
                  <a:lnTo>
                    <a:pt x="43" y="85"/>
                  </a:lnTo>
                  <a:lnTo>
                    <a:pt x="56" y="103"/>
                  </a:lnTo>
                  <a:lnTo>
                    <a:pt x="65" y="120"/>
                  </a:lnTo>
                  <a:lnTo>
                    <a:pt x="76" y="154"/>
                  </a:lnTo>
                  <a:lnTo>
                    <a:pt x="86" y="168"/>
                  </a:lnTo>
                  <a:lnTo>
                    <a:pt x="98" y="177"/>
                  </a:lnTo>
                  <a:lnTo>
                    <a:pt x="81" y="146"/>
                  </a:lnTo>
                  <a:lnTo>
                    <a:pt x="65" y="110"/>
                  </a:lnTo>
                  <a:lnTo>
                    <a:pt x="56" y="89"/>
                  </a:lnTo>
                  <a:lnTo>
                    <a:pt x="36" y="69"/>
                  </a:lnTo>
                  <a:lnTo>
                    <a:pt x="27" y="56"/>
                  </a:lnTo>
                  <a:lnTo>
                    <a:pt x="19" y="41"/>
                  </a:lnTo>
                  <a:lnTo>
                    <a:pt x="12" y="29"/>
                  </a:lnTo>
                  <a:lnTo>
                    <a:pt x="1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862680" y="571032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4" y="0"/>
                  </a:moveTo>
                  <a:lnTo>
                    <a:pt x="14" y="36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676920" y="5614920"/>
              <a:ext cx="225720" cy="163800"/>
            </a:xfrm>
            <a:custGeom>
              <a:avLst/>
              <a:gdLst/>
              <a:ahLst/>
              <a:rect l="0" t="0" r="r" b="b"/>
              <a:pathLst>
                <a:path w="627" h="455">
                  <a:moveTo>
                    <a:pt x="534" y="303"/>
                  </a:moveTo>
                  <a:lnTo>
                    <a:pt x="571" y="337"/>
                  </a:lnTo>
                  <a:lnTo>
                    <a:pt x="583" y="369"/>
                  </a:lnTo>
                  <a:lnTo>
                    <a:pt x="583" y="391"/>
                  </a:lnTo>
                  <a:lnTo>
                    <a:pt x="578" y="412"/>
                  </a:lnTo>
                  <a:lnTo>
                    <a:pt x="627" y="455"/>
                  </a:lnTo>
                  <a:lnTo>
                    <a:pt x="581" y="434"/>
                  </a:lnTo>
                  <a:lnTo>
                    <a:pt x="549" y="430"/>
                  </a:lnTo>
                  <a:lnTo>
                    <a:pt x="503" y="408"/>
                  </a:lnTo>
                  <a:lnTo>
                    <a:pt x="485" y="361"/>
                  </a:lnTo>
                  <a:lnTo>
                    <a:pt x="474" y="346"/>
                  </a:lnTo>
                  <a:lnTo>
                    <a:pt x="450" y="327"/>
                  </a:lnTo>
                  <a:lnTo>
                    <a:pt x="451" y="349"/>
                  </a:lnTo>
                  <a:lnTo>
                    <a:pt x="445" y="374"/>
                  </a:lnTo>
                  <a:lnTo>
                    <a:pt x="432" y="388"/>
                  </a:lnTo>
                  <a:lnTo>
                    <a:pt x="407" y="388"/>
                  </a:lnTo>
                  <a:lnTo>
                    <a:pt x="383" y="380"/>
                  </a:lnTo>
                  <a:lnTo>
                    <a:pt x="351" y="346"/>
                  </a:lnTo>
                  <a:lnTo>
                    <a:pt x="327" y="333"/>
                  </a:lnTo>
                  <a:lnTo>
                    <a:pt x="294" y="327"/>
                  </a:lnTo>
                  <a:lnTo>
                    <a:pt x="257" y="329"/>
                  </a:lnTo>
                  <a:lnTo>
                    <a:pt x="195" y="334"/>
                  </a:lnTo>
                  <a:lnTo>
                    <a:pt x="150" y="344"/>
                  </a:lnTo>
                  <a:lnTo>
                    <a:pt x="148" y="256"/>
                  </a:lnTo>
                  <a:lnTo>
                    <a:pt x="135" y="204"/>
                  </a:lnTo>
                  <a:lnTo>
                    <a:pt x="118" y="184"/>
                  </a:lnTo>
                  <a:lnTo>
                    <a:pt x="101" y="170"/>
                  </a:lnTo>
                  <a:lnTo>
                    <a:pt x="90" y="156"/>
                  </a:lnTo>
                  <a:lnTo>
                    <a:pt x="83" y="144"/>
                  </a:lnTo>
                  <a:lnTo>
                    <a:pt x="63" y="123"/>
                  </a:lnTo>
                  <a:lnTo>
                    <a:pt x="32" y="95"/>
                  </a:lnTo>
                  <a:lnTo>
                    <a:pt x="16" y="75"/>
                  </a:lnTo>
                  <a:lnTo>
                    <a:pt x="9" y="52"/>
                  </a:lnTo>
                  <a:lnTo>
                    <a:pt x="7" y="24"/>
                  </a:lnTo>
                  <a:lnTo>
                    <a:pt x="0" y="0"/>
                  </a:lnTo>
                  <a:lnTo>
                    <a:pt x="10" y="20"/>
                  </a:lnTo>
                  <a:lnTo>
                    <a:pt x="16" y="59"/>
                  </a:lnTo>
                  <a:lnTo>
                    <a:pt x="28" y="83"/>
                  </a:lnTo>
                  <a:lnTo>
                    <a:pt x="53" y="103"/>
                  </a:lnTo>
                  <a:lnTo>
                    <a:pt x="88" y="121"/>
                  </a:lnTo>
                  <a:lnTo>
                    <a:pt x="116" y="140"/>
                  </a:lnTo>
                  <a:lnTo>
                    <a:pt x="135" y="164"/>
                  </a:lnTo>
                  <a:lnTo>
                    <a:pt x="147" y="178"/>
                  </a:lnTo>
                  <a:lnTo>
                    <a:pt x="177" y="178"/>
                  </a:lnTo>
                  <a:lnTo>
                    <a:pt x="221" y="203"/>
                  </a:lnTo>
                  <a:lnTo>
                    <a:pt x="233" y="198"/>
                  </a:lnTo>
                  <a:lnTo>
                    <a:pt x="116" y="96"/>
                  </a:lnTo>
                  <a:lnTo>
                    <a:pt x="79" y="83"/>
                  </a:lnTo>
                  <a:lnTo>
                    <a:pt x="103" y="83"/>
                  </a:lnTo>
                  <a:lnTo>
                    <a:pt x="174" y="103"/>
                  </a:lnTo>
                  <a:lnTo>
                    <a:pt x="160" y="119"/>
                  </a:lnTo>
                  <a:lnTo>
                    <a:pt x="167" y="133"/>
                  </a:lnTo>
                  <a:lnTo>
                    <a:pt x="259" y="204"/>
                  </a:lnTo>
                  <a:lnTo>
                    <a:pt x="298" y="226"/>
                  </a:lnTo>
                  <a:lnTo>
                    <a:pt x="340" y="242"/>
                  </a:lnTo>
                  <a:lnTo>
                    <a:pt x="384" y="252"/>
                  </a:lnTo>
                  <a:lnTo>
                    <a:pt x="433" y="254"/>
                  </a:lnTo>
                  <a:lnTo>
                    <a:pt x="453" y="250"/>
                  </a:lnTo>
                  <a:lnTo>
                    <a:pt x="474" y="293"/>
                  </a:lnTo>
                  <a:lnTo>
                    <a:pt x="509" y="305"/>
                  </a:lnTo>
                  <a:lnTo>
                    <a:pt x="526" y="321"/>
                  </a:lnTo>
                  <a:lnTo>
                    <a:pt x="530" y="334"/>
                  </a:lnTo>
                  <a:lnTo>
                    <a:pt x="533" y="351"/>
                  </a:lnTo>
                  <a:lnTo>
                    <a:pt x="538" y="369"/>
                  </a:lnTo>
                  <a:lnTo>
                    <a:pt x="543" y="385"/>
                  </a:lnTo>
                  <a:lnTo>
                    <a:pt x="551" y="395"/>
                  </a:lnTo>
                  <a:lnTo>
                    <a:pt x="557" y="395"/>
                  </a:lnTo>
                  <a:lnTo>
                    <a:pt x="558" y="391"/>
                  </a:lnTo>
                  <a:lnTo>
                    <a:pt x="561" y="378"/>
                  </a:lnTo>
                  <a:lnTo>
                    <a:pt x="558" y="366"/>
                  </a:lnTo>
                  <a:lnTo>
                    <a:pt x="557" y="351"/>
                  </a:lnTo>
                  <a:lnTo>
                    <a:pt x="561" y="349"/>
                  </a:lnTo>
                  <a:lnTo>
                    <a:pt x="565" y="351"/>
                  </a:lnTo>
                  <a:lnTo>
                    <a:pt x="574" y="369"/>
                  </a:lnTo>
                  <a:lnTo>
                    <a:pt x="572" y="351"/>
                  </a:lnTo>
                  <a:lnTo>
                    <a:pt x="566" y="337"/>
                  </a:lnTo>
                  <a:lnTo>
                    <a:pt x="534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724800" y="5629320"/>
              <a:ext cx="51120" cy="63720"/>
            </a:xfrm>
            <a:custGeom>
              <a:avLst/>
              <a:gdLst/>
              <a:ahLst/>
              <a:rect l="0" t="0" r="r" b="b"/>
              <a:pathLst>
                <a:path w="142" h="177">
                  <a:moveTo>
                    <a:pt x="0" y="18"/>
                  </a:moveTo>
                  <a:lnTo>
                    <a:pt x="43" y="45"/>
                  </a:lnTo>
                  <a:lnTo>
                    <a:pt x="79" y="45"/>
                  </a:lnTo>
                  <a:lnTo>
                    <a:pt x="56" y="0"/>
                  </a:lnTo>
                  <a:lnTo>
                    <a:pt x="103" y="65"/>
                  </a:lnTo>
                  <a:lnTo>
                    <a:pt x="124" y="136"/>
                  </a:lnTo>
                  <a:lnTo>
                    <a:pt x="135" y="107"/>
                  </a:lnTo>
                  <a:lnTo>
                    <a:pt x="135" y="51"/>
                  </a:lnTo>
                  <a:lnTo>
                    <a:pt x="142" y="107"/>
                  </a:lnTo>
                  <a:lnTo>
                    <a:pt x="132" y="177"/>
                  </a:lnTo>
                  <a:lnTo>
                    <a:pt x="103" y="101"/>
                  </a:lnTo>
                  <a:lnTo>
                    <a:pt x="84" y="82"/>
                  </a:lnTo>
                  <a:lnTo>
                    <a:pt x="81" y="67"/>
                  </a:lnTo>
                  <a:lnTo>
                    <a:pt x="53" y="51"/>
                  </a:lnTo>
                  <a:lnTo>
                    <a:pt x="38" y="5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670800" y="5637240"/>
              <a:ext cx="46440" cy="41760"/>
            </a:xfrm>
            <a:custGeom>
              <a:avLst/>
              <a:gdLst/>
              <a:ahLst/>
              <a:rect l="0" t="0" r="r" b="b"/>
              <a:pathLst>
                <a:path w="129" h="116">
                  <a:moveTo>
                    <a:pt x="0" y="0"/>
                  </a:moveTo>
                  <a:lnTo>
                    <a:pt x="85" y="94"/>
                  </a:lnTo>
                  <a:lnTo>
                    <a:pt x="129" y="116"/>
                  </a:lnTo>
                  <a:lnTo>
                    <a:pt x="107" y="116"/>
                  </a:lnTo>
                  <a:lnTo>
                    <a:pt x="65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672240" y="5656320"/>
              <a:ext cx="27360" cy="49680"/>
            </a:xfrm>
            <a:custGeom>
              <a:avLst/>
              <a:gdLst/>
              <a:ahLst/>
              <a:rect l="0" t="0" r="r" b="b"/>
              <a:pathLst>
                <a:path w="76" h="138">
                  <a:moveTo>
                    <a:pt x="56" y="62"/>
                  </a:moveTo>
                  <a:lnTo>
                    <a:pt x="0" y="0"/>
                  </a:lnTo>
                  <a:lnTo>
                    <a:pt x="2" y="25"/>
                  </a:lnTo>
                  <a:lnTo>
                    <a:pt x="25" y="94"/>
                  </a:lnTo>
                  <a:lnTo>
                    <a:pt x="76" y="138"/>
                  </a:lnTo>
                  <a:lnTo>
                    <a:pt x="26" y="84"/>
                  </a:lnTo>
                  <a:lnTo>
                    <a:pt x="18" y="62"/>
                  </a:lnTo>
                  <a:lnTo>
                    <a:pt x="18" y="46"/>
                  </a:lnTo>
                  <a:lnTo>
                    <a:pt x="35" y="46"/>
                  </a:lnTo>
                  <a:lnTo>
                    <a:pt x="5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640560" y="5638680"/>
              <a:ext cx="98640" cy="140040"/>
            </a:xfrm>
            <a:custGeom>
              <a:avLst/>
              <a:gdLst/>
              <a:ahLst/>
              <a:rect l="0" t="0" r="r" b="b"/>
              <a:pathLst>
                <a:path w="274" h="389">
                  <a:moveTo>
                    <a:pt x="62" y="13"/>
                  </a:moveTo>
                  <a:lnTo>
                    <a:pt x="102" y="139"/>
                  </a:lnTo>
                  <a:lnTo>
                    <a:pt x="190" y="256"/>
                  </a:lnTo>
                  <a:lnTo>
                    <a:pt x="95" y="145"/>
                  </a:lnTo>
                  <a:lnTo>
                    <a:pt x="95" y="163"/>
                  </a:lnTo>
                  <a:lnTo>
                    <a:pt x="138" y="238"/>
                  </a:lnTo>
                  <a:lnTo>
                    <a:pt x="105" y="197"/>
                  </a:lnTo>
                  <a:lnTo>
                    <a:pt x="115" y="247"/>
                  </a:lnTo>
                  <a:lnTo>
                    <a:pt x="142" y="265"/>
                  </a:lnTo>
                  <a:lnTo>
                    <a:pt x="175" y="267"/>
                  </a:lnTo>
                  <a:lnTo>
                    <a:pt x="208" y="264"/>
                  </a:lnTo>
                  <a:lnTo>
                    <a:pt x="228" y="256"/>
                  </a:lnTo>
                  <a:lnTo>
                    <a:pt x="242" y="245"/>
                  </a:lnTo>
                  <a:lnTo>
                    <a:pt x="253" y="231"/>
                  </a:lnTo>
                  <a:lnTo>
                    <a:pt x="257" y="279"/>
                  </a:lnTo>
                  <a:lnTo>
                    <a:pt x="259" y="318"/>
                  </a:lnTo>
                  <a:lnTo>
                    <a:pt x="265" y="340"/>
                  </a:lnTo>
                  <a:lnTo>
                    <a:pt x="274" y="350"/>
                  </a:lnTo>
                  <a:lnTo>
                    <a:pt x="262" y="342"/>
                  </a:lnTo>
                  <a:lnTo>
                    <a:pt x="255" y="330"/>
                  </a:lnTo>
                  <a:lnTo>
                    <a:pt x="226" y="334"/>
                  </a:lnTo>
                  <a:lnTo>
                    <a:pt x="202" y="334"/>
                  </a:lnTo>
                  <a:lnTo>
                    <a:pt x="187" y="332"/>
                  </a:lnTo>
                  <a:lnTo>
                    <a:pt x="202" y="344"/>
                  </a:lnTo>
                  <a:lnTo>
                    <a:pt x="223" y="353"/>
                  </a:lnTo>
                  <a:lnTo>
                    <a:pt x="259" y="356"/>
                  </a:lnTo>
                  <a:lnTo>
                    <a:pt x="243" y="366"/>
                  </a:lnTo>
                  <a:lnTo>
                    <a:pt x="223" y="369"/>
                  </a:lnTo>
                  <a:lnTo>
                    <a:pt x="196" y="369"/>
                  </a:lnTo>
                  <a:lnTo>
                    <a:pt x="172" y="360"/>
                  </a:lnTo>
                  <a:lnTo>
                    <a:pt x="153" y="354"/>
                  </a:lnTo>
                  <a:lnTo>
                    <a:pt x="146" y="354"/>
                  </a:lnTo>
                  <a:lnTo>
                    <a:pt x="136" y="364"/>
                  </a:lnTo>
                  <a:lnTo>
                    <a:pt x="106" y="389"/>
                  </a:lnTo>
                  <a:lnTo>
                    <a:pt x="97" y="360"/>
                  </a:lnTo>
                  <a:lnTo>
                    <a:pt x="84" y="353"/>
                  </a:lnTo>
                  <a:lnTo>
                    <a:pt x="33" y="272"/>
                  </a:lnTo>
                  <a:lnTo>
                    <a:pt x="11" y="175"/>
                  </a:lnTo>
                  <a:lnTo>
                    <a:pt x="12" y="123"/>
                  </a:lnTo>
                  <a:lnTo>
                    <a:pt x="0" y="62"/>
                  </a:lnTo>
                  <a:lnTo>
                    <a:pt x="1" y="46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9" y="46"/>
                  </a:lnTo>
                  <a:lnTo>
                    <a:pt x="7" y="58"/>
                  </a:lnTo>
                  <a:lnTo>
                    <a:pt x="11" y="82"/>
                  </a:lnTo>
                  <a:lnTo>
                    <a:pt x="21" y="110"/>
                  </a:lnTo>
                  <a:lnTo>
                    <a:pt x="33" y="70"/>
                  </a:lnTo>
                  <a:lnTo>
                    <a:pt x="50" y="58"/>
                  </a:lnTo>
                  <a:lnTo>
                    <a:pt x="35" y="42"/>
                  </a:lnTo>
                  <a:lnTo>
                    <a:pt x="40" y="22"/>
                  </a:lnTo>
                  <a:lnTo>
                    <a:pt x="50" y="5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6630840" y="5767560"/>
              <a:ext cx="106560" cy="62280"/>
            </a:xfrm>
            <a:custGeom>
              <a:avLst/>
              <a:gdLst/>
              <a:ahLst/>
              <a:rect l="0" t="0" r="r" b="b"/>
              <a:pathLst>
                <a:path w="296" h="173">
                  <a:moveTo>
                    <a:pt x="176" y="0"/>
                  </a:moveTo>
                  <a:lnTo>
                    <a:pt x="169" y="16"/>
                  </a:lnTo>
                  <a:lnTo>
                    <a:pt x="144" y="37"/>
                  </a:lnTo>
                  <a:lnTo>
                    <a:pt x="106" y="59"/>
                  </a:lnTo>
                  <a:lnTo>
                    <a:pt x="60" y="75"/>
                  </a:lnTo>
                  <a:lnTo>
                    <a:pt x="73" y="78"/>
                  </a:lnTo>
                  <a:lnTo>
                    <a:pt x="87" y="84"/>
                  </a:lnTo>
                  <a:lnTo>
                    <a:pt x="99" y="84"/>
                  </a:lnTo>
                  <a:lnTo>
                    <a:pt x="99" y="78"/>
                  </a:lnTo>
                  <a:lnTo>
                    <a:pt x="121" y="76"/>
                  </a:lnTo>
                  <a:lnTo>
                    <a:pt x="117" y="67"/>
                  </a:lnTo>
                  <a:lnTo>
                    <a:pt x="175" y="39"/>
                  </a:lnTo>
                  <a:lnTo>
                    <a:pt x="169" y="32"/>
                  </a:lnTo>
                  <a:lnTo>
                    <a:pt x="195" y="39"/>
                  </a:lnTo>
                  <a:lnTo>
                    <a:pt x="214" y="45"/>
                  </a:lnTo>
                  <a:lnTo>
                    <a:pt x="239" y="45"/>
                  </a:lnTo>
                  <a:lnTo>
                    <a:pt x="210" y="36"/>
                  </a:lnTo>
                  <a:lnTo>
                    <a:pt x="181" y="24"/>
                  </a:lnTo>
                  <a:lnTo>
                    <a:pt x="216" y="29"/>
                  </a:lnTo>
                  <a:lnTo>
                    <a:pt x="243" y="32"/>
                  </a:lnTo>
                  <a:lnTo>
                    <a:pt x="264" y="29"/>
                  </a:lnTo>
                  <a:lnTo>
                    <a:pt x="283" y="26"/>
                  </a:lnTo>
                  <a:lnTo>
                    <a:pt x="296" y="18"/>
                  </a:lnTo>
                  <a:lnTo>
                    <a:pt x="292" y="27"/>
                  </a:lnTo>
                  <a:lnTo>
                    <a:pt x="281" y="39"/>
                  </a:lnTo>
                  <a:lnTo>
                    <a:pt x="266" y="47"/>
                  </a:lnTo>
                  <a:lnTo>
                    <a:pt x="252" y="55"/>
                  </a:lnTo>
                  <a:lnTo>
                    <a:pt x="240" y="67"/>
                  </a:lnTo>
                  <a:lnTo>
                    <a:pt x="238" y="76"/>
                  </a:lnTo>
                  <a:lnTo>
                    <a:pt x="238" y="91"/>
                  </a:lnTo>
                  <a:lnTo>
                    <a:pt x="208" y="91"/>
                  </a:lnTo>
                  <a:lnTo>
                    <a:pt x="191" y="84"/>
                  </a:lnTo>
                  <a:lnTo>
                    <a:pt x="167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23" y="105"/>
                  </a:lnTo>
                  <a:lnTo>
                    <a:pt x="99" y="112"/>
                  </a:lnTo>
                  <a:lnTo>
                    <a:pt x="91" y="114"/>
                  </a:lnTo>
                  <a:lnTo>
                    <a:pt x="86" y="121"/>
                  </a:lnTo>
                  <a:lnTo>
                    <a:pt x="84" y="129"/>
                  </a:lnTo>
                  <a:lnTo>
                    <a:pt x="84" y="140"/>
                  </a:lnTo>
                  <a:lnTo>
                    <a:pt x="84" y="173"/>
                  </a:lnTo>
                  <a:lnTo>
                    <a:pt x="64" y="173"/>
                  </a:lnTo>
                  <a:lnTo>
                    <a:pt x="42" y="168"/>
                  </a:lnTo>
                  <a:lnTo>
                    <a:pt x="24" y="158"/>
                  </a:lnTo>
                  <a:lnTo>
                    <a:pt x="9" y="141"/>
                  </a:lnTo>
                  <a:lnTo>
                    <a:pt x="0" y="127"/>
                  </a:lnTo>
                  <a:lnTo>
                    <a:pt x="4" y="103"/>
                  </a:lnTo>
                  <a:lnTo>
                    <a:pt x="12" y="89"/>
                  </a:lnTo>
                  <a:lnTo>
                    <a:pt x="26" y="75"/>
                  </a:lnTo>
                  <a:lnTo>
                    <a:pt x="45" y="67"/>
                  </a:lnTo>
                  <a:lnTo>
                    <a:pt x="71" y="61"/>
                  </a:lnTo>
                  <a:lnTo>
                    <a:pt x="97" y="53"/>
                  </a:lnTo>
                  <a:lnTo>
                    <a:pt x="120" y="39"/>
                  </a:lnTo>
                  <a:lnTo>
                    <a:pt x="138" y="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657840" y="5767560"/>
              <a:ext cx="89280" cy="62280"/>
            </a:xfrm>
            <a:custGeom>
              <a:avLst/>
              <a:gdLst/>
              <a:ahLst/>
              <a:rect l="0" t="0" r="r" b="b"/>
              <a:pathLst>
                <a:path w="248" h="173">
                  <a:moveTo>
                    <a:pt x="230" y="0"/>
                  </a:moveTo>
                  <a:lnTo>
                    <a:pt x="236" y="14"/>
                  </a:lnTo>
                  <a:lnTo>
                    <a:pt x="242" y="51"/>
                  </a:lnTo>
                  <a:lnTo>
                    <a:pt x="248" y="96"/>
                  </a:lnTo>
                  <a:lnTo>
                    <a:pt x="227" y="122"/>
                  </a:lnTo>
                  <a:lnTo>
                    <a:pt x="203" y="144"/>
                  </a:lnTo>
                  <a:lnTo>
                    <a:pt x="170" y="151"/>
                  </a:lnTo>
                  <a:lnTo>
                    <a:pt x="161" y="135"/>
                  </a:lnTo>
                  <a:lnTo>
                    <a:pt x="171" y="145"/>
                  </a:lnTo>
                  <a:lnTo>
                    <a:pt x="171" y="120"/>
                  </a:lnTo>
                  <a:lnTo>
                    <a:pt x="142" y="139"/>
                  </a:lnTo>
                  <a:lnTo>
                    <a:pt x="98" y="158"/>
                  </a:lnTo>
                  <a:lnTo>
                    <a:pt x="51" y="170"/>
                  </a:lnTo>
                  <a:lnTo>
                    <a:pt x="24" y="173"/>
                  </a:lnTo>
                  <a:lnTo>
                    <a:pt x="6" y="173"/>
                  </a:lnTo>
                  <a:lnTo>
                    <a:pt x="0" y="137"/>
                  </a:lnTo>
                  <a:lnTo>
                    <a:pt x="4" y="133"/>
                  </a:lnTo>
                  <a:lnTo>
                    <a:pt x="15" y="137"/>
                  </a:lnTo>
                  <a:lnTo>
                    <a:pt x="31" y="137"/>
                  </a:lnTo>
                  <a:lnTo>
                    <a:pt x="57" y="133"/>
                  </a:lnTo>
                  <a:lnTo>
                    <a:pt x="85" y="125"/>
                  </a:lnTo>
                  <a:lnTo>
                    <a:pt x="114" y="112"/>
                  </a:lnTo>
                  <a:lnTo>
                    <a:pt x="138" y="98"/>
                  </a:lnTo>
                  <a:lnTo>
                    <a:pt x="152" y="90"/>
                  </a:lnTo>
                  <a:lnTo>
                    <a:pt x="175" y="86"/>
                  </a:lnTo>
                  <a:lnTo>
                    <a:pt x="197" y="75"/>
                  </a:lnTo>
                  <a:lnTo>
                    <a:pt x="205" y="67"/>
                  </a:lnTo>
                  <a:lnTo>
                    <a:pt x="209" y="53"/>
                  </a:lnTo>
                  <a:lnTo>
                    <a:pt x="219" y="42"/>
                  </a:lnTo>
                  <a:lnTo>
                    <a:pt x="228" y="32"/>
                  </a:lnTo>
                  <a:lnTo>
                    <a:pt x="232" y="24"/>
                  </a:lnTo>
                  <a:lnTo>
                    <a:pt x="233" y="14"/>
                  </a:lnTo>
                  <a:lnTo>
                    <a:pt x="232" y="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V="1">
              <a:off x="6421320" y="5556240"/>
              <a:ext cx="3240" cy="114480"/>
            </a:xfrm>
            <a:prstGeom prst="line">
              <a:avLst/>
            </a:prstGeom>
            <a:ln w="152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423120" y="5616720"/>
              <a:ext cx="89280" cy="68760"/>
            </a:xfrm>
            <a:custGeom>
              <a:avLst/>
              <a:gdLst/>
              <a:ahLst/>
              <a:rect l="0" t="0" r="r" b="b"/>
              <a:pathLst>
                <a:path w="248" h="191">
                  <a:moveTo>
                    <a:pt x="4" y="0"/>
                  </a:moveTo>
                  <a:lnTo>
                    <a:pt x="244" y="93"/>
                  </a:lnTo>
                  <a:lnTo>
                    <a:pt x="248" y="191"/>
                  </a:lnTo>
                  <a:lnTo>
                    <a:pt x="0" y="16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345360" y="5611680"/>
              <a:ext cx="79560" cy="120960"/>
            </a:xfrm>
            <a:custGeom>
              <a:avLst/>
              <a:gdLst/>
              <a:ahLst/>
              <a:rect l="0" t="0" r="r" b="b"/>
              <a:pathLst>
                <a:path w="221" h="336">
                  <a:moveTo>
                    <a:pt x="221" y="0"/>
                  </a:moveTo>
                  <a:lnTo>
                    <a:pt x="0" y="245"/>
                  </a:lnTo>
                  <a:lnTo>
                    <a:pt x="0" y="336"/>
                  </a:lnTo>
                  <a:lnTo>
                    <a:pt x="217" y="16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356520" y="5599080"/>
              <a:ext cx="68760" cy="73440"/>
            </a:xfrm>
            <a:custGeom>
              <a:avLst/>
              <a:gdLst/>
              <a:ahLst/>
              <a:rect l="0" t="0" r="r" b="b"/>
              <a:pathLst>
                <a:path fill="none" w="191" h="204">
                  <a:moveTo>
                    <a:pt x="191" y="42"/>
                  </a:moveTo>
                  <a:lnTo>
                    <a:pt x="7" y="0"/>
                  </a:lnTo>
                  <a:lnTo>
                    <a:pt x="0" y="77"/>
                  </a:lnTo>
                  <a:lnTo>
                    <a:pt x="179" y="20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6437160" y="5635800"/>
              <a:ext cx="12600" cy="28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6462720" y="5646600"/>
              <a:ext cx="12600" cy="2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486480" y="5653080"/>
              <a:ext cx="12600" cy="1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392880" y="5621400"/>
              <a:ext cx="1440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380280" y="5613480"/>
              <a:ext cx="9360" cy="1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364440" y="5605560"/>
              <a:ext cx="792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392880" y="5648400"/>
              <a:ext cx="14400" cy="3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370560" y="5672160"/>
              <a:ext cx="12600" cy="25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353280" y="5692680"/>
              <a:ext cx="11160" cy="2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6380280" y="542916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63"/>
                  </a:moveTo>
                  <a:lnTo>
                    <a:pt x="171" y="173"/>
                  </a:lnTo>
                  <a:lnTo>
                    <a:pt x="274" y="120"/>
                  </a:lnTo>
                  <a:lnTo>
                    <a:pt x="94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369120" y="5454720"/>
              <a:ext cx="71640" cy="124200"/>
            </a:xfrm>
            <a:custGeom>
              <a:avLst/>
              <a:gdLst/>
              <a:ahLst/>
              <a:rect l="0" t="0" r="r" b="b"/>
              <a:pathLst>
                <a:path w="199" h="345">
                  <a:moveTo>
                    <a:pt x="199" y="110"/>
                  </a:moveTo>
                  <a:lnTo>
                    <a:pt x="171" y="345"/>
                  </a:lnTo>
                  <a:lnTo>
                    <a:pt x="0" y="226"/>
                  </a:lnTo>
                  <a:lnTo>
                    <a:pt x="32" y="0"/>
                  </a:lnTo>
                  <a:lnTo>
                    <a:pt x="199" y="110"/>
                  </a:lnTo>
                  <a:close/>
                </a:path>
              </a:pathLst>
            </a:custGeom>
            <a:solidFill>
              <a:srgbClr val="c0fef9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6432480" y="5479920"/>
              <a:ext cx="44640" cy="100440"/>
            </a:xfrm>
            <a:custGeom>
              <a:avLst/>
              <a:gdLst/>
              <a:ahLst/>
              <a:rect l="0" t="0" r="r" b="b"/>
              <a:pathLst>
                <a:path w="124" h="279">
                  <a:moveTo>
                    <a:pt x="124" y="0"/>
                  </a:moveTo>
                  <a:lnTo>
                    <a:pt x="95" y="237"/>
                  </a:lnTo>
                  <a:lnTo>
                    <a:pt x="0" y="279"/>
                  </a:lnTo>
                  <a:lnTo>
                    <a:pt x="32" y="4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451560" y="5572080"/>
              <a:ext cx="136800" cy="46440"/>
            </a:xfrm>
            <a:custGeom>
              <a:avLst/>
              <a:gdLst/>
              <a:ahLst/>
              <a:rect l="0" t="0" r="r" b="b"/>
              <a:pathLst>
                <a:path fill="none" w="380" h="129">
                  <a:moveTo>
                    <a:pt x="380" y="116"/>
                  </a:moveTo>
                  <a:lnTo>
                    <a:pt x="380" y="109"/>
                  </a:lnTo>
                  <a:lnTo>
                    <a:pt x="361" y="98"/>
                  </a:lnTo>
                  <a:lnTo>
                    <a:pt x="352" y="92"/>
                  </a:lnTo>
                  <a:lnTo>
                    <a:pt x="345" y="84"/>
                  </a:lnTo>
                  <a:lnTo>
                    <a:pt x="335" y="76"/>
                  </a:lnTo>
                  <a:lnTo>
                    <a:pt x="327" y="71"/>
                  </a:lnTo>
                  <a:lnTo>
                    <a:pt x="317" y="63"/>
                  </a:lnTo>
                  <a:lnTo>
                    <a:pt x="304" y="60"/>
                  </a:lnTo>
                  <a:lnTo>
                    <a:pt x="294" y="58"/>
                  </a:lnTo>
                  <a:lnTo>
                    <a:pt x="287" y="55"/>
                  </a:lnTo>
                  <a:lnTo>
                    <a:pt x="278" y="58"/>
                  </a:lnTo>
                  <a:lnTo>
                    <a:pt x="271" y="63"/>
                  </a:lnTo>
                  <a:lnTo>
                    <a:pt x="264" y="66"/>
                  </a:lnTo>
                  <a:lnTo>
                    <a:pt x="259" y="74"/>
                  </a:lnTo>
                  <a:lnTo>
                    <a:pt x="253" y="82"/>
                  </a:lnTo>
                  <a:lnTo>
                    <a:pt x="246" y="87"/>
                  </a:lnTo>
                  <a:lnTo>
                    <a:pt x="241" y="95"/>
                  </a:lnTo>
                  <a:lnTo>
                    <a:pt x="232" y="103"/>
                  </a:lnTo>
                  <a:lnTo>
                    <a:pt x="225" y="114"/>
                  </a:lnTo>
                  <a:lnTo>
                    <a:pt x="218" y="119"/>
                  </a:lnTo>
                  <a:lnTo>
                    <a:pt x="208" y="124"/>
                  </a:lnTo>
                  <a:lnTo>
                    <a:pt x="200" y="129"/>
                  </a:lnTo>
                  <a:lnTo>
                    <a:pt x="179" y="129"/>
                  </a:lnTo>
                  <a:lnTo>
                    <a:pt x="161" y="129"/>
                  </a:lnTo>
                  <a:lnTo>
                    <a:pt x="153" y="129"/>
                  </a:lnTo>
                  <a:lnTo>
                    <a:pt x="143" y="129"/>
                  </a:lnTo>
                  <a:lnTo>
                    <a:pt x="133" y="129"/>
                  </a:lnTo>
                  <a:lnTo>
                    <a:pt x="125" y="129"/>
                  </a:lnTo>
                  <a:lnTo>
                    <a:pt x="118" y="129"/>
                  </a:lnTo>
                  <a:lnTo>
                    <a:pt x="110" y="124"/>
                  </a:lnTo>
                  <a:lnTo>
                    <a:pt x="102" y="122"/>
                  </a:lnTo>
                  <a:lnTo>
                    <a:pt x="92" y="116"/>
                  </a:lnTo>
                  <a:lnTo>
                    <a:pt x="83" y="98"/>
                  </a:lnTo>
                  <a:lnTo>
                    <a:pt x="74" y="87"/>
                  </a:lnTo>
                  <a:lnTo>
                    <a:pt x="60" y="82"/>
                  </a:lnTo>
                  <a:lnTo>
                    <a:pt x="44" y="74"/>
                  </a:lnTo>
                  <a:lnTo>
                    <a:pt x="34" y="63"/>
                  </a:lnTo>
                  <a:lnTo>
                    <a:pt x="27" y="53"/>
                  </a:lnTo>
                  <a:lnTo>
                    <a:pt x="21" y="47"/>
                  </a:lnTo>
                  <a:lnTo>
                    <a:pt x="16" y="40"/>
                  </a:lnTo>
                  <a:lnTo>
                    <a:pt x="9" y="31"/>
                  </a:lnTo>
                  <a:lnTo>
                    <a:pt x="6" y="15"/>
                  </a:lnTo>
                  <a:lnTo>
                    <a:pt x="2" y="7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446880" y="5573880"/>
              <a:ext cx="136800" cy="47880"/>
            </a:xfrm>
            <a:custGeom>
              <a:avLst/>
              <a:gdLst/>
              <a:ahLst/>
              <a:rect l="0" t="0" r="r" b="b"/>
              <a:pathLst>
                <a:path fill="none" w="380" h="133">
                  <a:moveTo>
                    <a:pt x="380" y="119"/>
                  </a:moveTo>
                  <a:lnTo>
                    <a:pt x="380" y="111"/>
                  </a:lnTo>
                  <a:lnTo>
                    <a:pt x="361" y="100"/>
                  </a:lnTo>
                  <a:lnTo>
                    <a:pt x="352" y="95"/>
                  </a:lnTo>
                  <a:lnTo>
                    <a:pt x="345" y="87"/>
                  </a:lnTo>
                  <a:lnTo>
                    <a:pt x="335" y="79"/>
                  </a:lnTo>
                  <a:lnTo>
                    <a:pt x="327" y="73"/>
                  </a:lnTo>
                  <a:lnTo>
                    <a:pt x="317" y="65"/>
                  </a:lnTo>
                  <a:lnTo>
                    <a:pt x="304" y="61"/>
                  </a:lnTo>
                  <a:lnTo>
                    <a:pt x="294" y="59"/>
                  </a:lnTo>
                  <a:lnTo>
                    <a:pt x="287" y="56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64" y="68"/>
                  </a:lnTo>
                  <a:lnTo>
                    <a:pt x="259" y="77"/>
                  </a:lnTo>
                  <a:lnTo>
                    <a:pt x="253" y="85"/>
                  </a:lnTo>
                  <a:lnTo>
                    <a:pt x="246" y="90"/>
                  </a:lnTo>
                  <a:lnTo>
                    <a:pt x="241" y="98"/>
                  </a:lnTo>
                  <a:lnTo>
                    <a:pt x="232" y="106"/>
                  </a:lnTo>
                  <a:lnTo>
                    <a:pt x="225" y="117"/>
                  </a:lnTo>
                  <a:lnTo>
                    <a:pt x="218" y="122"/>
                  </a:lnTo>
                  <a:lnTo>
                    <a:pt x="208" y="127"/>
                  </a:lnTo>
                  <a:lnTo>
                    <a:pt x="200" y="133"/>
                  </a:lnTo>
                  <a:lnTo>
                    <a:pt x="179" y="133"/>
                  </a:lnTo>
                  <a:lnTo>
                    <a:pt x="161" y="133"/>
                  </a:lnTo>
                  <a:lnTo>
                    <a:pt x="153" y="133"/>
                  </a:lnTo>
                  <a:lnTo>
                    <a:pt x="143" y="133"/>
                  </a:lnTo>
                  <a:lnTo>
                    <a:pt x="133" y="133"/>
                  </a:lnTo>
                  <a:lnTo>
                    <a:pt x="125" y="133"/>
                  </a:lnTo>
                  <a:lnTo>
                    <a:pt x="118" y="133"/>
                  </a:lnTo>
                  <a:lnTo>
                    <a:pt x="110" y="127"/>
                  </a:lnTo>
                  <a:lnTo>
                    <a:pt x="102" y="125"/>
                  </a:lnTo>
                  <a:lnTo>
                    <a:pt x="92" y="119"/>
                  </a:lnTo>
                  <a:lnTo>
                    <a:pt x="83" y="100"/>
                  </a:lnTo>
                  <a:lnTo>
                    <a:pt x="74" y="90"/>
                  </a:lnTo>
                  <a:lnTo>
                    <a:pt x="60" y="85"/>
                  </a:lnTo>
                  <a:lnTo>
                    <a:pt x="44" y="77"/>
                  </a:lnTo>
                  <a:lnTo>
                    <a:pt x="34" y="65"/>
                  </a:lnTo>
                  <a:lnTo>
                    <a:pt x="27" y="53"/>
                  </a:lnTo>
                  <a:lnTo>
                    <a:pt x="21" y="48"/>
                  </a:lnTo>
                  <a:lnTo>
                    <a:pt x="16" y="40"/>
                  </a:lnTo>
                  <a:lnTo>
                    <a:pt x="9" y="32"/>
                  </a:lnTo>
                  <a:lnTo>
                    <a:pt x="6" y="15"/>
                  </a:lnTo>
                  <a:lnTo>
                    <a:pt x="2" y="7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919191"/>
              </a:solidFill>
              <a:round/>
            </a:ln>
          </p:spPr>
          <p:txBody>
            <a:bodyPr lIns="102600" rIns="1026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7" name=""/>
          <p:cNvGrpSpPr/>
          <p:nvPr/>
        </p:nvGrpSpPr>
        <p:grpSpPr>
          <a:xfrm>
            <a:off x="4819680" y="3611520"/>
            <a:ext cx="592200" cy="422280"/>
            <a:chOff x="4819680" y="3611520"/>
            <a:chExt cx="592200" cy="422280"/>
          </a:xfrm>
        </p:grpSpPr>
        <p:pic>
          <p:nvPicPr>
            <p:cNvPr id="5438" name="" descr=""/>
            <p:cNvPicPr/>
            <p:nvPr/>
          </p:nvPicPr>
          <p:blipFill>
            <a:blip r:embed="rId19"/>
            <a:stretch/>
          </p:blipFill>
          <p:spPr>
            <a:xfrm>
              <a:off x="5043600" y="3611520"/>
              <a:ext cx="339840" cy="1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9" name="" descr=""/>
            <p:cNvPicPr/>
            <p:nvPr/>
          </p:nvPicPr>
          <p:blipFill>
            <a:blip r:embed="rId20"/>
            <a:stretch/>
          </p:blipFill>
          <p:spPr>
            <a:xfrm>
              <a:off x="4819680" y="3808440"/>
              <a:ext cx="33804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0" name="" descr=""/>
            <p:cNvPicPr/>
            <p:nvPr/>
          </p:nvPicPr>
          <p:blipFill>
            <a:blip r:embed="rId21"/>
            <a:stretch/>
          </p:blipFill>
          <p:spPr>
            <a:xfrm>
              <a:off x="5072040" y="3836880"/>
              <a:ext cx="339840" cy="1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1" name=""/>
          <p:cNvSpPr txBox="1"/>
          <p:nvPr/>
        </p:nvSpPr>
        <p:spPr>
          <a:xfrm>
            <a:off x="555480" y="1706400"/>
            <a:ext cx="1065240" cy="396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  <a:tailEnd len="med" type="triangle" w="med"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"/>
          <p:cNvSpPr txBox="1"/>
          <p:nvPr/>
        </p:nvSpPr>
        <p:spPr>
          <a:xfrm>
            <a:off x="5956200" y="1687680"/>
            <a:ext cx="1654200" cy="396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  <a:tailEnd len="med" type="triangle" w="med"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-THEA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3" name=""/>
          <p:cNvGrpSpPr/>
          <p:nvPr/>
        </p:nvGrpSpPr>
        <p:grpSpPr>
          <a:xfrm>
            <a:off x="5781600" y="2798640"/>
            <a:ext cx="603720" cy="748080"/>
            <a:chOff x="5781600" y="2798640"/>
            <a:chExt cx="603720" cy="748080"/>
          </a:xfrm>
        </p:grpSpPr>
        <p:sp>
          <p:nvSpPr>
            <p:cNvPr id="5444" name=""/>
            <p:cNvSpPr/>
            <p:nvPr/>
          </p:nvSpPr>
          <p:spPr>
            <a:xfrm>
              <a:off x="6031080" y="3127320"/>
              <a:ext cx="30600" cy="63720"/>
            </a:xfrm>
            <a:custGeom>
              <a:avLst/>
              <a:gdLst/>
              <a:ahLst/>
              <a:rect l="0" t="0" r="r" b="b"/>
              <a:pathLst>
                <a:path w="85" h="177">
                  <a:moveTo>
                    <a:pt x="68" y="0"/>
                  </a:moveTo>
                  <a:lnTo>
                    <a:pt x="85" y="177"/>
                  </a:lnTo>
                  <a:lnTo>
                    <a:pt x="0" y="128"/>
                  </a:lnTo>
                  <a:lnTo>
                    <a:pt x="1" y="1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238800" y="3000240"/>
              <a:ext cx="44640" cy="74880"/>
            </a:xfrm>
            <a:custGeom>
              <a:avLst/>
              <a:gdLst/>
              <a:ahLst/>
              <a:rect l="0" t="0" r="r" b="b"/>
              <a:pathLst>
                <a:path w="124" h="208">
                  <a:moveTo>
                    <a:pt x="31" y="0"/>
                  </a:moveTo>
                  <a:lnTo>
                    <a:pt x="124" y="160"/>
                  </a:lnTo>
                  <a:lnTo>
                    <a:pt x="106" y="208"/>
                  </a:lnTo>
                  <a:lnTo>
                    <a:pt x="0" y="4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6138720" y="2855880"/>
              <a:ext cx="205200" cy="533880"/>
            </a:xfrm>
            <a:custGeom>
              <a:avLst/>
              <a:gdLst/>
              <a:ahLst/>
              <a:rect l="0" t="0" r="r" b="b"/>
              <a:pathLst>
                <a:path w="570" h="1483">
                  <a:moveTo>
                    <a:pt x="378" y="0"/>
                  </a:moveTo>
                  <a:lnTo>
                    <a:pt x="570" y="156"/>
                  </a:lnTo>
                  <a:lnTo>
                    <a:pt x="40" y="1483"/>
                  </a:lnTo>
                  <a:lnTo>
                    <a:pt x="0" y="1470"/>
                  </a:lnTo>
                  <a:lnTo>
                    <a:pt x="481" y="264"/>
                  </a:lnTo>
                  <a:lnTo>
                    <a:pt x="324" y="133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7" name=""/>
            <p:cNvGrpSpPr/>
            <p:nvPr/>
          </p:nvGrpSpPr>
          <p:grpSpPr>
            <a:xfrm>
              <a:off x="6146640" y="3238560"/>
              <a:ext cx="20880" cy="98640"/>
              <a:chOff x="6146640" y="3238560"/>
              <a:chExt cx="20880" cy="98640"/>
            </a:xfrm>
          </p:grpSpPr>
          <p:sp>
            <p:nvSpPr>
              <p:cNvPr id="5448" name=""/>
              <p:cNvSpPr/>
              <p:nvPr/>
            </p:nvSpPr>
            <p:spPr>
              <a:xfrm>
                <a:off x="6146640" y="3238560"/>
                <a:ext cx="20880" cy="98640"/>
              </a:xfrm>
              <a:custGeom>
                <a:avLst/>
                <a:gdLst/>
                <a:ahLst/>
                <a:rect l="0" t="0" r="r" b="b"/>
                <a:pathLst>
                  <a:path w="58" h="274">
                    <a:moveTo>
                      <a:pt x="0" y="0"/>
                    </a:moveTo>
                    <a:lnTo>
                      <a:pt x="0" y="274"/>
                    </a:lnTo>
                    <a:lnTo>
                      <a:pt x="58" y="274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6157800" y="3238560"/>
                <a:ext cx="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0" name=""/>
            <p:cNvSpPr/>
            <p:nvPr/>
          </p:nvSpPr>
          <p:spPr>
            <a:xfrm>
              <a:off x="6189840" y="3178080"/>
              <a:ext cx="71640" cy="155880"/>
            </a:xfrm>
            <a:custGeom>
              <a:avLst/>
              <a:gdLst/>
              <a:ahLst/>
              <a:rect l="0" t="0" r="r" b="b"/>
              <a:pathLst>
                <a:path w="199" h="433">
                  <a:moveTo>
                    <a:pt x="199" y="0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199" y="43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019920" y="3344760"/>
              <a:ext cx="135360" cy="9720"/>
            </a:xfrm>
            <a:custGeom>
              <a:avLst/>
              <a:gdLst/>
              <a:ahLst/>
              <a:rect l="0" t="0" r="r" b="b"/>
              <a:pathLst>
                <a:path w="376" h="27">
                  <a:moveTo>
                    <a:pt x="376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371" y="27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5781600" y="3333600"/>
              <a:ext cx="495720" cy="116280"/>
            </a:xfrm>
            <a:custGeom>
              <a:avLst/>
              <a:gdLst/>
              <a:ahLst/>
              <a:rect l="0" t="0" r="r" b="b"/>
              <a:pathLst>
                <a:path w="1377" h="323">
                  <a:moveTo>
                    <a:pt x="1377" y="323"/>
                  </a:moveTo>
                  <a:lnTo>
                    <a:pt x="1377" y="0"/>
                  </a:lnTo>
                  <a:lnTo>
                    <a:pt x="1077" y="0"/>
                  </a:lnTo>
                  <a:lnTo>
                    <a:pt x="1016" y="53"/>
                  </a:lnTo>
                  <a:lnTo>
                    <a:pt x="837" y="53"/>
                  </a:lnTo>
                  <a:lnTo>
                    <a:pt x="779" y="109"/>
                  </a:lnTo>
                  <a:lnTo>
                    <a:pt x="179" y="109"/>
                  </a:lnTo>
                  <a:lnTo>
                    <a:pt x="179" y="215"/>
                  </a:lnTo>
                  <a:lnTo>
                    <a:pt x="0" y="215"/>
                  </a:lnTo>
                  <a:lnTo>
                    <a:pt x="0" y="323"/>
                  </a:lnTo>
                  <a:lnTo>
                    <a:pt x="1377" y="32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5910120" y="3409920"/>
              <a:ext cx="367200" cy="39960"/>
            </a:xfrm>
            <a:custGeom>
              <a:avLst/>
              <a:gdLst/>
              <a:ahLst/>
              <a:rect l="0" t="0" r="r" b="b"/>
              <a:pathLst>
                <a:path w="1020" h="111">
                  <a:moveTo>
                    <a:pt x="1020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1020" y="0"/>
                  </a:lnTo>
                  <a:lnTo>
                    <a:pt x="1020" y="111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94600" y="317016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73720" y="3238560"/>
              <a:ext cx="32040" cy="33840"/>
            </a:xfrm>
            <a:custGeom>
              <a:avLst/>
              <a:gdLst/>
              <a:ahLst/>
              <a:rect l="0" t="0" r="r" b="b"/>
              <a:pathLst>
                <a:path w="89" h="94">
                  <a:moveTo>
                    <a:pt x="89" y="94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9" y="34"/>
                  </a:lnTo>
                  <a:lnTo>
                    <a:pt x="59" y="94"/>
                  </a:lnTo>
                  <a:lnTo>
                    <a:pt x="89" y="94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014880" y="3213000"/>
              <a:ext cx="111600" cy="141480"/>
            </a:xfrm>
            <a:custGeom>
              <a:avLst/>
              <a:gdLst/>
              <a:ahLst/>
              <a:rect l="0" t="0" r="r" b="b"/>
              <a:pathLst>
                <a:path w="310" h="393">
                  <a:moveTo>
                    <a:pt x="310" y="0"/>
                  </a:moveTo>
                  <a:lnTo>
                    <a:pt x="0" y="393"/>
                  </a:lnTo>
                  <a:lnTo>
                    <a:pt x="45" y="385"/>
                  </a:lnTo>
                  <a:lnTo>
                    <a:pt x="310" y="53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276960" y="3294000"/>
              <a:ext cx="86040" cy="155880"/>
            </a:xfrm>
            <a:custGeom>
              <a:avLst/>
              <a:gdLst/>
              <a:ahLst/>
              <a:rect l="0" t="0" r="r" b="b"/>
              <a:pathLst>
                <a:path w="239" h="433">
                  <a:moveTo>
                    <a:pt x="59" y="0"/>
                  </a:moveTo>
                  <a:lnTo>
                    <a:pt x="239" y="161"/>
                  </a:lnTo>
                  <a:lnTo>
                    <a:pt x="239" y="433"/>
                  </a:lnTo>
                  <a:lnTo>
                    <a:pt x="0" y="433"/>
                  </a:lnTo>
                  <a:lnTo>
                    <a:pt x="0" y="10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5783400" y="3522600"/>
              <a:ext cx="601920" cy="24120"/>
            </a:xfrm>
            <a:custGeom>
              <a:avLst/>
              <a:gdLst/>
              <a:ahLst/>
              <a:rect l="0" t="0" r="r" b="b"/>
              <a:pathLst>
                <a:path w="1672" h="67">
                  <a:moveTo>
                    <a:pt x="1672" y="67"/>
                  </a:moveTo>
                  <a:lnTo>
                    <a:pt x="0" y="67"/>
                  </a:lnTo>
                  <a:lnTo>
                    <a:pt x="0" y="0"/>
                  </a:lnTo>
                  <a:lnTo>
                    <a:pt x="1672" y="0"/>
                  </a:lnTo>
                  <a:lnTo>
                    <a:pt x="1672" y="67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5783400" y="3489480"/>
              <a:ext cx="601920" cy="33840"/>
            </a:xfrm>
            <a:custGeom>
              <a:avLst/>
              <a:gdLst/>
              <a:ahLst/>
              <a:rect l="0" t="0" r="r" b="b"/>
              <a:pathLst>
                <a:path w="1672" h="94">
                  <a:moveTo>
                    <a:pt x="1672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672" y="0"/>
                  </a:lnTo>
                  <a:lnTo>
                    <a:pt x="1672" y="94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5783400" y="3449520"/>
              <a:ext cx="601920" cy="39960"/>
            </a:xfrm>
            <a:custGeom>
              <a:avLst/>
              <a:gdLst/>
              <a:ahLst/>
              <a:rect l="0" t="0" r="r" b="b"/>
              <a:pathLst>
                <a:path w="1672" h="111">
                  <a:moveTo>
                    <a:pt x="1672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1672" y="0"/>
                  </a:lnTo>
                  <a:lnTo>
                    <a:pt x="1672" y="111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5799240" y="3419640"/>
              <a:ext cx="63720" cy="20880"/>
            </a:xfrm>
            <a:custGeom>
              <a:avLst/>
              <a:gdLst/>
              <a:ahLst/>
              <a:rect l="0" t="0" r="r" b="b"/>
              <a:pathLst>
                <a:path w="177" h="58">
                  <a:moveTo>
                    <a:pt x="177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77" y="5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78400" y="3273480"/>
              <a:ext cx="42840" cy="36360"/>
            </a:xfrm>
            <a:prstGeom prst="ellipse">
              <a:avLst/>
            </a:prstGeom>
            <a:solidFill>
              <a:srgbClr val="9f9f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126120" y="3195720"/>
              <a:ext cx="41760" cy="41760"/>
            </a:xfrm>
            <a:custGeom>
              <a:avLst/>
              <a:gdLst/>
              <a:ahLst/>
              <a:rect l="0" t="0" r="r" b="b"/>
              <a:pathLst>
                <a:path w="116" h="116">
                  <a:moveTo>
                    <a:pt x="0" y="0"/>
                  </a:moveTo>
                  <a:lnTo>
                    <a:pt x="0" y="116"/>
                  </a:lnTo>
                  <a:lnTo>
                    <a:pt x="116" y="116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018120" y="3178080"/>
              <a:ext cx="171720" cy="155880"/>
            </a:xfrm>
            <a:custGeom>
              <a:avLst/>
              <a:gdLst/>
              <a:ahLst/>
              <a:rect l="0" t="0" r="r" b="b"/>
              <a:pathLst>
                <a:path w="477" h="433">
                  <a:moveTo>
                    <a:pt x="417" y="433"/>
                  </a:moveTo>
                  <a:lnTo>
                    <a:pt x="417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477" y="0"/>
                  </a:lnTo>
                  <a:lnTo>
                    <a:pt x="477" y="433"/>
                  </a:lnTo>
                  <a:lnTo>
                    <a:pt x="417" y="43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"/>
            <p:cNvGrpSpPr/>
            <p:nvPr/>
          </p:nvGrpSpPr>
          <p:grpSpPr>
            <a:xfrm>
              <a:off x="6141960" y="3029040"/>
              <a:ext cx="190440" cy="155520"/>
              <a:chOff x="6141960" y="3029040"/>
              <a:chExt cx="190440" cy="155520"/>
            </a:xfrm>
          </p:grpSpPr>
          <p:sp>
            <p:nvSpPr>
              <p:cNvPr id="5466" name=""/>
              <p:cNvSpPr/>
              <p:nvPr/>
            </p:nvSpPr>
            <p:spPr>
              <a:xfrm>
                <a:off x="6141960" y="3029040"/>
                <a:ext cx="173160" cy="155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6157800" y="3029040"/>
                <a:ext cx="174600" cy="1555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8" name=""/>
            <p:cNvGrpSpPr/>
            <p:nvPr/>
          </p:nvGrpSpPr>
          <p:grpSpPr>
            <a:xfrm>
              <a:off x="6189840" y="3333600"/>
              <a:ext cx="65520" cy="155880"/>
              <a:chOff x="6189840" y="3333600"/>
              <a:chExt cx="65520" cy="155880"/>
            </a:xfrm>
          </p:grpSpPr>
          <p:sp>
            <p:nvSpPr>
              <p:cNvPr id="5469" name=""/>
              <p:cNvSpPr/>
              <p:nvPr/>
            </p:nvSpPr>
            <p:spPr>
              <a:xfrm>
                <a:off x="6189840" y="3333600"/>
                <a:ext cx="65520" cy="155880"/>
              </a:xfrm>
              <a:custGeom>
                <a:avLst/>
                <a:gdLst/>
                <a:ahLst/>
                <a:rect l="0" t="0" r="r" b="b"/>
                <a:pathLst>
                  <a:path w="182" h="433">
                    <a:moveTo>
                      <a:pt x="182" y="0"/>
                    </a:moveTo>
                    <a:lnTo>
                      <a:pt x="0" y="0"/>
                    </a:lnTo>
                    <a:lnTo>
                      <a:pt x="0" y="433"/>
                    </a:lnTo>
                    <a:lnTo>
                      <a:pt x="182" y="433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0" name=""/>
              <p:cNvGrpSpPr/>
              <p:nvPr/>
            </p:nvGrpSpPr>
            <p:grpSpPr>
              <a:xfrm>
                <a:off x="6189840" y="3351240"/>
                <a:ext cx="64800" cy="119160"/>
                <a:chOff x="6189840" y="3351240"/>
                <a:chExt cx="64800" cy="119160"/>
              </a:xfrm>
            </p:grpSpPr>
            <p:sp>
              <p:nvSpPr>
                <p:cNvPr id="5471" name=""/>
                <p:cNvSpPr/>
                <p:nvPr/>
              </p:nvSpPr>
              <p:spPr>
                <a:xfrm flipH="1">
                  <a:off x="6189840" y="3371760"/>
                  <a:ext cx="64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2" name=""/>
                <p:cNvSpPr/>
                <p:nvPr/>
              </p:nvSpPr>
              <p:spPr>
                <a:xfrm flipH="1">
                  <a:off x="6189840" y="3429000"/>
                  <a:ext cx="64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3" name=""/>
                <p:cNvSpPr/>
                <p:nvPr/>
              </p:nvSpPr>
              <p:spPr>
                <a:xfrm flipH="1">
                  <a:off x="6189840" y="3409920"/>
                  <a:ext cx="64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 flipH="1">
                  <a:off x="6189840" y="3392640"/>
                  <a:ext cx="64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5" name=""/>
                <p:cNvSpPr/>
                <p:nvPr/>
              </p:nvSpPr>
              <p:spPr>
                <a:xfrm flipH="1">
                  <a:off x="6189840" y="3351240"/>
                  <a:ext cx="64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6" name=""/>
                <p:cNvSpPr/>
                <p:nvPr/>
              </p:nvSpPr>
              <p:spPr>
                <a:xfrm flipH="1">
                  <a:off x="6189840" y="3449520"/>
                  <a:ext cx="64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 flipH="1">
                  <a:off x="6189840" y="3470400"/>
                  <a:ext cx="64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8" name=""/>
            <p:cNvSpPr/>
            <p:nvPr/>
          </p:nvSpPr>
          <p:spPr>
            <a:xfrm>
              <a:off x="5824440" y="3371760"/>
              <a:ext cx="20880" cy="38520"/>
            </a:xfrm>
            <a:custGeom>
              <a:avLst/>
              <a:gdLst/>
              <a:ahLst/>
              <a:rect l="0" t="0" r="r" b="b"/>
              <a:pathLst>
                <a:path w="58" h="107">
                  <a:moveTo>
                    <a:pt x="5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58" y="10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9" name=""/>
            <p:cNvGrpSpPr/>
            <p:nvPr/>
          </p:nvGrpSpPr>
          <p:grpSpPr>
            <a:xfrm>
              <a:off x="5972040" y="2874960"/>
              <a:ext cx="111960" cy="109800"/>
              <a:chOff x="5972040" y="2874960"/>
              <a:chExt cx="111960" cy="109800"/>
            </a:xfrm>
          </p:grpSpPr>
          <p:sp>
            <p:nvSpPr>
              <p:cNvPr id="5480" name=""/>
              <p:cNvSpPr/>
              <p:nvPr/>
            </p:nvSpPr>
            <p:spPr>
              <a:xfrm>
                <a:off x="5972040" y="2905200"/>
                <a:ext cx="24120" cy="79560"/>
              </a:xfrm>
              <a:custGeom>
                <a:avLst/>
                <a:gdLst/>
                <a:ahLst/>
                <a:rect l="0" t="0" r="r" b="b"/>
                <a:pathLst>
                  <a:path w="67" h="221">
                    <a:moveTo>
                      <a:pt x="24" y="0"/>
                    </a:moveTo>
                    <a:lnTo>
                      <a:pt x="67" y="197"/>
                    </a:lnTo>
                    <a:lnTo>
                      <a:pt x="31" y="221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fb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5996160" y="2874960"/>
                <a:ext cx="87840" cy="46440"/>
              </a:xfrm>
              <a:custGeom>
                <a:avLst/>
                <a:gdLst/>
                <a:ahLst/>
                <a:rect l="0" t="0" r="r" b="b"/>
                <a:pathLst>
                  <a:path w="244" h="129">
                    <a:moveTo>
                      <a:pt x="15" y="0"/>
                    </a:moveTo>
                    <a:lnTo>
                      <a:pt x="244" y="113"/>
                    </a:lnTo>
                    <a:lnTo>
                      <a:pt x="199" y="129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2" name=""/>
            <p:cNvGrpSpPr/>
            <p:nvPr/>
          </p:nvGrpSpPr>
          <p:grpSpPr>
            <a:xfrm>
              <a:off x="5835600" y="2798640"/>
              <a:ext cx="500400" cy="380160"/>
              <a:chOff x="5835600" y="2798640"/>
              <a:chExt cx="500400" cy="380160"/>
            </a:xfrm>
          </p:grpSpPr>
          <p:sp>
            <p:nvSpPr>
              <p:cNvPr id="5483" name=""/>
              <p:cNvSpPr/>
              <p:nvPr/>
            </p:nvSpPr>
            <p:spPr>
              <a:xfrm>
                <a:off x="5835600" y="2800440"/>
                <a:ext cx="500400" cy="378360"/>
              </a:xfrm>
              <a:custGeom>
                <a:avLst/>
                <a:gdLst/>
                <a:ahLst/>
                <a:rect l="0" t="0" r="r" b="b"/>
                <a:pathLst>
                  <a:path w="1390" h="1051">
                    <a:moveTo>
                      <a:pt x="1390" y="58"/>
                    </a:moveTo>
                    <a:lnTo>
                      <a:pt x="1387" y="101"/>
                    </a:lnTo>
                    <a:lnTo>
                      <a:pt x="1381" y="152"/>
                    </a:lnTo>
                    <a:lnTo>
                      <a:pt x="1363" y="203"/>
                    </a:lnTo>
                    <a:lnTo>
                      <a:pt x="1342" y="255"/>
                    </a:lnTo>
                    <a:lnTo>
                      <a:pt x="1305" y="319"/>
                    </a:lnTo>
                    <a:lnTo>
                      <a:pt x="1260" y="398"/>
                    </a:lnTo>
                    <a:lnTo>
                      <a:pt x="1203" y="484"/>
                    </a:lnTo>
                    <a:lnTo>
                      <a:pt x="1125" y="577"/>
                    </a:lnTo>
                    <a:lnTo>
                      <a:pt x="1032" y="662"/>
                    </a:lnTo>
                    <a:lnTo>
                      <a:pt x="899" y="754"/>
                    </a:lnTo>
                    <a:lnTo>
                      <a:pt x="770" y="843"/>
                    </a:lnTo>
                    <a:lnTo>
                      <a:pt x="669" y="894"/>
                    </a:lnTo>
                    <a:lnTo>
                      <a:pt x="535" y="954"/>
                    </a:lnTo>
                    <a:lnTo>
                      <a:pt x="404" y="997"/>
                    </a:lnTo>
                    <a:lnTo>
                      <a:pt x="287" y="1026"/>
                    </a:lnTo>
                    <a:lnTo>
                      <a:pt x="207" y="1043"/>
                    </a:lnTo>
                    <a:lnTo>
                      <a:pt x="127" y="1050"/>
                    </a:lnTo>
                    <a:lnTo>
                      <a:pt x="67" y="1051"/>
                    </a:lnTo>
                    <a:lnTo>
                      <a:pt x="24" y="1036"/>
                    </a:lnTo>
                    <a:lnTo>
                      <a:pt x="0" y="1010"/>
                    </a:lnTo>
                    <a:lnTo>
                      <a:pt x="1376" y="0"/>
                    </a:lnTo>
                    <a:lnTo>
                      <a:pt x="1390" y="58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5838840" y="2798640"/>
                <a:ext cx="493920" cy="365400"/>
              </a:xfrm>
              <a:custGeom>
                <a:avLst/>
                <a:gdLst/>
                <a:ahLst/>
                <a:rect l="0" t="0" r="r" b="b"/>
                <a:pathLst>
                  <a:path w="1372" h="1015">
                    <a:moveTo>
                      <a:pt x="1372" y="0"/>
                    </a:moveTo>
                    <a:lnTo>
                      <a:pt x="1369" y="28"/>
                    </a:lnTo>
                    <a:lnTo>
                      <a:pt x="1346" y="84"/>
                    </a:lnTo>
                    <a:lnTo>
                      <a:pt x="1316" y="150"/>
                    </a:lnTo>
                    <a:lnTo>
                      <a:pt x="1287" y="201"/>
                    </a:lnTo>
                    <a:lnTo>
                      <a:pt x="1249" y="267"/>
                    </a:lnTo>
                    <a:lnTo>
                      <a:pt x="1201" y="345"/>
                    </a:lnTo>
                    <a:lnTo>
                      <a:pt x="1145" y="423"/>
                    </a:lnTo>
                    <a:lnTo>
                      <a:pt x="1060" y="519"/>
                    </a:lnTo>
                    <a:lnTo>
                      <a:pt x="946" y="621"/>
                    </a:lnTo>
                    <a:lnTo>
                      <a:pt x="836" y="700"/>
                    </a:lnTo>
                    <a:lnTo>
                      <a:pt x="707" y="779"/>
                    </a:lnTo>
                    <a:lnTo>
                      <a:pt x="598" y="837"/>
                    </a:lnTo>
                    <a:lnTo>
                      <a:pt x="516" y="871"/>
                    </a:lnTo>
                    <a:lnTo>
                      <a:pt x="439" y="905"/>
                    </a:lnTo>
                    <a:lnTo>
                      <a:pt x="359" y="936"/>
                    </a:lnTo>
                    <a:lnTo>
                      <a:pt x="273" y="963"/>
                    </a:lnTo>
                    <a:lnTo>
                      <a:pt x="214" y="981"/>
                    </a:lnTo>
                    <a:lnTo>
                      <a:pt x="154" y="993"/>
                    </a:lnTo>
                    <a:lnTo>
                      <a:pt x="88" y="1004"/>
                    </a:lnTo>
                    <a:lnTo>
                      <a:pt x="33" y="1015"/>
                    </a:lnTo>
                    <a:lnTo>
                      <a:pt x="1" y="1011"/>
                    </a:lnTo>
                    <a:lnTo>
                      <a:pt x="0" y="989"/>
                    </a:lnTo>
                    <a:lnTo>
                      <a:pt x="12" y="964"/>
                    </a:lnTo>
                    <a:lnTo>
                      <a:pt x="31" y="936"/>
                    </a:lnTo>
                    <a:lnTo>
                      <a:pt x="65" y="886"/>
                    </a:lnTo>
                    <a:lnTo>
                      <a:pt x="107" y="820"/>
                    </a:lnTo>
                    <a:lnTo>
                      <a:pt x="151" y="760"/>
                    </a:lnTo>
                    <a:lnTo>
                      <a:pt x="202" y="692"/>
                    </a:lnTo>
                    <a:lnTo>
                      <a:pt x="265" y="620"/>
                    </a:lnTo>
                    <a:lnTo>
                      <a:pt x="321" y="565"/>
                    </a:lnTo>
                    <a:lnTo>
                      <a:pt x="370" y="518"/>
                    </a:lnTo>
                    <a:lnTo>
                      <a:pt x="440" y="457"/>
                    </a:lnTo>
                    <a:lnTo>
                      <a:pt x="506" y="404"/>
                    </a:lnTo>
                    <a:lnTo>
                      <a:pt x="583" y="349"/>
                    </a:lnTo>
                    <a:lnTo>
                      <a:pt x="694" y="285"/>
                    </a:lnTo>
                    <a:lnTo>
                      <a:pt x="772" y="239"/>
                    </a:lnTo>
                    <a:lnTo>
                      <a:pt x="883" y="179"/>
                    </a:lnTo>
                    <a:lnTo>
                      <a:pt x="979" y="140"/>
                    </a:lnTo>
                    <a:lnTo>
                      <a:pt x="1074" y="98"/>
                    </a:lnTo>
                    <a:lnTo>
                      <a:pt x="1147" y="69"/>
                    </a:lnTo>
                    <a:lnTo>
                      <a:pt x="1223" y="39"/>
                    </a:lnTo>
                    <a:lnTo>
                      <a:pt x="1277" y="20"/>
                    </a:lnTo>
                    <a:lnTo>
                      <a:pt x="1332" y="1"/>
                    </a:lnTo>
                    <a:lnTo>
                      <a:pt x="1372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5" name=""/>
            <p:cNvGrpSpPr/>
            <p:nvPr/>
          </p:nvGrpSpPr>
          <p:grpSpPr>
            <a:xfrm>
              <a:off x="5931000" y="2824200"/>
              <a:ext cx="346320" cy="324360"/>
              <a:chOff x="5931000" y="2824200"/>
              <a:chExt cx="346320" cy="324360"/>
            </a:xfrm>
          </p:grpSpPr>
          <p:sp>
            <p:nvSpPr>
              <p:cNvPr id="5486" name=""/>
              <p:cNvSpPr/>
              <p:nvPr/>
            </p:nvSpPr>
            <p:spPr>
              <a:xfrm>
                <a:off x="5964120" y="2824200"/>
                <a:ext cx="313200" cy="98640"/>
              </a:xfrm>
              <a:custGeom>
                <a:avLst/>
                <a:gdLst/>
                <a:ahLst/>
                <a:rect l="0" t="0" r="r" b="b"/>
                <a:pathLst>
                  <a:path w="870" h="274">
                    <a:moveTo>
                      <a:pt x="870" y="249"/>
                    </a:moveTo>
                    <a:lnTo>
                      <a:pt x="3" y="0"/>
                    </a:lnTo>
                    <a:lnTo>
                      <a:pt x="0" y="27"/>
                    </a:lnTo>
                    <a:lnTo>
                      <a:pt x="857" y="274"/>
                    </a:lnTo>
                    <a:lnTo>
                      <a:pt x="870" y="249"/>
                    </a:lnTo>
                    <a:close/>
                  </a:path>
                </a:pathLst>
              </a:custGeom>
              <a:solidFill>
                <a:srgbClr val="dfd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5931000" y="2873520"/>
                <a:ext cx="14760" cy="275040"/>
              </a:xfrm>
              <a:custGeom>
                <a:avLst/>
                <a:gdLst/>
                <a:ahLst/>
                <a:rect l="0" t="0" r="r" b="b"/>
                <a:pathLst>
                  <a:path w="41" h="764">
                    <a:moveTo>
                      <a:pt x="33" y="24"/>
                    </a:moveTo>
                    <a:lnTo>
                      <a:pt x="41" y="757"/>
                    </a:lnTo>
                    <a:lnTo>
                      <a:pt x="5" y="764"/>
                    </a:lnTo>
                    <a:lnTo>
                      <a:pt x="0" y="0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dfd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8" name=""/>
            <p:cNvGrpSpPr/>
            <p:nvPr/>
          </p:nvGrpSpPr>
          <p:grpSpPr>
            <a:xfrm>
              <a:off x="5892840" y="2801880"/>
              <a:ext cx="118080" cy="105120"/>
              <a:chOff x="5892840" y="2801880"/>
              <a:chExt cx="118080" cy="105120"/>
            </a:xfrm>
          </p:grpSpPr>
          <p:sp>
            <p:nvSpPr>
              <p:cNvPr id="5489" name=""/>
              <p:cNvSpPr/>
              <p:nvPr/>
            </p:nvSpPr>
            <p:spPr>
              <a:xfrm>
                <a:off x="5915160" y="2824200"/>
                <a:ext cx="95760" cy="82800"/>
              </a:xfrm>
              <a:custGeom>
                <a:avLst/>
                <a:gdLst/>
                <a:ahLst/>
                <a:rect l="0" t="0" r="r" b="b"/>
                <a:pathLst>
                  <a:path w="266" h="230">
                    <a:moveTo>
                      <a:pt x="109" y="0"/>
                    </a:moveTo>
                    <a:lnTo>
                      <a:pt x="262" y="117"/>
                    </a:lnTo>
                    <a:lnTo>
                      <a:pt x="266" y="129"/>
                    </a:lnTo>
                    <a:lnTo>
                      <a:pt x="261" y="150"/>
                    </a:lnTo>
                    <a:lnTo>
                      <a:pt x="248" y="177"/>
                    </a:lnTo>
                    <a:lnTo>
                      <a:pt x="240" y="192"/>
                    </a:lnTo>
                    <a:lnTo>
                      <a:pt x="219" y="211"/>
                    </a:lnTo>
                    <a:lnTo>
                      <a:pt x="195" y="224"/>
                    </a:lnTo>
                    <a:lnTo>
                      <a:pt x="165" y="230"/>
                    </a:lnTo>
                    <a:lnTo>
                      <a:pt x="151" y="228"/>
                    </a:lnTo>
                    <a:lnTo>
                      <a:pt x="137" y="222"/>
                    </a:lnTo>
                    <a:lnTo>
                      <a:pt x="0" y="95"/>
                    </a:lnTo>
                    <a:lnTo>
                      <a:pt x="41" y="82"/>
                    </a:lnTo>
                    <a:lnTo>
                      <a:pt x="68" y="6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bfb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899320" y="2816280"/>
                <a:ext cx="68760" cy="57600"/>
              </a:xfrm>
              <a:custGeom>
                <a:avLst/>
                <a:gdLst/>
                <a:ahLst/>
                <a:rect l="0" t="0" r="r" b="b"/>
                <a:pathLst>
                  <a:path w="191" h="160">
                    <a:moveTo>
                      <a:pt x="111" y="13"/>
                    </a:moveTo>
                    <a:lnTo>
                      <a:pt x="122" y="5"/>
                    </a:lnTo>
                    <a:lnTo>
                      <a:pt x="141" y="0"/>
                    </a:lnTo>
                    <a:lnTo>
                      <a:pt x="169" y="2"/>
                    </a:lnTo>
                    <a:lnTo>
                      <a:pt x="183" y="10"/>
                    </a:lnTo>
                    <a:lnTo>
                      <a:pt x="187" y="22"/>
                    </a:lnTo>
                    <a:lnTo>
                      <a:pt x="191" y="39"/>
                    </a:lnTo>
                    <a:lnTo>
                      <a:pt x="187" y="62"/>
                    </a:lnTo>
                    <a:lnTo>
                      <a:pt x="181" y="74"/>
                    </a:lnTo>
                    <a:lnTo>
                      <a:pt x="172" y="88"/>
                    </a:lnTo>
                    <a:lnTo>
                      <a:pt x="157" y="110"/>
                    </a:lnTo>
                    <a:lnTo>
                      <a:pt x="138" y="126"/>
                    </a:lnTo>
                    <a:lnTo>
                      <a:pt x="117" y="140"/>
                    </a:lnTo>
                    <a:lnTo>
                      <a:pt x="98" y="150"/>
                    </a:lnTo>
                    <a:lnTo>
                      <a:pt x="79" y="158"/>
                    </a:lnTo>
                    <a:lnTo>
                      <a:pt x="58" y="160"/>
                    </a:lnTo>
                    <a:lnTo>
                      <a:pt x="33" y="159"/>
                    </a:lnTo>
                    <a:lnTo>
                      <a:pt x="15" y="152"/>
                    </a:lnTo>
                    <a:lnTo>
                      <a:pt x="2" y="139"/>
                    </a:lnTo>
                    <a:lnTo>
                      <a:pt x="0" y="123"/>
                    </a:lnTo>
                    <a:lnTo>
                      <a:pt x="6" y="102"/>
                    </a:lnTo>
                    <a:lnTo>
                      <a:pt x="20" y="83"/>
                    </a:lnTo>
                    <a:lnTo>
                      <a:pt x="43" y="58"/>
                    </a:lnTo>
                    <a:lnTo>
                      <a:pt x="84" y="29"/>
                    </a:lnTo>
                    <a:lnTo>
                      <a:pt x="111" y="1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5892840" y="2801880"/>
                <a:ext cx="55800" cy="55800"/>
              </a:xfrm>
              <a:custGeom>
                <a:avLst/>
                <a:gdLst/>
                <a:ahLst/>
                <a:rect l="0" t="0" r="r" b="b"/>
                <a:pathLst>
                  <a:path w="155" h="155">
                    <a:moveTo>
                      <a:pt x="151" y="72"/>
                    </a:moveTo>
                    <a:lnTo>
                      <a:pt x="56" y="14"/>
                    </a:lnTo>
                    <a:lnTo>
                      <a:pt x="32" y="2"/>
                    </a:lnTo>
                    <a:lnTo>
                      <a:pt x="14" y="0"/>
                    </a:lnTo>
                    <a:lnTo>
                      <a:pt x="7" y="3"/>
                    </a:lnTo>
                    <a:lnTo>
                      <a:pt x="1" y="16"/>
                    </a:lnTo>
                    <a:lnTo>
                      <a:pt x="0" y="37"/>
                    </a:lnTo>
                    <a:lnTo>
                      <a:pt x="63" y="152"/>
                    </a:lnTo>
                    <a:lnTo>
                      <a:pt x="78" y="155"/>
                    </a:lnTo>
                    <a:lnTo>
                      <a:pt x="97" y="155"/>
                    </a:lnTo>
                    <a:lnTo>
                      <a:pt x="113" y="148"/>
                    </a:lnTo>
                    <a:lnTo>
                      <a:pt x="132" y="137"/>
                    </a:lnTo>
                    <a:lnTo>
                      <a:pt x="145" y="124"/>
                    </a:lnTo>
                    <a:lnTo>
                      <a:pt x="154" y="107"/>
                    </a:lnTo>
                    <a:lnTo>
                      <a:pt x="155" y="88"/>
                    </a:lnTo>
                    <a:lnTo>
                      <a:pt x="151" y="72"/>
                    </a:lnTo>
                    <a:close/>
                  </a:path>
                </a:pathLst>
              </a:custGeom>
              <a:solidFill>
                <a:srgbClr val="9f9fb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951520" y="2855880"/>
                <a:ext cx="43200" cy="38520"/>
              </a:xfrm>
              <a:custGeom>
                <a:avLst/>
                <a:gdLst/>
                <a:ahLst/>
                <a:rect l="0" t="0" r="r" b="b"/>
                <a:pathLst>
                  <a:path fill="none" w="120" h="107">
                    <a:moveTo>
                      <a:pt x="120" y="0"/>
                    </a:moveTo>
                    <a:lnTo>
                      <a:pt x="116" y="22"/>
                    </a:lnTo>
                    <a:lnTo>
                      <a:pt x="108" y="42"/>
                    </a:lnTo>
                    <a:lnTo>
                      <a:pt x="94" y="63"/>
                    </a:lnTo>
                    <a:lnTo>
                      <a:pt x="81" y="83"/>
                    </a:lnTo>
                    <a:lnTo>
                      <a:pt x="57" y="96"/>
                    </a:lnTo>
                    <a:lnTo>
                      <a:pt x="38" y="103"/>
                    </a:lnTo>
                    <a:lnTo>
                      <a:pt x="26" y="106"/>
                    </a:lnTo>
                    <a:lnTo>
                      <a:pt x="13" y="107"/>
                    </a:lnTo>
                    <a:lnTo>
                      <a:pt x="0" y="10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5937120" y="2843280"/>
                <a:ext cx="44640" cy="39960"/>
              </a:xfrm>
              <a:custGeom>
                <a:avLst/>
                <a:gdLst/>
                <a:ahLst/>
                <a:rect l="0" t="0" r="r" b="b"/>
                <a:pathLst>
                  <a:path fill="none" w="124" h="111">
                    <a:moveTo>
                      <a:pt x="124" y="0"/>
                    </a:moveTo>
                    <a:lnTo>
                      <a:pt x="120" y="24"/>
                    </a:lnTo>
                    <a:lnTo>
                      <a:pt x="112" y="43"/>
                    </a:lnTo>
                    <a:lnTo>
                      <a:pt x="98" y="66"/>
                    </a:lnTo>
                    <a:lnTo>
                      <a:pt x="83" y="84"/>
                    </a:lnTo>
                    <a:lnTo>
                      <a:pt x="60" y="97"/>
                    </a:lnTo>
                    <a:lnTo>
                      <a:pt x="41" y="106"/>
                    </a:lnTo>
                    <a:lnTo>
                      <a:pt x="27" y="110"/>
                    </a:lnTo>
                    <a:lnTo>
                      <a:pt x="14" y="111"/>
                    </a:lnTo>
                    <a:lnTo>
                      <a:pt x="0" y="11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4" name=""/>
          <p:cNvSpPr/>
          <p:nvPr/>
        </p:nvSpPr>
        <p:spPr>
          <a:xfrm>
            <a:off x="3560760" y="1482840"/>
            <a:ext cx="2394360" cy="1340280"/>
          </a:xfrm>
          <a:custGeom>
            <a:avLst/>
            <a:gdLst/>
            <a:ahLst/>
            <a:rect l="0" t="0" r="r" b="b"/>
            <a:pathLst>
              <a:path fill="none" w="6651" h="3723">
                <a:moveTo>
                  <a:pt x="6651" y="3723"/>
                </a:moveTo>
                <a:lnTo>
                  <a:pt x="2286" y="2712"/>
                </a:lnTo>
                <a:lnTo>
                  <a:pt x="4316" y="2560"/>
                </a:lnTo>
                <a:lnTo>
                  <a:pt x="541" y="1021"/>
                </a:lnTo>
                <a:lnTo>
                  <a:pt x="2128" y="914"/>
                </a:lnTo>
                <a:lnTo>
                  <a:pt x="0" y="0"/>
                </a:ln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6364440" y="2021040"/>
            <a:ext cx="2313360" cy="1959480"/>
          </a:xfrm>
          <a:custGeom>
            <a:avLst/>
            <a:gdLst/>
            <a:ahLst/>
            <a:rect l="0" t="0" r="r" b="b"/>
            <a:pathLst>
              <a:path w="6426" h="5443">
                <a:moveTo>
                  <a:pt x="6426" y="5443"/>
                </a:moveTo>
                <a:lnTo>
                  <a:pt x="6283" y="0"/>
                </a:lnTo>
                <a:lnTo>
                  <a:pt x="2381" y="2371"/>
                </a:lnTo>
                <a:lnTo>
                  <a:pt x="2370" y="1945"/>
                </a:lnTo>
                <a:lnTo>
                  <a:pt x="0" y="2953"/>
                </a:lnTo>
                <a:lnTo>
                  <a:pt x="2423" y="3910"/>
                </a:lnTo>
                <a:lnTo>
                  <a:pt x="2411" y="3475"/>
                </a:lnTo>
                <a:lnTo>
                  <a:pt x="6426" y="5443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 txBox="1"/>
          <p:nvPr/>
        </p:nvSpPr>
        <p:spPr>
          <a:xfrm>
            <a:off x="6756480" y="2835360"/>
            <a:ext cx="1087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ad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 txBox="1"/>
          <p:nvPr/>
        </p:nvSpPr>
        <p:spPr>
          <a:xfrm>
            <a:off x="8096400" y="3300480"/>
            <a:ext cx="58572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A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 txBox="1"/>
          <p:nvPr/>
        </p:nvSpPr>
        <p:spPr>
          <a:xfrm>
            <a:off x="8096400" y="2938320"/>
            <a:ext cx="58572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 txBox="1"/>
          <p:nvPr/>
        </p:nvSpPr>
        <p:spPr>
          <a:xfrm>
            <a:off x="8097840" y="2503440"/>
            <a:ext cx="59040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oi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 txBox="1"/>
          <p:nvPr/>
        </p:nvSpPr>
        <p:spPr>
          <a:xfrm>
            <a:off x="8096400" y="2141640"/>
            <a:ext cx="58572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"/>
          <p:cNvSpPr txBox="1"/>
          <p:nvPr/>
        </p:nvSpPr>
        <p:spPr>
          <a:xfrm>
            <a:off x="8109000" y="3662280"/>
            <a:ext cx="58572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R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2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BS BM Within the DISN /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>
            <a:off x="3703680" y="1100160"/>
            <a:ext cx="5080320" cy="4213440"/>
          </a:xfrm>
          <a:custGeom>
            <a:avLst/>
            <a:gdLst/>
            <a:ahLst/>
            <a:rect l="0" t="0" r="r" b="b"/>
            <a:pathLst>
              <a:path w="14112" h="11704">
                <a:moveTo>
                  <a:pt x="0" y="7938"/>
                </a:moveTo>
                <a:lnTo>
                  <a:pt x="176" y="7823"/>
                </a:lnTo>
                <a:lnTo>
                  <a:pt x="352" y="7647"/>
                </a:lnTo>
                <a:lnTo>
                  <a:pt x="471" y="7585"/>
                </a:lnTo>
                <a:lnTo>
                  <a:pt x="590" y="7528"/>
                </a:lnTo>
                <a:lnTo>
                  <a:pt x="767" y="7352"/>
                </a:lnTo>
                <a:lnTo>
                  <a:pt x="881" y="7175"/>
                </a:lnTo>
                <a:lnTo>
                  <a:pt x="1058" y="7056"/>
                </a:lnTo>
                <a:lnTo>
                  <a:pt x="1177" y="6941"/>
                </a:lnTo>
                <a:lnTo>
                  <a:pt x="1296" y="6880"/>
                </a:lnTo>
                <a:lnTo>
                  <a:pt x="1353" y="6703"/>
                </a:lnTo>
                <a:lnTo>
                  <a:pt x="1472" y="6589"/>
                </a:lnTo>
                <a:lnTo>
                  <a:pt x="1587" y="6412"/>
                </a:lnTo>
                <a:lnTo>
                  <a:pt x="1706" y="6293"/>
                </a:lnTo>
                <a:lnTo>
                  <a:pt x="1825" y="6174"/>
                </a:lnTo>
                <a:lnTo>
                  <a:pt x="1940" y="5940"/>
                </a:lnTo>
                <a:lnTo>
                  <a:pt x="2002" y="5820"/>
                </a:lnTo>
                <a:lnTo>
                  <a:pt x="2059" y="5644"/>
                </a:lnTo>
                <a:lnTo>
                  <a:pt x="2178" y="5529"/>
                </a:lnTo>
                <a:lnTo>
                  <a:pt x="2235" y="5410"/>
                </a:lnTo>
                <a:lnTo>
                  <a:pt x="2235" y="5291"/>
                </a:lnTo>
                <a:lnTo>
                  <a:pt x="2354" y="5177"/>
                </a:lnTo>
                <a:lnTo>
                  <a:pt x="2412" y="5057"/>
                </a:lnTo>
                <a:lnTo>
                  <a:pt x="2531" y="4938"/>
                </a:lnTo>
                <a:lnTo>
                  <a:pt x="2707" y="4705"/>
                </a:lnTo>
                <a:lnTo>
                  <a:pt x="2764" y="4586"/>
                </a:lnTo>
                <a:lnTo>
                  <a:pt x="2822" y="4409"/>
                </a:lnTo>
                <a:lnTo>
                  <a:pt x="3117" y="4056"/>
                </a:lnTo>
                <a:lnTo>
                  <a:pt x="3117" y="3880"/>
                </a:lnTo>
                <a:lnTo>
                  <a:pt x="3175" y="3704"/>
                </a:lnTo>
                <a:lnTo>
                  <a:pt x="3236" y="3527"/>
                </a:lnTo>
                <a:lnTo>
                  <a:pt x="3413" y="3413"/>
                </a:lnTo>
                <a:lnTo>
                  <a:pt x="3527" y="3236"/>
                </a:lnTo>
                <a:lnTo>
                  <a:pt x="3589" y="3117"/>
                </a:lnTo>
                <a:lnTo>
                  <a:pt x="3646" y="2998"/>
                </a:lnTo>
                <a:lnTo>
                  <a:pt x="3765" y="2941"/>
                </a:lnTo>
                <a:lnTo>
                  <a:pt x="3942" y="2822"/>
                </a:lnTo>
                <a:lnTo>
                  <a:pt x="4118" y="2645"/>
                </a:lnTo>
                <a:lnTo>
                  <a:pt x="4295" y="2412"/>
                </a:lnTo>
                <a:lnTo>
                  <a:pt x="4409" y="2293"/>
                </a:lnTo>
                <a:lnTo>
                  <a:pt x="4528" y="2235"/>
                </a:lnTo>
                <a:lnTo>
                  <a:pt x="4647" y="2116"/>
                </a:lnTo>
                <a:lnTo>
                  <a:pt x="4881" y="1940"/>
                </a:lnTo>
                <a:lnTo>
                  <a:pt x="5000" y="1825"/>
                </a:lnTo>
                <a:lnTo>
                  <a:pt x="5115" y="1706"/>
                </a:lnTo>
                <a:lnTo>
                  <a:pt x="5234" y="1649"/>
                </a:lnTo>
                <a:lnTo>
                  <a:pt x="5410" y="1530"/>
                </a:lnTo>
                <a:lnTo>
                  <a:pt x="5882" y="1177"/>
                </a:lnTo>
                <a:lnTo>
                  <a:pt x="6235" y="943"/>
                </a:lnTo>
                <a:lnTo>
                  <a:pt x="6350" y="824"/>
                </a:lnTo>
                <a:lnTo>
                  <a:pt x="6469" y="767"/>
                </a:lnTo>
                <a:lnTo>
                  <a:pt x="6588" y="648"/>
                </a:lnTo>
                <a:lnTo>
                  <a:pt x="6821" y="471"/>
                </a:lnTo>
                <a:lnTo>
                  <a:pt x="7055" y="352"/>
                </a:lnTo>
                <a:lnTo>
                  <a:pt x="7175" y="238"/>
                </a:lnTo>
                <a:lnTo>
                  <a:pt x="7294" y="238"/>
                </a:lnTo>
                <a:lnTo>
                  <a:pt x="7528" y="119"/>
                </a:lnTo>
                <a:lnTo>
                  <a:pt x="7647" y="119"/>
                </a:lnTo>
                <a:lnTo>
                  <a:pt x="7881" y="61"/>
                </a:lnTo>
                <a:lnTo>
                  <a:pt x="8114" y="61"/>
                </a:lnTo>
                <a:lnTo>
                  <a:pt x="8467" y="61"/>
                </a:lnTo>
                <a:lnTo>
                  <a:pt x="8705" y="61"/>
                </a:lnTo>
                <a:lnTo>
                  <a:pt x="9058" y="0"/>
                </a:lnTo>
                <a:lnTo>
                  <a:pt x="9234" y="0"/>
                </a:lnTo>
                <a:lnTo>
                  <a:pt x="9468" y="0"/>
                </a:lnTo>
                <a:lnTo>
                  <a:pt x="9587" y="0"/>
                </a:lnTo>
                <a:lnTo>
                  <a:pt x="9764" y="61"/>
                </a:lnTo>
                <a:lnTo>
                  <a:pt x="9940" y="119"/>
                </a:lnTo>
                <a:lnTo>
                  <a:pt x="10116" y="176"/>
                </a:lnTo>
                <a:lnTo>
                  <a:pt x="10293" y="238"/>
                </a:lnTo>
                <a:lnTo>
                  <a:pt x="10527" y="352"/>
                </a:lnTo>
                <a:lnTo>
                  <a:pt x="10646" y="352"/>
                </a:lnTo>
                <a:lnTo>
                  <a:pt x="10822" y="471"/>
                </a:lnTo>
                <a:lnTo>
                  <a:pt x="10998" y="529"/>
                </a:lnTo>
                <a:lnTo>
                  <a:pt x="11175" y="590"/>
                </a:lnTo>
                <a:lnTo>
                  <a:pt x="11351" y="590"/>
                </a:lnTo>
                <a:lnTo>
                  <a:pt x="11528" y="648"/>
                </a:lnTo>
                <a:lnTo>
                  <a:pt x="11704" y="705"/>
                </a:lnTo>
                <a:lnTo>
                  <a:pt x="11880" y="767"/>
                </a:lnTo>
                <a:lnTo>
                  <a:pt x="12171" y="881"/>
                </a:lnTo>
                <a:lnTo>
                  <a:pt x="12348" y="943"/>
                </a:lnTo>
                <a:lnTo>
                  <a:pt x="12524" y="1058"/>
                </a:lnTo>
                <a:lnTo>
                  <a:pt x="12586" y="1177"/>
                </a:lnTo>
                <a:lnTo>
                  <a:pt x="12762" y="1353"/>
                </a:lnTo>
                <a:lnTo>
                  <a:pt x="12877" y="1472"/>
                </a:lnTo>
                <a:lnTo>
                  <a:pt x="12996" y="1530"/>
                </a:lnTo>
                <a:lnTo>
                  <a:pt x="13115" y="1587"/>
                </a:lnTo>
                <a:lnTo>
                  <a:pt x="13172" y="1763"/>
                </a:lnTo>
                <a:lnTo>
                  <a:pt x="13230" y="1882"/>
                </a:lnTo>
                <a:lnTo>
                  <a:pt x="13291" y="2002"/>
                </a:lnTo>
                <a:lnTo>
                  <a:pt x="13349" y="2178"/>
                </a:lnTo>
                <a:lnTo>
                  <a:pt x="13349" y="2354"/>
                </a:lnTo>
                <a:lnTo>
                  <a:pt x="13406" y="2531"/>
                </a:lnTo>
                <a:lnTo>
                  <a:pt x="13468" y="2707"/>
                </a:lnTo>
                <a:lnTo>
                  <a:pt x="13525" y="2883"/>
                </a:lnTo>
                <a:lnTo>
                  <a:pt x="13644" y="2941"/>
                </a:lnTo>
                <a:lnTo>
                  <a:pt x="13702" y="3060"/>
                </a:lnTo>
                <a:lnTo>
                  <a:pt x="13702" y="3236"/>
                </a:lnTo>
                <a:lnTo>
                  <a:pt x="13702" y="3413"/>
                </a:lnTo>
                <a:lnTo>
                  <a:pt x="13702" y="3589"/>
                </a:lnTo>
                <a:lnTo>
                  <a:pt x="13759" y="3823"/>
                </a:lnTo>
                <a:lnTo>
                  <a:pt x="13759" y="3942"/>
                </a:lnTo>
                <a:lnTo>
                  <a:pt x="13759" y="4176"/>
                </a:lnTo>
                <a:lnTo>
                  <a:pt x="13759" y="4295"/>
                </a:lnTo>
                <a:lnTo>
                  <a:pt x="13821" y="4471"/>
                </a:lnTo>
                <a:lnTo>
                  <a:pt x="13878" y="4647"/>
                </a:lnTo>
                <a:lnTo>
                  <a:pt x="13935" y="4824"/>
                </a:lnTo>
                <a:lnTo>
                  <a:pt x="13935" y="5000"/>
                </a:lnTo>
                <a:lnTo>
                  <a:pt x="13997" y="5234"/>
                </a:lnTo>
                <a:lnTo>
                  <a:pt x="13997" y="5353"/>
                </a:lnTo>
                <a:lnTo>
                  <a:pt x="14054" y="5587"/>
                </a:lnTo>
                <a:lnTo>
                  <a:pt x="14054" y="5763"/>
                </a:lnTo>
                <a:lnTo>
                  <a:pt x="14054" y="5940"/>
                </a:lnTo>
                <a:lnTo>
                  <a:pt x="14112" y="6174"/>
                </a:lnTo>
                <a:lnTo>
                  <a:pt x="14112" y="6293"/>
                </a:lnTo>
                <a:lnTo>
                  <a:pt x="14112" y="6412"/>
                </a:lnTo>
                <a:lnTo>
                  <a:pt x="14054" y="6646"/>
                </a:lnTo>
                <a:lnTo>
                  <a:pt x="14054" y="6880"/>
                </a:lnTo>
                <a:lnTo>
                  <a:pt x="13997" y="6999"/>
                </a:lnTo>
                <a:lnTo>
                  <a:pt x="13997" y="7118"/>
                </a:lnTo>
                <a:lnTo>
                  <a:pt x="13935" y="7294"/>
                </a:lnTo>
                <a:lnTo>
                  <a:pt x="13821" y="7585"/>
                </a:lnTo>
                <a:lnTo>
                  <a:pt x="13759" y="7762"/>
                </a:lnTo>
                <a:lnTo>
                  <a:pt x="13702" y="7938"/>
                </a:lnTo>
                <a:lnTo>
                  <a:pt x="13644" y="8114"/>
                </a:lnTo>
                <a:lnTo>
                  <a:pt x="13582" y="8291"/>
                </a:lnTo>
                <a:lnTo>
                  <a:pt x="13468" y="8467"/>
                </a:lnTo>
                <a:lnTo>
                  <a:pt x="13468" y="8586"/>
                </a:lnTo>
                <a:lnTo>
                  <a:pt x="13468" y="8705"/>
                </a:lnTo>
                <a:lnTo>
                  <a:pt x="13406" y="8882"/>
                </a:lnTo>
                <a:lnTo>
                  <a:pt x="13349" y="9058"/>
                </a:lnTo>
                <a:lnTo>
                  <a:pt x="13230" y="9292"/>
                </a:lnTo>
                <a:lnTo>
                  <a:pt x="13172" y="9411"/>
                </a:lnTo>
                <a:lnTo>
                  <a:pt x="13053" y="9587"/>
                </a:lnTo>
                <a:lnTo>
                  <a:pt x="12939" y="9821"/>
                </a:lnTo>
                <a:lnTo>
                  <a:pt x="12820" y="9940"/>
                </a:lnTo>
                <a:lnTo>
                  <a:pt x="12700" y="10116"/>
                </a:lnTo>
                <a:lnTo>
                  <a:pt x="12524" y="10174"/>
                </a:lnTo>
                <a:lnTo>
                  <a:pt x="12409" y="10293"/>
                </a:lnTo>
                <a:lnTo>
                  <a:pt x="12290" y="10350"/>
                </a:lnTo>
                <a:lnTo>
                  <a:pt x="12114" y="10469"/>
                </a:lnTo>
                <a:lnTo>
                  <a:pt x="11995" y="10527"/>
                </a:lnTo>
                <a:lnTo>
                  <a:pt x="11819" y="10584"/>
                </a:lnTo>
                <a:lnTo>
                  <a:pt x="11642" y="10703"/>
                </a:lnTo>
                <a:lnTo>
                  <a:pt x="11466" y="10760"/>
                </a:lnTo>
                <a:lnTo>
                  <a:pt x="11351" y="10879"/>
                </a:lnTo>
                <a:lnTo>
                  <a:pt x="11289" y="10998"/>
                </a:lnTo>
                <a:lnTo>
                  <a:pt x="11113" y="11113"/>
                </a:lnTo>
                <a:lnTo>
                  <a:pt x="10998" y="11232"/>
                </a:lnTo>
                <a:lnTo>
                  <a:pt x="10879" y="11289"/>
                </a:lnTo>
                <a:lnTo>
                  <a:pt x="10760" y="11351"/>
                </a:lnTo>
                <a:lnTo>
                  <a:pt x="10584" y="11466"/>
                </a:lnTo>
                <a:lnTo>
                  <a:pt x="10350" y="11528"/>
                </a:lnTo>
                <a:lnTo>
                  <a:pt x="10231" y="11585"/>
                </a:lnTo>
                <a:lnTo>
                  <a:pt x="10055" y="11704"/>
                </a:lnTo>
                <a:lnTo>
                  <a:pt x="9878" y="11704"/>
                </a:lnTo>
                <a:lnTo>
                  <a:pt x="9702" y="11704"/>
                </a:lnTo>
                <a:lnTo>
                  <a:pt x="9526" y="11704"/>
                </a:lnTo>
                <a:lnTo>
                  <a:pt x="9349" y="11642"/>
                </a:lnTo>
                <a:lnTo>
                  <a:pt x="9173" y="11642"/>
                </a:lnTo>
                <a:lnTo>
                  <a:pt x="8996" y="11704"/>
                </a:lnTo>
                <a:lnTo>
                  <a:pt x="8820" y="11642"/>
                </a:lnTo>
                <a:lnTo>
                  <a:pt x="8644" y="11528"/>
                </a:lnTo>
                <a:lnTo>
                  <a:pt x="8467" y="11466"/>
                </a:lnTo>
                <a:lnTo>
                  <a:pt x="8291" y="11408"/>
                </a:lnTo>
                <a:lnTo>
                  <a:pt x="8114" y="11408"/>
                </a:lnTo>
                <a:lnTo>
                  <a:pt x="7938" y="11351"/>
                </a:lnTo>
                <a:lnTo>
                  <a:pt x="7823" y="11232"/>
                </a:lnTo>
                <a:lnTo>
                  <a:pt x="7704" y="11175"/>
                </a:lnTo>
                <a:lnTo>
                  <a:pt x="7585" y="11113"/>
                </a:lnTo>
                <a:lnTo>
                  <a:pt x="7352" y="11056"/>
                </a:lnTo>
                <a:lnTo>
                  <a:pt x="7232" y="11056"/>
                </a:lnTo>
                <a:lnTo>
                  <a:pt x="7055" y="10998"/>
                </a:lnTo>
                <a:lnTo>
                  <a:pt x="6879" y="10937"/>
                </a:lnTo>
                <a:lnTo>
                  <a:pt x="6702" y="10879"/>
                </a:lnTo>
                <a:lnTo>
                  <a:pt x="6469" y="10760"/>
                </a:lnTo>
                <a:lnTo>
                  <a:pt x="6350" y="10703"/>
                </a:lnTo>
                <a:lnTo>
                  <a:pt x="6173" y="10703"/>
                </a:lnTo>
                <a:lnTo>
                  <a:pt x="5939" y="10703"/>
                </a:lnTo>
                <a:lnTo>
                  <a:pt x="5820" y="10703"/>
                </a:lnTo>
                <a:lnTo>
                  <a:pt x="5644" y="10760"/>
                </a:lnTo>
                <a:lnTo>
                  <a:pt x="5410" y="10646"/>
                </a:lnTo>
                <a:lnTo>
                  <a:pt x="5291" y="10584"/>
                </a:lnTo>
                <a:lnTo>
                  <a:pt x="5115" y="10527"/>
                </a:lnTo>
                <a:lnTo>
                  <a:pt x="4881" y="10407"/>
                </a:lnTo>
                <a:lnTo>
                  <a:pt x="4762" y="10350"/>
                </a:lnTo>
                <a:lnTo>
                  <a:pt x="4586" y="10231"/>
                </a:lnTo>
                <a:lnTo>
                  <a:pt x="4409" y="10231"/>
                </a:lnTo>
                <a:lnTo>
                  <a:pt x="4233" y="10231"/>
                </a:lnTo>
                <a:lnTo>
                  <a:pt x="4056" y="10174"/>
                </a:lnTo>
                <a:lnTo>
                  <a:pt x="3880" y="10116"/>
                </a:lnTo>
                <a:lnTo>
                  <a:pt x="3704" y="10055"/>
                </a:lnTo>
                <a:lnTo>
                  <a:pt x="3527" y="9997"/>
                </a:lnTo>
                <a:lnTo>
                  <a:pt x="3351" y="9940"/>
                </a:lnTo>
                <a:lnTo>
                  <a:pt x="3175" y="9940"/>
                </a:lnTo>
                <a:lnTo>
                  <a:pt x="2998" y="9821"/>
                </a:lnTo>
                <a:lnTo>
                  <a:pt x="2822" y="9821"/>
                </a:lnTo>
                <a:lnTo>
                  <a:pt x="2707" y="9702"/>
                </a:lnTo>
                <a:lnTo>
                  <a:pt x="2588" y="9702"/>
                </a:lnTo>
                <a:lnTo>
                  <a:pt x="2469" y="9645"/>
                </a:lnTo>
                <a:lnTo>
                  <a:pt x="2293" y="9645"/>
                </a:lnTo>
                <a:lnTo>
                  <a:pt x="2002" y="9587"/>
                </a:lnTo>
                <a:lnTo>
                  <a:pt x="1882" y="9587"/>
                </a:lnTo>
                <a:lnTo>
                  <a:pt x="1763" y="9587"/>
                </a:lnTo>
                <a:lnTo>
                  <a:pt x="1587" y="9587"/>
                </a:lnTo>
                <a:lnTo>
                  <a:pt x="1411" y="9526"/>
                </a:lnTo>
                <a:lnTo>
                  <a:pt x="1234" y="9468"/>
                </a:lnTo>
                <a:lnTo>
                  <a:pt x="1058" y="9468"/>
                </a:lnTo>
                <a:lnTo>
                  <a:pt x="881" y="9468"/>
                </a:lnTo>
                <a:lnTo>
                  <a:pt x="705" y="9411"/>
                </a:lnTo>
                <a:lnTo>
                  <a:pt x="529" y="9349"/>
                </a:lnTo>
                <a:lnTo>
                  <a:pt x="352" y="9349"/>
                </a:lnTo>
                <a:lnTo>
                  <a:pt x="176" y="9349"/>
                </a:lnTo>
                <a:lnTo>
                  <a:pt x="0" y="9349"/>
                </a:lnTo>
                <a:lnTo>
                  <a:pt x="0" y="793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4" name=""/>
          <p:cNvGrpSpPr/>
          <p:nvPr/>
        </p:nvGrpSpPr>
        <p:grpSpPr>
          <a:xfrm>
            <a:off x="277920" y="3002040"/>
            <a:ext cx="1466640" cy="1581120"/>
            <a:chOff x="277920" y="3002040"/>
            <a:chExt cx="1466640" cy="1581120"/>
          </a:xfrm>
        </p:grpSpPr>
        <p:sp>
          <p:nvSpPr>
            <p:cNvPr id="5505" name=""/>
            <p:cNvSpPr txBox="1"/>
            <p:nvPr/>
          </p:nvSpPr>
          <p:spPr>
            <a:xfrm>
              <a:off x="277920" y="3002040"/>
              <a:ext cx="1333440" cy="143820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 txBox="1"/>
            <p:nvPr/>
          </p:nvSpPr>
          <p:spPr>
            <a:xfrm>
              <a:off x="331920" y="3040200"/>
              <a:ext cx="1333440" cy="143820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 txBox="1"/>
            <p:nvPr/>
          </p:nvSpPr>
          <p:spPr>
            <a:xfrm>
              <a:off x="369720" y="3097080"/>
              <a:ext cx="1333440" cy="1438200"/>
            </a:xfrm>
            <a:prstGeom prst="rect">
              <a:avLst/>
            </a:prstGeom>
            <a:blipFill rotWithShape="0">
              <a:blip r:embed="rId3"/>
              <a:tile tx="0" ty="0" sx="133018" sy="133018" algn="ctr"/>
            </a:blip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 txBox="1"/>
            <p:nvPr/>
          </p:nvSpPr>
          <p:spPr>
            <a:xfrm>
              <a:off x="411120" y="3144960"/>
              <a:ext cx="1333440" cy="1438200"/>
            </a:xfrm>
            <a:prstGeom prst="rect">
              <a:avLst/>
            </a:prstGeom>
            <a:blipFill rotWithShape="0">
              <a:blip r:embed="rId4"/>
              <a:tile tx="0" ty="0" sx="133018" sy="133018" algn="ctr"/>
            </a:blip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9" name=""/>
          <p:cNvSpPr txBox="1"/>
          <p:nvPr/>
        </p:nvSpPr>
        <p:spPr>
          <a:xfrm>
            <a:off x="2341440" y="2798640"/>
            <a:ext cx="1341360" cy="196380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D Information Delivery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 txBox="1"/>
          <p:nvPr/>
        </p:nvSpPr>
        <p:spPr>
          <a:xfrm>
            <a:off x="2711520" y="3927600"/>
            <a:ext cx="950760" cy="5587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1" name=""/>
          <p:cNvGrpSpPr/>
          <p:nvPr/>
        </p:nvGrpSpPr>
        <p:grpSpPr>
          <a:xfrm>
            <a:off x="7658280" y="3597120"/>
            <a:ext cx="643320" cy="565560"/>
            <a:chOff x="7658280" y="3597120"/>
            <a:chExt cx="643320" cy="565560"/>
          </a:xfrm>
        </p:grpSpPr>
        <p:sp>
          <p:nvSpPr>
            <p:cNvPr id="5512" name=""/>
            <p:cNvSpPr/>
            <p:nvPr/>
          </p:nvSpPr>
          <p:spPr>
            <a:xfrm>
              <a:off x="7972560" y="3973680"/>
              <a:ext cx="255960" cy="184680"/>
            </a:xfrm>
            <a:custGeom>
              <a:avLst/>
              <a:gdLst/>
              <a:ahLst/>
              <a:rect l="0" t="0" r="r" b="b"/>
              <a:pathLst>
                <a:path w="711" h="513">
                  <a:moveTo>
                    <a:pt x="699" y="513"/>
                  </a:moveTo>
                  <a:lnTo>
                    <a:pt x="711" y="495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699" y="51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7931160" y="4056120"/>
              <a:ext cx="300240" cy="100440"/>
            </a:xfrm>
            <a:custGeom>
              <a:avLst/>
              <a:gdLst/>
              <a:ahLst/>
              <a:rect l="0" t="0" r="r" b="b"/>
              <a:pathLst>
                <a:path w="834" h="279">
                  <a:moveTo>
                    <a:pt x="826" y="279"/>
                  </a:moveTo>
                  <a:lnTo>
                    <a:pt x="834" y="260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826" y="27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7686720" y="3979800"/>
              <a:ext cx="278280" cy="147960"/>
            </a:xfrm>
            <a:custGeom>
              <a:avLst/>
              <a:gdLst/>
              <a:ahLst/>
              <a:rect l="0" t="0" r="r" b="b"/>
              <a:pathLst>
                <a:path w="773" h="411">
                  <a:moveTo>
                    <a:pt x="7" y="411"/>
                  </a:moveTo>
                  <a:lnTo>
                    <a:pt x="0" y="390"/>
                  </a:lnTo>
                  <a:lnTo>
                    <a:pt x="768" y="0"/>
                  </a:lnTo>
                  <a:lnTo>
                    <a:pt x="773" y="12"/>
                  </a:lnTo>
                  <a:lnTo>
                    <a:pt x="7" y="4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686720" y="4079880"/>
              <a:ext cx="311400" cy="47880"/>
            </a:xfrm>
            <a:custGeom>
              <a:avLst/>
              <a:gdLst/>
              <a:ahLst/>
              <a:rect l="0" t="0" r="r" b="b"/>
              <a:pathLst>
                <a:path w="865" h="133">
                  <a:moveTo>
                    <a:pt x="0" y="133"/>
                  </a:moveTo>
                  <a:lnTo>
                    <a:pt x="0" y="110"/>
                  </a:lnTo>
                  <a:lnTo>
                    <a:pt x="865" y="0"/>
                  </a:lnTo>
                  <a:lnTo>
                    <a:pt x="865" y="15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7999560" y="407988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10" y="85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8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7658280" y="412596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95" y="0"/>
                  </a:moveTo>
                  <a:lnTo>
                    <a:pt x="114" y="0"/>
                  </a:lnTo>
                  <a:lnTo>
                    <a:pt x="133" y="0"/>
                  </a:lnTo>
                  <a:lnTo>
                    <a:pt x="151" y="0"/>
                  </a:lnTo>
                  <a:lnTo>
                    <a:pt x="165" y="1"/>
                  </a:lnTo>
                  <a:lnTo>
                    <a:pt x="170" y="1"/>
                  </a:lnTo>
                  <a:lnTo>
                    <a:pt x="175" y="3"/>
                  </a:lnTo>
                  <a:lnTo>
                    <a:pt x="179" y="3"/>
                  </a:lnTo>
                  <a:lnTo>
                    <a:pt x="184" y="3"/>
                  </a:lnTo>
                  <a:lnTo>
                    <a:pt x="189" y="4"/>
                  </a:lnTo>
                  <a:lnTo>
                    <a:pt x="189" y="5"/>
                  </a:lnTo>
                  <a:lnTo>
                    <a:pt x="191" y="6"/>
                  </a:lnTo>
                  <a:lnTo>
                    <a:pt x="191" y="6"/>
                  </a:lnTo>
                  <a:lnTo>
                    <a:pt x="189" y="6"/>
                  </a:lnTo>
                  <a:lnTo>
                    <a:pt x="186" y="8"/>
                  </a:lnTo>
                  <a:lnTo>
                    <a:pt x="184" y="9"/>
                  </a:lnTo>
                  <a:lnTo>
                    <a:pt x="179" y="9"/>
                  </a:lnTo>
                  <a:lnTo>
                    <a:pt x="175" y="9"/>
                  </a:lnTo>
                  <a:lnTo>
                    <a:pt x="170" y="10"/>
                  </a:lnTo>
                  <a:lnTo>
                    <a:pt x="165" y="10"/>
                  </a:lnTo>
                  <a:lnTo>
                    <a:pt x="151" y="10"/>
                  </a:lnTo>
                  <a:lnTo>
                    <a:pt x="133" y="10"/>
                  </a:lnTo>
                  <a:lnTo>
                    <a:pt x="114" y="10"/>
                  </a:lnTo>
                  <a:lnTo>
                    <a:pt x="95" y="10"/>
                  </a:lnTo>
                  <a:lnTo>
                    <a:pt x="79" y="10"/>
                  </a:lnTo>
                  <a:lnTo>
                    <a:pt x="60" y="10"/>
                  </a:lnTo>
                  <a:lnTo>
                    <a:pt x="45" y="10"/>
                  </a:lnTo>
                  <a:lnTo>
                    <a:pt x="28" y="10"/>
                  </a:lnTo>
                  <a:lnTo>
                    <a:pt x="23" y="9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7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60" y="0"/>
                  </a:lnTo>
                  <a:lnTo>
                    <a:pt x="79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969320" y="4111560"/>
              <a:ext cx="66960" cy="5040"/>
            </a:xfrm>
            <a:custGeom>
              <a:avLst/>
              <a:gdLst/>
              <a:ahLst/>
              <a:rect l="0" t="0" r="r" b="b"/>
              <a:pathLst>
                <a:path w="186" h="14">
                  <a:moveTo>
                    <a:pt x="88" y="0"/>
                  </a:moveTo>
                  <a:lnTo>
                    <a:pt x="109" y="1"/>
                  </a:lnTo>
                  <a:lnTo>
                    <a:pt x="128" y="1"/>
                  </a:lnTo>
                  <a:lnTo>
                    <a:pt x="142" y="2"/>
                  </a:lnTo>
                  <a:lnTo>
                    <a:pt x="157" y="2"/>
                  </a:lnTo>
                  <a:lnTo>
                    <a:pt x="164" y="3"/>
                  </a:lnTo>
                  <a:lnTo>
                    <a:pt x="169" y="3"/>
                  </a:lnTo>
                  <a:lnTo>
                    <a:pt x="174" y="4"/>
                  </a:lnTo>
                  <a:lnTo>
                    <a:pt x="178" y="4"/>
                  </a:lnTo>
                  <a:lnTo>
                    <a:pt x="181" y="4"/>
                  </a:lnTo>
                  <a:lnTo>
                    <a:pt x="183" y="5"/>
                  </a:lnTo>
                  <a:lnTo>
                    <a:pt x="186" y="5"/>
                  </a:lnTo>
                  <a:lnTo>
                    <a:pt x="186" y="6"/>
                  </a:lnTo>
                  <a:lnTo>
                    <a:pt x="186" y="8"/>
                  </a:lnTo>
                  <a:lnTo>
                    <a:pt x="183" y="9"/>
                  </a:lnTo>
                  <a:lnTo>
                    <a:pt x="181" y="9"/>
                  </a:lnTo>
                  <a:lnTo>
                    <a:pt x="178" y="10"/>
                  </a:lnTo>
                  <a:lnTo>
                    <a:pt x="174" y="11"/>
                  </a:lnTo>
                  <a:lnTo>
                    <a:pt x="169" y="11"/>
                  </a:lnTo>
                  <a:lnTo>
                    <a:pt x="164" y="12"/>
                  </a:lnTo>
                  <a:lnTo>
                    <a:pt x="157" y="12"/>
                  </a:lnTo>
                  <a:lnTo>
                    <a:pt x="142" y="13"/>
                  </a:lnTo>
                  <a:lnTo>
                    <a:pt x="128" y="14"/>
                  </a:lnTo>
                  <a:lnTo>
                    <a:pt x="109" y="14"/>
                  </a:lnTo>
                  <a:lnTo>
                    <a:pt x="88" y="14"/>
                  </a:lnTo>
                  <a:lnTo>
                    <a:pt x="69" y="14"/>
                  </a:lnTo>
                  <a:lnTo>
                    <a:pt x="55" y="13"/>
                  </a:lnTo>
                  <a:lnTo>
                    <a:pt x="38" y="13"/>
                  </a:lnTo>
                  <a:lnTo>
                    <a:pt x="26" y="12"/>
                  </a:lnTo>
                  <a:lnTo>
                    <a:pt x="19" y="11"/>
                  </a:lnTo>
                  <a:lnTo>
                    <a:pt x="14" y="11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9" y="3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8" y="1"/>
                  </a:lnTo>
                  <a:lnTo>
                    <a:pt x="55" y="1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8228160" y="4046400"/>
              <a:ext cx="66960" cy="5040"/>
            </a:xfrm>
            <a:custGeom>
              <a:avLst/>
              <a:gdLst/>
              <a:ahLst/>
              <a:rect l="0" t="0" r="r" b="b"/>
              <a:pathLst>
                <a:path w="186" h="14">
                  <a:moveTo>
                    <a:pt x="95" y="0"/>
                  </a:moveTo>
                  <a:lnTo>
                    <a:pt x="114" y="1"/>
                  </a:lnTo>
                  <a:lnTo>
                    <a:pt x="129" y="1"/>
                  </a:lnTo>
                  <a:lnTo>
                    <a:pt x="145" y="1"/>
                  </a:lnTo>
                  <a:lnTo>
                    <a:pt x="157" y="2"/>
                  </a:lnTo>
                  <a:lnTo>
                    <a:pt x="164" y="3"/>
                  </a:lnTo>
                  <a:lnTo>
                    <a:pt x="169" y="3"/>
                  </a:lnTo>
                  <a:lnTo>
                    <a:pt x="174" y="4"/>
                  </a:lnTo>
                  <a:lnTo>
                    <a:pt x="179" y="5"/>
                  </a:lnTo>
                  <a:lnTo>
                    <a:pt x="181" y="5"/>
                  </a:lnTo>
                  <a:lnTo>
                    <a:pt x="183" y="6"/>
                  </a:lnTo>
                  <a:lnTo>
                    <a:pt x="186" y="8"/>
                  </a:lnTo>
                  <a:lnTo>
                    <a:pt x="186" y="9"/>
                  </a:lnTo>
                  <a:lnTo>
                    <a:pt x="186" y="10"/>
                  </a:lnTo>
                  <a:lnTo>
                    <a:pt x="183" y="10"/>
                  </a:lnTo>
                  <a:lnTo>
                    <a:pt x="181" y="10"/>
                  </a:lnTo>
                  <a:lnTo>
                    <a:pt x="179" y="11"/>
                  </a:lnTo>
                  <a:lnTo>
                    <a:pt x="174" y="11"/>
                  </a:lnTo>
                  <a:lnTo>
                    <a:pt x="169" y="12"/>
                  </a:lnTo>
                  <a:lnTo>
                    <a:pt x="164" y="12"/>
                  </a:lnTo>
                  <a:lnTo>
                    <a:pt x="157" y="12"/>
                  </a:lnTo>
                  <a:lnTo>
                    <a:pt x="145" y="13"/>
                  </a:lnTo>
                  <a:lnTo>
                    <a:pt x="129" y="14"/>
                  </a:lnTo>
                  <a:lnTo>
                    <a:pt x="112" y="14"/>
                  </a:lnTo>
                  <a:lnTo>
                    <a:pt x="95" y="14"/>
                  </a:lnTo>
                  <a:lnTo>
                    <a:pt x="75" y="14"/>
                  </a:lnTo>
                  <a:lnTo>
                    <a:pt x="56" y="13"/>
                  </a:lnTo>
                  <a:lnTo>
                    <a:pt x="40" y="13"/>
                  </a:lnTo>
                  <a:lnTo>
                    <a:pt x="28" y="12"/>
                  </a:lnTo>
                  <a:lnTo>
                    <a:pt x="21" y="12"/>
                  </a:lnTo>
                  <a:lnTo>
                    <a:pt x="14" y="11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4" y="3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40" y="1"/>
                  </a:lnTo>
                  <a:lnTo>
                    <a:pt x="56" y="1"/>
                  </a:lnTo>
                  <a:lnTo>
                    <a:pt x="75" y="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8193240" y="4156200"/>
              <a:ext cx="66960" cy="5040"/>
            </a:xfrm>
            <a:custGeom>
              <a:avLst/>
              <a:gdLst/>
              <a:ahLst/>
              <a:rect l="0" t="0" r="r" b="b"/>
              <a:pathLst>
                <a:path w="186" h="14">
                  <a:moveTo>
                    <a:pt x="95" y="0"/>
                  </a:moveTo>
                  <a:lnTo>
                    <a:pt x="114" y="1"/>
                  </a:lnTo>
                  <a:lnTo>
                    <a:pt x="131" y="1"/>
                  </a:lnTo>
                  <a:lnTo>
                    <a:pt x="145" y="2"/>
                  </a:lnTo>
                  <a:lnTo>
                    <a:pt x="160" y="2"/>
                  </a:lnTo>
                  <a:lnTo>
                    <a:pt x="164" y="3"/>
                  </a:lnTo>
                  <a:lnTo>
                    <a:pt x="169" y="4"/>
                  </a:lnTo>
                  <a:lnTo>
                    <a:pt x="174" y="4"/>
                  </a:lnTo>
                  <a:lnTo>
                    <a:pt x="179" y="5"/>
                  </a:lnTo>
                  <a:lnTo>
                    <a:pt x="181" y="6"/>
                  </a:lnTo>
                  <a:lnTo>
                    <a:pt x="183" y="6"/>
                  </a:lnTo>
                  <a:lnTo>
                    <a:pt x="186" y="8"/>
                  </a:lnTo>
                  <a:lnTo>
                    <a:pt x="186" y="9"/>
                  </a:lnTo>
                  <a:lnTo>
                    <a:pt x="183" y="10"/>
                  </a:lnTo>
                  <a:lnTo>
                    <a:pt x="181" y="11"/>
                  </a:lnTo>
                  <a:lnTo>
                    <a:pt x="179" y="11"/>
                  </a:lnTo>
                  <a:lnTo>
                    <a:pt x="174" y="11"/>
                  </a:lnTo>
                  <a:lnTo>
                    <a:pt x="169" y="12"/>
                  </a:lnTo>
                  <a:lnTo>
                    <a:pt x="164" y="12"/>
                  </a:lnTo>
                  <a:lnTo>
                    <a:pt x="160" y="13"/>
                  </a:lnTo>
                  <a:lnTo>
                    <a:pt x="145" y="13"/>
                  </a:lnTo>
                  <a:lnTo>
                    <a:pt x="131" y="13"/>
                  </a:lnTo>
                  <a:lnTo>
                    <a:pt x="114" y="14"/>
                  </a:lnTo>
                  <a:lnTo>
                    <a:pt x="95" y="14"/>
                  </a:lnTo>
                  <a:lnTo>
                    <a:pt x="75" y="14"/>
                  </a:lnTo>
                  <a:lnTo>
                    <a:pt x="56" y="13"/>
                  </a:lnTo>
                  <a:lnTo>
                    <a:pt x="42" y="13"/>
                  </a:lnTo>
                  <a:lnTo>
                    <a:pt x="28" y="12"/>
                  </a:lnTo>
                  <a:lnTo>
                    <a:pt x="21" y="12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42" y="2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696080" y="4046400"/>
              <a:ext cx="562320" cy="79560"/>
            </a:xfrm>
            <a:custGeom>
              <a:avLst/>
              <a:gdLst/>
              <a:ahLst/>
              <a:rect l="0" t="0" r="r" b="b"/>
              <a:pathLst>
                <a:path w="1562" h="221">
                  <a:moveTo>
                    <a:pt x="7" y="196"/>
                  </a:moveTo>
                  <a:lnTo>
                    <a:pt x="1562" y="0"/>
                  </a:lnTo>
                  <a:lnTo>
                    <a:pt x="1562" y="24"/>
                  </a:lnTo>
                  <a:lnTo>
                    <a:pt x="0" y="221"/>
                  </a:lnTo>
                  <a:lnTo>
                    <a:pt x="7" y="1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8226360" y="4049640"/>
              <a:ext cx="32040" cy="105120"/>
            </a:xfrm>
            <a:custGeom>
              <a:avLst/>
              <a:gdLst/>
              <a:ahLst/>
              <a:rect l="0" t="0" r="r" b="b"/>
              <a:pathLst>
                <a:path w="89" h="292">
                  <a:moveTo>
                    <a:pt x="0" y="272"/>
                  </a:moveTo>
                  <a:lnTo>
                    <a:pt x="89" y="0"/>
                  </a:lnTo>
                  <a:lnTo>
                    <a:pt x="89" y="12"/>
                  </a:lnTo>
                  <a:lnTo>
                    <a:pt x="17" y="29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7980480" y="3975120"/>
              <a:ext cx="257400" cy="186120"/>
            </a:xfrm>
            <a:custGeom>
              <a:avLst/>
              <a:gdLst/>
              <a:ahLst/>
              <a:rect l="0" t="0" r="r" b="b"/>
              <a:pathLst>
                <a:path w="715" h="517">
                  <a:moveTo>
                    <a:pt x="702" y="517"/>
                  </a:moveTo>
                  <a:lnTo>
                    <a:pt x="715" y="497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702" y="51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7940520" y="4059360"/>
              <a:ext cx="298800" cy="98640"/>
            </a:xfrm>
            <a:custGeom>
              <a:avLst/>
              <a:gdLst/>
              <a:ahLst/>
              <a:rect l="0" t="0" r="r" b="b"/>
              <a:pathLst>
                <a:path w="830" h="274">
                  <a:moveTo>
                    <a:pt x="824" y="274"/>
                  </a:moveTo>
                  <a:lnTo>
                    <a:pt x="830" y="257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824" y="27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7697880" y="3983040"/>
              <a:ext cx="276480" cy="149760"/>
            </a:xfrm>
            <a:custGeom>
              <a:avLst/>
              <a:gdLst/>
              <a:ahLst/>
              <a:rect l="0" t="0" r="r" b="b"/>
              <a:pathLst>
                <a:path w="768" h="416">
                  <a:moveTo>
                    <a:pt x="5" y="416"/>
                  </a:moveTo>
                  <a:lnTo>
                    <a:pt x="0" y="396"/>
                  </a:lnTo>
                  <a:lnTo>
                    <a:pt x="760" y="0"/>
                  </a:lnTo>
                  <a:lnTo>
                    <a:pt x="768" y="12"/>
                  </a:lnTo>
                  <a:lnTo>
                    <a:pt x="5" y="41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7697880" y="4083120"/>
              <a:ext cx="308160" cy="49680"/>
            </a:xfrm>
            <a:custGeom>
              <a:avLst/>
              <a:gdLst/>
              <a:ahLst/>
              <a:rect l="0" t="0" r="r" b="b"/>
              <a:pathLst>
                <a:path w="856" h="138">
                  <a:moveTo>
                    <a:pt x="0" y="138"/>
                  </a:moveTo>
                  <a:lnTo>
                    <a:pt x="0" y="115"/>
                  </a:lnTo>
                  <a:lnTo>
                    <a:pt x="856" y="0"/>
                  </a:lnTo>
                  <a:lnTo>
                    <a:pt x="856" y="1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8008920" y="408312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5" y="85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8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7669080" y="413064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95" y="0"/>
                  </a:moveTo>
                  <a:lnTo>
                    <a:pt x="114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63" y="0"/>
                  </a:lnTo>
                  <a:lnTo>
                    <a:pt x="170" y="1"/>
                  </a:lnTo>
                  <a:lnTo>
                    <a:pt x="175" y="3"/>
                  </a:lnTo>
                  <a:lnTo>
                    <a:pt x="179" y="3"/>
                  </a:lnTo>
                  <a:lnTo>
                    <a:pt x="184" y="3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1" y="5"/>
                  </a:lnTo>
                  <a:lnTo>
                    <a:pt x="191" y="6"/>
                  </a:lnTo>
                  <a:lnTo>
                    <a:pt x="191" y="6"/>
                  </a:lnTo>
                  <a:lnTo>
                    <a:pt x="189" y="6"/>
                  </a:lnTo>
                  <a:lnTo>
                    <a:pt x="186" y="8"/>
                  </a:lnTo>
                  <a:lnTo>
                    <a:pt x="184" y="8"/>
                  </a:lnTo>
                  <a:lnTo>
                    <a:pt x="179" y="8"/>
                  </a:lnTo>
                  <a:lnTo>
                    <a:pt x="175" y="9"/>
                  </a:lnTo>
                  <a:lnTo>
                    <a:pt x="170" y="9"/>
                  </a:lnTo>
                  <a:lnTo>
                    <a:pt x="163" y="10"/>
                  </a:lnTo>
                  <a:lnTo>
                    <a:pt x="148" y="10"/>
                  </a:lnTo>
                  <a:lnTo>
                    <a:pt x="133" y="10"/>
                  </a:lnTo>
                  <a:lnTo>
                    <a:pt x="114" y="10"/>
                  </a:lnTo>
                  <a:lnTo>
                    <a:pt x="95" y="10"/>
                  </a:lnTo>
                  <a:lnTo>
                    <a:pt x="76" y="10"/>
                  </a:lnTo>
                  <a:lnTo>
                    <a:pt x="60" y="10"/>
                  </a:lnTo>
                  <a:lnTo>
                    <a:pt x="45" y="10"/>
                  </a:lnTo>
                  <a:lnTo>
                    <a:pt x="28" y="10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8" y="3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0" y="0"/>
                  </a:lnTo>
                  <a:lnTo>
                    <a:pt x="76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7978680" y="4116240"/>
              <a:ext cx="65520" cy="3600"/>
            </a:xfrm>
            <a:custGeom>
              <a:avLst/>
              <a:gdLst/>
              <a:ahLst/>
              <a:rect l="0" t="0" r="r" b="b"/>
              <a:pathLst>
                <a:path w="182" h="10">
                  <a:moveTo>
                    <a:pt x="87" y="0"/>
                  </a:moveTo>
                  <a:lnTo>
                    <a:pt x="109" y="0"/>
                  </a:lnTo>
                  <a:lnTo>
                    <a:pt x="125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61" y="1"/>
                  </a:lnTo>
                  <a:lnTo>
                    <a:pt x="168" y="1"/>
                  </a:lnTo>
                  <a:lnTo>
                    <a:pt x="173" y="1"/>
                  </a:lnTo>
                  <a:lnTo>
                    <a:pt x="175" y="3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2" y="3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180" y="5"/>
                  </a:lnTo>
                  <a:lnTo>
                    <a:pt x="180" y="6"/>
                  </a:lnTo>
                  <a:lnTo>
                    <a:pt x="175" y="6"/>
                  </a:lnTo>
                  <a:lnTo>
                    <a:pt x="173" y="8"/>
                  </a:lnTo>
                  <a:lnTo>
                    <a:pt x="168" y="8"/>
                  </a:lnTo>
                  <a:lnTo>
                    <a:pt x="161" y="9"/>
                  </a:lnTo>
                  <a:lnTo>
                    <a:pt x="156" y="9"/>
                  </a:lnTo>
                  <a:lnTo>
                    <a:pt x="142" y="10"/>
                  </a:lnTo>
                  <a:lnTo>
                    <a:pt x="125" y="10"/>
                  </a:lnTo>
                  <a:lnTo>
                    <a:pt x="109" y="10"/>
                  </a:lnTo>
                  <a:lnTo>
                    <a:pt x="87" y="10"/>
                  </a:lnTo>
                  <a:lnTo>
                    <a:pt x="71" y="10"/>
                  </a:lnTo>
                  <a:lnTo>
                    <a:pt x="55" y="10"/>
                  </a:lnTo>
                  <a:lnTo>
                    <a:pt x="39" y="10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8236080" y="4049640"/>
              <a:ext cx="65520" cy="5040"/>
            </a:xfrm>
            <a:custGeom>
              <a:avLst/>
              <a:gdLst/>
              <a:ahLst/>
              <a:rect l="0" t="0" r="r" b="b"/>
              <a:pathLst>
                <a:path w="182" h="14">
                  <a:moveTo>
                    <a:pt x="94" y="0"/>
                  </a:moveTo>
                  <a:lnTo>
                    <a:pt x="111" y="0"/>
                  </a:lnTo>
                  <a:lnTo>
                    <a:pt x="127" y="0"/>
                  </a:lnTo>
                  <a:lnTo>
                    <a:pt x="142" y="1"/>
                  </a:lnTo>
                  <a:lnTo>
                    <a:pt x="156" y="2"/>
                  </a:lnTo>
                  <a:lnTo>
                    <a:pt x="161" y="2"/>
                  </a:lnTo>
                  <a:lnTo>
                    <a:pt x="168" y="3"/>
                  </a:lnTo>
                  <a:lnTo>
                    <a:pt x="173" y="3"/>
                  </a:lnTo>
                  <a:lnTo>
                    <a:pt x="175" y="4"/>
                  </a:lnTo>
                  <a:lnTo>
                    <a:pt x="180" y="5"/>
                  </a:lnTo>
                  <a:lnTo>
                    <a:pt x="180" y="6"/>
                  </a:lnTo>
                  <a:lnTo>
                    <a:pt x="182" y="8"/>
                  </a:lnTo>
                  <a:lnTo>
                    <a:pt x="182" y="9"/>
                  </a:lnTo>
                  <a:lnTo>
                    <a:pt x="180" y="9"/>
                  </a:lnTo>
                  <a:lnTo>
                    <a:pt x="180" y="10"/>
                  </a:lnTo>
                  <a:lnTo>
                    <a:pt x="175" y="10"/>
                  </a:lnTo>
                  <a:lnTo>
                    <a:pt x="173" y="11"/>
                  </a:lnTo>
                  <a:lnTo>
                    <a:pt x="168" y="11"/>
                  </a:lnTo>
                  <a:lnTo>
                    <a:pt x="161" y="12"/>
                  </a:lnTo>
                  <a:lnTo>
                    <a:pt x="156" y="12"/>
                  </a:lnTo>
                  <a:lnTo>
                    <a:pt x="142" y="12"/>
                  </a:lnTo>
                  <a:lnTo>
                    <a:pt x="127" y="13"/>
                  </a:lnTo>
                  <a:lnTo>
                    <a:pt x="111" y="13"/>
                  </a:lnTo>
                  <a:lnTo>
                    <a:pt x="94" y="14"/>
                  </a:lnTo>
                  <a:lnTo>
                    <a:pt x="76" y="13"/>
                  </a:lnTo>
                  <a:lnTo>
                    <a:pt x="57" y="13"/>
                  </a:lnTo>
                  <a:lnTo>
                    <a:pt x="39" y="12"/>
                  </a:lnTo>
                  <a:lnTo>
                    <a:pt x="28" y="12"/>
                  </a:lnTo>
                  <a:lnTo>
                    <a:pt x="21" y="12"/>
                  </a:lnTo>
                  <a:lnTo>
                    <a:pt x="14" y="11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4" y="3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39" y="1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8202600" y="4159080"/>
              <a:ext cx="65520" cy="3600"/>
            </a:xfrm>
            <a:custGeom>
              <a:avLst/>
              <a:gdLst/>
              <a:ahLst/>
              <a:rect l="0" t="0" r="r" b="b"/>
              <a:pathLst>
                <a:path w="182" h="10">
                  <a:moveTo>
                    <a:pt x="94" y="0"/>
                  </a:moveTo>
                  <a:lnTo>
                    <a:pt x="111" y="0"/>
                  </a:lnTo>
                  <a:lnTo>
                    <a:pt x="127" y="0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68" y="3"/>
                  </a:lnTo>
                  <a:lnTo>
                    <a:pt x="173" y="3"/>
                  </a:lnTo>
                  <a:lnTo>
                    <a:pt x="175" y="3"/>
                  </a:lnTo>
                  <a:lnTo>
                    <a:pt x="180" y="4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0" y="8"/>
                  </a:lnTo>
                  <a:lnTo>
                    <a:pt x="175" y="8"/>
                  </a:lnTo>
                  <a:lnTo>
                    <a:pt x="173" y="8"/>
                  </a:lnTo>
                  <a:lnTo>
                    <a:pt x="168" y="9"/>
                  </a:lnTo>
                  <a:lnTo>
                    <a:pt x="164" y="9"/>
                  </a:lnTo>
                  <a:lnTo>
                    <a:pt x="156" y="10"/>
                  </a:lnTo>
                  <a:lnTo>
                    <a:pt x="145" y="10"/>
                  </a:lnTo>
                  <a:lnTo>
                    <a:pt x="127" y="10"/>
                  </a:lnTo>
                  <a:lnTo>
                    <a:pt x="111" y="10"/>
                  </a:lnTo>
                  <a:lnTo>
                    <a:pt x="94" y="10"/>
                  </a:lnTo>
                  <a:lnTo>
                    <a:pt x="76" y="10"/>
                  </a:lnTo>
                  <a:lnTo>
                    <a:pt x="57" y="10"/>
                  </a:lnTo>
                  <a:lnTo>
                    <a:pt x="39" y="10"/>
                  </a:lnTo>
                  <a:lnTo>
                    <a:pt x="25" y="10"/>
                  </a:lnTo>
                  <a:lnTo>
                    <a:pt x="21" y="9"/>
                  </a:lnTo>
                  <a:lnTo>
                    <a:pt x="16" y="9"/>
                  </a:lnTo>
                  <a:lnTo>
                    <a:pt x="11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7707240" y="4049640"/>
              <a:ext cx="559080" cy="79560"/>
            </a:xfrm>
            <a:custGeom>
              <a:avLst/>
              <a:gdLst/>
              <a:ahLst/>
              <a:rect l="0" t="0" r="r" b="b"/>
              <a:pathLst>
                <a:path w="1553" h="221">
                  <a:moveTo>
                    <a:pt x="5" y="197"/>
                  </a:moveTo>
                  <a:lnTo>
                    <a:pt x="1553" y="0"/>
                  </a:lnTo>
                  <a:lnTo>
                    <a:pt x="1553" y="23"/>
                  </a:lnTo>
                  <a:lnTo>
                    <a:pt x="0" y="221"/>
                  </a:lnTo>
                  <a:lnTo>
                    <a:pt x="5" y="19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7988400" y="3970440"/>
              <a:ext cx="278280" cy="76680"/>
            </a:xfrm>
            <a:custGeom>
              <a:avLst/>
              <a:gdLst/>
              <a:ahLst/>
              <a:rect l="0" t="0" r="r" b="b"/>
              <a:pathLst>
                <a:path w="773" h="213">
                  <a:moveTo>
                    <a:pt x="0" y="0"/>
                  </a:moveTo>
                  <a:lnTo>
                    <a:pt x="773" y="194"/>
                  </a:lnTo>
                  <a:lnTo>
                    <a:pt x="773" y="213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8236080" y="4051440"/>
              <a:ext cx="30600" cy="105120"/>
            </a:xfrm>
            <a:custGeom>
              <a:avLst/>
              <a:gdLst/>
              <a:ahLst/>
              <a:rect l="0" t="0" r="r" b="b"/>
              <a:pathLst>
                <a:path w="85" h="292">
                  <a:moveTo>
                    <a:pt x="0" y="272"/>
                  </a:moveTo>
                  <a:lnTo>
                    <a:pt x="85" y="0"/>
                  </a:lnTo>
                  <a:lnTo>
                    <a:pt x="85" y="9"/>
                  </a:lnTo>
                  <a:lnTo>
                    <a:pt x="14" y="29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8016840" y="4051440"/>
              <a:ext cx="246600" cy="35280"/>
            </a:xfrm>
            <a:custGeom>
              <a:avLst/>
              <a:gdLst/>
              <a:ahLst/>
              <a:rect l="0" t="0" r="r" b="b"/>
              <a:pathLst>
                <a:path w="685" h="98">
                  <a:moveTo>
                    <a:pt x="0" y="75"/>
                  </a:moveTo>
                  <a:lnTo>
                    <a:pt x="685" y="0"/>
                  </a:lnTo>
                  <a:lnTo>
                    <a:pt x="685" y="8"/>
                  </a:lnTo>
                  <a:lnTo>
                    <a:pt x="0" y="98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8050320" y="4064040"/>
              <a:ext cx="11520" cy="6840"/>
            </a:xfrm>
            <a:custGeom>
              <a:avLst/>
              <a:gdLst/>
              <a:ahLst/>
              <a:rect l="0" t="0" r="r" b="b"/>
              <a:pathLst>
                <a:path w="32" h="19">
                  <a:moveTo>
                    <a:pt x="0" y="12"/>
                  </a:moveTo>
                  <a:lnTo>
                    <a:pt x="23" y="19"/>
                  </a:lnTo>
                  <a:lnTo>
                    <a:pt x="32" y="0"/>
                  </a:lnTo>
                  <a:lnTo>
                    <a:pt x="9" y="11"/>
                  </a:lnTo>
                  <a:lnTo>
                    <a:pt x="0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8129520" y="4027320"/>
              <a:ext cx="6840" cy="3600"/>
            </a:xfrm>
            <a:custGeom>
              <a:avLst/>
              <a:gdLst/>
              <a:ahLst/>
              <a:rect l="0" t="0" r="r" b="b"/>
              <a:pathLst>
                <a:path w="19" h="10">
                  <a:moveTo>
                    <a:pt x="0" y="5"/>
                  </a:moveTo>
                  <a:lnTo>
                    <a:pt x="19" y="10"/>
                  </a:lnTo>
                  <a:lnTo>
                    <a:pt x="13" y="0"/>
                  </a:lnTo>
                  <a:lnTo>
                    <a:pt x="7" y="5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8185320" y="396072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2" y="0"/>
                  </a:moveTo>
                  <a:lnTo>
                    <a:pt x="27" y="27"/>
                  </a:lnTo>
                  <a:lnTo>
                    <a:pt x="2" y="22"/>
                  </a:lnTo>
                  <a:lnTo>
                    <a:pt x="9" y="19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7f7f7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7807320" y="3598920"/>
              <a:ext cx="422640" cy="484560"/>
            </a:xfrm>
            <a:custGeom>
              <a:avLst/>
              <a:gdLst/>
              <a:ahLst/>
              <a:rect l="0" t="0" r="r" b="b"/>
              <a:pathLst>
                <a:path w="1174" h="1346">
                  <a:moveTo>
                    <a:pt x="976" y="103"/>
                  </a:moveTo>
                  <a:lnTo>
                    <a:pt x="1119" y="309"/>
                  </a:lnTo>
                  <a:lnTo>
                    <a:pt x="1174" y="549"/>
                  </a:lnTo>
                  <a:lnTo>
                    <a:pt x="1156" y="768"/>
                  </a:lnTo>
                  <a:lnTo>
                    <a:pt x="1063" y="1001"/>
                  </a:lnTo>
                  <a:lnTo>
                    <a:pt x="920" y="1188"/>
                  </a:lnTo>
                  <a:lnTo>
                    <a:pt x="710" y="1317"/>
                  </a:lnTo>
                  <a:lnTo>
                    <a:pt x="440" y="1346"/>
                  </a:lnTo>
                  <a:lnTo>
                    <a:pt x="182" y="1217"/>
                  </a:lnTo>
                  <a:lnTo>
                    <a:pt x="52" y="1029"/>
                  </a:lnTo>
                  <a:lnTo>
                    <a:pt x="0" y="805"/>
                  </a:lnTo>
                  <a:lnTo>
                    <a:pt x="18" y="567"/>
                  </a:lnTo>
                  <a:lnTo>
                    <a:pt x="103" y="350"/>
                  </a:lnTo>
                  <a:lnTo>
                    <a:pt x="246" y="169"/>
                  </a:lnTo>
                  <a:lnTo>
                    <a:pt x="459" y="34"/>
                  </a:lnTo>
                  <a:lnTo>
                    <a:pt x="710" y="0"/>
                  </a:lnTo>
                  <a:lnTo>
                    <a:pt x="976" y="103"/>
                  </a:lnTo>
                  <a:close/>
                </a:path>
              </a:pathLst>
            </a:custGeom>
            <a:solidFill>
              <a:srgbClr val="a3a3a3"/>
            </a:solidFill>
            <a:ln w="12600">
              <a:solidFill>
                <a:srgbClr val="a1a1a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7827840" y="3616200"/>
              <a:ext cx="395640" cy="452880"/>
            </a:xfrm>
            <a:custGeom>
              <a:avLst/>
              <a:gdLst/>
              <a:ahLst/>
              <a:rect l="0" t="0" r="r" b="b"/>
              <a:pathLst>
                <a:path w="1099" h="1258">
                  <a:moveTo>
                    <a:pt x="0" y="620"/>
                  </a:moveTo>
                  <a:lnTo>
                    <a:pt x="0" y="596"/>
                  </a:lnTo>
                  <a:lnTo>
                    <a:pt x="0" y="573"/>
                  </a:lnTo>
                  <a:lnTo>
                    <a:pt x="2" y="550"/>
                  </a:lnTo>
                  <a:lnTo>
                    <a:pt x="5" y="526"/>
                  </a:lnTo>
                  <a:lnTo>
                    <a:pt x="10" y="503"/>
                  </a:lnTo>
                  <a:lnTo>
                    <a:pt x="15" y="479"/>
                  </a:lnTo>
                  <a:lnTo>
                    <a:pt x="20" y="458"/>
                  </a:lnTo>
                  <a:lnTo>
                    <a:pt x="28" y="435"/>
                  </a:lnTo>
                  <a:lnTo>
                    <a:pt x="41" y="404"/>
                  </a:lnTo>
                  <a:lnTo>
                    <a:pt x="51" y="373"/>
                  </a:lnTo>
                  <a:lnTo>
                    <a:pt x="67" y="344"/>
                  </a:lnTo>
                  <a:lnTo>
                    <a:pt x="83" y="315"/>
                  </a:lnTo>
                  <a:lnTo>
                    <a:pt x="98" y="288"/>
                  </a:lnTo>
                  <a:lnTo>
                    <a:pt x="114" y="262"/>
                  </a:lnTo>
                  <a:lnTo>
                    <a:pt x="132" y="236"/>
                  </a:lnTo>
                  <a:lnTo>
                    <a:pt x="150" y="213"/>
                  </a:lnTo>
                  <a:lnTo>
                    <a:pt x="171" y="189"/>
                  </a:lnTo>
                  <a:lnTo>
                    <a:pt x="192" y="169"/>
                  </a:lnTo>
                  <a:lnTo>
                    <a:pt x="212" y="148"/>
                  </a:lnTo>
                  <a:lnTo>
                    <a:pt x="233" y="130"/>
                  </a:lnTo>
                  <a:lnTo>
                    <a:pt x="256" y="114"/>
                  </a:lnTo>
                  <a:lnTo>
                    <a:pt x="277" y="96"/>
                  </a:lnTo>
                  <a:lnTo>
                    <a:pt x="301" y="80"/>
                  </a:lnTo>
                  <a:lnTo>
                    <a:pt x="327" y="67"/>
                  </a:lnTo>
                  <a:lnTo>
                    <a:pt x="350" y="54"/>
                  </a:lnTo>
                  <a:lnTo>
                    <a:pt x="373" y="41"/>
                  </a:lnTo>
                  <a:lnTo>
                    <a:pt x="399" y="33"/>
                  </a:lnTo>
                  <a:lnTo>
                    <a:pt x="425" y="23"/>
                  </a:lnTo>
                  <a:lnTo>
                    <a:pt x="449" y="15"/>
                  </a:lnTo>
                  <a:lnTo>
                    <a:pt x="477" y="10"/>
                  </a:lnTo>
                  <a:lnTo>
                    <a:pt x="503" y="5"/>
                  </a:lnTo>
                  <a:lnTo>
                    <a:pt x="529" y="2"/>
                  </a:lnTo>
                  <a:lnTo>
                    <a:pt x="556" y="0"/>
                  </a:lnTo>
                  <a:lnTo>
                    <a:pt x="585" y="0"/>
                  </a:lnTo>
                  <a:lnTo>
                    <a:pt x="611" y="2"/>
                  </a:lnTo>
                  <a:lnTo>
                    <a:pt x="636" y="5"/>
                  </a:lnTo>
                  <a:lnTo>
                    <a:pt x="665" y="10"/>
                  </a:lnTo>
                  <a:lnTo>
                    <a:pt x="691" y="15"/>
                  </a:lnTo>
                  <a:lnTo>
                    <a:pt x="717" y="20"/>
                  </a:lnTo>
                  <a:lnTo>
                    <a:pt x="745" y="31"/>
                  </a:lnTo>
                  <a:lnTo>
                    <a:pt x="766" y="39"/>
                  </a:lnTo>
                  <a:lnTo>
                    <a:pt x="792" y="44"/>
                  </a:lnTo>
                  <a:lnTo>
                    <a:pt x="818" y="49"/>
                  </a:lnTo>
                  <a:lnTo>
                    <a:pt x="842" y="54"/>
                  </a:lnTo>
                  <a:lnTo>
                    <a:pt x="865" y="59"/>
                  </a:lnTo>
                  <a:lnTo>
                    <a:pt x="886" y="67"/>
                  </a:lnTo>
                  <a:lnTo>
                    <a:pt x="893" y="72"/>
                  </a:lnTo>
                  <a:lnTo>
                    <a:pt x="901" y="78"/>
                  </a:lnTo>
                  <a:lnTo>
                    <a:pt x="909" y="85"/>
                  </a:lnTo>
                  <a:lnTo>
                    <a:pt x="917" y="93"/>
                  </a:lnTo>
                  <a:lnTo>
                    <a:pt x="1036" y="257"/>
                  </a:lnTo>
                  <a:lnTo>
                    <a:pt x="1099" y="497"/>
                  </a:lnTo>
                  <a:lnTo>
                    <a:pt x="1083" y="719"/>
                  </a:lnTo>
                  <a:lnTo>
                    <a:pt x="995" y="949"/>
                  </a:lnTo>
                  <a:lnTo>
                    <a:pt x="849" y="1131"/>
                  </a:lnTo>
                  <a:lnTo>
                    <a:pt x="639" y="1243"/>
                  </a:lnTo>
                  <a:lnTo>
                    <a:pt x="386" y="1258"/>
                  </a:lnTo>
                  <a:lnTo>
                    <a:pt x="373" y="1253"/>
                  </a:lnTo>
                  <a:lnTo>
                    <a:pt x="358" y="1245"/>
                  </a:lnTo>
                  <a:lnTo>
                    <a:pt x="345" y="1235"/>
                  </a:lnTo>
                  <a:lnTo>
                    <a:pt x="329" y="1227"/>
                  </a:lnTo>
                  <a:lnTo>
                    <a:pt x="314" y="1214"/>
                  </a:lnTo>
                  <a:lnTo>
                    <a:pt x="301" y="1204"/>
                  </a:lnTo>
                  <a:lnTo>
                    <a:pt x="285" y="1191"/>
                  </a:lnTo>
                  <a:lnTo>
                    <a:pt x="269" y="1175"/>
                  </a:lnTo>
                  <a:lnTo>
                    <a:pt x="254" y="1159"/>
                  </a:lnTo>
                  <a:lnTo>
                    <a:pt x="236" y="1144"/>
                  </a:lnTo>
                  <a:lnTo>
                    <a:pt x="220" y="1126"/>
                  </a:lnTo>
                  <a:lnTo>
                    <a:pt x="205" y="1107"/>
                  </a:lnTo>
                  <a:lnTo>
                    <a:pt x="189" y="1089"/>
                  </a:lnTo>
                  <a:lnTo>
                    <a:pt x="173" y="1068"/>
                  </a:lnTo>
                  <a:lnTo>
                    <a:pt x="160" y="1048"/>
                  </a:lnTo>
                  <a:lnTo>
                    <a:pt x="145" y="1027"/>
                  </a:lnTo>
                  <a:lnTo>
                    <a:pt x="116" y="982"/>
                  </a:lnTo>
                  <a:lnTo>
                    <a:pt x="90" y="932"/>
                  </a:lnTo>
                  <a:lnTo>
                    <a:pt x="77" y="909"/>
                  </a:lnTo>
                  <a:lnTo>
                    <a:pt x="67" y="885"/>
                  </a:lnTo>
                  <a:lnTo>
                    <a:pt x="57" y="859"/>
                  </a:lnTo>
                  <a:lnTo>
                    <a:pt x="46" y="833"/>
                  </a:lnTo>
                  <a:lnTo>
                    <a:pt x="36" y="807"/>
                  </a:lnTo>
                  <a:lnTo>
                    <a:pt x="28" y="781"/>
                  </a:lnTo>
                  <a:lnTo>
                    <a:pt x="20" y="755"/>
                  </a:lnTo>
                  <a:lnTo>
                    <a:pt x="15" y="726"/>
                  </a:lnTo>
                  <a:lnTo>
                    <a:pt x="10" y="700"/>
                  </a:lnTo>
                  <a:lnTo>
                    <a:pt x="5" y="672"/>
                  </a:lnTo>
                  <a:lnTo>
                    <a:pt x="2" y="646"/>
                  </a:lnTo>
                  <a:lnTo>
                    <a:pt x="0" y="62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7845480" y="3722760"/>
              <a:ext cx="346320" cy="241560"/>
            </a:xfrm>
            <a:custGeom>
              <a:avLst/>
              <a:gdLst/>
              <a:ahLst/>
              <a:rect l="0" t="0" r="r" b="b"/>
              <a:pathLst>
                <a:path fill="none" w="962" h="671">
                  <a:moveTo>
                    <a:pt x="0" y="0"/>
                  </a:moveTo>
                  <a:lnTo>
                    <a:pt x="23" y="13"/>
                  </a:lnTo>
                  <a:lnTo>
                    <a:pt x="47" y="26"/>
                  </a:lnTo>
                  <a:lnTo>
                    <a:pt x="76" y="39"/>
                  </a:lnTo>
                  <a:lnTo>
                    <a:pt x="102" y="55"/>
                  </a:lnTo>
                  <a:lnTo>
                    <a:pt x="132" y="74"/>
                  </a:lnTo>
                  <a:lnTo>
                    <a:pt x="161" y="92"/>
                  </a:lnTo>
                  <a:lnTo>
                    <a:pt x="192" y="108"/>
                  </a:lnTo>
                  <a:lnTo>
                    <a:pt x="224" y="129"/>
                  </a:lnTo>
                  <a:lnTo>
                    <a:pt x="256" y="151"/>
                  </a:lnTo>
                  <a:lnTo>
                    <a:pt x="290" y="172"/>
                  </a:lnTo>
                  <a:lnTo>
                    <a:pt x="322" y="193"/>
                  </a:lnTo>
                  <a:lnTo>
                    <a:pt x="356" y="214"/>
                  </a:lnTo>
                  <a:lnTo>
                    <a:pt x="425" y="262"/>
                  </a:lnTo>
                  <a:lnTo>
                    <a:pt x="494" y="309"/>
                  </a:lnTo>
                  <a:lnTo>
                    <a:pt x="563" y="358"/>
                  </a:lnTo>
                  <a:lnTo>
                    <a:pt x="629" y="408"/>
                  </a:lnTo>
                  <a:lnTo>
                    <a:pt x="663" y="432"/>
                  </a:lnTo>
                  <a:lnTo>
                    <a:pt x="695" y="456"/>
                  </a:lnTo>
                  <a:lnTo>
                    <a:pt x="727" y="480"/>
                  </a:lnTo>
                  <a:lnTo>
                    <a:pt x="756" y="504"/>
                  </a:lnTo>
                  <a:lnTo>
                    <a:pt x="788" y="525"/>
                  </a:lnTo>
                  <a:lnTo>
                    <a:pt x="817" y="549"/>
                  </a:lnTo>
                  <a:lnTo>
                    <a:pt x="843" y="570"/>
                  </a:lnTo>
                  <a:lnTo>
                    <a:pt x="869" y="594"/>
                  </a:lnTo>
                  <a:lnTo>
                    <a:pt x="893" y="612"/>
                  </a:lnTo>
                  <a:lnTo>
                    <a:pt x="920" y="634"/>
                  </a:lnTo>
                  <a:lnTo>
                    <a:pt x="941" y="652"/>
                  </a:lnTo>
                  <a:lnTo>
                    <a:pt x="962" y="671"/>
                  </a:lnTo>
                </a:path>
              </a:pathLst>
            </a:custGeom>
            <a:ln w="12600">
              <a:solidFill>
                <a:srgbClr val="b8b8b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873920" y="3635280"/>
              <a:ext cx="284400" cy="400320"/>
            </a:xfrm>
            <a:custGeom>
              <a:avLst/>
              <a:gdLst/>
              <a:ahLst/>
              <a:rect l="0" t="0" r="r" b="b"/>
              <a:pathLst>
                <a:path fill="none" w="790" h="1112">
                  <a:moveTo>
                    <a:pt x="790" y="0"/>
                  </a:moveTo>
                  <a:lnTo>
                    <a:pt x="782" y="29"/>
                  </a:lnTo>
                  <a:lnTo>
                    <a:pt x="769" y="60"/>
                  </a:lnTo>
                  <a:lnTo>
                    <a:pt x="756" y="92"/>
                  </a:lnTo>
                  <a:lnTo>
                    <a:pt x="742" y="127"/>
                  </a:lnTo>
                  <a:lnTo>
                    <a:pt x="724" y="164"/>
                  </a:lnTo>
                  <a:lnTo>
                    <a:pt x="708" y="201"/>
                  </a:lnTo>
                  <a:lnTo>
                    <a:pt x="687" y="238"/>
                  </a:lnTo>
                  <a:lnTo>
                    <a:pt x="666" y="277"/>
                  </a:lnTo>
                  <a:lnTo>
                    <a:pt x="645" y="317"/>
                  </a:lnTo>
                  <a:lnTo>
                    <a:pt x="621" y="357"/>
                  </a:lnTo>
                  <a:lnTo>
                    <a:pt x="597" y="399"/>
                  </a:lnTo>
                  <a:lnTo>
                    <a:pt x="571" y="441"/>
                  </a:lnTo>
                  <a:lnTo>
                    <a:pt x="544" y="484"/>
                  </a:lnTo>
                  <a:lnTo>
                    <a:pt x="518" y="523"/>
                  </a:lnTo>
                  <a:lnTo>
                    <a:pt x="489" y="567"/>
                  </a:lnTo>
                  <a:lnTo>
                    <a:pt x="460" y="609"/>
                  </a:lnTo>
                  <a:lnTo>
                    <a:pt x="431" y="651"/>
                  </a:lnTo>
                  <a:lnTo>
                    <a:pt x="402" y="691"/>
                  </a:lnTo>
                  <a:lnTo>
                    <a:pt x="369" y="731"/>
                  </a:lnTo>
                  <a:lnTo>
                    <a:pt x="340" y="770"/>
                  </a:lnTo>
                  <a:lnTo>
                    <a:pt x="311" y="807"/>
                  </a:lnTo>
                  <a:lnTo>
                    <a:pt x="282" y="845"/>
                  </a:lnTo>
                  <a:lnTo>
                    <a:pt x="250" y="879"/>
                  </a:lnTo>
                  <a:lnTo>
                    <a:pt x="221" y="913"/>
                  </a:lnTo>
                  <a:lnTo>
                    <a:pt x="192" y="945"/>
                  </a:lnTo>
                  <a:lnTo>
                    <a:pt x="161" y="977"/>
                  </a:lnTo>
                  <a:lnTo>
                    <a:pt x="134" y="1003"/>
                  </a:lnTo>
                  <a:lnTo>
                    <a:pt x="105" y="1030"/>
                  </a:lnTo>
                  <a:lnTo>
                    <a:pt x="76" y="1056"/>
                  </a:lnTo>
                  <a:lnTo>
                    <a:pt x="50" y="1077"/>
                  </a:lnTo>
                  <a:lnTo>
                    <a:pt x="23" y="1096"/>
                  </a:lnTo>
                  <a:lnTo>
                    <a:pt x="0" y="1112"/>
                  </a:lnTo>
                </a:path>
              </a:pathLst>
            </a:custGeom>
            <a:ln w="12600">
              <a:solidFill>
                <a:srgbClr val="b8b8b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7807320" y="3794040"/>
              <a:ext cx="424080" cy="93960"/>
            </a:xfrm>
            <a:custGeom>
              <a:avLst/>
              <a:gdLst/>
              <a:ahLst/>
              <a:rect l="0" t="0" r="r" b="b"/>
              <a:pathLst>
                <a:path fill="none" w="1178" h="261">
                  <a:moveTo>
                    <a:pt x="0" y="261"/>
                  </a:moveTo>
                  <a:lnTo>
                    <a:pt x="84" y="255"/>
                  </a:lnTo>
                  <a:lnTo>
                    <a:pt x="167" y="250"/>
                  </a:lnTo>
                  <a:lnTo>
                    <a:pt x="249" y="239"/>
                  </a:lnTo>
                  <a:lnTo>
                    <a:pt x="334" y="229"/>
                  </a:lnTo>
                  <a:lnTo>
                    <a:pt x="416" y="216"/>
                  </a:lnTo>
                  <a:lnTo>
                    <a:pt x="498" y="200"/>
                  </a:lnTo>
                  <a:lnTo>
                    <a:pt x="578" y="184"/>
                  </a:lnTo>
                  <a:lnTo>
                    <a:pt x="658" y="168"/>
                  </a:lnTo>
                  <a:lnTo>
                    <a:pt x="735" y="147"/>
                  </a:lnTo>
                  <a:lnTo>
                    <a:pt x="809" y="127"/>
                  </a:lnTo>
                  <a:lnTo>
                    <a:pt x="846" y="116"/>
                  </a:lnTo>
                  <a:lnTo>
                    <a:pt x="881" y="108"/>
                  </a:lnTo>
                  <a:lnTo>
                    <a:pt x="915" y="98"/>
                  </a:lnTo>
                  <a:lnTo>
                    <a:pt x="947" y="87"/>
                  </a:lnTo>
                  <a:lnTo>
                    <a:pt x="979" y="76"/>
                  </a:lnTo>
                  <a:lnTo>
                    <a:pt x="1011" y="66"/>
                  </a:lnTo>
                  <a:lnTo>
                    <a:pt x="1043" y="55"/>
                  </a:lnTo>
                  <a:lnTo>
                    <a:pt x="1072" y="45"/>
                  </a:lnTo>
                  <a:lnTo>
                    <a:pt x="1101" y="34"/>
                  </a:lnTo>
                  <a:lnTo>
                    <a:pt x="1128" y="21"/>
                  </a:lnTo>
                  <a:lnTo>
                    <a:pt x="1154" y="10"/>
                  </a:lnTo>
                  <a:lnTo>
                    <a:pt x="1178" y="0"/>
                  </a:lnTo>
                </a:path>
              </a:pathLst>
            </a:custGeom>
            <a:ln w="12600">
              <a:solidFill>
                <a:srgbClr val="b8b8b8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7972560" y="3610080"/>
              <a:ext cx="93960" cy="462240"/>
            </a:xfrm>
            <a:custGeom>
              <a:avLst/>
              <a:gdLst/>
              <a:ahLst/>
              <a:rect l="0" t="0" r="r" b="b"/>
              <a:pathLst>
                <a:path fill="none" w="261" h="1284">
                  <a:moveTo>
                    <a:pt x="0" y="0"/>
                  </a:moveTo>
                  <a:lnTo>
                    <a:pt x="7" y="15"/>
                  </a:lnTo>
                  <a:lnTo>
                    <a:pt x="13" y="29"/>
                  </a:lnTo>
                  <a:lnTo>
                    <a:pt x="21" y="45"/>
                  </a:lnTo>
                  <a:lnTo>
                    <a:pt x="28" y="63"/>
                  </a:lnTo>
                  <a:lnTo>
                    <a:pt x="42" y="98"/>
                  </a:lnTo>
                  <a:lnTo>
                    <a:pt x="55" y="135"/>
                  </a:lnTo>
                  <a:lnTo>
                    <a:pt x="68" y="174"/>
                  </a:lnTo>
                  <a:lnTo>
                    <a:pt x="84" y="217"/>
                  </a:lnTo>
                  <a:lnTo>
                    <a:pt x="97" y="259"/>
                  </a:lnTo>
                  <a:lnTo>
                    <a:pt x="110" y="304"/>
                  </a:lnTo>
                  <a:lnTo>
                    <a:pt x="123" y="352"/>
                  </a:lnTo>
                  <a:lnTo>
                    <a:pt x="137" y="400"/>
                  </a:lnTo>
                  <a:lnTo>
                    <a:pt x="148" y="448"/>
                  </a:lnTo>
                  <a:lnTo>
                    <a:pt x="158" y="498"/>
                  </a:lnTo>
                  <a:lnTo>
                    <a:pt x="182" y="599"/>
                  </a:lnTo>
                  <a:lnTo>
                    <a:pt x="200" y="698"/>
                  </a:lnTo>
                  <a:lnTo>
                    <a:pt x="211" y="748"/>
                  </a:lnTo>
                  <a:lnTo>
                    <a:pt x="219" y="796"/>
                  </a:lnTo>
                  <a:lnTo>
                    <a:pt x="227" y="846"/>
                  </a:lnTo>
                  <a:lnTo>
                    <a:pt x="232" y="891"/>
                  </a:lnTo>
                  <a:lnTo>
                    <a:pt x="240" y="939"/>
                  </a:lnTo>
                  <a:lnTo>
                    <a:pt x="245" y="981"/>
                  </a:lnTo>
                  <a:lnTo>
                    <a:pt x="248" y="1024"/>
                  </a:lnTo>
                  <a:lnTo>
                    <a:pt x="253" y="1064"/>
                  </a:lnTo>
                  <a:lnTo>
                    <a:pt x="255" y="1101"/>
                  </a:lnTo>
                  <a:lnTo>
                    <a:pt x="258" y="1138"/>
                  </a:lnTo>
                  <a:lnTo>
                    <a:pt x="258" y="1170"/>
                  </a:lnTo>
                  <a:lnTo>
                    <a:pt x="261" y="1199"/>
                  </a:lnTo>
                  <a:lnTo>
                    <a:pt x="261" y="1212"/>
                  </a:lnTo>
                  <a:lnTo>
                    <a:pt x="258" y="1225"/>
                  </a:lnTo>
                  <a:lnTo>
                    <a:pt x="258" y="1239"/>
                  </a:lnTo>
                  <a:lnTo>
                    <a:pt x="258" y="1249"/>
                  </a:lnTo>
                  <a:lnTo>
                    <a:pt x="258" y="1260"/>
                  </a:lnTo>
                  <a:lnTo>
                    <a:pt x="255" y="1268"/>
                  </a:lnTo>
                  <a:lnTo>
                    <a:pt x="253" y="1276"/>
                  </a:lnTo>
                  <a:lnTo>
                    <a:pt x="253" y="1284"/>
                  </a:lnTo>
                </a:path>
              </a:pathLst>
            </a:custGeom>
            <a:ln w="12600">
              <a:solidFill>
                <a:srgbClr val="b8b8b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897680" y="3657600"/>
              <a:ext cx="240120" cy="373320"/>
            </a:xfrm>
            <a:custGeom>
              <a:avLst/>
              <a:gdLst/>
              <a:ahLst/>
              <a:rect l="0" t="0" r="r" b="b"/>
              <a:pathLst>
                <a:path fill="none" w="667" h="1037">
                  <a:moveTo>
                    <a:pt x="667" y="1037"/>
                  </a:moveTo>
                  <a:lnTo>
                    <a:pt x="662" y="1018"/>
                  </a:lnTo>
                  <a:lnTo>
                    <a:pt x="654" y="997"/>
                  </a:lnTo>
                  <a:lnTo>
                    <a:pt x="646" y="976"/>
                  </a:lnTo>
                  <a:lnTo>
                    <a:pt x="636" y="949"/>
                  </a:lnTo>
                  <a:lnTo>
                    <a:pt x="623" y="923"/>
                  </a:lnTo>
                  <a:lnTo>
                    <a:pt x="609" y="893"/>
                  </a:lnTo>
                  <a:lnTo>
                    <a:pt x="594" y="864"/>
                  </a:lnTo>
                  <a:lnTo>
                    <a:pt x="575" y="830"/>
                  </a:lnTo>
                  <a:lnTo>
                    <a:pt x="557" y="798"/>
                  </a:lnTo>
                  <a:lnTo>
                    <a:pt x="536" y="760"/>
                  </a:lnTo>
                  <a:lnTo>
                    <a:pt x="517" y="726"/>
                  </a:lnTo>
                  <a:lnTo>
                    <a:pt x="493" y="689"/>
                  </a:lnTo>
                  <a:lnTo>
                    <a:pt x="472" y="651"/>
                  </a:lnTo>
                  <a:lnTo>
                    <a:pt x="448" y="612"/>
                  </a:lnTo>
                  <a:lnTo>
                    <a:pt x="424" y="574"/>
                  </a:lnTo>
                  <a:lnTo>
                    <a:pt x="401" y="535"/>
                  </a:lnTo>
                  <a:lnTo>
                    <a:pt x="351" y="457"/>
                  </a:lnTo>
                  <a:lnTo>
                    <a:pt x="298" y="379"/>
                  </a:lnTo>
                  <a:lnTo>
                    <a:pt x="272" y="342"/>
                  </a:lnTo>
                  <a:lnTo>
                    <a:pt x="245" y="302"/>
                  </a:lnTo>
                  <a:lnTo>
                    <a:pt x="219" y="268"/>
                  </a:lnTo>
                  <a:lnTo>
                    <a:pt x="193" y="231"/>
                  </a:lnTo>
                  <a:lnTo>
                    <a:pt x="165" y="196"/>
                  </a:lnTo>
                  <a:lnTo>
                    <a:pt x="142" y="164"/>
                  </a:lnTo>
                  <a:lnTo>
                    <a:pt x="115" y="132"/>
                  </a:lnTo>
                  <a:lnTo>
                    <a:pt x="92" y="100"/>
                  </a:lnTo>
                  <a:lnTo>
                    <a:pt x="68" y="71"/>
                  </a:lnTo>
                  <a:lnTo>
                    <a:pt x="44" y="45"/>
                  </a:lnTo>
                  <a:lnTo>
                    <a:pt x="21" y="2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b8b8b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7966080" y="3597120"/>
              <a:ext cx="101880" cy="484560"/>
            </a:xfrm>
            <a:custGeom>
              <a:avLst/>
              <a:gdLst/>
              <a:ahLst/>
              <a:rect l="0" t="0" r="r" b="b"/>
              <a:pathLst>
                <a:path fill="none" w="283" h="1346">
                  <a:moveTo>
                    <a:pt x="270" y="0"/>
                  </a:moveTo>
                  <a:lnTo>
                    <a:pt x="275" y="37"/>
                  </a:lnTo>
                  <a:lnTo>
                    <a:pt x="277" y="79"/>
                  </a:lnTo>
                  <a:lnTo>
                    <a:pt x="280" y="116"/>
                  </a:lnTo>
                  <a:lnTo>
                    <a:pt x="283" y="158"/>
                  </a:lnTo>
                  <a:lnTo>
                    <a:pt x="283" y="198"/>
                  </a:lnTo>
                  <a:lnTo>
                    <a:pt x="280" y="240"/>
                  </a:lnTo>
                  <a:lnTo>
                    <a:pt x="277" y="283"/>
                  </a:lnTo>
                  <a:lnTo>
                    <a:pt x="275" y="325"/>
                  </a:lnTo>
                  <a:lnTo>
                    <a:pt x="272" y="369"/>
                  </a:lnTo>
                  <a:lnTo>
                    <a:pt x="267" y="414"/>
                  </a:lnTo>
                  <a:lnTo>
                    <a:pt x="262" y="459"/>
                  </a:lnTo>
                  <a:lnTo>
                    <a:pt x="254" y="501"/>
                  </a:lnTo>
                  <a:lnTo>
                    <a:pt x="246" y="546"/>
                  </a:lnTo>
                  <a:lnTo>
                    <a:pt x="238" y="591"/>
                  </a:lnTo>
                  <a:lnTo>
                    <a:pt x="230" y="633"/>
                  </a:lnTo>
                  <a:lnTo>
                    <a:pt x="219" y="678"/>
                  </a:lnTo>
                  <a:lnTo>
                    <a:pt x="198" y="766"/>
                  </a:lnTo>
                  <a:lnTo>
                    <a:pt x="175" y="853"/>
                  </a:lnTo>
                  <a:lnTo>
                    <a:pt x="151" y="940"/>
                  </a:lnTo>
                  <a:lnTo>
                    <a:pt x="121" y="1026"/>
                  </a:lnTo>
                  <a:lnTo>
                    <a:pt x="92" y="1111"/>
                  </a:lnTo>
                  <a:lnTo>
                    <a:pt x="60" y="1193"/>
                  </a:lnTo>
                  <a:lnTo>
                    <a:pt x="47" y="1233"/>
                  </a:lnTo>
                  <a:lnTo>
                    <a:pt x="31" y="1270"/>
                  </a:lnTo>
                  <a:lnTo>
                    <a:pt x="15" y="1309"/>
                  </a:lnTo>
                  <a:lnTo>
                    <a:pt x="0" y="1346"/>
                  </a:lnTo>
                </a:path>
              </a:pathLst>
            </a:custGeom>
            <a:ln w="12600">
              <a:solidFill>
                <a:srgbClr val="b8b8b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7826400" y="3710160"/>
              <a:ext cx="383040" cy="259200"/>
            </a:xfrm>
            <a:custGeom>
              <a:avLst/>
              <a:gdLst/>
              <a:ahLst/>
              <a:rect l="0" t="0" r="r" b="b"/>
              <a:pathLst>
                <a:path fill="none" w="1064" h="720">
                  <a:moveTo>
                    <a:pt x="0" y="720"/>
                  </a:moveTo>
                  <a:lnTo>
                    <a:pt x="29" y="715"/>
                  </a:lnTo>
                  <a:lnTo>
                    <a:pt x="60" y="704"/>
                  </a:lnTo>
                  <a:lnTo>
                    <a:pt x="95" y="691"/>
                  </a:lnTo>
                  <a:lnTo>
                    <a:pt x="126" y="678"/>
                  </a:lnTo>
                  <a:lnTo>
                    <a:pt x="163" y="665"/>
                  </a:lnTo>
                  <a:lnTo>
                    <a:pt x="200" y="646"/>
                  </a:lnTo>
                  <a:lnTo>
                    <a:pt x="237" y="627"/>
                  </a:lnTo>
                  <a:lnTo>
                    <a:pt x="275" y="606"/>
                  </a:lnTo>
                  <a:lnTo>
                    <a:pt x="315" y="585"/>
                  </a:lnTo>
                  <a:lnTo>
                    <a:pt x="355" y="561"/>
                  </a:lnTo>
                  <a:lnTo>
                    <a:pt x="394" y="536"/>
                  </a:lnTo>
                  <a:lnTo>
                    <a:pt x="434" y="510"/>
                  </a:lnTo>
                  <a:lnTo>
                    <a:pt x="474" y="483"/>
                  </a:lnTo>
                  <a:lnTo>
                    <a:pt x="513" y="457"/>
                  </a:lnTo>
                  <a:lnTo>
                    <a:pt x="553" y="430"/>
                  </a:lnTo>
                  <a:lnTo>
                    <a:pt x="593" y="401"/>
                  </a:lnTo>
                  <a:lnTo>
                    <a:pt x="632" y="372"/>
                  </a:lnTo>
                  <a:lnTo>
                    <a:pt x="672" y="345"/>
                  </a:lnTo>
                  <a:lnTo>
                    <a:pt x="709" y="316"/>
                  </a:lnTo>
                  <a:lnTo>
                    <a:pt x="746" y="287"/>
                  </a:lnTo>
                  <a:lnTo>
                    <a:pt x="780" y="260"/>
                  </a:lnTo>
                  <a:lnTo>
                    <a:pt x="818" y="231"/>
                  </a:lnTo>
                  <a:lnTo>
                    <a:pt x="850" y="205"/>
                  </a:lnTo>
                  <a:lnTo>
                    <a:pt x="882" y="177"/>
                  </a:lnTo>
                  <a:lnTo>
                    <a:pt x="911" y="151"/>
                  </a:lnTo>
                  <a:lnTo>
                    <a:pt x="940" y="124"/>
                  </a:lnTo>
                  <a:lnTo>
                    <a:pt x="966" y="103"/>
                  </a:lnTo>
                  <a:lnTo>
                    <a:pt x="990" y="79"/>
                  </a:lnTo>
                  <a:lnTo>
                    <a:pt x="1014" y="55"/>
                  </a:lnTo>
                  <a:lnTo>
                    <a:pt x="1033" y="37"/>
                  </a:lnTo>
                  <a:lnTo>
                    <a:pt x="1051" y="18"/>
                  </a:lnTo>
                  <a:lnTo>
                    <a:pt x="1064" y="0"/>
                  </a:lnTo>
                </a:path>
              </a:pathLst>
            </a:custGeom>
            <a:ln w="12600">
              <a:solidFill>
                <a:srgbClr val="b8b8b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813800" y="3801960"/>
              <a:ext cx="413280" cy="78120"/>
            </a:xfrm>
            <a:custGeom>
              <a:avLst/>
              <a:gdLst/>
              <a:ahLst/>
              <a:rect l="0" t="0" r="r" b="b"/>
              <a:pathLst>
                <a:path fill="none" w="1148" h="217">
                  <a:moveTo>
                    <a:pt x="0" y="0"/>
                  </a:moveTo>
                  <a:lnTo>
                    <a:pt x="31" y="5"/>
                  </a:lnTo>
                  <a:lnTo>
                    <a:pt x="63" y="10"/>
                  </a:lnTo>
                  <a:lnTo>
                    <a:pt x="95" y="16"/>
                  </a:lnTo>
                  <a:lnTo>
                    <a:pt x="132" y="24"/>
                  </a:lnTo>
                  <a:lnTo>
                    <a:pt x="166" y="29"/>
                  </a:lnTo>
                  <a:lnTo>
                    <a:pt x="206" y="37"/>
                  </a:lnTo>
                  <a:lnTo>
                    <a:pt x="243" y="45"/>
                  </a:lnTo>
                  <a:lnTo>
                    <a:pt x="283" y="56"/>
                  </a:lnTo>
                  <a:lnTo>
                    <a:pt x="324" y="64"/>
                  </a:lnTo>
                  <a:lnTo>
                    <a:pt x="366" y="72"/>
                  </a:lnTo>
                  <a:lnTo>
                    <a:pt x="408" y="82"/>
                  </a:lnTo>
                  <a:lnTo>
                    <a:pt x="451" y="90"/>
                  </a:lnTo>
                  <a:lnTo>
                    <a:pt x="538" y="110"/>
                  </a:lnTo>
                  <a:lnTo>
                    <a:pt x="625" y="129"/>
                  </a:lnTo>
                  <a:lnTo>
                    <a:pt x="692" y="142"/>
                  </a:lnTo>
                  <a:lnTo>
                    <a:pt x="758" y="155"/>
                  </a:lnTo>
                  <a:lnTo>
                    <a:pt x="824" y="169"/>
                  </a:lnTo>
                  <a:lnTo>
                    <a:pt x="891" y="179"/>
                  </a:lnTo>
                  <a:lnTo>
                    <a:pt x="957" y="190"/>
                  </a:lnTo>
                  <a:lnTo>
                    <a:pt x="1021" y="201"/>
                  </a:lnTo>
                  <a:lnTo>
                    <a:pt x="1084" y="211"/>
                  </a:lnTo>
                  <a:lnTo>
                    <a:pt x="1148" y="217"/>
                  </a:lnTo>
                </a:path>
              </a:pathLst>
            </a:custGeom>
            <a:ln w="12600">
              <a:solidFill>
                <a:srgbClr val="b8b8b8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9" name=""/>
            <p:cNvGrpSpPr/>
            <p:nvPr/>
          </p:nvGrpSpPr>
          <p:grpSpPr>
            <a:xfrm>
              <a:off x="7934400" y="3794040"/>
              <a:ext cx="120960" cy="73440"/>
              <a:chOff x="7934400" y="3794040"/>
              <a:chExt cx="120960" cy="73440"/>
            </a:xfrm>
          </p:grpSpPr>
          <p:sp>
            <p:nvSpPr>
              <p:cNvPr id="5550" name=""/>
              <p:cNvSpPr/>
              <p:nvPr/>
            </p:nvSpPr>
            <p:spPr>
              <a:xfrm>
                <a:off x="7970760" y="3817800"/>
                <a:ext cx="84600" cy="49680"/>
              </a:xfrm>
              <a:custGeom>
                <a:avLst/>
                <a:gdLst/>
                <a:ahLst/>
                <a:rect l="0" t="0" r="r" b="b"/>
                <a:pathLst>
                  <a:path w="235" h="138">
                    <a:moveTo>
                      <a:pt x="219" y="45"/>
                    </a:moveTo>
                    <a:lnTo>
                      <a:pt x="13" y="0"/>
                    </a:lnTo>
                    <a:lnTo>
                      <a:pt x="0" y="43"/>
                    </a:lnTo>
                    <a:lnTo>
                      <a:pt x="187" y="138"/>
                    </a:lnTo>
                    <a:lnTo>
                      <a:pt x="195" y="136"/>
                    </a:lnTo>
                    <a:lnTo>
                      <a:pt x="201" y="133"/>
                    </a:lnTo>
                    <a:lnTo>
                      <a:pt x="209" y="130"/>
                    </a:lnTo>
                    <a:lnTo>
                      <a:pt x="214" y="125"/>
                    </a:lnTo>
                    <a:lnTo>
                      <a:pt x="219" y="120"/>
                    </a:lnTo>
                    <a:lnTo>
                      <a:pt x="225" y="115"/>
                    </a:lnTo>
                    <a:lnTo>
                      <a:pt x="230" y="107"/>
                    </a:lnTo>
                    <a:lnTo>
                      <a:pt x="233" y="100"/>
                    </a:lnTo>
                    <a:lnTo>
                      <a:pt x="235" y="93"/>
                    </a:lnTo>
                    <a:lnTo>
                      <a:pt x="235" y="85"/>
                    </a:lnTo>
                    <a:lnTo>
                      <a:pt x="235" y="79"/>
                    </a:lnTo>
                    <a:lnTo>
                      <a:pt x="235" y="71"/>
                    </a:lnTo>
                    <a:lnTo>
                      <a:pt x="235" y="64"/>
                    </a:lnTo>
                    <a:lnTo>
                      <a:pt x="230" y="58"/>
                    </a:lnTo>
                    <a:lnTo>
                      <a:pt x="225" y="50"/>
                    </a:lnTo>
                    <a:lnTo>
                      <a:pt x="219" y="45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666666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945560" y="3794040"/>
                <a:ext cx="35280" cy="46440"/>
              </a:xfrm>
              <a:custGeom>
                <a:avLst/>
                <a:gdLst/>
                <a:ahLst/>
                <a:rect l="0" t="0" r="r" b="b"/>
                <a:pathLst>
                  <a:path w="98" h="129">
                    <a:moveTo>
                      <a:pt x="47" y="0"/>
                    </a:moveTo>
                    <a:lnTo>
                      <a:pt x="98" y="71"/>
                    </a:lnTo>
                    <a:lnTo>
                      <a:pt x="84" y="119"/>
                    </a:lnTo>
                    <a:lnTo>
                      <a:pt x="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666666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934400" y="3794040"/>
                <a:ext cx="39960" cy="47880"/>
              </a:xfrm>
              <a:custGeom>
                <a:avLst/>
                <a:gdLst/>
                <a:ahLst/>
                <a:rect l="0" t="0" r="r" b="b"/>
                <a:pathLst>
                  <a:path w="111" h="133">
                    <a:moveTo>
                      <a:pt x="78" y="0"/>
                    </a:moveTo>
                    <a:lnTo>
                      <a:pt x="68" y="0"/>
                    </a:lnTo>
                    <a:lnTo>
                      <a:pt x="57" y="0"/>
                    </a:lnTo>
                    <a:lnTo>
                      <a:pt x="45" y="2"/>
                    </a:lnTo>
                    <a:lnTo>
                      <a:pt x="34" y="8"/>
                    </a:lnTo>
                    <a:lnTo>
                      <a:pt x="24" y="16"/>
                    </a:lnTo>
                    <a:lnTo>
                      <a:pt x="18" y="24"/>
                    </a:lnTo>
                    <a:lnTo>
                      <a:pt x="10" y="35"/>
                    </a:lnTo>
                    <a:lnTo>
                      <a:pt x="5" y="48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0" y="87"/>
                    </a:lnTo>
                    <a:lnTo>
                      <a:pt x="2" y="100"/>
                    </a:lnTo>
                    <a:lnTo>
                      <a:pt x="8" y="108"/>
                    </a:lnTo>
                    <a:lnTo>
                      <a:pt x="13" y="119"/>
                    </a:lnTo>
                    <a:lnTo>
                      <a:pt x="21" y="127"/>
                    </a:lnTo>
                    <a:lnTo>
                      <a:pt x="32" y="133"/>
                    </a:lnTo>
                    <a:lnTo>
                      <a:pt x="43" y="133"/>
                    </a:lnTo>
                    <a:lnTo>
                      <a:pt x="53" y="133"/>
                    </a:lnTo>
                    <a:lnTo>
                      <a:pt x="65" y="130"/>
                    </a:lnTo>
                    <a:lnTo>
                      <a:pt x="76" y="125"/>
                    </a:lnTo>
                    <a:lnTo>
                      <a:pt x="84" y="117"/>
                    </a:lnTo>
                    <a:lnTo>
                      <a:pt x="92" y="108"/>
                    </a:lnTo>
                    <a:lnTo>
                      <a:pt x="100" y="98"/>
                    </a:lnTo>
                    <a:lnTo>
                      <a:pt x="105" y="84"/>
                    </a:lnTo>
                    <a:lnTo>
                      <a:pt x="108" y="71"/>
                    </a:lnTo>
                    <a:lnTo>
                      <a:pt x="111" y="56"/>
                    </a:lnTo>
                    <a:lnTo>
                      <a:pt x="111" y="45"/>
                    </a:lnTo>
                    <a:lnTo>
                      <a:pt x="108" y="35"/>
                    </a:lnTo>
                    <a:lnTo>
                      <a:pt x="103" y="24"/>
                    </a:lnTo>
                    <a:lnTo>
                      <a:pt x="97" y="13"/>
                    </a:lnTo>
                    <a:lnTo>
                      <a:pt x="89" y="5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3" name=""/>
            <p:cNvSpPr/>
            <p:nvPr/>
          </p:nvSpPr>
          <p:spPr>
            <a:xfrm>
              <a:off x="8209080" y="3706920"/>
              <a:ext cx="12960" cy="18000"/>
            </a:xfrm>
            <a:custGeom>
              <a:avLst/>
              <a:gdLst/>
              <a:ahLst/>
              <a:rect l="0" t="0" r="r" b="b"/>
              <a:pathLst>
                <a:path w="36" h="50">
                  <a:moveTo>
                    <a:pt x="0" y="0"/>
                  </a:moveTo>
                  <a:lnTo>
                    <a:pt x="36" y="13"/>
                  </a:lnTo>
                  <a:lnTo>
                    <a:pt x="33" y="18"/>
                  </a:lnTo>
                  <a:lnTo>
                    <a:pt x="15" y="50"/>
                  </a:lnTo>
                  <a:lnTo>
                    <a:pt x="5" y="7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7f7f7f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8229600" y="3792600"/>
              <a:ext cx="12960" cy="16200"/>
            </a:xfrm>
            <a:custGeom>
              <a:avLst/>
              <a:gdLst/>
              <a:ahLst/>
              <a:rect l="0" t="0" r="r" b="b"/>
              <a:pathLst>
                <a:path w="36" h="45">
                  <a:moveTo>
                    <a:pt x="2" y="0"/>
                  </a:moveTo>
                  <a:lnTo>
                    <a:pt x="33" y="11"/>
                  </a:lnTo>
                  <a:lnTo>
                    <a:pt x="36" y="19"/>
                  </a:lnTo>
                  <a:lnTo>
                    <a:pt x="2" y="45"/>
                  </a:lnTo>
                  <a:lnTo>
                    <a:pt x="5" y="1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7f7f7f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8223120" y="38782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8" y="0"/>
                  </a:moveTo>
                  <a:lnTo>
                    <a:pt x="36" y="8"/>
                  </a:lnTo>
                  <a:lnTo>
                    <a:pt x="0" y="2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7f7f7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8155080" y="36320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8" y="0"/>
                  </a:moveTo>
                  <a:lnTo>
                    <a:pt x="41" y="10"/>
                  </a:lnTo>
                  <a:lnTo>
                    <a:pt x="33" y="36"/>
                  </a:lnTo>
                  <a:lnTo>
                    <a:pt x="12" y="8"/>
                  </a:lnTo>
                  <a:lnTo>
                    <a:pt x="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57" name="" descr=""/>
          <p:cNvPicPr/>
          <p:nvPr/>
        </p:nvPicPr>
        <p:blipFill>
          <a:blip r:embed="rId6"/>
          <a:stretch/>
        </p:blipFill>
        <p:spPr>
          <a:xfrm>
            <a:off x="4870440" y="2568600"/>
            <a:ext cx="858960" cy="1044720"/>
          </a:xfrm>
          <a:prstGeom prst="rect">
            <a:avLst/>
          </a:prstGeom>
          <a:ln w="0">
            <a:noFill/>
          </a:ln>
        </p:spPr>
      </p:pic>
      <p:pic>
        <p:nvPicPr>
          <p:cNvPr id="5558" name="" descr=""/>
          <p:cNvPicPr/>
          <p:nvPr/>
        </p:nvPicPr>
        <p:blipFill>
          <a:blip r:embed="rId7"/>
          <a:stretch/>
        </p:blipFill>
        <p:spPr>
          <a:xfrm>
            <a:off x="6300720" y="1352520"/>
            <a:ext cx="1990800" cy="708120"/>
          </a:xfrm>
          <a:prstGeom prst="rect">
            <a:avLst/>
          </a:prstGeom>
          <a:ln w="0">
            <a:noFill/>
          </a:ln>
        </p:spPr>
      </p:pic>
      <p:grpSp>
        <p:nvGrpSpPr>
          <p:cNvPr id="5559" name=""/>
          <p:cNvGrpSpPr/>
          <p:nvPr/>
        </p:nvGrpSpPr>
        <p:grpSpPr>
          <a:xfrm>
            <a:off x="2860560" y="4784760"/>
            <a:ext cx="233640" cy="1020960"/>
            <a:chOff x="2860560" y="4784760"/>
            <a:chExt cx="233640" cy="1020960"/>
          </a:xfrm>
        </p:grpSpPr>
        <p:sp>
          <p:nvSpPr>
            <p:cNvPr id="5560" name=""/>
            <p:cNvSpPr/>
            <p:nvPr/>
          </p:nvSpPr>
          <p:spPr>
            <a:xfrm>
              <a:off x="2860560" y="4784760"/>
              <a:ext cx="233640" cy="678240"/>
            </a:xfrm>
            <a:custGeom>
              <a:avLst/>
              <a:gdLst/>
              <a:ahLst/>
              <a:rect l="0" t="0" r="r" b="b"/>
              <a:pathLst>
                <a:path w="649" h="1884">
                  <a:moveTo>
                    <a:pt x="215" y="1884"/>
                  </a:moveTo>
                  <a:lnTo>
                    <a:pt x="432" y="1884"/>
                  </a:lnTo>
                  <a:lnTo>
                    <a:pt x="432" y="565"/>
                  </a:lnTo>
                  <a:lnTo>
                    <a:pt x="649" y="565"/>
                  </a:lnTo>
                  <a:lnTo>
                    <a:pt x="324" y="0"/>
                  </a:lnTo>
                  <a:lnTo>
                    <a:pt x="0" y="565"/>
                  </a:lnTo>
                  <a:lnTo>
                    <a:pt x="215" y="565"/>
                  </a:lnTo>
                  <a:lnTo>
                    <a:pt x="215" y="1884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860560" y="5127480"/>
              <a:ext cx="233640" cy="678240"/>
            </a:xfrm>
            <a:custGeom>
              <a:avLst/>
              <a:gdLst/>
              <a:ahLst/>
              <a:rect l="0" t="0" r="r" b="b"/>
              <a:pathLst>
                <a:path w="649" h="1884">
                  <a:moveTo>
                    <a:pt x="215" y="0"/>
                  </a:moveTo>
                  <a:lnTo>
                    <a:pt x="432" y="0"/>
                  </a:lnTo>
                  <a:lnTo>
                    <a:pt x="432" y="1319"/>
                  </a:lnTo>
                  <a:lnTo>
                    <a:pt x="649" y="1319"/>
                  </a:lnTo>
                  <a:lnTo>
                    <a:pt x="324" y="1884"/>
                  </a:lnTo>
                  <a:lnTo>
                    <a:pt x="0" y="1319"/>
                  </a:lnTo>
                  <a:lnTo>
                    <a:pt x="215" y="13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2" name=""/>
          <p:cNvSpPr txBox="1"/>
          <p:nvPr/>
        </p:nvSpPr>
        <p:spPr>
          <a:xfrm>
            <a:off x="2173320" y="5905440"/>
            <a:ext cx="1652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"/>
          <p:cNvSpPr/>
          <p:nvPr/>
        </p:nvSpPr>
        <p:spPr>
          <a:xfrm>
            <a:off x="1778040" y="3852720"/>
            <a:ext cx="592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"/>
          <p:cNvSpPr txBox="1"/>
          <p:nvPr/>
        </p:nvSpPr>
        <p:spPr>
          <a:xfrm>
            <a:off x="6343560" y="315108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"/>
          <p:cNvSpPr/>
          <p:nvPr/>
        </p:nvSpPr>
        <p:spPr>
          <a:xfrm>
            <a:off x="3683160" y="42339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"/>
          <p:cNvSpPr/>
          <p:nvPr/>
        </p:nvSpPr>
        <p:spPr>
          <a:xfrm flipV="1">
            <a:off x="4869000" y="3619440"/>
            <a:ext cx="317520" cy="297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"/>
          <p:cNvSpPr/>
          <p:nvPr/>
        </p:nvSpPr>
        <p:spPr>
          <a:xfrm flipV="1">
            <a:off x="7450200" y="4170240"/>
            <a:ext cx="53028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"/>
          <p:cNvSpPr/>
          <p:nvPr/>
        </p:nvSpPr>
        <p:spPr>
          <a:xfrm flipV="1">
            <a:off x="5608800" y="1884240"/>
            <a:ext cx="1355400" cy="676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"/>
          <p:cNvSpPr/>
          <p:nvPr/>
        </p:nvSpPr>
        <p:spPr>
          <a:xfrm>
            <a:off x="7155000" y="2031840"/>
            <a:ext cx="761760" cy="1544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"/>
          <p:cNvSpPr txBox="1"/>
          <p:nvPr/>
        </p:nvSpPr>
        <p:spPr>
          <a:xfrm>
            <a:off x="519120" y="4862520"/>
            <a:ext cx="944640" cy="3859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BS 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"/>
          <p:cNvSpPr txBox="1"/>
          <p:nvPr/>
        </p:nvSpPr>
        <p:spPr>
          <a:xfrm>
            <a:off x="519120" y="5396040"/>
            <a:ext cx="944640" cy="3859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"/>
          <p:cNvSpPr txBox="1"/>
          <p:nvPr/>
        </p:nvSpPr>
        <p:spPr>
          <a:xfrm>
            <a:off x="519120" y="5951520"/>
            <a:ext cx="944640" cy="3859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D 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"/>
          <p:cNvSpPr txBox="1"/>
          <p:nvPr/>
        </p:nvSpPr>
        <p:spPr>
          <a:xfrm>
            <a:off x="5437080" y="6141960"/>
            <a:ext cx="162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2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"/>
          <p:cNvSpPr/>
          <p:nvPr/>
        </p:nvSpPr>
        <p:spPr>
          <a:xfrm flipH="1" flipV="1">
            <a:off x="3830760" y="4869000"/>
            <a:ext cx="171432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"/>
          <p:cNvSpPr txBox="1"/>
          <p:nvPr/>
        </p:nvSpPr>
        <p:spPr>
          <a:xfrm>
            <a:off x="3981600" y="5388120"/>
            <a:ext cx="95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P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/>
          <p:nvPr/>
        </p:nvSpPr>
        <p:spPr>
          <a:xfrm flipV="1">
            <a:off x="4678200" y="451008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"/>
          <p:cNvSpPr txBox="1"/>
          <p:nvPr/>
        </p:nvSpPr>
        <p:spPr>
          <a:xfrm>
            <a:off x="5332320" y="4375080"/>
            <a:ext cx="1033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"/>
          <p:cNvSpPr/>
          <p:nvPr/>
        </p:nvSpPr>
        <p:spPr>
          <a:xfrm flipH="1" flipV="1">
            <a:off x="4676760" y="4861080"/>
            <a:ext cx="203364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9" name="" descr=""/>
          <p:cNvPicPr/>
          <p:nvPr/>
        </p:nvPicPr>
        <p:blipFill>
          <a:blip r:embed="rId9"/>
          <a:stretch/>
        </p:blipFill>
        <p:spPr>
          <a:xfrm>
            <a:off x="2736720" y="4305240"/>
            <a:ext cx="933480" cy="419040"/>
          </a:xfrm>
          <a:prstGeom prst="rect">
            <a:avLst/>
          </a:prstGeom>
          <a:ln w="0">
            <a:noFill/>
          </a:ln>
        </p:spPr>
      </p:pic>
      <p:sp>
        <p:nvSpPr>
          <p:cNvPr id="5580" name=""/>
          <p:cNvSpPr txBox="1"/>
          <p:nvPr/>
        </p:nvSpPr>
        <p:spPr>
          <a:xfrm>
            <a:off x="4175280" y="3846600"/>
            <a:ext cx="950760" cy="5587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1" name=""/>
          <p:cNvGrpSpPr/>
          <p:nvPr/>
        </p:nvGrpSpPr>
        <p:grpSpPr>
          <a:xfrm>
            <a:off x="5621400" y="4508640"/>
            <a:ext cx="2781360" cy="1458720"/>
            <a:chOff x="5621400" y="4508640"/>
            <a:chExt cx="2781360" cy="1458720"/>
          </a:xfrm>
        </p:grpSpPr>
        <p:sp>
          <p:nvSpPr>
            <p:cNvPr id="5582" name=""/>
            <p:cNvSpPr/>
            <p:nvPr/>
          </p:nvSpPr>
          <p:spPr>
            <a:xfrm>
              <a:off x="7068960" y="491004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715000" y="5421240"/>
              <a:ext cx="268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H="1">
              <a:off x="5862600" y="5421240"/>
              <a:ext cx="25416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 flipH="1">
              <a:off x="6205680" y="5421240"/>
              <a:ext cx="25380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 flipH="1">
              <a:off x="6548400" y="5421240"/>
              <a:ext cx="25416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 flipH="1">
              <a:off x="6891480" y="5421240"/>
              <a:ext cx="25380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 flipH="1">
              <a:off x="7234200" y="5421240"/>
              <a:ext cx="25416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 flipH="1">
              <a:off x="7577280" y="5421240"/>
              <a:ext cx="25380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 flipH="1">
              <a:off x="7920000" y="5421240"/>
              <a:ext cx="25416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1" name="" descr=""/>
            <p:cNvPicPr/>
            <p:nvPr/>
          </p:nvPicPr>
          <p:blipFill>
            <a:blip r:embed="rId10"/>
            <a:stretch/>
          </p:blipFill>
          <p:spPr>
            <a:xfrm>
              <a:off x="5621400" y="560232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2" name="" descr=""/>
            <p:cNvPicPr/>
            <p:nvPr/>
          </p:nvPicPr>
          <p:blipFill>
            <a:blip r:embed="rId11"/>
            <a:stretch/>
          </p:blipFill>
          <p:spPr>
            <a:xfrm>
              <a:off x="5985000" y="560232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3" name="" descr=""/>
            <p:cNvPicPr/>
            <p:nvPr/>
          </p:nvPicPr>
          <p:blipFill>
            <a:blip r:embed="rId12"/>
            <a:stretch/>
          </p:blipFill>
          <p:spPr>
            <a:xfrm>
              <a:off x="6329520" y="560232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4" name="" descr=""/>
            <p:cNvPicPr/>
            <p:nvPr/>
          </p:nvPicPr>
          <p:blipFill>
            <a:blip r:embed="rId13"/>
            <a:stretch/>
          </p:blipFill>
          <p:spPr>
            <a:xfrm>
              <a:off x="6694560" y="560232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5" name="" descr=""/>
            <p:cNvPicPr/>
            <p:nvPr/>
          </p:nvPicPr>
          <p:blipFill>
            <a:blip r:embed="rId14"/>
            <a:stretch/>
          </p:blipFill>
          <p:spPr>
            <a:xfrm>
              <a:off x="7005600" y="560232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6" name="" descr=""/>
            <p:cNvPicPr/>
            <p:nvPr/>
          </p:nvPicPr>
          <p:blipFill>
            <a:blip r:embed="rId15"/>
            <a:stretch/>
          </p:blipFill>
          <p:spPr>
            <a:xfrm>
              <a:off x="7391520" y="560232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7" name="" descr=""/>
            <p:cNvPicPr/>
            <p:nvPr/>
          </p:nvPicPr>
          <p:blipFill>
            <a:blip r:embed="rId16"/>
            <a:stretch/>
          </p:blipFill>
          <p:spPr>
            <a:xfrm>
              <a:off x="7734240" y="560232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8" name=""/>
            <p:cNvSpPr txBox="1"/>
            <p:nvPr/>
          </p:nvSpPr>
          <p:spPr>
            <a:xfrm>
              <a:off x="6635880" y="4508640"/>
              <a:ext cx="950760" cy="55872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B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9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ional GBS (Phas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0" name=""/>
          <p:cNvGrpSpPr/>
          <p:nvPr/>
        </p:nvGrpSpPr>
        <p:grpSpPr>
          <a:xfrm>
            <a:off x="101520" y="1434960"/>
            <a:ext cx="8915400" cy="5283360"/>
            <a:chOff x="101520" y="1434960"/>
            <a:chExt cx="8915400" cy="5283360"/>
          </a:xfrm>
        </p:grpSpPr>
        <p:sp>
          <p:nvSpPr>
            <p:cNvPr id="5601" name=""/>
            <p:cNvSpPr/>
            <p:nvPr/>
          </p:nvSpPr>
          <p:spPr>
            <a:xfrm>
              <a:off x="101520" y="1434960"/>
              <a:ext cx="8915400" cy="528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58920" y="5013360"/>
              <a:ext cx="0" cy="4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187800" y="3911760"/>
              <a:ext cx="5702400" cy="1536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462480" y="4280040"/>
              <a:ext cx="1854360" cy="74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578640" y="4508640"/>
              <a:ext cx="1854360" cy="63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304920" y="5016600"/>
              <a:ext cx="261612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692440" y="6469200"/>
              <a:ext cx="277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692440" y="501660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915840" y="5013360"/>
              <a:ext cx="1800" cy="9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 flipV="1">
              <a:off x="728640" y="4114800"/>
              <a:ext cx="1440" cy="89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 txBox="1"/>
            <p:nvPr/>
          </p:nvSpPr>
          <p:spPr>
            <a:xfrm>
              <a:off x="1130400" y="4811760"/>
              <a:ext cx="5716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N / DI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2" name=""/>
            <p:cNvGrpSpPr/>
            <p:nvPr/>
          </p:nvGrpSpPr>
          <p:grpSpPr>
            <a:xfrm>
              <a:off x="2754360" y="6461280"/>
              <a:ext cx="2455920" cy="244440"/>
              <a:chOff x="2754360" y="6461280"/>
              <a:chExt cx="2455920" cy="244440"/>
            </a:xfrm>
          </p:grpSpPr>
          <p:sp>
            <p:nvSpPr>
              <p:cNvPr id="5613" name=""/>
              <p:cNvSpPr/>
              <p:nvPr/>
            </p:nvSpPr>
            <p:spPr>
              <a:xfrm flipH="1">
                <a:off x="2754360" y="65754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"/>
              <p:cNvSpPr txBox="1"/>
              <p:nvPr/>
            </p:nvSpPr>
            <p:spPr>
              <a:xfrm>
                <a:off x="3127320" y="6461280"/>
                <a:ext cx="20829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r Pull (Any Available Medi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5" name=""/>
            <p:cNvSpPr/>
            <p:nvPr/>
          </p:nvSpPr>
          <p:spPr>
            <a:xfrm flipH="1">
              <a:off x="4930920" y="5997600"/>
              <a:ext cx="2315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940440" y="5099040"/>
              <a:ext cx="1800" cy="882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8234280" y="498312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7894800" y="5703840"/>
              <a:ext cx="7365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 flipH="1">
              <a:off x="8327880" y="5705640"/>
              <a:ext cx="3240" cy="76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497640" y="5994360"/>
              <a:ext cx="1440" cy="468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1" name=""/>
            <p:cNvGrpSpPr/>
            <p:nvPr/>
          </p:nvGrpSpPr>
          <p:grpSpPr>
            <a:xfrm>
              <a:off x="8053560" y="4670280"/>
              <a:ext cx="231840" cy="311400"/>
              <a:chOff x="8053560" y="4670280"/>
              <a:chExt cx="231840" cy="311400"/>
            </a:xfrm>
          </p:grpSpPr>
          <p:sp>
            <p:nvSpPr>
              <p:cNvPr id="5622" name=""/>
              <p:cNvSpPr/>
              <p:nvPr/>
            </p:nvSpPr>
            <p:spPr>
              <a:xfrm>
                <a:off x="8156520" y="4775040"/>
                <a:ext cx="128880" cy="206640"/>
              </a:xfrm>
              <a:custGeom>
                <a:avLst/>
                <a:gdLst/>
                <a:ahLst/>
                <a:rect l="0" t="0" r="r" b="b"/>
                <a:pathLst>
                  <a:path fill="none" w="358" h="574">
                    <a:moveTo>
                      <a:pt x="0" y="574"/>
                    </a:moveTo>
                    <a:lnTo>
                      <a:pt x="358" y="574"/>
                    </a:lnTo>
                    <a:lnTo>
                      <a:pt x="178" y="0"/>
                    </a:lnTo>
                    <a:lnTo>
                      <a:pt x="0" y="57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3" name=""/>
              <p:cNvGrpSpPr/>
              <p:nvPr/>
            </p:nvGrpSpPr>
            <p:grpSpPr>
              <a:xfrm>
                <a:off x="8118360" y="4670280"/>
                <a:ext cx="140040" cy="222840"/>
                <a:chOff x="8118360" y="4670280"/>
                <a:chExt cx="140040" cy="222840"/>
              </a:xfrm>
            </p:grpSpPr>
            <p:sp>
              <p:nvSpPr>
                <p:cNvPr id="5624" name=""/>
                <p:cNvSpPr/>
                <p:nvPr/>
              </p:nvSpPr>
              <p:spPr>
                <a:xfrm>
                  <a:off x="8118360" y="4672080"/>
                  <a:ext cx="140040" cy="221040"/>
                </a:xfrm>
                <a:custGeom>
                  <a:avLst/>
                  <a:gdLst/>
                  <a:ahLst/>
                  <a:rect l="0" t="0" r="r" b="b"/>
                  <a:pathLst>
                    <a:path fill="none" w="389" h="614">
                      <a:moveTo>
                        <a:pt x="377" y="19"/>
                      </a:moveTo>
                      <a:lnTo>
                        <a:pt x="379" y="38"/>
                      </a:lnTo>
                      <a:lnTo>
                        <a:pt x="384" y="62"/>
                      </a:lnTo>
                      <a:lnTo>
                        <a:pt x="389" y="84"/>
                      </a:lnTo>
                      <a:lnTo>
                        <a:pt x="389" y="108"/>
                      </a:lnTo>
                      <a:lnTo>
                        <a:pt x="384" y="139"/>
                      </a:lnTo>
                      <a:lnTo>
                        <a:pt x="377" y="178"/>
                      </a:lnTo>
                      <a:lnTo>
                        <a:pt x="367" y="224"/>
                      </a:lnTo>
                      <a:lnTo>
                        <a:pt x="353" y="270"/>
                      </a:lnTo>
                      <a:lnTo>
                        <a:pt x="333" y="320"/>
                      </a:lnTo>
                      <a:lnTo>
                        <a:pt x="298" y="375"/>
                      </a:lnTo>
                      <a:lnTo>
                        <a:pt x="259" y="431"/>
                      </a:lnTo>
                      <a:lnTo>
                        <a:pt x="228" y="468"/>
                      </a:lnTo>
                      <a:lnTo>
                        <a:pt x="189" y="506"/>
                      </a:lnTo>
                      <a:lnTo>
                        <a:pt x="146" y="542"/>
                      </a:lnTo>
                      <a:lnTo>
                        <a:pt x="112" y="571"/>
                      </a:lnTo>
                      <a:lnTo>
                        <a:pt x="76" y="590"/>
                      </a:lnTo>
                      <a:lnTo>
                        <a:pt x="50" y="602"/>
                      </a:lnTo>
                      <a:lnTo>
                        <a:pt x="31" y="614"/>
                      </a:lnTo>
                      <a:lnTo>
                        <a:pt x="11" y="614"/>
                      </a:lnTo>
                      <a:lnTo>
                        <a:pt x="0" y="605"/>
                      </a:lnTo>
                      <a:lnTo>
                        <a:pt x="360" y="0"/>
                      </a:lnTo>
                      <a:lnTo>
                        <a:pt x="377" y="1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5" name=""/>
                <p:cNvSpPr/>
                <p:nvPr/>
              </p:nvSpPr>
              <p:spPr>
                <a:xfrm>
                  <a:off x="8118360" y="4670280"/>
                  <a:ext cx="132120" cy="219600"/>
                </a:xfrm>
                <a:custGeom>
                  <a:avLst/>
                  <a:gdLst/>
                  <a:ahLst/>
                  <a:rect l="0" t="0" r="r" b="b"/>
                  <a:pathLst>
                    <a:path fill="none" w="367" h="610">
                      <a:moveTo>
                        <a:pt x="362" y="0"/>
                      </a:moveTo>
                      <a:lnTo>
                        <a:pt x="367" y="9"/>
                      </a:lnTo>
                      <a:lnTo>
                        <a:pt x="367" y="38"/>
                      </a:lnTo>
                      <a:lnTo>
                        <a:pt x="367" y="72"/>
                      </a:lnTo>
                      <a:lnTo>
                        <a:pt x="362" y="94"/>
                      </a:lnTo>
                      <a:lnTo>
                        <a:pt x="359" y="125"/>
                      </a:lnTo>
                      <a:lnTo>
                        <a:pt x="350" y="167"/>
                      </a:lnTo>
                      <a:lnTo>
                        <a:pt x="342" y="208"/>
                      </a:lnTo>
                      <a:lnTo>
                        <a:pt x="326" y="259"/>
                      </a:lnTo>
                      <a:lnTo>
                        <a:pt x="299" y="317"/>
                      </a:lnTo>
                      <a:lnTo>
                        <a:pt x="265" y="363"/>
                      </a:lnTo>
                      <a:lnTo>
                        <a:pt x="229" y="413"/>
                      </a:lnTo>
                      <a:lnTo>
                        <a:pt x="198" y="454"/>
                      </a:lnTo>
                      <a:lnTo>
                        <a:pt x="175" y="480"/>
                      </a:lnTo>
                      <a:lnTo>
                        <a:pt x="151" y="504"/>
                      </a:lnTo>
                      <a:lnTo>
                        <a:pt x="127" y="526"/>
                      </a:lnTo>
                      <a:lnTo>
                        <a:pt x="101" y="552"/>
                      </a:lnTo>
                      <a:lnTo>
                        <a:pt x="77" y="569"/>
                      </a:lnTo>
                      <a:lnTo>
                        <a:pt x="55" y="583"/>
                      </a:lnTo>
                      <a:lnTo>
                        <a:pt x="36" y="596"/>
                      </a:lnTo>
                      <a:lnTo>
                        <a:pt x="14" y="608"/>
                      </a:lnTo>
                      <a:lnTo>
                        <a:pt x="4" y="610"/>
                      </a:lnTo>
                      <a:lnTo>
                        <a:pt x="0" y="600"/>
                      </a:lnTo>
                      <a:lnTo>
                        <a:pt x="0" y="588"/>
                      </a:lnTo>
                      <a:lnTo>
                        <a:pt x="4" y="576"/>
                      </a:lnTo>
                      <a:lnTo>
                        <a:pt x="7" y="547"/>
                      </a:lnTo>
                      <a:lnTo>
                        <a:pt x="14" y="516"/>
                      </a:lnTo>
                      <a:lnTo>
                        <a:pt x="19" y="484"/>
                      </a:lnTo>
                      <a:lnTo>
                        <a:pt x="31" y="447"/>
                      </a:lnTo>
                      <a:lnTo>
                        <a:pt x="43" y="409"/>
                      </a:lnTo>
                      <a:lnTo>
                        <a:pt x="55" y="380"/>
                      </a:lnTo>
                      <a:lnTo>
                        <a:pt x="67" y="351"/>
                      </a:lnTo>
                      <a:lnTo>
                        <a:pt x="81" y="319"/>
                      </a:lnTo>
                      <a:lnTo>
                        <a:pt x="101" y="285"/>
                      </a:lnTo>
                      <a:lnTo>
                        <a:pt x="120" y="254"/>
                      </a:lnTo>
                      <a:lnTo>
                        <a:pt x="151" y="211"/>
                      </a:lnTo>
                      <a:lnTo>
                        <a:pt x="175" y="182"/>
                      </a:lnTo>
                      <a:lnTo>
                        <a:pt x="208" y="142"/>
                      </a:lnTo>
                      <a:lnTo>
                        <a:pt x="239" y="111"/>
                      </a:lnTo>
                      <a:lnTo>
                        <a:pt x="265" y="84"/>
                      </a:lnTo>
                      <a:lnTo>
                        <a:pt x="292" y="57"/>
                      </a:lnTo>
                      <a:lnTo>
                        <a:pt x="316" y="33"/>
                      </a:lnTo>
                      <a:lnTo>
                        <a:pt x="330" y="19"/>
                      </a:lnTo>
                      <a:lnTo>
                        <a:pt x="350" y="7"/>
                      </a:lnTo>
                      <a:lnTo>
                        <a:pt x="362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6" name=""/>
              <p:cNvSpPr/>
              <p:nvPr/>
            </p:nvSpPr>
            <p:spPr>
              <a:xfrm>
                <a:off x="8110440" y="4675320"/>
                <a:ext cx="41760" cy="151200"/>
              </a:xfrm>
              <a:custGeom>
                <a:avLst/>
                <a:gdLst/>
                <a:ahLst/>
                <a:rect l="0" t="0" r="r" b="b"/>
                <a:pathLst>
                  <a:path fill="none" w="116" h="420">
                    <a:moveTo>
                      <a:pt x="116" y="420"/>
                    </a:moveTo>
                    <a:lnTo>
                      <a:pt x="0" y="420"/>
                    </a:lnTo>
                    <a:lnTo>
                      <a:pt x="58" y="0"/>
                    </a:lnTo>
                    <a:lnTo>
                      <a:pt x="116" y="42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8053560" y="4705200"/>
                <a:ext cx="50760" cy="23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8" name=""/>
            <p:cNvSpPr txBox="1"/>
            <p:nvPr/>
          </p:nvSpPr>
          <p:spPr>
            <a:xfrm>
              <a:off x="4892760" y="1616040"/>
              <a:ext cx="40176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FO/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9" name="" descr=""/>
            <p:cNvPicPr/>
            <p:nvPr/>
          </p:nvPicPr>
          <p:blipFill>
            <a:blip r:embed="rId1"/>
            <a:stretch/>
          </p:blipFill>
          <p:spPr>
            <a:xfrm>
              <a:off x="6534000" y="4067280"/>
              <a:ext cx="104940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0" name="" descr=""/>
            <p:cNvPicPr/>
            <p:nvPr/>
          </p:nvPicPr>
          <p:blipFill>
            <a:blip r:embed="rId2"/>
            <a:stretch/>
          </p:blipFill>
          <p:spPr>
            <a:xfrm>
              <a:off x="8097840" y="594216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1" name=""/>
            <p:cNvSpPr txBox="1"/>
            <p:nvPr/>
          </p:nvSpPr>
          <p:spPr>
            <a:xfrm>
              <a:off x="587520" y="3551400"/>
              <a:ext cx="282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B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 txBox="1"/>
            <p:nvPr/>
          </p:nvSpPr>
          <p:spPr>
            <a:xfrm>
              <a:off x="1677960" y="4265640"/>
              <a:ext cx="4586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j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3" name=""/>
            <p:cNvGrpSpPr/>
            <p:nvPr/>
          </p:nvGrpSpPr>
          <p:grpSpPr>
            <a:xfrm>
              <a:off x="5346720" y="4738680"/>
              <a:ext cx="1143360" cy="515880"/>
              <a:chOff x="5346720" y="4738680"/>
              <a:chExt cx="1143360" cy="515880"/>
            </a:xfrm>
          </p:grpSpPr>
          <p:grpSp>
            <p:nvGrpSpPr>
              <p:cNvPr id="5634" name=""/>
              <p:cNvGrpSpPr/>
              <p:nvPr/>
            </p:nvGrpSpPr>
            <p:grpSpPr>
              <a:xfrm>
                <a:off x="5357880" y="4748040"/>
                <a:ext cx="1132200" cy="505440"/>
                <a:chOff x="5357880" y="4748040"/>
                <a:chExt cx="1132200" cy="505440"/>
              </a:xfrm>
            </p:grpSpPr>
            <p:sp>
              <p:nvSpPr>
                <p:cNvPr id="5635" name=""/>
                <p:cNvSpPr/>
                <p:nvPr/>
              </p:nvSpPr>
              <p:spPr>
                <a:xfrm>
                  <a:off x="5513400" y="5145120"/>
                  <a:ext cx="722520" cy="90720"/>
                </a:xfrm>
                <a:custGeom>
                  <a:avLst/>
                  <a:gdLst/>
                  <a:ahLst/>
                  <a:rect l="0" t="0" r="r" b="b"/>
                  <a:pathLst>
                    <a:path fill="none" w="2007" h="252">
                      <a:moveTo>
                        <a:pt x="0" y="71"/>
                      </a:moveTo>
                      <a:lnTo>
                        <a:pt x="61" y="37"/>
                      </a:lnTo>
                      <a:lnTo>
                        <a:pt x="85" y="33"/>
                      </a:lnTo>
                      <a:lnTo>
                        <a:pt x="123" y="23"/>
                      </a:lnTo>
                      <a:lnTo>
                        <a:pt x="194" y="33"/>
                      </a:lnTo>
                      <a:lnTo>
                        <a:pt x="247" y="42"/>
                      </a:lnTo>
                      <a:lnTo>
                        <a:pt x="318" y="52"/>
                      </a:lnTo>
                      <a:lnTo>
                        <a:pt x="1508" y="0"/>
                      </a:lnTo>
                      <a:lnTo>
                        <a:pt x="1841" y="171"/>
                      </a:lnTo>
                      <a:lnTo>
                        <a:pt x="1898" y="113"/>
                      </a:lnTo>
                      <a:lnTo>
                        <a:pt x="1955" y="75"/>
                      </a:lnTo>
                      <a:lnTo>
                        <a:pt x="1988" y="66"/>
                      </a:lnTo>
                      <a:lnTo>
                        <a:pt x="2007" y="80"/>
                      </a:lnTo>
                      <a:lnTo>
                        <a:pt x="2002" y="118"/>
                      </a:lnTo>
                      <a:lnTo>
                        <a:pt x="2007" y="133"/>
                      </a:lnTo>
                      <a:lnTo>
                        <a:pt x="1988" y="195"/>
                      </a:lnTo>
                      <a:lnTo>
                        <a:pt x="1902" y="200"/>
                      </a:lnTo>
                      <a:lnTo>
                        <a:pt x="1874" y="242"/>
                      </a:lnTo>
                      <a:lnTo>
                        <a:pt x="1612" y="242"/>
                      </a:lnTo>
                      <a:lnTo>
                        <a:pt x="1408" y="252"/>
                      </a:lnTo>
                      <a:lnTo>
                        <a:pt x="1318" y="214"/>
                      </a:lnTo>
                      <a:lnTo>
                        <a:pt x="1232" y="252"/>
                      </a:lnTo>
                      <a:lnTo>
                        <a:pt x="1146" y="247"/>
                      </a:lnTo>
                      <a:lnTo>
                        <a:pt x="1080" y="200"/>
                      </a:lnTo>
                      <a:lnTo>
                        <a:pt x="1008" y="181"/>
                      </a:lnTo>
                      <a:lnTo>
                        <a:pt x="931" y="200"/>
                      </a:lnTo>
                      <a:lnTo>
                        <a:pt x="736" y="157"/>
                      </a:lnTo>
                      <a:lnTo>
                        <a:pt x="580" y="176"/>
                      </a:lnTo>
                      <a:lnTo>
                        <a:pt x="489" y="138"/>
                      </a:lnTo>
                      <a:lnTo>
                        <a:pt x="465" y="113"/>
                      </a:lnTo>
                      <a:lnTo>
                        <a:pt x="389" y="118"/>
                      </a:lnTo>
                      <a:lnTo>
                        <a:pt x="328" y="113"/>
                      </a:lnTo>
                      <a:lnTo>
                        <a:pt x="228" y="94"/>
                      </a:lnTo>
                      <a:lnTo>
                        <a:pt x="123" y="85"/>
                      </a:lnTo>
                      <a:lnTo>
                        <a:pt x="66" y="90"/>
                      </a:lnTo>
                      <a:lnTo>
                        <a:pt x="0" y="71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>
                  <a:off x="5437080" y="5159520"/>
                  <a:ext cx="24804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689" h="80">
                      <a:moveTo>
                        <a:pt x="0" y="14"/>
                      </a:moveTo>
                      <a:lnTo>
                        <a:pt x="99" y="14"/>
                      </a:lnTo>
                      <a:lnTo>
                        <a:pt x="132" y="4"/>
                      </a:lnTo>
                      <a:lnTo>
                        <a:pt x="166" y="18"/>
                      </a:lnTo>
                      <a:lnTo>
                        <a:pt x="219" y="18"/>
                      </a:lnTo>
                      <a:lnTo>
                        <a:pt x="247" y="14"/>
                      </a:lnTo>
                      <a:lnTo>
                        <a:pt x="290" y="0"/>
                      </a:lnTo>
                      <a:lnTo>
                        <a:pt x="285" y="18"/>
                      </a:lnTo>
                      <a:lnTo>
                        <a:pt x="333" y="14"/>
                      </a:lnTo>
                      <a:lnTo>
                        <a:pt x="371" y="28"/>
                      </a:lnTo>
                      <a:lnTo>
                        <a:pt x="437" y="32"/>
                      </a:lnTo>
                      <a:lnTo>
                        <a:pt x="489" y="43"/>
                      </a:lnTo>
                      <a:lnTo>
                        <a:pt x="538" y="43"/>
                      </a:lnTo>
                      <a:lnTo>
                        <a:pt x="585" y="52"/>
                      </a:lnTo>
                      <a:lnTo>
                        <a:pt x="651" y="47"/>
                      </a:lnTo>
                      <a:lnTo>
                        <a:pt x="689" y="71"/>
                      </a:lnTo>
                      <a:lnTo>
                        <a:pt x="599" y="75"/>
                      </a:lnTo>
                      <a:lnTo>
                        <a:pt x="523" y="80"/>
                      </a:lnTo>
                      <a:lnTo>
                        <a:pt x="446" y="75"/>
                      </a:lnTo>
                      <a:lnTo>
                        <a:pt x="361" y="57"/>
                      </a:lnTo>
                      <a:lnTo>
                        <a:pt x="280" y="57"/>
                      </a:lnTo>
                      <a:lnTo>
                        <a:pt x="233" y="52"/>
                      </a:lnTo>
                      <a:lnTo>
                        <a:pt x="151" y="47"/>
                      </a:lnTo>
                      <a:lnTo>
                        <a:pt x="118" y="43"/>
                      </a:lnTo>
                      <a:lnTo>
                        <a:pt x="61" y="47"/>
                      </a:lnTo>
                      <a:lnTo>
                        <a:pt x="0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>
                  <a:off x="5665680" y="5186520"/>
                  <a:ext cx="271800" cy="39960"/>
                </a:xfrm>
                <a:custGeom>
                  <a:avLst/>
                  <a:gdLst/>
                  <a:ahLst/>
                  <a:rect l="0" t="0" r="r" b="b"/>
                  <a:pathLst>
                    <a:path fill="none" w="755" h="111">
                      <a:moveTo>
                        <a:pt x="755" y="92"/>
                      </a:moveTo>
                      <a:lnTo>
                        <a:pt x="717" y="58"/>
                      </a:lnTo>
                      <a:lnTo>
                        <a:pt x="688" y="63"/>
                      </a:lnTo>
                      <a:lnTo>
                        <a:pt x="636" y="58"/>
                      </a:lnTo>
                      <a:lnTo>
                        <a:pt x="612" y="33"/>
                      </a:lnTo>
                      <a:lnTo>
                        <a:pt x="589" y="23"/>
                      </a:lnTo>
                      <a:lnTo>
                        <a:pt x="541" y="23"/>
                      </a:lnTo>
                      <a:lnTo>
                        <a:pt x="532" y="43"/>
                      </a:lnTo>
                      <a:lnTo>
                        <a:pt x="541" y="63"/>
                      </a:lnTo>
                      <a:lnTo>
                        <a:pt x="513" y="68"/>
                      </a:lnTo>
                      <a:lnTo>
                        <a:pt x="479" y="63"/>
                      </a:lnTo>
                      <a:lnTo>
                        <a:pt x="461" y="47"/>
                      </a:lnTo>
                      <a:lnTo>
                        <a:pt x="374" y="38"/>
                      </a:lnTo>
                      <a:lnTo>
                        <a:pt x="365" y="43"/>
                      </a:lnTo>
                      <a:lnTo>
                        <a:pt x="322" y="23"/>
                      </a:lnTo>
                      <a:lnTo>
                        <a:pt x="270" y="38"/>
                      </a:lnTo>
                      <a:lnTo>
                        <a:pt x="232" y="43"/>
                      </a:lnTo>
                      <a:lnTo>
                        <a:pt x="184" y="38"/>
                      </a:lnTo>
                      <a:lnTo>
                        <a:pt x="156" y="52"/>
                      </a:lnTo>
                      <a:lnTo>
                        <a:pt x="113" y="23"/>
                      </a:lnTo>
                      <a:lnTo>
                        <a:pt x="75" y="23"/>
                      </a:lnTo>
                      <a:lnTo>
                        <a:pt x="42" y="0"/>
                      </a:lnTo>
                      <a:lnTo>
                        <a:pt x="42" y="19"/>
                      </a:lnTo>
                      <a:lnTo>
                        <a:pt x="0" y="68"/>
                      </a:lnTo>
                      <a:lnTo>
                        <a:pt x="61" y="77"/>
                      </a:lnTo>
                      <a:lnTo>
                        <a:pt x="118" y="63"/>
                      </a:lnTo>
                      <a:lnTo>
                        <a:pt x="156" y="72"/>
                      </a:lnTo>
                      <a:lnTo>
                        <a:pt x="203" y="82"/>
                      </a:lnTo>
                      <a:lnTo>
                        <a:pt x="270" y="68"/>
                      </a:lnTo>
                      <a:lnTo>
                        <a:pt x="327" y="77"/>
                      </a:lnTo>
                      <a:lnTo>
                        <a:pt x="389" y="92"/>
                      </a:lnTo>
                      <a:lnTo>
                        <a:pt x="451" y="92"/>
                      </a:lnTo>
                      <a:lnTo>
                        <a:pt x="494" y="101"/>
                      </a:lnTo>
                      <a:lnTo>
                        <a:pt x="555" y="111"/>
                      </a:lnTo>
                      <a:lnTo>
                        <a:pt x="608" y="92"/>
                      </a:lnTo>
                      <a:lnTo>
                        <a:pt x="693" y="111"/>
                      </a:lnTo>
                      <a:lnTo>
                        <a:pt x="755" y="106"/>
                      </a:lnTo>
                      <a:lnTo>
                        <a:pt x="755" y="9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5907240" y="5149800"/>
                  <a:ext cx="365400" cy="101880"/>
                </a:xfrm>
                <a:custGeom>
                  <a:avLst/>
                  <a:gdLst/>
                  <a:ahLst/>
                  <a:rect l="0" t="0" r="r" b="b"/>
                  <a:pathLst>
                    <a:path fill="none" w="1015" h="283">
                      <a:moveTo>
                        <a:pt x="151" y="100"/>
                      </a:moveTo>
                      <a:lnTo>
                        <a:pt x="208" y="95"/>
                      </a:lnTo>
                      <a:lnTo>
                        <a:pt x="255" y="76"/>
                      </a:lnTo>
                      <a:lnTo>
                        <a:pt x="312" y="86"/>
                      </a:lnTo>
                      <a:lnTo>
                        <a:pt x="369" y="66"/>
                      </a:lnTo>
                      <a:lnTo>
                        <a:pt x="417" y="66"/>
                      </a:lnTo>
                      <a:lnTo>
                        <a:pt x="440" y="95"/>
                      </a:lnTo>
                      <a:lnTo>
                        <a:pt x="492" y="100"/>
                      </a:lnTo>
                      <a:lnTo>
                        <a:pt x="560" y="124"/>
                      </a:lnTo>
                      <a:lnTo>
                        <a:pt x="583" y="154"/>
                      </a:lnTo>
                      <a:lnTo>
                        <a:pt x="645" y="173"/>
                      </a:lnTo>
                      <a:lnTo>
                        <a:pt x="655" y="192"/>
                      </a:lnTo>
                      <a:lnTo>
                        <a:pt x="621" y="206"/>
                      </a:lnTo>
                      <a:lnTo>
                        <a:pt x="569" y="177"/>
                      </a:lnTo>
                      <a:lnTo>
                        <a:pt x="536" y="177"/>
                      </a:lnTo>
                      <a:lnTo>
                        <a:pt x="502" y="192"/>
                      </a:lnTo>
                      <a:lnTo>
                        <a:pt x="469" y="192"/>
                      </a:lnTo>
                      <a:lnTo>
                        <a:pt x="436" y="187"/>
                      </a:lnTo>
                      <a:lnTo>
                        <a:pt x="407" y="201"/>
                      </a:lnTo>
                      <a:lnTo>
                        <a:pt x="388" y="221"/>
                      </a:lnTo>
                      <a:lnTo>
                        <a:pt x="350" y="216"/>
                      </a:lnTo>
                      <a:lnTo>
                        <a:pt x="322" y="192"/>
                      </a:lnTo>
                      <a:lnTo>
                        <a:pt x="284" y="187"/>
                      </a:lnTo>
                      <a:lnTo>
                        <a:pt x="265" y="192"/>
                      </a:lnTo>
                      <a:lnTo>
                        <a:pt x="241" y="177"/>
                      </a:lnTo>
                      <a:lnTo>
                        <a:pt x="213" y="163"/>
                      </a:lnTo>
                      <a:lnTo>
                        <a:pt x="161" y="168"/>
                      </a:lnTo>
                      <a:lnTo>
                        <a:pt x="137" y="158"/>
                      </a:lnTo>
                      <a:lnTo>
                        <a:pt x="104" y="177"/>
                      </a:lnTo>
                      <a:lnTo>
                        <a:pt x="90" y="192"/>
                      </a:lnTo>
                      <a:lnTo>
                        <a:pt x="47" y="192"/>
                      </a:lnTo>
                      <a:lnTo>
                        <a:pt x="0" y="230"/>
                      </a:lnTo>
                      <a:lnTo>
                        <a:pt x="80" y="249"/>
                      </a:lnTo>
                      <a:lnTo>
                        <a:pt x="151" y="249"/>
                      </a:lnTo>
                      <a:lnTo>
                        <a:pt x="218" y="221"/>
                      </a:lnTo>
                      <a:lnTo>
                        <a:pt x="279" y="235"/>
                      </a:lnTo>
                      <a:lnTo>
                        <a:pt x="303" y="254"/>
                      </a:lnTo>
                      <a:lnTo>
                        <a:pt x="369" y="268"/>
                      </a:lnTo>
                      <a:lnTo>
                        <a:pt x="440" y="268"/>
                      </a:lnTo>
                      <a:lnTo>
                        <a:pt x="497" y="268"/>
                      </a:lnTo>
                      <a:lnTo>
                        <a:pt x="550" y="268"/>
                      </a:lnTo>
                      <a:lnTo>
                        <a:pt x="617" y="278"/>
                      </a:lnTo>
                      <a:lnTo>
                        <a:pt x="664" y="283"/>
                      </a:lnTo>
                      <a:lnTo>
                        <a:pt x="683" y="254"/>
                      </a:lnTo>
                      <a:lnTo>
                        <a:pt x="754" y="249"/>
                      </a:lnTo>
                      <a:lnTo>
                        <a:pt x="801" y="235"/>
                      </a:lnTo>
                      <a:lnTo>
                        <a:pt x="825" y="240"/>
                      </a:lnTo>
                      <a:lnTo>
                        <a:pt x="849" y="211"/>
                      </a:lnTo>
                      <a:lnTo>
                        <a:pt x="910" y="192"/>
                      </a:lnTo>
                      <a:lnTo>
                        <a:pt x="944" y="216"/>
                      </a:lnTo>
                      <a:lnTo>
                        <a:pt x="963" y="187"/>
                      </a:lnTo>
                      <a:lnTo>
                        <a:pt x="1015" y="177"/>
                      </a:lnTo>
                      <a:lnTo>
                        <a:pt x="991" y="138"/>
                      </a:lnTo>
                      <a:lnTo>
                        <a:pt x="915" y="149"/>
                      </a:lnTo>
                      <a:lnTo>
                        <a:pt x="910" y="110"/>
                      </a:lnTo>
                      <a:lnTo>
                        <a:pt x="863" y="124"/>
                      </a:lnTo>
                      <a:lnTo>
                        <a:pt x="849" y="149"/>
                      </a:lnTo>
                      <a:lnTo>
                        <a:pt x="825" y="149"/>
                      </a:lnTo>
                      <a:lnTo>
                        <a:pt x="811" y="168"/>
                      </a:lnTo>
                      <a:lnTo>
                        <a:pt x="797" y="154"/>
                      </a:lnTo>
                      <a:lnTo>
                        <a:pt x="820" y="119"/>
                      </a:lnTo>
                      <a:lnTo>
                        <a:pt x="816" y="100"/>
                      </a:lnTo>
                      <a:lnTo>
                        <a:pt x="778" y="119"/>
                      </a:lnTo>
                      <a:lnTo>
                        <a:pt x="778" y="211"/>
                      </a:lnTo>
                      <a:lnTo>
                        <a:pt x="740" y="192"/>
                      </a:lnTo>
                      <a:lnTo>
                        <a:pt x="707" y="177"/>
                      </a:lnTo>
                      <a:lnTo>
                        <a:pt x="702" y="138"/>
                      </a:lnTo>
                      <a:lnTo>
                        <a:pt x="669" y="105"/>
                      </a:lnTo>
                      <a:lnTo>
                        <a:pt x="607" y="86"/>
                      </a:lnTo>
                      <a:lnTo>
                        <a:pt x="560" y="52"/>
                      </a:lnTo>
                      <a:lnTo>
                        <a:pt x="483" y="47"/>
                      </a:lnTo>
                      <a:lnTo>
                        <a:pt x="445" y="14"/>
                      </a:lnTo>
                      <a:lnTo>
                        <a:pt x="360" y="0"/>
                      </a:lnTo>
                      <a:lnTo>
                        <a:pt x="180" y="66"/>
                      </a:lnTo>
                      <a:lnTo>
                        <a:pt x="151" y="10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0760" bIns="50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>
                  <a:off x="5718240" y="4923000"/>
                  <a:ext cx="451080" cy="73440"/>
                </a:xfrm>
                <a:custGeom>
                  <a:avLst/>
                  <a:gdLst/>
                  <a:ahLst/>
                  <a:rect l="0" t="0" r="r" b="b"/>
                  <a:pathLst>
                    <a:path fill="none" w="1253" h="204">
                      <a:moveTo>
                        <a:pt x="0" y="190"/>
                      </a:moveTo>
                      <a:lnTo>
                        <a:pt x="14" y="171"/>
                      </a:lnTo>
                      <a:lnTo>
                        <a:pt x="76" y="157"/>
                      </a:lnTo>
                      <a:lnTo>
                        <a:pt x="76" y="123"/>
                      </a:lnTo>
                      <a:lnTo>
                        <a:pt x="176" y="123"/>
                      </a:lnTo>
                      <a:lnTo>
                        <a:pt x="176" y="104"/>
                      </a:lnTo>
                      <a:lnTo>
                        <a:pt x="242" y="104"/>
                      </a:lnTo>
                      <a:lnTo>
                        <a:pt x="242" y="109"/>
                      </a:lnTo>
                      <a:lnTo>
                        <a:pt x="223" y="109"/>
                      </a:lnTo>
                      <a:lnTo>
                        <a:pt x="242" y="142"/>
                      </a:lnTo>
                      <a:lnTo>
                        <a:pt x="290" y="128"/>
                      </a:lnTo>
                      <a:lnTo>
                        <a:pt x="290" y="85"/>
                      </a:lnTo>
                      <a:lnTo>
                        <a:pt x="380" y="85"/>
                      </a:lnTo>
                      <a:lnTo>
                        <a:pt x="342" y="90"/>
                      </a:lnTo>
                      <a:lnTo>
                        <a:pt x="352" y="109"/>
                      </a:lnTo>
                      <a:lnTo>
                        <a:pt x="428" y="90"/>
                      </a:lnTo>
                      <a:lnTo>
                        <a:pt x="428" y="62"/>
                      </a:lnTo>
                      <a:lnTo>
                        <a:pt x="533" y="62"/>
                      </a:lnTo>
                      <a:lnTo>
                        <a:pt x="490" y="67"/>
                      </a:lnTo>
                      <a:lnTo>
                        <a:pt x="499" y="90"/>
                      </a:lnTo>
                      <a:lnTo>
                        <a:pt x="571" y="71"/>
                      </a:lnTo>
                      <a:lnTo>
                        <a:pt x="571" y="33"/>
                      </a:lnTo>
                      <a:lnTo>
                        <a:pt x="686" y="33"/>
                      </a:lnTo>
                      <a:lnTo>
                        <a:pt x="634" y="37"/>
                      </a:lnTo>
                      <a:lnTo>
                        <a:pt x="648" y="62"/>
                      </a:lnTo>
                      <a:lnTo>
                        <a:pt x="729" y="42"/>
                      </a:lnTo>
                      <a:lnTo>
                        <a:pt x="729" y="0"/>
                      </a:lnTo>
                      <a:lnTo>
                        <a:pt x="867" y="0"/>
                      </a:lnTo>
                      <a:lnTo>
                        <a:pt x="796" y="4"/>
                      </a:lnTo>
                      <a:lnTo>
                        <a:pt x="824" y="52"/>
                      </a:lnTo>
                      <a:lnTo>
                        <a:pt x="977" y="33"/>
                      </a:lnTo>
                      <a:lnTo>
                        <a:pt x="1034" y="23"/>
                      </a:lnTo>
                      <a:lnTo>
                        <a:pt x="1067" y="23"/>
                      </a:lnTo>
                      <a:lnTo>
                        <a:pt x="1091" y="33"/>
                      </a:lnTo>
                      <a:lnTo>
                        <a:pt x="1129" y="52"/>
                      </a:lnTo>
                      <a:lnTo>
                        <a:pt x="1220" y="71"/>
                      </a:lnTo>
                      <a:lnTo>
                        <a:pt x="1253" y="85"/>
                      </a:lnTo>
                      <a:lnTo>
                        <a:pt x="1158" y="90"/>
                      </a:lnTo>
                      <a:lnTo>
                        <a:pt x="1115" y="90"/>
                      </a:lnTo>
                      <a:lnTo>
                        <a:pt x="1115" y="109"/>
                      </a:lnTo>
                      <a:lnTo>
                        <a:pt x="1077" y="109"/>
                      </a:lnTo>
                      <a:lnTo>
                        <a:pt x="1077" y="95"/>
                      </a:lnTo>
                      <a:lnTo>
                        <a:pt x="920" y="95"/>
                      </a:lnTo>
                      <a:lnTo>
                        <a:pt x="943" y="109"/>
                      </a:lnTo>
                      <a:lnTo>
                        <a:pt x="915" y="114"/>
                      </a:lnTo>
                      <a:lnTo>
                        <a:pt x="867" y="123"/>
                      </a:lnTo>
                      <a:lnTo>
                        <a:pt x="781" y="123"/>
                      </a:lnTo>
                      <a:lnTo>
                        <a:pt x="643" y="162"/>
                      </a:lnTo>
                      <a:lnTo>
                        <a:pt x="133" y="204"/>
                      </a:lnTo>
                      <a:lnTo>
                        <a:pt x="38" y="195"/>
                      </a:lnTo>
                      <a:lnTo>
                        <a:pt x="0" y="19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"/>
                <p:cNvSpPr/>
                <p:nvPr/>
              </p:nvSpPr>
              <p:spPr>
                <a:xfrm>
                  <a:off x="5408640" y="4968720"/>
                  <a:ext cx="1045080" cy="257400"/>
                </a:xfrm>
                <a:custGeom>
                  <a:avLst/>
                  <a:gdLst/>
                  <a:ahLst/>
                  <a:rect l="0" t="0" r="r" b="b"/>
                  <a:pathLst>
                    <a:path fill="none" w="2903" h="715">
                      <a:moveTo>
                        <a:pt x="0" y="185"/>
                      </a:moveTo>
                      <a:lnTo>
                        <a:pt x="299" y="85"/>
                      </a:lnTo>
                      <a:lnTo>
                        <a:pt x="446" y="85"/>
                      </a:lnTo>
                      <a:lnTo>
                        <a:pt x="484" y="95"/>
                      </a:lnTo>
                      <a:lnTo>
                        <a:pt x="707" y="95"/>
                      </a:lnTo>
                      <a:lnTo>
                        <a:pt x="707" y="133"/>
                      </a:lnTo>
                      <a:lnTo>
                        <a:pt x="813" y="133"/>
                      </a:lnTo>
                      <a:lnTo>
                        <a:pt x="813" y="109"/>
                      </a:lnTo>
                      <a:lnTo>
                        <a:pt x="798" y="100"/>
                      </a:lnTo>
                      <a:lnTo>
                        <a:pt x="1672" y="0"/>
                      </a:lnTo>
                      <a:lnTo>
                        <a:pt x="2894" y="14"/>
                      </a:lnTo>
                      <a:lnTo>
                        <a:pt x="2851" y="38"/>
                      </a:lnTo>
                      <a:lnTo>
                        <a:pt x="2903" y="38"/>
                      </a:lnTo>
                      <a:lnTo>
                        <a:pt x="2903" y="123"/>
                      </a:lnTo>
                      <a:lnTo>
                        <a:pt x="2751" y="157"/>
                      </a:lnTo>
                      <a:lnTo>
                        <a:pt x="2575" y="214"/>
                      </a:lnTo>
                      <a:lnTo>
                        <a:pt x="2419" y="290"/>
                      </a:lnTo>
                      <a:lnTo>
                        <a:pt x="2295" y="381"/>
                      </a:lnTo>
                      <a:lnTo>
                        <a:pt x="2233" y="448"/>
                      </a:lnTo>
                      <a:lnTo>
                        <a:pt x="2191" y="520"/>
                      </a:lnTo>
                      <a:lnTo>
                        <a:pt x="2157" y="596"/>
                      </a:lnTo>
                      <a:lnTo>
                        <a:pt x="2157" y="715"/>
                      </a:lnTo>
                      <a:lnTo>
                        <a:pt x="2095" y="677"/>
                      </a:lnTo>
                      <a:lnTo>
                        <a:pt x="2057" y="601"/>
                      </a:lnTo>
                      <a:lnTo>
                        <a:pt x="2005" y="601"/>
                      </a:lnTo>
                      <a:lnTo>
                        <a:pt x="1933" y="553"/>
                      </a:lnTo>
                      <a:lnTo>
                        <a:pt x="1872" y="553"/>
                      </a:lnTo>
                      <a:lnTo>
                        <a:pt x="1819" y="520"/>
                      </a:lnTo>
                      <a:lnTo>
                        <a:pt x="1762" y="505"/>
                      </a:lnTo>
                      <a:lnTo>
                        <a:pt x="1634" y="562"/>
                      </a:lnTo>
                      <a:lnTo>
                        <a:pt x="1577" y="562"/>
                      </a:lnTo>
                      <a:lnTo>
                        <a:pt x="1492" y="610"/>
                      </a:lnTo>
                      <a:lnTo>
                        <a:pt x="1468" y="596"/>
                      </a:lnTo>
                      <a:lnTo>
                        <a:pt x="1468" y="558"/>
                      </a:lnTo>
                      <a:lnTo>
                        <a:pt x="1435" y="534"/>
                      </a:lnTo>
                      <a:lnTo>
                        <a:pt x="1416" y="553"/>
                      </a:lnTo>
                      <a:lnTo>
                        <a:pt x="1354" y="529"/>
                      </a:lnTo>
                      <a:lnTo>
                        <a:pt x="1259" y="572"/>
                      </a:lnTo>
                      <a:lnTo>
                        <a:pt x="1221" y="572"/>
                      </a:lnTo>
                      <a:lnTo>
                        <a:pt x="1159" y="605"/>
                      </a:lnTo>
                      <a:lnTo>
                        <a:pt x="1121" y="601"/>
                      </a:lnTo>
                      <a:lnTo>
                        <a:pt x="1055" y="601"/>
                      </a:lnTo>
                      <a:lnTo>
                        <a:pt x="960" y="610"/>
                      </a:lnTo>
                      <a:lnTo>
                        <a:pt x="927" y="605"/>
                      </a:lnTo>
                      <a:lnTo>
                        <a:pt x="884" y="586"/>
                      </a:lnTo>
                      <a:lnTo>
                        <a:pt x="851" y="586"/>
                      </a:lnTo>
                      <a:lnTo>
                        <a:pt x="803" y="596"/>
                      </a:lnTo>
                      <a:lnTo>
                        <a:pt x="756" y="577"/>
                      </a:lnTo>
                      <a:lnTo>
                        <a:pt x="712" y="572"/>
                      </a:lnTo>
                      <a:lnTo>
                        <a:pt x="669" y="577"/>
                      </a:lnTo>
                      <a:lnTo>
                        <a:pt x="655" y="558"/>
                      </a:lnTo>
                      <a:lnTo>
                        <a:pt x="612" y="572"/>
                      </a:lnTo>
                      <a:lnTo>
                        <a:pt x="593" y="553"/>
                      </a:lnTo>
                      <a:lnTo>
                        <a:pt x="541" y="548"/>
                      </a:lnTo>
                      <a:lnTo>
                        <a:pt x="517" y="524"/>
                      </a:lnTo>
                      <a:lnTo>
                        <a:pt x="280" y="381"/>
                      </a:lnTo>
                      <a:lnTo>
                        <a:pt x="175" y="358"/>
                      </a:lnTo>
                      <a:lnTo>
                        <a:pt x="56" y="242"/>
                      </a:lnTo>
                      <a:lnTo>
                        <a:pt x="56" y="223"/>
                      </a:lnTo>
                      <a:lnTo>
                        <a:pt x="0" y="18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1" name=""/>
                <p:cNvSpPr/>
                <p:nvPr/>
              </p:nvSpPr>
              <p:spPr>
                <a:xfrm>
                  <a:off x="5656320" y="4998960"/>
                  <a:ext cx="12960" cy="38520"/>
                </a:xfrm>
                <a:custGeom>
                  <a:avLst/>
                  <a:gdLst/>
                  <a:ahLst/>
                  <a:rect l="0" t="0" r="r" b="b"/>
                  <a:pathLst>
                    <a:path fill="none" w="36" h="107">
                      <a:moveTo>
                        <a:pt x="0" y="107"/>
                      </a:moveTo>
                      <a:lnTo>
                        <a:pt x="36" y="107"/>
                      </a:lnTo>
                      <a:lnTo>
                        <a:pt x="36" y="19"/>
                      </a:lnTo>
                      <a:lnTo>
                        <a:pt x="36" y="14"/>
                      </a:lnTo>
                      <a:lnTo>
                        <a:pt x="36" y="9"/>
                      </a:lnTo>
                      <a:lnTo>
                        <a:pt x="31" y="4"/>
                      </a:lnTo>
                      <a:lnTo>
                        <a:pt x="26" y="0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10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5659560" y="5002200"/>
                  <a:ext cx="3600" cy="35280"/>
                </a:xfrm>
                <a:custGeom>
                  <a:avLst/>
                  <a:gdLst/>
                  <a:ahLst/>
                  <a:rect l="0" t="0" r="r" b="b"/>
                  <a:pathLst>
                    <a:path fill="none" w="10" h="98">
                      <a:moveTo>
                        <a:pt x="10" y="0"/>
                      </a:moveTo>
                      <a:lnTo>
                        <a:pt x="5" y="9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13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1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>
                  <a:off x="5429160" y="4863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9">
                      <a:moveTo>
                        <a:pt x="0" y="12"/>
                      </a:moveTo>
                      <a:lnTo>
                        <a:pt x="0" y="19"/>
                      </a:lnTo>
                      <a:lnTo>
                        <a:pt x="23" y="19"/>
                      </a:lnTo>
                      <a:lnTo>
                        <a:pt x="17" y="0"/>
                      </a:lnTo>
                      <a:lnTo>
                        <a:pt x="0" y="1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4" name=""/>
                <p:cNvSpPr/>
                <p:nvPr/>
              </p:nvSpPr>
              <p:spPr>
                <a:xfrm>
                  <a:off x="5437080" y="48895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14" h="19">
                      <a:moveTo>
                        <a:pt x="0" y="12"/>
                      </a:moveTo>
                      <a:lnTo>
                        <a:pt x="0" y="19"/>
                      </a:lnTo>
                      <a:lnTo>
                        <a:pt x="14" y="19"/>
                      </a:lnTo>
                      <a:lnTo>
                        <a:pt x="9" y="0"/>
                      </a:lnTo>
                      <a:lnTo>
                        <a:pt x="0" y="1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>
                  <a:off x="5529240" y="48736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4" h="14">
                      <a:moveTo>
                        <a:pt x="4" y="14"/>
                      </a:moveTo>
                      <a:lnTo>
                        <a:pt x="0" y="9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4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>
                  <a:off x="5448240" y="4826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50" h="27">
                      <a:moveTo>
                        <a:pt x="4" y="0"/>
                      </a:moveTo>
                      <a:lnTo>
                        <a:pt x="0" y="18"/>
                      </a:lnTo>
                      <a:lnTo>
                        <a:pt x="9" y="23"/>
                      </a:lnTo>
                      <a:lnTo>
                        <a:pt x="20" y="27"/>
                      </a:lnTo>
                      <a:lnTo>
                        <a:pt x="30" y="27"/>
                      </a:lnTo>
                      <a:lnTo>
                        <a:pt x="45" y="27"/>
                      </a:lnTo>
                      <a:lnTo>
                        <a:pt x="50" y="0"/>
                      </a:lnTo>
                      <a:lnTo>
                        <a:pt x="40" y="4"/>
                      </a:lnTo>
                      <a:lnTo>
                        <a:pt x="30" y="4"/>
                      </a:lnTo>
                      <a:lnTo>
                        <a:pt x="20" y="4"/>
                      </a:lnTo>
                      <a:lnTo>
                        <a:pt x="15" y="4"/>
                      </a:lnTo>
                      <a:lnTo>
                        <a:pt x="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7" name=""/>
                <p:cNvSpPr/>
                <p:nvPr/>
              </p:nvSpPr>
              <p:spPr>
                <a:xfrm>
                  <a:off x="5418000" y="48513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27" h="10">
                      <a:moveTo>
                        <a:pt x="0" y="5"/>
                      </a:moveTo>
                      <a:lnTo>
                        <a:pt x="23" y="0"/>
                      </a:lnTo>
                      <a:lnTo>
                        <a:pt x="27" y="10"/>
                      </a:lnTo>
                      <a:lnTo>
                        <a:pt x="0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5427720" y="4881600"/>
                  <a:ext cx="972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27" h="5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27" y="5"/>
                      </a:lnTo>
                      <a:lnTo>
                        <a:pt x="0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>
                  <a:off x="5519880" y="48862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9">
                      <a:moveTo>
                        <a:pt x="19" y="0"/>
                      </a:moveTo>
                      <a:lnTo>
                        <a:pt x="6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1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0" name=""/>
                <p:cNvSpPr/>
                <p:nvPr/>
              </p:nvSpPr>
              <p:spPr>
                <a:xfrm>
                  <a:off x="5538960" y="48560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4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5478480" y="4883040"/>
                  <a:ext cx="3060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85" h="80">
                      <a:moveTo>
                        <a:pt x="85" y="0"/>
                      </a:moveTo>
                      <a:lnTo>
                        <a:pt x="0" y="0"/>
                      </a:lnTo>
                      <a:lnTo>
                        <a:pt x="0" y="80"/>
                      </a:lnTo>
                      <a:lnTo>
                        <a:pt x="85" y="80"/>
                      </a:lnTo>
                      <a:lnTo>
                        <a:pt x="85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5475240" y="4883040"/>
                  <a:ext cx="3384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94" h="80">
                      <a:moveTo>
                        <a:pt x="94" y="80"/>
                      </a:moveTo>
                      <a:lnTo>
                        <a:pt x="0" y="80"/>
                      </a:ln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30" y="9"/>
                      </a:lnTo>
                      <a:lnTo>
                        <a:pt x="35" y="18"/>
                      </a:lnTo>
                      <a:lnTo>
                        <a:pt x="39" y="23"/>
                      </a:lnTo>
                      <a:lnTo>
                        <a:pt x="44" y="28"/>
                      </a:lnTo>
                      <a:lnTo>
                        <a:pt x="54" y="32"/>
                      </a:lnTo>
                      <a:lnTo>
                        <a:pt x="59" y="37"/>
                      </a:lnTo>
                      <a:lnTo>
                        <a:pt x="69" y="43"/>
                      </a:lnTo>
                      <a:lnTo>
                        <a:pt x="75" y="43"/>
                      </a:lnTo>
                      <a:lnTo>
                        <a:pt x="94" y="43"/>
                      </a:lnTo>
                      <a:lnTo>
                        <a:pt x="94" y="8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5423040" y="4881600"/>
                  <a:ext cx="198720" cy="138600"/>
                </a:xfrm>
                <a:custGeom>
                  <a:avLst/>
                  <a:gdLst/>
                  <a:ahLst/>
                  <a:rect l="0" t="0" r="r" b="b"/>
                  <a:pathLst>
                    <a:path fill="none" w="552" h="385">
                      <a:moveTo>
                        <a:pt x="0" y="376"/>
                      </a:moveTo>
                      <a:lnTo>
                        <a:pt x="19" y="371"/>
                      </a:lnTo>
                      <a:lnTo>
                        <a:pt x="28" y="319"/>
                      </a:lnTo>
                      <a:lnTo>
                        <a:pt x="61" y="305"/>
                      </a:lnTo>
                      <a:lnTo>
                        <a:pt x="76" y="305"/>
                      </a:lnTo>
                      <a:lnTo>
                        <a:pt x="76" y="295"/>
                      </a:lnTo>
                      <a:lnTo>
                        <a:pt x="95" y="295"/>
                      </a:lnTo>
                      <a:lnTo>
                        <a:pt x="95" y="285"/>
                      </a:lnTo>
                      <a:lnTo>
                        <a:pt x="99" y="285"/>
                      </a:lnTo>
                      <a:lnTo>
                        <a:pt x="99" y="252"/>
                      </a:lnTo>
                      <a:lnTo>
                        <a:pt x="61" y="252"/>
                      </a:lnTo>
                      <a:lnTo>
                        <a:pt x="61" y="242"/>
                      </a:lnTo>
                      <a:lnTo>
                        <a:pt x="71" y="228"/>
                      </a:lnTo>
                      <a:lnTo>
                        <a:pt x="66" y="228"/>
                      </a:lnTo>
                      <a:lnTo>
                        <a:pt x="66" y="204"/>
                      </a:lnTo>
                      <a:lnTo>
                        <a:pt x="99" y="105"/>
                      </a:lnTo>
                      <a:lnTo>
                        <a:pt x="228" y="105"/>
                      </a:lnTo>
                      <a:lnTo>
                        <a:pt x="228" y="94"/>
                      </a:lnTo>
                      <a:lnTo>
                        <a:pt x="338" y="94"/>
                      </a:lnTo>
                      <a:lnTo>
                        <a:pt x="338" y="105"/>
                      </a:lnTo>
                      <a:lnTo>
                        <a:pt x="333" y="114"/>
                      </a:lnTo>
                      <a:lnTo>
                        <a:pt x="333" y="214"/>
                      </a:lnTo>
                      <a:lnTo>
                        <a:pt x="295" y="228"/>
                      </a:lnTo>
                      <a:lnTo>
                        <a:pt x="295" y="295"/>
                      </a:lnTo>
                      <a:lnTo>
                        <a:pt x="400" y="290"/>
                      </a:lnTo>
                      <a:lnTo>
                        <a:pt x="438" y="275"/>
                      </a:lnTo>
                      <a:lnTo>
                        <a:pt x="442" y="0"/>
                      </a:lnTo>
                      <a:lnTo>
                        <a:pt x="447" y="0"/>
                      </a:lnTo>
                      <a:lnTo>
                        <a:pt x="447" y="270"/>
                      </a:lnTo>
                      <a:lnTo>
                        <a:pt x="471" y="270"/>
                      </a:lnTo>
                      <a:lnTo>
                        <a:pt x="537" y="290"/>
                      </a:lnTo>
                      <a:lnTo>
                        <a:pt x="552" y="295"/>
                      </a:lnTo>
                      <a:lnTo>
                        <a:pt x="552" y="324"/>
                      </a:lnTo>
                      <a:lnTo>
                        <a:pt x="466" y="338"/>
                      </a:lnTo>
                      <a:lnTo>
                        <a:pt x="371" y="338"/>
                      </a:lnTo>
                      <a:lnTo>
                        <a:pt x="338" y="328"/>
                      </a:lnTo>
                      <a:lnTo>
                        <a:pt x="251" y="328"/>
                      </a:lnTo>
                      <a:lnTo>
                        <a:pt x="23" y="385"/>
                      </a:lnTo>
                      <a:lnTo>
                        <a:pt x="0" y="376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5516640" y="5016600"/>
                  <a:ext cx="14328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398" h="32">
                      <a:moveTo>
                        <a:pt x="0" y="32"/>
                      </a:moveTo>
                      <a:lnTo>
                        <a:pt x="398" y="32"/>
                      </a:lnTo>
                      <a:lnTo>
                        <a:pt x="398" y="0"/>
                      </a:lnTo>
                      <a:lnTo>
                        <a:pt x="0" y="0"/>
                      </a:lnTo>
                      <a:lnTo>
                        <a:pt x="0" y="3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5486400" y="5064120"/>
                  <a:ext cx="47880" cy="47880"/>
                </a:xfrm>
                <a:custGeom>
                  <a:avLst/>
                  <a:gdLst/>
                  <a:ahLst/>
                  <a:rect l="0" t="0" r="r" b="b"/>
                  <a:pathLst>
                    <a:path fill="none" w="133" h="133">
                      <a:moveTo>
                        <a:pt x="0" y="0"/>
                      </a:moveTo>
                      <a:lnTo>
                        <a:pt x="37" y="103"/>
                      </a:lnTo>
                      <a:lnTo>
                        <a:pt x="133" y="133"/>
                      </a:lnTo>
                      <a:lnTo>
                        <a:pt x="133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5510160" y="5105520"/>
                  <a:ext cx="120960" cy="59040"/>
                </a:xfrm>
                <a:custGeom>
                  <a:avLst/>
                  <a:gdLst/>
                  <a:ahLst/>
                  <a:rect l="0" t="0" r="r" b="b"/>
                  <a:pathLst>
                    <a:path fill="none" w="336" h="164">
                      <a:moveTo>
                        <a:pt x="336" y="130"/>
                      </a:moveTo>
                      <a:lnTo>
                        <a:pt x="265" y="164"/>
                      </a:lnTo>
                      <a:lnTo>
                        <a:pt x="241" y="149"/>
                      </a:lnTo>
                      <a:lnTo>
                        <a:pt x="199" y="144"/>
                      </a:lnTo>
                      <a:lnTo>
                        <a:pt x="51" y="92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65" y="52"/>
                      </a:lnTo>
                      <a:lnTo>
                        <a:pt x="122" y="62"/>
                      </a:lnTo>
                      <a:lnTo>
                        <a:pt x="336" y="13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5691240" y="4968720"/>
                  <a:ext cx="495720" cy="259200"/>
                </a:xfrm>
                <a:custGeom>
                  <a:avLst/>
                  <a:gdLst/>
                  <a:ahLst/>
                  <a:rect l="0" t="0" r="r" b="b"/>
                  <a:pathLst>
                    <a:path fill="none" w="1377" h="720">
                      <a:moveTo>
                        <a:pt x="1107" y="544"/>
                      </a:moveTo>
                      <a:lnTo>
                        <a:pt x="997" y="453"/>
                      </a:lnTo>
                      <a:lnTo>
                        <a:pt x="802" y="353"/>
                      </a:lnTo>
                      <a:lnTo>
                        <a:pt x="570" y="296"/>
                      </a:lnTo>
                      <a:lnTo>
                        <a:pt x="380" y="277"/>
                      </a:lnTo>
                      <a:lnTo>
                        <a:pt x="375" y="267"/>
                      </a:lnTo>
                      <a:lnTo>
                        <a:pt x="270" y="186"/>
                      </a:lnTo>
                      <a:lnTo>
                        <a:pt x="270" y="123"/>
                      </a:lnTo>
                      <a:lnTo>
                        <a:pt x="0" y="138"/>
                      </a:lnTo>
                      <a:lnTo>
                        <a:pt x="18" y="104"/>
                      </a:lnTo>
                      <a:lnTo>
                        <a:pt x="745" y="42"/>
                      </a:lnTo>
                      <a:lnTo>
                        <a:pt x="850" y="0"/>
                      </a:lnTo>
                      <a:lnTo>
                        <a:pt x="783" y="71"/>
                      </a:lnTo>
                      <a:lnTo>
                        <a:pt x="783" y="123"/>
                      </a:lnTo>
                      <a:lnTo>
                        <a:pt x="850" y="152"/>
                      </a:lnTo>
                      <a:lnTo>
                        <a:pt x="940" y="152"/>
                      </a:lnTo>
                      <a:lnTo>
                        <a:pt x="878" y="123"/>
                      </a:lnTo>
                      <a:lnTo>
                        <a:pt x="1050" y="123"/>
                      </a:lnTo>
                      <a:lnTo>
                        <a:pt x="1050" y="138"/>
                      </a:lnTo>
                      <a:lnTo>
                        <a:pt x="1377" y="296"/>
                      </a:lnTo>
                      <a:lnTo>
                        <a:pt x="1377" y="720"/>
                      </a:lnTo>
                      <a:lnTo>
                        <a:pt x="1354" y="701"/>
                      </a:lnTo>
                      <a:lnTo>
                        <a:pt x="1306" y="673"/>
                      </a:lnTo>
                      <a:lnTo>
                        <a:pt x="1273" y="611"/>
                      </a:lnTo>
                      <a:lnTo>
                        <a:pt x="1216" y="611"/>
                      </a:lnTo>
                      <a:lnTo>
                        <a:pt x="1173" y="563"/>
                      </a:lnTo>
                      <a:lnTo>
                        <a:pt x="1107" y="54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5614920" y="5062680"/>
                  <a:ext cx="224280" cy="65520"/>
                </a:xfrm>
                <a:custGeom>
                  <a:avLst/>
                  <a:gdLst/>
                  <a:ahLst/>
                  <a:rect l="0" t="0" r="r" b="b"/>
                  <a:pathLst>
                    <a:path fill="none" w="623" h="182">
                      <a:moveTo>
                        <a:pt x="623" y="14"/>
                      </a:moveTo>
                      <a:lnTo>
                        <a:pt x="609" y="77"/>
                      </a:lnTo>
                      <a:lnTo>
                        <a:pt x="585" y="144"/>
                      </a:lnTo>
                      <a:lnTo>
                        <a:pt x="552" y="182"/>
                      </a:lnTo>
                      <a:lnTo>
                        <a:pt x="228" y="178"/>
                      </a:lnTo>
                      <a:lnTo>
                        <a:pt x="52" y="159"/>
                      </a:lnTo>
                      <a:lnTo>
                        <a:pt x="4" y="124"/>
                      </a:lnTo>
                      <a:lnTo>
                        <a:pt x="0" y="86"/>
                      </a:lnTo>
                      <a:lnTo>
                        <a:pt x="52" y="86"/>
                      </a:lnTo>
                      <a:lnTo>
                        <a:pt x="66" y="58"/>
                      </a:lnTo>
                      <a:lnTo>
                        <a:pt x="52" y="0"/>
                      </a:lnTo>
                      <a:lnTo>
                        <a:pt x="609" y="0"/>
                      </a:lnTo>
                      <a:lnTo>
                        <a:pt x="623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>
                  <a:off x="6068880" y="5013360"/>
                  <a:ext cx="384480" cy="208440"/>
                </a:xfrm>
                <a:custGeom>
                  <a:avLst/>
                  <a:gdLst/>
                  <a:ahLst/>
                  <a:rect l="0" t="0" r="r" b="b"/>
                  <a:pathLst>
                    <a:path fill="none" w="1068" h="579">
                      <a:moveTo>
                        <a:pt x="4" y="19"/>
                      </a:moveTo>
                      <a:lnTo>
                        <a:pt x="33" y="33"/>
                      </a:lnTo>
                      <a:lnTo>
                        <a:pt x="52" y="52"/>
                      </a:lnTo>
                      <a:lnTo>
                        <a:pt x="75" y="71"/>
                      </a:lnTo>
                      <a:lnTo>
                        <a:pt x="99" y="90"/>
                      </a:lnTo>
                      <a:lnTo>
                        <a:pt x="118" y="109"/>
                      </a:lnTo>
                      <a:lnTo>
                        <a:pt x="137" y="128"/>
                      </a:lnTo>
                      <a:lnTo>
                        <a:pt x="156" y="153"/>
                      </a:lnTo>
                      <a:lnTo>
                        <a:pt x="175" y="177"/>
                      </a:lnTo>
                      <a:lnTo>
                        <a:pt x="194" y="196"/>
                      </a:lnTo>
                      <a:lnTo>
                        <a:pt x="208" y="220"/>
                      </a:lnTo>
                      <a:lnTo>
                        <a:pt x="227" y="244"/>
                      </a:lnTo>
                      <a:lnTo>
                        <a:pt x="241" y="273"/>
                      </a:lnTo>
                      <a:lnTo>
                        <a:pt x="251" y="296"/>
                      </a:lnTo>
                      <a:lnTo>
                        <a:pt x="265" y="325"/>
                      </a:lnTo>
                      <a:lnTo>
                        <a:pt x="275" y="349"/>
                      </a:lnTo>
                      <a:lnTo>
                        <a:pt x="284" y="378"/>
                      </a:lnTo>
                      <a:lnTo>
                        <a:pt x="294" y="406"/>
                      </a:lnTo>
                      <a:lnTo>
                        <a:pt x="303" y="436"/>
                      </a:lnTo>
                      <a:lnTo>
                        <a:pt x="308" y="465"/>
                      </a:lnTo>
                      <a:lnTo>
                        <a:pt x="317" y="493"/>
                      </a:lnTo>
                      <a:lnTo>
                        <a:pt x="322" y="522"/>
                      </a:lnTo>
                      <a:lnTo>
                        <a:pt x="322" y="551"/>
                      </a:lnTo>
                      <a:lnTo>
                        <a:pt x="327" y="579"/>
                      </a:lnTo>
                      <a:lnTo>
                        <a:pt x="327" y="560"/>
                      </a:lnTo>
                      <a:lnTo>
                        <a:pt x="332" y="536"/>
                      </a:lnTo>
                      <a:lnTo>
                        <a:pt x="336" y="512"/>
                      </a:lnTo>
                      <a:lnTo>
                        <a:pt x="341" y="488"/>
                      </a:lnTo>
                      <a:lnTo>
                        <a:pt x="350" y="469"/>
                      </a:lnTo>
                      <a:lnTo>
                        <a:pt x="355" y="445"/>
                      </a:lnTo>
                      <a:lnTo>
                        <a:pt x="365" y="425"/>
                      </a:lnTo>
                      <a:lnTo>
                        <a:pt x="374" y="402"/>
                      </a:lnTo>
                      <a:lnTo>
                        <a:pt x="388" y="382"/>
                      </a:lnTo>
                      <a:lnTo>
                        <a:pt x="398" y="363"/>
                      </a:lnTo>
                      <a:lnTo>
                        <a:pt x="412" y="344"/>
                      </a:lnTo>
                      <a:lnTo>
                        <a:pt x="426" y="325"/>
                      </a:lnTo>
                      <a:lnTo>
                        <a:pt x="441" y="311"/>
                      </a:lnTo>
                      <a:lnTo>
                        <a:pt x="460" y="292"/>
                      </a:lnTo>
                      <a:lnTo>
                        <a:pt x="474" y="277"/>
                      </a:lnTo>
                      <a:lnTo>
                        <a:pt x="493" y="263"/>
                      </a:lnTo>
                      <a:lnTo>
                        <a:pt x="507" y="244"/>
                      </a:lnTo>
                      <a:lnTo>
                        <a:pt x="526" y="234"/>
                      </a:lnTo>
                      <a:lnTo>
                        <a:pt x="546" y="220"/>
                      </a:lnTo>
                      <a:lnTo>
                        <a:pt x="617" y="177"/>
                      </a:lnTo>
                      <a:lnTo>
                        <a:pt x="702" y="133"/>
                      </a:lnTo>
                      <a:lnTo>
                        <a:pt x="812" y="85"/>
                      </a:lnTo>
                      <a:lnTo>
                        <a:pt x="925" y="47"/>
                      </a:lnTo>
                      <a:lnTo>
                        <a:pt x="1068" y="0"/>
                      </a:lnTo>
                      <a:lnTo>
                        <a:pt x="1006" y="0"/>
                      </a:lnTo>
                      <a:lnTo>
                        <a:pt x="1006" y="14"/>
                      </a:lnTo>
                      <a:lnTo>
                        <a:pt x="0" y="14"/>
                      </a:lnTo>
                      <a:lnTo>
                        <a:pt x="4" y="1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>
                  <a:off x="5997600" y="4981680"/>
                  <a:ext cx="7164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02">
                      <a:moveTo>
                        <a:pt x="199" y="102"/>
                      </a:moveTo>
                      <a:lnTo>
                        <a:pt x="199" y="0"/>
                      </a:lnTo>
                      <a:lnTo>
                        <a:pt x="189" y="0"/>
                      </a:lnTo>
                      <a:lnTo>
                        <a:pt x="189" y="83"/>
                      </a:lnTo>
                      <a:lnTo>
                        <a:pt x="0" y="83"/>
                      </a:lnTo>
                      <a:lnTo>
                        <a:pt x="56" y="102"/>
                      </a:lnTo>
                      <a:lnTo>
                        <a:pt x="56" y="88"/>
                      </a:lnTo>
                      <a:lnTo>
                        <a:pt x="189" y="88"/>
                      </a:lnTo>
                      <a:lnTo>
                        <a:pt x="166" y="102"/>
                      </a:lnTo>
                      <a:lnTo>
                        <a:pt x="199" y="10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>
                  <a:off x="6013440" y="4968720"/>
                  <a:ext cx="43704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1214" h="36">
                      <a:moveTo>
                        <a:pt x="146" y="36"/>
                      </a:moveTo>
                      <a:lnTo>
                        <a:pt x="184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214" y="15"/>
                      </a:lnTo>
                      <a:lnTo>
                        <a:pt x="1181" y="36"/>
                      </a:lnTo>
                      <a:lnTo>
                        <a:pt x="146" y="36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>
                  <a:off x="6438960" y="4981680"/>
                  <a:ext cx="14760" cy="32040"/>
                </a:xfrm>
                <a:custGeom>
                  <a:avLst/>
                  <a:gdLst/>
                  <a:ahLst/>
                  <a:rect l="0" t="0" r="r" b="b"/>
                  <a:pathLst>
                    <a:path fill="none" w="41" h="89">
                      <a:moveTo>
                        <a:pt x="0" y="0"/>
                      </a:moveTo>
                      <a:lnTo>
                        <a:pt x="41" y="0"/>
                      </a:lnTo>
                      <a:lnTo>
                        <a:pt x="41" y="8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>
                  <a:off x="6453360" y="499896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41" h="19">
                      <a:moveTo>
                        <a:pt x="0" y="19"/>
                      </a:move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0" y="1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>
                  <a:off x="5656320" y="4981680"/>
                  <a:ext cx="375120" cy="81360"/>
                </a:xfrm>
                <a:custGeom>
                  <a:avLst/>
                  <a:gdLst/>
                  <a:ahLst/>
                  <a:rect l="0" t="0" r="r" b="b"/>
                  <a:pathLst>
                    <a:path fill="none" w="1042" h="226">
                      <a:moveTo>
                        <a:pt x="1004" y="108"/>
                      </a:moveTo>
                      <a:lnTo>
                        <a:pt x="1023" y="113"/>
                      </a:lnTo>
                      <a:lnTo>
                        <a:pt x="680" y="118"/>
                      </a:lnTo>
                      <a:lnTo>
                        <a:pt x="847" y="51"/>
                      </a:lnTo>
                      <a:lnTo>
                        <a:pt x="847" y="0"/>
                      </a:lnTo>
                      <a:lnTo>
                        <a:pt x="814" y="0"/>
                      </a:lnTo>
                      <a:lnTo>
                        <a:pt x="814" y="57"/>
                      </a:lnTo>
                      <a:lnTo>
                        <a:pt x="713" y="57"/>
                      </a:lnTo>
                      <a:lnTo>
                        <a:pt x="109" y="99"/>
                      </a:lnTo>
                      <a:lnTo>
                        <a:pt x="185" y="99"/>
                      </a:lnTo>
                      <a:lnTo>
                        <a:pt x="185" y="155"/>
                      </a:lnTo>
                      <a:lnTo>
                        <a:pt x="0" y="155"/>
                      </a:lnTo>
                      <a:lnTo>
                        <a:pt x="0" y="160"/>
                      </a:lnTo>
                      <a:lnTo>
                        <a:pt x="395" y="160"/>
                      </a:lnTo>
                      <a:lnTo>
                        <a:pt x="485" y="226"/>
                      </a:lnTo>
                      <a:lnTo>
                        <a:pt x="371" y="136"/>
                      </a:lnTo>
                      <a:lnTo>
                        <a:pt x="371" y="85"/>
                      </a:lnTo>
                      <a:lnTo>
                        <a:pt x="428" y="122"/>
                      </a:lnTo>
                      <a:lnTo>
                        <a:pt x="390" y="127"/>
                      </a:lnTo>
                      <a:lnTo>
                        <a:pt x="1042" y="113"/>
                      </a:lnTo>
                      <a:lnTo>
                        <a:pt x="1004" y="108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>
                  <a:off x="5656320" y="5027760"/>
                  <a:ext cx="66960" cy="33840"/>
                </a:xfrm>
                <a:custGeom>
                  <a:avLst/>
                  <a:gdLst/>
                  <a:ahLst/>
                  <a:rect l="0" t="0" r="r" b="b"/>
                  <a:pathLst>
                    <a:path fill="none" w="186" h="94">
                      <a:moveTo>
                        <a:pt x="0" y="94"/>
                      </a:moveTo>
                      <a:lnTo>
                        <a:pt x="0" y="0"/>
                      </a:lnTo>
                      <a:lnTo>
                        <a:pt x="186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 flipH="1">
                  <a:off x="5656320" y="5033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5656320" y="503064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5668920" y="50277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5681520" y="50277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5692680" y="50277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5705640" y="50277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5716440" y="50277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5668920" y="5010120"/>
                  <a:ext cx="2736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76" h="50">
                      <a:moveTo>
                        <a:pt x="58" y="50"/>
                      </a:moveTo>
                      <a:lnTo>
                        <a:pt x="58" y="20"/>
                      </a:lnTo>
                      <a:lnTo>
                        <a:pt x="76" y="20"/>
                      </a:ln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24" y="30"/>
                      </a:lnTo>
                      <a:lnTo>
                        <a:pt x="24" y="50"/>
                      </a:lnTo>
                      <a:lnTo>
                        <a:pt x="58" y="5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5656320" y="4998960"/>
                  <a:ext cx="1296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36" h="80">
                      <a:moveTo>
                        <a:pt x="36" y="80"/>
                      </a:moveTo>
                      <a:lnTo>
                        <a:pt x="36" y="19"/>
                      </a:lnTo>
                      <a:lnTo>
                        <a:pt x="36" y="14"/>
                      </a:lnTo>
                      <a:lnTo>
                        <a:pt x="36" y="9"/>
                      </a:lnTo>
                      <a:lnTo>
                        <a:pt x="31" y="4"/>
                      </a:lnTo>
                      <a:lnTo>
                        <a:pt x="26" y="0"/>
                      </a:lnTo>
                      <a:lnTo>
                        <a:pt x="21" y="0"/>
                      </a:lnTo>
                      <a:lnTo>
                        <a:pt x="15" y="0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0" y="14"/>
                      </a:lnTo>
                      <a:lnTo>
                        <a:pt x="0" y="8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5695920" y="4968720"/>
                  <a:ext cx="30204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839" h="102">
                      <a:moveTo>
                        <a:pt x="0" y="102"/>
                      </a:moveTo>
                      <a:lnTo>
                        <a:pt x="839" y="0"/>
                      </a:lnTo>
                      <a:lnTo>
                        <a:pt x="739" y="43"/>
                      </a:lnTo>
                      <a:lnTo>
                        <a:pt x="605" y="43"/>
                      </a:lnTo>
                      <a:lnTo>
                        <a:pt x="605" y="87"/>
                      </a:lnTo>
                      <a:lnTo>
                        <a:pt x="591" y="48"/>
                      </a:lnTo>
                      <a:lnTo>
                        <a:pt x="0" y="10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>
                  <a:off x="5695920" y="4989600"/>
                  <a:ext cx="20988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583" h="50">
                      <a:moveTo>
                        <a:pt x="0" y="45"/>
                      </a:moveTo>
                      <a:lnTo>
                        <a:pt x="9" y="50"/>
                      </a:lnTo>
                      <a:lnTo>
                        <a:pt x="58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>
                  <a:off x="5630760" y="5062680"/>
                  <a:ext cx="200520" cy="55800"/>
                </a:xfrm>
                <a:custGeom>
                  <a:avLst/>
                  <a:gdLst/>
                  <a:ahLst/>
                  <a:rect l="0" t="0" r="r" b="b"/>
                  <a:pathLst>
                    <a:path fill="none" w="557" h="155">
                      <a:moveTo>
                        <a:pt x="557" y="0"/>
                      </a:moveTo>
                      <a:lnTo>
                        <a:pt x="557" y="14"/>
                      </a:lnTo>
                      <a:lnTo>
                        <a:pt x="552" y="43"/>
                      </a:lnTo>
                      <a:lnTo>
                        <a:pt x="548" y="67"/>
                      </a:lnTo>
                      <a:lnTo>
                        <a:pt x="533" y="97"/>
                      </a:lnTo>
                      <a:lnTo>
                        <a:pt x="519" y="126"/>
                      </a:lnTo>
                      <a:lnTo>
                        <a:pt x="495" y="155"/>
                      </a:lnTo>
                      <a:lnTo>
                        <a:pt x="371" y="145"/>
                      </a:lnTo>
                      <a:lnTo>
                        <a:pt x="0" y="0"/>
                      </a:lnTo>
                      <a:lnTo>
                        <a:pt x="557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5792760" y="5038560"/>
                  <a:ext cx="180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5" h="72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5" y="72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5629320" y="5068800"/>
                  <a:ext cx="44640" cy="38520"/>
                </a:xfrm>
                <a:custGeom>
                  <a:avLst/>
                  <a:gdLst/>
                  <a:ahLst/>
                  <a:rect l="0" t="0" r="r" b="b"/>
                  <a:pathLst>
                    <a:path fill="none" w="124" h="107">
                      <a:moveTo>
                        <a:pt x="14" y="0"/>
                      </a:moveTo>
                      <a:lnTo>
                        <a:pt x="95" y="60"/>
                      </a:lnTo>
                      <a:lnTo>
                        <a:pt x="95" y="74"/>
                      </a:lnTo>
                      <a:lnTo>
                        <a:pt x="91" y="89"/>
                      </a:lnTo>
                      <a:lnTo>
                        <a:pt x="81" y="94"/>
                      </a:lnTo>
                      <a:lnTo>
                        <a:pt x="61" y="98"/>
                      </a:lnTo>
                      <a:lnTo>
                        <a:pt x="0" y="98"/>
                      </a:lnTo>
                      <a:lnTo>
                        <a:pt x="4" y="103"/>
                      </a:lnTo>
                      <a:lnTo>
                        <a:pt x="86" y="107"/>
                      </a:lnTo>
                      <a:lnTo>
                        <a:pt x="100" y="103"/>
                      </a:lnTo>
                      <a:lnTo>
                        <a:pt x="110" y="94"/>
                      </a:lnTo>
                      <a:lnTo>
                        <a:pt x="114" y="84"/>
                      </a:lnTo>
                      <a:lnTo>
                        <a:pt x="119" y="70"/>
                      </a:lnTo>
                      <a:lnTo>
                        <a:pt x="124" y="42"/>
                      </a:lnTo>
                      <a:lnTo>
                        <a:pt x="1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 flipH="1">
                  <a:off x="5530680" y="5003640"/>
                  <a:ext cx="12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5408640" y="5003640"/>
                  <a:ext cx="248040" cy="39960"/>
                </a:xfrm>
                <a:custGeom>
                  <a:avLst/>
                  <a:gdLst/>
                  <a:ahLst/>
                  <a:rect l="0" t="0" r="r" b="b"/>
                  <a:pathLst>
                    <a:path fill="none" w="689" h="111">
                      <a:moveTo>
                        <a:pt x="337" y="0"/>
                      </a:moveTo>
                      <a:lnTo>
                        <a:pt x="337" y="32"/>
                      </a:lnTo>
                      <a:lnTo>
                        <a:pt x="689" y="32"/>
                      </a:lnTo>
                      <a:lnTo>
                        <a:pt x="689" y="41"/>
                      </a:lnTo>
                      <a:lnTo>
                        <a:pt x="295" y="41"/>
                      </a:lnTo>
                      <a:lnTo>
                        <a:pt x="56" y="111"/>
                      </a:lnTo>
                      <a:lnTo>
                        <a:pt x="0" y="97"/>
                      </a:lnTo>
                      <a:lnTo>
                        <a:pt x="295" y="0"/>
                      </a:lnTo>
                      <a:lnTo>
                        <a:pt x="337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>
                  <a:off x="5418000" y="5014800"/>
                  <a:ext cx="22428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623" h="305">
                      <a:moveTo>
                        <a:pt x="623" y="57"/>
                      </a:moveTo>
                      <a:lnTo>
                        <a:pt x="609" y="71"/>
                      </a:lnTo>
                      <a:lnTo>
                        <a:pt x="600" y="71"/>
                      </a:lnTo>
                      <a:lnTo>
                        <a:pt x="600" y="95"/>
                      </a:lnTo>
                      <a:lnTo>
                        <a:pt x="481" y="95"/>
                      </a:lnTo>
                      <a:lnTo>
                        <a:pt x="481" y="133"/>
                      </a:lnTo>
                      <a:lnTo>
                        <a:pt x="571" y="233"/>
                      </a:lnTo>
                      <a:lnTo>
                        <a:pt x="552" y="219"/>
                      </a:lnTo>
                      <a:lnTo>
                        <a:pt x="552" y="248"/>
                      </a:lnTo>
                      <a:lnTo>
                        <a:pt x="490" y="238"/>
                      </a:lnTo>
                      <a:lnTo>
                        <a:pt x="490" y="305"/>
                      </a:lnTo>
                      <a:lnTo>
                        <a:pt x="356" y="243"/>
                      </a:lnTo>
                      <a:lnTo>
                        <a:pt x="356" y="157"/>
                      </a:lnTo>
                      <a:lnTo>
                        <a:pt x="342" y="157"/>
                      </a:lnTo>
                      <a:lnTo>
                        <a:pt x="342" y="205"/>
                      </a:lnTo>
                      <a:lnTo>
                        <a:pt x="328" y="205"/>
                      </a:lnTo>
                      <a:lnTo>
                        <a:pt x="328" y="157"/>
                      </a:lnTo>
                      <a:lnTo>
                        <a:pt x="314" y="157"/>
                      </a:lnTo>
                      <a:lnTo>
                        <a:pt x="314" y="243"/>
                      </a:lnTo>
                      <a:lnTo>
                        <a:pt x="314" y="147"/>
                      </a:lnTo>
                      <a:lnTo>
                        <a:pt x="200" y="147"/>
                      </a:lnTo>
                      <a:lnTo>
                        <a:pt x="186" y="133"/>
                      </a:lnTo>
                      <a:lnTo>
                        <a:pt x="219" y="133"/>
                      </a:lnTo>
                      <a:lnTo>
                        <a:pt x="219" y="85"/>
                      </a:lnTo>
                      <a:lnTo>
                        <a:pt x="104" y="109"/>
                      </a:lnTo>
                      <a:lnTo>
                        <a:pt x="151" y="229"/>
                      </a:lnTo>
                      <a:lnTo>
                        <a:pt x="0" y="142"/>
                      </a:lnTo>
                      <a:lnTo>
                        <a:pt x="0" y="118"/>
                      </a:lnTo>
                      <a:lnTo>
                        <a:pt x="219" y="61"/>
                      </a:lnTo>
                      <a:lnTo>
                        <a:pt x="219" y="23"/>
                      </a:lnTo>
                      <a:lnTo>
                        <a:pt x="271" y="0"/>
                      </a:lnTo>
                      <a:lnTo>
                        <a:pt x="271" y="57"/>
                      </a:lnTo>
                      <a:lnTo>
                        <a:pt x="623" y="5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5477040" y="5099040"/>
                  <a:ext cx="97200" cy="24120"/>
                </a:xfrm>
                <a:custGeom>
                  <a:avLst/>
                  <a:gdLst/>
                  <a:ahLst/>
                  <a:rect l="0" t="0" r="r" b="b"/>
                  <a:pathLst>
                    <a:path fill="none" w="270" h="67">
                      <a:moveTo>
                        <a:pt x="0" y="0"/>
                      </a:moveTo>
                      <a:lnTo>
                        <a:pt x="149" y="9"/>
                      </a:lnTo>
                      <a:lnTo>
                        <a:pt x="270" y="67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5589720" y="5048280"/>
                  <a:ext cx="66960" cy="19440"/>
                </a:xfrm>
                <a:custGeom>
                  <a:avLst/>
                  <a:gdLst/>
                  <a:ahLst/>
                  <a:rect l="0" t="0" r="r" b="b"/>
                  <a:pathLst>
                    <a:path fill="none" w="186" h="54">
                      <a:moveTo>
                        <a:pt x="47" y="0"/>
                      </a:moveTo>
                      <a:lnTo>
                        <a:pt x="47" y="45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114" y="54"/>
                      </a:lnTo>
                      <a:lnTo>
                        <a:pt x="95" y="45"/>
                      </a:lnTo>
                      <a:lnTo>
                        <a:pt x="186" y="45"/>
                      </a:lnTo>
                      <a:lnTo>
                        <a:pt x="186" y="0"/>
                      </a:lnTo>
                      <a:lnTo>
                        <a:pt x="47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5408640" y="4997520"/>
                  <a:ext cx="251280" cy="57600"/>
                </a:xfrm>
                <a:custGeom>
                  <a:avLst/>
                  <a:gdLst/>
                  <a:ahLst/>
                  <a:rect l="0" t="0" r="r" b="b"/>
                  <a:pathLst>
                    <a:path fill="none" w="698" h="160">
                      <a:moveTo>
                        <a:pt x="57" y="160"/>
                      </a:moveTo>
                      <a:lnTo>
                        <a:pt x="57" y="131"/>
                      </a:lnTo>
                      <a:lnTo>
                        <a:pt x="0" y="116"/>
                      </a:lnTo>
                      <a:lnTo>
                        <a:pt x="0" y="106"/>
                      </a:lnTo>
                      <a:lnTo>
                        <a:pt x="296" y="0"/>
                      </a:lnTo>
                      <a:lnTo>
                        <a:pt x="378" y="0"/>
                      </a:lnTo>
                      <a:lnTo>
                        <a:pt x="411" y="9"/>
                      </a:lnTo>
                      <a:lnTo>
                        <a:pt x="698" y="9"/>
                      </a:lnTo>
                      <a:lnTo>
                        <a:pt x="698" y="14"/>
                      </a:lnTo>
                      <a:lnTo>
                        <a:pt x="411" y="14"/>
                      </a:lnTo>
                      <a:lnTo>
                        <a:pt x="378" y="4"/>
                      </a:lnTo>
                      <a:lnTo>
                        <a:pt x="296" y="4"/>
                      </a:lnTo>
                      <a:lnTo>
                        <a:pt x="296" y="19"/>
                      </a:lnTo>
                      <a:lnTo>
                        <a:pt x="263" y="19"/>
                      </a:lnTo>
                      <a:lnTo>
                        <a:pt x="4" y="106"/>
                      </a:lnTo>
                      <a:lnTo>
                        <a:pt x="4" y="116"/>
                      </a:lnTo>
                      <a:lnTo>
                        <a:pt x="57" y="16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5506920" y="5102280"/>
                  <a:ext cx="135360" cy="54360"/>
                </a:xfrm>
                <a:custGeom>
                  <a:avLst/>
                  <a:gdLst/>
                  <a:ahLst/>
                  <a:rect l="0" t="0" r="r" b="b"/>
                  <a:pathLst>
                    <a:path fill="none" w="376" h="151">
                      <a:moveTo>
                        <a:pt x="334" y="0"/>
                      </a:moveTo>
                      <a:lnTo>
                        <a:pt x="343" y="4"/>
                      </a:lnTo>
                      <a:lnTo>
                        <a:pt x="376" y="4"/>
                      </a:lnTo>
                      <a:lnTo>
                        <a:pt x="376" y="132"/>
                      </a:lnTo>
                      <a:lnTo>
                        <a:pt x="353" y="151"/>
                      </a:lnTo>
                      <a:lnTo>
                        <a:pt x="18" y="49"/>
                      </a:lnTo>
                      <a:lnTo>
                        <a:pt x="37" y="83"/>
                      </a:lnTo>
                      <a:lnTo>
                        <a:pt x="4" y="49"/>
                      </a:lnTo>
                      <a:lnTo>
                        <a:pt x="0" y="9"/>
                      </a:lnTo>
                      <a:lnTo>
                        <a:pt x="9" y="39"/>
                      </a:lnTo>
                      <a:lnTo>
                        <a:pt x="334" y="122"/>
                      </a:lnTo>
                      <a:lnTo>
                        <a:pt x="33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5597640" y="5102280"/>
                  <a:ext cx="19440" cy="32040"/>
                </a:xfrm>
                <a:custGeom>
                  <a:avLst/>
                  <a:gdLst/>
                  <a:ahLst/>
                  <a:rect l="0" t="0" r="r" b="b"/>
                  <a:pathLst>
                    <a:path fill="none" w="54" h="89">
                      <a:moveTo>
                        <a:pt x="54" y="0"/>
                      </a:moveTo>
                      <a:lnTo>
                        <a:pt x="54" y="89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50" y="79"/>
                      </a:lnTo>
                      <a:lnTo>
                        <a:pt x="50" y="0"/>
                      </a:lnTo>
                      <a:lnTo>
                        <a:pt x="5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5597640" y="5100480"/>
                  <a:ext cx="5040" cy="27360"/>
                </a:xfrm>
                <a:custGeom>
                  <a:avLst/>
                  <a:gdLst/>
                  <a:ahLst/>
                  <a:rect l="0" t="0" r="r" b="b"/>
                  <a:pathLst>
                    <a:path fill="none" w="14" h="76">
                      <a:moveTo>
                        <a:pt x="0" y="0"/>
                      </a:moveTo>
                      <a:lnTo>
                        <a:pt x="0" y="76"/>
                      </a:lnTo>
                      <a:lnTo>
                        <a:pt x="14" y="76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5470560" y="5067360"/>
                  <a:ext cx="14760" cy="22680"/>
                </a:xfrm>
                <a:custGeom>
                  <a:avLst/>
                  <a:gdLst/>
                  <a:ahLst/>
                  <a:rect l="0" t="0" r="r" b="b"/>
                  <a:pathLst>
                    <a:path fill="none" w="41" h="63">
                      <a:moveTo>
                        <a:pt x="0" y="4"/>
                      </a:moveTo>
                      <a:lnTo>
                        <a:pt x="25" y="63"/>
                      </a:lnTo>
                      <a:lnTo>
                        <a:pt x="41" y="63"/>
                      </a:lnTo>
                      <a:lnTo>
                        <a:pt x="15" y="14"/>
                      </a:lnTo>
                      <a:lnTo>
                        <a:pt x="9" y="14"/>
                      </a:lnTo>
                      <a:lnTo>
                        <a:pt x="4" y="0"/>
                      </a:lnTo>
                      <a:lnTo>
                        <a:pt x="0" y="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0" name=""/>
                <p:cNvSpPr/>
                <p:nvPr/>
              </p:nvSpPr>
              <p:spPr>
                <a:xfrm>
                  <a:off x="5459400" y="5057640"/>
                  <a:ext cx="1800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50" h="102">
                      <a:moveTo>
                        <a:pt x="0" y="0"/>
                      </a:moveTo>
                      <a:lnTo>
                        <a:pt x="41" y="102"/>
                      </a:lnTo>
                      <a:lnTo>
                        <a:pt x="50" y="102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1" name=""/>
                <p:cNvSpPr/>
                <p:nvPr/>
              </p:nvSpPr>
              <p:spPr>
                <a:xfrm>
                  <a:off x="5477040" y="5048280"/>
                  <a:ext cx="828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23" h="32">
                      <a:moveTo>
                        <a:pt x="23" y="0"/>
                      </a:moveTo>
                      <a:lnTo>
                        <a:pt x="23" y="32"/>
                      </a:lnTo>
                      <a:lnTo>
                        <a:pt x="0" y="0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2" name=""/>
                <p:cNvSpPr/>
                <p:nvPr/>
              </p:nvSpPr>
              <p:spPr>
                <a:xfrm>
                  <a:off x="6138720" y="5164200"/>
                  <a:ext cx="143280" cy="89280"/>
                </a:xfrm>
                <a:custGeom>
                  <a:avLst/>
                  <a:gdLst/>
                  <a:ahLst/>
                  <a:rect l="0" t="0" r="r" b="b"/>
                  <a:pathLst>
                    <a:path fill="none" w="398" h="248">
                      <a:moveTo>
                        <a:pt x="0" y="248"/>
                      </a:moveTo>
                      <a:lnTo>
                        <a:pt x="33" y="248"/>
                      </a:lnTo>
                      <a:lnTo>
                        <a:pt x="38" y="225"/>
                      </a:lnTo>
                      <a:lnTo>
                        <a:pt x="66" y="225"/>
                      </a:lnTo>
                      <a:lnTo>
                        <a:pt x="76" y="210"/>
                      </a:lnTo>
                      <a:lnTo>
                        <a:pt x="106" y="206"/>
                      </a:lnTo>
                      <a:lnTo>
                        <a:pt x="120" y="229"/>
                      </a:lnTo>
                      <a:lnTo>
                        <a:pt x="134" y="225"/>
                      </a:lnTo>
                      <a:lnTo>
                        <a:pt x="134" y="206"/>
                      </a:lnTo>
                      <a:lnTo>
                        <a:pt x="163" y="196"/>
                      </a:lnTo>
                      <a:lnTo>
                        <a:pt x="182" y="210"/>
                      </a:lnTo>
                      <a:lnTo>
                        <a:pt x="192" y="201"/>
                      </a:lnTo>
                      <a:lnTo>
                        <a:pt x="201" y="181"/>
                      </a:lnTo>
                      <a:lnTo>
                        <a:pt x="225" y="176"/>
                      </a:lnTo>
                      <a:lnTo>
                        <a:pt x="235" y="167"/>
                      </a:lnTo>
                      <a:lnTo>
                        <a:pt x="268" y="162"/>
                      </a:lnTo>
                      <a:lnTo>
                        <a:pt x="303" y="181"/>
                      </a:lnTo>
                      <a:lnTo>
                        <a:pt x="317" y="171"/>
                      </a:lnTo>
                      <a:lnTo>
                        <a:pt x="317" y="152"/>
                      </a:lnTo>
                      <a:lnTo>
                        <a:pt x="331" y="152"/>
                      </a:lnTo>
                      <a:lnTo>
                        <a:pt x="379" y="171"/>
                      </a:lnTo>
                      <a:lnTo>
                        <a:pt x="398" y="167"/>
                      </a:lnTo>
                      <a:lnTo>
                        <a:pt x="389" y="119"/>
                      </a:lnTo>
                      <a:lnTo>
                        <a:pt x="351" y="105"/>
                      </a:lnTo>
                      <a:lnTo>
                        <a:pt x="331" y="91"/>
                      </a:lnTo>
                      <a:lnTo>
                        <a:pt x="292" y="100"/>
                      </a:lnTo>
                      <a:lnTo>
                        <a:pt x="278" y="91"/>
                      </a:lnTo>
                      <a:lnTo>
                        <a:pt x="283" y="72"/>
                      </a:lnTo>
                      <a:lnTo>
                        <a:pt x="268" y="56"/>
                      </a:lnTo>
                      <a:lnTo>
                        <a:pt x="278" y="33"/>
                      </a:lnTo>
                      <a:lnTo>
                        <a:pt x="268" y="0"/>
                      </a:lnTo>
                      <a:lnTo>
                        <a:pt x="225" y="4"/>
                      </a:lnTo>
                      <a:lnTo>
                        <a:pt x="206" y="23"/>
                      </a:lnTo>
                      <a:lnTo>
                        <a:pt x="182" y="28"/>
                      </a:lnTo>
                      <a:lnTo>
                        <a:pt x="163" y="52"/>
                      </a:lnTo>
                      <a:lnTo>
                        <a:pt x="144" y="81"/>
                      </a:lnTo>
                      <a:lnTo>
                        <a:pt x="173" y="52"/>
                      </a:lnTo>
                      <a:lnTo>
                        <a:pt x="206" y="33"/>
                      </a:lnTo>
                      <a:lnTo>
                        <a:pt x="220" y="14"/>
                      </a:lnTo>
                      <a:lnTo>
                        <a:pt x="254" y="18"/>
                      </a:lnTo>
                      <a:lnTo>
                        <a:pt x="263" y="42"/>
                      </a:lnTo>
                      <a:lnTo>
                        <a:pt x="254" y="56"/>
                      </a:lnTo>
                      <a:lnTo>
                        <a:pt x="268" y="67"/>
                      </a:lnTo>
                      <a:lnTo>
                        <a:pt x="263" y="95"/>
                      </a:lnTo>
                      <a:lnTo>
                        <a:pt x="273" y="110"/>
                      </a:lnTo>
                      <a:lnTo>
                        <a:pt x="254" y="110"/>
                      </a:lnTo>
                      <a:lnTo>
                        <a:pt x="254" y="129"/>
                      </a:lnTo>
                      <a:lnTo>
                        <a:pt x="278" y="133"/>
                      </a:lnTo>
                      <a:lnTo>
                        <a:pt x="278" y="124"/>
                      </a:lnTo>
                      <a:lnTo>
                        <a:pt x="292" y="119"/>
                      </a:lnTo>
                      <a:lnTo>
                        <a:pt x="308" y="124"/>
                      </a:lnTo>
                      <a:lnTo>
                        <a:pt x="336" y="110"/>
                      </a:lnTo>
                      <a:lnTo>
                        <a:pt x="351" y="138"/>
                      </a:lnTo>
                      <a:lnTo>
                        <a:pt x="322" y="138"/>
                      </a:lnTo>
                      <a:lnTo>
                        <a:pt x="303" y="157"/>
                      </a:lnTo>
                      <a:lnTo>
                        <a:pt x="263" y="152"/>
                      </a:lnTo>
                      <a:lnTo>
                        <a:pt x="230" y="157"/>
                      </a:lnTo>
                      <a:lnTo>
                        <a:pt x="216" y="143"/>
                      </a:lnTo>
                      <a:lnTo>
                        <a:pt x="192" y="148"/>
                      </a:lnTo>
                      <a:lnTo>
                        <a:pt x="187" y="181"/>
                      </a:lnTo>
                      <a:lnTo>
                        <a:pt x="182" y="196"/>
                      </a:lnTo>
                      <a:lnTo>
                        <a:pt x="163" y="181"/>
                      </a:lnTo>
                      <a:lnTo>
                        <a:pt x="130" y="191"/>
                      </a:lnTo>
                      <a:lnTo>
                        <a:pt x="115" y="181"/>
                      </a:lnTo>
                      <a:lnTo>
                        <a:pt x="95" y="187"/>
                      </a:lnTo>
                      <a:lnTo>
                        <a:pt x="90" y="201"/>
                      </a:lnTo>
                      <a:lnTo>
                        <a:pt x="62" y="206"/>
                      </a:lnTo>
                      <a:lnTo>
                        <a:pt x="47" y="215"/>
                      </a:lnTo>
                      <a:lnTo>
                        <a:pt x="23" y="215"/>
                      </a:lnTo>
                      <a:lnTo>
                        <a:pt x="23" y="239"/>
                      </a:lnTo>
                      <a:lnTo>
                        <a:pt x="0" y="248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3" name=""/>
                <p:cNvSpPr/>
                <p:nvPr/>
              </p:nvSpPr>
              <p:spPr>
                <a:xfrm>
                  <a:off x="6219720" y="51958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fill="none" w="19" h="23">
                      <a:moveTo>
                        <a:pt x="4" y="0"/>
                      </a:moveTo>
                      <a:lnTo>
                        <a:pt x="19" y="5"/>
                      </a:lnTo>
                      <a:lnTo>
                        <a:pt x="9" y="23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>
                  <a:off x="6248520" y="5183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fill="none" w="27" h="23">
                      <a:moveTo>
                        <a:pt x="10" y="23"/>
                      </a:move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7" y="8"/>
                      </a:lnTo>
                      <a:lnTo>
                        <a:pt x="27" y="23"/>
                      </a:lnTo>
                      <a:lnTo>
                        <a:pt x="10" y="23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5" name=""/>
                <p:cNvSpPr/>
                <p:nvPr/>
              </p:nvSpPr>
              <p:spPr>
                <a:xfrm>
                  <a:off x="6246720" y="51609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4" h="1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14" y="14"/>
                      </a:lnTo>
                      <a:lnTo>
                        <a:pt x="14" y="9"/>
                      </a:lnTo>
                      <a:lnTo>
                        <a:pt x="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6" name=""/>
                <p:cNvSpPr/>
                <p:nvPr/>
              </p:nvSpPr>
              <p:spPr>
                <a:xfrm>
                  <a:off x="5756400" y="5145120"/>
                  <a:ext cx="427320" cy="79560"/>
                </a:xfrm>
                <a:custGeom>
                  <a:avLst/>
                  <a:gdLst/>
                  <a:ahLst/>
                  <a:rect l="0" t="0" r="r" b="b"/>
                  <a:pathLst>
                    <a:path fill="none" w="1187" h="221">
                      <a:moveTo>
                        <a:pt x="1187" y="221"/>
                      </a:moveTo>
                      <a:lnTo>
                        <a:pt x="1163" y="197"/>
                      </a:lnTo>
                      <a:lnTo>
                        <a:pt x="1135" y="187"/>
                      </a:lnTo>
                      <a:lnTo>
                        <a:pt x="1125" y="173"/>
                      </a:lnTo>
                      <a:lnTo>
                        <a:pt x="1125" y="144"/>
                      </a:lnTo>
                      <a:lnTo>
                        <a:pt x="1106" y="125"/>
                      </a:lnTo>
                      <a:lnTo>
                        <a:pt x="1101" y="105"/>
                      </a:lnTo>
                      <a:lnTo>
                        <a:pt x="1068" y="105"/>
                      </a:lnTo>
                      <a:lnTo>
                        <a:pt x="1044" y="105"/>
                      </a:lnTo>
                      <a:lnTo>
                        <a:pt x="1016" y="95"/>
                      </a:lnTo>
                      <a:lnTo>
                        <a:pt x="997" y="57"/>
                      </a:lnTo>
                      <a:lnTo>
                        <a:pt x="978" y="57"/>
                      </a:lnTo>
                      <a:lnTo>
                        <a:pt x="959" y="38"/>
                      </a:lnTo>
                      <a:lnTo>
                        <a:pt x="930" y="47"/>
                      </a:lnTo>
                      <a:lnTo>
                        <a:pt x="907" y="57"/>
                      </a:lnTo>
                      <a:lnTo>
                        <a:pt x="893" y="47"/>
                      </a:lnTo>
                      <a:lnTo>
                        <a:pt x="859" y="23"/>
                      </a:lnTo>
                      <a:lnTo>
                        <a:pt x="821" y="19"/>
                      </a:lnTo>
                      <a:lnTo>
                        <a:pt x="793" y="0"/>
                      </a:lnTo>
                      <a:lnTo>
                        <a:pt x="760" y="9"/>
                      </a:lnTo>
                      <a:lnTo>
                        <a:pt x="741" y="38"/>
                      </a:lnTo>
                      <a:lnTo>
                        <a:pt x="693" y="52"/>
                      </a:lnTo>
                      <a:lnTo>
                        <a:pt x="679" y="67"/>
                      </a:lnTo>
                      <a:lnTo>
                        <a:pt x="646" y="67"/>
                      </a:lnTo>
                      <a:lnTo>
                        <a:pt x="613" y="67"/>
                      </a:lnTo>
                      <a:lnTo>
                        <a:pt x="594" y="86"/>
                      </a:lnTo>
                      <a:lnTo>
                        <a:pt x="574" y="100"/>
                      </a:lnTo>
                      <a:lnTo>
                        <a:pt x="536" y="111"/>
                      </a:lnTo>
                      <a:lnTo>
                        <a:pt x="517" y="100"/>
                      </a:lnTo>
                      <a:lnTo>
                        <a:pt x="517" y="71"/>
                      </a:lnTo>
                      <a:lnTo>
                        <a:pt x="502" y="62"/>
                      </a:lnTo>
                      <a:lnTo>
                        <a:pt x="507" y="43"/>
                      </a:lnTo>
                      <a:lnTo>
                        <a:pt x="460" y="28"/>
                      </a:lnTo>
                      <a:lnTo>
                        <a:pt x="450" y="47"/>
                      </a:lnTo>
                      <a:lnTo>
                        <a:pt x="398" y="28"/>
                      </a:lnTo>
                      <a:lnTo>
                        <a:pt x="351" y="38"/>
                      </a:lnTo>
                      <a:lnTo>
                        <a:pt x="322" y="57"/>
                      </a:lnTo>
                      <a:lnTo>
                        <a:pt x="246" y="76"/>
                      </a:lnTo>
                      <a:lnTo>
                        <a:pt x="223" y="100"/>
                      </a:lnTo>
                      <a:lnTo>
                        <a:pt x="161" y="111"/>
                      </a:lnTo>
                      <a:lnTo>
                        <a:pt x="94" y="100"/>
                      </a:lnTo>
                      <a:lnTo>
                        <a:pt x="0" y="120"/>
                      </a:lnTo>
                      <a:lnTo>
                        <a:pt x="94" y="105"/>
                      </a:lnTo>
                      <a:lnTo>
                        <a:pt x="142" y="116"/>
                      </a:lnTo>
                      <a:lnTo>
                        <a:pt x="180" y="116"/>
                      </a:lnTo>
                      <a:lnTo>
                        <a:pt x="227" y="105"/>
                      </a:lnTo>
                      <a:lnTo>
                        <a:pt x="256" y="86"/>
                      </a:lnTo>
                      <a:lnTo>
                        <a:pt x="289" y="86"/>
                      </a:lnTo>
                      <a:lnTo>
                        <a:pt x="303" y="95"/>
                      </a:lnTo>
                      <a:lnTo>
                        <a:pt x="336" y="76"/>
                      </a:lnTo>
                      <a:lnTo>
                        <a:pt x="360" y="52"/>
                      </a:lnTo>
                      <a:lnTo>
                        <a:pt x="403" y="57"/>
                      </a:lnTo>
                      <a:lnTo>
                        <a:pt x="422" y="52"/>
                      </a:lnTo>
                      <a:lnTo>
                        <a:pt x="455" y="62"/>
                      </a:lnTo>
                      <a:lnTo>
                        <a:pt x="488" y="57"/>
                      </a:lnTo>
                      <a:lnTo>
                        <a:pt x="502" y="81"/>
                      </a:lnTo>
                      <a:lnTo>
                        <a:pt x="498" y="95"/>
                      </a:lnTo>
                      <a:lnTo>
                        <a:pt x="479" y="95"/>
                      </a:lnTo>
                      <a:lnTo>
                        <a:pt x="474" y="116"/>
                      </a:lnTo>
                      <a:lnTo>
                        <a:pt x="498" y="135"/>
                      </a:lnTo>
                      <a:lnTo>
                        <a:pt x="521" y="120"/>
                      </a:lnTo>
                      <a:lnTo>
                        <a:pt x="536" y="140"/>
                      </a:lnTo>
                      <a:lnTo>
                        <a:pt x="550" y="120"/>
                      </a:lnTo>
                      <a:lnTo>
                        <a:pt x="588" y="105"/>
                      </a:lnTo>
                      <a:lnTo>
                        <a:pt x="622" y="86"/>
                      </a:lnTo>
                      <a:lnTo>
                        <a:pt x="651" y="86"/>
                      </a:lnTo>
                      <a:lnTo>
                        <a:pt x="679" y="76"/>
                      </a:lnTo>
                      <a:lnTo>
                        <a:pt x="712" y="71"/>
                      </a:lnTo>
                      <a:lnTo>
                        <a:pt x="741" y="47"/>
                      </a:lnTo>
                      <a:lnTo>
                        <a:pt x="774" y="47"/>
                      </a:lnTo>
                      <a:lnTo>
                        <a:pt x="793" y="28"/>
                      </a:lnTo>
                      <a:lnTo>
                        <a:pt x="826" y="33"/>
                      </a:lnTo>
                      <a:lnTo>
                        <a:pt x="864" y="33"/>
                      </a:lnTo>
                      <a:lnTo>
                        <a:pt x="897" y="76"/>
                      </a:lnTo>
                      <a:lnTo>
                        <a:pt x="940" y="67"/>
                      </a:lnTo>
                      <a:lnTo>
                        <a:pt x="983" y="100"/>
                      </a:lnTo>
                      <a:lnTo>
                        <a:pt x="997" y="91"/>
                      </a:lnTo>
                      <a:lnTo>
                        <a:pt x="1011" y="105"/>
                      </a:lnTo>
                      <a:lnTo>
                        <a:pt x="1044" y="116"/>
                      </a:lnTo>
                      <a:lnTo>
                        <a:pt x="1082" y="120"/>
                      </a:lnTo>
                      <a:lnTo>
                        <a:pt x="1101" y="154"/>
                      </a:lnTo>
                      <a:lnTo>
                        <a:pt x="1116" y="163"/>
                      </a:lnTo>
                      <a:lnTo>
                        <a:pt x="1111" y="192"/>
                      </a:lnTo>
                      <a:lnTo>
                        <a:pt x="1158" y="207"/>
                      </a:lnTo>
                      <a:lnTo>
                        <a:pt x="1187" y="221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7" name=""/>
                <p:cNvSpPr/>
                <p:nvPr/>
              </p:nvSpPr>
              <p:spPr>
                <a:xfrm>
                  <a:off x="5951520" y="5218200"/>
                  <a:ext cx="173520" cy="32040"/>
                </a:xfrm>
                <a:custGeom>
                  <a:avLst/>
                  <a:gdLst/>
                  <a:ahLst/>
                  <a:rect l="0" t="0" r="r" b="b"/>
                  <a:pathLst>
                    <a:path fill="none" w="482" h="89">
                      <a:moveTo>
                        <a:pt x="482" y="89"/>
                      </a:moveTo>
                      <a:lnTo>
                        <a:pt x="439" y="69"/>
                      </a:lnTo>
                      <a:lnTo>
                        <a:pt x="406" y="74"/>
                      </a:lnTo>
                      <a:lnTo>
                        <a:pt x="377" y="79"/>
                      </a:lnTo>
                      <a:lnTo>
                        <a:pt x="357" y="74"/>
                      </a:lnTo>
                      <a:lnTo>
                        <a:pt x="334" y="64"/>
                      </a:lnTo>
                      <a:lnTo>
                        <a:pt x="305" y="64"/>
                      </a:lnTo>
                      <a:lnTo>
                        <a:pt x="291" y="69"/>
                      </a:lnTo>
                      <a:lnTo>
                        <a:pt x="267" y="69"/>
                      </a:lnTo>
                      <a:lnTo>
                        <a:pt x="234" y="64"/>
                      </a:lnTo>
                      <a:lnTo>
                        <a:pt x="181" y="64"/>
                      </a:lnTo>
                      <a:lnTo>
                        <a:pt x="162" y="29"/>
                      </a:lnTo>
                      <a:lnTo>
                        <a:pt x="139" y="34"/>
                      </a:lnTo>
                      <a:lnTo>
                        <a:pt x="129" y="9"/>
                      </a:lnTo>
                      <a:lnTo>
                        <a:pt x="99" y="0"/>
                      </a:lnTo>
                      <a:lnTo>
                        <a:pt x="90" y="19"/>
                      </a:lnTo>
                      <a:lnTo>
                        <a:pt x="80" y="4"/>
                      </a:lnTo>
                      <a:lnTo>
                        <a:pt x="52" y="9"/>
                      </a:lnTo>
                      <a:lnTo>
                        <a:pt x="71" y="24"/>
                      </a:lnTo>
                      <a:lnTo>
                        <a:pt x="66" y="34"/>
                      </a:lnTo>
                      <a:lnTo>
                        <a:pt x="38" y="45"/>
                      </a:lnTo>
                      <a:lnTo>
                        <a:pt x="38" y="59"/>
                      </a:lnTo>
                      <a:lnTo>
                        <a:pt x="0" y="64"/>
                      </a:lnTo>
                      <a:lnTo>
                        <a:pt x="47" y="64"/>
                      </a:lnTo>
                      <a:lnTo>
                        <a:pt x="71" y="45"/>
                      </a:lnTo>
                      <a:lnTo>
                        <a:pt x="95" y="34"/>
                      </a:lnTo>
                      <a:lnTo>
                        <a:pt x="114" y="34"/>
                      </a:lnTo>
                      <a:lnTo>
                        <a:pt x="109" y="54"/>
                      </a:lnTo>
                      <a:lnTo>
                        <a:pt x="139" y="64"/>
                      </a:lnTo>
                      <a:lnTo>
                        <a:pt x="153" y="54"/>
                      </a:lnTo>
                      <a:lnTo>
                        <a:pt x="172" y="74"/>
                      </a:lnTo>
                      <a:lnTo>
                        <a:pt x="234" y="84"/>
                      </a:lnTo>
                      <a:lnTo>
                        <a:pt x="291" y="79"/>
                      </a:lnTo>
                      <a:lnTo>
                        <a:pt x="363" y="89"/>
                      </a:lnTo>
                      <a:lnTo>
                        <a:pt x="430" y="74"/>
                      </a:lnTo>
                      <a:lnTo>
                        <a:pt x="482" y="8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8" name=""/>
                <p:cNvSpPr/>
                <p:nvPr/>
              </p:nvSpPr>
              <p:spPr>
                <a:xfrm>
                  <a:off x="5977080" y="5210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fill="none" w="23" h="23">
                      <a:moveTo>
                        <a:pt x="0" y="4"/>
                      </a:moveTo>
                      <a:lnTo>
                        <a:pt x="0" y="23"/>
                      </a:lnTo>
                      <a:lnTo>
                        <a:pt x="23" y="23"/>
                      </a:lnTo>
                      <a:lnTo>
                        <a:pt x="23" y="4"/>
                      </a:lnTo>
                      <a:lnTo>
                        <a:pt x="14" y="0"/>
                      </a:lnTo>
                      <a:lnTo>
                        <a:pt x="0" y="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9" name=""/>
                <p:cNvSpPr/>
                <p:nvPr/>
              </p:nvSpPr>
              <p:spPr>
                <a:xfrm>
                  <a:off x="5954760" y="52084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27" h="14">
                      <a:moveTo>
                        <a:pt x="18" y="0"/>
                      </a:moveTo>
                      <a:lnTo>
                        <a:pt x="0" y="4"/>
                      </a:lnTo>
                      <a:lnTo>
                        <a:pt x="14" y="14"/>
                      </a:lnTo>
                      <a:lnTo>
                        <a:pt x="27" y="9"/>
                      </a:lnTo>
                      <a:lnTo>
                        <a:pt x="23" y="4"/>
                      </a:lnTo>
                      <a:lnTo>
                        <a:pt x="18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0" name=""/>
                <p:cNvSpPr/>
                <p:nvPr/>
              </p:nvSpPr>
              <p:spPr>
                <a:xfrm>
                  <a:off x="5826240" y="5221440"/>
                  <a:ext cx="11628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323" h="50">
                      <a:moveTo>
                        <a:pt x="262" y="50"/>
                      </a:moveTo>
                      <a:lnTo>
                        <a:pt x="319" y="41"/>
                      </a:lnTo>
                      <a:lnTo>
                        <a:pt x="323" y="23"/>
                      </a:lnTo>
                      <a:lnTo>
                        <a:pt x="304" y="4"/>
                      </a:lnTo>
                      <a:lnTo>
                        <a:pt x="281" y="0"/>
                      </a:lnTo>
                      <a:lnTo>
                        <a:pt x="262" y="8"/>
                      </a:lnTo>
                      <a:lnTo>
                        <a:pt x="243" y="0"/>
                      </a:lnTo>
                      <a:lnTo>
                        <a:pt x="223" y="0"/>
                      </a:lnTo>
                      <a:lnTo>
                        <a:pt x="209" y="14"/>
                      </a:lnTo>
                      <a:lnTo>
                        <a:pt x="190" y="23"/>
                      </a:lnTo>
                      <a:lnTo>
                        <a:pt x="166" y="23"/>
                      </a:lnTo>
                      <a:lnTo>
                        <a:pt x="157" y="31"/>
                      </a:lnTo>
                      <a:lnTo>
                        <a:pt x="0" y="50"/>
                      </a:lnTo>
                      <a:lnTo>
                        <a:pt x="223" y="50"/>
                      </a:lnTo>
                      <a:lnTo>
                        <a:pt x="262" y="5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>
                  <a:off x="5656320" y="5200560"/>
                  <a:ext cx="170280" cy="22680"/>
                </a:xfrm>
                <a:custGeom>
                  <a:avLst/>
                  <a:gdLst/>
                  <a:ahLst/>
                  <a:rect l="0" t="0" r="r" b="b"/>
                  <a:pathLst>
                    <a:path fill="none" w="473" h="63">
                      <a:moveTo>
                        <a:pt x="473" y="58"/>
                      </a:moveTo>
                      <a:lnTo>
                        <a:pt x="473" y="34"/>
                      </a:lnTo>
                      <a:lnTo>
                        <a:pt x="440" y="24"/>
                      </a:lnTo>
                      <a:lnTo>
                        <a:pt x="402" y="29"/>
                      </a:lnTo>
                      <a:lnTo>
                        <a:pt x="383" y="4"/>
                      </a:lnTo>
                      <a:lnTo>
                        <a:pt x="353" y="9"/>
                      </a:lnTo>
                      <a:lnTo>
                        <a:pt x="329" y="24"/>
                      </a:lnTo>
                      <a:lnTo>
                        <a:pt x="291" y="24"/>
                      </a:lnTo>
                      <a:lnTo>
                        <a:pt x="277" y="24"/>
                      </a:lnTo>
                      <a:lnTo>
                        <a:pt x="258" y="38"/>
                      </a:lnTo>
                      <a:lnTo>
                        <a:pt x="186" y="34"/>
                      </a:lnTo>
                      <a:lnTo>
                        <a:pt x="163" y="9"/>
                      </a:lnTo>
                      <a:lnTo>
                        <a:pt x="109" y="0"/>
                      </a:lnTo>
                      <a:lnTo>
                        <a:pt x="76" y="24"/>
                      </a:lnTo>
                      <a:lnTo>
                        <a:pt x="33" y="24"/>
                      </a:lnTo>
                      <a:lnTo>
                        <a:pt x="47" y="9"/>
                      </a:lnTo>
                      <a:lnTo>
                        <a:pt x="0" y="34"/>
                      </a:lnTo>
                      <a:lnTo>
                        <a:pt x="28" y="38"/>
                      </a:lnTo>
                      <a:lnTo>
                        <a:pt x="76" y="43"/>
                      </a:lnTo>
                      <a:lnTo>
                        <a:pt x="114" y="34"/>
                      </a:lnTo>
                      <a:lnTo>
                        <a:pt x="182" y="43"/>
                      </a:lnTo>
                      <a:lnTo>
                        <a:pt x="239" y="49"/>
                      </a:lnTo>
                      <a:lnTo>
                        <a:pt x="310" y="43"/>
                      </a:lnTo>
                      <a:lnTo>
                        <a:pt x="353" y="58"/>
                      </a:lnTo>
                      <a:lnTo>
                        <a:pt x="416" y="63"/>
                      </a:lnTo>
                      <a:lnTo>
                        <a:pt x="450" y="54"/>
                      </a:lnTo>
                      <a:lnTo>
                        <a:pt x="473" y="58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2" name=""/>
                <p:cNvSpPr/>
                <p:nvPr/>
              </p:nvSpPr>
              <p:spPr>
                <a:xfrm>
                  <a:off x="5832360" y="5218200"/>
                  <a:ext cx="3996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111" h="27">
                      <a:moveTo>
                        <a:pt x="0" y="5"/>
                      </a:moveTo>
                      <a:lnTo>
                        <a:pt x="63" y="0"/>
                      </a:lnTo>
                      <a:lnTo>
                        <a:pt x="111" y="27"/>
                      </a:lnTo>
                      <a:lnTo>
                        <a:pt x="47" y="27"/>
                      </a:lnTo>
                      <a:lnTo>
                        <a:pt x="0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3" name=""/>
                <p:cNvSpPr/>
                <p:nvPr/>
              </p:nvSpPr>
              <p:spPr>
                <a:xfrm>
                  <a:off x="5516640" y="5138640"/>
                  <a:ext cx="232200" cy="49680"/>
                </a:xfrm>
                <a:custGeom>
                  <a:avLst/>
                  <a:gdLst/>
                  <a:ahLst/>
                  <a:rect l="0" t="0" r="r" b="b"/>
                  <a:pathLst>
                    <a:path fill="none" w="645" h="138">
                      <a:moveTo>
                        <a:pt x="645" y="138"/>
                      </a:moveTo>
                      <a:lnTo>
                        <a:pt x="621" y="119"/>
                      </a:lnTo>
                      <a:lnTo>
                        <a:pt x="583" y="115"/>
                      </a:lnTo>
                      <a:lnTo>
                        <a:pt x="564" y="138"/>
                      </a:lnTo>
                      <a:lnTo>
                        <a:pt x="502" y="129"/>
                      </a:lnTo>
                      <a:lnTo>
                        <a:pt x="477" y="105"/>
                      </a:lnTo>
                      <a:lnTo>
                        <a:pt x="444" y="105"/>
                      </a:lnTo>
                      <a:lnTo>
                        <a:pt x="425" y="110"/>
                      </a:lnTo>
                      <a:lnTo>
                        <a:pt x="406" y="99"/>
                      </a:lnTo>
                      <a:lnTo>
                        <a:pt x="372" y="110"/>
                      </a:lnTo>
                      <a:lnTo>
                        <a:pt x="358" y="90"/>
                      </a:lnTo>
                      <a:lnTo>
                        <a:pt x="310" y="99"/>
                      </a:lnTo>
                      <a:lnTo>
                        <a:pt x="306" y="85"/>
                      </a:lnTo>
                      <a:lnTo>
                        <a:pt x="263" y="76"/>
                      </a:lnTo>
                      <a:lnTo>
                        <a:pt x="225" y="85"/>
                      </a:lnTo>
                      <a:lnTo>
                        <a:pt x="229" y="66"/>
                      </a:lnTo>
                      <a:lnTo>
                        <a:pt x="210" y="62"/>
                      </a:lnTo>
                      <a:lnTo>
                        <a:pt x="182" y="71"/>
                      </a:lnTo>
                      <a:lnTo>
                        <a:pt x="152" y="62"/>
                      </a:lnTo>
                      <a:lnTo>
                        <a:pt x="143" y="52"/>
                      </a:lnTo>
                      <a:lnTo>
                        <a:pt x="104" y="48"/>
                      </a:lnTo>
                      <a:lnTo>
                        <a:pt x="81" y="62"/>
                      </a:lnTo>
                      <a:lnTo>
                        <a:pt x="57" y="57"/>
                      </a:lnTo>
                      <a:lnTo>
                        <a:pt x="0" y="81"/>
                      </a:lnTo>
                      <a:lnTo>
                        <a:pt x="61" y="43"/>
                      </a:lnTo>
                      <a:lnTo>
                        <a:pt x="81" y="48"/>
                      </a:lnTo>
                      <a:lnTo>
                        <a:pt x="104" y="32"/>
                      </a:lnTo>
                      <a:lnTo>
                        <a:pt x="138" y="32"/>
                      </a:lnTo>
                      <a:lnTo>
                        <a:pt x="33" y="0"/>
                      </a:lnTo>
                      <a:lnTo>
                        <a:pt x="210" y="52"/>
                      </a:lnTo>
                      <a:lnTo>
                        <a:pt x="239" y="48"/>
                      </a:lnTo>
                      <a:lnTo>
                        <a:pt x="253" y="71"/>
                      </a:lnTo>
                      <a:lnTo>
                        <a:pt x="310" y="66"/>
                      </a:lnTo>
                      <a:lnTo>
                        <a:pt x="330" y="85"/>
                      </a:lnTo>
                      <a:lnTo>
                        <a:pt x="363" y="85"/>
                      </a:lnTo>
                      <a:lnTo>
                        <a:pt x="382" y="90"/>
                      </a:lnTo>
                      <a:lnTo>
                        <a:pt x="415" y="85"/>
                      </a:lnTo>
                      <a:lnTo>
                        <a:pt x="439" y="99"/>
                      </a:lnTo>
                      <a:lnTo>
                        <a:pt x="477" y="85"/>
                      </a:lnTo>
                      <a:lnTo>
                        <a:pt x="521" y="115"/>
                      </a:lnTo>
                      <a:lnTo>
                        <a:pt x="555" y="119"/>
                      </a:lnTo>
                      <a:lnTo>
                        <a:pt x="583" y="105"/>
                      </a:lnTo>
                      <a:lnTo>
                        <a:pt x="631" y="115"/>
                      </a:lnTo>
                      <a:lnTo>
                        <a:pt x="645" y="138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>
                  <a:off x="5402160" y="5165640"/>
                  <a:ext cx="28440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790" h="80">
                      <a:moveTo>
                        <a:pt x="790" y="71"/>
                      </a:moveTo>
                      <a:lnTo>
                        <a:pt x="785" y="47"/>
                      </a:lnTo>
                      <a:lnTo>
                        <a:pt x="742" y="43"/>
                      </a:lnTo>
                      <a:lnTo>
                        <a:pt x="733" y="52"/>
                      </a:lnTo>
                      <a:lnTo>
                        <a:pt x="709" y="43"/>
                      </a:lnTo>
                      <a:lnTo>
                        <a:pt x="695" y="47"/>
                      </a:lnTo>
                      <a:lnTo>
                        <a:pt x="685" y="52"/>
                      </a:lnTo>
                      <a:lnTo>
                        <a:pt x="661" y="57"/>
                      </a:lnTo>
                      <a:lnTo>
                        <a:pt x="633" y="37"/>
                      </a:lnTo>
                      <a:lnTo>
                        <a:pt x="600" y="37"/>
                      </a:lnTo>
                      <a:lnTo>
                        <a:pt x="585" y="52"/>
                      </a:lnTo>
                      <a:lnTo>
                        <a:pt x="557" y="23"/>
                      </a:lnTo>
                      <a:lnTo>
                        <a:pt x="524" y="23"/>
                      </a:lnTo>
                      <a:lnTo>
                        <a:pt x="486" y="9"/>
                      </a:lnTo>
                      <a:lnTo>
                        <a:pt x="457" y="28"/>
                      </a:lnTo>
                      <a:lnTo>
                        <a:pt x="433" y="4"/>
                      </a:lnTo>
                      <a:lnTo>
                        <a:pt x="405" y="4"/>
                      </a:lnTo>
                      <a:lnTo>
                        <a:pt x="370" y="28"/>
                      </a:lnTo>
                      <a:lnTo>
                        <a:pt x="347" y="9"/>
                      </a:lnTo>
                      <a:lnTo>
                        <a:pt x="313" y="23"/>
                      </a:lnTo>
                      <a:lnTo>
                        <a:pt x="275" y="23"/>
                      </a:lnTo>
                      <a:lnTo>
                        <a:pt x="252" y="9"/>
                      </a:lnTo>
                      <a:lnTo>
                        <a:pt x="185" y="18"/>
                      </a:lnTo>
                      <a:lnTo>
                        <a:pt x="137" y="0"/>
                      </a:lnTo>
                      <a:lnTo>
                        <a:pt x="0" y="9"/>
                      </a:lnTo>
                      <a:lnTo>
                        <a:pt x="114" y="14"/>
                      </a:lnTo>
                      <a:lnTo>
                        <a:pt x="152" y="37"/>
                      </a:lnTo>
                      <a:lnTo>
                        <a:pt x="228" y="28"/>
                      </a:lnTo>
                      <a:lnTo>
                        <a:pt x="247" y="37"/>
                      </a:lnTo>
                      <a:lnTo>
                        <a:pt x="294" y="37"/>
                      </a:lnTo>
                      <a:lnTo>
                        <a:pt x="328" y="37"/>
                      </a:lnTo>
                      <a:lnTo>
                        <a:pt x="375" y="43"/>
                      </a:lnTo>
                      <a:lnTo>
                        <a:pt x="332" y="66"/>
                      </a:lnTo>
                      <a:lnTo>
                        <a:pt x="409" y="61"/>
                      </a:lnTo>
                      <a:lnTo>
                        <a:pt x="452" y="52"/>
                      </a:lnTo>
                      <a:lnTo>
                        <a:pt x="524" y="66"/>
                      </a:lnTo>
                      <a:lnTo>
                        <a:pt x="562" y="80"/>
                      </a:lnTo>
                      <a:lnTo>
                        <a:pt x="595" y="71"/>
                      </a:lnTo>
                      <a:lnTo>
                        <a:pt x="628" y="71"/>
                      </a:lnTo>
                      <a:lnTo>
                        <a:pt x="704" y="75"/>
                      </a:lnTo>
                      <a:lnTo>
                        <a:pt x="761" y="61"/>
                      </a:lnTo>
                      <a:lnTo>
                        <a:pt x="790" y="71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>
                  <a:off x="5481720" y="5146560"/>
                  <a:ext cx="4644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129" h="27">
                      <a:moveTo>
                        <a:pt x="110" y="5"/>
                      </a:moveTo>
                      <a:lnTo>
                        <a:pt x="76" y="0"/>
                      </a:lnTo>
                      <a:lnTo>
                        <a:pt x="34" y="10"/>
                      </a:lnTo>
                      <a:lnTo>
                        <a:pt x="0" y="22"/>
                      </a:lnTo>
                      <a:lnTo>
                        <a:pt x="76" y="27"/>
                      </a:lnTo>
                      <a:lnTo>
                        <a:pt x="129" y="22"/>
                      </a:lnTo>
                      <a:lnTo>
                        <a:pt x="110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>
                  <a:off x="5370480" y="5119560"/>
                  <a:ext cx="4176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16" h="10">
                      <a:moveTo>
                        <a:pt x="116" y="10"/>
                      </a:moveTo>
                      <a:lnTo>
                        <a:pt x="78" y="0"/>
                      </a:lnTo>
                      <a:lnTo>
                        <a:pt x="46" y="10"/>
                      </a:lnTo>
                      <a:lnTo>
                        <a:pt x="0" y="10"/>
                      </a:lnTo>
                      <a:lnTo>
                        <a:pt x="65" y="10"/>
                      </a:lnTo>
                      <a:lnTo>
                        <a:pt x="89" y="10"/>
                      </a:lnTo>
                      <a:lnTo>
                        <a:pt x="116" y="1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>
                  <a:off x="5357880" y="5092560"/>
                  <a:ext cx="1130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314" h="19">
                      <a:moveTo>
                        <a:pt x="0" y="0"/>
                      </a:moveTo>
                      <a:lnTo>
                        <a:pt x="71" y="4"/>
                      </a:lnTo>
                      <a:lnTo>
                        <a:pt x="156" y="0"/>
                      </a:lnTo>
                      <a:lnTo>
                        <a:pt x="223" y="4"/>
                      </a:lnTo>
                      <a:lnTo>
                        <a:pt x="304" y="0"/>
                      </a:lnTo>
                      <a:lnTo>
                        <a:pt x="314" y="9"/>
                      </a:lnTo>
                      <a:lnTo>
                        <a:pt x="228" y="19"/>
                      </a:lnTo>
                      <a:lnTo>
                        <a:pt x="142" y="15"/>
                      </a:lnTo>
                      <a:lnTo>
                        <a:pt x="75" y="15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>
                  <a:off x="5578560" y="4881600"/>
                  <a:ext cx="3600" cy="120960"/>
                </a:xfrm>
                <a:custGeom>
                  <a:avLst/>
                  <a:gdLst/>
                  <a:ahLst/>
                  <a:rect l="0" t="0" r="r" b="b"/>
                  <a:pathLst>
                    <a:path fill="none" w="10" h="336">
                      <a:moveTo>
                        <a:pt x="0" y="336"/>
                      </a:moveTo>
                      <a:lnTo>
                        <a:pt x="10" y="0"/>
                      </a:lnTo>
                      <a:lnTo>
                        <a:pt x="5" y="336"/>
                      </a:lnTo>
                      <a:lnTo>
                        <a:pt x="0" y="336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>
                  <a:off x="5581800" y="4881600"/>
                  <a:ext cx="3600" cy="122760"/>
                </a:xfrm>
                <a:custGeom>
                  <a:avLst/>
                  <a:gdLst/>
                  <a:ahLst/>
                  <a:rect l="0" t="0" r="r" b="b"/>
                  <a:pathLst>
                    <a:path fill="none" w="10" h="341">
                      <a:moveTo>
                        <a:pt x="0" y="0"/>
                      </a:moveTo>
                      <a:lnTo>
                        <a:pt x="0" y="341"/>
                      </a:lnTo>
                      <a:lnTo>
                        <a:pt x="10" y="341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5578560" y="48830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54" h="10">
                      <a:moveTo>
                        <a:pt x="4" y="10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5" y="5"/>
                      </a:lnTo>
                      <a:lnTo>
                        <a:pt x="15" y="10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4" y="1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>
                  <a:off x="5583240" y="4894200"/>
                  <a:ext cx="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>
                  <a:off x="5583240" y="4898880"/>
                  <a:ext cx="504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14" h="5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>
                  <a:off x="5424480" y="4991040"/>
                  <a:ext cx="90720" cy="33840"/>
                </a:xfrm>
                <a:custGeom>
                  <a:avLst/>
                  <a:gdLst/>
                  <a:ahLst/>
                  <a:rect l="0" t="0" r="r" b="b"/>
                  <a:pathLst>
                    <a:path fill="none" w="252" h="94">
                      <a:moveTo>
                        <a:pt x="185" y="0"/>
                      </a:moveTo>
                      <a:lnTo>
                        <a:pt x="166" y="14"/>
                      </a:lnTo>
                      <a:lnTo>
                        <a:pt x="157" y="14"/>
                      </a:lnTo>
                      <a:lnTo>
                        <a:pt x="166" y="25"/>
                      </a:lnTo>
                      <a:lnTo>
                        <a:pt x="129" y="25"/>
                      </a:lnTo>
                      <a:lnTo>
                        <a:pt x="143" y="35"/>
                      </a:lnTo>
                      <a:lnTo>
                        <a:pt x="104" y="35"/>
                      </a:lnTo>
                      <a:lnTo>
                        <a:pt x="118" y="44"/>
                      </a:lnTo>
                      <a:lnTo>
                        <a:pt x="80" y="44"/>
                      </a:lnTo>
                      <a:lnTo>
                        <a:pt x="94" y="49"/>
                      </a:lnTo>
                      <a:lnTo>
                        <a:pt x="61" y="49"/>
                      </a:lnTo>
                      <a:lnTo>
                        <a:pt x="75" y="59"/>
                      </a:lnTo>
                      <a:lnTo>
                        <a:pt x="47" y="59"/>
                      </a:lnTo>
                      <a:lnTo>
                        <a:pt x="56" y="64"/>
                      </a:lnTo>
                      <a:lnTo>
                        <a:pt x="28" y="64"/>
                      </a:lnTo>
                      <a:lnTo>
                        <a:pt x="33" y="69"/>
                      </a:lnTo>
                      <a:lnTo>
                        <a:pt x="14" y="69"/>
                      </a:lnTo>
                      <a:lnTo>
                        <a:pt x="23" y="75"/>
                      </a:lnTo>
                      <a:lnTo>
                        <a:pt x="0" y="75"/>
                      </a:lnTo>
                      <a:lnTo>
                        <a:pt x="14" y="89"/>
                      </a:lnTo>
                      <a:lnTo>
                        <a:pt x="42" y="89"/>
                      </a:lnTo>
                      <a:lnTo>
                        <a:pt x="52" y="94"/>
                      </a:lnTo>
                      <a:lnTo>
                        <a:pt x="252" y="25"/>
                      </a:lnTo>
                      <a:lnTo>
                        <a:pt x="209" y="0"/>
                      </a:lnTo>
                      <a:lnTo>
                        <a:pt x="185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>
                  <a:off x="5424480" y="4994280"/>
                  <a:ext cx="14760" cy="22680"/>
                </a:xfrm>
                <a:custGeom>
                  <a:avLst/>
                  <a:gdLst/>
                  <a:ahLst/>
                  <a:rect l="0" t="0" r="r" b="b"/>
                  <a:pathLst>
                    <a:path fill="none" w="41" h="63">
                      <a:moveTo>
                        <a:pt x="0" y="63"/>
                      </a:moveTo>
                      <a:lnTo>
                        <a:pt x="15" y="58"/>
                      </a:lnTo>
                      <a:lnTo>
                        <a:pt x="25" y="0"/>
                      </a:lnTo>
                      <a:lnTo>
                        <a:pt x="4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>
                  <a:off x="5429160" y="4992840"/>
                  <a:ext cx="14760" cy="22680"/>
                </a:xfrm>
                <a:custGeom>
                  <a:avLst/>
                  <a:gdLst/>
                  <a:ahLst/>
                  <a:rect l="0" t="0" r="r" b="b"/>
                  <a:pathLst>
                    <a:path fill="none" w="41" h="63">
                      <a:moveTo>
                        <a:pt x="0" y="63"/>
                      </a:moveTo>
                      <a:lnTo>
                        <a:pt x="15" y="54"/>
                      </a:lnTo>
                      <a:lnTo>
                        <a:pt x="25" y="0"/>
                      </a:lnTo>
                      <a:lnTo>
                        <a:pt x="4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6" name=""/>
                <p:cNvSpPr/>
                <p:nvPr/>
              </p:nvSpPr>
              <p:spPr>
                <a:xfrm>
                  <a:off x="5433840" y="4991040"/>
                  <a:ext cx="16200" cy="22680"/>
                </a:xfrm>
                <a:custGeom>
                  <a:avLst/>
                  <a:gdLst/>
                  <a:ahLst/>
                  <a:rect l="0" t="0" r="r" b="b"/>
                  <a:pathLst>
                    <a:path fill="none" w="45" h="63">
                      <a:moveTo>
                        <a:pt x="0" y="63"/>
                      </a:moveTo>
                      <a:lnTo>
                        <a:pt x="14" y="54"/>
                      </a:lnTo>
                      <a:lnTo>
                        <a:pt x="30" y="0"/>
                      </a:lnTo>
                      <a:lnTo>
                        <a:pt x="45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>
                  <a:off x="5442120" y="4987800"/>
                  <a:ext cx="14760" cy="24120"/>
                </a:xfrm>
                <a:custGeom>
                  <a:avLst/>
                  <a:gdLst/>
                  <a:ahLst/>
                  <a:rect l="0" t="0" r="r" b="b"/>
                  <a:pathLst>
                    <a:path fill="none" w="41" h="67">
                      <a:moveTo>
                        <a:pt x="0" y="67"/>
                      </a:moveTo>
                      <a:lnTo>
                        <a:pt x="14" y="57"/>
                      </a:lnTo>
                      <a:lnTo>
                        <a:pt x="23" y="0"/>
                      </a:lnTo>
                      <a:lnTo>
                        <a:pt x="4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5446800" y="4984920"/>
                  <a:ext cx="18000" cy="24120"/>
                </a:xfrm>
                <a:custGeom>
                  <a:avLst/>
                  <a:gdLst/>
                  <a:ahLst/>
                  <a:rect l="0" t="0" r="r" b="b"/>
                  <a:pathLst>
                    <a:path fill="none" w="50" h="67">
                      <a:moveTo>
                        <a:pt x="0" y="67"/>
                      </a:moveTo>
                      <a:lnTo>
                        <a:pt x="20" y="62"/>
                      </a:lnTo>
                      <a:lnTo>
                        <a:pt x="30" y="0"/>
                      </a:lnTo>
                      <a:lnTo>
                        <a:pt x="5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>
                  <a:off x="5452920" y="4981680"/>
                  <a:ext cx="1944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54" h="72">
                      <a:moveTo>
                        <a:pt x="0" y="72"/>
                      </a:moveTo>
                      <a:lnTo>
                        <a:pt x="20" y="63"/>
                      </a:lnTo>
                      <a:lnTo>
                        <a:pt x="29" y="0"/>
                      </a:lnTo>
                      <a:lnTo>
                        <a:pt x="5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0" name=""/>
                <p:cNvSpPr/>
                <p:nvPr/>
              </p:nvSpPr>
              <p:spPr>
                <a:xfrm>
                  <a:off x="5462640" y="4976640"/>
                  <a:ext cx="19440" cy="27360"/>
                </a:xfrm>
                <a:custGeom>
                  <a:avLst/>
                  <a:gdLst/>
                  <a:ahLst/>
                  <a:rect l="0" t="0" r="r" b="b"/>
                  <a:pathLst>
                    <a:path fill="none" w="54" h="76">
                      <a:moveTo>
                        <a:pt x="0" y="76"/>
                      </a:moveTo>
                      <a:lnTo>
                        <a:pt x="20" y="66"/>
                      </a:lnTo>
                      <a:lnTo>
                        <a:pt x="29" y="0"/>
                      </a:lnTo>
                      <a:lnTo>
                        <a:pt x="5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>
                  <a:off x="5470560" y="4973760"/>
                  <a:ext cx="4176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116" h="72">
                      <a:moveTo>
                        <a:pt x="0" y="72"/>
                      </a:moveTo>
                      <a:lnTo>
                        <a:pt x="19" y="63"/>
                      </a:lnTo>
                      <a:lnTo>
                        <a:pt x="28" y="0"/>
                      </a:lnTo>
                      <a:lnTo>
                        <a:pt x="63" y="0"/>
                      </a:lnTo>
                      <a:lnTo>
                        <a:pt x="116" y="43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>
                  <a:off x="5514840" y="4984920"/>
                  <a:ext cx="6372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77" h="14">
                      <a:moveTo>
                        <a:pt x="0" y="14"/>
                      </a:moveTo>
                      <a:lnTo>
                        <a:pt x="42" y="9"/>
                      </a:lnTo>
                      <a:lnTo>
                        <a:pt x="177" y="0"/>
                      </a:lnTo>
                      <a:lnTo>
                        <a:pt x="177" y="4"/>
                      </a:lnTo>
                      <a:lnTo>
                        <a:pt x="134" y="9"/>
                      </a:lnTo>
                      <a:lnTo>
                        <a:pt x="0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5583240" y="4981680"/>
                  <a:ext cx="46440" cy="20880"/>
                </a:xfrm>
                <a:custGeom>
                  <a:avLst/>
                  <a:gdLst/>
                  <a:ahLst/>
                  <a:rect l="0" t="0" r="r" b="b"/>
                  <a:pathLst>
                    <a:path fill="none" w="129" h="58">
                      <a:moveTo>
                        <a:pt x="0" y="9"/>
                      </a:moveTo>
                      <a:lnTo>
                        <a:pt x="34" y="9"/>
                      </a:lnTo>
                      <a:lnTo>
                        <a:pt x="38" y="0"/>
                      </a:lnTo>
                      <a:lnTo>
                        <a:pt x="62" y="9"/>
                      </a:lnTo>
                      <a:lnTo>
                        <a:pt x="90" y="14"/>
                      </a:lnTo>
                      <a:lnTo>
                        <a:pt x="67" y="14"/>
                      </a:lnTo>
                      <a:lnTo>
                        <a:pt x="101" y="28"/>
                      </a:lnTo>
                      <a:lnTo>
                        <a:pt x="101" y="19"/>
                      </a:lnTo>
                      <a:lnTo>
                        <a:pt x="125" y="34"/>
                      </a:lnTo>
                      <a:lnTo>
                        <a:pt x="129" y="39"/>
                      </a:lnTo>
                      <a:lnTo>
                        <a:pt x="125" y="43"/>
                      </a:lnTo>
                      <a:lnTo>
                        <a:pt x="120" y="48"/>
                      </a:lnTo>
                      <a:lnTo>
                        <a:pt x="101" y="53"/>
                      </a:lnTo>
                      <a:lnTo>
                        <a:pt x="62" y="58"/>
                      </a:lnTo>
                      <a:lnTo>
                        <a:pt x="23" y="58"/>
                      </a:lnTo>
                      <a:lnTo>
                        <a:pt x="23" y="39"/>
                      </a:lnTo>
                      <a:lnTo>
                        <a:pt x="18" y="34"/>
                      </a:lnTo>
                      <a:lnTo>
                        <a:pt x="4" y="23"/>
                      </a:lnTo>
                      <a:lnTo>
                        <a:pt x="4" y="19"/>
                      </a:lnTo>
                      <a:lnTo>
                        <a:pt x="34" y="28"/>
                      </a:lnTo>
                      <a:lnTo>
                        <a:pt x="43" y="34"/>
                      </a:lnTo>
                      <a:lnTo>
                        <a:pt x="53" y="43"/>
                      </a:lnTo>
                      <a:lnTo>
                        <a:pt x="86" y="43"/>
                      </a:lnTo>
                      <a:lnTo>
                        <a:pt x="90" y="28"/>
                      </a:lnTo>
                      <a:lnTo>
                        <a:pt x="57" y="19"/>
                      </a:lnTo>
                      <a:lnTo>
                        <a:pt x="38" y="14"/>
                      </a:lnTo>
                      <a:lnTo>
                        <a:pt x="0" y="14"/>
                      </a:lnTo>
                      <a:lnTo>
                        <a:pt x="0" y="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4" name=""/>
                <p:cNvSpPr/>
                <p:nvPr/>
              </p:nvSpPr>
              <p:spPr>
                <a:xfrm>
                  <a:off x="5584680" y="499896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0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5" name=""/>
                <p:cNvSpPr/>
                <p:nvPr/>
              </p:nvSpPr>
              <p:spPr>
                <a:xfrm>
                  <a:off x="5549760" y="4995720"/>
                  <a:ext cx="30600" cy="8280"/>
                </a:xfrm>
                <a:custGeom>
                  <a:avLst/>
                  <a:gdLst/>
                  <a:ahLst/>
                  <a:rect l="0" t="0" r="r" b="b"/>
                  <a:pathLst>
                    <a:path fill="none" w="85" h="23">
                      <a:moveTo>
                        <a:pt x="85" y="12"/>
                      </a:moveTo>
                      <a:lnTo>
                        <a:pt x="67" y="17"/>
                      </a:lnTo>
                      <a:lnTo>
                        <a:pt x="38" y="12"/>
                      </a:lnTo>
                      <a:lnTo>
                        <a:pt x="13" y="5"/>
                      </a:lnTo>
                      <a:lnTo>
                        <a:pt x="24" y="0"/>
                      </a:lnTo>
                      <a:lnTo>
                        <a:pt x="0" y="5"/>
                      </a:lnTo>
                      <a:lnTo>
                        <a:pt x="24" y="12"/>
                      </a:lnTo>
                      <a:lnTo>
                        <a:pt x="52" y="23"/>
                      </a:lnTo>
                      <a:lnTo>
                        <a:pt x="85" y="23"/>
                      </a:lnTo>
                      <a:lnTo>
                        <a:pt x="85" y="1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6" name=""/>
                <p:cNvSpPr/>
                <p:nvPr/>
              </p:nvSpPr>
              <p:spPr>
                <a:xfrm>
                  <a:off x="5583240" y="49798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41" h="5">
                      <a:moveTo>
                        <a:pt x="41" y="5"/>
                      </a:move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0" y="5"/>
                      </a:lnTo>
                      <a:lnTo>
                        <a:pt x="41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7" name=""/>
                <p:cNvSpPr/>
                <p:nvPr/>
              </p:nvSpPr>
              <p:spPr>
                <a:xfrm>
                  <a:off x="5560920" y="4979880"/>
                  <a:ext cx="194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54" h="19">
                      <a:moveTo>
                        <a:pt x="54" y="0"/>
                      </a:moveTo>
                      <a:lnTo>
                        <a:pt x="45" y="4"/>
                      </a:lnTo>
                      <a:lnTo>
                        <a:pt x="0" y="19"/>
                      </a:lnTo>
                      <a:lnTo>
                        <a:pt x="45" y="19"/>
                      </a:lnTo>
                      <a:lnTo>
                        <a:pt x="39" y="9"/>
                      </a:lnTo>
                      <a:lnTo>
                        <a:pt x="54" y="4"/>
                      </a:lnTo>
                      <a:lnTo>
                        <a:pt x="5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>
                  <a:off x="5991120" y="4970520"/>
                  <a:ext cx="36720" cy="41760"/>
                </a:xfrm>
                <a:custGeom>
                  <a:avLst/>
                  <a:gdLst/>
                  <a:ahLst/>
                  <a:rect l="0" t="0" r="r" b="b"/>
                  <a:pathLst>
                    <a:path fill="none" w="102" h="116">
                      <a:moveTo>
                        <a:pt x="97" y="0"/>
                      </a:moveTo>
                      <a:lnTo>
                        <a:pt x="97" y="58"/>
                      </a:lnTo>
                      <a:lnTo>
                        <a:pt x="0" y="58"/>
                      </a:lnTo>
                      <a:lnTo>
                        <a:pt x="74" y="116"/>
                      </a:lnTo>
                      <a:lnTo>
                        <a:pt x="97" y="116"/>
                      </a:lnTo>
                      <a:lnTo>
                        <a:pt x="27" y="63"/>
                      </a:lnTo>
                      <a:lnTo>
                        <a:pt x="97" y="63"/>
                      </a:lnTo>
                      <a:lnTo>
                        <a:pt x="97" y="107"/>
                      </a:lnTo>
                      <a:lnTo>
                        <a:pt x="102" y="72"/>
                      </a:lnTo>
                      <a:lnTo>
                        <a:pt x="102" y="0"/>
                      </a:lnTo>
                      <a:lnTo>
                        <a:pt x="97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9" name=""/>
                <p:cNvSpPr/>
                <p:nvPr/>
              </p:nvSpPr>
              <p:spPr>
                <a:xfrm>
                  <a:off x="5997600" y="4968720"/>
                  <a:ext cx="1800" cy="41760"/>
                </a:xfrm>
                <a:custGeom>
                  <a:avLst/>
                  <a:gdLst/>
                  <a:ahLst/>
                  <a:rect l="0" t="0" r="r" b="b"/>
                  <a:pathLst>
                    <a:path fill="none" w="5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86"/>
                      </a:lnTo>
                      <a:lnTo>
                        <a:pt x="0" y="116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0" name=""/>
                <p:cNvSpPr/>
                <p:nvPr/>
              </p:nvSpPr>
              <p:spPr>
                <a:xfrm>
                  <a:off x="6019920" y="499752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0" h="1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0" y="14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1" name=""/>
                <p:cNvSpPr/>
                <p:nvPr/>
              </p:nvSpPr>
              <p:spPr>
                <a:xfrm>
                  <a:off x="5837400" y="4979880"/>
                  <a:ext cx="178200" cy="68760"/>
                </a:xfrm>
                <a:custGeom>
                  <a:avLst/>
                  <a:gdLst/>
                  <a:ahLst/>
                  <a:rect l="0" t="0" r="r" b="b"/>
                  <a:pathLst>
                    <a:path fill="none" w="495" h="191">
                      <a:moveTo>
                        <a:pt x="481" y="0"/>
                      </a:moveTo>
                      <a:lnTo>
                        <a:pt x="491" y="0"/>
                      </a:lnTo>
                      <a:lnTo>
                        <a:pt x="495" y="4"/>
                      </a:lnTo>
                      <a:lnTo>
                        <a:pt x="491" y="14"/>
                      </a:lnTo>
                      <a:lnTo>
                        <a:pt x="0" y="191"/>
                      </a:lnTo>
                      <a:lnTo>
                        <a:pt x="48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6459480" y="4979880"/>
                  <a:ext cx="2880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80" h="32">
                      <a:moveTo>
                        <a:pt x="14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80" y="32"/>
                      </a:lnTo>
                      <a:lnTo>
                        <a:pt x="1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5745240" y="4967280"/>
                  <a:ext cx="33840" cy="20880"/>
                </a:xfrm>
                <a:custGeom>
                  <a:avLst/>
                  <a:gdLst/>
                  <a:ahLst/>
                  <a:rect l="0" t="0" r="r" b="b"/>
                  <a:pathLst>
                    <a:path fill="none" w="94" h="58">
                      <a:moveTo>
                        <a:pt x="59" y="23"/>
                      </a:moveTo>
                      <a:lnTo>
                        <a:pt x="49" y="4"/>
                      </a:lnTo>
                      <a:lnTo>
                        <a:pt x="94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79" y="58"/>
                      </a:lnTo>
                      <a:lnTo>
                        <a:pt x="69" y="48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5764320" y="497196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0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5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5727600" y="4959360"/>
                  <a:ext cx="1800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50" h="72">
                      <a:moveTo>
                        <a:pt x="50" y="33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14" y="63"/>
                      </a:lnTo>
                      <a:lnTo>
                        <a:pt x="0" y="67"/>
                      </a:lnTo>
                      <a:lnTo>
                        <a:pt x="50" y="72"/>
                      </a:lnTo>
                      <a:lnTo>
                        <a:pt x="50" y="33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5713560" y="4983120"/>
                  <a:ext cx="82800" cy="1476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41">
                      <a:moveTo>
                        <a:pt x="23" y="0"/>
                      </a:moveTo>
                      <a:lnTo>
                        <a:pt x="23" y="14"/>
                      </a:lnTo>
                      <a:lnTo>
                        <a:pt x="76" y="8"/>
                      </a:lnTo>
                      <a:lnTo>
                        <a:pt x="85" y="8"/>
                      </a:lnTo>
                      <a:lnTo>
                        <a:pt x="76" y="27"/>
                      </a:lnTo>
                      <a:lnTo>
                        <a:pt x="125" y="27"/>
                      </a:lnTo>
                      <a:lnTo>
                        <a:pt x="125" y="18"/>
                      </a:lnTo>
                      <a:lnTo>
                        <a:pt x="90" y="14"/>
                      </a:lnTo>
                      <a:lnTo>
                        <a:pt x="163" y="14"/>
                      </a:lnTo>
                      <a:lnTo>
                        <a:pt x="211" y="23"/>
                      </a:lnTo>
                      <a:lnTo>
                        <a:pt x="230" y="27"/>
                      </a:lnTo>
                      <a:lnTo>
                        <a:pt x="149" y="41"/>
                      </a:lnTo>
                      <a:lnTo>
                        <a:pt x="95" y="32"/>
                      </a:lnTo>
                      <a:lnTo>
                        <a:pt x="52" y="32"/>
                      </a:lnTo>
                      <a:lnTo>
                        <a:pt x="19" y="27"/>
                      </a:lnTo>
                      <a:lnTo>
                        <a:pt x="9" y="23"/>
                      </a:lnTo>
                      <a:lnTo>
                        <a:pt x="0" y="18"/>
                      </a:lnTo>
                      <a:lnTo>
                        <a:pt x="9" y="14"/>
                      </a:lnTo>
                      <a:lnTo>
                        <a:pt x="14" y="8"/>
                      </a:lnTo>
                      <a:lnTo>
                        <a:pt x="19" y="4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5781600" y="4960800"/>
                  <a:ext cx="35280" cy="22680"/>
                </a:xfrm>
                <a:custGeom>
                  <a:avLst/>
                  <a:gdLst/>
                  <a:ahLst/>
                  <a:rect l="0" t="0" r="r" b="b"/>
                  <a:pathLst>
                    <a:path fill="none" w="98" h="63">
                      <a:moveTo>
                        <a:pt x="59" y="24"/>
                      </a:moveTo>
                      <a:lnTo>
                        <a:pt x="43" y="4"/>
                      </a:ln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0" y="63"/>
                      </a:lnTo>
                      <a:lnTo>
                        <a:pt x="78" y="63"/>
                      </a:lnTo>
                      <a:lnTo>
                        <a:pt x="73" y="5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5799240" y="49658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0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8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5759280" y="4951440"/>
                  <a:ext cx="2268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63" h="80">
                      <a:moveTo>
                        <a:pt x="63" y="34"/>
                      </a:moveTo>
                      <a:lnTo>
                        <a:pt x="34" y="0"/>
                      </a:lnTo>
                      <a:lnTo>
                        <a:pt x="0" y="0"/>
                      </a:lnTo>
                      <a:lnTo>
                        <a:pt x="14" y="70"/>
                      </a:lnTo>
                      <a:lnTo>
                        <a:pt x="0" y="75"/>
                      </a:lnTo>
                      <a:lnTo>
                        <a:pt x="63" y="80"/>
                      </a:lnTo>
                      <a:lnTo>
                        <a:pt x="63" y="3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5745240" y="4976640"/>
                  <a:ext cx="87840" cy="16200"/>
                </a:xfrm>
                <a:custGeom>
                  <a:avLst/>
                  <a:gdLst/>
                  <a:ahLst/>
                  <a:rect l="0" t="0" r="r" b="b"/>
                  <a:pathLst>
                    <a:path fill="none" w="244" h="45">
                      <a:moveTo>
                        <a:pt x="28" y="0"/>
                      </a:moveTo>
                      <a:lnTo>
                        <a:pt x="23" y="19"/>
                      </a:lnTo>
                      <a:lnTo>
                        <a:pt x="77" y="9"/>
                      </a:lnTo>
                      <a:lnTo>
                        <a:pt x="91" y="9"/>
                      </a:lnTo>
                      <a:lnTo>
                        <a:pt x="81" y="30"/>
                      </a:lnTo>
                      <a:lnTo>
                        <a:pt x="134" y="30"/>
                      </a:lnTo>
                      <a:lnTo>
                        <a:pt x="134" y="19"/>
                      </a:lnTo>
                      <a:lnTo>
                        <a:pt x="100" y="14"/>
                      </a:lnTo>
                      <a:lnTo>
                        <a:pt x="176" y="14"/>
                      </a:lnTo>
                      <a:lnTo>
                        <a:pt x="225" y="25"/>
                      </a:lnTo>
                      <a:lnTo>
                        <a:pt x="244" y="30"/>
                      </a:lnTo>
                      <a:lnTo>
                        <a:pt x="157" y="45"/>
                      </a:lnTo>
                      <a:lnTo>
                        <a:pt x="100" y="35"/>
                      </a:lnTo>
                      <a:lnTo>
                        <a:pt x="52" y="35"/>
                      </a:lnTo>
                      <a:lnTo>
                        <a:pt x="19" y="30"/>
                      </a:lnTo>
                      <a:lnTo>
                        <a:pt x="9" y="25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14" y="9"/>
                      </a:lnTo>
                      <a:lnTo>
                        <a:pt x="19" y="0"/>
                      </a:lnTo>
                      <a:lnTo>
                        <a:pt x="28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5823000" y="4952880"/>
                  <a:ext cx="39960" cy="24120"/>
                </a:xfrm>
                <a:custGeom>
                  <a:avLst/>
                  <a:gdLst/>
                  <a:ahLst/>
                  <a:rect l="0" t="0" r="r" b="b"/>
                  <a:pathLst>
                    <a:path fill="none" w="111" h="67">
                      <a:moveTo>
                        <a:pt x="68" y="23"/>
                      </a:moveTo>
                      <a:lnTo>
                        <a:pt x="52" y="4"/>
                      </a:lnTo>
                      <a:lnTo>
                        <a:pt x="111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92" y="67"/>
                      </a:lnTo>
                      <a:lnTo>
                        <a:pt x="82" y="5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2" name=""/>
                <p:cNvSpPr/>
                <p:nvPr/>
              </p:nvSpPr>
              <p:spPr>
                <a:xfrm>
                  <a:off x="5845320" y="495936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0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4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3" name=""/>
                <p:cNvSpPr/>
                <p:nvPr/>
              </p:nvSpPr>
              <p:spPr>
                <a:xfrm>
                  <a:off x="5797440" y="494352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fill="none" w="72" h="85">
                      <a:moveTo>
                        <a:pt x="72" y="38"/>
                      </a:moveTo>
                      <a:lnTo>
                        <a:pt x="43" y="0"/>
                      </a:lnTo>
                      <a:lnTo>
                        <a:pt x="4" y="0"/>
                      </a:lnTo>
                      <a:lnTo>
                        <a:pt x="19" y="76"/>
                      </a:lnTo>
                      <a:lnTo>
                        <a:pt x="0" y="81"/>
                      </a:lnTo>
                      <a:lnTo>
                        <a:pt x="72" y="85"/>
                      </a:lnTo>
                      <a:lnTo>
                        <a:pt x="72" y="38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4" name=""/>
                <p:cNvSpPr/>
                <p:nvPr/>
              </p:nvSpPr>
              <p:spPr>
                <a:xfrm>
                  <a:off x="5781600" y="4971960"/>
                  <a:ext cx="101880" cy="19440"/>
                </a:xfrm>
                <a:custGeom>
                  <a:avLst/>
                  <a:gdLst/>
                  <a:ahLst/>
                  <a:rect l="0" t="0" r="r" b="b"/>
                  <a:pathLst>
                    <a:path fill="none" w="283" h="54">
                      <a:moveTo>
                        <a:pt x="33" y="0"/>
                      </a:moveTo>
                      <a:lnTo>
                        <a:pt x="28" y="20"/>
                      </a:lnTo>
                      <a:lnTo>
                        <a:pt x="90" y="9"/>
                      </a:lnTo>
                      <a:lnTo>
                        <a:pt x="105" y="9"/>
                      </a:lnTo>
                      <a:lnTo>
                        <a:pt x="90" y="34"/>
                      </a:lnTo>
                      <a:lnTo>
                        <a:pt x="154" y="34"/>
                      </a:lnTo>
                      <a:lnTo>
                        <a:pt x="154" y="20"/>
                      </a:lnTo>
                      <a:lnTo>
                        <a:pt x="114" y="15"/>
                      </a:lnTo>
                      <a:lnTo>
                        <a:pt x="206" y="15"/>
                      </a:lnTo>
                      <a:lnTo>
                        <a:pt x="259" y="25"/>
                      </a:lnTo>
                      <a:lnTo>
                        <a:pt x="283" y="34"/>
                      </a:lnTo>
                      <a:lnTo>
                        <a:pt x="182" y="54"/>
                      </a:lnTo>
                      <a:lnTo>
                        <a:pt x="114" y="39"/>
                      </a:lnTo>
                      <a:lnTo>
                        <a:pt x="62" y="39"/>
                      </a:lnTo>
                      <a:lnTo>
                        <a:pt x="19" y="34"/>
                      </a:lnTo>
                      <a:lnTo>
                        <a:pt x="14" y="29"/>
                      </a:lnTo>
                      <a:lnTo>
                        <a:pt x="0" y="25"/>
                      </a:lnTo>
                      <a:lnTo>
                        <a:pt x="14" y="20"/>
                      </a:lnTo>
                      <a:lnTo>
                        <a:pt x="19" y="9"/>
                      </a:lnTo>
                      <a:lnTo>
                        <a:pt x="23" y="0"/>
                      </a:lnTo>
                      <a:lnTo>
                        <a:pt x="3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5872320" y="4944960"/>
                  <a:ext cx="44640" cy="27360"/>
                </a:xfrm>
                <a:custGeom>
                  <a:avLst/>
                  <a:gdLst/>
                  <a:ahLst/>
                  <a:rect l="0" t="0" r="r" b="b"/>
                  <a:pathLst>
                    <a:path fill="none" w="124" h="76">
                      <a:moveTo>
                        <a:pt x="72" y="29"/>
                      </a:moveTo>
                      <a:lnTo>
                        <a:pt x="56" y="4"/>
                      </a:lnTo>
                      <a:lnTo>
                        <a:pt x="124" y="0"/>
                      </a:lnTo>
                      <a:lnTo>
                        <a:pt x="0" y="0"/>
                      </a:lnTo>
                      <a:lnTo>
                        <a:pt x="0" y="76"/>
                      </a:lnTo>
                      <a:lnTo>
                        <a:pt x="100" y="76"/>
                      </a:lnTo>
                      <a:lnTo>
                        <a:pt x="91" y="6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>
                  <a:off x="5896080" y="49500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32" h="14">
                      <a:moveTo>
                        <a:pt x="32" y="0"/>
                      </a:moveTo>
                      <a:lnTo>
                        <a:pt x="0" y="0"/>
                      </a:lnTo>
                      <a:lnTo>
                        <a:pt x="5" y="14"/>
                      </a:lnTo>
                      <a:lnTo>
                        <a:pt x="32" y="14"/>
                      </a:lnTo>
                      <a:lnTo>
                        <a:pt x="32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5845320" y="4932360"/>
                  <a:ext cx="2736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76" h="102">
                      <a:moveTo>
                        <a:pt x="76" y="43"/>
                      </a:moveTo>
                      <a:lnTo>
                        <a:pt x="43" y="0"/>
                      </a:lnTo>
                      <a:lnTo>
                        <a:pt x="0" y="0"/>
                      </a:lnTo>
                      <a:lnTo>
                        <a:pt x="18" y="87"/>
                      </a:lnTo>
                      <a:lnTo>
                        <a:pt x="0" y="92"/>
                      </a:lnTo>
                      <a:lnTo>
                        <a:pt x="76" y="102"/>
                      </a:lnTo>
                      <a:lnTo>
                        <a:pt x="76" y="43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>
                  <a:off x="5826240" y="4965840"/>
                  <a:ext cx="113040" cy="20880"/>
                </a:xfrm>
                <a:custGeom>
                  <a:avLst/>
                  <a:gdLst/>
                  <a:ahLst/>
                  <a:rect l="0" t="0" r="r" b="b"/>
                  <a:pathLst>
                    <a:path fill="none" w="314" h="58">
                      <a:moveTo>
                        <a:pt x="33" y="0"/>
                      </a:moveTo>
                      <a:lnTo>
                        <a:pt x="33" y="23"/>
                      </a:lnTo>
                      <a:lnTo>
                        <a:pt x="99" y="9"/>
                      </a:lnTo>
                      <a:lnTo>
                        <a:pt x="118" y="9"/>
                      </a:lnTo>
                      <a:lnTo>
                        <a:pt x="104" y="39"/>
                      </a:lnTo>
                      <a:lnTo>
                        <a:pt x="171" y="39"/>
                      </a:lnTo>
                      <a:lnTo>
                        <a:pt x="171" y="23"/>
                      </a:lnTo>
                      <a:lnTo>
                        <a:pt x="128" y="19"/>
                      </a:lnTo>
                      <a:lnTo>
                        <a:pt x="228" y="19"/>
                      </a:lnTo>
                      <a:lnTo>
                        <a:pt x="290" y="28"/>
                      </a:lnTo>
                      <a:lnTo>
                        <a:pt x="314" y="39"/>
                      </a:lnTo>
                      <a:lnTo>
                        <a:pt x="204" y="58"/>
                      </a:lnTo>
                      <a:lnTo>
                        <a:pt x="132" y="48"/>
                      </a:lnTo>
                      <a:lnTo>
                        <a:pt x="71" y="43"/>
                      </a:lnTo>
                      <a:lnTo>
                        <a:pt x="23" y="39"/>
                      </a:lnTo>
                      <a:lnTo>
                        <a:pt x="14" y="34"/>
                      </a:lnTo>
                      <a:lnTo>
                        <a:pt x="0" y="28"/>
                      </a:lnTo>
                      <a:lnTo>
                        <a:pt x="14" y="23"/>
                      </a:lnTo>
                      <a:lnTo>
                        <a:pt x="18" y="9"/>
                      </a:lnTo>
                      <a:lnTo>
                        <a:pt x="28" y="4"/>
                      </a:lnTo>
                      <a:lnTo>
                        <a:pt x="3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5924520" y="4933800"/>
                  <a:ext cx="47880" cy="30600"/>
                </a:xfrm>
                <a:custGeom>
                  <a:avLst/>
                  <a:gdLst/>
                  <a:ahLst/>
                  <a:rect l="0" t="0" r="r" b="b"/>
                  <a:pathLst>
                    <a:path fill="none" w="133" h="85">
                      <a:moveTo>
                        <a:pt x="76" y="35"/>
                      </a:moveTo>
                      <a:lnTo>
                        <a:pt x="61" y="4"/>
                      </a:lnTo>
                      <a:lnTo>
                        <a:pt x="133" y="0"/>
                      </a:lnTo>
                      <a:lnTo>
                        <a:pt x="0" y="0"/>
                      </a:lnTo>
                      <a:lnTo>
                        <a:pt x="0" y="85"/>
                      </a:lnTo>
                      <a:lnTo>
                        <a:pt x="104" y="85"/>
                      </a:lnTo>
                      <a:lnTo>
                        <a:pt x="100" y="7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5950080" y="49417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27" h="14">
                      <a:moveTo>
                        <a:pt x="27" y="0"/>
                      </a:moveTo>
                      <a:lnTo>
                        <a:pt x="0" y="0"/>
                      </a:lnTo>
                      <a:lnTo>
                        <a:pt x="4" y="14"/>
                      </a:lnTo>
                      <a:lnTo>
                        <a:pt x="27" y="14"/>
                      </a:lnTo>
                      <a:lnTo>
                        <a:pt x="27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1" name=""/>
                <p:cNvSpPr/>
                <p:nvPr/>
              </p:nvSpPr>
              <p:spPr>
                <a:xfrm>
                  <a:off x="5892840" y="4923000"/>
                  <a:ext cx="32040" cy="38520"/>
                </a:xfrm>
                <a:custGeom>
                  <a:avLst/>
                  <a:gdLst/>
                  <a:ahLst/>
                  <a:rect l="0" t="0" r="r" b="b"/>
                  <a:pathLst>
                    <a:path fill="none" w="89" h="107">
                      <a:moveTo>
                        <a:pt x="89" y="44"/>
                      </a:moveTo>
                      <a:lnTo>
                        <a:pt x="49" y="0"/>
                      </a:lnTo>
                      <a:lnTo>
                        <a:pt x="0" y="0"/>
                      </a:lnTo>
                      <a:lnTo>
                        <a:pt x="24" y="93"/>
                      </a:lnTo>
                      <a:lnTo>
                        <a:pt x="0" y="98"/>
                      </a:lnTo>
                      <a:lnTo>
                        <a:pt x="89" y="107"/>
                      </a:lnTo>
                      <a:lnTo>
                        <a:pt x="89" y="4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2" name=""/>
                <p:cNvSpPr/>
                <p:nvPr/>
              </p:nvSpPr>
              <p:spPr>
                <a:xfrm>
                  <a:off x="5873760" y="4959360"/>
                  <a:ext cx="154440" cy="20880"/>
                </a:xfrm>
                <a:custGeom>
                  <a:avLst/>
                  <a:gdLst/>
                  <a:ahLst/>
                  <a:rect l="0" t="0" r="r" b="b"/>
                  <a:pathLst>
                    <a:path fill="none" w="429" h="58">
                      <a:moveTo>
                        <a:pt x="38" y="0"/>
                      </a:moveTo>
                      <a:lnTo>
                        <a:pt x="33" y="19"/>
                      </a:lnTo>
                      <a:lnTo>
                        <a:pt x="110" y="9"/>
                      </a:lnTo>
                      <a:lnTo>
                        <a:pt x="129" y="9"/>
                      </a:lnTo>
                      <a:lnTo>
                        <a:pt x="110" y="34"/>
                      </a:lnTo>
                      <a:lnTo>
                        <a:pt x="186" y="34"/>
                      </a:lnTo>
                      <a:lnTo>
                        <a:pt x="186" y="19"/>
                      </a:lnTo>
                      <a:lnTo>
                        <a:pt x="138" y="14"/>
                      </a:lnTo>
                      <a:lnTo>
                        <a:pt x="367" y="4"/>
                      </a:lnTo>
                      <a:lnTo>
                        <a:pt x="429" y="28"/>
                      </a:lnTo>
                      <a:lnTo>
                        <a:pt x="344" y="28"/>
                      </a:lnTo>
                      <a:lnTo>
                        <a:pt x="219" y="58"/>
                      </a:lnTo>
                      <a:lnTo>
                        <a:pt x="143" y="43"/>
                      </a:lnTo>
                      <a:lnTo>
                        <a:pt x="76" y="43"/>
                      </a:lnTo>
                      <a:lnTo>
                        <a:pt x="23" y="34"/>
                      </a:lnTo>
                      <a:lnTo>
                        <a:pt x="14" y="28"/>
                      </a:lnTo>
                      <a:lnTo>
                        <a:pt x="0" y="23"/>
                      </a:lnTo>
                      <a:lnTo>
                        <a:pt x="14" y="19"/>
                      </a:lnTo>
                      <a:lnTo>
                        <a:pt x="19" y="4"/>
                      </a:lnTo>
                      <a:lnTo>
                        <a:pt x="28" y="0"/>
                      </a:lnTo>
                      <a:lnTo>
                        <a:pt x="38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3" name=""/>
                <p:cNvSpPr/>
                <p:nvPr/>
              </p:nvSpPr>
              <p:spPr>
                <a:xfrm>
                  <a:off x="5950080" y="4910040"/>
                  <a:ext cx="30600" cy="38520"/>
                </a:xfrm>
                <a:custGeom>
                  <a:avLst/>
                  <a:gdLst/>
                  <a:ahLst/>
                  <a:rect l="0" t="0" r="r" b="b"/>
                  <a:pathLst>
                    <a:path fill="none" w="85" h="107">
                      <a:moveTo>
                        <a:pt x="85" y="107"/>
                      </a:moveTo>
                      <a:lnTo>
                        <a:pt x="0" y="103"/>
                      </a:lnTo>
                      <a:lnTo>
                        <a:pt x="24" y="98"/>
                      </a:lnTo>
                      <a:lnTo>
                        <a:pt x="0" y="0"/>
                      </a:lnTo>
                      <a:lnTo>
                        <a:pt x="47" y="0"/>
                      </a:lnTo>
                      <a:lnTo>
                        <a:pt x="85" y="44"/>
                      </a:lnTo>
                      <a:lnTo>
                        <a:pt x="85" y="10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4" name=""/>
                <p:cNvSpPr/>
                <p:nvPr/>
              </p:nvSpPr>
              <p:spPr>
                <a:xfrm>
                  <a:off x="5979960" y="4923000"/>
                  <a:ext cx="49680" cy="32040"/>
                </a:xfrm>
                <a:custGeom>
                  <a:avLst/>
                  <a:gdLst/>
                  <a:ahLst/>
                  <a:rect l="0" t="0" r="r" b="b"/>
                  <a:pathLst>
                    <a:path fill="none" w="138" h="89">
                      <a:moveTo>
                        <a:pt x="0" y="79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115" y="89"/>
                      </a:lnTo>
                      <a:lnTo>
                        <a:pt x="0" y="7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5" name=""/>
                <p:cNvSpPr/>
                <p:nvPr/>
              </p:nvSpPr>
              <p:spPr>
                <a:xfrm>
                  <a:off x="6019920" y="4946760"/>
                  <a:ext cx="14976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416" h="50">
                      <a:moveTo>
                        <a:pt x="0" y="20"/>
                      </a:moveTo>
                      <a:lnTo>
                        <a:pt x="286" y="0"/>
                      </a:lnTo>
                      <a:lnTo>
                        <a:pt x="167" y="15"/>
                      </a:lnTo>
                      <a:lnTo>
                        <a:pt x="167" y="25"/>
                      </a:lnTo>
                      <a:lnTo>
                        <a:pt x="392" y="20"/>
                      </a:lnTo>
                      <a:lnTo>
                        <a:pt x="416" y="15"/>
                      </a:lnTo>
                      <a:lnTo>
                        <a:pt x="392" y="20"/>
                      </a:lnTo>
                      <a:lnTo>
                        <a:pt x="330" y="30"/>
                      </a:lnTo>
                      <a:lnTo>
                        <a:pt x="282" y="30"/>
                      </a:lnTo>
                      <a:lnTo>
                        <a:pt x="277" y="40"/>
                      </a:lnTo>
                      <a:lnTo>
                        <a:pt x="272" y="30"/>
                      </a:lnTo>
                      <a:lnTo>
                        <a:pt x="243" y="30"/>
                      </a:lnTo>
                      <a:lnTo>
                        <a:pt x="243" y="40"/>
                      </a:lnTo>
                      <a:lnTo>
                        <a:pt x="229" y="30"/>
                      </a:lnTo>
                      <a:lnTo>
                        <a:pt x="95" y="30"/>
                      </a:lnTo>
                      <a:lnTo>
                        <a:pt x="110" y="50"/>
                      </a:lnTo>
                      <a:lnTo>
                        <a:pt x="80" y="34"/>
                      </a:lnTo>
                      <a:lnTo>
                        <a:pt x="42" y="30"/>
                      </a:lnTo>
                      <a:lnTo>
                        <a:pt x="4" y="25"/>
                      </a:lnTo>
                      <a:lnTo>
                        <a:pt x="0" y="2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6" name=""/>
                <p:cNvSpPr/>
                <p:nvPr/>
              </p:nvSpPr>
              <p:spPr>
                <a:xfrm>
                  <a:off x="5979960" y="4951440"/>
                  <a:ext cx="7812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217" h="50">
                      <a:moveTo>
                        <a:pt x="145" y="9"/>
                      </a:moveTo>
                      <a:lnTo>
                        <a:pt x="121" y="15"/>
                      </a:lnTo>
                      <a:lnTo>
                        <a:pt x="173" y="40"/>
                      </a:lnTo>
                      <a:lnTo>
                        <a:pt x="217" y="34"/>
                      </a:lnTo>
                      <a:lnTo>
                        <a:pt x="178" y="45"/>
                      </a:lnTo>
                      <a:lnTo>
                        <a:pt x="140" y="50"/>
                      </a:lnTo>
                      <a:lnTo>
                        <a:pt x="81" y="45"/>
                      </a:lnTo>
                      <a:lnTo>
                        <a:pt x="38" y="34"/>
                      </a:lnTo>
                      <a:lnTo>
                        <a:pt x="52" y="30"/>
                      </a:lnTo>
                      <a:lnTo>
                        <a:pt x="52" y="9"/>
                      </a:lnTo>
                      <a:lnTo>
                        <a:pt x="0" y="0"/>
                      </a:lnTo>
                      <a:lnTo>
                        <a:pt x="145" y="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7" name=""/>
                <p:cNvSpPr/>
                <p:nvPr/>
              </p:nvSpPr>
              <p:spPr>
                <a:xfrm>
                  <a:off x="6005520" y="4929120"/>
                  <a:ext cx="3060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85" h="27">
                      <a:moveTo>
                        <a:pt x="0" y="0"/>
                      </a:moveTo>
                      <a:lnTo>
                        <a:pt x="85" y="0"/>
                      </a:lnTo>
                      <a:lnTo>
                        <a:pt x="40" y="5"/>
                      </a:lnTo>
                      <a:lnTo>
                        <a:pt x="50" y="22"/>
                      </a:lnTo>
                      <a:lnTo>
                        <a:pt x="14" y="27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8" name=""/>
                <p:cNvSpPr/>
                <p:nvPr/>
              </p:nvSpPr>
              <p:spPr>
                <a:xfrm>
                  <a:off x="6013440" y="4933800"/>
                  <a:ext cx="143280" cy="14760"/>
                </a:xfrm>
                <a:custGeom>
                  <a:avLst/>
                  <a:gdLst/>
                  <a:ahLst/>
                  <a:rect l="0" t="0" r="r" b="b"/>
                  <a:pathLst>
                    <a:path fill="none" w="398" h="41">
                      <a:moveTo>
                        <a:pt x="0" y="15"/>
                      </a:moveTo>
                      <a:lnTo>
                        <a:pt x="47" y="9"/>
                      </a:lnTo>
                      <a:lnTo>
                        <a:pt x="114" y="4"/>
                      </a:lnTo>
                      <a:lnTo>
                        <a:pt x="175" y="4"/>
                      </a:lnTo>
                      <a:lnTo>
                        <a:pt x="275" y="15"/>
                      </a:lnTo>
                      <a:lnTo>
                        <a:pt x="275" y="0"/>
                      </a:lnTo>
                      <a:lnTo>
                        <a:pt x="318" y="20"/>
                      </a:lnTo>
                      <a:lnTo>
                        <a:pt x="398" y="41"/>
                      </a:lnTo>
                      <a:lnTo>
                        <a:pt x="275" y="25"/>
                      </a:lnTo>
                      <a:lnTo>
                        <a:pt x="246" y="20"/>
                      </a:lnTo>
                      <a:lnTo>
                        <a:pt x="208" y="36"/>
                      </a:lnTo>
                      <a:lnTo>
                        <a:pt x="9" y="36"/>
                      </a:lnTo>
                      <a:lnTo>
                        <a:pt x="0" y="1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9" name=""/>
                <p:cNvSpPr/>
                <p:nvPr/>
              </p:nvSpPr>
              <p:spPr>
                <a:xfrm>
                  <a:off x="5927760" y="4946760"/>
                  <a:ext cx="7488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208" h="50">
                      <a:moveTo>
                        <a:pt x="118" y="9"/>
                      </a:moveTo>
                      <a:lnTo>
                        <a:pt x="42" y="20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3" y="9"/>
                      </a:lnTo>
                      <a:lnTo>
                        <a:pt x="18" y="20"/>
                      </a:lnTo>
                      <a:lnTo>
                        <a:pt x="0" y="30"/>
                      </a:lnTo>
                      <a:lnTo>
                        <a:pt x="18" y="34"/>
                      </a:lnTo>
                      <a:lnTo>
                        <a:pt x="28" y="40"/>
                      </a:lnTo>
                      <a:lnTo>
                        <a:pt x="128" y="50"/>
                      </a:lnTo>
                      <a:lnTo>
                        <a:pt x="170" y="50"/>
                      </a:lnTo>
                      <a:lnTo>
                        <a:pt x="208" y="40"/>
                      </a:lnTo>
                      <a:lnTo>
                        <a:pt x="123" y="40"/>
                      </a:lnTo>
                      <a:lnTo>
                        <a:pt x="137" y="9"/>
                      </a:lnTo>
                      <a:lnTo>
                        <a:pt x="118" y="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0" name=""/>
                <p:cNvSpPr/>
                <p:nvPr/>
              </p:nvSpPr>
              <p:spPr>
                <a:xfrm>
                  <a:off x="6068880" y="4930920"/>
                  <a:ext cx="4464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24" h="10">
                      <a:moveTo>
                        <a:pt x="0" y="10"/>
                      </a:moveTo>
                      <a:lnTo>
                        <a:pt x="56" y="0"/>
                      </a:lnTo>
                      <a:lnTo>
                        <a:pt x="95" y="0"/>
                      </a:lnTo>
                      <a:lnTo>
                        <a:pt x="124" y="10"/>
                      </a:lnTo>
                      <a:lnTo>
                        <a:pt x="91" y="0"/>
                      </a:lnTo>
                      <a:lnTo>
                        <a:pt x="67" y="0"/>
                      </a:lnTo>
                      <a:lnTo>
                        <a:pt x="0" y="1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1" name=""/>
                <p:cNvSpPr/>
                <p:nvPr/>
              </p:nvSpPr>
              <p:spPr>
                <a:xfrm>
                  <a:off x="6130800" y="4967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4" h="14">
                      <a:moveTo>
                        <a:pt x="14" y="9"/>
                      </a:moveTo>
                      <a:lnTo>
                        <a:pt x="14" y="4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4" y="14"/>
                      </a:lnTo>
                      <a:lnTo>
                        <a:pt x="9" y="14"/>
                      </a:lnTo>
                      <a:lnTo>
                        <a:pt x="14" y="14"/>
                      </a:lnTo>
                      <a:lnTo>
                        <a:pt x="14" y="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2" name=""/>
                <p:cNvSpPr/>
                <p:nvPr/>
              </p:nvSpPr>
              <p:spPr>
                <a:xfrm>
                  <a:off x="6129360" y="4954680"/>
                  <a:ext cx="504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14" h="27">
                      <a:moveTo>
                        <a:pt x="14" y="27"/>
                      </a:moveTo>
                      <a:lnTo>
                        <a:pt x="9" y="27"/>
                      </a:lnTo>
                      <a:lnTo>
                        <a:pt x="9" y="22"/>
                      </a:lnTo>
                      <a:lnTo>
                        <a:pt x="9" y="16"/>
                      </a:lnTo>
                      <a:lnTo>
                        <a:pt x="0" y="5"/>
                      </a:lnTo>
                      <a:lnTo>
                        <a:pt x="9" y="16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14" y="2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3" name=""/>
                <p:cNvSpPr/>
                <p:nvPr/>
              </p:nvSpPr>
              <p:spPr>
                <a:xfrm>
                  <a:off x="6243480" y="5094360"/>
                  <a:ext cx="24660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685" h="32">
                      <a:moveTo>
                        <a:pt x="23" y="0"/>
                      </a:moveTo>
                      <a:lnTo>
                        <a:pt x="685" y="0"/>
                      </a:lnTo>
                      <a:lnTo>
                        <a:pt x="524" y="14"/>
                      </a:lnTo>
                      <a:lnTo>
                        <a:pt x="309" y="14"/>
                      </a:lnTo>
                      <a:lnTo>
                        <a:pt x="252" y="4"/>
                      </a:lnTo>
                      <a:lnTo>
                        <a:pt x="195" y="14"/>
                      </a:lnTo>
                      <a:lnTo>
                        <a:pt x="113" y="14"/>
                      </a:lnTo>
                      <a:lnTo>
                        <a:pt x="75" y="23"/>
                      </a:lnTo>
                      <a:lnTo>
                        <a:pt x="304" y="23"/>
                      </a:lnTo>
                      <a:lnTo>
                        <a:pt x="394" y="32"/>
                      </a:lnTo>
                      <a:lnTo>
                        <a:pt x="0" y="32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4" name=""/>
                <p:cNvSpPr/>
                <p:nvPr/>
              </p:nvSpPr>
              <p:spPr>
                <a:xfrm>
                  <a:off x="6039000" y="5052960"/>
                  <a:ext cx="1152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32" h="32">
                      <a:moveTo>
                        <a:pt x="0" y="4"/>
                      </a:moveTo>
                      <a:lnTo>
                        <a:pt x="14" y="4"/>
                      </a:lnTo>
                      <a:lnTo>
                        <a:pt x="18" y="14"/>
                      </a:lnTo>
                      <a:lnTo>
                        <a:pt x="23" y="23"/>
                      </a:lnTo>
                      <a:lnTo>
                        <a:pt x="23" y="28"/>
                      </a:lnTo>
                      <a:lnTo>
                        <a:pt x="18" y="32"/>
                      </a:lnTo>
                      <a:lnTo>
                        <a:pt x="32" y="28"/>
                      </a:lnTo>
                      <a:lnTo>
                        <a:pt x="32" y="14"/>
                      </a:lnTo>
                      <a:lnTo>
                        <a:pt x="28" y="4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0" y="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5" name=""/>
                <p:cNvSpPr/>
                <p:nvPr/>
              </p:nvSpPr>
              <p:spPr>
                <a:xfrm>
                  <a:off x="6039000" y="5059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0" h="10">
                      <a:moveTo>
                        <a:pt x="5" y="5"/>
                      </a:move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6" name=""/>
                <p:cNvSpPr/>
                <p:nvPr/>
              </p:nvSpPr>
              <p:spPr>
                <a:xfrm>
                  <a:off x="5975280" y="5052960"/>
                  <a:ext cx="972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27" h="27">
                      <a:moveTo>
                        <a:pt x="0" y="4"/>
                      </a:moveTo>
                      <a:lnTo>
                        <a:pt x="14" y="4"/>
                      </a:lnTo>
                      <a:lnTo>
                        <a:pt x="18" y="14"/>
                      </a:lnTo>
                      <a:lnTo>
                        <a:pt x="18" y="18"/>
                      </a:lnTo>
                      <a:lnTo>
                        <a:pt x="18" y="27"/>
                      </a:lnTo>
                      <a:lnTo>
                        <a:pt x="27" y="27"/>
                      </a:lnTo>
                      <a:lnTo>
                        <a:pt x="27" y="14"/>
                      </a:lnTo>
                      <a:lnTo>
                        <a:pt x="23" y="4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0" y="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7" name=""/>
                <p:cNvSpPr/>
                <p:nvPr/>
              </p:nvSpPr>
              <p:spPr>
                <a:xfrm>
                  <a:off x="5975280" y="5059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0" h="10">
                      <a:moveTo>
                        <a:pt x="5" y="5"/>
                      </a:move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8" name=""/>
                <p:cNvSpPr/>
                <p:nvPr/>
              </p:nvSpPr>
              <p:spPr>
                <a:xfrm>
                  <a:off x="5931000" y="5052960"/>
                  <a:ext cx="828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23" h="27">
                      <a:moveTo>
                        <a:pt x="0" y="4"/>
                      </a:moveTo>
                      <a:lnTo>
                        <a:pt x="4" y="4"/>
                      </a:lnTo>
                      <a:lnTo>
                        <a:pt x="14" y="14"/>
                      </a:lnTo>
                      <a:lnTo>
                        <a:pt x="14" y="18"/>
                      </a:lnTo>
                      <a:lnTo>
                        <a:pt x="14" y="23"/>
                      </a:lnTo>
                      <a:lnTo>
                        <a:pt x="14" y="27"/>
                      </a:lnTo>
                      <a:lnTo>
                        <a:pt x="23" y="23"/>
                      </a:lnTo>
                      <a:lnTo>
                        <a:pt x="23" y="14"/>
                      </a:lnTo>
                      <a:lnTo>
                        <a:pt x="18" y="4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9" name=""/>
                <p:cNvSpPr/>
                <p:nvPr/>
              </p:nvSpPr>
              <p:spPr>
                <a:xfrm>
                  <a:off x="5931000" y="505764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5" h="10">
                      <a:moveTo>
                        <a:pt x="0" y="5"/>
                      </a:move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0" name=""/>
                <p:cNvSpPr/>
                <p:nvPr/>
              </p:nvSpPr>
              <p:spPr>
                <a:xfrm>
                  <a:off x="6048360" y="5091120"/>
                  <a:ext cx="47880" cy="46440"/>
                </a:xfrm>
                <a:custGeom>
                  <a:avLst/>
                  <a:gdLst/>
                  <a:ahLst/>
                  <a:rect l="0" t="0" r="r" b="b"/>
                  <a:pathLst>
                    <a:path fill="none" w="133" h="129">
                      <a:moveTo>
                        <a:pt x="56" y="0"/>
                      </a:moveTo>
                      <a:lnTo>
                        <a:pt x="0" y="53"/>
                      </a:lnTo>
                      <a:lnTo>
                        <a:pt x="4" y="57"/>
                      </a:lnTo>
                      <a:lnTo>
                        <a:pt x="28" y="43"/>
                      </a:lnTo>
                      <a:lnTo>
                        <a:pt x="42" y="48"/>
                      </a:lnTo>
                      <a:lnTo>
                        <a:pt x="56" y="57"/>
                      </a:lnTo>
                      <a:lnTo>
                        <a:pt x="47" y="67"/>
                      </a:lnTo>
                      <a:lnTo>
                        <a:pt x="47" y="76"/>
                      </a:lnTo>
                      <a:lnTo>
                        <a:pt x="56" y="76"/>
                      </a:lnTo>
                      <a:lnTo>
                        <a:pt x="51" y="81"/>
                      </a:lnTo>
                      <a:lnTo>
                        <a:pt x="56" y="86"/>
                      </a:lnTo>
                      <a:lnTo>
                        <a:pt x="76" y="81"/>
                      </a:lnTo>
                      <a:lnTo>
                        <a:pt x="90" y="101"/>
                      </a:lnTo>
                      <a:lnTo>
                        <a:pt x="76" y="125"/>
                      </a:lnTo>
                      <a:lnTo>
                        <a:pt x="81" y="129"/>
                      </a:lnTo>
                      <a:lnTo>
                        <a:pt x="133" y="86"/>
                      </a:lnTo>
                      <a:lnTo>
                        <a:pt x="114" y="62"/>
                      </a:lnTo>
                      <a:lnTo>
                        <a:pt x="109" y="43"/>
                      </a:lnTo>
                      <a:lnTo>
                        <a:pt x="109" y="57"/>
                      </a:lnTo>
                      <a:lnTo>
                        <a:pt x="104" y="62"/>
                      </a:lnTo>
                      <a:lnTo>
                        <a:pt x="100" y="43"/>
                      </a:lnTo>
                      <a:lnTo>
                        <a:pt x="86" y="28"/>
                      </a:lnTo>
                      <a:lnTo>
                        <a:pt x="76" y="23"/>
                      </a:lnTo>
                      <a:lnTo>
                        <a:pt x="71" y="28"/>
                      </a:lnTo>
                      <a:lnTo>
                        <a:pt x="67" y="34"/>
                      </a:lnTo>
                      <a:lnTo>
                        <a:pt x="71" y="43"/>
                      </a:lnTo>
                      <a:lnTo>
                        <a:pt x="76" y="57"/>
                      </a:lnTo>
                      <a:lnTo>
                        <a:pt x="61" y="43"/>
                      </a:lnTo>
                      <a:lnTo>
                        <a:pt x="56" y="28"/>
                      </a:lnTo>
                      <a:lnTo>
                        <a:pt x="61" y="18"/>
                      </a:lnTo>
                      <a:lnTo>
                        <a:pt x="81" y="14"/>
                      </a:lnTo>
                      <a:lnTo>
                        <a:pt x="100" y="23"/>
                      </a:lnTo>
                      <a:lnTo>
                        <a:pt x="81" y="9"/>
                      </a:lnTo>
                      <a:lnTo>
                        <a:pt x="71" y="9"/>
                      </a:lnTo>
                      <a:lnTo>
                        <a:pt x="56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1" name=""/>
                <p:cNvSpPr/>
                <p:nvPr/>
              </p:nvSpPr>
              <p:spPr>
                <a:xfrm>
                  <a:off x="6232680" y="5099040"/>
                  <a:ext cx="4464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124" h="102">
                      <a:moveTo>
                        <a:pt x="33" y="102"/>
                      </a:moveTo>
                      <a:lnTo>
                        <a:pt x="37" y="97"/>
                      </a:lnTo>
                      <a:lnTo>
                        <a:pt x="33" y="68"/>
                      </a:lnTo>
                      <a:lnTo>
                        <a:pt x="42" y="63"/>
                      </a:lnTo>
                      <a:lnTo>
                        <a:pt x="61" y="78"/>
                      </a:lnTo>
                      <a:lnTo>
                        <a:pt x="67" y="78"/>
                      </a:lnTo>
                      <a:lnTo>
                        <a:pt x="67" y="63"/>
                      </a:lnTo>
                      <a:lnTo>
                        <a:pt x="76" y="73"/>
                      </a:lnTo>
                      <a:lnTo>
                        <a:pt x="81" y="68"/>
                      </a:lnTo>
                      <a:lnTo>
                        <a:pt x="81" y="58"/>
                      </a:lnTo>
                      <a:lnTo>
                        <a:pt x="95" y="43"/>
                      </a:lnTo>
                      <a:lnTo>
                        <a:pt x="119" y="73"/>
                      </a:lnTo>
                      <a:lnTo>
                        <a:pt x="124" y="63"/>
                      </a:lnTo>
                      <a:lnTo>
                        <a:pt x="86" y="4"/>
                      </a:lnTo>
                      <a:lnTo>
                        <a:pt x="18" y="0"/>
                      </a:lnTo>
                      <a:lnTo>
                        <a:pt x="0" y="48"/>
                      </a:lnTo>
                      <a:lnTo>
                        <a:pt x="33" y="10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2" name=""/>
                <p:cNvSpPr/>
                <p:nvPr/>
              </p:nvSpPr>
              <p:spPr>
                <a:xfrm>
                  <a:off x="5445000" y="4959360"/>
                  <a:ext cx="9720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270" h="80">
                      <a:moveTo>
                        <a:pt x="233" y="80"/>
                      </a:moveTo>
                      <a:lnTo>
                        <a:pt x="233" y="43"/>
                      </a:lnTo>
                      <a:lnTo>
                        <a:pt x="166" y="43"/>
                      </a:lnTo>
                      <a:lnTo>
                        <a:pt x="147" y="52"/>
                      </a:lnTo>
                      <a:lnTo>
                        <a:pt x="133" y="43"/>
                      </a:lnTo>
                      <a:lnTo>
                        <a:pt x="100" y="43"/>
                      </a:lnTo>
                      <a:lnTo>
                        <a:pt x="95" y="52"/>
                      </a:lnTo>
                      <a:lnTo>
                        <a:pt x="76" y="52"/>
                      </a:lnTo>
                      <a:lnTo>
                        <a:pt x="71" y="61"/>
                      </a:lnTo>
                      <a:lnTo>
                        <a:pt x="51" y="61"/>
                      </a:lnTo>
                      <a:lnTo>
                        <a:pt x="51" y="71"/>
                      </a:lnTo>
                      <a:lnTo>
                        <a:pt x="37" y="71"/>
                      </a:lnTo>
                      <a:lnTo>
                        <a:pt x="37" y="37"/>
                      </a:lnTo>
                      <a:lnTo>
                        <a:pt x="0" y="37"/>
                      </a:lnTo>
                      <a:lnTo>
                        <a:pt x="14" y="28"/>
                      </a:lnTo>
                      <a:lnTo>
                        <a:pt x="37" y="28"/>
                      </a:lnTo>
                      <a:lnTo>
                        <a:pt x="37" y="14"/>
                      </a:lnTo>
                      <a:lnTo>
                        <a:pt x="4" y="14"/>
                      </a:lnTo>
                      <a:lnTo>
                        <a:pt x="18" y="0"/>
                      </a:lnTo>
                      <a:lnTo>
                        <a:pt x="270" y="0"/>
                      </a:lnTo>
                      <a:lnTo>
                        <a:pt x="237" y="14"/>
                      </a:lnTo>
                      <a:lnTo>
                        <a:pt x="237" y="80"/>
                      </a:lnTo>
                      <a:lnTo>
                        <a:pt x="233" y="8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3" name=""/>
                <p:cNvSpPr/>
                <p:nvPr/>
              </p:nvSpPr>
              <p:spPr>
                <a:xfrm>
                  <a:off x="5541840" y="4946760"/>
                  <a:ext cx="180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5" h="14">
                      <a:moveTo>
                        <a:pt x="0" y="14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4" name=""/>
                <p:cNvSpPr/>
                <p:nvPr/>
              </p:nvSpPr>
              <p:spPr>
                <a:xfrm>
                  <a:off x="5532480" y="49467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4">
                      <a:moveTo>
                        <a:pt x="19" y="0"/>
                      </a:moveTo>
                      <a:lnTo>
                        <a:pt x="19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5" name=""/>
                <p:cNvSpPr/>
                <p:nvPr/>
              </p:nvSpPr>
              <p:spPr>
                <a:xfrm>
                  <a:off x="5521320" y="49467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4">
                      <a:moveTo>
                        <a:pt x="23" y="0"/>
                      </a:moveTo>
                      <a:lnTo>
                        <a:pt x="23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6" name=""/>
                <p:cNvSpPr/>
                <p:nvPr/>
              </p:nvSpPr>
              <p:spPr>
                <a:xfrm>
                  <a:off x="5511960" y="49467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4">
                      <a:moveTo>
                        <a:pt x="19" y="0"/>
                      </a:moveTo>
                      <a:lnTo>
                        <a:pt x="19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7" name=""/>
                <p:cNvSpPr/>
                <p:nvPr/>
              </p:nvSpPr>
              <p:spPr>
                <a:xfrm>
                  <a:off x="5456160" y="4946760"/>
                  <a:ext cx="5292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47" h="14">
                      <a:moveTo>
                        <a:pt x="147" y="0"/>
                      </a:moveTo>
                      <a:lnTo>
                        <a:pt x="147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47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8" name=""/>
                <p:cNvSpPr/>
                <p:nvPr/>
              </p:nvSpPr>
              <p:spPr>
                <a:xfrm>
                  <a:off x="5541840" y="4932360"/>
                  <a:ext cx="180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5" h="19">
                      <a:moveTo>
                        <a:pt x="0" y="19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9" name=""/>
                <p:cNvSpPr/>
                <p:nvPr/>
              </p:nvSpPr>
              <p:spPr>
                <a:xfrm>
                  <a:off x="5532480" y="4932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9">
                      <a:moveTo>
                        <a:pt x="19" y="0"/>
                      </a:moveTo>
                      <a:lnTo>
                        <a:pt x="19" y="19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0" name=""/>
                <p:cNvSpPr/>
                <p:nvPr/>
              </p:nvSpPr>
              <p:spPr>
                <a:xfrm>
                  <a:off x="5521320" y="4932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9">
                      <a:moveTo>
                        <a:pt x="23" y="0"/>
                      </a:moveTo>
                      <a:lnTo>
                        <a:pt x="23" y="19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>
                  <a:off x="5511960" y="4932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9">
                      <a:moveTo>
                        <a:pt x="19" y="0"/>
                      </a:moveTo>
                      <a:lnTo>
                        <a:pt x="19" y="19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>
                  <a:off x="5456160" y="4932360"/>
                  <a:ext cx="5292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147" h="19">
                      <a:moveTo>
                        <a:pt x="147" y="0"/>
                      </a:moveTo>
                      <a:lnTo>
                        <a:pt x="147" y="19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47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3" name=""/>
                <p:cNvSpPr/>
                <p:nvPr/>
              </p:nvSpPr>
              <p:spPr>
                <a:xfrm>
                  <a:off x="5541840" y="4919760"/>
                  <a:ext cx="180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5" h="14">
                      <a:moveTo>
                        <a:pt x="0" y="14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4" name=""/>
                <p:cNvSpPr/>
                <p:nvPr/>
              </p:nvSpPr>
              <p:spPr>
                <a:xfrm>
                  <a:off x="5532480" y="49197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4">
                      <a:moveTo>
                        <a:pt x="19" y="0"/>
                      </a:moveTo>
                      <a:lnTo>
                        <a:pt x="19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5" name=""/>
                <p:cNvSpPr/>
                <p:nvPr/>
              </p:nvSpPr>
              <p:spPr>
                <a:xfrm>
                  <a:off x="5521320" y="49197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4">
                      <a:moveTo>
                        <a:pt x="23" y="0"/>
                      </a:moveTo>
                      <a:lnTo>
                        <a:pt x="23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6" name=""/>
                <p:cNvSpPr/>
                <p:nvPr/>
              </p:nvSpPr>
              <p:spPr>
                <a:xfrm>
                  <a:off x="5511960" y="49197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4">
                      <a:moveTo>
                        <a:pt x="19" y="0"/>
                      </a:moveTo>
                      <a:lnTo>
                        <a:pt x="19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7" name=""/>
                <p:cNvSpPr/>
                <p:nvPr/>
              </p:nvSpPr>
              <p:spPr>
                <a:xfrm>
                  <a:off x="5424480" y="4919760"/>
                  <a:ext cx="84600" cy="41760"/>
                </a:xfrm>
                <a:custGeom>
                  <a:avLst/>
                  <a:gdLst/>
                  <a:ahLst/>
                  <a:rect l="0" t="0" r="r" b="b"/>
                  <a:pathLst>
                    <a:path fill="none" w="235" h="116">
                      <a:moveTo>
                        <a:pt x="235" y="14"/>
                      </a:moveTo>
                      <a:lnTo>
                        <a:pt x="105" y="14"/>
                      </a:lnTo>
                      <a:lnTo>
                        <a:pt x="105" y="48"/>
                      </a:lnTo>
                      <a:lnTo>
                        <a:pt x="91" y="48"/>
                      </a:lnTo>
                      <a:lnTo>
                        <a:pt x="91" y="111"/>
                      </a:lnTo>
                      <a:lnTo>
                        <a:pt x="77" y="111"/>
                      </a:lnTo>
                      <a:lnTo>
                        <a:pt x="77" y="97"/>
                      </a:lnTo>
                      <a:lnTo>
                        <a:pt x="63" y="116"/>
                      </a:lnTo>
                      <a:lnTo>
                        <a:pt x="14" y="92"/>
                      </a:lnTo>
                      <a:lnTo>
                        <a:pt x="23" y="92"/>
                      </a:lnTo>
                      <a:lnTo>
                        <a:pt x="23" y="77"/>
                      </a:lnTo>
                      <a:lnTo>
                        <a:pt x="19" y="77"/>
                      </a:lnTo>
                      <a:lnTo>
                        <a:pt x="19" y="48"/>
                      </a:lnTo>
                      <a:lnTo>
                        <a:pt x="0" y="48"/>
                      </a:lnTo>
                      <a:lnTo>
                        <a:pt x="0" y="34"/>
                      </a:lnTo>
                      <a:lnTo>
                        <a:pt x="23" y="34"/>
                      </a:lnTo>
                      <a:lnTo>
                        <a:pt x="23" y="23"/>
                      </a:lnTo>
                      <a:lnTo>
                        <a:pt x="67" y="23"/>
                      </a:lnTo>
                      <a:lnTo>
                        <a:pt x="67" y="0"/>
                      </a:lnTo>
                      <a:lnTo>
                        <a:pt x="235" y="0"/>
                      </a:lnTo>
                      <a:lnTo>
                        <a:pt x="235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8" name=""/>
                <p:cNvSpPr/>
                <p:nvPr/>
              </p:nvSpPr>
              <p:spPr>
                <a:xfrm>
                  <a:off x="5456160" y="4919760"/>
                  <a:ext cx="86040" cy="39960"/>
                </a:xfrm>
                <a:custGeom>
                  <a:avLst/>
                  <a:gdLst/>
                  <a:ahLst/>
                  <a:rect l="0" t="0" r="r" b="b"/>
                  <a:pathLst>
                    <a:path fill="none" w="239" h="111">
                      <a:moveTo>
                        <a:pt x="239" y="111"/>
                      </a:moveTo>
                      <a:lnTo>
                        <a:pt x="239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9" name=""/>
                <p:cNvSpPr/>
                <p:nvPr/>
              </p:nvSpPr>
              <p:spPr>
                <a:xfrm>
                  <a:off x="5456160" y="492444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0" name=""/>
                <p:cNvSpPr/>
                <p:nvPr/>
              </p:nvSpPr>
              <p:spPr>
                <a:xfrm>
                  <a:off x="5456160" y="493236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1" name=""/>
                <p:cNvSpPr/>
                <p:nvPr/>
              </p:nvSpPr>
              <p:spPr>
                <a:xfrm>
                  <a:off x="5456160" y="493884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2" name=""/>
                <p:cNvSpPr/>
                <p:nvPr/>
              </p:nvSpPr>
              <p:spPr>
                <a:xfrm>
                  <a:off x="5456160" y="494676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3" name=""/>
                <p:cNvSpPr/>
                <p:nvPr/>
              </p:nvSpPr>
              <p:spPr>
                <a:xfrm>
                  <a:off x="5456160" y="4951440"/>
                  <a:ext cx="85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"/>
                <p:cNvSpPr/>
                <p:nvPr/>
              </p:nvSpPr>
              <p:spPr>
                <a:xfrm>
                  <a:off x="5472000" y="4883040"/>
                  <a:ext cx="3672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102" h="102">
                      <a:moveTo>
                        <a:pt x="102" y="83"/>
                      </a:moveTo>
                      <a:lnTo>
                        <a:pt x="54" y="83"/>
                      </a:lnTo>
                      <a:lnTo>
                        <a:pt x="54" y="102"/>
                      </a:lnTo>
                      <a:lnTo>
                        <a:pt x="14" y="102"/>
                      </a:lnTo>
                      <a:lnTo>
                        <a:pt x="14" y="83"/>
                      </a:lnTo>
                      <a:lnTo>
                        <a:pt x="0" y="83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83"/>
                      </a:lnTo>
                      <a:lnTo>
                        <a:pt x="102" y="83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5483160" y="4883040"/>
                  <a:ext cx="180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5" h="80">
                      <a:moveTo>
                        <a:pt x="0" y="8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80"/>
                      </a:lnTo>
                      <a:lnTo>
                        <a:pt x="0" y="8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5487840" y="4892760"/>
                  <a:ext cx="1800" cy="19440"/>
                </a:xfrm>
                <a:custGeom>
                  <a:avLst/>
                  <a:gdLst/>
                  <a:ahLst/>
                  <a:rect l="0" t="0" r="r" b="b"/>
                  <a:pathLst>
                    <a:path fill="none" w="5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4"/>
                      </a:lnTo>
                      <a:lnTo>
                        <a:pt x="0" y="5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7" name=""/>
                <p:cNvSpPr/>
                <p:nvPr/>
              </p:nvSpPr>
              <p:spPr>
                <a:xfrm>
                  <a:off x="5472000" y="4883040"/>
                  <a:ext cx="36720" cy="28800"/>
                </a:xfrm>
                <a:custGeom>
                  <a:avLst/>
                  <a:gdLst/>
                  <a:ahLst/>
                  <a:rect l="0" t="0" r="r" b="b"/>
                  <a:pathLst>
                    <a:path fill="none" w="102" h="80">
                      <a:moveTo>
                        <a:pt x="102" y="80"/>
                      </a:moveTo>
                      <a:lnTo>
                        <a:pt x="102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"/>
                <p:cNvSpPr/>
                <p:nvPr/>
              </p:nvSpPr>
              <p:spPr>
                <a:xfrm flipH="1" flipV="1">
                  <a:off x="5495760" y="4911840"/>
                  <a:ext cx="9720" cy="7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9" name=""/>
                <p:cNvSpPr/>
                <p:nvPr/>
              </p:nvSpPr>
              <p:spPr>
                <a:xfrm>
                  <a:off x="5443560" y="4915080"/>
                  <a:ext cx="1004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279" h="14">
                      <a:moveTo>
                        <a:pt x="279" y="14"/>
                      </a:moveTo>
                      <a:lnTo>
                        <a:pt x="279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23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0" name=""/>
                <p:cNvSpPr/>
                <p:nvPr/>
              </p:nvSpPr>
              <p:spPr>
                <a:xfrm>
                  <a:off x="5443560" y="4916520"/>
                  <a:ext cx="10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>
                  <a:off x="5475240" y="48769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4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14"/>
                      </a:lnTo>
                      <a:lnTo>
                        <a:pt x="0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2" name=""/>
                <p:cNvSpPr/>
                <p:nvPr/>
              </p:nvSpPr>
              <p:spPr>
                <a:xfrm>
                  <a:off x="5484960" y="487692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58" h="14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8" y="0"/>
                      </a:lnTo>
                      <a:lnTo>
                        <a:pt x="58" y="4"/>
                      </a:lnTo>
                      <a:lnTo>
                        <a:pt x="48" y="4"/>
                      </a:lnTo>
                      <a:lnTo>
                        <a:pt x="48" y="14"/>
                      </a:lnTo>
                      <a:lnTo>
                        <a:pt x="48" y="4"/>
                      </a:lnTo>
                      <a:lnTo>
                        <a:pt x="9" y="4"/>
                      </a:lnTo>
                      <a:lnTo>
                        <a:pt x="9" y="14"/>
                      </a:lnTo>
                      <a:lnTo>
                        <a:pt x="0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>
                  <a:off x="5478480" y="4873680"/>
                  <a:ext cx="11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5483160" y="4792680"/>
                  <a:ext cx="1800" cy="84600"/>
                </a:xfrm>
                <a:custGeom>
                  <a:avLst/>
                  <a:gdLst/>
                  <a:ahLst/>
                  <a:rect l="0" t="0" r="r" b="b"/>
                  <a:pathLst>
                    <a:path fill="none" w="5" h="235">
                      <a:moveTo>
                        <a:pt x="0" y="235"/>
                      </a:moveTo>
                      <a:lnTo>
                        <a:pt x="5" y="0"/>
                      </a:lnTo>
                      <a:lnTo>
                        <a:pt x="5" y="235"/>
                      </a:lnTo>
                      <a:lnTo>
                        <a:pt x="0" y="23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5478480" y="48578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9">
                      <a:moveTo>
                        <a:pt x="19" y="19"/>
                      </a:moveTo>
                      <a:lnTo>
                        <a:pt x="0" y="19"/>
                      </a:lnTo>
                      <a:lnTo>
                        <a:pt x="0" y="9"/>
                      </a:lnTo>
                      <a:lnTo>
                        <a:pt x="19" y="0"/>
                      </a:lnTo>
                      <a:lnTo>
                        <a:pt x="19" y="1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5541840" y="4915080"/>
                  <a:ext cx="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>
                  <a:off x="5533920" y="4915080"/>
                  <a:ext cx="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5527800" y="4915080"/>
                  <a:ext cx="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>
                  <a:off x="5519880" y="4915080"/>
                  <a:ext cx="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0" name=""/>
                <p:cNvSpPr/>
                <p:nvPr/>
              </p:nvSpPr>
              <p:spPr>
                <a:xfrm>
                  <a:off x="5513400" y="4915080"/>
                  <a:ext cx="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>
                  <a:off x="5505480" y="4915080"/>
                  <a:ext cx="0" cy="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>
                  <a:off x="5497560" y="4915080"/>
                  <a:ext cx="0" cy="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>
                  <a:off x="5470560" y="4915080"/>
                  <a:ext cx="0" cy="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4" name=""/>
                <p:cNvSpPr/>
                <p:nvPr/>
              </p:nvSpPr>
              <p:spPr>
                <a:xfrm flipH="1">
                  <a:off x="5454720" y="4915080"/>
                  <a:ext cx="1440" cy="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5" name=""/>
                <p:cNvSpPr/>
                <p:nvPr/>
              </p:nvSpPr>
              <p:spPr>
                <a:xfrm>
                  <a:off x="5448240" y="4915080"/>
                  <a:ext cx="0" cy="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>
                  <a:off x="5464080" y="49039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0" h="10">
                      <a:moveTo>
                        <a:pt x="10" y="5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5459400" y="49039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0" h="10">
                      <a:moveTo>
                        <a:pt x="10" y="0"/>
                      </a:moveTo>
                      <a:lnTo>
                        <a:pt x="10" y="5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5462640" y="4910040"/>
                  <a:ext cx="180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5" h="27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5" y="27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5533920" y="4908600"/>
                  <a:ext cx="828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23" h="5">
                      <a:moveTo>
                        <a:pt x="23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3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5424480" y="4957920"/>
                  <a:ext cx="2088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58" h="32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4" y="23"/>
                      </a:lnTo>
                      <a:lnTo>
                        <a:pt x="14" y="14"/>
                      </a:lnTo>
                      <a:lnTo>
                        <a:pt x="58" y="32"/>
                      </a:lnTo>
                      <a:lnTo>
                        <a:pt x="58" y="9"/>
                      </a:lnTo>
                      <a:lnTo>
                        <a:pt x="14" y="9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>
                  <a:off x="5432400" y="4971960"/>
                  <a:ext cx="12960" cy="22680"/>
                </a:xfrm>
                <a:custGeom>
                  <a:avLst/>
                  <a:gdLst/>
                  <a:ahLst/>
                  <a:rect l="0" t="0" r="r" b="b"/>
                  <a:pathLst>
                    <a:path fill="none" w="36" h="63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54"/>
                      </a:lnTo>
                      <a:lnTo>
                        <a:pt x="31" y="58"/>
                      </a:lnTo>
                      <a:lnTo>
                        <a:pt x="21" y="58"/>
                      </a:lnTo>
                      <a:lnTo>
                        <a:pt x="15" y="63"/>
                      </a:lnTo>
                      <a:lnTo>
                        <a:pt x="0" y="63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2" name=""/>
                <p:cNvSpPr/>
                <p:nvPr/>
              </p:nvSpPr>
              <p:spPr>
                <a:xfrm flipV="1">
                  <a:off x="5432400" y="4937040"/>
                  <a:ext cx="7920" cy="3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>
                  <a:off x="5445000" y="4959360"/>
                  <a:ext cx="360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10" h="36">
                      <a:moveTo>
                        <a:pt x="0" y="36"/>
                      </a:moveTo>
                      <a:lnTo>
                        <a:pt x="0" y="27"/>
                      </a:lnTo>
                      <a:lnTo>
                        <a:pt x="10" y="13"/>
                      </a:lnTo>
                      <a:lnTo>
                        <a:pt x="5" y="13"/>
                      </a:lnTo>
                      <a:lnTo>
                        <a:pt x="5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"/>
                <p:cNvSpPr/>
                <p:nvPr/>
              </p:nvSpPr>
              <p:spPr>
                <a:xfrm>
                  <a:off x="5407200" y="4997520"/>
                  <a:ext cx="2592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72" h="14">
                      <a:moveTo>
                        <a:pt x="67" y="14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67" y="1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5" name=""/>
                <p:cNvSpPr/>
                <p:nvPr/>
              </p:nvSpPr>
              <p:spPr>
                <a:xfrm>
                  <a:off x="5421240" y="49831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0" h="10">
                      <a:moveTo>
                        <a:pt x="10" y="5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0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6" name=""/>
                <p:cNvSpPr/>
                <p:nvPr/>
              </p:nvSpPr>
              <p:spPr>
                <a:xfrm>
                  <a:off x="5416560" y="49831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fill="none" w="10" h="10">
                      <a:moveTo>
                        <a:pt x="10" y="0"/>
                      </a:moveTo>
                      <a:lnTo>
                        <a:pt x="10" y="5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"/>
                <p:cNvSpPr/>
                <p:nvPr/>
              </p:nvSpPr>
              <p:spPr>
                <a:xfrm>
                  <a:off x="5419800" y="4989600"/>
                  <a:ext cx="1800" cy="8280"/>
                </a:xfrm>
                <a:custGeom>
                  <a:avLst/>
                  <a:gdLst/>
                  <a:ahLst/>
                  <a:rect l="0" t="0" r="r" b="b"/>
                  <a:pathLst>
                    <a:path fill="none" w="5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"/>
                <p:cNvSpPr/>
                <p:nvPr/>
              </p:nvSpPr>
              <p:spPr>
                <a:xfrm>
                  <a:off x="5397480" y="4981680"/>
                  <a:ext cx="35280" cy="14760"/>
                </a:xfrm>
                <a:custGeom>
                  <a:avLst/>
                  <a:gdLst/>
                  <a:ahLst/>
                  <a:rect l="0" t="0" r="r" b="b"/>
                  <a:pathLst>
                    <a:path fill="none" w="98" h="41">
                      <a:moveTo>
                        <a:pt x="98" y="41"/>
                      </a:moveTo>
                      <a:lnTo>
                        <a:pt x="0" y="0"/>
                      </a:lnTo>
                      <a:lnTo>
                        <a:pt x="98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9" name=""/>
                <p:cNvSpPr/>
                <p:nvPr/>
              </p:nvSpPr>
              <p:spPr>
                <a:xfrm>
                  <a:off x="5407200" y="4981680"/>
                  <a:ext cx="2592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72" h="27">
                      <a:moveTo>
                        <a:pt x="72" y="0"/>
                      </a:moveTo>
                      <a:lnTo>
                        <a:pt x="43" y="27"/>
                      </a:lnTo>
                      <a:lnTo>
                        <a:pt x="29" y="0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0" name=""/>
                <p:cNvSpPr/>
                <p:nvPr/>
              </p:nvSpPr>
              <p:spPr>
                <a:xfrm>
                  <a:off x="5397480" y="4981680"/>
                  <a:ext cx="0" cy="7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"/>
                <p:cNvSpPr/>
                <p:nvPr/>
              </p:nvSpPr>
              <p:spPr>
                <a:xfrm>
                  <a:off x="5396040" y="499104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5" h="5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"/>
                <p:cNvSpPr/>
                <p:nvPr/>
              </p:nvSpPr>
              <p:spPr>
                <a:xfrm>
                  <a:off x="5396040" y="499428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5" h="5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3" name=""/>
                <p:cNvSpPr/>
                <p:nvPr/>
              </p:nvSpPr>
              <p:spPr>
                <a:xfrm>
                  <a:off x="5407200" y="5008680"/>
                  <a:ext cx="2268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63" h="27">
                      <a:moveTo>
                        <a:pt x="63" y="0"/>
                      </a:moveTo>
                      <a:lnTo>
                        <a:pt x="0" y="27"/>
                      </a:lnTo>
                      <a:lnTo>
                        <a:pt x="63" y="4"/>
                      </a:lnTo>
                      <a:lnTo>
                        <a:pt x="6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4" name=""/>
                <p:cNvSpPr/>
                <p:nvPr/>
              </p:nvSpPr>
              <p:spPr>
                <a:xfrm>
                  <a:off x="5416560" y="4998960"/>
                  <a:ext cx="12960" cy="32040"/>
                </a:xfrm>
                <a:custGeom>
                  <a:avLst/>
                  <a:gdLst/>
                  <a:ahLst/>
                  <a:rect l="0" t="0" r="r" b="b"/>
                  <a:pathLst>
                    <a:path fill="none" w="36" h="89">
                      <a:moveTo>
                        <a:pt x="36" y="79"/>
                      </a:moveTo>
                      <a:lnTo>
                        <a:pt x="0" y="0"/>
                      </a:lnTo>
                      <a:lnTo>
                        <a:pt x="23" y="8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>
                  <a:off x="5432400" y="49212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4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3" y="14"/>
                      </a:lnTo>
                      <a:lnTo>
                        <a:pt x="23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6" name=""/>
                <p:cNvSpPr/>
                <p:nvPr/>
              </p:nvSpPr>
              <p:spPr>
                <a:xfrm>
                  <a:off x="5429160" y="490860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fill="none" w="36" h="23">
                      <a:moveTo>
                        <a:pt x="0" y="12"/>
                      </a:moveTo>
                      <a:lnTo>
                        <a:pt x="36" y="0"/>
                      </a:lnTo>
                      <a:lnTo>
                        <a:pt x="36" y="5"/>
                      </a:lnTo>
                      <a:lnTo>
                        <a:pt x="36" y="17"/>
                      </a:lnTo>
                      <a:lnTo>
                        <a:pt x="36" y="23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0" y="12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 flipV="1">
                  <a:off x="5429160" y="491184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7880" bIns="-47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>
                  <a:off x="5430960" y="4911840"/>
                  <a:ext cx="0" cy="4680"/>
                </a:xfrm>
                <a:custGeom>
                  <a:avLst/>
                  <a:gdLst/>
                  <a:ahLst/>
                  <a:rect l="0" t="0" r="r" b="b"/>
                  <a:pathLst>
                    <a:path fill="none" w="0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3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>
                  <a:off x="5432400" y="4910040"/>
                  <a:ext cx="0" cy="6120"/>
                </a:xfrm>
                <a:custGeom>
                  <a:avLst/>
                  <a:gdLst/>
                  <a:ahLst/>
                  <a:rect l="0" t="0" r="r" b="b"/>
                  <a:pathLst>
                    <a:path fill="none" w="0" h="1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0" name=""/>
                <p:cNvSpPr/>
                <p:nvPr/>
              </p:nvSpPr>
              <p:spPr>
                <a:xfrm>
                  <a:off x="5433840" y="4910040"/>
                  <a:ext cx="0" cy="6120"/>
                </a:xfrm>
                <a:custGeom>
                  <a:avLst/>
                  <a:gdLst/>
                  <a:ahLst/>
                  <a:rect l="0" t="0" r="r" b="b"/>
                  <a:pathLst>
                    <a:path fill="none" w="0" h="1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"/>
                <p:cNvSpPr/>
                <p:nvPr/>
              </p:nvSpPr>
              <p:spPr>
                <a:xfrm>
                  <a:off x="5437080" y="4910040"/>
                  <a:ext cx="0" cy="6120"/>
                </a:xfrm>
                <a:custGeom>
                  <a:avLst/>
                  <a:gdLst/>
                  <a:ahLst/>
                  <a:rect l="0" t="0" r="r" b="b"/>
                  <a:pathLst>
                    <a:path fill="none" w="0" h="1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"/>
                <p:cNvSpPr/>
                <p:nvPr/>
              </p:nvSpPr>
              <p:spPr>
                <a:xfrm>
                  <a:off x="5438880" y="4910040"/>
                  <a:ext cx="180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5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5" y="12"/>
                      </a:lnTo>
                      <a:lnTo>
                        <a:pt x="5" y="19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3" name=""/>
                <p:cNvSpPr/>
                <p:nvPr/>
              </p:nvSpPr>
              <p:spPr>
                <a:xfrm>
                  <a:off x="5437080" y="49179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5" h="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4" name=""/>
                <p:cNvSpPr/>
                <p:nvPr/>
              </p:nvSpPr>
              <p:spPr>
                <a:xfrm>
                  <a:off x="5429160" y="4844880"/>
                  <a:ext cx="1274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354" h="19">
                      <a:moveTo>
                        <a:pt x="0" y="6"/>
                      </a:moveTo>
                      <a:lnTo>
                        <a:pt x="153" y="0"/>
                      </a:lnTo>
                      <a:lnTo>
                        <a:pt x="354" y="6"/>
                      </a:lnTo>
                      <a:lnTo>
                        <a:pt x="177" y="6"/>
                      </a:lnTo>
                      <a:lnTo>
                        <a:pt x="153" y="19"/>
                      </a:lnTo>
                      <a:lnTo>
                        <a:pt x="139" y="6"/>
                      </a:lnTo>
                      <a:lnTo>
                        <a:pt x="0" y="6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"/>
                <p:cNvSpPr/>
                <p:nvPr/>
              </p:nvSpPr>
              <p:spPr>
                <a:xfrm>
                  <a:off x="5429160" y="4815000"/>
                  <a:ext cx="10656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296" h="14">
                      <a:moveTo>
                        <a:pt x="0" y="4"/>
                      </a:moveTo>
                      <a:lnTo>
                        <a:pt x="153" y="0"/>
                      </a:lnTo>
                      <a:lnTo>
                        <a:pt x="296" y="4"/>
                      </a:lnTo>
                      <a:lnTo>
                        <a:pt x="172" y="9"/>
                      </a:lnTo>
                      <a:lnTo>
                        <a:pt x="153" y="14"/>
                      </a:lnTo>
                      <a:lnTo>
                        <a:pt x="138" y="9"/>
                      </a:lnTo>
                      <a:lnTo>
                        <a:pt x="0" y="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>
                  <a:off x="5462640" y="4838760"/>
                  <a:ext cx="3852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107" h="5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07" y="0"/>
                      </a:lnTo>
                      <a:lnTo>
                        <a:pt x="60" y="5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 flipV="1">
                  <a:off x="5462640" y="4792680"/>
                  <a:ext cx="22320" cy="46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"/>
                <p:cNvSpPr/>
                <p:nvPr/>
              </p:nvSpPr>
              <p:spPr>
                <a:xfrm>
                  <a:off x="5481720" y="4792680"/>
                  <a:ext cx="504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14" h="5">
                      <a:moveTo>
                        <a:pt x="9" y="5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9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"/>
                <p:cNvSpPr/>
                <p:nvPr/>
              </p:nvSpPr>
              <p:spPr>
                <a:xfrm>
                  <a:off x="5454720" y="4792680"/>
                  <a:ext cx="6840" cy="24120"/>
                </a:xfrm>
                <a:custGeom>
                  <a:avLst/>
                  <a:gdLst/>
                  <a:ahLst/>
                  <a:rect l="0" t="0" r="r" b="b"/>
                  <a:pathLst>
                    <a:path fill="none" w="19" h="67">
                      <a:moveTo>
                        <a:pt x="12" y="67"/>
                      </a:moveTo>
                      <a:lnTo>
                        <a:pt x="12" y="14"/>
                      </a:ln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6" y="0"/>
                      </a:lnTo>
                      <a:lnTo>
                        <a:pt x="6" y="4"/>
                      </a:lnTo>
                      <a:lnTo>
                        <a:pt x="12" y="9"/>
                      </a:lnTo>
                      <a:lnTo>
                        <a:pt x="12" y="4"/>
                      </a:lnTo>
                      <a:lnTo>
                        <a:pt x="19" y="9"/>
                      </a:lnTo>
                      <a:lnTo>
                        <a:pt x="19" y="14"/>
                      </a:lnTo>
                      <a:lnTo>
                        <a:pt x="12" y="14"/>
                      </a:lnTo>
                      <a:lnTo>
                        <a:pt x="12" y="6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0" name=""/>
                <p:cNvSpPr/>
                <p:nvPr/>
              </p:nvSpPr>
              <p:spPr>
                <a:xfrm>
                  <a:off x="5505480" y="4792680"/>
                  <a:ext cx="6840" cy="24120"/>
                </a:xfrm>
                <a:custGeom>
                  <a:avLst/>
                  <a:gdLst/>
                  <a:ahLst/>
                  <a:rect l="0" t="0" r="r" b="b"/>
                  <a:pathLst>
                    <a:path fill="none" w="19" h="67">
                      <a:moveTo>
                        <a:pt x="9" y="67"/>
                      </a:moveTo>
                      <a:lnTo>
                        <a:pt x="9" y="14"/>
                      </a:lnTo>
                      <a:lnTo>
                        <a:pt x="4" y="9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9" y="4"/>
                      </a:lnTo>
                      <a:lnTo>
                        <a:pt x="15" y="9"/>
                      </a:lnTo>
                      <a:lnTo>
                        <a:pt x="15" y="4"/>
                      </a:lnTo>
                      <a:lnTo>
                        <a:pt x="15" y="9"/>
                      </a:lnTo>
                      <a:lnTo>
                        <a:pt x="19" y="14"/>
                      </a:lnTo>
                      <a:lnTo>
                        <a:pt x="15" y="14"/>
                      </a:lnTo>
                      <a:lnTo>
                        <a:pt x="9" y="14"/>
                      </a:lnTo>
                      <a:lnTo>
                        <a:pt x="9" y="6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>
                  <a:off x="5459400" y="4816440"/>
                  <a:ext cx="49680" cy="19440"/>
                </a:xfrm>
                <a:custGeom>
                  <a:avLst/>
                  <a:gdLst/>
                  <a:ahLst/>
                  <a:rect l="0" t="0" r="r" b="b"/>
                  <a:pathLst>
                    <a:path fill="none" w="138" h="54">
                      <a:moveTo>
                        <a:pt x="138" y="0"/>
                      </a:moveTo>
                      <a:lnTo>
                        <a:pt x="71" y="54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 flipV="1">
                  <a:off x="5491080" y="4748040"/>
                  <a:ext cx="0" cy="8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>
                  <a:off x="5437080" y="4826160"/>
                  <a:ext cx="0" cy="18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>
                  <a:off x="5443560" y="4836960"/>
                  <a:ext cx="0" cy="11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>
                  <a:off x="5545080" y="4822920"/>
                  <a:ext cx="0" cy="25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>
                  <a:off x="5522760" y="4836960"/>
                  <a:ext cx="0" cy="11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>
                  <a:off x="5429160" y="4848120"/>
                  <a:ext cx="19080" cy="8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 flipH="1">
                  <a:off x="5508720" y="4848120"/>
                  <a:ext cx="4752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 flipH="1">
                  <a:off x="5506920" y="4848120"/>
                  <a:ext cx="4284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>
                  <a:off x="5448240" y="4826160"/>
                  <a:ext cx="1944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54" h="27">
                      <a:moveTo>
                        <a:pt x="45" y="27"/>
                      </a:moveTo>
                      <a:lnTo>
                        <a:pt x="54" y="0"/>
                      </a:lnTo>
                      <a:lnTo>
                        <a:pt x="39" y="0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4" y="27"/>
                      </a:lnTo>
                      <a:lnTo>
                        <a:pt x="20" y="27"/>
                      </a:lnTo>
                      <a:lnTo>
                        <a:pt x="4" y="23"/>
                      </a:lnTo>
                      <a:lnTo>
                        <a:pt x="0" y="18"/>
                      </a:lnTo>
                      <a:lnTo>
                        <a:pt x="4" y="0"/>
                      </a:lnTo>
                      <a:lnTo>
                        <a:pt x="15" y="4"/>
                      </a:lnTo>
                      <a:lnTo>
                        <a:pt x="29" y="4"/>
                      </a:lnTo>
                      <a:lnTo>
                        <a:pt x="29" y="14"/>
                      </a:lnTo>
                      <a:lnTo>
                        <a:pt x="45" y="14"/>
                      </a:lnTo>
                      <a:lnTo>
                        <a:pt x="45" y="27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>
                  <a:off x="5418000" y="485136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41" h="19">
                      <a:moveTo>
                        <a:pt x="37" y="4"/>
                      </a:moveTo>
                      <a:lnTo>
                        <a:pt x="27" y="4"/>
                      </a:lnTo>
                      <a:lnTo>
                        <a:pt x="23" y="0"/>
                      </a:lnTo>
                      <a:lnTo>
                        <a:pt x="0" y="9"/>
                      </a:lnTo>
                      <a:lnTo>
                        <a:pt x="18" y="9"/>
                      </a:lnTo>
                      <a:lnTo>
                        <a:pt x="4" y="9"/>
                      </a:lnTo>
                      <a:lnTo>
                        <a:pt x="23" y="4"/>
                      </a:lnTo>
                      <a:lnTo>
                        <a:pt x="27" y="19"/>
                      </a:lnTo>
                      <a:lnTo>
                        <a:pt x="41" y="15"/>
                      </a:lnTo>
                      <a:lnTo>
                        <a:pt x="37" y="4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>
                  <a:off x="5424480" y="48657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fill="none" w="36" h="32">
                      <a:moveTo>
                        <a:pt x="31" y="0"/>
                      </a:moveTo>
                      <a:lnTo>
                        <a:pt x="15" y="0"/>
                      </a:lnTo>
                      <a:lnTo>
                        <a:pt x="15" y="11"/>
                      </a:lnTo>
                      <a:lnTo>
                        <a:pt x="0" y="16"/>
                      </a:lnTo>
                      <a:lnTo>
                        <a:pt x="5" y="21"/>
                      </a:lnTo>
                      <a:lnTo>
                        <a:pt x="5" y="32"/>
                      </a:lnTo>
                      <a:lnTo>
                        <a:pt x="15" y="21"/>
                      </a:lnTo>
                      <a:lnTo>
                        <a:pt x="15" y="16"/>
                      </a:lnTo>
                      <a:lnTo>
                        <a:pt x="36" y="11"/>
                      </a:lnTo>
                      <a:lnTo>
                        <a:pt x="15" y="11"/>
                      </a:lnTo>
                      <a:lnTo>
                        <a:pt x="15" y="5"/>
                      </a:lnTo>
                      <a:lnTo>
                        <a:pt x="3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>
                  <a:off x="5427720" y="48798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32" h="14">
                      <a:moveTo>
                        <a:pt x="32" y="0"/>
                      </a:moveTo>
                      <a:lnTo>
                        <a:pt x="21" y="4"/>
                      </a:lnTo>
                      <a:lnTo>
                        <a:pt x="16" y="0"/>
                      </a:lnTo>
                      <a:lnTo>
                        <a:pt x="0" y="9"/>
                      </a:lnTo>
                      <a:lnTo>
                        <a:pt x="16" y="9"/>
                      </a:lnTo>
                      <a:lnTo>
                        <a:pt x="5" y="9"/>
                      </a:lnTo>
                      <a:lnTo>
                        <a:pt x="16" y="4"/>
                      </a:lnTo>
                      <a:lnTo>
                        <a:pt x="21" y="14"/>
                      </a:lnTo>
                      <a:lnTo>
                        <a:pt x="27" y="14"/>
                      </a:lnTo>
                      <a:lnTo>
                        <a:pt x="32" y="14"/>
                      </a:lnTo>
                      <a:lnTo>
                        <a:pt x="32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>
                  <a:off x="5429160" y="488952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fill="none" w="36" h="27">
                      <a:moveTo>
                        <a:pt x="31" y="0"/>
                      </a:moveTo>
                      <a:lnTo>
                        <a:pt x="15" y="10"/>
                      </a:lnTo>
                      <a:lnTo>
                        <a:pt x="0" y="16"/>
                      </a:lnTo>
                      <a:lnTo>
                        <a:pt x="5" y="27"/>
                      </a:lnTo>
                      <a:lnTo>
                        <a:pt x="21" y="22"/>
                      </a:lnTo>
                      <a:lnTo>
                        <a:pt x="26" y="16"/>
                      </a:lnTo>
                      <a:lnTo>
                        <a:pt x="36" y="16"/>
                      </a:lnTo>
                      <a:lnTo>
                        <a:pt x="21" y="16"/>
                      </a:lnTo>
                      <a:lnTo>
                        <a:pt x="21" y="10"/>
                      </a:lnTo>
                      <a:lnTo>
                        <a:pt x="3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>
                  <a:off x="5459400" y="4834080"/>
                  <a:ext cx="5040" cy="1800"/>
                </a:xfrm>
                <a:custGeom>
                  <a:avLst/>
                  <a:gdLst/>
                  <a:ahLst/>
                  <a:rect l="0" t="0" r="r" b="b"/>
                  <a:pathLst>
                    <a:path fill="none" w="14" h="5">
                      <a:moveTo>
                        <a:pt x="0" y="5"/>
                      </a:moveTo>
                      <a:lnTo>
                        <a:pt x="9" y="0"/>
                      </a:lnTo>
                      <a:lnTo>
                        <a:pt x="14" y="5"/>
                      </a:lnTo>
                      <a:lnTo>
                        <a:pt x="4" y="5"/>
                      </a:lnTo>
                      <a:lnTo>
                        <a:pt x="0" y="5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>
                  <a:off x="5442120" y="48546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19" h="19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9" y="19"/>
                      </a:lnTo>
                      <a:lnTo>
                        <a:pt x="19" y="15"/>
                      </a:lnTo>
                      <a:lnTo>
                        <a:pt x="19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>
                  <a:off x="5529240" y="485604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41" h="14">
                      <a:moveTo>
                        <a:pt x="41" y="0"/>
                      </a:moveTo>
                      <a:lnTo>
                        <a:pt x="27" y="0"/>
                      </a:lnTo>
                      <a:lnTo>
                        <a:pt x="23" y="9"/>
                      </a:lnTo>
                      <a:lnTo>
                        <a:pt x="14" y="9"/>
                      </a:lnTo>
                      <a:lnTo>
                        <a:pt x="0" y="14"/>
                      </a:lnTo>
                      <a:lnTo>
                        <a:pt x="18" y="14"/>
                      </a:lnTo>
                      <a:lnTo>
                        <a:pt x="23" y="14"/>
                      </a:lnTo>
                      <a:lnTo>
                        <a:pt x="27" y="9"/>
                      </a:lnTo>
                      <a:lnTo>
                        <a:pt x="32" y="14"/>
                      </a:lnTo>
                      <a:lnTo>
                        <a:pt x="27" y="4"/>
                      </a:lnTo>
                      <a:lnTo>
                        <a:pt x="4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>
                  <a:off x="5532480" y="48657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27" h="19">
                      <a:moveTo>
                        <a:pt x="27" y="0"/>
                      </a:moveTo>
                      <a:lnTo>
                        <a:pt x="14" y="0"/>
                      </a:lnTo>
                      <a:lnTo>
                        <a:pt x="4" y="6"/>
                      </a:lnTo>
                      <a:lnTo>
                        <a:pt x="0" y="12"/>
                      </a:lnTo>
                      <a:lnTo>
                        <a:pt x="8" y="19"/>
                      </a:lnTo>
                      <a:lnTo>
                        <a:pt x="18" y="12"/>
                      </a:lnTo>
                      <a:lnTo>
                        <a:pt x="18" y="19"/>
                      </a:lnTo>
                      <a:lnTo>
                        <a:pt x="27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>
                  <a:off x="5519880" y="48736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41" h="14">
                      <a:moveTo>
                        <a:pt x="41" y="0"/>
                      </a:move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20" y="14"/>
                      </a:lnTo>
                      <a:lnTo>
                        <a:pt x="25" y="14"/>
                      </a:lnTo>
                      <a:lnTo>
                        <a:pt x="30" y="14"/>
                      </a:lnTo>
                      <a:lnTo>
                        <a:pt x="25" y="9"/>
                      </a:lnTo>
                      <a:lnTo>
                        <a:pt x="30" y="0"/>
                      </a:lnTo>
                      <a:lnTo>
                        <a:pt x="4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>
                  <a:off x="5518080" y="487980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45" h="14">
                      <a:moveTo>
                        <a:pt x="45" y="0"/>
                      </a:moveTo>
                      <a:lnTo>
                        <a:pt x="30" y="0"/>
                      </a:lnTo>
                      <a:lnTo>
                        <a:pt x="25" y="4"/>
                      </a:lnTo>
                      <a:lnTo>
                        <a:pt x="9" y="4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5" y="9"/>
                      </a:lnTo>
                      <a:lnTo>
                        <a:pt x="35" y="14"/>
                      </a:lnTo>
                      <a:lnTo>
                        <a:pt x="45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>
                  <a:off x="5511960" y="488628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fill="none" w="41" h="19">
                      <a:moveTo>
                        <a:pt x="41" y="0"/>
                      </a:moveTo>
                      <a:lnTo>
                        <a:pt x="30" y="0"/>
                      </a:lnTo>
                      <a:lnTo>
                        <a:pt x="25" y="6"/>
                      </a:lnTo>
                      <a:lnTo>
                        <a:pt x="0" y="12"/>
                      </a:lnTo>
                      <a:lnTo>
                        <a:pt x="20" y="19"/>
                      </a:lnTo>
                      <a:lnTo>
                        <a:pt x="30" y="19"/>
                      </a:lnTo>
                      <a:lnTo>
                        <a:pt x="25" y="19"/>
                      </a:lnTo>
                      <a:lnTo>
                        <a:pt x="30" y="6"/>
                      </a:lnTo>
                      <a:lnTo>
                        <a:pt x="41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>
                  <a:off x="5514840" y="48942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fill="none" w="23" h="14">
                      <a:moveTo>
                        <a:pt x="23" y="0"/>
                      </a:moveTo>
                      <a:lnTo>
                        <a:pt x="14" y="0"/>
                      </a:lnTo>
                      <a:lnTo>
                        <a:pt x="8" y="4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4" y="14"/>
                      </a:lnTo>
                      <a:lnTo>
                        <a:pt x="14" y="9"/>
                      </a:lnTo>
                      <a:lnTo>
                        <a:pt x="14" y="14"/>
                      </a:lnTo>
                      <a:lnTo>
                        <a:pt x="23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46720" y="4738680"/>
                <a:ext cx="109872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74" name=""/>
            <p:cNvSpPr txBox="1"/>
            <p:nvPr/>
          </p:nvSpPr>
          <p:spPr>
            <a:xfrm>
              <a:off x="1587600" y="5838840"/>
              <a:ext cx="10382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Sour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5" name="" descr=""/>
            <p:cNvPicPr/>
            <p:nvPr/>
          </p:nvPicPr>
          <p:blipFill>
            <a:blip r:embed="rId4"/>
            <a:stretch/>
          </p:blipFill>
          <p:spPr>
            <a:xfrm>
              <a:off x="3876840" y="4473720"/>
              <a:ext cx="6206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6" name="" descr=""/>
            <p:cNvPicPr/>
            <p:nvPr/>
          </p:nvPicPr>
          <p:blipFill>
            <a:blip r:embed="rId5"/>
            <a:stretch/>
          </p:blipFill>
          <p:spPr>
            <a:xfrm>
              <a:off x="449280" y="5796000"/>
              <a:ext cx="933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7" name=""/>
            <p:cNvSpPr/>
            <p:nvPr/>
          </p:nvSpPr>
          <p:spPr>
            <a:xfrm>
              <a:off x="1143000" y="414972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8" name="" descr=""/>
            <p:cNvPicPr/>
            <p:nvPr/>
          </p:nvPicPr>
          <p:blipFill>
            <a:blip r:embed="rId6"/>
            <a:stretch/>
          </p:blipFill>
          <p:spPr>
            <a:xfrm>
              <a:off x="1689120" y="3759120"/>
              <a:ext cx="436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9" name="" descr=""/>
            <p:cNvPicPr/>
            <p:nvPr/>
          </p:nvPicPr>
          <p:blipFill>
            <a:blip r:embed="rId7"/>
            <a:stretch/>
          </p:blipFill>
          <p:spPr>
            <a:xfrm>
              <a:off x="262080" y="3768840"/>
              <a:ext cx="933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0" name=""/>
            <p:cNvSpPr txBox="1"/>
            <p:nvPr/>
          </p:nvSpPr>
          <p:spPr>
            <a:xfrm>
              <a:off x="806400" y="6303960"/>
              <a:ext cx="2192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1" name=""/>
            <p:cNvGrpSpPr/>
            <p:nvPr/>
          </p:nvGrpSpPr>
          <p:grpSpPr>
            <a:xfrm>
              <a:off x="1735200" y="5338800"/>
              <a:ext cx="843480" cy="432360"/>
              <a:chOff x="1735200" y="5338800"/>
              <a:chExt cx="843480" cy="432360"/>
            </a:xfrm>
          </p:grpSpPr>
          <p:sp>
            <p:nvSpPr>
              <p:cNvPr id="5882" name=""/>
              <p:cNvSpPr/>
              <p:nvPr/>
            </p:nvSpPr>
            <p:spPr>
              <a:xfrm>
                <a:off x="1735200" y="5675400"/>
                <a:ext cx="759240" cy="92520"/>
              </a:xfrm>
              <a:custGeom>
                <a:avLst/>
                <a:gdLst/>
                <a:ahLst/>
                <a:rect l="0" t="0" r="r" b="b"/>
                <a:pathLst>
                  <a:path fill="none" w="2109" h="257">
                    <a:moveTo>
                      <a:pt x="1002" y="160"/>
                    </a:moveTo>
                    <a:lnTo>
                      <a:pt x="66" y="0"/>
                    </a:lnTo>
                    <a:lnTo>
                      <a:pt x="0" y="0"/>
                    </a:lnTo>
                    <a:lnTo>
                      <a:pt x="1002" y="257"/>
                    </a:lnTo>
                    <a:lnTo>
                      <a:pt x="2109" y="58"/>
                    </a:lnTo>
                    <a:lnTo>
                      <a:pt x="1932" y="38"/>
                    </a:lnTo>
                    <a:lnTo>
                      <a:pt x="1002" y="160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2098800" y="5429160"/>
                <a:ext cx="479880" cy="249480"/>
              </a:xfrm>
              <a:custGeom>
                <a:avLst/>
                <a:gdLst/>
                <a:ahLst/>
                <a:rect l="0" t="0" r="r" b="b"/>
                <a:pathLst>
                  <a:path fill="none" w="1333" h="693">
                    <a:moveTo>
                      <a:pt x="0" y="0"/>
                    </a:moveTo>
                    <a:lnTo>
                      <a:pt x="951" y="217"/>
                    </a:lnTo>
                    <a:lnTo>
                      <a:pt x="951" y="448"/>
                    </a:lnTo>
                    <a:lnTo>
                      <a:pt x="1333" y="487"/>
                    </a:lnTo>
                    <a:lnTo>
                      <a:pt x="1333" y="606"/>
                    </a:lnTo>
                    <a:lnTo>
                      <a:pt x="0" y="693"/>
                    </a:lnTo>
                    <a:lnTo>
                      <a:pt x="0" y="0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749600" y="5427720"/>
                <a:ext cx="346320" cy="235440"/>
              </a:xfrm>
              <a:custGeom>
                <a:avLst/>
                <a:gdLst/>
                <a:ahLst/>
                <a:rect l="0" t="0" r="r" b="b"/>
                <a:pathLst>
                  <a:path fill="none" w="962" h="654">
                    <a:moveTo>
                      <a:pt x="0" y="275"/>
                    </a:moveTo>
                    <a:lnTo>
                      <a:pt x="962" y="0"/>
                    </a:lnTo>
                    <a:lnTo>
                      <a:pt x="962" y="654"/>
                    </a:lnTo>
                    <a:lnTo>
                      <a:pt x="0" y="595"/>
                    </a:lnTo>
                    <a:lnTo>
                      <a:pt x="0" y="275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757520" y="5645160"/>
                <a:ext cx="673560" cy="87840"/>
              </a:xfrm>
              <a:custGeom>
                <a:avLst/>
                <a:gdLst/>
                <a:ahLst/>
                <a:rect l="0" t="0" r="r" b="b"/>
                <a:pathLst>
                  <a:path fill="none" w="1871" h="244">
                    <a:moveTo>
                      <a:pt x="0" y="0"/>
                    </a:moveTo>
                    <a:lnTo>
                      <a:pt x="940" y="55"/>
                    </a:lnTo>
                    <a:lnTo>
                      <a:pt x="1871" y="22"/>
                    </a:lnTo>
                    <a:lnTo>
                      <a:pt x="1871" y="135"/>
                    </a:lnTo>
                    <a:lnTo>
                      <a:pt x="940" y="244"/>
                    </a:lnTo>
                    <a:lnTo>
                      <a:pt x="0" y="81"/>
                    </a:lnTo>
                    <a:lnTo>
                      <a:pt x="0" y="0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2495520" y="5629320"/>
                <a:ext cx="33840" cy="24120"/>
              </a:xfrm>
              <a:custGeom>
                <a:avLst/>
                <a:gdLst/>
                <a:ahLst/>
                <a:rect l="0" t="0" r="r" b="b"/>
                <a:pathLst>
                  <a:path fill="none" w="94" h="67">
                    <a:moveTo>
                      <a:pt x="0" y="67"/>
                    </a:moveTo>
                    <a:lnTo>
                      <a:pt x="94" y="60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67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2249640" y="5657760"/>
                <a:ext cx="81360" cy="59040"/>
              </a:xfrm>
              <a:custGeom>
                <a:avLst/>
                <a:gdLst/>
                <a:ahLst/>
                <a:rect l="0" t="0" r="r" b="b"/>
                <a:pathLst>
                  <a:path fill="none" w="226" h="164">
                    <a:moveTo>
                      <a:pt x="0" y="164"/>
                    </a:moveTo>
                    <a:lnTo>
                      <a:pt x="226" y="136"/>
                    </a:lnTo>
                    <a:lnTo>
                      <a:pt x="226" y="0"/>
                    </a:lnTo>
                    <a:lnTo>
                      <a:pt x="0" y="10"/>
                    </a:lnTo>
                    <a:lnTo>
                      <a:pt x="0" y="164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862280" y="5656320"/>
                <a:ext cx="81360" cy="52920"/>
              </a:xfrm>
              <a:custGeom>
                <a:avLst/>
                <a:gdLst/>
                <a:ahLst/>
                <a:rect l="0" t="0" r="r" b="b"/>
                <a:pathLst>
                  <a:path fill="none" w="226" h="147">
                    <a:moveTo>
                      <a:pt x="0" y="106"/>
                    </a:moveTo>
                    <a:lnTo>
                      <a:pt x="0" y="0"/>
                    </a:lnTo>
                    <a:lnTo>
                      <a:pt x="226" y="14"/>
                    </a:lnTo>
                    <a:lnTo>
                      <a:pt x="226" y="147"/>
                    </a:lnTo>
                    <a:lnTo>
                      <a:pt x="0" y="106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749600" y="5427720"/>
                <a:ext cx="692640" cy="238320"/>
              </a:xfrm>
              <a:custGeom>
                <a:avLst/>
                <a:gdLst/>
                <a:ahLst/>
                <a:rect l="0" t="0" r="r" b="b"/>
                <a:pathLst>
                  <a:path fill="none" w="1924" h="662">
                    <a:moveTo>
                      <a:pt x="0" y="278"/>
                    </a:moveTo>
                    <a:lnTo>
                      <a:pt x="964" y="0"/>
                    </a:lnTo>
                    <a:lnTo>
                      <a:pt x="1924" y="220"/>
                    </a:lnTo>
                    <a:lnTo>
                      <a:pt x="1924" y="623"/>
                    </a:lnTo>
                    <a:lnTo>
                      <a:pt x="964" y="662"/>
                    </a:lnTo>
                    <a:lnTo>
                      <a:pt x="0" y="602"/>
                    </a:lnTo>
                    <a:lnTo>
                      <a:pt x="0" y="27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757520" y="5645160"/>
                <a:ext cx="675000" cy="92520"/>
              </a:xfrm>
              <a:custGeom>
                <a:avLst/>
                <a:gdLst/>
                <a:ahLst/>
                <a:rect l="0" t="0" r="r" b="b"/>
                <a:pathLst>
                  <a:path fill="none" w="1875" h="257">
                    <a:moveTo>
                      <a:pt x="0" y="0"/>
                    </a:moveTo>
                    <a:lnTo>
                      <a:pt x="0" y="86"/>
                    </a:lnTo>
                    <a:lnTo>
                      <a:pt x="941" y="257"/>
                    </a:lnTo>
                    <a:lnTo>
                      <a:pt x="1875" y="140"/>
                    </a:lnTo>
                    <a:lnTo>
                      <a:pt x="1875" y="1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 flipV="1">
                <a:off x="2097000" y="5338800"/>
                <a:ext cx="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863720" y="56516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882800" y="565164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901880" y="565308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1924200" y="565452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1946160" y="565632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2249640" y="5657760"/>
                <a:ext cx="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2273400" y="5656320"/>
                <a:ext cx="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2295360" y="565632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2313000" y="5656320"/>
                <a:ext cx="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2332080" y="565632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1982880" y="5343480"/>
                <a:ext cx="114840" cy="78120"/>
              </a:xfrm>
              <a:custGeom>
                <a:avLst/>
                <a:gdLst/>
                <a:ahLst/>
                <a:rect l="0" t="0" r="r" b="b"/>
                <a:pathLst>
                  <a:path fill="none" w="319" h="217">
                    <a:moveTo>
                      <a:pt x="319" y="0"/>
                    </a:moveTo>
                    <a:lnTo>
                      <a:pt x="187" y="42"/>
                    </a:lnTo>
                    <a:lnTo>
                      <a:pt x="173" y="115"/>
                    </a:lnTo>
                    <a:lnTo>
                      <a:pt x="0" y="217"/>
                    </a:lnTo>
                    <a:lnTo>
                      <a:pt x="156" y="189"/>
                    </a:lnTo>
                    <a:lnTo>
                      <a:pt x="163" y="164"/>
                    </a:lnTo>
                    <a:lnTo>
                      <a:pt x="319" y="125"/>
                    </a:lnTo>
                    <a:lnTo>
                      <a:pt x="319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2495520" y="5627520"/>
                <a:ext cx="36720" cy="27360"/>
              </a:xfrm>
              <a:custGeom>
                <a:avLst/>
                <a:gdLst/>
                <a:ahLst/>
                <a:rect l="0" t="0" r="r" b="b"/>
                <a:pathLst>
                  <a:path fill="none" w="102" h="76">
                    <a:moveTo>
                      <a:pt x="0" y="76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6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 flipV="1">
                <a:off x="2506680" y="562932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2514600" y="562932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2522520" y="562932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2116080" y="5460840"/>
                <a:ext cx="63720" cy="184680"/>
              </a:xfrm>
              <a:custGeom>
                <a:avLst/>
                <a:gdLst/>
                <a:ahLst/>
                <a:rect l="0" t="0" r="r" b="b"/>
                <a:pathLst>
                  <a:path fill="none" w="177" h="513">
                    <a:moveTo>
                      <a:pt x="168" y="509"/>
                    </a:moveTo>
                    <a:lnTo>
                      <a:pt x="0" y="512"/>
                    </a:lnTo>
                    <a:lnTo>
                      <a:pt x="0" y="513"/>
                    </a:lnTo>
                    <a:lnTo>
                      <a:pt x="177" y="511"/>
                    </a:lnTo>
                    <a:lnTo>
                      <a:pt x="177" y="111"/>
                    </a:lnTo>
                    <a:lnTo>
                      <a:pt x="176" y="100"/>
                    </a:lnTo>
                    <a:lnTo>
                      <a:pt x="174" y="87"/>
                    </a:lnTo>
                    <a:lnTo>
                      <a:pt x="172" y="79"/>
                    </a:lnTo>
                    <a:lnTo>
                      <a:pt x="170" y="68"/>
                    </a:lnTo>
                    <a:lnTo>
                      <a:pt x="166" y="57"/>
                    </a:lnTo>
                    <a:lnTo>
                      <a:pt x="161" y="49"/>
                    </a:lnTo>
                    <a:lnTo>
                      <a:pt x="154" y="37"/>
                    </a:lnTo>
                    <a:lnTo>
                      <a:pt x="147" y="27"/>
                    </a:lnTo>
                    <a:lnTo>
                      <a:pt x="140" y="20"/>
                    </a:lnTo>
                    <a:lnTo>
                      <a:pt x="131" y="13"/>
                    </a:lnTo>
                    <a:lnTo>
                      <a:pt x="120" y="7"/>
                    </a:lnTo>
                    <a:lnTo>
                      <a:pt x="111" y="4"/>
                    </a:lnTo>
                    <a:lnTo>
                      <a:pt x="100" y="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68" y="1"/>
                    </a:lnTo>
                    <a:lnTo>
                      <a:pt x="56" y="7"/>
                    </a:lnTo>
                    <a:lnTo>
                      <a:pt x="45" y="14"/>
                    </a:lnTo>
                    <a:lnTo>
                      <a:pt x="37" y="20"/>
                    </a:lnTo>
                    <a:lnTo>
                      <a:pt x="30" y="26"/>
                    </a:lnTo>
                    <a:lnTo>
                      <a:pt x="24" y="35"/>
                    </a:lnTo>
                    <a:lnTo>
                      <a:pt x="32" y="25"/>
                    </a:lnTo>
                    <a:lnTo>
                      <a:pt x="39" y="20"/>
                    </a:lnTo>
                    <a:lnTo>
                      <a:pt x="46" y="14"/>
                    </a:lnTo>
                    <a:lnTo>
                      <a:pt x="57" y="8"/>
                    </a:lnTo>
                    <a:lnTo>
                      <a:pt x="65" y="5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93" y="1"/>
                    </a:lnTo>
                    <a:lnTo>
                      <a:pt x="102" y="4"/>
                    </a:lnTo>
                    <a:lnTo>
                      <a:pt x="110" y="6"/>
                    </a:lnTo>
                    <a:lnTo>
                      <a:pt x="119" y="12"/>
                    </a:lnTo>
                    <a:lnTo>
                      <a:pt x="131" y="20"/>
                    </a:lnTo>
                    <a:lnTo>
                      <a:pt x="139" y="27"/>
                    </a:lnTo>
                    <a:lnTo>
                      <a:pt x="147" y="37"/>
                    </a:lnTo>
                    <a:lnTo>
                      <a:pt x="151" y="44"/>
                    </a:lnTo>
                    <a:lnTo>
                      <a:pt x="157" y="53"/>
                    </a:lnTo>
                    <a:lnTo>
                      <a:pt x="161" y="64"/>
                    </a:lnTo>
                    <a:lnTo>
                      <a:pt x="165" y="76"/>
                    </a:lnTo>
                    <a:lnTo>
                      <a:pt x="166" y="90"/>
                    </a:lnTo>
                    <a:lnTo>
                      <a:pt x="168" y="103"/>
                    </a:lnTo>
                    <a:lnTo>
                      <a:pt x="168" y="107"/>
                    </a:lnTo>
                    <a:lnTo>
                      <a:pt x="168" y="50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2190600" y="5477040"/>
                <a:ext cx="60840" cy="168480"/>
              </a:xfrm>
              <a:custGeom>
                <a:avLst/>
                <a:gdLst/>
                <a:ahLst/>
                <a:rect l="0" t="0" r="r" b="b"/>
                <a:pathLst>
                  <a:path fill="none" w="169" h="468">
                    <a:moveTo>
                      <a:pt x="160" y="463"/>
                    </a:moveTo>
                    <a:lnTo>
                      <a:pt x="0" y="466"/>
                    </a:lnTo>
                    <a:lnTo>
                      <a:pt x="0" y="468"/>
                    </a:lnTo>
                    <a:lnTo>
                      <a:pt x="169" y="466"/>
                    </a:lnTo>
                    <a:lnTo>
                      <a:pt x="168" y="102"/>
                    </a:lnTo>
                    <a:lnTo>
                      <a:pt x="167" y="92"/>
                    </a:lnTo>
                    <a:lnTo>
                      <a:pt x="165" y="81"/>
                    </a:lnTo>
                    <a:lnTo>
                      <a:pt x="164" y="72"/>
                    </a:lnTo>
                    <a:lnTo>
                      <a:pt x="162" y="62"/>
                    </a:lnTo>
                    <a:lnTo>
                      <a:pt x="158" y="53"/>
                    </a:lnTo>
                    <a:lnTo>
                      <a:pt x="154" y="45"/>
                    </a:lnTo>
                    <a:lnTo>
                      <a:pt x="148" y="35"/>
                    </a:lnTo>
                    <a:lnTo>
                      <a:pt x="141" y="25"/>
                    </a:lnTo>
                    <a:lnTo>
                      <a:pt x="133" y="18"/>
                    </a:lnTo>
                    <a:lnTo>
                      <a:pt x="124" y="12"/>
                    </a:lnTo>
                    <a:lnTo>
                      <a:pt x="114" y="7"/>
                    </a:lnTo>
                    <a:lnTo>
                      <a:pt x="105" y="3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6" y="2"/>
                    </a:lnTo>
                    <a:lnTo>
                      <a:pt x="55" y="8"/>
                    </a:lnTo>
                    <a:lnTo>
                      <a:pt x="44" y="13"/>
                    </a:lnTo>
                    <a:lnTo>
                      <a:pt x="35" y="18"/>
                    </a:lnTo>
                    <a:lnTo>
                      <a:pt x="29" y="24"/>
                    </a:lnTo>
                    <a:lnTo>
                      <a:pt x="23" y="32"/>
                    </a:lnTo>
                    <a:lnTo>
                      <a:pt x="31" y="24"/>
                    </a:lnTo>
                    <a:lnTo>
                      <a:pt x="37" y="18"/>
                    </a:lnTo>
                    <a:lnTo>
                      <a:pt x="46" y="13"/>
                    </a:lnTo>
                    <a:lnTo>
                      <a:pt x="55" y="8"/>
                    </a:lnTo>
                    <a:lnTo>
                      <a:pt x="62" y="5"/>
                    </a:lnTo>
                    <a:lnTo>
                      <a:pt x="71" y="2"/>
                    </a:lnTo>
                    <a:lnTo>
                      <a:pt x="78" y="1"/>
                    </a:lnTo>
                    <a:lnTo>
                      <a:pt x="87" y="1"/>
                    </a:lnTo>
                    <a:lnTo>
                      <a:pt x="97" y="3"/>
                    </a:lnTo>
                    <a:lnTo>
                      <a:pt x="105" y="5"/>
                    </a:lnTo>
                    <a:lnTo>
                      <a:pt x="112" y="11"/>
                    </a:lnTo>
                    <a:lnTo>
                      <a:pt x="123" y="18"/>
                    </a:lnTo>
                    <a:lnTo>
                      <a:pt x="133" y="25"/>
                    </a:lnTo>
                    <a:lnTo>
                      <a:pt x="140" y="34"/>
                    </a:lnTo>
                    <a:lnTo>
                      <a:pt x="145" y="41"/>
                    </a:lnTo>
                    <a:lnTo>
                      <a:pt x="149" y="49"/>
                    </a:lnTo>
                    <a:lnTo>
                      <a:pt x="154" y="59"/>
                    </a:lnTo>
                    <a:lnTo>
                      <a:pt x="156" y="68"/>
                    </a:lnTo>
                    <a:lnTo>
                      <a:pt x="159" y="82"/>
                    </a:lnTo>
                    <a:lnTo>
                      <a:pt x="160" y="94"/>
                    </a:lnTo>
                    <a:lnTo>
                      <a:pt x="160" y="98"/>
                    </a:lnTo>
                    <a:lnTo>
                      <a:pt x="160" y="46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2260440" y="5489640"/>
                <a:ext cx="52920" cy="154440"/>
              </a:xfrm>
              <a:custGeom>
                <a:avLst/>
                <a:gdLst/>
                <a:ahLst/>
                <a:rect l="0" t="0" r="r" b="b"/>
                <a:pathLst>
                  <a:path fill="none" w="147" h="429">
                    <a:moveTo>
                      <a:pt x="139" y="428"/>
                    </a:moveTo>
                    <a:lnTo>
                      <a:pt x="0" y="429"/>
                    </a:lnTo>
                    <a:lnTo>
                      <a:pt x="147" y="429"/>
                    </a:lnTo>
                    <a:lnTo>
                      <a:pt x="147" y="93"/>
                    </a:lnTo>
                    <a:lnTo>
                      <a:pt x="147" y="84"/>
                    </a:lnTo>
                    <a:lnTo>
                      <a:pt x="146" y="73"/>
                    </a:lnTo>
                    <a:lnTo>
                      <a:pt x="143" y="66"/>
                    </a:lnTo>
                    <a:lnTo>
                      <a:pt x="141" y="56"/>
                    </a:lnTo>
                    <a:lnTo>
                      <a:pt x="137" y="48"/>
                    </a:lnTo>
                    <a:lnTo>
                      <a:pt x="134" y="40"/>
                    </a:lnTo>
                    <a:lnTo>
                      <a:pt x="129" y="31"/>
                    </a:lnTo>
                    <a:lnTo>
                      <a:pt x="122" y="22"/>
                    </a:lnTo>
                    <a:lnTo>
                      <a:pt x="116" y="17"/>
                    </a:lnTo>
                    <a:lnTo>
                      <a:pt x="107" y="11"/>
                    </a:lnTo>
                    <a:lnTo>
                      <a:pt x="100" y="5"/>
                    </a:lnTo>
                    <a:lnTo>
                      <a:pt x="91" y="3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67" y="0"/>
                    </a:lnTo>
                    <a:lnTo>
                      <a:pt x="56" y="1"/>
                    </a:lnTo>
                    <a:lnTo>
                      <a:pt x="48" y="5"/>
                    </a:lnTo>
                    <a:lnTo>
                      <a:pt x="38" y="11"/>
                    </a:lnTo>
                    <a:lnTo>
                      <a:pt x="31" y="17"/>
                    </a:lnTo>
                    <a:lnTo>
                      <a:pt x="25" y="22"/>
                    </a:lnTo>
                    <a:lnTo>
                      <a:pt x="19" y="29"/>
                    </a:lnTo>
                    <a:lnTo>
                      <a:pt x="26" y="21"/>
                    </a:lnTo>
                    <a:lnTo>
                      <a:pt x="32" y="16"/>
                    </a:lnTo>
                    <a:lnTo>
                      <a:pt x="40" y="11"/>
                    </a:lnTo>
                    <a:lnTo>
                      <a:pt x="48" y="7"/>
                    </a:lnTo>
                    <a:lnTo>
                      <a:pt x="54" y="3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5" y="3"/>
                    </a:lnTo>
                    <a:lnTo>
                      <a:pt x="90" y="5"/>
                    </a:lnTo>
                    <a:lnTo>
                      <a:pt x="98" y="9"/>
                    </a:lnTo>
                    <a:lnTo>
                      <a:pt x="107" y="16"/>
                    </a:lnTo>
                    <a:lnTo>
                      <a:pt x="116" y="22"/>
                    </a:lnTo>
                    <a:lnTo>
                      <a:pt x="122" y="30"/>
                    </a:lnTo>
                    <a:lnTo>
                      <a:pt x="125" y="37"/>
                    </a:lnTo>
                    <a:lnTo>
                      <a:pt x="130" y="43"/>
                    </a:lnTo>
                    <a:lnTo>
                      <a:pt x="134" y="54"/>
                    </a:lnTo>
                    <a:lnTo>
                      <a:pt x="137" y="63"/>
                    </a:lnTo>
                    <a:lnTo>
                      <a:pt x="139" y="75"/>
                    </a:lnTo>
                    <a:lnTo>
                      <a:pt x="139" y="86"/>
                    </a:lnTo>
                    <a:lnTo>
                      <a:pt x="139" y="89"/>
                    </a:lnTo>
                    <a:lnTo>
                      <a:pt x="139" y="42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2322360" y="5502240"/>
                <a:ext cx="51120" cy="141480"/>
              </a:xfrm>
              <a:custGeom>
                <a:avLst/>
                <a:gdLst/>
                <a:ahLst/>
                <a:rect l="0" t="0" r="r" b="b"/>
                <a:pathLst>
                  <a:path fill="none" w="142" h="393">
                    <a:moveTo>
                      <a:pt x="134" y="390"/>
                    </a:moveTo>
                    <a:lnTo>
                      <a:pt x="0" y="392"/>
                    </a:lnTo>
                    <a:lnTo>
                      <a:pt x="0" y="393"/>
                    </a:lnTo>
                    <a:lnTo>
                      <a:pt x="142" y="392"/>
                    </a:lnTo>
                    <a:lnTo>
                      <a:pt x="140" y="85"/>
                    </a:lnTo>
                    <a:lnTo>
                      <a:pt x="140" y="76"/>
                    </a:lnTo>
                    <a:lnTo>
                      <a:pt x="140" y="67"/>
                    </a:lnTo>
                    <a:lnTo>
                      <a:pt x="138" y="60"/>
                    </a:lnTo>
                    <a:lnTo>
                      <a:pt x="136" y="52"/>
                    </a:lnTo>
                    <a:lnTo>
                      <a:pt x="132" y="44"/>
                    </a:lnTo>
                    <a:lnTo>
                      <a:pt x="128" y="37"/>
                    </a:lnTo>
                    <a:lnTo>
                      <a:pt x="123" y="28"/>
                    </a:lnTo>
                    <a:lnTo>
                      <a:pt x="118" y="21"/>
                    </a:lnTo>
                    <a:lnTo>
                      <a:pt x="112" y="14"/>
                    </a:lnTo>
                    <a:lnTo>
                      <a:pt x="103" y="10"/>
                    </a:lnTo>
                    <a:lnTo>
                      <a:pt x="95" y="5"/>
                    </a:lnTo>
                    <a:lnTo>
                      <a:pt x="87" y="2"/>
                    </a:lnTo>
                    <a:lnTo>
                      <a:pt x="80" y="0"/>
                    </a:lnTo>
                    <a:lnTo>
                      <a:pt x="73" y="0"/>
                    </a:lnTo>
                    <a:lnTo>
                      <a:pt x="64" y="0"/>
                    </a:lnTo>
                    <a:lnTo>
                      <a:pt x="54" y="2"/>
                    </a:lnTo>
                    <a:lnTo>
                      <a:pt x="45" y="5"/>
                    </a:lnTo>
                    <a:lnTo>
                      <a:pt x="36" y="11"/>
                    </a:lnTo>
                    <a:lnTo>
                      <a:pt x="29" y="14"/>
                    </a:lnTo>
                    <a:lnTo>
                      <a:pt x="25" y="21"/>
                    </a:lnTo>
                    <a:lnTo>
                      <a:pt x="19" y="26"/>
                    </a:lnTo>
                    <a:lnTo>
                      <a:pt x="26" y="19"/>
                    </a:lnTo>
                    <a:lnTo>
                      <a:pt x="31" y="14"/>
                    </a:lnTo>
                    <a:lnTo>
                      <a:pt x="38" y="11"/>
                    </a:lnTo>
                    <a:lnTo>
                      <a:pt x="46" y="7"/>
                    </a:lnTo>
                    <a:lnTo>
                      <a:pt x="52" y="3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73" y="1"/>
                    </a:lnTo>
                    <a:lnTo>
                      <a:pt x="81" y="2"/>
                    </a:lnTo>
                    <a:lnTo>
                      <a:pt x="87" y="4"/>
                    </a:lnTo>
                    <a:lnTo>
                      <a:pt x="95" y="8"/>
                    </a:lnTo>
                    <a:lnTo>
                      <a:pt x="103" y="14"/>
                    </a:lnTo>
                    <a:lnTo>
                      <a:pt x="111" y="21"/>
                    </a:lnTo>
                    <a:lnTo>
                      <a:pt x="117" y="28"/>
                    </a:lnTo>
                    <a:lnTo>
                      <a:pt x="121" y="34"/>
                    </a:lnTo>
                    <a:lnTo>
                      <a:pt x="124" y="40"/>
                    </a:lnTo>
                    <a:lnTo>
                      <a:pt x="128" y="50"/>
                    </a:lnTo>
                    <a:lnTo>
                      <a:pt x="131" y="58"/>
                    </a:lnTo>
                    <a:lnTo>
                      <a:pt x="133" y="69"/>
                    </a:lnTo>
                    <a:lnTo>
                      <a:pt x="134" y="78"/>
                    </a:lnTo>
                    <a:lnTo>
                      <a:pt x="134" y="82"/>
                    </a:lnTo>
                    <a:lnTo>
                      <a:pt x="134" y="39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2382840" y="5511960"/>
                <a:ext cx="44640" cy="128880"/>
              </a:xfrm>
              <a:custGeom>
                <a:avLst/>
                <a:gdLst/>
                <a:ahLst/>
                <a:rect l="0" t="0" r="r" b="b"/>
                <a:pathLst>
                  <a:path fill="none" w="124" h="358">
                    <a:moveTo>
                      <a:pt x="118" y="355"/>
                    </a:moveTo>
                    <a:lnTo>
                      <a:pt x="0" y="357"/>
                    </a:lnTo>
                    <a:lnTo>
                      <a:pt x="0" y="358"/>
                    </a:lnTo>
                    <a:lnTo>
                      <a:pt x="124" y="356"/>
                    </a:lnTo>
                    <a:lnTo>
                      <a:pt x="123" y="76"/>
                    </a:lnTo>
                    <a:lnTo>
                      <a:pt x="123" y="69"/>
                    </a:lnTo>
                    <a:lnTo>
                      <a:pt x="123" y="61"/>
                    </a:lnTo>
                    <a:lnTo>
                      <a:pt x="120" y="55"/>
                    </a:lnTo>
                    <a:lnTo>
                      <a:pt x="118" y="47"/>
                    </a:lnTo>
                    <a:lnTo>
                      <a:pt x="115" y="40"/>
                    </a:lnTo>
                    <a:lnTo>
                      <a:pt x="112" y="33"/>
                    </a:lnTo>
                    <a:lnTo>
                      <a:pt x="108" y="25"/>
                    </a:lnTo>
                    <a:lnTo>
                      <a:pt x="102" y="19"/>
                    </a:lnTo>
                    <a:lnTo>
                      <a:pt x="98" y="13"/>
                    </a:lnTo>
                    <a:lnTo>
                      <a:pt x="91" y="9"/>
                    </a:lnTo>
                    <a:lnTo>
                      <a:pt x="83" y="5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55" y="0"/>
                    </a:lnTo>
                    <a:lnTo>
                      <a:pt x="47" y="1"/>
                    </a:lnTo>
                    <a:lnTo>
                      <a:pt x="39" y="5"/>
                    </a:lnTo>
                    <a:lnTo>
                      <a:pt x="32" y="9"/>
                    </a:lnTo>
                    <a:lnTo>
                      <a:pt x="25" y="13"/>
                    </a:lnTo>
                    <a:lnTo>
                      <a:pt x="21" y="18"/>
                    </a:lnTo>
                    <a:lnTo>
                      <a:pt x="16" y="23"/>
                    </a:lnTo>
                    <a:lnTo>
                      <a:pt x="21" y="17"/>
                    </a:lnTo>
                    <a:lnTo>
                      <a:pt x="26" y="12"/>
                    </a:lnTo>
                    <a:lnTo>
                      <a:pt x="34" y="9"/>
                    </a:lnTo>
                    <a:lnTo>
                      <a:pt x="39" y="6"/>
                    </a:lnTo>
                    <a:lnTo>
                      <a:pt x="45" y="3"/>
                    </a:lnTo>
                    <a:lnTo>
                      <a:pt x="52" y="1"/>
                    </a:lnTo>
                    <a:lnTo>
                      <a:pt x="57" y="1"/>
                    </a:lnTo>
                    <a:lnTo>
                      <a:pt x="64" y="1"/>
                    </a:lnTo>
                    <a:lnTo>
                      <a:pt x="72" y="2"/>
                    </a:lnTo>
                    <a:lnTo>
                      <a:pt x="77" y="3"/>
                    </a:lnTo>
                    <a:lnTo>
                      <a:pt x="83" y="7"/>
                    </a:lnTo>
                    <a:lnTo>
                      <a:pt x="91" y="12"/>
                    </a:lnTo>
                    <a:lnTo>
                      <a:pt x="97" y="19"/>
                    </a:lnTo>
                    <a:lnTo>
                      <a:pt x="101" y="25"/>
                    </a:lnTo>
                    <a:lnTo>
                      <a:pt x="106" y="31"/>
                    </a:lnTo>
                    <a:lnTo>
                      <a:pt x="109" y="35"/>
                    </a:lnTo>
                    <a:lnTo>
                      <a:pt x="112" y="45"/>
                    </a:lnTo>
                    <a:lnTo>
                      <a:pt x="114" y="52"/>
                    </a:lnTo>
                    <a:lnTo>
                      <a:pt x="116" y="63"/>
                    </a:lnTo>
                    <a:lnTo>
                      <a:pt x="116" y="71"/>
                    </a:lnTo>
                    <a:lnTo>
                      <a:pt x="116" y="74"/>
                    </a:lnTo>
                    <a:lnTo>
                      <a:pt x="118" y="35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1757520" y="5645160"/>
                <a:ext cx="675000" cy="27360"/>
              </a:xfrm>
              <a:custGeom>
                <a:avLst/>
                <a:gdLst/>
                <a:ahLst/>
                <a:rect l="0" t="0" r="r" b="b"/>
                <a:pathLst>
                  <a:path fill="none" w="1875" h="76">
                    <a:moveTo>
                      <a:pt x="942" y="55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942" y="76"/>
                    </a:lnTo>
                    <a:lnTo>
                      <a:pt x="1875" y="28"/>
                    </a:lnTo>
                    <a:lnTo>
                      <a:pt x="1875" y="17"/>
                    </a:lnTo>
                    <a:lnTo>
                      <a:pt x="942" y="5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1763640" y="5637240"/>
                <a:ext cx="9720" cy="43200"/>
              </a:xfrm>
              <a:custGeom>
                <a:avLst/>
                <a:gdLst/>
                <a:ahLst/>
                <a:rect l="0" t="0" r="r" b="b"/>
                <a:pathLst>
                  <a:path fill="none" w="27" h="120">
                    <a:moveTo>
                      <a:pt x="15" y="114"/>
                    </a:moveTo>
                    <a:lnTo>
                      <a:pt x="18" y="109"/>
                    </a:lnTo>
                    <a:lnTo>
                      <a:pt x="21" y="102"/>
                    </a:lnTo>
                    <a:lnTo>
                      <a:pt x="22" y="96"/>
                    </a:lnTo>
                    <a:lnTo>
                      <a:pt x="24" y="89"/>
                    </a:lnTo>
                    <a:lnTo>
                      <a:pt x="26" y="84"/>
                    </a:lnTo>
                    <a:lnTo>
                      <a:pt x="26" y="77"/>
                    </a:lnTo>
                    <a:lnTo>
                      <a:pt x="27" y="71"/>
                    </a:lnTo>
                    <a:lnTo>
                      <a:pt x="27" y="63"/>
                    </a:lnTo>
                    <a:lnTo>
                      <a:pt x="27" y="56"/>
                    </a:lnTo>
                    <a:lnTo>
                      <a:pt x="27" y="50"/>
                    </a:lnTo>
                    <a:lnTo>
                      <a:pt x="26" y="43"/>
                    </a:lnTo>
                    <a:lnTo>
                      <a:pt x="26" y="37"/>
                    </a:lnTo>
                    <a:lnTo>
                      <a:pt x="25" y="30"/>
                    </a:lnTo>
                    <a:lnTo>
                      <a:pt x="24" y="24"/>
                    </a:lnTo>
                    <a:lnTo>
                      <a:pt x="21" y="17"/>
                    </a:lnTo>
                    <a:lnTo>
                      <a:pt x="18" y="12"/>
                    </a:lnTo>
                    <a:lnTo>
                      <a:pt x="17" y="6"/>
                    </a:lnTo>
                    <a:lnTo>
                      <a:pt x="12" y="0"/>
                    </a:lnTo>
                    <a:lnTo>
                      <a:pt x="9" y="6"/>
                    </a:lnTo>
                    <a:lnTo>
                      <a:pt x="8" y="12"/>
                    </a:lnTo>
                    <a:lnTo>
                      <a:pt x="6" y="17"/>
                    </a:lnTo>
                    <a:lnTo>
                      <a:pt x="4" y="24"/>
                    </a:lnTo>
                    <a:lnTo>
                      <a:pt x="4" y="30"/>
                    </a:lnTo>
                    <a:lnTo>
                      <a:pt x="2" y="37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3"/>
                    </a:lnTo>
                    <a:lnTo>
                      <a:pt x="0" y="71"/>
                    </a:lnTo>
                    <a:lnTo>
                      <a:pt x="1" y="77"/>
                    </a:lnTo>
                    <a:lnTo>
                      <a:pt x="2" y="84"/>
                    </a:lnTo>
                    <a:lnTo>
                      <a:pt x="4" y="89"/>
                    </a:lnTo>
                    <a:lnTo>
                      <a:pt x="4" y="96"/>
                    </a:lnTo>
                    <a:lnTo>
                      <a:pt x="6" y="102"/>
                    </a:lnTo>
                    <a:lnTo>
                      <a:pt x="8" y="109"/>
                    </a:lnTo>
                    <a:lnTo>
                      <a:pt x="10" y="114"/>
                    </a:lnTo>
                    <a:lnTo>
                      <a:pt x="12" y="120"/>
                    </a:lnTo>
                    <a:lnTo>
                      <a:pt x="15" y="11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785960" y="5638680"/>
                <a:ext cx="11520" cy="46440"/>
              </a:xfrm>
              <a:custGeom>
                <a:avLst/>
                <a:gdLst/>
                <a:ahLst/>
                <a:rect l="0" t="0" r="r" b="b"/>
                <a:pathLst>
                  <a:path fill="none" w="32" h="129">
                    <a:moveTo>
                      <a:pt x="18" y="124"/>
                    </a:moveTo>
                    <a:lnTo>
                      <a:pt x="21" y="117"/>
                    </a:lnTo>
                    <a:lnTo>
                      <a:pt x="23" y="111"/>
                    </a:lnTo>
                    <a:lnTo>
                      <a:pt x="27" y="103"/>
                    </a:lnTo>
                    <a:lnTo>
                      <a:pt x="28" y="96"/>
                    </a:lnTo>
                    <a:lnTo>
                      <a:pt x="30" y="90"/>
                    </a:lnTo>
                    <a:lnTo>
                      <a:pt x="30" y="82"/>
                    </a:lnTo>
                    <a:lnTo>
                      <a:pt x="32" y="75"/>
                    </a:lnTo>
                    <a:lnTo>
                      <a:pt x="32" y="69"/>
                    </a:lnTo>
                    <a:lnTo>
                      <a:pt x="32" y="62"/>
                    </a:lnTo>
                    <a:lnTo>
                      <a:pt x="32" y="54"/>
                    </a:lnTo>
                    <a:lnTo>
                      <a:pt x="30" y="48"/>
                    </a:lnTo>
                    <a:lnTo>
                      <a:pt x="30" y="41"/>
                    </a:lnTo>
                    <a:lnTo>
                      <a:pt x="29" y="34"/>
                    </a:lnTo>
                    <a:lnTo>
                      <a:pt x="27" y="26"/>
                    </a:lnTo>
                    <a:lnTo>
                      <a:pt x="23" y="18"/>
                    </a:lnTo>
                    <a:lnTo>
                      <a:pt x="21" y="13"/>
                    </a:lnTo>
                    <a:lnTo>
                      <a:pt x="18" y="6"/>
                    </a:lnTo>
                    <a:lnTo>
                      <a:pt x="15" y="0"/>
                    </a:lnTo>
                    <a:lnTo>
                      <a:pt x="13" y="6"/>
                    </a:lnTo>
                    <a:lnTo>
                      <a:pt x="11" y="13"/>
                    </a:lnTo>
                    <a:lnTo>
                      <a:pt x="7" y="18"/>
                    </a:lnTo>
                    <a:lnTo>
                      <a:pt x="4" y="26"/>
                    </a:lnTo>
                    <a:lnTo>
                      <a:pt x="4" y="34"/>
                    </a:lnTo>
                    <a:lnTo>
                      <a:pt x="1" y="41"/>
                    </a:lnTo>
                    <a:lnTo>
                      <a:pt x="1" y="48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1" y="82"/>
                    </a:lnTo>
                    <a:lnTo>
                      <a:pt x="2" y="90"/>
                    </a:lnTo>
                    <a:lnTo>
                      <a:pt x="4" y="96"/>
                    </a:lnTo>
                    <a:lnTo>
                      <a:pt x="4" y="103"/>
                    </a:lnTo>
                    <a:lnTo>
                      <a:pt x="7" y="111"/>
                    </a:lnTo>
                    <a:lnTo>
                      <a:pt x="11" y="117"/>
                    </a:lnTo>
                    <a:lnTo>
                      <a:pt x="13" y="124"/>
                    </a:lnTo>
                    <a:lnTo>
                      <a:pt x="15" y="129"/>
                    </a:lnTo>
                    <a:lnTo>
                      <a:pt x="18" y="12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1811160" y="5638680"/>
                <a:ext cx="9720" cy="52920"/>
              </a:xfrm>
              <a:custGeom>
                <a:avLst/>
                <a:gdLst/>
                <a:ahLst/>
                <a:rect l="0" t="0" r="r" b="b"/>
                <a:pathLst>
                  <a:path fill="none" w="27" h="147">
                    <a:moveTo>
                      <a:pt x="16" y="140"/>
                    </a:moveTo>
                    <a:lnTo>
                      <a:pt x="19" y="133"/>
                    </a:lnTo>
                    <a:lnTo>
                      <a:pt x="21" y="125"/>
                    </a:lnTo>
                    <a:lnTo>
                      <a:pt x="23" y="118"/>
                    </a:lnTo>
                    <a:lnTo>
                      <a:pt x="25" y="109"/>
                    </a:lnTo>
                    <a:lnTo>
                      <a:pt x="26" y="102"/>
                    </a:lnTo>
                    <a:lnTo>
                      <a:pt x="26" y="94"/>
                    </a:lnTo>
                    <a:lnTo>
                      <a:pt x="27" y="84"/>
                    </a:lnTo>
                    <a:lnTo>
                      <a:pt x="27" y="78"/>
                    </a:lnTo>
                    <a:lnTo>
                      <a:pt x="27" y="70"/>
                    </a:lnTo>
                    <a:lnTo>
                      <a:pt x="27" y="61"/>
                    </a:lnTo>
                    <a:lnTo>
                      <a:pt x="26" y="54"/>
                    </a:lnTo>
                    <a:lnTo>
                      <a:pt x="26" y="46"/>
                    </a:lnTo>
                    <a:lnTo>
                      <a:pt x="25" y="38"/>
                    </a:lnTo>
                    <a:lnTo>
                      <a:pt x="24" y="30"/>
                    </a:lnTo>
                    <a:lnTo>
                      <a:pt x="21" y="21"/>
                    </a:lnTo>
                    <a:lnTo>
                      <a:pt x="19" y="15"/>
                    </a:lnTo>
                    <a:lnTo>
                      <a:pt x="17" y="7"/>
                    </a:lnTo>
                    <a:lnTo>
                      <a:pt x="14" y="0"/>
                    </a:lnTo>
                    <a:lnTo>
                      <a:pt x="11" y="7"/>
                    </a:lnTo>
                    <a:lnTo>
                      <a:pt x="8" y="15"/>
                    </a:lnTo>
                    <a:lnTo>
                      <a:pt x="6" y="21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1" y="46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1" y="84"/>
                    </a:lnTo>
                    <a:lnTo>
                      <a:pt x="1" y="94"/>
                    </a:lnTo>
                    <a:lnTo>
                      <a:pt x="2" y="102"/>
                    </a:lnTo>
                    <a:lnTo>
                      <a:pt x="4" y="109"/>
                    </a:lnTo>
                    <a:lnTo>
                      <a:pt x="4" y="118"/>
                    </a:lnTo>
                    <a:lnTo>
                      <a:pt x="6" y="125"/>
                    </a:lnTo>
                    <a:lnTo>
                      <a:pt x="8" y="133"/>
                    </a:lnTo>
                    <a:lnTo>
                      <a:pt x="11" y="140"/>
                    </a:lnTo>
                    <a:lnTo>
                      <a:pt x="14" y="147"/>
                    </a:lnTo>
                    <a:lnTo>
                      <a:pt x="16" y="14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1838160" y="5638680"/>
                <a:ext cx="11520" cy="55800"/>
              </a:xfrm>
              <a:custGeom>
                <a:avLst/>
                <a:gdLst/>
                <a:ahLst/>
                <a:rect l="0" t="0" r="r" b="b"/>
                <a:pathLst>
                  <a:path fill="none" w="32" h="155">
                    <a:moveTo>
                      <a:pt x="19" y="148"/>
                    </a:moveTo>
                    <a:lnTo>
                      <a:pt x="21" y="141"/>
                    </a:lnTo>
                    <a:lnTo>
                      <a:pt x="25" y="131"/>
                    </a:lnTo>
                    <a:lnTo>
                      <a:pt x="27" y="125"/>
                    </a:lnTo>
                    <a:lnTo>
                      <a:pt x="29" y="116"/>
                    </a:lnTo>
                    <a:lnTo>
                      <a:pt x="31" y="109"/>
                    </a:lnTo>
                    <a:lnTo>
                      <a:pt x="31" y="99"/>
                    </a:lnTo>
                    <a:lnTo>
                      <a:pt x="32" y="91"/>
                    </a:lnTo>
                    <a:lnTo>
                      <a:pt x="32" y="83"/>
                    </a:lnTo>
                    <a:lnTo>
                      <a:pt x="32" y="72"/>
                    </a:lnTo>
                    <a:lnTo>
                      <a:pt x="32" y="64"/>
                    </a:lnTo>
                    <a:lnTo>
                      <a:pt x="31" y="55"/>
                    </a:lnTo>
                    <a:lnTo>
                      <a:pt x="31" y="48"/>
                    </a:lnTo>
                    <a:lnTo>
                      <a:pt x="29" y="39"/>
                    </a:lnTo>
                    <a:lnTo>
                      <a:pt x="28" y="32"/>
                    </a:lnTo>
                    <a:lnTo>
                      <a:pt x="25" y="23"/>
                    </a:lnTo>
                    <a:lnTo>
                      <a:pt x="21" y="15"/>
                    </a:lnTo>
                    <a:lnTo>
                      <a:pt x="20" y="7"/>
                    </a:lnTo>
                    <a:lnTo>
                      <a:pt x="16" y="0"/>
                    </a:lnTo>
                    <a:lnTo>
                      <a:pt x="13" y="7"/>
                    </a:lnTo>
                    <a:lnTo>
                      <a:pt x="10" y="15"/>
                    </a:lnTo>
                    <a:lnTo>
                      <a:pt x="6" y="23"/>
                    </a:lnTo>
                    <a:lnTo>
                      <a:pt x="5" y="32"/>
                    </a:lnTo>
                    <a:lnTo>
                      <a:pt x="5" y="39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1" y="64"/>
                    </a:lnTo>
                    <a:lnTo>
                      <a:pt x="0" y="72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1" y="99"/>
                    </a:lnTo>
                    <a:lnTo>
                      <a:pt x="2" y="109"/>
                    </a:lnTo>
                    <a:lnTo>
                      <a:pt x="5" y="116"/>
                    </a:lnTo>
                    <a:lnTo>
                      <a:pt x="5" y="125"/>
                    </a:lnTo>
                    <a:lnTo>
                      <a:pt x="7" y="131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6" y="155"/>
                    </a:lnTo>
                    <a:lnTo>
                      <a:pt x="19" y="14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1957320" y="5638680"/>
                <a:ext cx="16200" cy="79560"/>
              </a:xfrm>
              <a:custGeom>
                <a:avLst/>
                <a:gdLst/>
                <a:ahLst/>
                <a:rect l="0" t="0" r="r" b="b"/>
                <a:pathLst>
                  <a:path fill="none" w="45" h="221">
                    <a:moveTo>
                      <a:pt x="26" y="212"/>
                    </a:moveTo>
                    <a:lnTo>
                      <a:pt x="30" y="202"/>
                    </a:lnTo>
                    <a:lnTo>
                      <a:pt x="34" y="189"/>
                    </a:lnTo>
                    <a:lnTo>
                      <a:pt x="37" y="178"/>
                    </a:lnTo>
                    <a:lnTo>
                      <a:pt x="38" y="165"/>
                    </a:lnTo>
                    <a:lnTo>
                      <a:pt x="42" y="153"/>
                    </a:lnTo>
                    <a:lnTo>
                      <a:pt x="42" y="142"/>
                    </a:lnTo>
                    <a:lnTo>
                      <a:pt x="45" y="129"/>
                    </a:lnTo>
                    <a:lnTo>
                      <a:pt x="45" y="118"/>
                    </a:lnTo>
                    <a:lnTo>
                      <a:pt x="45" y="105"/>
                    </a:lnTo>
                    <a:lnTo>
                      <a:pt x="45" y="92"/>
                    </a:lnTo>
                    <a:lnTo>
                      <a:pt x="42" y="82"/>
                    </a:lnTo>
                    <a:lnTo>
                      <a:pt x="42" y="69"/>
                    </a:lnTo>
                    <a:lnTo>
                      <a:pt x="39" y="58"/>
                    </a:lnTo>
                    <a:lnTo>
                      <a:pt x="37" y="45"/>
                    </a:lnTo>
                    <a:lnTo>
                      <a:pt x="34" y="33"/>
                    </a:lnTo>
                    <a:lnTo>
                      <a:pt x="30" y="22"/>
                    </a:lnTo>
                    <a:lnTo>
                      <a:pt x="27" y="12"/>
                    </a:lnTo>
                    <a:lnTo>
                      <a:pt x="19" y="0"/>
                    </a:lnTo>
                    <a:lnTo>
                      <a:pt x="17" y="12"/>
                    </a:lnTo>
                    <a:lnTo>
                      <a:pt x="13" y="22"/>
                    </a:lnTo>
                    <a:lnTo>
                      <a:pt x="8" y="33"/>
                    </a:lnTo>
                    <a:lnTo>
                      <a:pt x="5" y="45"/>
                    </a:lnTo>
                    <a:lnTo>
                      <a:pt x="4" y="58"/>
                    </a:lnTo>
                    <a:lnTo>
                      <a:pt x="1" y="69"/>
                    </a:lnTo>
                    <a:lnTo>
                      <a:pt x="1" y="82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29"/>
                    </a:lnTo>
                    <a:lnTo>
                      <a:pt x="1" y="142"/>
                    </a:lnTo>
                    <a:lnTo>
                      <a:pt x="1" y="153"/>
                    </a:lnTo>
                    <a:lnTo>
                      <a:pt x="4" y="165"/>
                    </a:lnTo>
                    <a:lnTo>
                      <a:pt x="7" y="178"/>
                    </a:lnTo>
                    <a:lnTo>
                      <a:pt x="10" y="189"/>
                    </a:lnTo>
                    <a:lnTo>
                      <a:pt x="13" y="202"/>
                    </a:lnTo>
                    <a:lnTo>
                      <a:pt x="18" y="212"/>
                    </a:lnTo>
                    <a:lnTo>
                      <a:pt x="19" y="221"/>
                    </a:lnTo>
                    <a:lnTo>
                      <a:pt x="26" y="21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1987560" y="5640480"/>
                <a:ext cx="18000" cy="84600"/>
              </a:xfrm>
              <a:custGeom>
                <a:avLst/>
                <a:gdLst/>
                <a:ahLst/>
                <a:rect l="0" t="0" r="r" b="b"/>
                <a:pathLst>
                  <a:path fill="none" w="50" h="235">
                    <a:moveTo>
                      <a:pt x="28" y="224"/>
                    </a:moveTo>
                    <a:lnTo>
                      <a:pt x="32" y="214"/>
                    </a:lnTo>
                    <a:lnTo>
                      <a:pt x="38" y="201"/>
                    </a:lnTo>
                    <a:lnTo>
                      <a:pt x="40" y="189"/>
                    </a:lnTo>
                    <a:lnTo>
                      <a:pt x="43" y="175"/>
                    </a:lnTo>
                    <a:lnTo>
                      <a:pt x="46" y="163"/>
                    </a:lnTo>
                    <a:lnTo>
                      <a:pt x="47" y="150"/>
                    </a:lnTo>
                    <a:lnTo>
                      <a:pt x="50" y="137"/>
                    </a:lnTo>
                    <a:lnTo>
                      <a:pt x="50" y="125"/>
                    </a:lnTo>
                    <a:lnTo>
                      <a:pt x="50" y="112"/>
                    </a:lnTo>
                    <a:lnTo>
                      <a:pt x="50" y="99"/>
                    </a:lnTo>
                    <a:lnTo>
                      <a:pt x="47" y="86"/>
                    </a:lnTo>
                    <a:lnTo>
                      <a:pt x="46" y="74"/>
                    </a:lnTo>
                    <a:lnTo>
                      <a:pt x="44" y="62"/>
                    </a:lnTo>
                    <a:lnTo>
                      <a:pt x="42" y="47"/>
                    </a:lnTo>
                    <a:lnTo>
                      <a:pt x="38" y="34"/>
                    </a:lnTo>
                    <a:lnTo>
                      <a:pt x="32" y="23"/>
                    </a:lnTo>
                    <a:lnTo>
                      <a:pt x="29" y="12"/>
                    </a:lnTo>
                    <a:lnTo>
                      <a:pt x="23" y="0"/>
                    </a:lnTo>
                    <a:lnTo>
                      <a:pt x="20" y="12"/>
                    </a:lnTo>
                    <a:lnTo>
                      <a:pt x="15" y="23"/>
                    </a:lnTo>
                    <a:lnTo>
                      <a:pt x="10" y="34"/>
                    </a:lnTo>
                    <a:lnTo>
                      <a:pt x="7" y="47"/>
                    </a:lnTo>
                    <a:lnTo>
                      <a:pt x="5" y="62"/>
                    </a:lnTo>
                    <a:lnTo>
                      <a:pt x="1" y="74"/>
                    </a:lnTo>
                    <a:lnTo>
                      <a:pt x="1" y="86"/>
                    </a:lnTo>
                    <a:lnTo>
                      <a:pt x="0" y="99"/>
                    </a:lnTo>
                    <a:lnTo>
                      <a:pt x="0" y="112"/>
                    </a:lnTo>
                    <a:lnTo>
                      <a:pt x="0" y="125"/>
                    </a:lnTo>
                    <a:lnTo>
                      <a:pt x="0" y="137"/>
                    </a:lnTo>
                    <a:lnTo>
                      <a:pt x="1" y="150"/>
                    </a:lnTo>
                    <a:lnTo>
                      <a:pt x="3" y="163"/>
                    </a:lnTo>
                    <a:lnTo>
                      <a:pt x="5" y="175"/>
                    </a:lnTo>
                    <a:lnTo>
                      <a:pt x="7" y="189"/>
                    </a:lnTo>
                    <a:lnTo>
                      <a:pt x="10" y="201"/>
                    </a:lnTo>
                    <a:lnTo>
                      <a:pt x="15" y="214"/>
                    </a:lnTo>
                    <a:lnTo>
                      <a:pt x="20" y="224"/>
                    </a:lnTo>
                    <a:lnTo>
                      <a:pt x="23" y="235"/>
                    </a:lnTo>
                    <a:lnTo>
                      <a:pt x="28" y="22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2019240" y="5640480"/>
                <a:ext cx="18000" cy="90720"/>
              </a:xfrm>
              <a:custGeom>
                <a:avLst/>
                <a:gdLst/>
                <a:ahLst/>
                <a:rect l="0" t="0" r="r" b="b"/>
                <a:pathLst>
                  <a:path fill="none" w="50" h="252">
                    <a:moveTo>
                      <a:pt x="28" y="242"/>
                    </a:moveTo>
                    <a:lnTo>
                      <a:pt x="33" y="231"/>
                    </a:lnTo>
                    <a:lnTo>
                      <a:pt x="36" y="215"/>
                    </a:lnTo>
                    <a:lnTo>
                      <a:pt x="41" y="203"/>
                    </a:lnTo>
                    <a:lnTo>
                      <a:pt x="43" y="188"/>
                    </a:lnTo>
                    <a:lnTo>
                      <a:pt x="47" y="176"/>
                    </a:lnTo>
                    <a:lnTo>
                      <a:pt x="48" y="162"/>
                    </a:lnTo>
                    <a:lnTo>
                      <a:pt x="50" y="147"/>
                    </a:lnTo>
                    <a:lnTo>
                      <a:pt x="50" y="134"/>
                    </a:lnTo>
                    <a:lnTo>
                      <a:pt x="50" y="120"/>
                    </a:lnTo>
                    <a:lnTo>
                      <a:pt x="50" y="105"/>
                    </a:lnTo>
                    <a:lnTo>
                      <a:pt x="48" y="93"/>
                    </a:lnTo>
                    <a:lnTo>
                      <a:pt x="47" y="79"/>
                    </a:lnTo>
                    <a:lnTo>
                      <a:pt x="44" y="65"/>
                    </a:lnTo>
                    <a:lnTo>
                      <a:pt x="41" y="52"/>
                    </a:lnTo>
                    <a:lnTo>
                      <a:pt x="36" y="38"/>
                    </a:lnTo>
                    <a:lnTo>
                      <a:pt x="33" y="25"/>
                    </a:lnTo>
                    <a:lnTo>
                      <a:pt x="29" y="13"/>
                    </a:lnTo>
                    <a:lnTo>
                      <a:pt x="23" y="0"/>
                    </a:lnTo>
                    <a:lnTo>
                      <a:pt x="19" y="13"/>
                    </a:lnTo>
                    <a:lnTo>
                      <a:pt x="16" y="25"/>
                    </a:lnTo>
                    <a:lnTo>
                      <a:pt x="9" y="38"/>
                    </a:lnTo>
                    <a:lnTo>
                      <a:pt x="6" y="52"/>
                    </a:lnTo>
                    <a:lnTo>
                      <a:pt x="5" y="65"/>
                    </a:lnTo>
                    <a:lnTo>
                      <a:pt x="1" y="79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0" y="120"/>
                    </a:lnTo>
                    <a:lnTo>
                      <a:pt x="0" y="134"/>
                    </a:lnTo>
                    <a:lnTo>
                      <a:pt x="0" y="147"/>
                    </a:lnTo>
                    <a:lnTo>
                      <a:pt x="0" y="162"/>
                    </a:lnTo>
                    <a:lnTo>
                      <a:pt x="1" y="176"/>
                    </a:lnTo>
                    <a:lnTo>
                      <a:pt x="5" y="188"/>
                    </a:lnTo>
                    <a:lnTo>
                      <a:pt x="7" y="203"/>
                    </a:lnTo>
                    <a:lnTo>
                      <a:pt x="11" y="215"/>
                    </a:lnTo>
                    <a:lnTo>
                      <a:pt x="16" y="231"/>
                    </a:lnTo>
                    <a:lnTo>
                      <a:pt x="19" y="242"/>
                    </a:lnTo>
                    <a:lnTo>
                      <a:pt x="23" y="252"/>
                    </a:lnTo>
                    <a:lnTo>
                      <a:pt x="28" y="24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2057400" y="5640480"/>
                <a:ext cx="20880" cy="98640"/>
              </a:xfrm>
              <a:custGeom>
                <a:avLst/>
                <a:gdLst/>
                <a:ahLst/>
                <a:rect l="0" t="0" r="r" b="b"/>
                <a:pathLst>
                  <a:path fill="none" w="58" h="274">
                    <a:moveTo>
                      <a:pt x="33" y="262"/>
                    </a:moveTo>
                    <a:lnTo>
                      <a:pt x="38" y="250"/>
                    </a:lnTo>
                    <a:lnTo>
                      <a:pt x="43" y="233"/>
                    </a:lnTo>
                    <a:lnTo>
                      <a:pt x="47" y="220"/>
                    </a:lnTo>
                    <a:lnTo>
                      <a:pt x="51" y="205"/>
                    </a:lnTo>
                    <a:lnTo>
                      <a:pt x="55" y="190"/>
                    </a:lnTo>
                    <a:lnTo>
                      <a:pt x="55" y="175"/>
                    </a:lnTo>
                    <a:lnTo>
                      <a:pt x="58" y="160"/>
                    </a:lnTo>
                    <a:lnTo>
                      <a:pt x="58" y="146"/>
                    </a:lnTo>
                    <a:lnTo>
                      <a:pt x="58" y="131"/>
                    </a:lnTo>
                    <a:lnTo>
                      <a:pt x="58" y="114"/>
                    </a:lnTo>
                    <a:lnTo>
                      <a:pt x="55" y="101"/>
                    </a:lnTo>
                    <a:lnTo>
                      <a:pt x="55" y="84"/>
                    </a:lnTo>
                    <a:lnTo>
                      <a:pt x="51" y="71"/>
                    </a:lnTo>
                    <a:lnTo>
                      <a:pt x="49" y="57"/>
                    </a:lnTo>
                    <a:lnTo>
                      <a:pt x="43" y="42"/>
                    </a:lnTo>
                    <a:lnTo>
                      <a:pt x="38" y="27"/>
                    </a:lnTo>
                    <a:lnTo>
                      <a:pt x="34" y="15"/>
                    </a:lnTo>
                    <a:lnTo>
                      <a:pt x="27" y="0"/>
                    </a:lnTo>
                    <a:lnTo>
                      <a:pt x="22" y="15"/>
                    </a:lnTo>
                    <a:lnTo>
                      <a:pt x="17" y="27"/>
                    </a:lnTo>
                    <a:lnTo>
                      <a:pt x="11" y="42"/>
                    </a:lnTo>
                    <a:lnTo>
                      <a:pt x="7" y="57"/>
                    </a:lnTo>
                    <a:lnTo>
                      <a:pt x="7" y="71"/>
                    </a:lnTo>
                    <a:lnTo>
                      <a:pt x="1" y="84"/>
                    </a:lnTo>
                    <a:lnTo>
                      <a:pt x="0" y="101"/>
                    </a:lnTo>
                    <a:lnTo>
                      <a:pt x="0" y="114"/>
                    </a:lnTo>
                    <a:lnTo>
                      <a:pt x="0" y="131"/>
                    </a:lnTo>
                    <a:lnTo>
                      <a:pt x="0" y="146"/>
                    </a:lnTo>
                    <a:lnTo>
                      <a:pt x="0" y="160"/>
                    </a:lnTo>
                    <a:lnTo>
                      <a:pt x="0" y="175"/>
                    </a:lnTo>
                    <a:lnTo>
                      <a:pt x="3" y="190"/>
                    </a:lnTo>
                    <a:lnTo>
                      <a:pt x="7" y="205"/>
                    </a:lnTo>
                    <a:lnTo>
                      <a:pt x="10" y="220"/>
                    </a:lnTo>
                    <a:lnTo>
                      <a:pt x="13" y="233"/>
                    </a:lnTo>
                    <a:lnTo>
                      <a:pt x="17" y="250"/>
                    </a:lnTo>
                    <a:lnTo>
                      <a:pt x="23" y="262"/>
                    </a:lnTo>
                    <a:lnTo>
                      <a:pt x="27" y="274"/>
                    </a:lnTo>
                    <a:lnTo>
                      <a:pt x="33" y="26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100240" y="5699160"/>
                <a:ext cx="155880" cy="44640"/>
              </a:xfrm>
              <a:custGeom>
                <a:avLst/>
                <a:gdLst/>
                <a:ahLst/>
                <a:rect l="0" t="0" r="r" b="b"/>
                <a:pathLst>
                  <a:path fill="none" w="433" h="124">
                    <a:moveTo>
                      <a:pt x="27" y="121"/>
                    </a:moveTo>
                    <a:lnTo>
                      <a:pt x="17" y="118"/>
                    </a:lnTo>
                    <a:lnTo>
                      <a:pt x="11" y="114"/>
                    </a:lnTo>
                    <a:lnTo>
                      <a:pt x="4" y="105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5" y="90"/>
                    </a:lnTo>
                    <a:lnTo>
                      <a:pt x="1" y="83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3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8" y="64"/>
                    </a:lnTo>
                    <a:lnTo>
                      <a:pt x="9" y="49"/>
                    </a:lnTo>
                    <a:lnTo>
                      <a:pt x="14" y="40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5" y="36"/>
                    </a:lnTo>
                    <a:lnTo>
                      <a:pt x="32" y="27"/>
                    </a:lnTo>
                    <a:lnTo>
                      <a:pt x="45" y="23"/>
                    </a:lnTo>
                    <a:lnTo>
                      <a:pt x="54" y="25"/>
                    </a:lnTo>
                    <a:lnTo>
                      <a:pt x="61" y="27"/>
                    </a:lnTo>
                    <a:lnTo>
                      <a:pt x="65" y="31"/>
                    </a:lnTo>
                    <a:lnTo>
                      <a:pt x="70" y="22"/>
                    </a:lnTo>
                    <a:lnTo>
                      <a:pt x="83" y="18"/>
                    </a:lnTo>
                    <a:lnTo>
                      <a:pt x="100" y="18"/>
                    </a:lnTo>
                    <a:lnTo>
                      <a:pt x="108" y="20"/>
                    </a:lnTo>
                    <a:lnTo>
                      <a:pt x="112" y="12"/>
                    </a:lnTo>
                    <a:lnTo>
                      <a:pt x="117" y="10"/>
                    </a:lnTo>
                    <a:lnTo>
                      <a:pt x="123" y="10"/>
                    </a:lnTo>
                    <a:lnTo>
                      <a:pt x="126" y="14"/>
                    </a:lnTo>
                    <a:lnTo>
                      <a:pt x="136" y="5"/>
                    </a:lnTo>
                    <a:lnTo>
                      <a:pt x="147" y="2"/>
                    </a:lnTo>
                    <a:lnTo>
                      <a:pt x="159" y="0"/>
                    </a:lnTo>
                    <a:lnTo>
                      <a:pt x="173" y="1"/>
                    </a:lnTo>
                    <a:lnTo>
                      <a:pt x="185" y="3"/>
                    </a:lnTo>
                    <a:lnTo>
                      <a:pt x="195" y="10"/>
                    </a:lnTo>
                    <a:lnTo>
                      <a:pt x="197" y="15"/>
                    </a:lnTo>
                    <a:lnTo>
                      <a:pt x="210" y="8"/>
                    </a:lnTo>
                    <a:lnTo>
                      <a:pt x="219" y="7"/>
                    </a:lnTo>
                    <a:lnTo>
                      <a:pt x="224" y="8"/>
                    </a:lnTo>
                    <a:lnTo>
                      <a:pt x="226" y="12"/>
                    </a:lnTo>
                    <a:lnTo>
                      <a:pt x="233" y="7"/>
                    </a:lnTo>
                    <a:lnTo>
                      <a:pt x="240" y="8"/>
                    </a:lnTo>
                    <a:lnTo>
                      <a:pt x="243" y="10"/>
                    </a:lnTo>
                    <a:lnTo>
                      <a:pt x="244" y="14"/>
                    </a:lnTo>
                    <a:lnTo>
                      <a:pt x="254" y="9"/>
                    </a:lnTo>
                    <a:lnTo>
                      <a:pt x="259" y="11"/>
                    </a:lnTo>
                    <a:lnTo>
                      <a:pt x="261" y="12"/>
                    </a:lnTo>
                    <a:lnTo>
                      <a:pt x="271" y="5"/>
                    </a:lnTo>
                    <a:lnTo>
                      <a:pt x="283" y="1"/>
                    </a:lnTo>
                    <a:lnTo>
                      <a:pt x="299" y="1"/>
                    </a:lnTo>
                    <a:lnTo>
                      <a:pt x="313" y="5"/>
                    </a:lnTo>
                    <a:lnTo>
                      <a:pt x="321" y="11"/>
                    </a:lnTo>
                    <a:lnTo>
                      <a:pt x="327" y="6"/>
                    </a:lnTo>
                    <a:lnTo>
                      <a:pt x="335" y="3"/>
                    </a:lnTo>
                    <a:lnTo>
                      <a:pt x="348" y="1"/>
                    </a:lnTo>
                    <a:lnTo>
                      <a:pt x="362" y="1"/>
                    </a:lnTo>
                    <a:lnTo>
                      <a:pt x="377" y="3"/>
                    </a:lnTo>
                    <a:lnTo>
                      <a:pt x="385" y="9"/>
                    </a:lnTo>
                    <a:lnTo>
                      <a:pt x="393" y="1"/>
                    </a:lnTo>
                    <a:lnTo>
                      <a:pt x="403" y="1"/>
                    </a:lnTo>
                    <a:lnTo>
                      <a:pt x="412" y="5"/>
                    </a:lnTo>
                    <a:lnTo>
                      <a:pt x="418" y="11"/>
                    </a:lnTo>
                    <a:lnTo>
                      <a:pt x="418" y="20"/>
                    </a:lnTo>
                    <a:lnTo>
                      <a:pt x="429" y="23"/>
                    </a:lnTo>
                    <a:lnTo>
                      <a:pt x="432" y="31"/>
                    </a:lnTo>
                    <a:lnTo>
                      <a:pt x="433" y="43"/>
                    </a:lnTo>
                    <a:lnTo>
                      <a:pt x="432" y="51"/>
                    </a:lnTo>
                    <a:lnTo>
                      <a:pt x="431" y="60"/>
                    </a:lnTo>
                    <a:lnTo>
                      <a:pt x="428" y="64"/>
                    </a:lnTo>
                    <a:lnTo>
                      <a:pt x="422" y="69"/>
                    </a:lnTo>
                    <a:lnTo>
                      <a:pt x="416" y="72"/>
                    </a:lnTo>
                    <a:lnTo>
                      <a:pt x="406" y="72"/>
                    </a:lnTo>
                    <a:lnTo>
                      <a:pt x="392" y="73"/>
                    </a:lnTo>
                    <a:lnTo>
                      <a:pt x="386" y="75"/>
                    </a:lnTo>
                    <a:lnTo>
                      <a:pt x="377" y="78"/>
                    </a:lnTo>
                    <a:lnTo>
                      <a:pt x="368" y="78"/>
                    </a:lnTo>
                    <a:lnTo>
                      <a:pt x="61" y="119"/>
                    </a:lnTo>
                    <a:lnTo>
                      <a:pt x="54" y="121"/>
                    </a:lnTo>
                    <a:lnTo>
                      <a:pt x="40" y="124"/>
                    </a:lnTo>
                    <a:lnTo>
                      <a:pt x="27" y="12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2335320" y="5681520"/>
                <a:ext cx="103680" cy="30600"/>
              </a:xfrm>
              <a:custGeom>
                <a:avLst/>
                <a:gdLst/>
                <a:ahLst/>
                <a:rect l="0" t="0" r="r" b="b"/>
                <a:pathLst>
                  <a:path fill="none" w="288" h="85">
                    <a:moveTo>
                      <a:pt x="1" y="77"/>
                    </a:moveTo>
                    <a:lnTo>
                      <a:pt x="5" y="81"/>
                    </a:lnTo>
                    <a:lnTo>
                      <a:pt x="11" y="82"/>
                    </a:lnTo>
                    <a:lnTo>
                      <a:pt x="7" y="85"/>
                    </a:lnTo>
                    <a:lnTo>
                      <a:pt x="10" y="85"/>
                    </a:lnTo>
                    <a:lnTo>
                      <a:pt x="14" y="85"/>
                    </a:lnTo>
                    <a:lnTo>
                      <a:pt x="19" y="85"/>
                    </a:lnTo>
                    <a:lnTo>
                      <a:pt x="277" y="49"/>
                    </a:lnTo>
                    <a:lnTo>
                      <a:pt x="283" y="45"/>
                    </a:lnTo>
                    <a:lnTo>
                      <a:pt x="287" y="38"/>
                    </a:lnTo>
                    <a:lnTo>
                      <a:pt x="288" y="33"/>
                    </a:lnTo>
                    <a:lnTo>
                      <a:pt x="288" y="28"/>
                    </a:lnTo>
                    <a:lnTo>
                      <a:pt x="287" y="28"/>
                    </a:lnTo>
                    <a:lnTo>
                      <a:pt x="287" y="19"/>
                    </a:lnTo>
                    <a:lnTo>
                      <a:pt x="284" y="15"/>
                    </a:lnTo>
                    <a:lnTo>
                      <a:pt x="282" y="13"/>
                    </a:lnTo>
                    <a:lnTo>
                      <a:pt x="280" y="16"/>
                    </a:lnTo>
                    <a:lnTo>
                      <a:pt x="276" y="7"/>
                    </a:lnTo>
                    <a:lnTo>
                      <a:pt x="269" y="3"/>
                    </a:lnTo>
                    <a:lnTo>
                      <a:pt x="261" y="1"/>
                    </a:lnTo>
                    <a:lnTo>
                      <a:pt x="255" y="0"/>
                    </a:lnTo>
                    <a:lnTo>
                      <a:pt x="249" y="0"/>
                    </a:lnTo>
                    <a:lnTo>
                      <a:pt x="249" y="3"/>
                    </a:lnTo>
                    <a:lnTo>
                      <a:pt x="239" y="1"/>
                    </a:lnTo>
                    <a:lnTo>
                      <a:pt x="228" y="1"/>
                    </a:lnTo>
                    <a:lnTo>
                      <a:pt x="220" y="7"/>
                    </a:lnTo>
                    <a:lnTo>
                      <a:pt x="213" y="13"/>
                    </a:lnTo>
                    <a:lnTo>
                      <a:pt x="207" y="4"/>
                    </a:lnTo>
                    <a:lnTo>
                      <a:pt x="194" y="0"/>
                    </a:lnTo>
                    <a:lnTo>
                      <a:pt x="176" y="1"/>
                    </a:lnTo>
                    <a:lnTo>
                      <a:pt x="167" y="3"/>
                    </a:lnTo>
                    <a:lnTo>
                      <a:pt x="162" y="9"/>
                    </a:lnTo>
                    <a:lnTo>
                      <a:pt x="158" y="13"/>
                    </a:lnTo>
                    <a:lnTo>
                      <a:pt x="149" y="11"/>
                    </a:lnTo>
                    <a:lnTo>
                      <a:pt x="145" y="13"/>
                    </a:lnTo>
                    <a:lnTo>
                      <a:pt x="143" y="19"/>
                    </a:lnTo>
                    <a:lnTo>
                      <a:pt x="135" y="11"/>
                    </a:lnTo>
                    <a:lnTo>
                      <a:pt x="122" y="10"/>
                    </a:lnTo>
                    <a:lnTo>
                      <a:pt x="111" y="11"/>
                    </a:lnTo>
                    <a:lnTo>
                      <a:pt x="108" y="16"/>
                    </a:lnTo>
                    <a:lnTo>
                      <a:pt x="102" y="24"/>
                    </a:lnTo>
                    <a:lnTo>
                      <a:pt x="95" y="20"/>
                    </a:lnTo>
                    <a:lnTo>
                      <a:pt x="84" y="24"/>
                    </a:lnTo>
                    <a:lnTo>
                      <a:pt x="80" y="28"/>
                    </a:lnTo>
                    <a:lnTo>
                      <a:pt x="71" y="20"/>
                    </a:lnTo>
                    <a:lnTo>
                      <a:pt x="54" y="19"/>
                    </a:lnTo>
                    <a:lnTo>
                      <a:pt x="32" y="23"/>
                    </a:lnTo>
                    <a:lnTo>
                      <a:pt x="17" y="28"/>
                    </a:lnTo>
                    <a:lnTo>
                      <a:pt x="5" y="38"/>
                    </a:lnTo>
                    <a:lnTo>
                      <a:pt x="1" y="47"/>
                    </a:lnTo>
                    <a:lnTo>
                      <a:pt x="1" y="56"/>
                    </a:lnTo>
                    <a:lnTo>
                      <a:pt x="4" y="62"/>
                    </a:lnTo>
                    <a:lnTo>
                      <a:pt x="1" y="63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1" y="7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1735200" y="5675400"/>
                <a:ext cx="760680" cy="95760"/>
              </a:xfrm>
              <a:custGeom>
                <a:avLst/>
                <a:gdLst/>
                <a:ahLst/>
                <a:rect l="0" t="0" r="r" b="b"/>
                <a:pathLst>
                  <a:path fill="none" w="2113" h="266">
                    <a:moveTo>
                      <a:pt x="66" y="0"/>
                    </a:moveTo>
                    <a:lnTo>
                      <a:pt x="0" y="0"/>
                    </a:lnTo>
                    <a:lnTo>
                      <a:pt x="1003" y="266"/>
                    </a:lnTo>
                    <a:lnTo>
                      <a:pt x="2113" y="60"/>
                    </a:lnTo>
                    <a:lnTo>
                      <a:pt x="1935" y="4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4" name=""/>
            <p:cNvSpPr/>
            <p:nvPr/>
          </p:nvSpPr>
          <p:spPr>
            <a:xfrm flipV="1">
              <a:off x="3489480" y="2136600"/>
              <a:ext cx="1585800" cy="241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 flipV="1">
              <a:off x="5132520" y="2147760"/>
              <a:ext cx="193680" cy="251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 flipV="1">
              <a:off x="3238560" y="2125800"/>
              <a:ext cx="1801800" cy="241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5235480" y="2111400"/>
              <a:ext cx="3473640" cy="2292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 flipH="1" flipV="1">
              <a:off x="5181480" y="2149560"/>
              <a:ext cx="1409760" cy="271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 flipH="1" flipV="1">
              <a:off x="5211720" y="2141640"/>
              <a:ext cx="3192480" cy="259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0" name=""/>
            <p:cNvGrpSpPr/>
            <p:nvPr/>
          </p:nvGrpSpPr>
          <p:grpSpPr>
            <a:xfrm>
              <a:off x="4560840" y="1854360"/>
              <a:ext cx="1146600" cy="240120"/>
              <a:chOff x="4560840" y="1854360"/>
              <a:chExt cx="1146600" cy="240120"/>
            </a:xfrm>
          </p:grpSpPr>
          <p:sp>
            <p:nvSpPr>
              <p:cNvPr id="5931" name=""/>
              <p:cNvSpPr/>
              <p:nvPr/>
            </p:nvSpPr>
            <p:spPr>
              <a:xfrm>
                <a:off x="5126040" y="1890720"/>
                <a:ext cx="95760" cy="163800"/>
              </a:xfrm>
              <a:custGeom>
                <a:avLst/>
                <a:gdLst/>
                <a:ahLst/>
                <a:rect l="0" t="0" r="r" b="b"/>
                <a:pathLst>
                  <a:path fill="none" w="266" h="455">
                    <a:moveTo>
                      <a:pt x="266" y="70"/>
                    </a:moveTo>
                    <a:lnTo>
                      <a:pt x="159" y="433"/>
                    </a:lnTo>
                    <a:lnTo>
                      <a:pt x="22" y="455"/>
                    </a:lnTo>
                    <a:lnTo>
                      <a:pt x="0" y="57"/>
                    </a:lnTo>
                    <a:lnTo>
                      <a:pt x="26" y="39"/>
                    </a:lnTo>
                    <a:lnTo>
                      <a:pt x="80" y="17"/>
                    </a:lnTo>
                    <a:lnTo>
                      <a:pt x="142" y="0"/>
                    </a:lnTo>
                    <a:lnTo>
                      <a:pt x="181" y="17"/>
                    </a:lnTo>
                    <a:lnTo>
                      <a:pt x="240" y="48"/>
                    </a:lnTo>
                    <a:lnTo>
                      <a:pt x="266" y="7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560840" y="1916280"/>
                <a:ext cx="518040" cy="178200"/>
              </a:xfrm>
              <a:custGeom>
                <a:avLst/>
                <a:gdLst/>
                <a:ahLst/>
                <a:rect l="0" t="0" r="r" b="b"/>
                <a:pathLst>
                  <a:path fill="none" w="1439" h="495">
                    <a:moveTo>
                      <a:pt x="154" y="26"/>
                    </a:moveTo>
                    <a:lnTo>
                      <a:pt x="706" y="52"/>
                    </a:lnTo>
                    <a:lnTo>
                      <a:pt x="1179" y="70"/>
                    </a:lnTo>
                    <a:lnTo>
                      <a:pt x="1439" y="495"/>
                    </a:lnTo>
                    <a:lnTo>
                      <a:pt x="816" y="478"/>
                    </a:lnTo>
                    <a:lnTo>
                      <a:pt x="605" y="44"/>
                    </a:lnTo>
                    <a:lnTo>
                      <a:pt x="834" y="469"/>
                    </a:lnTo>
                    <a:lnTo>
                      <a:pt x="185" y="469"/>
                    </a:lnTo>
                    <a:lnTo>
                      <a:pt x="0" y="0"/>
                    </a:lnTo>
                    <a:lnTo>
                      <a:pt x="154" y="2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5191200" y="1924200"/>
                <a:ext cx="516240" cy="167040"/>
              </a:xfrm>
              <a:custGeom>
                <a:avLst/>
                <a:gdLst/>
                <a:ahLst/>
                <a:rect l="0" t="0" r="r" b="b"/>
                <a:pathLst>
                  <a:path fill="none" w="1434" h="464">
                    <a:moveTo>
                      <a:pt x="149" y="0"/>
                    </a:moveTo>
                    <a:lnTo>
                      <a:pt x="705" y="22"/>
                    </a:lnTo>
                    <a:lnTo>
                      <a:pt x="1182" y="44"/>
                    </a:lnTo>
                    <a:lnTo>
                      <a:pt x="1434" y="464"/>
                    </a:lnTo>
                    <a:lnTo>
                      <a:pt x="821" y="441"/>
                    </a:lnTo>
                    <a:lnTo>
                      <a:pt x="608" y="13"/>
                    </a:lnTo>
                    <a:lnTo>
                      <a:pt x="838" y="441"/>
                    </a:lnTo>
                    <a:lnTo>
                      <a:pt x="229" y="424"/>
                    </a:lnTo>
                    <a:lnTo>
                      <a:pt x="0" y="4"/>
                    </a:lnTo>
                    <a:lnTo>
                      <a:pt x="149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5022720" y="1876320"/>
                <a:ext cx="116280" cy="203400"/>
              </a:xfrm>
              <a:custGeom>
                <a:avLst/>
                <a:gdLst/>
                <a:ahLst/>
                <a:rect l="0" t="0" r="r" b="b"/>
                <a:pathLst>
                  <a:path fill="none" w="323" h="565">
                    <a:moveTo>
                      <a:pt x="137" y="0"/>
                    </a:moveTo>
                    <a:lnTo>
                      <a:pt x="323" y="251"/>
                    </a:lnTo>
                    <a:lnTo>
                      <a:pt x="168" y="565"/>
                    </a:lnTo>
                    <a:lnTo>
                      <a:pt x="0" y="322"/>
                    </a:lnTo>
                    <a:lnTo>
                      <a:pt x="137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35" name=""/>
              <p:cNvGrpSpPr/>
              <p:nvPr/>
            </p:nvGrpSpPr>
            <p:grpSpPr>
              <a:xfrm>
                <a:off x="5130720" y="2001960"/>
                <a:ext cx="77760" cy="71280"/>
                <a:chOff x="5130720" y="2001960"/>
                <a:chExt cx="77760" cy="71280"/>
              </a:xfrm>
            </p:grpSpPr>
            <p:sp>
              <p:nvSpPr>
                <p:cNvPr id="5936" name=""/>
                <p:cNvSpPr/>
                <p:nvPr/>
              </p:nvSpPr>
              <p:spPr>
                <a:xfrm>
                  <a:off x="5130720" y="2001960"/>
                  <a:ext cx="55440" cy="414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5137200" y="2011320"/>
                  <a:ext cx="55440" cy="4284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5146560" y="2022480"/>
                  <a:ext cx="55440" cy="414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5153040" y="2033640"/>
                  <a:ext cx="55440" cy="396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5168880" y="2048040"/>
                  <a:ext cx="25560" cy="176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1" name=""/>
              <p:cNvSpPr/>
              <p:nvPr/>
            </p:nvSpPr>
            <p:spPr>
              <a:xfrm>
                <a:off x="5072040" y="1876320"/>
                <a:ext cx="95760" cy="93960"/>
              </a:xfrm>
              <a:custGeom>
                <a:avLst/>
                <a:gdLst/>
                <a:ahLst/>
                <a:rect l="0" t="0" r="r" b="b"/>
                <a:pathLst>
                  <a:path fill="none" w="266" h="261">
                    <a:moveTo>
                      <a:pt x="0" y="0"/>
                    </a:moveTo>
                    <a:lnTo>
                      <a:pt x="89" y="4"/>
                    </a:lnTo>
                    <a:lnTo>
                      <a:pt x="266" y="261"/>
                    </a:lnTo>
                    <a:lnTo>
                      <a:pt x="186" y="25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5086440" y="1969920"/>
                <a:ext cx="82800" cy="117720"/>
              </a:xfrm>
              <a:custGeom>
                <a:avLst/>
                <a:gdLst/>
                <a:ahLst/>
                <a:rect l="0" t="0" r="r" b="b"/>
                <a:pathLst>
                  <a:path fill="none" w="230" h="327">
                    <a:moveTo>
                      <a:pt x="230" y="4"/>
                    </a:moveTo>
                    <a:lnTo>
                      <a:pt x="83" y="327"/>
                    </a:lnTo>
                    <a:lnTo>
                      <a:pt x="0" y="309"/>
                    </a:lnTo>
                    <a:lnTo>
                      <a:pt x="146" y="0"/>
                    </a:lnTo>
                    <a:lnTo>
                      <a:pt x="15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5064120" y="1901880"/>
                <a:ext cx="27360" cy="51120"/>
              </a:xfrm>
              <a:custGeom>
                <a:avLst/>
                <a:gdLst/>
                <a:ahLst/>
                <a:rect l="0" t="0" r="r" b="b"/>
                <a:pathLst>
                  <a:path fill="none" w="76" h="142">
                    <a:moveTo>
                      <a:pt x="0" y="70"/>
                    </a:moveTo>
                    <a:lnTo>
                      <a:pt x="31" y="0"/>
                    </a:lnTo>
                    <a:lnTo>
                      <a:pt x="76" y="75"/>
                    </a:lnTo>
                    <a:lnTo>
                      <a:pt x="49" y="142"/>
                    </a:lnTo>
                    <a:lnTo>
                      <a:pt x="0" y="7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091120" y="1940040"/>
                <a:ext cx="28800" cy="52920"/>
              </a:xfrm>
              <a:custGeom>
                <a:avLst/>
                <a:gdLst/>
                <a:ahLst/>
                <a:rect l="0" t="0" r="r" b="b"/>
                <a:pathLst>
                  <a:path fill="none" w="80" h="147">
                    <a:moveTo>
                      <a:pt x="0" y="75"/>
                    </a:moveTo>
                    <a:lnTo>
                      <a:pt x="30" y="0"/>
                    </a:lnTo>
                    <a:lnTo>
                      <a:pt x="80" y="80"/>
                    </a:lnTo>
                    <a:lnTo>
                      <a:pt x="53" y="147"/>
                    </a:lnTo>
                    <a:lnTo>
                      <a:pt x="0" y="7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076720" y="1971720"/>
                <a:ext cx="28800" cy="52920"/>
              </a:xfrm>
              <a:custGeom>
                <a:avLst/>
                <a:gdLst/>
                <a:ahLst/>
                <a:rect l="0" t="0" r="r" b="b"/>
                <a:pathLst>
                  <a:path fill="none" w="80" h="147">
                    <a:moveTo>
                      <a:pt x="0" y="75"/>
                    </a:moveTo>
                    <a:lnTo>
                      <a:pt x="35" y="0"/>
                    </a:lnTo>
                    <a:lnTo>
                      <a:pt x="80" y="71"/>
                    </a:lnTo>
                    <a:lnTo>
                      <a:pt x="45" y="147"/>
                    </a:lnTo>
                    <a:lnTo>
                      <a:pt x="0" y="7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064120" y="2001960"/>
                <a:ext cx="28800" cy="51120"/>
              </a:xfrm>
              <a:custGeom>
                <a:avLst/>
                <a:gdLst/>
                <a:ahLst/>
                <a:rect l="0" t="0" r="r" b="b"/>
                <a:pathLst>
                  <a:path fill="none" w="80" h="142">
                    <a:moveTo>
                      <a:pt x="0" y="75"/>
                    </a:moveTo>
                    <a:lnTo>
                      <a:pt x="35" y="0"/>
                    </a:lnTo>
                    <a:lnTo>
                      <a:pt x="80" y="75"/>
                    </a:lnTo>
                    <a:lnTo>
                      <a:pt x="45" y="142"/>
                    </a:lnTo>
                    <a:lnTo>
                      <a:pt x="0" y="7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5037120" y="1967040"/>
                <a:ext cx="32040" cy="47880"/>
              </a:xfrm>
              <a:custGeom>
                <a:avLst/>
                <a:gdLst/>
                <a:ahLst/>
                <a:rect l="0" t="0" r="r" b="b"/>
                <a:pathLst>
                  <a:path fill="none" w="89" h="133">
                    <a:moveTo>
                      <a:pt x="0" y="67"/>
                    </a:moveTo>
                    <a:lnTo>
                      <a:pt x="39" y="0"/>
                    </a:lnTo>
                    <a:lnTo>
                      <a:pt x="89" y="67"/>
                    </a:lnTo>
                    <a:lnTo>
                      <a:pt x="49" y="133"/>
                    </a:lnTo>
                    <a:lnTo>
                      <a:pt x="0" y="6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986360" y="1947960"/>
                <a:ext cx="92520" cy="146520"/>
              </a:xfrm>
              <a:custGeom>
                <a:avLst/>
                <a:gdLst/>
                <a:ahLst/>
                <a:rect l="0" t="0" r="r" b="b"/>
                <a:pathLst>
                  <a:path fill="none" w="257" h="407">
                    <a:moveTo>
                      <a:pt x="244" y="407"/>
                    </a:moveTo>
                    <a:lnTo>
                      <a:pt x="257" y="128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919191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5191200" y="1925640"/>
                <a:ext cx="87840" cy="146520"/>
              </a:xfrm>
              <a:custGeom>
                <a:avLst/>
                <a:gdLst/>
                <a:ahLst/>
                <a:rect l="0" t="0" r="r" b="b"/>
                <a:pathLst>
                  <a:path fill="none" w="244" h="407">
                    <a:moveTo>
                      <a:pt x="244" y="407"/>
                    </a:moveTo>
                    <a:lnTo>
                      <a:pt x="0" y="195"/>
                    </a:lnTo>
                    <a:lnTo>
                      <a:pt x="26" y="0"/>
                    </a:lnTo>
                  </a:path>
                </a:pathLst>
              </a:custGeom>
              <a:ln w="25560">
                <a:solidFill>
                  <a:srgbClr val="919191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5106960" y="1854360"/>
                <a:ext cx="116280" cy="59040"/>
              </a:xfrm>
              <a:custGeom>
                <a:avLst/>
                <a:gdLst/>
                <a:ahLst/>
                <a:rect l="0" t="0" r="r" b="b"/>
                <a:pathLst>
                  <a:path fill="none" w="323" h="164">
                    <a:moveTo>
                      <a:pt x="0" y="61"/>
                    </a:moveTo>
                    <a:lnTo>
                      <a:pt x="66" y="17"/>
                    </a:lnTo>
                    <a:lnTo>
                      <a:pt x="128" y="0"/>
                    </a:lnTo>
                    <a:lnTo>
                      <a:pt x="190" y="4"/>
                    </a:lnTo>
                    <a:lnTo>
                      <a:pt x="239" y="39"/>
                    </a:lnTo>
                    <a:lnTo>
                      <a:pt x="257" y="66"/>
                    </a:lnTo>
                    <a:lnTo>
                      <a:pt x="323" y="164"/>
                    </a:lnTo>
                    <a:lnTo>
                      <a:pt x="270" y="124"/>
                    </a:lnTo>
                    <a:lnTo>
                      <a:pt x="199" y="98"/>
                    </a:lnTo>
                    <a:lnTo>
                      <a:pt x="146" y="102"/>
                    </a:lnTo>
                    <a:lnTo>
                      <a:pt x="89" y="137"/>
                    </a:lnTo>
                    <a:lnTo>
                      <a:pt x="52" y="15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1" name=""/>
              <p:cNvGrpSpPr/>
              <p:nvPr/>
            </p:nvGrpSpPr>
            <p:grpSpPr>
              <a:xfrm>
                <a:off x="5176800" y="1933560"/>
                <a:ext cx="50760" cy="48960"/>
                <a:chOff x="5176800" y="1933560"/>
                <a:chExt cx="50760" cy="48960"/>
              </a:xfrm>
            </p:grpSpPr>
            <p:sp>
              <p:nvSpPr>
                <p:cNvPr id="5952" name=""/>
                <p:cNvSpPr/>
                <p:nvPr/>
              </p:nvSpPr>
              <p:spPr>
                <a:xfrm>
                  <a:off x="5176800" y="1933560"/>
                  <a:ext cx="34920" cy="3024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5181480" y="1938240"/>
                  <a:ext cx="34920" cy="3024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5186520" y="1946160"/>
                  <a:ext cx="34920" cy="2844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5192640" y="1954080"/>
                  <a:ext cx="34920" cy="2844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5199120" y="1962000"/>
                  <a:ext cx="19080" cy="11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7" name=""/>
              <p:cNvGrpSpPr/>
              <p:nvPr/>
            </p:nvGrpSpPr>
            <p:grpSpPr>
              <a:xfrm>
                <a:off x="5162400" y="1893960"/>
                <a:ext cx="46440" cy="44640"/>
                <a:chOff x="5162400" y="1893960"/>
                <a:chExt cx="46440" cy="44640"/>
              </a:xfrm>
            </p:grpSpPr>
            <p:sp>
              <p:nvSpPr>
                <p:cNvPr id="5958" name=""/>
                <p:cNvSpPr/>
                <p:nvPr/>
              </p:nvSpPr>
              <p:spPr>
                <a:xfrm>
                  <a:off x="5162400" y="1893960"/>
                  <a:ext cx="33480" cy="2556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5165640" y="1900080"/>
                  <a:ext cx="33480" cy="270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5170320" y="1906560"/>
                  <a:ext cx="33480" cy="270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5175360" y="1913040"/>
                  <a:ext cx="33480" cy="2556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5187960" y="1920960"/>
                  <a:ext cx="15840" cy="11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3" name=""/>
              <p:cNvGrpSpPr/>
              <p:nvPr/>
            </p:nvGrpSpPr>
            <p:grpSpPr>
              <a:xfrm>
                <a:off x="5137200" y="1916280"/>
                <a:ext cx="49320" cy="47520"/>
                <a:chOff x="5137200" y="1916280"/>
                <a:chExt cx="49320" cy="47520"/>
              </a:xfrm>
            </p:grpSpPr>
            <p:sp>
              <p:nvSpPr>
                <p:cNvPr id="5964" name=""/>
                <p:cNvSpPr/>
                <p:nvPr/>
              </p:nvSpPr>
              <p:spPr>
                <a:xfrm>
                  <a:off x="5137200" y="1916280"/>
                  <a:ext cx="34920" cy="270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5141880" y="1924200"/>
                  <a:ext cx="34920" cy="270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5146560" y="1928880"/>
                  <a:ext cx="34920" cy="270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5151600" y="1936800"/>
                  <a:ext cx="34920" cy="270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159520" y="1943280"/>
                  <a:ext cx="15840" cy="12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9" name=""/>
              <p:cNvGrpSpPr/>
              <p:nvPr/>
            </p:nvGrpSpPr>
            <p:grpSpPr>
              <a:xfrm>
                <a:off x="5167440" y="1979640"/>
                <a:ext cx="48960" cy="47520"/>
                <a:chOff x="5167440" y="1979640"/>
                <a:chExt cx="48960" cy="47520"/>
              </a:xfrm>
            </p:grpSpPr>
            <p:sp>
              <p:nvSpPr>
                <p:cNvPr id="5970" name=""/>
                <p:cNvSpPr/>
                <p:nvPr/>
              </p:nvSpPr>
              <p:spPr>
                <a:xfrm>
                  <a:off x="5167440" y="1979640"/>
                  <a:ext cx="36360" cy="2844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172120" y="1987560"/>
                  <a:ext cx="36360" cy="2556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176800" y="1994040"/>
                  <a:ext cx="36360" cy="270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>
                  <a:off x="5180040" y="2000160"/>
                  <a:ext cx="36360" cy="27000"/>
                </a:xfrm>
                <a:prstGeom prst="ellipse">
                  <a:avLst/>
                </a:prstGeom>
                <a:noFill/>
                <a:ln w="12600">
                  <a:solidFill>
                    <a:srgbClr val="618ffd"/>
                  </a:solidFill>
                  <a:round/>
                </a:ln>
              </p:spPr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5189400" y="2006640"/>
                  <a:ext cx="15840" cy="11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5" name=""/>
            <p:cNvSpPr/>
            <p:nvPr/>
          </p:nvSpPr>
          <p:spPr>
            <a:xfrm flipV="1">
              <a:off x="1957320" y="2144880"/>
              <a:ext cx="2978280" cy="157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6" name="" descr=""/>
            <p:cNvPicPr/>
            <p:nvPr/>
          </p:nvPicPr>
          <p:blipFill>
            <a:blip r:embed="rId8"/>
            <a:stretch/>
          </p:blipFill>
          <p:spPr>
            <a:xfrm>
              <a:off x="7994520" y="511488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7" name=""/>
            <p:cNvSpPr txBox="1"/>
            <p:nvPr/>
          </p:nvSpPr>
          <p:spPr>
            <a:xfrm>
              <a:off x="8464680" y="5221440"/>
              <a:ext cx="289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B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 txBox="1"/>
            <p:nvPr/>
          </p:nvSpPr>
          <p:spPr>
            <a:xfrm>
              <a:off x="7051680" y="4815000"/>
              <a:ext cx="614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-Theat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j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 txBox="1"/>
            <p:nvPr/>
          </p:nvSpPr>
          <p:spPr>
            <a:xfrm>
              <a:off x="7348680" y="5446800"/>
              <a:ext cx="282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B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 txBox="1"/>
            <p:nvPr/>
          </p:nvSpPr>
          <p:spPr>
            <a:xfrm>
              <a:off x="6996240" y="6211800"/>
              <a:ext cx="9954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ater Sour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 txBox="1"/>
            <p:nvPr/>
          </p:nvSpPr>
          <p:spPr>
            <a:xfrm>
              <a:off x="5900760" y="5651640"/>
              <a:ext cx="2192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V="1">
              <a:off x="5472000" y="579600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 txBox="1"/>
            <p:nvPr/>
          </p:nvSpPr>
          <p:spPr>
            <a:xfrm>
              <a:off x="8556480" y="594216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 txBox="1"/>
            <p:nvPr/>
          </p:nvSpPr>
          <p:spPr>
            <a:xfrm>
              <a:off x="8337600" y="4764240"/>
              <a:ext cx="5508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H="1" flipV="1">
              <a:off x="5318280" y="2286000"/>
              <a:ext cx="1398600" cy="247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 txBox="1"/>
            <p:nvPr/>
          </p:nvSpPr>
          <p:spPr>
            <a:xfrm>
              <a:off x="749160" y="2013120"/>
              <a:ext cx="1446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ellite Control Fac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7" name=""/>
            <p:cNvGrpSpPr/>
            <p:nvPr/>
          </p:nvGrpSpPr>
          <p:grpSpPr>
            <a:xfrm>
              <a:off x="792000" y="2217600"/>
              <a:ext cx="1360440" cy="446040"/>
              <a:chOff x="792000" y="2217600"/>
              <a:chExt cx="1360440" cy="446040"/>
            </a:xfrm>
          </p:grpSpPr>
          <p:pic>
            <p:nvPicPr>
              <p:cNvPr id="598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92000" y="2244600"/>
                <a:ext cx="93348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844640" y="2217600"/>
                <a:ext cx="307800" cy="446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90" name=""/>
            <p:cNvSpPr/>
            <p:nvPr/>
          </p:nvSpPr>
          <p:spPr>
            <a:xfrm flipV="1">
              <a:off x="2209680" y="2027160"/>
              <a:ext cx="2278080" cy="266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5578560" y="6469200"/>
              <a:ext cx="3054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V="1">
              <a:off x="5402160" y="6340320"/>
              <a:ext cx="13824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 flipV="1">
              <a:off x="5500800" y="6340320"/>
              <a:ext cx="13788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 txBox="1"/>
            <p:nvPr/>
          </p:nvSpPr>
          <p:spPr>
            <a:xfrm>
              <a:off x="6083280" y="6507000"/>
              <a:ext cx="19684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loyable Comm Infrastru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5" name=""/>
            <p:cNvGrpSpPr/>
            <p:nvPr/>
          </p:nvGrpSpPr>
          <p:grpSpPr>
            <a:xfrm>
              <a:off x="6726240" y="4776840"/>
              <a:ext cx="290880" cy="383040"/>
              <a:chOff x="6726240" y="4776840"/>
              <a:chExt cx="290880" cy="383040"/>
            </a:xfrm>
          </p:grpSpPr>
          <p:sp>
            <p:nvSpPr>
              <p:cNvPr id="5996" name=""/>
              <p:cNvSpPr/>
              <p:nvPr/>
            </p:nvSpPr>
            <p:spPr>
              <a:xfrm>
                <a:off x="6856560" y="4905360"/>
                <a:ext cx="160560" cy="254520"/>
              </a:xfrm>
              <a:custGeom>
                <a:avLst/>
                <a:gdLst/>
                <a:ahLst/>
                <a:rect l="0" t="0" r="r" b="b"/>
                <a:pathLst>
                  <a:path fill="none" w="446" h="707">
                    <a:moveTo>
                      <a:pt x="0" y="707"/>
                    </a:moveTo>
                    <a:lnTo>
                      <a:pt x="446" y="707"/>
                    </a:lnTo>
                    <a:lnTo>
                      <a:pt x="222" y="0"/>
                    </a:lnTo>
                    <a:lnTo>
                      <a:pt x="0" y="70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97" name=""/>
              <p:cNvGrpSpPr/>
              <p:nvPr/>
            </p:nvGrpSpPr>
            <p:grpSpPr>
              <a:xfrm>
                <a:off x="6807240" y="4776840"/>
                <a:ext cx="176400" cy="273240"/>
                <a:chOff x="6807240" y="4776840"/>
                <a:chExt cx="176400" cy="273240"/>
              </a:xfrm>
            </p:grpSpPr>
            <p:sp>
              <p:nvSpPr>
                <p:cNvPr id="5998" name=""/>
                <p:cNvSpPr/>
                <p:nvPr/>
              </p:nvSpPr>
              <p:spPr>
                <a:xfrm>
                  <a:off x="6807240" y="4778280"/>
                  <a:ext cx="176400" cy="271800"/>
                </a:xfrm>
                <a:custGeom>
                  <a:avLst/>
                  <a:gdLst/>
                  <a:ahLst/>
                  <a:rect l="0" t="0" r="r" b="b"/>
                  <a:pathLst>
                    <a:path fill="none" w="490" h="755">
                      <a:moveTo>
                        <a:pt x="475" y="23"/>
                      </a:moveTo>
                      <a:lnTo>
                        <a:pt x="478" y="47"/>
                      </a:lnTo>
                      <a:lnTo>
                        <a:pt x="484" y="76"/>
                      </a:lnTo>
                      <a:lnTo>
                        <a:pt x="490" y="103"/>
                      </a:lnTo>
                      <a:lnTo>
                        <a:pt x="490" y="133"/>
                      </a:lnTo>
                      <a:lnTo>
                        <a:pt x="484" y="171"/>
                      </a:lnTo>
                      <a:lnTo>
                        <a:pt x="475" y="218"/>
                      </a:lnTo>
                      <a:lnTo>
                        <a:pt x="463" y="275"/>
                      </a:lnTo>
                      <a:lnTo>
                        <a:pt x="445" y="331"/>
                      </a:lnTo>
                      <a:lnTo>
                        <a:pt x="420" y="394"/>
                      </a:lnTo>
                      <a:lnTo>
                        <a:pt x="375" y="462"/>
                      </a:lnTo>
                      <a:lnTo>
                        <a:pt x="327" y="530"/>
                      </a:lnTo>
                      <a:lnTo>
                        <a:pt x="288" y="574"/>
                      </a:lnTo>
                      <a:lnTo>
                        <a:pt x="238" y="621"/>
                      </a:lnTo>
                      <a:lnTo>
                        <a:pt x="184" y="666"/>
                      </a:lnTo>
                      <a:lnTo>
                        <a:pt x="142" y="701"/>
                      </a:lnTo>
                      <a:lnTo>
                        <a:pt x="96" y="725"/>
                      </a:lnTo>
                      <a:lnTo>
                        <a:pt x="63" y="740"/>
                      </a:lnTo>
                      <a:lnTo>
                        <a:pt x="39" y="755"/>
                      </a:lnTo>
                      <a:lnTo>
                        <a:pt x="15" y="755"/>
                      </a:lnTo>
                      <a:lnTo>
                        <a:pt x="0" y="743"/>
                      </a:lnTo>
                      <a:lnTo>
                        <a:pt x="454" y="0"/>
                      </a:lnTo>
                      <a:lnTo>
                        <a:pt x="475" y="23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6807240" y="4776840"/>
                  <a:ext cx="165600" cy="268560"/>
                </a:xfrm>
                <a:custGeom>
                  <a:avLst/>
                  <a:gdLst/>
                  <a:ahLst/>
                  <a:rect l="0" t="0" r="r" b="b"/>
                  <a:pathLst>
                    <a:path fill="none" w="460" h="746">
                      <a:moveTo>
                        <a:pt x="454" y="0"/>
                      </a:moveTo>
                      <a:lnTo>
                        <a:pt x="460" y="11"/>
                      </a:lnTo>
                      <a:lnTo>
                        <a:pt x="460" y="47"/>
                      </a:lnTo>
                      <a:lnTo>
                        <a:pt x="460" y="88"/>
                      </a:lnTo>
                      <a:lnTo>
                        <a:pt x="454" y="115"/>
                      </a:lnTo>
                      <a:lnTo>
                        <a:pt x="451" y="153"/>
                      </a:lnTo>
                      <a:lnTo>
                        <a:pt x="439" y="204"/>
                      </a:lnTo>
                      <a:lnTo>
                        <a:pt x="430" y="254"/>
                      </a:lnTo>
                      <a:lnTo>
                        <a:pt x="409" y="316"/>
                      </a:lnTo>
                      <a:lnTo>
                        <a:pt x="376" y="388"/>
                      </a:lnTo>
                      <a:lnTo>
                        <a:pt x="332" y="444"/>
                      </a:lnTo>
                      <a:lnTo>
                        <a:pt x="287" y="506"/>
                      </a:lnTo>
                      <a:lnTo>
                        <a:pt x="248" y="556"/>
                      </a:lnTo>
                      <a:lnTo>
                        <a:pt x="221" y="586"/>
                      </a:lnTo>
                      <a:lnTo>
                        <a:pt x="191" y="616"/>
                      </a:lnTo>
                      <a:lnTo>
                        <a:pt x="160" y="642"/>
                      </a:lnTo>
                      <a:lnTo>
                        <a:pt x="127" y="675"/>
                      </a:lnTo>
                      <a:lnTo>
                        <a:pt x="96" y="695"/>
                      </a:lnTo>
                      <a:lnTo>
                        <a:pt x="69" y="713"/>
                      </a:lnTo>
                      <a:lnTo>
                        <a:pt x="45" y="728"/>
                      </a:lnTo>
                      <a:lnTo>
                        <a:pt x="18" y="743"/>
                      </a:lnTo>
                      <a:lnTo>
                        <a:pt x="6" y="746"/>
                      </a:lnTo>
                      <a:lnTo>
                        <a:pt x="0" y="734"/>
                      </a:lnTo>
                      <a:lnTo>
                        <a:pt x="0" y="719"/>
                      </a:lnTo>
                      <a:lnTo>
                        <a:pt x="6" y="704"/>
                      </a:lnTo>
                      <a:lnTo>
                        <a:pt x="9" y="669"/>
                      </a:lnTo>
                      <a:lnTo>
                        <a:pt x="18" y="630"/>
                      </a:lnTo>
                      <a:lnTo>
                        <a:pt x="24" y="592"/>
                      </a:lnTo>
                      <a:lnTo>
                        <a:pt x="39" y="548"/>
                      </a:lnTo>
                      <a:lnTo>
                        <a:pt x="54" y="500"/>
                      </a:lnTo>
                      <a:lnTo>
                        <a:pt x="69" y="465"/>
                      </a:lnTo>
                      <a:lnTo>
                        <a:pt x="84" y="429"/>
                      </a:lnTo>
                      <a:lnTo>
                        <a:pt x="102" y="391"/>
                      </a:lnTo>
                      <a:lnTo>
                        <a:pt x="127" y="348"/>
                      </a:lnTo>
                      <a:lnTo>
                        <a:pt x="151" y="310"/>
                      </a:lnTo>
                      <a:lnTo>
                        <a:pt x="191" y="257"/>
                      </a:lnTo>
                      <a:lnTo>
                        <a:pt x="221" y="221"/>
                      </a:lnTo>
                      <a:lnTo>
                        <a:pt x="260" y="174"/>
                      </a:lnTo>
                      <a:lnTo>
                        <a:pt x="299" y="136"/>
                      </a:lnTo>
                      <a:lnTo>
                        <a:pt x="332" y="103"/>
                      </a:lnTo>
                      <a:lnTo>
                        <a:pt x="367" y="70"/>
                      </a:lnTo>
                      <a:lnTo>
                        <a:pt x="397" y="41"/>
                      </a:lnTo>
                      <a:lnTo>
                        <a:pt x="415" y="23"/>
                      </a:lnTo>
                      <a:lnTo>
                        <a:pt x="439" y="8"/>
                      </a:lnTo>
                      <a:lnTo>
                        <a:pt x="4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0" name=""/>
              <p:cNvSpPr/>
              <p:nvPr/>
            </p:nvSpPr>
            <p:spPr>
              <a:xfrm>
                <a:off x="6797520" y="4782960"/>
                <a:ext cx="51120" cy="184680"/>
              </a:xfrm>
              <a:custGeom>
                <a:avLst/>
                <a:gdLst/>
                <a:ahLst/>
                <a:rect l="0" t="0" r="r" b="b"/>
                <a:pathLst>
                  <a:path fill="none" w="142" h="513">
                    <a:moveTo>
                      <a:pt x="142" y="513"/>
                    </a:moveTo>
                    <a:lnTo>
                      <a:pt x="0" y="513"/>
                    </a:lnTo>
                    <a:lnTo>
                      <a:pt x="70" y="0"/>
                    </a:lnTo>
                    <a:lnTo>
                      <a:pt x="142" y="51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6726240" y="4819680"/>
                <a:ext cx="63360" cy="28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02" name="" descr=""/>
            <p:cNvPicPr/>
            <p:nvPr/>
          </p:nvPicPr>
          <p:blipFill>
            <a:blip r:embed="rId11"/>
            <a:stretch/>
          </p:blipFill>
          <p:spPr>
            <a:xfrm>
              <a:off x="5135400" y="5361120"/>
              <a:ext cx="6732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3" name="" descr=""/>
            <p:cNvPicPr/>
            <p:nvPr/>
          </p:nvPicPr>
          <p:blipFill>
            <a:blip r:embed="rId12"/>
            <a:stretch/>
          </p:blipFill>
          <p:spPr>
            <a:xfrm>
              <a:off x="6588000" y="5257800"/>
              <a:ext cx="6732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4" name="" descr=""/>
            <p:cNvPicPr/>
            <p:nvPr/>
          </p:nvPicPr>
          <p:blipFill>
            <a:blip r:embed="rId13"/>
            <a:stretch/>
          </p:blipFill>
          <p:spPr>
            <a:xfrm>
              <a:off x="7261200" y="5803920"/>
              <a:ext cx="477720" cy="33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Theater IM (T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"/>
          <p:cNvSpPr/>
          <p:nvPr/>
        </p:nvSpPr>
        <p:spPr>
          <a:xfrm>
            <a:off x="101520" y="1434960"/>
            <a:ext cx="8915400" cy="5283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"/>
          <p:cNvSpPr/>
          <p:nvPr/>
        </p:nvSpPr>
        <p:spPr>
          <a:xfrm>
            <a:off x="2158920" y="5013360"/>
            <a:ext cx="0" cy="49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"/>
          <p:cNvSpPr/>
          <p:nvPr/>
        </p:nvSpPr>
        <p:spPr>
          <a:xfrm>
            <a:off x="3187800" y="3911760"/>
            <a:ext cx="5702400" cy="15368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"/>
          <p:cNvSpPr/>
          <p:nvPr/>
        </p:nvSpPr>
        <p:spPr>
          <a:xfrm>
            <a:off x="3462480" y="4280040"/>
            <a:ext cx="18543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"/>
          <p:cNvSpPr/>
          <p:nvPr/>
        </p:nvSpPr>
        <p:spPr>
          <a:xfrm>
            <a:off x="6578640" y="4508640"/>
            <a:ext cx="1854360" cy="6350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1" name=""/>
          <p:cNvSpPr/>
          <p:nvPr/>
        </p:nvSpPr>
        <p:spPr>
          <a:xfrm>
            <a:off x="304920" y="5016600"/>
            <a:ext cx="261612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"/>
          <p:cNvSpPr/>
          <p:nvPr/>
        </p:nvSpPr>
        <p:spPr>
          <a:xfrm>
            <a:off x="2692440" y="6469200"/>
            <a:ext cx="27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"/>
          <p:cNvSpPr/>
          <p:nvPr/>
        </p:nvSpPr>
        <p:spPr>
          <a:xfrm>
            <a:off x="2692440" y="501660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4" name=""/>
          <p:cNvSpPr/>
          <p:nvPr/>
        </p:nvSpPr>
        <p:spPr>
          <a:xfrm>
            <a:off x="915840" y="5013360"/>
            <a:ext cx="1800" cy="9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5" name=""/>
          <p:cNvSpPr/>
          <p:nvPr/>
        </p:nvSpPr>
        <p:spPr>
          <a:xfrm flipV="1">
            <a:off x="728640" y="4114800"/>
            <a:ext cx="1440" cy="89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6" name=""/>
          <p:cNvSpPr txBox="1"/>
          <p:nvPr/>
        </p:nvSpPr>
        <p:spPr>
          <a:xfrm>
            <a:off x="1130400" y="4811760"/>
            <a:ext cx="5716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N / D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7" name=""/>
          <p:cNvGrpSpPr/>
          <p:nvPr/>
        </p:nvGrpSpPr>
        <p:grpSpPr>
          <a:xfrm>
            <a:off x="2754360" y="6461280"/>
            <a:ext cx="2455920" cy="244440"/>
            <a:chOff x="2754360" y="6461280"/>
            <a:chExt cx="2455920" cy="244440"/>
          </a:xfrm>
        </p:grpSpPr>
        <p:sp>
          <p:nvSpPr>
            <p:cNvPr id="6018" name=""/>
            <p:cNvSpPr/>
            <p:nvPr/>
          </p:nvSpPr>
          <p:spPr>
            <a:xfrm flipH="1">
              <a:off x="2754360" y="6575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 txBox="1"/>
            <p:nvPr/>
          </p:nvSpPr>
          <p:spPr>
            <a:xfrm>
              <a:off x="3127320" y="6461280"/>
              <a:ext cx="208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Pull (Any Available Medi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0" name=""/>
          <p:cNvSpPr/>
          <p:nvPr/>
        </p:nvSpPr>
        <p:spPr>
          <a:xfrm flipH="1">
            <a:off x="4930920" y="5997600"/>
            <a:ext cx="2315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1" name=""/>
          <p:cNvSpPr/>
          <p:nvPr/>
        </p:nvSpPr>
        <p:spPr>
          <a:xfrm>
            <a:off x="6940440" y="5099040"/>
            <a:ext cx="1800" cy="88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"/>
          <p:cNvSpPr/>
          <p:nvPr/>
        </p:nvSpPr>
        <p:spPr>
          <a:xfrm>
            <a:off x="8234280" y="49831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"/>
          <p:cNvSpPr/>
          <p:nvPr/>
        </p:nvSpPr>
        <p:spPr>
          <a:xfrm>
            <a:off x="7894800" y="5703840"/>
            <a:ext cx="7365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4" name=""/>
          <p:cNvSpPr/>
          <p:nvPr/>
        </p:nvSpPr>
        <p:spPr>
          <a:xfrm flipH="1">
            <a:off x="8327880" y="5705640"/>
            <a:ext cx="3240" cy="76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"/>
          <p:cNvSpPr/>
          <p:nvPr/>
        </p:nvSpPr>
        <p:spPr>
          <a:xfrm>
            <a:off x="6497640" y="5994360"/>
            <a:ext cx="144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6" name=""/>
          <p:cNvGrpSpPr/>
          <p:nvPr/>
        </p:nvGrpSpPr>
        <p:grpSpPr>
          <a:xfrm>
            <a:off x="8053560" y="4670280"/>
            <a:ext cx="231840" cy="311400"/>
            <a:chOff x="8053560" y="4670280"/>
            <a:chExt cx="231840" cy="311400"/>
          </a:xfrm>
        </p:grpSpPr>
        <p:sp>
          <p:nvSpPr>
            <p:cNvPr id="6027" name=""/>
            <p:cNvSpPr/>
            <p:nvPr/>
          </p:nvSpPr>
          <p:spPr>
            <a:xfrm>
              <a:off x="8156520" y="4775040"/>
              <a:ext cx="128880" cy="206640"/>
            </a:xfrm>
            <a:custGeom>
              <a:avLst/>
              <a:gdLst/>
              <a:ahLst/>
              <a:rect l="0" t="0" r="r" b="b"/>
              <a:pathLst>
                <a:path fill="none" w="358" h="574">
                  <a:moveTo>
                    <a:pt x="0" y="574"/>
                  </a:moveTo>
                  <a:lnTo>
                    <a:pt x="358" y="574"/>
                  </a:lnTo>
                  <a:lnTo>
                    <a:pt x="178" y="0"/>
                  </a:lnTo>
                  <a:lnTo>
                    <a:pt x="0" y="5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8" name=""/>
            <p:cNvGrpSpPr/>
            <p:nvPr/>
          </p:nvGrpSpPr>
          <p:grpSpPr>
            <a:xfrm>
              <a:off x="8118360" y="4670280"/>
              <a:ext cx="140040" cy="222840"/>
              <a:chOff x="8118360" y="4670280"/>
              <a:chExt cx="140040" cy="222840"/>
            </a:xfrm>
          </p:grpSpPr>
          <p:sp>
            <p:nvSpPr>
              <p:cNvPr id="6029" name=""/>
              <p:cNvSpPr/>
              <p:nvPr/>
            </p:nvSpPr>
            <p:spPr>
              <a:xfrm>
                <a:off x="8118360" y="4672080"/>
                <a:ext cx="140040" cy="221040"/>
              </a:xfrm>
              <a:custGeom>
                <a:avLst/>
                <a:gdLst/>
                <a:ahLst/>
                <a:rect l="0" t="0" r="r" b="b"/>
                <a:pathLst>
                  <a:path fill="none" w="389" h="614">
                    <a:moveTo>
                      <a:pt x="377" y="19"/>
                    </a:moveTo>
                    <a:lnTo>
                      <a:pt x="379" y="38"/>
                    </a:lnTo>
                    <a:lnTo>
                      <a:pt x="384" y="62"/>
                    </a:lnTo>
                    <a:lnTo>
                      <a:pt x="389" y="84"/>
                    </a:lnTo>
                    <a:lnTo>
                      <a:pt x="389" y="108"/>
                    </a:lnTo>
                    <a:lnTo>
                      <a:pt x="384" y="139"/>
                    </a:lnTo>
                    <a:lnTo>
                      <a:pt x="377" y="178"/>
                    </a:lnTo>
                    <a:lnTo>
                      <a:pt x="367" y="224"/>
                    </a:lnTo>
                    <a:lnTo>
                      <a:pt x="353" y="270"/>
                    </a:lnTo>
                    <a:lnTo>
                      <a:pt x="333" y="320"/>
                    </a:lnTo>
                    <a:lnTo>
                      <a:pt x="298" y="375"/>
                    </a:lnTo>
                    <a:lnTo>
                      <a:pt x="259" y="431"/>
                    </a:lnTo>
                    <a:lnTo>
                      <a:pt x="228" y="468"/>
                    </a:lnTo>
                    <a:lnTo>
                      <a:pt x="189" y="506"/>
                    </a:lnTo>
                    <a:lnTo>
                      <a:pt x="146" y="542"/>
                    </a:lnTo>
                    <a:lnTo>
                      <a:pt x="112" y="571"/>
                    </a:lnTo>
                    <a:lnTo>
                      <a:pt x="76" y="590"/>
                    </a:lnTo>
                    <a:lnTo>
                      <a:pt x="50" y="602"/>
                    </a:lnTo>
                    <a:lnTo>
                      <a:pt x="31" y="614"/>
                    </a:lnTo>
                    <a:lnTo>
                      <a:pt x="11" y="614"/>
                    </a:lnTo>
                    <a:lnTo>
                      <a:pt x="0" y="605"/>
                    </a:lnTo>
                    <a:lnTo>
                      <a:pt x="360" y="0"/>
                    </a:lnTo>
                    <a:lnTo>
                      <a:pt x="377" y="1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8118360" y="4670280"/>
                <a:ext cx="132120" cy="219600"/>
              </a:xfrm>
              <a:custGeom>
                <a:avLst/>
                <a:gdLst/>
                <a:ahLst/>
                <a:rect l="0" t="0" r="r" b="b"/>
                <a:pathLst>
                  <a:path fill="none" w="367" h="610">
                    <a:moveTo>
                      <a:pt x="362" y="0"/>
                    </a:moveTo>
                    <a:lnTo>
                      <a:pt x="367" y="9"/>
                    </a:lnTo>
                    <a:lnTo>
                      <a:pt x="367" y="38"/>
                    </a:lnTo>
                    <a:lnTo>
                      <a:pt x="367" y="72"/>
                    </a:lnTo>
                    <a:lnTo>
                      <a:pt x="362" y="94"/>
                    </a:lnTo>
                    <a:lnTo>
                      <a:pt x="359" y="125"/>
                    </a:lnTo>
                    <a:lnTo>
                      <a:pt x="350" y="167"/>
                    </a:lnTo>
                    <a:lnTo>
                      <a:pt x="342" y="208"/>
                    </a:lnTo>
                    <a:lnTo>
                      <a:pt x="326" y="259"/>
                    </a:lnTo>
                    <a:lnTo>
                      <a:pt x="299" y="317"/>
                    </a:lnTo>
                    <a:lnTo>
                      <a:pt x="265" y="363"/>
                    </a:lnTo>
                    <a:lnTo>
                      <a:pt x="229" y="413"/>
                    </a:lnTo>
                    <a:lnTo>
                      <a:pt x="198" y="454"/>
                    </a:lnTo>
                    <a:lnTo>
                      <a:pt x="175" y="480"/>
                    </a:lnTo>
                    <a:lnTo>
                      <a:pt x="151" y="504"/>
                    </a:lnTo>
                    <a:lnTo>
                      <a:pt x="127" y="526"/>
                    </a:lnTo>
                    <a:lnTo>
                      <a:pt x="101" y="552"/>
                    </a:lnTo>
                    <a:lnTo>
                      <a:pt x="77" y="569"/>
                    </a:lnTo>
                    <a:lnTo>
                      <a:pt x="55" y="583"/>
                    </a:lnTo>
                    <a:lnTo>
                      <a:pt x="36" y="596"/>
                    </a:lnTo>
                    <a:lnTo>
                      <a:pt x="14" y="608"/>
                    </a:lnTo>
                    <a:lnTo>
                      <a:pt x="4" y="610"/>
                    </a:lnTo>
                    <a:lnTo>
                      <a:pt x="0" y="600"/>
                    </a:lnTo>
                    <a:lnTo>
                      <a:pt x="0" y="588"/>
                    </a:lnTo>
                    <a:lnTo>
                      <a:pt x="4" y="576"/>
                    </a:lnTo>
                    <a:lnTo>
                      <a:pt x="7" y="547"/>
                    </a:lnTo>
                    <a:lnTo>
                      <a:pt x="14" y="516"/>
                    </a:lnTo>
                    <a:lnTo>
                      <a:pt x="19" y="484"/>
                    </a:lnTo>
                    <a:lnTo>
                      <a:pt x="31" y="447"/>
                    </a:lnTo>
                    <a:lnTo>
                      <a:pt x="43" y="409"/>
                    </a:lnTo>
                    <a:lnTo>
                      <a:pt x="55" y="380"/>
                    </a:lnTo>
                    <a:lnTo>
                      <a:pt x="67" y="351"/>
                    </a:lnTo>
                    <a:lnTo>
                      <a:pt x="81" y="319"/>
                    </a:lnTo>
                    <a:lnTo>
                      <a:pt x="101" y="285"/>
                    </a:lnTo>
                    <a:lnTo>
                      <a:pt x="120" y="254"/>
                    </a:lnTo>
                    <a:lnTo>
                      <a:pt x="151" y="211"/>
                    </a:lnTo>
                    <a:lnTo>
                      <a:pt x="175" y="182"/>
                    </a:lnTo>
                    <a:lnTo>
                      <a:pt x="208" y="142"/>
                    </a:lnTo>
                    <a:lnTo>
                      <a:pt x="239" y="111"/>
                    </a:lnTo>
                    <a:lnTo>
                      <a:pt x="265" y="84"/>
                    </a:lnTo>
                    <a:lnTo>
                      <a:pt x="292" y="57"/>
                    </a:lnTo>
                    <a:lnTo>
                      <a:pt x="316" y="33"/>
                    </a:lnTo>
                    <a:lnTo>
                      <a:pt x="330" y="19"/>
                    </a:lnTo>
                    <a:lnTo>
                      <a:pt x="350" y="7"/>
                    </a:lnTo>
                    <a:lnTo>
                      <a:pt x="36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1" name=""/>
            <p:cNvSpPr/>
            <p:nvPr/>
          </p:nvSpPr>
          <p:spPr>
            <a:xfrm>
              <a:off x="8110440" y="4675320"/>
              <a:ext cx="41760" cy="151200"/>
            </a:xfrm>
            <a:custGeom>
              <a:avLst/>
              <a:gdLst/>
              <a:ahLst/>
              <a:rect l="0" t="0" r="r" b="b"/>
              <a:pathLst>
                <a:path fill="none" w="116" h="420">
                  <a:moveTo>
                    <a:pt x="116" y="420"/>
                  </a:moveTo>
                  <a:lnTo>
                    <a:pt x="0" y="420"/>
                  </a:lnTo>
                  <a:lnTo>
                    <a:pt x="58" y="0"/>
                  </a:lnTo>
                  <a:lnTo>
                    <a:pt x="116" y="4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8053560" y="4705200"/>
              <a:ext cx="5076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3" name=""/>
          <p:cNvSpPr txBox="1"/>
          <p:nvPr/>
        </p:nvSpPr>
        <p:spPr>
          <a:xfrm>
            <a:off x="4892760" y="1616040"/>
            <a:ext cx="401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FO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4" name="" descr=""/>
          <p:cNvPicPr/>
          <p:nvPr/>
        </p:nvPicPr>
        <p:blipFill>
          <a:blip r:embed="rId1"/>
          <a:stretch/>
        </p:blipFill>
        <p:spPr>
          <a:xfrm>
            <a:off x="6534000" y="4067280"/>
            <a:ext cx="1049400" cy="243000"/>
          </a:xfrm>
          <a:prstGeom prst="rect">
            <a:avLst/>
          </a:prstGeom>
          <a:ln w="0">
            <a:noFill/>
          </a:ln>
        </p:spPr>
      </p:pic>
      <p:pic>
        <p:nvPicPr>
          <p:cNvPr id="6035" name="" descr=""/>
          <p:cNvPicPr/>
          <p:nvPr/>
        </p:nvPicPr>
        <p:blipFill>
          <a:blip r:embed="rId2"/>
          <a:stretch/>
        </p:blipFill>
        <p:spPr>
          <a:xfrm>
            <a:off x="8097840" y="5942160"/>
            <a:ext cx="463680" cy="365040"/>
          </a:xfrm>
          <a:prstGeom prst="rect">
            <a:avLst/>
          </a:prstGeom>
          <a:ln w="0">
            <a:noFill/>
          </a:ln>
        </p:spPr>
      </p:pic>
      <p:sp>
        <p:nvSpPr>
          <p:cNvPr id="6036" name=""/>
          <p:cNvSpPr txBox="1"/>
          <p:nvPr/>
        </p:nvSpPr>
        <p:spPr>
          <a:xfrm>
            <a:off x="587520" y="3551400"/>
            <a:ext cx="2826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7" name=""/>
          <p:cNvSpPr txBox="1"/>
          <p:nvPr/>
        </p:nvSpPr>
        <p:spPr>
          <a:xfrm>
            <a:off x="1677960" y="4265640"/>
            <a:ext cx="4586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j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8" name=""/>
          <p:cNvGrpSpPr/>
          <p:nvPr/>
        </p:nvGrpSpPr>
        <p:grpSpPr>
          <a:xfrm>
            <a:off x="5346720" y="4738680"/>
            <a:ext cx="1143360" cy="515880"/>
            <a:chOff x="5346720" y="4738680"/>
            <a:chExt cx="1143360" cy="515880"/>
          </a:xfrm>
        </p:grpSpPr>
        <p:grpSp>
          <p:nvGrpSpPr>
            <p:cNvPr id="6039" name=""/>
            <p:cNvGrpSpPr/>
            <p:nvPr/>
          </p:nvGrpSpPr>
          <p:grpSpPr>
            <a:xfrm>
              <a:off x="5357880" y="4748040"/>
              <a:ext cx="1132200" cy="505440"/>
              <a:chOff x="5357880" y="4748040"/>
              <a:chExt cx="1132200" cy="505440"/>
            </a:xfrm>
          </p:grpSpPr>
          <p:sp>
            <p:nvSpPr>
              <p:cNvPr id="6040" name=""/>
              <p:cNvSpPr/>
              <p:nvPr/>
            </p:nvSpPr>
            <p:spPr>
              <a:xfrm>
                <a:off x="5513400" y="5145120"/>
                <a:ext cx="722520" cy="90720"/>
              </a:xfrm>
              <a:custGeom>
                <a:avLst/>
                <a:gdLst/>
                <a:ahLst/>
                <a:rect l="0" t="0" r="r" b="b"/>
                <a:pathLst>
                  <a:path fill="none" w="2007" h="252">
                    <a:moveTo>
                      <a:pt x="0" y="71"/>
                    </a:moveTo>
                    <a:lnTo>
                      <a:pt x="61" y="37"/>
                    </a:lnTo>
                    <a:lnTo>
                      <a:pt x="85" y="33"/>
                    </a:lnTo>
                    <a:lnTo>
                      <a:pt x="123" y="23"/>
                    </a:lnTo>
                    <a:lnTo>
                      <a:pt x="194" y="33"/>
                    </a:lnTo>
                    <a:lnTo>
                      <a:pt x="247" y="42"/>
                    </a:lnTo>
                    <a:lnTo>
                      <a:pt x="318" y="52"/>
                    </a:lnTo>
                    <a:lnTo>
                      <a:pt x="1508" y="0"/>
                    </a:lnTo>
                    <a:lnTo>
                      <a:pt x="1841" y="171"/>
                    </a:lnTo>
                    <a:lnTo>
                      <a:pt x="1898" y="113"/>
                    </a:lnTo>
                    <a:lnTo>
                      <a:pt x="1955" y="75"/>
                    </a:lnTo>
                    <a:lnTo>
                      <a:pt x="1988" y="66"/>
                    </a:lnTo>
                    <a:lnTo>
                      <a:pt x="2007" y="80"/>
                    </a:lnTo>
                    <a:lnTo>
                      <a:pt x="2002" y="118"/>
                    </a:lnTo>
                    <a:lnTo>
                      <a:pt x="2007" y="133"/>
                    </a:lnTo>
                    <a:lnTo>
                      <a:pt x="1988" y="195"/>
                    </a:lnTo>
                    <a:lnTo>
                      <a:pt x="1902" y="200"/>
                    </a:lnTo>
                    <a:lnTo>
                      <a:pt x="1874" y="242"/>
                    </a:lnTo>
                    <a:lnTo>
                      <a:pt x="1612" y="242"/>
                    </a:lnTo>
                    <a:lnTo>
                      <a:pt x="1408" y="252"/>
                    </a:lnTo>
                    <a:lnTo>
                      <a:pt x="1318" y="214"/>
                    </a:lnTo>
                    <a:lnTo>
                      <a:pt x="1232" y="252"/>
                    </a:lnTo>
                    <a:lnTo>
                      <a:pt x="1146" y="247"/>
                    </a:lnTo>
                    <a:lnTo>
                      <a:pt x="1080" y="200"/>
                    </a:lnTo>
                    <a:lnTo>
                      <a:pt x="1008" y="181"/>
                    </a:lnTo>
                    <a:lnTo>
                      <a:pt x="931" y="200"/>
                    </a:lnTo>
                    <a:lnTo>
                      <a:pt x="736" y="157"/>
                    </a:lnTo>
                    <a:lnTo>
                      <a:pt x="580" y="176"/>
                    </a:lnTo>
                    <a:lnTo>
                      <a:pt x="489" y="138"/>
                    </a:lnTo>
                    <a:lnTo>
                      <a:pt x="465" y="113"/>
                    </a:lnTo>
                    <a:lnTo>
                      <a:pt x="389" y="118"/>
                    </a:lnTo>
                    <a:lnTo>
                      <a:pt x="328" y="113"/>
                    </a:lnTo>
                    <a:lnTo>
                      <a:pt x="228" y="94"/>
                    </a:lnTo>
                    <a:lnTo>
                      <a:pt x="123" y="85"/>
                    </a:lnTo>
                    <a:lnTo>
                      <a:pt x="66" y="90"/>
                    </a:lnTo>
                    <a:lnTo>
                      <a:pt x="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5437080" y="5159520"/>
                <a:ext cx="248040" cy="28800"/>
              </a:xfrm>
              <a:custGeom>
                <a:avLst/>
                <a:gdLst/>
                <a:ahLst/>
                <a:rect l="0" t="0" r="r" b="b"/>
                <a:pathLst>
                  <a:path fill="none" w="689" h="80">
                    <a:moveTo>
                      <a:pt x="0" y="14"/>
                    </a:moveTo>
                    <a:lnTo>
                      <a:pt x="99" y="14"/>
                    </a:lnTo>
                    <a:lnTo>
                      <a:pt x="132" y="4"/>
                    </a:lnTo>
                    <a:lnTo>
                      <a:pt x="166" y="18"/>
                    </a:lnTo>
                    <a:lnTo>
                      <a:pt x="219" y="18"/>
                    </a:lnTo>
                    <a:lnTo>
                      <a:pt x="247" y="14"/>
                    </a:lnTo>
                    <a:lnTo>
                      <a:pt x="290" y="0"/>
                    </a:lnTo>
                    <a:lnTo>
                      <a:pt x="285" y="18"/>
                    </a:lnTo>
                    <a:lnTo>
                      <a:pt x="333" y="14"/>
                    </a:lnTo>
                    <a:lnTo>
                      <a:pt x="371" y="28"/>
                    </a:lnTo>
                    <a:lnTo>
                      <a:pt x="437" y="32"/>
                    </a:lnTo>
                    <a:lnTo>
                      <a:pt x="489" y="43"/>
                    </a:lnTo>
                    <a:lnTo>
                      <a:pt x="538" y="43"/>
                    </a:lnTo>
                    <a:lnTo>
                      <a:pt x="585" y="52"/>
                    </a:lnTo>
                    <a:lnTo>
                      <a:pt x="651" y="47"/>
                    </a:lnTo>
                    <a:lnTo>
                      <a:pt x="689" y="71"/>
                    </a:lnTo>
                    <a:lnTo>
                      <a:pt x="599" y="75"/>
                    </a:lnTo>
                    <a:lnTo>
                      <a:pt x="523" y="80"/>
                    </a:lnTo>
                    <a:lnTo>
                      <a:pt x="446" y="75"/>
                    </a:lnTo>
                    <a:lnTo>
                      <a:pt x="361" y="57"/>
                    </a:lnTo>
                    <a:lnTo>
                      <a:pt x="280" y="57"/>
                    </a:lnTo>
                    <a:lnTo>
                      <a:pt x="233" y="52"/>
                    </a:lnTo>
                    <a:lnTo>
                      <a:pt x="151" y="47"/>
                    </a:lnTo>
                    <a:lnTo>
                      <a:pt x="118" y="43"/>
                    </a:lnTo>
                    <a:lnTo>
                      <a:pt x="61" y="47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5665680" y="5186520"/>
                <a:ext cx="271800" cy="39960"/>
              </a:xfrm>
              <a:custGeom>
                <a:avLst/>
                <a:gdLst/>
                <a:ahLst/>
                <a:rect l="0" t="0" r="r" b="b"/>
                <a:pathLst>
                  <a:path fill="none" w="755" h="111">
                    <a:moveTo>
                      <a:pt x="755" y="92"/>
                    </a:moveTo>
                    <a:lnTo>
                      <a:pt x="717" y="58"/>
                    </a:lnTo>
                    <a:lnTo>
                      <a:pt x="688" y="63"/>
                    </a:lnTo>
                    <a:lnTo>
                      <a:pt x="636" y="58"/>
                    </a:lnTo>
                    <a:lnTo>
                      <a:pt x="612" y="33"/>
                    </a:lnTo>
                    <a:lnTo>
                      <a:pt x="589" y="23"/>
                    </a:lnTo>
                    <a:lnTo>
                      <a:pt x="541" y="23"/>
                    </a:lnTo>
                    <a:lnTo>
                      <a:pt x="532" y="43"/>
                    </a:lnTo>
                    <a:lnTo>
                      <a:pt x="541" y="63"/>
                    </a:lnTo>
                    <a:lnTo>
                      <a:pt x="513" y="68"/>
                    </a:lnTo>
                    <a:lnTo>
                      <a:pt x="479" y="63"/>
                    </a:lnTo>
                    <a:lnTo>
                      <a:pt x="461" y="47"/>
                    </a:lnTo>
                    <a:lnTo>
                      <a:pt x="374" y="38"/>
                    </a:lnTo>
                    <a:lnTo>
                      <a:pt x="365" y="43"/>
                    </a:lnTo>
                    <a:lnTo>
                      <a:pt x="322" y="23"/>
                    </a:lnTo>
                    <a:lnTo>
                      <a:pt x="270" y="38"/>
                    </a:lnTo>
                    <a:lnTo>
                      <a:pt x="232" y="43"/>
                    </a:lnTo>
                    <a:lnTo>
                      <a:pt x="184" y="38"/>
                    </a:lnTo>
                    <a:lnTo>
                      <a:pt x="156" y="52"/>
                    </a:lnTo>
                    <a:lnTo>
                      <a:pt x="113" y="23"/>
                    </a:lnTo>
                    <a:lnTo>
                      <a:pt x="75" y="23"/>
                    </a:lnTo>
                    <a:lnTo>
                      <a:pt x="42" y="0"/>
                    </a:lnTo>
                    <a:lnTo>
                      <a:pt x="42" y="19"/>
                    </a:lnTo>
                    <a:lnTo>
                      <a:pt x="0" y="68"/>
                    </a:lnTo>
                    <a:lnTo>
                      <a:pt x="61" y="77"/>
                    </a:lnTo>
                    <a:lnTo>
                      <a:pt x="118" y="63"/>
                    </a:lnTo>
                    <a:lnTo>
                      <a:pt x="156" y="72"/>
                    </a:lnTo>
                    <a:lnTo>
                      <a:pt x="203" y="82"/>
                    </a:lnTo>
                    <a:lnTo>
                      <a:pt x="270" y="68"/>
                    </a:lnTo>
                    <a:lnTo>
                      <a:pt x="327" y="77"/>
                    </a:lnTo>
                    <a:lnTo>
                      <a:pt x="389" y="92"/>
                    </a:lnTo>
                    <a:lnTo>
                      <a:pt x="451" y="92"/>
                    </a:lnTo>
                    <a:lnTo>
                      <a:pt x="494" y="101"/>
                    </a:lnTo>
                    <a:lnTo>
                      <a:pt x="555" y="111"/>
                    </a:lnTo>
                    <a:lnTo>
                      <a:pt x="608" y="92"/>
                    </a:lnTo>
                    <a:lnTo>
                      <a:pt x="693" y="111"/>
                    </a:lnTo>
                    <a:lnTo>
                      <a:pt x="755" y="106"/>
                    </a:lnTo>
                    <a:lnTo>
                      <a:pt x="755" y="9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907240" y="5149800"/>
                <a:ext cx="365400" cy="101880"/>
              </a:xfrm>
              <a:custGeom>
                <a:avLst/>
                <a:gdLst/>
                <a:ahLst/>
                <a:rect l="0" t="0" r="r" b="b"/>
                <a:pathLst>
                  <a:path fill="none" w="1015" h="283">
                    <a:moveTo>
                      <a:pt x="151" y="100"/>
                    </a:moveTo>
                    <a:lnTo>
                      <a:pt x="208" y="95"/>
                    </a:lnTo>
                    <a:lnTo>
                      <a:pt x="255" y="76"/>
                    </a:lnTo>
                    <a:lnTo>
                      <a:pt x="312" y="86"/>
                    </a:lnTo>
                    <a:lnTo>
                      <a:pt x="369" y="66"/>
                    </a:lnTo>
                    <a:lnTo>
                      <a:pt x="417" y="66"/>
                    </a:lnTo>
                    <a:lnTo>
                      <a:pt x="440" y="95"/>
                    </a:lnTo>
                    <a:lnTo>
                      <a:pt x="492" y="100"/>
                    </a:lnTo>
                    <a:lnTo>
                      <a:pt x="560" y="124"/>
                    </a:lnTo>
                    <a:lnTo>
                      <a:pt x="583" y="154"/>
                    </a:lnTo>
                    <a:lnTo>
                      <a:pt x="645" y="173"/>
                    </a:lnTo>
                    <a:lnTo>
                      <a:pt x="655" y="192"/>
                    </a:lnTo>
                    <a:lnTo>
                      <a:pt x="621" y="206"/>
                    </a:lnTo>
                    <a:lnTo>
                      <a:pt x="569" y="177"/>
                    </a:lnTo>
                    <a:lnTo>
                      <a:pt x="536" y="177"/>
                    </a:lnTo>
                    <a:lnTo>
                      <a:pt x="502" y="192"/>
                    </a:lnTo>
                    <a:lnTo>
                      <a:pt x="469" y="192"/>
                    </a:lnTo>
                    <a:lnTo>
                      <a:pt x="436" y="187"/>
                    </a:lnTo>
                    <a:lnTo>
                      <a:pt x="407" y="201"/>
                    </a:lnTo>
                    <a:lnTo>
                      <a:pt x="388" y="221"/>
                    </a:lnTo>
                    <a:lnTo>
                      <a:pt x="350" y="216"/>
                    </a:lnTo>
                    <a:lnTo>
                      <a:pt x="322" y="192"/>
                    </a:lnTo>
                    <a:lnTo>
                      <a:pt x="284" y="187"/>
                    </a:lnTo>
                    <a:lnTo>
                      <a:pt x="265" y="192"/>
                    </a:lnTo>
                    <a:lnTo>
                      <a:pt x="241" y="177"/>
                    </a:lnTo>
                    <a:lnTo>
                      <a:pt x="213" y="163"/>
                    </a:lnTo>
                    <a:lnTo>
                      <a:pt x="161" y="168"/>
                    </a:lnTo>
                    <a:lnTo>
                      <a:pt x="137" y="158"/>
                    </a:lnTo>
                    <a:lnTo>
                      <a:pt x="104" y="177"/>
                    </a:lnTo>
                    <a:lnTo>
                      <a:pt x="90" y="192"/>
                    </a:lnTo>
                    <a:lnTo>
                      <a:pt x="47" y="192"/>
                    </a:lnTo>
                    <a:lnTo>
                      <a:pt x="0" y="230"/>
                    </a:lnTo>
                    <a:lnTo>
                      <a:pt x="80" y="249"/>
                    </a:lnTo>
                    <a:lnTo>
                      <a:pt x="151" y="249"/>
                    </a:lnTo>
                    <a:lnTo>
                      <a:pt x="218" y="221"/>
                    </a:lnTo>
                    <a:lnTo>
                      <a:pt x="279" y="235"/>
                    </a:lnTo>
                    <a:lnTo>
                      <a:pt x="303" y="254"/>
                    </a:lnTo>
                    <a:lnTo>
                      <a:pt x="369" y="268"/>
                    </a:lnTo>
                    <a:lnTo>
                      <a:pt x="440" y="268"/>
                    </a:lnTo>
                    <a:lnTo>
                      <a:pt x="497" y="268"/>
                    </a:lnTo>
                    <a:lnTo>
                      <a:pt x="550" y="268"/>
                    </a:lnTo>
                    <a:lnTo>
                      <a:pt x="617" y="278"/>
                    </a:lnTo>
                    <a:lnTo>
                      <a:pt x="664" y="283"/>
                    </a:lnTo>
                    <a:lnTo>
                      <a:pt x="683" y="254"/>
                    </a:lnTo>
                    <a:lnTo>
                      <a:pt x="754" y="249"/>
                    </a:lnTo>
                    <a:lnTo>
                      <a:pt x="801" y="235"/>
                    </a:lnTo>
                    <a:lnTo>
                      <a:pt x="825" y="240"/>
                    </a:lnTo>
                    <a:lnTo>
                      <a:pt x="849" y="211"/>
                    </a:lnTo>
                    <a:lnTo>
                      <a:pt x="910" y="192"/>
                    </a:lnTo>
                    <a:lnTo>
                      <a:pt x="944" y="216"/>
                    </a:lnTo>
                    <a:lnTo>
                      <a:pt x="963" y="187"/>
                    </a:lnTo>
                    <a:lnTo>
                      <a:pt x="1015" y="177"/>
                    </a:lnTo>
                    <a:lnTo>
                      <a:pt x="991" y="138"/>
                    </a:lnTo>
                    <a:lnTo>
                      <a:pt x="915" y="149"/>
                    </a:lnTo>
                    <a:lnTo>
                      <a:pt x="910" y="110"/>
                    </a:lnTo>
                    <a:lnTo>
                      <a:pt x="863" y="124"/>
                    </a:lnTo>
                    <a:lnTo>
                      <a:pt x="849" y="149"/>
                    </a:lnTo>
                    <a:lnTo>
                      <a:pt x="825" y="149"/>
                    </a:lnTo>
                    <a:lnTo>
                      <a:pt x="811" y="168"/>
                    </a:lnTo>
                    <a:lnTo>
                      <a:pt x="797" y="154"/>
                    </a:lnTo>
                    <a:lnTo>
                      <a:pt x="820" y="119"/>
                    </a:lnTo>
                    <a:lnTo>
                      <a:pt x="816" y="100"/>
                    </a:lnTo>
                    <a:lnTo>
                      <a:pt x="778" y="119"/>
                    </a:lnTo>
                    <a:lnTo>
                      <a:pt x="778" y="211"/>
                    </a:lnTo>
                    <a:lnTo>
                      <a:pt x="740" y="192"/>
                    </a:lnTo>
                    <a:lnTo>
                      <a:pt x="707" y="177"/>
                    </a:lnTo>
                    <a:lnTo>
                      <a:pt x="702" y="138"/>
                    </a:lnTo>
                    <a:lnTo>
                      <a:pt x="669" y="105"/>
                    </a:lnTo>
                    <a:lnTo>
                      <a:pt x="607" y="86"/>
                    </a:lnTo>
                    <a:lnTo>
                      <a:pt x="560" y="52"/>
                    </a:lnTo>
                    <a:lnTo>
                      <a:pt x="483" y="47"/>
                    </a:lnTo>
                    <a:lnTo>
                      <a:pt x="445" y="14"/>
                    </a:lnTo>
                    <a:lnTo>
                      <a:pt x="360" y="0"/>
                    </a:lnTo>
                    <a:lnTo>
                      <a:pt x="180" y="66"/>
                    </a:lnTo>
                    <a:lnTo>
                      <a:pt x="151" y="10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718240" y="4923000"/>
                <a:ext cx="451080" cy="73440"/>
              </a:xfrm>
              <a:custGeom>
                <a:avLst/>
                <a:gdLst/>
                <a:ahLst/>
                <a:rect l="0" t="0" r="r" b="b"/>
                <a:pathLst>
                  <a:path fill="none" w="1253" h="204">
                    <a:moveTo>
                      <a:pt x="0" y="190"/>
                    </a:moveTo>
                    <a:lnTo>
                      <a:pt x="14" y="171"/>
                    </a:lnTo>
                    <a:lnTo>
                      <a:pt x="76" y="157"/>
                    </a:lnTo>
                    <a:lnTo>
                      <a:pt x="76" y="123"/>
                    </a:lnTo>
                    <a:lnTo>
                      <a:pt x="176" y="123"/>
                    </a:lnTo>
                    <a:lnTo>
                      <a:pt x="176" y="104"/>
                    </a:lnTo>
                    <a:lnTo>
                      <a:pt x="242" y="104"/>
                    </a:lnTo>
                    <a:lnTo>
                      <a:pt x="242" y="109"/>
                    </a:lnTo>
                    <a:lnTo>
                      <a:pt x="223" y="109"/>
                    </a:lnTo>
                    <a:lnTo>
                      <a:pt x="242" y="142"/>
                    </a:lnTo>
                    <a:lnTo>
                      <a:pt x="290" y="128"/>
                    </a:lnTo>
                    <a:lnTo>
                      <a:pt x="290" y="85"/>
                    </a:lnTo>
                    <a:lnTo>
                      <a:pt x="380" y="85"/>
                    </a:lnTo>
                    <a:lnTo>
                      <a:pt x="342" y="90"/>
                    </a:lnTo>
                    <a:lnTo>
                      <a:pt x="352" y="109"/>
                    </a:lnTo>
                    <a:lnTo>
                      <a:pt x="428" y="90"/>
                    </a:lnTo>
                    <a:lnTo>
                      <a:pt x="428" y="62"/>
                    </a:lnTo>
                    <a:lnTo>
                      <a:pt x="533" y="62"/>
                    </a:lnTo>
                    <a:lnTo>
                      <a:pt x="490" y="67"/>
                    </a:lnTo>
                    <a:lnTo>
                      <a:pt x="499" y="90"/>
                    </a:lnTo>
                    <a:lnTo>
                      <a:pt x="571" y="71"/>
                    </a:lnTo>
                    <a:lnTo>
                      <a:pt x="571" y="33"/>
                    </a:lnTo>
                    <a:lnTo>
                      <a:pt x="686" y="33"/>
                    </a:lnTo>
                    <a:lnTo>
                      <a:pt x="634" y="37"/>
                    </a:lnTo>
                    <a:lnTo>
                      <a:pt x="648" y="62"/>
                    </a:lnTo>
                    <a:lnTo>
                      <a:pt x="729" y="42"/>
                    </a:lnTo>
                    <a:lnTo>
                      <a:pt x="729" y="0"/>
                    </a:lnTo>
                    <a:lnTo>
                      <a:pt x="867" y="0"/>
                    </a:lnTo>
                    <a:lnTo>
                      <a:pt x="796" y="4"/>
                    </a:lnTo>
                    <a:lnTo>
                      <a:pt x="824" y="52"/>
                    </a:lnTo>
                    <a:lnTo>
                      <a:pt x="977" y="33"/>
                    </a:lnTo>
                    <a:lnTo>
                      <a:pt x="1034" y="23"/>
                    </a:lnTo>
                    <a:lnTo>
                      <a:pt x="1067" y="23"/>
                    </a:lnTo>
                    <a:lnTo>
                      <a:pt x="1091" y="33"/>
                    </a:lnTo>
                    <a:lnTo>
                      <a:pt x="1129" y="52"/>
                    </a:lnTo>
                    <a:lnTo>
                      <a:pt x="1220" y="71"/>
                    </a:lnTo>
                    <a:lnTo>
                      <a:pt x="1253" y="85"/>
                    </a:lnTo>
                    <a:lnTo>
                      <a:pt x="1158" y="90"/>
                    </a:lnTo>
                    <a:lnTo>
                      <a:pt x="1115" y="90"/>
                    </a:lnTo>
                    <a:lnTo>
                      <a:pt x="1115" y="109"/>
                    </a:lnTo>
                    <a:lnTo>
                      <a:pt x="1077" y="109"/>
                    </a:lnTo>
                    <a:lnTo>
                      <a:pt x="1077" y="95"/>
                    </a:lnTo>
                    <a:lnTo>
                      <a:pt x="920" y="95"/>
                    </a:lnTo>
                    <a:lnTo>
                      <a:pt x="943" y="109"/>
                    </a:lnTo>
                    <a:lnTo>
                      <a:pt x="915" y="114"/>
                    </a:lnTo>
                    <a:lnTo>
                      <a:pt x="867" y="123"/>
                    </a:lnTo>
                    <a:lnTo>
                      <a:pt x="781" y="123"/>
                    </a:lnTo>
                    <a:lnTo>
                      <a:pt x="643" y="162"/>
                    </a:lnTo>
                    <a:lnTo>
                      <a:pt x="133" y="204"/>
                    </a:lnTo>
                    <a:lnTo>
                      <a:pt x="38" y="195"/>
                    </a:lnTo>
                    <a:lnTo>
                      <a:pt x="0" y="19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408640" y="4968720"/>
                <a:ext cx="1045080" cy="257400"/>
              </a:xfrm>
              <a:custGeom>
                <a:avLst/>
                <a:gdLst/>
                <a:ahLst/>
                <a:rect l="0" t="0" r="r" b="b"/>
                <a:pathLst>
                  <a:path fill="none" w="2903" h="715">
                    <a:moveTo>
                      <a:pt x="0" y="185"/>
                    </a:moveTo>
                    <a:lnTo>
                      <a:pt x="299" y="85"/>
                    </a:lnTo>
                    <a:lnTo>
                      <a:pt x="446" y="85"/>
                    </a:lnTo>
                    <a:lnTo>
                      <a:pt x="484" y="95"/>
                    </a:lnTo>
                    <a:lnTo>
                      <a:pt x="707" y="95"/>
                    </a:lnTo>
                    <a:lnTo>
                      <a:pt x="707" y="133"/>
                    </a:lnTo>
                    <a:lnTo>
                      <a:pt x="813" y="133"/>
                    </a:lnTo>
                    <a:lnTo>
                      <a:pt x="813" y="109"/>
                    </a:lnTo>
                    <a:lnTo>
                      <a:pt x="798" y="100"/>
                    </a:lnTo>
                    <a:lnTo>
                      <a:pt x="1672" y="0"/>
                    </a:lnTo>
                    <a:lnTo>
                      <a:pt x="2894" y="14"/>
                    </a:lnTo>
                    <a:lnTo>
                      <a:pt x="2851" y="38"/>
                    </a:lnTo>
                    <a:lnTo>
                      <a:pt x="2903" y="38"/>
                    </a:lnTo>
                    <a:lnTo>
                      <a:pt x="2903" y="123"/>
                    </a:lnTo>
                    <a:lnTo>
                      <a:pt x="2751" y="157"/>
                    </a:lnTo>
                    <a:lnTo>
                      <a:pt x="2575" y="214"/>
                    </a:lnTo>
                    <a:lnTo>
                      <a:pt x="2419" y="290"/>
                    </a:lnTo>
                    <a:lnTo>
                      <a:pt x="2295" y="381"/>
                    </a:lnTo>
                    <a:lnTo>
                      <a:pt x="2233" y="448"/>
                    </a:lnTo>
                    <a:lnTo>
                      <a:pt x="2191" y="520"/>
                    </a:lnTo>
                    <a:lnTo>
                      <a:pt x="2157" y="596"/>
                    </a:lnTo>
                    <a:lnTo>
                      <a:pt x="2157" y="715"/>
                    </a:lnTo>
                    <a:lnTo>
                      <a:pt x="2095" y="677"/>
                    </a:lnTo>
                    <a:lnTo>
                      <a:pt x="2057" y="601"/>
                    </a:lnTo>
                    <a:lnTo>
                      <a:pt x="2005" y="601"/>
                    </a:lnTo>
                    <a:lnTo>
                      <a:pt x="1933" y="553"/>
                    </a:lnTo>
                    <a:lnTo>
                      <a:pt x="1872" y="553"/>
                    </a:lnTo>
                    <a:lnTo>
                      <a:pt x="1819" y="520"/>
                    </a:lnTo>
                    <a:lnTo>
                      <a:pt x="1762" y="505"/>
                    </a:lnTo>
                    <a:lnTo>
                      <a:pt x="1634" y="562"/>
                    </a:lnTo>
                    <a:lnTo>
                      <a:pt x="1577" y="562"/>
                    </a:lnTo>
                    <a:lnTo>
                      <a:pt x="1492" y="610"/>
                    </a:lnTo>
                    <a:lnTo>
                      <a:pt x="1468" y="596"/>
                    </a:lnTo>
                    <a:lnTo>
                      <a:pt x="1468" y="558"/>
                    </a:lnTo>
                    <a:lnTo>
                      <a:pt x="1435" y="534"/>
                    </a:lnTo>
                    <a:lnTo>
                      <a:pt x="1416" y="553"/>
                    </a:lnTo>
                    <a:lnTo>
                      <a:pt x="1354" y="529"/>
                    </a:lnTo>
                    <a:lnTo>
                      <a:pt x="1259" y="572"/>
                    </a:lnTo>
                    <a:lnTo>
                      <a:pt x="1221" y="572"/>
                    </a:lnTo>
                    <a:lnTo>
                      <a:pt x="1159" y="605"/>
                    </a:lnTo>
                    <a:lnTo>
                      <a:pt x="1121" y="601"/>
                    </a:lnTo>
                    <a:lnTo>
                      <a:pt x="1055" y="601"/>
                    </a:lnTo>
                    <a:lnTo>
                      <a:pt x="960" y="610"/>
                    </a:lnTo>
                    <a:lnTo>
                      <a:pt x="927" y="605"/>
                    </a:lnTo>
                    <a:lnTo>
                      <a:pt x="884" y="586"/>
                    </a:lnTo>
                    <a:lnTo>
                      <a:pt x="851" y="586"/>
                    </a:lnTo>
                    <a:lnTo>
                      <a:pt x="803" y="596"/>
                    </a:lnTo>
                    <a:lnTo>
                      <a:pt x="756" y="577"/>
                    </a:lnTo>
                    <a:lnTo>
                      <a:pt x="712" y="572"/>
                    </a:lnTo>
                    <a:lnTo>
                      <a:pt x="669" y="577"/>
                    </a:lnTo>
                    <a:lnTo>
                      <a:pt x="655" y="558"/>
                    </a:lnTo>
                    <a:lnTo>
                      <a:pt x="612" y="572"/>
                    </a:lnTo>
                    <a:lnTo>
                      <a:pt x="593" y="553"/>
                    </a:lnTo>
                    <a:lnTo>
                      <a:pt x="541" y="548"/>
                    </a:lnTo>
                    <a:lnTo>
                      <a:pt x="517" y="524"/>
                    </a:lnTo>
                    <a:lnTo>
                      <a:pt x="280" y="381"/>
                    </a:lnTo>
                    <a:lnTo>
                      <a:pt x="175" y="358"/>
                    </a:lnTo>
                    <a:lnTo>
                      <a:pt x="56" y="242"/>
                    </a:lnTo>
                    <a:lnTo>
                      <a:pt x="56" y="223"/>
                    </a:lnTo>
                    <a:lnTo>
                      <a:pt x="0" y="18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656320" y="4998960"/>
                <a:ext cx="12960" cy="38520"/>
              </a:xfrm>
              <a:custGeom>
                <a:avLst/>
                <a:gdLst/>
                <a:ahLst/>
                <a:rect l="0" t="0" r="r" b="b"/>
                <a:pathLst>
                  <a:path fill="none" w="36" h="107">
                    <a:moveTo>
                      <a:pt x="0" y="107"/>
                    </a:moveTo>
                    <a:lnTo>
                      <a:pt x="36" y="107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659560" y="5002200"/>
                <a:ext cx="3600" cy="35280"/>
              </a:xfrm>
              <a:custGeom>
                <a:avLst/>
                <a:gdLst/>
                <a:ahLst/>
                <a:rect l="0" t="0" r="r" b="b"/>
                <a:pathLst>
                  <a:path fill="none" w="10" h="98">
                    <a:moveTo>
                      <a:pt x="10" y="0"/>
                    </a:moveTo>
                    <a:lnTo>
                      <a:pt x="5" y="9"/>
                    </a:lnTo>
                    <a:lnTo>
                      <a:pt x="5" y="98"/>
                    </a:lnTo>
                    <a:lnTo>
                      <a:pt x="0" y="98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5429160" y="486396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0" y="12"/>
                    </a:moveTo>
                    <a:lnTo>
                      <a:pt x="0" y="19"/>
                    </a:lnTo>
                    <a:lnTo>
                      <a:pt x="23" y="19"/>
                    </a:lnTo>
                    <a:lnTo>
                      <a:pt x="17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5437080" y="488952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fill="none" w="14" h="19">
                    <a:moveTo>
                      <a:pt x="0" y="12"/>
                    </a:moveTo>
                    <a:lnTo>
                      <a:pt x="0" y="19"/>
                    </a:lnTo>
                    <a:lnTo>
                      <a:pt x="14" y="19"/>
                    </a:lnTo>
                    <a:lnTo>
                      <a:pt x="9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5529240" y="48736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4" y="14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4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5448240" y="4826160"/>
                <a:ext cx="18000" cy="9720"/>
              </a:xfrm>
              <a:custGeom>
                <a:avLst/>
                <a:gdLst/>
                <a:ahLst/>
                <a:rect l="0" t="0" r="r" b="b"/>
                <a:pathLst>
                  <a:path fill="none" w="50" h="27">
                    <a:moveTo>
                      <a:pt x="4" y="0"/>
                    </a:moveTo>
                    <a:lnTo>
                      <a:pt x="0" y="18"/>
                    </a:lnTo>
                    <a:lnTo>
                      <a:pt x="9" y="23"/>
                    </a:lnTo>
                    <a:lnTo>
                      <a:pt x="20" y="27"/>
                    </a:lnTo>
                    <a:lnTo>
                      <a:pt x="30" y="27"/>
                    </a:lnTo>
                    <a:lnTo>
                      <a:pt x="45" y="27"/>
                    </a:lnTo>
                    <a:lnTo>
                      <a:pt x="50" y="0"/>
                    </a:lnTo>
                    <a:lnTo>
                      <a:pt x="40" y="4"/>
                    </a:lnTo>
                    <a:lnTo>
                      <a:pt x="30" y="4"/>
                    </a:lnTo>
                    <a:lnTo>
                      <a:pt x="20" y="4"/>
                    </a:lnTo>
                    <a:lnTo>
                      <a:pt x="15" y="4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5418000" y="4851360"/>
                <a:ext cx="9720" cy="3600"/>
              </a:xfrm>
              <a:custGeom>
                <a:avLst/>
                <a:gdLst/>
                <a:ahLst/>
                <a:rect l="0" t="0" r="r" b="b"/>
                <a:pathLst>
                  <a:path fill="none" w="27" h="10">
                    <a:moveTo>
                      <a:pt x="0" y="5"/>
                    </a:moveTo>
                    <a:lnTo>
                      <a:pt x="23" y="0"/>
                    </a:lnTo>
                    <a:lnTo>
                      <a:pt x="27" y="1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5427720" y="4881600"/>
                <a:ext cx="9720" cy="1800"/>
              </a:xfrm>
              <a:custGeom>
                <a:avLst/>
                <a:gdLst/>
                <a:ahLst/>
                <a:rect l="0" t="0" r="r" b="b"/>
                <a:pathLst>
                  <a:path fill="none" w="27" h="5">
                    <a:moveTo>
                      <a:pt x="0" y="5"/>
                    </a:moveTo>
                    <a:lnTo>
                      <a:pt x="16" y="0"/>
                    </a:lnTo>
                    <a:lnTo>
                      <a:pt x="27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5519880" y="488628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6" y="19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5538960" y="4856040"/>
                <a:ext cx="5040" cy="3600"/>
              </a:xfrm>
              <a:custGeom>
                <a:avLst/>
                <a:gdLst/>
                <a:ahLst/>
                <a:rect l="0" t="0" r="r" b="b"/>
                <a:pathLst>
                  <a:path fill="none" w="14" h="10">
                    <a:moveTo>
                      <a:pt x="0" y="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5478480" y="488304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fill="none" w="85" h="80">
                    <a:moveTo>
                      <a:pt x="85" y="0"/>
                    </a:moveTo>
                    <a:lnTo>
                      <a:pt x="0" y="0"/>
                    </a:lnTo>
                    <a:lnTo>
                      <a:pt x="0" y="80"/>
                    </a:lnTo>
                    <a:lnTo>
                      <a:pt x="85" y="80"/>
                    </a:lnTo>
                    <a:lnTo>
                      <a:pt x="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5475240" y="4883040"/>
                <a:ext cx="33840" cy="28800"/>
              </a:xfrm>
              <a:custGeom>
                <a:avLst/>
                <a:gdLst/>
                <a:ahLst/>
                <a:rect l="0" t="0" r="r" b="b"/>
                <a:pathLst>
                  <a:path fill="none" w="94" h="80">
                    <a:moveTo>
                      <a:pt x="94" y="80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9"/>
                    </a:lnTo>
                    <a:lnTo>
                      <a:pt x="35" y="18"/>
                    </a:lnTo>
                    <a:lnTo>
                      <a:pt x="39" y="23"/>
                    </a:lnTo>
                    <a:lnTo>
                      <a:pt x="44" y="28"/>
                    </a:lnTo>
                    <a:lnTo>
                      <a:pt x="54" y="32"/>
                    </a:lnTo>
                    <a:lnTo>
                      <a:pt x="59" y="37"/>
                    </a:lnTo>
                    <a:lnTo>
                      <a:pt x="69" y="43"/>
                    </a:lnTo>
                    <a:lnTo>
                      <a:pt x="75" y="43"/>
                    </a:lnTo>
                    <a:lnTo>
                      <a:pt x="94" y="43"/>
                    </a:lnTo>
                    <a:lnTo>
                      <a:pt x="94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5423040" y="4881600"/>
                <a:ext cx="198720" cy="138600"/>
              </a:xfrm>
              <a:custGeom>
                <a:avLst/>
                <a:gdLst/>
                <a:ahLst/>
                <a:rect l="0" t="0" r="r" b="b"/>
                <a:pathLst>
                  <a:path fill="none" w="552" h="385">
                    <a:moveTo>
                      <a:pt x="0" y="376"/>
                    </a:moveTo>
                    <a:lnTo>
                      <a:pt x="19" y="371"/>
                    </a:lnTo>
                    <a:lnTo>
                      <a:pt x="28" y="319"/>
                    </a:lnTo>
                    <a:lnTo>
                      <a:pt x="61" y="305"/>
                    </a:lnTo>
                    <a:lnTo>
                      <a:pt x="76" y="305"/>
                    </a:lnTo>
                    <a:lnTo>
                      <a:pt x="76" y="295"/>
                    </a:lnTo>
                    <a:lnTo>
                      <a:pt x="95" y="295"/>
                    </a:lnTo>
                    <a:lnTo>
                      <a:pt x="95" y="285"/>
                    </a:lnTo>
                    <a:lnTo>
                      <a:pt x="99" y="285"/>
                    </a:lnTo>
                    <a:lnTo>
                      <a:pt x="99" y="252"/>
                    </a:lnTo>
                    <a:lnTo>
                      <a:pt x="61" y="252"/>
                    </a:lnTo>
                    <a:lnTo>
                      <a:pt x="61" y="242"/>
                    </a:lnTo>
                    <a:lnTo>
                      <a:pt x="71" y="228"/>
                    </a:lnTo>
                    <a:lnTo>
                      <a:pt x="66" y="228"/>
                    </a:lnTo>
                    <a:lnTo>
                      <a:pt x="66" y="204"/>
                    </a:lnTo>
                    <a:lnTo>
                      <a:pt x="99" y="105"/>
                    </a:lnTo>
                    <a:lnTo>
                      <a:pt x="228" y="105"/>
                    </a:lnTo>
                    <a:lnTo>
                      <a:pt x="228" y="94"/>
                    </a:lnTo>
                    <a:lnTo>
                      <a:pt x="338" y="94"/>
                    </a:lnTo>
                    <a:lnTo>
                      <a:pt x="338" y="105"/>
                    </a:lnTo>
                    <a:lnTo>
                      <a:pt x="333" y="114"/>
                    </a:lnTo>
                    <a:lnTo>
                      <a:pt x="333" y="214"/>
                    </a:lnTo>
                    <a:lnTo>
                      <a:pt x="295" y="228"/>
                    </a:lnTo>
                    <a:lnTo>
                      <a:pt x="295" y="295"/>
                    </a:lnTo>
                    <a:lnTo>
                      <a:pt x="400" y="290"/>
                    </a:lnTo>
                    <a:lnTo>
                      <a:pt x="438" y="275"/>
                    </a:lnTo>
                    <a:lnTo>
                      <a:pt x="442" y="0"/>
                    </a:lnTo>
                    <a:lnTo>
                      <a:pt x="447" y="0"/>
                    </a:lnTo>
                    <a:lnTo>
                      <a:pt x="447" y="270"/>
                    </a:lnTo>
                    <a:lnTo>
                      <a:pt x="471" y="270"/>
                    </a:lnTo>
                    <a:lnTo>
                      <a:pt x="537" y="290"/>
                    </a:lnTo>
                    <a:lnTo>
                      <a:pt x="552" y="295"/>
                    </a:lnTo>
                    <a:lnTo>
                      <a:pt x="552" y="324"/>
                    </a:lnTo>
                    <a:lnTo>
                      <a:pt x="466" y="338"/>
                    </a:lnTo>
                    <a:lnTo>
                      <a:pt x="371" y="338"/>
                    </a:lnTo>
                    <a:lnTo>
                      <a:pt x="338" y="328"/>
                    </a:lnTo>
                    <a:lnTo>
                      <a:pt x="251" y="328"/>
                    </a:lnTo>
                    <a:lnTo>
                      <a:pt x="23" y="385"/>
                    </a:lnTo>
                    <a:lnTo>
                      <a:pt x="0" y="37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5516640" y="5016600"/>
                <a:ext cx="143280" cy="11520"/>
              </a:xfrm>
              <a:custGeom>
                <a:avLst/>
                <a:gdLst/>
                <a:ahLst/>
                <a:rect l="0" t="0" r="r" b="b"/>
                <a:pathLst>
                  <a:path fill="none" w="398" h="32">
                    <a:moveTo>
                      <a:pt x="0" y="32"/>
                    </a:moveTo>
                    <a:lnTo>
                      <a:pt x="398" y="32"/>
                    </a:lnTo>
                    <a:lnTo>
                      <a:pt x="398" y="0"/>
                    </a:lnTo>
                    <a:lnTo>
                      <a:pt x="0" y="0"/>
                    </a:lnTo>
                    <a:lnTo>
                      <a:pt x="0" y="3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486400" y="5064120"/>
                <a:ext cx="47880" cy="47880"/>
              </a:xfrm>
              <a:custGeom>
                <a:avLst/>
                <a:gdLst/>
                <a:ahLst/>
                <a:rect l="0" t="0" r="r" b="b"/>
                <a:pathLst>
                  <a:path fill="none" w="133" h="133">
                    <a:moveTo>
                      <a:pt x="0" y="0"/>
                    </a:moveTo>
                    <a:lnTo>
                      <a:pt x="37" y="103"/>
                    </a:lnTo>
                    <a:lnTo>
                      <a:pt x="133" y="133"/>
                    </a:lnTo>
                    <a:lnTo>
                      <a:pt x="13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510160" y="5105520"/>
                <a:ext cx="120960" cy="59040"/>
              </a:xfrm>
              <a:custGeom>
                <a:avLst/>
                <a:gdLst/>
                <a:ahLst/>
                <a:rect l="0" t="0" r="r" b="b"/>
                <a:pathLst>
                  <a:path fill="none" w="336" h="164">
                    <a:moveTo>
                      <a:pt x="336" y="130"/>
                    </a:moveTo>
                    <a:lnTo>
                      <a:pt x="265" y="164"/>
                    </a:lnTo>
                    <a:lnTo>
                      <a:pt x="241" y="149"/>
                    </a:lnTo>
                    <a:lnTo>
                      <a:pt x="199" y="144"/>
                    </a:lnTo>
                    <a:lnTo>
                      <a:pt x="51" y="9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5" y="52"/>
                    </a:lnTo>
                    <a:lnTo>
                      <a:pt x="122" y="62"/>
                    </a:lnTo>
                    <a:lnTo>
                      <a:pt x="336" y="13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691240" y="4968720"/>
                <a:ext cx="495720" cy="259200"/>
              </a:xfrm>
              <a:custGeom>
                <a:avLst/>
                <a:gdLst/>
                <a:ahLst/>
                <a:rect l="0" t="0" r="r" b="b"/>
                <a:pathLst>
                  <a:path fill="none" w="1377" h="720">
                    <a:moveTo>
                      <a:pt x="1107" y="544"/>
                    </a:moveTo>
                    <a:lnTo>
                      <a:pt x="997" y="453"/>
                    </a:lnTo>
                    <a:lnTo>
                      <a:pt x="802" y="353"/>
                    </a:lnTo>
                    <a:lnTo>
                      <a:pt x="570" y="296"/>
                    </a:lnTo>
                    <a:lnTo>
                      <a:pt x="380" y="277"/>
                    </a:lnTo>
                    <a:lnTo>
                      <a:pt x="375" y="267"/>
                    </a:lnTo>
                    <a:lnTo>
                      <a:pt x="270" y="186"/>
                    </a:lnTo>
                    <a:lnTo>
                      <a:pt x="270" y="123"/>
                    </a:lnTo>
                    <a:lnTo>
                      <a:pt x="0" y="138"/>
                    </a:lnTo>
                    <a:lnTo>
                      <a:pt x="18" y="104"/>
                    </a:lnTo>
                    <a:lnTo>
                      <a:pt x="745" y="42"/>
                    </a:lnTo>
                    <a:lnTo>
                      <a:pt x="850" y="0"/>
                    </a:lnTo>
                    <a:lnTo>
                      <a:pt x="783" y="71"/>
                    </a:lnTo>
                    <a:lnTo>
                      <a:pt x="783" y="123"/>
                    </a:lnTo>
                    <a:lnTo>
                      <a:pt x="850" y="152"/>
                    </a:lnTo>
                    <a:lnTo>
                      <a:pt x="940" y="152"/>
                    </a:lnTo>
                    <a:lnTo>
                      <a:pt x="878" y="123"/>
                    </a:lnTo>
                    <a:lnTo>
                      <a:pt x="1050" y="123"/>
                    </a:lnTo>
                    <a:lnTo>
                      <a:pt x="1050" y="138"/>
                    </a:lnTo>
                    <a:lnTo>
                      <a:pt x="1377" y="296"/>
                    </a:lnTo>
                    <a:lnTo>
                      <a:pt x="1377" y="720"/>
                    </a:lnTo>
                    <a:lnTo>
                      <a:pt x="1354" y="701"/>
                    </a:lnTo>
                    <a:lnTo>
                      <a:pt x="1306" y="673"/>
                    </a:lnTo>
                    <a:lnTo>
                      <a:pt x="1273" y="611"/>
                    </a:lnTo>
                    <a:lnTo>
                      <a:pt x="1216" y="611"/>
                    </a:lnTo>
                    <a:lnTo>
                      <a:pt x="1173" y="563"/>
                    </a:lnTo>
                    <a:lnTo>
                      <a:pt x="1107" y="5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5614920" y="5062680"/>
                <a:ext cx="224280" cy="65520"/>
              </a:xfrm>
              <a:custGeom>
                <a:avLst/>
                <a:gdLst/>
                <a:ahLst/>
                <a:rect l="0" t="0" r="r" b="b"/>
                <a:pathLst>
                  <a:path fill="none" w="623" h="182">
                    <a:moveTo>
                      <a:pt x="623" y="14"/>
                    </a:moveTo>
                    <a:lnTo>
                      <a:pt x="609" y="77"/>
                    </a:lnTo>
                    <a:lnTo>
                      <a:pt x="585" y="144"/>
                    </a:lnTo>
                    <a:lnTo>
                      <a:pt x="552" y="182"/>
                    </a:lnTo>
                    <a:lnTo>
                      <a:pt x="228" y="178"/>
                    </a:lnTo>
                    <a:lnTo>
                      <a:pt x="52" y="159"/>
                    </a:lnTo>
                    <a:lnTo>
                      <a:pt x="4" y="124"/>
                    </a:lnTo>
                    <a:lnTo>
                      <a:pt x="0" y="86"/>
                    </a:lnTo>
                    <a:lnTo>
                      <a:pt x="52" y="86"/>
                    </a:lnTo>
                    <a:lnTo>
                      <a:pt x="66" y="58"/>
                    </a:lnTo>
                    <a:lnTo>
                      <a:pt x="52" y="0"/>
                    </a:lnTo>
                    <a:lnTo>
                      <a:pt x="609" y="0"/>
                    </a:lnTo>
                    <a:lnTo>
                      <a:pt x="6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068880" y="5013360"/>
                <a:ext cx="384480" cy="208440"/>
              </a:xfrm>
              <a:custGeom>
                <a:avLst/>
                <a:gdLst/>
                <a:ahLst/>
                <a:rect l="0" t="0" r="r" b="b"/>
                <a:pathLst>
                  <a:path fill="none" w="1068" h="579">
                    <a:moveTo>
                      <a:pt x="4" y="19"/>
                    </a:moveTo>
                    <a:lnTo>
                      <a:pt x="33" y="33"/>
                    </a:lnTo>
                    <a:lnTo>
                      <a:pt x="52" y="52"/>
                    </a:lnTo>
                    <a:lnTo>
                      <a:pt x="75" y="71"/>
                    </a:lnTo>
                    <a:lnTo>
                      <a:pt x="99" y="90"/>
                    </a:lnTo>
                    <a:lnTo>
                      <a:pt x="118" y="109"/>
                    </a:lnTo>
                    <a:lnTo>
                      <a:pt x="137" y="128"/>
                    </a:lnTo>
                    <a:lnTo>
                      <a:pt x="156" y="153"/>
                    </a:lnTo>
                    <a:lnTo>
                      <a:pt x="175" y="177"/>
                    </a:lnTo>
                    <a:lnTo>
                      <a:pt x="194" y="196"/>
                    </a:lnTo>
                    <a:lnTo>
                      <a:pt x="208" y="220"/>
                    </a:lnTo>
                    <a:lnTo>
                      <a:pt x="227" y="244"/>
                    </a:lnTo>
                    <a:lnTo>
                      <a:pt x="241" y="273"/>
                    </a:lnTo>
                    <a:lnTo>
                      <a:pt x="251" y="296"/>
                    </a:lnTo>
                    <a:lnTo>
                      <a:pt x="265" y="325"/>
                    </a:lnTo>
                    <a:lnTo>
                      <a:pt x="275" y="349"/>
                    </a:lnTo>
                    <a:lnTo>
                      <a:pt x="284" y="378"/>
                    </a:lnTo>
                    <a:lnTo>
                      <a:pt x="294" y="406"/>
                    </a:lnTo>
                    <a:lnTo>
                      <a:pt x="303" y="436"/>
                    </a:lnTo>
                    <a:lnTo>
                      <a:pt x="308" y="465"/>
                    </a:lnTo>
                    <a:lnTo>
                      <a:pt x="317" y="493"/>
                    </a:lnTo>
                    <a:lnTo>
                      <a:pt x="322" y="522"/>
                    </a:lnTo>
                    <a:lnTo>
                      <a:pt x="322" y="551"/>
                    </a:lnTo>
                    <a:lnTo>
                      <a:pt x="327" y="579"/>
                    </a:lnTo>
                    <a:lnTo>
                      <a:pt x="327" y="560"/>
                    </a:lnTo>
                    <a:lnTo>
                      <a:pt x="332" y="536"/>
                    </a:lnTo>
                    <a:lnTo>
                      <a:pt x="336" y="512"/>
                    </a:lnTo>
                    <a:lnTo>
                      <a:pt x="341" y="488"/>
                    </a:lnTo>
                    <a:lnTo>
                      <a:pt x="350" y="469"/>
                    </a:lnTo>
                    <a:lnTo>
                      <a:pt x="355" y="445"/>
                    </a:lnTo>
                    <a:lnTo>
                      <a:pt x="365" y="425"/>
                    </a:lnTo>
                    <a:lnTo>
                      <a:pt x="374" y="402"/>
                    </a:lnTo>
                    <a:lnTo>
                      <a:pt x="388" y="382"/>
                    </a:lnTo>
                    <a:lnTo>
                      <a:pt x="398" y="363"/>
                    </a:lnTo>
                    <a:lnTo>
                      <a:pt x="412" y="344"/>
                    </a:lnTo>
                    <a:lnTo>
                      <a:pt x="426" y="325"/>
                    </a:lnTo>
                    <a:lnTo>
                      <a:pt x="441" y="311"/>
                    </a:lnTo>
                    <a:lnTo>
                      <a:pt x="460" y="292"/>
                    </a:lnTo>
                    <a:lnTo>
                      <a:pt x="474" y="277"/>
                    </a:lnTo>
                    <a:lnTo>
                      <a:pt x="493" y="263"/>
                    </a:lnTo>
                    <a:lnTo>
                      <a:pt x="507" y="244"/>
                    </a:lnTo>
                    <a:lnTo>
                      <a:pt x="526" y="234"/>
                    </a:lnTo>
                    <a:lnTo>
                      <a:pt x="546" y="220"/>
                    </a:lnTo>
                    <a:lnTo>
                      <a:pt x="617" y="177"/>
                    </a:lnTo>
                    <a:lnTo>
                      <a:pt x="702" y="133"/>
                    </a:lnTo>
                    <a:lnTo>
                      <a:pt x="812" y="85"/>
                    </a:lnTo>
                    <a:lnTo>
                      <a:pt x="925" y="47"/>
                    </a:lnTo>
                    <a:lnTo>
                      <a:pt x="1068" y="0"/>
                    </a:lnTo>
                    <a:lnTo>
                      <a:pt x="1006" y="0"/>
                    </a:lnTo>
                    <a:lnTo>
                      <a:pt x="1006" y="14"/>
                    </a:lnTo>
                    <a:lnTo>
                      <a:pt x="0" y="14"/>
                    </a:lnTo>
                    <a:lnTo>
                      <a:pt x="4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997600" y="4981680"/>
                <a:ext cx="71640" cy="36720"/>
              </a:xfrm>
              <a:custGeom>
                <a:avLst/>
                <a:gdLst/>
                <a:ahLst/>
                <a:rect l="0" t="0" r="r" b="b"/>
                <a:pathLst>
                  <a:path fill="none" w="199" h="102">
                    <a:moveTo>
                      <a:pt x="199" y="102"/>
                    </a:moveTo>
                    <a:lnTo>
                      <a:pt x="199" y="0"/>
                    </a:lnTo>
                    <a:lnTo>
                      <a:pt x="189" y="0"/>
                    </a:lnTo>
                    <a:lnTo>
                      <a:pt x="189" y="83"/>
                    </a:lnTo>
                    <a:lnTo>
                      <a:pt x="0" y="83"/>
                    </a:lnTo>
                    <a:lnTo>
                      <a:pt x="56" y="102"/>
                    </a:lnTo>
                    <a:lnTo>
                      <a:pt x="56" y="88"/>
                    </a:lnTo>
                    <a:lnTo>
                      <a:pt x="189" y="88"/>
                    </a:lnTo>
                    <a:lnTo>
                      <a:pt x="166" y="102"/>
                    </a:lnTo>
                    <a:lnTo>
                      <a:pt x="199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013440" y="4968720"/>
                <a:ext cx="437040" cy="12960"/>
              </a:xfrm>
              <a:custGeom>
                <a:avLst/>
                <a:gdLst/>
                <a:ahLst/>
                <a:rect l="0" t="0" r="r" b="b"/>
                <a:pathLst>
                  <a:path fill="none" w="1214" h="36">
                    <a:moveTo>
                      <a:pt x="146" y="36"/>
                    </a:moveTo>
                    <a:lnTo>
                      <a:pt x="184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14" y="15"/>
                    </a:lnTo>
                    <a:lnTo>
                      <a:pt x="1181" y="36"/>
                    </a:lnTo>
                    <a:lnTo>
                      <a:pt x="146" y="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438960" y="4981680"/>
                <a:ext cx="14760" cy="32040"/>
              </a:xfrm>
              <a:custGeom>
                <a:avLst/>
                <a:gdLst/>
                <a:ahLst/>
                <a:rect l="0" t="0" r="r" b="b"/>
                <a:pathLst>
                  <a:path fill="none" w="41" h="89">
                    <a:moveTo>
                      <a:pt x="0" y="0"/>
                    </a:moveTo>
                    <a:lnTo>
                      <a:pt x="41" y="0"/>
                    </a:lnTo>
                    <a:lnTo>
                      <a:pt x="41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453360" y="499896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0" y="19"/>
                    </a:moveTo>
                    <a:lnTo>
                      <a:pt x="41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5656320" y="4981680"/>
                <a:ext cx="375120" cy="81360"/>
              </a:xfrm>
              <a:custGeom>
                <a:avLst/>
                <a:gdLst/>
                <a:ahLst/>
                <a:rect l="0" t="0" r="r" b="b"/>
                <a:pathLst>
                  <a:path fill="none" w="1042" h="226">
                    <a:moveTo>
                      <a:pt x="1004" y="108"/>
                    </a:moveTo>
                    <a:lnTo>
                      <a:pt x="1023" y="113"/>
                    </a:lnTo>
                    <a:lnTo>
                      <a:pt x="680" y="118"/>
                    </a:lnTo>
                    <a:lnTo>
                      <a:pt x="847" y="51"/>
                    </a:lnTo>
                    <a:lnTo>
                      <a:pt x="847" y="0"/>
                    </a:lnTo>
                    <a:lnTo>
                      <a:pt x="814" y="0"/>
                    </a:lnTo>
                    <a:lnTo>
                      <a:pt x="814" y="57"/>
                    </a:lnTo>
                    <a:lnTo>
                      <a:pt x="713" y="57"/>
                    </a:lnTo>
                    <a:lnTo>
                      <a:pt x="109" y="99"/>
                    </a:lnTo>
                    <a:lnTo>
                      <a:pt x="185" y="99"/>
                    </a:lnTo>
                    <a:lnTo>
                      <a:pt x="185" y="155"/>
                    </a:lnTo>
                    <a:lnTo>
                      <a:pt x="0" y="155"/>
                    </a:lnTo>
                    <a:lnTo>
                      <a:pt x="0" y="160"/>
                    </a:lnTo>
                    <a:lnTo>
                      <a:pt x="395" y="160"/>
                    </a:lnTo>
                    <a:lnTo>
                      <a:pt x="485" y="226"/>
                    </a:lnTo>
                    <a:lnTo>
                      <a:pt x="371" y="136"/>
                    </a:lnTo>
                    <a:lnTo>
                      <a:pt x="371" y="85"/>
                    </a:lnTo>
                    <a:lnTo>
                      <a:pt x="428" y="122"/>
                    </a:lnTo>
                    <a:lnTo>
                      <a:pt x="390" y="127"/>
                    </a:lnTo>
                    <a:lnTo>
                      <a:pt x="1042" y="113"/>
                    </a:lnTo>
                    <a:lnTo>
                      <a:pt x="1004" y="10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5656320" y="5027760"/>
                <a:ext cx="66960" cy="33840"/>
              </a:xfrm>
              <a:custGeom>
                <a:avLst/>
                <a:gdLst/>
                <a:ahLst/>
                <a:rect l="0" t="0" r="r" b="b"/>
                <a:pathLst>
                  <a:path fill="none" w="186" h="94">
                    <a:moveTo>
                      <a:pt x="0" y="94"/>
                    </a:moveTo>
                    <a:lnTo>
                      <a:pt x="0" y="0"/>
                    </a:lnTo>
                    <a:lnTo>
                      <a:pt x="18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 flipH="1">
                <a:off x="5656320" y="503388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656320" y="503064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66892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68152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69268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0564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71644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668920" y="5010120"/>
                <a:ext cx="27360" cy="18000"/>
              </a:xfrm>
              <a:custGeom>
                <a:avLst/>
                <a:gdLst/>
                <a:ahLst/>
                <a:rect l="0" t="0" r="r" b="b"/>
                <a:pathLst>
                  <a:path fill="none" w="76" h="50">
                    <a:moveTo>
                      <a:pt x="58" y="50"/>
                    </a:moveTo>
                    <a:lnTo>
                      <a:pt x="58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24" y="30"/>
                    </a:lnTo>
                    <a:lnTo>
                      <a:pt x="24" y="50"/>
                    </a:lnTo>
                    <a:lnTo>
                      <a:pt x="58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656320" y="4998960"/>
                <a:ext cx="12960" cy="28800"/>
              </a:xfrm>
              <a:custGeom>
                <a:avLst/>
                <a:gdLst/>
                <a:ahLst/>
                <a:rect l="0" t="0" r="r" b="b"/>
                <a:pathLst>
                  <a:path fill="none" w="36" h="80">
                    <a:moveTo>
                      <a:pt x="36" y="80"/>
                    </a:move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0" y="14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695920" y="4968720"/>
                <a:ext cx="302040" cy="36720"/>
              </a:xfrm>
              <a:custGeom>
                <a:avLst/>
                <a:gdLst/>
                <a:ahLst/>
                <a:rect l="0" t="0" r="r" b="b"/>
                <a:pathLst>
                  <a:path fill="none" w="839" h="102">
                    <a:moveTo>
                      <a:pt x="0" y="102"/>
                    </a:moveTo>
                    <a:lnTo>
                      <a:pt x="839" y="0"/>
                    </a:lnTo>
                    <a:lnTo>
                      <a:pt x="739" y="43"/>
                    </a:lnTo>
                    <a:lnTo>
                      <a:pt x="605" y="43"/>
                    </a:lnTo>
                    <a:lnTo>
                      <a:pt x="605" y="87"/>
                    </a:lnTo>
                    <a:lnTo>
                      <a:pt x="591" y="48"/>
                    </a:lnTo>
                    <a:lnTo>
                      <a:pt x="0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695920" y="4989600"/>
                <a:ext cx="209880" cy="18000"/>
              </a:xfrm>
              <a:custGeom>
                <a:avLst/>
                <a:gdLst/>
                <a:ahLst/>
                <a:rect l="0" t="0" r="r" b="b"/>
                <a:pathLst>
                  <a:path fill="none" w="583" h="50">
                    <a:moveTo>
                      <a:pt x="0" y="45"/>
                    </a:moveTo>
                    <a:lnTo>
                      <a:pt x="9" y="50"/>
                    </a:lnTo>
                    <a:lnTo>
                      <a:pt x="58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630760" y="5062680"/>
                <a:ext cx="200520" cy="55800"/>
              </a:xfrm>
              <a:custGeom>
                <a:avLst/>
                <a:gdLst/>
                <a:ahLst/>
                <a:rect l="0" t="0" r="r" b="b"/>
                <a:pathLst>
                  <a:path fill="none" w="557" h="155">
                    <a:moveTo>
                      <a:pt x="557" y="0"/>
                    </a:moveTo>
                    <a:lnTo>
                      <a:pt x="557" y="14"/>
                    </a:lnTo>
                    <a:lnTo>
                      <a:pt x="552" y="43"/>
                    </a:lnTo>
                    <a:lnTo>
                      <a:pt x="548" y="67"/>
                    </a:lnTo>
                    <a:lnTo>
                      <a:pt x="533" y="97"/>
                    </a:lnTo>
                    <a:lnTo>
                      <a:pt x="519" y="126"/>
                    </a:lnTo>
                    <a:lnTo>
                      <a:pt x="495" y="155"/>
                    </a:lnTo>
                    <a:lnTo>
                      <a:pt x="371" y="145"/>
                    </a:lnTo>
                    <a:lnTo>
                      <a:pt x="0" y="0"/>
                    </a:lnTo>
                    <a:lnTo>
                      <a:pt x="55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792760" y="5038560"/>
                <a:ext cx="1800" cy="25920"/>
              </a:xfrm>
              <a:custGeom>
                <a:avLst/>
                <a:gdLst/>
                <a:ahLst/>
                <a:rect l="0" t="0" r="r" b="b"/>
                <a:pathLst>
                  <a:path fill="none" w="5" h="72">
                    <a:moveTo>
                      <a:pt x="0" y="0"/>
                    </a:moveTo>
                    <a:lnTo>
                      <a:pt x="0" y="72"/>
                    </a:lnTo>
                    <a:lnTo>
                      <a:pt x="5" y="7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629320" y="5068800"/>
                <a:ext cx="44640" cy="38520"/>
              </a:xfrm>
              <a:custGeom>
                <a:avLst/>
                <a:gdLst/>
                <a:ahLst/>
                <a:rect l="0" t="0" r="r" b="b"/>
                <a:pathLst>
                  <a:path fill="none" w="124" h="107">
                    <a:moveTo>
                      <a:pt x="14" y="0"/>
                    </a:moveTo>
                    <a:lnTo>
                      <a:pt x="95" y="60"/>
                    </a:lnTo>
                    <a:lnTo>
                      <a:pt x="95" y="74"/>
                    </a:lnTo>
                    <a:lnTo>
                      <a:pt x="91" y="89"/>
                    </a:lnTo>
                    <a:lnTo>
                      <a:pt x="81" y="94"/>
                    </a:lnTo>
                    <a:lnTo>
                      <a:pt x="61" y="98"/>
                    </a:lnTo>
                    <a:lnTo>
                      <a:pt x="0" y="98"/>
                    </a:lnTo>
                    <a:lnTo>
                      <a:pt x="4" y="103"/>
                    </a:lnTo>
                    <a:lnTo>
                      <a:pt x="86" y="107"/>
                    </a:lnTo>
                    <a:lnTo>
                      <a:pt x="100" y="103"/>
                    </a:lnTo>
                    <a:lnTo>
                      <a:pt x="110" y="94"/>
                    </a:lnTo>
                    <a:lnTo>
                      <a:pt x="114" y="84"/>
                    </a:lnTo>
                    <a:lnTo>
                      <a:pt x="119" y="70"/>
                    </a:lnTo>
                    <a:lnTo>
                      <a:pt x="124" y="4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 flipH="1">
                <a:off x="5530680" y="5003640"/>
                <a:ext cx="125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408640" y="5003640"/>
                <a:ext cx="248040" cy="39960"/>
              </a:xfrm>
              <a:custGeom>
                <a:avLst/>
                <a:gdLst/>
                <a:ahLst/>
                <a:rect l="0" t="0" r="r" b="b"/>
                <a:pathLst>
                  <a:path fill="none" w="689" h="111">
                    <a:moveTo>
                      <a:pt x="337" y="0"/>
                    </a:moveTo>
                    <a:lnTo>
                      <a:pt x="337" y="32"/>
                    </a:lnTo>
                    <a:lnTo>
                      <a:pt x="689" y="32"/>
                    </a:lnTo>
                    <a:lnTo>
                      <a:pt x="689" y="41"/>
                    </a:lnTo>
                    <a:lnTo>
                      <a:pt x="295" y="41"/>
                    </a:lnTo>
                    <a:lnTo>
                      <a:pt x="56" y="111"/>
                    </a:lnTo>
                    <a:lnTo>
                      <a:pt x="0" y="97"/>
                    </a:lnTo>
                    <a:lnTo>
                      <a:pt x="295" y="0"/>
                    </a:lnTo>
                    <a:lnTo>
                      <a:pt x="33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418000" y="5014800"/>
                <a:ext cx="224280" cy="109800"/>
              </a:xfrm>
              <a:custGeom>
                <a:avLst/>
                <a:gdLst/>
                <a:ahLst/>
                <a:rect l="0" t="0" r="r" b="b"/>
                <a:pathLst>
                  <a:path fill="none" w="623" h="305">
                    <a:moveTo>
                      <a:pt x="623" y="57"/>
                    </a:moveTo>
                    <a:lnTo>
                      <a:pt x="609" y="71"/>
                    </a:lnTo>
                    <a:lnTo>
                      <a:pt x="600" y="71"/>
                    </a:lnTo>
                    <a:lnTo>
                      <a:pt x="600" y="95"/>
                    </a:lnTo>
                    <a:lnTo>
                      <a:pt x="481" y="95"/>
                    </a:lnTo>
                    <a:lnTo>
                      <a:pt x="481" y="133"/>
                    </a:lnTo>
                    <a:lnTo>
                      <a:pt x="571" y="233"/>
                    </a:lnTo>
                    <a:lnTo>
                      <a:pt x="552" y="219"/>
                    </a:lnTo>
                    <a:lnTo>
                      <a:pt x="552" y="248"/>
                    </a:lnTo>
                    <a:lnTo>
                      <a:pt x="490" y="238"/>
                    </a:lnTo>
                    <a:lnTo>
                      <a:pt x="490" y="305"/>
                    </a:lnTo>
                    <a:lnTo>
                      <a:pt x="356" y="243"/>
                    </a:lnTo>
                    <a:lnTo>
                      <a:pt x="356" y="157"/>
                    </a:lnTo>
                    <a:lnTo>
                      <a:pt x="342" y="157"/>
                    </a:lnTo>
                    <a:lnTo>
                      <a:pt x="342" y="205"/>
                    </a:lnTo>
                    <a:lnTo>
                      <a:pt x="328" y="205"/>
                    </a:lnTo>
                    <a:lnTo>
                      <a:pt x="328" y="157"/>
                    </a:lnTo>
                    <a:lnTo>
                      <a:pt x="314" y="157"/>
                    </a:lnTo>
                    <a:lnTo>
                      <a:pt x="314" y="243"/>
                    </a:lnTo>
                    <a:lnTo>
                      <a:pt x="314" y="147"/>
                    </a:lnTo>
                    <a:lnTo>
                      <a:pt x="200" y="147"/>
                    </a:lnTo>
                    <a:lnTo>
                      <a:pt x="186" y="133"/>
                    </a:lnTo>
                    <a:lnTo>
                      <a:pt x="219" y="133"/>
                    </a:lnTo>
                    <a:lnTo>
                      <a:pt x="219" y="85"/>
                    </a:lnTo>
                    <a:lnTo>
                      <a:pt x="104" y="109"/>
                    </a:lnTo>
                    <a:lnTo>
                      <a:pt x="151" y="229"/>
                    </a:lnTo>
                    <a:lnTo>
                      <a:pt x="0" y="142"/>
                    </a:lnTo>
                    <a:lnTo>
                      <a:pt x="0" y="118"/>
                    </a:lnTo>
                    <a:lnTo>
                      <a:pt x="219" y="61"/>
                    </a:lnTo>
                    <a:lnTo>
                      <a:pt x="219" y="23"/>
                    </a:lnTo>
                    <a:lnTo>
                      <a:pt x="271" y="0"/>
                    </a:lnTo>
                    <a:lnTo>
                      <a:pt x="271" y="57"/>
                    </a:lnTo>
                    <a:lnTo>
                      <a:pt x="623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5477040" y="509904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fill="none" w="270" h="67">
                    <a:moveTo>
                      <a:pt x="0" y="0"/>
                    </a:moveTo>
                    <a:lnTo>
                      <a:pt x="149" y="9"/>
                    </a:lnTo>
                    <a:lnTo>
                      <a:pt x="270" y="6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5589720" y="5048280"/>
                <a:ext cx="66960" cy="19440"/>
              </a:xfrm>
              <a:custGeom>
                <a:avLst/>
                <a:gdLst/>
                <a:ahLst/>
                <a:rect l="0" t="0" r="r" b="b"/>
                <a:pathLst>
                  <a:path fill="none" w="186" h="54">
                    <a:moveTo>
                      <a:pt x="47" y="0"/>
                    </a:moveTo>
                    <a:lnTo>
                      <a:pt x="47" y="45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14" y="54"/>
                    </a:lnTo>
                    <a:lnTo>
                      <a:pt x="95" y="45"/>
                    </a:lnTo>
                    <a:lnTo>
                      <a:pt x="186" y="45"/>
                    </a:lnTo>
                    <a:lnTo>
                      <a:pt x="186" y="0"/>
                    </a:lnTo>
                    <a:lnTo>
                      <a:pt x="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5408640" y="4997520"/>
                <a:ext cx="251280" cy="57600"/>
              </a:xfrm>
              <a:custGeom>
                <a:avLst/>
                <a:gdLst/>
                <a:ahLst/>
                <a:rect l="0" t="0" r="r" b="b"/>
                <a:pathLst>
                  <a:path fill="none" w="698" h="160">
                    <a:moveTo>
                      <a:pt x="57" y="160"/>
                    </a:moveTo>
                    <a:lnTo>
                      <a:pt x="57" y="131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296" y="0"/>
                    </a:lnTo>
                    <a:lnTo>
                      <a:pt x="378" y="0"/>
                    </a:lnTo>
                    <a:lnTo>
                      <a:pt x="411" y="9"/>
                    </a:lnTo>
                    <a:lnTo>
                      <a:pt x="698" y="9"/>
                    </a:lnTo>
                    <a:lnTo>
                      <a:pt x="698" y="14"/>
                    </a:lnTo>
                    <a:lnTo>
                      <a:pt x="411" y="14"/>
                    </a:lnTo>
                    <a:lnTo>
                      <a:pt x="378" y="4"/>
                    </a:lnTo>
                    <a:lnTo>
                      <a:pt x="296" y="4"/>
                    </a:lnTo>
                    <a:lnTo>
                      <a:pt x="296" y="19"/>
                    </a:lnTo>
                    <a:lnTo>
                      <a:pt x="263" y="19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57" y="16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5506920" y="5102280"/>
                <a:ext cx="135360" cy="54360"/>
              </a:xfrm>
              <a:custGeom>
                <a:avLst/>
                <a:gdLst/>
                <a:ahLst/>
                <a:rect l="0" t="0" r="r" b="b"/>
                <a:pathLst>
                  <a:path fill="none" w="376" h="151">
                    <a:moveTo>
                      <a:pt x="334" y="0"/>
                    </a:moveTo>
                    <a:lnTo>
                      <a:pt x="343" y="4"/>
                    </a:lnTo>
                    <a:lnTo>
                      <a:pt x="376" y="4"/>
                    </a:lnTo>
                    <a:lnTo>
                      <a:pt x="376" y="132"/>
                    </a:lnTo>
                    <a:lnTo>
                      <a:pt x="353" y="151"/>
                    </a:lnTo>
                    <a:lnTo>
                      <a:pt x="18" y="49"/>
                    </a:lnTo>
                    <a:lnTo>
                      <a:pt x="37" y="83"/>
                    </a:lnTo>
                    <a:lnTo>
                      <a:pt x="4" y="49"/>
                    </a:lnTo>
                    <a:lnTo>
                      <a:pt x="0" y="9"/>
                    </a:lnTo>
                    <a:lnTo>
                      <a:pt x="9" y="39"/>
                    </a:lnTo>
                    <a:lnTo>
                      <a:pt x="334" y="122"/>
                    </a:lnTo>
                    <a:lnTo>
                      <a:pt x="33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5597640" y="510228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fill="none" w="54" h="89">
                    <a:moveTo>
                      <a:pt x="54" y="0"/>
                    </a:moveTo>
                    <a:lnTo>
                      <a:pt x="54" y="8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50" y="79"/>
                    </a:lnTo>
                    <a:lnTo>
                      <a:pt x="50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5597640" y="5100480"/>
                <a:ext cx="5040" cy="27360"/>
              </a:xfrm>
              <a:custGeom>
                <a:avLst/>
                <a:gdLst/>
                <a:ahLst/>
                <a:rect l="0" t="0" r="r" b="b"/>
                <a:pathLst>
                  <a:path fill="none" w="14" h="76">
                    <a:moveTo>
                      <a:pt x="0" y="0"/>
                    </a:moveTo>
                    <a:lnTo>
                      <a:pt x="0" y="76"/>
                    </a:lnTo>
                    <a:lnTo>
                      <a:pt x="14" y="76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5470560" y="506736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4"/>
                    </a:moveTo>
                    <a:lnTo>
                      <a:pt x="25" y="63"/>
                    </a:lnTo>
                    <a:lnTo>
                      <a:pt x="41" y="63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5459400" y="505764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0" y="0"/>
                    </a:moveTo>
                    <a:lnTo>
                      <a:pt x="41" y="102"/>
                    </a:lnTo>
                    <a:lnTo>
                      <a:pt x="50" y="102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5477040" y="5048280"/>
                <a:ext cx="8280" cy="11520"/>
              </a:xfrm>
              <a:custGeom>
                <a:avLst/>
                <a:gdLst/>
                <a:ahLst/>
                <a:rect l="0" t="0" r="r" b="b"/>
                <a:pathLst>
                  <a:path fill="none" w="23" h="32">
                    <a:moveTo>
                      <a:pt x="23" y="0"/>
                    </a:moveTo>
                    <a:lnTo>
                      <a:pt x="23" y="32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6138720" y="5164200"/>
                <a:ext cx="143280" cy="89280"/>
              </a:xfrm>
              <a:custGeom>
                <a:avLst/>
                <a:gdLst/>
                <a:ahLst/>
                <a:rect l="0" t="0" r="r" b="b"/>
                <a:pathLst>
                  <a:path fill="none" w="398" h="248">
                    <a:moveTo>
                      <a:pt x="0" y="248"/>
                    </a:moveTo>
                    <a:lnTo>
                      <a:pt x="33" y="248"/>
                    </a:lnTo>
                    <a:lnTo>
                      <a:pt x="38" y="225"/>
                    </a:lnTo>
                    <a:lnTo>
                      <a:pt x="66" y="225"/>
                    </a:lnTo>
                    <a:lnTo>
                      <a:pt x="76" y="210"/>
                    </a:lnTo>
                    <a:lnTo>
                      <a:pt x="106" y="206"/>
                    </a:lnTo>
                    <a:lnTo>
                      <a:pt x="120" y="229"/>
                    </a:lnTo>
                    <a:lnTo>
                      <a:pt x="134" y="225"/>
                    </a:lnTo>
                    <a:lnTo>
                      <a:pt x="134" y="206"/>
                    </a:lnTo>
                    <a:lnTo>
                      <a:pt x="163" y="196"/>
                    </a:lnTo>
                    <a:lnTo>
                      <a:pt x="182" y="210"/>
                    </a:lnTo>
                    <a:lnTo>
                      <a:pt x="192" y="201"/>
                    </a:lnTo>
                    <a:lnTo>
                      <a:pt x="201" y="181"/>
                    </a:lnTo>
                    <a:lnTo>
                      <a:pt x="225" y="176"/>
                    </a:lnTo>
                    <a:lnTo>
                      <a:pt x="235" y="167"/>
                    </a:lnTo>
                    <a:lnTo>
                      <a:pt x="268" y="162"/>
                    </a:lnTo>
                    <a:lnTo>
                      <a:pt x="303" y="181"/>
                    </a:lnTo>
                    <a:lnTo>
                      <a:pt x="317" y="171"/>
                    </a:lnTo>
                    <a:lnTo>
                      <a:pt x="317" y="152"/>
                    </a:lnTo>
                    <a:lnTo>
                      <a:pt x="331" y="152"/>
                    </a:lnTo>
                    <a:lnTo>
                      <a:pt x="379" y="171"/>
                    </a:lnTo>
                    <a:lnTo>
                      <a:pt x="398" y="167"/>
                    </a:lnTo>
                    <a:lnTo>
                      <a:pt x="389" y="119"/>
                    </a:lnTo>
                    <a:lnTo>
                      <a:pt x="351" y="105"/>
                    </a:lnTo>
                    <a:lnTo>
                      <a:pt x="331" y="91"/>
                    </a:lnTo>
                    <a:lnTo>
                      <a:pt x="292" y="100"/>
                    </a:lnTo>
                    <a:lnTo>
                      <a:pt x="278" y="91"/>
                    </a:lnTo>
                    <a:lnTo>
                      <a:pt x="283" y="72"/>
                    </a:lnTo>
                    <a:lnTo>
                      <a:pt x="268" y="56"/>
                    </a:lnTo>
                    <a:lnTo>
                      <a:pt x="278" y="33"/>
                    </a:lnTo>
                    <a:lnTo>
                      <a:pt x="268" y="0"/>
                    </a:lnTo>
                    <a:lnTo>
                      <a:pt x="225" y="4"/>
                    </a:lnTo>
                    <a:lnTo>
                      <a:pt x="206" y="23"/>
                    </a:lnTo>
                    <a:lnTo>
                      <a:pt x="182" y="28"/>
                    </a:lnTo>
                    <a:lnTo>
                      <a:pt x="163" y="52"/>
                    </a:lnTo>
                    <a:lnTo>
                      <a:pt x="144" y="81"/>
                    </a:lnTo>
                    <a:lnTo>
                      <a:pt x="173" y="52"/>
                    </a:lnTo>
                    <a:lnTo>
                      <a:pt x="206" y="33"/>
                    </a:lnTo>
                    <a:lnTo>
                      <a:pt x="220" y="14"/>
                    </a:lnTo>
                    <a:lnTo>
                      <a:pt x="254" y="18"/>
                    </a:lnTo>
                    <a:lnTo>
                      <a:pt x="263" y="42"/>
                    </a:lnTo>
                    <a:lnTo>
                      <a:pt x="254" y="56"/>
                    </a:lnTo>
                    <a:lnTo>
                      <a:pt x="268" y="67"/>
                    </a:lnTo>
                    <a:lnTo>
                      <a:pt x="263" y="95"/>
                    </a:lnTo>
                    <a:lnTo>
                      <a:pt x="273" y="110"/>
                    </a:lnTo>
                    <a:lnTo>
                      <a:pt x="254" y="110"/>
                    </a:lnTo>
                    <a:lnTo>
                      <a:pt x="254" y="129"/>
                    </a:lnTo>
                    <a:lnTo>
                      <a:pt x="278" y="133"/>
                    </a:lnTo>
                    <a:lnTo>
                      <a:pt x="278" y="124"/>
                    </a:lnTo>
                    <a:lnTo>
                      <a:pt x="292" y="119"/>
                    </a:lnTo>
                    <a:lnTo>
                      <a:pt x="308" y="124"/>
                    </a:lnTo>
                    <a:lnTo>
                      <a:pt x="336" y="110"/>
                    </a:lnTo>
                    <a:lnTo>
                      <a:pt x="351" y="138"/>
                    </a:lnTo>
                    <a:lnTo>
                      <a:pt x="322" y="138"/>
                    </a:lnTo>
                    <a:lnTo>
                      <a:pt x="303" y="157"/>
                    </a:lnTo>
                    <a:lnTo>
                      <a:pt x="263" y="152"/>
                    </a:lnTo>
                    <a:lnTo>
                      <a:pt x="230" y="157"/>
                    </a:lnTo>
                    <a:lnTo>
                      <a:pt x="216" y="143"/>
                    </a:lnTo>
                    <a:lnTo>
                      <a:pt x="192" y="148"/>
                    </a:lnTo>
                    <a:lnTo>
                      <a:pt x="187" y="181"/>
                    </a:lnTo>
                    <a:lnTo>
                      <a:pt x="182" y="196"/>
                    </a:lnTo>
                    <a:lnTo>
                      <a:pt x="163" y="181"/>
                    </a:lnTo>
                    <a:lnTo>
                      <a:pt x="130" y="191"/>
                    </a:lnTo>
                    <a:lnTo>
                      <a:pt x="115" y="181"/>
                    </a:lnTo>
                    <a:lnTo>
                      <a:pt x="95" y="187"/>
                    </a:lnTo>
                    <a:lnTo>
                      <a:pt x="90" y="201"/>
                    </a:lnTo>
                    <a:lnTo>
                      <a:pt x="62" y="206"/>
                    </a:lnTo>
                    <a:lnTo>
                      <a:pt x="47" y="215"/>
                    </a:lnTo>
                    <a:lnTo>
                      <a:pt x="23" y="215"/>
                    </a:lnTo>
                    <a:lnTo>
                      <a:pt x="23" y="239"/>
                    </a:lnTo>
                    <a:lnTo>
                      <a:pt x="0" y="2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6219720" y="519588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fill="none" w="19" h="23">
                    <a:moveTo>
                      <a:pt x="4" y="0"/>
                    </a:moveTo>
                    <a:lnTo>
                      <a:pt x="19" y="5"/>
                    </a:lnTo>
                    <a:lnTo>
                      <a:pt x="9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6248520" y="5183280"/>
                <a:ext cx="9720" cy="8280"/>
              </a:xfrm>
              <a:custGeom>
                <a:avLst/>
                <a:gdLst/>
                <a:ahLst/>
                <a:rect l="0" t="0" r="r" b="b"/>
                <a:pathLst>
                  <a:path fill="none" w="27" h="23">
                    <a:moveTo>
                      <a:pt x="10" y="2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7" y="8"/>
                    </a:lnTo>
                    <a:lnTo>
                      <a:pt x="27" y="23"/>
                    </a:lnTo>
                    <a:lnTo>
                      <a:pt x="10" y="2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6246720" y="516096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9" y="0"/>
                    </a:moveTo>
                    <a:lnTo>
                      <a:pt x="0" y="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5756400" y="5145120"/>
                <a:ext cx="427320" cy="79560"/>
              </a:xfrm>
              <a:custGeom>
                <a:avLst/>
                <a:gdLst/>
                <a:ahLst/>
                <a:rect l="0" t="0" r="r" b="b"/>
                <a:pathLst>
                  <a:path fill="none" w="1187" h="221">
                    <a:moveTo>
                      <a:pt x="1187" y="221"/>
                    </a:moveTo>
                    <a:lnTo>
                      <a:pt x="1163" y="197"/>
                    </a:lnTo>
                    <a:lnTo>
                      <a:pt x="1135" y="187"/>
                    </a:lnTo>
                    <a:lnTo>
                      <a:pt x="1125" y="173"/>
                    </a:lnTo>
                    <a:lnTo>
                      <a:pt x="1125" y="144"/>
                    </a:lnTo>
                    <a:lnTo>
                      <a:pt x="1106" y="125"/>
                    </a:lnTo>
                    <a:lnTo>
                      <a:pt x="1101" y="105"/>
                    </a:lnTo>
                    <a:lnTo>
                      <a:pt x="1068" y="105"/>
                    </a:lnTo>
                    <a:lnTo>
                      <a:pt x="1044" y="105"/>
                    </a:lnTo>
                    <a:lnTo>
                      <a:pt x="1016" y="95"/>
                    </a:lnTo>
                    <a:lnTo>
                      <a:pt x="997" y="57"/>
                    </a:lnTo>
                    <a:lnTo>
                      <a:pt x="978" y="57"/>
                    </a:lnTo>
                    <a:lnTo>
                      <a:pt x="959" y="38"/>
                    </a:lnTo>
                    <a:lnTo>
                      <a:pt x="930" y="47"/>
                    </a:lnTo>
                    <a:lnTo>
                      <a:pt x="907" y="57"/>
                    </a:lnTo>
                    <a:lnTo>
                      <a:pt x="893" y="47"/>
                    </a:lnTo>
                    <a:lnTo>
                      <a:pt x="859" y="23"/>
                    </a:lnTo>
                    <a:lnTo>
                      <a:pt x="821" y="19"/>
                    </a:lnTo>
                    <a:lnTo>
                      <a:pt x="793" y="0"/>
                    </a:lnTo>
                    <a:lnTo>
                      <a:pt x="760" y="9"/>
                    </a:lnTo>
                    <a:lnTo>
                      <a:pt x="741" y="38"/>
                    </a:lnTo>
                    <a:lnTo>
                      <a:pt x="693" y="52"/>
                    </a:lnTo>
                    <a:lnTo>
                      <a:pt x="679" y="67"/>
                    </a:lnTo>
                    <a:lnTo>
                      <a:pt x="646" y="67"/>
                    </a:lnTo>
                    <a:lnTo>
                      <a:pt x="613" y="67"/>
                    </a:lnTo>
                    <a:lnTo>
                      <a:pt x="594" y="86"/>
                    </a:lnTo>
                    <a:lnTo>
                      <a:pt x="574" y="100"/>
                    </a:lnTo>
                    <a:lnTo>
                      <a:pt x="536" y="111"/>
                    </a:lnTo>
                    <a:lnTo>
                      <a:pt x="517" y="100"/>
                    </a:lnTo>
                    <a:lnTo>
                      <a:pt x="517" y="71"/>
                    </a:lnTo>
                    <a:lnTo>
                      <a:pt x="502" y="62"/>
                    </a:lnTo>
                    <a:lnTo>
                      <a:pt x="507" y="43"/>
                    </a:lnTo>
                    <a:lnTo>
                      <a:pt x="460" y="28"/>
                    </a:lnTo>
                    <a:lnTo>
                      <a:pt x="450" y="47"/>
                    </a:lnTo>
                    <a:lnTo>
                      <a:pt x="398" y="28"/>
                    </a:lnTo>
                    <a:lnTo>
                      <a:pt x="351" y="38"/>
                    </a:lnTo>
                    <a:lnTo>
                      <a:pt x="322" y="57"/>
                    </a:lnTo>
                    <a:lnTo>
                      <a:pt x="246" y="76"/>
                    </a:lnTo>
                    <a:lnTo>
                      <a:pt x="223" y="100"/>
                    </a:lnTo>
                    <a:lnTo>
                      <a:pt x="161" y="111"/>
                    </a:lnTo>
                    <a:lnTo>
                      <a:pt x="94" y="100"/>
                    </a:lnTo>
                    <a:lnTo>
                      <a:pt x="0" y="120"/>
                    </a:lnTo>
                    <a:lnTo>
                      <a:pt x="94" y="105"/>
                    </a:lnTo>
                    <a:lnTo>
                      <a:pt x="142" y="116"/>
                    </a:lnTo>
                    <a:lnTo>
                      <a:pt x="180" y="116"/>
                    </a:lnTo>
                    <a:lnTo>
                      <a:pt x="227" y="105"/>
                    </a:lnTo>
                    <a:lnTo>
                      <a:pt x="256" y="86"/>
                    </a:lnTo>
                    <a:lnTo>
                      <a:pt x="289" y="86"/>
                    </a:lnTo>
                    <a:lnTo>
                      <a:pt x="303" y="95"/>
                    </a:lnTo>
                    <a:lnTo>
                      <a:pt x="336" y="76"/>
                    </a:lnTo>
                    <a:lnTo>
                      <a:pt x="360" y="52"/>
                    </a:lnTo>
                    <a:lnTo>
                      <a:pt x="403" y="57"/>
                    </a:lnTo>
                    <a:lnTo>
                      <a:pt x="422" y="52"/>
                    </a:lnTo>
                    <a:lnTo>
                      <a:pt x="455" y="62"/>
                    </a:lnTo>
                    <a:lnTo>
                      <a:pt x="488" y="57"/>
                    </a:lnTo>
                    <a:lnTo>
                      <a:pt x="502" y="81"/>
                    </a:lnTo>
                    <a:lnTo>
                      <a:pt x="498" y="95"/>
                    </a:lnTo>
                    <a:lnTo>
                      <a:pt x="479" y="95"/>
                    </a:lnTo>
                    <a:lnTo>
                      <a:pt x="474" y="116"/>
                    </a:lnTo>
                    <a:lnTo>
                      <a:pt x="498" y="135"/>
                    </a:lnTo>
                    <a:lnTo>
                      <a:pt x="521" y="120"/>
                    </a:lnTo>
                    <a:lnTo>
                      <a:pt x="536" y="140"/>
                    </a:lnTo>
                    <a:lnTo>
                      <a:pt x="550" y="120"/>
                    </a:lnTo>
                    <a:lnTo>
                      <a:pt x="588" y="105"/>
                    </a:lnTo>
                    <a:lnTo>
                      <a:pt x="622" y="86"/>
                    </a:lnTo>
                    <a:lnTo>
                      <a:pt x="651" y="86"/>
                    </a:lnTo>
                    <a:lnTo>
                      <a:pt x="679" y="76"/>
                    </a:lnTo>
                    <a:lnTo>
                      <a:pt x="712" y="71"/>
                    </a:lnTo>
                    <a:lnTo>
                      <a:pt x="741" y="47"/>
                    </a:lnTo>
                    <a:lnTo>
                      <a:pt x="774" y="47"/>
                    </a:lnTo>
                    <a:lnTo>
                      <a:pt x="793" y="28"/>
                    </a:lnTo>
                    <a:lnTo>
                      <a:pt x="826" y="33"/>
                    </a:lnTo>
                    <a:lnTo>
                      <a:pt x="864" y="33"/>
                    </a:lnTo>
                    <a:lnTo>
                      <a:pt x="897" y="76"/>
                    </a:lnTo>
                    <a:lnTo>
                      <a:pt x="940" y="67"/>
                    </a:lnTo>
                    <a:lnTo>
                      <a:pt x="983" y="100"/>
                    </a:lnTo>
                    <a:lnTo>
                      <a:pt x="997" y="91"/>
                    </a:lnTo>
                    <a:lnTo>
                      <a:pt x="1011" y="105"/>
                    </a:lnTo>
                    <a:lnTo>
                      <a:pt x="1044" y="116"/>
                    </a:lnTo>
                    <a:lnTo>
                      <a:pt x="1082" y="120"/>
                    </a:lnTo>
                    <a:lnTo>
                      <a:pt x="1101" y="154"/>
                    </a:lnTo>
                    <a:lnTo>
                      <a:pt x="1116" y="163"/>
                    </a:lnTo>
                    <a:lnTo>
                      <a:pt x="1111" y="192"/>
                    </a:lnTo>
                    <a:lnTo>
                      <a:pt x="1158" y="207"/>
                    </a:lnTo>
                    <a:lnTo>
                      <a:pt x="1187" y="22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5951520" y="5218200"/>
                <a:ext cx="173520" cy="32040"/>
              </a:xfrm>
              <a:custGeom>
                <a:avLst/>
                <a:gdLst/>
                <a:ahLst/>
                <a:rect l="0" t="0" r="r" b="b"/>
                <a:pathLst>
                  <a:path fill="none" w="482" h="89">
                    <a:moveTo>
                      <a:pt x="482" y="89"/>
                    </a:moveTo>
                    <a:lnTo>
                      <a:pt x="439" y="69"/>
                    </a:lnTo>
                    <a:lnTo>
                      <a:pt x="406" y="74"/>
                    </a:lnTo>
                    <a:lnTo>
                      <a:pt x="377" y="79"/>
                    </a:lnTo>
                    <a:lnTo>
                      <a:pt x="357" y="74"/>
                    </a:lnTo>
                    <a:lnTo>
                      <a:pt x="334" y="64"/>
                    </a:lnTo>
                    <a:lnTo>
                      <a:pt x="305" y="64"/>
                    </a:lnTo>
                    <a:lnTo>
                      <a:pt x="291" y="69"/>
                    </a:lnTo>
                    <a:lnTo>
                      <a:pt x="267" y="69"/>
                    </a:lnTo>
                    <a:lnTo>
                      <a:pt x="234" y="64"/>
                    </a:lnTo>
                    <a:lnTo>
                      <a:pt x="181" y="64"/>
                    </a:lnTo>
                    <a:lnTo>
                      <a:pt x="162" y="29"/>
                    </a:lnTo>
                    <a:lnTo>
                      <a:pt x="139" y="34"/>
                    </a:lnTo>
                    <a:lnTo>
                      <a:pt x="129" y="9"/>
                    </a:lnTo>
                    <a:lnTo>
                      <a:pt x="99" y="0"/>
                    </a:lnTo>
                    <a:lnTo>
                      <a:pt x="90" y="19"/>
                    </a:lnTo>
                    <a:lnTo>
                      <a:pt x="80" y="4"/>
                    </a:lnTo>
                    <a:lnTo>
                      <a:pt x="52" y="9"/>
                    </a:lnTo>
                    <a:lnTo>
                      <a:pt x="71" y="24"/>
                    </a:lnTo>
                    <a:lnTo>
                      <a:pt x="66" y="34"/>
                    </a:lnTo>
                    <a:lnTo>
                      <a:pt x="38" y="45"/>
                    </a:lnTo>
                    <a:lnTo>
                      <a:pt x="38" y="59"/>
                    </a:lnTo>
                    <a:lnTo>
                      <a:pt x="0" y="64"/>
                    </a:lnTo>
                    <a:lnTo>
                      <a:pt x="47" y="64"/>
                    </a:lnTo>
                    <a:lnTo>
                      <a:pt x="71" y="45"/>
                    </a:lnTo>
                    <a:lnTo>
                      <a:pt x="95" y="34"/>
                    </a:lnTo>
                    <a:lnTo>
                      <a:pt x="114" y="34"/>
                    </a:lnTo>
                    <a:lnTo>
                      <a:pt x="109" y="54"/>
                    </a:lnTo>
                    <a:lnTo>
                      <a:pt x="139" y="64"/>
                    </a:lnTo>
                    <a:lnTo>
                      <a:pt x="153" y="54"/>
                    </a:lnTo>
                    <a:lnTo>
                      <a:pt x="172" y="74"/>
                    </a:lnTo>
                    <a:lnTo>
                      <a:pt x="234" y="84"/>
                    </a:lnTo>
                    <a:lnTo>
                      <a:pt x="291" y="79"/>
                    </a:lnTo>
                    <a:lnTo>
                      <a:pt x="363" y="89"/>
                    </a:lnTo>
                    <a:lnTo>
                      <a:pt x="430" y="74"/>
                    </a:lnTo>
                    <a:lnTo>
                      <a:pt x="482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5977080" y="5210280"/>
                <a:ext cx="8280" cy="8280"/>
              </a:xfrm>
              <a:custGeom>
                <a:avLst/>
                <a:gdLst/>
                <a:ahLst/>
                <a:rect l="0" t="0" r="r" b="b"/>
                <a:pathLst>
                  <a:path fill="none" w="23" h="23">
                    <a:moveTo>
                      <a:pt x="0" y="4"/>
                    </a:moveTo>
                    <a:lnTo>
                      <a:pt x="0" y="23"/>
                    </a:lnTo>
                    <a:lnTo>
                      <a:pt x="23" y="23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5954760" y="520848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18" y="0"/>
                    </a:moveTo>
                    <a:lnTo>
                      <a:pt x="0" y="4"/>
                    </a:lnTo>
                    <a:lnTo>
                      <a:pt x="14" y="14"/>
                    </a:lnTo>
                    <a:lnTo>
                      <a:pt x="27" y="9"/>
                    </a:lnTo>
                    <a:lnTo>
                      <a:pt x="23" y="4"/>
                    </a:lnTo>
                    <a:lnTo>
                      <a:pt x="1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5826240" y="5221440"/>
                <a:ext cx="116280" cy="18000"/>
              </a:xfrm>
              <a:custGeom>
                <a:avLst/>
                <a:gdLst/>
                <a:ahLst/>
                <a:rect l="0" t="0" r="r" b="b"/>
                <a:pathLst>
                  <a:path fill="none" w="323" h="50">
                    <a:moveTo>
                      <a:pt x="262" y="50"/>
                    </a:moveTo>
                    <a:lnTo>
                      <a:pt x="319" y="41"/>
                    </a:lnTo>
                    <a:lnTo>
                      <a:pt x="323" y="23"/>
                    </a:lnTo>
                    <a:lnTo>
                      <a:pt x="304" y="4"/>
                    </a:lnTo>
                    <a:lnTo>
                      <a:pt x="281" y="0"/>
                    </a:lnTo>
                    <a:lnTo>
                      <a:pt x="262" y="8"/>
                    </a:lnTo>
                    <a:lnTo>
                      <a:pt x="243" y="0"/>
                    </a:lnTo>
                    <a:lnTo>
                      <a:pt x="223" y="0"/>
                    </a:lnTo>
                    <a:lnTo>
                      <a:pt x="209" y="14"/>
                    </a:lnTo>
                    <a:lnTo>
                      <a:pt x="190" y="23"/>
                    </a:lnTo>
                    <a:lnTo>
                      <a:pt x="166" y="23"/>
                    </a:lnTo>
                    <a:lnTo>
                      <a:pt x="157" y="31"/>
                    </a:lnTo>
                    <a:lnTo>
                      <a:pt x="0" y="50"/>
                    </a:lnTo>
                    <a:lnTo>
                      <a:pt x="223" y="50"/>
                    </a:lnTo>
                    <a:lnTo>
                      <a:pt x="262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5656320" y="5200560"/>
                <a:ext cx="170280" cy="22680"/>
              </a:xfrm>
              <a:custGeom>
                <a:avLst/>
                <a:gdLst/>
                <a:ahLst/>
                <a:rect l="0" t="0" r="r" b="b"/>
                <a:pathLst>
                  <a:path fill="none" w="473" h="63">
                    <a:moveTo>
                      <a:pt x="473" y="58"/>
                    </a:moveTo>
                    <a:lnTo>
                      <a:pt x="473" y="34"/>
                    </a:lnTo>
                    <a:lnTo>
                      <a:pt x="440" y="24"/>
                    </a:lnTo>
                    <a:lnTo>
                      <a:pt x="402" y="29"/>
                    </a:lnTo>
                    <a:lnTo>
                      <a:pt x="383" y="4"/>
                    </a:lnTo>
                    <a:lnTo>
                      <a:pt x="353" y="9"/>
                    </a:lnTo>
                    <a:lnTo>
                      <a:pt x="329" y="24"/>
                    </a:lnTo>
                    <a:lnTo>
                      <a:pt x="291" y="24"/>
                    </a:lnTo>
                    <a:lnTo>
                      <a:pt x="277" y="24"/>
                    </a:lnTo>
                    <a:lnTo>
                      <a:pt x="258" y="38"/>
                    </a:lnTo>
                    <a:lnTo>
                      <a:pt x="186" y="34"/>
                    </a:lnTo>
                    <a:lnTo>
                      <a:pt x="163" y="9"/>
                    </a:lnTo>
                    <a:lnTo>
                      <a:pt x="109" y="0"/>
                    </a:lnTo>
                    <a:lnTo>
                      <a:pt x="76" y="24"/>
                    </a:lnTo>
                    <a:lnTo>
                      <a:pt x="33" y="24"/>
                    </a:lnTo>
                    <a:lnTo>
                      <a:pt x="47" y="9"/>
                    </a:lnTo>
                    <a:lnTo>
                      <a:pt x="0" y="34"/>
                    </a:lnTo>
                    <a:lnTo>
                      <a:pt x="28" y="38"/>
                    </a:lnTo>
                    <a:lnTo>
                      <a:pt x="76" y="43"/>
                    </a:lnTo>
                    <a:lnTo>
                      <a:pt x="114" y="34"/>
                    </a:lnTo>
                    <a:lnTo>
                      <a:pt x="182" y="43"/>
                    </a:lnTo>
                    <a:lnTo>
                      <a:pt x="239" y="49"/>
                    </a:lnTo>
                    <a:lnTo>
                      <a:pt x="310" y="43"/>
                    </a:lnTo>
                    <a:lnTo>
                      <a:pt x="353" y="58"/>
                    </a:lnTo>
                    <a:lnTo>
                      <a:pt x="416" y="63"/>
                    </a:lnTo>
                    <a:lnTo>
                      <a:pt x="450" y="54"/>
                    </a:lnTo>
                    <a:lnTo>
                      <a:pt x="473" y="5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5832360" y="5218200"/>
                <a:ext cx="39960" cy="9720"/>
              </a:xfrm>
              <a:custGeom>
                <a:avLst/>
                <a:gdLst/>
                <a:ahLst/>
                <a:rect l="0" t="0" r="r" b="b"/>
                <a:pathLst>
                  <a:path fill="none" w="111" h="27">
                    <a:moveTo>
                      <a:pt x="0" y="5"/>
                    </a:moveTo>
                    <a:lnTo>
                      <a:pt x="63" y="0"/>
                    </a:lnTo>
                    <a:lnTo>
                      <a:pt x="111" y="27"/>
                    </a:lnTo>
                    <a:lnTo>
                      <a:pt x="47" y="27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5516640" y="5138640"/>
                <a:ext cx="232200" cy="49680"/>
              </a:xfrm>
              <a:custGeom>
                <a:avLst/>
                <a:gdLst/>
                <a:ahLst/>
                <a:rect l="0" t="0" r="r" b="b"/>
                <a:pathLst>
                  <a:path fill="none" w="645" h="138">
                    <a:moveTo>
                      <a:pt x="645" y="138"/>
                    </a:moveTo>
                    <a:lnTo>
                      <a:pt x="621" y="119"/>
                    </a:lnTo>
                    <a:lnTo>
                      <a:pt x="583" y="115"/>
                    </a:lnTo>
                    <a:lnTo>
                      <a:pt x="564" y="138"/>
                    </a:lnTo>
                    <a:lnTo>
                      <a:pt x="502" y="129"/>
                    </a:lnTo>
                    <a:lnTo>
                      <a:pt x="477" y="105"/>
                    </a:lnTo>
                    <a:lnTo>
                      <a:pt x="444" y="105"/>
                    </a:lnTo>
                    <a:lnTo>
                      <a:pt x="425" y="110"/>
                    </a:lnTo>
                    <a:lnTo>
                      <a:pt x="406" y="99"/>
                    </a:lnTo>
                    <a:lnTo>
                      <a:pt x="372" y="110"/>
                    </a:lnTo>
                    <a:lnTo>
                      <a:pt x="358" y="90"/>
                    </a:lnTo>
                    <a:lnTo>
                      <a:pt x="310" y="99"/>
                    </a:lnTo>
                    <a:lnTo>
                      <a:pt x="306" y="85"/>
                    </a:lnTo>
                    <a:lnTo>
                      <a:pt x="263" y="76"/>
                    </a:lnTo>
                    <a:lnTo>
                      <a:pt x="225" y="85"/>
                    </a:lnTo>
                    <a:lnTo>
                      <a:pt x="229" y="66"/>
                    </a:lnTo>
                    <a:lnTo>
                      <a:pt x="210" y="62"/>
                    </a:lnTo>
                    <a:lnTo>
                      <a:pt x="182" y="71"/>
                    </a:lnTo>
                    <a:lnTo>
                      <a:pt x="152" y="62"/>
                    </a:lnTo>
                    <a:lnTo>
                      <a:pt x="143" y="52"/>
                    </a:lnTo>
                    <a:lnTo>
                      <a:pt x="104" y="48"/>
                    </a:lnTo>
                    <a:lnTo>
                      <a:pt x="81" y="62"/>
                    </a:lnTo>
                    <a:lnTo>
                      <a:pt x="57" y="57"/>
                    </a:lnTo>
                    <a:lnTo>
                      <a:pt x="0" y="81"/>
                    </a:lnTo>
                    <a:lnTo>
                      <a:pt x="61" y="43"/>
                    </a:lnTo>
                    <a:lnTo>
                      <a:pt x="81" y="48"/>
                    </a:lnTo>
                    <a:lnTo>
                      <a:pt x="104" y="32"/>
                    </a:lnTo>
                    <a:lnTo>
                      <a:pt x="138" y="32"/>
                    </a:lnTo>
                    <a:lnTo>
                      <a:pt x="33" y="0"/>
                    </a:lnTo>
                    <a:lnTo>
                      <a:pt x="210" y="52"/>
                    </a:lnTo>
                    <a:lnTo>
                      <a:pt x="239" y="48"/>
                    </a:lnTo>
                    <a:lnTo>
                      <a:pt x="253" y="71"/>
                    </a:lnTo>
                    <a:lnTo>
                      <a:pt x="310" y="66"/>
                    </a:lnTo>
                    <a:lnTo>
                      <a:pt x="330" y="85"/>
                    </a:lnTo>
                    <a:lnTo>
                      <a:pt x="363" y="85"/>
                    </a:lnTo>
                    <a:lnTo>
                      <a:pt x="382" y="90"/>
                    </a:lnTo>
                    <a:lnTo>
                      <a:pt x="415" y="85"/>
                    </a:lnTo>
                    <a:lnTo>
                      <a:pt x="439" y="99"/>
                    </a:lnTo>
                    <a:lnTo>
                      <a:pt x="477" y="85"/>
                    </a:lnTo>
                    <a:lnTo>
                      <a:pt x="521" y="115"/>
                    </a:lnTo>
                    <a:lnTo>
                      <a:pt x="555" y="119"/>
                    </a:lnTo>
                    <a:lnTo>
                      <a:pt x="583" y="105"/>
                    </a:lnTo>
                    <a:lnTo>
                      <a:pt x="631" y="115"/>
                    </a:lnTo>
                    <a:lnTo>
                      <a:pt x="645" y="1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5402160" y="5165640"/>
                <a:ext cx="284400" cy="28800"/>
              </a:xfrm>
              <a:custGeom>
                <a:avLst/>
                <a:gdLst/>
                <a:ahLst/>
                <a:rect l="0" t="0" r="r" b="b"/>
                <a:pathLst>
                  <a:path fill="none" w="790" h="80">
                    <a:moveTo>
                      <a:pt x="790" y="71"/>
                    </a:moveTo>
                    <a:lnTo>
                      <a:pt x="785" y="47"/>
                    </a:lnTo>
                    <a:lnTo>
                      <a:pt x="742" y="43"/>
                    </a:lnTo>
                    <a:lnTo>
                      <a:pt x="733" y="52"/>
                    </a:lnTo>
                    <a:lnTo>
                      <a:pt x="709" y="43"/>
                    </a:lnTo>
                    <a:lnTo>
                      <a:pt x="695" y="47"/>
                    </a:lnTo>
                    <a:lnTo>
                      <a:pt x="685" y="52"/>
                    </a:lnTo>
                    <a:lnTo>
                      <a:pt x="661" y="57"/>
                    </a:lnTo>
                    <a:lnTo>
                      <a:pt x="633" y="37"/>
                    </a:lnTo>
                    <a:lnTo>
                      <a:pt x="600" y="37"/>
                    </a:lnTo>
                    <a:lnTo>
                      <a:pt x="585" y="52"/>
                    </a:lnTo>
                    <a:lnTo>
                      <a:pt x="557" y="23"/>
                    </a:lnTo>
                    <a:lnTo>
                      <a:pt x="524" y="23"/>
                    </a:lnTo>
                    <a:lnTo>
                      <a:pt x="486" y="9"/>
                    </a:lnTo>
                    <a:lnTo>
                      <a:pt x="457" y="28"/>
                    </a:lnTo>
                    <a:lnTo>
                      <a:pt x="433" y="4"/>
                    </a:lnTo>
                    <a:lnTo>
                      <a:pt x="405" y="4"/>
                    </a:lnTo>
                    <a:lnTo>
                      <a:pt x="370" y="28"/>
                    </a:lnTo>
                    <a:lnTo>
                      <a:pt x="347" y="9"/>
                    </a:lnTo>
                    <a:lnTo>
                      <a:pt x="313" y="23"/>
                    </a:lnTo>
                    <a:lnTo>
                      <a:pt x="275" y="23"/>
                    </a:lnTo>
                    <a:lnTo>
                      <a:pt x="252" y="9"/>
                    </a:lnTo>
                    <a:lnTo>
                      <a:pt x="185" y="18"/>
                    </a:lnTo>
                    <a:lnTo>
                      <a:pt x="137" y="0"/>
                    </a:lnTo>
                    <a:lnTo>
                      <a:pt x="0" y="9"/>
                    </a:lnTo>
                    <a:lnTo>
                      <a:pt x="114" y="14"/>
                    </a:lnTo>
                    <a:lnTo>
                      <a:pt x="152" y="37"/>
                    </a:lnTo>
                    <a:lnTo>
                      <a:pt x="228" y="28"/>
                    </a:lnTo>
                    <a:lnTo>
                      <a:pt x="247" y="37"/>
                    </a:lnTo>
                    <a:lnTo>
                      <a:pt x="294" y="37"/>
                    </a:lnTo>
                    <a:lnTo>
                      <a:pt x="328" y="37"/>
                    </a:lnTo>
                    <a:lnTo>
                      <a:pt x="375" y="43"/>
                    </a:lnTo>
                    <a:lnTo>
                      <a:pt x="332" y="66"/>
                    </a:lnTo>
                    <a:lnTo>
                      <a:pt x="409" y="61"/>
                    </a:lnTo>
                    <a:lnTo>
                      <a:pt x="452" y="52"/>
                    </a:lnTo>
                    <a:lnTo>
                      <a:pt x="524" y="66"/>
                    </a:lnTo>
                    <a:lnTo>
                      <a:pt x="562" y="80"/>
                    </a:lnTo>
                    <a:lnTo>
                      <a:pt x="595" y="71"/>
                    </a:lnTo>
                    <a:lnTo>
                      <a:pt x="628" y="71"/>
                    </a:lnTo>
                    <a:lnTo>
                      <a:pt x="704" y="75"/>
                    </a:lnTo>
                    <a:lnTo>
                      <a:pt x="761" y="61"/>
                    </a:lnTo>
                    <a:lnTo>
                      <a:pt x="79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5481720" y="5146560"/>
                <a:ext cx="46440" cy="9720"/>
              </a:xfrm>
              <a:custGeom>
                <a:avLst/>
                <a:gdLst/>
                <a:ahLst/>
                <a:rect l="0" t="0" r="r" b="b"/>
                <a:pathLst>
                  <a:path fill="none" w="129" h="27">
                    <a:moveTo>
                      <a:pt x="110" y="5"/>
                    </a:moveTo>
                    <a:lnTo>
                      <a:pt x="76" y="0"/>
                    </a:lnTo>
                    <a:lnTo>
                      <a:pt x="34" y="10"/>
                    </a:lnTo>
                    <a:lnTo>
                      <a:pt x="0" y="22"/>
                    </a:lnTo>
                    <a:lnTo>
                      <a:pt x="76" y="27"/>
                    </a:lnTo>
                    <a:lnTo>
                      <a:pt x="129" y="22"/>
                    </a:lnTo>
                    <a:lnTo>
                      <a:pt x="1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5370480" y="5119560"/>
                <a:ext cx="41760" cy="3600"/>
              </a:xfrm>
              <a:custGeom>
                <a:avLst/>
                <a:gdLst/>
                <a:ahLst/>
                <a:rect l="0" t="0" r="r" b="b"/>
                <a:pathLst>
                  <a:path fill="none" w="116" h="10">
                    <a:moveTo>
                      <a:pt x="116" y="10"/>
                    </a:moveTo>
                    <a:lnTo>
                      <a:pt x="78" y="0"/>
                    </a:lnTo>
                    <a:lnTo>
                      <a:pt x="46" y="10"/>
                    </a:lnTo>
                    <a:lnTo>
                      <a:pt x="0" y="10"/>
                    </a:lnTo>
                    <a:lnTo>
                      <a:pt x="65" y="10"/>
                    </a:lnTo>
                    <a:lnTo>
                      <a:pt x="89" y="10"/>
                    </a:lnTo>
                    <a:lnTo>
                      <a:pt x="116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5357880" y="5092560"/>
                <a:ext cx="113040" cy="6840"/>
              </a:xfrm>
              <a:custGeom>
                <a:avLst/>
                <a:gdLst/>
                <a:ahLst/>
                <a:rect l="0" t="0" r="r" b="b"/>
                <a:pathLst>
                  <a:path fill="none" w="314" h="19">
                    <a:moveTo>
                      <a:pt x="0" y="0"/>
                    </a:moveTo>
                    <a:lnTo>
                      <a:pt x="71" y="4"/>
                    </a:lnTo>
                    <a:lnTo>
                      <a:pt x="156" y="0"/>
                    </a:lnTo>
                    <a:lnTo>
                      <a:pt x="223" y="4"/>
                    </a:lnTo>
                    <a:lnTo>
                      <a:pt x="304" y="0"/>
                    </a:lnTo>
                    <a:lnTo>
                      <a:pt x="314" y="9"/>
                    </a:lnTo>
                    <a:lnTo>
                      <a:pt x="228" y="19"/>
                    </a:lnTo>
                    <a:lnTo>
                      <a:pt x="142" y="15"/>
                    </a:lnTo>
                    <a:lnTo>
                      <a:pt x="75" y="1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5578560" y="4881600"/>
                <a:ext cx="3600" cy="120960"/>
              </a:xfrm>
              <a:custGeom>
                <a:avLst/>
                <a:gdLst/>
                <a:ahLst/>
                <a:rect l="0" t="0" r="r" b="b"/>
                <a:pathLst>
                  <a:path fill="none" w="10" h="336">
                    <a:moveTo>
                      <a:pt x="0" y="336"/>
                    </a:moveTo>
                    <a:lnTo>
                      <a:pt x="10" y="0"/>
                    </a:lnTo>
                    <a:lnTo>
                      <a:pt x="5" y="336"/>
                    </a:lnTo>
                    <a:lnTo>
                      <a:pt x="0" y="3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5581800" y="4881600"/>
                <a:ext cx="3600" cy="122760"/>
              </a:xfrm>
              <a:custGeom>
                <a:avLst/>
                <a:gdLst/>
                <a:ahLst/>
                <a:rect l="0" t="0" r="r" b="b"/>
                <a:pathLst>
                  <a:path fill="none" w="10" h="341">
                    <a:moveTo>
                      <a:pt x="0" y="0"/>
                    </a:moveTo>
                    <a:lnTo>
                      <a:pt x="0" y="341"/>
                    </a:lnTo>
                    <a:lnTo>
                      <a:pt x="10" y="341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5578560" y="4883040"/>
                <a:ext cx="19440" cy="3600"/>
              </a:xfrm>
              <a:custGeom>
                <a:avLst/>
                <a:gdLst/>
                <a:ahLst/>
                <a:rect l="0" t="0" r="r" b="b"/>
                <a:pathLst>
                  <a:path fill="none" w="54" h="10">
                    <a:moveTo>
                      <a:pt x="4" y="10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5" y="5"/>
                    </a:lnTo>
                    <a:lnTo>
                      <a:pt x="15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4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5583240" y="4894200"/>
                <a:ext cx="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5583240" y="48988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5424480" y="4991040"/>
                <a:ext cx="90720" cy="33840"/>
              </a:xfrm>
              <a:custGeom>
                <a:avLst/>
                <a:gdLst/>
                <a:ahLst/>
                <a:rect l="0" t="0" r="r" b="b"/>
                <a:pathLst>
                  <a:path fill="none" w="252" h="94">
                    <a:moveTo>
                      <a:pt x="185" y="0"/>
                    </a:moveTo>
                    <a:lnTo>
                      <a:pt x="166" y="14"/>
                    </a:lnTo>
                    <a:lnTo>
                      <a:pt x="157" y="14"/>
                    </a:lnTo>
                    <a:lnTo>
                      <a:pt x="166" y="25"/>
                    </a:lnTo>
                    <a:lnTo>
                      <a:pt x="129" y="25"/>
                    </a:lnTo>
                    <a:lnTo>
                      <a:pt x="143" y="35"/>
                    </a:lnTo>
                    <a:lnTo>
                      <a:pt x="104" y="35"/>
                    </a:lnTo>
                    <a:lnTo>
                      <a:pt x="118" y="44"/>
                    </a:lnTo>
                    <a:lnTo>
                      <a:pt x="80" y="44"/>
                    </a:lnTo>
                    <a:lnTo>
                      <a:pt x="94" y="49"/>
                    </a:lnTo>
                    <a:lnTo>
                      <a:pt x="61" y="49"/>
                    </a:lnTo>
                    <a:lnTo>
                      <a:pt x="75" y="59"/>
                    </a:lnTo>
                    <a:lnTo>
                      <a:pt x="47" y="59"/>
                    </a:lnTo>
                    <a:lnTo>
                      <a:pt x="56" y="64"/>
                    </a:lnTo>
                    <a:lnTo>
                      <a:pt x="28" y="64"/>
                    </a:lnTo>
                    <a:lnTo>
                      <a:pt x="33" y="69"/>
                    </a:lnTo>
                    <a:lnTo>
                      <a:pt x="14" y="69"/>
                    </a:lnTo>
                    <a:lnTo>
                      <a:pt x="23" y="75"/>
                    </a:lnTo>
                    <a:lnTo>
                      <a:pt x="0" y="75"/>
                    </a:lnTo>
                    <a:lnTo>
                      <a:pt x="14" y="89"/>
                    </a:lnTo>
                    <a:lnTo>
                      <a:pt x="42" y="89"/>
                    </a:lnTo>
                    <a:lnTo>
                      <a:pt x="52" y="94"/>
                    </a:lnTo>
                    <a:lnTo>
                      <a:pt x="252" y="25"/>
                    </a:lnTo>
                    <a:lnTo>
                      <a:pt x="209" y="0"/>
                    </a:lnTo>
                    <a:lnTo>
                      <a:pt x="1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5424480" y="499428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8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5429160" y="499284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4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5433840" y="4991040"/>
                <a:ext cx="16200" cy="22680"/>
              </a:xfrm>
              <a:custGeom>
                <a:avLst/>
                <a:gdLst/>
                <a:ahLst/>
                <a:rect l="0" t="0" r="r" b="b"/>
                <a:pathLst>
                  <a:path fill="none" w="45" h="63">
                    <a:moveTo>
                      <a:pt x="0" y="63"/>
                    </a:moveTo>
                    <a:lnTo>
                      <a:pt x="14" y="54"/>
                    </a:lnTo>
                    <a:lnTo>
                      <a:pt x="30" y="0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5442120" y="4987800"/>
                <a:ext cx="14760" cy="24120"/>
              </a:xfrm>
              <a:custGeom>
                <a:avLst/>
                <a:gdLst/>
                <a:ahLst/>
                <a:rect l="0" t="0" r="r" b="b"/>
                <a:pathLst>
                  <a:path fill="none" w="41" h="67">
                    <a:moveTo>
                      <a:pt x="0" y="67"/>
                    </a:moveTo>
                    <a:lnTo>
                      <a:pt x="14" y="57"/>
                    </a:lnTo>
                    <a:lnTo>
                      <a:pt x="23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5446800" y="4984920"/>
                <a:ext cx="18000" cy="24120"/>
              </a:xfrm>
              <a:custGeom>
                <a:avLst/>
                <a:gdLst/>
                <a:ahLst/>
                <a:rect l="0" t="0" r="r" b="b"/>
                <a:pathLst>
                  <a:path fill="none" w="50" h="67">
                    <a:moveTo>
                      <a:pt x="0" y="67"/>
                    </a:moveTo>
                    <a:lnTo>
                      <a:pt x="20" y="62"/>
                    </a:lnTo>
                    <a:lnTo>
                      <a:pt x="30" y="0"/>
                    </a:lnTo>
                    <a:lnTo>
                      <a:pt x="5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5452920" y="4981680"/>
                <a:ext cx="19440" cy="25920"/>
              </a:xfrm>
              <a:custGeom>
                <a:avLst/>
                <a:gdLst/>
                <a:ahLst/>
                <a:rect l="0" t="0" r="r" b="b"/>
                <a:pathLst>
                  <a:path fill="none" w="54" h="72">
                    <a:moveTo>
                      <a:pt x="0" y="72"/>
                    </a:moveTo>
                    <a:lnTo>
                      <a:pt x="20" y="63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5462640" y="4976640"/>
                <a:ext cx="19440" cy="27360"/>
              </a:xfrm>
              <a:custGeom>
                <a:avLst/>
                <a:gdLst/>
                <a:ahLst/>
                <a:rect l="0" t="0" r="r" b="b"/>
                <a:pathLst>
                  <a:path fill="none" w="54" h="76">
                    <a:moveTo>
                      <a:pt x="0" y="76"/>
                    </a:moveTo>
                    <a:lnTo>
                      <a:pt x="20" y="66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5470560" y="4973760"/>
                <a:ext cx="41760" cy="25920"/>
              </a:xfrm>
              <a:custGeom>
                <a:avLst/>
                <a:gdLst/>
                <a:ahLst/>
                <a:rect l="0" t="0" r="r" b="b"/>
                <a:pathLst>
                  <a:path fill="none" w="116" h="72">
                    <a:moveTo>
                      <a:pt x="0" y="72"/>
                    </a:moveTo>
                    <a:lnTo>
                      <a:pt x="19" y="63"/>
                    </a:lnTo>
                    <a:lnTo>
                      <a:pt x="28" y="0"/>
                    </a:lnTo>
                    <a:lnTo>
                      <a:pt x="63" y="0"/>
                    </a:lnTo>
                    <a:lnTo>
                      <a:pt x="11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5514840" y="4984920"/>
                <a:ext cx="63720" cy="5040"/>
              </a:xfrm>
              <a:custGeom>
                <a:avLst/>
                <a:gdLst/>
                <a:ahLst/>
                <a:rect l="0" t="0" r="r" b="b"/>
                <a:pathLst>
                  <a:path fill="none" w="177" h="14">
                    <a:moveTo>
                      <a:pt x="0" y="14"/>
                    </a:moveTo>
                    <a:lnTo>
                      <a:pt x="42" y="9"/>
                    </a:lnTo>
                    <a:lnTo>
                      <a:pt x="177" y="0"/>
                    </a:lnTo>
                    <a:lnTo>
                      <a:pt x="177" y="4"/>
                    </a:lnTo>
                    <a:lnTo>
                      <a:pt x="134" y="9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5583240" y="4981680"/>
                <a:ext cx="46440" cy="20880"/>
              </a:xfrm>
              <a:custGeom>
                <a:avLst/>
                <a:gdLst/>
                <a:ahLst/>
                <a:rect l="0" t="0" r="r" b="b"/>
                <a:pathLst>
                  <a:path fill="none" w="129" h="58">
                    <a:moveTo>
                      <a:pt x="0" y="9"/>
                    </a:moveTo>
                    <a:lnTo>
                      <a:pt x="34" y="9"/>
                    </a:lnTo>
                    <a:lnTo>
                      <a:pt x="38" y="0"/>
                    </a:lnTo>
                    <a:lnTo>
                      <a:pt x="62" y="9"/>
                    </a:lnTo>
                    <a:lnTo>
                      <a:pt x="90" y="14"/>
                    </a:lnTo>
                    <a:lnTo>
                      <a:pt x="67" y="14"/>
                    </a:lnTo>
                    <a:lnTo>
                      <a:pt x="101" y="28"/>
                    </a:lnTo>
                    <a:lnTo>
                      <a:pt x="101" y="19"/>
                    </a:lnTo>
                    <a:lnTo>
                      <a:pt x="125" y="34"/>
                    </a:lnTo>
                    <a:lnTo>
                      <a:pt x="129" y="39"/>
                    </a:lnTo>
                    <a:lnTo>
                      <a:pt x="125" y="43"/>
                    </a:lnTo>
                    <a:lnTo>
                      <a:pt x="120" y="48"/>
                    </a:lnTo>
                    <a:lnTo>
                      <a:pt x="101" y="53"/>
                    </a:lnTo>
                    <a:lnTo>
                      <a:pt x="62" y="58"/>
                    </a:lnTo>
                    <a:lnTo>
                      <a:pt x="23" y="58"/>
                    </a:lnTo>
                    <a:lnTo>
                      <a:pt x="23" y="39"/>
                    </a:lnTo>
                    <a:lnTo>
                      <a:pt x="18" y="34"/>
                    </a:lnTo>
                    <a:lnTo>
                      <a:pt x="4" y="23"/>
                    </a:lnTo>
                    <a:lnTo>
                      <a:pt x="4" y="19"/>
                    </a:lnTo>
                    <a:lnTo>
                      <a:pt x="34" y="28"/>
                    </a:lnTo>
                    <a:lnTo>
                      <a:pt x="43" y="34"/>
                    </a:lnTo>
                    <a:lnTo>
                      <a:pt x="53" y="43"/>
                    </a:lnTo>
                    <a:lnTo>
                      <a:pt x="86" y="43"/>
                    </a:lnTo>
                    <a:lnTo>
                      <a:pt x="90" y="28"/>
                    </a:lnTo>
                    <a:lnTo>
                      <a:pt x="57" y="19"/>
                    </a:lnTo>
                    <a:lnTo>
                      <a:pt x="38" y="14"/>
                    </a:lnTo>
                    <a:lnTo>
                      <a:pt x="0" y="14"/>
                    </a:lnTo>
                    <a:lnTo>
                      <a:pt x="0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5584680" y="49989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5549760" y="4995720"/>
                <a:ext cx="30600" cy="8280"/>
              </a:xfrm>
              <a:custGeom>
                <a:avLst/>
                <a:gdLst/>
                <a:ahLst/>
                <a:rect l="0" t="0" r="r" b="b"/>
                <a:pathLst>
                  <a:path fill="none" w="85" h="23">
                    <a:moveTo>
                      <a:pt x="85" y="12"/>
                    </a:moveTo>
                    <a:lnTo>
                      <a:pt x="67" y="17"/>
                    </a:lnTo>
                    <a:lnTo>
                      <a:pt x="38" y="12"/>
                    </a:lnTo>
                    <a:lnTo>
                      <a:pt x="13" y="5"/>
                    </a:lnTo>
                    <a:lnTo>
                      <a:pt x="24" y="0"/>
                    </a:lnTo>
                    <a:lnTo>
                      <a:pt x="0" y="5"/>
                    </a:lnTo>
                    <a:lnTo>
                      <a:pt x="24" y="12"/>
                    </a:lnTo>
                    <a:lnTo>
                      <a:pt x="52" y="23"/>
                    </a:lnTo>
                    <a:lnTo>
                      <a:pt x="85" y="23"/>
                    </a:lnTo>
                    <a:lnTo>
                      <a:pt x="85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5583240" y="4979880"/>
                <a:ext cx="14760" cy="1800"/>
              </a:xfrm>
              <a:custGeom>
                <a:avLst/>
                <a:gdLst/>
                <a:ahLst/>
                <a:rect l="0" t="0" r="r" b="b"/>
                <a:pathLst>
                  <a:path fill="none" w="41" h="5">
                    <a:moveTo>
                      <a:pt x="41" y="5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0" y="5"/>
                    </a:lnTo>
                    <a:lnTo>
                      <a:pt x="41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5560920" y="4979880"/>
                <a:ext cx="19440" cy="6840"/>
              </a:xfrm>
              <a:custGeom>
                <a:avLst/>
                <a:gdLst/>
                <a:ahLst/>
                <a:rect l="0" t="0" r="r" b="b"/>
                <a:pathLst>
                  <a:path fill="none" w="54" h="19">
                    <a:moveTo>
                      <a:pt x="54" y="0"/>
                    </a:moveTo>
                    <a:lnTo>
                      <a:pt x="45" y="4"/>
                    </a:lnTo>
                    <a:lnTo>
                      <a:pt x="0" y="19"/>
                    </a:lnTo>
                    <a:lnTo>
                      <a:pt x="45" y="19"/>
                    </a:lnTo>
                    <a:lnTo>
                      <a:pt x="39" y="9"/>
                    </a:lnTo>
                    <a:lnTo>
                      <a:pt x="54" y="4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991120" y="497052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fill="none" w="102" h="116">
                    <a:moveTo>
                      <a:pt x="97" y="0"/>
                    </a:moveTo>
                    <a:lnTo>
                      <a:pt x="97" y="58"/>
                    </a:lnTo>
                    <a:lnTo>
                      <a:pt x="0" y="58"/>
                    </a:lnTo>
                    <a:lnTo>
                      <a:pt x="74" y="116"/>
                    </a:lnTo>
                    <a:lnTo>
                      <a:pt x="97" y="116"/>
                    </a:lnTo>
                    <a:lnTo>
                      <a:pt x="27" y="63"/>
                    </a:lnTo>
                    <a:lnTo>
                      <a:pt x="97" y="63"/>
                    </a:lnTo>
                    <a:lnTo>
                      <a:pt x="97" y="107"/>
                    </a:lnTo>
                    <a:lnTo>
                      <a:pt x="102" y="72"/>
                    </a:lnTo>
                    <a:lnTo>
                      <a:pt x="102" y="0"/>
                    </a:lnTo>
                    <a:lnTo>
                      <a:pt x="9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997600" y="4968720"/>
                <a:ext cx="1800" cy="41760"/>
              </a:xfrm>
              <a:custGeom>
                <a:avLst/>
                <a:gdLst/>
                <a:ahLst/>
                <a:rect l="0" t="0" r="r" b="b"/>
                <a:pathLst>
                  <a:path fill="none" w="5" h="116">
                    <a:moveTo>
                      <a:pt x="0" y="116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6"/>
                    </a:lnTo>
                    <a:lnTo>
                      <a:pt x="0" y="11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6019920" y="4997520"/>
                <a:ext cx="3600" cy="5040"/>
              </a:xfrm>
              <a:custGeom>
                <a:avLst/>
                <a:gdLst/>
                <a:ahLst/>
                <a:rect l="0" t="0" r="r" b="b"/>
                <a:pathLst>
                  <a:path fill="none" w="10" h="14">
                    <a:moveTo>
                      <a:pt x="0" y="0"/>
                    </a:moveTo>
                    <a:lnTo>
                      <a:pt x="0" y="6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837400" y="4979880"/>
                <a:ext cx="178200" cy="68760"/>
              </a:xfrm>
              <a:custGeom>
                <a:avLst/>
                <a:gdLst/>
                <a:ahLst/>
                <a:rect l="0" t="0" r="r" b="b"/>
                <a:pathLst>
                  <a:path fill="none" w="495" h="191">
                    <a:moveTo>
                      <a:pt x="481" y="0"/>
                    </a:moveTo>
                    <a:lnTo>
                      <a:pt x="491" y="0"/>
                    </a:lnTo>
                    <a:lnTo>
                      <a:pt x="495" y="4"/>
                    </a:lnTo>
                    <a:lnTo>
                      <a:pt x="491" y="14"/>
                    </a:lnTo>
                    <a:lnTo>
                      <a:pt x="0" y="191"/>
                    </a:lnTo>
                    <a:lnTo>
                      <a:pt x="48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6459480" y="4979880"/>
                <a:ext cx="28800" cy="11520"/>
              </a:xfrm>
              <a:custGeom>
                <a:avLst/>
                <a:gdLst/>
                <a:ahLst/>
                <a:rect l="0" t="0" r="r" b="b"/>
                <a:pathLst>
                  <a:path fill="none" w="80" h="32">
                    <a:moveTo>
                      <a:pt x="1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80" y="3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745240" y="4967280"/>
                <a:ext cx="33840" cy="20880"/>
              </a:xfrm>
              <a:custGeom>
                <a:avLst/>
                <a:gdLst/>
                <a:ahLst/>
                <a:rect l="0" t="0" r="r" b="b"/>
                <a:pathLst>
                  <a:path fill="none" w="94" h="58">
                    <a:moveTo>
                      <a:pt x="59" y="23"/>
                    </a:moveTo>
                    <a:lnTo>
                      <a:pt x="49" y="4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79" y="58"/>
                    </a:lnTo>
                    <a:lnTo>
                      <a:pt x="69" y="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764320" y="49719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727600" y="4959360"/>
                <a:ext cx="18000" cy="25920"/>
              </a:xfrm>
              <a:custGeom>
                <a:avLst/>
                <a:gdLst/>
                <a:ahLst/>
                <a:rect l="0" t="0" r="r" b="b"/>
                <a:pathLst>
                  <a:path fill="none" w="50" h="72">
                    <a:moveTo>
                      <a:pt x="50" y="33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4" y="63"/>
                    </a:lnTo>
                    <a:lnTo>
                      <a:pt x="0" y="67"/>
                    </a:lnTo>
                    <a:lnTo>
                      <a:pt x="50" y="72"/>
                    </a:lnTo>
                    <a:lnTo>
                      <a:pt x="50" y="3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5713560" y="4983120"/>
                <a:ext cx="82800" cy="14760"/>
              </a:xfrm>
              <a:custGeom>
                <a:avLst/>
                <a:gdLst/>
                <a:ahLst/>
                <a:rect l="0" t="0" r="r" b="b"/>
                <a:pathLst>
                  <a:path fill="none" w="230" h="41">
                    <a:moveTo>
                      <a:pt x="23" y="0"/>
                    </a:moveTo>
                    <a:lnTo>
                      <a:pt x="23" y="14"/>
                    </a:lnTo>
                    <a:lnTo>
                      <a:pt x="76" y="8"/>
                    </a:lnTo>
                    <a:lnTo>
                      <a:pt x="85" y="8"/>
                    </a:lnTo>
                    <a:lnTo>
                      <a:pt x="76" y="27"/>
                    </a:lnTo>
                    <a:lnTo>
                      <a:pt x="125" y="27"/>
                    </a:lnTo>
                    <a:lnTo>
                      <a:pt x="125" y="18"/>
                    </a:lnTo>
                    <a:lnTo>
                      <a:pt x="90" y="14"/>
                    </a:lnTo>
                    <a:lnTo>
                      <a:pt x="163" y="14"/>
                    </a:lnTo>
                    <a:lnTo>
                      <a:pt x="211" y="23"/>
                    </a:lnTo>
                    <a:lnTo>
                      <a:pt x="230" y="27"/>
                    </a:lnTo>
                    <a:lnTo>
                      <a:pt x="149" y="41"/>
                    </a:lnTo>
                    <a:lnTo>
                      <a:pt x="95" y="32"/>
                    </a:lnTo>
                    <a:lnTo>
                      <a:pt x="52" y="32"/>
                    </a:lnTo>
                    <a:lnTo>
                      <a:pt x="19" y="27"/>
                    </a:lnTo>
                    <a:lnTo>
                      <a:pt x="9" y="23"/>
                    </a:lnTo>
                    <a:lnTo>
                      <a:pt x="0" y="18"/>
                    </a:lnTo>
                    <a:lnTo>
                      <a:pt x="9" y="14"/>
                    </a:lnTo>
                    <a:lnTo>
                      <a:pt x="14" y="8"/>
                    </a:lnTo>
                    <a:lnTo>
                      <a:pt x="19" y="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5781600" y="4960800"/>
                <a:ext cx="35280" cy="22680"/>
              </a:xfrm>
              <a:custGeom>
                <a:avLst/>
                <a:gdLst/>
                <a:ahLst/>
                <a:rect l="0" t="0" r="r" b="b"/>
                <a:pathLst>
                  <a:path fill="none" w="98" h="63">
                    <a:moveTo>
                      <a:pt x="59" y="24"/>
                    </a:moveTo>
                    <a:lnTo>
                      <a:pt x="43" y="4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78" y="63"/>
                    </a:lnTo>
                    <a:lnTo>
                      <a:pt x="73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5799240" y="496584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5759280" y="4951440"/>
                <a:ext cx="22680" cy="28800"/>
              </a:xfrm>
              <a:custGeom>
                <a:avLst/>
                <a:gdLst/>
                <a:ahLst/>
                <a:rect l="0" t="0" r="r" b="b"/>
                <a:pathLst>
                  <a:path fill="none" w="63" h="80">
                    <a:moveTo>
                      <a:pt x="63" y="34"/>
                    </a:moveTo>
                    <a:lnTo>
                      <a:pt x="34" y="0"/>
                    </a:lnTo>
                    <a:lnTo>
                      <a:pt x="0" y="0"/>
                    </a:lnTo>
                    <a:lnTo>
                      <a:pt x="14" y="70"/>
                    </a:lnTo>
                    <a:lnTo>
                      <a:pt x="0" y="75"/>
                    </a:lnTo>
                    <a:lnTo>
                      <a:pt x="63" y="80"/>
                    </a:lnTo>
                    <a:lnTo>
                      <a:pt x="63" y="3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745240" y="4976640"/>
                <a:ext cx="87840" cy="16200"/>
              </a:xfrm>
              <a:custGeom>
                <a:avLst/>
                <a:gdLst/>
                <a:ahLst/>
                <a:rect l="0" t="0" r="r" b="b"/>
                <a:pathLst>
                  <a:path fill="none" w="244" h="45">
                    <a:moveTo>
                      <a:pt x="28" y="0"/>
                    </a:moveTo>
                    <a:lnTo>
                      <a:pt x="23" y="19"/>
                    </a:lnTo>
                    <a:lnTo>
                      <a:pt x="77" y="9"/>
                    </a:lnTo>
                    <a:lnTo>
                      <a:pt x="91" y="9"/>
                    </a:lnTo>
                    <a:lnTo>
                      <a:pt x="81" y="30"/>
                    </a:lnTo>
                    <a:lnTo>
                      <a:pt x="134" y="30"/>
                    </a:lnTo>
                    <a:lnTo>
                      <a:pt x="134" y="19"/>
                    </a:lnTo>
                    <a:lnTo>
                      <a:pt x="100" y="14"/>
                    </a:lnTo>
                    <a:lnTo>
                      <a:pt x="176" y="14"/>
                    </a:lnTo>
                    <a:lnTo>
                      <a:pt x="225" y="25"/>
                    </a:lnTo>
                    <a:lnTo>
                      <a:pt x="244" y="30"/>
                    </a:lnTo>
                    <a:lnTo>
                      <a:pt x="157" y="45"/>
                    </a:lnTo>
                    <a:lnTo>
                      <a:pt x="100" y="35"/>
                    </a:lnTo>
                    <a:lnTo>
                      <a:pt x="52" y="35"/>
                    </a:lnTo>
                    <a:lnTo>
                      <a:pt x="19" y="30"/>
                    </a:lnTo>
                    <a:lnTo>
                      <a:pt x="9" y="25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4" y="9"/>
                    </a:lnTo>
                    <a:lnTo>
                      <a:pt x="19" y="0"/>
                    </a:lnTo>
                    <a:lnTo>
                      <a:pt x="2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823000" y="4952880"/>
                <a:ext cx="39960" cy="24120"/>
              </a:xfrm>
              <a:custGeom>
                <a:avLst/>
                <a:gdLst/>
                <a:ahLst/>
                <a:rect l="0" t="0" r="r" b="b"/>
                <a:pathLst>
                  <a:path fill="none" w="111" h="67">
                    <a:moveTo>
                      <a:pt x="68" y="23"/>
                    </a:moveTo>
                    <a:lnTo>
                      <a:pt x="52" y="4"/>
                    </a:lnTo>
                    <a:lnTo>
                      <a:pt x="1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92" y="67"/>
                    </a:lnTo>
                    <a:lnTo>
                      <a:pt x="82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845320" y="49593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797440" y="494352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fill="none" w="72" h="85">
                    <a:moveTo>
                      <a:pt x="72" y="38"/>
                    </a:moveTo>
                    <a:lnTo>
                      <a:pt x="43" y="0"/>
                    </a:lnTo>
                    <a:lnTo>
                      <a:pt x="4" y="0"/>
                    </a:lnTo>
                    <a:lnTo>
                      <a:pt x="19" y="76"/>
                    </a:lnTo>
                    <a:lnTo>
                      <a:pt x="0" y="81"/>
                    </a:lnTo>
                    <a:lnTo>
                      <a:pt x="72" y="85"/>
                    </a:lnTo>
                    <a:lnTo>
                      <a:pt x="72" y="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5781600" y="4971960"/>
                <a:ext cx="101880" cy="19440"/>
              </a:xfrm>
              <a:custGeom>
                <a:avLst/>
                <a:gdLst/>
                <a:ahLst/>
                <a:rect l="0" t="0" r="r" b="b"/>
                <a:pathLst>
                  <a:path fill="none" w="283" h="54">
                    <a:moveTo>
                      <a:pt x="33" y="0"/>
                    </a:moveTo>
                    <a:lnTo>
                      <a:pt x="28" y="20"/>
                    </a:lnTo>
                    <a:lnTo>
                      <a:pt x="90" y="9"/>
                    </a:lnTo>
                    <a:lnTo>
                      <a:pt x="105" y="9"/>
                    </a:lnTo>
                    <a:lnTo>
                      <a:pt x="90" y="34"/>
                    </a:lnTo>
                    <a:lnTo>
                      <a:pt x="154" y="34"/>
                    </a:lnTo>
                    <a:lnTo>
                      <a:pt x="154" y="20"/>
                    </a:lnTo>
                    <a:lnTo>
                      <a:pt x="114" y="15"/>
                    </a:lnTo>
                    <a:lnTo>
                      <a:pt x="206" y="15"/>
                    </a:lnTo>
                    <a:lnTo>
                      <a:pt x="259" y="25"/>
                    </a:lnTo>
                    <a:lnTo>
                      <a:pt x="283" y="34"/>
                    </a:lnTo>
                    <a:lnTo>
                      <a:pt x="182" y="54"/>
                    </a:lnTo>
                    <a:lnTo>
                      <a:pt x="114" y="39"/>
                    </a:lnTo>
                    <a:lnTo>
                      <a:pt x="62" y="39"/>
                    </a:lnTo>
                    <a:lnTo>
                      <a:pt x="19" y="34"/>
                    </a:lnTo>
                    <a:lnTo>
                      <a:pt x="14" y="29"/>
                    </a:lnTo>
                    <a:lnTo>
                      <a:pt x="0" y="25"/>
                    </a:lnTo>
                    <a:lnTo>
                      <a:pt x="14" y="20"/>
                    </a:lnTo>
                    <a:lnTo>
                      <a:pt x="19" y="9"/>
                    </a:lnTo>
                    <a:lnTo>
                      <a:pt x="23" y="0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872320" y="4944960"/>
                <a:ext cx="44640" cy="27360"/>
              </a:xfrm>
              <a:custGeom>
                <a:avLst/>
                <a:gdLst/>
                <a:ahLst/>
                <a:rect l="0" t="0" r="r" b="b"/>
                <a:pathLst>
                  <a:path fill="none" w="124" h="76">
                    <a:moveTo>
                      <a:pt x="72" y="29"/>
                    </a:moveTo>
                    <a:lnTo>
                      <a:pt x="56" y="4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100" y="76"/>
                    </a:lnTo>
                    <a:lnTo>
                      <a:pt x="91" y="6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5896080" y="495000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0" y="0"/>
                    </a:lnTo>
                    <a:lnTo>
                      <a:pt x="5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5845320" y="4932360"/>
                <a:ext cx="27360" cy="36720"/>
              </a:xfrm>
              <a:custGeom>
                <a:avLst/>
                <a:gdLst/>
                <a:ahLst/>
                <a:rect l="0" t="0" r="r" b="b"/>
                <a:pathLst>
                  <a:path fill="none" w="76" h="102">
                    <a:moveTo>
                      <a:pt x="76" y="43"/>
                    </a:moveTo>
                    <a:lnTo>
                      <a:pt x="43" y="0"/>
                    </a:lnTo>
                    <a:lnTo>
                      <a:pt x="0" y="0"/>
                    </a:lnTo>
                    <a:lnTo>
                      <a:pt x="18" y="87"/>
                    </a:lnTo>
                    <a:lnTo>
                      <a:pt x="0" y="92"/>
                    </a:lnTo>
                    <a:lnTo>
                      <a:pt x="76" y="102"/>
                    </a:lnTo>
                    <a:lnTo>
                      <a:pt x="7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5826240" y="4965840"/>
                <a:ext cx="113040" cy="20880"/>
              </a:xfrm>
              <a:custGeom>
                <a:avLst/>
                <a:gdLst/>
                <a:ahLst/>
                <a:rect l="0" t="0" r="r" b="b"/>
                <a:pathLst>
                  <a:path fill="none" w="314" h="58">
                    <a:moveTo>
                      <a:pt x="33" y="0"/>
                    </a:moveTo>
                    <a:lnTo>
                      <a:pt x="33" y="23"/>
                    </a:lnTo>
                    <a:lnTo>
                      <a:pt x="99" y="9"/>
                    </a:lnTo>
                    <a:lnTo>
                      <a:pt x="118" y="9"/>
                    </a:lnTo>
                    <a:lnTo>
                      <a:pt x="104" y="39"/>
                    </a:lnTo>
                    <a:lnTo>
                      <a:pt x="171" y="39"/>
                    </a:lnTo>
                    <a:lnTo>
                      <a:pt x="171" y="23"/>
                    </a:lnTo>
                    <a:lnTo>
                      <a:pt x="128" y="19"/>
                    </a:lnTo>
                    <a:lnTo>
                      <a:pt x="228" y="19"/>
                    </a:lnTo>
                    <a:lnTo>
                      <a:pt x="290" y="28"/>
                    </a:lnTo>
                    <a:lnTo>
                      <a:pt x="314" y="39"/>
                    </a:lnTo>
                    <a:lnTo>
                      <a:pt x="204" y="58"/>
                    </a:lnTo>
                    <a:lnTo>
                      <a:pt x="132" y="48"/>
                    </a:lnTo>
                    <a:lnTo>
                      <a:pt x="71" y="43"/>
                    </a:lnTo>
                    <a:lnTo>
                      <a:pt x="23" y="39"/>
                    </a:lnTo>
                    <a:lnTo>
                      <a:pt x="14" y="34"/>
                    </a:lnTo>
                    <a:lnTo>
                      <a:pt x="0" y="28"/>
                    </a:lnTo>
                    <a:lnTo>
                      <a:pt x="14" y="23"/>
                    </a:lnTo>
                    <a:lnTo>
                      <a:pt x="18" y="9"/>
                    </a:lnTo>
                    <a:lnTo>
                      <a:pt x="28" y="4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5924520" y="4933800"/>
                <a:ext cx="47880" cy="30600"/>
              </a:xfrm>
              <a:custGeom>
                <a:avLst/>
                <a:gdLst/>
                <a:ahLst/>
                <a:rect l="0" t="0" r="r" b="b"/>
                <a:pathLst>
                  <a:path fill="none" w="133" h="85">
                    <a:moveTo>
                      <a:pt x="76" y="35"/>
                    </a:moveTo>
                    <a:lnTo>
                      <a:pt x="61" y="4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4" y="85"/>
                    </a:lnTo>
                    <a:lnTo>
                      <a:pt x="100" y="7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5950080" y="494172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27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27" y="14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892840" y="4923000"/>
                <a:ext cx="32040" cy="38520"/>
              </a:xfrm>
              <a:custGeom>
                <a:avLst/>
                <a:gdLst/>
                <a:ahLst/>
                <a:rect l="0" t="0" r="r" b="b"/>
                <a:pathLst>
                  <a:path fill="none" w="89" h="107">
                    <a:moveTo>
                      <a:pt x="89" y="44"/>
                    </a:moveTo>
                    <a:lnTo>
                      <a:pt x="49" y="0"/>
                    </a:lnTo>
                    <a:lnTo>
                      <a:pt x="0" y="0"/>
                    </a:lnTo>
                    <a:lnTo>
                      <a:pt x="24" y="93"/>
                    </a:lnTo>
                    <a:lnTo>
                      <a:pt x="0" y="98"/>
                    </a:lnTo>
                    <a:lnTo>
                      <a:pt x="89" y="107"/>
                    </a:lnTo>
                    <a:lnTo>
                      <a:pt x="89" y="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5873760" y="4959360"/>
                <a:ext cx="154440" cy="20880"/>
              </a:xfrm>
              <a:custGeom>
                <a:avLst/>
                <a:gdLst/>
                <a:ahLst/>
                <a:rect l="0" t="0" r="r" b="b"/>
                <a:pathLst>
                  <a:path fill="none" w="429" h="58">
                    <a:moveTo>
                      <a:pt x="38" y="0"/>
                    </a:moveTo>
                    <a:lnTo>
                      <a:pt x="33" y="19"/>
                    </a:lnTo>
                    <a:lnTo>
                      <a:pt x="110" y="9"/>
                    </a:lnTo>
                    <a:lnTo>
                      <a:pt x="129" y="9"/>
                    </a:lnTo>
                    <a:lnTo>
                      <a:pt x="110" y="34"/>
                    </a:lnTo>
                    <a:lnTo>
                      <a:pt x="186" y="34"/>
                    </a:lnTo>
                    <a:lnTo>
                      <a:pt x="186" y="19"/>
                    </a:lnTo>
                    <a:lnTo>
                      <a:pt x="138" y="14"/>
                    </a:lnTo>
                    <a:lnTo>
                      <a:pt x="367" y="4"/>
                    </a:lnTo>
                    <a:lnTo>
                      <a:pt x="429" y="28"/>
                    </a:lnTo>
                    <a:lnTo>
                      <a:pt x="344" y="28"/>
                    </a:lnTo>
                    <a:lnTo>
                      <a:pt x="219" y="58"/>
                    </a:lnTo>
                    <a:lnTo>
                      <a:pt x="143" y="43"/>
                    </a:lnTo>
                    <a:lnTo>
                      <a:pt x="76" y="43"/>
                    </a:lnTo>
                    <a:lnTo>
                      <a:pt x="23" y="34"/>
                    </a:lnTo>
                    <a:lnTo>
                      <a:pt x="14" y="28"/>
                    </a:lnTo>
                    <a:lnTo>
                      <a:pt x="0" y="23"/>
                    </a:lnTo>
                    <a:lnTo>
                      <a:pt x="14" y="19"/>
                    </a:lnTo>
                    <a:lnTo>
                      <a:pt x="19" y="4"/>
                    </a:lnTo>
                    <a:lnTo>
                      <a:pt x="28" y="0"/>
                    </a:lnTo>
                    <a:lnTo>
                      <a:pt x="3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5950080" y="4910040"/>
                <a:ext cx="30600" cy="38520"/>
              </a:xfrm>
              <a:custGeom>
                <a:avLst/>
                <a:gdLst/>
                <a:ahLst/>
                <a:rect l="0" t="0" r="r" b="b"/>
                <a:pathLst>
                  <a:path fill="none" w="85" h="107">
                    <a:moveTo>
                      <a:pt x="85" y="107"/>
                    </a:moveTo>
                    <a:lnTo>
                      <a:pt x="0" y="103"/>
                    </a:lnTo>
                    <a:lnTo>
                      <a:pt x="24" y="98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85" y="44"/>
                    </a:lnTo>
                    <a:lnTo>
                      <a:pt x="85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5979960" y="4923000"/>
                <a:ext cx="49680" cy="32040"/>
              </a:xfrm>
              <a:custGeom>
                <a:avLst/>
                <a:gdLst/>
                <a:ahLst/>
                <a:rect l="0" t="0" r="r" b="b"/>
                <a:pathLst>
                  <a:path fill="none" w="138" h="89">
                    <a:moveTo>
                      <a:pt x="0" y="79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115" y="89"/>
                    </a:lnTo>
                    <a:lnTo>
                      <a:pt x="0" y="7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6019920" y="4946760"/>
                <a:ext cx="149760" cy="18000"/>
              </a:xfrm>
              <a:custGeom>
                <a:avLst/>
                <a:gdLst/>
                <a:ahLst/>
                <a:rect l="0" t="0" r="r" b="b"/>
                <a:pathLst>
                  <a:path fill="none" w="416" h="50">
                    <a:moveTo>
                      <a:pt x="0" y="20"/>
                    </a:moveTo>
                    <a:lnTo>
                      <a:pt x="286" y="0"/>
                    </a:lnTo>
                    <a:lnTo>
                      <a:pt x="167" y="15"/>
                    </a:lnTo>
                    <a:lnTo>
                      <a:pt x="167" y="25"/>
                    </a:lnTo>
                    <a:lnTo>
                      <a:pt x="392" y="20"/>
                    </a:lnTo>
                    <a:lnTo>
                      <a:pt x="416" y="15"/>
                    </a:lnTo>
                    <a:lnTo>
                      <a:pt x="392" y="20"/>
                    </a:lnTo>
                    <a:lnTo>
                      <a:pt x="330" y="30"/>
                    </a:lnTo>
                    <a:lnTo>
                      <a:pt x="282" y="30"/>
                    </a:lnTo>
                    <a:lnTo>
                      <a:pt x="277" y="40"/>
                    </a:lnTo>
                    <a:lnTo>
                      <a:pt x="272" y="30"/>
                    </a:lnTo>
                    <a:lnTo>
                      <a:pt x="243" y="30"/>
                    </a:lnTo>
                    <a:lnTo>
                      <a:pt x="243" y="40"/>
                    </a:lnTo>
                    <a:lnTo>
                      <a:pt x="229" y="30"/>
                    </a:lnTo>
                    <a:lnTo>
                      <a:pt x="95" y="30"/>
                    </a:lnTo>
                    <a:lnTo>
                      <a:pt x="110" y="50"/>
                    </a:lnTo>
                    <a:lnTo>
                      <a:pt x="80" y="34"/>
                    </a:lnTo>
                    <a:lnTo>
                      <a:pt x="42" y="30"/>
                    </a:lnTo>
                    <a:lnTo>
                      <a:pt x="4" y="25"/>
                    </a:lnTo>
                    <a:lnTo>
                      <a:pt x="0" y="2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5979960" y="4951440"/>
                <a:ext cx="78120" cy="18000"/>
              </a:xfrm>
              <a:custGeom>
                <a:avLst/>
                <a:gdLst/>
                <a:ahLst/>
                <a:rect l="0" t="0" r="r" b="b"/>
                <a:pathLst>
                  <a:path fill="none" w="217" h="50">
                    <a:moveTo>
                      <a:pt x="145" y="9"/>
                    </a:moveTo>
                    <a:lnTo>
                      <a:pt x="121" y="15"/>
                    </a:lnTo>
                    <a:lnTo>
                      <a:pt x="173" y="40"/>
                    </a:lnTo>
                    <a:lnTo>
                      <a:pt x="217" y="34"/>
                    </a:lnTo>
                    <a:lnTo>
                      <a:pt x="178" y="45"/>
                    </a:lnTo>
                    <a:lnTo>
                      <a:pt x="140" y="50"/>
                    </a:lnTo>
                    <a:lnTo>
                      <a:pt x="81" y="45"/>
                    </a:lnTo>
                    <a:lnTo>
                      <a:pt x="38" y="34"/>
                    </a:lnTo>
                    <a:lnTo>
                      <a:pt x="52" y="30"/>
                    </a:lnTo>
                    <a:lnTo>
                      <a:pt x="52" y="9"/>
                    </a:lnTo>
                    <a:lnTo>
                      <a:pt x="0" y="0"/>
                    </a:lnTo>
                    <a:lnTo>
                      <a:pt x="145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6005520" y="4929120"/>
                <a:ext cx="30600" cy="9720"/>
              </a:xfrm>
              <a:custGeom>
                <a:avLst/>
                <a:gdLst/>
                <a:ahLst/>
                <a:rect l="0" t="0" r="r" b="b"/>
                <a:pathLst>
                  <a:path fill="none" w="85" h="27">
                    <a:moveTo>
                      <a:pt x="0" y="0"/>
                    </a:moveTo>
                    <a:lnTo>
                      <a:pt x="85" y="0"/>
                    </a:lnTo>
                    <a:lnTo>
                      <a:pt x="40" y="5"/>
                    </a:lnTo>
                    <a:lnTo>
                      <a:pt x="50" y="22"/>
                    </a:lnTo>
                    <a:lnTo>
                      <a:pt x="14" y="2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6013440" y="4933800"/>
                <a:ext cx="143280" cy="14760"/>
              </a:xfrm>
              <a:custGeom>
                <a:avLst/>
                <a:gdLst/>
                <a:ahLst/>
                <a:rect l="0" t="0" r="r" b="b"/>
                <a:pathLst>
                  <a:path fill="none" w="398" h="41">
                    <a:moveTo>
                      <a:pt x="0" y="15"/>
                    </a:moveTo>
                    <a:lnTo>
                      <a:pt x="47" y="9"/>
                    </a:lnTo>
                    <a:lnTo>
                      <a:pt x="114" y="4"/>
                    </a:lnTo>
                    <a:lnTo>
                      <a:pt x="175" y="4"/>
                    </a:lnTo>
                    <a:lnTo>
                      <a:pt x="275" y="15"/>
                    </a:lnTo>
                    <a:lnTo>
                      <a:pt x="275" y="0"/>
                    </a:lnTo>
                    <a:lnTo>
                      <a:pt x="318" y="20"/>
                    </a:lnTo>
                    <a:lnTo>
                      <a:pt x="398" y="41"/>
                    </a:lnTo>
                    <a:lnTo>
                      <a:pt x="275" y="25"/>
                    </a:lnTo>
                    <a:lnTo>
                      <a:pt x="246" y="20"/>
                    </a:lnTo>
                    <a:lnTo>
                      <a:pt x="208" y="36"/>
                    </a:lnTo>
                    <a:lnTo>
                      <a:pt x="9" y="36"/>
                    </a:lnTo>
                    <a:lnTo>
                      <a:pt x="0" y="1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5927760" y="4946760"/>
                <a:ext cx="74880" cy="18000"/>
              </a:xfrm>
              <a:custGeom>
                <a:avLst/>
                <a:gdLst/>
                <a:ahLst/>
                <a:rect l="0" t="0" r="r" b="b"/>
                <a:pathLst>
                  <a:path fill="none" w="208" h="50">
                    <a:moveTo>
                      <a:pt x="118" y="9"/>
                    </a:moveTo>
                    <a:lnTo>
                      <a:pt x="42" y="2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9"/>
                    </a:lnTo>
                    <a:lnTo>
                      <a:pt x="18" y="20"/>
                    </a:lnTo>
                    <a:lnTo>
                      <a:pt x="0" y="30"/>
                    </a:lnTo>
                    <a:lnTo>
                      <a:pt x="18" y="34"/>
                    </a:lnTo>
                    <a:lnTo>
                      <a:pt x="28" y="40"/>
                    </a:lnTo>
                    <a:lnTo>
                      <a:pt x="128" y="50"/>
                    </a:lnTo>
                    <a:lnTo>
                      <a:pt x="170" y="50"/>
                    </a:lnTo>
                    <a:lnTo>
                      <a:pt x="208" y="40"/>
                    </a:lnTo>
                    <a:lnTo>
                      <a:pt x="123" y="40"/>
                    </a:lnTo>
                    <a:lnTo>
                      <a:pt x="137" y="9"/>
                    </a:lnTo>
                    <a:lnTo>
                      <a:pt x="118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6068880" y="4930920"/>
                <a:ext cx="44640" cy="3600"/>
              </a:xfrm>
              <a:custGeom>
                <a:avLst/>
                <a:gdLst/>
                <a:ahLst/>
                <a:rect l="0" t="0" r="r" b="b"/>
                <a:pathLst>
                  <a:path fill="none" w="124" h="10">
                    <a:moveTo>
                      <a:pt x="0" y="10"/>
                    </a:moveTo>
                    <a:lnTo>
                      <a:pt x="56" y="0"/>
                    </a:lnTo>
                    <a:lnTo>
                      <a:pt x="95" y="0"/>
                    </a:lnTo>
                    <a:lnTo>
                      <a:pt x="124" y="10"/>
                    </a:lnTo>
                    <a:lnTo>
                      <a:pt x="91" y="0"/>
                    </a:lnTo>
                    <a:lnTo>
                      <a:pt x="67" y="0"/>
                    </a:lnTo>
                    <a:lnTo>
                      <a:pt x="0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6130800" y="49672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14" y="9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14" y="14"/>
                    </a:lnTo>
                    <a:lnTo>
                      <a:pt x="14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6129360" y="495468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fill="none" w="14" h="27">
                    <a:moveTo>
                      <a:pt x="14" y="27"/>
                    </a:moveTo>
                    <a:lnTo>
                      <a:pt x="9" y="27"/>
                    </a:lnTo>
                    <a:lnTo>
                      <a:pt x="9" y="22"/>
                    </a:lnTo>
                    <a:lnTo>
                      <a:pt x="9" y="16"/>
                    </a:lnTo>
                    <a:lnTo>
                      <a:pt x="0" y="5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6243480" y="5094360"/>
                <a:ext cx="246600" cy="11520"/>
              </a:xfrm>
              <a:custGeom>
                <a:avLst/>
                <a:gdLst/>
                <a:ahLst/>
                <a:rect l="0" t="0" r="r" b="b"/>
                <a:pathLst>
                  <a:path fill="none" w="685" h="32">
                    <a:moveTo>
                      <a:pt x="23" y="0"/>
                    </a:moveTo>
                    <a:lnTo>
                      <a:pt x="685" y="0"/>
                    </a:lnTo>
                    <a:lnTo>
                      <a:pt x="524" y="14"/>
                    </a:lnTo>
                    <a:lnTo>
                      <a:pt x="309" y="14"/>
                    </a:lnTo>
                    <a:lnTo>
                      <a:pt x="252" y="4"/>
                    </a:lnTo>
                    <a:lnTo>
                      <a:pt x="195" y="14"/>
                    </a:lnTo>
                    <a:lnTo>
                      <a:pt x="113" y="14"/>
                    </a:lnTo>
                    <a:lnTo>
                      <a:pt x="75" y="23"/>
                    </a:lnTo>
                    <a:lnTo>
                      <a:pt x="304" y="23"/>
                    </a:lnTo>
                    <a:lnTo>
                      <a:pt x="394" y="32"/>
                    </a:lnTo>
                    <a:lnTo>
                      <a:pt x="0" y="32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6039000" y="5052960"/>
                <a:ext cx="11520" cy="11520"/>
              </a:xfrm>
              <a:custGeom>
                <a:avLst/>
                <a:gdLst/>
                <a:ahLst/>
                <a:rect l="0" t="0" r="r" b="b"/>
                <a:pathLst>
                  <a:path fill="none" w="32" h="32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23" y="23"/>
                    </a:lnTo>
                    <a:lnTo>
                      <a:pt x="23" y="28"/>
                    </a:lnTo>
                    <a:lnTo>
                      <a:pt x="18" y="32"/>
                    </a:lnTo>
                    <a:lnTo>
                      <a:pt x="32" y="28"/>
                    </a:lnTo>
                    <a:lnTo>
                      <a:pt x="32" y="14"/>
                    </a:lnTo>
                    <a:lnTo>
                      <a:pt x="28" y="4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6039000" y="5059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5975280" y="5052960"/>
                <a:ext cx="9720" cy="9720"/>
              </a:xfrm>
              <a:custGeom>
                <a:avLst/>
                <a:gdLst/>
                <a:ahLst/>
                <a:rect l="0" t="0" r="r" b="b"/>
                <a:pathLst>
                  <a:path fill="none" w="27" h="27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18" y="18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27" y="14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5975280" y="5059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5931000" y="5052960"/>
                <a:ext cx="8280" cy="9720"/>
              </a:xfrm>
              <a:custGeom>
                <a:avLst/>
                <a:gdLst/>
                <a:ahLst/>
                <a:rect l="0" t="0" r="r" b="b"/>
                <a:pathLst>
                  <a:path fill="none" w="23" h="27">
                    <a:moveTo>
                      <a:pt x="0" y="4"/>
                    </a:moveTo>
                    <a:lnTo>
                      <a:pt x="4" y="4"/>
                    </a:lnTo>
                    <a:lnTo>
                      <a:pt x="14" y="14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4" y="27"/>
                    </a:lnTo>
                    <a:lnTo>
                      <a:pt x="23" y="23"/>
                    </a:lnTo>
                    <a:lnTo>
                      <a:pt x="23" y="14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5931000" y="5057640"/>
                <a:ext cx="1800" cy="3600"/>
              </a:xfrm>
              <a:custGeom>
                <a:avLst/>
                <a:gdLst/>
                <a:ahLst/>
                <a:rect l="0" t="0" r="r" b="b"/>
                <a:pathLst>
                  <a:path fill="none" w="5" h="10">
                    <a:moveTo>
                      <a:pt x="0" y="5"/>
                    </a:moveTo>
                    <a:lnTo>
                      <a:pt x="5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048360" y="5091120"/>
                <a:ext cx="47880" cy="46440"/>
              </a:xfrm>
              <a:custGeom>
                <a:avLst/>
                <a:gdLst/>
                <a:ahLst/>
                <a:rect l="0" t="0" r="r" b="b"/>
                <a:pathLst>
                  <a:path fill="none" w="133" h="129">
                    <a:moveTo>
                      <a:pt x="56" y="0"/>
                    </a:moveTo>
                    <a:lnTo>
                      <a:pt x="0" y="53"/>
                    </a:lnTo>
                    <a:lnTo>
                      <a:pt x="4" y="57"/>
                    </a:lnTo>
                    <a:lnTo>
                      <a:pt x="28" y="43"/>
                    </a:lnTo>
                    <a:lnTo>
                      <a:pt x="42" y="48"/>
                    </a:lnTo>
                    <a:lnTo>
                      <a:pt x="56" y="57"/>
                    </a:lnTo>
                    <a:lnTo>
                      <a:pt x="47" y="67"/>
                    </a:lnTo>
                    <a:lnTo>
                      <a:pt x="47" y="76"/>
                    </a:lnTo>
                    <a:lnTo>
                      <a:pt x="56" y="76"/>
                    </a:lnTo>
                    <a:lnTo>
                      <a:pt x="51" y="81"/>
                    </a:lnTo>
                    <a:lnTo>
                      <a:pt x="56" y="86"/>
                    </a:lnTo>
                    <a:lnTo>
                      <a:pt x="76" y="81"/>
                    </a:lnTo>
                    <a:lnTo>
                      <a:pt x="90" y="101"/>
                    </a:lnTo>
                    <a:lnTo>
                      <a:pt x="76" y="125"/>
                    </a:lnTo>
                    <a:lnTo>
                      <a:pt x="81" y="129"/>
                    </a:lnTo>
                    <a:lnTo>
                      <a:pt x="133" y="86"/>
                    </a:lnTo>
                    <a:lnTo>
                      <a:pt x="114" y="62"/>
                    </a:lnTo>
                    <a:lnTo>
                      <a:pt x="109" y="43"/>
                    </a:lnTo>
                    <a:lnTo>
                      <a:pt x="109" y="57"/>
                    </a:lnTo>
                    <a:lnTo>
                      <a:pt x="104" y="62"/>
                    </a:lnTo>
                    <a:lnTo>
                      <a:pt x="100" y="43"/>
                    </a:lnTo>
                    <a:lnTo>
                      <a:pt x="86" y="28"/>
                    </a:lnTo>
                    <a:lnTo>
                      <a:pt x="76" y="23"/>
                    </a:lnTo>
                    <a:lnTo>
                      <a:pt x="71" y="28"/>
                    </a:lnTo>
                    <a:lnTo>
                      <a:pt x="67" y="34"/>
                    </a:lnTo>
                    <a:lnTo>
                      <a:pt x="71" y="43"/>
                    </a:lnTo>
                    <a:lnTo>
                      <a:pt x="76" y="57"/>
                    </a:lnTo>
                    <a:lnTo>
                      <a:pt x="61" y="43"/>
                    </a:lnTo>
                    <a:lnTo>
                      <a:pt x="56" y="28"/>
                    </a:lnTo>
                    <a:lnTo>
                      <a:pt x="61" y="18"/>
                    </a:lnTo>
                    <a:lnTo>
                      <a:pt x="81" y="14"/>
                    </a:lnTo>
                    <a:lnTo>
                      <a:pt x="100" y="23"/>
                    </a:lnTo>
                    <a:lnTo>
                      <a:pt x="81" y="9"/>
                    </a:lnTo>
                    <a:lnTo>
                      <a:pt x="71" y="9"/>
                    </a:lnTo>
                    <a:lnTo>
                      <a:pt x="5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232680" y="5099040"/>
                <a:ext cx="44640" cy="36720"/>
              </a:xfrm>
              <a:custGeom>
                <a:avLst/>
                <a:gdLst/>
                <a:ahLst/>
                <a:rect l="0" t="0" r="r" b="b"/>
                <a:pathLst>
                  <a:path fill="none" w="124" h="102">
                    <a:moveTo>
                      <a:pt x="33" y="102"/>
                    </a:moveTo>
                    <a:lnTo>
                      <a:pt x="37" y="97"/>
                    </a:lnTo>
                    <a:lnTo>
                      <a:pt x="33" y="68"/>
                    </a:lnTo>
                    <a:lnTo>
                      <a:pt x="42" y="63"/>
                    </a:lnTo>
                    <a:lnTo>
                      <a:pt x="61" y="78"/>
                    </a:lnTo>
                    <a:lnTo>
                      <a:pt x="67" y="78"/>
                    </a:lnTo>
                    <a:lnTo>
                      <a:pt x="67" y="63"/>
                    </a:lnTo>
                    <a:lnTo>
                      <a:pt x="76" y="73"/>
                    </a:lnTo>
                    <a:lnTo>
                      <a:pt x="81" y="68"/>
                    </a:lnTo>
                    <a:lnTo>
                      <a:pt x="81" y="58"/>
                    </a:lnTo>
                    <a:lnTo>
                      <a:pt x="95" y="43"/>
                    </a:lnTo>
                    <a:lnTo>
                      <a:pt x="119" y="73"/>
                    </a:lnTo>
                    <a:lnTo>
                      <a:pt x="124" y="63"/>
                    </a:lnTo>
                    <a:lnTo>
                      <a:pt x="86" y="4"/>
                    </a:lnTo>
                    <a:lnTo>
                      <a:pt x="18" y="0"/>
                    </a:lnTo>
                    <a:lnTo>
                      <a:pt x="0" y="48"/>
                    </a:lnTo>
                    <a:lnTo>
                      <a:pt x="33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5445000" y="4959360"/>
                <a:ext cx="97200" cy="28800"/>
              </a:xfrm>
              <a:custGeom>
                <a:avLst/>
                <a:gdLst/>
                <a:ahLst/>
                <a:rect l="0" t="0" r="r" b="b"/>
                <a:pathLst>
                  <a:path fill="none" w="270" h="80">
                    <a:moveTo>
                      <a:pt x="233" y="80"/>
                    </a:moveTo>
                    <a:lnTo>
                      <a:pt x="233" y="43"/>
                    </a:lnTo>
                    <a:lnTo>
                      <a:pt x="166" y="43"/>
                    </a:lnTo>
                    <a:lnTo>
                      <a:pt x="147" y="52"/>
                    </a:lnTo>
                    <a:lnTo>
                      <a:pt x="133" y="43"/>
                    </a:lnTo>
                    <a:lnTo>
                      <a:pt x="100" y="43"/>
                    </a:lnTo>
                    <a:lnTo>
                      <a:pt x="95" y="52"/>
                    </a:lnTo>
                    <a:lnTo>
                      <a:pt x="76" y="52"/>
                    </a:lnTo>
                    <a:lnTo>
                      <a:pt x="71" y="61"/>
                    </a:lnTo>
                    <a:lnTo>
                      <a:pt x="51" y="61"/>
                    </a:lnTo>
                    <a:lnTo>
                      <a:pt x="51" y="71"/>
                    </a:lnTo>
                    <a:lnTo>
                      <a:pt x="37" y="7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14" y="28"/>
                    </a:lnTo>
                    <a:lnTo>
                      <a:pt x="37" y="28"/>
                    </a:lnTo>
                    <a:lnTo>
                      <a:pt x="37" y="14"/>
                    </a:lnTo>
                    <a:lnTo>
                      <a:pt x="4" y="14"/>
                    </a:lnTo>
                    <a:lnTo>
                      <a:pt x="18" y="0"/>
                    </a:lnTo>
                    <a:lnTo>
                      <a:pt x="270" y="0"/>
                    </a:lnTo>
                    <a:lnTo>
                      <a:pt x="237" y="14"/>
                    </a:lnTo>
                    <a:lnTo>
                      <a:pt x="237" y="80"/>
                    </a:lnTo>
                    <a:lnTo>
                      <a:pt x="233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5541840" y="494676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5532480" y="4946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5521320" y="494676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5511960" y="4946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5456160" y="4946760"/>
                <a:ext cx="52920" cy="5040"/>
              </a:xfrm>
              <a:custGeom>
                <a:avLst/>
                <a:gdLst/>
                <a:ahLst/>
                <a:rect l="0" t="0" r="r" b="b"/>
                <a:pathLst>
                  <a:path fill="none" w="147" h="14">
                    <a:moveTo>
                      <a:pt x="147" y="0"/>
                    </a:moveTo>
                    <a:lnTo>
                      <a:pt x="147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5541840" y="493236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19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5532480" y="493236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5521320" y="493236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23" y="0"/>
                    </a:moveTo>
                    <a:lnTo>
                      <a:pt x="23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5511960" y="493236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5456160" y="4932360"/>
                <a:ext cx="52920" cy="6840"/>
              </a:xfrm>
              <a:custGeom>
                <a:avLst/>
                <a:gdLst/>
                <a:ahLst/>
                <a:rect l="0" t="0" r="r" b="b"/>
                <a:pathLst>
                  <a:path fill="none" w="147" h="19">
                    <a:moveTo>
                      <a:pt x="147" y="0"/>
                    </a:moveTo>
                    <a:lnTo>
                      <a:pt x="147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5541840" y="491976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5532480" y="4919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5521320" y="491976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5511960" y="4919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5424480" y="4919760"/>
                <a:ext cx="84600" cy="41760"/>
              </a:xfrm>
              <a:custGeom>
                <a:avLst/>
                <a:gdLst/>
                <a:ahLst/>
                <a:rect l="0" t="0" r="r" b="b"/>
                <a:pathLst>
                  <a:path fill="none" w="235" h="116">
                    <a:moveTo>
                      <a:pt x="235" y="14"/>
                    </a:moveTo>
                    <a:lnTo>
                      <a:pt x="105" y="14"/>
                    </a:lnTo>
                    <a:lnTo>
                      <a:pt x="105" y="48"/>
                    </a:lnTo>
                    <a:lnTo>
                      <a:pt x="91" y="48"/>
                    </a:lnTo>
                    <a:lnTo>
                      <a:pt x="91" y="111"/>
                    </a:lnTo>
                    <a:lnTo>
                      <a:pt x="77" y="111"/>
                    </a:lnTo>
                    <a:lnTo>
                      <a:pt x="77" y="97"/>
                    </a:lnTo>
                    <a:lnTo>
                      <a:pt x="63" y="116"/>
                    </a:lnTo>
                    <a:lnTo>
                      <a:pt x="14" y="92"/>
                    </a:lnTo>
                    <a:lnTo>
                      <a:pt x="23" y="92"/>
                    </a:lnTo>
                    <a:lnTo>
                      <a:pt x="23" y="77"/>
                    </a:lnTo>
                    <a:lnTo>
                      <a:pt x="19" y="77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34"/>
                    </a:lnTo>
                    <a:lnTo>
                      <a:pt x="23" y="34"/>
                    </a:lnTo>
                    <a:lnTo>
                      <a:pt x="23" y="23"/>
                    </a:lnTo>
                    <a:lnTo>
                      <a:pt x="67" y="23"/>
                    </a:lnTo>
                    <a:lnTo>
                      <a:pt x="67" y="0"/>
                    </a:lnTo>
                    <a:lnTo>
                      <a:pt x="235" y="0"/>
                    </a:lnTo>
                    <a:lnTo>
                      <a:pt x="235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5456160" y="4919760"/>
                <a:ext cx="86040" cy="39960"/>
              </a:xfrm>
              <a:custGeom>
                <a:avLst/>
                <a:gdLst/>
                <a:ahLst/>
                <a:rect l="0" t="0" r="r" b="b"/>
                <a:pathLst>
                  <a:path fill="none" w="239" h="111">
                    <a:moveTo>
                      <a:pt x="239" y="111"/>
                    </a:move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5456160" y="49244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5456160" y="49323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5456160" y="49388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5456160" y="49467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5456160" y="49514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5472000" y="4883040"/>
                <a:ext cx="36720" cy="36720"/>
              </a:xfrm>
              <a:custGeom>
                <a:avLst/>
                <a:gdLst/>
                <a:ahLst/>
                <a:rect l="0" t="0" r="r" b="b"/>
                <a:pathLst>
                  <a:path fill="none" w="102" h="102">
                    <a:moveTo>
                      <a:pt x="102" y="83"/>
                    </a:moveTo>
                    <a:lnTo>
                      <a:pt x="54" y="83"/>
                    </a:lnTo>
                    <a:lnTo>
                      <a:pt x="54" y="102"/>
                    </a:lnTo>
                    <a:lnTo>
                      <a:pt x="14" y="102"/>
                    </a:lnTo>
                    <a:lnTo>
                      <a:pt x="14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83"/>
                    </a:lnTo>
                    <a:lnTo>
                      <a:pt x="102" y="8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5483160" y="4883040"/>
                <a:ext cx="1800" cy="28800"/>
              </a:xfrm>
              <a:custGeom>
                <a:avLst/>
                <a:gdLst/>
                <a:ahLst/>
                <a:rect l="0" t="0" r="r" b="b"/>
                <a:pathLst>
                  <a:path fill="none" w="5" h="80">
                    <a:moveTo>
                      <a:pt x="0" y="8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0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5487840" y="4892760"/>
                <a:ext cx="1800" cy="19440"/>
              </a:xfrm>
              <a:custGeom>
                <a:avLst/>
                <a:gdLst/>
                <a:ahLst/>
                <a:rect l="0" t="0" r="r" b="b"/>
                <a:pathLst>
                  <a:path fill="none" w="5" h="54">
                    <a:moveTo>
                      <a:pt x="0" y="5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54"/>
                    </a:lnTo>
                    <a:lnTo>
                      <a:pt x="0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5472000" y="488304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fill="none" w="102" h="80">
                    <a:moveTo>
                      <a:pt x="102" y="80"/>
                    </a:moveTo>
                    <a:lnTo>
                      <a:pt x="10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H="1" flipV="1">
                <a:off x="5495760" y="4911840"/>
                <a:ext cx="972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5443560" y="4915080"/>
                <a:ext cx="100440" cy="5040"/>
              </a:xfrm>
              <a:custGeom>
                <a:avLst/>
                <a:gdLst/>
                <a:ahLst/>
                <a:rect l="0" t="0" r="r" b="b"/>
                <a:pathLst>
                  <a:path fill="none" w="279" h="14">
                    <a:moveTo>
                      <a:pt x="279" y="14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5443560" y="491652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5475240" y="48769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0" y="1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5484960" y="4876920"/>
                <a:ext cx="20880" cy="5040"/>
              </a:xfrm>
              <a:custGeom>
                <a:avLst/>
                <a:gdLst/>
                <a:ahLst/>
                <a:rect l="0" t="0" r="r" b="b"/>
                <a:pathLst>
                  <a:path fill="none" w="58" h="14">
                    <a:moveTo>
                      <a:pt x="0" y="14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4"/>
                    </a:lnTo>
                    <a:lnTo>
                      <a:pt x="48" y="4"/>
                    </a:lnTo>
                    <a:lnTo>
                      <a:pt x="48" y="14"/>
                    </a:lnTo>
                    <a:lnTo>
                      <a:pt x="48" y="4"/>
                    </a:lnTo>
                    <a:lnTo>
                      <a:pt x="9" y="4"/>
                    </a:lnTo>
                    <a:lnTo>
                      <a:pt x="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5478480" y="4873680"/>
                <a:ext cx="1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5483160" y="4792680"/>
                <a:ext cx="1800" cy="84600"/>
              </a:xfrm>
              <a:custGeom>
                <a:avLst/>
                <a:gdLst/>
                <a:ahLst/>
                <a:rect l="0" t="0" r="r" b="b"/>
                <a:pathLst>
                  <a:path fill="none" w="5" h="235">
                    <a:moveTo>
                      <a:pt x="0" y="235"/>
                    </a:moveTo>
                    <a:lnTo>
                      <a:pt x="5" y="0"/>
                    </a:lnTo>
                    <a:lnTo>
                      <a:pt x="5" y="235"/>
                    </a:lnTo>
                    <a:lnTo>
                      <a:pt x="0" y="23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5478480" y="485784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19"/>
                    </a:moveTo>
                    <a:lnTo>
                      <a:pt x="0" y="1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554184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553392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52780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551988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551340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550548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549756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547056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H="1">
                <a:off x="5454720" y="4915080"/>
                <a:ext cx="144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544824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5464080" y="49039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5459400" y="49039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5462640" y="4910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fill="none" w="5" h="27">
                    <a:moveTo>
                      <a:pt x="0" y="0"/>
                    </a:moveTo>
                    <a:lnTo>
                      <a:pt x="0" y="27"/>
                    </a:lnTo>
                    <a:lnTo>
                      <a:pt x="5" y="27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5533920" y="4908600"/>
                <a:ext cx="8280" cy="1800"/>
              </a:xfrm>
              <a:custGeom>
                <a:avLst/>
                <a:gdLst/>
                <a:ahLst/>
                <a:rect l="0" t="0" r="r" b="b"/>
                <a:pathLst>
                  <a:path fill="none" w="23" h="5">
                    <a:moveTo>
                      <a:pt x="23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5424480" y="4957920"/>
                <a:ext cx="20880" cy="11520"/>
              </a:xfrm>
              <a:custGeom>
                <a:avLst/>
                <a:gdLst/>
                <a:ahLst/>
                <a:rect l="0" t="0" r="r" b="b"/>
                <a:pathLst>
                  <a:path fill="none" w="58" h="32">
                    <a:moveTo>
                      <a:pt x="0" y="0"/>
                    </a:moveTo>
                    <a:lnTo>
                      <a:pt x="0" y="18"/>
                    </a:lnTo>
                    <a:lnTo>
                      <a:pt x="4" y="23"/>
                    </a:lnTo>
                    <a:lnTo>
                      <a:pt x="14" y="14"/>
                    </a:lnTo>
                    <a:lnTo>
                      <a:pt x="58" y="32"/>
                    </a:lnTo>
                    <a:lnTo>
                      <a:pt x="58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5432400" y="4971960"/>
                <a:ext cx="12960" cy="22680"/>
              </a:xfrm>
              <a:custGeom>
                <a:avLst/>
                <a:gdLst/>
                <a:ahLst/>
                <a:rect l="0" t="0" r="r" b="b"/>
                <a:pathLst>
                  <a:path fill="none" w="36" h="63">
                    <a:moveTo>
                      <a:pt x="0" y="0"/>
                    </a:moveTo>
                    <a:lnTo>
                      <a:pt x="36" y="0"/>
                    </a:lnTo>
                    <a:lnTo>
                      <a:pt x="36" y="54"/>
                    </a:lnTo>
                    <a:lnTo>
                      <a:pt x="31" y="58"/>
                    </a:lnTo>
                    <a:lnTo>
                      <a:pt x="21" y="58"/>
                    </a:lnTo>
                    <a:lnTo>
                      <a:pt x="15" y="63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 flipV="1">
                <a:off x="5432400" y="4937040"/>
                <a:ext cx="7920" cy="3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5445000" y="4959360"/>
                <a:ext cx="3600" cy="12960"/>
              </a:xfrm>
              <a:custGeom>
                <a:avLst/>
                <a:gdLst/>
                <a:ahLst/>
                <a:rect l="0" t="0" r="r" b="b"/>
                <a:pathLst>
                  <a:path fill="none" w="10" h="36">
                    <a:moveTo>
                      <a:pt x="0" y="36"/>
                    </a:moveTo>
                    <a:lnTo>
                      <a:pt x="0" y="27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5407200" y="499752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fill="none" w="72" h="14">
                    <a:moveTo>
                      <a:pt x="67" y="1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67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5421240" y="49831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5416560" y="49831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5419800" y="4989600"/>
                <a:ext cx="1800" cy="8280"/>
              </a:xfrm>
              <a:custGeom>
                <a:avLst/>
                <a:gdLst/>
                <a:ahLst/>
                <a:rect l="0" t="0" r="r" b="b"/>
                <a:pathLst>
                  <a:path fill="none" w="5" h="23">
                    <a:moveTo>
                      <a:pt x="0" y="0"/>
                    </a:move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5397480" y="4981680"/>
                <a:ext cx="35280" cy="14760"/>
              </a:xfrm>
              <a:custGeom>
                <a:avLst/>
                <a:gdLst/>
                <a:ahLst/>
                <a:rect l="0" t="0" r="r" b="b"/>
                <a:pathLst>
                  <a:path fill="none" w="98" h="41">
                    <a:moveTo>
                      <a:pt x="98" y="41"/>
                    </a:move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5407200" y="498168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fill="none" w="72" h="27">
                    <a:moveTo>
                      <a:pt x="72" y="0"/>
                    </a:moveTo>
                    <a:lnTo>
                      <a:pt x="43" y="27"/>
                    </a:lnTo>
                    <a:lnTo>
                      <a:pt x="29" y="0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5397480" y="4981680"/>
                <a:ext cx="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5396040" y="499104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5396040" y="499428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5407200" y="500868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fill="none" w="63" h="27">
                    <a:moveTo>
                      <a:pt x="63" y="0"/>
                    </a:moveTo>
                    <a:lnTo>
                      <a:pt x="0" y="27"/>
                    </a:lnTo>
                    <a:lnTo>
                      <a:pt x="63" y="4"/>
                    </a:lnTo>
                    <a:lnTo>
                      <a:pt x="6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5416560" y="4998960"/>
                <a:ext cx="12960" cy="32040"/>
              </a:xfrm>
              <a:custGeom>
                <a:avLst/>
                <a:gdLst/>
                <a:ahLst/>
                <a:rect l="0" t="0" r="r" b="b"/>
                <a:pathLst>
                  <a:path fill="none" w="36" h="89">
                    <a:moveTo>
                      <a:pt x="36" y="79"/>
                    </a:moveTo>
                    <a:lnTo>
                      <a:pt x="0" y="0"/>
                    </a:lnTo>
                    <a:lnTo>
                      <a:pt x="23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5432400" y="492120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0" y="0"/>
                    </a:moveTo>
                    <a:lnTo>
                      <a:pt x="0" y="14"/>
                    </a:lnTo>
                    <a:lnTo>
                      <a:pt x="23" y="14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5429160" y="4908600"/>
                <a:ext cx="12960" cy="8280"/>
              </a:xfrm>
              <a:custGeom>
                <a:avLst/>
                <a:gdLst/>
                <a:ahLst/>
                <a:rect l="0" t="0" r="r" b="b"/>
                <a:pathLst>
                  <a:path fill="none" w="36" h="23">
                    <a:moveTo>
                      <a:pt x="0" y="12"/>
                    </a:moveTo>
                    <a:lnTo>
                      <a:pt x="36" y="0"/>
                    </a:lnTo>
                    <a:lnTo>
                      <a:pt x="36" y="5"/>
                    </a:lnTo>
                    <a:lnTo>
                      <a:pt x="36" y="17"/>
                    </a:lnTo>
                    <a:lnTo>
                      <a:pt x="3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V="1">
                <a:off x="5429160" y="4911840"/>
                <a:ext cx="1296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5430960" y="4911840"/>
                <a:ext cx="0" cy="4680"/>
              </a:xfrm>
              <a:custGeom>
                <a:avLst/>
                <a:gdLst/>
                <a:ahLst/>
                <a:rect l="0" t="0" r="r" b="b"/>
                <a:pathLst>
                  <a:path fill="none" w="0" h="13">
                    <a:moveTo>
                      <a:pt x="0" y="0"/>
                    </a:moveTo>
                    <a:lnTo>
                      <a:pt x="0" y="6"/>
                    </a:lnTo>
                    <a:lnTo>
                      <a:pt x="0" y="1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543240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543384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543708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5438880" y="491004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0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5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5437080" y="491796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5429160" y="4844880"/>
                <a:ext cx="127440" cy="6840"/>
              </a:xfrm>
              <a:custGeom>
                <a:avLst/>
                <a:gdLst/>
                <a:ahLst/>
                <a:rect l="0" t="0" r="r" b="b"/>
                <a:pathLst>
                  <a:path fill="none" w="354" h="19">
                    <a:moveTo>
                      <a:pt x="0" y="6"/>
                    </a:moveTo>
                    <a:lnTo>
                      <a:pt x="153" y="0"/>
                    </a:lnTo>
                    <a:lnTo>
                      <a:pt x="354" y="6"/>
                    </a:lnTo>
                    <a:lnTo>
                      <a:pt x="177" y="6"/>
                    </a:lnTo>
                    <a:lnTo>
                      <a:pt x="153" y="19"/>
                    </a:lnTo>
                    <a:lnTo>
                      <a:pt x="139" y="6"/>
                    </a:lnTo>
                    <a:lnTo>
                      <a:pt x="0" y="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5429160" y="48150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fill="none" w="296" h="14">
                    <a:moveTo>
                      <a:pt x="0" y="4"/>
                    </a:moveTo>
                    <a:lnTo>
                      <a:pt x="153" y="0"/>
                    </a:lnTo>
                    <a:lnTo>
                      <a:pt x="296" y="4"/>
                    </a:lnTo>
                    <a:lnTo>
                      <a:pt x="172" y="9"/>
                    </a:lnTo>
                    <a:lnTo>
                      <a:pt x="153" y="14"/>
                    </a:lnTo>
                    <a:lnTo>
                      <a:pt x="138" y="9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5462640" y="4838760"/>
                <a:ext cx="38520" cy="1800"/>
              </a:xfrm>
              <a:custGeom>
                <a:avLst/>
                <a:gdLst/>
                <a:ahLst/>
                <a:rect l="0" t="0" r="r" b="b"/>
                <a:pathLst>
                  <a:path fill="none" w="107" h="5">
                    <a:moveTo>
                      <a:pt x="0" y="0"/>
                    </a:moveTo>
                    <a:lnTo>
                      <a:pt x="60" y="0"/>
                    </a:lnTo>
                    <a:lnTo>
                      <a:pt x="107" y="0"/>
                    </a:lnTo>
                    <a:lnTo>
                      <a:pt x="6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V="1">
                <a:off x="5462640" y="4792680"/>
                <a:ext cx="22320" cy="46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5481720" y="47926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9" y="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9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5454720" y="479268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12" y="67"/>
                    </a:moveTo>
                    <a:lnTo>
                      <a:pt x="12" y="1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9" y="9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12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5505480" y="479268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9" y="67"/>
                    </a:moveTo>
                    <a:lnTo>
                      <a:pt x="9" y="14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5" y="9"/>
                    </a:lnTo>
                    <a:lnTo>
                      <a:pt x="15" y="4"/>
                    </a:lnTo>
                    <a:lnTo>
                      <a:pt x="15" y="9"/>
                    </a:lnTo>
                    <a:lnTo>
                      <a:pt x="19" y="14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9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5459400" y="4816440"/>
                <a:ext cx="49680" cy="19440"/>
              </a:xfrm>
              <a:custGeom>
                <a:avLst/>
                <a:gdLst/>
                <a:ahLst/>
                <a:rect l="0" t="0" r="r" b="b"/>
                <a:pathLst>
                  <a:path fill="none" w="138" h="54">
                    <a:moveTo>
                      <a:pt x="138" y="0"/>
                    </a:moveTo>
                    <a:lnTo>
                      <a:pt x="71" y="5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V="1">
                <a:off x="5491080" y="4748040"/>
                <a:ext cx="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5437080" y="4826160"/>
                <a:ext cx="0" cy="1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5443560" y="483696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5545080" y="4822920"/>
                <a:ext cx="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5522760" y="483696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5429160" y="4848120"/>
                <a:ext cx="1908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H="1">
                <a:off x="5508720" y="4848120"/>
                <a:ext cx="475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H="1">
                <a:off x="5506920" y="4848120"/>
                <a:ext cx="4284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5448240" y="4826160"/>
                <a:ext cx="19440" cy="9720"/>
              </a:xfrm>
              <a:custGeom>
                <a:avLst/>
                <a:gdLst/>
                <a:ahLst/>
                <a:rect l="0" t="0" r="r" b="b"/>
                <a:pathLst>
                  <a:path fill="none" w="54" h="27">
                    <a:moveTo>
                      <a:pt x="45" y="27"/>
                    </a:moveTo>
                    <a:lnTo>
                      <a:pt x="54" y="0"/>
                    </a:lnTo>
                    <a:lnTo>
                      <a:pt x="39" y="0"/>
                    </a:lnTo>
                    <a:lnTo>
                      <a:pt x="29" y="4"/>
                    </a:lnTo>
                    <a:lnTo>
                      <a:pt x="20" y="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20" y="27"/>
                    </a:lnTo>
                    <a:lnTo>
                      <a:pt x="4" y="23"/>
                    </a:lnTo>
                    <a:lnTo>
                      <a:pt x="0" y="18"/>
                    </a:lnTo>
                    <a:lnTo>
                      <a:pt x="4" y="0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29" y="14"/>
                    </a:lnTo>
                    <a:lnTo>
                      <a:pt x="45" y="14"/>
                    </a:lnTo>
                    <a:lnTo>
                      <a:pt x="45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5418000" y="485136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37" y="4"/>
                    </a:moveTo>
                    <a:lnTo>
                      <a:pt x="27" y="4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8" y="9"/>
                    </a:lnTo>
                    <a:lnTo>
                      <a:pt x="4" y="9"/>
                    </a:lnTo>
                    <a:lnTo>
                      <a:pt x="23" y="4"/>
                    </a:lnTo>
                    <a:lnTo>
                      <a:pt x="27" y="19"/>
                    </a:lnTo>
                    <a:lnTo>
                      <a:pt x="41" y="15"/>
                    </a:lnTo>
                    <a:lnTo>
                      <a:pt x="37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5424480" y="4865760"/>
                <a:ext cx="12960" cy="11520"/>
              </a:xfrm>
              <a:custGeom>
                <a:avLst/>
                <a:gdLst/>
                <a:ahLst/>
                <a:rect l="0" t="0" r="r" b="b"/>
                <a:pathLst>
                  <a:path fill="none" w="36" h="32">
                    <a:moveTo>
                      <a:pt x="31" y="0"/>
                    </a:moveTo>
                    <a:lnTo>
                      <a:pt x="15" y="0"/>
                    </a:lnTo>
                    <a:lnTo>
                      <a:pt x="15" y="11"/>
                    </a:lnTo>
                    <a:lnTo>
                      <a:pt x="0" y="16"/>
                    </a:lnTo>
                    <a:lnTo>
                      <a:pt x="5" y="21"/>
                    </a:lnTo>
                    <a:lnTo>
                      <a:pt x="5" y="32"/>
                    </a:lnTo>
                    <a:lnTo>
                      <a:pt x="15" y="21"/>
                    </a:lnTo>
                    <a:lnTo>
                      <a:pt x="15" y="16"/>
                    </a:lnTo>
                    <a:lnTo>
                      <a:pt x="36" y="11"/>
                    </a:lnTo>
                    <a:lnTo>
                      <a:pt x="15" y="11"/>
                    </a:lnTo>
                    <a:lnTo>
                      <a:pt x="15" y="5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5427720" y="487980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21" y="4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16" y="9"/>
                    </a:lnTo>
                    <a:lnTo>
                      <a:pt x="5" y="9"/>
                    </a:lnTo>
                    <a:lnTo>
                      <a:pt x="16" y="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5429160" y="4889520"/>
                <a:ext cx="12960" cy="9720"/>
              </a:xfrm>
              <a:custGeom>
                <a:avLst/>
                <a:gdLst/>
                <a:ahLst/>
                <a:rect l="0" t="0" r="r" b="b"/>
                <a:pathLst>
                  <a:path fill="none" w="36" h="27">
                    <a:moveTo>
                      <a:pt x="31" y="0"/>
                    </a:moveTo>
                    <a:lnTo>
                      <a:pt x="15" y="10"/>
                    </a:lnTo>
                    <a:lnTo>
                      <a:pt x="0" y="16"/>
                    </a:lnTo>
                    <a:lnTo>
                      <a:pt x="5" y="27"/>
                    </a:lnTo>
                    <a:lnTo>
                      <a:pt x="21" y="22"/>
                    </a:lnTo>
                    <a:lnTo>
                      <a:pt x="26" y="16"/>
                    </a:lnTo>
                    <a:lnTo>
                      <a:pt x="36" y="16"/>
                    </a:lnTo>
                    <a:lnTo>
                      <a:pt x="21" y="16"/>
                    </a:lnTo>
                    <a:lnTo>
                      <a:pt x="21" y="10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5459400" y="48340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5"/>
                    </a:moveTo>
                    <a:lnTo>
                      <a:pt x="9" y="0"/>
                    </a:lnTo>
                    <a:lnTo>
                      <a:pt x="14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5442120" y="485460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9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9" y="19"/>
                    </a:lnTo>
                    <a:lnTo>
                      <a:pt x="19" y="15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5529240" y="485604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27" y="0"/>
                    </a:lnTo>
                    <a:lnTo>
                      <a:pt x="23" y="9"/>
                    </a:lnTo>
                    <a:lnTo>
                      <a:pt x="14" y="9"/>
                    </a:lnTo>
                    <a:lnTo>
                      <a:pt x="0" y="14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7" y="9"/>
                    </a:lnTo>
                    <a:lnTo>
                      <a:pt x="32" y="14"/>
                    </a:lnTo>
                    <a:lnTo>
                      <a:pt x="27" y="4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5532480" y="4865760"/>
                <a:ext cx="9720" cy="6840"/>
              </a:xfrm>
              <a:custGeom>
                <a:avLst/>
                <a:gdLst/>
                <a:ahLst/>
                <a:rect l="0" t="0" r="r" b="b"/>
                <a:pathLst>
                  <a:path fill="none" w="27" h="19">
                    <a:moveTo>
                      <a:pt x="27" y="0"/>
                    </a:moveTo>
                    <a:lnTo>
                      <a:pt x="14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8" y="19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5519880" y="487368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30" y="0"/>
                    </a:lnTo>
                    <a:lnTo>
                      <a:pt x="25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20" y="14"/>
                    </a:lnTo>
                    <a:lnTo>
                      <a:pt x="25" y="14"/>
                    </a:lnTo>
                    <a:lnTo>
                      <a:pt x="30" y="14"/>
                    </a:lnTo>
                    <a:lnTo>
                      <a:pt x="25" y="9"/>
                    </a:lnTo>
                    <a:lnTo>
                      <a:pt x="30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5518080" y="4879800"/>
                <a:ext cx="16200" cy="5040"/>
              </a:xfrm>
              <a:custGeom>
                <a:avLst/>
                <a:gdLst/>
                <a:ahLst/>
                <a:rect l="0" t="0" r="r" b="b"/>
                <a:pathLst>
                  <a:path fill="none" w="45" h="14">
                    <a:moveTo>
                      <a:pt x="45" y="0"/>
                    </a:moveTo>
                    <a:lnTo>
                      <a:pt x="30" y="0"/>
                    </a:lnTo>
                    <a:lnTo>
                      <a:pt x="25" y="4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5" y="9"/>
                    </a:lnTo>
                    <a:lnTo>
                      <a:pt x="35" y="14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5511960" y="488628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41" y="0"/>
                    </a:moveTo>
                    <a:lnTo>
                      <a:pt x="30" y="0"/>
                    </a:lnTo>
                    <a:lnTo>
                      <a:pt x="25" y="6"/>
                    </a:lnTo>
                    <a:lnTo>
                      <a:pt x="0" y="12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25" y="19"/>
                    </a:lnTo>
                    <a:lnTo>
                      <a:pt x="30" y="6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5514840" y="489420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14" y="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78" name="" descr=""/>
            <p:cNvPicPr/>
            <p:nvPr/>
          </p:nvPicPr>
          <p:blipFill>
            <a:blip r:embed="rId3"/>
            <a:stretch/>
          </p:blipFill>
          <p:spPr>
            <a:xfrm>
              <a:off x="5346720" y="4738680"/>
              <a:ext cx="109872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9" name=""/>
          <p:cNvSpPr txBox="1"/>
          <p:nvPr/>
        </p:nvSpPr>
        <p:spPr>
          <a:xfrm>
            <a:off x="1587600" y="5838840"/>
            <a:ext cx="1038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0" name="" descr=""/>
          <p:cNvPicPr/>
          <p:nvPr/>
        </p:nvPicPr>
        <p:blipFill>
          <a:blip r:embed="rId4"/>
          <a:stretch/>
        </p:blipFill>
        <p:spPr>
          <a:xfrm>
            <a:off x="3876840" y="4473720"/>
            <a:ext cx="620640" cy="291960"/>
          </a:xfrm>
          <a:prstGeom prst="rect">
            <a:avLst/>
          </a:prstGeom>
          <a:ln w="0">
            <a:noFill/>
          </a:ln>
        </p:spPr>
      </p:pic>
      <p:sp>
        <p:nvSpPr>
          <p:cNvPr id="6281" name=""/>
          <p:cNvSpPr/>
          <p:nvPr/>
        </p:nvSpPr>
        <p:spPr>
          <a:xfrm>
            <a:off x="1143000" y="414972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2" name="" descr=""/>
          <p:cNvPicPr/>
          <p:nvPr/>
        </p:nvPicPr>
        <p:blipFill>
          <a:blip r:embed="rId5"/>
          <a:stretch/>
        </p:blipFill>
        <p:spPr>
          <a:xfrm>
            <a:off x="1689120" y="3759120"/>
            <a:ext cx="436680" cy="395280"/>
          </a:xfrm>
          <a:prstGeom prst="rect">
            <a:avLst/>
          </a:prstGeom>
          <a:ln w="0">
            <a:noFill/>
          </a:ln>
        </p:spPr>
      </p:pic>
      <p:pic>
        <p:nvPicPr>
          <p:cNvPr id="6283" name="" descr=""/>
          <p:cNvPicPr/>
          <p:nvPr/>
        </p:nvPicPr>
        <p:blipFill>
          <a:blip r:embed="rId6"/>
          <a:stretch/>
        </p:blipFill>
        <p:spPr>
          <a:xfrm>
            <a:off x="262080" y="3768840"/>
            <a:ext cx="9334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284" name=""/>
          <p:cNvGrpSpPr/>
          <p:nvPr/>
        </p:nvGrpSpPr>
        <p:grpSpPr>
          <a:xfrm>
            <a:off x="1735200" y="5338800"/>
            <a:ext cx="843480" cy="432360"/>
            <a:chOff x="1735200" y="5338800"/>
            <a:chExt cx="843480" cy="432360"/>
          </a:xfrm>
        </p:grpSpPr>
        <p:sp>
          <p:nvSpPr>
            <p:cNvPr id="6285" name=""/>
            <p:cNvSpPr/>
            <p:nvPr/>
          </p:nvSpPr>
          <p:spPr>
            <a:xfrm>
              <a:off x="1735200" y="5675400"/>
              <a:ext cx="759240" cy="92520"/>
            </a:xfrm>
            <a:custGeom>
              <a:avLst/>
              <a:gdLst/>
              <a:ahLst/>
              <a:rect l="0" t="0" r="r" b="b"/>
              <a:pathLst>
                <a:path fill="none" w="2109" h="257">
                  <a:moveTo>
                    <a:pt x="1002" y="160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1002" y="257"/>
                  </a:lnTo>
                  <a:lnTo>
                    <a:pt x="2109" y="58"/>
                  </a:lnTo>
                  <a:lnTo>
                    <a:pt x="1932" y="38"/>
                  </a:lnTo>
                  <a:lnTo>
                    <a:pt x="1002" y="16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098800" y="5429160"/>
              <a:ext cx="479880" cy="249480"/>
            </a:xfrm>
            <a:custGeom>
              <a:avLst/>
              <a:gdLst/>
              <a:ahLst/>
              <a:rect l="0" t="0" r="r" b="b"/>
              <a:pathLst>
                <a:path fill="none" w="1333" h="693">
                  <a:moveTo>
                    <a:pt x="0" y="0"/>
                  </a:moveTo>
                  <a:lnTo>
                    <a:pt x="951" y="217"/>
                  </a:lnTo>
                  <a:lnTo>
                    <a:pt x="951" y="448"/>
                  </a:lnTo>
                  <a:lnTo>
                    <a:pt x="1333" y="487"/>
                  </a:lnTo>
                  <a:lnTo>
                    <a:pt x="1333" y="606"/>
                  </a:lnTo>
                  <a:lnTo>
                    <a:pt x="0" y="69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1749600" y="5427720"/>
              <a:ext cx="346320" cy="235440"/>
            </a:xfrm>
            <a:custGeom>
              <a:avLst/>
              <a:gdLst/>
              <a:ahLst/>
              <a:rect l="0" t="0" r="r" b="b"/>
              <a:pathLst>
                <a:path fill="none" w="962" h="654">
                  <a:moveTo>
                    <a:pt x="0" y="275"/>
                  </a:moveTo>
                  <a:lnTo>
                    <a:pt x="962" y="0"/>
                  </a:lnTo>
                  <a:lnTo>
                    <a:pt x="962" y="654"/>
                  </a:lnTo>
                  <a:lnTo>
                    <a:pt x="0" y="595"/>
                  </a:lnTo>
                  <a:lnTo>
                    <a:pt x="0" y="275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1757520" y="5645160"/>
              <a:ext cx="673560" cy="87840"/>
            </a:xfrm>
            <a:custGeom>
              <a:avLst/>
              <a:gdLst/>
              <a:ahLst/>
              <a:rect l="0" t="0" r="r" b="b"/>
              <a:pathLst>
                <a:path fill="none" w="1871" h="244">
                  <a:moveTo>
                    <a:pt x="0" y="0"/>
                  </a:moveTo>
                  <a:lnTo>
                    <a:pt x="940" y="55"/>
                  </a:lnTo>
                  <a:lnTo>
                    <a:pt x="1871" y="22"/>
                  </a:lnTo>
                  <a:lnTo>
                    <a:pt x="1871" y="135"/>
                  </a:lnTo>
                  <a:lnTo>
                    <a:pt x="940" y="244"/>
                  </a:lnTo>
                  <a:lnTo>
                    <a:pt x="0" y="81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495520" y="5629320"/>
              <a:ext cx="33840" cy="24120"/>
            </a:xfrm>
            <a:custGeom>
              <a:avLst/>
              <a:gdLst/>
              <a:ahLst/>
              <a:rect l="0" t="0" r="r" b="b"/>
              <a:pathLst>
                <a:path fill="none" w="94" h="67">
                  <a:moveTo>
                    <a:pt x="0" y="67"/>
                  </a:moveTo>
                  <a:lnTo>
                    <a:pt x="94" y="60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67"/>
                  </a:lnTo>
                </a:path>
              </a:pathLst>
            </a:custGeom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249640" y="5657760"/>
              <a:ext cx="81360" cy="59040"/>
            </a:xfrm>
            <a:custGeom>
              <a:avLst/>
              <a:gdLst/>
              <a:ahLst/>
              <a:rect l="0" t="0" r="r" b="b"/>
              <a:pathLst>
                <a:path fill="none" w="226" h="164">
                  <a:moveTo>
                    <a:pt x="0" y="164"/>
                  </a:moveTo>
                  <a:lnTo>
                    <a:pt x="226" y="136"/>
                  </a:lnTo>
                  <a:lnTo>
                    <a:pt x="226" y="0"/>
                  </a:lnTo>
                  <a:lnTo>
                    <a:pt x="0" y="10"/>
                  </a:lnTo>
                  <a:lnTo>
                    <a:pt x="0" y="164"/>
                  </a:lnTo>
                </a:path>
              </a:pathLst>
            </a:custGeom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1862280" y="5656320"/>
              <a:ext cx="81360" cy="52920"/>
            </a:xfrm>
            <a:custGeom>
              <a:avLst/>
              <a:gdLst/>
              <a:ahLst/>
              <a:rect l="0" t="0" r="r" b="b"/>
              <a:pathLst>
                <a:path fill="none" w="226" h="147">
                  <a:moveTo>
                    <a:pt x="0" y="106"/>
                  </a:moveTo>
                  <a:lnTo>
                    <a:pt x="0" y="0"/>
                  </a:lnTo>
                  <a:lnTo>
                    <a:pt x="226" y="14"/>
                  </a:lnTo>
                  <a:lnTo>
                    <a:pt x="226" y="147"/>
                  </a:lnTo>
                  <a:lnTo>
                    <a:pt x="0" y="106"/>
                  </a:lnTo>
                </a:path>
              </a:pathLst>
            </a:custGeom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1749600" y="5427720"/>
              <a:ext cx="692640" cy="238320"/>
            </a:xfrm>
            <a:custGeom>
              <a:avLst/>
              <a:gdLst/>
              <a:ahLst/>
              <a:rect l="0" t="0" r="r" b="b"/>
              <a:pathLst>
                <a:path fill="none" w="1924" h="662">
                  <a:moveTo>
                    <a:pt x="0" y="278"/>
                  </a:moveTo>
                  <a:lnTo>
                    <a:pt x="964" y="0"/>
                  </a:lnTo>
                  <a:lnTo>
                    <a:pt x="1924" y="220"/>
                  </a:lnTo>
                  <a:lnTo>
                    <a:pt x="1924" y="623"/>
                  </a:lnTo>
                  <a:lnTo>
                    <a:pt x="964" y="662"/>
                  </a:lnTo>
                  <a:lnTo>
                    <a:pt x="0" y="602"/>
                  </a:lnTo>
                  <a:lnTo>
                    <a:pt x="0" y="2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1757520" y="5645160"/>
              <a:ext cx="675000" cy="92520"/>
            </a:xfrm>
            <a:custGeom>
              <a:avLst/>
              <a:gdLst/>
              <a:ahLst/>
              <a:rect l="0" t="0" r="r" b="b"/>
              <a:pathLst>
                <a:path fill="none" w="1875" h="257">
                  <a:moveTo>
                    <a:pt x="0" y="0"/>
                  </a:moveTo>
                  <a:lnTo>
                    <a:pt x="0" y="86"/>
                  </a:lnTo>
                  <a:lnTo>
                    <a:pt x="941" y="257"/>
                  </a:lnTo>
                  <a:lnTo>
                    <a:pt x="1875" y="140"/>
                  </a:lnTo>
                  <a:lnTo>
                    <a:pt x="1875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 flipV="1">
              <a:off x="2097000" y="53388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1863720" y="565164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1882800" y="56516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1901880" y="56530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1924200" y="56545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1946160" y="56563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249640" y="565776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273400" y="565632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295360" y="5656320"/>
              <a:ext cx="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2313000" y="5656320"/>
              <a:ext cx="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332080" y="56563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1982880" y="5343480"/>
              <a:ext cx="114840" cy="78120"/>
            </a:xfrm>
            <a:custGeom>
              <a:avLst/>
              <a:gdLst/>
              <a:ahLst/>
              <a:rect l="0" t="0" r="r" b="b"/>
              <a:pathLst>
                <a:path fill="none" w="319" h="217">
                  <a:moveTo>
                    <a:pt x="319" y="0"/>
                  </a:moveTo>
                  <a:lnTo>
                    <a:pt x="187" y="42"/>
                  </a:lnTo>
                  <a:lnTo>
                    <a:pt x="173" y="115"/>
                  </a:lnTo>
                  <a:lnTo>
                    <a:pt x="0" y="217"/>
                  </a:lnTo>
                  <a:lnTo>
                    <a:pt x="156" y="189"/>
                  </a:lnTo>
                  <a:lnTo>
                    <a:pt x="163" y="164"/>
                  </a:lnTo>
                  <a:lnTo>
                    <a:pt x="319" y="125"/>
                  </a:lnTo>
                  <a:lnTo>
                    <a:pt x="3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495520" y="5627520"/>
              <a:ext cx="36720" cy="27360"/>
            </a:xfrm>
            <a:custGeom>
              <a:avLst/>
              <a:gdLst/>
              <a:ahLst/>
              <a:rect l="0" t="0" r="r" b="b"/>
              <a:pathLst>
                <a:path fill="none" w="102" h="76">
                  <a:moveTo>
                    <a:pt x="0" y="76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6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 flipV="1">
              <a:off x="2506680" y="56293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514600" y="56293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522520" y="5629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116080" y="5460840"/>
              <a:ext cx="63720" cy="184680"/>
            </a:xfrm>
            <a:custGeom>
              <a:avLst/>
              <a:gdLst/>
              <a:ahLst/>
              <a:rect l="0" t="0" r="r" b="b"/>
              <a:pathLst>
                <a:path fill="none" w="177" h="513">
                  <a:moveTo>
                    <a:pt x="168" y="509"/>
                  </a:moveTo>
                  <a:lnTo>
                    <a:pt x="0" y="512"/>
                  </a:lnTo>
                  <a:lnTo>
                    <a:pt x="0" y="513"/>
                  </a:lnTo>
                  <a:lnTo>
                    <a:pt x="177" y="511"/>
                  </a:lnTo>
                  <a:lnTo>
                    <a:pt x="177" y="111"/>
                  </a:lnTo>
                  <a:lnTo>
                    <a:pt x="176" y="100"/>
                  </a:lnTo>
                  <a:lnTo>
                    <a:pt x="174" y="87"/>
                  </a:lnTo>
                  <a:lnTo>
                    <a:pt x="172" y="79"/>
                  </a:lnTo>
                  <a:lnTo>
                    <a:pt x="170" y="68"/>
                  </a:lnTo>
                  <a:lnTo>
                    <a:pt x="166" y="57"/>
                  </a:lnTo>
                  <a:lnTo>
                    <a:pt x="161" y="49"/>
                  </a:lnTo>
                  <a:lnTo>
                    <a:pt x="154" y="37"/>
                  </a:lnTo>
                  <a:lnTo>
                    <a:pt x="147" y="27"/>
                  </a:lnTo>
                  <a:lnTo>
                    <a:pt x="140" y="20"/>
                  </a:lnTo>
                  <a:lnTo>
                    <a:pt x="131" y="13"/>
                  </a:lnTo>
                  <a:lnTo>
                    <a:pt x="120" y="7"/>
                  </a:lnTo>
                  <a:lnTo>
                    <a:pt x="111" y="4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1"/>
                  </a:lnTo>
                  <a:lnTo>
                    <a:pt x="56" y="7"/>
                  </a:lnTo>
                  <a:lnTo>
                    <a:pt x="45" y="14"/>
                  </a:lnTo>
                  <a:lnTo>
                    <a:pt x="37" y="20"/>
                  </a:lnTo>
                  <a:lnTo>
                    <a:pt x="30" y="26"/>
                  </a:lnTo>
                  <a:lnTo>
                    <a:pt x="24" y="35"/>
                  </a:lnTo>
                  <a:lnTo>
                    <a:pt x="32" y="25"/>
                  </a:lnTo>
                  <a:lnTo>
                    <a:pt x="39" y="20"/>
                  </a:lnTo>
                  <a:lnTo>
                    <a:pt x="46" y="14"/>
                  </a:lnTo>
                  <a:lnTo>
                    <a:pt x="57" y="8"/>
                  </a:lnTo>
                  <a:lnTo>
                    <a:pt x="65" y="5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93" y="1"/>
                  </a:lnTo>
                  <a:lnTo>
                    <a:pt x="102" y="4"/>
                  </a:lnTo>
                  <a:lnTo>
                    <a:pt x="110" y="6"/>
                  </a:lnTo>
                  <a:lnTo>
                    <a:pt x="119" y="12"/>
                  </a:lnTo>
                  <a:lnTo>
                    <a:pt x="131" y="20"/>
                  </a:lnTo>
                  <a:lnTo>
                    <a:pt x="139" y="27"/>
                  </a:lnTo>
                  <a:lnTo>
                    <a:pt x="147" y="37"/>
                  </a:lnTo>
                  <a:lnTo>
                    <a:pt x="151" y="44"/>
                  </a:lnTo>
                  <a:lnTo>
                    <a:pt x="157" y="53"/>
                  </a:lnTo>
                  <a:lnTo>
                    <a:pt x="161" y="64"/>
                  </a:lnTo>
                  <a:lnTo>
                    <a:pt x="165" y="76"/>
                  </a:lnTo>
                  <a:lnTo>
                    <a:pt x="166" y="90"/>
                  </a:lnTo>
                  <a:lnTo>
                    <a:pt x="168" y="103"/>
                  </a:lnTo>
                  <a:lnTo>
                    <a:pt x="168" y="107"/>
                  </a:lnTo>
                  <a:lnTo>
                    <a:pt x="168" y="5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2190600" y="5477040"/>
              <a:ext cx="60840" cy="168480"/>
            </a:xfrm>
            <a:custGeom>
              <a:avLst/>
              <a:gdLst/>
              <a:ahLst/>
              <a:rect l="0" t="0" r="r" b="b"/>
              <a:pathLst>
                <a:path fill="none" w="169" h="468">
                  <a:moveTo>
                    <a:pt x="160" y="463"/>
                  </a:moveTo>
                  <a:lnTo>
                    <a:pt x="0" y="466"/>
                  </a:lnTo>
                  <a:lnTo>
                    <a:pt x="0" y="468"/>
                  </a:lnTo>
                  <a:lnTo>
                    <a:pt x="169" y="466"/>
                  </a:lnTo>
                  <a:lnTo>
                    <a:pt x="168" y="102"/>
                  </a:lnTo>
                  <a:lnTo>
                    <a:pt x="167" y="92"/>
                  </a:lnTo>
                  <a:lnTo>
                    <a:pt x="165" y="81"/>
                  </a:lnTo>
                  <a:lnTo>
                    <a:pt x="164" y="72"/>
                  </a:lnTo>
                  <a:lnTo>
                    <a:pt x="162" y="62"/>
                  </a:lnTo>
                  <a:lnTo>
                    <a:pt x="158" y="53"/>
                  </a:lnTo>
                  <a:lnTo>
                    <a:pt x="154" y="45"/>
                  </a:lnTo>
                  <a:lnTo>
                    <a:pt x="148" y="35"/>
                  </a:lnTo>
                  <a:lnTo>
                    <a:pt x="141" y="25"/>
                  </a:lnTo>
                  <a:lnTo>
                    <a:pt x="133" y="18"/>
                  </a:lnTo>
                  <a:lnTo>
                    <a:pt x="124" y="12"/>
                  </a:lnTo>
                  <a:lnTo>
                    <a:pt x="114" y="7"/>
                  </a:lnTo>
                  <a:lnTo>
                    <a:pt x="105" y="3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7" y="0"/>
                  </a:lnTo>
                  <a:lnTo>
                    <a:pt x="66" y="2"/>
                  </a:lnTo>
                  <a:lnTo>
                    <a:pt x="55" y="8"/>
                  </a:lnTo>
                  <a:lnTo>
                    <a:pt x="44" y="13"/>
                  </a:lnTo>
                  <a:lnTo>
                    <a:pt x="35" y="18"/>
                  </a:lnTo>
                  <a:lnTo>
                    <a:pt x="29" y="24"/>
                  </a:lnTo>
                  <a:lnTo>
                    <a:pt x="23" y="32"/>
                  </a:lnTo>
                  <a:lnTo>
                    <a:pt x="31" y="24"/>
                  </a:lnTo>
                  <a:lnTo>
                    <a:pt x="37" y="18"/>
                  </a:lnTo>
                  <a:lnTo>
                    <a:pt x="46" y="13"/>
                  </a:lnTo>
                  <a:lnTo>
                    <a:pt x="55" y="8"/>
                  </a:lnTo>
                  <a:lnTo>
                    <a:pt x="62" y="5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1"/>
                  </a:lnTo>
                  <a:lnTo>
                    <a:pt x="97" y="3"/>
                  </a:lnTo>
                  <a:lnTo>
                    <a:pt x="105" y="5"/>
                  </a:lnTo>
                  <a:lnTo>
                    <a:pt x="112" y="11"/>
                  </a:lnTo>
                  <a:lnTo>
                    <a:pt x="123" y="18"/>
                  </a:lnTo>
                  <a:lnTo>
                    <a:pt x="133" y="25"/>
                  </a:lnTo>
                  <a:lnTo>
                    <a:pt x="140" y="34"/>
                  </a:lnTo>
                  <a:lnTo>
                    <a:pt x="145" y="41"/>
                  </a:lnTo>
                  <a:lnTo>
                    <a:pt x="149" y="49"/>
                  </a:lnTo>
                  <a:lnTo>
                    <a:pt x="154" y="59"/>
                  </a:lnTo>
                  <a:lnTo>
                    <a:pt x="156" y="68"/>
                  </a:lnTo>
                  <a:lnTo>
                    <a:pt x="159" y="82"/>
                  </a:lnTo>
                  <a:lnTo>
                    <a:pt x="160" y="94"/>
                  </a:lnTo>
                  <a:lnTo>
                    <a:pt x="160" y="98"/>
                  </a:lnTo>
                  <a:lnTo>
                    <a:pt x="160" y="46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260440" y="5489640"/>
              <a:ext cx="52920" cy="154440"/>
            </a:xfrm>
            <a:custGeom>
              <a:avLst/>
              <a:gdLst/>
              <a:ahLst/>
              <a:rect l="0" t="0" r="r" b="b"/>
              <a:pathLst>
                <a:path fill="none" w="147" h="429">
                  <a:moveTo>
                    <a:pt x="139" y="428"/>
                  </a:moveTo>
                  <a:lnTo>
                    <a:pt x="0" y="429"/>
                  </a:lnTo>
                  <a:lnTo>
                    <a:pt x="147" y="429"/>
                  </a:lnTo>
                  <a:lnTo>
                    <a:pt x="147" y="93"/>
                  </a:lnTo>
                  <a:lnTo>
                    <a:pt x="147" y="84"/>
                  </a:lnTo>
                  <a:lnTo>
                    <a:pt x="146" y="73"/>
                  </a:lnTo>
                  <a:lnTo>
                    <a:pt x="143" y="66"/>
                  </a:lnTo>
                  <a:lnTo>
                    <a:pt x="141" y="56"/>
                  </a:lnTo>
                  <a:lnTo>
                    <a:pt x="137" y="48"/>
                  </a:lnTo>
                  <a:lnTo>
                    <a:pt x="134" y="40"/>
                  </a:lnTo>
                  <a:lnTo>
                    <a:pt x="129" y="31"/>
                  </a:lnTo>
                  <a:lnTo>
                    <a:pt x="122" y="22"/>
                  </a:lnTo>
                  <a:lnTo>
                    <a:pt x="116" y="17"/>
                  </a:lnTo>
                  <a:lnTo>
                    <a:pt x="107" y="11"/>
                  </a:lnTo>
                  <a:lnTo>
                    <a:pt x="100" y="5"/>
                  </a:lnTo>
                  <a:lnTo>
                    <a:pt x="91" y="3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6" y="1"/>
                  </a:lnTo>
                  <a:lnTo>
                    <a:pt x="48" y="5"/>
                  </a:lnTo>
                  <a:lnTo>
                    <a:pt x="38" y="11"/>
                  </a:lnTo>
                  <a:lnTo>
                    <a:pt x="31" y="17"/>
                  </a:lnTo>
                  <a:lnTo>
                    <a:pt x="25" y="22"/>
                  </a:lnTo>
                  <a:lnTo>
                    <a:pt x="19" y="29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40" y="11"/>
                  </a:lnTo>
                  <a:lnTo>
                    <a:pt x="48" y="7"/>
                  </a:lnTo>
                  <a:lnTo>
                    <a:pt x="54" y="3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8" y="9"/>
                  </a:lnTo>
                  <a:lnTo>
                    <a:pt x="107" y="16"/>
                  </a:lnTo>
                  <a:lnTo>
                    <a:pt x="116" y="22"/>
                  </a:lnTo>
                  <a:lnTo>
                    <a:pt x="122" y="30"/>
                  </a:lnTo>
                  <a:lnTo>
                    <a:pt x="125" y="37"/>
                  </a:lnTo>
                  <a:lnTo>
                    <a:pt x="130" y="43"/>
                  </a:lnTo>
                  <a:lnTo>
                    <a:pt x="134" y="54"/>
                  </a:lnTo>
                  <a:lnTo>
                    <a:pt x="137" y="63"/>
                  </a:lnTo>
                  <a:lnTo>
                    <a:pt x="139" y="75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42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322360" y="5502240"/>
              <a:ext cx="51120" cy="141480"/>
            </a:xfrm>
            <a:custGeom>
              <a:avLst/>
              <a:gdLst/>
              <a:ahLst/>
              <a:rect l="0" t="0" r="r" b="b"/>
              <a:pathLst>
                <a:path fill="none" w="142" h="393">
                  <a:moveTo>
                    <a:pt x="134" y="390"/>
                  </a:moveTo>
                  <a:lnTo>
                    <a:pt x="0" y="392"/>
                  </a:lnTo>
                  <a:lnTo>
                    <a:pt x="0" y="393"/>
                  </a:lnTo>
                  <a:lnTo>
                    <a:pt x="142" y="392"/>
                  </a:lnTo>
                  <a:lnTo>
                    <a:pt x="140" y="85"/>
                  </a:lnTo>
                  <a:lnTo>
                    <a:pt x="140" y="76"/>
                  </a:lnTo>
                  <a:lnTo>
                    <a:pt x="140" y="67"/>
                  </a:lnTo>
                  <a:lnTo>
                    <a:pt x="138" y="60"/>
                  </a:lnTo>
                  <a:lnTo>
                    <a:pt x="136" y="52"/>
                  </a:lnTo>
                  <a:lnTo>
                    <a:pt x="132" y="44"/>
                  </a:lnTo>
                  <a:lnTo>
                    <a:pt x="128" y="37"/>
                  </a:lnTo>
                  <a:lnTo>
                    <a:pt x="123" y="28"/>
                  </a:lnTo>
                  <a:lnTo>
                    <a:pt x="118" y="21"/>
                  </a:lnTo>
                  <a:lnTo>
                    <a:pt x="112" y="14"/>
                  </a:lnTo>
                  <a:lnTo>
                    <a:pt x="103" y="10"/>
                  </a:lnTo>
                  <a:lnTo>
                    <a:pt x="95" y="5"/>
                  </a:lnTo>
                  <a:lnTo>
                    <a:pt x="87" y="2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5" y="5"/>
                  </a:lnTo>
                  <a:lnTo>
                    <a:pt x="36" y="11"/>
                  </a:lnTo>
                  <a:lnTo>
                    <a:pt x="29" y="14"/>
                  </a:lnTo>
                  <a:lnTo>
                    <a:pt x="25" y="21"/>
                  </a:lnTo>
                  <a:lnTo>
                    <a:pt x="19" y="26"/>
                  </a:lnTo>
                  <a:lnTo>
                    <a:pt x="26" y="19"/>
                  </a:lnTo>
                  <a:lnTo>
                    <a:pt x="31" y="14"/>
                  </a:lnTo>
                  <a:lnTo>
                    <a:pt x="38" y="11"/>
                  </a:lnTo>
                  <a:lnTo>
                    <a:pt x="46" y="7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73" y="1"/>
                  </a:lnTo>
                  <a:lnTo>
                    <a:pt x="81" y="2"/>
                  </a:lnTo>
                  <a:lnTo>
                    <a:pt x="87" y="4"/>
                  </a:lnTo>
                  <a:lnTo>
                    <a:pt x="95" y="8"/>
                  </a:lnTo>
                  <a:lnTo>
                    <a:pt x="103" y="14"/>
                  </a:lnTo>
                  <a:lnTo>
                    <a:pt x="111" y="21"/>
                  </a:lnTo>
                  <a:lnTo>
                    <a:pt x="117" y="28"/>
                  </a:lnTo>
                  <a:lnTo>
                    <a:pt x="121" y="34"/>
                  </a:lnTo>
                  <a:lnTo>
                    <a:pt x="124" y="40"/>
                  </a:lnTo>
                  <a:lnTo>
                    <a:pt x="128" y="50"/>
                  </a:lnTo>
                  <a:lnTo>
                    <a:pt x="131" y="58"/>
                  </a:lnTo>
                  <a:lnTo>
                    <a:pt x="133" y="69"/>
                  </a:lnTo>
                  <a:lnTo>
                    <a:pt x="134" y="78"/>
                  </a:lnTo>
                  <a:lnTo>
                    <a:pt x="134" y="82"/>
                  </a:lnTo>
                  <a:lnTo>
                    <a:pt x="134" y="3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2382840" y="5511960"/>
              <a:ext cx="44640" cy="128880"/>
            </a:xfrm>
            <a:custGeom>
              <a:avLst/>
              <a:gdLst/>
              <a:ahLst/>
              <a:rect l="0" t="0" r="r" b="b"/>
              <a:pathLst>
                <a:path fill="none" w="124" h="358">
                  <a:moveTo>
                    <a:pt x="118" y="355"/>
                  </a:moveTo>
                  <a:lnTo>
                    <a:pt x="0" y="357"/>
                  </a:lnTo>
                  <a:lnTo>
                    <a:pt x="0" y="358"/>
                  </a:lnTo>
                  <a:lnTo>
                    <a:pt x="124" y="356"/>
                  </a:lnTo>
                  <a:lnTo>
                    <a:pt x="123" y="76"/>
                  </a:lnTo>
                  <a:lnTo>
                    <a:pt x="123" y="69"/>
                  </a:lnTo>
                  <a:lnTo>
                    <a:pt x="123" y="61"/>
                  </a:lnTo>
                  <a:lnTo>
                    <a:pt x="120" y="55"/>
                  </a:lnTo>
                  <a:lnTo>
                    <a:pt x="118" y="47"/>
                  </a:lnTo>
                  <a:lnTo>
                    <a:pt x="115" y="40"/>
                  </a:lnTo>
                  <a:lnTo>
                    <a:pt x="112" y="33"/>
                  </a:lnTo>
                  <a:lnTo>
                    <a:pt x="108" y="25"/>
                  </a:lnTo>
                  <a:lnTo>
                    <a:pt x="102" y="19"/>
                  </a:lnTo>
                  <a:lnTo>
                    <a:pt x="98" y="13"/>
                  </a:lnTo>
                  <a:lnTo>
                    <a:pt x="91" y="9"/>
                  </a:lnTo>
                  <a:lnTo>
                    <a:pt x="83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7" y="1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5" y="13"/>
                  </a:lnTo>
                  <a:lnTo>
                    <a:pt x="21" y="18"/>
                  </a:lnTo>
                  <a:lnTo>
                    <a:pt x="16" y="23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4" y="9"/>
                  </a:lnTo>
                  <a:lnTo>
                    <a:pt x="39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3" y="7"/>
                  </a:lnTo>
                  <a:lnTo>
                    <a:pt x="91" y="12"/>
                  </a:lnTo>
                  <a:lnTo>
                    <a:pt x="97" y="19"/>
                  </a:lnTo>
                  <a:lnTo>
                    <a:pt x="101" y="25"/>
                  </a:lnTo>
                  <a:lnTo>
                    <a:pt x="106" y="31"/>
                  </a:lnTo>
                  <a:lnTo>
                    <a:pt x="109" y="35"/>
                  </a:lnTo>
                  <a:lnTo>
                    <a:pt x="112" y="45"/>
                  </a:lnTo>
                  <a:lnTo>
                    <a:pt x="114" y="52"/>
                  </a:lnTo>
                  <a:lnTo>
                    <a:pt x="116" y="63"/>
                  </a:lnTo>
                  <a:lnTo>
                    <a:pt x="116" y="71"/>
                  </a:lnTo>
                  <a:lnTo>
                    <a:pt x="116" y="74"/>
                  </a:lnTo>
                  <a:lnTo>
                    <a:pt x="118" y="3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1757520" y="5645160"/>
              <a:ext cx="675000" cy="27360"/>
            </a:xfrm>
            <a:custGeom>
              <a:avLst/>
              <a:gdLst/>
              <a:ahLst/>
              <a:rect l="0" t="0" r="r" b="b"/>
              <a:pathLst>
                <a:path fill="none" w="1875" h="76">
                  <a:moveTo>
                    <a:pt x="942" y="5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942" y="76"/>
                  </a:lnTo>
                  <a:lnTo>
                    <a:pt x="1875" y="28"/>
                  </a:lnTo>
                  <a:lnTo>
                    <a:pt x="1875" y="17"/>
                  </a:lnTo>
                  <a:lnTo>
                    <a:pt x="942" y="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1763640" y="5637240"/>
              <a:ext cx="9720" cy="43200"/>
            </a:xfrm>
            <a:custGeom>
              <a:avLst/>
              <a:gdLst/>
              <a:ahLst/>
              <a:rect l="0" t="0" r="r" b="b"/>
              <a:pathLst>
                <a:path fill="none" w="27" h="120">
                  <a:moveTo>
                    <a:pt x="15" y="114"/>
                  </a:moveTo>
                  <a:lnTo>
                    <a:pt x="18" y="109"/>
                  </a:lnTo>
                  <a:lnTo>
                    <a:pt x="21" y="102"/>
                  </a:lnTo>
                  <a:lnTo>
                    <a:pt x="22" y="96"/>
                  </a:lnTo>
                  <a:lnTo>
                    <a:pt x="24" y="89"/>
                  </a:lnTo>
                  <a:lnTo>
                    <a:pt x="26" y="84"/>
                  </a:lnTo>
                  <a:lnTo>
                    <a:pt x="26" y="77"/>
                  </a:lnTo>
                  <a:lnTo>
                    <a:pt x="27" y="71"/>
                  </a:lnTo>
                  <a:lnTo>
                    <a:pt x="27" y="63"/>
                  </a:lnTo>
                  <a:lnTo>
                    <a:pt x="27" y="56"/>
                  </a:lnTo>
                  <a:lnTo>
                    <a:pt x="27" y="50"/>
                  </a:lnTo>
                  <a:lnTo>
                    <a:pt x="26" y="43"/>
                  </a:lnTo>
                  <a:lnTo>
                    <a:pt x="26" y="37"/>
                  </a:lnTo>
                  <a:lnTo>
                    <a:pt x="25" y="30"/>
                  </a:lnTo>
                  <a:lnTo>
                    <a:pt x="24" y="24"/>
                  </a:lnTo>
                  <a:lnTo>
                    <a:pt x="21" y="17"/>
                  </a:lnTo>
                  <a:lnTo>
                    <a:pt x="18" y="12"/>
                  </a:lnTo>
                  <a:lnTo>
                    <a:pt x="17" y="6"/>
                  </a:lnTo>
                  <a:lnTo>
                    <a:pt x="12" y="0"/>
                  </a:lnTo>
                  <a:lnTo>
                    <a:pt x="9" y="6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8" y="109"/>
                  </a:lnTo>
                  <a:lnTo>
                    <a:pt x="10" y="114"/>
                  </a:lnTo>
                  <a:lnTo>
                    <a:pt x="12" y="120"/>
                  </a:lnTo>
                  <a:lnTo>
                    <a:pt x="15" y="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1785960" y="5638680"/>
              <a:ext cx="11520" cy="46440"/>
            </a:xfrm>
            <a:custGeom>
              <a:avLst/>
              <a:gdLst/>
              <a:ahLst/>
              <a:rect l="0" t="0" r="r" b="b"/>
              <a:pathLst>
                <a:path fill="none" w="32" h="129">
                  <a:moveTo>
                    <a:pt x="18" y="124"/>
                  </a:moveTo>
                  <a:lnTo>
                    <a:pt x="21" y="117"/>
                  </a:lnTo>
                  <a:lnTo>
                    <a:pt x="23" y="111"/>
                  </a:lnTo>
                  <a:lnTo>
                    <a:pt x="27" y="103"/>
                  </a:lnTo>
                  <a:lnTo>
                    <a:pt x="28" y="96"/>
                  </a:lnTo>
                  <a:lnTo>
                    <a:pt x="30" y="90"/>
                  </a:lnTo>
                  <a:lnTo>
                    <a:pt x="30" y="82"/>
                  </a:lnTo>
                  <a:lnTo>
                    <a:pt x="32" y="75"/>
                  </a:lnTo>
                  <a:lnTo>
                    <a:pt x="32" y="69"/>
                  </a:lnTo>
                  <a:lnTo>
                    <a:pt x="32" y="62"/>
                  </a:lnTo>
                  <a:lnTo>
                    <a:pt x="32" y="54"/>
                  </a:lnTo>
                  <a:lnTo>
                    <a:pt x="30" y="48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26"/>
                  </a:lnTo>
                  <a:lnTo>
                    <a:pt x="23" y="18"/>
                  </a:lnTo>
                  <a:lnTo>
                    <a:pt x="21" y="13"/>
                  </a:lnTo>
                  <a:lnTo>
                    <a:pt x="18" y="6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2" y="90"/>
                  </a:lnTo>
                  <a:lnTo>
                    <a:pt x="4" y="96"/>
                  </a:lnTo>
                  <a:lnTo>
                    <a:pt x="4" y="103"/>
                  </a:lnTo>
                  <a:lnTo>
                    <a:pt x="7" y="111"/>
                  </a:lnTo>
                  <a:lnTo>
                    <a:pt x="11" y="117"/>
                  </a:lnTo>
                  <a:lnTo>
                    <a:pt x="13" y="124"/>
                  </a:lnTo>
                  <a:lnTo>
                    <a:pt x="15" y="129"/>
                  </a:lnTo>
                  <a:lnTo>
                    <a:pt x="18" y="1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1811160" y="5638680"/>
              <a:ext cx="9720" cy="52920"/>
            </a:xfrm>
            <a:custGeom>
              <a:avLst/>
              <a:gdLst/>
              <a:ahLst/>
              <a:rect l="0" t="0" r="r" b="b"/>
              <a:pathLst>
                <a:path fill="none" w="27" h="147">
                  <a:moveTo>
                    <a:pt x="16" y="140"/>
                  </a:moveTo>
                  <a:lnTo>
                    <a:pt x="19" y="133"/>
                  </a:lnTo>
                  <a:lnTo>
                    <a:pt x="21" y="125"/>
                  </a:lnTo>
                  <a:lnTo>
                    <a:pt x="23" y="118"/>
                  </a:lnTo>
                  <a:lnTo>
                    <a:pt x="25" y="109"/>
                  </a:lnTo>
                  <a:lnTo>
                    <a:pt x="26" y="102"/>
                  </a:lnTo>
                  <a:lnTo>
                    <a:pt x="26" y="94"/>
                  </a:lnTo>
                  <a:lnTo>
                    <a:pt x="27" y="84"/>
                  </a:lnTo>
                  <a:lnTo>
                    <a:pt x="27" y="78"/>
                  </a:lnTo>
                  <a:lnTo>
                    <a:pt x="27" y="70"/>
                  </a:lnTo>
                  <a:lnTo>
                    <a:pt x="27" y="61"/>
                  </a:lnTo>
                  <a:lnTo>
                    <a:pt x="26" y="54"/>
                  </a:lnTo>
                  <a:lnTo>
                    <a:pt x="26" y="46"/>
                  </a:lnTo>
                  <a:lnTo>
                    <a:pt x="25" y="38"/>
                  </a:lnTo>
                  <a:lnTo>
                    <a:pt x="24" y="30"/>
                  </a:lnTo>
                  <a:lnTo>
                    <a:pt x="21" y="21"/>
                  </a:lnTo>
                  <a:lnTo>
                    <a:pt x="19" y="15"/>
                  </a:lnTo>
                  <a:lnTo>
                    <a:pt x="17" y="7"/>
                  </a:lnTo>
                  <a:lnTo>
                    <a:pt x="14" y="0"/>
                  </a:lnTo>
                  <a:lnTo>
                    <a:pt x="11" y="7"/>
                  </a:lnTo>
                  <a:lnTo>
                    <a:pt x="8" y="15"/>
                  </a:lnTo>
                  <a:lnTo>
                    <a:pt x="6" y="21"/>
                  </a:lnTo>
                  <a:lnTo>
                    <a:pt x="4" y="30"/>
                  </a:lnTo>
                  <a:lnTo>
                    <a:pt x="4" y="38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4" y="109"/>
                  </a:lnTo>
                  <a:lnTo>
                    <a:pt x="4" y="118"/>
                  </a:lnTo>
                  <a:lnTo>
                    <a:pt x="6" y="125"/>
                  </a:lnTo>
                  <a:lnTo>
                    <a:pt x="8" y="133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6" y="1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1838160" y="5638680"/>
              <a:ext cx="11520" cy="55800"/>
            </a:xfrm>
            <a:custGeom>
              <a:avLst/>
              <a:gdLst/>
              <a:ahLst/>
              <a:rect l="0" t="0" r="r" b="b"/>
              <a:pathLst>
                <a:path fill="none" w="32" h="155">
                  <a:moveTo>
                    <a:pt x="19" y="148"/>
                  </a:moveTo>
                  <a:lnTo>
                    <a:pt x="21" y="141"/>
                  </a:lnTo>
                  <a:lnTo>
                    <a:pt x="25" y="131"/>
                  </a:lnTo>
                  <a:lnTo>
                    <a:pt x="27" y="125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99"/>
                  </a:lnTo>
                  <a:lnTo>
                    <a:pt x="32" y="91"/>
                  </a:lnTo>
                  <a:lnTo>
                    <a:pt x="32" y="83"/>
                  </a:lnTo>
                  <a:lnTo>
                    <a:pt x="32" y="72"/>
                  </a:lnTo>
                  <a:lnTo>
                    <a:pt x="32" y="64"/>
                  </a:lnTo>
                  <a:lnTo>
                    <a:pt x="31" y="55"/>
                  </a:lnTo>
                  <a:lnTo>
                    <a:pt x="31" y="48"/>
                  </a:lnTo>
                  <a:lnTo>
                    <a:pt x="29" y="39"/>
                  </a:lnTo>
                  <a:lnTo>
                    <a:pt x="28" y="32"/>
                  </a:lnTo>
                  <a:lnTo>
                    <a:pt x="25" y="23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6" y="0"/>
                  </a:lnTo>
                  <a:lnTo>
                    <a:pt x="13" y="7"/>
                  </a:lnTo>
                  <a:lnTo>
                    <a:pt x="10" y="15"/>
                  </a:lnTo>
                  <a:lnTo>
                    <a:pt x="6" y="23"/>
                  </a:lnTo>
                  <a:lnTo>
                    <a:pt x="5" y="32"/>
                  </a:lnTo>
                  <a:lnTo>
                    <a:pt x="5" y="39"/>
                  </a:lnTo>
                  <a:lnTo>
                    <a:pt x="2" y="48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1" y="99"/>
                  </a:lnTo>
                  <a:lnTo>
                    <a:pt x="2" y="109"/>
                  </a:lnTo>
                  <a:lnTo>
                    <a:pt x="5" y="116"/>
                  </a:lnTo>
                  <a:lnTo>
                    <a:pt x="5" y="125"/>
                  </a:lnTo>
                  <a:lnTo>
                    <a:pt x="7" y="131"/>
                  </a:lnTo>
                  <a:lnTo>
                    <a:pt x="10" y="141"/>
                  </a:lnTo>
                  <a:lnTo>
                    <a:pt x="14" y="148"/>
                  </a:lnTo>
                  <a:lnTo>
                    <a:pt x="16" y="155"/>
                  </a:lnTo>
                  <a:lnTo>
                    <a:pt x="19" y="1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1957320" y="5638680"/>
              <a:ext cx="16200" cy="79560"/>
            </a:xfrm>
            <a:custGeom>
              <a:avLst/>
              <a:gdLst/>
              <a:ahLst/>
              <a:rect l="0" t="0" r="r" b="b"/>
              <a:pathLst>
                <a:path fill="none" w="45" h="221">
                  <a:moveTo>
                    <a:pt x="26" y="212"/>
                  </a:moveTo>
                  <a:lnTo>
                    <a:pt x="30" y="202"/>
                  </a:lnTo>
                  <a:lnTo>
                    <a:pt x="34" y="189"/>
                  </a:lnTo>
                  <a:lnTo>
                    <a:pt x="37" y="178"/>
                  </a:lnTo>
                  <a:lnTo>
                    <a:pt x="38" y="165"/>
                  </a:lnTo>
                  <a:lnTo>
                    <a:pt x="42" y="153"/>
                  </a:lnTo>
                  <a:lnTo>
                    <a:pt x="42" y="142"/>
                  </a:lnTo>
                  <a:lnTo>
                    <a:pt x="45" y="129"/>
                  </a:lnTo>
                  <a:lnTo>
                    <a:pt x="45" y="118"/>
                  </a:lnTo>
                  <a:lnTo>
                    <a:pt x="45" y="105"/>
                  </a:lnTo>
                  <a:lnTo>
                    <a:pt x="45" y="92"/>
                  </a:lnTo>
                  <a:lnTo>
                    <a:pt x="42" y="82"/>
                  </a:lnTo>
                  <a:lnTo>
                    <a:pt x="42" y="69"/>
                  </a:lnTo>
                  <a:lnTo>
                    <a:pt x="39" y="58"/>
                  </a:lnTo>
                  <a:lnTo>
                    <a:pt x="37" y="45"/>
                  </a:lnTo>
                  <a:lnTo>
                    <a:pt x="34" y="33"/>
                  </a:lnTo>
                  <a:lnTo>
                    <a:pt x="30" y="22"/>
                  </a:lnTo>
                  <a:lnTo>
                    <a:pt x="27" y="12"/>
                  </a:lnTo>
                  <a:lnTo>
                    <a:pt x="19" y="0"/>
                  </a:lnTo>
                  <a:lnTo>
                    <a:pt x="17" y="12"/>
                  </a:lnTo>
                  <a:lnTo>
                    <a:pt x="13" y="22"/>
                  </a:lnTo>
                  <a:lnTo>
                    <a:pt x="8" y="33"/>
                  </a:lnTo>
                  <a:lnTo>
                    <a:pt x="5" y="45"/>
                  </a:lnTo>
                  <a:lnTo>
                    <a:pt x="4" y="58"/>
                  </a:lnTo>
                  <a:lnTo>
                    <a:pt x="1" y="69"/>
                  </a:lnTo>
                  <a:lnTo>
                    <a:pt x="1" y="82"/>
                  </a:lnTo>
                  <a:lnTo>
                    <a:pt x="0" y="92"/>
                  </a:lnTo>
                  <a:lnTo>
                    <a:pt x="0" y="105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1" y="142"/>
                  </a:lnTo>
                  <a:lnTo>
                    <a:pt x="1" y="153"/>
                  </a:lnTo>
                  <a:lnTo>
                    <a:pt x="4" y="165"/>
                  </a:lnTo>
                  <a:lnTo>
                    <a:pt x="7" y="178"/>
                  </a:lnTo>
                  <a:lnTo>
                    <a:pt x="10" y="189"/>
                  </a:lnTo>
                  <a:lnTo>
                    <a:pt x="13" y="202"/>
                  </a:lnTo>
                  <a:lnTo>
                    <a:pt x="18" y="212"/>
                  </a:lnTo>
                  <a:lnTo>
                    <a:pt x="19" y="221"/>
                  </a:lnTo>
                  <a:lnTo>
                    <a:pt x="26" y="2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1987560" y="5640480"/>
              <a:ext cx="18000" cy="84600"/>
            </a:xfrm>
            <a:custGeom>
              <a:avLst/>
              <a:gdLst/>
              <a:ahLst/>
              <a:rect l="0" t="0" r="r" b="b"/>
              <a:pathLst>
                <a:path fill="none" w="50" h="235">
                  <a:moveTo>
                    <a:pt x="28" y="224"/>
                  </a:moveTo>
                  <a:lnTo>
                    <a:pt x="32" y="214"/>
                  </a:lnTo>
                  <a:lnTo>
                    <a:pt x="38" y="201"/>
                  </a:lnTo>
                  <a:lnTo>
                    <a:pt x="40" y="189"/>
                  </a:lnTo>
                  <a:lnTo>
                    <a:pt x="43" y="175"/>
                  </a:lnTo>
                  <a:lnTo>
                    <a:pt x="46" y="163"/>
                  </a:lnTo>
                  <a:lnTo>
                    <a:pt x="47" y="150"/>
                  </a:lnTo>
                  <a:lnTo>
                    <a:pt x="50" y="137"/>
                  </a:lnTo>
                  <a:lnTo>
                    <a:pt x="50" y="125"/>
                  </a:lnTo>
                  <a:lnTo>
                    <a:pt x="50" y="112"/>
                  </a:lnTo>
                  <a:lnTo>
                    <a:pt x="50" y="99"/>
                  </a:lnTo>
                  <a:lnTo>
                    <a:pt x="47" y="86"/>
                  </a:lnTo>
                  <a:lnTo>
                    <a:pt x="46" y="74"/>
                  </a:lnTo>
                  <a:lnTo>
                    <a:pt x="44" y="62"/>
                  </a:lnTo>
                  <a:lnTo>
                    <a:pt x="42" y="47"/>
                  </a:lnTo>
                  <a:lnTo>
                    <a:pt x="38" y="34"/>
                  </a:lnTo>
                  <a:lnTo>
                    <a:pt x="32" y="23"/>
                  </a:lnTo>
                  <a:lnTo>
                    <a:pt x="29" y="12"/>
                  </a:lnTo>
                  <a:lnTo>
                    <a:pt x="23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10" y="34"/>
                  </a:lnTo>
                  <a:lnTo>
                    <a:pt x="7" y="47"/>
                  </a:lnTo>
                  <a:lnTo>
                    <a:pt x="5" y="62"/>
                  </a:lnTo>
                  <a:lnTo>
                    <a:pt x="1" y="74"/>
                  </a:lnTo>
                  <a:lnTo>
                    <a:pt x="1" y="86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1" y="150"/>
                  </a:lnTo>
                  <a:lnTo>
                    <a:pt x="3" y="163"/>
                  </a:lnTo>
                  <a:lnTo>
                    <a:pt x="5" y="175"/>
                  </a:lnTo>
                  <a:lnTo>
                    <a:pt x="7" y="189"/>
                  </a:lnTo>
                  <a:lnTo>
                    <a:pt x="10" y="201"/>
                  </a:lnTo>
                  <a:lnTo>
                    <a:pt x="15" y="214"/>
                  </a:lnTo>
                  <a:lnTo>
                    <a:pt x="20" y="224"/>
                  </a:lnTo>
                  <a:lnTo>
                    <a:pt x="23" y="235"/>
                  </a:lnTo>
                  <a:lnTo>
                    <a:pt x="28" y="2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019240" y="5640480"/>
              <a:ext cx="18000" cy="90720"/>
            </a:xfrm>
            <a:custGeom>
              <a:avLst/>
              <a:gdLst/>
              <a:ahLst/>
              <a:rect l="0" t="0" r="r" b="b"/>
              <a:pathLst>
                <a:path fill="none" w="50" h="252">
                  <a:moveTo>
                    <a:pt x="28" y="242"/>
                  </a:moveTo>
                  <a:lnTo>
                    <a:pt x="33" y="231"/>
                  </a:lnTo>
                  <a:lnTo>
                    <a:pt x="36" y="215"/>
                  </a:lnTo>
                  <a:lnTo>
                    <a:pt x="41" y="203"/>
                  </a:lnTo>
                  <a:lnTo>
                    <a:pt x="43" y="188"/>
                  </a:lnTo>
                  <a:lnTo>
                    <a:pt x="47" y="176"/>
                  </a:lnTo>
                  <a:lnTo>
                    <a:pt x="48" y="162"/>
                  </a:lnTo>
                  <a:lnTo>
                    <a:pt x="50" y="147"/>
                  </a:lnTo>
                  <a:lnTo>
                    <a:pt x="50" y="134"/>
                  </a:lnTo>
                  <a:lnTo>
                    <a:pt x="50" y="120"/>
                  </a:lnTo>
                  <a:lnTo>
                    <a:pt x="50" y="105"/>
                  </a:lnTo>
                  <a:lnTo>
                    <a:pt x="48" y="93"/>
                  </a:lnTo>
                  <a:lnTo>
                    <a:pt x="47" y="79"/>
                  </a:lnTo>
                  <a:lnTo>
                    <a:pt x="44" y="65"/>
                  </a:lnTo>
                  <a:lnTo>
                    <a:pt x="41" y="52"/>
                  </a:lnTo>
                  <a:lnTo>
                    <a:pt x="36" y="38"/>
                  </a:lnTo>
                  <a:lnTo>
                    <a:pt x="33" y="25"/>
                  </a:lnTo>
                  <a:lnTo>
                    <a:pt x="29" y="13"/>
                  </a:lnTo>
                  <a:lnTo>
                    <a:pt x="23" y="0"/>
                  </a:lnTo>
                  <a:lnTo>
                    <a:pt x="19" y="13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6" y="52"/>
                  </a:lnTo>
                  <a:lnTo>
                    <a:pt x="5" y="65"/>
                  </a:lnTo>
                  <a:lnTo>
                    <a:pt x="1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5" y="188"/>
                  </a:lnTo>
                  <a:lnTo>
                    <a:pt x="7" y="203"/>
                  </a:lnTo>
                  <a:lnTo>
                    <a:pt x="11" y="215"/>
                  </a:lnTo>
                  <a:lnTo>
                    <a:pt x="16" y="231"/>
                  </a:lnTo>
                  <a:lnTo>
                    <a:pt x="19" y="242"/>
                  </a:lnTo>
                  <a:lnTo>
                    <a:pt x="23" y="252"/>
                  </a:lnTo>
                  <a:lnTo>
                    <a:pt x="28" y="2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057400" y="5640480"/>
              <a:ext cx="20880" cy="98640"/>
            </a:xfrm>
            <a:custGeom>
              <a:avLst/>
              <a:gdLst/>
              <a:ahLst/>
              <a:rect l="0" t="0" r="r" b="b"/>
              <a:pathLst>
                <a:path fill="none" w="58" h="274">
                  <a:moveTo>
                    <a:pt x="33" y="262"/>
                  </a:moveTo>
                  <a:lnTo>
                    <a:pt x="38" y="250"/>
                  </a:lnTo>
                  <a:lnTo>
                    <a:pt x="43" y="233"/>
                  </a:lnTo>
                  <a:lnTo>
                    <a:pt x="47" y="220"/>
                  </a:lnTo>
                  <a:lnTo>
                    <a:pt x="51" y="205"/>
                  </a:lnTo>
                  <a:lnTo>
                    <a:pt x="55" y="190"/>
                  </a:lnTo>
                  <a:lnTo>
                    <a:pt x="55" y="175"/>
                  </a:lnTo>
                  <a:lnTo>
                    <a:pt x="58" y="160"/>
                  </a:lnTo>
                  <a:lnTo>
                    <a:pt x="58" y="146"/>
                  </a:lnTo>
                  <a:lnTo>
                    <a:pt x="58" y="131"/>
                  </a:lnTo>
                  <a:lnTo>
                    <a:pt x="58" y="114"/>
                  </a:lnTo>
                  <a:lnTo>
                    <a:pt x="55" y="101"/>
                  </a:lnTo>
                  <a:lnTo>
                    <a:pt x="55" y="84"/>
                  </a:lnTo>
                  <a:lnTo>
                    <a:pt x="51" y="71"/>
                  </a:lnTo>
                  <a:lnTo>
                    <a:pt x="49" y="57"/>
                  </a:lnTo>
                  <a:lnTo>
                    <a:pt x="43" y="42"/>
                  </a:lnTo>
                  <a:lnTo>
                    <a:pt x="38" y="27"/>
                  </a:lnTo>
                  <a:lnTo>
                    <a:pt x="34" y="15"/>
                  </a:lnTo>
                  <a:lnTo>
                    <a:pt x="27" y="0"/>
                  </a:lnTo>
                  <a:lnTo>
                    <a:pt x="22" y="15"/>
                  </a:lnTo>
                  <a:lnTo>
                    <a:pt x="17" y="27"/>
                  </a:lnTo>
                  <a:lnTo>
                    <a:pt x="11" y="42"/>
                  </a:lnTo>
                  <a:lnTo>
                    <a:pt x="7" y="57"/>
                  </a:lnTo>
                  <a:lnTo>
                    <a:pt x="7" y="71"/>
                  </a:lnTo>
                  <a:lnTo>
                    <a:pt x="1" y="84"/>
                  </a:lnTo>
                  <a:lnTo>
                    <a:pt x="0" y="101"/>
                  </a:lnTo>
                  <a:lnTo>
                    <a:pt x="0" y="114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0"/>
                  </a:lnTo>
                  <a:lnTo>
                    <a:pt x="0" y="175"/>
                  </a:lnTo>
                  <a:lnTo>
                    <a:pt x="3" y="190"/>
                  </a:lnTo>
                  <a:lnTo>
                    <a:pt x="7" y="205"/>
                  </a:lnTo>
                  <a:lnTo>
                    <a:pt x="10" y="220"/>
                  </a:lnTo>
                  <a:lnTo>
                    <a:pt x="13" y="233"/>
                  </a:lnTo>
                  <a:lnTo>
                    <a:pt x="17" y="250"/>
                  </a:lnTo>
                  <a:lnTo>
                    <a:pt x="23" y="262"/>
                  </a:lnTo>
                  <a:lnTo>
                    <a:pt x="27" y="274"/>
                  </a:lnTo>
                  <a:lnTo>
                    <a:pt x="33" y="2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2100240" y="5699160"/>
              <a:ext cx="155880" cy="44640"/>
            </a:xfrm>
            <a:custGeom>
              <a:avLst/>
              <a:gdLst/>
              <a:ahLst/>
              <a:rect l="0" t="0" r="r" b="b"/>
              <a:pathLst>
                <a:path fill="none" w="433" h="124">
                  <a:moveTo>
                    <a:pt x="27" y="121"/>
                  </a:moveTo>
                  <a:lnTo>
                    <a:pt x="17" y="118"/>
                  </a:lnTo>
                  <a:lnTo>
                    <a:pt x="11" y="114"/>
                  </a:lnTo>
                  <a:lnTo>
                    <a:pt x="4" y="105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5" y="90"/>
                  </a:lnTo>
                  <a:lnTo>
                    <a:pt x="1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3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8" y="64"/>
                  </a:lnTo>
                  <a:lnTo>
                    <a:pt x="9" y="49"/>
                  </a:lnTo>
                  <a:lnTo>
                    <a:pt x="14" y="40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5" y="23"/>
                  </a:lnTo>
                  <a:lnTo>
                    <a:pt x="54" y="25"/>
                  </a:lnTo>
                  <a:lnTo>
                    <a:pt x="61" y="27"/>
                  </a:lnTo>
                  <a:lnTo>
                    <a:pt x="65" y="31"/>
                  </a:lnTo>
                  <a:lnTo>
                    <a:pt x="70" y="22"/>
                  </a:lnTo>
                  <a:lnTo>
                    <a:pt x="83" y="18"/>
                  </a:lnTo>
                  <a:lnTo>
                    <a:pt x="100" y="18"/>
                  </a:lnTo>
                  <a:lnTo>
                    <a:pt x="108" y="20"/>
                  </a:lnTo>
                  <a:lnTo>
                    <a:pt x="112" y="12"/>
                  </a:lnTo>
                  <a:lnTo>
                    <a:pt x="117" y="10"/>
                  </a:lnTo>
                  <a:lnTo>
                    <a:pt x="123" y="10"/>
                  </a:lnTo>
                  <a:lnTo>
                    <a:pt x="126" y="14"/>
                  </a:lnTo>
                  <a:lnTo>
                    <a:pt x="136" y="5"/>
                  </a:lnTo>
                  <a:lnTo>
                    <a:pt x="147" y="2"/>
                  </a:lnTo>
                  <a:lnTo>
                    <a:pt x="159" y="0"/>
                  </a:lnTo>
                  <a:lnTo>
                    <a:pt x="173" y="1"/>
                  </a:lnTo>
                  <a:lnTo>
                    <a:pt x="185" y="3"/>
                  </a:lnTo>
                  <a:lnTo>
                    <a:pt x="195" y="10"/>
                  </a:lnTo>
                  <a:lnTo>
                    <a:pt x="197" y="15"/>
                  </a:lnTo>
                  <a:lnTo>
                    <a:pt x="210" y="8"/>
                  </a:lnTo>
                  <a:lnTo>
                    <a:pt x="219" y="7"/>
                  </a:lnTo>
                  <a:lnTo>
                    <a:pt x="224" y="8"/>
                  </a:lnTo>
                  <a:lnTo>
                    <a:pt x="226" y="12"/>
                  </a:lnTo>
                  <a:lnTo>
                    <a:pt x="233" y="7"/>
                  </a:lnTo>
                  <a:lnTo>
                    <a:pt x="240" y="8"/>
                  </a:lnTo>
                  <a:lnTo>
                    <a:pt x="243" y="10"/>
                  </a:lnTo>
                  <a:lnTo>
                    <a:pt x="244" y="14"/>
                  </a:lnTo>
                  <a:lnTo>
                    <a:pt x="254" y="9"/>
                  </a:lnTo>
                  <a:lnTo>
                    <a:pt x="259" y="11"/>
                  </a:lnTo>
                  <a:lnTo>
                    <a:pt x="261" y="12"/>
                  </a:lnTo>
                  <a:lnTo>
                    <a:pt x="271" y="5"/>
                  </a:lnTo>
                  <a:lnTo>
                    <a:pt x="283" y="1"/>
                  </a:lnTo>
                  <a:lnTo>
                    <a:pt x="299" y="1"/>
                  </a:lnTo>
                  <a:lnTo>
                    <a:pt x="313" y="5"/>
                  </a:lnTo>
                  <a:lnTo>
                    <a:pt x="321" y="11"/>
                  </a:lnTo>
                  <a:lnTo>
                    <a:pt x="327" y="6"/>
                  </a:lnTo>
                  <a:lnTo>
                    <a:pt x="335" y="3"/>
                  </a:lnTo>
                  <a:lnTo>
                    <a:pt x="348" y="1"/>
                  </a:lnTo>
                  <a:lnTo>
                    <a:pt x="362" y="1"/>
                  </a:lnTo>
                  <a:lnTo>
                    <a:pt x="377" y="3"/>
                  </a:lnTo>
                  <a:lnTo>
                    <a:pt x="385" y="9"/>
                  </a:lnTo>
                  <a:lnTo>
                    <a:pt x="393" y="1"/>
                  </a:lnTo>
                  <a:lnTo>
                    <a:pt x="403" y="1"/>
                  </a:lnTo>
                  <a:lnTo>
                    <a:pt x="412" y="5"/>
                  </a:lnTo>
                  <a:lnTo>
                    <a:pt x="418" y="11"/>
                  </a:lnTo>
                  <a:lnTo>
                    <a:pt x="418" y="20"/>
                  </a:lnTo>
                  <a:lnTo>
                    <a:pt x="429" y="23"/>
                  </a:lnTo>
                  <a:lnTo>
                    <a:pt x="432" y="31"/>
                  </a:lnTo>
                  <a:lnTo>
                    <a:pt x="433" y="43"/>
                  </a:lnTo>
                  <a:lnTo>
                    <a:pt x="432" y="51"/>
                  </a:lnTo>
                  <a:lnTo>
                    <a:pt x="431" y="60"/>
                  </a:lnTo>
                  <a:lnTo>
                    <a:pt x="428" y="64"/>
                  </a:lnTo>
                  <a:lnTo>
                    <a:pt x="422" y="69"/>
                  </a:lnTo>
                  <a:lnTo>
                    <a:pt x="416" y="72"/>
                  </a:lnTo>
                  <a:lnTo>
                    <a:pt x="406" y="72"/>
                  </a:lnTo>
                  <a:lnTo>
                    <a:pt x="392" y="73"/>
                  </a:lnTo>
                  <a:lnTo>
                    <a:pt x="386" y="75"/>
                  </a:lnTo>
                  <a:lnTo>
                    <a:pt x="377" y="78"/>
                  </a:lnTo>
                  <a:lnTo>
                    <a:pt x="368" y="78"/>
                  </a:lnTo>
                  <a:lnTo>
                    <a:pt x="61" y="119"/>
                  </a:lnTo>
                  <a:lnTo>
                    <a:pt x="54" y="121"/>
                  </a:lnTo>
                  <a:lnTo>
                    <a:pt x="40" y="124"/>
                  </a:lnTo>
                  <a:lnTo>
                    <a:pt x="27" y="12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335320" y="5681520"/>
              <a:ext cx="103680" cy="30600"/>
            </a:xfrm>
            <a:custGeom>
              <a:avLst/>
              <a:gdLst/>
              <a:ahLst/>
              <a:rect l="0" t="0" r="r" b="b"/>
              <a:pathLst>
                <a:path fill="none" w="288" h="85">
                  <a:moveTo>
                    <a:pt x="1" y="77"/>
                  </a:moveTo>
                  <a:lnTo>
                    <a:pt x="5" y="81"/>
                  </a:lnTo>
                  <a:lnTo>
                    <a:pt x="11" y="82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5"/>
                  </a:lnTo>
                  <a:lnTo>
                    <a:pt x="19" y="85"/>
                  </a:lnTo>
                  <a:lnTo>
                    <a:pt x="277" y="49"/>
                  </a:lnTo>
                  <a:lnTo>
                    <a:pt x="283" y="45"/>
                  </a:lnTo>
                  <a:lnTo>
                    <a:pt x="287" y="38"/>
                  </a:lnTo>
                  <a:lnTo>
                    <a:pt x="288" y="33"/>
                  </a:lnTo>
                  <a:lnTo>
                    <a:pt x="288" y="28"/>
                  </a:lnTo>
                  <a:lnTo>
                    <a:pt x="287" y="28"/>
                  </a:lnTo>
                  <a:lnTo>
                    <a:pt x="287" y="19"/>
                  </a:lnTo>
                  <a:lnTo>
                    <a:pt x="284" y="15"/>
                  </a:lnTo>
                  <a:lnTo>
                    <a:pt x="282" y="13"/>
                  </a:lnTo>
                  <a:lnTo>
                    <a:pt x="280" y="16"/>
                  </a:lnTo>
                  <a:lnTo>
                    <a:pt x="276" y="7"/>
                  </a:lnTo>
                  <a:lnTo>
                    <a:pt x="269" y="3"/>
                  </a:lnTo>
                  <a:lnTo>
                    <a:pt x="261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49" y="3"/>
                  </a:lnTo>
                  <a:lnTo>
                    <a:pt x="239" y="1"/>
                  </a:lnTo>
                  <a:lnTo>
                    <a:pt x="228" y="1"/>
                  </a:lnTo>
                  <a:lnTo>
                    <a:pt x="220" y="7"/>
                  </a:lnTo>
                  <a:lnTo>
                    <a:pt x="213" y="13"/>
                  </a:lnTo>
                  <a:lnTo>
                    <a:pt x="207" y="4"/>
                  </a:lnTo>
                  <a:lnTo>
                    <a:pt x="194" y="0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162" y="9"/>
                  </a:lnTo>
                  <a:lnTo>
                    <a:pt x="158" y="13"/>
                  </a:lnTo>
                  <a:lnTo>
                    <a:pt x="149" y="11"/>
                  </a:lnTo>
                  <a:lnTo>
                    <a:pt x="145" y="13"/>
                  </a:lnTo>
                  <a:lnTo>
                    <a:pt x="143" y="19"/>
                  </a:lnTo>
                  <a:lnTo>
                    <a:pt x="135" y="11"/>
                  </a:lnTo>
                  <a:lnTo>
                    <a:pt x="122" y="10"/>
                  </a:lnTo>
                  <a:lnTo>
                    <a:pt x="111" y="11"/>
                  </a:lnTo>
                  <a:lnTo>
                    <a:pt x="108" y="16"/>
                  </a:lnTo>
                  <a:lnTo>
                    <a:pt x="102" y="24"/>
                  </a:lnTo>
                  <a:lnTo>
                    <a:pt x="95" y="20"/>
                  </a:lnTo>
                  <a:lnTo>
                    <a:pt x="84" y="24"/>
                  </a:lnTo>
                  <a:lnTo>
                    <a:pt x="80" y="28"/>
                  </a:lnTo>
                  <a:lnTo>
                    <a:pt x="71" y="20"/>
                  </a:lnTo>
                  <a:lnTo>
                    <a:pt x="54" y="19"/>
                  </a:lnTo>
                  <a:lnTo>
                    <a:pt x="32" y="23"/>
                  </a:lnTo>
                  <a:lnTo>
                    <a:pt x="17" y="28"/>
                  </a:lnTo>
                  <a:lnTo>
                    <a:pt x="5" y="38"/>
                  </a:lnTo>
                  <a:lnTo>
                    <a:pt x="1" y="47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1735200" y="5675400"/>
              <a:ext cx="760680" cy="95760"/>
            </a:xfrm>
            <a:custGeom>
              <a:avLst/>
              <a:gdLst/>
              <a:ahLst/>
              <a:rect l="0" t="0" r="r" b="b"/>
              <a:pathLst>
                <a:path fill="none" w="2113" h="266">
                  <a:moveTo>
                    <a:pt x="66" y="0"/>
                  </a:moveTo>
                  <a:lnTo>
                    <a:pt x="0" y="0"/>
                  </a:lnTo>
                  <a:lnTo>
                    <a:pt x="1003" y="266"/>
                  </a:lnTo>
                  <a:lnTo>
                    <a:pt x="2113" y="60"/>
                  </a:lnTo>
                  <a:lnTo>
                    <a:pt x="1935" y="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7" name=""/>
          <p:cNvSpPr/>
          <p:nvPr/>
        </p:nvSpPr>
        <p:spPr>
          <a:xfrm flipV="1">
            <a:off x="3489480" y="2136600"/>
            <a:ext cx="1585800" cy="2413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"/>
          <p:cNvSpPr/>
          <p:nvPr/>
        </p:nvSpPr>
        <p:spPr>
          <a:xfrm flipH="1" flipV="1">
            <a:off x="5132520" y="2147760"/>
            <a:ext cx="193680" cy="251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"/>
          <p:cNvSpPr/>
          <p:nvPr/>
        </p:nvSpPr>
        <p:spPr>
          <a:xfrm flipV="1">
            <a:off x="3238560" y="2125800"/>
            <a:ext cx="1801800" cy="241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"/>
          <p:cNvSpPr/>
          <p:nvPr/>
        </p:nvSpPr>
        <p:spPr>
          <a:xfrm>
            <a:off x="5235480" y="2111400"/>
            <a:ext cx="3473640" cy="229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"/>
          <p:cNvSpPr/>
          <p:nvPr/>
        </p:nvSpPr>
        <p:spPr>
          <a:xfrm flipH="1" flipV="1">
            <a:off x="5181480" y="2149560"/>
            <a:ext cx="1409760" cy="271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"/>
          <p:cNvSpPr/>
          <p:nvPr/>
        </p:nvSpPr>
        <p:spPr>
          <a:xfrm flipH="1" flipV="1">
            <a:off x="5211720" y="2141640"/>
            <a:ext cx="3192480" cy="2590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3" name=""/>
          <p:cNvGrpSpPr/>
          <p:nvPr/>
        </p:nvGrpSpPr>
        <p:grpSpPr>
          <a:xfrm>
            <a:off x="4560840" y="1854360"/>
            <a:ext cx="1146600" cy="240120"/>
            <a:chOff x="4560840" y="1854360"/>
            <a:chExt cx="1146600" cy="240120"/>
          </a:xfrm>
        </p:grpSpPr>
        <p:sp>
          <p:nvSpPr>
            <p:cNvPr id="6334" name=""/>
            <p:cNvSpPr/>
            <p:nvPr/>
          </p:nvSpPr>
          <p:spPr>
            <a:xfrm>
              <a:off x="5126040" y="1890720"/>
              <a:ext cx="95760" cy="163800"/>
            </a:xfrm>
            <a:custGeom>
              <a:avLst/>
              <a:gdLst/>
              <a:ahLst/>
              <a:rect l="0" t="0" r="r" b="b"/>
              <a:pathLst>
                <a:path fill="none" w="266" h="455">
                  <a:moveTo>
                    <a:pt x="266" y="70"/>
                  </a:moveTo>
                  <a:lnTo>
                    <a:pt x="159" y="433"/>
                  </a:lnTo>
                  <a:lnTo>
                    <a:pt x="22" y="455"/>
                  </a:lnTo>
                  <a:lnTo>
                    <a:pt x="0" y="57"/>
                  </a:lnTo>
                  <a:lnTo>
                    <a:pt x="26" y="39"/>
                  </a:lnTo>
                  <a:lnTo>
                    <a:pt x="80" y="17"/>
                  </a:lnTo>
                  <a:lnTo>
                    <a:pt x="142" y="0"/>
                  </a:lnTo>
                  <a:lnTo>
                    <a:pt x="181" y="17"/>
                  </a:lnTo>
                  <a:lnTo>
                    <a:pt x="240" y="48"/>
                  </a:lnTo>
                  <a:lnTo>
                    <a:pt x="266" y="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4560840" y="1916280"/>
              <a:ext cx="518040" cy="178200"/>
            </a:xfrm>
            <a:custGeom>
              <a:avLst/>
              <a:gdLst/>
              <a:ahLst/>
              <a:rect l="0" t="0" r="r" b="b"/>
              <a:pathLst>
                <a:path fill="none" w="1439" h="495">
                  <a:moveTo>
                    <a:pt x="154" y="26"/>
                  </a:moveTo>
                  <a:lnTo>
                    <a:pt x="706" y="52"/>
                  </a:lnTo>
                  <a:lnTo>
                    <a:pt x="1179" y="70"/>
                  </a:lnTo>
                  <a:lnTo>
                    <a:pt x="1439" y="495"/>
                  </a:lnTo>
                  <a:lnTo>
                    <a:pt x="816" y="478"/>
                  </a:lnTo>
                  <a:lnTo>
                    <a:pt x="605" y="44"/>
                  </a:lnTo>
                  <a:lnTo>
                    <a:pt x="834" y="469"/>
                  </a:lnTo>
                  <a:lnTo>
                    <a:pt x="185" y="469"/>
                  </a:lnTo>
                  <a:lnTo>
                    <a:pt x="0" y="0"/>
                  </a:lnTo>
                  <a:lnTo>
                    <a:pt x="154" y="2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191200" y="1924200"/>
              <a:ext cx="516240" cy="167040"/>
            </a:xfrm>
            <a:custGeom>
              <a:avLst/>
              <a:gdLst/>
              <a:ahLst/>
              <a:rect l="0" t="0" r="r" b="b"/>
              <a:pathLst>
                <a:path fill="none" w="1434" h="464">
                  <a:moveTo>
                    <a:pt x="149" y="0"/>
                  </a:moveTo>
                  <a:lnTo>
                    <a:pt x="705" y="22"/>
                  </a:lnTo>
                  <a:lnTo>
                    <a:pt x="1182" y="44"/>
                  </a:lnTo>
                  <a:lnTo>
                    <a:pt x="1434" y="464"/>
                  </a:lnTo>
                  <a:lnTo>
                    <a:pt x="821" y="441"/>
                  </a:lnTo>
                  <a:lnTo>
                    <a:pt x="608" y="13"/>
                  </a:lnTo>
                  <a:lnTo>
                    <a:pt x="838" y="441"/>
                  </a:lnTo>
                  <a:lnTo>
                    <a:pt x="229" y="424"/>
                  </a:lnTo>
                  <a:lnTo>
                    <a:pt x="0" y="4"/>
                  </a:lnTo>
                  <a:lnTo>
                    <a:pt x="14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5022720" y="1876320"/>
              <a:ext cx="116280" cy="203400"/>
            </a:xfrm>
            <a:custGeom>
              <a:avLst/>
              <a:gdLst/>
              <a:ahLst/>
              <a:rect l="0" t="0" r="r" b="b"/>
              <a:pathLst>
                <a:path fill="none" w="323" h="565">
                  <a:moveTo>
                    <a:pt x="137" y="0"/>
                  </a:moveTo>
                  <a:lnTo>
                    <a:pt x="323" y="251"/>
                  </a:lnTo>
                  <a:lnTo>
                    <a:pt x="168" y="565"/>
                  </a:lnTo>
                  <a:lnTo>
                    <a:pt x="0" y="322"/>
                  </a:lnTo>
                  <a:lnTo>
                    <a:pt x="1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8" name=""/>
            <p:cNvGrpSpPr/>
            <p:nvPr/>
          </p:nvGrpSpPr>
          <p:grpSpPr>
            <a:xfrm>
              <a:off x="5130720" y="2001960"/>
              <a:ext cx="77760" cy="71280"/>
              <a:chOff x="5130720" y="2001960"/>
              <a:chExt cx="77760" cy="71280"/>
            </a:xfrm>
          </p:grpSpPr>
          <p:sp>
            <p:nvSpPr>
              <p:cNvPr id="6339" name=""/>
              <p:cNvSpPr/>
              <p:nvPr/>
            </p:nvSpPr>
            <p:spPr>
              <a:xfrm>
                <a:off x="5130720" y="2001960"/>
                <a:ext cx="55440" cy="414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137200" y="2011320"/>
                <a:ext cx="55440" cy="428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146560" y="2022480"/>
                <a:ext cx="55440" cy="414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153040" y="2033640"/>
                <a:ext cx="55440" cy="396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168880" y="2048040"/>
                <a:ext cx="25560" cy="176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4" name=""/>
            <p:cNvSpPr/>
            <p:nvPr/>
          </p:nvSpPr>
          <p:spPr>
            <a:xfrm>
              <a:off x="5072040" y="1876320"/>
              <a:ext cx="95760" cy="93960"/>
            </a:xfrm>
            <a:custGeom>
              <a:avLst/>
              <a:gdLst/>
              <a:ahLst/>
              <a:rect l="0" t="0" r="r" b="b"/>
              <a:pathLst>
                <a:path fill="none" w="266" h="261">
                  <a:moveTo>
                    <a:pt x="0" y="0"/>
                  </a:moveTo>
                  <a:lnTo>
                    <a:pt x="89" y="4"/>
                  </a:lnTo>
                  <a:lnTo>
                    <a:pt x="266" y="261"/>
                  </a:lnTo>
                  <a:lnTo>
                    <a:pt x="186" y="2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5086440" y="1969920"/>
              <a:ext cx="82800" cy="117720"/>
            </a:xfrm>
            <a:custGeom>
              <a:avLst/>
              <a:gdLst/>
              <a:ahLst/>
              <a:rect l="0" t="0" r="r" b="b"/>
              <a:pathLst>
                <a:path fill="none" w="230" h="327">
                  <a:moveTo>
                    <a:pt x="230" y="4"/>
                  </a:moveTo>
                  <a:lnTo>
                    <a:pt x="83" y="327"/>
                  </a:lnTo>
                  <a:lnTo>
                    <a:pt x="0" y="309"/>
                  </a:lnTo>
                  <a:lnTo>
                    <a:pt x="146" y="0"/>
                  </a:lnTo>
                  <a:lnTo>
                    <a:pt x="15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5064120" y="1901880"/>
              <a:ext cx="27360" cy="51120"/>
            </a:xfrm>
            <a:custGeom>
              <a:avLst/>
              <a:gdLst/>
              <a:ahLst/>
              <a:rect l="0" t="0" r="r" b="b"/>
              <a:pathLst>
                <a:path fill="none" w="76" h="142">
                  <a:moveTo>
                    <a:pt x="0" y="70"/>
                  </a:moveTo>
                  <a:lnTo>
                    <a:pt x="31" y="0"/>
                  </a:lnTo>
                  <a:lnTo>
                    <a:pt x="76" y="75"/>
                  </a:lnTo>
                  <a:lnTo>
                    <a:pt x="49" y="142"/>
                  </a:lnTo>
                  <a:lnTo>
                    <a:pt x="0" y="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91120" y="1940040"/>
              <a:ext cx="28800" cy="52920"/>
            </a:xfrm>
            <a:custGeom>
              <a:avLst/>
              <a:gdLst/>
              <a:ahLst/>
              <a:rect l="0" t="0" r="r" b="b"/>
              <a:pathLst>
                <a:path fill="none" w="80" h="147">
                  <a:moveTo>
                    <a:pt x="0" y="75"/>
                  </a:moveTo>
                  <a:lnTo>
                    <a:pt x="30" y="0"/>
                  </a:lnTo>
                  <a:lnTo>
                    <a:pt x="80" y="80"/>
                  </a:lnTo>
                  <a:lnTo>
                    <a:pt x="53" y="147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76720" y="1971720"/>
              <a:ext cx="28800" cy="52920"/>
            </a:xfrm>
            <a:custGeom>
              <a:avLst/>
              <a:gdLst/>
              <a:ahLst/>
              <a:rect l="0" t="0" r="r" b="b"/>
              <a:pathLst>
                <a:path fill="none" w="80" h="147">
                  <a:moveTo>
                    <a:pt x="0" y="75"/>
                  </a:moveTo>
                  <a:lnTo>
                    <a:pt x="35" y="0"/>
                  </a:lnTo>
                  <a:lnTo>
                    <a:pt x="80" y="71"/>
                  </a:lnTo>
                  <a:lnTo>
                    <a:pt x="45" y="147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064120" y="2001960"/>
              <a:ext cx="28800" cy="51120"/>
            </a:xfrm>
            <a:custGeom>
              <a:avLst/>
              <a:gdLst/>
              <a:ahLst/>
              <a:rect l="0" t="0" r="r" b="b"/>
              <a:pathLst>
                <a:path fill="none" w="80" h="142">
                  <a:moveTo>
                    <a:pt x="0" y="75"/>
                  </a:moveTo>
                  <a:lnTo>
                    <a:pt x="35" y="0"/>
                  </a:lnTo>
                  <a:lnTo>
                    <a:pt x="80" y="75"/>
                  </a:lnTo>
                  <a:lnTo>
                    <a:pt x="45" y="142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037120" y="1967040"/>
              <a:ext cx="32040" cy="47880"/>
            </a:xfrm>
            <a:custGeom>
              <a:avLst/>
              <a:gdLst/>
              <a:ahLst/>
              <a:rect l="0" t="0" r="r" b="b"/>
              <a:pathLst>
                <a:path fill="none" w="89" h="133">
                  <a:moveTo>
                    <a:pt x="0" y="67"/>
                  </a:moveTo>
                  <a:lnTo>
                    <a:pt x="39" y="0"/>
                  </a:lnTo>
                  <a:lnTo>
                    <a:pt x="89" y="67"/>
                  </a:lnTo>
                  <a:lnTo>
                    <a:pt x="49" y="133"/>
                  </a:lnTo>
                  <a:lnTo>
                    <a:pt x="0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4986360" y="1947960"/>
              <a:ext cx="92520" cy="146520"/>
            </a:xfrm>
            <a:custGeom>
              <a:avLst/>
              <a:gdLst/>
              <a:ahLst/>
              <a:rect l="0" t="0" r="r" b="b"/>
              <a:pathLst>
                <a:path fill="none" w="257" h="407">
                  <a:moveTo>
                    <a:pt x="244" y="407"/>
                  </a:moveTo>
                  <a:lnTo>
                    <a:pt x="257" y="128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191200" y="1925640"/>
              <a:ext cx="87840" cy="146520"/>
            </a:xfrm>
            <a:custGeom>
              <a:avLst/>
              <a:gdLst/>
              <a:ahLst/>
              <a:rect l="0" t="0" r="r" b="b"/>
              <a:pathLst>
                <a:path fill="none" w="244" h="407">
                  <a:moveTo>
                    <a:pt x="244" y="407"/>
                  </a:moveTo>
                  <a:lnTo>
                    <a:pt x="0" y="195"/>
                  </a:lnTo>
                  <a:lnTo>
                    <a:pt x="26" y="0"/>
                  </a:lnTo>
                </a:path>
              </a:pathLst>
            </a:custGeom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5106960" y="1854360"/>
              <a:ext cx="116280" cy="59040"/>
            </a:xfrm>
            <a:custGeom>
              <a:avLst/>
              <a:gdLst/>
              <a:ahLst/>
              <a:rect l="0" t="0" r="r" b="b"/>
              <a:pathLst>
                <a:path fill="none" w="323" h="164">
                  <a:moveTo>
                    <a:pt x="0" y="61"/>
                  </a:moveTo>
                  <a:lnTo>
                    <a:pt x="66" y="17"/>
                  </a:lnTo>
                  <a:lnTo>
                    <a:pt x="128" y="0"/>
                  </a:lnTo>
                  <a:lnTo>
                    <a:pt x="190" y="4"/>
                  </a:lnTo>
                  <a:lnTo>
                    <a:pt x="239" y="39"/>
                  </a:lnTo>
                  <a:lnTo>
                    <a:pt x="257" y="66"/>
                  </a:lnTo>
                  <a:lnTo>
                    <a:pt x="323" y="164"/>
                  </a:lnTo>
                  <a:lnTo>
                    <a:pt x="270" y="124"/>
                  </a:lnTo>
                  <a:lnTo>
                    <a:pt x="199" y="98"/>
                  </a:lnTo>
                  <a:lnTo>
                    <a:pt x="146" y="102"/>
                  </a:lnTo>
                  <a:lnTo>
                    <a:pt x="89" y="137"/>
                  </a:lnTo>
                  <a:lnTo>
                    <a:pt x="52" y="1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4" name=""/>
            <p:cNvGrpSpPr/>
            <p:nvPr/>
          </p:nvGrpSpPr>
          <p:grpSpPr>
            <a:xfrm>
              <a:off x="5176800" y="1933560"/>
              <a:ext cx="50760" cy="48960"/>
              <a:chOff x="5176800" y="1933560"/>
              <a:chExt cx="50760" cy="48960"/>
            </a:xfrm>
          </p:grpSpPr>
          <p:sp>
            <p:nvSpPr>
              <p:cNvPr id="6355" name=""/>
              <p:cNvSpPr/>
              <p:nvPr/>
            </p:nvSpPr>
            <p:spPr>
              <a:xfrm>
                <a:off x="5176800" y="1933560"/>
                <a:ext cx="34920" cy="302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5181480" y="1938240"/>
                <a:ext cx="34920" cy="302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5186520" y="1946160"/>
                <a:ext cx="3492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5192640" y="1954080"/>
                <a:ext cx="3492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5199120" y="1962000"/>
                <a:ext cx="1908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0" name=""/>
            <p:cNvGrpSpPr/>
            <p:nvPr/>
          </p:nvGrpSpPr>
          <p:grpSpPr>
            <a:xfrm>
              <a:off x="5162400" y="1893960"/>
              <a:ext cx="46440" cy="44640"/>
              <a:chOff x="5162400" y="1893960"/>
              <a:chExt cx="46440" cy="44640"/>
            </a:xfrm>
          </p:grpSpPr>
          <p:sp>
            <p:nvSpPr>
              <p:cNvPr id="6361" name=""/>
              <p:cNvSpPr/>
              <p:nvPr/>
            </p:nvSpPr>
            <p:spPr>
              <a:xfrm>
                <a:off x="5162400" y="1893960"/>
                <a:ext cx="3348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165640" y="1900080"/>
                <a:ext cx="3348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170320" y="1906560"/>
                <a:ext cx="3348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175360" y="1913040"/>
                <a:ext cx="3348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187960" y="1920960"/>
                <a:ext cx="1584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6" name=""/>
            <p:cNvGrpSpPr/>
            <p:nvPr/>
          </p:nvGrpSpPr>
          <p:grpSpPr>
            <a:xfrm>
              <a:off x="5137200" y="1916280"/>
              <a:ext cx="49320" cy="47520"/>
              <a:chOff x="5137200" y="1916280"/>
              <a:chExt cx="49320" cy="47520"/>
            </a:xfrm>
          </p:grpSpPr>
          <p:sp>
            <p:nvSpPr>
              <p:cNvPr id="6367" name=""/>
              <p:cNvSpPr/>
              <p:nvPr/>
            </p:nvSpPr>
            <p:spPr>
              <a:xfrm>
                <a:off x="5137200" y="191628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141880" y="192420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5146560" y="192888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151600" y="193680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5159520" y="1943280"/>
                <a:ext cx="15840" cy="1260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2" name=""/>
            <p:cNvGrpSpPr/>
            <p:nvPr/>
          </p:nvGrpSpPr>
          <p:grpSpPr>
            <a:xfrm>
              <a:off x="5167440" y="1979640"/>
              <a:ext cx="48960" cy="47520"/>
              <a:chOff x="5167440" y="1979640"/>
              <a:chExt cx="48960" cy="47520"/>
            </a:xfrm>
          </p:grpSpPr>
          <p:sp>
            <p:nvSpPr>
              <p:cNvPr id="6373" name=""/>
              <p:cNvSpPr/>
              <p:nvPr/>
            </p:nvSpPr>
            <p:spPr>
              <a:xfrm>
                <a:off x="5167440" y="1979640"/>
                <a:ext cx="3636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5172120" y="1987560"/>
                <a:ext cx="3636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5176800" y="1994040"/>
                <a:ext cx="3636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5180040" y="2000160"/>
                <a:ext cx="3636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5189400" y="2006640"/>
                <a:ext cx="1584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8" name=""/>
          <p:cNvSpPr/>
          <p:nvPr/>
        </p:nvSpPr>
        <p:spPr>
          <a:xfrm flipV="1">
            <a:off x="1957320" y="2144880"/>
            <a:ext cx="2978280" cy="1571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9" name="" descr=""/>
          <p:cNvPicPr/>
          <p:nvPr/>
        </p:nvPicPr>
        <p:blipFill>
          <a:blip r:embed="rId7"/>
          <a:stretch/>
        </p:blipFill>
        <p:spPr>
          <a:xfrm>
            <a:off x="7994520" y="5114880"/>
            <a:ext cx="463680" cy="365040"/>
          </a:xfrm>
          <a:prstGeom prst="rect">
            <a:avLst/>
          </a:prstGeom>
          <a:ln w="0">
            <a:noFill/>
          </a:ln>
        </p:spPr>
      </p:pic>
      <p:sp>
        <p:nvSpPr>
          <p:cNvPr id="6380" name=""/>
          <p:cNvSpPr txBox="1"/>
          <p:nvPr/>
        </p:nvSpPr>
        <p:spPr>
          <a:xfrm>
            <a:off x="8464680" y="5221440"/>
            <a:ext cx="2890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1" name=""/>
          <p:cNvSpPr txBox="1"/>
          <p:nvPr/>
        </p:nvSpPr>
        <p:spPr>
          <a:xfrm>
            <a:off x="7051680" y="4815000"/>
            <a:ext cx="614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-Theat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j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2" name=""/>
          <p:cNvSpPr txBox="1"/>
          <p:nvPr/>
        </p:nvSpPr>
        <p:spPr>
          <a:xfrm>
            <a:off x="6996240" y="6211800"/>
            <a:ext cx="995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at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3" name=""/>
          <p:cNvSpPr/>
          <p:nvPr/>
        </p:nvSpPr>
        <p:spPr>
          <a:xfrm flipV="1">
            <a:off x="5481720" y="57960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4" name=""/>
          <p:cNvSpPr txBox="1"/>
          <p:nvPr/>
        </p:nvSpPr>
        <p:spPr>
          <a:xfrm>
            <a:off x="8556480" y="5942160"/>
            <a:ext cx="3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5" name=""/>
          <p:cNvSpPr txBox="1"/>
          <p:nvPr/>
        </p:nvSpPr>
        <p:spPr>
          <a:xfrm>
            <a:off x="8337600" y="4764240"/>
            <a:ext cx="5508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6" name=""/>
          <p:cNvSpPr/>
          <p:nvPr/>
        </p:nvSpPr>
        <p:spPr>
          <a:xfrm flipH="1" flipV="1">
            <a:off x="5318280" y="2286000"/>
            <a:ext cx="1398600" cy="2473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7" name=""/>
          <p:cNvSpPr txBox="1"/>
          <p:nvPr/>
        </p:nvSpPr>
        <p:spPr>
          <a:xfrm>
            <a:off x="749160" y="2013120"/>
            <a:ext cx="1446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tellite Control Fac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8" name=""/>
          <p:cNvGrpSpPr/>
          <p:nvPr/>
        </p:nvGrpSpPr>
        <p:grpSpPr>
          <a:xfrm>
            <a:off x="792000" y="2217600"/>
            <a:ext cx="1360440" cy="446040"/>
            <a:chOff x="792000" y="2217600"/>
            <a:chExt cx="1360440" cy="446040"/>
          </a:xfrm>
        </p:grpSpPr>
        <p:pic>
          <p:nvPicPr>
            <p:cNvPr id="6389" name="" descr=""/>
            <p:cNvPicPr/>
            <p:nvPr/>
          </p:nvPicPr>
          <p:blipFill>
            <a:blip r:embed="rId8"/>
            <a:stretch/>
          </p:blipFill>
          <p:spPr>
            <a:xfrm>
              <a:off x="792000" y="2244600"/>
              <a:ext cx="9334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0" name="" descr=""/>
            <p:cNvPicPr/>
            <p:nvPr/>
          </p:nvPicPr>
          <p:blipFill>
            <a:blip r:embed="rId9"/>
            <a:stretch/>
          </p:blipFill>
          <p:spPr>
            <a:xfrm>
              <a:off x="1844640" y="2217600"/>
              <a:ext cx="30780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1" name=""/>
          <p:cNvSpPr/>
          <p:nvPr/>
        </p:nvSpPr>
        <p:spPr>
          <a:xfrm flipV="1">
            <a:off x="2209680" y="2027160"/>
            <a:ext cx="2278080" cy="266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2" name=""/>
          <p:cNvSpPr/>
          <p:nvPr/>
        </p:nvSpPr>
        <p:spPr>
          <a:xfrm>
            <a:off x="5578560" y="6469200"/>
            <a:ext cx="3054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3" name=""/>
          <p:cNvSpPr/>
          <p:nvPr/>
        </p:nvSpPr>
        <p:spPr>
          <a:xfrm flipV="1">
            <a:off x="5402160" y="6340320"/>
            <a:ext cx="138240" cy="25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4" name=""/>
          <p:cNvSpPr/>
          <p:nvPr/>
        </p:nvSpPr>
        <p:spPr>
          <a:xfrm flipV="1">
            <a:off x="5500800" y="6340320"/>
            <a:ext cx="137880" cy="25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5" name=""/>
          <p:cNvSpPr txBox="1"/>
          <p:nvPr/>
        </p:nvSpPr>
        <p:spPr>
          <a:xfrm>
            <a:off x="6083280" y="6507000"/>
            <a:ext cx="19684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loyable Comm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6" name=""/>
          <p:cNvGrpSpPr/>
          <p:nvPr/>
        </p:nvGrpSpPr>
        <p:grpSpPr>
          <a:xfrm>
            <a:off x="6726240" y="4776840"/>
            <a:ext cx="290880" cy="383040"/>
            <a:chOff x="6726240" y="4776840"/>
            <a:chExt cx="290880" cy="383040"/>
          </a:xfrm>
        </p:grpSpPr>
        <p:sp>
          <p:nvSpPr>
            <p:cNvPr id="6397" name=""/>
            <p:cNvSpPr/>
            <p:nvPr/>
          </p:nvSpPr>
          <p:spPr>
            <a:xfrm>
              <a:off x="6856560" y="4905360"/>
              <a:ext cx="160560" cy="254520"/>
            </a:xfrm>
            <a:custGeom>
              <a:avLst/>
              <a:gdLst/>
              <a:ahLst/>
              <a:rect l="0" t="0" r="r" b="b"/>
              <a:pathLst>
                <a:path fill="none" w="446" h="707">
                  <a:moveTo>
                    <a:pt x="0" y="707"/>
                  </a:moveTo>
                  <a:lnTo>
                    <a:pt x="446" y="707"/>
                  </a:lnTo>
                  <a:lnTo>
                    <a:pt x="222" y="0"/>
                  </a:lnTo>
                  <a:lnTo>
                    <a:pt x="0" y="70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8" name=""/>
            <p:cNvGrpSpPr/>
            <p:nvPr/>
          </p:nvGrpSpPr>
          <p:grpSpPr>
            <a:xfrm>
              <a:off x="6807240" y="4776840"/>
              <a:ext cx="176400" cy="273240"/>
              <a:chOff x="6807240" y="4776840"/>
              <a:chExt cx="176400" cy="273240"/>
            </a:xfrm>
          </p:grpSpPr>
          <p:sp>
            <p:nvSpPr>
              <p:cNvPr id="6399" name=""/>
              <p:cNvSpPr/>
              <p:nvPr/>
            </p:nvSpPr>
            <p:spPr>
              <a:xfrm>
                <a:off x="6807240" y="4778280"/>
                <a:ext cx="176400" cy="271800"/>
              </a:xfrm>
              <a:custGeom>
                <a:avLst/>
                <a:gdLst/>
                <a:ahLst/>
                <a:rect l="0" t="0" r="r" b="b"/>
                <a:pathLst>
                  <a:path fill="none" w="490" h="755">
                    <a:moveTo>
                      <a:pt x="475" y="23"/>
                    </a:moveTo>
                    <a:lnTo>
                      <a:pt x="478" y="47"/>
                    </a:lnTo>
                    <a:lnTo>
                      <a:pt x="484" y="76"/>
                    </a:lnTo>
                    <a:lnTo>
                      <a:pt x="490" y="103"/>
                    </a:lnTo>
                    <a:lnTo>
                      <a:pt x="490" y="133"/>
                    </a:lnTo>
                    <a:lnTo>
                      <a:pt x="484" y="171"/>
                    </a:lnTo>
                    <a:lnTo>
                      <a:pt x="475" y="218"/>
                    </a:lnTo>
                    <a:lnTo>
                      <a:pt x="463" y="275"/>
                    </a:lnTo>
                    <a:lnTo>
                      <a:pt x="445" y="331"/>
                    </a:lnTo>
                    <a:lnTo>
                      <a:pt x="420" y="394"/>
                    </a:lnTo>
                    <a:lnTo>
                      <a:pt x="375" y="462"/>
                    </a:lnTo>
                    <a:lnTo>
                      <a:pt x="327" y="530"/>
                    </a:lnTo>
                    <a:lnTo>
                      <a:pt x="288" y="574"/>
                    </a:lnTo>
                    <a:lnTo>
                      <a:pt x="238" y="621"/>
                    </a:lnTo>
                    <a:lnTo>
                      <a:pt x="184" y="666"/>
                    </a:lnTo>
                    <a:lnTo>
                      <a:pt x="142" y="701"/>
                    </a:lnTo>
                    <a:lnTo>
                      <a:pt x="96" y="725"/>
                    </a:lnTo>
                    <a:lnTo>
                      <a:pt x="63" y="740"/>
                    </a:lnTo>
                    <a:lnTo>
                      <a:pt x="39" y="755"/>
                    </a:lnTo>
                    <a:lnTo>
                      <a:pt x="15" y="755"/>
                    </a:lnTo>
                    <a:lnTo>
                      <a:pt x="0" y="743"/>
                    </a:lnTo>
                    <a:lnTo>
                      <a:pt x="454" y="0"/>
                    </a:lnTo>
                    <a:lnTo>
                      <a:pt x="475" y="2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6807240" y="4776840"/>
                <a:ext cx="165600" cy="268560"/>
              </a:xfrm>
              <a:custGeom>
                <a:avLst/>
                <a:gdLst/>
                <a:ahLst/>
                <a:rect l="0" t="0" r="r" b="b"/>
                <a:pathLst>
                  <a:path fill="none" w="460" h="746">
                    <a:moveTo>
                      <a:pt x="454" y="0"/>
                    </a:moveTo>
                    <a:lnTo>
                      <a:pt x="460" y="11"/>
                    </a:lnTo>
                    <a:lnTo>
                      <a:pt x="460" y="47"/>
                    </a:lnTo>
                    <a:lnTo>
                      <a:pt x="460" y="88"/>
                    </a:lnTo>
                    <a:lnTo>
                      <a:pt x="454" y="115"/>
                    </a:lnTo>
                    <a:lnTo>
                      <a:pt x="451" y="153"/>
                    </a:lnTo>
                    <a:lnTo>
                      <a:pt x="439" y="204"/>
                    </a:lnTo>
                    <a:lnTo>
                      <a:pt x="430" y="254"/>
                    </a:lnTo>
                    <a:lnTo>
                      <a:pt x="409" y="316"/>
                    </a:lnTo>
                    <a:lnTo>
                      <a:pt x="376" y="388"/>
                    </a:lnTo>
                    <a:lnTo>
                      <a:pt x="332" y="444"/>
                    </a:lnTo>
                    <a:lnTo>
                      <a:pt x="287" y="506"/>
                    </a:lnTo>
                    <a:lnTo>
                      <a:pt x="248" y="556"/>
                    </a:lnTo>
                    <a:lnTo>
                      <a:pt x="221" y="586"/>
                    </a:lnTo>
                    <a:lnTo>
                      <a:pt x="191" y="616"/>
                    </a:lnTo>
                    <a:lnTo>
                      <a:pt x="160" y="642"/>
                    </a:lnTo>
                    <a:lnTo>
                      <a:pt x="127" y="675"/>
                    </a:lnTo>
                    <a:lnTo>
                      <a:pt x="96" y="695"/>
                    </a:lnTo>
                    <a:lnTo>
                      <a:pt x="69" y="713"/>
                    </a:lnTo>
                    <a:lnTo>
                      <a:pt x="45" y="728"/>
                    </a:lnTo>
                    <a:lnTo>
                      <a:pt x="18" y="743"/>
                    </a:lnTo>
                    <a:lnTo>
                      <a:pt x="6" y="746"/>
                    </a:lnTo>
                    <a:lnTo>
                      <a:pt x="0" y="734"/>
                    </a:lnTo>
                    <a:lnTo>
                      <a:pt x="0" y="719"/>
                    </a:lnTo>
                    <a:lnTo>
                      <a:pt x="6" y="704"/>
                    </a:lnTo>
                    <a:lnTo>
                      <a:pt x="9" y="669"/>
                    </a:lnTo>
                    <a:lnTo>
                      <a:pt x="18" y="630"/>
                    </a:lnTo>
                    <a:lnTo>
                      <a:pt x="24" y="592"/>
                    </a:lnTo>
                    <a:lnTo>
                      <a:pt x="39" y="548"/>
                    </a:lnTo>
                    <a:lnTo>
                      <a:pt x="54" y="500"/>
                    </a:lnTo>
                    <a:lnTo>
                      <a:pt x="69" y="465"/>
                    </a:lnTo>
                    <a:lnTo>
                      <a:pt x="84" y="429"/>
                    </a:lnTo>
                    <a:lnTo>
                      <a:pt x="102" y="391"/>
                    </a:lnTo>
                    <a:lnTo>
                      <a:pt x="127" y="348"/>
                    </a:lnTo>
                    <a:lnTo>
                      <a:pt x="151" y="310"/>
                    </a:lnTo>
                    <a:lnTo>
                      <a:pt x="191" y="257"/>
                    </a:lnTo>
                    <a:lnTo>
                      <a:pt x="221" y="221"/>
                    </a:lnTo>
                    <a:lnTo>
                      <a:pt x="260" y="174"/>
                    </a:lnTo>
                    <a:lnTo>
                      <a:pt x="299" y="136"/>
                    </a:lnTo>
                    <a:lnTo>
                      <a:pt x="332" y="103"/>
                    </a:lnTo>
                    <a:lnTo>
                      <a:pt x="367" y="70"/>
                    </a:lnTo>
                    <a:lnTo>
                      <a:pt x="397" y="41"/>
                    </a:lnTo>
                    <a:lnTo>
                      <a:pt x="415" y="23"/>
                    </a:lnTo>
                    <a:lnTo>
                      <a:pt x="439" y="8"/>
                    </a:lnTo>
                    <a:lnTo>
                      <a:pt x="454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1" name=""/>
            <p:cNvSpPr/>
            <p:nvPr/>
          </p:nvSpPr>
          <p:spPr>
            <a:xfrm>
              <a:off x="6797520" y="4782960"/>
              <a:ext cx="51120" cy="184680"/>
            </a:xfrm>
            <a:custGeom>
              <a:avLst/>
              <a:gdLst/>
              <a:ahLst/>
              <a:rect l="0" t="0" r="r" b="b"/>
              <a:pathLst>
                <a:path fill="none" w="142" h="513">
                  <a:moveTo>
                    <a:pt x="142" y="513"/>
                  </a:moveTo>
                  <a:lnTo>
                    <a:pt x="0" y="513"/>
                  </a:lnTo>
                  <a:lnTo>
                    <a:pt x="70" y="0"/>
                  </a:lnTo>
                  <a:lnTo>
                    <a:pt x="142" y="5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6726240" y="4819680"/>
              <a:ext cx="63360" cy="2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3" name=""/>
          <p:cNvSpPr/>
          <p:nvPr/>
        </p:nvSpPr>
        <p:spPr>
          <a:xfrm>
            <a:off x="352440" y="2133720"/>
            <a:ext cx="1816560" cy="4361400"/>
          </a:xfrm>
          <a:custGeom>
            <a:avLst/>
            <a:gdLst/>
            <a:ahLst/>
            <a:rect l="0" t="0" r="r" b="b"/>
            <a:pathLst>
              <a:path fill="none" w="5046" h="12115">
                <a:moveTo>
                  <a:pt x="5046" y="0"/>
                </a:moveTo>
                <a:lnTo>
                  <a:pt x="5046" y="7228"/>
                </a:lnTo>
                <a:lnTo>
                  <a:pt x="3321" y="12115"/>
                </a:lnTo>
                <a:lnTo>
                  <a:pt x="3224" y="9901"/>
                </a:lnTo>
                <a:lnTo>
                  <a:pt x="0" y="9901"/>
                </a:lnTo>
                <a:lnTo>
                  <a:pt x="5046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2192400" y="4724280"/>
            <a:ext cx="5264640" cy="668520"/>
          </a:xfrm>
          <a:custGeom>
            <a:avLst/>
            <a:gdLst/>
            <a:ahLst/>
            <a:rect l="0" t="0" r="r" b="b"/>
            <a:pathLst>
              <a:path fill="none" w="14624" h="1857">
                <a:moveTo>
                  <a:pt x="0" y="0"/>
                </a:moveTo>
                <a:lnTo>
                  <a:pt x="14624" y="0"/>
                </a:lnTo>
                <a:lnTo>
                  <a:pt x="11626" y="1857"/>
                </a:lnTo>
                <a:lnTo>
                  <a:pt x="7554" y="1857"/>
                </a:lnTo>
                <a:lnTo>
                  <a:pt x="0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5" name=""/>
          <p:cNvSpPr/>
          <p:nvPr/>
        </p:nvSpPr>
        <p:spPr>
          <a:xfrm>
            <a:off x="363600" y="5721480"/>
            <a:ext cx="1171440" cy="773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6" name="" descr=""/>
          <p:cNvPicPr/>
          <p:nvPr/>
        </p:nvPicPr>
        <p:blipFill>
          <a:blip r:embed="rId10"/>
          <a:stretch/>
        </p:blipFill>
        <p:spPr>
          <a:xfrm>
            <a:off x="449280" y="5796000"/>
            <a:ext cx="933480" cy="419040"/>
          </a:xfrm>
          <a:prstGeom prst="rect">
            <a:avLst/>
          </a:prstGeom>
          <a:ln w="0">
            <a:noFill/>
          </a:ln>
        </p:spPr>
      </p:pic>
      <p:sp>
        <p:nvSpPr>
          <p:cNvPr id="6407" name=""/>
          <p:cNvSpPr txBox="1"/>
          <p:nvPr/>
        </p:nvSpPr>
        <p:spPr>
          <a:xfrm>
            <a:off x="806400" y="6303960"/>
            <a:ext cx="219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8" name=""/>
          <p:cNvSpPr/>
          <p:nvPr/>
        </p:nvSpPr>
        <p:spPr>
          <a:xfrm>
            <a:off x="4924440" y="5416560"/>
            <a:ext cx="1417680" cy="64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9" name=""/>
          <p:cNvSpPr txBox="1"/>
          <p:nvPr/>
        </p:nvSpPr>
        <p:spPr>
          <a:xfrm>
            <a:off x="7348680" y="5446800"/>
            <a:ext cx="2826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0" name=""/>
          <p:cNvSpPr txBox="1"/>
          <p:nvPr/>
        </p:nvSpPr>
        <p:spPr>
          <a:xfrm>
            <a:off x="5900760" y="5734080"/>
            <a:ext cx="219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1" name="" descr=""/>
          <p:cNvPicPr/>
          <p:nvPr/>
        </p:nvPicPr>
        <p:blipFill>
          <a:blip r:embed="rId11"/>
          <a:stretch/>
        </p:blipFill>
        <p:spPr>
          <a:xfrm>
            <a:off x="5135400" y="5443560"/>
            <a:ext cx="673200" cy="476280"/>
          </a:xfrm>
          <a:prstGeom prst="rect">
            <a:avLst/>
          </a:prstGeom>
          <a:ln w="0">
            <a:noFill/>
          </a:ln>
        </p:spPr>
      </p:pic>
      <p:pic>
        <p:nvPicPr>
          <p:cNvPr id="6412" name="" descr=""/>
          <p:cNvPicPr/>
          <p:nvPr/>
        </p:nvPicPr>
        <p:blipFill>
          <a:blip r:embed="rId12"/>
          <a:stretch/>
        </p:blipFill>
        <p:spPr>
          <a:xfrm>
            <a:off x="6588000" y="5257800"/>
            <a:ext cx="673200" cy="476280"/>
          </a:xfrm>
          <a:prstGeom prst="rect">
            <a:avLst/>
          </a:prstGeom>
          <a:ln w="0">
            <a:noFill/>
          </a:ln>
        </p:spPr>
      </p:pic>
      <p:pic>
        <p:nvPicPr>
          <p:cNvPr id="6413" name="" descr=""/>
          <p:cNvPicPr/>
          <p:nvPr/>
        </p:nvPicPr>
        <p:blipFill>
          <a:blip r:embed="rId13"/>
          <a:stretch/>
        </p:blipFill>
        <p:spPr>
          <a:xfrm>
            <a:off x="7261200" y="5803920"/>
            <a:ext cx="477720" cy="338040"/>
          </a:xfrm>
          <a:prstGeom prst="rect">
            <a:avLst/>
          </a:prstGeom>
          <a:ln w="0">
            <a:noFill/>
          </a:ln>
        </p:spPr>
      </p:pic>
      <p:sp>
        <p:nvSpPr>
          <p:cNvPr id="6414" name=""/>
          <p:cNvSpPr txBox="1"/>
          <p:nvPr/>
        </p:nvSpPr>
        <p:spPr>
          <a:xfrm>
            <a:off x="2166840" y="2144880"/>
            <a:ext cx="5278320" cy="256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tion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ggregate CINC Information 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nage CINC Broadcast Schedules / Priorit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intain CINC Resource Allocations Within JCS Apportio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vide SBM Status Feedback to CINCs / En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rchiv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fac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ISN / DI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nformation / Data 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atellite Broadcast Manager (SB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INCs / Command Cent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5" name=""/>
          <p:cNvSpPr/>
          <p:nvPr/>
        </p:nvSpPr>
        <p:spPr>
          <a:xfrm flipH="1">
            <a:off x="360360" y="2158920"/>
            <a:ext cx="1805040" cy="355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6" name=""/>
          <p:cNvSpPr/>
          <p:nvPr/>
        </p:nvSpPr>
        <p:spPr>
          <a:xfrm flipH="1">
            <a:off x="1514520" y="4716360"/>
            <a:ext cx="650880" cy="100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7" name=""/>
          <p:cNvSpPr/>
          <p:nvPr/>
        </p:nvSpPr>
        <p:spPr>
          <a:xfrm>
            <a:off x="2198520" y="4699080"/>
            <a:ext cx="2724480" cy="70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8" name=""/>
          <p:cNvSpPr/>
          <p:nvPr/>
        </p:nvSpPr>
        <p:spPr>
          <a:xfrm flipH="1">
            <a:off x="6359400" y="4716360"/>
            <a:ext cx="108756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Satellite Broadcast Manager (S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0" name=""/>
          <p:cNvSpPr/>
          <p:nvPr/>
        </p:nvSpPr>
        <p:spPr>
          <a:xfrm>
            <a:off x="101520" y="1434960"/>
            <a:ext cx="8915400" cy="5283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1" name="" descr=""/>
          <p:cNvPicPr/>
          <p:nvPr/>
        </p:nvPicPr>
        <p:blipFill>
          <a:blip r:embed="rId1"/>
          <a:stretch/>
        </p:blipFill>
        <p:spPr>
          <a:xfrm>
            <a:off x="7261200" y="5803920"/>
            <a:ext cx="477720" cy="338040"/>
          </a:xfrm>
          <a:prstGeom prst="rect">
            <a:avLst/>
          </a:prstGeom>
          <a:ln w="0">
            <a:noFill/>
          </a:ln>
        </p:spPr>
      </p:pic>
      <p:sp>
        <p:nvSpPr>
          <p:cNvPr id="6422" name=""/>
          <p:cNvSpPr/>
          <p:nvPr/>
        </p:nvSpPr>
        <p:spPr>
          <a:xfrm>
            <a:off x="2158920" y="5013360"/>
            <a:ext cx="0" cy="49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3" name=""/>
          <p:cNvSpPr/>
          <p:nvPr/>
        </p:nvSpPr>
        <p:spPr>
          <a:xfrm>
            <a:off x="3187800" y="3911760"/>
            <a:ext cx="5702400" cy="15368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4" name=""/>
          <p:cNvSpPr/>
          <p:nvPr/>
        </p:nvSpPr>
        <p:spPr>
          <a:xfrm>
            <a:off x="3462480" y="4280040"/>
            <a:ext cx="18543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5" name=""/>
          <p:cNvSpPr/>
          <p:nvPr/>
        </p:nvSpPr>
        <p:spPr>
          <a:xfrm>
            <a:off x="6578640" y="4508640"/>
            <a:ext cx="1854360" cy="6350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6" name=""/>
          <p:cNvSpPr/>
          <p:nvPr/>
        </p:nvSpPr>
        <p:spPr>
          <a:xfrm>
            <a:off x="304920" y="5016600"/>
            <a:ext cx="261612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7" name=""/>
          <p:cNvSpPr/>
          <p:nvPr/>
        </p:nvSpPr>
        <p:spPr>
          <a:xfrm>
            <a:off x="2692440" y="6469200"/>
            <a:ext cx="27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8" name=""/>
          <p:cNvSpPr/>
          <p:nvPr/>
        </p:nvSpPr>
        <p:spPr>
          <a:xfrm>
            <a:off x="2692440" y="501660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9" name=""/>
          <p:cNvSpPr/>
          <p:nvPr/>
        </p:nvSpPr>
        <p:spPr>
          <a:xfrm>
            <a:off x="915840" y="5013360"/>
            <a:ext cx="1800" cy="9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0" name=""/>
          <p:cNvSpPr/>
          <p:nvPr/>
        </p:nvSpPr>
        <p:spPr>
          <a:xfrm flipV="1">
            <a:off x="728640" y="4114800"/>
            <a:ext cx="1440" cy="89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1" name=""/>
          <p:cNvSpPr txBox="1"/>
          <p:nvPr/>
        </p:nvSpPr>
        <p:spPr>
          <a:xfrm>
            <a:off x="1130400" y="4811760"/>
            <a:ext cx="5716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N / D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2" name=""/>
          <p:cNvGrpSpPr/>
          <p:nvPr/>
        </p:nvGrpSpPr>
        <p:grpSpPr>
          <a:xfrm>
            <a:off x="2754360" y="6461280"/>
            <a:ext cx="2455920" cy="244440"/>
            <a:chOff x="2754360" y="6461280"/>
            <a:chExt cx="2455920" cy="244440"/>
          </a:xfrm>
        </p:grpSpPr>
        <p:sp>
          <p:nvSpPr>
            <p:cNvPr id="6433" name=""/>
            <p:cNvSpPr/>
            <p:nvPr/>
          </p:nvSpPr>
          <p:spPr>
            <a:xfrm flipH="1">
              <a:off x="2754360" y="6575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 txBox="1"/>
            <p:nvPr/>
          </p:nvSpPr>
          <p:spPr>
            <a:xfrm>
              <a:off x="3127320" y="6461280"/>
              <a:ext cx="208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Pull (Any Available Medi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5" name=""/>
          <p:cNvSpPr/>
          <p:nvPr/>
        </p:nvSpPr>
        <p:spPr>
          <a:xfrm flipH="1">
            <a:off x="4930920" y="5997600"/>
            <a:ext cx="2315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6" name=""/>
          <p:cNvSpPr/>
          <p:nvPr/>
        </p:nvSpPr>
        <p:spPr>
          <a:xfrm>
            <a:off x="6940440" y="5099040"/>
            <a:ext cx="1800" cy="88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7" name=""/>
          <p:cNvSpPr/>
          <p:nvPr/>
        </p:nvSpPr>
        <p:spPr>
          <a:xfrm>
            <a:off x="8234280" y="49831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"/>
          <p:cNvSpPr/>
          <p:nvPr/>
        </p:nvSpPr>
        <p:spPr>
          <a:xfrm>
            <a:off x="7894800" y="5703840"/>
            <a:ext cx="7365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9" name=""/>
          <p:cNvSpPr/>
          <p:nvPr/>
        </p:nvSpPr>
        <p:spPr>
          <a:xfrm flipH="1">
            <a:off x="8327880" y="5705640"/>
            <a:ext cx="3240" cy="76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"/>
          <p:cNvSpPr/>
          <p:nvPr/>
        </p:nvSpPr>
        <p:spPr>
          <a:xfrm>
            <a:off x="6497640" y="5994360"/>
            <a:ext cx="144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1" name=""/>
          <p:cNvGrpSpPr/>
          <p:nvPr/>
        </p:nvGrpSpPr>
        <p:grpSpPr>
          <a:xfrm>
            <a:off x="8053560" y="4670280"/>
            <a:ext cx="231840" cy="311400"/>
            <a:chOff x="8053560" y="4670280"/>
            <a:chExt cx="231840" cy="311400"/>
          </a:xfrm>
        </p:grpSpPr>
        <p:sp>
          <p:nvSpPr>
            <p:cNvPr id="6442" name=""/>
            <p:cNvSpPr/>
            <p:nvPr/>
          </p:nvSpPr>
          <p:spPr>
            <a:xfrm>
              <a:off x="8156520" y="4775040"/>
              <a:ext cx="128880" cy="206640"/>
            </a:xfrm>
            <a:custGeom>
              <a:avLst/>
              <a:gdLst/>
              <a:ahLst/>
              <a:rect l="0" t="0" r="r" b="b"/>
              <a:pathLst>
                <a:path fill="none" w="358" h="574">
                  <a:moveTo>
                    <a:pt x="0" y="574"/>
                  </a:moveTo>
                  <a:lnTo>
                    <a:pt x="358" y="574"/>
                  </a:lnTo>
                  <a:lnTo>
                    <a:pt x="178" y="0"/>
                  </a:lnTo>
                  <a:lnTo>
                    <a:pt x="0" y="5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3" name=""/>
            <p:cNvGrpSpPr/>
            <p:nvPr/>
          </p:nvGrpSpPr>
          <p:grpSpPr>
            <a:xfrm>
              <a:off x="8118360" y="4670280"/>
              <a:ext cx="140040" cy="222840"/>
              <a:chOff x="8118360" y="4670280"/>
              <a:chExt cx="140040" cy="222840"/>
            </a:xfrm>
          </p:grpSpPr>
          <p:sp>
            <p:nvSpPr>
              <p:cNvPr id="6444" name=""/>
              <p:cNvSpPr/>
              <p:nvPr/>
            </p:nvSpPr>
            <p:spPr>
              <a:xfrm>
                <a:off x="8118360" y="4672080"/>
                <a:ext cx="140040" cy="221040"/>
              </a:xfrm>
              <a:custGeom>
                <a:avLst/>
                <a:gdLst/>
                <a:ahLst/>
                <a:rect l="0" t="0" r="r" b="b"/>
                <a:pathLst>
                  <a:path fill="none" w="389" h="614">
                    <a:moveTo>
                      <a:pt x="377" y="19"/>
                    </a:moveTo>
                    <a:lnTo>
                      <a:pt x="379" y="38"/>
                    </a:lnTo>
                    <a:lnTo>
                      <a:pt x="384" y="62"/>
                    </a:lnTo>
                    <a:lnTo>
                      <a:pt x="389" y="84"/>
                    </a:lnTo>
                    <a:lnTo>
                      <a:pt x="389" y="108"/>
                    </a:lnTo>
                    <a:lnTo>
                      <a:pt x="384" y="139"/>
                    </a:lnTo>
                    <a:lnTo>
                      <a:pt x="377" y="178"/>
                    </a:lnTo>
                    <a:lnTo>
                      <a:pt x="367" y="224"/>
                    </a:lnTo>
                    <a:lnTo>
                      <a:pt x="353" y="270"/>
                    </a:lnTo>
                    <a:lnTo>
                      <a:pt x="333" y="320"/>
                    </a:lnTo>
                    <a:lnTo>
                      <a:pt x="298" y="375"/>
                    </a:lnTo>
                    <a:lnTo>
                      <a:pt x="259" y="431"/>
                    </a:lnTo>
                    <a:lnTo>
                      <a:pt x="228" y="468"/>
                    </a:lnTo>
                    <a:lnTo>
                      <a:pt x="189" y="506"/>
                    </a:lnTo>
                    <a:lnTo>
                      <a:pt x="146" y="542"/>
                    </a:lnTo>
                    <a:lnTo>
                      <a:pt x="112" y="571"/>
                    </a:lnTo>
                    <a:lnTo>
                      <a:pt x="76" y="590"/>
                    </a:lnTo>
                    <a:lnTo>
                      <a:pt x="50" y="602"/>
                    </a:lnTo>
                    <a:lnTo>
                      <a:pt x="31" y="614"/>
                    </a:lnTo>
                    <a:lnTo>
                      <a:pt x="11" y="614"/>
                    </a:lnTo>
                    <a:lnTo>
                      <a:pt x="0" y="605"/>
                    </a:lnTo>
                    <a:lnTo>
                      <a:pt x="360" y="0"/>
                    </a:lnTo>
                    <a:lnTo>
                      <a:pt x="377" y="1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8118360" y="4670280"/>
                <a:ext cx="132120" cy="219600"/>
              </a:xfrm>
              <a:custGeom>
                <a:avLst/>
                <a:gdLst/>
                <a:ahLst/>
                <a:rect l="0" t="0" r="r" b="b"/>
                <a:pathLst>
                  <a:path fill="none" w="367" h="610">
                    <a:moveTo>
                      <a:pt x="362" y="0"/>
                    </a:moveTo>
                    <a:lnTo>
                      <a:pt x="367" y="9"/>
                    </a:lnTo>
                    <a:lnTo>
                      <a:pt x="367" y="38"/>
                    </a:lnTo>
                    <a:lnTo>
                      <a:pt x="367" y="72"/>
                    </a:lnTo>
                    <a:lnTo>
                      <a:pt x="362" y="94"/>
                    </a:lnTo>
                    <a:lnTo>
                      <a:pt x="359" y="125"/>
                    </a:lnTo>
                    <a:lnTo>
                      <a:pt x="350" y="167"/>
                    </a:lnTo>
                    <a:lnTo>
                      <a:pt x="342" y="208"/>
                    </a:lnTo>
                    <a:lnTo>
                      <a:pt x="326" y="259"/>
                    </a:lnTo>
                    <a:lnTo>
                      <a:pt x="299" y="317"/>
                    </a:lnTo>
                    <a:lnTo>
                      <a:pt x="265" y="363"/>
                    </a:lnTo>
                    <a:lnTo>
                      <a:pt x="229" y="413"/>
                    </a:lnTo>
                    <a:lnTo>
                      <a:pt x="198" y="454"/>
                    </a:lnTo>
                    <a:lnTo>
                      <a:pt x="175" y="480"/>
                    </a:lnTo>
                    <a:lnTo>
                      <a:pt x="151" y="504"/>
                    </a:lnTo>
                    <a:lnTo>
                      <a:pt x="127" y="526"/>
                    </a:lnTo>
                    <a:lnTo>
                      <a:pt x="101" y="552"/>
                    </a:lnTo>
                    <a:lnTo>
                      <a:pt x="77" y="569"/>
                    </a:lnTo>
                    <a:lnTo>
                      <a:pt x="55" y="583"/>
                    </a:lnTo>
                    <a:lnTo>
                      <a:pt x="36" y="596"/>
                    </a:lnTo>
                    <a:lnTo>
                      <a:pt x="14" y="608"/>
                    </a:lnTo>
                    <a:lnTo>
                      <a:pt x="4" y="610"/>
                    </a:lnTo>
                    <a:lnTo>
                      <a:pt x="0" y="600"/>
                    </a:lnTo>
                    <a:lnTo>
                      <a:pt x="0" y="588"/>
                    </a:lnTo>
                    <a:lnTo>
                      <a:pt x="4" y="576"/>
                    </a:lnTo>
                    <a:lnTo>
                      <a:pt x="7" y="547"/>
                    </a:lnTo>
                    <a:lnTo>
                      <a:pt x="14" y="516"/>
                    </a:lnTo>
                    <a:lnTo>
                      <a:pt x="19" y="484"/>
                    </a:lnTo>
                    <a:lnTo>
                      <a:pt x="31" y="447"/>
                    </a:lnTo>
                    <a:lnTo>
                      <a:pt x="43" y="409"/>
                    </a:lnTo>
                    <a:lnTo>
                      <a:pt x="55" y="380"/>
                    </a:lnTo>
                    <a:lnTo>
                      <a:pt x="67" y="351"/>
                    </a:lnTo>
                    <a:lnTo>
                      <a:pt x="81" y="319"/>
                    </a:lnTo>
                    <a:lnTo>
                      <a:pt x="101" y="285"/>
                    </a:lnTo>
                    <a:lnTo>
                      <a:pt x="120" y="254"/>
                    </a:lnTo>
                    <a:lnTo>
                      <a:pt x="151" y="211"/>
                    </a:lnTo>
                    <a:lnTo>
                      <a:pt x="175" y="182"/>
                    </a:lnTo>
                    <a:lnTo>
                      <a:pt x="208" y="142"/>
                    </a:lnTo>
                    <a:lnTo>
                      <a:pt x="239" y="111"/>
                    </a:lnTo>
                    <a:lnTo>
                      <a:pt x="265" y="84"/>
                    </a:lnTo>
                    <a:lnTo>
                      <a:pt x="292" y="57"/>
                    </a:lnTo>
                    <a:lnTo>
                      <a:pt x="316" y="33"/>
                    </a:lnTo>
                    <a:lnTo>
                      <a:pt x="330" y="19"/>
                    </a:lnTo>
                    <a:lnTo>
                      <a:pt x="350" y="7"/>
                    </a:lnTo>
                    <a:lnTo>
                      <a:pt x="36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6" name=""/>
            <p:cNvSpPr/>
            <p:nvPr/>
          </p:nvSpPr>
          <p:spPr>
            <a:xfrm>
              <a:off x="8110440" y="4675320"/>
              <a:ext cx="41760" cy="151200"/>
            </a:xfrm>
            <a:custGeom>
              <a:avLst/>
              <a:gdLst/>
              <a:ahLst/>
              <a:rect l="0" t="0" r="r" b="b"/>
              <a:pathLst>
                <a:path fill="none" w="116" h="420">
                  <a:moveTo>
                    <a:pt x="116" y="420"/>
                  </a:moveTo>
                  <a:lnTo>
                    <a:pt x="0" y="420"/>
                  </a:lnTo>
                  <a:lnTo>
                    <a:pt x="58" y="0"/>
                  </a:lnTo>
                  <a:lnTo>
                    <a:pt x="116" y="4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8053560" y="4705200"/>
              <a:ext cx="5076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8" name=""/>
          <p:cNvSpPr txBox="1"/>
          <p:nvPr/>
        </p:nvSpPr>
        <p:spPr>
          <a:xfrm>
            <a:off x="4892760" y="1616040"/>
            <a:ext cx="401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FO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9" name="" descr=""/>
          <p:cNvPicPr/>
          <p:nvPr/>
        </p:nvPicPr>
        <p:blipFill>
          <a:blip r:embed="rId2"/>
          <a:stretch/>
        </p:blipFill>
        <p:spPr>
          <a:xfrm>
            <a:off x="6534000" y="4067280"/>
            <a:ext cx="1049400" cy="243000"/>
          </a:xfrm>
          <a:prstGeom prst="rect">
            <a:avLst/>
          </a:prstGeom>
          <a:ln w="0">
            <a:noFill/>
          </a:ln>
        </p:spPr>
      </p:pic>
      <p:pic>
        <p:nvPicPr>
          <p:cNvPr id="6450" name="" descr=""/>
          <p:cNvPicPr/>
          <p:nvPr/>
        </p:nvPicPr>
        <p:blipFill>
          <a:blip r:embed="rId3"/>
          <a:stretch/>
        </p:blipFill>
        <p:spPr>
          <a:xfrm>
            <a:off x="8097840" y="5942160"/>
            <a:ext cx="463680" cy="365040"/>
          </a:xfrm>
          <a:prstGeom prst="rect">
            <a:avLst/>
          </a:prstGeom>
          <a:ln w="0">
            <a:noFill/>
          </a:ln>
        </p:spPr>
      </p:pic>
      <p:sp>
        <p:nvSpPr>
          <p:cNvPr id="6451" name=""/>
          <p:cNvSpPr txBox="1"/>
          <p:nvPr/>
        </p:nvSpPr>
        <p:spPr>
          <a:xfrm>
            <a:off x="1677960" y="4265640"/>
            <a:ext cx="4586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j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2" name=""/>
          <p:cNvGrpSpPr/>
          <p:nvPr/>
        </p:nvGrpSpPr>
        <p:grpSpPr>
          <a:xfrm>
            <a:off x="5346720" y="4738680"/>
            <a:ext cx="1143360" cy="515880"/>
            <a:chOff x="5346720" y="4738680"/>
            <a:chExt cx="1143360" cy="515880"/>
          </a:xfrm>
        </p:grpSpPr>
        <p:grpSp>
          <p:nvGrpSpPr>
            <p:cNvPr id="6453" name=""/>
            <p:cNvGrpSpPr/>
            <p:nvPr/>
          </p:nvGrpSpPr>
          <p:grpSpPr>
            <a:xfrm>
              <a:off x="5357880" y="4748040"/>
              <a:ext cx="1132200" cy="505440"/>
              <a:chOff x="5357880" y="4748040"/>
              <a:chExt cx="1132200" cy="505440"/>
            </a:xfrm>
          </p:grpSpPr>
          <p:sp>
            <p:nvSpPr>
              <p:cNvPr id="6454" name=""/>
              <p:cNvSpPr/>
              <p:nvPr/>
            </p:nvSpPr>
            <p:spPr>
              <a:xfrm>
                <a:off x="5513400" y="5145120"/>
                <a:ext cx="722520" cy="90720"/>
              </a:xfrm>
              <a:custGeom>
                <a:avLst/>
                <a:gdLst/>
                <a:ahLst/>
                <a:rect l="0" t="0" r="r" b="b"/>
                <a:pathLst>
                  <a:path fill="none" w="2007" h="252">
                    <a:moveTo>
                      <a:pt x="0" y="71"/>
                    </a:moveTo>
                    <a:lnTo>
                      <a:pt x="61" y="37"/>
                    </a:lnTo>
                    <a:lnTo>
                      <a:pt x="85" y="33"/>
                    </a:lnTo>
                    <a:lnTo>
                      <a:pt x="123" y="23"/>
                    </a:lnTo>
                    <a:lnTo>
                      <a:pt x="194" y="33"/>
                    </a:lnTo>
                    <a:lnTo>
                      <a:pt x="247" y="42"/>
                    </a:lnTo>
                    <a:lnTo>
                      <a:pt x="318" y="52"/>
                    </a:lnTo>
                    <a:lnTo>
                      <a:pt x="1508" y="0"/>
                    </a:lnTo>
                    <a:lnTo>
                      <a:pt x="1841" y="171"/>
                    </a:lnTo>
                    <a:lnTo>
                      <a:pt x="1898" y="113"/>
                    </a:lnTo>
                    <a:lnTo>
                      <a:pt x="1955" y="75"/>
                    </a:lnTo>
                    <a:lnTo>
                      <a:pt x="1988" y="66"/>
                    </a:lnTo>
                    <a:lnTo>
                      <a:pt x="2007" y="80"/>
                    </a:lnTo>
                    <a:lnTo>
                      <a:pt x="2002" y="118"/>
                    </a:lnTo>
                    <a:lnTo>
                      <a:pt x="2007" y="133"/>
                    </a:lnTo>
                    <a:lnTo>
                      <a:pt x="1988" y="195"/>
                    </a:lnTo>
                    <a:lnTo>
                      <a:pt x="1902" y="200"/>
                    </a:lnTo>
                    <a:lnTo>
                      <a:pt x="1874" y="242"/>
                    </a:lnTo>
                    <a:lnTo>
                      <a:pt x="1612" y="242"/>
                    </a:lnTo>
                    <a:lnTo>
                      <a:pt x="1408" y="252"/>
                    </a:lnTo>
                    <a:lnTo>
                      <a:pt x="1318" y="214"/>
                    </a:lnTo>
                    <a:lnTo>
                      <a:pt x="1232" y="252"/>
                    </a:lnTo>
                    <a:lnTo>
                      <a:pt x="1146" y="247"/>
                    </a:lnTo>
                    <a:lnTo>
                      <a:pt x="1080" y="200"/>
                    </a:lnTo>
                    <a:lnTo>
                      <a:pt x="1008" y="181"/>
                    </a:lnTo>
                    <a:lnTo>
                      <a:pt x="931" y="200"/>
                    </a:lnTo>
                    <a:lnTo>
                      <a:pt x="736" y="157"/>
                    </a:lnTo>
                    <a:lnTo>
                      <a:pt x="580" y="176"/>
                    </a:lnTo>
                    <a:lnTo>
                      <a:pt x="489" y="138"/>
                    </a:lnTo>
                    <a:lnTo>
                      <a:pt x="465" y="113"/>
                    </a:lnTo>
                    <a:lnTo>
                      <a:pt x="389" y="118"/>
                    </a:lnTo>
                    <a:lnTo>
                      <a:pt x="328" y="113"/>
                    </a:lnTo>
                    <a:lnTo>
                      <a:pt x="228" y="94"/>
                    </a:lnTo>
                    <a:lnTo>
                      <a:pt x="123" y="85"/>
                    </a:lnTo>
                    <a:lnTo>
                      <a:pt x="66" y="90"/>
                    </a:lnTo>
                    <a:lnTo>
                      <a:pt x="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5437080" y="5159520"/>
                <a:ext cx="248040" cy="28800"/>
              </a:xfrm>
              <a:custGeom>
                <a:avLst/>
                <a:gdLst/>
                <a:ahLst/>
                <a:rect l="0" t="0" r="r" b="b"/>
                <a:pathLst>
                  <a:path fill="none" w="689" h="80">
                    <a:moveTo>
                      <a:pt x="0" y="14"/>
                    </a:moveTo>
                    <a:lnTo>
                      <a:pt x="99" y="14"/>
                    </a:lnTo>
                    <a:lnTo>
                      <a:pt x="132" y="4"/>
                    </a:lnTo>
                    <a:lnTo>
                      <a:pt x="166" y="18"/>
                    </a:lnTo>
                    <a:lnTo>
                      <a:pt x="219" y="18"/>
                    </a:lnTo>
                    <a:lnTo>
                      <a:pt x="247" y="14"/>
                    </a:lnTo>
                    <a:lnTo>
                      <a:pt x="290" y="0"/>
                    </a:lnTo>
                    <a:lnTo>
                      <a:pt x="285" y="18"/>
                    </a:lnTo>
                    <a:lnTo>
                      <a:pt x="333" y="14"/>
                    </a:lnTo>
                    <a:lnTo>
                      <a:pt x="371" y="28"/>
                    </a:lnTo>
                    <a:lnTo>
                      <a:pt x="437" y="32"/>
                    </a:lnTo>
                    <a:lnTo>
                      <a:pt x="489" y="43"/>
                    </a:lnTo>
                    <a:lnTo>
                      <a:pt x="538" y="43"/>
                    </a:lnTo>
                    <a:lnTo>
                      <a:pt x="585" y="52"/>
                    </a:lnTo>
                    <a:lnTo>
                      <a:pt x="651" y="47"/>
                    </a:lnTo>
                    <a:lnTo>
                      <a:pt x="689" y="71"/>
                    </a:lnTo>
                    <a:lnTo>
                      <a:pt x="599" y="75"/>
                    </a:lnTo>
                    <a:lnTo>
                      <a:pt x="523" y="80"/>
                    </a:lnTo>
                    <a:lnTo>
                      <a:pt x="446" y="75"/>
                    </a:lnTo>
                    <a:lnTo>
                      <a:pt x="361" y="57"/>
                    </a:lnTo>
                    <a:lnTo>
                      <a:pt x="280" y="57"/>
                    </a:lnTo>
                    <a:lnTo>
                      <a:pt x="233" y="52"/>
                    </a:lnTo>
                    <a:lnTo>
                      <a:pt x="151" y="47"/>
                    </a:lnTo>
                    <a:lnTo>
                      <a:pt x="118" y="43"/>
                    </a:lnTo>
                    <a:lnTo>
                      <a:pt x="61" y="47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5665680" y="5186520"/>
                <a:ext cx="271800" cy="39960"/>
              </a:xfrm>
              <a:custGeom>
                <a:avLst/>
                <a:gdLst/>
                <a:ahLst/>
                <a:rect l="0" t="0" r="r" b="b"/>
                <a:pathLst>
                  <a:path fill="none" w="755" h="111">
                    <a:moveTo>
                      <a:pt x="755" y="92"/>
                    </a:moveTo>
                    <a:lnTo>
                      <a:pt x="717" y="58"/>
                    </a:lnTo>
                    <a:lnTo>
                      <a:pt x="688" y="63"/>
                    </a:lnTo>
                    <a:lnTo>
                      <a:pt x="636" y="58"/>
                    </a:lnTo>
                    <a:lnTo>
                      <a:pt x="612" y="33"/>
                    </a:lnTo>
                    <a:lnTo>
                      <a:pt x="589" y="23"/>
                    </a:lnTo>
                    <a:lnTo>
                      <a:pt x="541" y="23"/>
                    </a:lnTo>
                    <a:lnTo>
                      <a:pt x="532" y="43"/>
                    </a:lnTo>
                    <a:lnTo>
                      <a:pt x="541" y="63"/>
                    </a:lnTo>
                    <a:lnTo>
                      <a:pt x="513" y="68"/>
                    </a:lnTo>
                    <a:lnTo>
                      <a:pt x="479" y="63"/>
                    </a:lnTo>
                    <a:lnTo>
                      <a:pt x="461" y="47"/>
                    </a:lnTo>
                    <a:lnTo>
                      <a:pt x="374" y="38"/>
                    </a:lnTo>
                    <a:lnTo>
                      <a:pt x="365" y="43"/>
                    </a:lnTo>
                    <a:lnTo>
                      <a:pt x="322" y="23"/>
                    </a:lnTo>
                    <a:lnTo>
                      <a:pt x="270" y="38"/>
                    </a:lnTo>
                    <a:lnTo>
                      <a:pt x="232" y="43"/>
                    </a:lnTo>
                    <a:lnTo>
                      <a:pt x="184" y="38"/>
                    </a:lnTo>
                    <a:lnTo>
                      <a:pt x="156" y="52"/>
                    </a:lnTo>
                    <a:lnTo>
                      <a:pt x="113" y="23"/>
                    </a:lnTo>
                    <a:lnTo>
                      <a:pt x="75" y="23"/>
                    </a:lnTo>
                    <a:lnTo>
                      <a:pt x="42" y="0"/>
                    </a:lnTo>
                    <a:lnTo>
                      <a:pt x="42" y="19"/>
                    </a:lnTo>
                    <a:lnTo>
                      <a:pt x="0" y="68"/>
                    </a:lnTo>
                    <a:lnTo>
                      <a:pt x="61" y="77"/>
                    </a:lnTo>
                    <a:lnTo>
                      <a:pt x="118" y="63"/>
                    </a:lnTo>
                    <a:lnTo>
                      <a:pt x="156" y="72"/>
                    </a:lnTo>
                    <a:lnTo>
                      <a:pt x="203" y="82"/>
                    </a:lnTo>
                    <a:lnTo>
                      <a:pt x="270" y="68"/>
                    </a:lnTo>
                    <a:lnTo>
                      <a:pt x="327" y="77"/>
                    </a:lnTo>
                    <a:lnTo>
                      <a:pt x="389" y="92"/>
                    </a:lnTo>
                    <a:lnTo>
                      <a:pt x="451" y="92"/>
                    </a:lnTo>
                    <a:lnTo>
                      <a:pt x="494" y="101"/>
                    </a:lnTo>
                    <a:lnTo>
                      <a:pt x="555" y="111"/>
                    </a:lnTo>
                    <a:lnTo>
                      <a:pt x="608" y="92"/>
                    </a:lnTo>
                    <a:lnTo>
                      <a:pt x="693" y="111"/>
                    </a:lnTo>
                    <a:lnTo>
                      <a:pt x="755" y="106"/>
                    </a:lnTo>
                    <a:lnTo>
                      <a:pt x="755" y="9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5907240" y="5149800"/>
                <a:ext cx="365400" cy="101880"/>
              </a:xfrm>
              <a:custGeom>
                <a:avLst/>
                <a:gdLst/>
                <a:ahLst/>
                <a:rect l="0" t="0" r="r" b="b"/>
                <a:pathLst>
                  <a:path fill="none" w="1015" h="283">
                    <a:moveTo>
                      <a:pt x="151" y="100"/>
                    </a:moveTo>
                    <a:lnTo>
                      <a:pt x="208" y="95"/>
                    </a:lnTo>
                    <a:lnTo>
                      <a:pt x="255" y="76"/>
                    </a:lnTo>
                    <a:lnTo>
                      <a:pt x="312" y="86"/>
                    </a:lnTo>
                    <a:lnTo>
                      <a:pt x="369" y="66"/>
                    </a:lnTo>
                    <a:lnTo>
                      <a:pt x="417" y="66"/>
                    </a:lnTo>
                    <a:lnTo>
                      <a:pt x="440" y="95"/>
                    </a:lnTo>
                    <a:lnTo>
                      <a:pt x="492" y="100"/>
                    </a:lnTo>
                    <a:lnTo>
                      <a:pt x="560" y="124"/>
                    </a:lnTo>
                    <a:lnTo>
                      <a:pt x="583" y="154"/>
                    </a:lnTo>
                    <a:lnTo>
                      <a:pt x="645" y="173"/>
                    </a:lnTo>
                    <a:lnTo>
                      <a:pt x="655" y="192"/>
                    </a:lnTo>
                    <a:lnTo>
                      <a:pt x="621" y="206"/>
                    </a:lnTo>
                    <a:lnTo>
                      <a:pt x="569" y="177"/>
                    </a:lnTo>
                    <a:lnTo>
                      <a:pt x="536" y="177"/>
                    </a:lnTo>
                    <a:lnTo>
                      <a:pt x="502" y="192"/>
                    </a:lnTo>
                    <a:lnTo>
                      <a:pt x="469" y="192"/>
                    </a:lnTo>
                    <a:lnTo>
                      <a:pt x="436" y="187"/>
                    </a:lnTo>
                    <a:lnTo>
                      <a:pt x="407" y="201"/>
                    </a:lnTo>
                    <a:lnTo>
                      <a:pt x="388" y="221"/>
                    </a:lnTo>
                    <a:lnTo>
                      <a:pt x="350" y="216"/>
                    </a:lnTo>
                    <a:lnTo>
                      <a:pt x="322" y="192"/>
                    </a:lnTo>
                    <a:lnTo>
                      <a:pt x="284" y="187"/>
                    </a:lnTo>
                    <a:lnTo>
                      <a:pt x="265" y="192"/>
                    </a:lnTo>
                    <a:lnTo>
                      <a:pt x="241" y="177"/>
                    </a:lnTo>
                    <a:lnTo>
                      <a:pt x="213" y="163"/>
                    </a:lnTo>
                    <a:lnTo>
                      <a:pt x="161" y="168"/>
                    </a:lnTo>
                    <a:lnTo>
                      <a:pt x="137" y="158"/>
                    </a:lnTo>
                    <a:lnTo>
                      <a:pt x="104" y="177"/>
                    </a:lnTo>
                    <a:lnTo>
                      <a:pt x="90" y="192"/>
                    </a:lnTo>
                    <a:lnTo>
                      <a:pt x="47" y="192"/>
                    </a:lnTo>
                    <a:lnTo>
                      <a:pt x="0" y="230"/>
                    </a:lnTo>
                    <a:lnTo>
                      <a:pt x="80" y="249"/>
                    </a:lnTo>
                    <a:lnTo>
                      <a:pt x="151" y="249"/>
                    </a:lnTo>
                    <a:lnTo>
                      <a:pt x="218" y="221"/>
                    </a:lnTo>
                    <a:lnTo>
                      <a:pt x="279" y="235"/>
                    </a:lnTo>
                    <a:lnTo>
                      <a:pt x="303" y="254"/>
                    </a:lnTo>
                    <a:lnTo>
                      <a:pt x="369" y="268"/>
                    </a:lnTo>
                    <a:lnTo>
                      <a:pt x="440" y="268"/>
                    </a:lnTo>
                    <a:lnTo>
                      <a:pt x="497" y="268"/>
                    </a:lnTo>
                    <a:lnTo>
                      <a:pt x="550" y="268"/>
                    </a:lnTo>
                    <a:lnTo>
                      <a:pt x="617" y="278"/>
                    </a:lnTo>
                    <a:lnTo>
                      <a:pt x="664" y="283"/>
                    </a:lnTo>
                    <a:lnTo>
                      <a:pt x="683" y="254"/>
                    </a:lnTo>
                    <a:lnTo>
                      <a:pt x="754" y="249"/>
                    </a:lnTo>
                    <a:lnTo>
                      <a:pt x="801" y="235"/>
                    </a:lnTo>
                    <a:lnTo>
                      <a:pt x="825" y="240"/>
                    </a:lnTo>
                    <a:lnTo>
                      <a:pt x="849" y="211"/>
                    </a:lnTo>
                    <a:lnTo>
                      <a:pt x="910" y="192"/>
                    </a:lnTo>
                    <a:lnTo>
                      <a:pt x="944" y="216"/>
                    </a:lnTo>
                    <a:lnTo>
                      <a:pt x="963" y="187"/>
                    </a:lnTo>
                    <a:lnTo>
                      <a:pt x="1015" y="177"/>
                    </a:lnTo>
                    <a:lnTo>
                      <a:pt x="991" y="138"/>
                    </a:lnTo>
                    <a:lnTo>
                      <a:pt x="915" y="149"/>
                    </a:lnTo>
                    <a:lnTo>
                      <a:pt x="910" y="110"/>
                    </a:lnTo>
                    <a:lnTo>
                      <a:pt x="863" y="124"/>
                    </a:lnTo>
                    <a:lnTo>
                      <a:pt x="849" y="149"/>
                    </a:lnTo>
                    <a:lnTo>
                      <a:pt x="825" y="149"/>
                    </a:lnTo>
                    <a:lnTo>
                      <a:pt x="811" y="168"/>
                    </a:lnTo>
                    <a:lnTo>
                      <a:pt x="797" y="154"/>
                    </a:lnTo>
                    <a:lnTo>
                      <a:pt x="820" y="119"/>
                    </a:lnTo>
                    <a:lnTo>
                      <a:pt x="816" y="100"/>
                    </a:lnTo>
                    <a:lnTo>
                      <a:pt x="778" y="119"/>
                    </a:lnTo>
                    <a:lnTo>
                      <a:pt x="778" y="211"/>
                    </a:lnTo>
                    <a:lnTo>
                      <a:pt x="740" y="192"/>
                    </a:lnTo>
                    <a:lnTo>
                      <a:pt x="707" y="177"/>
                    </a:lnTo>
                    <a:lnTo>
                      <a:pt x="702" y="138"/>
                    </a:lnTo>
                    <a:lnTo>
                      <a:pt x="669" y="105"/>
                    </a:lnTo>
                    <a:lnTo>
                      <a:pt x="607" y="86"/>
                    </a:lnTo>
                    <a:lnTo>
                      <a:pt x="560" y="52"/>
                    </a:lnTo>
                    <a:lnTo>
                      <a:pt x="483" y="47"/>
                    </a:lnTo>
                    <a:lnTo>
                      <a:pt x="445" y="14"/>
                    </a:lnTo>
                    <a:lnTo>
                      <a:pt x="360" y="0"/>
                    </a:lnTo>
                    <a:lnTo>
                      <a:pt x="180" y="66"/>
                    </a:lnTo>
                    <a:lnTo>
                      <a:pt x="151" y="10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718240" y="4923000"/>
                <a:ext cx="451080" cy="73440"/>
              </a:xfrm>
              <a:custGeom>
                <a:avLst/>
                <a:gdLst/>
                <a:ahLst/>
                <a:rect l="0" t="0" r="r" b="b"/>
                <a:pathLst>
                  <a:path fill="none" w="1253" h="204">
                    <a:moveTo>
                      <a:pt x="0" y="190"/>
                    </a:moveTo>
                    <a:lnTo>
                      <a:pt x="14" y="171"/>
                    </a:lnTo>
                    <a:lnTo>
                      <a:pt x="76" y="157"/>
                    </a:lnTo>
                    <a:lnTo>
                      <a:pt x="76" y="123"/>
                    </a:lnTo>
                    <a:lnTo>
                      <a:pt x="176" y="123"/>
                    </a:lnTo>
                    <a:lnTo>
                      <a:pt x="176" y="104"/>
                    </a:lnTo>
                    <a:lnTo>
                      <a:pt x="242" y="104"/>
                    </a:lnTo>
                    <a:lnTo>
                      <a:pt x="242" y="109"/>
                    </a:lnTo>
                    <a:lnTo>
                      <a:pt x="223" y="109"/>
                    </a:lnTo>
                    <a:lnTo>
                      <a:pt x="242" y="142"/>
                    </a:lnTo>
                    <a:lnTo>
                      <a:pt x="290" y="128"/>
                    </a:lnTo>
                    <a:lnTo>
                      <a:pt x="290" y="85"/>
                    </a:lnTo>
                    <a:lnTo>
                      <a:pt x="380" y="85"/>
                    </a:lnTo>
                    <a:lnTo>
                      <a:pt x="342" y="90"/>
                    </a:lnTo>
                    <a:lnTo>
                      <a:pt x="352" y="109"/>
                    </a:lnTo>
                    <a:lnTo>
                      <a:pt x="428" y="90"/>
                    </a:lnTo>
                    <a:lnTo>
                      <a:pt x="428" y="62"/>
                    </a:lnTo>
                    <a:lnTo>
                      <a:pt x="533" y="62"/>
                    </a:lnTo>
                    <a:lnTo>
                      <a:pt x="490" y="67"/>
                    </a:lnTo>
                    <a:lnTo>
                      <a:pt x="499" y="90"/>
                    </a:lnTo>
                    <a:lnTo>
                      <a:pt x="571" y="71"/>
                    </a:lnTo>
                    <a:lnTo>
                      <a:pt x="571" y="33"/>
                    </a:lnTo>
                    <a:lnTo>
                      <a:pt x="686" y="33"/>
                    </a:lnTo>
                    <a:lnTo>
                      <a:pt x="634" y="37"/>
                    </a:lnTo>
                    <a:lnTo>
                      <a:pt x="648" y="62"/>
                    </a:lnTo>
                    <a:lnTo>
                      <a:pt x="729" y="42"/>
                    </a:lnTo>
                    <a:lnTo>
                      <a:pt x="729" y="0"/>
                    </a:lnTo>
                    <a:lnTo>
                      <a:pt x="867" y="0"/>
                    </a:lnTo>
                    <a:lnTo>
                      <a:pt x="796" y="4"/>
                    </a:lnTo>
                    <a:lnTo>
                      <a:pt x="824" y="52"/>
                    </a:lnTo>
                    <a:lnTo>
                      <a:pt x="977" y="33"/>
                    </a:lnTo>
                    <a:lnTo>
                      <a:pt x="1034" y="23"/>
                    </a:lnTo>
                    <a:lnTo>
                      <a:pt x="1067" y="23"/>
                    </a:lnTo>
                    <a:lnTo>
                      <a:pt x="1091" y="33"/>
                    </a:lnTo>
                    <a:lnTo>
                      <a:pt x="1129" y="52"/>
                    </a:lnTo>
                    <a:lnTo>
                      <a:pt x="1220" y="71"/>
                    </a:lnTo>
                    <a:lnTo>
                      <a:pt x="1253" y="85"/>
                    </a:lnTo>
                    <a:lnTo>
                      <a:pt x="1158" y="90"/>
                    </a:lnTo>
                    <a:lnTo>
                      <a:pt x="1115" y="90"/>
                    </a:lnTo>
                    <a:lnTo>
                      <a:pt x="1115" y="109"/>
                    </a:lnTo>
                    <a:lnTo>
                      <a:pt x="1077" y="109"/>
                    </a:lnTo>
                    <a:lnTo>
                      <a:pt x="1077" y="95"/>
                    </a:lnTo>
                    <a:lnTo>
                      <a:pt x="920" y="95"/>
                    </a:lnTo>
                    <a:lnTo>
                      <a:pt x="943" y="109"/>
                    </a:lnTo>
                    <a:lnTo>
                      <a:pt x="915" y="114"/>
                    </a:lnTo>
                    <a:lnTo>
                      <a:pt x="867" y="123"/>
                    </a:lnTo>
                    <a:lnTo>
                      <a:pt x="781" y="123"/>
                    </a:lnTo>
                    <a:lnTo>
                      <a:pt x="643" y="162"/>
                    </a:lnTo>
                    <a:lnTo>
                      <a:pt x="133" y="204"/>
                    </a:lnTo>
                    <a:lnTo>
                      <a:pt x="38" y="195"/>
                    </a:lnTo>
                    <a:lnTo>
                      <a:pt x="0" y="19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5408640" y="4968720"/>
                <a:ext cx="1045080" cy="257400"/>
              </a:xfrm>
              <a:custGeom>
                <a:avLst/>
                <a:gdLst/>
                <a:ahLst/>
                <a:rect l="0" t="0" r="r" b="b"/>
                <a:pathLst>
                  <a:path fill="none" w="2903" h="715">
                    <a:moveTo>
                      <a:pt x="0" y="185"/>
                    </a:moveTo>
                    <a:lnTo>
                      <a:pt x="299" y="85"/>
                    </a:lnTo>
                    <a:lnTo>
                      <a:pt x="446" y="85"/>
                    </a:lnTo>
                    <a:lnTo>
                      <a:pt x="484" y="95"/>
                    </a:lnTo>
                    <a:lnTo>
                      <a:pt x="707" y="95"/>
                    </a:lnTo>
                    <a:lnTo>
                      <a:pt x="707" y="133"/>
                    </a:lnTo>
                    <a:lnTo>
                      <a:pt x="813" y="133"/>
                    </a:lnTo>
                    <a:lnTo>
                      <a:pt x="813" y="109"/>
                    </a:lnTo>
                    <a:lnTo>
                      <a:pt x="798" y="100"/>
                    </a:lnTo>
                    <a:lnTo>
                      <a:pt x="1672" y="0"/>
                    </a:lnTo>
                    <a:lnTo>
                      <a:pt x="2894" y="14"/>
                    </a:lnTo>
                    <a:lnTo>
                      <a:pt x="2851" y="38"/>
                    </a:lnTo>
                    <a:lnTo>
                      <a:pt x="2903" y="38"/>
                    </a:lnTo>
                    <a:lnTo>
                      <a:pt x="2903" y="123"/>
                    </a:lnTo>
                    <a:lnTo>
                      <a:pt x="2751" y="157"/>
                    </a:lnTo>
                    <a:lnTo>
                      <a:pt x="2575" y="214"/>
                    </a:lnTo>
                    <a:lnTo>
                      <a:pt x="2419" y="290"/>
                    </a:lnTo>
                    <a:lnTo>
                      <a:pt x="2295" y="381"/>
                    </a:lnTo>
                    <a:lnTo>
                      <a:pt x="2233" y="448"/>
                    </a:lnTo>
                    <a:lnTo>
                      <a:pt x="2191" y="520"/>
                    </a:lnTo>
                    <a:lnTo>
                      <a:pt x="2157" y="596"/>
                    </a:lnTo>
                    <a:lnTo>
                      <a:pt x="2157" y="715"/>
                    </a:lnTo>
                    <a:lnTo>
                      <a:pt x="2095" y="677"/>
                    </a:lnTo>
                    <a:lnTo>
                      <a:pt x="2057" y="601"/>
                    </a:lnTo>
                    <a:lnTo>
                      <a:pt x="2005" y="601"/>
                    </a:lnTo>
                    <a:lnTo>
                      <a:pt x="1933" y="553"/>
                    </a:lnTo>
                    <a:lnTo>
                      <a:pt x="1872" y="553"/>
                    </a:lnTo>
                    <a:lnTo>
                      <a:pt x="1819" y="520"/>
                    </a:lnTo>
                    <a:lnTo>
                      <a:pt x="1762" y="505"/>
                    </a:lnTo>
                    <a:lnTo>
                      <a:pt x="1634" y="562"/>
                    </a:lnTo>
                    <a:lnTo>
                      <a:pt x="1577" y="562"/>
                    </a:lnTo>
                    <a:lnTo>
                      <a:pt x="1492" y="610"/>
                    </a:lnTo>
                    <a:lnTo>
                      <a:pt x="1468" y="596"/>
                    </a:lnTo>
                    <a:lnTo>
                      <a:pt x="1468" y="558"/>
                    </a:lnTo>
                    <a:lnTo>
                      <a:pt x="1435" y="534"/>
                    </a:lnTo>
                    <a:lnTo>
                      <a:pt x="1416" y="553"/>
                    </a:lnTo>
                    <a:lnTo>
                      <a:pt x="1354" y="529"/>
                    </a:lnTo>
                    <a:lnTo>
                      <a:pt x="1259" y="572"/>
                    </a:lnTo>
                    <a:lnTo>
                      <a:pt x="1221" y="572"/>
                    </a:lnTo>
                    <a:lnTo>
                      <a:pt x="1159" y="605"/>
                    </a:lnTo>
                    <a:lnTo>
                      <a:pt x="1121" y="601"/>
                    </a:lnTo>
                    <a:lnTo>
                      <a:pt x="1055" y="601"/>
                    </a:lnTo>
                    <a:lnTo>
                      <a:pt x="960" y="610"/>
                    </a:lnTo>
                    <a:lnTo>
                      <a:pt x="927" y="605"/>
                    </a:lnTo>
                    <a:lnTo>
                      <a:pt x="884" y="586"/>
                    </a:lnTo>
                    <a:lnTo>
                      <a:pt x="851" y="586"/>
                    </a:lnTo>
                    <a:lnTo>
                      <a:pt x="803" y="596"/>
                    </a:lnTo>
                    <a:lnTo>
                      <a:pt x="756" y="577"/>
                    </a:lnTo>
                    <a:lnTo>
                      <a:pt x="712" y="572"/>
                    </a:lnTo>
                    <a:lnTo>
                      <a:pt x="669" y="577"/>
                    </a:lnTo>
                    <a:lnTo>
                      <a:pt x="655" y="558"/>
                    </a:lnTo>
                    <a:lnTo>
                      <a:pt x="612" y="572"/>
                    </a:lnTo>
                    <a:lnTo>
                      <a:pt x="593" y="553"/>
                    </a:lnTo>
                    <a:lnTo>
                      <a:pt x="541" y="548"/>
                    </a:lnTo>
                    <a:lnTo>
                      <a:pt x="517" y="524"/>
                    </a:lnTo>
                    <a:lnTo>
                      <a:pt x="280" y="381"/>
                    </a:lnTo>
                    <a:lnTo>
                      <a:pt x="175" y="358"/>
                    </a:lnTo>
                    <a:lnTo>
                      <a:pt x="56" y="242"/>
                    </a:lnTo>
                    <a:lnTo>
                      <a:pt x="56" y="223"/>
                    </a:lnTo>
                    <a:lnTo>
                      <a:pt x="0" y="18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656320" y="4998960"/>
                <a:ext cx="12960" cy="38520"/>
              </a:xfrm>
              <a:custGeom>
                <a:avLst/>
                <a:gdLst/>
                <a:ahLst/>
                <a:rect l="0" t="0" r="r" b="b"/>
                <a:pathLst>
                  <a:path fill="none" w="36" h="107">
                    <a:moveTo>
                      <a:pt x="0" y="107"/>
                    </a:moveTo>
                    <a:lnTo>
                      <a:pt x="36" y="107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659560" y="5002200"/>
                <a:ext cx="3600" cy="35280"/>
              </a:xfrm>
              <a:custGeom>
                <a:avLst/>
                <a:gdLst/>
                <a:ahLst/>
                <a:rect l="0" t="0" r="r" b="b"/>
                <a:pathLst>
                  <a:path fill="none" w="10" h="98">
                    <a:moveTo>
                      <a:pt x="10" y="0"/>
                    </a:moveTo>
                    <a:lnTo>
                      <a:pt x="5" y="9"/>
                    </a:lnTo>
                    <a:lnTo>
                      <a:pt x="5" y="98"/>
                    </a:lnTo>
                    <a:lnTo>
                      <a:pt x="0" y="98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429160" y="486396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0" y="12"/>
                    </a:moveTo>
                    <a:lnTo>
                      <a:pt x="0" y="19"/>
                    </a:lnTo>
                    <a:lnTo>
                      <a:pt x="23" y="19"/>
                    </a:lnTo>
                    <a:lnTo>
                      <a:pt x="17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437080" y="488952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fill="none" w="14" h="19">
                    <a:moveTo>
                      <a:pt x="0" y="12"/>
                    </a:moveTo>
                    <a:lnTo>
                      <a:pt x="0" y="19"/>
                    </a:lnTo>
                    <a:lnTo>
                      <a:pt x="14" y="19"/>
                    </a:lnTo>
                    <a:lnTo>
                      <a:pt x="9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529240" y="48736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4" y="14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4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448240" y="4826160"/>
                <a:ext cx="18000" cy="9720"/>
              </a:xfrm>
              <a:custGeom>
                <a:avLst/>
                <a:gdLst/>
                <a:ahLst/>
                <a:rect l="0" t="0" r="r" b="b"/>
                <a:pathLst>
                  <a:path fill="none" w="50" h="27">
                    <a:moveTo>
                      <a:pt x="4" y="0"/>
                    </a:moveTo>
                    <a:lnTo>
                      <a:pt x="0" y="18"/>
                    </a:lnTo>
                    <a:lnTo>
                      <a:pt x="9" y="23"/>
                    </a:lnTo>
                    <a:lnTo>
                      <a:pt x="20" y="27"/>
                    </a:lnTo>
                    <a:lnTo>
                      <a:pt x="30" y="27"/>
                    </a:lnTo>
                    <a:lnTo>
                      <a:pt x="45" y="27"/>
                    </a:lnTo>
                    <a:lnTo>
                      <a:pt x="50" y="0"/>
                    </a:lnTo>
                    <a:lnTo>
                      <a:pt x="40" y="4"/>
                    </a:lnTo>
                    <a:lnTo>
                      <a:pt x="30" y="4"/>
                    </a:lnTo>
                    <a:lnTo>
                      <a:pt x="20" y="4"/>
                    </a:lnTo>
                    <a:lnTo>
                      <a:pt x="15" y="4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418000" y="4851360"/>
                <a:ext cx="9720" cy="3600"/>
              </a:xfrm>
              <a:custGeom>
                <a:avLst/>
                <a:gdLst/>
                <a:ahLst/>
                <a:rect l="0" t="0" r="r" b="b"/>
                <a:pathLst>
                  <a:path fill="none" w="27" h="10">
                    <a:moveTo>
                      <a:pt x="0" y="5"/>
                    </a:moveTo>
                    <a:lnTo>
                      <a:pt x="23" y="0"/>
                    </a:lnTo>
                    <a:lnTo>
                      <a:pt x="27" y="1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427720" y="4881600"/>
                <a:ext cx="9720" cy="1800"/>
              </a:xfrm>
              <a:custGeom>
                <a:avLst/>
                <a:gdLst/>
                <a:ahLst/>
                <a:rect l="0" t="0" r="r" b="b"/>
                <a:pathLst>
                  <a:path fill="none" w="27" h="5">
                    <a:moveTo>
                      <a:pt x="0" y="5"/>
                    </a:moveTo>
                    <a:lnTo>
                      <a:pt x="16" y="0"/>
                    </a:lnTo>
                    <a:lnTo>
                      <a:pt x="27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519880" y="488628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6" y="19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538960" y="4856040"/>
                <a:ext cx="5040" cy="3600"/>
              </a:xfrm>
              <a:custGeom>
                <a:avLst/>
                <a:gdLst/>
                <a:ahLst/>
                <a:rect l="0" t="0" r="r" b="b"/>
                <a:pathLst>
                  <a:path fill="none" w="14" h="10">
                    <a:moveTo>
                      <a:pt x="0" y="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478480" y="488304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fill="none" w="85" h="80">
                    <a:moveTo>
                      <a:pt x="85" y="0"/>
                    </a:moveTo>
                    <a:lnTo>
                      <a:pt x="0" y="0"/>
                    </a:lnTo>
                    <a:lnTo>
                      <a:pt x="0" y="80"/>
                    </a:lnTo>
                    <a:lnTo>
                      <a:pt x="85" y="80"/>
                    </a:lnTo>
                    <a:lnTo>
                      <a:pt x="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475240" y="4883040"/>
                <a:ext cx="33840" cy="28800"/>
              </a:xfrm>
              <a:custGeom>
                <a:avLst/>
                <a:gdLst/>
                <a:ahLst/>
                <a:rect l="0" t="0" r="r" b="b"/>
                <a:pathLst>
                  <a:path fill="none" w="94" h="80">
                    <a:moveTo>
                      <a:pt x="94" y="80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9"/>
                    </a:lnTo>
                    <a:lnTo>
                      <a:pt x="35" y="18"/>
                    </a:lnTo>
                    <a:lnTo>
                      <a:pt x="39" y="23"/>
                    </a:lnTo>
                    <a:lnTo>
                      <a:pt x="44" y="28"/>
                    </a:lnTo>
                    <a:lnTo>
                      <a:pt x="54" y="32"/>
                    </a:lnTo>
                    <a:lnTo>
                      <a:pt x="59" y="37"/>
                    </a:lnTo>
                    <a:lnTo>
                      <a:pt x="69" y="43"/>
                    </a:lnTo>
                    <a:lnTo>
                      <a:pt x="75" y="43"/>
                    </a:lnTo>
                    <a:lnTo>
                      <a:pt x="94" y="43"/>
                    </a:lnTo>
                    <a:lnTo>
                      <a:pt x="94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423040" y="4881600"/>
                <a:ext cx="198720" cy="138600"/>
              </a:xfrm>
              <a:custGeom>
                <a:avLst/>
                <a:gdLst/>
                <a:ahLst/>
                <a:rect l="0" t="0" r="r" b="b"/>
                <a:pathLst>
                  <a:path fill="none" w="552" h="385">
                    <a:moveTo>
                      <a:pt x="0" y="376"/>
                    </a:moveTo>
                    <a:lnTo>
                      <a:pt x="19" y="371"/>
                    </a:lnTo>
                    <a:lnTo>
                      <a:pt x="28" y="319"/>
                    </a:lnTo>
                    <a:lnTo>
                      <a:pt x="61" y="305"/>
                    </a:lnTo>
                    <a:lnTo>
                      <a:pt x="76" y="305"/>
                    </a:lnTo>
                    <a:lnTo>
                      <a:pt x="76" y="295"/>
                    </a:lnTo>
                    <a:lnTo>
                      <a:pt x="95" y="295"/>
                    </a:lnTo>
                    <a:lnTo>
                      <a:pt x="95" y="285"/>
                    </a:lnTo>
                    <a:lnTo>
                      <a:pt x="99" y="285"/>
                    </a:lnTo>
                    <a:lnTo>
                      <a:pt x="99" y="252"/>
                    </a:lnTo>
                    <a:lnTo>
                      <a:pt x="61" y="252"/>
                    </a:lnTo>
                    <a:lnTo>
                      <a:pt x="61" y="242"/>
                    </a:lnTo>
                    <a:lnTo>
                      <a:pt x="71" y="228"/>
                    </a:lnTo>
                    <a:lnTo>
                      <a:pt x="66" y="228"/>
                    </a:lnTo>
                    <a:lnTo>
                      <a:pt x="66" y="204"/>
                    </a:lnTo>
                    <a:lnTo>
                      <a:pt x="99" y="105"/>
                    </a:lnTo>
                    <a:lnTo>
                      <a:pt x="228" y="105"/>
                    </a:lnTo>
                    <a:lnTo>
                      <a:pt x="228" y="94"/>
                    </a:lnTo>
                    <a:lnTo>
                      <a:pt x="338" y="94"/>
                    </a:lnTo>
                    <a:lnTo>
                      <a:pt x="338" y="105"/>
                    </a:lnTo>
                    <a:lnTo>
                      <a:pt x="333" y="114"/>
                    </a:lnTo>
                    <a:lnTo>
                      <a:pt x="333" y="214"/>
                    </a:lnTo>
                    <a:lnTo>
                      <a:pt x="295" y="228"/>
                    </a:lnTo>
                    <a:lnTo>
                      <a:pt x="295" y="295"/>
                    </a:lnTo>
                    <a:lnTo>
                      <a:pt x="400" y="290"/>
                    </a:lnTo>
                    <a:lnTo>
                      <a:pt x="438" y="275"/>
                    </a:lnTo>
                    <a:lnTo>
                      <a:pt x="442" y="0"/>
                    </a:lnTo>
                    <a:lnTo>
                      <a:pt x="447" y="0"/>
                    </a:lnTo>
                    <a:lnTo>
                      <a:pt x="447" y="270"/>
                    </a:lnTo>
                    <a:lnTo>
                      <a:pt x="471" y="270"/>
                    </a:lnTo>
                    <a:lnTo>
                      <a:pt x="537" y="290"/>
                    </a:lnTo>
                    <a:lnTo>
                      <a:pt x="552" y="295"/>
                    </a:lnTo>
                    <a:lnTo>
                      <a:pt x="552" y="324"/>
                    </a:lnTo>
                    <a:lnTo>
                      <a:pt x="466" y="338"/>
                    </a:lnTo>
                    <a:lnTo>
                      <a:pt x="371" y="338"/>
                    </a:lnTo>
                    <a:lnTo>
                      <a:pt x="338" y="328"/>
                    </a:lnTo>
                    <a:lnTo>
                      <a:pt x="251" y="328"/>
                    </a:lnTo>
                    <a:lnTo>
                      <a:pt x="23" y="385"/>
                    </a:lnTo>
                    <a:lnTo>
                      <a:pt x="0" y="37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516640" y="5016600"/>
                <a:ext cx="143280" cy="11520"/>
              </a:xfrm>
              <a:custGeom>
                <a:avLst/>
                <a:gdLst/>
                <a:ahLst/>
                <a:rect l="0" t="0" r="r" b="b"/>
                <a:pathLst>
                  <a:path fill="none" w="398" h="32">
                    <a:moveTo>
                      <a:pt x="0" y="32"/>
                    </a:moveTo>
                    <a:lnTo>
                      <a:pt x="398" y="32"/>
                    </a:lnTo>
                    <a:lnTo>
                      <a:pt x="398" y="0"/>
                    </a:lnTo>
                    <a:lnTo>
                      <a:pt x="0" y="0"/>
                    </a:lnTo>
                    <a:lnTo>
                      <a:pt x="0" y="3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486400" y="5064120"/>
                <a:ext cx="47880" cy="47880"/>
              </a:xfrm>
              <a:custGeom>
                <a:avLst/>
                <a:gdLst/>
                <a:ahLst/>
                <a:rect l="0" t="0" r="r" b="b"/>
                <a:pathLst>
                  <a:path fill="none" w="133" h="133">
                    <a:moveTo>
                      <a:pt x="0" y="0"/>
                    </a:moveTo>
                    <a:lnTo>
                      <a:pt x="37" y="103"/>
                    </a:lnTo>
                    <a:lnTo>
                      <a:pt x="133" y="133"/>
                    </a:lnTo>
                    <a:lnTo>
                      <a:pt x="13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510160" y="5105520"/>
                <a:ext cx="120960" cy="59040"/>
              </a:xfrm>
              <a:custGeom>
                <a:avLst/>
                <a:gdLst/>
                <a:ahLst/>
                <a:rect l="0" t="0" r="r" b="b"/>
                <a:pathLst>
                  <a:path fill="none" w="336" h="164">
                    <a:moveTo>
                      <a:pt x="336" y="130"/>
                    </a:moveTo>
                    <a:lnTo>
                      <a:pt x="265" y="164"/>
                    </a:lnTo>
                    <a:lnTo>
                      <a:pt x="241" y="149"/>
                    </a:lnTo>
                    <a:lnTo>
                      <a:pt x="199" y="144"/>
                    </a:lnTo>
                    <a:lnTo>
                      <a:pt x="51" y="9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5" y="52"/>
                    </a:lnTo>
                    <a:lnTo>
                      <a:pt x="122" y="62"/>
                    </a:lnTo>
                    <a:lnTo>
                      <a:pt x="336" y="13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691240" y="4968720"/>
                <a:ext cx="495720" cy="259200"/>
              </a:xfrm>
              <a:custGeom>
                <a:avLst/>
                <a:gdLst/>
                <a:ahLst/>
                <a:rect l="0" t="0" r="r" b="b"/>
                <a:pathLst>
                  <a:path fill="none" w="1377" h="720">
                    <a:moveTo>
                      <a:pt x="1107" y="544"/>
                    </a:moveTo>
                    <a:lnTo>
                      <a:pt x="997" y="453"/>
                    </a:lnTo>
                    <a:lnTo>
                      <a:pt x="802" y="353"/>
                    </a:lnTo>
                    <a:lnTo>
                      <a:pt x="570" y="296"/>
                    </a:lnTo>
                    <a:lnTo>
                      <a:pt x="380" y="277"/>
                    </a:lnTo>
                    <a:lnTo>
                      <a:pt x="375" y="267"/>
                    </a:lnTo>
                    <a:lnTo>
                      <a:pt x="270" y="186"/>
                    </a:lnTo>
                    <a:lnTo>
                      <a:pt x="270" y="123"/>
                    </a:lnTo>
                    <a:lnTo>
                      <a:pt x="0" y="138"/>
                    </a:lnTo>
                    <a:lnTo>
                      <a:pt x="18" y="104"/>
                    </a:lnTo>
                    <a:lnTo>
                      <a:pt x="745" y="42"/>
                    </a:lnTo>
                    <a:lnTo>
                      <a:pt x="850" y="0"/>
                    </a:lnTo>
                    <a:lnTo>
                      <a:pt x="783" y="71"/>
                    </a:lnTo>
                    <a:lnTo>
                      <a:pt x="783" y="123"/>
                    </a:lnTo>
                    <a:lnTo>
                      <a:pt x="850" y="152"/>
                    </a:lnTo>
                    <a:lnTo>
                      <a:pt x="940" y="152"/>
                    </a:lnTo>
                    <a:lnTo>
                      <a:pt x="878" y="123"/>
                    </a:lnTo>
                    <a:lnTo>
                      <a:pt x="1050" y="123"/>
                    </a:lnTo>
                    <a:lnTo>
                      <a:pt x="1050" y="138"/>
                    </a:lnTo>
                    <a:lnTo>
                      <a:pt x="1377" y="296"/>
                    </a:lnTo>
                    <a:lnTo>
                      <a:pt x="1377" y="720"/>
                    </a:lnTo>
                    <a:lnTo>
                      <a:pt x="1354" y="701"/>
                    </a:lnTo>
                    <a:lnTo>
                      <a:pt x="1306" y="673"/>
                    </a:lnTo>
                    <a:lnTo>
                      <a:pt x="1273" y="611"/>
                    </a:lnTo>
                    <a:lnTo>
                      <a:pt x="1216" y="611"/>
                    </a:lnTo>
                    <a:lnTo>
                      <a:pt x="1173" y="563"/>
                    </a:lnTo>
                    <a:lnTo>
                      <a:pt x="1107" y="5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614920" y="5062680"/>
                <a:ext cx="224280" cy="65520"/>
              </a:xfrm>
              <a:custGeom>
                <a:avLst/>
                <a:gdLst/>
                <a:ahLst/>
                <a:rect l="0" t="0" r="r" b="b"/>
                <a:pathLst>
                  <a:path fill="none" w="623" h="182">
                    <a:moveTo>
                      <a:pt x="623" y="14"/>
                    </a:moveTo>
                    <a:lnTo>
                      <a:pt x="609" y="77"/>
                    </a:lnTo>
                    <a:lnTo>
                      <a:pt x="585" y="144"/>
                    </a:lnTo>
                    <a:lnTo>
                      <a:pt x="552" y="182"/>
                    </a:lnTo>
                    <a:lnTo>
                      <a:pt x="228" y="178"/>
                    </a:lnTo>
                    <a:lnTo>
                      <a:pt x="52" y="159"/>
                    </a:lnTo>
                    <a:lnTo>
                      <a:pt x="4" y="124"/>
                    </a:lnTo>
                    <a:lnTo>
                      <a:pt x="0" y="86"/>
                    </a:lnTo>
                    <a:lnTo>
                      <a:pt x="52" y="86"/>
                    </a:lnTo>
                    <a:lnTo>
                      <a:pt x="66" y="58"/>
                    </a:lnTo>
                    <a:lnTo>
                      <a:pt x="52" y="0"/>
                    </a:lnTo>
                    <a:lnTo>
                      <a:pt x="609" y="0"/>
                    </a:lnTo>
                    <a:lnTo>
                      <a:pt x="6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6068880" y="5013360"/>
                <a:ext cx="384480" cy="208440"/>
              </a:xfrm>
              <a:custGeom>
                <a:avLst/>
                <a:gdLst/>
                <a:ahLst/>
                <a:rect l="0" t="0" r="r" b="b"/>
                <a:pathLst>
                  <a:path fill="none" w="1068" h="579">
                    <a:moveTo>
                      <a:pt x="4" y="19"/>
                    </a:moveTo>
                    <a:lnTo>
                      <a:pt x="33" y="33"/>
                    </a:lnTo>
                    <a:lnTo>
                      <a:pt x="52" y="52"/>
                    </a:lnTo>
                    <a:lnTo>
                      <a:pt x="75" y="71"/>
                    </a:lnTo>
                    <a:lnTo>
                      <a:pt x="99" y="90"/>
                    </a:lnTo>
                    <a:lnTo>
                      <a:pt x="118" y="109"/>
                    </a:lnTo>
                    <a:lnTo>
                      <a:pt x="137" y="128"/>
                    </a:lnTo>
                    <a:lnTo>
                      <a:pt x="156" y="153"/>
                    </a:lnTo>
                    <a:lnTo>
                      <a:pt x="175" y="177"/>
                    </a:lnTo>
                    <a:lnTo>
                      <a:pt x="194" y="196"/>
                    </a:lnTo>
                    <a:lnTo>
                      <a:pt x="208" y="220"/>
                    </a:lnTo>
                    <a:lnTo>
                      <a:pt x="227" y="244"/>
                    </a:lnTo>
                    <a:lnTo>
                      <a:pt x="241" y="273"/>
                    </a:lnTo>
                    <a:lnTo>
                      <a:pt x="251" y="296"/>
                    </a:lnTo>
                    <a:lnTo>
                      <a:pt x="265" y="325"/>
                    </a:lnTo>
                    <a:lnTo>
                      <a:pt x="275" y="349"/>
                    </a:lnTo>
                    <a:lnTo>
                      <a:pt x="284" y="378"/>
                    </a:lnTo>
                    <a:lnTo>
                      <a:pt x="294" y="406"/>
                    </a:lnTo>
                    <a:lnTo>
                      <a:pt x="303" y="436"/>
                    </a:lnTo>
                    <a:lnTo>
                      <a:pt x="308" y="465"/>
                    </a:lnTo>
                    <a:lnTo>
                      <a:pt x="317" y="493"/>
                    </a:lnTo>
                    <a:lnTo>
                      <a:pt x="322" y="522"/>
                    </a:lnTo>
                    <a:lnTo>
                      <a:pt x="322" y="551"/>
                    </a:lnTo>
                    <a:lnTo>
                      <a:pt x="327" y="579"/>
                    </a:lnTo>
                    <a:lnTo>
                      <a:pt x="327" y="560"/>
                    </a:lnTo>
                    <a:lnTo>
                      <a:pt x="332" y="536"/>
                    </a:lnTo>
                    <a:lnTo>
                      <a:pt x="336" y="512"/>
                    </a:lnTo>
                    <a:lnTo>
                      <a:pt x="341" y="488"/>
                    </a:lnTo>
                    <a:lnTo>
                      <a:pt x="350" y="469"/>
                    </a:lnTo>
                    <a:lnTo>
                      <a:pt x="355" y="445"/>
                    </a:lnTo>
                    <a:lnTo>
                      <a:pt x="365" y="425"/>
                    </a:lnTo>
                    <a:lnTo>
                      <a:pt x="374" y="402"/>
                    </a:lnTo>
                    <a:lnTo>
                      <a:pt x="388" y="382"/>
                    </a:lnTo>
                    <a:lnTo>
                      <a:pt x="398" y="363"/>
                    </a:lnTo>
                    <a:lnTo>
                      <a:pt x="412" y="344"/>
                    </a:lnTo>
                    <a:lnTo>
                      <a:pt x="426" y="325"/>
                    </a:lnTo>
                    <a:lnTo>
                      <a:pt x="441" y="311"/>
                    </a:lnTo>
                    <a:lnTo>
                      <a:pt x="460" y="292"/>
                    </a:lnTo>
                    <a:lnTo>
                      <a:pt x="474" y="277"/>
                    </a:lnTo>
                    <a:lnTo>
                      <a:pt x="493" y="263"/>
                    </a:lnTo>
                    <a:lnTo>
                      <a:pt x="507" y="244"/>
                    </a:lnTo>
                    <a:lnTo>
                      <a:pt x="526" y="234"/>
                    </a:lnTo>
                    <a:lnTo>
                      <a:pt x="546" y="220"/>
                    </a:lnTo>
                    <a:lnTo>
                      <a:pt x="617" y="177"/>
                    </a:lnTo>
                    <a:lnTo>
                      <a:pt x="702" y="133"/>
                    </a:lnTo>
                    <a:lnTo>
                      <a:pt x="812" y="85"/>
                    </a:lnTo>
                    <a:lnTo>
                      <a:pt x="925" y="47"/>
                    </a:lnTo>
                    <a:lnTo>
                      <a:pt x="1068" y="0"/>
                    </a:lnTo>
                    <a:lnTo>
                      <a:pt x="1006" y="0"/>
                    </a:lnTo>
                    <a:lnTo>
                      <a:pt x="1006" y="14"/>
                    </a:lnTo>
                    <a:lnTo>
                      <a:pt x="0" y="14"/>
                    </a:lnTo>
                    <a:lnTo>
                      <a:pt x="4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5997600" y="4981680"/>
                <a:ext cx="71640" cy="36720"/>
              </a:xfrm>
              <a:custGeom>
                <a:avLst/>
                <a:gdLst/>
                <a:ahLst/>
                <a:rect l="0" t="0" r="r" b="b"/>
                <a:pathLst>
                  <a:path fill="none" w="199" h="102">
                    <a:moveTo>
                      <a:pt x="199" y="102"/>
                    </a:moveTo>
                    <a:lnTo>
                      <a:pt x="199" y="0"/>
                    </a:lnTo>
                    <a:lnTo>
                      <a:pt x="189" y="0"/>
                    </a:lnTo>
                    <a:lnTo>
                      <a:pt x="189" y="83"/>
                    </a:lnTo>
                    <a:lnTo>
                      <a:pt x="0" y="83"/>
                    </a:lnTo>
                    <a:lnTo>
                      <a:pt x="56" y="102"/>
                    </a:lnTo>
                    <a:lnTo>
                      <a:pt x="56" y="88"/>
                    </a:lnTo>
                    <a:lnTo>
                      <a:pt x="189" y="88"/>
                    </a:lnTo>
                    <a:lnTo>
                      <a:pt x="166" y="102"/>
                    </a:lnTo>
                    <a:lnTo>
                      <a:pt x="199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6013440" y="4968720"/>
                <a:ext cx="437040" cy="12960"/>
              </a:xfrm>
              <a:custGeom>
                <a:avLst/>
                <a:gdLst/>
                <a:ahLst/>
                <a:rect l="0" t="0" r="r" b="b"/>
                <a:pathLst>
                  <a:path fill="none" w="1214" h="36">
                    <a:moveTo>
                      <a:pt x="146" y="36"/>
                    </a:moveTo>
                    <a:lnTo>
                      <a:pt x="184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14" y="15"/>
                    </a:lnTo>
                    <a:lnTo>
                      <a:pt x="1181" y="36"/>
                    </a:lnTo>
                    <a:lnTo>
                      <a:pt x="146" y="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6438960" y="4981680"/>
                <a:ext cx="14760" cy="32040"/>
              </a:xfrm>
              <a:custGeom>
                <a:avLst/>
                <a:gdLst/>
                <a:ahLst/>
                <a:rect l="0" t="0" r="r" b="b"/>
                <a:pathLst>
                  <a:path fill="none" w="41" h="89">
                    <a:moveTo>
                      <a:pt x="0" y="0"/>
                    </a:moveTo>
                    <a:lnTo>
                      <a:pt x="41" y="0"/>
                    </a:lnTo>
                    <a:lnTo>
                      <a:pt x="41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6453360" y="499896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0" y="19"/>
                    </a:moveTo>
                    <a:lnTo>
                      <a:pt x="41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656320" y="4981680"/>
                <a:ext cx="375120" cy="81360"/>
              </a:xfrm>
              <a:custGeom>
                <a:avLst/>
                <a:gdLst/>
                <a:ahLst/>
                <a:rect l="0" t="0" r="r" b="b"/>
                <a:pathLst>
                  <a:path fill="none" w="1042" h="226">
                    <a:moveTo>
                      <a:pt x="1004" y="108"/>
                    </a:moveTo>
                    <a:lnTo>
                      <a:pt x="1023" y="113"/>
                    </a:lnTo>
                    <a:lnTo>
                      <a:pt x="680" y="118"/>
                    </a:lnTo>
                    <a:lnTo>
                      <a:pt x="847" y="51"/>
                    </a:lnTo>
                    <a:lnTo>
                      <a:pt x="847" y="0"/>
                    </a:lnTo>
                    <a:lnTo>
                      <a:pt x="814" y="0"/>
                    </a:lnTo>
                    <a:lnTo>
                      <a:pt x="814" y="57"/>
                    </a:lnTo>
                    <a:lnTo>
                      <a:pt x="713" y="57"/>
                    </a:lnTo>
                    <a:lnTo>
                      <a:pt x="109" y="99"/>
                    </a:lnTo>
                    <a:lnTo>
                      <a:pt x="185" y="99"/>
                    </a:lnTo>
                    <a:lnTo>
                      <a:pt x="185" y="155"/>
                    </a:lnTo>
                    <a:lnTo>
                      <a:pt x="0" y="155"/>
                    </a:lnTo>
                    <a:lnTo>
                      <a:pt x="0" y="160"/>
                    </a:lnTo>
                    <a:lnTo>
                      <a:pt x="395" y="160"/>
                    </a:lnTo>
                    <a:lnTo>
                      <a:pt x="485" y="226"/>
                    </a:lnTo>
                    <a:lnTo>
                      <a:pt x="371" y="136"/>
                    </a:lnTo>
                    <a:lnTo>
                      <a:pt x="371" y="85"/>
                    </a:lnTo>
                    <a:lnTo>
                      <a:pt x="428" y="122"/>
                    </a:lnTo>
                    <a:lnTo>
                      <a:pt x="390" y="127"/>
                    </a:lnTo>
                    <a:lnTo>
                      <a:pt x="1042" y="113"/>
                    </a:lnTo>
                    <a:lnTo>
                      <a:pt x="1004" y="10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656320" y="5027760"/>
                <a:ext cx="66960" cy="33840"/>
              </a:xfrm>
              <a:custGeom>
                <a:avLst/>
                <a:gdLst/>
                <a:ahLst/>
                <a:rect l="0" t="0" r="r" b="b"/>
                <a:pathLst>
                  <a:path fill="none" w="186" h="94">
                    <a:moveTo>
                      <a:pt x="0" y="94"/>
                    </a:moveTo>
                    <a:lnTo>
                      <a:pt x="0" y="0"/>
                    </a:lnTo>
                    <a:lnTo>
                      <a:pt x="18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H="1">
                <a:off x="5656320" y="503388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656320" y="503064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66892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68152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569268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70564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71644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668920" y="5010120"/>
                <a:ext cx="27360" cy="18000"/>
              </a:xfrm>
              <a:custGeom>
                <a:avLst/>
                <a:gdLst/>
                <a:ahLst/>
                <a:rect l="0" t="0" r="r" b="b"/>
                <a:pathLst>
                  <a:path fill="none" w="76" h="50">
                    <a:moveTo>
                      <a:pt x="58" y="50"/>
                    </a:moveTo>
                    <a:lnTo>
                      <a:pt x="58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24" y="30"/>
                    </a:lnTo>
                    <a:lnTo>
                      <a:pt x="24" y="50"/>
                    </a:lnTo>
                    <a:lnTo>
                      <a:pt x="58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656320" y="4998960"/>
                <a:ext cx="12960" cy="28800"/>
              </a:xfrm>
              <a:custGeom>
                <a:avLst/>
                <a:gdLst/>
                <a:ahLst/>
                <a:rect l="0" t="0" r="r" b="b"/>
                <a:pathLst>
                  <a:path fill="none" w="36" h="80">
                    <a:moveTo>
                      <a:pt x="36" y="80"/>
                    </a:move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0" y="14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5695920" y="4968720"/>
                <a:ext cx="302040" cy="36720"/>
              </a:xfrm>
              <a:custGeom>
                <a:avLst/>
                <a:gdLst/>
                <a:ahLst/>
                <a:rect l="0" t="0" r="r" b="b"/>
                <a:pathLst>
                  <a:path fill="none" w="839" h="102">
                    <a:moveTo>
                      <a:pt x="0" y="102"/>
                    </a:moveTo>
                    <a:lnTo>
                      <a:pt x="839" y="0"/>
                    </a:lnTo>
                    <a:lnTo>
                      <a:pt x="739" y="43"/>
                    </a:lnTo>
                    <a:lnTo>
                      <a:pt x="605" y="43"/>
                    </a:lnTo>
                    <a:lnTo>
                      <a:pt x="605" y="87"/>
                    </a:lnTo>
                    <a:lnTo>
                      <a:pt x="591" y="48"/>
                    </a:lnTo>
                    <a:lnTo>
                      <a:pt x="0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695920" y="4989600"/>
                <a:ext cx="209880" cy="18000"/>
              </a:xfrm>
              <a:custGeom>
                <a:avLst/>
                <a:gdLst/>
                <a:ahLst/>
                <a:rect l="0" t="0" r="r" b="b"/>
                <a:pathLst>
                  <a:path fill="none" w="583" h="50">
                    <a:moveTo>
                      <a:pt x="0" y="45"/>
                    </a:moveTo>
                    <a:lnTo>
                      <a:pt x="9" y="50"/>
                    </a:lnTo>
                    <a:lnTo>
                      <a:pt x="58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5630760" y="5062680"/>
                <a:ext cx="200520" cy="55800"/>
              </a:xfrm>
              <a:custGeom>
                <a:avLst/>
                <a:gdLst/>
                <a:ahLst/>
                <a:rect l="0" t="0" r="r" b="b"/>
                <a:pathLst>
                  <a:path fill="none" w="557" h="155">
                    <a:moveTo>
                      <a:pt x="557" y="0"/>
                    </a:moveTo>
                    <a:lnTo>
                      <a:pt x="557" y="14"/>
                    </a:lnTo>
                    <a:lnTo>
                      <a:pt x="552" y="43"/>
                    </a:lnTo>
                    <a:lnTo>
                      <a:pt x="548" y="67"/>
                    </a:lnTo>
                    <a:lnTo>
                      <a:pt x="533" y="97"/>
                    </a:lnTo>
                    <a:lnTo>
                      <a:pt x="519" y="126"/>
                    </a:lnTo>
                    <a:lnTo>
                      <a:pt x="495" y="155"/>
                    </a:lnTo>
                    <a:lnTo>
                      <a:pt x="371" y="145"/>
                    </a:lnTo>
                    <a:lnTo>
                      <a:pt x="0" y="0"/>
                    </a:lnTo>
                    <a:lnTo>
                      <a:pt x="55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92760" y="5038560"/>
                <a:ext cx="1800" cy="25920"/>
              </a:xfrm>
              <a:custGeom>
                <a:avLst/>
                <a:gdLst/>
                <a:ahLst/>
                <a:rect l="0" t="0" r="r" b="b"/>
                <a:pathLst>
                  <a:path fill="none" w="5" h="72">
                    <a:moveTo>
                      <a:pt x="0" y="0"/>
                    </a:moveTo>
                    <a:lnTo>
                      <a:pt x="0" y="72"/>
                    </a:lnTo>
                    <a:lnTo>
                      <a:pt x="5" y="7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629320" y="5068800"/>
                <a:ext cx="44640" cy="38520"/>
              </a:xfrm>
              <a:custGeom>
                <a:avLst/>
                <a:gdLst/>
                <a:ahLst/>
                <a:rect l="0" t="0" r="r" b="b"/>
                <a:pathLst>
                  <a:path fill="none" w="124" h="107">
                    <a:moveTo>
                      <a:pt x="14" y="0"/>
                    </a:moveTo>
                    <a:lnTo>
                      <a:pt x="95" y="60"/>
                    </a:lnTo>
                    <a:lnTo>
                      <a:pt x="95" y="74"/>
                    </a:lnTo>
                    <a:lnTo>
                      <a:pt x="91" y="89"/>
                    </a:lnTo>
                    <a:lnTo>
                      <a:pt x="81" y="94"/>
                    </a:lnTo>
                    <a:lnTo>
                      <a:pt x="61" y="98"/>
                    </a:lnTo>
                    <a:lnTo>
                      <a:pt x="0" y="98"/>
                    </a:lnTo>
                    <a:lnTo>
                      <a:pt x="4" y="103"/>
                    </a:lnTo>
                    <a:lnTo>
                      <a:pt x="86" y="107"/>
                    </a:lnTo>
                    <a:lnTo>
                      <a:pt x="100" y="103"/>
                    </a:lnTo>
                    <a:lnTo>
                      <a:pt x="110" y="94"/>
                    </a:lnTo>
                    <a:lnTo>
                      <a:pt x="114" y="84"/>
                    </a:lnTo>
                    <a:lnTo>
                      <a:pt x="119" y="70"/>
                    </a:lnTo>
                    <a:lnTo>
                      <a:pt x="124" y="4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H="1">
                <a:off x="5530680" y="5003640"/>
                <a:ext cx="125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408640" y="5003640"/>
                <a:ext cx="248040" cy="39960"/>
              </a:xfrm>
              <a:custGeom>
                <a:avLst/>
                <a:gdLst/>
                <a:ahLst/>
                <a:rect l="0" t="0" r="r" b="b"/>
                <a:pathLst>
                  <a:path fill="none" w="689" h="111">
                    <a:moveTo>
                      <a:pt x="337" y="0"/>
                    </a:moveTo>
                    <a:lnTo>
                      <a:pt x="337" y="32"/>
                    </a:lnTo>
                    <a:lnTo>
                      <a:pt x="689" y="32"/>
                    </a:lnTo>
                    <a:lnTo>
                      <a:pt x="689" y="41"/>
                    </a:lnTo>
                    <a:lnTo>
                      <a:pt x="295" y="41"/>
                    </a:lnTo>
                    <a:lnTo>
                      <a:pt x="56" y="111"/>
                    </a:lnTo>
                    <a:lnTo>
                      <a:pt x="0" y="97"/>
                    </a:lnTo>
                    <a:lnTo>
                      <a:pt x="295" y="0"/>
                    </a:lnTo>
                    <a:lnTo>
                      <a:pt x="33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418000" y="5014800"/>
                <a:ext cx="224280" cy="109800"/>
              </a:xfrm>
              <a:custGeom>
                <a:avLst/>
                <a:gdLst/>
                <a:ahLst/>
                <a:rect l="0" t="0" r="r" b="b"/>
                <a:pathLst>
                  <a:path fill="none" w="623" h="305">
                    <a:moveTo>
                      <a:pt x="623" y="57"/>
                    </a:moveTo>
                    <a:lnTo>
                      <a:pt x="609" y="71"/>
                    </a:lnTo>
                    <a:lnTo>
                      <a:pt x="600" y="71"/>
                    </a:lnTo>
                    <a:lnTo>
                      <a:pt x="600" y="95"/>
                    </a:lnTo>
                    <a:lnTo>
                      <a:pt x="481" y="95"/>
                    </a:lnTo>
                    <a:lnTo>
                      <a:pt x="481" y="133"/>
                    </a:lnTo>
                    <a:lnTo>
                      <a:pt x="571" y="233"/>
                    </a:lnTo>
                    <a:lnTo>
                      <a:pt x="552" y="219"/>
                    </a:lnTo>
                    <a:lnTo>
                      <a:pt x="552" y="248"/>
                    </a:lnTo>
                    <a:lnTo>
                      <a:pt x="490" y="238"/>
                    </a:lnTo>
                    <a:lnTo>
                      <a:pt x="490" y="305"/>
                    </a:lnTo>
                    <a:lnTo>
                      <a:pt x="356" y="243"/>
                    </a:lnTo>
                    <a:lnTo>
                      <a:pt x="356" y="157"/>
                    </a:lnTo>
                    <a:lnTo>
                      <a:pt x="342" y="157"/>
                    </a:lnTo>
                    <a:lnTo>
                      <a:pt x="342" y="205"/>
                    </a:lnTo>
                    <a:lnTo>
                      <a:pt x="328" y="205"/>
                    </a:lnTo>
                    <a:lnTo>
                      <a:pt x="328" y="157"/>
                    </a:lnTo>
                    <a:lnTo>
                      <a:pt x="314" y="157"/>
                    </a:lnTo>
                    <a:lnTo>
                      <a:pt x="314" y="243"/>
                    </a:lnTo>
                    <a:lnTo>
                      <a:pt x="314" y="147"/>
                    </a:lnTo>
                    <a:lnTo>
                      <a:pt x="200" y="147"/>
                    </a:lnTo>
                    <a:lnTo>
                      <a:pt x="186" y="133"/>
                    </a:lnTo>
                    <a:lnTo>
                      <a:pt x="219" y="133"/>
                    </a:lnTo>
                    <a:lnTo>
                      <a:pt x="219" y="85"/>
                    </a:lnTo>
                    <a:lnTo>
                      <a:pt x="104" y="109"/>
                    </a:lnTo>
                    <a:lnTo>
                      <a:pt x="151" y="229"/>
                    </a:lnTo>
                    <a:lnTo>
                      <a:pt x="0" y="142"/>
                    </a:lnTo>
                    <a:lnTo>
                      <a:pt x="0" y="118"/>
                    </a:lnTo>
                    <a:lnTo>
                      <a:pt x="219" y="61"/>
                    </a:lnTo>
                    <a:lnTo>
                      <a:pt x="219" y="23"/>
                    </a:lnTo>
                    <a:lnTo>
                      <a:pt x="271" y="0"/>
                    </a:lnTo>
                    <a:lnTo>
                      <a:pt x="271" y="57"/>
                    </a:lnTo>
                    <a:lnTo>
                      <a:pt x="623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477040" y="509904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fill="none" w="270" h="67">
                    <a:moveTo>
                      <a:pt x="0" y="0"/>
                    </a:moveTo>
                    <a:lnTo>
                      <a:pt x="149" y="9"/>
                    </a:lnTo>
                    <a:lnTo>
                      <a:pt x="270" y="6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5589720" y="5048280"/>
                <a:ext cx="66960" cy="19440"/>
              </a:xfrm>
              <a:custGeom>
                <a:avLst/>
                <a:gdLst/>
                <a:ahLst/>
                <a:rect l="0" t="0" r="r" b="b"/>
                <a:pathLst>
                  <a:path fill="none" w="186" h="54">
                    <a:moveTo>
                      <a:pt x="47" y="0"/>
                    </a:moveTo>
                    <a:lnTo>
                      <a:pt x="47" y="45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14" y="54"/>
                    </a:lnTo>
                    <a:lnTo>
                      <a:pt x="95" y="45"/>
                    </a:lnTo>
                    <a:lnTo>
                      <a:pt x="186" y="45"/>
                    </a:lnTo>
                    <a:lnTo>
                      <a:pt x="186" y="0"/>
                    </a:lnTo>
                    <a:lnTo>
                      <a:pt x="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5408640" y="4997520"/>
                <a:ext cx="251280" cy="57600"/>
              </a:xfrm>
              <a:custGeom>
                <a:avLst/>
                <a:gdLst/>
                <a:ahLst/>
                <a:rect l="0" t="0" r="r" b="b"/>
                <a:pathLst>
                  <a:path fill="none" w="698" h="160">
                    <a:moveTo>
                      <a:pt x="57" y="160"/>
                    </a:moveTo>
                    <a:lnTo>
                      <a:pt x="57" y="131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296" y="0"/>
                    </a:lnTo>
                    <a:lnTo>
                      <a:pt x="378" y="0"/>
                    </a:lnTo>
                    <a:lnTo>
                      <a:pt x="411" y="9"/>
                    </a:lnTo>
                    <a:lnTo>
                      <a:pt x="698" y="9"/>
                    </a:lnTo>
                    <a:lnTo>
                      <a:pt x="698" y="14"/>
                    </a:lnTo>
                    <a:lnTo>
                      <a:pt x="411" y="14"/>
                    </a:lnTo>
                    <a:lnTo>
                      <a:pt x="378" y="4"/>
                    </a:lnTo>
                    <a:lnTo>
                      <a:pt x="296" y="4"/>
                    </a:lnTo>
                    <a:lnTo>
                      <a:pt x="296" y="19"/>
                    </a:lnTo>
                    <a:lnTo>
                      <a:pt x="263" y="19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57" y="16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506920" y="5102280"/>
                <a:ext cx="135360" cy="54360"/>
              </a:xfrm>
              <a:custGeom>
                <a:avLst/>
                <a:gdLst/>
                <a:ahLst/>
                <a:rect l="0" t="0" r="r" b="b"/>
                <a:pathLst>
                  <a:path fill="none" w="376" h="151">
                    <a:moveTo>
                      <a:pt x="334" y="0"/>
                    </a:moveTo>
                    <a:lnTo>
                      <a:pt x="343" y="4"/>
                    </a:lnTo>
                    <a:lnTo>
                      <a:pt x="376" y="4"/>
                    </a:lnTo>
                    <a:lnTo>
                      <a:pt x="376" y="132"/>
                    </a:lnTo>
                    <a:lnTo>
                      <a:pt x="353" y="151"/>
                    </a:lnTo>
                    <a:lnTo>
                      <a:pt x="18" y="49"/>
                    </a:lnTo>
                    <a:lnTo>
                      <a:pt x="37" y="83"/>
                    </a:lnTo>
                    <a:lnTo>
                      <a:pt x="4" y="49"/>
                    </a:lnTo>
                    <a:lnTo>
                      <a:pt x="0" y="9"/>
                    </a:lnTo>
                    <a:lnTo>
                      <a:pt x="9" y="39"/>
                    </a:lnTo>
                    <a:lnTo>
                      <a:pt x="334" y="122"/>
                    </a:lnTo>
                    <a:lnTo>
                      <a:pt x="33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597640" y="510228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fill="none" w="54" h="89">
                    <a:moveTo>
                      <a:pt x="54" y="0"/>
                    </a:moveTo>
                    <a:lnTo>
                      <a:pt x="54" y="8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50" y="79"/>
                    </a:lnTo>
                    <a:lnTo>
                      <a:pt x="50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597640" y="5100480"/>
                <a:ext cx="5040" cy="27360"/>
              </a:xfrm>
              <a:custGeom>
                <a:avLst/>
                <a:gdLst/>
                <a:ahLst/>
                <a:rect l="0" t="0" r="r" b="b"/>
                <a:pathLst>
                  <a:path fill="none" w="14" h="76">
                    <a:moveTo>
                      <a:pt x="0" y="0"/>
                    </a:moveTo>
                    <a:lnTo>
                      <a:pt x="0" y="76"/>
                    </a:lnTo>
                    <a:lnTo>
                      <a:pt x="14" y="76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470560" y="506736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4"/>
                    </a:moveTo>
                    <a:lnTo>
                      <a:pt x="25" y="63"/>
                    </a:lnTo>
                    <a:lnTo>
                      <a:pt x="41" y="63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459400" y="505764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0" y="0"/>
                    </a:moveTo>
                    <a:lnTo>
                      <a:pt x="41" y="102"/>
                    </a:lnTo>
                    <a:lnTo>
                      <a:pt x="50" y="102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477040" y="5048280"/>
                <a:ext cx="8280" cy="11520"/>
              </a:xfrm>
              <a:custGeom>
                <a:avLst/>
                <a:gdLst/>
                <a:ahLst/>
                <a:rect l="0" t="0" r="r" b="b"/>
                <a:pathLst>
                  <a:path fill="none" w="23" h="32">
                    <a:moveTo>
                      <a:pt x="23" y="0"/>
                    </a:moveTo>
                    <a:lnTo>
                      <a:pt x="23" y="32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6138720" y="5164200"/>
                <a:ext cx="143280" cy="89280"/>
              </a:xfrm>
              <a:custGeom>
                <a:avLst/>
                <a:gdLst/>
                <a:ahLst/>
                <a:rect l="0" t="0" r="r" b="b"/>
                <a:pathLst>
                  <a:path fill="none" w="398" h="248">
                    <a:moveTo>
                      <a:pt x="0" y="248"/>
                    </a:moveTo>
                    <a:lnTo>
                      <a:pt x="33" y="248"/>
                    </a:lnTo>
                    <a:lnTo>
                      <a:pt x="38" y="225"/>
                    </a:lnTo>
                    <a:lnTo>
                      <a:pt x="66" y="225"/>
                    </a:lnTo>
                    <a:lnTo>
                      <a:pt x="76" y="210"/>
                    </a:lnTo>
                    <a:lnTo>
                      <a:pt x="106" y="206"/>
                    </a:lnTo>
                    <a:lnTo>
                      <a:pt x="120" y="229"/>
                    </a:lnTo>
                    <a:lnTo>
                      <a:pt x="134" y="225"/>
                    </a:lnTo>
                    <a:lnTo>
                      <a:pt x="134" y="206"/>
                    </a:lnTo>
                    <a:lnTo>
                      <a:pt x="163" y="196"/>
                    </a:lnTo>
                    <a:lnTo>
                      <a:pt x="182" y="210"/>
                    </a:lnTo>
                    <a:lnTo>
                      <a:pt x="192" y="201"/>
                    </a:lnTo>
                    <a:lnTo>
                      <a:pt x="201" y="181"/>
                    </a:lnTo>
                    <a:lnTo>
                      <a:pt x="225" y="176"/>
                    </a:lnTo>
                    <a:lnTo>
                      <a:pt x="235" y="167"/>
                    </a:lnTo>
                    <a:lnTo>
                      <a:pt x="268" y="162"/>
                    </a:lnTo>
                    <a:lnTo>
                      <a:pt x="303" y="181"/>
                    </a:lnTo>
                    <a:lnTo>
                      <a:pt x="317" y="171"/>
                    </a:lnTo>
                    <a:lnTo>
                      <a:pt x="317" y="152"/>
                    </a:lnTo>
                    <a:lnTo>
                      <a:pt x="331" y="152"/>
                    </a:lnTo>
                    <a:lnTo>
                      <a:pt x="379" y="171"/>
                    </a:lnTo>
                    <a:lnTo>
                      <a:pt x="398" y="167"/>
                    </a:lnTo>
                    <a:lnTo>
                      <a:pt x="389" y="119"/>
                    </a:lnTo>
                    <a:lnTo>
                      <a:pt x="351" y="105"/>
                    </a:lnTo>
                    <a:lnTo>
                      <a:pt x="331" y="91"/>
                    </a:lnTo>
                    <a:lnTo>
                      <a:pt x="292" y="100"/>
                    </a:lnTo>
                    <a:lnTo>
                      <a:pt x="278" y="91"/>
                    </a:lnTo>
                    <a:lnTo>
                      <a:pt x="283" y="72"/>
                    </a:lnTo>
                    <a:lnTo>
                      <a:pt x="268" y="56"/>
                    </a:lnTo>
                    <a:lnTo>
                      <a:pt x="278" y="33"/>
                    </a:lnTo>
                    <a:lnTo>
                      <a:pt x="268" y="0"/>
                    </a:lnTo>
                    <a:lnTo>
                      <a:pt x="225" y="4"/>
                    </a:lnTo>
                    <a:lnTo>
                      <a:pt x="206" y="23"/>
                    </a:lnTo>
                    <a:lnTo>
                      <a:pt x="182" y="28"/>
                    </a:lnTo>
                    <a:lnTo>
                      <a:pt x="163" y="52"/>
                    </a:lnTo>
                    <a:lnTo>
                      <a:pt x="144" y="81"/>
                    </a:lnTo>
                    <a:lnTo>
                      <a:pt x="173" y="52"/>
                    </a:lnTo>
                    <a:lnTo>
                      <a:pt x="206" y="33"/>
                    </a:lnTo>
                    <a:lnTo>
                      <a:pt x="220" y="14"/>
                    </a:lnTo>
                    <a:lnTo>
                      <a:pt x="254" y="18"/>
                    </a:lnTo>
                    <a:lnTo>
                      <a:pt x="263" y="42"/>
                    </a:lnTo>
                    <a:lnTo>
                      <a:pt x="254" y="56"/>
                    </a:lnTo>
                    <a:lnTo>
                      <a:pt x="268" y="67"/>
                    </a:lnTo>
                    <a:lnTo>
                      <a:pt x="263" y="95"/>
                    </a:lnTo>
                    <a:lnTo>
                      <a:pt x="273" y="110"/>
                    </a:lnTo>
                    <a:lnTo>
                      <a:pt x="254" y="110"/>
                    </a:lnTo>
                    <a:lnTo>
                      <a:pt x="254" y="129"/>
                    </a:lnTo>
                    <a:lnTo>
                      <a:pt x="278" y="133"/>
                    </a:lnTo>
                    <a:lnTo>
                      <a:pt x="278" y="124"/>
                    </a:lnTo>
                    <a:lnTo>
                      <a:pt x="292" y="119"/>
                    </a:lnTo>
                    <a:lnTo>
                      <a:pt x="308" y="124"/>
                    </a:lnTo>
                    <a:lnTo>
                      <a:pt x="336" y="110"/>
                    </a:lnTo>
                    <a:lnTo>
                      <a:pt x="351" y="138"/>
                    </a:lnTo>
                    <a:lnTo>
                      <a:pt x="322" y="138"/>
                    </a:lnTo>
                    <a:lnTo>
                      <a:pt x="303" y="157"/>
                    </a:lnTo>
                    <a:lnTo>
                      <a:pt x="263" y="152"/>
                    </a:lnTo>
                    <a:lnTo>
                      <a:pt x="230" y="157"/>
                    </a:lnTo>
                    <a:lnTo>
                      <a:pt x="216" y="143"/>
                    </a:lnTo>
                    <a:lnTo>
                      <a:pt x="192" y="148"/>
                    </a:lnTo>
                    <a:lnTo>
                      <a:pt x="187" y="181"/>
                    </a:lnTo>
                    <a:lnTo>
                      <a:pt x="182" y="196"/>
                    </a:lnTo>
                    <a:lnTo>
                      <a:pt x="163" y="181"/>
                    </a:lnTo>
                    <a:lnTo>
                      <a:pt x="130" y="191"/>
                    </a:lnTo>
                    <a:lnTo>
                      <a:pt x="115" y="181"/>
                    </a:lnTo>
                    <a:lnTo>
                      <a:pt x="95" y="187"/>
                    </a:lnTo>
                    <a:lnTo>
                      <a:pt x="90" y="201"/>
                    </a:lnTo>
                    <a:lnTo>
                      <a:pt x="62" y="206"/>
                    </a:lnTo>
                    <a:lnTo>
                      <a:pt x="47" y="215"/>
                    </a:lnTo>
                    <a:lnTo>
                      <a:pt x="23" y="215"/>
                    </a:lnTo>
                    <a:lnTo>
                      <a:pt x="23" y="239"/>
                    </a:lnTo>
                    <a:lnTo>
                      <a:pt x="0" y="2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6219720" y="519588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fill="none" w="19" h="23">
                    <a:moveTo>
                      <a:pt x="4" y="0"/>
                    </a:moveTo>
                    <a:lnTo>
                      <a:pt x="19" y="5"/>
                    </a:lnTo>
                    <a:lnTo>
                      <a:pt x="9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6248520" y="5183280"/>
                <a:ext cx="9720" cy="8280"/>
              </a:xfrm>
              <a:custGeom>
                <a:avLst/>
                <a:gdLst/>
                <a:ahLst/>
                <a:rect l="0" t="0" r="r" b="b"/>
                <a:pathLst>
                  <a:path fill="none" w="27" h="23">
                    <a:moveTo>
                      <a:pt x="10" y="2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7" y="8"/>
                    </a:lnTo>
                    <a:lnTo>
                      <a:pt x="27" y="23"/>
                    </a:lnTo>
                    <a:lnTo>
                      <a:pt x="10" y="2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6246720" y="516096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9" y="0"/>
                    </a:moveTo>
                    <a:lnTo>
                      <a:pt x="0" y="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5756400" y="5145120"/>
                <a:ext cx="427320" cy="79560"/>
              </a:xfrm>
              <a:custGeom>
                <a:avLst/>
                <a:gdLst/>
                <a:ahLst/>
                <a:rect l="0" t="0" r="r" b="b"/>
                <a:pathLst>
                  <a:path fill="none" w="1187" h="221">
                    <a:moveTo>
                      <a:pt x="1187" y="221"/>
                    </a:moveTo>
                    <a:lnTo>
                      <a:pt x="1163" y="197"/>
                    </a:lnTo>
                    <a:lnTo>
                      <a:pt x="1135" y="187"/>
                    </a:lnTo>
                    <a:lnTo>
                      <a:pt x="1125" y="173"/>
                    </a:lnTo>
                    <a:lnTo>
                      <a:pt x="1125" y="144"/>
                    </a:lnTo>
                    <a:lnTo>
                      <a:pt x="1106" y="125"/>
                    </a:lnTo>
                    <a:lnTo>
                      <a:pt x="1101" y="105"/>
                    </a:lnTo>
                    <a:lnTo>
                      <a:pt x="1068" y="105"/>
                    </a:lnTo>
                    <a:lnTo>
                      <a:pt x="1044" y="105"/>
                    </a:lnTo>
                    <a:lnTo>
                      <a:pt x="1016" y="95"/>
                    </a:lnTo>
                    <a:lnTo>
                      <a:pt x="997" y="57"/>
                    </a:lnTo>
                    <a:lnTo>
                      <a:pt x="978" y="57"/>
                    </a:lnTo>
                    <a:lnTo>
                      <a:pt x="959" y="38"/>
                    </a:lnTo>
                    <a:lnTo>
                      <a:pt x="930" y="47"/>
                    </a:lnTo>
                    <a:lnTo>
                      <a:pt x="907" y="57"/>
                    </a:lnTo>
                    <a:lnTo>
                      <a:pt x="893" y="47"/>
                    </a:lnTo>
                    <a:lnTo>
                      <a:pt x="859" y="23"/>
                    </a:lnTo>
                    <a:lnTo>
                      <a:pt x="821" y="19"/>
                    </a:lnTo>
                    <a:lnTo>
                      <a:pt x="793" y="0"/>
                    </a:lnTo>
                    <a:lnTo>
                      <a:pt x="760" y="9"/>
                    </a:lnTo>
                    <a:lnTo>
                      <a:pt x="741" y="38"/>
                    </a:lnTo>
                    <a:lnTo>
                      <a:pt x="693" y="52"/>
                    </a:lnTo>
                    <a:lnTo>
                      <a:pt x="679" y="67"/>
                    </a:lnTo>
                    <a:lnTo>
                      <a:pt x="646" y="67"/>
                    </a:lnTo>
                    <a:lnTo>
                      <a:pt x="613" y="67"/>
                    </a:lnTo>
                    <a:lnTo>
                      <a:pt x="594" y="86"/>
                    </a:lnTo>
                    <a:lnTo>
                      <a:pt x="574" y="100"/>
                    </a:lnTo>
                    <a:lnTo>
                      <a:pt x="536" y="111"/>
                    </a:lnTo>
                    <a:lnTo>
                      <a:pt x="517" y="100"/>
                    </a:lnTo>
                    <a:lnTo>
                      <a:pt x="517" y="71"/>
                    </a:lnTo>
                    <a:lnTo>
                      <a:pt x="502" y="62"/>
                    </a:lnTo>
                    <a:lnTo>
                      <a:pt x="507" y="43"/>
                    </a:lnTo>
                    <a:lnTo>
                      <a:pt x="460" y="28"/>
                    </a:lnTo>
                    <a:lnTo>
                      <a:pt x="450" y="47"/>
                    </a:lnTo>
                    <a:lnTo>
                      <a:pt x="398" y="28"/>
                    </a:lnTo>
                    <a:lnTo>
                      <a:pt x="351" y="38"/>
                    </a:lnTo>
                    <a:lnTo>
                      <a:pt x="322" y="57"/>
                    </a:lnTo>
                    <a:lnTo>
                      <a:pt x="246" y="76"/>
                    </a:lnTo>
                    <a:lnTo>
                      <a:pt x="223" y="100"/>
                    </a:lnTo>
                    <a:lnTo>
                      <a:pt x="161" y="111"/>
                    </a:lnTo>
                    <a:lnTo>
                      <a:pt x="94" y="100"/>
                    </a:lnTo>
                    <a:lnTo>
                      <a:pt x="0" y="120"/>
                    </a:lnTo>
                    <a:lnTo>
                      <a:pt x="94" y="105"/>
                    </a:lnTo>
                    <a:lnTo>
                      <a:pt x="142" y="116"/>
                    </a:lnTo>
                    <a:lnTo>
                      <a:pt x="180" y="116"/>
                    </a:lnTo>
                    <a:lnTo>
                      <a:pt x="227" y="105"/>
                    </a:lnTo>
                    <a:lnTo>
                      <a:pt x="256" y="86"/>
                    </a:lnTo>
                    <a:lnTo>
                      <a:pt x="289" y="86"/>
                    </a:lnTo>
                    <a:lnTo>
                      <a:pt x="303" y="95"/>
                    </a:lnTo>
                    <a:lnTo>
                      <a:pt x="336" y="76"/>
                    </a:lnTo>
                    <a:lnTo>
                      <a:pt x="360" y="52"/>
                    </a:lnTo>
                    <a:lnTo>
                      <a:pt x="403" y="57"/>
                    </a:lnTo>
                    <a:lnTo>
                      <a:pt x="422" y="52"/>
                    </a:lnTo>
                    <a:lnTo>
                      <a:pt x="455" y="62"/>
                    </a:lnTo>
                    <a:lnTo>
                      <a:pt x="488" y="57"/>
                    </a:lnTo>
                    <a:lnTo>
                      <a:pt x="502" y="81"/>
                    </a:lnTo>
                    <a:lnTo>
                      <a:pt x="498" y="95"/>
                    </a:lnTo>
                    <a:lnTo>
                      <a:pt x="479" y="95"/>
                    </a:lnTo>
                    <a:lnTo>
                      <a:pt x="474" y="116"/>
                    </a:lnTo>
                    <a:lnTo>
                      <a:pt x="498" y="135"/>
                    </a:lnTo>
                    <a:lnTo>
                      <a:pt x="521" y="120"/>
                    </a:lnTo>
                    <a:lnTo>
                      <a:pt x="536" y="140"/>
                    </a:lnTo>
                    <a:lnTo>
                      <a:pt x="550" y="120"/>
                    </a:lnTo>
                    <a:lnTo>
                      <a:pt x="588" y="105"/>
                    </a:lnTo>
                    <a:lnTo>
                      <a:pt x="622" y="86"/>
                    </a:lnTo>
                    <a:lnTo>
                      <a:pt x="651" y="86"/>
                    </a:lnTo>
                    <a:lnTo>
                      <a:pt x="679" y="76"/>
                    </a:lnTo>
                    <a:lnTo>
                      <a:pt x="712" y="71"/>
                    </a:lnTo>
                    <a:lnTo>
                      <a:pt x="741" y="47"/>
                    </a:lnTo>
                    <a:lnTo>
                      <a:pt x="774" y="47"/>
                    </a:lnTo>
                    <a:lnTo>
                      <a:pt x="793" y="28"/>
                    </a:lnTo>
                    <a:lnTo>
                      <a:pt x="826" y="33"/>
                    </a:lnTo>
                    <a:lnTo>
                      <a:pt x="864" y="33"/>
                    </a:lnTo>
                    <a:lnTo>
                      <a:pt x="897" y="76"/>
                    </a:lnTo>
                    <a:lnTo>
                      <a:pt x="940" y="67"/>
                    </a:lnTo>
                    <a:lnTo>
                      <a:pt x="983" y="100"/>
                    </a:lnTo>
                    <a:lnTo>
                      <a:pt x="997" y="91"/>
                    </a:lnTo>
                    <a:lnTo>
                      <a:pt x="1011" y="105"/>
                    </a:lnTo>
                    <a:lnTo>
                      <a:pt x="1044" y="116"/>
                    </a:lnTo>
                    <a:lnTo>
                      <a:pt x="1082" y="120"/>
                    </a:lnTo>
                    <a:lnTo>
                      <a:pt x="1101" y="154"/>
                    </a:lnTo>
                    <a:lnTo>
                      <a:pt x="1116" y="163"/>
                    </a:lnTo>
                    <a:lnTo>
                      <a:pt x="1111" y="192"/>
                    </a:lnTo>
                    <a:lnTo>
                      <a:pt x="1158" y="207"/>
                    </a:lnTo>
                    <a:lnTo>
                      <a:pt x="1187" y="22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5951520" y="5218200"/>
                <a:ext cx="173520" cy="32040"/>
              </a:xfrm>
              <a:custGeom>
                <a:avLst/>
                <a:gdLst/>
                <a:ahLst/>
                <a:rect l="0" t="0" r="r" b="b"/>
                <a:pathLst>
                  <a:path fill="none" w="482" h="89">
                    <a:moveTo>
                      <a:pt x="482" y="89"/>
                    </a:moveTo>
                    <a:lnTo>
                      <a:pt x="439" y="69"/>
                    </a:lnTo>
                    <a:lnTo>
                      <a:pt x="406" y="74"/>
                    </a:lnTo>
                    <a:lnTo>
                      <a:pt x="377" y="79"/>
                    </a:lnTo>
                    <a:lnTo>
                      <a:pt x="357" y="74"/>
                    </a:lnTo>
                    <a:lnTo>
                      <a:pt x="334" y="64"/>
                    </a:lnTo>
                    <a:lnTo>
                      <a:pt x="305" y="64"/>
                    </a:lnTo>
                    <a:lnTo>
                      <a:pt x="291" y="69"/>
                    </a:lnTo>
                    <a:lnTo>
                      <a:pt x="267" y="69"/>
                    </a:lnTo>
                    <a:lnTo>
                      <a:pt x="234" y="64"/>
                    </a:lnTo>
                    <a:lnTo>
                      <a:pt x="181" y="64"/>
                    </a:lnTo>
                    <a:lnTo>
                      <a:pt x="162" y="29"/>
                    </a:lnTo>
                    <a:lnTo>
                      <a:pt x="139" y="34"/>
                    </a:lnTo>
                    <a:lnTo>
                      <a:pt x="129" y="9"/>
                    </a:lnTo>
                    <a:lnTo>
                      <a:pt x="99" y="0"/>
                    </a:lnTo>
                    <a:lnTo>
                      <a:pt x="90" y="19"/>
                    </a:lnTo>
                    <a:lnTo>
                      <a:pt x="80" y="4"/>
                    </a:lnTo>
                    <a:lnTo>
                      <a:pt x="52" y="9"/>
                    </a:lnTo>
                    <a:lnTo>
                      <a:pt x="71" y="24"/>
                    </a:lnTo>
                    <a:lnTo>
                      <a:pt x="66" y="34"/>
                    </a:lnTo>
                    <a:lnTo>
                      <a:pt x="38" y="45"/>
                    </a:lnTo>
                    <a:lnTo>
                      <a:pt x="38" y="59"/>
                    </a:lnTo>
                    <a:lnTo>
                      <a:pt x="0" y="64"/>
                    </a:lnTo>
                    <a:lnTo>
                      <a:pt x="47" y="64"/>
                    </a:lnTo>
                    <a:lnTo>
                      <a:pt x="71" y="45"/>
                    </a:lnTo>
                    <a:lnTo>
                      <a:pt x="95" y="34"/>
                    </a:lnTo>
                    <a:lnTo>
                      <a:pt x="114" y="34"/>
                    </a:lnTo>
                    <a:lnTo>
                      <a:pt x="109" y="54"/>
                    </a:lnTo>
                    <a:lnTo>
                      <a:pt x="139" y="64"/>
                    </a:lnTo>
                    <a:lnTo>
                      <a:pt x="153" y="54"/>
                    </a:lnTo>
                    <a:lnTo>
                      <a:pt x="172" y="74"/>
                    </a:lnTo>
                    <a:lnTo>
                      <a:pt x="234" y="84"/>
                    </a:lnTo>
                    <a:lnTo>
                      <a:pt x="291" y="79"/>
                    </a:lnTo>
                    <a:lnTo>
                      <a:pt x="363" y="89"/>
                    </a:lnTo>
                    <a:lnTo>
                      <a:pt x="430" y="74"/>
                    </a:lnTo>
                    <a:lnTo>
                      <a:pt x="482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5977080" y="5210280"/>
                <a:ext cx="8280" cy="8280"/>
              </a:xfrm>
              <a:custGeom>
                <a:avLst/>
                <a:gdLst/>
                <a:ahLst/>
                <a:rect l="0" t="0" r="r" b="b"/>
                <a:pathLst>
                  <a:path fill="none" w="23" h="23">
                    <a:moveTo>
                      <a:pt x="0" y="4"/>
                    </a:moveTo>
                    <a:lnTo>
                      <a:pt x="0" y="23"/>
                    </a:lnTo>
                    <a:lnTo>
                      <a:pt x="23" y="23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954760" y="520848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18" y="0"/>
                    </a:moveTo>
                    <a:lnTo>
                      <a:pt x="0" y="4"/>
                    </a:lnTo>
                    <a:lnTo>
                      <a:pt x="14" y="14"/>
                    </a:lnTo>
                    <a:lnTo>
                      <a:pt x="27" y="9"/>
                    </a:lnTo>
                    <a:lnTo>
                      <a:pt x="23" y="4"/>
                    </a:lnTo>
                    <a:lnTo>
                      <a:pt x="1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826240" y="5221440"/>
                <a:ext cx="116280" cy="18000"/>
              </a:xfrm>
              <a:custGeom>
                <a:avLst/>
                <a:gdLst/>
                <a:ahLst/>
                <a:rect l="0" t="0" r="r" b="b"/>
                <a:pathLst>
                  <a:path fill="none" w="323" h="50">
                    <a:moveTo>
                      <a:pt x="262" y="50"/>
                    </a:moveTo>
                    <a:lnTo>
                      <a:pt x="319" y="41"/>
                    </a:lnTo>
                    <a:lnTo>
                      <a:pt x="323" y="23"/>
                    </a:lnTo>
                    <a:lnTo>
                      <a:pt x="304" y="4"/>
                    </a:lnTo>
                    <a:lnTo>
                      <a:pt x="281" y="0"/>
                    </a:lnTo>
                    <a:lnTo>
                      <a:pt x="262" y="8"/>
                    </a:lnTo>
                    <a:lnTo>
                      <a:pt x="243" y="0"/>
                    </a:lnTo>
                    <a:lnTo>
                      <a:pt x="223" y="0"/>
                    </a:lnTo>
                    <a:lnTo>
                      <a:pt x="209" y="14"/>
                    </a:lnTo>
                    <a:lnTo>
                      <a:pt x="190" y="23"/>
                    </a:lnTo>
                    <a:lnTo>
                      <a:pt x="166" y="23"/>
                    </a:lnTo>
                    <a:lnTo>
                      <a:pt x="157" y="31"/>
                    </a:lnTo>
                    <a:lnTo>
                      <a:pt x="0" y="50"/>
                    </a:lnTo>
                    <a:lnTo>
                      <a:pt x="223" y="50"/>
                    </a:lnTo>
                    <a:lnTo>
                      <a:pt x="262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656320" y="5200560"/>
                <a:ext cx="170280" cy="22680"/>
              </a:xfrm>
              <a:custGeom>
                <a:avLst/>
                <a:gdLst/>
                <a:ahLst/>
                <a:rect l="0" t="0" r="r" b="b"/>
                <a:pathLst>
                  <a:path fill="none" w="473" h="63">
                    <a:moveTo>
                      <a:pt x="473" y="58"/>
                    </a:moveTo>
                    <a:lnTo>
                      <a:pt x="473" y="34"/>
                    </a:lnTo>
                    <a:lnTo>
                      <a:pt x="440" y="24"/>
                    </a:lnTo>
                    <a:lnTo>
                      <a:pt x="402" y="29"/>
                    </a:lnTo>
                    <a:lnTo>
                      <a:pt x="383" y="4"/>
                    </a:lnTo>
                    <a:lnTo>
                      <a:pt x="353" y="9"/>
                    </a:lnTo>
                    <a:lnTo>
                      <a:pt x="329" y="24"/>
                    </a:lnTo>
                    <a:lnTo>
                      <a:pt x="291" y="24"/>
                    </a:lnTo>
                    <a:lnTo>
                      <a:pt x="277" y="24"/>
                    </a:lnTo>
                    <a:lnTo>
                      <a:pt x="258" y="38"/>
                    </a:lnTo>
                    <a:lnTo>
                      <a:pt x="186" y="34"/>
                    </a:lnTo>
                    <a:lnTo>
                      <a:pt x="163" y="9"/>
                    </a:lnTo>
                    <a:lnTo>
                      <a:pt x="109" y="0"/>
                    </a:lnTo>
                    <a:lnTo>
                      <a:pt x="76" y="24"/>
                    </a:lnTo>
                    <a:lnTo>
                      <a:pt x="33" y="24"/>
                    </a:lnTo>
                    <a:lnTo>
                      <a:pt x="47" y="9"/>
                    </a:lnTo>
                    <a:lnTo>
                      <a:pt x="0" y="34"/>
                    </a:lnTo>
                    <a:lnTo>
                      <a:pt x="28" y="38"/>
                    </a:lnTo>
                    <a:lnTo>
                      <a:pt x="76" y="43"/>
                    </a:lnTo>
                    <a:lnTo>
                      <a:pt x="114" y="34"/>
                    </a:lnTo>
                    <a:lnTo>
                      <a:pt x="182" y="43"/>
                    </a:lnTo>
                    <a:lnTo>
                      <a:pt x="239" y="49"/>
                    </a:lnTo>
                    <a:lnTo>
                      <a:pt x="310" y="43"/>
                    </a:lnTo>
                    <a:lnTo>
                      <a:pt x="353" y="58"/>
                    </a:lnTo>
                    <a:lnTo>
                      <a:pt x="416" y="63"/>
                    </a:lnTo>
                    <a:lnTo>
                      <a:pt x="450" y="54"/>
                    </a:lnTo>
                    <a:lnTo>
                      <a:pt x="473" y="5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832360" y="5218200"/>
                <a:ext cx="39960" cy="9720"/>
              </a:xfrm>
              <a:custGeom>
                <a:avLst/>
                <a:gdLst/>
                <a:ahLst/>
                <a:rect l="0" t="0" r="r" b="b"/>
                <a:pathLst>
                  <a:path fill="none" w="111" h="27">
                    <a:moveTo>
                      <a:pt x="0" y="5"/>
                    </a:moveTo>
                    <a:lnTo>
                      <a:pt x="63" y="0"/>
                    </a:lnTo>
                    <a:lnTo>
                      <a:pt x="111" y="27"/>
                    </a:lnTo>
                    <a:lnTo>
                      <a:pt x="47" y="27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516640" y="5138640"/>
                <a:ext cx="232200" cy="49680"/>
              </a:xfrm>
              <a:custGeom>
                <a:avLst/>
                <a:gdLst/>
                <a:ahLst/>
                <a:rect l="0" t="0" r="r" b="b"/>
                <a:pathLst>
                  <a:path fill="none" w="645" h="138">
                    <a:moveTo>
                      <a:pt x="645" y="138"/>
                    </a:moveTo>
                    <a:lnTo>
                      <a:pt x="621" y="119"/>
                    </a:lnTo>
                    <a:lnTo>
                      <a:pt x="583" y="115"/>
                    </a:lnTo>
                    <a:lnTo>
                      <a:pt x="564" y="138"/>
                    </a:lnTo>
                    <a:lnTo>
                      <a:pt x="502" y="129"/>
                    </a:lnTo>
                    <a:lnTo>
                      <a:pt x="477" y="105"/>
                    </a:lnTo>
                    <a:lnTo>
                      <a:pt x="444" y="105"/>
                    </a:lnTo>
                    <a:lnTo>
                      <a:pt x="425" y="110"/>
                    </a:lnTo>
                    <a:lnTo>
                      <a:pt x="406" y="99"/>
                    </a:lnTo>
                    <a:lnTo>
                      <a:pt x="372" y="110"/>
                    </a:lnTo>
                    <a:lnTo>
                      <a:pt x="358" y="90"/>
                    </a:lnTo>
                    <a:lnTo>
                      <a:pt x="310" y="99"/>
                    </a:lnTo>
                    <a:lnTo>
                      <a:pt x="306" y="85"/>
                    </a:lnTo>
                    <a:lnTo>
                      <a:pt x="263" y="76"/>
                    </a:lnTo>
                    <a:lnTo>
                      <a:pt x="225" y="85"/>
                    </a:lnTo>
                    <a:lnTo>
                      <a:pt x="229" y="66"/>
                    </a:lnTo>
                    <a:lnTo>
                      <a:pt x="210" y="62"/>
                    </a:lnTo>
                    <a:lnTo>
                      <a:pt x="182" y="71"/>
                    </a:lnTo>
                    <a:lnTo>
                      <a:pt x="152" y="62"/>
                    </a:lnTo>
                    <a:lnTo>
                      <a:pt x="143" y="52"/>
                    </a:lnTo>
                    <a:lnTo>
                      <a:pt x="104" y="48"/>
                    </a:lnTo>
                    <a:lnTo>
                      <a:pt x="81" y="62"/>
                    </a:lnTo>
                    <a:lnTo>
                      <a:pt x="57" y="57"/>
                    </a:lnTo>
                    <a:lnTo>
                      <a:pt x="0" y="81"/>
                    </a:lnTo>
                    <a:lnTo>
                      <a:pt x="61" y="43"/>
                    </a:lnTo>
                    <a:lnTo>
                      <a:pt x="81" y="48"/>
                    </a:lnTo>
                    <a:lnTo>
                      <a:pt x="104" y="32"/>
                    </a:lnTo>
                    <a:lnTo>
                      <a:pt x="138" y="32"/>
                    </a:lnTo>
                    <a:lnTo>
                      <a:pt x="33" y="0"/>
                    </a:lnTo>
                    <a:lnTo>
                      <a:pt x="210" y="52"/>
                    </a:lnTo>
                    <a:lnTo>
                      <a:pt x="239" y="48"/>
                    </a:lnTo>
                    <a:lnTo>
                      <a:pt x="253" y="71"/>
                    </a:lnTo>
                    <a:lnTo>
                      <a:pt x="310" y="66"/>
                    </a:lnTo>
                    <a:lnTo>
                      <a:pt x="330" y="85"/>
                    </a:lnTo>
                    <a:lnTo>
                      <a:pt x="363" y="85"/>
                    </a:lnTo>
                    <a:lnTo>
                      <a:pt x="382" y="90"/>
                    </a:lnTo>
                    <a:lnTo>
                      <a:pt x="415" y="85"/>
                    </a:lnTo>
                    <a:lnTo>
                      <a:pt x="439" y="99"/>
                    </a:lnTo>
                    <a:lnTo>
                      <a:pt x="477" y="85"/>
                    </a:lnTo>
                    <a:lnTo>
                      <a:pt x="521" y="115"/>
                    </a:lnTo>
                    <a:lnTo>
                      <a:pt x="555" y="119"/>
                    </a:lnTo>
                    <a:lnTo>
                      <a:pt x="583" y="105"/>
                    </a:lnTo>
                    <a:lnTo>
                      <a:pt x="631" y="115"/>
                    </a:lnTo>
                    <a:lnTo>
                      <a:pt x="645" y="1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402160" y="5165640"/>
                <a:ext cx="284400" cy="28800"/>
              </a:xfrm>
              <a:custGeom>
                <a:avLst/>
                <a:gdLst/>
                <a:ahLst/>
                <a:rect l="0" t="0" r="r" b="b"/>
                <a:pathLst>
                  <a:path fill="none" w="790" h="80">
                    <a:moveTo>
                      <a:pt x="790" y="71"/>
                    </a:moveTo>
                    <a:lnTo>
                      <a:pt x="785" y="47"/>
                    </a:lnTo>
                    <a:lnTo>
                      <a:pt x="742" y="43"/>
                    </a:lnTo>
                    <a:lnTo>
                      <a:pt x="733" y="52"/>
                    </a:lnTo>
                    <a:lnTo>
                      <a:pt x="709" y="43"/>
                    </a:lnTo>
                    <a:lnTo>
                      <a:pt x="695" y="47"/>
                    </a:lnTo>
                    <a:lnTo>
                      <a:pt x="685" y="52"/>
                    </a:lnTo>
                    <a:lnTo>
                      <a:pt x="661" y="57"/>
                    </a:lnTo>
                    <a:lnTo>
                      <a:pt x="633" y="37"/>
                    </a:lnTo>
                    <a:lnTo>
                      <a:pt x="600" y="37"/>
                    </a:lnTo>
                    <a:lnTo>
                      <a:pt x="585" y="52"/>
                    </a:lnTo>
                    <a:lnTo>
                      <a:pt x="557" y="23"/>
                    </a:lnTo>
                    <a:lnTo>
                      <a:pt x="524" y="23"/>
                    </a:lnTo>
                    <a:lnTo>
                      <a:pt x="486" y="9"/>
                    </a:lnTo>
                    <a:lnTo>
                      <a:pt x="457" y="28"/>
                    </a:lnTo>
                    <a:lnTo>
                      <a:pt x="433" y="4"/>
                    </a:lnTo>
                    <a:lnTo>
                      <a:pt x="405" y="4"/>
                    </a:lnTo>
                    <a:lnTo>
                      <a:pt x="370" y="28"/>
                    </a:lnTo>
                    <a:lnTo>
                      <a:pt x="347" y="9"/>
                    </a:lnTo>
                    <a:lnTo>
                      <a:pt x="313" y="23"/>
                    </a:lnTo>
                    <a:lnTo>
                      <a:pt x="275" y="23"/>
                    </a:lnTo>
                    <a:lnTo>
                      <a:pt x="252" y="9"/>
                    </a:lnTo>
                    <a:lnTo>
                      <a:pt x="185" y="18"/>
                    </a:lnTo>
                    <a:lnTo>
                      <a:pt x="137" y="0"/>
                    </a:lnTo>
                    <a:lnTo>
                      <a:pt x="0" y="9"/>
                    </a:lnTo>
                    <a:lnTo>
                      <a:pt x="114" y="14"/>
                    </a:lnTo>
                    <a:lnTo>
                      <a:pt x="152" y="37"/>
                    </a:lnTo>
                    <a:lnTo>
                      <a:pt x="228" y="28"/>
                    </a:lnTo>
                    <a:lnTo>
                      <a:pt x="247" y="37"/>
                    </a:lnTo>
                    <a:lnTo>
                      <a:pt x="294" y="37"/>
                    </a:lnTo>
                    <a:lnTo>
                      <a:pt x="328" y="37"/>
                    </a:lnTo>
                    <a:lnTo>
                      <a:pt x="375" y="43"/>
                    </a:lnTo>
                    <a:lnTo>
                      <a:pt x="332" y="66"/>
                    </a:lnTo>
                    <a:lnTo>
                      <a:pt x="409" y="61"/>
                    </a:lnTo>
                    <a:lnTo>
                      <a:pt x="452" y="52"/>
                    </a:lnTo>
                    <a:lnTo>
                      <a:pt x="524" y="66"/>
                    </a:lnTo>
                    <a:lnTo>
                      <a:pt x="562" y="80"/>
                    </a:lnTo>
                    <a:lnTo>
                      <a:pt x="595" y="71"/>
                    </a:lnTo>
                    <a:lnTo>
                      <a:pt x="628" y="71"/>
                    </a:lnTo>
                    <a:lnTo>
                      <a:pt x="704" y="75"/>
                    </a:lnTo>
                    <a:lnTo>
                      <a:pt x="761" y="61"/>
                    </a:lnTo>
                    <a:lnTo>
                      <a:pt x="79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481720" y="5146560"/>
                <a:ext cx="46440" cy="9720"/>
              </a:xfrm>
              <a:custGeom>
                <a:avLst/>
                <a:gdLst/>
                <a:ahLst/>
                <a:rect l="0" t="0" r="r" b="b"/>
                <a:pathLst>
                  <a:path fill="none" w="129" h="27">
                    <a:moveTo>
                      <a:pt x="110" y="5"/>
                    </a:moveTo>
                    <a:lnTo>
                      <a:pt x="76" y="0"/>
                    </a:lnTo>
                    <a:lnTo>
                      <a:pt x="34" y="10"/>
                    </a:lnTo>
                    <a:lnTo>
                      <a:pt x="0" y="22"/>
                    </a:lnTo>
                    <a:lnTo>
                      <a:pt x="76" y="27"/>
                    </a:lnTo>
                    <a:lnTo>
                      <a:pt x="129" y="22"/>
                    </a:lnTo>
                    <a:lnTo>
                      <a:pt x="1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370480" y="5119560"/>
                <a:ext cx="41760" cy="3600"/>
              </a:xfrm>
              <a:custGeom>
                <a:avLst/>
                <a:gdLst/>
                <a:ahLst/>
                <a:rect l="0" t="0" r="r" b="b"/>
                <a:pathLst>
                  <a:path fill="none" w="116" h="10">
                    <a:moveTo>
                      <a:pt x="116" y="10"/>
                    </a:moveTo>
                    <a:lnTo>
                      <a:pt x="78" y="0"/>
                    </a:lnTo>
                    <a:lnTo>
                      <a:pt x="46" y="10"/>
                    </a:lnTo>
                    <a:lnTo>
                      <a:pt x="0" y="10"/>
                    </a:lnTo>
                    <a:lnTo>
                      <a:pt x="65" y="10"/>
                    </a:lnTo>
                    <a:lnTo>
                      <a:pt x="89" y="10"/>
                    </a:lnTo>
                    <a:lnTo>
                      <a:pt x="116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357880" y="5092560"/>
                <a:ext cx="113040" cy="6840"/>
              </a:xfrm>
              <a:custGeom>
                <a:avLst/>
                <a:gdLst/>
                <a:ahLst/>
                <a:rect l="0" t="0" r="r" b="b"/>
                <a:pathLst>
                  <a:path fill="none" w="314" h="19">
                    <a:moveTo>
                      <a:pt x="0" y="0"/>
                    </a:moveTo>
                    <a:lnTo>
                      <a:pt x="71" y="4"/>
                    </a:lnTo>
                    <a:lnTo>
                      <a:pt x="156" y="0"/>
                    </a:lnTo>
                    <a:lnTo>
                      <a:pt x="223" y="4"/>
                    </a:lnTo>
                    <a:lnTo>
                      <a:pt x="304" y="0"/>
                    </a:lnTo>
                    <a:lnTo>
                      <a:pt x="314" y="9"/>
                    </a:lnTo>
                    <a:lnTo>
                      <a:pt x="228" y="19"/>
                    </a:lnTo>
                    <a:lnTo>
                      <a:pt x="142" y="15"/>
                    </a:lnTo>
                    <a:lnTo>
                      <a:pt x="75" y="1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578560" y="4881600"/>
                <a:ext cx="3600" cy="120960"/>
              </a:xfrm>
              <a:custGeom>
                <a:avLst/>
                <a:gdLst/>
                <a:ahLst/>
                <a:rect l="0" t="0" r="r" b="b"/>
                <a:pathLst>
                  <a:path fill="none" w="10" h="336">
                    <a:moveTo>
                      <a:pt x="0" y="336"/>
                    </a:moveTo>
                    <a:lnTo>
                      <a:pt x="10" y="0"/>
                    </a:lnTo>
                    <a:lnTo>
                      <a:pt x="5" y="336"/>
                    </a:lnTo>
                    <a:lnTo>
                      <a:pt x="0" y="3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581800" y="4881600"/>
                <a:ext cx="3600" cy="122760"/>
              </a:xfrm>
              <a:custGeom>
                <a:avLst/>
                <a:gdLst/>
                <a:ahLst/>
                <a:rect l="0" t="0" r="r" b="b"/>
                <a:pathLst>
                  <a:path fill="none" w="10" h="341">
                    <a:moveTo>
                      <a:pt x="0" y="0"/>
                    </a:moveTo>
                    <a:lnTo>
                      <a:pt x="0" y="341"/>
                    </a:lnTo>
                    <a:lnTo>
                      <a:pt x="10" y="341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578560" y="4883040"/>
                <a:ext cx="19440" cy="3600"/>
              </a:xfrm>
              <a:custGeom>
                <a:avLst/>
                <a:gdLst/>
                <a:ahLst/>
                <a:rect l="0" t="0" r="r" b="b"/>
                <a:pathLst>
                  <a:path fill="none" w="54" h="10">
                    <a:moveTo>
                      <a:pt x="4" y="10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5" y="5"/>
                    </a:lnTo>
                    <a:lnTo>
                      <a:pt x="15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4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583240" y="4894200"/>
                <a:ext cx="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583240" y="48988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5424480" y="4991040"/>
                <a:ext cx="90720" cy="33840"/>
              </a:xfrm>
              <a:custGeom>
                <a:avLst/>
                <a:gdLst/>
                <a:ahLst/>
                <a:rect l="0" t="0" r="r" b="b"/>
                <a:pathLst>
                  <a:path fill="none" w="252" h="94">
                    <a:moveTo>
                      <a:pt x="185" y="0"/>
                    </a:moveTo>
                    <a:lnTo>
                      <a:pt x="166" y="14"/>
                    </a:lnTo>
                    <a:lnTo>
                      <a:pt x="157" y="14"/>
                    </a:lnTo>
                    <a:lnTo>
                      <a:pt x="166" y="25"/>
                    </a:lnTo>
                    <a:lnTo>
                      <a:pt x="129" y="25"/>
                    </a:lnTo>
                    <a:lnTo>
                      <a:pt x="143" y="35"/>
                    </a:lnTo>
                    <a:lnTo>
                      <a:pt x="104" y="35"/>
                    </a:lnTo>
                    <a:lnTo>
                      <a:pt x="118" y="44"/>
                    </a:lnTo>
                    <a:lnTo>
                      <a:pt x="80" y="44"/>
                    </a:lnTo>
                    <a:lnTo>
                      <a:pt x="94" y="49"/>
                    </a:lnTo>
                    <a:lnTo>
                      <a:pt x="61" y="49"/>
                    </a:lnTo>
                    <a:lnTo>
                      <a:pt x="75" y="59"/>
                    </a:lnTo>
                    <a:lnTo>
                      <a:pt x="47" y="59"/>
                    </a:lnTo>
                    <a:lnTo>
                      <a:pt x="56" y="64"/>
                    </a:lnTo>
                    <a:lnTo>
                      <a:pt x="28" y="64"/>
                    </a:lnTo>
                    <a:lnTo>
                      <a:pt x="33" y="69"/>
                    </a:lnTo>
                    <a:lnTo>
                      <a:pt x="14" y="69"/>
                    </a:lnTo>
                    <a:lnTo>
                      <a:pt x="23" y="75"/>
                    </a:lnTo>
                    <a:lnTo>
                      <a:pt x="0" y="75"/>
                    </a:lnTo>
                    <a:lnTo>
                      <a:pt x="14" y="89"/>
                    </a:lnTo>
                    <a:lnTo>
                      <a:pt x="42" y="89"/>
                    </a:lnTo>
                    <a:lnTo>
                      <a:pt x="52" y="94"/>
                    </a:lnTo>
                    <a:lnTo>
                      <a:pt x="252" y="25"/>
                    </a:lnTo>
                    <a:lnTo>
                      <a:pt x="209" y="0"/>
                    </a:lnTo>
                    <a:lnTo>
                      <a:pt x="1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424480" y="499428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8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5429160" y="499284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4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5433840" y="4991040"/>
                <a:ext cx="16200" cy="22680"/>
              </a:xfrm>
              <a:custGeom>
                <a:avLst/>
                <a:gdLst/>
                <a:ahLst/>
                <a:rect l="0" t="0" r="r" b="b"/>
                <a:pathLst>
                  <a:path fill="none" w="45" h="63">
                    <a:moveTo>
                      <a:pt x="0" y="63"/>
                    </a:moveTo>
                    <a:lnTo>
                      <a:pt x="14" y="54"/>
                    </a:lnTo>
                    <a:lnTo>
                      <a:pt x="30" y="0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442120" y="4987800"/>
                <a:ext cx="14760" cy="24120"/>
              </a:xfrm>
              <a:custGeom>
                <a:avLst/>
                <a:gdLst/>
                <a:ahLst/>
                <a:rect l="0" t="0" r="r" b="b"/>
                <a:pathLst>
                  <a:path fill="none" w="41" h="67">
                    <a:moveTo>
                      <a:pt x="0" y="67"/>
                    </a:moveTo>
                    <a:lnTo>
                      <a:pt x="14" y="57"/>
                    </a:lnTo>
                    <a:lnTo>
                      <a:pt x="23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446800" y="4984920"/>
                <a:ext cx="18000" cy="24120"/>
              </a:xfrm>
              <a:custGeom>
                <a:avLst/>
                <a:gdLst/>
                <a:ahLst/>
                <a:rect l="0" t="0" r="r" b="b"/>
                <a:pathLst>
                  <a:path fill="none" w="50" h="67">
                    <a:moveTo>
                      <a:pt x="0" y="67"/>
                    </a:moveTo>
                    <a:lnTo>
                      <a:pt x="20" y="62"/>
                    </a:lnTo>
                    <a:lnTo>
                      <a:pt x="30" y="0"/>
                    </a:lnTo>
                    <a:lnTo>
                      <a:pt x="5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452920" y="4981680"/>
                <a:ext cx="19440" cy="25920"/>
              </a:xfrm>
              <a:custGeom>
                <a:avLst/>
                <a:gdLst/>
                <a:ahLst/>
                <a:rect l="0" t="0" r="r" b="b"/>
                <a:pathLst>
                  <a:path fill="none" w="54" h="72">
                    <a:moveTo>
                      <a:pt x="0" y="72"/>
                    </a:moveTo>
                    <a:lnTo>
                      <a:pt x="20" y="63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462640" y="4976640"/>
                <a:ext cx="19440" cy="27360"/>
              </a:xfrm>
              <a:custGeom>
                <a:avLst/>
                <a:gdLst/>
                <a:ahLst/>
                <a:rect l="0" t="0" r="r" b="b"/>
                <a:pathLst>
                  <a:path fill="none" w="54" h="76">
                    <a:moveTo>
                      <a:pt x="0" y="76"/>
                    </a:moveTo>
                    <a:lnTo>
                      <a:pt x="20" y="66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5470560" y="4973760"/>
                <a:ext cx="41760" cy="25920"/>
              </a:xfrm>
              <a:custGeom>
                <a:avLst/>
                <a:gdLst/>
                <a:ahLst/>
                <a:rect l="0" t="0" r="r" b="b"/>
                <a:pathLst>
                  <a:path fill="none" w="116" h="72">
                    <a:moveTo>
                      <a:pt x="0" y="72"/>
                    </a:moveTo>
                    <a:lnTo>
                      <a:pt x="19" y="63"/>
                    </a:lnTo>
                    <a:lnTo>
                      <a:pt x="28" y="0"/>
                    </a:lnTo>
                    <a:lnTo>
                      <a:pt x="63" y="0"/>
                    </a:lnTo>
                    <a:lnTo>
                      <a:pt x="11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5514840" y="4984920"/>
                <a:ext cx="63720" cy="5040"/>
              </a:xfrm>
              <a:custGeom>
                <a:avLst/>
                <a:gdLst/>
                <a:ahLst/>
                <a:rect l="0" t="0" r="r" b="b"/>
                <a:pathLst>
                  <a:path fill="none" w="177" h="14">
                    <a:moveTo>
                      <a:pt x="0" y="14"/>
                    </a:moveTo>
                    <a:lnTo>
                      <a:pt x="42" y="9"/>
                    </a:lnTo>
                    <a:lnTo>
                      <a:pt x="177" y="0"/>
                    </a:lnTo>
                    <a:lnTo>
                      <a:pt x="177" y="4"/>
                    </a:lnTo>
                    <a:lnTo>
                      <a:pt x="134" y="9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5583240" y="4981680"/>
                <a:ext cx="46440" cy="20880"/>
              </a:xfrm>
              <a:custGeom>
                <a:avLst/>
                <a:gdLst/>
                <a:ahLst/>
                <a:rect l="0" t="0" r="r" b="b"/>
                <a:pathLst>
                  <a:path fill="none" w="129" h="58">
                    <a:moveTo>
                      <a:pt x="0" y="9"/>
                    </a:moveTo>
                    <a:lnTo>
                      <a:pt x="34" y="9"/>
                    </a:lnTo>
                    <a:lnTo>
                      <a:pt x="38" y="0"/>
                    </a:lnTo>
                    <a:lnTo>
                      <a:pt x="62" y="9"/>
                    </a:lnTo>
                    <a:lnTo>
                      <a:pt x="90" y="14"/>
                    </a:lnTo>
                    <a:lnTo>
                      <a:pt x="67" y="14"/>
                    </a:lnTo>
                    <a:lnTo>
                      <a:pt x="101" y="28"/>
                    </a:lnTo>
                    <a:lnTo>
                      <a:pt x="101" y="19"/>
                    </a:lnTo>
                    <a:lnTo>
                      <a:pt x="125" y="34"/>
                    </a:lnTo>
                    <a:lnTo>
                      <a:pt x="129" y="39"/>
                    </a:lnTo>
                    <a:lnTo>
                      <a:pt x="125" y="43"/>
                    </a:lnTo>
                    <a:lnTo>
                      <a:pt x="120" y="48"/>
                    </a:lnTo>
                    <a:lnTo>
                      <a:pt x="101" y="53"/>
                    </a:lnTo>
                    <a:lnTo>
                      <a:pt x="62" y="58"/>
                    </a:lnTo>
                    <a:lnTo>
                      <a:pt x="23" y="58"/>
                    </a:lnTo>
                    <a:lnTo>
                      <a:pt x="23" y="39"/>
                    </a:lnTo>
                    <a:lnTo>
                      <a:pt x="18" y="34"/>
                    </a:lnTo>
                    <a:lnTo>
                      <a:pt x="4" y="23"/>
                    </a:lnTo>
                    <a:lnTo>
                      <a:pt x="4" y="19"/>
                    </a:lnTo>
                    <a:lnTo>
                      <a:pt x="34" y="28"/>
                    </a:lnTo>
                    <a:lnTo>
                      <a:pt x="43" y="34"/>
                    </a:lnTo>
                    <a:lnTo>
                      <a:pt x="53" y="43"/>
                    </a:lnTo>
                    <a:lnTo>
                      <a:pt x="86" y="43"/>
                    </a:lnTo>
                    <a:lnTo>
                      <a:pt x="90" y="28"/>
                    </a:lnTo>
                    <a:lnTo>
                      <a:pt x="57" y="19"/>
                    </a:lnTo>
                    <a:lnTo>
                      <a:pt x="38" y="14"/>
                    </a:lnTo>
                    <a:lnTo>
                      <a:pt x="0" y="14"/>
                    </a:lnTo>
                    <a:lnTo>
                      <a:pt x="0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5584680" y="49989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5549760" y="4995720"/>
                <a:ext cx="30600" cy="8280"/>
              </a:xfrm>
              <a:custGeom>
                <a:avLst/>
                <a:gdLst/>
                <a:ahLst/>
                <a:rect l="0" t="0" r="r" b="b"/>
                <a:pathLst>
                  <a:path fill="none" w="85" h="23">
                    <a:moveTo>
                      <a:pt x="85" y="12"/>
                    </a:moveTo>
                    <a:lnTo>
                      <a:pt x="67" y="17"/>
                    </a:lnTo>
                    <a:lnTo>
                      <a:pt x="38" y="12"/>
                    </a:lnTo>
                    <a:lnTo>
                      <a:pt x="13" y="5"/>
                    </a:lnTo>
                    <a:lnTo>
                      <a:pt x="24" y="0"/>
                    </a:lnTo>
                    <a:lnTo>
                      <a:pt x="0" y="5"/>
                    </a:lnTo>
                    <a:lnTo>
                      <a:pt x="24" y="12"/>
                    </a:lnTo>
                    <a:lnTo>
                      <a:pt x="52" y="23"/>
                    </a:lnTo>
                    <a:lnTo>
                      <a:pt x="85" y="23"/>
                    </a:lnTo>
                    <a:lnTo>
                      <a:pt x="85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5583240" y="4979880"/>
                <a:ext cx="14760" cy="1800"/>
              </a:xfrm>
              <a:custGeom>
                <a:avLst/>
                <a:gdLst/>
                <a:ahLst/>
                <a:rect l="0" t="0" r="r" b="b"/>
                <a:pathLst>
                  <a:path fill="none" w="41" h="5">
                    <a:moveTo>
                      <a:pt x="41" y="5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0" y="5"/>
                    </a:lnTo>
                    <a:lnTo>
                      <a:pt x="41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5560920" y="4979880"/>
                <a:ext cx="19440" cy="6840"/>
              </a:xfrm>
              <a:custGeom>
                <a:avLst/>
                <a:gdLst/>
                <a:ahLst/>
                <a:rect l="0" t="0" r="r" b="b"/>
                <a:pathLst>
                  <a:path fill="none" w="54" h="19">
                    <a:moveTo>
                      <a:pt x="54" y="0"/>
                    </a:moveTo>
                    <a:lnTo>
                      <a:pt x="45" y="4"/>
                    </a:lnTo>
                    <a:lnTo>
                      <a:pt x="0" y="19"/>
                    </a:lnTo>
                    <a:lnTo>
                      <a:pt x="45" y="19"/>
                    </a:lnTo>
                    <a:lnTo>
                      <a:pt x="39" y="9"/>
                    </a:lnTo>
                    <a:lnTo>
                      <a:pt x="54" y="4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5991120" y="497052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fill="none" w="102" h="116">
                    <a:moveTo>
                      <a:pt x="97" y="0"/>
                    </a:moveTo>
                    <a:lnTo>
                      <a:pt x="97" y="58"/>
                    </a:lnTo>
                    <a:lnTo>
                      <a:pt x="0" y="58"/>
                    </a:lnTo>
                    <a:lnTo>
                      <a:pt x="74" y="116"/>
                    </a:lnTo>
                    <a:lnTo>
                      <a:pt x="97" y="116"/>
                    </a:lnTo>
                    <a:lnTo>
                      <a:pt x="27" y="63"/>
                    </a:lnTo>
                    <a:lnTo>
                      <a:pt x="97" y="63"/>
                    </a:lnTo>
                    <a:lnTo>
                      <a:pt x="97" y="107"/>
                    </a:lnTo>
                    <a:lnTo>
                      <a:pt x="102" y="72"/>
                    </a:lnTo>
                    <a:lnTo>
                      <a:pt x="102" y="0"/>
                    </a:lnTo>
                    <a:lnTo>
                      <a:pt x="9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5997600" y="4968720"/>
                <a:ext cx="1800" cy="41760"/>
              </a:xfrm>
              <a:custGeom>
                <a:avLst/>
                <a:gdLst/>
                <a:ahLst/>
                <a:rect l="0" t="0" r="r" b="b"/>
                <a:pathLst>
                  <a:path fill="none" w="5" h="116">
                    <a:moveTo>
                      <a:pt x="0" y="116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6"/>
                    </a:lnTo>
                    <a:lnTo>
                      <a:pt x="0" y="11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6019920" y="4997520"/>
                <a:ext cx="3600" cy="5040"/>
              </a:xfrm>
              <a:custGeom>
                <a:avLst/>
                <a:gdLst/>
                <a:ahLst/>
                <a:rect l="0" t="0" r="r" b="b"/>
                <a:pathLst>
                  <a:path fill="none" w="10" h="14">
                    <a:moveTo>
                      <a:pt x="0" y="0"/>
                    </a:moveTo>
                    <a:lnTo>
                      <a:pt x="0" y="6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5837400" y="4979880"/>
                <a:ext cx="178200" cy="68760"/>
              </a:xfrm>
              <a:custGeom>
                <a:avLst/>
                <a:gdLst/>
                <a:ahLst/>
                <a:rect l="0" t="0" r="r" b="b"/>
                <a:pathLst>
                  <a:path fill="none" w="495" h="191">
                    <a:moveTo>
                      <a:pt x="481" y="0"/>
                    </a:moveTo>
                    <a:lnTo>
                      <a:pt x="491" y="0"/>
                    </a:lnTo>
                    <a:lnTo>
                      <a:pt x="495" y="4"/>
                    </a:lnTo>
                    <a:lnTo>
                      <a:pt x="491" y="14"/>
                    </a:lnTo>
                    <a:lnTo>
                      <a:pt x="0" y="191"/>
                    </a:lnTo>
                    <a:lnTo>
                      <a:pt x="48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459480" y="4979880"/>
                <a:ext cx="28800" cy="11520"/>
              </a:xfrm>
              <a:custGeom>
                <a:avLst/>
                <a:gdLst/>
                <a:ahLst/>
                <a:rect l="0" t="0" r="r" b="b"/>
                <a:pathLst>
                  <a:path fill="none" w="80" h="32">
                    <a:moveTo>
                      <a:pt x="1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80" y="3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5745240" y="4967280"/>
                <a:ext cx="33840" cy="20880"/>
              </a:xfrm>
              <a:custGeom>
                <a:avLst/>
                <a:gdLst/>
                <a:ahLst/>
                <a:rect l="0" t="0" r="r" b="b"/>
                <a:pathLst>
                  <a:path fill="none" w="94" h="58">
                    <a:moveTo>
                      <a:pt x="59" y="23"/>
                    </a:moveTo>
                    <a:lnTo>
                      <a:pt x="49" y="4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79" y="58"/>
                    </a:lnTo>
                    <a:lnTo>
                      <a:pt x="69" y="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5764320" y="49719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5727600" y="4959360"/>
                <a:ext cx="18000" cy="25920"/>
              </a:xfrm>
              <a:custGeom>
                <a:avLst/>
                <a:gdLst/>
                <a:ahLst/>
                <a:rect l="0" t="0" r="r" b="b"/>
                <a:pathLst>
                  <a:path fill="none" w="50" h="72">
                    <a:moveTo>
                      <a:pt x="50" y="33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4" y="63"/>
                    </a:lnTo>
                    <a:lnTo>
                      <a:pt x="0" y="67"/>
                    </a:lnTo>
                    <a:lnTo>
                      <a:pt x="50" y="72"/>
                    </a:lnTo>
                    <a:lnTo>
                      <a:pt x="50" y="3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5713560" y="4983120"/>
                <a:ext cx="82800" cy="14760"/>
              </a:xfrm>
              <a:custGeom>
                <a:avLst/>
                <a:gdLst/>
                <a:ahLst/>
                <a:rect l="0" t="0" r="r" b="b"/>
                <a:pathLst>
                  <a:path fill="none" w="230" h="41">
                    <a:moveTo>
                      <a:pt x="23" y="0"/>
                    </a:moveTo>
                    <a:lnTo>
                      <a:pt x="23" y="14"/>
                    </a:lnTo>
                    <a:lnTo>
                      <a:pt x="76" y="8"/>
                    </a:lnTo>
                    <a:lnTo>
                      <a:pt x="85" y="8"/>
                    </a:lnTo>
                    <a:lnTo>
                      <a:pt x="76" y="27"/>
                    </a:lnTo>
                    <a:lnTo>
                      <a:pt x="125" y="27"/>
                    </a:lnTo>
                    <a:lnTo>
                      <a:pt x="125" y="18"/>
                    </a:lnTo>
                    <a:lnTo>
                      <a:pt x="90" y="14"/>
                    </a:lnTo>
                    <a:lnTo>
                      <a:pt x="163" y="14"/>
                    </a:lnTo>
                    <a:lnTo>
                      <a:pt x="211" y="23"/>
                    </a:lnTo>
                    <a:lnTo>
                      <a:pt x="230" y="27"/>
                    </a:lnTo>
                    <a:lnTo>
                      <a:pt x="149" y="41"/>
                    </a:lnTo>
                    <a:lnTo>
                      <a:pt x="95" y="32"/>
                    </a:lnTo>
                    <a:lnTo>
                      <a:pt x="52" y="32"/>
                    </a:lnTo>
                    <a:lnTo>
                      <a:pt x="19" y="27"/>
                    </a:lnTo>
                    <a:lnTo>
                      <a:pt x="9" y="23"/>
                    </a:lnTo>
                    <a:lnTo>
                      <a:pt x="0" y="18"/>
                    </a:lnTo>
                    <a:lnTo>
                      <a:pt x="9" y="14"/>
                    </a:lnTo>
                    <a:lnTo>
                      <a:pt x="14" y="8"/>
                    </a:lnTo>
                    <a:lnTo>
                      <a:pt x="19" y="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5781600" y="4960800"/>
                <a:ext cx="35280" cy="22680"/>
              </a:xfrm>
              <a:custGeom>
                <a:avLst/>
                <a:gdLst/>
                <a:ahLst/>
                <a:rect l="0" t="0" r="r" b="b"/>
                <a:pathLst>
                  <a:path fill="none" w="98" h="63">
                    <a:moveTo>
                      <a:pt x="59" y="24"/>
                    </a:moveTo>
                    <a:lnTo>
                      <a:pt x="43" y="4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78" y="63"/>
                    </a:lnTo>
                    <a:lnTo>
                      <a:pt x="73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5799240" y="496584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5759280" y="4951440"/>
                <a:ext cx="22680" cy="28800"/>
              </a:xfrm>
              <a:custGeom>
                <a:avLst/>
                <a:gdLst/>
                <a:ahLst/>
                <a:rect l="0" t="0" r="r" b="b"/>
                <a:pathLst>
                  <a:path fill="none" w="63" h="80">
                    <a:moveTo>
                      <a:pt x="63" y="34"/>
                    </a:moveTo>
                    <a:lnTo>
                      <a:pt x="34" y="0"/>
                    </a:lnTo>
                    <a:lnTo>
                      <a:pt x="0" y="0"/>
                    </a:lnTo>
                    <a:lnTo>
                      <a:pt x="14" y="70"/>
                    </a:lnTo>
                    <a:lnTo>
                      <a:pt x="0" y="75"/>
                    </a:lnTo>
                    <a:lnTo>
                      <a:pt x="63" y="80"/>
                    </a:lnTo>
                    <a:lnTo>
                      <a:pt x="63" y="3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5745240" y="4976640"/>
                <a:ext cx="87840" cy="16200"/>
              </a:xfrm>
              <a:custGeom>
                <a:avLst/>
                <a:gdLst/>
                <a:ahLst/>
                <a:rect l="0" t="0" r="r" b="b"/>
                <a:pathLst>
                  <a:path fill="none" w="244" h="45">
                    <a:moveTo>
                      <a:pt x="28" y="0"/>
                    </a:moveTo>
                    <a:lnTo>
                      <a:pt x="23" y="19"/>
                    </a:lnTo>
                    <a:lnTo>
                      <a:pt x="77" y="9"/>
                    </a:lnTo>
                    <a:lnTo>
                      <a:pt x="91" y="9"/>
                    </a:lnTo>
                    <a:lnTo>
                      <a:pt x="81" y="30"/>
                    </a:lnTo>
                    <a:lnTo>
                      <a:pt x="134" y="30"/>
                    </a:lnTo>
                    <a:lnTo>
                      <a:pt x="134" y="19"/>
                    </a:lnTo>
                    <a:lnTo>
                      <a:pt x="100" y="14"/>
                    </a:lnTo>
                    <a:lnTo>
                      <a:pt x="176" y="14"/>
                    </a:lnTo>
                    <a:lnTo>
                      <a:pt x="225" y="25"/>
                    </a:lnTo>
                    <a:lnTo>
                      <a:pt x="244" y="30"/>
                    </a:lnTo>
                    <a:lnTo>
                      <a:pt x="157" y="45"/>
                    </a:lnTo>
                    <a:lnTo>
                      <a:pt x="100" y="35"/>
                    </a:lnTo>
                    <a:lnTo>
                      <a:pt x="52" y="35"/>
                    </a:lnTo>
                    <a:lnTo>
                      <a:pt x="19" y="30"/>
                    </a:lnTo>
                    <a:lnTo>
                      <a:pt x="9" y="25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4" y="9"/>
                    </a:lnTo>
                    <a:lnTo>
                      <a:pt x="19" y="0"/>
                    </a:lnTo>
                    <a:lnTo>
                      <a:pt x="2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5823000" y="4952880"/>
                <a:ext cx="39960" cy="24120"/>
              </a:xfrm>
              <a:custGeom>
                <a:avLst/>
                <a:gdLst/>
                <a:ahLst/>
                <a:rect l="0" t="0" r="r" b="b"/>
                <a:pathLst>
                  <a:path fill="none" w="111" h="67">
                    <a:moveTo>
                      <a:pt x="68" y="23"/>
                    </a:moveTo>
                    <a:lnTo>
                      <a:pt x="52" y="4"/>
                    </a:lnTo>
                    <a:lnTo>
                      <a:pt x="1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92" y="67"/>
                    </a:lnTo>
                    <a:lnTo>
                      <a:pt x="82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5845320" y="49593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5797440" y="494352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fill="none" w="72" h="85">
                    <a:moveTo>
                      <a:pt x="72" y="38"/>
                    </a:moveTo>
                    <a:lnTo>
                      <a:pt x="43" y="0"/>
                    </a:lnTo>
                    <a:lnTo>
                      <a:pt x="4" y="0"/>
                    </a:lnTo>
                    <a:lnTo>
                      <a:pt x="19" y="76"/>
                    </a:lnTo>
                    <a:lnTo>
                      <a:pt x="0" y="81"/>
                    </a:lnTo>
                    <a:lnTo>
                      <a:pt x="72" y="85"/>
                    </a:lnTo>
                    <a:lnTo>
                      <a:pt x="72" y="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5781600" y="4971960"/>
                <a:ext cx="101880" cy="19440"/>
              </a:xfrm>
              <a:custGeom>
                <a:avLst/>
                <a:gdLst/>
                <a:ahLst/>
                <a:rect l="0" t="0" r="r" b="b"/>
                <a:pathLst>
                  <a:path fill="none" w="283" h="54">
                    <a:moveTo>
                      <a:pt x="33" y="0"/>
                    </a:moveTo>
                    <a:lnTo>
                      <a:pt x="28" y="20"/>
                    </a:lnTo>
                    <a:lnTo>
                      <a:pt x="90" y="9"/>
                    </a:lnTo>
                    <a:lnTo>
                      <a:pt x="105" y="9"/>
                    </a:lnTo>
                    <a:lnTo>
                      <a:pt x="90" y="34"/>
                    </a:lnTo>
                    <a:lnTo>
                      <a:pt x="154" y="34"/>
                    </a:lnTo>
                    <a:lnTo>
                      <a:pt x="154" y="20"/>
                    </a:lnTo>
                    <a:lnTo>
                      <a:pt x="114" y="15"/>
                    </a:lnTo>
                    <a:lnTo>
                      <a:pt x="206" y="15"/>
                    </a:lnTo>
                    <a:lnTo>
                      <a:pt x="259" y="25"/>
                    </a:lnTo>
                    <a:lnTo>
                      <a:pt x="283" y="34"/>
                    </a:lnTo>
                    <a:lnTo>
                      <a:pt x="182" y="54"/>
                    </a:lnTo>
                    <a:lnTo>
                      <a:pt x="114" y="39"/>
                    </a:lnTo>
                    <a:lnTo>
                      <a:pt x="62" y="39"/>
                    </a:lnTo>
                    <a:lnTo>
                      <a:pt x="19" y="34"/>
                    </a:lnTo>
                    <a:lnTo>
                      <a:pt x="14" y="29"/>
                    </a:lnTo>
                    <a:lnTo>
                      <a:pt x="0" y="25"/>
                    </a:lnTo>
                    <a:lnTo>
                      <a:pt x="14" y="20"/>
                    </a:lnTo>
                    <a:lnTo>
                      <a:pt x="19" y="9"/>
                    </a:lnTo>
                    <a:lnTo>
                      <a:pt x="23" y="0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872320" y="4944960"/>
                <a:ext cx="44640" cy="27360"/>
              </a:xfrm>
              <a:custGeom>
                <a:avLst/>
                <a:gdLst/>
                <a:ahLst/>
                <a:rect l="0" t="0" r="r" b="b"/>
                <a:pathLst>
                  <a:path fill="none" w="124" h="76">
                    <a:moveTo>
                      <a:pt x="72" y="29"/>
                    </a:moveTo>
                    <a:lnTo>
                      <a:pt x="56" y="4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100" y="76"/>
                    </a:lnTo>
                    <a:lnTo>
                      <a:pt x="91" y="6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5896080" y="495000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0" y="0"/>
                    </a:lnTo>
                    <a:lnTo>
                      <a:pt x="5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5845320" y="4932360"/>
                <a:ext cx="27360" cy="36720"/>
              </a:xfrm>
              <a:custGeom>
                <a:avLst/>
                <a:gdLst/>
                <a:ahLst/>
                <a:rect l="0" t="0" r="r" b="b"/>
                <a:pathLst>
                  <a:path fill="none" w="76" h="102">
                    <a:moveTo>
                      <a:pt x="76" y="43"/>
                    </a:moveTo>
                    <a:lnTo>
                      <a:pt x="43" y="0"/>
                    </a:lnTo>
                    <a:lnTo>
                      <a:pt x="0" y="0"/>
                    </a:lnTo>
                    <a:lnTo>
                      <a:pt x="18" y="87"/>
                    </a:lnTo>
                    <a:lnTo>
                      <a:pt x="0" y="92"/>
                    </a:lnTo>
                    <a:lnTo>
                      <a:pt x="76" y="102"/>
                    </a:lnTo>
                    <a:lnTo>
                      <a:pt x="7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5826240" y="4965840"/>
                <a:ext cx="113040" cy="20880"/>
              </a:xfrm>
              <a:custGeom>
                <a:avLst/>
                <a:gdLst/>
                <a:ahLst/>
                <a:rect l="0" t="0" r="r" b="b"/>
                <a:pathLst>
                  <a:path fill="none" w="314" h="58">
                    <a:moveTo>
                      <a:pt x="33" y="0"/>
                    </a:moveTo>
                    <a:lnTo>
                      <a:pt x="33" y="23"/>
                    </a:lnTo>
                    <a:lnTo>
                      <a:pt x="99" y="9"/>
                    </a:lnTo>
                    <a:lnTo>
                      <a:pt x="118" y="9"/>
                    </a:lnTo>
                    <a:lnTo>
                      <a:pt x="104" y="39"/>
                    </a:lnTo>
                    <a:lnTo>
                      <a:pt x="171" y="39"/>
                    </a:lnTo>
                    <a:lnTo>
                      <a:pt x="171" y="23"/>
                    </a:lnTo>
                    <a:lnTo>
                      <a:pt x="128" y="19"/>
                    </a:lnTo>
                    <a:lnTo>
                      <a:pt x="228" y="19"/>
                    </a:lnTo>
                    <a:lnTo>
                      <a:pt x="290" y="28"/>
                    </a:lnTo>
                    <a:lnTo>
                      <a:pt x="314" y="39"/>
                    </a:lnTo>
                    <a:lnTo>
                      <a:pt x="204" y="58"/>
                    </a:lnTo>
                    <a:lnTo>
                      <a:pt x="132" y="48"/>
                    </a:lnTo>
                    <a:lnTo>
                      <a:pt x="71" y="43"/>
                    </a:lnTo>
                    <a:lnTo>
                      <a:pt x="23" y="39"/>
                    </a:lnTo>
                    <a:lnTo>
                      <a:pt x="14" y="34"/>
                    </a:lnTo>
                    <a:lnTo>
                      <a:pt x="0" y="28"/>
                    </a:lnTo>
                    <a:lnTo>
                      <a:pt x="14" y="23"/>
                    </a:lnTo>
                    <a:lnTo>
                      <a:pt x="18" y="9"/>
                    </a:lnTo>
                    <a:lnTo>
                      <a:pt x="28" y="4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5924520" y="4933800"/>
                <a:ext cx="47880" cy="30600"/>
              </a:xfrm>
              <a:custGeom>
                <a:avLst/>
                <a:gdLst/>
                <a:ahLst/>
                <a:rect l="0" t="0" r="r" b="b"/>
                <a:pathLst>
                  <a:path fill="none" w="133" h="85">
                    <a:moveTo>
                      <a:pt x="76" y="35"/>
                    </a:moveTo>
                    <a:lnTo>
                      <a:pt x="61" y="4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4" y="85"/>
                    </a:lnTo>
                    <a:lnTo>
                      <a:pt x="100" y="7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5950080" y="494172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27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27" y="14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5892840" y="4923000"/>
                <a:ext cx="32040" cy="38520"/>
              </a:xfrm>
              <a:custGeom>
                <a:avLst/>
                <a:gdLst/>
                <a:ahLst/>
                <a:rect l="0" t="0" r="r" b="b"/>
                <a:pathLst>
                  <a:path fill="none" w="89" h="107">
                    <a:moveTo>
                      <a:pt x="89" y="44"/>
                    </a:moveTo>
                    <a:lnTo>
                      <a:pt x="49" y="0"/>
                    </a:lnTo>
                    <a:lnTo>
                      <a:pt x="0" y="0"/>
                    </a:lnTo>
                    <a:lnTo>
                      <a:pt x="24" y="93"/>
                    </a:lnTo>
                    <a:lnTo>
                      <a:pt x="0" y="98"/>
                    </a:lnTo>
                    <a:lnTo>
                      <a:pt x="89" y="107"/>
                    </a:lnTo>
                    <a:lnTo>
                      <a:pt x="89" y="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5873760" y="4959360"/>
                <a:ext cx="154440" cy="20880"/>
              </a:xfrm>
              <a:custGeom>
                <a:avLst/>
                <a:gdLst/>
                <a:ahLst/>
                <a:rect l="0" t="0" r="r" b="b"/>
                <a:pathLst>
                  <a:path fill="none" w="429" h="58">
                    <a:moveTo>
                      <a:pt x="38" y="0"/>
                    </a:moveTo>
                    <a:lnTo>
                      <a:pt x="33" y="19"/>
                    </a:lnTo>
                    <a:lnTo>
                      <a:pt x="110" y="9"/>
                    </a:lnTo>
                    <a:lnTo>
                      <a:pt x="129" y="9"/>
                    </a:lnTo>
                    <a:lnTo>
                      <a:pt x="110" y="34"/>
                    </a:lnTo>
                    <a:lnTo>
                      <a:pt x="186" y="34"/>
                    </a:lnTo>
                    <a:lnTo>
                      <a:pt x="186" y="19"/>
                    </a:lnTo>
                    <a:lnTo>
                      <a:pt x="138" y="14"/>
                    </a:lnTo>
                    <a:lnTo>
                      <a:pt x="367" y="4"/>
                    </a:lnTo>
                    <a:lnTo>
                      <a:pt x="429" y="28"/>
                    </a:lnTo>
                    <a:lnTo>
                      <a:pt x="344" y="28"/>
                    </a:lnTo>
                    <a:lnTo>
                      <a:pt x="219" y="58"/>
                    </a:lnTo>
                    <a:lnTo>
                      <a:pt x="143" y="43"/>
                    </a:lnTo>
                    <a:lnTo>
                      <a:pt x="76" y="43"/>
                    </a:lnTo>
                    <a:lnTo>
                      <a:pt x="23" y="34"/>
                    </a:lnTo>
                    <a:lnTo>
                      <a:pt x="14" y="28"/>
                    </a:lnTo>
                    <a:lnTo>
                      <a:pt x="0" y="23"/>
                    </a:lnTo>
                    <a:lnTo>
                      <a:pt x="14" y="19"/>
                    </a:lnTo>
                    <a:lnTo>
                      <a:pt x="19" y="4"/>
                    </a:lnTo>
                    <a:lnTo>
                      <a:pt x="28" y="0"/>
                    </a:lnTo>
                    <a:lnTo>
                      <a:pt x="3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5950080" y="4910040"/>
                <a:ext cx="30600" cy="38520"/>
              </a:xfrm>
              <a:custGeom>
                <a:avLst/>
                <a:gdLst/>
                <a:ahLst/>
                <a:rect l="0" t="0" r="r" b="b"/>
                <a:pathLst>
                  <a:path fill="none" w="85" h="107">
                    <a:moveTo>
                      <a:pt x="85" y="107"/>
                    </a:moveTo>
                    <a:lnTo>
                      <a:pt x="0" y="103"/>
                    </a:lnTo>
                    <a:lnTo>
                      <a:pt x="24" y="98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85" y="44"/>
                    </a:lnTo>
                    <a:lnTo>
                      <a:pt x="85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5979960" y="4923000"/>
                <a:ext cx="49680" cy="32040"/>
              </a:xfrm>
              <a:custGeom>
                <a:avLst/>
                <a:gdLst/>
                <a:ahLst/>
                <a:rect l="0" t="0" r="r" b="b"/>
                <a:pathLst>
                  <a:path fill="none" w="138" h="89">
                    <a:moveTo>
                      <a:pt x="0" y="79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115" y="89"/>
                    </a:lnTo>
                    <a:lnTo>
                      <a:pt x="0" y="7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019920" y="4946760"/>
                <a:ext cx="149760" cy="18000"/>
              </a:xfrm>
              <a:custGeom>
                <a:avLst/>
                <a:gdLst/>
                <a:ahLst/>
                <a:rect l="0" t="0" r="r" b="b"/>
                <a:pathLst>
                  <a:path fill="none" w="416" h="50">
                    <a:moveTo>
                      <a:pt x="0" y="20"/>
                    </a:moveTo>
                    <a:lnTo>
                      <a:pt x="286" y="0"/>
                    </a:lnTo>
                    <a:lnTo>
                      <a:pt x="167" y="15"/>
                    </a:lnTo>
                    <a:lnTo>
                      <a:pt x="167" y="25"/>
                    </a:lnTo>
                    <a:lnTo>
                      <a:pt x="392" y="20"/>
                    </a:lnTo>
                    <a:lnTo>
                      <a:pt x="416" y="15"/>
                    </a:lnTo>
                    <a:lnTo>
                      <a:pt x="392" y="20"/>
                    </a:lnTo>
                    <a:lnTo>
                      <a:pt x="330" y="30"/>
                    </a:lnTo>
                    <a:lnTo>
                      <a:pt x="282" y="30"/>
                    </a:lnTo>
                    <a:lnTo>
                      <a:pt x="277" y="40"/>
                    </a:lnTo>
                    <a:lnTo>
                      <a:pt x="272" y="30"/>
                    </a:lnTo>
                    <a:lnTo>
                      <a:pt x="243" y="30"/>
                    </a:lnTo>
                    <a:lnTo>
                      <a:pt x="243" y="40"/>
                    </a:lnTo>
                    <a:lnTo>
                      <a:pt x="229" y="30"/>
                    </a:lnTo>
                    <a:lnTo>
                      <a:pt x="95" y="30"/>
                    </a:lnTo>
                    <a:lnTo>
                      <a:pt x="110" y="50"/>
                    </a:lnTo>
                    <a:lnTo>
                      <a:pt x="80" y="34"/>
                    </a:lnTo>
                    <a:lnTo>
                      <a:pt x="42" y="30"/>
                    </a:lnTo>
                    <a:lnTo>
                      <a:pt x="4" y="25"/>
                    </a:lnTo>
                    <a:lnTo>
                      <a:pt x="0" y="2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5979960" y="4951440"/>
                <a:ext cx="78120" cy="18000"/>
              </a:xfrm>
              <a:custGeom>
                <a:avLst/>
                <a:gdLst/>
                <a:ahLst/>
                <a:rect l="0" t="0" r="r" b="b"/>
                <a:pathLst>
                  <a:path fill="none" w="217" h="50">
                    <a:moveTo>
                      <a:pt x="145" y="9"/>
                    </a:moveTo>
                    <a:lnTo>
                      <a:pt x="121" y="15"/>
                    </a:lnTo>
                    <a:lnTo>
                      <a:pt x="173" y="40"/>
                    </a:lnTo>
                    <a:lnTo>
                      <a:pt x="217" y="34"/>
                    </a:lnTo>
                    <a:lnTo>
                      <a:pt x="178" y="45"/>
                    </a:lnTo>
                    <a:lnTo>
                      <a:pt x="140" y="50"/>
                    </a:lnTo>
                    <a:lnTo>
                      <a:pt x="81" y="45"/>
                    </a:lnTo>
                    <a:lnTo>
                      <a:pt x="38" y="34"/>
                    </a:lnTo>
                    <a:lnTo>
                      <a:pt x="52" y="30"/>
                    </a:lnTo>
                    <a:lnTo>
                      <a:pt x="52" y="9"/>
                    </a:lnTo>
                    <a:lnTo>
                      <a:pt x="0" y="0"/>
                    </a:lnTo>
                    <a:lnTo>
                      <a:pt x="145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05520" y="4929120"/>
                <a:ext cx="30600" cy="9720"/>
              </a:xfrm>
              <a:custGeom>
                <a:avLst/>
                <a:gdLst/>
                <a:ahLst/>
                <a:rect l="0" t="0" r="r" b="b"/>
                <a:pathLst>
                  <a:path fill="none" w="85" h="27">
                    <a:moveTo>
                      <a:pt x="0" y="0"/>
                    </a:moveTo>
                    <a:lnTo>
                      <a:pt x="85" y="0"/>
                    </a:lnTo>
                    <a:lnTo>
                      <a:pt x="40" y="5"/>
                    </a:lnTo>
                    <a:lnTo>
                      <a:pt x="50" y="22"/>
                    </a:lnTo>
                    <a:lnTo>
                      <a:pt x="14" y="2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013440" y="4933800"/>
                <a:ext cx="143280" cy="14760"/>
              </a:xfrm>
              <a:custGeom>
                <a:avLst/>
                <a:gdLst/>
                <a:ahLst/>
                <a:rect l="0" t="0" r="r" b="b"/>
                <a:pathLst>
                  <a:path fill="none" w="398" h="41">
                    <a:moveTo>
                      <a:pt x="0" y="15"/>
                    </a:moveTo>
                    <a:lnTo>
                      <a:pt x="47" y="9"/>
                    </a:lnTo>
                    <a:lnTo>
                      <a:pt x="114" y="4"/>
                    </a:lnTo>
                    <a:lnTo>
                      <a:pt x="175" y="4"/>
                    </a:lnTo>
                    <a:lnTo>
                      <a:pt x="275" y="15"/>
                    </a:lnTo>
                    <a:lnTo>
                      <a:pt x="275" y="0"/>
                    </a:lnTo>
                    <a:lnTo>
                      <a:pt x="318" y="20"/>
                    </a:lnTo>
                    <a:lnTo>
                      <a:pt x="398" y="41"/>
                    </a:lnTo>
                    <a:lnTo>
                      <a:pt x="275" y="25"/>
                    </a:lnTo>
                    <a:lnTo>
                      <a:pt x="246" y="20"/>
                    </a:lnTo>
                    <a:lnTo>
                      <a:pt x="208" y="36"/>
                    </a:lnTo>
                    <a:lnTo>
                      <a:pt x="9" y="36"/>
                    </a:lnTo>
                    <a:lnTo>
                      <a:pt x="0" y="1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5927760" y="4946760"/>
                <a:ext cx="74880" cy="18000"/>
              </a:xfrm>
              <a:custGeom>
                <a:avLst/>
                <a:gdLst/>
                <a:ahLst/>
                <a:rect l="0" t="0" r="r" b="b"/>
                <a:pathLst>
                  <a:path fill="none" w="208" h="50">
                    <a:moveTo>
                      <a:pt x="118" y="9"/>
                    </a:moveTo>
                    <a:lnTo>
                      <a:pt x="42" y="2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9"/>
                    </a:lnTo>
                    <a:lnTo>
                      <a:pt x="18" y="20"/>
                    </a:lnTo>
                    <a:lnTo>
                      <a:pt x="0" y="30"/>
                    </a:lnTo>
                    <a:lnTo>
                      <a:pt x="18" y="34"/>
                    </a:lnTo>
                    <a:lnTo>
                      <a:pt x="28" y="40"/>
                    </a:lnTo>
                    <a:lnTo>
                      <a:pt x="128" y="50"/>
                    </a:lnTo>
                    <a:lnTo>
                      <a:pt x="170" y="50"/>
                    </a:lnTo>
                    <a:lnTo>
                      <a:pt x="208" y="40"/>
                    </a:lnTo>
                    <a:lnTo>
                      <a:pt x="123" y="40"/>
                    </a:lnTo>
                    <a:lnTo>
                      <a:pt x="137" y="9"/>
                    </a:lnTo>
                    <a:lnTo>
                      <a:pt x="118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068880" y="4930920"/>
                <a:ext cx="44640" cy="3600"/>
              </a:xfrm>
              <a:custGeom>
                <a:avLst/>
                <a:gdLst/>
                <a:ahLst/>
                <a:rect l="0" t="0" r="r" b="b"/>
                <a:pathLst>
                  <a:path fill="none" w="124" h="10">
                    <a:moveTo>
                      <a:pt x="0" y="10"/>
                    </a:moveTo>
                    <a:lnTo>
                      <a:pt x="56" y="0"/>
                    </a:lnTo>
                    <a:lnTo>
                      <a:pt x="95" y="0"/>
                    </a:lnTo>
                    <a:lnTo>
                      <a:pt x="124" y="10"/>
                    </a:lnTo>
                    <a:lnTo>
                      <a:pt x="91" y="0"/>
                    </a:lnTo>
                    <a:lnTo>
                      <a:pt x="67" y="0"/>
                    </a:lnTo>
                    <a:lnTo>
                      <a:pt x="0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130800" y="49672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14" y="9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14" y="14"/>
                    </a:lnTo>
                    <a:lnTo>
                      <a:pt x="14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6129360" y="495468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fill="none" w="14" h="27">
                    <a:moveTo>
                      <a:pt x="14" y="27"/>
                    </a:moveTo>
                    <a:lnTo>
                      <a:pt x="9" y="27"/>
                    </a:lnTo>
                    <a:lnTo>
                      <a:pt x="9" y="22"/>
                    </a:lnTo>
                    <a:lnTo>
                      <a:pt x="9" y="16"/>
                    </a:lnTo>
                    <a:lnTo>
                      <a:pt x="0" y="5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6243480" y="5094360"/>
                <a:ext cx="246600" cy="11520"/>
              </a:xfrm>
              <a:custGeom>
                <a:avLst/>
                <a:gdLst/>
                <a:ahLst/>
                <a:rect l="0" t="0" r="r" b="b"/>
                <a:pathLst>
                  <a:path fill="none" w="685" h="32">
                    <a:moveTo>
                      <a:pt x="23" y="0"/>
                    </a:moveTo>
                    <a:lnTo>
                      <a:pt x="685" y="0"/>
                    </a:lnTo>
                    <a:lnTo>
                      <a:pt x="524" y="14"/>
                    </a:lnTo>
                    <a:lnTo>
                      <a:pt x="309" y="14"/>
                    </a:lnTo>
                    <a:lnTo>
                      <a:pt x="252" y="4"/>
                    </a:lnTo>
                    <a:lnTo>
                      <a:pt x="195" y="14"/>
                    </a:lnTo>
                    <a:lnTo>
                      <a:pt x="113" y="14"/>
                    </a:lnTo>
                    <a:lnTo>
                      <a:pt x="75" y="23"/>
                    </a:lnTo>
                    <a:lnTo>
                      <a:pt x="304" y="23"/>
                    </a:lnTo>
                    <a:lnTo>
                      <a:pt x="394" y="32"/>
                    </a:lnTo>
                    <a:lnTo>
                      <a:pt x="0" y="32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6039000" y="5052960"/>
                <a:ext cx="11520" cy="11520"/>
              </a:xfrm>
              <a:custGeom>
                <a:avLst/>
                <a:gdLst/>
                <a:ahLst/>
                <a:rect l="0" t="0" r="r" b="b"/>
                <a:pathLst>
                  <a:path fill="none" w="32" h="32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23" y="23"/>
                    </a:lnTo>
                    <a:lnTo>
                      <a:pt x="23" y="28"/>
                    </a:lnTo>
                    <a:lnTo>
                      <a:pt x="18" y="32"/>
                    </a:lnTo>
                    <a:lnTo>
                      <a:pt x="32" y="28"/>
                    </a:lnTo>
                    <a:lnTo>
                      <a:pt x="32" y="14"/>
                    </a:lnTo>
                    <a:lnTo>
                      <a:pt x="28" y="4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6039000" y="5059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5975280" y="5052960"/>
                <a:ext cx="9720" cy="9720"/>
              </a:xfrm>
              <a:custGeom>
                <a:avLst/>
                <a:gdLst/>
                <a:ahLst/>
                <a:rect l="0" t="0" r="r" b="b"/>
                <a:pathLst>
                  <a:path fill="none" w="27" h="27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18" y="18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27" y="14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5975280" y="5059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5931000" y="5052960"/>
                <a:ext cx="8280" cy="9720"/>
              </a:xfrm>
              <a:custGeom>
                <a:avLst/>
                <a:gdLst/>
                <a:ahLst/>
                <a:rect l="0" t="0" r="r" b="b"/>
                <a:pathLst>
                  <a:path fill="none" w="23" h="27">
                    <a:moveTo>
                      <a:pt x="0" y="4"/>
                    </a:moveTo>
                    <a:lnTo>
                      <a:pt x="4" y="4"/>
                    </a:lnTo>
                    <a:lnTo>
                      <a:pt x="14" y="14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4" y="27"/>
                    </a:lnTo>
                    <a:lnTo>
                      <a:pt x="23" y="23"/>
                    </a:lnTo>
                    <a:lnTo>
                      <a:pt x="23" y="14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5931000" y="5057640"/>
                <a:ext cx="1800" cy="3600"/>
              </a:xfrm>
              <a:custGeom>
                <a:avLst/>
                <a:gdLst/>
                <a:ahLst/>
                <a:rect l="0" t="0" r="r" b="b"/>
                <a:pathLst>
                  <a:path fill="none" w="5" h="10">
                    <a:moveTo>
                      <a:pt x="0" y="5"/>
                    </a:moveTo>
                    <a:lnTo>
                      <a:pt x="5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048360" y="5091120"/>
                <a:ext cx="47880" cy="46440"/>
              </a:xfrm>
              <a:custGeom>
                <a:avLst/>
                <a:gdLst/>
                <a:ahLst/>
                <a:rect l="0" t="0" r="r" b="b"/>
                <a:pathLst>
                  <a:path fill="none" w="133" h="129">
                    <a:moveTo>
                      <a:pt x="56" y="0"/>
                    </a:moveTo>
                    <a:lnTo>
                      <a:pt x="0" y="53"/>
                    </a:lnTo>
                    <a:lnTo>
                      <a:pt x="4" y="57"/>
                    </a:lnTo>
                    <a:lnTo>
                      <a:pt x="28" y="43"/>
                    </a:lnTo>
                    <a:lnTo>
                      <a:pt x="42" y="48"/>
                    </a:lnTo>
                    <a:lnTo>
                      <a:pt x="56" y="57"/>
                    </a:lnTo>
                    <a:lnTo>
                      <a:pt x="47" y="67"/>
                    </a:lnTo>
                    <a:lnTo>
                      <a:pt x="47" y="76"/>
                    </a:lnTo>
                    <a:lnTo>
                      <a:pt x="56" y="76"/>
                    </a:lnTo>
                    <a:lnTo>
                      <a:pt x="51" y="81"/>
                    </a:lnTo>
                    <a:lnTo>
                      <a:pt x="56" y="86"/>
                    </a:lnTo>
                    <a:lnTo>
                      <a:pt x="76" y="81"/>
                    </a:lnTo>
                    <a:lnTo>
                      <a:pt x="90" y="101"/>
                    </a:lnTo>
                    <a:lnTo>
                      <a:pt x="76" y="125"/>
                    </a:lnTo>
                    <a:lnTo>
                      <a:pt x="81" y="129"/>
                    </a:lnTo>
                    <a:lnTo>
                      <a:pt x="133" y="86"/>
                    </a:lnTo>
                    <a:lnTo>
                      <a:pt x="114" y="62"/>
                    </a:lnTo>
                    <a:lnTo>
                      <a:pt x="109" y="43"/>
                    </a:lnTo>
                    <a:lnTo>
                      <a:pt x="109" y="57"/>
                    </a:lnTo>
                    <a:lnTo>
                      <a:pt x="104" y="62"/>
                    </a:lnTo>
                    <a:lnTo>
                      <a:pt x="100" y="43"/>
                    </a:lnTo>
                    <a:lnTo>
                      <a:pt x="86" y="28"/>
                    </a:lnTo>
                    <a:lnTo>
                      <a:pt x="76" y="23"/>
                    </a:lnTo>
                    <a:lnTo>
                      <a:pt x="71" y="28"/>
                    </a:lnTo>
                    <a:lnTo>
                      <a:pt x="67" y="34"/>
                    </a:lnTo>
                    <a:lnTo>
                      <a:pt x="71" y="43"/>
                    </a:lnTo>
                    <a:lnTo>
                      <a:pt x="76" y="57"/>
                    </a:lnTo>
                    <a:lnTo>
                      <a:pt x="61" y="43"/>
                    </a:lnTo>
                    <a:lnTo>
                      <a:pt x="56" y="28"/>
                    </a:lnTo>
                    <a:lnTo>
                      <a:pt x="61" y="18"/>
                    </a:lnTo>
                    <a:lnTo>
                      <a:pt x="81" y="14"/>
                    </a:lnTo>
                    <a:lnTo>
                      <a:pt x="100" y="23"/>
                    </a:lnTo>
                    <a:lnTo>
                      <a:pt x="81" y="9"/>
                    </a:lnTo>
                    <a:lnTo>
                      <a:pt x="71" y="9"/>
                    </a:lnTo>
                    <a:lnTo>
                      <a:pt x="5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232680" y="5099040"/>
                <a:ext cx="44640" cy="36720"/>
              </a:xfrm>
              <a:custGeom>
                <a:avLst/>
                <a:gdLst/>
                <a:ahLst/>
                <a:rect l="0" t="0" r="r" b="b"/>
                <a:pathLst>
                  <a:path fill="none" w="124" h="102">
                    <a:moveTo>
                      <a:pt x="33" y="102"/>
                    </a:moveTo>
                    <a:lnTo>
                      <a:pt x="37" y="97"/>
                    </a:lnTo>
                    <a:lnTo>
                      <a:pt x="33" y="68"/>
                    </a:lnTo>
                    <a:lnTo>
                      <a:pt x="42" y="63"/>
                    </a:lnTo>
                    <a:lnTo>
                      <a:pt x="61" y="78"/>
                    </a:lnTo>
                    <a:lnTo>
                      <a:pt x="67" y="78"/>
                    </a:lnTo>
                    <a:lnTo>
                      <a:pt x="67" y="63"/>
                    </a:lnTo>
                    <a:lnTo>
                      <a:pt x="76" y="73"/>
                    </a:lnTo>
                    <a:lnTo>
                      <a:pt x="81" y="68"/>
                    </a:lnTo>
                    <a:lnTo>
                      <a:pt x="81" y="58"/>
                    </a:lnTo>
                    <a:lnTo>
                      <a:pt x="95" y="43"/>
                    </a:lnTo>
                    <a:lnTo>
                      <a:pt x="119" y="73"/>
                    </a:lnTo>
                    <a:lnTo>
                      <a:pt x="124" y="63"/>
                    </a:lnTo>
                    <a:lnTo>
                      <a:pt x="86" y="4"/>
                    </a:lnTo>
                    <a:lnTo>
                      <a:pt x="18" y="0"/>
                    </a:lnTo>
                    <a:lnTo>
                      <a:pt x="0" y="48"/>
                    </a:lnTo>
                    <a:lnTo>
                      <a:pt x="33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5445000" y="4959360"/>
                <a:ext cx="97200" cy="28800"/>
              </a:xfrm>
              <a:custGeom>
                <a:avLst/>
                <a:gdLst/>
                <a:ahLst/>
                <a:rect l="0" t="0" r="r" b="b"/>
                <a:pathLst>
                  <a:path fill="none" w="270" h="80">
                    <a:moveTo>
                      <a:pt x="233" y="80"/>
                    </a:moveTo>
                    <a:lnTo>
                      <a:pt x="233" y="43"/>
                    </a:lnTo>
                    <a:lnTo>
                      <a:pt x="166" y="43"/>
                    </a:lnTo>
                    <a:lnTo>
                      <a:pt x="147" y="52"/>
                    </a:lnTo>
                    <a:lnTo>
                      <a:pt x="133" y="43"/>
                    </a:lnTo>
                    <a:lnTo>
                      <a:pt x="100" y="43"/>
                    </a:lnTo>
                    <a:lnTo>
                      <a:pt x="95" y="52"/>
                    </a:lnTo>
                    <a:lnTo>
                      <a:pt x="76" y="52"/>
                    </a:lnTo>
                    <a:lnTo>
                      <a:pt x="71" y="61"/>
                    </a:lnTo>
                    <a:lnTo>
                      <a:pt x="51" y="61"/>
                    </a:lnTo>
                    <a:lnTo>
                      <a:pt x="51" y="71"/>
                    </a:lnTo>
                    <a:lnTo>
                      <a:pt x="37" y="7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14" y="28"/>
                    </a:lnTo>
                    <a:lnTo>
                      <a:pt x="37" y="28"/>
                    </a:lnTo>
                    <a:lnTo>
                      <a:pt x="37" y="14"/>
                    </a:lnTo>
                    <a:lnTo>
                      <a:pt x="4" y="14"/>
                    </a:lnTo>
                    <a:lnTo>
                      <a:pt x="18" y="0"/>
                    </a:lnTo>
                    <a:lnTo>
                      <a:pt x="270" y="0"/>
                    </a:lnTo>
                    <a:lnTo>
                      <a:pt x="237" y="14"/>
                    </a:lnTo>
                    <a:lnTo>
                      <a:pt x="237" y="80"/>
                    </a:lnTo>
                    <a:lnTo>
                      <a:pt x="233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5541840" y="494676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5532480" y="4946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5521320" y="494676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5511960" y="4946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5456160" y="4946760"/>
                <a:ext cx="52920" cy="5040"/>
              </a:xfrm>
              <a:custGeom>
                <a:avLst/>
                <a:gdLst/>
                <a:ahLst/>
                <a:rect l="0" t="0" r="r" b="b"/>
                <a:pathLst>
                  <a:path fill="none" w="147" h="14">
                    <a:moveTo>
                      <a:pt x="147" y="0"/>
                    </a:moveTo>
                    <a:lnTo>
                      <a:pt x="147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5541840" y="493236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19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5532480" y="493236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5521320" y="493236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23" y="0"/>
                    </a:moveTo>
                    <a:lnTo>
                      <a:pt x="23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5511960" y="493236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5456160" y="4932360"/>
                <a:ext cx="52920" cy="6840"/>
              </a:xfrm>
              <a:custGeom>
                <a:avLst/>
                <a:gdLst/>
                <a:ahLst/>
                <a:rect l="0" t="0" r="r" b="b"/>
                <a:pathLst>
                  <a:path fill="none" w="147" h="19">
                    <a:moveTo>
                      <a:pt x="147" y="0"/>
                    </a:moveTo>
                    <a:lnTo>
                      <a:pt x="147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541840" y="491976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532480" y="4919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5521320" y="491976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5511960" y="4919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424480" y="4919760"/>
                <a:ext cx="84600" cy="41760"/>
              </a:xfrm>
              <a:custGeom>
                <a:avLst/>
                <a:gdLst/>
                <a:ahLst/>
                <a:rect l="0" t="0" r="r" b="b"/>
                <a:pathLst>
                  <a:path fill="none" w="235" h="116">
                    <a:moveTo>
                      <a:pt x="235" y="14"/>
                    </a:moveTo>
                    <a:lnTo>
                      <a:pt x="105" y="14"/>
                    </a:lnTo>
                    <a:lnTo>
                      <a:pt x="105" y="48"/>
                    </a:lnTo>
                    <a:lnTo>
                      <a:pt x="91" y="48"/>
                    </a:lnTo>
                    <a:lnTo>
                      <a:pt x="91" y="111"/>
                    </a:lnTo>
                    <a:lnTo>
                      <a:pt x="77" y="111"/>
                    </a:lnTo>
                    <a:lnTo>
                      <a:pt x="77" y="97"/>
                    </a:lnTo>
                    <a:lnTo>
                      <a:pt x="63" y="116"/>
                    </a:lnTo>
                    <a:lnTo>
                      <a:pt x="14" y="92"/>
                    </a:lnTo>
                    <a:lnTo>
                      <a:pt x="23" y="92"/>
                    </a:lnTo>
                    <a:lnTo>
                      <a:pt x="23" y="77"/>
                    </a:lnTo>
                    <a:lnTo>
                      <a:pt x="19" y="77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34"/>
                    </a:lnTo>
                    <a:lnTo>
                      <a:pt x="23" y="34"/>
                    </a:lnTo>
                    <a:lnTo>
                      <a:pt x="23" y="23"/>
                    </a:lnTo>
                    <a:lnTo>
                      <a:pt x="67" y="23"/>
                    </a:lnTo>
                    <a:lnTo>
                      <a:pt x="67" y="0"/>
                    </a:lnTo>
                    <a:lnTo>
                      <a:pt x="235" y="0"/>
                    </a:lnTo>
                    <a:lnTo>
                      <a:pt x="235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5456160" y="4919760"/>
                <a:ext cx="86040" cy="39960"/>
              </a:xfrm>
              <a:custGeom>
                <a:avLst/>
                <a:gdLst/>
                <a:ahLst/>
                <a:rect l="0" t="0" r="r" b="b"/>
                <a:pathLst>
                  <a:path fill="none" w="239" h="111">
                    <a:moveTo>
                      <a:pt x="239" y="111"/>
                    </a:move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5456160" y="49244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5456160" y="49323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5456160" y="49388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5456160" y="49467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5456160" y="49514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5472000" y="4883040"/>
                <a:ext cx="36720" cy="36720"/>
              </a:xfrm>
              <a:custGeom>
                <a:avLst/>
                <a:gdLst/>
                <a:ahLst/>
                <a:rect l="0" t="0" r="r" b="b"/>
                <a:pathLst>
                  <a:path fill="none" w="102" h="102">
                    <a:moveTo>
                      <a:pt x="102" y="83"/>
                    </a:moveTo>
                    <a:lnTo>
                      <a:pt x="54" y="83"/>
                    </a:lnTo>
                    <a:lnTo>
                      <a:pt x="54" y="102"/>
                    </a:lnTo>
                    <a:lnTo>
                      <a:pt x="14" y="102"/>
                    </a:lnTo>
                    <a:lnTo>
                      <a:pt x="14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83"/>
                    </a:lnTo>
                    <a:lnTo>
                      <a:pt x="102" y="8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5483160" y="4883040"/>
                <a:ext cx="1800" cy="28800"/>
              </a:xfrm>
              <a:custGeom>
                <a:avLst/>
                <a:gdLst/>
                <a:ahLst/>
                <a:rect l="0" t="0" r="r" b="b"/>
                <a:pathLst>
                  <a:path fill="none" w="5" h="80">
                    <a:moveTo>
                      <a:pt x="0" y="8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0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5487840" y="4892760"/>
                <a:ext cx="1800" cy="19440"/>
              </a:xfrm>
              <a:custGeom>
                <a:avLst/>
                <a:gdLst/>
                <a:ahLst/>
                <a:rect l="0" t="0" r="r" b="b"/>
                <a:pathLst>
                  <a:path fill="none" w="5" h="54">
                    <a:moveTo>
                      <a:pt x="0" y="5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54"/>
                    </a:lnTo>
                    <a:lnTo>
                      <a:pt x="0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472000" y="488304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fill="none" w="102" h="80">
                    <a:moveTo>
                      <a:pt x="102" y="80"/>
                    </a:moveTo>
                    <a:lnTo>
                      <a:pt x="10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H="1" flipV="1">
                <a:off x="5495760" y="4911840"/>
                <a:ext cx="972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5443560" y="4915080"/>
                <a:ext cx="100440" cy="5040"/>
              </a:xfrm>
              <a:custGeom>
                <a:avLst/>
                <a:gdLst/>
                <a:ahLst/>
                <a:rect l="0" t="0" r="r" b="b"/>
                <a:pathLst>
                  <a:path fill="none" w="279" h="14">
                    <a:moveTo>
                      <a:pt x="279" y="14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5443560" y="491652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5475240" y="48769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0" y="1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5484960" y="4876920"/>
                <a:ext cx="20880" cy="5040"/>
              </a:xfrm>
              <a:custGeom>
                <a:avLst/>
                <a:gdLst/>
                <a:ahLst/>
                <a:rect l="0" t="0" r="r" b="b"/>
                <a:pathLst>
                  <a:path fill="none" w="58" h="14">
                    <a:moveTo>
                      <a:pt x="0" y="14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4"/>
                    </a:lnTo>
                    <a:lnTo>
                      <a:pt x="48" y="4"/>
                    </a:lnTo>
                    <a:lnTo>
                      <a:pt x="48" y="14"/>
                    </a:lnTo>
                    <a:lnTo>
                      <a:pt x="48" y="4"/>
                    </a:lnTo>
                    <a:lnTo>
                      <a:pt x="9" y="4"/>
                    </a:lnTo>
                    <a:lnTo>
                      <a:pt x="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5478480" y="4873680"/>
                <a:ext cx="1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5483160" y="4792680"/>
                <a:ext cx="1800" cy="84600"/>
              </a:xfrm>
              <a:custGeom>
                <a:avLst/>
                <a:gdLst/>
                <a:ahLst/>
                <a:rect l="0" t="0" r="r" b="b"/>
                <a:pathLst>
                  <a:path fill="none" w="5" h="235">
                    <a:moveTo>
                      <a:pt x="0" y="235"/>
                    </a:moveTo>
                    <a:lnTo>
                      <a:pt x="5" y="0"/>
                    </a:lnTo>
                    <a:lnTo>
                      <a:pt x="5" y="235"/>
                    </a:lnTo>
                    <a:lnTo>
                      <a:pt x="0" y="23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5478480" y="485784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19"/>
                    </a:moveTo>
                    <a:lnTo>
                      <a:pt x="0" y="1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554184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553392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552780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551988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551340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550548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549756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547056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 flipH="1">
                <a:off x="5454720" y="4915080"/>
                <a:ext cx="144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544824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5464080" y="49039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5459400" y="49039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5462640" y="4910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fill="none" w="5" h="27">
                    <a:moveTo>
                      <a:pt x="0" y="0"/>
                    </a:moveTo>
                    <a:lnTo>
                      <a:pt x="0" y="27"/>
                    </a:lnTo>
                    <a:lnTo>
                      <a:pt x="5" y="27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5533920" y="4908600"/>
                <a:ext cx="8280" cy="1800"/>
              </a:xfrm>
              <a:custGeom>
                <a:avLst/>
                <a:gdLst/>
                <a:ahLst/>
                <a:rect l="0" t="0" r="r" b="b"/>
                <a:pathLst>
                  <a:path fill="none" w="23" h="5">
                    <a:moveTo>
                      <a:pt x="23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5424480" y="4957920"/>
                <a:ext cx="20880" cy="11520"/>
              </a:xfrm>
              <a:custGeom>
                <a:avLst/>
                <a:gdLst/>
                <a:ahLst/>
                <a:rect l="0" t="0" r="r" b="b"/>
                <a:pathLst>
                  <a:path fill="none" w="58" h="32">
                    <a:moveTo>
                      <a:pt x="0" y="0"/>
                    </a:moveTo>
                    <a:lnTo>
                      <a:pt x="0" y="18"/>
                    </a:lnTo>
                    <a:lnTo>
                      <a:pt x="4" y="23"/>
                    </a:lnTo>
                    <a:lnTo>
                      <a:pt x="14" y="14"/>
                    </a:lnTo>
                    <a:lnTo>
                      <a:pt x="58" y="32"/>
                    </a:lnTo>
                    <a:lnTo>
                      <a:pt x="58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5432400" y="4971960"/>
                <a:ext cx="12960" cy="22680"/>
              </a:xfrm>
              <a:custGeom>
                <a:avLst/>
                <a:gdLst/>
                <a:ahLst/>
                <a:rect l="0" t="0" r="r" b="b"/>
                <a:pathLst>
                  <a:path fill="none" w="36" h="63">
                    <a:moveTo>
                      <a:pt x="0" y="0"/>
                    </a:moveTo>
                    <a:lnTo>
                      <a:pt x="36" y="0"/>
                    </a:lnTo>
                    <a:lnTo>
                      <a:pt x="36" y="54"/>
                    </a:lnTo>
                    <a:lnTo>
                      <a:pt x="31" y="58"/>
                    </a:lnTo>
                    <a:lnTo>
                      <a:pt x="21" y="58"/>
                    </a:lnTo>
                    <a:lnTo>
                      <a:pt x="15" y="63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 flipV="1">
                <a:off x="5432400" y="4937040"/>
                <a:ext cx="7920" cy="3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5445000" y="4959360"/>
                <a:ext cx="3600" cy="12960"/>
              </a:xfrm>
              <a:custGeom>
                <a:avLst/>
                <a:gdLst/>
                <a:ahLst/>
                <a:rect l="0" t="0" r="r" b="b"/>
                <a:pathLst>
                  <a:path fill="none" w="10" h="36">
                    <a:moveTo>
                      <a:pt x="0" y="36"/>
                    </a:moveTo>
                    <a:lnTo>
                      <a:pt x="0" y="27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5407200" y="499752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fill="none" w="72" h="14">
                    <a:moveTo>
                      <a:pt x="67" y="1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67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5421240" y="49831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5416560" y="49831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5419800" y="4989600"/>
                <a:ext cx="1800" cy="8280"/>
              </a:xfrm>
              <a:custGeom>
                <a:avLst/>
                <a:gdLst/>
                <a:ahLst/>
                <a:rect l="0" t="0" r="r" b="b"/>
                <a:pathLst>
                  <a:path fill="none" w="5" h="23">
                    <a:moveTo>
                      <a:pt x="0" y="0"/>
                    </a:move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5397480" y="4981680"/>
                <a:ext cx="35280" cy="14760"/>
              </a:xfrm>
              <a:custGeom>
                <a:avLst/>
                <a:gdLst/>
                <a:ahLst/>
                <a:rect l="0" t="0" r="r" b="b"/>
                <a:pathLst>
                  <a:path fill="none" w="98" h="41">
                    <a:moveTo>
                      <a:pt x="98" y="41"/>
                    </a:move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5407200" y="498168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fill="none" w="72" h="27">
                    <a:moveTo>
                      <a:pt x="72" y="0"/>
                    </a:moveTo>
                    <a:lnTo>
                      <a:pt x="43" y="27"/>
                    </a:lnTo>
                    <a:lnTo>
                      <a:pt x="29" y="0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5397480" y="4981680"/>
                <a:ext cx="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5396040" y="499104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5396040" y="499428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5407200" y="500868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fill="none" w="63" h="27">
                    <a:moveTo>
                      <a:pt x="63" y="0"/>
                    </a:moveTo>
                    <a:lnTo>
                      <a:pt x="0" y="27"/>
                    </a:lnTo>
                    <a:lnTo>
                      <a:pt x="63" y="4"/>
                    </a:lnTo>
                    <a:lnTo>
                      <a:pt x="6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5416560" y="4998960"/>
                <a:ext cx="12960" cy="32040"/>
              </a:xfrm>
              <a:custGeom>
                <a:avLst/>
                <a:gdLst/>
                <a:ahLst/>
                <a:rect l="0" t="0" r="r" b="b"/>
                <a:pathLst>
                  <a:path fill="none" w="36" h="89">
                    <a:moveTo>
                      <a:pt x="36" y="79"/>
                    </a:moveTo>
                    <a:lnTo>
                      <a:pt x="0" y="0"/>
                    </a:lnTo>
                    <a:lnTo>
                      <a:pt x="23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5432400" y="492120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0" y="0"/>
                    </a:moveTo>
                    <a:lnTo>
                      <a:pt x="0" y="14"/>
                    </a:lnTo>
                    <a:lnTo>
                      <a:pt x="23" y="14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5429160" y="4908600"/>
                <a:ext cx="12960" cy="8280"/>
              </a:xfrm>
              <a:custGeom>
                <a:avLst/>
                <a:gdLst/>
                <a:ahLst/>
                <a:rect l="0" t="0" r="r" b="b"/>
                <a:pathLst>
                  <a:path fill="none" w="36" h="23">
                    <a:moveTo>
                      <a:pt x="0" y="12"/>
                    </a:moveTo>
                    <a:lnTo>
                      <a:pt x="36" y="0"/>
                    </a:lnTo>
                    <a:lnTo>
                      <a:pt x="36" y="5"/>
                    </a:lnTo>
                    <a:lnTo>
                      <a:pt x="36" y="17"/>
                    </a:lnTo>
                    <a:lnTo>
                      <a:pt x="3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V="1">
                <a:off x="5429160" y="4911840"/>
                <a:ext cx="1296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5430960" y="4911840"/>
                <a:ext cx="0" cy="4680"/>
              </a:xfrm>
              <a:custGeom>
                <a:avLst/>
                <a:gdLst/>
                <a:ahLst/>
                <a:rect l="0" t="0" r="r" b="b"/>
                <a:pathLst>
                  <a:path fill="none" w="0" h="13">
                    <a:moveTo>
                      <a:pt x="0" y="0"/>
                    </a:moveTo>
                    <a:lnTo>
                      <a:pt x="0" y="6"/>
                    </a:lnTo>
                    <a:lnTo>
                      <a:pt x="0" y="1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543240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543384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543708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5438880" y="491004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0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5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5437080" y="491796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5429160" y="4844880"/>
                <a:ext cx="127440" cy="6840"/>
              </a:xfrm>
              <a:custGeom>
                <a:avLst/>
                <a:gdLst/>
                <a:ahLst/>
                <a:rect l="0" t="0" r="r" b="b"/>
                <a:pathLst>
                  <a:path fill="none" w="354" h="19">
                    <a:moveTo>
                      <a:pt x="0" y="6"/>
                    </a:moveTo>
                    <a:lnTo>
                      <a:pt x="153" y="0"/>
                    </a:lnTo>
                    <a:lnTo>
                      <a:pt x="354" y="6"/>
                    </a:lnTo>
                    <a:lnTo>
                      <a:pt x="177" y="6"/>
                    </a:lnTo>
                    <a:lnTo>
                      <a:pt x="153" y="19"/>
                    </a:lnTo>
                    <a:lnTo>
                      <a:pt x="139" y="6"/>
                    </a:lnTo>
                    <a:lnTo>
                      <a:pt x="0" y="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5429160" y="48150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fill="none" w="296" h="14">
                    <a:moveTo>
                      <a:pt x="0" y="4"/>
                    </a:moveTo>
                    <a:lnTo>
                      <a:pt x="153" y="0"/>
                    </a:lnTo>
                    <a:lnTo>
                      <a:pt x="296" y="4"/>
                    </a:lnTo>
                    <a:lnTo>
                      <a:pt x="172" y="9"/>
                    </a:lnTo>
                    <a:lnTo>
                      <a:pt x="153" y="14"/>
                    </a:lnTo>
                    <a:lnTo>
                      <a:pt x="138" y="9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462640" y="4838760"/>
                <a:ext cx="38520" cy="1800"/>
              </a:xfrm>
              <a:custGeom>
                <a:avLst/>
                <a:gdLst/>
                <a:ahLst/>
                <a:rect l="0" t="0" r="r" b="b"/>
                <a:pathLst>
                  <a:path fill="none" w="107" h="5">
                    <a:moveTo>
                      <a:pt x="0" y="0"/>
                    </a:moveTo>
                    <a:lnTo>
                      <a:pt x="60" y="0"/>
                    </a:lnTo>
                    <a:lnTo>
                      <a:pt x="107" y="0"/>
                    </a:lnTo>
                    <a:lnTo>
                      <a:pt x="6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 flipV="1">
                <a:off x="5462640" y="4792680"/>
                <a:ext cx="22320" cy="46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481720" y="47926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9" y="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9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454720" y="479268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12" y="67"/>
                    </a:moveTo>
                    <a:lnTo>
                      <a:pt x="12" y="1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9" y="9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12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505480" y="479268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9" y="67"/>
                    </a:moveTo>
                    <a:lnTo>
                      <a:pt x="9" y="14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5" y="9"/>
                    </a:lnTo>
                    <a:lnTo>
                      <a:pt x="15" y="4"/>
                    </a:lnTo>
                    <a:lnTo>
                      <a:pt x="15" y="9"/>
                    </a:lnTo>
                    <a:lnTo>
                      <a:pt x="19" y="14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9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5459400" y="4816440"/>
                <a:ext cx="49680" cy="19440"/>
              </a:xfrm>
              <a:custGeom>
                <a:avLst/>
                <a:gdLst/>
                <a:ahLst/>
                <a:rect l="0" t="0" r="r" b="b"/>
                <a:pathLst>
                  <a:path fill="none" w="138" h="54">
                    <a:moveTo>
                      <a:pt x="138" y="0"/>
                    </a:moveTo>
                    <a:lnTo>
                      <a:pt x="71" y="5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V="1">
                <a:off x="5491080" y="4748040"/>
                <a:ext cx="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5437080" y="4826160"/>
                <a:ext cx="0" cy="1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5443560" y="483696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545080" y="4822920"/>
                <a:ext cx="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522760" y="483696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429160" y="4848120"/>
                <a:ext cx="1908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 flipH="1">
                <a:off x="5508720" y="4848120"/>
                <a:ext cx="475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 flipH="1">
                <a:off x="5506920" y="4848120"/>
                <a:ext cx="4284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448240" y="4826160"/>
                <a:ext cx="19440" cy="9720"/>
              </a:xfrm>
              <a:custGeom>
                <a:avLst/>
                <a:gdLst/>
                <a:ahLst/>
                <a:rect l="0" t="0" r="r" b="b"/>
                <a:pathLst>
                  <a:path fill="none" w="54" h="27">
                    <a:moveTo>
                      <a:pt x="45" y="27"/>
                    </a:moveTo>
                    <a:lnTo>
                      <a:pt x="54" y="0"/>
                    </a:lnTo>
                    <a:lnTo>
                      <a:pt x="39" y="0"/>
                    </a:lnTo>
                    <a:lnTo>
                      <a:pt x="29" y="4"/>
                    </a:lnTo>
                    <a:lnTo>
                      <a:pt x="20" y="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20" y="27"/>
                    </a:lnTo>
                    <a:lnTo>
                      <a:pt x="4" y="23"/>
                    </a:lnTo>
                    <a:lnTo>
                      <a:pt x="0" y="18"/>
                    </a:lnTo>
                    <a:lnTo>
                      <a:pt x="4" y="0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29" y="14"/>
                    </a:lnTo>
                    <a:lnTo>
                      <a:pt x="45" y="14"/>
                    </a:lnTo>
                    <a:lnTo>
                      <a:pt x="45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418000" y="485136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37" y="4"/>
                    </a:moveTo>
                    <a:lnTo>
                      <a:pt x="27" y="4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8" y="9"/>
                    </a:lnTo>
                    <a:lnTo>
                      <a:pt x="4" y="9"/>
                    </a:lnTo>
                    <a:lnTo>
                      <a:pt x="23" y="4"/>
                    </a:lnTo>
                    <a:lnTo>
                      <a:pt x="27" y="19"/>
                    </a:lnTo>
                    <a:lnTo>
                      <a:pt x="41" y="15"/>
                    </a:lnTo>
                    <a:lnTo>
                      <a:pt x="37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424480" y="4865760"/>
                <a:ext cx="12960" cy="11520"/>
              </a:xfrm>
              <a:custGeom>
                <a:avLst/>
                <a:gdLst/>
                <a:ahLst/>
                <a:rect l="0" t="0" r="r" b="b"/>
                <a:pathLst>
                  <a:path fill="none" w="36" h="32">
                    <a:moveTo>
                      <a:pt x="31" y="0"/>
                    </a:moveTo>
                    <a:lnTo>
                      <a:pt x="15" y="0"/>
                    </a:lnTo>
                    <a:lnTo>
                      <a:pt x="15" y="11"/>
                    </a:lnTo>
                    <a:lnTo>
                      <a:pt x="0" y="16"/>
                    </a:lnTo>
                    <a:lnTo>
                      <a:pt x="5" y="21"/>
                    </a:lnTo>
                    <a:lnTo>
                      <a:pt x="5" y="32"/>
                    </a:lnTo>
                    <a:lnTo>
                      <a:pt x="15" y="21"/>
                    </a:lnTo>
                    <a:lnTo>
                      <a:pt x="15" y="16"/>
                    </a:lnTo>
                    <a:lnTo>
                      <a:pt x="36" y="11"/>
                    </a:lnTo>
                    <a:lnTo>
                      <a:pt x="15" y="11"/>
                    </a:lnTo>
                    <a:lnTo>
                      <a:pt x="15" y="5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427720" y="487980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21" y="4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16" y="9"/>
                    </a:lnTo>
                    <a:lnTo>
                      <a:pt x="5" y="9"/>
                    </a:lnTo>
                    <a:lnTo>
                      <a:pt x="16" y="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429160" y="4889520"/>
                <a:ext cx="12960" cy="9720"/>
              </a:xfrm>
              <a:custGeom>
                <a:avLst/>
                <a:gdLst/>
                <a:ahLst/>
                <a:rect l="0" t="0" r="r" b="b"/>
                <a:pathLst>
                  <a:path fill="none" w="36" h="27">
                    <a:moveTo>
                      <a:pt x="31" y="0"/>
                    </a:moveTo>
                    <a:lnTo>
                      <a:pt x="15" y="10"/>
                    </a:lnTo>
                    <a:lnTo>
                      <a:pt x="0" y="16"/>
                    </a:lnTo>
                    <a:lnTo>
                      <a:pt x="5" y="27"/>
                    </a:lnTo>
                    <a:lnTo>
                      <a:pt x="21" y="22"/>
                    </a:lnTo>
                    <a:lnTo>
                      <a:pt x="26" y="16"/>
                    </a:lnTo>
                    <a:lnTo>
                      <a:pt x="36" y="16"/>
                    </a:lnTo>
                    <a:lnTo>
                      <a:pt x="21" y="16"/>
                    </a:lnTo>
                    <a:lnTo>
                      <a:pt x="21" y="10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459400" y="48340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5"/>
                    </a:moveTo>
                    <a:lnTo>
                      <a:pt x="9" y="0"/>
                    </a:lnTo>
                    <a:lnTo>
                      <a:pt x="14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442120" y="485460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9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9" y="19"/>
                    </a:lnTo>
                    <a:lnTo>
                      <a:pt x="19" y="15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529240" y="485604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27" y="0"/>
                    </a:lnTo>
                    <a:lnTo>
                      <a:pt x="23" y="9"/>
                    </a:lnTo>
                    <a:lnTo>
                      <a:pt x="14" y="9"/>
                    </a:lnTo>
                    <a:lnTo>
                      <a:pt x="0" y="14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7" y="9"/>
                    </a:lnTo>
                    <a:lnTo>
                      <a:pt x="32" y="14"/>
                    </a:lnTo>
                    <a:lnTo>
                      <a:pt x="27" y="4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532480" y="4865760"/>
                <a:ext cx="9720" cy="6840"/>
              </a:xfrm>
              <a:custGeom>
                <a:avLst/>
                <a:gdLst/>
                <a:ahLst/>
                <a:rect l="0" t="0" r="r" b="b"/>
                <a:pathLst>
                  <a:path fill="none" w="27" h="19">
                    <a:moveTo>
                      <a:pt x="27" y="0"/>
                    </a:moveTo>
                    <a:lnTo>
                      <a:pt x="14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8" y="19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519880" y="487368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30" y="0"/>
                    </a:lnTo>
                    <a:lnTo>
                      <a:pt x="25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20" y="14"/>
                    </a:lnTo>
                    <a:lnTo>
                      <a:pt x="25" y="14"/>
                    </a:lnTo>
                    <a:lnTo>
                      <a:pt x="30" y="14"/>
                    </a:lnTo>
                    <a:lnTo>
                      <a:pt x="25" y="9"/>
                    </a:lnTo>
                    <a:lnTo>
                      <a:pt x="30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518080" y="4879800"/>
                <a:ext cx="16200" cy="5040"/>
              </a:xfrm>
              <a:custGeom>
                <a:avLst/>
                <a:gdLst/>
                <a:ahLst/>
                <a:rect l="0" t="0" r="r" b="b"/>
                <a:pathLst>
                  <a:path fill="none" w="45" h="14">
                    <a:moveTo>
                      <a:pt x="45" y="0"/>
                    </a:moveTo>
                    <a:lnTo>
                      <a:pt x="30" y="0"/>
                    </a:lnTo>
                    <a:lnTo>
                      <a:pt x="25" y="4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5" y="9"/>
                    </a:lnTo>
                    <a:lnTo>
                      <a:pt x="35" y="14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511960" y="488628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41" y="0"/>
                    </a:moveTo>
                    <a:lnTo>
                      <a:pt x="30" y="0"/>
                    </a:lnTo>
                    <a:lnTo>
                      <a:pt x="25" y="6"/>
                    </a:lnTo>
                    <a:lnTo>
                      <a:pt x="0" y="12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25" y="19"/>
                    </a:lnTo>
                    <a:lnTo>
                      <a:pt x="30" y="6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514840" y="489420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14" y="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92" name="" descr=""/>
            <p:cNvPicPr/>
            <p:nvPr/>
          </p:nvPicPr>
          <p:blipFill>
            <a:blip r:embed="rId4"/>
            <a:stretch/>
          </p:blipFill>
          <p:spPr>
            <a:xfrm>
              <a:off x="5346720" y="4738680"/>
              <a:ext cx="109872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3" name=""/>
          <p:cNvSpPr txBox="1"/>
          <p:nvPr/>
        </p:nvSpPr>
        <p:spPr>
          <a:xfrm>
            <a:off x="1587600" y="5838840"/>
            <a:ext cx="1038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4" name="" descr=""/>
          <p:cNvPicPr/>
          <p:nvPr/>
        </p:nvPicPr>
        <p:blipFill>
          <a:blip r:embed="rId5"/>
          <a:stretch/>
        </p:blipFill>
        <p:spPr>
          <a:xfrm>
            <a:off x="3876840" y="4473720"/>
            <a:ext cx="620640" cy="291960"/>
          </a:xfrm>
          <a:prstGeom prst="rect">
            <a:avLst/>
          </a:prstGeom>
          <a:ln w="0">
            <a:noFill/>
          </a:ln>
        </p:spPr>
      </p:pic>
      <p:pic>
        <p:nvPicPr>
          <p:cNvPr id="6695" name="" descr=""/>
          <p:cNvPicPr/>
          <p:nvPr/>
        </p:nvPicPr>
        <p:blipFill>
          <a:blip r:embed="rId6"/>
          <a:stretch/>
        </p:blipFill>
        <p:spPr>
          <a:xfrm>
            <a:off x="449280" y="5796000"/>
            <a:ext cx="933480" cy="419040"/>
          </a:xfrm>
          <a:prstGeom prst="rect">
            <a:avLst/>
          </a:prstGeom>
          <a:ln w="0">
            <a:noFill/>
          </a:ln>
        </p:spPr>
      </p:pic>
      <p:sp>
        <p:nvSpPr>
          <p:cNvPr id="6696" name=""/>
          <p:cNvSpPr/>
          <p:nvPr/>
        </p:nvSpPr>
        <p:spPr>
          <a:xfrm>
            <a:off x="1143000" y="414972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7" name="" descr=""/>
          <p:cNvPicPr/>
          <p:nvPr/>
        </p:nvPicPr>
        <p:blipFill>
          <a:blip r:embed="rId7"/>
          <a:stretch/>
        </p:blipFill>
        <p:spPr>
          <a:xfrm>
            <a:off x="1689120" y="3759120"/>
            <a:ext cx="436680" cy="395280"/>
          </a:xfrm>
          <a:prstGeom prst="rect">
            <a:avLst/>
          </a:prstGeom>
          <a:ln w="0">
            <a:noFill/>
          </a:ln>
        </p:spPr>
      </p:pic>
      <p:sp>
        <p:nvSpPr>
          <p:cNvPr id="6698" name=""/>
          <p:cNvSpPr txBox="1"/>
          <p:nvPr/>
        </p:nvSpPr>
        <p:spPr>
          <a:xfrm>
            <a:off x="806400" y="6303960"/>
            <a:ext cx="219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9" name=""/>
          <p:cNvGrpSpPr/>
          <p:nvPr/>
        </p:nvGrpSpPr>
        <p:grpSpPr>
          <a:xfrm>
            <a:off x="1735200" y="5338800"/>
            <a:ext cx="843480" cy="432360"/>
            <a:chOff x="1735200" y="5338800"/>
            <a:chExt cx="843480" cy="432360"/>
          </a:xfrm>
        </p:grpSpPr>
        <p:sp>
          <p:nvSpPr>
            <p:cNvPr id="6700" name=""/>
            <p:cNvSpPr/>
            <p:nvPr/>
          </p:nvSpPr>
          <p:spPr>
            <a:xfrm>
              <a:off x="1735200" y="5675400"/>
              <a:ext cx="759240" cy="92520"/>
            </a:xfrm>
            <a:custGeom>
              <a:avLst/>
              <a:gdLst/>
              <a:ahLst/>
              <a:rect l="0" t="0" r="r" b="b"/>
              <a:pathLst>
                <a:path fill="none" w="2109" h="257">
                  <a:moveTo>
                    <a:pt x="1002" y="160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1002" y="257"/>
                  </a:lnTo>
                  <a:lnTo>
                    <a:pt x="2109" y="58"/>
                  </a:lnTo>
                  <a:lnTo>
                    <a:pt x="1932" y="38"/>
                  </a:lnTo>
                  <a:lnTo>
                    <a:pt x="1002" y="16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2098800" y="5429160"/>
              <a:ext cx="479880" cy="249480"/>
            </a:xfrm>
            <a:custGeom>
              <a:avLst/>
              <a:gdLst/>
              <a:ahLst/>
              <a:rect l="0" t="0" r="r" b="b"/>
              <a:pathLst>
                <a:path fill="none" w="1333" h="693">
                  <a:moveTo>
                    <a:pt x="0" y="0"/>
                  </a:moveTo>
                  <a:lnTo>
                    <a:pt x="951" y="217"/>
                  </a:lnTo>
                  <a:lnTo>
                    <a:pt x="951" y="448"/>
                  </a:lnTo>
                  <a:lnTo>
                    <a:pt x="1333" y="487"/>
                  </a:lnTo>
                  <a:lnTo>
                    <a:pt x="1333" y="606"/>
                  </a:lnTo>
                  <a:lnTo>
                    <a:pt x="0" y="69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1749600" y="5427720"/>
              <a:ext cx="346320" cy="235440"/>
            </a:xfrm>
            <a:custGeom>
              <a:avLst/>
              <a:gdLst/>
              <a:ahLst/>
              <a:rect l="0" t="0" r="r" b="b"/>
              <a:pathLst>
                <a:path fill="none" w="962" h="654">
                  <a:moveTo>
                    <a:pt x="0" y="275"/>
                  </a:moveTo>
                  <a:lnTo>
                    <a:pt x="962" y="0"/>
                  </a:lnTo>
                  <a:lnTo>
                    <a:pt x="962" y="654"/>
                  </a:lnTo>
                  <a:lnTo>
                    <a:pt x="0" y="595"/>
                  </a:lnTo>
                  <a:lnTo>
                    <a:pt x="0" y="275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1757520" y="5645160"/>
              <a:ext cx="673560" cy="87840"/>
            </a:xfrm>
            <a:custGeom>
              <a:avLst/>
              <a:gdLst/>
              <a:ahLst/>
              <a:rect l="0" t="0" r="r" b="b"/>
              <a:pathLst>
                <a:path fill="none" w="1871" h="244">
                  <a:moveTo>
                    <a:pt x="0" y="0"/>
                  </a:moveTo>
                  <a:lnTo>
                    <a:pt x="940" y="55"/>
                  </a:lnTo>
                  <a:lnTo>
                    <a:pt x="1871" y="22"/>
                  </a:lnTo>
                  <a:lnTo>
                    <a:pt x="1871" y="135"/>
                  </a:lnTo>
                  <a:lnTo>
                    <a:pt x="940" y="244"/>
                  </a:lnTo>
                  <a:lnTo>
                    <a:pt x="0" y="81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2495520" y="5629320"/>
              <a:ext cx="33840" cy="24120"/>
            </a:xfrm>
            <a:custGeom>
              <a:avLst/>
              <a:gdLst/>
              <a:ahLst/>
              <a:rect l="0" t="0" r="r" b="b"/>
              <a:pathLst>
                <a:path fill="none" w="94" h="67">
                  <a:moveTo>
                    <a:pt x="0" y="67"/>
                  </a:moveTo>
                  <a:lnTo>
                    <a:pt x="94" y="60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67"/>
                  </a:lnTo>
                </a:path>
              </a:pathLst>
            </a:custGeom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2249640" y="5657760"/>
              <a:ext cx="81360" cy="59040"/>
            </a:xfrm>
            <a:custGeom>
              <a:avLst/>
              <a:gdLst/>
              <a:ahLst/>
              <a:rect l="0" t="0" r="r" b="b"/>
              <a:pathLst>
                <a:path fill="none" w="226" h="164">
                  <a:moveTo>
                    <a:pt x="0" y="164"/>
                  </a:moveTo>
                  <a:lnTo>
                    <a:pt x="226" y="136"/>
                  </a:lnTo>
                  <a:lnTo>
                    <a:pt x="226" y="0"/>
                  </a:lnTo>
                  <a:lnTo>
                    <a:pt x="0" y="10"/>
                  </a:lnTo>
                  <a:lnTo>
                    <a:pt x="0" y="164"/>
                  </a:lnTo>
                </a:path>
              </a:pathLst>
            </a:custGeom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1862280" y="5656320"/>
              <a:ext cx="81360" cy="52920"/>
            </a:xfrm>
            <a:custGeom>
              <a:avLst/>
              <a:gdLst/>
              <a:ahLst/>
              <a:rect l="0" t="0" r="r" b="b"/>
              <a:pathLst>
                <a:path fill="none" w="226" h="147">
                  <a:moveTo>
                    <a:pt x="0" y="106"/>
                  </a:moveTo>
                  <a:lnTo>
                    <a:pt x="0" y="0"/>
                  </a:lnTo>
                  <a:lnTo>
                    <a:pt x="226" y="14"/>
                  </a:lnTo>
                  <a:lnTo>
                    <a:pt x="226" y="147"/>
                  </a:lnTo>
                  <a:lnTo>
                    <a:pt x="0" y="106"/>
                  </a:lnTo>
                </a:path>
              </a:pathLst>
            </a:custGeom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1749600" y="5427720"/>
              <a:ext cx="692640" cy="238320"/>
            </a:xfrm>
            <a:custGeom>
              <a:avLst/>
              <a:gdLst/>
              <a:ahLst/>
              <a:rect l="0" t="0" r="r" b="b"/>
              <a:pathLst>
                <a:path fill="none" w="1924" h="662">
                  <a:moveTo>
                    <a:pt x="0" y="278"/>
                  </a:moveTo>
                  <a:lnTo>
                    <a:pt x="964" y="0"/>
                  </a:lnTo>
                  <a:lnTo>
                    <a:pt x="1924" y="220"/>
                  </a:lnTo>
                  <a:lnTo>
                    <a:pt x="1924" y="623"/>
                  </a:lnTo>
                  <a:lnTo>
                    <a:pt x="964" y="662"/>
                  </a:lnTo>
                  <a:lnTo>
                    <a:pt x="0" y="602"/>
                  </a:lnTo>
                  <a:lnTo>
                    <a:pt x="0" y="2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1757520" y="5645160"/>
              <a:ext cx="675000" cy="92520"/>
            </a:xfrm>
            <a:custGeom>
              <a:avLst/>
              <a:gdLst/>
              <a:ahLst/>
              <a:rect l="0" t="0" r="r" b="b"/>
              <a:pathLst>
                <a:path fill="none" w="1875" h="257">
                  <a:moveTo>
                    <a:pt x="0" y="0"/>
                  </a:moveTo>
                  <a:lnTo>
                    <a:pt x="0" y="86"/>
                  </a:lnTo>
                  <a:lnTo>
                    <a:pt x="941" y="257"/>
                  </a:lnTo>
                  <a:lnTo>
                    <a:pt x="1875" y="140"/>
                  </a:lnTo>
                  <a:lnTo>
                    <a:pt x="1875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 flipV="1">
              <a:off x="2097000" y="53388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1863720" y="565164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1882800" y="56516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1901880" y="56530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1924200" y="56545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1946160" y="56563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2249640" y="565776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2273400" y="565632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2295360" y="5656320"/>
              <a:ext cx="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313000" y="5656320"/>
              <a:ext cx="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2332080" y="56563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1982880" y="5343480"/>
              <a:ext cx="114840" cy="78120"/>
            </a:xfrm>
            <a:custGeom>
              <a:avLst/>
              <a:gdLst/>
              <a:ahLst/>
              <a:rect l="0" t="0" r="r" b="b"/>
              <a:pathLst>
                <a:path fill="none" w="319" h="217">
                  <a:moveTo>
                    <a:pt x="319" y="0"/>
                  </a:moveTo>
                  <a:lnTo>
                    <a:pt x="187" y="42"/>
                  </a:lnTo>
                  <a:lnTo>
                    <a:pt x="173" y="115"/>
                  </a:lnTo>
                  <a:lnTo>
                    <a:pt x="0" y="217"/>
                  </a:lnTo>
                  <a:lnTo>
                    <a:pt x="156" y="189"/>
                  </a:lnTo>
                  <a:lnTo>
                    <a:pt x="163" y="164"/>
                  </a:lnTo>
                  <a:lnTo>
                    <a:pt x="319" y="125"/>
                  </a:lnTo>
                  <a:lnTo>
                    <a:pt x="3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2495520" y="5627520"/>
              <a:ext cx="36720" cy="27360"/>
            </a:xfrm>
            <a:custGeom>
              <a:avLst/>
              <a:gdLst/>
              <a:ahLst/>
              <a:rect l="0" t="0" r="r" b="b"/>
              <a:pathLst>
                <a:path fill="none" w="102" h="76">
                  <a:moveTo>
                    <a:pt x="0" y="76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6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 flipV="1">
              <a:off x="2506680" y="56293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2514600" y="56293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2522520" y="5629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2116080" y="5460840"/>
              <a:ext cx="63720" cy="184680"/>
            </a:xfrm>
            <a:custGeom>
              <a:avLst/>
              <a:gdLst/>
              <a:ahLst/>
              <a:rect l="0" t="0" r="r" b="b"/>
              <a:pathLst>
                <a:path fill="none" w="177" h="513">
                  <a:moveTo>
                    <a:pt x="168" y="509"/>
                  </a:moveTo>
                  <a:lnTo>
                    <a:pt x="0" y="512"/>
                  </a:lnTo>
                  <a:lnTo>
                    <a:pt x="0" y="513"/>
                  </a:lnTo>
                  <a:lnTo>
                    <a:pt x="177" y="511"/>
                  </a:lnTo>
                  <a:lnTo>
                    <a:pt x="177" y="111"/>
                  </a:lnTo>
                  <a:lnTo>
                    <a:pt x="176" y="100"/>
                  </a:lnTo>
                  <a:lnTo>
                    <a:pt x="174" y="87"/>
                  </a:lnTo>
                  <a:lnTo>
                    <a:pt x="172" y="79"/>
                  </a:lnTo>
                  <a:lnTo>
                    <a:pt x="170" y="68"/>
                  </a:lnTo>
                  <a:lnTo>
                    <a:pt x="166" y="57"/>
                  </a:lnTo>
                  <a:lnTo>
                    <a:pt x="161" y="49"/>
                  </a:lnTo>
                  <a:lnTo>
                    <a:pt x="154" y="37"/>
                  </a:lnTo>
                  <a:lnTo>
                    <a:pt x="147" y="27"/>
                  </a:lnTo>
                  <a:lnTo>
                    <a:pt x="140" y="20"/>
                  </a:lnTo>
                  <a:lnTo>
                    <a:pt x="131" y="13"/>
                  </a:lnTo>
                  <a:lnTo>
                    <a:pt x="120" y="7"/>
                  </a:lnTo>
                  <a:lnTo>
                    <a:pt x="111" y="4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1"/>
                  </a:lnTo>
                  <a:lnTo>
                    <a:pt x="56" y="7"/>
                  </a:lnTo>
                  <a:lnTo>
                    <a:pt x="45" y="14"/>
                  </a:lnTo>
                  <a:lnTo>
                    <a:pt x="37" y="20"/>
                  </a:lnTo>
                  <a:lnTo>
                    <a:pt x="30" y="26"/>
                  </a:lnTo>
                  <a:lnTo>
                    <a:pt x="24" y="35"/>
                  </a:lnTo>
                  <a:lnTo>
                    <a:pt x="32" y="25"/>
                  </a:lnTo>
                  <a:lnTo>
                    <a:pt x="39" y="20"/>
                  </a:lnTo>
                  <a:lnTo>
                    <a:pt x="46" y="14"/>
                  </a:lnTo>
                  <a:lnTo>
                    <a:pt x="57" y="8"/>
                  </a:lnTo>
                  <a:lnTo>
                    <a:pt x="65" y="5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93" y="1"/>
                  </a:lnTo>
                  <a:lnTo>
                    <a:pt x="102" y="4"/>
                  </a:lnTo>
                  <a:lnTo>
                    <a:pt x="110" y="6"/>
                  </a:lnTo>
                  <a:lnTo>
                    <a:pt x="119" y="12"/>
                  </a:lnTo>
                  <a:lnTo>
                    <a:pt x="131" y="20"/>
                  </a:lnTo>
                  <a:lnTo>
                    <a:pt x="139" y="27"/>
                  </a:lnTo>
                  <a:lnTo>
                    <a:pt x="147" y="37"/>
                  </a:lnTo>
                  <a:lnTo>
                    <a:pt x="151" y="44"/>
                  </a:lnTo>
                  <a:lnTo>
                    <a:pt x="157" y="53"/>
                  </a:lnTo>
                  <a:lnTo>
                    <a:pt x="161" y="64"/>
                  </a:lnTo>
                  <a:lnTo>
                    <a:pt x="165" y="76"/>
                  </a:lnTo>
                  <a:lnTo>
                    <a:pt x="166" y="90"/>
                  </a:lnTo>
                  <a:lnTo>
                    <a:pt x="168" y="103"/>
                  </a:lnTo>
                  <a:lnTo>
                    <a:pt x="168" y="107"/>
                  </a:lnTo>
                  <a:lnTo>
                    <a:pt x="168" y="5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2190600" y="5477040"/>
              <a:ext cx="60840" cy="168480"/>
            </a:xfrm>
            <a:custGeom>
              <a:avLst/>
              <a:gdLst/>
              <a:ahLst/>
              <a:rect l="0" t="0" r="r" b="b"/>
              <a:pathLst>
                <a:path fill="none" w="169" h="468">
                  <a:moveTo>
                    <a:pt x="160" y="463"/>
                  </a:moveTo>
                  <a:lnTo>
                    <a:pt x="0" y="466"/>
                  </a:lnTo>
                  <a:lnTo>
                    <a:pt x="0" y="468"/>
                  </a:lnTo>
                  <a:lnTo>
                    <a:pt x="169" y="466"/>
                  </a:lnTo>
                  <a:lnTo>
                    <a:pt x="168" y="102"/>
                  </a:lnTo>
                  <a:lnTo>
                    <a:pt x="167" y="92"/>
                  </a:lnTo>
                  <a:lnTo>
                    <a:pt x="165" y="81"/>
                  </a:lnTo>
                  <a:lnTo>
                    <a:pt x="164" y="72"/>
                  </a:lnTo>
                  <a:lnTo>
                    <a:pt x="162" y="62"/>
                  </a:lnTo>
                  <a:lnTo>
                    <a:pt x="158" y="53"/>
                  </a:lnTo>
                  <a:lnTo>
                    <a:pt x="154" y="45"/>
                  </a:lnTo>
                  <a:lnTo>
                    <a:pt x="148" y="35"/>
                  </a:lnTo>
                  <a:lnTo>
                    <a:pt x="141" y="25"/>
                  </a:lnTo>
                  <a:lnTo>
                    <a:pt x="133" y="18"/>
                  </a:lnTo>
                  <a:lnTo>
                    <a:pt x="124" y="12"/>
                  </a:lnTo>
                  <a:lnTo>
                    <a:pt x="114" y="7"/>
                  </a:lnTo>
                  <a:lnTo>
                    <a:pt x="105" y="3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7" y="0"/>
                  </a:lnTo>
                  <a:lnTo>
                    <a:pt x="66" y="2"/>
                  </a:lnTo>
                  <a:lnTo>
                    <a:pt x="55" y="8"/>
                  </a:lnTo>
                  <a:lnTo>
                    <a:pt x="44" y="13"/>
                  </a:lnTo>
                  <a:lnTo>
                    <a:pt x="35" y="18"/>
                  </a:lnTo>
                  <a:lnTo>
                    <a:pt x="29" y="24"/>
                  </a:lnTo>
                  <a:lnTo>
                    <a:pt x="23" y="32"/>
                  </a:lnTo>
                  <a:lnTo>
                    <a:pt x="31" y="24"/>
                  </a:lnTo>
                  <a:lnTo>
                    <a:pt x="37" y="18"/>
                  </a:lnTo>
                  <a:lnTo>
                    <a:pt x="46" y="13"/>
                  </a:lnTo>
                  <a:lnTo>
                    <a:pt x="55" y="8"/>
                  </a:lnTo>
                  <a:lnTo>
                    <a:pt x="62" y="5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1"/>
                  </a:lnTo>
                  <a:lnTo>
                    <a:pt x="97" y="3"/>
                  </a:lnTo>
                  <a:lnTo>
                    <a:pt x="105" y="5"/>
                  </a:lnTo>
                  <a:lnTo>
                    <a:pt x="112" y="11"/>
                  </a:lnTo>
                  <a:lnTo>
                    <a:pt x="123" y="18"/>
                  </a:lnTo>
                  <a:lnTo>
                    <a:pt x="133" y="25"/>
                  </a:lnTo>
                  <a:lnTo>
                    <a:pt x="140" y="34"/>
                  </a:lnTo>
                  <a:lnTo>
                    <a:pt x="145" y="41"/>
                  </a:lnTo>
                  <a:lnTo>
                    <a:pt x="149" y="49"/>
                  </a:lnTo>
                  <a:lnTo>
                    <a:pt x="154" y="59"/>
                  </a:lnTo>
                  <a:lnTo>
                    <a:pt x="156" y="68"/>
                  </a:lnTo>
                  <a:lnTo>
                    <a:pt x="159" y="82"/>
                  </a:lnTo>
                  <a:lnTo>
                    <a:pt x="160" y="94"/>
                  </a:lnTo>
                  <a:lnTo>
                    <a:pt x="160" y="98"/>
                  </a:lnTo>
                  <a:lnTo>
                    <a:pt x="160" y="46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260440" y="5489640"/>
              <a:ext cx="52920" cy="154440"/>
            </a:xfrm>
            <a:custGeom>
              <a:avLst/>
              <a:gdLst/>
              <a:ahLst/>
              <a:rect l="0" t="0" r="r" b="b"/>
              <a:pathLst>
                <a:path fill="none" w="147" h="429">
                  <a:moveTo>
                    <a:pt x="139" y="428"/>
                  </a:moveTo>
                  <a:lnTo>
                    <a:pt x="0" y="429"/>
                  </a:lnTo>
                  <a:lnTo>
                    <a:pt x="147" y="429"/>
                  </a:lnTo>
                  <a:lnTo>
                    <a:pt x="147" y="93"/>
                  </a:lnTo>
                  <a:lnTo>
                    <a:pt x="147" y="84"/>
                  </a:lnTo>
                  <a:lnTo>
                    <a:pt x="146" y="73"/>
                  </a:lnTo>
                  <a:lnTo>
                    <a:pt x="143" y="66"/>
                  </a:lnTo>
                  <a:lnTo>
                    <a:pt x="141" y="56"/>
                  </a:lnTo>
                  <a:lnTo>
                    <a:pt x="137" y="48"/>
                  </a:lnTo>
                  <a:lnTo>
                    <a:pt x="134" y="40"/>
                  </a:lnTo>
                  <a:lnTo>
                    <a:pt x="129" y="31"/>
                  </a:lnTo>
                  <a:lnTo>
                    <a:pt x="122" y="22"/>
                  </a:lnTo>
                  <a:lnTo>
                    <a:pt x="116" y="17"/>
                  </a:lnTo>
                  <a:lnTo>
                    <a:pt x="107" y="11"/>
                  </a:lnTo>
                  <a:lnTo>
                    <a:pt x="100" y="5"/>
                  </a:lnTo>
                  <a:lnTo>
                    <a:pt x="91" y="3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6" y="1"/>
                  </a:lnTo>
                  <a:lnTo>
                    <a:pt x="48" y="5"/>
                  </a:lnTo>
                  <a:lnTo>
                    <a:pt x="38" y="11"/>
                  </a:lnTo>
                  <a:lnTo>
                    <a:pt x="31" y="17"/>
                  </a:lnTo>
                  <a:lnTo>
                    <a:pt x="25" y="22"/>
                  </a:lnTo>
                  <a:lnTo>
                    <a:pt x="19" y="29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40" y="11"/>
                  </a:lnTo>
                  <a:lnTo>
                    <a:pt x="48" y="7"/>
                  </a:lnTo>
                  <a:lnTo>
                    <a:pt x="54" y="3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8" y="9"/>
                  </a:lnTo>
                  <a:lnTo>
                    <a:pt x="107" y="16"/>
                  </a:lnTo>
                  <a:lnTo>
                    <a:pt x="116" y="22"/>
                  </a:lnTo>
                  <a:lnTo>
                    <a:pt x="122" y="30"/>
                  </a:lnTo>
                  <a:lnTo>
                    <a:pt x="125" y="37"/>
                  </a:lnTo>
                  <a:lnTo>
                    <a:pt x="130" y="43"/>
                  </a:lnTo>
                  <a:lnTo>
                    <a:pt x="134" y="54"/>
                  </a:lnTo>
                  <a:lnTo>
                    <a:pt x="137" y="63"/>
                  </a:lnTo>
                  <a:lnTo>
                    <a:pt x="139" y="75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42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322360" y="5502240"/>
              <a:ext cx="51120" cy="141480"/>
            </a:xfrm>
            <a:custGeom>
              <a:avLst/>
              <a:gdLst/>
              <a:ahLst/>
              <a:rect l="0" t="0" r="r" b="b"/>
              <a:pathLst>
                <a:path fill="none" w="142" h="393">
                  <a:moveTo>
                    <a:pt x="134" y="390"/>
                  </a:moveTo>
                  <a:lnTo>
                    <a:pt x="0" y="392"/>
                  </a:lnTo>
                  <a:lnTo>
                    <a:pt x="0" y="393"/>
                  </a:lnTo>
                  <a:lnTo>
                    <a:pt x="142" y="392"/>
                  </a:lnTo>
                  <a:lnTo>
                    <a:pt x="140" y="85"/>
                  </a:lnTo>
                  <a:lnTo>
                    <a:pt x="140" y="76"/>
                  </a:lnTo>
                  <a:lnTo>
                    <a:pt x="140" y="67"/>
                  </a:lnTo>
                  <a:lnTo>
                    <a:pt x="138" y="60"/>
                  </a:lnTo>
                  <a:lnTo>
                    <a:pt x="136" y="52"/>
                  </a:lnTo>
                  <a:lnTo>
                    <a:pt x="132" y="44"/>
                  </a:lnTo>
                  <a:lnTo>
                    <a:pt x="128" y="37"/>
                  </a:lnTo>
                  <a:lnTo>
                    <a:pt x="123" y="28"/>
                  </a:lnTo>
                  <a:lnTo>
                    <a:pt x="118" y="21"/>
                  </a:lnTo>
                  <a:lnTo>
                    <a:pt x="112" y="14"/>
                  </a:lnTo>
                  <a:lnTo>
                    <a:pt x="103" y="10"/>
                  </a:lnTo>
                  <a:lnTo>
                    <a:pt x="95" y="5"/>
                  </a:lnTo>
                  <a:lnTo>
                    <a:pt x="87" y="2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5" y="5"/>
                  </a:lnTo>
                  <a:lnTo>
                    <a:pt x="36" y="11"/>
                  </a:lnTo>
                  <a:lnTo>
                    <a:pt x="29" y="14"/>
                  </a:lnTo>
                  <a:lnTo>
                    <a:pt x="25" y="21"/>
                  </a:lnTo>
                  <a:lnTo>
                    <a:pt x="19" y="26"/>
                  </a:lnTo>
                  <a:lnTo>
                    <a:pt x="26" y="19"/>
                  </a:lnTo>
                  <a:lnTo>
                    <a:pt x="31" y="14"/>
                  </a:lnTo>
                  <a:lnTo>
                    <a:pt x="38" y="11"/>
                  </a:lnTo>
                  <a:lnTo>
                    <a:pt x="46" y="7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73" y="1"/>
                  </a:lnTo>
                  <a:lnTo>
                    <a:pt x="81" y="2"/>
                  </a:lnTo>
                  <a:lnTo>
                    <a:pt x="87" y="4"/>
                  </a:lnTo>
                  <a:lnTo>
                    <a:pt x="95" y="8"/>
                  </a:lnTo>
                  <a:lnTo>
                    <a:pt x="103" y="14"/>
                  </a:lnTo>
                  <a:lnTo>
                    <a:pt x="111" y="21"/>
                  </a:lnTo>
                  <a:lnTo>
                    <a:pt x="117" y="28"/>
                  </a:lnTo>
                  <a:lnTo>
                    <a:pt x="121" y="34"/>
                  </a:lnTo>
                  <a:lnTo>
                    <a:pt x="124" y="40"/>
                  </a:lnTo>
                  <a:lnTo>
                    <a:pt x="128" y="50"/>
                  </a:lnTo>
                  <a:lnTo>
                    <a:pt x="131" y="58"/>
                  </a:lnTo>
                  <a:lnTo>
                    <a:pt x="133" y="69"/>
                  </a:lnTo>
                  <a:lnTo>
                    <a:pt x="134" y="78"/>
                  </a:lnTo>
                  <a:lnTo>
                    <a:pt x="134" y="82"/>
                  </a:lnTo>
                  <a:lnTo>
                    <a:pt x="134" y="3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2382840" y="5511960"/>
              <a:ext cx="44640" cy="128880"/>
            </a:xfrm>
            <a:custGeom>
              <a:avLst/>
              <a:gdLst/>
              <a:ahLst/>
              <a:rect l="0" t="0" r="r" b="b"/>
              <a:pathLst>
                <a:path fill="none" w="124" h="358">
                  <a:moveTo>
                    <a:pt x="118" y="355"/>
                  </a:moveTo>
                  <a:lnTo>
                    <a:pt x="0" y="357"/>
                  </a:lnTo>
                  <a:lnTo>
                    <a:pt x="0" y="358"/>
                  </a:lnTo>
                  <a:lnTo>
                    <a:pt x="124" y="356"/>
                  </a:lnTo>
                  <a:lnTo>
                    <a:pt x="123" y="76"/>
                  </a:lnTo>
                  <a:lnTo>
                    <a:pt x="123" y="69"/>
                  </a:lnTo>
                  <a:lnTo>
                    <a:pt x="123" y="61"/>
                  </a:lnTo>
                  <a:lnTo>
                    <a:pt x="120" y="55"/>
                  </a:lnTo>
                  <a:lnTo>
                    <a:pt x="118" y="47"/>
                  </a:lnTo>
                  <a:lnTo>
                    <a:pt x="115" y="40"/>
                  </a:lnTo>
                  <a:lnTo>
                    <a:pt x="112" y="33"/>
                  </a:lnTo>
                  <a:lnTo>
                    <a:pt x="108" y="25"/>
                  </a:lnTo>
                  <a:lnTo>
                    <a:pt x="102" y="19"/>
                  </a:lnTo>
                  <a:lnTo>
                    <a:pt x="98" y="13"/>
                  </a:lnTo>
                  <a:lnTo>
                    <a:pt x="91" y="9"/>
                  </a:lnTo>
                  <a:lnTo>
                    <a:pt x="83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7" y="1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5" y="13"/>
                  </a:lnTo>
                  <a:lnTo>
                    <a:pt x="21" y="18"/>
                  </a:lnTo>
                  <a:lnTo>
                    <a:pt x="16" y="23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4" y="9"/>
                  </a:lnTo>
                  <a:lnTo>
                    <a:pt x="39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3" y="7"/>
                  </a:lnTo>
                  <a:lnTo>
                    <a:pt x="91" y="12"/>
                  </a:lnTo>
                  <a:lnTo>
                    <a:pt x="97" y="19"/>
                  </a:lnTo>
                  <a:lnTo>
                    <a:pt x="101" y="25"/>
                  </a:lnTo>
                  <a:lnTo>
                    <a:pt x="106" y="31"/>
                  </a:lnTo>
                  <a:lnTo>
                    <a:pt x="109" y="35"/>
                  </a:lnTo>
                  <a:lnTo>
                    <a:pt x="112" y="45"/>
                  </a:lnTo>
                  <a:lnTo>
                    <a:pt x="114" y="52"/>
                  </a:lnTo>
                  <a:lnTo>
                    <a:pt x="116" y="63"/>
                  </a:lnTo>
                  <a:lnTo>
                    <a:pt x="116" y="71"/>
                  </a:lnTo>
                  <a:lnTo>
                    <a:pt x="116" y="74"/>
                  </a:lnTo>
                  <a:lnTo>
                    <a:pt x="118" y="3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1757520" y="5645160"/>
              <a:ext cx="675000" cy="27360"/>
            </a:xfrm>
            <a:custGeom>
              <a:avLst/>
              <a:gdLst/>
              <a:ahLst/>
              <a:rect l="0" t="0" r="r" b="b"/>
              <a:pathLst>
                <a:path fill="none" w="1875" h="76">
                  <a:moveTo>
                    <a:pt x="942" y="5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942" y="76"/>
                  </a:lnTo>
                  <a:lnTo>
                    <a:pt x="1875" y="28"/>
                  </a:lnTo>
                  <a:lnTo>
                    <a:pt x="1875" y="17"/>
                  </a:lnTo>
                  <a:lnTo>
                    <a:pt x="942" y="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1763640" y="5637240"/>
              <a:ext cx="9720" cy="43200"/>
            </a:xfrm>
            <a:custGeom>
              <a:avLst/>
              <a:gdLst/>
              <a:ahLst/>
              <a:rect l="0" t="0" r="r" b="b"/>
              <a:pathLst>
                <a:path fill="none" w="27" h="120">
                  <a:moveTo>
                    <a:pt x="15" y="114"/>
                  </a:moveTo>
                  <a:lnTo>
                    <a:pt x="18" y="109"/>
                  </a:lnTo>
                  <a:lnTo>
                    <a:pt x="21" y="102"/>
                  </a:lnTo>
                  <a:lnTo>
                    <a:pt x="22" y="96"/>
                  </a:lnTo>
                  <a:lnTo>
                    <a:pt x="24" y="89"/>
                  </a:lnTo>
                  <a:lnTo>
                    <a:pt x="26" y="84"/>
                  </a:lnTo>
                  <a:lnTo>
                    <a:pt x="26" y="77"/>
                  </a:lnTo>
                  <a:lnTo>
                    <a:pt x="27" y="71"/>
                  </a:lnTo>
                  <a:lnTo>
                    <a:pt x="27" y="63"/>
                  </a:lnTo>
                  <a:lnTo>
                    <a:pt x="27" y="56"/>
                  </a:lnTo>
                  <a:lnTo>
                    <a:pt x="27" y="50"/>
                  </a:lnTo>
                  <a:lnTo>
                    <a:pt x="26" y="43"/>
                  </a:lnTo>
                  <a:lnTo>
                    <a:pt x="26" y="37"/>
                  </a:lnTo>
                  <a:lnTo>
                    <a:pt x="25" y="30"/>
                  </a:lnTo>
                  <a:lnTo>
                    <a:pt x="24" y="24"/>
                  </a:lnTo>
                  <a:lnTo>
                    <a:pt x="21" y="17"/>
                  </a:lnTo>
                  <a:lnTo>
                    <a:pt x="18" y="12"/>
                  </a:lnTo>
                  <a:lnTo>
                    <a:pt x="17" y="6"/>
                  </a:lnTo>
                  <a:lnTo>
                    <a:pt x="12" y="0"/>
                  </a:lnTo>
                  <a:lnTo>
                    <a:pt x="9" y="6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8" y="109"/>
                  </a:lnTo>
                  <a:lnTo>
                    <a:pt x="10" y="114"/>
                  </a:lnTo>
                  <a:lnTo>
                    <a:pt x="12" y="120"/>
                  </a:lnTo>
                  <a:lnTo>
                    <a:pt x="15" y="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1785960" y="5638680"/>
              <a:ext cx="11520" cy="46440"/>
            </a:xfrm>
            <a:custGeom>
              <a:avLst/>
              <a:gdLst/>
              <a:ahLst/>
              <a:rect l="0" t="0" r="r" b="b"/>
              <a:pathLst>
                <a:path fill="none" w="32" h="129">
                  <a:moveTo>
                    <a:pt x="18" y="124"/>
                  </a:moveTo>
                  <a:lnTo>
                    <a:pt x="21" y="117"/>
                  </a:lnTo>
                  <a:lnTo>
                    <a:pt x="23" y="111"/>
                  </a:lnTo>
                  <a:lnTo>
                    <a:pt x="27" y="103"/>
                  </a:lnTo>
                  <a:lnTo>
                    <a:pt x="28" y="96"/>
                  </a:lnTo>
                  <a:lnTo>
                    <a:pt x="30" y="90"/>
                  </a:lnTo>
                  <a:lnTo>
                    <a:pt x="30" y="82"/>
                  </a:lnTo>
                  <a:lnTo>
                    <a:pt x="32" y="75"/>
                  </a:lnTo>
                  <a:lnTo>
                    <a:pt x="32" y="69"/>
                  </a:lnTo>
                  <a:lnTo>
                    <a:pt x="32" y="62"/>
                  </a:lnTo>
                  <a:lnTo>
                    <a:pt x="32" y="54"/>
                  </a:lnTo>
                  <a:lnTo>
                    <a:pt x="30" y="48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26"/>
                  </a:lnTo>
                  <a:lnTo>
                    <a:pt x="23" y="18"/>
                  </a:lnTo>
                  <a:lnTo>
                    <a:pt x="21" y="13"/>
                  </a:lnTo>
                  <a:lnTo>
                    <a:pt x="18" y="6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2" y="90"/>
                  </a:lnTo>
                  <a:lnTo>
                    <a:pt x="4" y="96"/>
                  </a:lnTo>
                  <a:lnTo>
                    <a:pt x="4" y="103"/>
                  </a:lnTo>
                  <a:lnTo>
                    <a:pt x="7" y="111"/>
                  </a:lnTo>
                  <a:lnTo>
                    <a:pt x="11" y="117"/>
                  </a:lnTo>
                  <a:lnTo>
                    <a:pt x="13" y="124"/>
                  </a:lnTo>
                  <a:lnTo>
                    <a:pt x="15" y="129"/>
                  </a:lnTo>
                  <a:lnTo>
                    <a:pt x="18" y="1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1811160" y="5638680"/>
              <a:ext cx="9720" cy="52920"/>
            </a:xfrm>
            <a:custGeom>
              <a:avLst/>
              <a:gdLst/>
              <a:ahLst/>
              <a:rect l="0" t="0" r="r" b="b"/>
              <a:pathLst>
                <a:path fill="none" w="27" h="147">
                  <a:moveTo>
                    <a:pt x="16" y="140"/>
                  </a:moveTo>
                  <a:lnTo>
                    <a:pt x="19" y="133"/>
                  </a:lnTo>
                  <a:lnTo>
                    <a:pt x="21" y="125"/>
                  </a:lnTo>
                  <a:lnTo>
                    <a:pt x="23" y="118"/>
                  </a:lnTo>
                  <a:lnTo>
                    <a:pt x="25" y="109"/>
                  </a:lnTo>
                  <a:lnTo>
                    <a:pt x="26" y="102"/>
                  </a:lnTo>
                  <a:lnTo>
                    <a:pt x="26" y="94"/>
                  </a:lnTo>
                  <a:lnTo>
                    <a:pt x="27" y="84"/>
                  </a:lnTo>
                  <a:lnTo>
                    <a:pt x="27" y="78"/>
                  </a:lnTo>
                  <a:lnTo>
                    <a:pt x="27" y="70"/>
                  </a:lnTo>
                  <a:lnTo>
                    <a:pt x="27" y="61"/>
                  </a:lnTo>
                  <a:lnTo>
                    <a:pt x="26" y="54"/>
                  </a:lnTo>
                  <a:lnTo>
                    <a:pt x="26" y="46"/>
                  </a:lnTo>
                  <a:lnTo>
                    <a:pt x="25" y="38"/>
                  </a:lnTo>
                  <a:lnTo>
                    <a:pt x="24" y="30"/>
                  </a:lnTo>
                  <a:lnTo>
                    <a:pt x="21" y="21"/>
                  </a:lnTo>
                  <a:lnTo>
                    <a:pt x="19" y="15"/>
                  </a:lnTo>
                  <a:lnTo>
                    <a:pt x="17" y="7"/>
                  </a:lnTo>
                  <a:lnTo>
                    <a:pt x="14" y="0"/>
                  </a:lnTo>
                  <a:lnTo>
                    <a:pt x="11" y="7"/>
                  </a:lnTo>
                  <a:lnTo>
                    <a:pt x="8" y="15"/>
                  </a:lnTo>
                  <a:lnTo>
                    <a:pt x="6" y="21"/>
                  </a:lnTo>
                  <a:lnTo>
                    <a:pt x="4" y="30"/>
                  </a:lnTo>
                  <a:lnTo>
                    <a:pt x="4" y="38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4" y="109"/>
                  </a:lnTo>
                  <a:lnTo>
                    <a:pt x="4" y="118"/>
                  </a:lnTo>
                  <a:lnTo>
                    <a:pt x="6" y="125"/>
                  </a:lnTo>
                  <a:lnTo>
                    <a:pt x="8" y="133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6" y="1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1838160" y="5638680"/>
              <a:ext cx="11520" cy="55800"/>
            </a:xfrm>
            <a:custGeom>
              <a:avLst/>
              <a:gdLst/>
              <a:ahLst/>
              <a:rect l="0" t="0" r="r" b="b"/>
              <a:pathLst>
                <a:path fill="none" w="32" h="155">
                  <a:moveTo>
                    <a:pt x="19" y="148"/>
                  </a:moveTo>
                  <a:lnTo>
                    <a:pt x="21" y="141"/>
                  </a:lnTo>
                  <a:lnTo>
                    <a:pt x="25" y="131"/>
                  </a:lnTo>
                  <a:lnTo>
                    <a:pt x="27" y="125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99"/>
                  </a:lnTo>
                  <a:lnTo>
                    <a:pt x="32" y="91"/>
                  </a:lnTo>
                  <a:lnTo>
                    <a:pt x="32" y="83"/>
                  </a:lnTo>
                  <a:lnTo>
                    <a:pt x="32" y="72"/>
                  </a:lnTo>
                  <a:lnTo>
                    <a:pt x="32" y="64"/>
                  </a:lnTo>
                  <a:lnTo>
                    <a:pt x="31" y="55"/>
                  </a:lnTo>
                  <a:lnTo>
                    <a:pt x="31" y="48"/>
                  </a:lnTo>
                  <a:lnTo>
                    <a:pt x="29" y="39"/>
                  </a:lnTo>
                  <a:lnTo>
                    <a:pt x="28" y="32"/>
                  </a:lnTo>
                  <a:lnTo>
                    <a:pt x="25" y="23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6" y="0"/>
                  </a:lnTo>
                  <a:lnTo>
                    <a:pt x="13" y="7"/>
                  </a:lnTo>
                  <a:lnTo>
                    <a:pt x="10" y="15"/>
                  </a:lnTo>
                  <a:lnTo>
                    <a:pt x="6" y="23"/>
                  </a:lnTo>
                  <a:lnTo>
                    <a:pt x="5" y="32"/>
                  </a:lnTo>
                  <a:lnTo>
                    <a:pt x="5" y="39"/>
                  </a:lnTo>
                  <a:lnTo>
                    <a:pt x="2" y="48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1" y="99"/>
                  </a:lnTo>
                  <a:lnTo>
                    <a:pt x="2" y="109"/>
                  </a:lnTo>
                  <a:lnTo>
                    <a:pt x="5" y="116"/>
                  </a:lnTo>
                  <a:lnTo>
                    <a:pt x="5" y="125"/>
                  </a:lnTo>
                  <a:lnTo>
                    <a:pt x="7" y="131"/>
                  </a:lnTo>
                  <a:lnTo>
                    <a:pt x="10" y="141"/>
                  </a:lnTo>
                  <a:lnTo>
                    <a:pt x="14" y="148"/>
                  </a:lnTo>
                  <a:lnTo>
                    <a:pt x="16" y="155"/>
                  </a:lnTo>
                  <a:lnTo>
                    <a:pt x="19" y="1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1957320" y="5638680"/>
              <a:ext cx="16200" cy="79560"/>
            </a:xfrm>
            <a:custGeom>
              <a:avLst/>
              <a:gdLst/>
              <a:ahLst/>
              <a:rect l="0" t="0" r="r" b="b"/>
              <a:pathLst>
                <a:path fill="none" w="45" h="221">
                  <a:moveTo>
                    <a:pt x="26" y="212"/>
                  </a:moveTo>
                  <a:lnTo>
                    <a:pt x="30" y="202"/>
                  </a:lnTo>
                  <a:lnTo>
                    <a:pt x="34" y="189"/>
                  </a:lnTo>
                  <a:lnTo>
                    <a:pt x="37" y="178"/>
                  </a:lnTo>
                  <a:lnTo>
                    <a:pt x="38" y="165"/>
                  </a:lnTo>
                  <a:lnTo>
                    <a:pt x="42" y="153"/>
                  </a:lnTo>
                  <a:lnTo>
                    <a:pt x="42" y="142"/>
                  </a:lnTo>
                  <a:lnTo>
                    <a:pt x="45" y="129"/>
                  </a:lnTo>
                  <a:lnTo>
                    <a:pt x="45" y="118"/>
                  </a:lnTo>
                  <a:lnTo>
                    <a:pt x="45" y="105"/>
                  </a:lnTo>
                  <a:lnTo>
                    <a:pt x="45" y="92"/>
                  </a:lnTo>
                  <a:lnTo>
                    <a:pt x="42" y="82"/>
                  </a:lnTo>
                  <a:lnTo>
                    <a:pt x="42" y="69"/>
                  </a:lnTo>
                  <a:lnTo>
                    <a:pt x="39" y="58"/>
                  </a:lnTo>
                  <a:lnTo>
                    <a:pt x="37" y="45"/>
                  </a:lnTo>
                  <a:lnTo>
                    <a:pt x="34" y="33"/>
                  </a:lnTo>
                  <a:lnTo>
                    <a:pt x="30" y="22"/>
                  </a:lnTo>
                  <a:lnTo>
                    <a:pt x="27" y="12"/>
                  </a:lnTo>
                  <a:lnTo>
                    <a:pt x="19" y="0"/>
                  </a:lnTo>
                  <a:lnTo>
                    <a:pt x="17" y="12"/>
                  </a:lnTo>
                  <a:lnTo>
                    <a:pt x="13" y="22"/>
                  </a:lnTo>
                  <a:lnTo>
                    <a:pt x="8" y="33"/>
                  </a:lnTo>
                  <a:lnTo>
                    <a:pt x="5" y="45"/>
                  </a:lnTo>
                  <a:lnTo>
                    <a:pt x="4" y="58"/>
                  </a:lnTo>
                  <a:lnTo>
                    <a:pt x="1" y="69"/>
                  </a:lnTo>
                  <a:lnTo>
                    <a:pt x="1" y="82"/>
                  </a:lnTo>
                  <a:lnTo>
                    <a:pt x="0" y="92"/>
                  </a:lnTo>
                  <a:lnTo>
                    <a:pt x="0" y="105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1" y="142"/>
                  </a:lnTo>
                  <a:lnTo>
                    <a:pt x="1" y="153"/>
                  </a:lnTo>
                  <a:lnTo>
                    <a:pt x="4" y="165"/>
                  </a:lnTo>
                  <a:lnTo>
                    <a:pt x="7" y="178"/>
                  </a:lnTo>
                  <a:lnTo>
                    <a:pt x="10" y="189"/>
                  </a:lnTo>
                  <a:lnTo>
                    <a:pt x="13" y="202"/>
                  </a:lnTo>
                  <a:lnTo>
                    <a:pt x="18" y="212"/>
                  </a:lnTo>
                  <a:lnTo>
                    <a:pt x="19" y="221"/>
                  </a:lnTo>
                  <a:lnTo>
                    <a:pt x="26" y="2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1987560" y="5640480"/>
              <a:ext cx="18000" cy="84600"/>
            </a:xfrm>
            <a:custGeom>
              <a:avLst/>
              <a:gdLst/>
              <a:ahLst/>
              <a:rect l="0" t="0" r="r" b="b"/>
              <a:pathLst>
                <a:path fill="none" w="50" h="235">
                  <a:moveTo>
                    <a:pt x="28" y="224"/>
                  </a:moveTo>
                  <a:lnTo>
                    <a:pt x="32" y="214"/>
                  </a:lnTo>
                  <a:lnTo>
                    <a:pt x="38" y="201"/>
                  </a:lnTo>
                  <a:lnTo>
                    <a:pt x="40" y="189"/>
                  </a:lnTo>
                  <a:lnTo>
                    <a:pt x="43" y="175"/>
                  </a:lnTo>
                  <a:lnTo>
                    <a:pt x="46" y="163"/>
                  </a:lnTo>
                  <a:lnTo>
                    <a:pt x="47" y="150"/>
                  </a:lnTo>
                  <a:lnTo>
                    <a:pt x="50" y="137"/>
                  </a:lnTo>
                  <a:lnTo>
                    <a:pt x="50" y="125"/>
                  </a:lnTo>
                  <a:lnTo>
                    <a:pt x="50" y="112"/>
                  </a:lnTo>
                  <a:lnTo>
                    <a:pt x="50" y="99"/>
                  </a:lnTo>
                  <a:lnTo>
                    <a:pt x="47" y="86"/>
                  </a:lnTo>
                  <a:lnTo>
                    <a:pt x="46" y="74"/>
                  </a:lnTo>
                  <a:lnTo>
                    <a:pt x="44" y="62"/>
                  </a:lnTo>
                  <a:lnTo>
                    <a:pt x="42" y="47"/>
                  </a:lnTo>
                  <a:lnTo>
                    <a:pt x="38" y="34"/>
                  </a:lnTo>
                  <a:lnTo>
                    <a:pt x="32" y="23"/>
                  </a:lnTo>
                  <a:lnTo>
                    <a:pt x="29" y="12"/>
                  </a:lnTo>
                  <a:lnTo>
                    <a:pt x="23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10" y="34"/>
                  </a:lnTo>
                  <a:lnTo>
                    <a:pt x="7" y="47"/>
                  </a:lnTo>
                  <a:lnTo>
                    <a:pt x="5" y="62"/>
                  </a:lnTo>
                  <a:lnTo>
                    <a:pt x="1" y="74"/>
                  </a:lnTo>
                  <a:lnTo>
                    <a:pt x="1" y="86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1" y="150"/>
                  </a:lnTo>
                  <a:lnTo>
                    <a:pt x="3" y="163"/>
                  </a:lnTo>
                  <a:lnTo>
                    <a:pt x="5" y="175"/>
                  </a:lnTo>
                  <a:lnTo>
                    <a:pt x="7" y="189"/>
                  </a:lnTo>
                  <a:lnTo>
                    <a:pt x="10" y="201"/>
                  </a:lnTo>
                  <a:lnTo>
                    <a:pt x="15" y="214"/>
                  </a:lnTo>
                  <a:lnTo>
                    <a:pt x="20" y="224"/>
                  </a:lnTo>
                  <a:lnTo>
                    <a:pt x="23" y="235"/>
                  </a:lnTo>
                  <a:lnTo>
                    <a:pt x="28" y="2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019240" y="5640480"/>
              <a:ext cx="18000" cy="90720"/>
            </a:xfrm>
            <a:custGeom>
              <a:avLst/>
              <a:gdLst/>
              <a:ahLst/>
              <a:rect l="0" t="0" r="r" b="b"/>
              <a:pathLst>
                <a:path fill="none" w="50" h="252">
                  <a:moveTo>
                    <a:pt x="28" y="242"/>
                  </a:moveTo>
                  <a:lnTo>
                    <a:pt x="33" y="231"/>
                  </a:lnTo>
                  <a:lnTo>
                    <a:pt x="36" y="215"/>
                  </a:lnTo>
                  <a:lnTo>
                    <a:pt x="41" y="203"/>
                  </a:lnTo>
                  <a:lnTo>
                    <a:pt x="43" y="188"/>
                  </a:lnTo>
                  <a:lnTo>
                    <a:pt x="47" y="176"/>
                  </a:lnTo>
                  <a:lnTo>
                    <a:pt x="48" y="162"/>
                  </a:lnTo>
                  <a:lnTo>
                    <a:pt x="50" y="147"/>
                  </a:lnTo>
                  <a:lnTo>
                    <a:pt x="50" y="134"/>
                  </a:lnTo>
                  <a:lnTo>
                    <a:pt x="50" y="120"/>
                  </a:lnTo>
                  <a:lnTo>
                    <a:pt x="50" y="105"/>
                  </a:lnTo>
                  <a:lnTo>
                    <a:pt x="48" y="93"/>
                  </a:lnTo>
                  <a:lnTo>
                    <a:pt x="47" y="79"/>
                  </a:lnTo>
                  <a:lnTo>
                    <a:pt x="44" y="65"/>
                  </a:lnTo>
                  <a:lnTo>
                    <a:pt x="41" y="52"/>
                  </a:lnTo>
                  <a:lnTo>
                    <a:pt x="36" y="38"/>
                  </a:lnTo>
                  <a:lnTo>
                    <a:pt x="33" y="25"/>
                  </a:lnTo>
                  <a:lnTo>
                    <a:pt x="29" y="13"/>
                  </a:lnTo>
                  <a:lnTo>
                    <a:pt x="23" y="0"/>
                  </a:lnTo>
                  <a:lnTo>
                    <a:pt x="19" y="13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6" y="52"/>
                  </a:lnTo>
                  <a:lnTo>
                    <a:pt x="5" y="65"/>
                  </a:lnTo>
                  <a:lnTo>
                    <a:pt x="1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5" y="188"/>
                  </a:lnTo>
                  <a:lnTo>
                    <a:pt x="7" y="203"/>
                  </a:lnTo>
                  <a:lnTo>
                    <a:pt x="11" y="215"/>
                  </a:lnTo>
                  <a:lnTo>
                    <a:pt x="16" y="231"/>
                  </a:lnTo>
                  <a:lnTo>
                    <a:pt x="19" y="242"/>
                  </a:lnTo>
                  <a:lnTo>
                    <a:pt x="23" y="252"/>
                  </a:lnTo>
                  <a:lnTo>
                    <a:pt x="28" y="2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2057400" y="5640480"/>
              <a:ext cx="20880" cy="98640"/>
            </a:xfrm>
            <a:custGeom>
              <a:avLst/>
              <a:gdLst/>
              <a:ahLst/>
              <a:rect l="0" t="0" r="r" b="b"/>
              <a:pathLst>
                <a:path fill="none" w="58" h="274">
                  <a:moveTo>
                    <a:pt x="33" y="262"/>
                  </a:moveTo>
                  <a:lnTo>
                    <a:pt x="38" y="250"/>
                  </a:lnTo>
                  <a:lnTo>
                    <a:pt x="43" y="233"/>
                  </a:lnTo>
                  <a:lnTo>
                    <a:pt x="47" y="220"/>
                  </a:lnTo>
                  <a:lnTo>
                    <a:pt x="51" y="205"/>
                  </a:lnTo>
                  <a:lnTo>
                    <a:pt x="55" y="190"/>
                  </a:lnTo>
                  <a:lnTo>
                    <a:pt x="55" y="175"/>
                  </a:lnTo>
                  <a:lnTo>
                    <a:pt x="58" y="160"/>
                  </a:lnTo>
                  <a:lnTo>
                    <a:pt x="58" y="146"/>
                  </a:lnTo>
                  <a:lnTo>
                    <a:pt x="58" y="131"/>
                  </a:lnTo>
                  <a:lnTo>
                    <a:pt x="58" y="114"/>
                  </a:lnTo>
                  <a:lnTo>
                    <a:pt x="55" y="101"/>
                  </a:lnTo>
                  <a:lnTo>
                    <a:pt x="55" y="84"/>
                  </a:lnTo>
                  <a:lnTo>
                    <a:pt x="51" y="71"/>
                  </a:lnTo>
                  <a:lnTo>
                    <a:pt x="49" y="57"/>
                  </a:lnTo>
                  <a:lnTo>
                    <a:pt x="43" y="42"/>
                  </a:lnTo>
                  <a:lnTo>
                    <a:pt x="38" y="27"/>
                  </a:lnTo>
                  <a:lnTo>
                    <a:pt x="34" y="15"/>
                  </a:lnTo>
                  <a:lnTo>
                    <a:pt x="27" y="0"/>
                  </a:lnTo>
                  <a:lnTo>
                    <a:pt x="22" y="15"/>
                  </a:lnTo>
                  <a:lnTo>
                    <a:pt x="17" y="27"/>
                  </a:lnTo>
                  <a:lnTo>
                    <a:pt x="11" y="42"/>
                  </a:lnTo>
                  <a:lnTo>
                    <a:pt x="7" y="57"/>
                  </a:lnTo>
                  <a:lnTo>
                    <a:pt x="7" y="71"/>
                  </a:lnTo>
                  <a:lnTo>
                    <a:pt x="1" y="84"/>
                  </a:lnTo>
                  <a:lnTo>
                    <a:pt x="0" y="101"/>
                  </a:lnTo>
                  <a:lnTo>
                    <a:pt x="0" y="114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0"/>
                  </a:lnTo>
                  <a:lnTo>
                    <a:pt x="0" y="175"/>
                  </a:lnTo>
                  <a:lnTo>
                    <a:pt x="3" y="190"/>
                  </a:lnTo>
                  <a:lnTo>
                    <a:pt x="7" y="205"/>
                  </a:lnTo>
                  <a:lnTo>
                    <a:pt x="10" y="220"/>
                  </a:lnTo>
                  <a:lnTo>
                    <a:pt x="13" y="233"/>
                  </a:lnTo>
                  <a:lnTo>
                    <a:pt x="17" y="250"/>
                  </a:lnTo>
                  <a:lnTo>
                    <a:pt x="23" y="262"/>
                  </a:lnTo>
                  <a:lnTo>
                    <a:pt x="27" y="274"/>
                  </a:lnTo>
                  <a:lnTo>
                    <a:pt x="33" y="2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2100240" y="5699160"/>
              <a:ext cx="155880" cy="44640"/>
            </a:xfrm>
            <a:custGeom>
              <a:avLst/>
              <a:gdLst/>
              <a:ahLst/>
              <a:rect l="0" t="0" r="r" b="b"/>
              <a:pathLst>
                <a:path fill="none" w="433" h="124">
                  <a:moveTo>
                    <a:pt x="27" y="121"/>
                  </a:moveTo>
                  <a:lnTo>
                    <a:pt x="17" y="118"/>
                  </a:lnTo>
                  <a:lnTo>
                    <a:pt x="11" y="114"/>
                  </a:lnTo>
                  <a:lnTo>
                    <a:pt x="4" y="105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5" y="90"/>
                  </a:lnTo>
                  <a:lnTo>
                    <a:pt x="1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3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8" y="64"/>
                  </a:lnTo>
                  <a:lnTo>
                    <a:pt x="9" y="49"/>
                  </a:lnTo>
                  <a:lnTo>
                    <a:pt x="14" y="40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5" y="23"/>
                  </a:lnTo>
                  <a:lnTo>
                    <a:pt x="54" y="25"/>
                  </a:lnTo>
                  <a:lnTo>
                    <a:pt x="61" y="27"/>
                  </a:lnTo>
                  <a:lnTo>
                    <a:pt x="65" y="31"/>
                  </a:lnTo>
                  <a:lnTo>
                    <a:pt x="70" y="22"/>
                  </a:lnTo>
                  <a:lnTo>
                    <a:pt x="83" y="18"/>
                  </a:lnTo>
                  <a:lnTo>
                    <a:pt x="100" y="18"/>
                  </a:lnTo>
                  <a:lnTo>
                    <a:pt x="108" y="20"/>
                  </a:lnTo>
                  <a:lnTo>
                    <a:pt x="112" y="12"/>
                  </a:lnTo>
                  <a:lnTo>
                    <a:pt x="117" y="10"/>
                  </a:lnTo>
                  <a:lnTo>
                    <a:pt x="123" y="10"/>
                  </a:lnTo>
                  <a:lnTo>
                    <a:pt x="126" y="14"/>
                  </a:lnTo>
                  <a:lnTo>
                    <a:pt x="136" y="5"/>
                  </a:lnTo>
                  <a:lnTo>
                    <a:pt x="147" y="2"/>
                  </a:lnTo>
                  <a:lnTo>
                    <a:pt x="159" y="0"/>
                  </a:lnTo>
                  <a:lnTo>
                    <a:pt x="173" y="1"/>
                  </a:lnTo>
                  <a:lnTo>
                    <a:pt x="185" y="3"/>
                  </a:lnTo>
                  <a:lnTo>
                    <a:pt x="195" y="10"/>
                  </a:lnTo>
                  <a:lnTo>
                    <a:pt x="197" y="15"/>
                  </a:lnTo>
                  <a:lnTo>
                    <a:pt x="210" y="8"/>
                  </a:lnTo>
                  <a:lnTo>
                    <a:pt x="219" y="7"/>
                  </a:lnTo>
                  <a:lnTo>
                    <a:pt x="224" y="8"/>
                  </a:lnTo>
                  <a:lnTo>
                    <a:pt x="226" y="12"/>
                  </a:lnTo>
                  <a:lnTo>
                    <a:pt x="233" y="7"/>
                  </a:lnTo>
                  <a:lnTo>
                    <a:pt x="240" y="8"/>
                  </a:lnTo>
                  <a:lnTo>
                    <a:pt x="243" y="10"/>
                  </a:lnTo>
                  <a:lnTo>
                    <a:pt x="244" y="14"/>
                  </a:lnTo>
                  <a:lnTo>
                    <a:pt x="254" y="9"/>
                  </a:lnTo>
                  <a:lnTo>
                    <a:pt x="259" y="11"/>
                  </a:lnTo>
                  <a:lnTo>
                    <a:pt x="261" y="12"/>
                  </a:lnTo>
                  <a:lnTo>
                    <a:pt x="271" y="5"/>
                  </a:lnTo>
                  <a:lnTo>
                    <a:pt x="283" y="1"/>
                  </a:lnTo>
                  <a:lnTo>
                    <a:pt x="299" y="1"/>
                  </a:lnTo>
                  <a:lnTo>
                    <a:pt x="313" y="5"/>
                  </a:lnTo>
                  <a:lnTo>
                    <a:pt x="321" y="11"/>
                  </a:lnTo>
                  <a:lnTo>
                    <a:pt x="327" y="6"/>
                  </a:lnTo>
                  <a:lnTo>
                    <a:pt x="335" y="3"/>
                  </a:lnTo>
                  <a:lnTo>
                    <a:pt x="348" y="1"/>
                  </a:lnTo>
                  <a:lnTo>
                    <a:pt x="362" y="1"/>
                  </a:lnTo>
                  <a:lnTo>
                    <a:pt x="377" y="3"/>
                  </a:lnTo>
                  <a:lnTo>
                    <a:pt x="385" y="9"/>
                  </a:lnTo>
                  <a:lnTo>
                    <a:pt x="393" y="1"/>
                  </a:lnTo>
                  <a:lnTo>
                    <a:pt x="403" y="1"/>
                  </a:lnTo>
                  <a:lnTo>
                    <a:pt x="412" y="5"/>
                  </a:lnTo>
                  <a:lnTo>
                    <a:pt x="418" y="11"/>
                  </a:lnTo>
                  <a:lnTo>
                    <a:pt x="418" y="20"/>
                  </a:lnTo>
                  <a:lnTo>
                    <a:pt x="429" y="23"/>
                  </a:lnTo>
                  <a:lnTo>
                    <a:pt x="432" y="31"/>
                  </a:lnTo>
                  <a:lnTo>
                    <a:pt x="433" y="43"/>
                  </a:lnTo>
                  <a:lnTo>
                    <a:pt x="432" y="51"/>
                  </a:lnTo>
                  <a:lnTo>
                    <a:pt x="431" y="60"/>
                  </a:lnTo>
                  <a:lnTo>
                    <a:pt x="428" y="64"/>
                  </a:lnTo>
                  <a:lnTo>
                    <a:pt x="422" y="69"/>
                  </a:lnTo>
                  <a:lnTo>
                    <a:pt x="416" y="72"/>
                  </a:lnTo>
                  <a:lnTo>
                    <a:pt x="406" y="72"/>
                  </a:lnTo>
                  <a:lnTo>
                    <a:pt x="392" y="73"/>
                  </a:lnTo>
                  <a:lnTo>
                    <a:pt x="386" y="75"/>
                  </a:lnTo>
                  <a:lnTo>
                    <a:pt x="377" y="78"/>
                  </a:lnTo>
                  <a:lnTo>
                    <a:pt x="368" y="78"/>
                  </a:lnTo>
                  <a:lnTo>
                    <a:pt x="61" y="119"/>
                  </a:lnTo>
                  <a:lnTo>
                    <a:pt x="54" y="121"/>
                  </a:lnTo>
                  <a:lnTo>
                    <a:pt x="40" y="124"/>
                  </a:lnTo>
                  <a:lnTo>
                    <a:pt x="27" y="12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335320" y="5681520"/>
              <a:ext cx="103680" cy="30600"/>
            </a:xfrm>
            <a:custGeom>
              <a:avLst/>
              <a:gdLst/>
              <a:ahLst/>
              <a:rect l="0" t="0" r="r" b="b"/>
              <a:pathLst>
                <a:path fill="none" w="288" h="85">
                  <a:moveTo>
                    <a:pt x="1" y="77"/>
                  </a:moveTo>
                  <a:lnTo>
                    <a:pt x="5" y="81"/>
                  </a:lnTo>
                  <a:lnTo>
                    <a:pt x="11" y="82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5"/>
                  </a:lnTo>
                  <a:lnTo>
                    <a:pt x="19" y="85"/>
                  </a:lnTo>
                  <a:lnTo>
                    <a:pt x="277" y="49"/>
                  </a:lnTo>
                  <a:lnTo>
                    <a:pt x="283" y="45"/>
                  </a:lnTo>
                  <a:lnTo>
                    <a:pt x="287" y="38"/>
                  </a:lnTo>
                  <a:lnTo>
                    <a:pt x="288" y="33"/>
                  </a:lnTo>
                  <a:lnTo>
                    <a:pt x="288" y="28"/>
                  </a:lnTo>
                  <a:lnTo>
                    <a:pt x="287" y="28"/>
                  </a:lnTo>
                  <a:lnTo>
                    <a:pt x="287" y="19"/>
                  </a:lnTo>
                  <a:lnTo>
                    <a:pt x="284" y="15"/>
                  </a:lnTo>
                  <a:lnTo>
                    <a:pt x="282" y="13"/>
                  </a:lnTo>
                  <a:lnTo>
                    <a:pt x="280" y="16"/>
                  </a:lnTo>
                  <a:lnTo>
                    <a:pt x="276" y="7"/>
                  </a:lnTo>
                  <a:lnTo>
                    <a:pt x="269" y="3"/>
                  </a:lnTo>
                  <a:lnTo>
                    <a:pt x="261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49" y="3"/>
                  </a:lnTo>
                  <a:lnTo>
                    <a:pt x="239" y="1"/>
                  </a:lnTo>
                  <a:lnTo>
                    <a:pt x="228" y="1"/>
                  </a:lnTo>
                  <a:lnTo>
                    <a:pt x="220" y="7"/>
                  </a:lnTo>
                  <a:lnTo>
                    <a:pt x="213" y="13"/>
                  </a:lnTo>
                  <a:lnTo>
                    <a:pt x="207" y="4"/>
                  </a:lnTo>
                  <a:lnTo>
                    <a:pt x="194" y="0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162" y="9"/>
                  </a:lnTo>
                  <a:lnTo>
                    <a:pt x="158" y="13"/>
                  </a:lnTo>
                  <a:lnTo>
                    <a:pt x="149" y="11"/>
                  </a:lnTo>
                  <a:lnTo>
                    <a:pt x="145" y="13"/>
                  </a:lnTo>
                  <a:lnTo>
                    <a:pt x="143" y="19"/>
                  </a:lnTo>
                  <a:lnTo>
                    <a:pt x="135" y="11"/>
                  </a:lnTo>
                  <a:lnTo>
                    <a:pt x="122" y="10"/>
                  </a:lnTo>
                  <a:lnTo>
                    <a:pt x="111" y="11"/>
                  </a:lnTo>
                  <a:lnTo>
                    <a:pt x="108" y="16"/>
                  </a:lnTo>
                  <a:lnTo>
                    <a:pt x="102" y="24"/>
                  </a:lnTo>
                  <a:lnTo>
                    <a:pt x="95" y="20"/>
                  </a:lnTo>
                  <a:lnTo>
                    <a:pt x="84" y="24"/>
                  </a:lnTo>
                  <a:lnTo>
                    <a:pt x="80" y="28"/>
                  </a:lnTo>
                  <a:lnTo>
                    <a:pt x="71" y="20"/>
                  </a:lnTo>
                  <a:lnTo>
                    <a:pt x="54" y="19"/>
                  </a:lnTo>
                  <a:lnTo>
                    <a:pt x="32" y="23"/>
                  </a:lnTo>
                  <a:lnTo>
                    <a:pt x="17" y="28"/>
                  </a:lnTo>
                  <a:lnTo>
                    <a:pt x="5" y="38"/>
                  </a:lnTo>
                  <a:lnTo>
                    <a:pt x="1" y="47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1735200" y="5675400"/>
              <a:ext cx="760680" cy="95760"/>
            </a:xfrm>
            <a:custGeom>
              <a:avLst/>
              <a:gdLst/>
              <a:ahLst/>
              <a:rect l="0" t="0" r="r" b="b"/>
              <a:pathLst>
                <a:path fill="none" w="2113" h="266">
                  <a:moveTo>
                    <a:pt x="66" y="0"/>
                  </a:moveTo>
                  <a:lnTo>
                    <a:pt x="0" y="0"/>
                  </a:lnTo>
                  <a:lnTo>
                    <a:pt x="1003" y="266"/>
                  </a:lnTo>
                  <a:lnTo>
                    <a:pt x="2113" y="60"/>
                  </a:lnTo>
                  <a:lnTo>
                    <a:pt x="1935" y="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2" name=""/>
          <p:cNvSpPr/>
          <p:nvPr/>
        </p:nvSpPr>
        <p:spPr>
          <a:xfrm flipV="1">
            <a:off x="3489480" y="2136600"/>
            <a:ext cx="1585800" cy="2413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 flipH="1" flipV="1">
            <a:off x="5132520" y="2147760"/>
            <a:ext cx="193680" cy="251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 flipV="1">
            <a:off x="3238560" y="2125800"/>
            <a:ext cx="1801800" cy="241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5235480" y="2111400"/>
            <a:ext cx="3473640" cy="229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 flipH="1" flipV="1">
            <a:off x="5181480" y="2149560"/>
            <a:ext cx="1409760" cy="271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 flipH="1" flipV="1">
            <a:off x="5211720" y="2141640"/>
            <a:ext cx="3192480" cy="2590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8" name=""/>
          <p:cNvGrpSpPr/>
          <p:nvPr/>
        </p:nvGrpSpPr>
        <p:grpSpPr>
          <a:xfrm>
            <a:off x="4560840" y="1854360"/>
            <a:ext cx="1146600" cy="240120"/>
            <a:chOff x="4560840" y="1854360"/>
            <a:chExt cx="1146600" cy="240120"/>
          </a:xfrm>
        </p:grpSpPr>
        <p:sp>
          <p:nvSpPr>
            <p:cNvPr id="6749" name=""/>
            <p:cNvSpPr/>
            <p:nvPr/>
          </p:nvSpPr>
          <p:spPr>
            <a:xfrm>
              <a:off x="5126040" y="1890720"/>
              <a:ext cx="95760" cy="163800"/>
            </a:xfrm>
            <a:custGeom>
              <a:avLst/>
              <a:gdLst/>
              <a:ahLst/>
              <a:rect l="0" t="0" r="r" b="b"/>
              <a:pathLst>
                <a:path fill="none" w="266" h="455">
                  <a:moveTo>
                    <a:pt x="266" y="70"/>
                  </a:moveTo>
                  <a:lnTo>
                    <a:pt x="159" y="433"/>
                  </a:lnTo>
                  <a:lnTo>
                    <a:pt x="22" y="455"/>
                  </a:lnTo>
                  <a:lnTo>
                    <a:pt x="0" y="57"/>
                  </a:lnTo>
                  <a:lnTo>
                    <a:pt x="26" y="39"/>
                  </a:lnTo>
                  <a:lnTo>
                    <a:pt x="80" y="17"/>
                  </a:lnTo>
                  <a:lnTo>
                    <a:pt x="142" y="0"/>
                  </a:lnTo>
                  <a:lnTo>
                    <a:pt x="181" y="17"/>
                  </a:lnTo>
                  <a:lnTo>
                    <a:pt x="240" y="48"/>
                  </a:lnTo>
                  <a:lnTo>
                    <a:pt x="266" y="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4560840" y="1916280"/>
              <a:ext cx="518040" cy="178200"/>
            </a:xfrm>
            <a:custGeom>
              <a:avLst/>
              <a:gdLst/>
              <a:ahLst/>
              <a:rect l="0" t="0" r="r" b="b"/>
              <a:pathLst>
                <a:path fill="none" w="1439" h="495">
                  <a:moveTo>
                    <a:pt x="154" y="26"/>
                  </a:moveTo>
                  <a:lnTo>
                    <a:pt x="706" y="52"/>
                  </a:lnTo>
                  <a:lnTo>
                    <a:pt x="1179" y="70"/>
                  </a:lnTo>
                  <a:lnTo>
                    <a:pt x="1439" y="495"/>
                  </a:lnTo>
                  <a:lnTo>
                    <a:pt x="816" y="478"/>
                  </a:lnTo>
                  <a:lnTo>
                    <a:pt x="605" y="44"/>
                  </a:lnTo>
                  <a:lnTo>
                    <a:pt x="834" y="469"/>
                  </a:lnTo>
                  <a:lnTo>
                    <a:pt x="185" y="469"/>
                  </a:lnTo>
                  <a:lnTo>
                    <a:pt x="0" y="0"/>
                  </a:lnTo>
                  <a:lnTo>
                    <a:pt x="154" y="2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5191200" y="1924200"/>
              <a:ext cx="516240" cy="167040"/>
            </a:xfrm>
            <a:custGeom>
              <a:avLst/>
              <a:gdLst/>
              <a:ahLst/>
              <a:rect l="0" t="0" r="r" b="b"/>
              <a:pathLst>
                <a:path fill="none" w="1434" h="464">
                  <a:moveTo>
                    <a:pt x="149" y="0"/>
                  </a:moveTo>
                  <a:lnTo>
                    <a:pt x="705" y="22"/>
                  </a:lnTo>
                  <a:lnTo>
                    <a:pt x="1182" y="44"/>
                  </a:lnTo>
                  <a:lnTo>
                    <a:pt x="1434" y="464"/>
                  </a:lnTo>
                  <a:lnTo>
                    <a:pt x="821" y="441"/>
                  </a:lnTo>
                  <a:lnTo>
                    <a:pt x="608" y="13"/>
                  </a:lnTo>
                  <a:lnTo>
                    <a:pt x="838" y="441"/>
                  </a:lnTo>
                  <a:lnTo>
                    <a:pt x="229" y="424"/>
                  </a:lnTo>
                  <a:lnTo>
                    <a:pt x="0" y="4"/>
                  </a:lnTo>
                  <a:lnTo>
                    <a:pt x="14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5022720" y="1876320"/>
              <a:ext cx="116280" cy="203400"/>
            </a:xfrm>
            <a:custGeom>
              <a:avLst/>
              <a:gdLst/>
              <a:ahLst/>
              <a:rect l="0" t="0" r="r" b="b"/>
              <a:pathLst>
                <a:path fill="none" w="323" h="565">
                  <a:moveTo>
                    <a:pt x="137" y="0"/>
                  </a:moveTo>
                  <a:lnTo>
                    <a:pt x="323" y="251"/>
                  </a:lnTo>
                  <a:lnTo>
                    <a:pt x="168" y="565"/>
                  </a:lnTo>
                  <a:lnTo>
                    <a:pt x="0" y="322"/>
                  </a:lnTo>
                  <a:lnTo>
                    <a:pt x="1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3" name=""/>
            <p:cNvGrpSpPr/>
            <p:nvPr/>
          </p:nvGrpSpPr>
          <p:grpSpPr>
            <a:xfrm>
              <a:off x="5130720" y="2001960"/>
              <a:ext cx="77760" cy="71280"/>
              <a:chOff x="5130720" y="2001960"/>
              <a:chExt cx="77760" cy="71280"/>
            </a:xfrm>
          </p:grpSpPr>
          <p:sp>
            <p:nvSpPr>
              <p:cNvPr id="6754" name=""/>
              <p:cNvSpPr/>
              <p:nvPr/>
            </p:nvSpPr>
            <p:spPr>
              <a:xfrm>
                <a:off x="5130720" y="2001960"/>
                <a:ext cx="55440" cy="414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5137200" y="2011320"/>
                <a:ext cx="55440" cy="428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5146560" y="2022480"/>
                <a:ext cx="55440" cy="414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5153040" y="2033640"/>
                <a:ext cx="55440" cy="396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5168880" y="2048040"/>
                <a:ext cx="25560" cy="176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9" name=""/>
            <p:cNvSpPr/>
            <p:nvPr/>
          </p:nvSpPr>
          <p:spPr>
            <a:xfrm>
              <a:off x="5072040" y="1876320"/>
              <a:ext cx="95760" cy="93960"/>
            </a:xfrm>
            <a:custGeom>
              <a:avLst/>
              <a:gdLst/>
              <a:ahLst/>
              <a:rect l="0" t="0" r="r" b="b"/>
              <a:pathLst>
                <a:path fill="none" w="266" h="261">
                  <a:moveTo>
                    <a:pt x="0" y="0"/>
                  </a:moveTo>
                  <a:lnTo>
                    <a:pt x="89" y="4"/>
                  </a:lnTo>
                  <a:lnTo>
                    <a:pt x="266" y="261"/>
                  </a:lnTo>
                  <a:lnTo>
                    <a:pt x="186" y="2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5086440" y="1969920"/>
              <a:ext cx="82800" cy="117720"/>
            </a:xfrm>
            <a:custGeom>
              <a:avLst/>
              <a:gdLst/>
              <a:ahLst/>
              <a:rect l="0" t="0" r="r" b="b"/>
              <a:pathLst>
                <a:path fill="none" w="230" h="327">
                  <a:moveTo>
                    <a:pt x="230" y="4"/>
                  </a:moveTo>
                  <a:lnTo>
                    <a:pt x="83" y="327"/>
                  </a:lnTo>
                  <a:lnTo>
                    <a:pt x="0" y="309"/>
                  </a:lnTo>
                  <a:lnTo>
                    <a:pt x="146" y="0"/>
                  </a:lnTo>
                  <a:lnTo>
                    <a:pt x="15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5064120" y="1901880"/>
              <a:ext cx="27360" cy="51120"/>
            </a:xfrm>
            <a:custGeom>
              <a:avLst/>
              <a:gdLst/>
              <a:ahLst/>
              <a:rect l="0" t="0" r="r" b="b"/>
              <a:pathLst>
                <a:path fill="none" w="76" h="142">
                  <a:moveTo>
                    <a:pt x="0" y="70"/>
                  </a:moveTo>
                  <a:lnTo>
                    <a:pt x="31" y="0"/>
                  </a:lnTo>
                  <a:lnTo>
                    <a:pt x="76" y="75"/>
                  </a:lnTo>
                  <a:lnTo>
                    <a:pt x="49" y="142"/>
                  </a:lnTo>
                  <a:lnTo>
                    <a:pt x="0" y="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5091120" y="1940040"/>
              <a:ext cx="28800" cy="52920"/>
            </a:xfrm>
            <a:custGeom>
              <a:avLst/>
              <a:gdLst/>
              <a:ahLst/>
              <a:rect l="0" t="0" r="r" b="b"/>
              <a:pathLst>
                <a:path fill="none" w="80" h="147">
                  <a:moveTo>
                    <a:pt x="0" y="75"/>
                  </a:moveTo>
                  <a:lnTo>
                    <a:pt x="30" y="0"/>
                  </a:lnTo>
                  <a:lnTo>
                    <a:pt x="80" y="80"/>
                  </a:lnTo>
                  <a:lnTo>
                    <a:pt x="53" y="147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5076720" y="1971720"/>
              <a:ext cx="28800" cy="52920"/>
            </a:xfrm>
            <a:custGeom>
              <a:avLst/>
              <a:gdLst/>
              <a:ahLst/>
              <a:rect l="0" t="0" r="r" b="b"/>
              <a:pathLst>
                <a:path fill="none" w="80" h="147">
                  <a:moveTo>
                    <a:pt x="0" y="75"/>
                  </a:moveTo>
                  <a:lnTo>
                    <a:pt x="35" y="0"/>
                  </a:lnTo>
                  <a:lnTo>
                    <a:pt x="80" y="71"/>
                  </a:lnTo>
                  <a:lnTo>
                    <a:pt x="45" y="147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5064120" y="2001960"/>
              <a:ext cx="28800" cy="51120"/>
            </a:xfrm>
            <a:custGeom>
              <a:avLst/>
              <a:gdLst/>
              <a:ahLst/>
              <a:rect l="0" t="0" r="r" b="b"/>
              <a:pathLst>
                <a:path fill="none" w="80" h="142">
                  <a:moveTo>
                    <a:pt x="0" y="75"/>
                  </a:moveTo>
                  <a:lnTo>
                    <a:pt x="35" y="0"/>
                  </a:lnTo>
                  <a:lnTo>
                    <a:pt x="80" y="75"/>
                  </a:lnTo>
                  <a:lnTo>
                    <a:pt x="45" y="142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5037120" y="1967040"/>
              <a:ext cx="32040" cy="47880"/>
            </a:xfrm>
            <a:custGeom>
              <a:avLst/>
              <a:gdLst/>
              <a:ahLst/>
              <a:rect l="0" t="0" r="r" b="b"/>
              <a:pathLst>
                <a:path fill="none" w="89" h="133">
                  <a:moveTo>
                    <a:pt x="0" y="67"/>
                  </a:moveTo>
                  <a:lnTo>
                    <a:pt x="39" y="0"/>
                  </a:lnTo>
                  <a:lnTo>
                    <a:pt x="89" y="67"/>
                  </a:lnTo>
                  <a:lnTo>
                    <a:pt x="49" y="133"/>
                  </a:lnTo>
                  <a:lnTo>
                    <a:pt x="0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4986360" y="1947960"/>
              <a:ext cx="92520" cy="146520"/>
            </a:xfrm>
            <a:custGeom>
              <a:avLst/>
              <a:gdLst/>
              <a:ahLst/>
              <a:rect l="0" t="0" r="r" b="b"/>
              <a:pathLst>
                <a:path fill="none" w="257" h="407">
                  <a:moveTo>
                    <a:pt x="244" y="407"/>
                  </a:moveTo>
                  <a:lnTo>
                    <a:pt x="257" y="128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5191200" y="1925640"/>
              <a:ext cx="87840" cy="146520"/>
            </a:xfrm>
            <a:custGeom>
              <a:avLst/>
              <a:gdLst/>
              <a:ahLst/>
              <a:rect l="0" t="0" r="r" b="b"/>
              <a:pathLst>
                <a:path fill="none" w="244" h="407">
                  <a:moveTo>
                    <a:pt x="244" y="407"/>
                  </a:moveTo>
                  <a:lnTo>
                    <a:pt x="0" y="195"/>
                  </a:lnTo>
                  <a:lnTo>
                    <a:pt x="26" y="0"/>
                  </a:lnTo>
                </a:path>
              </a:pathLst>
            </a:custGeom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5106960" y="1854360"/>
              <a:ext cx="116280" cy="59040"/>
            </a:xfrm>
            <a:custGeom>
              <a:avLst/>
              <a:gdLst/>
              <a:ahLst/>
              <a:rect l="0" t="0" r="r" b="b"/>
              <a:pathLst>
                <a:path fill="none" w="323" h="164">
                  <a:moveTo>
                    <a:pt x="0" y="61"/>
                  </a:moveTo>
                  <a:lnTo>
                    <a:pt x="66" y="17"/>
                  </a:lnTo>
                  <a:lnTo>
                    <a:pt x="128" y="0"/>
                  </a:lnTo>
                  <a:lnTo>
                    <a:pt x="190" y="4"/>
                  </a:lnTo>
                  <a:lnTo>
                    <a:pt x="239" y="39"/>
                  </a:lnTo>
                  <a:lnTo>
                    <a:pt x="257" y="66"/>
                  </a:lnTo>
                  <a:lnTo>
                    <a:pt x="323" y="164"/>
                  </a:lnTo>
                  <a:lnTo>
                    <a:pt x="270" y="124"/>
                  </a:lnTo>
                  <a:lnTo>
                    <a:pt x="199" y="98"/>
                  </a:lnTo>
                  <a:lnTo>
                    <a:pt x="146" y="102"/>
                  </a:lnTo>
                  <a:lnTo>
                    <a:pt x="89" y="137"/>
                  </a:lnTo>
                  <a:lnTo>
                    <a:pt x="52" y="1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9" name=""/>
            <p:cNvGrpSpPr/>
            <p:nvPr/>
          </p:nvGrpSpPr>
          <p:grpSpPr>
            <a:xfrm>
              <a:off x="5176800" y="1933560"/>
              <a:ext cx="50760" cy="48960"/>
              <a:chOff x="5176800" y="1933560"/>
              <a:chExt cx="50760" cy="48960"/>
            </a:xfrm>
          </p:grpSpPr>
          <p:sp>
            <p:nvSpPr>
              <p:cNvPr id="6770" name=""/>
              <p:cNvSpPr/>
              <p:nvPr/>
            </p:nvSpPr>
            <p:spPr>
              <a:xfrm>
                <a:off x="5176800" y="1933560"/>
                <a:ext cx="34920" cy="302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5181480" y="1938240"/>
                <a:ext cx="34920" cy="302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5186520" y="1946160"/>
                <a:ext cx="3492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5192640" y="1954080"/>
                <a:ext cx="3492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5199120" y="1962000"/>
                <a:ext cx="1908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5" name=""/>
            <p:cNvGrpSpPr/>
            <p:nvPr/>
          </p:nvGrpSpPr>
          <p:grpSpPr>
            <a:xfrm>
              <a:off x="5162400" y="1893960"/>
              <a:ext cx="46440" cy="44640"/>
              <a:chOff x="5162400" y="1893960"/>
              <a:chExt cx="46440" cy="44640"/>
            </a:xfrm>
          </p:grpSpPr>
          <p:sp>
            <p:nvSpPr>
              <p:cNvPr id="6776" name=""/>
              <p:cNvSpPr/>
              <p:nvPr/>
            </p:nvSpPr>
            <p:spPr>
              <a:xfrm>
                <a:off x="5162400" y="1893960"/>
                <a:ext cx="3348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5165640" y="1900080"/>
                <a:ext cx="3348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5170320" y="1906560"/>
                <a:ext cx="3348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5175360" y="1913040"/>
                <a:ext cx="3348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5187960" y="1920960"/>
                <a:ext cx="1584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1" name=""/>
            <p:cNvGrpSpPr/>
            <p:nvPr/>
          </p:nvGrpSpPr>
          <p:grpSpPr>
            <a:xfrm>
              <a:off x="5137200" y="1916280"/>
              <a:ext cx="49320" cy="47520"/>
              <a:chOff x="5137200" y="1916280"/>
              <a:chExt cx="49320" cy="47520"/>
            </a:xfrm>
          </p:grpSpPr>
          <p:sp>
            <p:nvSpPr>
              <p:cNvPr id="6782" name=""/>
              <p:cNvSpPr/>
              <p:nvPr/>
            </p:nvSpPr>
            <p:spPr>
              <a:xfrm>
                <a:off x="5137200" y="191628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5141880" y="192420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5146560" y="192888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5151600" y="193680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5159520" y="1943280"/>
                <a:ext cx="15840" cy="1260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7" name=""/>
            <p:cNvGrpSpPr/>
            <p:nvPr/>
          </p:nvGrpSpPr>
          <p:grpSpPr>
            <a:xfrm>
              <a:off x="5167440" y="1979640"/>
              <a:ext cx="48960" cy="47520"/>
              <a:chOff x="5167440" y="1979640"/>
              <a:chExt cx="48960" cy="47520"/>
            </a:xfrm>
          </p:grpSpPr>
          <p:sp>
            <p:nvSpPr>
              <p:cNvPr id="6788" name=""/>
              <p:cNvSpPr/>
              <p:nvPr/>
            </p:nvSpPr>
            <p:spPr>
              <a:xfrm>
                <a:off x="5167440" y="1979640"/>
                <a:ext cx="3636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5172120" y="1987560"/>
                <a:ext cx="3636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5176800" y="1994040"/>
                <a:ext cx="3636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5180040" y="2000160"/>
                <a:ext cx="3636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5189400" y="2006640"/>
                <a:ext cx="1584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93" name=""/>
          <p:cNvSpPr/>
          <p:nvPr/>
        </p:nvSpPr>
        <p:spPr>
          <a:xfrm flipV="1">
            <a:off x="1957320" y="2144880"/>
            <a:ext cx="2978280" cy="1571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4" name="" descr=""/>
          <p:cNvPicPr/>
          <p:nvPr/>
        </p:nvPicPr>
        <p:blipFill>
          <a:blip r:embed="rId8"/>
          <a:stretch/>
        </p:blipFill>
        <p:spPr>
          <a:xfrm>
            <a:off x="7994520" y="5114880"/>
            <a:ext cx="463680" cy="365040"/>
          </a:xfrm>
          <a:prstGeom prst="rect">
            <a:avLst/>
          </a:prstGeom>
          <a:ln w="0">
            <a:noFill/>
          </a:ln>
        </p:spPr>
      </p:pic>
      <p:sp>
        <p:nvSpPr>
          <p:cNvPr id="6795" name=""/>
          <p:cNvSpPr txBox="1"/>
          <p:nvPr/>
        </p:nvSpPr>
        <p:spPr>
          <a:xfrm>
            <a:off x="8464680" y="5221440"/>
            <a:ext cx="2890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 txBox="1"/>
          <p:nvPr/>
        </p:nvSpPr>
        <p:spPr>
          <a:xfrm>
            <a:off x="7051680" y="4815000"/>
            <a:ext cx="614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-Theat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j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 txBox="1"/>
          <p:nvPr/>
        </p:nvSpPr>
        <p:spPr>
          <a:xfrm>
            <a:off x="6996240" y="6211800"/>
            <a:ext cx="995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at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 txBox="1"/>
          <p:nvPr/>
        </p:nvSpPr>
        <p:spPr>
          <a:xfrm>
            <a:off x="6053040" y="5651640"/>
            <a:ext cx="219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V="1">
            <a:off x="5481720" y="57960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 txBox="1"/>
          <p:nvPr/>
        </p:nvSpPr>
        <p:spPr>
          <a:xfrm>
            <a:off x="8556480" y="5942160"/>
            <a:ext cx="3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 txBox="1"/>
          <p:nvPr/>
        </p:nvSpPr>
        <p:spPr>
          <a:xfrm>
            <a:off x="8337600" y="4764240"/>
            <a:ext cx="5508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 flipV="1">
            <a:off x="5318280" y="2286000"/>
            <a:ext cx="1398600" cy="2473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 txBox="1"/>
          <p:nvPr/>
        </p:nvSpPr>
        <p:spPr>
          <a:xfrm>
            <a:off x="749160" y="2013120"/>
            <a:ext cx="1446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tellite Control Fac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4" name=""/>
          <p:cNvGrpSpPr/>
          <p:nvPr/>
        </p:nvGrpSpPr>
        <p:grpSpPr>
          <a:xfrm>
            <a:off x="792000" y="2217600"/>
            <a:ext cx="1360440" cy="446040"/>
            <a:chOff x="792000" y="2217600"/>
            <a:chExt cx="1360440" cy="446040"/>
          </a:xfrm>
        </p:grpSpPr>
        <p:pic>
          <p:nvPicPr>
            <p:cNvPr id="6805" name="" descr=""/>
            <p:cNvPicPr/>
            <p:nvPr/>
          </p:nvPicPr>
          <p:blipFill>
            <a:blip r:embed="rId9"/>
            <a:stretch/>
          </p:blipFill>
          <p:spPr>
            <a:xfrm>
              <a:off x="792000" y="2244600"/>
              <a:ext cx="9334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6" name="" descr=""/>
            <p:cNvPicPr/>
            <p:nvPr/>
          </p:nvPicPr>
          <p:blipFill>
            <a:blip r:embed="rId10"/>
            <a:stretch/>
          </p:blipFill>
          <p:spPr>
            <a:xfrm>
              <a:off x="1844640" y="2217600"/>
              <a:ext cx="30780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07" name=""/>
          <p:cNvSpPr/>
          <p:nvPr/>
        </p:nvSpPr>
        <p:spPr>
          <a:xfrm flipV="1">
            <a:off x="2209680" y="2027160"/>
            <a:ext cx="2278080" cy="266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578560" y="6469200"/>
            <a:ext cx="3054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 flipV="1">
            <a:off x="5402160" y="6340320"/>
            <a:ext cx="138240" cy="25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 flipV="1">
            <a:off x="5500800" y="6340320"/>
            <a:ext cx="137880" cy="25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 txBox="1"/>
          <p:nvPr/>
        </p:nvSpPr>
        <p:spPr>
          <a:xfrm>
            <a:off x="6083280" y="6507000"/>
            <a:ext cx="19684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loyable Comm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2" name=""/>
          <p:cNvGrpSpPr/>
          <p:nvPr/>
        </p:nvGrpSpPr>
        <p:grpSpPr>
          <a:xfrm>
            <a:off x="6726240" y="4776840"/>
            <a:ext cx="290880" cy="383040"/>
            <a:chOff x="6726240" y="4776840"/>
            <a:chExt cx="290880" cy="383040"/>
          </a:xfrm>
        </p:grpSpPr>
        <p:sp>
          <p:nvSpPr>
            <p:cNvPr id="6813" name=""/>
            <p:cNvSpPr/>
            <p:nvPr/>
          </p:nvSpPr>
          <p:spPr>
            <a:xfrm>
              <a:off x="6856560" y="4905360"/>
              <a:ext cx="160560" cy="254520"/>
            </a:xfrm>
            <a:custGeom>
              <a:avLst/>
              <a:gdLst/>
              <a:ahLst/>
              <a:rect l="0" t="0" r="r" b="b"/>
              <a:pathLst>
                <a:path fill="none" w="446" h="707">
                  <a:moveTo>
                    <a:pt x="0" y="707"/>
                  </a:moveTo>
                  <a:lnTo>
                    <a:pt x="446" y="707"/>
                  </a:lnTo>
                  <a:lnTo>
                    <a:pt x="222" y="0"/>
                  </a:lnTo>
                  <a:lnTo>
                    <a:pt x="0" y="70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4" name=""/>
            <p:cNvGrpSpPr/>
            <p:nvPr/>
          </p:nvGrpSpPr>
          <p:grpSpPr>
            <a:xfrm>
              <a:off x="6807240" y="4776840"/>
              <a:ext cx="176400" cy="273240"/>
              <a:chOff x="6807240" y="4776840"/>
              <a:chExt cx="176400" cy="273240"/>
            </a:xfrm>
          </p:grpSpPr>
          <p:sp>
            <p:nvSpPr>
              <p:cNvPr id="6815" name=""/>
              <p:cNvSpPr/>
              <p:nvPr/>
            </p:nvSpPr>
            <p:spPr>
              <a:xfrm>
                <a:off x="6807240" y="4778280"/>
                <a:ext cx="176400" cy="271800"/>
              </a:xfrm>
              <a:custGeom>
                <a:avLst/>
                <a:gdLst/>
                <a:ahLst/>
                <a:rect l="0" t="0" r="r" b="b"/>
                <a:pathLst>
                  <a:path fill="none" w="490" h="755">
                    <a:moveTo>
                      <a:pt x="475" y="23"/>
                    </a:moveTo>
                    <a:lnTo>
                      <a:pt x="478" y="47"/>
                    </a:lnTo>
                    <a:lnTo>
                      <a:pt x="484" y="76"/>
                    </a:lnTo>
                    <a:lnTo>
                      <a:pt x="490" y="103"/>
                    </a:lnTo>
                    <a:lnTo>
                      <a:pt x="490" y="133"/>
                    </a:lnTo>
                    <a:lnTo>
                      <a:pt x="484" y="171"/>
                    </a:lnTo>
                    <a:lnTo>
                      <a:pt x="475" y="218"/>
                    </a:lnTo>
                    <a:lnTo>
                      <a:pt x="463" y="275"/>
                    </a:lnTo>
                    <a:lnTo>
                      <a:pt x="445" y="331"/>
                    </a:lnTo>
                    <a:lnTo>
                      <a:pt x="420" y="394"/>
                    </a:lnTo>
                    <a:lnTo>
                      <a:pt x="375" y="462"/>
                    </a:lnTo>
                    <a:lnTo>
                      <a:pt x="327" y="530"/>
                    </a:lnTo>
                    <a:lnTo>
                      <a:pt x="288" y="574"/>
                    </a:lnTo>
                    <a:lnTo>
                      <a:pt x="238" y="621"/>
                    </a:lnTo>
                    <a:lnTo>
                      <a:pt x="184" y="666"/>
                    </a:lnTo>
                    <a:lnTo>
                      <a:pt x="142" y="701"/>
                    </a:lnTo>
                    <a:lnTo>
                      <a:pt x="96" y="725"/>
                    </a:lnTo>
                    <a:lnTo>
                      <a:pt x="63" y="740"/>
                    </a:lnTo>
                    <a:lnTo>
                      <a:pt x="39" y="755"/>
                    </a:lnTo>
                    <a:lnTo>
                      <a:pt x="15" y="755"/>
                    </a:lnTo>
                    <a:lnTo>
                      <a:pt x="0" y="743"/>
                    </a:lnTo>
                    <a:lnTo>
                      <a:pt x="454" y="0"/>
                    </a:lnTo>
                    <a:lnTo>
                      <a:pt x="475" y="2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6807240" y="4776840"/>
                <a:ext cx="165600" cy="268560"/>
              </a:xfrm>
              <a:custGeom>
                <a:avLst/>
                <a:gdLst/>
                <a:ahLst/>
                <a:rect l="0" t="0" r="r" b="b"/>
                <a:pathLst>
                  <a:path fill="none" w="460" h="746">
                    <a:moveTo>
                      <a:pt x="454" y="0"/>
                    </a:moveTo>
                    <a:lnTo>
                      <a:pt x="460" y="11"/>
                    </a:lnTo>
                    <a:lnTo>
                      <a:pt x="460" y="47"/>
                    </a:lnTo>
                    <a:lnTo>
                      <a:pt x="460" y="88"/>
                    </a:lnTo>
                    <a:lnTo>
                      <a:pt x="454" y="115"/>
                    </a:lnTo>
                    <a:lnTo>
                      <a:pt x="451" y="153"/>
                    </a:lnTo>
                    <a:lnTo>
                      <a:pt x="439" y="204"/>
                    </a:lnTo>
                    <a:lnTo>
                      <a:pt x="430" y="254"/>
                    </a:lnTo>
                    <a:lnTo>
                      <a:pt x="409" y="316"/>
                    </a:lnTo>
                    <a:lnTo>
                      <a:pt x="376" y="388"/>
                    </a:lnTo>
                    <a:lnTo>
                      <a:pt x="332" y="444"/>
                    </a:lnTo>
                    <a:lnTo>
                      <a:pt x="287" y="506"/>
                    </a:lnTo>
                    <a:lnTo>
                      <a:pt x="248" y="556"/>
                    </a:lnTo>
                    <a:lnTo>
                      <a:pt x="221" y="586"/>
                    </a:lnTo>
                    <a:lnTo>
                      <a:pt x="191" y="616"/>
                    </a:lnTo>
                    <a:lnTo>
                      <a:pt x="160" y="642"/>
                    </a:lnTo>
                    <a:lnTo>
                      <a:pt x="127" y="675"/>
                    </a:lnTo>
                    <a:lnTo>
                      <a:pt x="96" y="695"/>
                    </a:lnTo>
                    <a:lnTo>
                      <a:pt x="69" y="713"/>
                    </a:lnTo>
                    <a:lnTo>
                      <a:pt x="45" y="728"/>
                    </a:lnTo>
                    <a:lnTo>
                      <a:pt x="18" y="743"/>
                    </a:lnTo>
                    <a:lnTo>
                      <a:pt x="6" y="746"/>
                    </a:lnTo>
                    <a:lnTo>
                      <a:pt x="0" y="734"/>
                    </a:lnTo>
                    <a:lnTo>
                      <a:pt x="0" y="719"/>
                    </a:lnTo>
                    <a:lnTo>
                      <a:pt x="6" y="704"/>
                    </a:lnTo>
                    <a:lnTo>
                      <a:pt x="9" y="669"/>
                    </a:lnTo>
                    <a:lnTo>
                      <a:pt x="18" y="630"/>
                    </a:lnTo>
                    <a:lnTo>
                      <a:pt x="24" y="592"/>
                    </a:lnTo>
                    <a:lnTo>
                      <a:pt x="39" y="548"/>
                    </a:lnTo>
                    <a:lnTo>
                      <a:pt x="54" y="500"/>
                    </a:lnTo>
                    <a:lnTo>
                      <a:pt x="69" y="465"/>
                    </a:lnTo>
                    <a:lnTo>
                      <a:pt x="84" y="429"/>
                    </a:lnTo>
                    <a:lnTo>
                      <a:pt x="102" y="391"/>
                    </a:lnTo>
                    <a:lnTo>
                      <a:pt x="127" y="348"/>
                    </a:lnTo>
                    <a:lnTo>
                      <a:pt x="151" y="310"/>
                    </a:lnTo>
                    <a:lnTo>
                      <a:pt x="191" y="257"/>
                    </a:lnTo>
                    <a:lnTo>
                      <a:pt x="221" y="221"/>
                    </a:lnTo>
                    <a:lnTo>
                      <a:pt x="260" y="174"/>
                    </a:lnTo>
                    <a:lnTo>
                      <a:pt x="299" y="136"/>
                    </a:lnTo>
                    <a:lnTo>
                      <a:pt x="332" y="103"/>
                    </a:lnTo>
                    <a:lnTo>
                      <a:pt x="367" y="70"/>
                    </a:lnTo>
                    <a:lnTo>
                      <a:pt x="397" y="41"/>
                    </a:lnTo>
                    <a:lnTo>
                      <a:pt x="415" y="23"/>
                    </a:lnTo>
                    <a:lnTo>
                      <a:pt x="439" y="8"/>
                    </a:lnTo>
                    <a:lnTo>
                      <a:pt x="454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7" name=""/>
            <p:cNvSpPr/>
            <p:nvPr/>
          </p:nvSpPr>
          <p:spPr>
            <a:xfrm>
              <a:off x="6797520" y="4782960"/>
              <a:ext cx="51120" cy="184680"/>
            </a:xfrm>
            <a:custGeom>
              <a:avLst/>
              <a:gdLst/>
              <a:ahLst/>
              <a:rect l="0" t="0" r="r" b="b"/>
              <a:pathLst>
                <a:path fill="none" w="142" h="513">
                  <a:moveTo>
                    <a:pt x="142" y="513"/>
                  </a:moveTo>
                  <a:lnTo>
                    <a:pt x="0" y="513"/>
                  </a:lnTo>
                  <a:lnTo>
                    <a:pt x="70" y="0"/>
                  </a:lnTo>
                  <a:lnTo>
                    <a:pt x="142" y="5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6726240" y="4819680"/>
              <a:ext cx="63360" cy="2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9" name=""/>
          <p:cNvSpPr/>
          <p:nvPr/>
        </p:nvSpPr>
        <p:spPr>
          <a:xfrm>
            <a:off x="200160" y="1793880"/>
            <a:ext cx="2343600" cy="3177000"/>
          </a:xfrm>
          <a:custGeom>
            <a:avLst/>
            <a:gdLst/>
            <a:ahLst/>
            <a:rect l="0" t="0" r="r" b="b"/>
            <a:pathLst>
              <a:path fill="none" w="6510" h="8825">
                <a:moveTo>
                  <a:pt x="6510" y="0"/>
                </a:moveTo>
                <a:lnTo>
                  <a:pt x="6510" y="8825"/>
                </a:lnTo>
                <a:lnTo>
                  <a:pt x="0" y="6903"/>
                </a:lnTo>
                <a:lnTo>
                  <a:pt x="3092" y="6903"/>
                </a:lnTo>
                <a:lnTo>
                  <a:pt x="3092" y="4785"/>
                </a:lnTo>
                <a:lnTo>
                  <a:pt x="0" y="4785"/>
                </a:lnTo>
                <a:lnTo>
                  <a:pt x="6510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187200" y="3517920"/>
            <a:ext cx="1112760" cy="76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 txBox="1"/>
          <p:nvPr/>
        </p:nvSpPr>
        <p:spPr>
          <a:xfrm>
            <a:off x="587520" y="3551400"/>
            <a:ext cx="2826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2" name="" descr=""/>
          <p:cNvPicPr/>
          <p:nvPr/>
        </p:nvPicPr>
        <p:blipFill>
          <a:blip r:embed="rId11"/>
          <a:stretch/>
        </p:blipFill>
        <p:spPr>
          <a:xfrm>
            <a:off x="262080" y="3768840"/>
            <a:ext cx="933480" cy="419040"/>
          </a:xfrm>
          <a:prstGeom prst="rect">
            <a:avLst/>
          </a:prstGeom>
          <a:ln w="0">
            <a:noFill/>
          </a:ln>
        </p:spPr>
      </p:pic>
      <p:sp>
        <p:nvSpPr>
          <p:cNvPr id="6823" name=""/>
          <p:cNvSpPr txBox="1"/>
          <p:nvPr/>
        </p:nvSpPr>
        <p:spPr>
          <a:xfrm>
            <a:off x="5900760" y="5651640"/>
            <a:ext cx="219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4" name="" descr=""/>
          <p:cNvPicPr/>
          <p:nvPr/>
        </p:nvPicPr>
        <p:blipFill>
          <a:blip r:embed="rId12"/>
          <a:stretch/>
        </p:blipFill>
        <p:spPr>
          <a:xfrm>
            <a:off x="5135400" y="5361120"/>
            <a:ext cx="673200" cy="476280"/>
          </a:xfrm>
          <a:prstGeom prst="rect">
            <a:avLst/>
          </a:prstGeom>
          <a:ln w="0">
            <a:noFill/>
          </a:ln>
        </p:spPr>
      </p:pic>
      <p:sp>
        <p:nvSpPr>
          <p:cNvPr id="6825" name=""/>
          <p:cNvSpPr/>
          <p:nvPr/>
        </p:nvSpPr>
        <p:spPr>
          <a:xfrm>
            <a:off x="2556000" y="1805040"/>
            <a:ext cx="5286600" cy="4069080"/>
          </a:xfrm>
          <a:custGeom>
            <a:avLst/>
            <a:gdLst/>
            <a:ahLst/>
            <a:rect l="0" t="0" r="r" b="b"/>
            <a:pathLst>
              <a:path fill="none" w="14685" h="11303">
                <a:moveTo>
                  <a:pt x="0" y="8763"/>
                </a:moveTo>
                <a:lnTo>
                  <a:pt x="11660" y="8763"/>
                </a:lnTo>
                <a:lnTo>
                  <a:pt x="11660" y="0"/>
                </a:lnTo>
                <a:lnTo>
                  <a:pt x="14685" y="9477"/>
                </a:lnTo>
                <a:lnTo>
                  <a:pt x="10712" y="9477"/>
                </a:lnTo>
                <a:lnTo>
                  <a:pt x="10712" y="11303"/>
                </a:lnTo>
                <a:lnTo>
                  <a:pt x="0" y="8763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6413400" y="5216400"/>
            <a:ext cx="1417680" cy="64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 txBox="1"/>
          <p:nvPr/>
        </p:nvSpPr>
        <p:spPr>
          <a:xfrm>
            <a:off x="2543040" y="1782720"/>
            <a:ext cx="4197240" cy="3164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tion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ssemble Uplink Data St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roadcast Schedule / Program 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ransmission / Retransmission / Error Handl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 User Requests (Pull, “Missed” Files, etc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ayload Control / Antenna Beam Poin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Queuing / Archiv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rypto / Rekey / Terminal Compromise Recove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fac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ISN / DI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nformation / Data 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heater Information Manager (TI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njector Termin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atellite Mission Control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 txBox="1"/>
          <p:nvPr/>
        </p:nvSpPr>
        <p:spPr>
          <a:xfrm>
            <a:off x="7348680" y="5446800"/>
            <a:ext cx="2826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9" name="" descr=""/>
          <p:cNvPicPr/>
          <p:nvPr/>
        </p:nvPicPr>
        <p:blipFill>
          <a:blip r:embed="rId13"/>
          <a:stretch/>
        </p:blipFill>
        <p:spPr>
          <a:xfrm>
            <a:off x="6588000" y="5257800"/>
            <a:ext cx="673200" cy="476280"/>
          </a:xfrm>
          <a:prstGeom prst="rect">
            <a:avLst/>
          </a:prstGeom>
          <a:ln w="0">
            <a:noFill/>
          </a:ln>
        </p:spPr>
      </p:pic>
      <p:sp>
        <p:nvSpPr>
          <p:cNvPr id="6830" name=""/>
          <p:cNvSpPr/>
          <p:nvPr/>
        </p:nvSpPr>
        <p:spPr>
          <a:xfrm flipH="1">
            <a:off x="1279440" y="1808280"/>
            <a:ext cx="1287720" cy="1704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 flipH="1" flipV="1">
            <a:off x="1279440" y="4297320"/>
            <a:ext cx="1287720" cy="60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2549520" y="4950000"/>
            <a:ext cx="3876840" cy="284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694560" y="1808280"/>
            <a:ext cx="1136520" cy="340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4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Receive Broadcas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101520" y="1434960"/>
            <a:ext cx="8915400" cy="5283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2158920" y="5013360"/>
            <a:ext cx="0" cy="49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3187800" y="3911760"/>
            <a:ext cx="5702400" cy="15368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3462480" y="4280040"/>
            <a:ext cx="18543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6578640" y="4508640"/>
            <a:ext cx="1854360" cy="6350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304920" y="5016600"/>
            <a:ext cx="261612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2692440" y="6469200"/>
            <a:ext cx="27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2692440" y="501660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>
            <a:off x="915840" y="5013360"/>
            <a:ext cx="1800" cy="9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flipV="1">
            <a:off x="728640" y="4114800"/>
            <a:ext cx="1440" cy="89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 txBox="1"/>
          <p:nvPr/>
        </p:nvSpPr>
        <p:spPr>
          <a:xfrm>
            <a:off x="1130400" y="4811760"/>
            <a:ext cx="5716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N / D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6" name=""/>
          <p:cNvGrpSpPr/>
          <p:nvPr/>
        </p:nvGrpSpPr>
        <p:grpSpPr>
          <a:xfrm>
            <a:off x="2754360" y="6461280"/>
            <a:ext cx="2455920" cy="244440"/>
            <a:chOff x="2754360" y="6461280"/>
            <a:chExt cx="2455920" cy="244440"/>
          </a:xfrm>
        </p:grpSpPr>
        <p:sp>
          <p:nvSpPr>
            <p:cNvPr id="6847" name=""/>
            <p:cNvSpPr/>
            <p:nvPr/>
          </p:nvSpPr>
          <p:spPr>
            <a:xfrm flipH="1">
              <a:off x="2754360" y="6575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 txBox="1"/>
            <p:nvPr/>
          </p:nvSpPr>
          <p:spPr>
            <a:xfrm>
              <a:off x="3127320" y="6461280"/>
              <a:ext cx="208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Pull (Any Available Medi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9" name=""/>
          <p:cNvSpPr/>
          <p:nvPr/>
        </p:nvSpPr>
        <p:spPr>
          <a:xfrm flipH="1">
            <a:off x="4930920" y="5997600"/>
            <a:ext cx="2315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>
            <a:off x="6940440" y="5099040"/>
            <a:ext cx="1800" cy="88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1" name=""/>
          <p:cNvGrpSpPr/>
          <p:nvPr/>
        </p:nvGrpSpPr>
        <p:grpSpPr>
          <a:xfrm>
            <a:off x="8053560" y="4670280"/>
            <a:ext cx="231840" cy="311400"/>
            <a:chOff x="8053560" y="4670280"/>
            <a:chExt cx="231840" cy="311400"/>
          </a:xfrm>
        </p:grpSpPr>
        <p:sp>
          <p:nvSpPr>
            <p:cNvPr id="6852" name=""/>
            <p:cNvSpPr/>
            <p:nvPr/>
          </p:nvSpPr>
          <p:spPr>
            <a:xfrm>
              <a:off x="8156520" y="4775040"/>
              <a:ext cx="128880" cy="206640"/>
            </a:xfrm>
            <a:custGeom>
              <a:avLst/>
              <a:gdLst/>
              <a:ahLst/>
              <a:rect l="0" t="0" r="r" b="b"/>
              <a:pathLst>
                <a:path fill="none" w="358" h="574">
                  <a:moveTo>
                    <a:pt x="0" y="574"/>
                  </a:moveTo>
                  <a:lnTo>
                    <a:pt x="358" y="574"/>
                  </a:lnTo>
                  <a:lnTo>
                    <a:pt x="178" y="0"/>
                  </a:lnTo>
                  <a:lnTo>
                    <a:pt x="0" y="5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3" name=""/>
            <p:cNvGrpSpPr/>
            <p:nvPr/>
          </p:nvGrpSpPr>
          <p:grpSpPr>
            <a:xfrm>
              <a:off x="8118360" y="4670280"/>
              <a:ext cx="140040" cy="222840"/>
              <a:chOff x="8118360" y="4670280"/>
              <a:chExt cx="140040" cy="222840"/>
            </a:xfrm>
          </p:grpSpPr>
          <p:sp>
            <p:nvSpPr>
              <p:cNvPr id="6854" name=""/>
              <p:cNvSpPr/>
              <p:nvPr/>
            </p:nvSpPr>
            <p:spPr>
              <a:xfrm>
                <a:off x="8118360" y="4672080"/>
                <a:ext cx="140040" cy="221040"/>
              </a:xfrm>
              <a:custGeom>
                <a:avLst/>
                <a:gdLst/>
                <a:ahLst/>
                <a:rect l="0" t="0" r="r" b="b"/>
                <a:pathLst>
                  <a:path fill="none" w="389" h="614">
                    <a:moveTo>
                      <a:pt x="377" y="19"/>
                    </a:moveTo>
                    <a:lnTo>
                      <a:pt x="379" y="38"/>
                    </a:lnTo>
                    <a:lnTo>
                      <a:pt x="384" y="62"/>
                    </a:lnTo>
                    <a:lnTo>
                      <a:pt x="389" y="84"/>
                    </a:lnTo>
                    <a:lnTo>
                      <a:pt x="389" y="108"/>
                    </a:lnTo>
                    <a:lnTo>
                      <a:pt x="384" y="139"/>
                    </a:lnTo>
                    <a:lnTo>
                      <a:pt x="377" y="178"/>
                    </a:lnTo>
                    <a:lnTo>
                      <a:pt x="367" y="224"/>
                    </a:lnTo>
                    <a:lnTo>
                      <a:pt x="353" y="270"/>
                    </a:lnTo>
                    <a:lnTo>
                      <a:pt x="333" y="320"/>
                    </a:lnTo>
                    <a:lnTo>
                      <a:pt x="298" y="375"/>
                    </a:lnTo>
                    <a:lnTo>
                      <a:pt x="259" y="431"/>
                    </a:lnTo>
                    <a:lnTo>
                      <a:pt x="228" y="468"/>
                    </a:lnTo>
                    <a:lnTo>
                      <a:pt x="189" y="506"/>
                    </a:lnTo>
                    <a:lnTo>
                      <a:pt x="146" y="542"/>
                    </a:lnTo>
                    <a:lnTo>
                      <a:pt x="112" y="571"/>
                    </a:lnTo>
                    <a:lnTo>
                      <a:pt x="76" y="590"/>
                    </a:lnTo>
                    <a:lnTo>
                      <a:pt x="50" y="602"/>
                    </a:lnTo>
                    <a:lnTo>
                      <a:pt x="31" y="614"/>
                    </a:lnTo>
                    <a:lnTo>
                      <a:pt x="11" y="614"/>
                    </a:lnTo>
                    <a:lnTo>
                      <a:pt x="0" y="605"/>
                    </a:lnTo>
                    <a:lnTo>
                      <a:pt x="360" y="0"/>
                    </a:lnTo>
                    <a:lnTo>
                      <a:pt x="377" y="1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8118360" y="4670280"/>
                <a:ext cx="132120" cy="219600"/>
              </a:xfrm>
              <a:custGeom>
                <a:avLst/>
                <a:gdLst/>
                <a:ahLst/>
                <a:rect l="0" t="0" r="r" b="b"/>
                <a:pathLst>
                  <a:path fill="none" w="367" h="610">
                    <a:moveTo>
                      <a:pt x="362" y="0"/>
                    </a:moveTo>
                    <a:lnTo>
                      <a:pt x="367" y="9"/>
                    </a:lnTo>
                    <a:lnTo>
                      <a:pt x="367" y="38"/>
                    </a:lnTo>
                    <a:lnTo>
                      <a:pt x="367" y="72"/>
                    </a:lnTo>
                    <a:lnTo>
                      <a:pt x="362" y="94"/>
                    </a:lnTo>
                    <a:lnTo>
                      <a:pt x="359" y="125"/>
                    </a:lnTo>
                    <a:lnTo>
                      <a:pt x="350" y="167"/>
                    </a:lnTo>
                    <a:lnTo>
                      <a:pt x="342" y="208"/>
                    </a:lnTo>
                    <a:lnTo>
                      <a:pt x="326" y="259"/>
                    </a:lnTo>
                    <a:lnTo>
                      <a:pt x="299" y="317"/>
                    </a:lnTo>
                    <a:lnTo>
                      <a:pt x="265" y="363"/>
                    </a:lnTo>
                    <a:lnTo>
                      <a:pt x="229" y="413"/>
                    </a:lnTo>
                    <a:lnTo>
                      <a:pt x="198" y="454"/>
                    </a:lnTo>
                    <a:lnTo>
                      <a:pt x="175" y="480"/>
                    </a:lnTo>
                    <a:lnTo>
                      <a:pt x="151" y="504"/>
                    </a:lnTo>
                    <a:lnTo>
                      <a:pt x="127" y="526"/>
                    </a:lnTo>
                    <a:lnTo>
                      <a:pt x="101" y="552"/>
                    </a:lnTo>
                    <a:lnTo>
                      <a:pt x="77" y="569"/>
                    </a:lnTo>
                    <a:lnTo>
                      <a:pt x="55" y="583"/>
                    </a:lnTo>
                    <a:lnTo>
                      <a:pt x="36" y="596"/>
                    </a:lnTo>
                    <a:lnTo>
                      <a:pt x="14" y="608"/>
                    </a:lnTo>
                    <a:lnTo>
                      <a:pt x="4" y="610"/>
                    </a:lnTo>
                    <a:lnTo>
                      <a:pt x="0" y="600"/>
                    </a:lnTo>
                    <a:lnTo>
                      <a:pt x="0" y="588"/>
                    </a:lnTo>
                    <a:lnTo>
                      <a:pt x="4" y="576"/>
                    </a:lnTo>
                    <a:lnTo>
                      <a:pt x="7" y="547"/>
                    </a:lnTo>
                    <a:lnTo>
                      <a:pt x="14" y="516"/>
                    </a:lnTo>
                    <a:lnTo>
                      <a:pt x="19" y="484"/>
                    </a:lnTo>
                    <a:lnTo>
                      <a:pt x="31" y="447"/>
                    </a:lnTo>
                    <a:lnTo>
                      <a:pt x="43" y="409"/>
                    </a:lnTo>
                    <a:lnTo>
                      <a:pt x="55" y="380"/>
                    </a:lnTo>
                    <a:lnTo>
                      <a:pt x="67" y="351"/>
                    </a:lnTo>
                    <a:lnTo>
                      <a:pt x="81" y="319"/>
                    </a:lnTo>
                    <a:lnTo>
                      <a:pt x="101" y="285"/>
                    </a:lnTo>
                    <a:lnTo>
                      <a:pt x="120" y="254"/>
                    </a:lnTo>
                    <a:lnTo>
                      <a:pt x="151" y="211"/>
                    </a:lnTo>
                    <a:lnTo>
                      <a:pt x="175" y="182"/>
                    </a:lnTo>
                    <a:lnTo>
                      <a:pt x="208" y="142"/>
                    </a:lnTo>
                    <a:lnTo>
                      <a:pt x="239" y="111"/>
                    </a:lnTo>
                    <a:lnTo>
                      <a:pt x="265" y="84"/>
                    </a:lnTo>
                    <a:lnTo>
                      <a:pt x="292" y="57"/>
                    </a:lnTo>
                    <a:lnTo>
                      <a:pt x="316" y="33"/>
                    </a:lnTo>
                    <a:lnTo>
                      <a:pt x="330" y="19"/>
                    </a:lnTo>
                    <a:lnTo>
                      <a:pt x="350" y="7"/>
                    </a:lnTo>
                    <a:lnTo>
                      <a:pt x="36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6" name=""/>
            <p:cNvSpPr/>
            <p:nvPr/>
          </p:nvSpPr>
          <p:spPr>
            <a:xfrm>
              <a:off x="8110440" y="4675320"/>
              <a:ext cx="41760" cy="151200"/>
            </a:xfrm>
            <a:custGeom>
              <a:avLst/>
              <a:gdLst/>
              <a:ahLst/>
              <a:rect l="0" t="0" r="r" b="b"/>
              <a:pathLst>
                <a:path fill="none" w="116" h="420">
                  <a:moveTo>
                    <a:pt x="116" y="420"/>
                  </a:moveTo>
                  <a:lnTo>
                    <a:pt x="0" y="420"/>
                  </a:lnTo>
                  <a:lnTo>
                    <a:pt x="58" y="0"/>
                  </a:lnTo>
                  <a:lnTo>
                    <a:pt x="116" y="4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8053560" y="4705200"/>
              <a:ext cx="5076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8" name=""/>
          <p:cNvSpPr/>
          <p:nvPr/>
        </p:nvSpPr>
        <p:spPr>
          <a:xfrm>
            <a:off x="8234280" y="49831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>
            <a:off x="7894800" y="5703840"/>
            <a:ext cx="7365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flipH="1">
            <a:off x="8327880" y="5705640"/>
            <a:ext cx="3240" cy="76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>
            <a:off x="6497640" y="5994360"/>
            <a:ext cx="144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 txBox="1"/>
          <p:nvPr/>
        </p:nvSpPr>
        <p:spPr>
          <a:xfrm>
            <a:off x="4892760" y="1616040"/>
            <a:ext cx="401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FO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3" name="" descr=""/>
          <p:cNvPicPr/>
          <p:nvPr/>
        </p:nvPicPr>
        <p:blipFill>
          <a:blip r:embed="rId1"/>
          <a:stretch/>
        </p:blipFill>
        <p:spPr>
          <a:xfrm>
            <a:off x="6534000" y="4067280"/>
            <a:ext cx="1049400" cy="243000"/>
          </a:xfrm>
          <a:prstGeom prst="rect">
            <a:avLst/>
          </a:prstGeom>
          <a:ln w="0">
            <a:noFill/>
          </a:ln>
        </p:spPr>
      </p:pic>
      <p:pic>
        <p:nvPicPr>
          <p:cNvPr id="6864" name="" descr=""/>
          <p:cNvPicPr/>
          <p:nvPr/>
        </p:nvPicPr>
        <p:blipFill>
          <a:blip r:embed="rId2"/>
          <a:stretch/>
        </p:blipFill>
        <p:spPr>
          <a:xfrm>
            <a:off x="8097840" y="5942160"/>
            <a:ext cx="463680" cy="365040"/>
          </a:xfrm>
          <a:prstGeom prst="rect">
            <a:avLst/>
          </a:prstGeom>
          <a:ln w="0">
            <a:noFill/>
          </a:ln>
        </p:spPr>
      </p:pic>
      <p:sp>
        <p:nvSpPr>
          <p:cNvPr id="6865" name=""/>
          <p:cNvSpPr txBox="1"/>
          <p:nvPr/>
        </p:nvSpPr>
        <p:spPr>
          <a:xfrm>
            <a:off x="587520" y="3551400"/>
            <a:ext cx="2826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 txBox="1"/>
          <p:nvPr/>
        </p:nvSpPr>
        <p:spPr>
          <a:xfrm>
            <a:off x="1677960" y="4265640"/>
            <a:ext cx="4586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j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7" name=""/>
          <p:cNvGrpSpPr/>
          <p:nvPr/>
        </p:nvGrpSpPr>
        <p:grpSpPr>
          <a:xfrm>
            <a:off x="5346720" y="4738680"/>
            <a:ext cx="1143360" cy="515880"/>
            <a:chOff x="5346720" y="4738680"/>
            <a:chExt cx="1143360" cy="515880"/>
          </a:xfrm>
        </p:grpSpPr>
        <p:grpSp>
          <p:nvGrpSpPr>
            <p:cNvPr id="6868" name=""/>
            <p:cNvGrpSpPr/>
            <p:nvPr/>
          </p:nvGrpSpPr>
          <p:grpSpPr>
            <a:xfrm>
              <a:off x="5357880" y="4748040"/>
              <a:ext cx="1132200" cy="505440"/>
              <a:chOff x="5357880" y="4748040"/>
              <a:chExt cx="1132200" cy="505440"/>
            </a:xfrm>
          </p:grpSpPr>
          <p:sp>
            <p:nvSpPr>
              <p:cNvPr id="6869" name=""/>
              <p:cNvSpPr/>
              <p:nvPr/>
            </p:nvSpPr>
            <p:spPr>
              <a:xfrm>
                <a:off x="5513400" y="5145120"/>
                <a:ext cx="722520" cy="90720"/>
              </a:xfrm>
              <a:custGeom>
                <a:avLst/>
                <a:gdLst/>
                <a:ahLst/>
                <a:rect l="0" t="0" r="r" b="b"/>
                <a:pathLst>
                  <a:path fill="none" w="2007" h="252">
                    <a:moveTo>
                      <a:pt x="0" y="71"/>
                    </a:moveTo>
                    <a:lnTo>
                      <a:pt x="61" y="37"/>
                    </a:lnTo>
                    <a:lnTo>
                      <a:pt x="85" y="33"/>
                    </a:lnTo>
                    <a:lnTo>
                      <a:pt x="123" y="23"/>
                    </a:lnTo>
                    <a:lnTo>
                      <a:pt x="194" y="33"/>
                    </a:lnTo>
                    <a:lnTo>
                      <a:pt x="247" y="42"/>
                    </a:lnTo>
                    <a:lnTo>
                      <a:pt x="318" y="52"/>
                    </a:lnTo>
                    <a:lnTo>
                      <a:pt x="1508" y="0"/>
                    </a:lnTo>
                    <a:lnTo>
                      <a:pt x="1841" y="171"/>
                    </a:lnTo>
                    <a:lnTo>
                      <a:pt x="1898" y="113"/>
                    </a:lnTo>
                    <a:lnTo>
                      <a:pt x="1955" y="75"/>
                    </a:lnTo>
                    <a:lnTo>
                      <a:pt x="1988" y="66"/>
                    </a:lnTo>
                    <a:lnTo>
                      <a:pt x="2007" y="80"/>
                    </a:lnTo>
                    <a:lnTo>
                      <a:pt x="2002" y="118"/>
                    </a:lnTo>
                    <a:lnTo>
                      <a:pt x="2007" y="133"/>
                    </a:lnTo>
                    <a:lnTo>
                      <a:pt x="1988" y="195"/>
                    </a:lnTo>
                    <a:lnTo>
                      <a:pt x="1902" y="200"/>
                    </a:lnTo>
                    <a:lnTo>
                      <a:pt x="1874" y="242"/>
                    </a:lnTo>
                    <a:lnTo>
                      <a:pt x="1612" y="242"/>
                    </a:lnTo>
                    <a:lnTo>
                      <a:pt x="1408" y="252"/>
                    </a:lnTo>
                    <a:lnTo>
                      <a:pt x="1318" y="214"/>
                    </a:lnTo>
                    <a:lnTo>
                      <a:pt x="1232" y="252"/>
                    </a:lnTo>
                    <a:lnTo>
                      <a:pt x="1146" y="247"/>
                    </a:lnTo>
                    <a:lnTo>
                      <a:pt x="1080" y="200"/>
                    </a:lnTo>
                    <a:lnTo>
                      <a:pt x="1008" y="181"/>
                    </a:lnTo>
                    <a:lnTo>
                      <a:pt x="931" y="200"/>
                    </a:lnTo>
                    <a:lnTo>
                      <a:pt x="736" y="157"/>
                    </a:lnTo>
                    <a:lnTo>
                      <a:pt x="580" y="176"/>
                    </a:lnTo>
                    <a:lnTo>
                      <a:pt x="489" y="138"/>
                    </a:lnTo>
                    <a:lnTo>
                      <a:pt x="465" y="113"/>
                    </a:lnTo>
                    <a:lnTo>
                      <a:pt x="389" y="118"/>
                    </a:lnTo>
                    <a:lnTo>
                      <a:pt x="328" y="113"/>
                    </a:lnTo>
                    <a:lnTo>
                      <a:pt x="228" y="94"/>
                    </a:lnTo>
                    <a:lnTo>
                      <a:pt x="123" y="85"/>
                    </a:lnTo>
                    <a:lnTo>
                      <a:pt x="66" y="90"/>
                    </a:lnTo>
                    <a:lnTo>
                      <a:pt x="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5437080" y="5159520"/>
                <a:ext cx="248040" cy="28800"/>
              </a:xfrm>
              <a:custGeom>
                <a:avLst/>
                <a:gdLst/>
                <a:ahLst/>
                <a:rect l="0" t="0" r="r" b="b"/>
                <a:pathLst>
                  <a:path fill="none" w="689" h="80">
                    <a:moveTo>
                      <a:pt x="0" y="14"/>
                    </a:moveTo>
                    <a:lnTo>
                      <a:pt x="99" y="14"/>
                    </a:lnTo>
                    <a:lnTo>
                      <a:pt x="132" y="4"/>
                    </a:lnTo>
                    <a:lnTo>
                      <a:pt x="166" y="18"/>
                    </a:lnTo>
                    <a:lnTo>
                      <a:pt x="219" y="18"/>
                    </a:lnTo>
                    <a:lnTo>
                      <a:pt x="247" y="14"/>
                    </a:lnTo>
                    <a:lnTo>
                      <a:pt x="290" y="0"/>
                    </a:lnTo>
                    <a:lnTo>
                      <a:pt x="285" y="18"/>
                    </a:lnTo>
                    <a:lnTo>
                      <a:pt x="333" y="14"/>
                    </a:lnTo>
                    <a:lnTo>
                      <a:pt x="371" y="28"/>
                    </a:lnTo>
                    <a:lnTo>
                      <a:pt x="437" y="32"/>
                    </a:lnTo>
                    <a:lnTo>
                      <a:pt x="489" y="43"/>
                    </a:lnTo>
                    <a:lnTo>
                      <a:pt x="538" y="43"/>
                    </a:lnTo>
                    <a:lnTo>
                      <a:pt x="585" y="52"/>
                    </a:lnTo>
                    <a:lnTo>
                      <a:pt x="651" y="47"/>
                    </a:lnTo>
                    <a:lnTo>
                      <a:pt x="689" y="71"/>
                    </a:lnTo>
                    <a:lnTo>
                      <a:pt x="599" y="75"/>
                    </a:lnTo>
                    <a:lnTo>
                      <a:pt x="523" y="80"/>
                    </a:lnTo>
                    <a:lnTo>
                      <a:pt x="446" y="75"/>
                    </a:lnTo>
                    <a:lnTo>
                      <a:pt x="361" y="57"/>
                    </a:lnTo>
                    <a:lnTo>
                      <a:pt x="280" y="57"/>
                    </a:lnTo>
                    <a:lnTo>
                      <a:pt x="233" y="52"/>
                    </a:lnTo>
                    <a:lnTo>
                      <a:pt x="151" y="47"/>
                    </a:lnTo>
                    <a:lnTo>
                      <a:pt x="118" y="43"/>
                    </a:lnTo>
                    <a:lnTo>
                      <a:pt x="61" y="47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5665680" y="5186520"/>
                <a:ext cx="271800" cy="39960"/>
              </a:xfrm>
              <a:custGeom>
                <a:avLst/>
                <a:gdLst/>
                <a:ahLst/>
                <a:rect l="0" t="0" r="r" b="b"/>
                <a:pathLst>
                  <a:path fill="none" w="755" h="111">
                    <a:moveTo>
                      <a:pt x="755" y="92"/>
                    </a:moveTo>
                    <a:lnTo>
                      <a:pt x="717" y="58"/>
                    </a:lnTo>
                    <a:lnTo>
                      <a:pt x="688" y="63"/>
                    </a:lnTo>
                    <a:lnTo>
                      <a:pt x="636" y="58"/>
                    </a:lnTo>
                    <a:lnTo>
                      <a:pt x="612" y="33"/>
                    </a:lnTo>
                    <a:lnTo>
                      <a:pt x="589" y="23"/>
                    </a:lnTo>
                    <a:lnTo>
                      <a:pt x="541" y="23"/>
                    </a:lnTo>
                    <a:lnTo>
                      <a:pt x="532" y="43"/>
                    </a:lnTo>
                    <a:lnTo>
                      <a:pt x="541" y="63"/>
                    </a:lnTo>
                    <a:lnTo>
                      <a:pt x="513" y="68"/>
                    </a:lnTo>
                    <a:lnTo>
                      <a:pt x="479" y="63"/>
                    </a:lnTo>
                    <a:lnTo>
                      <a:pt x="461" y="47"/>
                    </a:lnTo>
                    <a:lnTo>
                      <a:pt x="374" y="38"/>
                    </a:lnTo>
                    <a:lnTo>
                      <a:pt x="365" y="43"/>
                    </a:lnTo>
                    <a:lnTo>
                      <a:pt x="322" y="23"/>
                    </a:lnTo>
                    <a:lnTo>
                      <a:pt x="270" y="38"/>
                    </a:lnTo>
                    <a:lnTo>
                      <a:pt x="232" y="43"/>
                    </a:lnTo>
                    <a:lnTo>
                      <a:pt x="184" y="38"/>
                    </a:lnTo>
                    <a:lnTo>
                      <a:pt x="156" y="52"/>
                    </a:lnTo>
                    <a:lnTo>
                      <a:pt x="113" y="23"/>
                    </a:lnTo>
                    <a:lnTo>
                      <a:pt x="75" y="23"/>
                    </a:lnTo>
                    <a:lnTo>
                      <a:pt x="42" y="0"/>
                    </a:lnTo>
                    <a:lnTo>
                      <a:pt x="42" y="19"/>
                    </a:lnTo>
                    <a:lnTo>
                      <a:pt x="0" y="68"/>
                    </a:lnTo>
                    <a:lnTo>
                      <a:pt x="61" y="77"/>
                    </a:lnTo>
                    <a:lnTo>
                      <a:pt x="118" y="63"/>
                    </a:lnTo>
                    <a:lnTo>
                      <a:pt x="156" y="72"/>
                    </a:lnTo>
                    <a:lnTo>
                      <a:pt x="203" y="82"/>
                    </a:lnTo>
                    <a:lnTo>
                      <a:pt x="270" y="68"/>
                    </a:lnTo>
                    <a:lnTo>
                      <a:pt x="327" y="77"/>
                    </a:lnTo>
                    <a:lnTo>
                      <a:pt x="389" y="92"/>
                    </a:lnTo>
                    <a:lnTo>
                      <a:pt x="451" y="92"/>
                    </a:lnTo>
                    <a:lnTo>
                      <a:pt x="494" y="101"/>
                    </a:lnTo>
                    <a:lnTo>
                      <a:pt x="555" y="111"/>
                    </a:lnTo>
                    <a:lnTo>
                      <a:pt x="608" y="92"/>
                    </a:lnTo>
                    <a:lnTo>
                      <a:pt x="693" y="111"/>
                    </a:lnTo>
                    <a:lnTo>
                      <a:pt x="755" y="106"/>
                    </a:lnTo>
                    <a:lnTo>
                      <a:pt x="755" y="9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5907240" y="5149800"/>
                <a:ext cx="365400" cy="101880"/>
              </a:xfrm>
              <a:custGeom>
                <a:avLst/>
                <a:gdLst/>
                <a:ahLst/>
                <a:rect l="0" t="0" r="r" b="b"/>
                <a:pathLst>
                  <a:path fill="none" w="1015" h="283">
                    <a:moveTo>
                      <a:pt x="151" y="100"/>
                    </a:moveTo>
                    <a:lnTo>
                      <a:pt x="208" y="95"/>
                    </a:lnTo>
                    <a:lnTo>
                      <a:pt x="255" y="76"/>
                    </a:lnTo>
                    <a:lnTo>
                      <a:pt x="312" y="86"/>
                    </a:lnTo>
                    <a:lnTo>
                      <a:pt x="369" y="66"/>
                    </a:lnTo>
                    <a:lnTo>
                      <a:pt x="417" y="66"/>
                    </a:lnTo>
                    <a:lnTo>
                      <a:pt x="440" y="95"/>
                    </a:lnTo>
                    <a:lnTo>
                      <a:pt x="492" y="100"/>
                    </a:lnTo>
                    <a:lnTo>
                      <a:pt x="560" y="124"/>
                    </a:lnTo>
                    <a:lnTo>
                      <a:pt x="583" y="154"/>
                    </a:lnTo>
                    <a:lnTo>
                      <a:pt x="645" y="173"/>
                    </a:lnTo>
                    <a:lnTo>
                      <a:pt x="655" y="192"/>
                    </a:lnTo>
                    <a:lnTo>
                      <a:pt x="621" y="206"/>
                    </a:lnTo>
                    <a:lnTo>
                      <a:pt x="569" y="177"/>
                    </a:lnTo>
                    <a:lnTo>
                      <a:pt x="536" y="177"/>
                    </a:lnTo>
                    <a:lnTo>
                      <a:pt x="502" y="192"/>
                    </a:lnTo>
                    <a:lnTo>
                      <a:pt x="469" y="192"/>
                    </a:lnTo>
                    <a:lnTo>
                      <a:pt x="436" y="187"/>
                    </a:lnTo>
                    <a:lnTo>
                      <a:pt x="407" y="201"/>
                    </a:lnTo>
                    <a:lnTo>
                      <a:pt x="388" y="221"/>
                    </a:lnTo>
                    <a:lnTo>
                      <a:pt x="350" y="216"/>
                    </a:lnTo>
                    <a:lnTo>
                      <a:pt x="322" y="192"/>
                    </a:lnTo>
                    <a:lnTo>
                      <a:pt x="284" y="187"/>
                    </a:lnTo>
                    <a:lnTo>
                      <a:pt x="265" y="192"/>
                    </a:lnTo>
                    <a:lnTo>
                      <a:pt x="241" y="177"/>
                    </a:lnTo>
                    <a:lnTo>
                      <a:pt x="213" y="163"/>
                    </a:lnTo>
                    <a:lnTo>
                      <a:pt x="161" y="168"/>
                    </a:lnTo>
                    <a:lnTo>
                      <a:pt x="137" y="158"/>
                    </a:lnTo>
                    <a:lnTo>
                      <a:pt x="104" y="177"/>
                    </a:lnTo>
                    <a:lnTo>
                      <a:pt x="90" y="192"/>
                    </a:lnTo>
                    <a:lnTo>
                      <a:pt x="47" y="192"/>
                    </a:lnTo>
                    <a:lnTo>
                      <a:pt x="0" y="230"/>
                    </a:lnTo>
                    <a:lnTo>
                      <a:pt x="80" y="249"/>
                    </a:lnTo>
                    <a:lnTo>
                      <a:pt x="151" y="249"/>
                    </a:lnTo>
                    <a:lnTo>
                      <a:pt x="218" y="221"/>
                    </a:lnTo>
                    <a:lnTo>
                      <a:pt x="279" y="235"/>
                    </a:lnTo>
                    <a:lnTo>
                      <a:pt x="303" y="254"/>
                    </a:lnTo>
                    <a:lnTo>
                      <a:pt x="369" y="268"/>
                    </a:lnTo>
                    <a:lnTo>
                      <a:pt x="440" y="268"/>
                    </a:lnTo>
                    <a:lnTo>
                      <a:pt x="497" y="268"/>
                    </a:lnTo>
                    <a:lnTo>
                      <a:pt x="550" y="268"/>
                    </a:lnTo>
                    <a:lnTo>
                      <a:pt x="617" y="278"/>
                    </a:lnTo>
                    <a:lnTo>
                      <a:pt x="664" y="283"/>
                    </a:lnTo>
                    <a:lnTo>
                      <a:pt x="683" y="254"/>
                    </a:lnTo>
                    <a:lnTo>
                      <a:pt x="754" y="249"/>
                    </a:lnTo>
                    <a:lnTo>
                      <a:pt x="801" y="235"/>
                    </a:lnTo>
                    <a:lnTo>
                      <a:pt x="825" y="240"/>
                    </a:lnTo>
                    <a:lnTo>
                      <a:pt x="849" y="211"/>
                    </a:lnTo>
                    <a:lnTo>
                      <a:pt x="910" y="192"/>
                    </a:lnTo>
                    <a:lnTo>
                      <a:pt x="944" y="216"/>
                    </a:lnTo>
                    <a:lnTo>
                      <a:pt x="963" y="187"/>
                    </a:lnTo>
                    <a:lnTo>
                      <a:pt x="1015" y="177"/>
                    </a:lnTo>
                    <a:lnTo>
                      <a:pt x="991" y="138"/>
                    </a:lnTo>
                    <a:lnTo>
                      <a:pt x="915" y="149"/>
                    </a:lnTo>
                    <a:lnTo>
                      <a:pt x="910" y="110"/>
                    </a:lnTo>
                    <a:lnTo>
                      <a:pt x="863" y="124"/>
                    </a:lnTo>
                    <a:lnTo>
                      <a:pt x="849" y="149"/>
                    </a:lnTo>
                    <a:lnTo>
                      <a:pt x="825" y="149"/>
                    </a:lnTo>
                    <a:lnTo>
                      <a:pt x="811" y="168"/>
                    </a:lnTo>
                    <a:lnTo>
                      <a:pt x="797" y="154"/>
                    </a:lnTo>
                    <a:lnTo>
                      <a:pt x="820" y="119"/>
                    </a:lnTo>
                    <a:lnTo>
                      <a:pt x="816" y="100"/>
                    </a:lnTo>
                    <a:lnTo>
                      <a:pt x="778" y="119"/>
                    </a:lnTo>
                    <a:lnTo>
                      <a:pt x="778" y="211"/>
                    </a:lnTo>
                    <a:lnTo>
                      <a:pt x="740" y="192"/>
                    </a:lnTo>
                    <a:lnTo>
                      <a:pt x="707" y="177"/>
                    </a:lnTo>
                    <a:lnTo>
                      <a:pt x="702" y="138"/>
                    </a:lnTo>
                    <a:lnTo>
                      <a:pt x="669" y="105"/>
                    </a:lnTo>
                    <a:lnTo>
                      <a:pt x="607" y="86"/>
                    </a:lnTo>
                    <a:lnTo>
                      <a:pt x="560" y="52"/>
                    </a:lnTo>
                    <a:lnTo>
                      <a:pt x="483" y="47"/>
                    </a:lnTo>
                    <a:lnTo>
                      <a:pt x="445" y="14"/>
                    </a:lnTo>
                    <a:lnTo>
                      <a:pt x="360" y="0"/>
                    </a:lnTo>
                    <a:lnTo>
                      <a:pt x="180" y="66"/>
                    </a:lnTo>
                    <a:lnTo>
                      <a:pt x="151" y="10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5718240" y="4923000"/>
                <a:ext cx="451080" cy="73440"/>
              </a:xfrm>
              <a:custGeom>
                <a:avLst/>
                <a:gdLst/>
                <a:ahLst/>
                <a:rect l="0" t="0" r="r" b="b"/>
                <a:pathLst>
                  <a:path fill="none" w="1253" h="204">
                    <a:moveTo>
                      <a:pt x="0" y="190"/>
                    </a:moveTo>
                    <a:lnTo>
                      <a:pt x="14" y="171"/>
                    </a:lnTo>
                    <a:lnTo>
                      <a:pt x="76" y="157"/>
                    </a:lnTo>
                    <a:lnTo>
                      <a:pt x="76" y="123"/>
                    </a:lnTo>
                    <a:lnTo>
                      <a:pt x="176" y="123"/>
                    </a:lnTo>
                    <a:lnTo>
                      <a:pt x="176" y="104"/>
                    </a:lnTo>
                    <a:lnTo>
                      <a:pt x="242" y="104"/>
                    </a:lnTo>
                    <a:lnTo>
                      <a:pt x="242" y="109"/>
                    </a:lnTo>
                    <a:lnTo>
                      <a:pt x="223" y="109"/>
                    </a:lnTo>
                    <a:lnTo>
                      <a:pt x="242" y="142"/>
                    </a:lnTo>
                    <a:lnTo>
                      <a:pt x="290" y="128"/>
                    </a:lnTo>
                    <a:lnTo>
                      <a:pt x="290" y="85"/>
                    </a:lnTo>
                    <a:lnTo>
                      <a:pt x="380" y="85"/>
                    </a:lnTo>
                    <a:lnTo>
                      <a:pt x="342" y="90"/>
                    </a:lnTo>
                    <a:lnTo>
                      <a:pt x="352" y="109"/>
                    </a:lnTo>
                    <a:lnTo>
                      <a:pt x="428" y="90"/>
                    </a:lnTo>
                    <a:lnTo>
                      <a:pt x="428" y="62"/>
                    </a:lnTo>
                    <a:lnTo>
                      <a:pt x="533" y="62"/>
                    </a:lnTo>
                    <a:lnTo>
                      <a:pt x="490" y="67"/>
                    </a:lnTo>
                    <a:lnTo>
                      <a:pt x="499" y="90"/>
                    </a:lnTo>
                    <a:lnTo>
                      <a:pt x="571" y="71"/>
                    </a:lnTo>
                    <a:lnTo>
                      <a:pt x="571" y="33"/>
                    </a:lnTo>
                    <a:lnTo>
                      <a:pt x="686" y="33"/>
                    </a:lnTo>
                    <a:lnTo>
                      <a:pt x="634" y="37"/>
                    </a:lnTo>
                    <a:lnTo>
                      <a:pt x="648" y="62"/>
                    </a:lnTo>
                    <a:lnTo>
                      <a:pt x="729" y="42"/>
                    </a:lnTo>
                    <a:lnTo>
                      <a:pt x="729" y="0"/>
                    </a:lnTo>
                    <a:lnTo>
                      <a:pt x="867" y="0"/>
                    </a:lnTo>
                    <a:lnTo>
                      <a:pt x="796" y="4"/>
                    </a:lnTo>
                    <a:lnTo>
                      <a:pt x="824" y="52"/>
                    </a:lnTo>
                    <a:lnTo>
                      <a:pt x="977" y="33"/>
                    </a:lnTo>
                    <a:lnTo>
                      <a:pt x="1034" y="23"/>
                    </a:lnTo>
                    <a:lnTo>
                      <a:pt x="1067" y="23"/>
                    </a:lnTo>
                    <a:lnTo>
                      <a:pt x="1091" y="33"/>
                    </a:lnTo>
                    <a:lnTo>
                      <a:pt x="1129" y="52"/>
                    </a:lnTo>
                    <a:lnTo>
                      <a:pt x="1220" y="71"/>
                    </a:lnTo>
                    <a:lnTo>
                      <a:pt x="1253" y="85"/>
                    </a:lnTo>
                    <a:lnTo>
                      <a:pt x="1158" y="90"/>
                    </a:lnTo>
                    <a:lnTo>
                      <a:pt x="1115" y="90"/>
                    </a:lnTo>
                    <a:lnTo>
                      <a:pt x="1115" y="109"/>
                    </a:lnTo>
                    <a:lnTo>
                      <a:pt x="1077" y="109"/>
                    </a:lnTo>
                    <a:lnTo>
                      <a:pt x="1077" y="95"/>
                    </a:lnTo>
                    <a:lnTo>
                      <a:pt x="920" y="95"/>
                    </a:lnTo>
                    <a:lnTo>
                      <a:pt x="943" y="109"/>
                    </a:lnTo>
                    <a:lnTo>
                      <a:pt x="915" y="114"/>
                    </a:lnTo>
                    <a:lnTo>
                      <a:pt x="867" y="123"/>
                    </a:lnTo>
                    <a:lnTo>
                      <a:pt x="781" y="123"/>
                    </a:lnTo>
                    <a:lnTo>
                      <a:pt x="643" y="162"/>
                    </a:lnTo>
                    <a:lnTo>
                      <a:pt x="133" y="204"/>
                    </a:lnTo>
                    <a:lnTo>
                      <a:pt x="38" y="195"/>
                    </a:lnTo>
                    <a:lnTo>
                      <a:pt x="0" y="19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5408640" y="4968720"/>
                <a:ext cx="1045080" cy="257400"/>
              </a:xfrm>
              <a:custGeom>
                <a:avLst/>
                <a:gdLst/>
                <a:ahLst/>
                <a:rect l="0" t="0" r="r" b="b"/>
                <a:pathLst>
                  <a:path fill="none" w="2903" h="715">
                    <a:moveTo>
                      <a:pt x="0" y="185"/>
                    </a:moveTo>
                    <a:lnTo>
                      <a:pt x="299" y="85"/>
                    </a:lnTo>
                    <a:lnTo>
                      <a:pt x="446" y="85"/>
                    </a:lnTo>
                    <a:lnTo>
                      <a:pt x="484" y="95"/>
                    </a:lnTo>
                    <a:lnTo>
                      <a:pt x="707" y="95"/>
                    </a:lnTo>
                    <a:lnTo>
                      <a:pt x="707" y="133"/>
                    </a:lnTo>
                    <a:lnTo>
                      <a:pt x="813" y="133"/>
                    </a:lnTo>
                    <a:lnTo>
                      <a:pt x="813" y="109"/>
                    </a:lnTo>
                    <a:lnTo>
                      <a:pt x="798" y="100"/>
                    </a:lnTo>
                    <a:lnTo>
                      <a:pt x="1672" y="0"/>
                    </a:lnTo>
                    <a:lnTo>
                      <a:pt x="2894" y="14"/>
                    </a:lnTo>
                    <a:lnTo>
                      <a:pt x="2851" y="38"/>
                    </a:lnTo>
                    <a:lnTo>
                      <a:pt x="2903" y="38"/>
                    </a:lnTo>
                    <a:lnTo>
                      <a:pt x="2903" y="123"/>
                    </a:lnTo>
                    <a:lnTo>
                      <a:pt x="2751" y="157"/>
                    </a:lnTo>
                    <a:lnTo>
                      <a:pt x="2575" y="214"/>
                    </a:lnTo>
                    <a:lnTo>
                      <a:pt x="2419" y="290"/>
                    </a:lnTo>
                    <a:lnTo>
                      <a:pt x="2295" y="381"/>
                    </a:lnTo>
                    <a:lnTo>
                      <a:pt x="2233" y="448"/>
                    </a:lnTo>
                    <a:lnTo>
                      <a:pt x="2191" y="520"/>
                    </a:lnTo>
                    <a:lnTo>
                      <a:pt x="2157" y="596"/>
                    </a:lnTo>
                    <a:lnTo>
                      <a:pt x="2157" y="715"/>
                    </a:lnTo>
                    <a:lnTo>
                      <a:pt x="2095" y="677"/>
                    </a:lnTo>
                    <a:lnTo>
                      <a:pt x="2057" y="601"/>
                    </a:lnTo>
                    <a:lnTo>
                      <a:pt x="2005" y="601"/>
                    </a:lnTo>
                    <a:lnTo>
                      <a:pt x="1933" y="553"/>
                    </a:lnTo>
                    <a:lnTo>
                      <a:pt x="1872" y="553"/>
                    </a:lnTo>
                    <a:lnTo>
                      <a:pt x="1819" y="520"/>
                    </a:lnTo>
                    <a:lnTo>
                      <a:pt x="1762" y="505"/>
                    </a:lnTo>
                    <a:lnTo>
                      <a:pt x="1634" y="562"/>
                    </a:lnTo>
                    <a:lnTo>
                      <a:pt x="1577" y="562"/>
                    </a:lnTo>
                    <a:lnTo>
                      <a:pt x="1492" y="610"/>
                    </a:lnTo>
                    <a:lnTo>
                      <a:pt x="1468" y="596"/>
                    </a:lnTo>
                    <a:lnTo>
                      <a:pt x="1468" y="558"/>
                    </a:lnTo>
                    <a:lnTo>
                      <a:pt x="1435" y="534"/>
                    </a:lnTo>
                    <a:lnTo>
                      <a:pt x="1416" y="553"/>
                    </a:lnTo>
                    <a:lnTo>
                      <a:pt x="1354" y="529"/>
                    </a:lnTo>
                    <a:lnTo>
                      <a:pt x="1259" y="572"/>
                    </a:lnTo>
                    <a:lnTo>
                      <a:pt x="1221" y="572"/>
                    </a:lnTo>
                    <a:lnTo>
                      <a:pt x="1159" y="605"/>
                    </a:lnTo>
                    <a:lnTo>
                      <a:pt x="1121" y="601"/>
                    </a:lnTo>
                    <a:lnTo>
                      <a:pt x="1055" y="601"/>
                    </a:lnTo>
                    <a:lnTo>
                      <a:pt x="960" y="610"/>
                    </a:lnTo>
                    <a:lnTo>
                      <a:pt x="927" y="605"/>
                    </a:lnTo>
                    <a:lnTo>
                      <a:pt x="884" y="586"/>
                    </a:lnTo>
                    <a:lnTo>
                      <a:pt x="851" y="586"/>
                    </a:lnTo>
                    <a:lnTo>
                      <a:pt x="803" y="596"/>
                    </a:lnTo>
                    <a:lnTo>
                      <a:pt x="756" y="577"/>
                    </a:lnTo>
                    <a:lnTo>
                      <a:pt x="712" y="572"/>
                    </a:lnTo>
                    <a:lnTo>
                      <a:pt x="669" y="577"/>
                    </a:lnTo>
                    <a:lnTo>
                      <a:pt x="655" y="558"/>
                    </a:lnTo>
                    <a:lnTo>
                      <a:pt x="612" y="572"/>
                    </a:lnTo>
                    <a:lnTo>
                      <a:pt x="593" y="553"/>
                    </a:lnTo>
                    <a:lnTo>
                      <a:pt x="541" y="548"/>
                    </a:lnTo>
                    <a:lnTo>
                      <a:pt x="517" y="524"/>
                    </a:lnTo>
                    <a:lnTo>
                      <a:pt x="280" y="381"/>
                    </a:lnTo>
                    <a:lnTo>
                      <a:pt x="175" y="358"/>
                    </a:lnTo>
                    <a:lnTo>
                      <a:pt x="56" y="242"/>
                    </a:lnTo>
                    <a:lnTo>
                      <a:pt x="56" y="223"/>
                    </a:lnTo>
                    <a:lnTo>
                      <a:pt x="0" y="18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5656320" y="4998960"/>
                <a:ext cx="12960" cy="38520"/>
              </a:xfrm>
              <a:custGeom>
                <a:avLst/>
                <a:gdLst/>
                <a:ahLst/>
                <a:rect l="0" t="0" r="r" b="b"/>
                <a:pathLst>
                  <a:path fill="none" w="36" h="107">
                    <a:moveTo>
                      <a:pt x="0" y="107"/>
                    </a:moveTo>
                    <a:lnTo>
                      <a:pt x="36" y="107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5659560" y="5002200"/>
                <a:ext cx="3600" cy="35280"/>
              </a:xfrm>
              <a:custGeom>
                <a:avLst/>
                <a:gdLst/>
                <a:ahLst/>
                <a:rect l="0" t="0" r="r" b="b"/>
                <a:pathLst>
                  <a:path fill="none" w="10" h="98">
                    <a:moveTo>
                      <a:pt x="10" y="0"/>
                    </a:moveTo>
                    <a:lnTo>
                      <a:pt x="5" y="9"/>
                    </a:lnTo>
                    <a:lnTo>
                      <a:pt x="5" y="98"/>
                    </a:lnTo>
                    <a:lnTo>
                      <a:pt x="0" y="98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5429160" y="486396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0" y="12"/>
                    </a:moveTo>
                    <a:lnTo>
                      <a:pt x="0" y="19"/>
                    </a:lnTo>
                    <a:lnTo>
                      <a:pt x="23" y="19"/>
                    </a:lnTo>
                    <a:lnTo>
                      <a:pt x="17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5437080" y="488952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fill="none" w="14" h="19">
                    <a:moveTo>
                      <a:pt x="0" y="12"/>
                    </a:moveTo>
                    <a:lnTo>
                      <a:pt x="0" y="19"/>
                    </a:lnTo>
                    <a:lnTo>
                      <a:pt x="14" y="19"/>
                    </a:lnTo>
                    <a:lnTo>
                      <a:pt x="9" y="0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5529240" y="48736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4" y="14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4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5448240" y="4826160"/>
                <a:ext cx="18000" cy="9720"/>
              </a:xfrm>
              <a:custGeom>
                <a:avLst/>
                <a:gdLst/>
                <a:ahLst/>
                <a:rect l="0" t="0" r="r" b="b"/>
                <a:pathLst>
                  <a:path fill="none" w="50" h="27">
                    <a:moveTo>
                      <a:pt x="4" y="0"/>
                    </a:moveTo>
                    <a:lnTo>
                      <a:pt x="0" y="18"/>
                    </a:lnTo>
                    <a:lnTo>
                      <a:pt x="9" y="23"/>
                    </a:lnTo>
                    <a:lnTo>
                      <a:pt x="20" y="27"/>
                    </a:lnTo>
                    <a:lnTo>
                      <a:pt x="30" y="27"/>
                    </a:lnTo>
                    <a:lnTo>
                      <a:pt x="45" y="27"/>
                    </a:lnTo>
                    <a:lnTo>
                      <a:pt x="50" y="0"/>
                    </a:lnTo>
                    <a:lnTo>
                      <a:pt x="40" y="4"/>
                    </a:lnTo>
                    <a:lnTo>
                      <a:pt x="30" y="4"/>
                    </a:lnTo>
                    <a:lnTo>
                      <a:pt x="20" y="4"/>
                    </a:lnTo>
                    <a:lnTo>
                      <a:pt x="15" y="4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5418000" y="4851360"/>
                <a:ext cx="9720" cy="3600"/>
              </a:xfrm>
              <a:custGeom>
                <a:avLst/>
                <a:gdLst/>
                <a:ahLst/>
                <a:rect l="0" t="0" r="r" b="b"/>
                <a:pathLst>
                  <a:path fill="none" w="27" h="10">
                    <a:moveTo>
                      <a:pt x="0" y="5"/>
                    </a:moveTo>
                    <a:lnTo>
                      <a:pt x="23" y="0"/>
                    </a:lnTo>
                    <a:lnTo>
                      <a:pt x="27" y="1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5427720" y="4881600"/>
                <a:ext cx="9720" cy="1800"/>
              </a:xfrm>
              <a:custGeom>
                <a:avLst/>
                <a:gdLst/>
                <a:ahLst/>
                <a:rect l="0" t="0" r="r" b="b"/>
                <a:pathLst>
                  <a:path fill="none" w="27" h="5">
                    <a:moveTo>
                      <a:pt x="0" y="5"/>
                    </a:moveTo>
                    <a:lnTo>
                      <a:pt x="16" y="0"/>
                    </a:lnTo>
                    <a:lnTo>
                      <a:pt x="27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5519880" y="488628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6" y="19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5538960" y="4856040"/>
                <a:ext cx="5040" cy="3600"/>
              </a:xfrm>
              <a:custGeom>
                <a:avLst/>
                <a:gdLst/>
                <a:ahLst/>
                <a:rect l="0" t="0" r="r" b="b"/>
                <a:pathLst>
                  <a:path fill="none" w="14" h="10">
                    <a:moveTo>
                      <a:pt x="0" y="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5478480" y="488304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fill="none" w="85" h="80">
                    <a:moveTo>
                      <a:pt x="85" y="0"/>
                    </a:moveTo>
                    <a:lnTo>
                      <a:pt x="0" y="0"/>
                    </a:lnTo>
                    <a:lnTo>
                      <a:pt x="0" y="80"/>
                    </a:lnTo>
                    <a:lnTo>
                      <a:pt x="85" y="80"/>
                    </a:lnTo>
                    <a:lnTo>
                      <a:pt x="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5475240" y="4883040"/>
                <a:ext cx="33840" cy="28800"/>
              </a:xfrm>
              <a:custGeom>
                <a:avLst/>
                <a:gdLst/>
                <a:ahLst/>
                <a:rect l="0" t="0" r="r" b="b"/>
                <a:pathLst>
                  <a:path fill="none" w="94" h="80">
                    <a:moveTo>
                      <a:pt x="94" y="80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9"/>
                    </a:lnTo>
                    <a:lnTo>
                      <a:pt x="35" y="18"/>
                    </a:lnTo>
                    <a:lnTo>
                      <a:pt x="39" y="23"/>
                    </a:lnTo>
                    <a:lnTo>
                      <a:pt x="44" y="28"/>
                    </a:lnTo>
                    <a:lnTo>
                      <a:pt x="54" y="32"/>
                    </a:lnTo>
                    <a:lnTo>
                      <a:pt x="59" y="37"/>
                    </a:lnTo>
                    <a:lnTo>
                      <a:pt x="69" y="43"/>
                    </a:lnTo>
                    <a:lnTo>
                      <a:pt x="75" y="43"/>
                    </a:lnTo>
                    <a:lnTo>
                      <a:pt x="94" y="43"/>
                    </a:lnTo>
                    <a:lnTo>
                      <a:pt x="94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5423040" y="4881600"/>
                <a:ext cx="198720" cy="138600"/>
              </a:xfrm>
              <a:custGeom>
                <a:avLst/>
                <a:gdLst/>
                <a:ahLst/>
                <a:rect l="0" t="0" r="r" b="b"/>
                <a:pathLst>
                  <a:path fill="none" w="552" h="385">
                    <a:moveTo>
                      <a:pt x="0" y="376"/>
                    </a:moveTo>
                    <a:lnTo>
                      <a:pt x="19" y="371"/>
                    </a:lnTo>
                    <a:lnTo>
                      <a:pt x="28" y="319"/>
                    </a:lnTo>
                    <a:lnTo>
                      <a:pt x="61" y="305"/>
                    </a:lnTo>
                    <a:lnTo>
                      <a:pt x="76" y="305"/>
                    </a:lnTo>
                    <a:lnTo>
                      <a:pt x="76" y="295"/>
                    </a:lnTo>
                    <a:lnTo>
                      <a:pt x="95" y="295"/>
                    </a:lnTo>
                    <a:lnTo>
                      <a:pt x="95" y="285"/>
                    </a:lnTo>
                    <a:lnTo>
                      <a:pt x="99" y="285"/>
                    </a:lnTo>
                    <a:lnTo>
                      <a:pt x="99" y="252"/>
                    </a:lnTo>
                    <a:lnTo>
                      <a:pt x="61" y="252"/>
                    </a:lnTo>
                    <a:lnTo>
                      <a:pt x="61" y="242"/>
                    </a:lnTo>
                    <a:lnTo>
                      <a:pt x="71" y="228"/>
                    </a:lnTo>
                    <a:lnTo>
                      <a:pt x="66" y="228"/>
                    </a:lnTo>
                    <a:lnTo>
                      <a:pt x="66" y="204"/>
                    </a:lnTo>
                    <a:lnTo>
                      <a:pt x="99" y="105"/>
                    </a:lnTo>
                    <a:lnTo>
                      <a:pt x="228" y="105"/>
                    </a:lnTo>
                    <a:lnTo>
                      <a:pt x="228" y="94"/>
                    </a:lnTo>
                    <a:lnTo>
                      <a:pt x="338" y="94"/>
                    </a:lnTo>
                    <a:lnTo>
                      <a:pt x="338" y="105"/>
                    </a:lnTo>
                    <a:lnTo>
                      <a:pt x="333" y="114"/>
                    </a:lnTo>
                    <a:lnTo>
                      <a:pt x="333" y="214"/>
                    </a:lnTo>
                    <a:lnTo>
                      <a:pt x="295" y="228"/>
                    </a:lnTo>
                    <a:lnTo>
                      <a:pt x="295" y="295"/>
                    </a:lnTo>
                    <a:lnTo>
                      <a:pt x="400" y="290"/>
                    </a:lnTo>
                    <a:lnTo>
                      <a:pt x="438" y="275"/>
                    </a:lnTo>
                    <a:lnTo>
                      <a:pt x="442" y="0"/>
                    </a:lnTo>
                    <a:lnTo>
                      <a:pt x="447" y="0"/>
                    </a:lnTo>
                    <a:lnTo>
                      <a:pt x="447" y="270"/>
                    </a:lnTo>
                    <a:lnTo>
                      <a:pt x="471" y="270"/>
                    </a:lnTo>
                    <a:lnTo>
                      <a:pt x="537" y="290"/>
                    </a:lnTo>
                    <a:lnTo>
                      <a:pt x="552" y="295"/>
                    </a:lnTo>
                    <a:lnTo>
                      <a:pt x="552" y="324"/>
                    </a:lnTo>
                    <a:lnTo>
                      <a:pt x="466" y="338"/>
                    </a:lnTo>
                    <a:lnTo>
                      <a:pt x="371" y="338"/>
                    </a:lnTo>
                    <a:lnTo>
                      <a:pt x="338" y="328"/>
                    </a:lnTo>
                    <a:lnTo>
                      <a:pt x="251" y="328"/>
                    </a:lnTo>
                    <a:lnTo>
                      <a:pt x="23" y="385"/>
                    </a:lnTo>
                    <a:lnTo>
                      <a:pt x="0" y="37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5516640" y="5016600"/>
                <a:ext cx="143280" cy="11520"/>
              </a:xfrm>
              <a:custGeom>
                <a:avLst/>
                <a:gdLst/>
                <a:ahLst/>
                <a:rect l="0" t="0" r="r" b="b"/>
                <a:pathLst>
                  <a:path fill="none" w="398" h="32">
                    <a:moveTo>
                      <a:pt x="0" y="32"/>
                    </a:moveTo>
                    <a:lnTo>
                      <a:pt x="398" y="32"/>
                    </a:lnTo>
                    <a:lnTo>
                      <a:pt x="398" y="0"/>
                    </a:lnTo>
                    <a:lnTo>
                      <a:pt x="0" y="0"/>
                    </a:lnTo>
                    <a:lnTo>
                      <a:pt x="0" y="3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5486400" y="5064120"/>
                <a:ext cx="47880" cy="47880"/>
              </a:xfrm>
              <a:custGeom>
                <a:avLst/>
                <a:gdLst/>
                <a:ahLst/>
                <a:rect l="0" t="0" r="r" b="b"/>
                <a:pathLst>
                  <a:path fill="none" w="133" h="133">
                    <a:moveTo>
                      <a:pt x="0" y="0"/>
                    </a:moveTo>
                    <a:lnTo>
                      <a:pt x="37" y="103"/>
                    </a:lnTo>
                    <a:lnTo>
                      <a:pt x="133" y="133"/>
                    </a:lnTo>
                    <a:lnTo>
                      <a:pt x="13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5510160" y="5105520"/>
                <a:ext cx="120960" cy="59040"/>
              </a:xfrm>
              <a:custGeom>
                <a:avLst/>
                <a:gdLst/>
                <a:ahLst/>
                <a:rect l="0" t="0" r="r" b="b"/>
                <a:pathLst>
                  <a:path fill="none" w="336" h="164">
                    <a:moveTo>
                      <a:pt x="336" y="130"/>
                    </a:moveTo>
                    <a:lnTo>
                      <a:pt x="265" y="164"/>
                    </a:lnTo>
                    <a:lnTo>
                      <a:pt x="241" y="149"/>
                    </a:lnTo>
                    <a:lnTo>
                      <a:pt x="199" y="144"/>
                    </a:lnTo>
                    <a:lnTo>
                      <a:pt x="51" y="9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5" y="52"/>
                    </a:lnTo>
                    <a:lnTo>
                      <a:pt x="122" y="62"/>
                    </a:lnTo>
                    <a:lnTo>
                      <a:pt x="336" y="13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5691240" y="4968720"/>
                <a:ext cx="495720" cy="259200"/>
              </a:xfrm>
              <a:custGeom>
                <a:avLst/>
                <a:gdLst/>
                <a:ahLst/>
                <a:rect l="0" t="0" r="r" b="b"/>
                <a:pathLst>
                  <a:path fill="none" w="1377" h="720">
                    <a:moveTo>
                      <a:pt x="1107" y="544"/>
                    </a:moveTo>
                    <a:lnTo>
                      <a:pt x="997" y="453"/>
                    </a:lnTo>
                    <a:lnTo>
                      <a:pt x="802" y="353"/>
                    </a:lnTo>
                    <a:lnTo>
                      <a:pt x="570" y="296"/>
                    </a:lnTo>
                    <a:lnTo>
                      <a:pt x="380" y="277"/>
                    </a:lnTo>
                    <a:lnTo>
                      <a:pt x="375" y="267"/>
                    </a:lnTo>
                    <a:lnTo>
                      <a:pt x="270" y="186"/>
                    </a:lnTo>
                    <a:lnTo>
                      <a:pt x="270" y="123"/>
                    </a:lnTo>
                    <a:lnTo>
                      <a:pt x="0" y="138"/>
                    </a:lnTo>
                    <a:lnTo>
                      <a:pt x="18" y="104"/>
                    </a:lnTo>
                    <a:lnTo>
                      <a:pt x="745" y="42"/>
                    </a:lnTo>
                    <a:lnTo>
                      <a:pt x="850" y="0"/>
                    </a:lnTo>
                    <a:lnTo>
                      <a:pt x="783" y="71"/>
                    </a:lnTo>
                    <a:lnTo>
                      <a:pt x="783" y="123"/>
                    </a:lnTo>
                    <a:lnTo>
                      <a:pt x="850" y="152"/>
                    </a:lnTo>
                    <a:lnTo>
                      <a:pt x="940" y="152"/>
                    </a:lnTo>
                    <a:lnTo>
                      <a:pt x="878" y="123"/>
                    </a:lnTo>
                    <a:lnTo>
                      <a:pt x="1050" y="123"/>
                    </a:lnTo>
                    <a:lnTo>
                      <a:pt x="1050" y="138"/>
                    </a:lnTo>
                    <a:lnTo>
                      <a:pt x="1377" y="296"/>
                    </a:lnTo>
                    <a:lnTo>
                      <a:pt x="1377" y="720"/>
                    </a:lnTo>
                    <a:lnTo>
                      <a:pt x="1354" y="701"/>
                    </a:lnTo>
                    <a:lnTo>
                      <a:pt x="1306" y="673"/>
                    </a:lnTo>
                    <a:lnTo>
                      <a:pt x="1273" y="611"/>
                    </a:lnTo>
                    <a:lnTo>
                      <a:pt x="1216" y="611"/>
                    </a:lnTo>
                    <a:lnTo>
                      <a:pt x="1173" y="563"/>
                    </a:lnTo>
                    <a:lnTo>
                      <a:pt x="1107" y="5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5614920" y="5062680"/>
                <a:ext cx="224280" cy="65520"/>
              </a:xfrm>
              <a:custGeom>
                <a:avLst/>
                <a:gdLst/>
                <a:ahLst/>
                <a:rect l="0" t="0" r="r" b="b"/>
                <a:pathLst>
                  <a:path fill="none" w="623" h="182">
                    <a:moveTo>
                      <a:pt x="623" y="14"/>
                    </a:moveTo>
                    <a:lnTo>
                      <a:pt x="609" y="77"/>
                    </a:lnTo>
                    <a:lnTo>
                      <a:pt x="585" y="144"/>
                    </a:lnTo>
                    <a:lnTo>
                      <a:pt x="552" y="182"/>
                    </a:lnTo>
                    <a:lnTo>
                      <a:pt x="228" y="178"/>
                    </a:lnTo>
                    <a:lnTo>
                      <a:pt x="52" y="159"/>
                    </a:lnTo>
                    <a:lnTo>
                      <a:pt x="4" y="124"/>
                    </a:lnTo>
                    <a:lnTo>
                      <a:pt x="0" y="86"/>
                    </a:lnTo>
                    <a:lnTo>
                      <a:pt x="52" y="86"/>
                    </a:lnTo>
                    <a:lnTo>
                      <a:pt x="66" y="58"/>
                    </a:lnTo>
                    <a:lnTo>
                      <a:pt x="52" y="0"/>
                    </a:lnTo>
                    <a:lnTo>
                      <a:pt x="609" y="0"/>
                    </a:lnTo>
                    <a:lnTo>
                      <a:pt x="6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6068880" y="5013360"/>
                <a:ext cx="384480" cy="208440"/>
              </a:xfrm>
              <a:custGeom>
                <a:avLst/>
                <a:gdLst/>
                <a:ahLst/>
                <a:rect l="0" t="0" r="r" b="b"/>
                <a:pathLst>
                  <a:path fill="none" w="1068" h="579">
                    <a:moveTo>
                      <a:pt x="4" y="19"/>
                    </a:moveTo>
                    <a:lnTo>
                      <a:pt x="33" y="33"/>
                    </a:lnTo>
                    <a:lnTo>
                      <a:pt x="52" y="52"/>
                    </a:lnTo>
                    <a:lnTo>
                      <a:pt x="75" y="71"/>
                    </a:lnTo>
                    <a:lnTo>
                      <a:pt x="99" y="90"/>
                    </a:lnTo>
                    <a:lnTo>
                      <a:pt x="118" y="109"/>
                    </a:lnTo>
                    <a:lnTo>
                      <a:pt x="137" y="128"/>
                    </a:lnTo>
                    <a:lnTo>
                      <a:pt x="156" y="153"/>
                    </a:lnTo>
                    <a:lnTo>
                      <a:pt x="175" y="177"/>
                    </a:lnTo>
                    <a:lnTo>
                      <a:pt x="194" y="196"/>
                    </a:lnTo>
                    <a:lnTo>
                      <a:pt x="208" y="220"/>
                    </a:lnTo>
                    <a:lnTo>
                      <a:pt x="227" y="244"/>
                    </a:lnTo>
                    <a:lnTo>
                      <a:pt x="241" y="273"/>
                    </a:lnTo>
                    <a:lnTo>
                      <a:pt x="251" y="296"/>
                    </a:lnTo>
                    <a:lnTo>
                      <a:pt x="265" y="325"/>
                    </a:lnTo>
                    <a:lnTo>
                      <a:pt x="275" y="349"/>
                    </a:lnTo>
                    <a:lnTo>
                      <a:pt x="284" y="378"/>
                    </a:lnTo>
                    <a:lnTo>
                      <a:pt x="294" y="406"/>
                    </a:lnTo>
                    <a:lnTo>
                      <a:pt x="303" y="436"/>
                    </a:lnTo>
                    <a:lnTo>
                      <a:pt x="308" y="465"/>
                    </a:lnTo>
                    <a:lnTo>
                      <a:pt x="317" y="493"/>
                    </a:lnTo>
                    <a:lnTo>
                      <a:pt x="322" y="522"/>
                    </a:lnTo>
                    <a:lnTo>
                      <a:pt x="322" y="551"/>
                    </a:lnTo>
                    <a:lnTo>
                      <a:pt x="327" y="579"/>
                    </a:lnTo>
                    <a:lnTo>
                      <a:pt x="327" y="560"/>
                    </a:lnTo>
                    <a:lnTo>
                      <a:pt x="332" y="536"/>
                    </a:lnTo>
                    <a:lnTo>
                      <a:pt x="336" y="512"/>
                    </a:lnTo>
                    <a:lnTo>
                      <a:pt x="341" y="488"/>
                    </a:lnTo>
                    <a:lnTo>
                      <a:pt x="350" y="469"/>
                    </a:lnTo>
                    <a:lnTo>
                      <a:pt x="355" y="445"/>
                    </a:lnTo>
                    <a:lnTo>
                      <a:pt x="365" y="425"/>
                    </a:lnTo>
                    <a:lnTo>
                      <a:pt x="374" y="402"/>
                    </a:lnTo>
                    <a:lnTo>
                      <a:pt x="388" y="382"/>
                    </a:lnTo>
                    <a:lnTo>
                      <a:pt x="398" y="363"/>
                    </a:lnTo>
                    <a:lnTo>
                      <a:pt x="412" y="344"/>
                    </a:lnTo>
                    <a:lnTo>
                      <a:pt x="426" y="325"/>
                    </a:lnTo>
                    <a:lnTo>
                      <a:pt x="441" y="311"/>
                    </a:lnTo>
                    <a:lnTo>
                      <a:pt x="460" y="292"/>
                    </a:lnTo>
                    <a:lnTo>
                      <a:pt x="474" y="277"/>
                    </a:lnTo>
                    <a:lnTo>
                      <a:pt x="493" y="263"/>
                    </a:lnTo>
                    <a:lnTo>
                      <a:pt x="507" y="244"/>
                    </a:lnTo>
                    <a:lnTo>
                      <a:pt x="526" y="234"/>
                    </a:lnTo>
                    <a:lnTo>
                      <a:pt x="546" y="220"/>
                    </a:lnTo>
                    <a:lnTo>
                      <a:pt x="617" y="177"/>
                    </a:lnTo>
                    <a:lnTo>
                      <a:pt x="702" y="133"/>
                    </a:lnTo>
                    <a:lnTo>
                      <a:pt x="812" y="85"/>
                    </a:lnTo>
                    <a:lnTo>
                      <a:pt x="925" y="47"/>
                    </a:lnTo>
                    <a:lnTo>
                      <a:pt x="1068" y="0"/>
                    </a:lnTo>
                    <a:lnTo>
                      <a:pt x="1006" y="0"/>
                    </a:lnTo>
                    <a:lnTo>
                      <a:pt x="1006" y="14"/>
                    </a:lnTo>
                    <a:lnTo>
                      <a:pt x="0" y="14"/>
                    </a:lnTo>
                    <a:lnTo>
                      <a:pt x="4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5997600" y="4981680"/>
                <a:ext cx="71640" cy="36720"/>
              </a:xfrm>
              <a:custGeom>
                <a:avLst/>
                <a:gdLst/>
                <a:ahLst/>
                <a:rect l="0" t="0" r="r" b="b"/>
                <a:pathLst>
                  <a:path fill="none" w="199" h="102">
                    <a:moveTo>
                      <a:pt x="199" y="102"/>
                    </a:moveTo>
                    <a:lnTo>
                      <a:pt x="199" y="0"/>
                    </a:lnTo>
                    <a:lnTo>
                      <a:pt x="189" y="0"/>
                    </a:lnTo>
                    <a:lnTo>
                      <a:pt x="189" y="83"/>
                    </a:lnTo>
                    <a:lnTo>
                      <a:pt x="0" y="83"/>
                    </a:lnTo>
                    <a:lnTo>
                      <a:pt x="56" y="102"/>
                    </a:lnTo>
                    <a:lnTo>
                      <a:pt x="56" y="88"/>
                    </a:lnTo>
                    <a:lnTo>
                      <a:pt x="189" y="88"/>
                    </a:lnTo>
                    <a:lnTo>
                      <a:pt x="166" y="102"/>
                    </a:lnTo>
                    <a:lnTo>
                      <a:pt x="199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6013440" y="4968720"/>
                <a:ext cx="437040" cy="12960"/>
              </a:xfrm>
              <a:custGeom>
                <a:avLst/>
                <a:gdLst/>
                <a:ahLst/>
                <a:rect l="0" t="0" r="r" b="b"/>
                <a:pathLst>
                  <a:path fill="none" w="1214" h="36">
                    <a:moveTo>
                      <a:pt x="146" y="36"/>
                    </a:moveTo>
                    <a:lnTo>
                      <a:pt x="184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14" y="15"/>
                    </a:lnTo>
                    <a:lnTo>
                      <a:pt x="1181" y="36"/>
                    </a:lnTo>
                    <a:lnTo>
                      <a:pt x="146" y="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6438960" y="4981680"/>
                <a:ext cx="14760" cy="32040"/>
              </a:xfrm>
              <a:custGeom>
                <a:avLst/>
                <a:gdLst/>
                <a:ahLst/>
                <a:rect l="0" t="0" r="r" b="b"/>
                <a:pathLst>
                  <a:path fill="none" w="41" h="89">
                    <a:moveTo>
                      <a:pt x="0" y="0"/>
                    </a:moveTo>
                    <a:lnTo>
                      <a:pt x="41" y="0"/>
                    </a:lnTo>
                    <a:lnTo>
                      <a:pt x="41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6453360" y="499896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0" y="19"/>
                    </a:moveTo>
                    <a:lnTo>
                      <a:pt x="41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5656320" y="4981680"/>
                <a:ext cx="375120" cy="81360"/>
              </a:xfrm>
              <a:custGeom>
                <a:avLst/>
                <a:gdLst/>
                <a:ahLst/>
                <a:rect l="0" t="0" r="r" b="b"/>
                <a:pathLst>
                  <a:path fill="none" w="1042" h="226">
                    <a:moveTo>
                      <a:pt x="1004" y="108"/>
                    </a:moveTo>
                    <a:lnTo>
                      <a:pt x="1023" y="113"/>
                    </a:lnTo>
                    <a:lnTo>
                      <a:pt x="680" y="118"/>
                    </a:lnTo>
                    <a:lnTo>
                      <a:pt x="847" y="51"/>
                    </a:lnTo>
                    <a:lnTo>
                      <a:pt x="847" y="0"/>
                    </a:lnTo>
                    <a:lnTo>
                      <a:pt x="814" y="0"/>
                    </a:lnTo>
                    <a:lnTo>
                      <a:pt x="814" y="57"/>
                    </a:lnTo>
                    <a:lnTo>
                      <a:pt x="713" y="57"/>
                    </a:lnTo>
                    <a:lnTo>
                      <a:pt x="109" y="99"/>
                    </a:lnTo>
                    <a:lnTo>
                      <a:pt x="185" y="99"/>
                    </a:lnTo>
                    <a:lnTo>
                      <a:pt x="185" y="155"/>
                    </a:lnTo>
                    <a:lnTo>
                      <a:pt x="0" y="155"/>
                    </a:lnTo>
                    <a:lnTo>
                      <a:pt x="0" y="160"/>
                    </a:lnTo>
                    <a:lnTo>
                      <a:pt x="395" y="160"/>
                    </a:lnTo>
                    <a:lnTo>
                      <a:pt x="485" y="226"/>
                    </a:lnTo>
                    <a:lnTo>
                      <a:pt x="371" y="136"/>
                    </a:lnTo>
                    <a:lnTo>
                      <a:pt x="371" y="85"/>
                    </a:lnTo>
                    <a:lnTo>
                      <a:pt x="428" y="122"/>
                    </a:lnTo>
                    <a:lnTo>
                      <a:pt x="390" y="127"/>
                    </a:lnTo>
                    <a:lnTo>
                      <a:pt x="1042" y="113"/>
                    </a:lnTo>
                    <a:lnTo>
                      <a:pt x="1004" y="10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5656320" y="5027760"/>
                <a:ext cx="66960" cy="33840"/>
              </a:xfrm>
              <a:custGeom>
                <a:avLst/>
                <a:gdLst/>
                <a:ahLst/>
                <a:rect l="0" t="0" r="r" b="b"/>
                <a:pathLst>
                  <a:path fill="none" w="186" h="94">
                    <a:moveTo>
                      <a:pt x="0" y="94"/>
                    </a:moveTo>
                    <a:lnTo>
                      <a:pt x="0" y="0"/>
                    </a:lnTo>
                    <a:lnTo>
                      <a:pt x="18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H="1">
                <a:off x="5656320" y="503388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5656320" y="503064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566892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568152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569268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570564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5716440" y="502776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5668920" y="5010120"/>
                <a:ext cx="27360" cy="18000"/>
              </a:xfrm>
              <a:custGeom>
                <a:avLst/>
                <a:gdLst/>
                <a:ahLst/>
                <a:rect l="0" t="0" r="r" b="b"/>
                <a:pathLst>
                  <a:path fill="none" w="76" h="50">
                    <a:moveTo>
                      <a:pt x="58" y="50"/>
                    </a:moveTo>
                    <a:lnTo>
                      <a:pt x="58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24" y="30"/>
                    </a:lnTo>
                    <a:lnTo>
                      <a:pt x="24" y="50"/>
                    </a:lnTo>
                    <a:lnTo>
                      <a:pt x="58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5656320" y="4998960"/>
                <a:ext cx="12960" cy="28800"/>
              </a:xfrm>
              <a:custGeom>
                <a:avLst/>
                <a:gdLst/>
                <a:ahLst/>
                <a:rect l="0" t="0" r="r" b="b"/>
                <a:pathLst>
                  <a:path fill="none" w="36" h="80">
                    <a:moveTo>
                      <a:pt x="36" y="80"/>
                    </a:move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1" y="4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0" y="14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5695920" y="4968720"/>
                <a:ext cx="302040" cy="36720"/>
              </a:xfrm>
              <a:custGeom>
                <a:avLst/>
                <a:gdLst/>
                <a:ahLst/>
                <a:rect l="0" t="0" r="r" b="b"/>
                <a:pathLst>
                  <a:path fill="none" w="839" h="102">
                    <a:moveTo>
                      <a:pt x="0" y="102"/>
                    </a:moveTo>
                    <a:lnTo>
                      <a:pt x="839" y="0"/>
                    </a:lnTo>
                    <a:lnTo>
                      <a:pt x="739" y="43"/>
                    </a:lnTo>
                    <a:lnTo>
                      <a:pt x="605" y="43"/>
                    </a:lnTo>
                    <a:lnTo>
                      <a:pt x="605" y="87"/>
                    </a:lnTo>
                    <a:lnTo>
                      <a:pt x="591" y="48"/>
                    </a:lnTo>
                    <a:lnTo>
                      <a:pt x="0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5695920" y="4989600"/>
                <a:ext cx="209880" cy="18000"/>
              </a:xfrm>
              <a:custGeom>
                <a:avLst/>
                <a:gdLst/>
                <a:ahLst/>
                <a:rect l="0" t="0" r="r" b="b"/>
                <a:pathLst>
                  <a:path fill="none" w="583" h="50">
                    <a:moveTo>
                      <a:pt x="0" y="45"/>
                    </a:moveTo>
                    <a:lnTo>
                      <a:pt x="9" y="50"/>
                    </a:lnTo>
                    <a:lnTo>
                      <a:pt x="58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5630760" y="5062680"/>
                <a:ext cx="200520" cy="55800"/>
              </a:xfrm>
              <a:custGeom>
                <a:avLst/>
                <a:gdLst/>
                <a:ahLst/>
                <a:rect l="0" t="0" r="r" b="b"/>
                <a:pathLst>
                  <a:path fill="none" w="557" h="155">
                    <a:moveTo>
                      <a:pt x="557" y="0"/>
                    </a:moveTo>
                    <a:lnTo>
                      <a:pt x="557" y="14"/>
                    </a:lnTo>
                    <a:lnTo>
                      <a:pt x="552" y="43"/>
                    </a:lnTo>
                    <a:lnTo>
                      <a:pt x="548" y="67"/>
                    </a:lnTo>
                    <a:lnTo>
                      <a:pt x="533" y="97"/>
                    </a:lnTo>
                    <a:lnTo>
                      <a:pt x="519" y="126"/>
                    </a:lnTo>
                    <a:lnTo>
                      <a:pt x="495" y="155"/>
                    </a:lnTo>
                    <a:lnTo>
                      <a:pt x="371" y="145"/>
                    </a:lnTo>
                    <a:lnTo>
                      <a:pt x="0" y="0"/>
                    </a:lnTo>
                    <a:lnTo>
                      <a:pt x="55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5792760" y="5038560"/>
                <a:ext cx="1800" cy="25920"/>
              </a:xfrm>
              <a:custGeom>
                <a:avLst/>
                <a:gdLst/>
                <a:ahLst/>
                <a:rect l="0" t="0" r="r" b="b"/>
                <a:pathLst>
                  <a:path fill="none" w="5" h="72">
                    <a:moveTo>
                      <a:pt x="0" y="0"/>
                    </a:moveTo>
                    <a:lnTo>
                      <a:pt x="0" y="72"/>
                    </a:lnTo>
                    <a:lnTo>
                      <a:pt x="5" y="7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5629320" y="5068800"/>
                <a:ext cx="44640" cy="38520"/>
              </a:xfrm>
              <a:custGeom>
                <a:avLst/>
                <a:gdLst/>
                <a:ahLst/>
                <a:rect l="0" t="0" r="r" b="b"/>
                <a:pathLst>
                  <a:path fill="none" w="124" h="107">
                    <a:moveTo>
                      <a:pt x="14" y="0"/>
                    </a:moveTo>
                    <a:lnTo>
                      <a:pt x="95" y="60"/>
                    </a:lnTo>
                    <a:lnTo>
                      <a:pt x="95" y="74"/>
                    </a:lnTo>
                    <a:lnTo>
                      <a:pt x="91" y="89"/>
                    </a:lnTo>
                    <a:lnTo>
                      <a:pt x="81" y="94"/>
                    </a:lnTo>
                    <a:lnTo>
                      <a:pt x="61" y="98"/>
                    </a:lnTo>
                    <a:lnTo>
                      <a:pt x="0" y="98"/>
                    </a:lnTo>
                    <a:lnTo>
                      <a:pt x="4" y="103"/>
                    </a:lnTo>
                    <a:lnTo>
                      <a:pt x="86" y="107"/>
                    </a:lnTo>
                    <a:lnTo>
                      <a:pt x="100" y="103"/>
                    </a:lnTo>
                    <a:lnTo>
                      <a:pt x="110" y="94"/>
                    </a:lnTo>
                    <a:lnTo>
                      <a:pt x="114" y="84"/>
                    </a:lnTo>
                    <a:lnTo>
                      <a:pt x="119" y="70"/>
                    </a:lnTo>
                    <a:lnTo>
                      <a:pt x="124" y="4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H="1">
                <a:off x="5530680" y="5003640"/>
                <a:ext cx="125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5408640" y="5003640"/>
                <a:ext cx="248040" cy="39960"/>
              </a:xfrm>
              <a:custGeom>
                <a:avLst/>
                <a:gdLst/>
                <a:ahLst/>
                <a:rect l="0" t="0" r="r" b="b"/>
                <a:pathLst>
                  <a:path fill="none" w="689" h="111">
                    <a:moveTo>
                      <a:pt x="337" y="0"/>
                    </a:moveTo>
                    <a:lnTo>
                      <a:pt x="337" y="32"/>
                    </a:lnTo>
                    <a:lnTo>
                      <a:pt x="689" y="32"/>
                    </a:lnTo>
                    <a:lnTo>
                      <a:pt x="689" y="41"/>
                    </a:lnTo>
                    <a:lnTo>
                      <a:pt x="295" y="41"/>
                    </a:lnTo>
                    <a:lnTo>
                      <a:pt x="56" y="111"/>
                    </a:lnTo>
                    <a:lnTo>
                      <a:pt x="0" y="97"/>
                    </a:lnTo>
                    <a:lnTo>
                      <a:pt x="295" y="0"/>
                    </a:lnTo>
                    <a:lnTo>
                      <a:pt x="33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5418000" y="5014800"/>
                <a:ext cx="224280" cy="109800"/>
              </a:xfrm>
              <a:custGeom>
                <a:avLst/>
                <a:gdLst/>
                <a:ahLst/>
                <a:rect l="0" t="0" r="r" b="b"/>
                <a:pathLst>
                  <a:path fill="none" w="623" h="305">
                    <a:moveTo>
                      <a:pt x="623" y="57"/>
                    </a:moveTo>
                    <a:lnTo>
                      <a:pt x="609" y="71"/>
                    </a:lnTo>
                    <a:lnTo>
                      <a:pt x="600" y="71"/>
                    </a:lnTo>
                    <a:lnTo>
                      <a:pt x="600" y="95"/>
                    </a:lnTo>
                    <a:lnTo>
                      <a:pt x="481" y="95"/>
                    </a:lnTo>
                    <a:lnTo>
                      <a:pt x="481" y="133"/>
                    </a:lnTo>
                    <a:lnTo>
                      <a:pt x="571" y="233"/>
                    </a:lnTo>
                    <a:lnTo>
                      <a:pt x="552" y="219"/>
                    </a:lnTo>
                    <a:lnTo>
                      <a:pt x="552" y="248"/>
                    </a:lnTo>
                    <a:lnTo>
                      <a:pt x="490" y="238"/>
                    </a:lnTo>
                    <a:lnTo>
                      <a:pt x="490" y="305"/>
                    </a:lnTo>
                    <a:lnTo>
                      <a:pt x="356" y="243"/>
                    </a:lnTo>
                    <a:lnTo>
                      <a:pt x="356" y="157"/>
                    </a:lnTo>
                    <a:lnTo>
                      <a:pt x="342" y="157"/>
                    </a:lnTo>
                    <a:lnTo>
                      <a:pt x="342" y="205"/>
                    </a:lnTo>
                    <a:lnTo>
                      <a:pt x="328" y="205"/>
                    </a:lnTo>
                    <a:lnTo>
                      <a:pt x="328" y="157"/>
                    </a:lnTo>
                    <a:lnTo>
                      <a:pt x="314" y="157"/>
                    </a:lnTo>
                    <a:lnTo>
                      <a:pt x="314" y="243"/>
                    </a:lnTo>
                    <a:lnTo>
                      <a:pt x="314" y="147"/>
                    </a:lnTo>
                    <a:lnTo>
                      <a:pt x="200" y="147"/>
                    </a:lnTo>
                    <a:lnTo>
                      <a:pt x="186" y="133"/>
                    </a:lnTo>
                    <a:lnTo>
                      <a:pt x="219" y="133"/>
                    </a:lnTo>
                    <a:lnTo>
                      <a:pt x="219" y="85"/>
                    </a:lnTo>
                    <a:lnTo>
                      <a:pt x="104" y="109"/>
                    </a:lnTo>
                    <a:lnTo>
                      <a:pt x="151" y="229"/>
                    </a:lnTo>
                    <a:lnTo>
                      <a:pt x="0" y="142"/>
                    </a:lnTo>
                    <a:lnTo>
                      <a:pt x="0" y="118"/>
                    </a:lnTo>
                    <a:lnTo>
                      <a:pt x="219" y="61"/>
                    </a:lnTo>
                    <a:lnTo>
                      <a:pt x="219" y="23"/>
                    </a:lnTo>
                    <a:lnTo>
                      <a:pt x="271" y="0"/>
                    </a:lnTo>
                    <a:lnTo>
                      <a:pt x="271" y="57"/>
                    </a:lnTo>
                    <a:lnTo>
                      <a:pt x="623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5477040" y="509904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fill="none" w="270" h="67">
                    <a:moveTo>
                      <a:pt x="0" y="0"/>
                    </a:moveTo>
                    <a:lnTo>
                      <a:pt x="149" y="9"/>
                    </a:lnTo>
                    <a:lnTo>
                      <a:pt x="270" y="6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5589720" y="5048280"/>
                <a:ext cx="66960" cy="19440"/>
              </a:xfrm>
              <a:custGeom>
                <a:avLst/>
                <a:gdLst/>
                <a:ahLst/>
                <a:rect l="0" t="0" r="r" b="b"/>
                <a:pathLst>
                  <a:path fill="none" w="186" h="54">
                    <a:moveTo>
                      <a:pt x="47" y="0"/>
                    </a:moveTo>
                    <a:lnTo>
                      <a:pt x="47" y="45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14" y="54"/>
                    </a:lnTo>
                    <a:lnTo>
                      <a:pt x="95" y="45"/>
                    </a:lnTo>
                    <a:lnTo>
                      <a:pt x="186" y="45"/>
                    </a:lnTo>
                    <a:lnTo>
                      <a:pt x="186" y="0"/>
                    </a:lnTo>
                    <a:lnTo>
                      <a:pt x="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5408640" y="4997520"/>
                <a:ext cx="251280" cy="57600"/>
              </a:xfrm>
              <a:custGeom>
                <a:avLst/>
                <a:gdLst/>
                <a:ahLst/>
                <a:rect l="0" t="0" r="r" b="b"/>
                <a:pathLst>
                  <a:path fill="none" w="698" h="160">
                    <a:moveTo>
                      <a:pt x="57" y="160"/>
                    </a:moveTo>
                    <a:lnTo>
                      <a:pt x="57" y="131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296" y="0"/>
                    </a:lnTo>
                    <a:lnTo>
                      <a:pt x="378" y="0"/>
                    </a:lnTo>
                    <a:lnTo>
                      <a:pt x="411" y="9"/>
                    </a:lnTo>
                    <a:lnTo>
                      <a:pt x="698" y="9"/>
                    </a:lnTo>
                    <a:lnTo>
                      <a:pt x="698" y="14"/>
                    </a:lnTo>
                    <a:lnTo>
                      <a:pt x="411" y="14"/>
                    </a:lnTo>
                    <a:lnTo>
                      <a:pt x="378" y="4"/>
                    </a:lnTo>
                    <a:lnTo>
                      <a:pt x="296" y="4"/>
                    </a:lnTo>
                    <a:lnTo>
                      <a:pt x="296" y="19"/>
                    </a:lnTo>
                    <a:lnTo>
                      <a:pt x="263" y="19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57" y="16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5506920" y="5102280"/>
                <a:ext cx="135360" cy="54360"/>
              </a:xfrm>
              <a:custGeom>
                <a:avLst/>
                <a:gdLst/>
                <a:ahLst/>
                <a:rect l="0" t="0" r="r" b="b"/>
                <a:pathLst>
                  <a:path fill="none" w="376" h="151">
                    <a:moveTo>
                      <a:pt x="334" y="0"/>
                    </a:moveTo>
                    <a:lnTo>
                      <a:pt x="343" y="4"/>
                    </a:lnTo>
                    <a:lnTo>
                      <a:pt x="376" y="4"/>
                    </a:lnTo>
                    <a:lnTo>
                      <a:pt x="376" y="132"/>
                    </a:lnTo>
                    <a:lnTo>
                      <a:pt x="353" y="151"/>
                    </a:lnTo>
                    <a:lnTo>
                      <a:pt x="18" y="49"/>
                    </a:lnTo>
                    <a:lnTo>
                      <a:pt x="37" y="83"/>
                    </a:lnTo>
                    <a:lnTo>
                      <a:pt x="4" y="49"/>
                    </a:lnTo>
                    <a:lnTo>
                      <a:pt x="0" y="9"/>
                    </a:lnTo>
                    <a:lnTo>
                      <a:pt x="9" y="39"/>
                    </a:lnTo>
                    <a:lnTo>
                      <a:pt x="334" y="122"/>
                    </a:lnTo>
                    <a:lnTo>
                      <a:pt x="33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5597640" y="510228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fill="none" w="54" h="89">
                    <a:moveTo>
                      <a:pt x="54" y="0"/>
                    </a:moveTo>
                    <a:lnTo>
                      <a:pt x="54" y="8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50" y="79"/>
                    </a:lnTo>
                    <a:lnTo>
                      <a:pt x="50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5597640" y="5100480"/>
                <a:ext cx="5040" cy="27360"/>
              </a:xfrm>
              <a:custGeom>
                <a:avLst/>
                <a:gdLst/>
                <a:ahLst/>
                <a:rect l="0" t="0" r="r" b="b"/>
                <a:pathLst>
                  <a:path fill="none" w="14" h="76">
                    <a:moveTo>
                      <a:pt x="0" y="0"/>
                    </a:moveTo>
                    <a:lnTo>
                      <a:pt x="0" y="76"/>
                    </a:lnTo>
                    <a:lnTo>
                      <a:pt x="14" y="76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5470560" y="506736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4"/>
                    </a:moveTo>
                    <a:lnTo>
                      <a:pt x="25" y="63"/>
                    </a:lnTo>
                    <a:lnTo>
                      <a:pt x="41" y="63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5459400" y="505764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0" y="0"/>
                    </a:moveTo>
                    <a:lnTo>
                      <a:pt x="41" y="102"/>
                    </a:lnTo>
                    <a:lnTo>
                      <a:pt x="50" y="102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5477040" y="5048280"/>
                <a:ext cx="8280" cy="11520"/>
              </a:xfrm>
              <a:custGeom>
                <a:avLst/>
                <a:gdLst/>
                <a:ahLst/>
                <a:rect l="0" t="0" r="r" b="b"/>
                <a:pathLst>
                  <a:path fill="none" w="23" h="32">
                    <a:moveTo>
                      <a:pt x="23" y="0"/>
                    </a:moveTo>
                    <a:lnTo>
                      <a:pt x="23" y="32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6138720" y="5164200"/>
                <a:ext cx="143280" cy="89280"/>
              </a:xfrm>
              <a:custGeom>
                <a:avLst/>
                <a:gdLst/>
                <a:ahLst/>
                <a:rect l="0" t="0" r="r" b="b"/>
                <a:pathLst>
                  <a:path fill="none" w="398" h="248">
                    <a:moveTo>
                      <a:pt x="0" y="248"/>
                    </a:moveTo>
                    <a:lnTo>
                      <a:pt x="33" y="248"/>
                    </a:lnTo>
                    <a:lnTo>
                      <a:pt x="38" y="225"/>
                    </a:lnTo>
                    <a:lnTo>
                      <a:pt x="66" y="225"/>
                    </a:lnTo>
                    <a:lnTo>
                      <a:pt x="76" y="210"/>
                    </a:lnTo>
                    <a:lnTo>
                      <a:pt x="106" y="206"/>
                    </a:lnTo>
                    <a:lnTo>
                      <a:pt x="120" y="229"/>
                    </a:lnTo>
                    <a:lnTo>
                      <a:pt x="134" y="225"/>
                    </a:lnTo>
                    <a:lnTo>
                      <a:pt x="134" y="206"/>
                    </a:lnTo>
                    <a:lnTo>
                      <a:pt x="163" y="196"/>
                    </a:lnTo>
                    <a:lnTo>
                      <a:pt x="182" y="210"/>
                    </a:lnTo>
                    <a:lnTo>
                      <a:pt x="192" y="201"/>
                    </a:lnTo>
                    <a:lnTo>
                      <a:pt x="201" y="181"/>
                    </a:lnTo>
                    <a:lnTo>
                      <a:pt x="225" y="176"/>
                    </a:lnTo>
                    <a:lnTo>
                      <a:pt x="235" y="167"/>
                    </a:lnTo>
                    <a:lnTo>
                      <a:pt x="268" y="162"/>
                    </a:lnTo>
                    <a:lnTo>
                      <a:pt x="303" y="181"/>
                    </a:lnTo>
                    <a:lnTo>
                      <a:pt x="317" y="171"/>
                    </a:lnTo>
                    <a:lnTo>
                      <a:pt x="317" y="152"/>
                    </a:lnTo>
                    <a:lnTo>
                      <a:pt x="331" y="152"/>
                    </a:lnTo>
                    <a:lnTo>
                      <a:pt x="379" y="171"/>
                    </a:lnTo>
                    <a:lnTo>
                      <a:pt x="398" y="167"/>
                    </a:lnTo>
                    <a:lnTo>
                      <a:pt x="389" y="119"/>
                    </a:lnTo>
                    <a:lnTo>
                      <a:pt x="351" y="105"/>
                    </a:lnTo>
                    <a:lnTo>
                      <a:pt x="331" y="91"/>
                    </a:lnTo>
                    <a:lnTo>
                      <a:pt x="292" y="100"/>
                    </a:lnTo>
                    <a:lnTo>
                      <a:pt x="278" y="91"/>
                    </a:lnTo>
                    <a:lnTo>
                      <a:pt x="283" y="72"/>
                    </a:lnTo>
                    <a:lnTo>
                      <a:pt x="268" y="56"/>
                    </a:lnTo>
                    <a:lnTo>
                      <a:pt x="278" y="33"/>
                    </a:lnTo>
                    <a:lnTo>
                      <a:pt x="268" y="0"/>
                    </a:lnTo>
                    <a:lnTo>
                      <a:pt x="225" y="4"/>
                    </a:lnTo>
                    <a:lnTo>
                      <a:pt x="206" y="23"/>
                    </a:lnTo>
                    <a:lnTo>
                      <a:pt x="182" y="28"/>
                    </a:lnTo>
                    <a:lnTo>
                      <a:pt x="163" y="52"/>
                    </a:lnTo>
                    <a:lnTo>
                      <a:pt x="144" y="81"/>
                    </a:lnTo>
                    <a:lnTo>
                      <a:pt x="173" y="52"/>
                    </a:lnTo>
                    <a:lnTo>
                      <a:pt x="206" y="33"/>
                    </a:lnTo>
                    <a:lnTo>
                      <a:pt x="220" y="14"/>
                    </a:lnTo>
                    <a:lnTo>
                      <a:pt x="254" y="18"/>
                    </a:lnTo>
                    <a:lnTo>
                      <a:pt x="263" y="42"/>
                    </a:lnTo>
                    <a:lnTo>
                      <a:pt x="254" y="56"/>
                    </a:lnTo>
                    <a:lnTo>
                      <a:pt x="268" y="67"/>
                    </a:lnTo>
                    <a:lnTo>
                      <a:pt x="263" y="95"/>
                    </a:lnTo>
                    <a:lnTo>
                      <a:pt x="273" y="110"/>
                    </a:lnTo>
                    <a:lnTo>
                      <a:pt x="254" y="110"/>
                    </a:lnTo>
                    <a:lnTo>
                      <a:pt x="254" y="129"/>
                    </a:lnTo>
                    <a:lnTo>
                      <a:pt x="278" y="133"/>
                    </a:lnTo>
                    <a:lnTo>
                      <a:pt x="278" y="124"/>
                    </a:lnTo>
                    <a:lnTo>
                      <a:pt x="292" y="119"/>
                    </a:lnTo>
                    <a:lnTo>
                      <a:pt x="308" y="124"/>
                    </a:lnTo>
                    <a:lnTo>
                      <a:pt x="336" y="110"/>
                    </a:lnTo>
                    <a:lnTo>
                      <a:pt x="351" y="138"/>
                    </a:lnTo>
                    <a:lnTo>
                      <a:pt x="322" y="138"/>
                    </a:lnTo>
                    <a:lnTo>
                      <a:pt x="303" y="157"/>
                    </a:lnTo>
                    <a:lnTo>
                      <a:pt x="263" y="152"/>
                    </a:lnTo>
                    <a:lnTo>
                      <a:pt x="230" y="157"/>
                    </a:lnTo>
                    <a:lnTo>
                      <a:pt x="216" y="143"/>
                    </a:lnTo>
                    <a:lnTo>
                      <a:pt x="192" y="148"/>
                    </a:lnTo>
                    <a:lnTo>
                      <a:pt x="187" y="181"/>
                    </a:lnTo>
                    <a:lnTo>
                      <a:pt x="182" y="196"/>
                    </a:lnTo>
                    <a:lnTo>
                      <a:pt x="163" y="181"/>
                    </a:lnTo>
                    <a:lnTo>
                      <a:pt x="130" y="191"/>
                    </a:lnTo>
                    <a:lnTo>
                      <a:pt x="115" y="181"/>
                    </a:lnTo>
                    <a:lnTo>
                      <a:pt x="95" y="187"/>
                    </a:lnTo>
                    <a:lnTo>
                      <a:pt x="90" y="201"/>
                    </a:lnTo>
                    <a:lnTo>
                      <a:pt x="62" y="206"/>
                    </a:lnTo>
                    <a:lnTo>
                      <a:pt x="47" y="215"/>
                    </a:lnTo>
                    <a:lnTo>
                      <a:pt x="23" y="215"/>
                    </a:lnTo>
                    <a:lnTo>
                      <a:pt x="23" y="239"/>
                    </a:lnTo>
                    <a:lnTo>
                      <a:pt x="0" y="2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219720" y="519588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fill="none" w="19" h="23">
                    <a:moveTo>
                      <a:pt x="4" y="0"/>
                    </a:moveTo>
                    <a:lnTo>
                      <a:pt x="19" y="5"/>
                    </a:lnTo>
                    <a:lnTo>
                      <a:pt x="9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6248520" y="5183280"/>
                <a:ext cx="9720" cy="8280"/>
              </a:xfrm>
              <a:custGeom>
                <a:avLst/>
                <a:gdLst/>
                <a:ahLst/>
                <a:rect l="0" t="0" r="r" b="b"/>
                <a:pathLst>
                  <a:path fill="none" w="27" h="23">
                    <a:moveTo>
                      <a:pt x="10" y="2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7" y="8"/>
                    </a:lnTo>
                    <a:lnTo>
                      <a:pt x="27" y="23"/>
                    </a:lnTo>
                    <a:lnTo>
                      <a:pt x="10" y="2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6246720" y="516096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9" y="0"/>
                    </a:moveTo>
                    <a:lnTo>
                      <a:pt x="0" y="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5756400" y="5145120"/>
                <a:ext cx="427320" cy="79560"/>
              </a:xfrm>
              <a:custGeom>
                <a:avLst/>
                <a:gdLst/>
                <a:ahLst/>
                <a:rect l="0" t="0" r="r" b="b"/>
                <a:pathLst>
                  <a:path fill="none" w="1187" h="221">
                    <a:moveTo>
                      <a:pt x="1187" y="221"/>
                    </a:moveTo>
                    <a:lnTo>
                      <a:pt x="1163" y="197"/>
                    </a:lnTo>
                    <a:lnTo>
                      <a:pt x="1135" y="187"/>
                    </a:lnTo>
                    <a:lnTo>
                      <a:pt x="1125" y="173"/>
                    </a:lnTo>
                    <a:lnTo>
                      <a:pt x="1125" y="144"/>
                    </a:lnTo>
                    <a:lnTo>
                      <a:pt x="1106" y="125"/>
                    </a:lnTo>
                    <a:lnTo>
                      <a:pt x="1101" y="105"/>
                    </a:lnTo>
                    <a:lnTo>
                      <a:pt x="1068" y="105"/>
                    </a:lnTo>
                    <a:lnTo>
                      <a:pt x="1044" y="105"/>
                    </a:lnTo>
                    <a:lnTo>
                      <a:pt x="1016" y="95"/>
                    </a:lnTo>
                    <a:lnTo>
                      <a:pt x="997" y="57"/>
                    </a:lnTo>
                    <a:lnTo>
                      <a:pt x="978" y="57"/>
                    </a:lnTo>
                    <a:lnTo>
                      <a:pt x="959" y="38"/>
                    </a:lnTo>
                    <a:lnTo>
                      <a:pt x="930" y="47"/>
                    </a:lnTo>
                    <a:lnTo>
                      <a:pt x="907" y="57"/>
                    </a:lnTo>
                    <a:lnTo>
                      <a:pt x="893" y="47"/>
                    </a:lnTo>
                    <a:lnTo>
                      <a:pt x="859" y="23"/>
                    </a:lnTo>
                    <a:lnTo>
                      <a:pt x="821" y="19"/>
                    </a:lnTo>
                    <a:lnTo>
                      <a:pt x="793" y="0"/>
                    </a:lnTo>
                    <a:lnTo>
                      <a:pt x="760" y="9"/>
                    </a:lnTo>
                    <a:lnTo>
                      <a:pt x="741" y="38"/>
                    </a:lnTo>
                    <a:lnTo>
                      <a:pt x="693" y="52"/>
                    </a:lnTo>
                    <a:lnTo>
                      <a:pt x="679" y="67"/>
                    </a:lnTo>
                    <a:lnTo>
                      <a:pt x="646" y="67"/>
                    </a:lnTo>
                    <a:lnTo>
                      <a:pt x="613" y="67"/>
                    </a:lnTo>
                    <a:lnTo>
                      <a:pt x="594" y="86"/>
                    </a:lnTo>
                    <a:lnTo>
                      <a:pt x="574" y="100"/>
                    </a:lnTo>
                    <a:lnTo>
                      <a:pt x="536" y="111"/>
                    </a:lnTo>
                    <a:lnTo>
                      <a:pt x="517" y="100"/>
                    </a:lnTo>
                    <a:lnTo>
                      <a:pt x="517" y="71"/>
                    </a:lnTo>
                    <a:lnTo>
                      <a:pt x="502" y="62"/>
                    </a:lnTo>
                    <a:lnTo>
                      <a:pt x="507" y="43"/>
                    </a:lnTo>
                    <a:lnTo>
                      <a:pt x="460" y="28"/>
                    </a:lnTo>
                    <a:lnTo>
                      <a:pt x="450" y="47"/>
                    </a:lnTo>
                    <a:lnTo>
                      <a:pt x="398" y="28"/>
                    </a:lnTo>
                    <a:lnTo>
                      <a:pt x="351" y="38"/>
                    </a:lnTo>
                    <a:lnTo>
                      <a:pt x="322" y="57"/>
                    </a:lnTo>
                    <a:lnTo>
                      <a:pt x="246" y="76"/>
                    </a:lnTo>
                    <a:lnTo>
                      <a:pt x="223" y="100"/>
                    </a:lnTo>
                    <a:lnTo>
                      <a:pt x="161" y="111"/>
                    </a:lnTo>
                    <a:lnTo>
                      <a:pt x="94" y="100"/>
                    </a:lnTo>
                    <a:lnTo>
                      <a:pt x="0" y="120"/>
                    </a:lnTo>
                    <a:lnTo>
                      <a:pt x="94" y="105"/>
                    </a:lnTo>
                    <a:lnTo>
                      <a:pt x="142" y="116"/>
                    </a:lnTo>
                    <a:lnTo>
                      <a:pt x="180" y="116"/>
                    </a:lnTo>
                    <a:lnTo>
                      <a:pt x="227" y="105"/>
                    </a:lnTo>
                    <a:lnTo>
                      <a:pt x="256" y="86"/>
                    </a:lnTo>
                    <a:lnTo>
                      <a:pt x="289" y="86"/>
                    </a:lnTo>
                    <a:lnTo>
                      <a:pt x="303" y="95"/>
                    </a:lnTo>
                    <a:lnTo>
                      <a:pt x="336" y="76"/>
                    </a:lnTo>
                    <a:lnTo>
                      <a:pt x="360" y="52"/>
                    </a:lnTo>
                    <a:lnTo>
                      <a:pt x="403" y="57"/>
                    </a:lnTo>
                    <a:lnTo>
                      <a:pt x="422" y="52"/>
                    </a:lnTo>
                    <a:lnTo>
                      <a:pt x="455" y="62"/>
                    </a:lnTo>
                    <a:lnTo>
                      <a:pt x="488" y="57"/>
                    </a:lnTo>
                    <a:lnTo>
                      <a:pt x="502" y="81"/>
                    </a:lnTo>
                    <a:lnTo>
                      <a:pt x="498" y="95"/>
                    </a:lnTo>
                    <a:lnTo>
                      <a:pt x="479" y="95"/>
                    </a:lnTo>
                    <a:lnTo>
                      <a:pt x="474" y="116"/>
                    </a:lnTo>
                    <a:lnTo>
                      <a:pt x="498" y="135"/>
                    </a:lnTo>
                    <a:lnTo>
                      <a:pt x="521" y="120"/>
                    </a:lnTo>
                    <a:lnTo>
                      <a:pt x="536" y="140"/>
                    </a:lnTo>
                    <a:lnTo>
                      <a:pt x="550" y="120"/>
                    </a:lnTo>
                    <a:lnTo>
                      <a:pt x="588" y="105"/>
                    </a:lnTo>
                    <a:lnTo>
                      <a:pt x="622" y="86"/>
                    </a:lnTo>
                    <a:lnTo>
                      <a:pt x="651" y="86"/>
                    </a:lnTo>
                    <a:lnTo>
                      <a:pt x="679" y="76"/>
                    </a:lnTo>
                    <a:lnTo>
                      <a:pt x="712" y="71"/>
                    </a:lnTo>
                    <a:lnTo>
                      <a:pt x="741" y="47"/>
                    </a:lnTo>
                    <a:lnTo>
                      <a:pt x="774" y="47"/>
                    </a:lnTo>
                    <a:lnTo>
                      <a:pt x="793" y="28"/>
                    </a:lnTo>
                    <a:lnTo>
                      <a:pt x="826" y="33"/>
                    </a:lnTo>
                    <a:lnTo>
                      <a:pt x="864" y="33"/>
                    </a:lnTo>
                    <a:lnTo>
                      <a:pt x="897" y="76"/>
                    </a:lnTo>
                    <a:lnTo>
                      <a:pt x="940" y="67"/>
                    </a:lnTo>
                    <a:lnTo>
                      <a:pt x="983" y="100"/>
                    </a:lnTo>
                    <a:lnTo>
                      <a:pt x="997" y="91"/>
                    </a:lnTo>
                    <a:lnTo>
                      <a:pt x="1011" y="105"/>
                    </a:lnTo>
                    <a:lnTo>
                      <a:pt x="1044" y="116"/>
                    </a:lnTo>
                    <a:lnTo>
                      <a:pt x="1082" y="120"/>
                    </a:lnTo>
                    <a:lnTo>
                      <a:pt x="1101" y="154"/>
                    </a:lnTo>
                    <a:lnTo>
                      <a:pt x="1116" y="163"/>
                    </a:lnTo>
                    <a:lnTo>
                      <a:pt x="1111" y="192"/>
                    </a:lnTo>
                    <a:lnTo>
                      <a:pt x="1158" y="207"/>
                    </a:lnTo>
                    <a:lnTo>
                      <a:pt x="1187" y="22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5951520" y="5218200"/>
                <a:ext cx="173520" cy="32040"/>
              </a:xfrm>
              <a:custGeom>
                <a:avLst/>
                <a:gdLst/>
                <a:ahLst/>
                <a:rect l="0" t="0" r="r" b="b"/>
                <a:pathLst>
                  <a:path fill="none" w="482" h="89">
                    <a:moveTo>
                      <a:pt x="482" y="89"/>
                    </a:moveTo>
                    <a:lnTo>
                      <a:pt x="439" y="69"/>
                    </a:lnTo>
                    <a:lnTo>
                      <a:pt x="406" y="74"/>
                    </a:lnTo>
                    <a:lnTo>
                      <a:pt x="377" y="79"/>
                    </a:lnTo>
                    <a:lnTo>
                      <a:pt x="357" y="74"/>
                    </a:lnTo>
                    <a:lnTo>
                      <a:pt x="334" y="64"/>
                    </a:lnTo>
                    <a:lnTo>
                      <a:pt x="305" y="64"/>
                    </a:lnTo>
                    <a:lnTo>
                      <a:pt x="291" y="69"/>
                    </a:lnTo>
                    <a:lnTo>
                      <a:pt x="267" y="69"/>
                    </a:lnTo>
                    <a:lnTo>
                      <a:pt x="234" y="64"/>
                    </a:lnTo>
                    <a:lnTo>
                      <a:pt x="181" y="64"/>
                    </a:lnTo>
                    <a:lnTo>
                      <a:pt x="162" y="29"/>
                    </a:lnTo>
                    <a:lnTo>
                      <a:pt x="139" y="34"/>
                    </a:lnTo>
                    <a:lnTo>
                      <a:pt x="129" y="9"/>
                    </a:lnTo>
                    <a:lnTo>
                      <a:pt x="99" y="0"/>
                    </a:lnTo>
                    <a:lnTo>
                      <a:pt x="90" y="19"/>
                    </a:lnTo>
                    <a:lnTo>
                      <a:pt x="80" y="4"/>
                    </a:lnTo>
                    <a:lnTo>
                      <a:pt x="52" y="9"/>
                    </a:lnTo>
                    <a:lnTo>
                      <a:pt x="71" y="24"/>
                    </a:lnTo>
                    <a:lnTo>
                      <a:pt x="66" y="34"/>
                    </a:lnTo>
                    <a:lnTo>
                      <a:pt x="38" y="45"/>
                    </a:lnTo>
                    <a:lnTo>
                      <a:pt x="38" y="59"/>
                    </a:lnTo>
                    <a:lnTo>
                      <a:pt x="0" y="64"/>
                    </a:lnTo>
                    <a:lnTo>
                      <a:pt x="47" y="64"/>
                    </a:lnTo>
                    <a:lnTo>
                      <a:pt x="71" y="45"/>
                    </a:lnTo>
                    <a:lnTo>
                      <a:pt x="95" y="34"/>
                    </a:lnTo>
                    <a:lnTo>
                      <a:pt x="114" y="34"/>
                    </a:lnTo>
                    <a:lnTo>
                      <a:pt x="109" y="54"/>
                    </a:lnTo>
                    <a:lnTo>
                      <a:pt x="139" y="64"/>
                    </a:lnTo>
                    <a:lnTo>
                      <a:pt x="153" y="54"/>
                    </a:lnTo>
                    <a:lnTo>
                      <a:pt x="172" y="74"/>
                    </a:lnTo>
                    <a:lnTo>
                      <a:pt x="234" y="84"/>
                    </a:lnTo>
                    <a:lnTo>
                      <a:pt x="291" y="79"/>
                    </a:lnTo>
                    <a:lnTo>
                      <a:pt x="363" y="89"/>
                    </a:lnTo>
                    <a:lnTo>
                      <a:pt x="430" y="74"/>
                    </a:lnTo>
                    <a:lnTo>
                      <a:pt x="482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5977080" y="5210280"/>
                <a:ext cx="8280" cy="8280"/>
              </a:xfrm>
              <a:custGeom>
                <a:avLst/>
                <a:gdLst/>
                <a:ahLst/>
                <a:rect l="0" t="0" r="r" b="b"/>
                <a:pathLst>
                  <a:path fill="none" w="23" h="23">
                    <a:moveTo>
                      <a:pt x="0" y="4"/>
                    </a:moveTo>
                    <a:lnTo>
                      <a:pt x="0" y="23"/>
                    </a:lnTo>
                    <a:lnTo>
                      <a:pt x="23" y="23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5954760" y="520848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18" y="0"/>
                    </a:moveTo>
                    <a:lnTo>
                      <a:pt x="0" y="4"/>
                    </a:lnTo>
                    <a:lnTo>
                      <a:pt x="14" y="14"/>
                    </a:lnTo>
                    <a:lnTo>
                      <a:pt x="27" y="9"/>
                    </a:lnTo>
                    <a:lnTo>
                      <a:pt x="23" y="4"/>
                    </a:lnTo>
                    <a:lnTo>
                      <a:pt x="1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5826240" y="5221440"/>
                <a:ext cx="116280" cy="18000"/>
              </a:xfrm>
              <a:custGeom>
                <a:avLst/>
                <a:gdLst/>
                <a:ahLst/>
                <a:rect l="0" t="0" r="r" b="b"/>
                <a:pathLst>
                  <a:path fill="none" w="323" h="50">
                    <a:moveTo>
                      <a:pt x="262" y="50"/>
                    </a:moveTo>
                    <a:lnTo>
                      <a:pt x="319" y="41"/>
                    </a:lnTo>
                    <a:lnTo>
                      <a:pt x="323" y="23"/>
                    </a:lnTo>
                    <a:lnTo>
                      <a:pt x="304" y="4"/>
                    </a:lnTo>
                    <a:lnTo>
                      <a:pt x="281" y="0"/>
                    </a:lnTo>
                    <a:lnTo>
                      <a:pt x="262" y="8"/>
                    </a:lnTo>
                    <a:lnTo>
                      <a:pt x="243" y="0"/>
                    </a:lnTo>
                    <a:lnTo>
                      <a:pt x="223" y="0"/>
                    </a:lnTo>
                    <a:lnTo>
                      <a:pt x="209" y="14"/>
                    </a:lnTo>
                    <a:lnTo>
                      <a:pt x="190" y="23"/>
                    </a:lnTo>
                    <a:lnTo>
                      <a:pt x="166" y="23"/>
                    </a:lnTo>
                    <a:lnTo>
                      <a:pt x="157" y="31"/>
                    </a:lnTo>
                    <a:lnTo>
                      <a:pt x="0" y="50"/>
                    </a:lnTo>
                    <a:lnTo>
                      <a:pt x="223" y="50"/>
                    </a:lnTo>
                    <a:lnTo>
                      <a:pt x="262" y="5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5656320" y="5200560"/>
                <a:ext cx="170280" cy="22680"/>
              </a:xfrm>
              <a:custGeom>
                <a:avLst/>
                <a:gdLst/>
                <a:ahLst/>
                <a:rect l="0" t="0" r="r" b="b"/>
                <a:pathLst>
                  <a:path fill="none" w="473" h="63">
                    <a:moveTo>
                      <a:pt x="473" y="58"/>
                    </a:moveTo>
                    <a:lnTo>
                      <a:pt x="473" y="34"/>
                    </a:lnTo>
                    <a:lnTo>
                      <a:pt x="440" y="24"/>
                    </a:lnTo>
                    <a:lnTo>
                      <a:pt x="402" y="29"/>
                    </a:lnTo>
                    <a:lnTo>
                      <a:pt x="383" y="4"/>
                    </a:lnTo>
                    <a:lnTo>
                      <a:pt x="353" y="9"/>
                    </a:lnTo>
                    <a:lnTo>
                      <a:pt x="329" y="24"/>
                    </a:lnTo>
                    <a:lnTo>
                      <a:pt x="291" y="24"/>
                    </a:lnTo>
                    <a:lnTo>
                      <a:pt x="277" y="24"/>
                    </a:lnTo>
                    <a:lnTo>
                      <a:pt x="258" y="38"/>
                    </a:lnTo>
                    <a:lnTo>
                      <a:pt x="186" y="34"/>
                    </a:lnTo>
                    <a:lnTo>
                      <a:pt x="163" y="9"/>
                    </a:lnTo>
                    <a:lnTo>
                      <a:pt x="109" y="0"/>
                    </a:lnTo>
                    <a:lnTo>
                      <a:pt x="76" y="24"/>
                    </a:lnTo>
                    <a:lnTo>
                      <a:pt x="33" y="24"/>
                    </a:lnTo>
                    <a:lnTo>
                      <a:pt x="47" y="9"/>
                    </a:lnTo>
                    <a:lnTo>
                      <a:pt x="0" y="34"/>
                    </a:lnTo>
                    <a:lnTo>
                      <a:pt x="28" y="38"/>
                    </a:lnTo>
                    <a:lnTo>
                      <a:pt x="76" y="43"/>
                    </a:lnTo>
                    <a:lnTo>
                      <a:pt x="114" y="34"/>
                    </a:lnTo>
                    <a:lnTo>
                      <a:pt x="182" y="43"/>
                    </a:lnTo>
                    <a:lnTo>
                      <a:pt x="239" y="49"/>
                    </a:lnTo>
                    <a:lnTo>
                      <a:pt x="310" y="43"/>
                    </a:lnTo>
                    <a:lnTo>
                      <a:pt x="353" y="58"/>
                    </a:lnTo>
                    <a:lnTo>
                      <a:pt x="416" y="63"/>
                    </a:lnTo>
                    <a:lnTo>
                      <a:pt x="450" y="54"/>
                    </a:lnTo>
                    <a:lnTo>
                      <a:pt x="473" y="5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5832360" y="5218200"/>
                <a:ext cx="39960" cy="9720"/>
              </a:xfrm>
              <a:custGeom>
                <a:avLst/>
                <a:gdLst/>
                <a:ahLst/>
                <a:rect l="0" t="0" r="r" b="b"/>
                <a:pathLst>
                  <a:path fill="none" w="111" h="27">
                    <a:moveTo>
                      <a:pt x="0" y="5"/>
                    </a:moveTo>
                    <a:lnTo>
                      <a:pt x="63" y="0"/>
                    </a:lnTo>
                    <a:lnTo>
                      <a:pt x="111" y="27"/>
                    </a:lnTo>
                    <a:lnTo>
                      <a:pt x="47" y="27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5516640" y="5138640"/>
                <a:ext cx="232200" cy="49680"/>
              </a:xfrm>
              <a:custGeom>
                <a:avLst/>
                <a:gdLst/>
                <a:ahLst/>
                <a:rect l="0" t="0" r="r" b="b"/>
                <a:pathLst>
                  <a:path fill="none" w="645" h="138">
                    <a:moveTo>
                      <a:pt x="645" y="138"/>
                    </a:moveTo>
                    <a:lnTo>
                      <a:pt x="621" y="119"/>
                    </a:lnTo>
                    <a:lnTo>
                      <a:pt x="583" y="115"/>
                    </a:lnTo>
                    <a:lnTo>
                      <a:pt x="564" y="138"/>
                    </a:lnTo>
                    <a:lnTo>
                      <a:pt x="502" y="129"/>
                    </a:lnTo>
                    <a:lnTo>
                      <a:pt x="477" y="105"/>
                    </a:lnTo>
                    <a:lnTo>
                      <a:pt x="444" y="105"/>
                    </a:lnTo>
                    <a:lnTo>
                      <a:pt x="425" y="110"/>
                    </a:lnTo>
                    <a:lnTo>
                      <a:pt x="406" y="99"/>
                    </a:lnTo>
                    <a:lnTo>
                      <a:pt x="372" y="110"/>
                    </a:lnTo>
                    <a:lnTo>
                      <a:pt x="358" y="90"/>
                    </a:lnTo>
                    <a:lnTo>
                      <a:pt x="310" y="99"/>
                    </a:lnTo>
                    <a:lnTo>
                      <a:pt x="306" y="85"/>
                    </a:lnTo>
                    <a:lnTo>
                      <a:pt x="263" y="76"/>
                    </a:lnTo>
                    <a:lnTo>
                      <a:pt x="225" y="85"/>
                    </a:lnTo>
                    <a:lnTo>
                      <a:pt x="229" y="66"/>
                    </a:lnTo>
                    <a:lnTo>
                      <a:pt x="210" y="62"/>
                    </a:lnTo>
                    <a:lnTo>
                      <a:pt x="182" y="71"/>
                    </a:lnTo>
                    <a:lnTo>
                      <a:pt x="152" y="62"/>
                    </a:lnTo>
                    <a:lnTo>
                      <a:pt x="143" y="52"/>
                    </a:lnTo>
                    <a:lnTo>
                      <a:pt x="104" y="48"/>
                    </a:lnTo>
                    <a:lnTo>
                      <a:pt x="81" y="62"/>
                    </a:lnTo>
                    <a:lnTo>
                      <a:pt x="57" y="57"/>
                    </a:lnTo>
                    <a:lnTo>
                      <a:pt x="0" y="81"/>
                    </a:lnTo>
                    <a:lnTo>
                      <a:pt x="61" y="43"/>
                    </a:lnTo>
                    <a:lnTo>
                      <a:pt x="81" y="48"/>
                    </a:lnTo>
                    <a:lnTo>
                      <a:pt x="104" y="32"/>
                    </a:lnTo>
                    <a:lnTo>
                      <a:pt x="138" y="32"/>
                    </a:lnTo>
                    <a:lnTo>
                      <a:pt x="33" y="0"/>
                    </a:lnTo>
                    <a:lnTo>
                      <a:pt x="210" y="52"/>
                    </a:lnTo>
                    <a:lnTo>
                      <a:pt x="239" y="48"/>
                    </a:lnTo>
                    <a:lnTo>
                      <a:pt x="253" y="71"/>
                    </a:lnTo>
                    <a:lnTo>
                      <a:pt x="310" y="66"/>
                    </a:lnTo>
                    <a:lnTo>
                      <a:pt x="330" y="85"/>
                    </a:lnTo>
                    <a:lnTo>
                      <a:pt x="363" y="85"/>
                    </a:lnTo>
                    <a:lnTo>
                      <a:pt x="382" y="90"/>
                    </a:lnTo>
                    <a:lnTo>
                      <a:pt x="415" y="85"/>
                    </a:lnTo>
                    <a:lnTo>
                      <a:pt x="439" y="99"/>
                    </a:lnTo>
                    <a:lnTo>
                      <a:pt x="477" y="85"/>
                    </a:lnTo>
                    <a:lnTo>
                      <a:pt x="521" y="115"/>
                    </a:lnTo>
                    <a:lnTo>
                      <a:pt x="555" y="119"/>
                    </a:lnTo>
                    <a:lnTo>
                      <a:pt x="583" y="105"/>
                    </a:lnTo>
                    <a:lnTo>
                      <a:pt x="631" y="115"/>
                    </a:lnTo>
                    <a:lnTo>
                      <a:pt x="645" y="1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5402160" y="5165640"/>
                <a:ext cx="284400" cy="28800"/>
              </a:xfrm>
              <a:custGeom>
                <a:avLst/>
                <a:gdLst/>
                <a:ahLst/>
                <a:rect l="0" t="0" r="r" b="b"/>
                <a:pathLst>
                  <a:path fill="none" w="790" h="80">
                    <a:moveTo>
                      <a:pt x="790" y="71"/>
                    </a:moveTo>
                    <a:lnTo>
                      <a:pt x="785" y="47"/>
                    </a:lnTo>
                    <a:lnTo>
                      <a:pt x="742" y="43"/>
                    </a:lnTo>
                    <a:lnTo>
                      <a:pt x="733" y="52"/>
                    </a:lnTo>
                    <a:lnTo>
                      <a:pt x="709" y="43"/>
                    </a:lnTo>
                    <a:lnTo>
                      <a:pt x="695" y="47"/>
                    </a:lnTo>
                    <a:lnTo>
                      <a:pt x="685" y="52"/>
                    </a:lnTo>
                    <a:lnTo>
                      <a:pt x="661" y="57"/>
                    </a:lnTo>
                    <a:lnTo>
                      <a:pt x="633" y="37"/>
                    </a:lnTo>
                    <a:lnTo>
                      <a:pt x="600" y="37"/>
                    </a:lnTo>
                    <a:lnTo>
                      <a:pt x="585" y="52"/>
                    </a:lnTo>
                    <a:lnTo>
                      <a:pt x="557" y="23"/>
                    </a:lnTo>
                    <a:lnTo>
                      <a:pt x="524" y="23"/>
                    </a:lnTo>
                    <a:lnTo>
                      <a:pt x="486" y="9"/>
                    </a:lnTo>
                    <a:lnTo>
                      <a:pt x="457" y="28"/>
                    </a:lnTo>
                    <a:lnTo>
                      <a:pt x="433" y="4"/>
                    </a:lnTo>
                    <a:lnTo>
                      <a:pt x="405" y="4"/>
                    </a:lnTo>
                    <a:lnTo>
                      <a:pt x="370" y="28"/>
                    </a:lnTo>
                    <a:lnTo>
                      <a:pt x="347" y="9"/>
                    </a:lnTo>
                    <a:lnTo>
                      <a:pt x="313" y="23"/>
                    </a:lnTo>
                    <a:lnTo>
                      <a:pt x="275" y="23"/>
                    </a:lnTo>
                    <a:lnTo>
                      <a:pt x="252" y="9"/>
                    </a:lnTo>
                    <a:lnTo>
                      <a:pt x="185" y="18"/>
                    </a:lnTo>
                    <a:lnTo>
                      <a:pt x="137" y="0"/>
                    </a:lnTo>
                    <a:lnTo>
                      <a:pt x="0" y="9"/>
                    </a:lnTo>
                    <a:lnTo>
                      <a:pt x="114" y="14"/>
                    </a:lnTo>
                    <a:lnTo>
                      <a:pt x="152" y="37"/>
                    </a:lnTo>
                    <a:lnTo>
                      <a:pt x="228" y="28"/>
                    </a:lnTo>
                    <a:lnTo>
                      <a:pt x="247" y="37"/>
                    </a:lnTo>
                    <a:lnTo>
                      <a:pt x="294" y="37"/>
                    </a:lnTo>
                    <a:lnTo>
                      <a:pt x="328" y="37"/>
                    </a:lnTo>
                    <a:lnTo>
                      <a:pt x="375" y="43"/>
                    </a:lnTo>
                    <a:lnTo>
                      <a:pt x="332" y="66"/>
                    </a:lnTo>
                    <a:lnTo>
                      <a:pt x="409" y="61"/>
                    </a:lnTo>
                    <a:lnTo>
                      <a:pt x="452" y="52"/>
                    </a:lnTo>
                    <a:lnTo>
                      <a:pt x="524" y="66"/>
                    </a:lnTo>
                    <a:lnTo>
                      <a:pt x="562" y="80"/>
                    </a:lnTo>
                    <a:lnTo>
                      <a:pt x="595" y="71"/>
                    </a:lnTo>
                    <a:lnTo>
                      <a:pt x="628" y="71"/>
                    </a:lnTo>
                    <a:lnTo>
                      <a:pt x="704" y="75"/>
                    </a:lnTo>
                    <a:lnTo>
                      <a:pt x="761" y="61"/>
                    </a:lnTo>
                    <a:lnTo>
                      <a:pt x="790" y="7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5481720" y="5146560"/>
                <a:ext cx="46440" cy="9720"/>
              </a:xfrm>
              <a:custGeom>
                <a:avLst/>
                <a:gdLst/>
                <a:ahLst/>
                <a:rect l="0" t="0" r="r" b="b"/>
                <a:pathLst>
                  <a:path fill="none" w="129" h="27">
                    <a:moveTo>
                      <a:pt x="110" y="5"/>
                    </a:moveTo>
                    <a:lnTo>
                      <a:pt x="76" y="0"/>
                    </a:lnTo>
                    <a:lnTo>
                      <a:pt x="34" y="10"/>
                    </a:lnTo>
                    <a:lnTo>
                      <a:pt x="0" y="22"/>
                    </a:lnTo>
                    <a:lnTo>
                      <a:pt x="76" y="27"/>
                    </a:lnTo>
                    <a:lnTo>
                      <a:pt x="129" y="22"/>
                    </a:lnTo>
                    <a:lnTo>
                      <a:pt x="1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5370480" y="5119560"/>
                <a:ext cx="41760" cy="3600"/>
              </a:xfrm>
              <a:custGeom>
                <a:avLst/>
                <a:gdLst/>
                <a:ahLst/>
                <a:rect l="0" t="0" r="r" b="b"/>
                <a:pathLst>
                  <a:path fill="none" w="116" h="10">
                    <a:moveTo>
                      <a:pt x="116" y="10"/>
                    </a:moveTo>
                    <a:lnTo>
                      <a:pt x="78" y="0"/>
                    </a:lnTo>
                    <a:lnTo>
                      <a:pt x="46" y="10"/>
                    </a:lnTo>
                    <a:lnTo>
                      <a:pt x="0" y="10"/>
                    </a:lnTo>
                    <a:lnTo>
                      <a:pt x="65" y="10"/>
                    </a:lnTo>
                    <a:lnTo>
                      <a:pt x="89" y="10"/>
                    </a:lnTo>
                    <a:lnTo>
                      <a:pt x="116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5357880" y="5092560"/>
                <a:ext cx="113040" cy="6840"/>
              </a:xfrm>
              <a:custGeom>
                <a:avLst/>
                <a:gdLst/>
                <a:ahLst/>
                <a:rect l="0" t="0" r="r" b="b"/>
                <a:pathLst>
                  <a:path fill="none" w="314" h="19">
                    <a:moveTo>
                      <a:pt x="0" y="0"/>
                    </a:moveTo>
                    <a:lnTo>
                      <a:pt x="71" y="4"/>
                    </a:lnTo>
                    <a:lnTo>
                      <a:pt x="156" y="0"/>
                    </a:lnTo>
                    <a:lnTo>
                      <a:pt x="223" y="4"/>
                    </a:lnTo>
                    <a:lnTo>
                      <a:pt x="304" y="0"/>
                    </a:lnTo>
                    <a:lnTo>
                      <a:pt x="314" y="9"/>
                    </a:lnTo>
                    <a:lnTo>
                      <a:pt x="228" y="19"/>
                    </a:lnTo>
                    <a:lnTo>
                      <a:pt x="142" y="15"/>
                    </a:lnTo>
                    <a:lnTo>
                      <a:pt x="75" y="1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5578560" y="4881600"/>
                <a:ext cx="3600" cy="120960"/>
              </a:xfrm>
              <a:custGeom>
                <a:avLst/>
                <a:gdLst/>
                <a:ahLst/>
                <a:rect l="0" t="0" r="r" b="b"/>
                <a:pathLst>
                  <a:path fill="none" w="10" h="336">
                    <a:moveTo>
                      <a:pt x="0" y="336"/>
                    </a:moveTo>
                    <a:lnTo>
                      <a:pt x="10" y="0"/>
                    </a:lnTo>
                    <a:lnTo>
                      <a:pt x="5" y="336"/>
                    </a:lnTo>
                    <a:lnTo>
                      <a:pt x="0" y="33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5581800" y="4881600"/>
                <a:ext cx="3600" cy="122760"/>
              </a:xfrm>
              <a:custGeom>
                <a:avLst/>
                <a:gdLst/>
                <a:ahLst/>
                <a:rect l="0" t="0" r="r" b="b"/>
                <a:pathLst>
                  <a:path fill="none" w="10" h="341">
                    <a:moveTo>
                      <a:pt x="0" y="0"/>
                    </a:moveTo>
                    <a:lnTo>
                      <a:pt x="0" y="341"/>
                    </a:lnTo>
                    <a:lnTo>
                      <a:pt x="10" y="341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5578560" y="4883040"/>
                <a:ext cx="19440" cy="3600"/>
              </a:xfrm>
              <a:custGeom>
                <a:avLst/>
                <a:gdLst/>
                <a:ahLst/>
                <a:rect l="0" t="0" r="r" b="b"/>
                <a:pathLst>
                  <a:path fill="none" w="54" h="10">
                    <a:moveTo>
                      <a:pt x="4" y="10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5" y="5"/>
                    </a:lnTo>
                    <a:lnTo>
                      <a:pt x="15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4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5583240" y="4894200"/>
                <a:ext cx="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5583240" y="48988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5424480" y="4991040"/>
                <a:ext cx="90720" cy="33840"/>
              </a:xfrm>
              <a:custGeom>
                <a:avLst/>
                <a:gdLst/>
                <a:ahLst/>
                <a:rect l="0" t="0" r="r" b="b"/>
                <a:pathLst>
                  <a:path fill="none" w="252" h="94">
                    <a:moveTo>
                      <a:pt x="185" y="0"/>
                    </a:moveTo>
                    <a:lnTo>
                      <a:pt x="166" y="14"/>
                    </a:lnTo>
                    <a:lnTo>
                      <a:pt x="157" y="14"/>
                    </a:lnTo>
                    <a:lnTo>
                      <a:pt x="166" y="25"/>
                    </a:lnTo>
                    <a:lnTo>
                      <a:pt x="129" y="25"/>
                    </a:lnTo>
                    <a:lnTo>
                      <a:pt x="143" y="35"/>
                    </a:lnTo>
                    <a:lnTo>
                      <a:pt x="104" y="35"/>
                    </a:lnTo>
                    <a:lnTo>
                      <a:pt x="118" y="44"/>
                    </a:lnTo>
                    <a:lnTo>
                      <a:pt x="80" y="44"/>
                    </a:lnTo>
                    <a:lnTo>
                      <a:pt x="94" y="49"/>
                    </a:lnTo>
                    <a:lnTo>
                      <a:pt x="61" y="49"/>
                    </a:lnTo>
                    <a:lnTo>
                      <a:pt x="75" y="59"/>
                    </a:lnTo>
                    <a:lnTo>
                      <a:pt x="47" y="59"/>
                    </a:lnTo>
                    <a:lnTo>
                      <a:pt x="56" y="64"/>
                    </a:lnTo>
                    <a:lnTo>
                      <a:pt x="28" y="64"/>
                    </a:lnTo>
                    <a:lnTo>
                      <a:pt x="33" y="69"/>
                    </a:lnTo>
                    <a:lnTo>
                      <a:pt x="14" y="69"/>
                    </a:lnTo>
                    <a:lnTo>
                      <a:pt x="23" y="75"/>
                    </a:lnTo>
                    <a:lnTo>
                      <a:pt x="0" y="75"/>
                    </a:lnTo>
                    <a:lnTo>
                      <a:pt x="14" y="89"/>
                    </a:lnTo>
                    <a:lnTo>
                      <a:pt x="42" y="89"/>
                    </a:lnTo>
                    <a:lnTo>
                      <a:pt x="52" y="94"/>
                    </a:lnTo>
                    <a:lnTo>
                      <a:pt x="252" y="25"/>
                    </a:lnTo>
                    <a:lnTo>
                      <a:pt x="209" y="0"/>
                    </a:lnTo>
                    <a:lnTo>
                      <a:pt x="18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5424480" y="499428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8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5429160" y="4992840"/>
                <a:ext cx="14760" cy="22680"/>
              </a:xfrm>
              <a:custGeom>
                <a:avLst/>
                <a:gdLst/>
                <a:ahLst/>
                <a:rect l="0" t="0" r="r" b="b"/>
                <a:pathLst>
                  <a:path fill="none" w="41" h="63">
                    <a:moveTo>
                      <a:pt x="0" y="63"/>
                    </a:moveTo>
                    <a:lnTo>
                      <a:pt x="15" y="54"/>
                    </a:lnTo>
                    <a:lnTo>
                      <a:pt x="25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5433840" y="4991040"/>
                <a:ext cx="16200" cy="22680"/>
              </a:xfrm>
              <a:custGeom>
                <a:avLst/>
                <a:gdLst/>
                <a:ahLst/>
                <a:rect l="0" t="0" r="r" b="b"/>
                <a:pathLst>
                  <a:path fill="none" w="45" h="63">
                    <a:moveTo>
                      <a:pt x="0" y="63"/>
                    </a:moveTo>
                    <a:lnTo>
                      <a:pt x="14" y="54"/>
                    </a:lnTo>
                    <a:lnTo>
                      <a:pt x="30" y="0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5442120" y="4987800"/>
                <a:ext cx="14760" cy="24120"/>
              </a:xfrm>
              <a:custGeom>
                <a:avLst/>
                <a:gdLst/>
                <a:ahLst/>
                <a:rect l="0" t="0" r="r" b="b"/>
                <a:pathLst>
                  <a:path fill="none" w="41" h="67">
                    <a:moveTo>
                      <a:pt x="0" y="67"/>
                    </a:moveTo>
                    <a:lnTo>
                      <a:pt x="14" y="57"/>
                    </a:lnTo>
                    <a:lnTo>
                      <a:pt x="23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5446800" y="4984920"/>
                <a:ext cx="18000" cy="24120"/>
              </a:xfrm>
              <a:custGeom>
                <a:avLst/>
                <a:gdLst/>
                <a:ahLst/>
                <a:rect l="0" t="0" r="r" b="b"/>
                <a:pathLst>
                  <a:path fill="none" w="50" h="67">
                    <a:moveTo>
                      <a:pt x="0" y="67"/>
                    </a:moveTo>
                    <a:lnTo>
                      <a:pt x="20" y="62"/>
                    </a:lnTo>
                    <a:lnTo>
                      <a:pt x="30" y="0"/>
                    </a:lnTo>
                    <a:lnTo>
                      <a:pt x="5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5452920" y="4981680"/>
                <a:ext cx="19440" cy="25920"/>
              </a:xfrm>
              <a:custGeom>
                <a:avLst/>
                <a:gdLst/>
                <a:ahLst/>
                <a:rect l="0" t="0" r="r" b="b"/>
                <a:pathLst>
                  <a:path fill="none" w="54" h="72">
                    <a:moveTo>
                      <a:pt x="0" y="72"/>
                    </a:moveTo>
                    <a:lnTo>
                      <a:pt x="20" y="63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5462640" y="4976640"/>
                <a:ext cx="19440" cy="27360"/>
              </a:xfrm>
              <a:custGeom>
                <a:avLst/>
                <a:gdLst/>
                <a:ahLst/>
                <a:rect l="0" t="0" r="r" b="b"/>
                <a:pathLst>
                  <a:path fill="none" w="54" h="76">
                    <a:moveTo>
                      <a:pt x="0" y="76"/>
                    </a:moveTo>
                    <a:lnTo>
                      <a:pt x="20" y="66"/>
                    </a:lnTo>
                    <a:lnTo>
                      <a:pt x="29" y="0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5470560" y="4973760"/>
                <a:ext cx="41760" cy="25920"/>
              </a:xfrm>
              <a:custGeom>
                <a:avLst/>
                <a:gdLst/>
                <a:ahLst/>
                <a:rect l="0" t="0" r="r" b="b"/>
                <a:pathLst>
                  <a:path fill="none" w="116" h="72">
                    <a:moveTo>
                      <a:pt x="0" y="72"/>
                    </a:moveTo>
                    <a:lnTo>
                      <a:pt x="19" y="63"/>
                    </a:lnTo>
                    <a:lnTo>
                      <a:pt x="28" y="0"/>
                    </a:lnTo>
                    <a:lnTo>
                      <a:pt x="63" y="0"/>
                    </a:lnTo>
                    <a:lnTo>
                      <a:pt x="11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5514840" y="4984920"/>
                <a:ext cx="63720" cy="5040"/>
              </a:xfrm>
              <a:custGeom>
                <a:avLst/>
                <a:gdLst/>
                <a:ahLst/>
                <a:rect l="0" t="0" r="r" b="b"/>
                <a:pathLst>
                  <a:path fill="none" w="177" h="14">
                    <a:moveTo>
                      <a:pt x="0" y="14"/>
                    </a:moveTo>
                    <a:lnTo>
                      <a:pt x="42" y="9"/>
                    </a:lnTo>
                    <a:lnTo>
                      <a:pt x="177" y="0"/>
                    </a:lnTo>
                    <a:lnTo>
                      <a:pt x="177" y="4"/>
                    </a:lnTo>
                    <a:lnTo>
                      <a:pt x="134" y="9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5583240" y="4981680"/>
                <a:ext cx="46440" cy="20880"/>
              </a:xfrm>
              <a:custGeom>
                <a:avLst/>
                <a:gdLst/>
                <a:ahLst/>
                <a:rect l="0" t="0" r="r" b="b"/>
                <a:pathLst>
                  <a:path fill="none" w="129" h="58">
                    <a:moveTo>
                      <a:pt x="0" y="9"/>
                    </a:moveTo>
                    <a:lnTo>
                      <a:pt x="34" y="9"/>
                    </a:lnTo>
                    <a:lnTo>
                      <a:pt x="38" y="0"/>
                    </a:lnTo>
                    <a:lnTo>
                      <a:pt x="62" y="9"/>
                    </a:lnTo>
                    <a:lnTo>
                      <a:pt x="90" y="14"/>
                    </a:lnTo>
                    <a:lnTo>
                      <a:pt x="67" y="14"/>
                    </a:lnTo>
                    <a:lnTo>
                      <a:pt x="101" y="28"/>
                    </a:lnTo>
                    <a:lnTo>
                      <a:pt x="101" y="19"/>
                    </a:lnTo>
                    <a:lnTo>
                      <a:pt x="125" y="34"/>
                    </a:lnTo>
                    <a:lnTo>
                      <a:pt x="129" y="39"/>
                    </a:lnTo>
                    <a:lnTo>
                      <a:pt x="125" y="43"/>
                    </a:lnTo>
                    <a:lnTo>
                      <a:pt x="120" y="48"/>
                    </a:lnTo>
                    <a:lnTo>
                      <a:pt x="101" y="53"/>
                    </a:lnTo>
                    <a:lnTo>
                      <a:pt x="62" y="58"/>
                    </a:lnTo>
                    <a:lnTo>
                      <a:pt x="23" y="58"/>
                    </a:lnTo>
                    <a:lnTo>
                      <a:pt x="23" y="39"/>
                    </a:lnTo>
                    <a:lnTo>
                      <a:pt x="18" y="34"/>
                    </a:lnTo>
                    <a:lnTo>
                      <a:pt x="4" y="23"/>
                    </a:lnTo>
                    <a:lnTo>
                      <a:pt x="4" y="19"/>
                    </a:lnTo>
                    <a:lnTo>
                      <a:pt x="34" y="28"/>
                    </a:lnTo>
                    <a:lnTo>
                      <a:pt x="43" y="34"/>
                    </a:lnTo>
                    <a:lnTo>
                      <a:pt x="53" y="43"/>
                    </a:lnTo>
                    <a:lnTo>
                      <a:pt x="86" y="43"/>
                    </a:lnTo>
                    <a:lnTo>
                      <a:pt x="90" y="28"/>
                    </a:lnTo>
                    <a:lnTo>
                      <a:pt x="57" y="19"/>
                    </a:lnTo>
                    <a:lnTo>
                      <a:pt x="38" y="14"/>
                    </a:lnTo>
                    <a:lnTo>
                      <a:pt x="0" y="14"/>
                    </a:lnTo>
                    <a:lnTo>
                      <a:pt x="0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5584680" y="49989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5549760" y="4995720"/>
                <a:ext cx="30600" cy="8280"/>
              </a:xfrm>
              <a:custGeom>
                <a:avLst/>
                <a:gdLst/>
                <a:ahLst/>
                <a:rect l="0" t="0" r="r" b="b"/>
                <a:pathLst>
                  <a:path fill="none" w="85" h="23">
                    <a:moveTo>
                      <a:pt x="85" y="12"/>
                    </a:moveTo>
                    <a:lnTo>
                      <a:pt x="67" y="17"/>
                    </a:lnTo>
                    <a:lnTo>
                      <a:pt x="38" y="12"/>
                    </a:lnTo>
                    <a:lnTo>
                      <a:pt x="13" y="5"/>
                    </a:lnTo>
                    <a:lnTo>
                      <a:pt x="24" y="0"/>
                    </a:lnTo>
                    <a:lnTo>
                      <a:pt x="0" y="5"/>
                    </a:lnTo>
                    <a:lnTo>
                      <a:pt x="24" y="12"/>
                    </a:lnTo>
                    <a:lnTo>
                      <a:pt x="52" y="23"/>
                    </a:lnTo>
                    <a:lnTo>
                      <a:pt x="85" y="23"/>
                    </a:lnTo>
                    <a:lnTo>
                      <a:pt x="85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5583240" y="4979880"/>
                <a:ext cx="14760" cy="1800"/>
              </a:xfrm>
              <a:custGeom>
                <a:avLst/>
                <a:gdLst/>
                <a:ahLst/>
                <a:rect l="0" t="0" r="r" b="b"/>
                <a:pathLst>
                  <a:path fill="none" w="41" h="5">
                    <a:moveTo>
                      <a:pt x="41" y="5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0" y="5"/>
                    </a:lnTo>
                    <a:lnTo>
                      <a:pt x="41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5560920" y="4979880"/>
                <a:ext cx="19440" cy="6840"/>
              </a:xfrm>
              <a:custGeom>
                <a:avLst/>
                <a:gdLst/>
                <a:ahLst/>
                <a:rect l="0" t="0" r="r" b="b"/>
                <a:pathLst>
                  <a:path fill="none" w="54" h="19">
                    <a:moveTo>
                      <a:pt x="54" y="0"/>
                    </a:moveTo>
                    <a:lnTo>
                      <a:pt x="45" y="4"/>
                    </a:lnTo>
                    <a:lnTo>
                      <a:pt x="0" y="19"/>
                    </a:lnTo>
                    <a:lnTo>
                      <a:pt x="45" y="19"/>
                    </a:lnTo>
                    <a:lnTo>
                      <a:pt x="39" y="9"/>
                    </a:lnTo>
                    <a:lnTo>
                      <a:pt x="54" y="4"/>
                    </a:lnTo>
                    <a:lnTo>
                      <a:pt x="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5991120" y="497052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fill="none" w="102" h="116">
                    <a:moveTo>
                      <a:pt x="97" y="0"/>
                    </a:moveTo>
                    <a:lnTo>
                      <a:pt x="97" y="58"/>
                    </a:lnTo>
                    <a:lnTo>
                      <a:pt x="0" y="58"/>
                    </a:lnTo>
                    <a:lnTo>
                      <a:pt x="74" y="116"/>
                    </a:lnTo>
                    <a:lnTo>
                      <a:pt x="97" y="116"/>
                    </a:lnTo>
                    <a:lnTo>
                      <a:pt x="27" y="63"/>
                    </a:lnTo>
                    <a:lnTo>
                      <a:pt x="97" y="63"/>
                    </a:lnTo>
                    <a:lnTo>
                      <a:pt x="97" y="107"/>
                    </a:lnTo>
                    <a:lnTo>
                      <a:pt x="102" y="72"/>
                    </a:lnTo>
                    <a:lnTo>
                      <a:pt x="102" y="0"/>
                    </a:lnTo>
                    <a:lnTo>
                      <a:pt x="9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5997600" y="4968720"/>
                <a:ext cx="1800" cy="41760"/>
              </a:xfrm>
              <a:custGeom>
                <a:avLst/>
                <a:gdLst/>
                <a:ahLst/>
                <a:rect l="0" t="0" r="r" b="b"/>
                <a:pathLst>
                  <a:path fill="none" w="5" h="116">
                    <a:moveTo>
                      <a:pt x="0" y="116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6"/>
                    </a:lnTo>
                    <a:lnTo>
                      <a:pt x="0" y="11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6019920" y="4997520"/>
                <a:ext cx="3600" cy="5040"/>
              </a:xfrm>
              <a:custGeom>
                <a:avLst/>
                <a:gdLst/>
                <a:ahLst/>
                <a:rect l="0" t="0" r="r" b="b"/>
                <a:pathLst>
                  <a:path fill="none" w="10" h="14">
                    <a:moveTo>
                      <a:pt x="0" y="0"/>
                    </a:moveTo>
                    <a:lnTo>
                      <a:pt x="0" y="6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5837400" y="4979880"/>
                <a:ext cx="178200" cy="68760"/>
              </a:xfrm>
              <a:custGeom>
                <a:avLst/>
                <a:gdLst/>
                <a:ahLst/>
                <a:rect l="0" t="0" r="r" b="b"/>
                <a:pathLst>
                  <a:path fill="none" w="495" h="191">
                    <a:moveTo>
                      <a:pt x="481" y="0"/>
                    </a:moveTo>
                    <a:lnTo>
                      <a:pt x="491" y="0"/>
                    </a:lnTo>
                    <a:lnTo>
                      <a:pt x="495" y="4"/>
                    </a:lnTo>
                    <a:lnTo>
                      <a:pt x="491" y="14"/>
                    </a:lnTo>
                    <a:lnTo>
                      <a:pt x="0" y="191"/>
                    </a:lnTo>
                    <a:lnTo>
                      <a:pt x="48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6459480" y="4979880"/>
                <a:ext cx="28800" cy="11520"/>
              </a:xfrm>
              <a:custGeom>
                <a:avLst/>
                <a:gdLst/>
                <a:ahLst/>
                <a:rect l="0" t="0" r="r" b="b"/>
                <a:pathLst>
                  <a:path fill="none" w="80" h="32">
                    <a:moveTo>
                      <a:pt x="1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80" y="32"/>
                    </a:lnTo>
                    <a:lnTo>
                      <a:pt x="1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5745240" y="4967280"/>
                <a:ext cx="33840" cy="20880"/>
              </a:xfrm>
              <a:custGeom>
                <a:avLst/>
                <a:gdLst/>
                <a:ahLst/>
                <a:rect l="0" t="0" r="r" b="b"/>
                <a:pathLst>
                  <a:path fill="none" w="94" h="58">
                    <a:moveTo>
                      <a:pt x="59" y="23"/>
                    </a:moveTo>
                    <a:lnTo>
                      <a:pt x="49" y="4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79" y="58"/>
                    </a:lnTo>
                    <a:lnTo>
                      <a:pt x="69" y="4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5764320" y="49719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5727600" y="4959360"/>
                <a:ext cx="18000" cy="25920"/>
              </a:xfrm>
              <a:custGeom>
                <a:avLst/>
                <a:gdLst/>
                <a:ahLst/>
                <a:rect l="0" t="0" r="r" b="b"/>
                <a:pathLst>
                  <a:path fill="none" w="50" h="72">
                    <a:moveTo>
                      <a:pt x="50" y="33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4" y="63"/>
                    </a:lnTo>
                    <a:lnTo>
                      <a:pt x="0" y="67"/>
                    </a:lnTo>
                    <a:lnTo>
                      <a:pt x="50" y="72"/>
                    </a:lnTo>
                    <a:lnTo>
                      <a:pt x="50" y="3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5713560" y="4983120"/>
                <a:ext cx="82800" cy="14760"/>
              </a:xfrm>
              <a:custGeom>
                <a:avLst/>
                <a:gdLst/>
                <a:ahLst/>
                <a:rect l="0" t="0" r="r" b="b"/>
                <a:pathLst>
                  <a:path fill="none" w="230" h="41">
                    <a:moveTo>
                      <a:pt x="23" y="0"/>
                    </a:moveTo>
                    <a:lnTo>
                      <a:pt x="23" y="14"/>
                    </a:lnTo>
                    <a:lnTo>
                      <a:pt x="76" y="8"/>
                    </a:lnTo>
                    <a:lnTo>
                      <a:pt x="85" y="8"/>
                    </a:lnTo>
                    <a:lnTo>
                      <a:pt x="76" y="27"/>
                    </a:lnTo>
                    <a:lnTo>
                      <a:pt x="125" y="27"/>
                    </a:lnTo>
                    <a:lnTo>
                      <a:pt x="125" y="18"/>
                    </a:lnTo>
                    <a:lnTo>
                      <a:pt x="90" y="14"/>
                    </a:lnTo>
                    <a:lnTo>
                      <a:pt x="163" y="14"/>
                    </a:lnTo>
                    <a:lnTo>
                      <a:pt x="211" y="23"/>
                    </a:lnTo>
                    <a:lnTo>
                      <a:pt x="230" y="27"/>
                    </a:lnTo>
                    <a:lnTo>
                      <a:pt x="149" y="41"/>
                    </a:lnTo>
                    <a:lnTo>
                      <a:pt x="95" y="32"/>
                    </a:lnTo>
                    <a:lnTo>
                      <a:pt x="52" y="32"/>
                    </a:lnTo>
                    <a:lnTo>
                      <a:pt x="19" y="27"/>
                    </a:lnTo>
                    <a:lnTo>
                      <a:pt x="9" y="23"/>
                    </a:lnTo>
                    <a:lnTo>
                      <a:pt x="0" y="18"/>
                    </a:lnTo>
                    <a:lnTo>
                      <a:pt x="9" y="14"/>
                    </a:lnTo>
                    <a:lnTo>
                      <a:pt x="14" y="8"/>
                    </a:lnTo>
                    <a:lnTo>
                      <a:pt x="19" y="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5781600" y="4960800"/>
                <a:ext cx="35280" cy="22680"/>
              </a:xfrm>
              <a:custGeom>
                <a:avLst/>
                <a:gdLst/>
                <a:ahLst/>
                <a:rect l="0" t="0" r="r" b="b"/>
                <a:pathLst>
                  <a:path fill="none" w="98" h="63">
                    <a:moveTo>
                      <a:pt x="59" y="24"/>
                    </a:moveTo>
                    <a:lnTo>
                      <a:pt x="43" y="4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78" y="63"/>
                    </a:lnTo>
                    <a:lnTo>
                      <a:pt x="73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5799240" y="496584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5759280" y="4951440"/>
                <a:ext cx="22680" cy="28800"/>
              </a:xfrm>
              <a:custGeom>
                <a:avLst/>
                <a:gdLst/>
                <a:ahLst/>
                <a:rect l="0" t="0" r="r" b="b"/>
                <a:pathLst>
                  <a:path fill="none" w="63" h="80">
                    <a:moveTo>
                      <a:pt x="63" y="34"/>
                    </a:moveTo>
                    <a:lnTo>
                      <a:pt x="34" y="0"/>
                    </a:lnTo>
                    <a:lnTo>
                      <a:pt x="0" y="0"/>
                    </a:lnTo>
                    <a:lnTo>
                      <a:pt x="14" y="70"/>
                    </a:lnTo>
                    <a:lnTo>
                      <a:pt x="0" y="75"/>
                    </a:lnTo>
                    <a:lnTo>
                      <a:pt x="63" y="80"/>
                    </a:lnTo>
                    <a:lnTo>
                      <a:pt x="63" y="3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5745240" y="4976640"/>
                <a:ext cx="87840" cy="16200"/>
              </a:xfrm>
              <a:custGeom>
                <a:avLst/>
                <a:gdLst/>
                <a:ahLst/>
                <a:rect l="0" t="0" r="r" b="b"/>
                <a:pathLst>
                  <a:path fill="none" w="244" h="45">
                    <a:moveTo>
                      <a:pt x="28" y="0"/>
                    </a:moveTo>
                    <a:lnTo>
                      <a:pt x="23" y="19"/>
                    </a:lnTo>
                    <a:lnTo>
                      <a:pt x="77" y="9"/>
                    </a:lnTo>
                    <a:lnTo>
                      <a:pt x="91" y="9"/>
                    </a:lnTo>
                    <a:lnTo>
                      <a:pt x="81" y="30"/>
                    </a:lnTo>
                    <a:lnTo>
                      <a:pt x="134" y="30"/>
                    </a:lnTo>
                    <a:lnTo>
                      <a:pt x="134" y="19"/>
                    </a:lnTo>
                    <a:lnTo>
                      <a:pt x="100" y="14"/>
                    </a:lnTo>
                    <a:lnTo>
                      <a:pt x="176" y="14"/>
                    </a:lnTo>
                    <a:lnTo>
                      <a:pt x="225" y="25"/>
                    </a:lnTo>
                    <a:lnTo>
                      <a:pt x="244" y="30"/>
                    </a:lnTo>
                    <a:lnTo>
                      <a:pt x="157" y="45"/>
                    </a:lnTo>
                    <a:lnTo>
                      <a:pt x="100" y="35"/>
                    </a:lnTo>
                    <a:lnTo>
                      <a:pt x="52" y="35"/>
                    </a:lnTo>
                    <a:lnTo>
                      <a:pt x="19" y="30"/>
                    </a:lnTo>
                    <a:lnTo>
                      <a:pt x="9" y="25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4" y="9"/>
                    </a:lnTo>
                    <a:lnTo>
                      <a:pt x="19" y="0"/>
                    </a:lnTo>
                    <a:lnTo>
                      <a:pt x="2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5823000" y="4952880"/>
                <a:ext cx="39960" cy="24120"/>
              </a:xfrm>
              <a:custGeom>
                <a:avLst/>
                <a:gdLst/>
                <a:ahLst/>
                <a:rect l="0" t="0" r="r" b="b"/>
                <a:pathLst>
                  <a:path fill="none" w="111" h="67">
                    <a:moveTo>
                      <a:pt x="68" y="23"/>
                    </a:moveTo>
                    <a:lnTo>
                      <a:pt x="52" y="4"/>
                    </a:lnTo>
                    <a:lnTo>
                      <a:pt x="1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92" y="67"/>
                    </a:lnTo>
                    <a:lnTo>
                      <a:pt x="82" y="5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5845320" y="4959360"/>
                <a:ext cx="8280" cy="3600"/>
              </a:xfrm>
              <a:custGeom>
                <a:avLst/>
                <a:gdLst/>
                <a:ahLst/>
                <a:rect l="0" t="0" r="r" b="b"/>
                <a:pathLst>
                  <a:path fill="none" w="23" h="10">
                    <a:moveTo>
                      <a:pt x="23" y="0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23" y="1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797440" y="494352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fill="none" w="72" h="85">
                    <a:moveTo>
                      <a:pt x="72" y="38"/>
                    </a:moveTo>
                    <a:lnTo>
                      <a:pt x="43" y="0"/>
                    </a:lnTo>
                    <a:lnTo>
                      <a:pt x="4" y="0"/>
                    </a:lnTo>
                    <a:lnTo>
                      <a:pt x="19" y="76"/>
                    </a:lnTo>
                    <a:lnTo>
                      <a:pt x="0" y="81"/>
                    </a:lnTo>
                    <a:lnTo>
                      <a:pt x="72" y="85"/>
                    </a:lnTo>
                    <a:lnTo>
                      <a:pt x="72" y="38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781600" y="4971960"/>
                <a:ext cx="101880" cy="19440"/>
              </a:xfrm>
              <a:custGeom>
                <a:avLst/>
                <a:gdLst/>
                <a:ahLst/>
                <a:rect l="0" t="0" r="r" b="b"/>
                <a:pathLst>
                  <a:path fill="none" w="283" h="54">
                    <a:moveTo>
                      <a:pt x="33" y="0"/>
                    </a:moveTo>
                    <a:lnTo>
                      <a:pt x="28" y="20"/>
                    </a:lnTo>
                    <a:lnTo>
                      <a:pt x="90" y="9"/>
                    </a:lnTo>
                    <a:lnTo>
                      <a:pt x="105" y="9"/>
                    </a:lnTo>
                    <a:lnTo>
                      <a:pt x="90" y="34"/>
                    </a:lnTo>
                    <a:lnTo>
                      <a:pt x="154" y="34"/>
                    </a:lnTo>
                    <a:lnTo>
                      <a:pt x="154" y="20"/>
                    </a:lnTo>
                    <a:lnTo>
                      <a:pt x="114" y="15"/>
                    </a:lnTo>
                    <a:lnTo>
                      <a:pt x="206" y="15"/>
                    </a:lnTo>
                    <a:lnTo>
                      <a:pt x="259" y="25"/>
                    </a:lnTo>
                    <a:lnTo>
                      <a:pt x="283" y="34"/>
                    </a:lnTo>
                    <a:lnTo>
                      <a:pt x="182" y="54"/>
                    </a:lnTo>
                    <a:lnTo>
                      <a:pt x="114" y="39"/>
                    </a:lnTo>
                    <a:lnTo>
                      <a:pt x="62" y="39"/>
                    </a:lnTo>
                    <a:lnTo>
                      <a:pt x="19" y="34"/>
                    </a:lnTo>
                    <a:lnTo>
                      <a:pt x="14" y="29"/>
                    </a:lnTo>
                    <a:lnTo>
                      <a:pt x="0" y="25"/>
                    </a:lnTo>
                    <a:lnTo>
                      <a:pt x="14" y="20"/>
                    </a:lnTo>
                    <a:lnTo>
                      <a:pt x="19" y="9"/>
                    </a:lnTo>
                    <a:lnTo>
                      <a:pt x="23" y="0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872320" y="4944960"/>
                <a:ext cx="44640" cy="27360"/>
              </a:xfrm>
              <a:custGeom>
                <a:avLst/>
                <a:gdLst/>
                <a:ahLst/>
                <a:rect l="0" t="0" r="r" b="b"/>
                <a:pathLst>
                  <a:path fill="none" w="124" h="76">
                    <a:moveTo>
                      <a:pt x="72" y="29"/>
                    </a:moveTo>
                    <a:lnTo>
                      <a:pt x="56" y="4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100" y="76"/>
                    </a:lnTo>
                    <a:lnTo>
                      <a:pt x="91" y="6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896080" y="495000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0" y="0"/>
                    </a:lnTo>
                    <a:lnTo>
                      <a:pt x="5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845320" y="4932360"/>
                <a:ext cx="27360" cy="36720"/>
              </a:xfrm>
              <a:custGeom>
                <a:avLst/>
                <a:gdLst/>
                <a:ahLst/>
                <a:rect l="0" t="0" r="r" b="b"/>
                <a:pathLst>
                  <a:path fill="none" w="76" h="102">
                    <a:moveTo>
                      <a:pt x="76" y="43"/>
                    </a:moveTo>
                    <a:lnTo>
                      <a:pt x="43" y="0"/>
                    </a:lnTo>
                    <a:lnTo>
                      <a:pt x="0" y="0"/>
                    </a:lnTo>
                    <a:lnTo>
                      <a:pt x="18" y="87"/>
                    </a:lnTo>
                    <a:lnTo>
                      <a:pt x="0" y="92"/>
                    </a:lnTo>
                    <a:lnTo>
                      <a:pt x="76" y="102"/>
                    </a:lnTo>
                    <a:lnTo>
                      <a:pt x="76" y="4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826240" y="4965840"/>
                <a:ext cx="113040" cy="20880"/>
              </a:xfrm>
              <a:custGeom>
                <a:avLst/>
                <a:gdLst/>
                <a:ahLst/>
                <a:rect l="0" t="0" r="r" b="b"/>
                <a:pathLst>
                  <a:path fill="none" w="314" h="58">
                    <a:moveTo>
                      <a:pt x="33" y="0"/>
                    </a:moveTo>
                    <a:lnTo>
                      <a:pt x="33" y="23"/>
                    </a:lnTo>
                    <a:lnTo>
                      <a:pt x="99" y="9"/>
                    </a:lnTo>
                    <a:lnTo>
                      <a:pt x="118" y="9"/>
                    </a:lnTo>
                    <a:lnTo>
                      <a:pt x="104" y="39"/>
                    </a:lnTo>
                    <a:lnTo>
                      <a:pt x="171" y="39"/>
                    </a:lnTo>
                    <a:lnTo>
                      <a:pt x="171" y="23"/>
                    </a:lnTo>
                    <a:lnTo>
                      <a:pt x="128" y="19"/>
                    </a:lnTo>
                    <a:lnTo>
                      <a:pt x="228" y="19"/>
                    </a:lnTo>
                    <a:lnTo>
                      <a:pt x="290" y="28"/>
                    </a:lnTo>
                    <a:lnTo>
                      <a:pt x="314" y="39"/>
                    </a:lnTo>
                    <a:lnTo>
                      <a:pt x="204" y="58"/>
                    </a:lnTo>
                    <a:lnTo>
                      <a:pt x="132" y="48"/>
                    </a:lnTo>
                    <a:lnTo>
                      <a:pt x="71" y="43"/>
                    </a:lnTo>
                    <a:lnTo>
                      <a:pt x="23" y="39"/>
                    </a:lnTo>
                    <a:lnTo>
                      <a:pt x="14" y="34"/>
                    </a:lnTo>
                    <a:lnTo>
                      <a:pt x="0" y="28"/>
                    </a:lnTo>
                    <a:lnTo>
                      <a:pt x="14" y="23"/>
                    </a:lnTo>
                    <a:lnTo>
                      <a:pt x="18" y="9"/>
                    </a:lnTo>
                    <a:lnTo>
                      <a:pt x="28" y="4"/>
                    </a:lnTo>
                    <a:lnTo>
                      <a:pt x="3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924520" y="4933800"/>
                <a:ext cx="47880" cy="30600"/>
              </a:xfrm>
              <a:custGeom>
                <a:avLst/>
                <a:gdLst/>
                <a:ahLst/>
                <a:rect l="0" t="0" r="r" b="b"/>
                <a:pathLst>
                  <a:path fill="none" w="133" h="85">
                    <a:moveTo>
                      <a:pt x="76" y="35"/>
                    </a:moveTo>
                    <a:lnTo>
                      <a:pt x="61" y="4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4" y="85"/>
                    </a:lnTo>
                    <a:lnTo>
                      <a:pt x="100" y="7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950080" y="4941720"/>
                <a:ext cx="9720" cy="5040"/>
              </a:xfrm>
              <a:custGeom>
                <a:avLst/>
                <a:gdLst/>
                <a:ahLst/>
                <a:rect l="0" t="0" r="r" b="b"/>
                <a:pathLst>
                  <a:path fill="none" w="27" h="14">
                    <a:moveTo>
                      <a:pt x="27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27" y="14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892840" y="4923000"/>
                <a:ext cx="32040" cy="38520"/>
              </a:xfrm>
              <a:custGeom>
                <a:avLst/>
                <a:gdLst/>
                <a:ahLst/>
                <a:rect l="0" t="0" r="r" b="b"/>
                <a:pathLst>
                  <a:path fill="none" w="89" h="107">
                    <a:moveTo>
                      <a:pt x="89" y="44"/>
                    </a:moveTo>
                    <a:lnTo>
                      <a:pt x="49" y="0"/>
                    </a:lnTo>
                    <a:lnTo>
                      <a:pt x="0" y="0"/>
                    </a:lnTo>
                    <a:lnTo>
                      <a:pt x="24" y="93"/>
                    </a:lnTo>
                    <a:lnTo>
                      <a:pt x="0" y="98"/>
                    </a:lnTo>
                    <a:lnTo>
                      <a:pt x="89" y="107"/>
                    </a:lnTo>
                    <a:lnTo>
                      <a:pt x="89" y="4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873760" y="4959360"/>
                <a:ext cx="154440" cy="20880"/>
              </a:xfrm>
              <a:custGeom>
                <a:avLst/>
                <a:gdLst/>
                <a:ahLst/>
                <a:rect l="0" t="0" r="r" b="b"/>
                <a:pathLst>
                  <a:path fill="none" w="429" h="58">
                    <a:moveTo>
                      <a:pt x="38" y="0"/>
                    </a:moveTo>
                    <a:lnTo>
                      <a:pt x="33" y="19"/>
                    </a:lnTo>
                    <a:lnTo>
                      <a:pt x="110" y="9"/>
                    </a:lnTo>
                    <a:lnTo>
                      <a:pt x="129" y="9"/>
                    </a:lnTo>
                    <a:lnTo>
                      <a:pt x="110" y="34"/>
                    </a:lnTo>
                    <a:lnTo>
                      <a:pt x="186" y="34"/>
                    </a:lnTo>
                    <a:lnTo>
                      <a:pt x="186" y="19"/>
                    </a:lnTo>
                    <a:lnTo>
                      <a:pt x="138" y="14"/>
                    </a:lnTo>
                    <a:lnTo>
                      <a:pt x="367" y="4"/>
                    </a:lnTo>
                    <a:lnTo>
                      <a:pt x="429" y="28"/>
                    </a:lnTo>
                    <a:lnTo>
                      <a:pt x="344" y="28"/>
                    </a:lnTo>
                    <a:lnTo>
                      <a:pt x="219" y="58"/>
                    </a:lnTo>
                    <a:lnTo>
                      <a:pt x="143" y="43"/>
                    </a:lnTo>
                    <a:lnTo>
                      <a:pt x="76" y="43"/>
                    </a:lnTo>
                    <a:lnTo>
                      <a:pt x="23" y="34"/>
                    </a:lnTo>
                    <a:lnTo>
                      <a:pt x="14" y="28"/>
                    </a:lnTo>
                    <a:lnTo>
                      <a:pt x="0" y="23"/>
                    </a:lnTo>
                    <a:lnTo>
                      <a:pt x="14" y="19"/>
                    </a:lnTo>
                    <a:lnTo>
                      <a:pt x="19" y="4"/>
                    </a:lnTo>
                    <a:lnTo>
                      <a:pt x="28" y="0"/>
                    </a:lnTo>
                    <a:lnTo>
                      <a:pt x="3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5950080" y="4910040"/>
                <a:ext cx="30600" cy="38520"/>
              </a:xfrm>
              <a:custGeom>
                <a:avLst/>
                <a:gdLst/>
                <a:ahLst/>
                <a:rect l="0" t="0" r="r" b="b"/>
                <a:pathLst>
                  <a:path fill="none" w="85" h="107">
                    <a:moveTo>
                      <a:pt x="85" y="107"/>
                    </a:moveTo>
                    <a:lnTo>
                      <a:pt x="0" y="103"/>
                    </a:lnTo>
                    <a:lnTo>
                      <a:pt x="24" y="98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85" y="44"/>
                    </a:lnTo>
                    <a:lnTo>
                      <a:pt x="85" y="10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5979960" y="4923000"/>
                <a:ext cx="49680" cy="32040"/>
              </a:xfrm>
              <a:custGeom>
                <a:avLst/>
                <a:gdLst/>
                <a:ahLst/>
                <a:rect l="0" t="0" r="r" b="b"/>
                <a:pathLst>
                  <a:path fill="none" w="138" h="89">
                    <a:moveTo>
                      <a:pt x="0" y="79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115" y="89"/>
                    </a:lnTo>
                    <a:lnTo>
                      <a:pt x="0" y="7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019920" y="4946760"/>
                <a:ext cx="149760" cy="18000"/>
              </a:xfrm>
              <a:custGeom>
                <a:avLst/>
                <a:gdLst/>
                <a:ahLst/>
                <a:rect l="0" t="0" r="r" b="b"/>
                <a:pathLst>
                  <a:path fill="none" w="416" h="50">
                    <a:moveTo>
                      <a:pt x="0" y="20"/>
                    </a:moveTo>
                    <a:lnTo>
                      <a:pt x="286" y="0"/>
                    </a:lnTo>
                    <a:lnTo>
                      <a:pt x="167" y="15"/>
                    </a:lnTo>
                    <a:lnTo>
                      <a:pt x="167" y="25"/>
                    </a:lnTo>
                    <a:lnTo>
                      <a:pt x="392" y="20"/>
                    </a:lnTo>
                    <a:lnTo>
                      <a:pt x="416" y="15"/>
                    </a:lnTo>
                    <a:lnTo>
                      <a:pt x="392" y="20"/>
                    </a:lnTo>
                    <a:lnTo>
                      <a:pt x="330" y="30"/>
                    </a:lnTo>
                    <a:lnTo>
                      <a:pt x="282" y="30"/>
                    </a:lnTo>
                    <a:lnTo>
                      <a:pt x="277" y="40"/>
                    </a:lnTo>
                    <a:lnTo>
                      <a:pt x="272" y="30"/>
                    </a:lnTo>
                    <a:lnTo>
                      <a:pt x="243" y="30"/>
                    </a:lnTo>
                    <a:lnTo>
                      <a:pt x="243" y="40"/>
                    </a:lnTo>
                    <a:lnTo>
                      <a:pt x="229" y="30"/>
                    </a:lnTo>
                    <a:lnTo>
                      <a:pt x="95" y="30"/>
                    </a:lnTo>
                    <a:lnTo>
                      <a:pt x="110" y="50"/>
                    </a:lnTo>
                    <a:lnTo>
                      <a:pt x="80" y="34"/>
                    </a:lnTo>
                    <a:lnTo>
                      <a:pt x="42" y="30"/>
                    </a:lnTo>
                    <a:lnTo>
                      <a:pt x="4" y="25"/>
                    </a:lnTo>
                    <a:lnTo>
                      <a:pt x="0" y="2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5979960" y="4951440"/>
                <a:ext cx="78120" cy="18000"/>
              </a:xfrm>
              <a:custGeom>
                <a:avLst/>
                <a:gdLst/>
                <a:ahLst/>
                <a:rect l="0" t="0" r="r" b="b"/>
                <a:pathLst>
                  <a:path fill="none" w="217" h="50">
                    <a:moveTo>
                      <a:pt x="145" y="9"/>
                    </a:moveTo>
                    <a:lnTo>
                      <a:pt x="121" y="15"/>
                    </a:lnTo>
                    <a:lnTo>
                      <a:pt x="173" y="40"/>
                    </a:lnTo>
                    <a:lnTo>
                      <a:pt x="217" y="34"/>
                    </a:lnTo>
                    <a:lnTo>
                      <a:pt x="178" y="45"/>
                    </a:lnTo>
                    <a:lnTo>
                      <a:pt x="140" y="50"/>
                    </a:lnTo>
                    <a:lnTo>
                      <a:pt x="81" y="45"/>
                    </a:lnTo>
                    <a:lnTo>
                      <a:pt x="38" y="34"/>
                    </a:lnTo>
                    <a:lnTo>
                      <a:pt x="52" y="30"/>
                    </a:lnTo>
                    <a:lnTo>
                      <a:pt x="52" y="9"/>
                    </a:lnTo>
                    <a:lnTo>
                      <a:pt x="0" y="0"/>
                    </a:lnTo>
                    <a:lnTo>
                      <a:pt x="145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6005520" y="4929120"/>
                <a:ext cx="30600" cy="9720"/>
              </a:xfrm>
              <a:custGeom>
                <a:avLst/>
                <a:gdLst/>
                <a:ahLst/>
                <a:rect l="0" t="0" r="r" b="b"/>
                <a:pathLst>
                  <a:path fill="none" w="85" h="27">
                    <a:moveTo>
                      <a:pt x="0" y="0"/>
                    </a:moveTo>
                    <a:lnTo>
                      <a:pt x="85" y="0"/>
                    </a:lnTo>
                    <a:lnTo>
                      <a:pt x="40" y="5"/>
                    </a:lnTo>
                    <a:lnTo>
                      <a:pt x="50" y="22"/>
                    </a:lnTo>
                    <a:lnTo>
                      <a:pt x="14" y="2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6013440" y="4933800"/>
                <a:ext cx="143280" cy="14760"/>
              </a:xfrm>
              <a:custGeom>
                <a:avLst/>
                <a:gdLst/>
                <a:ahLst/>
                <a:rect l="0" t="0" r="r" b="b"/>
                <a:pathLst>
                  <a:path fill="none" w="398" h="41">
                    <a:moveTo>
                      <a:pt x="0" y="15"/>
                    </a:moveTo>
                    <a:lnTo>
                      <a:pt x="47" y="9"/>
                    </a:lnTo>
                    <a:lnTo>
                      <a:pt x="114" y="4"/>
                    </a:lnTo>
                    <a:lnTo>
                      <a:pt x="175" y="4"/>
                    </a:lnTo>
                    <a:lnTo>
                      <a:pt x="275" y="15"/>
                    </a:lnTo>
                    <a:lnTo>
                      <a:pt x="275" y="0"/>
                    </a:lnTo>
                    <a:lnTo>
                      <a:pt x="318" y="20"/>
                    </a:lnTo>
                    <a:lnTo>
                      <a:pt x="398" y="41"/>
                    </a:lnTo>
                    <a:lnTo>
                      <a:pt x="275" y="25"/>
                    </a:lnTo>
                    <a:lnTo>
                      <a:pt x="246" y="20"/>
                    </a:lnTo>
                    <a:lnTo>
                      <a:pt x="208" y="36"/>
                    </a:lnTo>
                    <a:lnTo>
                      <a:pt x="9" y="36"/>
                    </a:lnTo>
                    <a:lnTo>
                      <a:pt x="0" y="1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927760" y="4946760"/>
                <a:ext cx="74880" cy="18000"/>
              </a:xfrm>
              <a:custGeom>
                <a:avLst/>
                <a:gdLst/>
                <a:ahLst/>
                <a:rect l="0" t="0" r="r" b="b"/>
                <a:pathLst>
                  <a:path fill="none" w="208" h="50">
                    <a:moveTo>
                      <a:pt x="118" y="9"/>
                    </a:moveTo>
                    <a:lnTo>
                      <a:pt x="42" y="20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9"/>
                    </a:lnTo>
                    <a:lnTo>
                      <a:pt x="18" y="20"/>
                    </a:lnTo>
                    <a:lnTo>
                      <a:pt x="0" y="30"/>
                    </a:lnTo>
                    <a:lnTo>
                      <a:pt x="18" y="34"/>
                    </a:lnTo>
                    <a:lnTo>
                      <a:pt x="28" y="40"/>
                    </a:lnTo>
                    <a:lnTo>
                      <a:pt x="128" y="50"/>
                    </a:lnTo>
                    <a:lnTo>
                      <a:pt x="170" y="50"/>
                    </a:lnTo>
                    <a:lnTo>
                      <a:pt x="208" y="40"/>
                    </a:lnTo>
                    <a:lnTo>
                      <a:pt x="123" y="40"/>
                    </a:lnTo>
                    <a:lnTo>
                      <a:pt x="137" y="9"/>
                    </a:lnTo>
                    <a:lnTo>
                      <a:pt x="118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6068880" y="4930920"/>
                <a:ext cx="44640" cy="3600"/>
              </a:xfrm>
              <a:custGeom>
                <a:avLst/>
                <a:gdLst/>
                <a:ahLst/>
                <a:rect l="0" t="0" r="r" b="b"/>
                <a:pathLst>
                  <a:path fill="none" w="124" h="10">
                    <a:moveTo>
                      <a:pt x="0" y="10"/>
                    </a:moveTo>
                    <a:lnTo>
                      <a:pt x="56" y="0"/>
                    </a:lnTo>
                    <a:lnTo>
                      <a:pt x="95" y="0"/>
                    </a:lnTo>
                    <a:lnTo>
                      <a:pt x="124" y="10"/>
                    </a:lnTo>
                    <a:lnTo>
                      <a:pt x="91" y="0"/>
                    </a:lnTo>
                    <a:lnTo>
                      <a:pt x="67" y="0"/>
                    </a:lnTo>
                    <a:lnTo>
                      <a:pt x="0" y="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6130800" y="4967280"/>
                <a:ext cx="5040" cy="5040"/>
              </a:xfrm>
              <a:custGeom>
                <a:avLst/>
                <a:gdLst/>
                <a:ahLst/>
                <a:rect l="0" t="0" r="r" b="b"/>
                <a:pathLst>
                  <a:path fill="none" w="14" h="14">
                    <a:moveTo>
                      <a:pt x="14" y="9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14" y="14"/>
                    </a:lnTo>
                    <a:lnTo>
                      <a:pt x="14" y="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6129360" y="495468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fill="none" w="14" h="27">
                    <a:moveTo>
                      <a:pt x="14" y="27"/>
                    </a:moveTo>
                    <a:lnTo>
                      <a:pt x="9" y="27"/>
                    </a:lnTo>
                    <a:lnTo>
                      <a:pt x="9" y="22"/>
                    </a:lnTo>
                    <a:lnTo>
                      <a:pt x="9" y="16"/>
                    </a:lnTo>
                    <a:lnTo>
                      <a:pt x="0" y="5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6243480" y="5094360"/>
                <a:ext cx="246600" cy="11520"/>
              </a:xfrm>
              <a:custGeom>
                <a:avLst/>
                <a:gdLst/>
                <a:ahLst/>
                <a:rect l="0" t="0" r="r" b="b"/>
                <a:pathLst>
                  <a:path fill="none" w="685" h="32">
                    <a:moveTo>
                      <a:pt x="23" y="0"/>
                    </a:moveTo>
                    <a:lnTo>
                      <a:pt x="685" y="0"/>
                    </a:lnTo>
                    <a:lnTo>
                      <a:pt x="524" y="14"/>
                    </a:lnTo>
                    <a:lnTo>
                      <a:pt x="309" y="14"/>
                    </a:lnTo>
                    <a:lnTo>
                      <a:pt x="252" y="4"/>
                    </a:lnTo>
                    <a:lnTo>
                      <a:pt x="195" y="14"/>
                    </a:lnTo>
                    <a:lnTo>
                      <a:pt x="113" y="14"/>
                    </a:lnTo>
                    <a:lnTo>
                      <a:pt x="75" y="23"/>
                    </a:lnTo>
                    <a:lnTo>
                      <a:pt x="304" y="23"/>
                    </a:lnTo>
                    <a:lnTo>
                      <a:pt x="394" y="32"/>
                    </a:lnTo>
                    <a:lnTo>
                      <a:pt x="0" y="32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6039000" y="5052960"/>
                <a:ext cx="11520" cy="11520"/>
              </a:xfrm>
              <a:custGeom>
                <a:avLst/>
                <a:gdLst/>
                <a:ahLst/>
                <a:rect l="0" t="0" r="r" b="b"/>
                <a:pathLst>
                  <a:path fill="none" w="32" h="32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23" y="23"/>
                    </a:lnTo>
                    <a:lnTo>
                      <a:pt x="23" y="28"/>
                    </a:lnTo>
                    <a:lnTo>
                      <a:pt x="18" y="32"/>
                    </a:lnTo>
                    <a:lnTo>
                      <a:pt x="32" y="28"/>
                    </a:lnTo>
                    <a:lnTo>
                      <a:pt x="32" y="14"/>
                    </a:lnTo>
                    <a:lnTo>
                      <a:pt x="28" y="4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6039000" y="5059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5975280" y="5052960"/>
                <a:ext cx="9720" cy="9720"/>
              </a:xfrm>
              <a:custGeom>
                <a:avLst/>
                <a:gdLst/>
                <a:ahLst/>
                <a:rect l="0" t="0" r="r" b="b"/>
                <a:pathLst>
                  <a:path fill="none" w="27" h="27">
                    <a:moveTo>
                      <a:pt x="0" y="4"/>
                    </a:moveTo>
                    <a:lnTo>
                      <a:pt x="14" y="4"/>
                    </a:lnTo>
                    <a:lnTo>
                      <a:pt x="18" y="14"/>
                    </a:lnTo>
                    <a:lnTo>
                      <a:pt x="18" y="18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27" y="14"/>
                    </a:lnTo>
                    <a:lnTo>
                      <a:pt x="23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5975280" y="505944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5" y="5"/>
                    </a:moveTo>
                    <a:lnTo>
                      <a:pt x="10" y="10"/>
                    </a:lnTo>
                    <a:lnTo>
                      <a:pt x="5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5931000" y="5052960"/>
                <a:ext cx="8280" cy="9720"/>
              </a:xfrm>
              <a:custGeom>
                <a:avLst/>
                <a:gdLst/>
                <a:ahLst/>
                <a:rect l="0" t="0" r="r" b="b"/>
                <a:pathLst>
                  <a:path fill="none" w="23" h="27">
                    <a:moveTo>
                      <a:pt x="0" y="4"/>
                    </a:moveTo>
                    <a:lnTo>
                      <a:pt x="4" y="4"/>
                    </a:lnTo>
                    <a:lnTo>
                      <a:pt x="14" y="14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4" y="27"/>
                    </a:lnTo>
                    <a:lnTo>
                      <a:pt x="23" y="23"/>
                    </a:lnTo>
                    <a:lnTo>
                      <a:pt x="23" y="14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5931000" y="5057640"/>
                <a:ext cx="1800" cy="3600"/>
              </a:xfrm>
              <a:custGeom>
                <a:avLst/>
                <a:gdLst/>
                <a:ahLst/>
                <a:rect l="0" t="0" r="r" b="b"/>
                <a:pathLst>
                  <a:path fill="none" w="5" h="10">
                    <a:moveTo>
                      <a:pt x="0" y="5"/>
                    </a:moveTo>
                    <a:lnTo>
                      <a:pt x="5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6048360" y="5091120"/>
                <a:ext cx="47880" cy="46440"/>
              </a:xfrm>
              <a:custGeom>
                <a:avLst/>
                <a:gdLst/>
                <a:ahLst/>
                <a:rect l="0" t="0" r="r" b="b"/>
                <a:pathLst>
                  <a:path fill="none" w="133" h="129">
                    <a:moveTo>
                      <a:pt x="56" y="0"/>
                    </a:moveTo>
                    <a:lnTo>
                      <a:pt x="0" y="53"/>
                    </a:lnTo>
                    <a:lnTo>
                      <a:pt x="4" y="57"/>
                    </a:lnTo>
                    <a:lnTo>
                      <a:pt x="28" y="43"/>
                    </a:lnTo>
                    <a:lnTo>
                      <a:pt x="42" y="48"/>
                    </a:lnTo>
                    <a:lnTo>
                      <a:pt x="56" y="57"/>
                    </a:lnTo>
                    <a:lnTo>
                      <a:pt x="47" y="67"/>
                    </a:lnTo>
                    <a:lnTo>
                      <a:pt x="47" y="76"/>
                    </a:lnTo>
                    <a:lnTo>
                      <a:pt x="56" y="76"/>
                    </a:lnTo>
                    <a:lnTo>
                      <a:pt x="51" y="81"/>
                    </a:lnTo>
                    <a:lnTo>
                      <a:pt x="56" y="86"/>
                    </a:lnTo>
                    <a:lnTo>
                      <a:pt x="76" y="81"/>
                    </a:lnTo>
                    <a:lnTo>
                      <a:pt x="90" y="101"/>
                    </a:lnTo>
                    <a:lnTo>
                      <a:pt x="76" y="125"/>
                    </a:lnTo>
                    <a:lnTo>
                      <a:pt x="81" y="129"/>
                    </a:lnTo>
                    <a:lnTo>
                      <a:pt x="133" y="86"/>
                    </a:lnTo>
                    <a:lnTo>
                      <a:pt x="114" y="62"/>
                    </a:lnTo>
                    <a:lnTo>
                      <a:pt x="109" y="43"/>
                    </a:lnTo>
                    <a:lnTo>
                      <a:pt x="109" y="57"/>
                    </a:lnTo>
                    <a:lnTo>
                      <a:pt x="104" y="62"/>
                    </a:lnTo>
                    <a:lnTo>
                      <a:pt x="100" y="43"/>
                    </a:lnTo>
                    <a:lnTo>
                      <a:pt x="86" y="28"/>
                    </a:lnTo>
                    <a:lnTo>
                      <a:pt x="76" y="23"/>
                    </a:lnTo>
                    <a:lnTo>
                      <a:pt x="71" y="28"/>
                    </a:lnTo>
                    <a:lnTo>
                      <a:pt x="67" y="34"/>
                    </a:lnTo>
                    <a:lnTo>
                      <a:pt x="71" y="43"/>
                    </a:lnTo>
                    <a:lnTo>
                      <a:pt x="76" y="57"/>
                    </a:lnTo>
                    <a:lnTo>
                      <a:pt x="61" y="43"/>
                    </a:lnTo>
                    <a:lnTo>
                      <a:pt x="56" y="28"/>
                    </a:lnTo>
                    <a:lnTo>
                      <a:pt x="61" y="18"/>
                    </a:lnTo>
                    <a:lnTo>
                      <a:pt x="81" y="14"/>
                    </a:lnTo>
                    <a:lnTo>
                      <a:pt x="100" y="23"/>
                    </a:lnTo>
                    <a:lnTo>
                      <a:pt x="81" y="9"/>
                    </a:lnTo>
                    <a:lnTo>
                      <a:pt x="71" y="9"/>
                    </a:lnTo>
                    <a:lnTo>
                      <a:pt x="56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6232680" y="5099040"/>
                <a:ext cx="44640" cy="36720"/>
              </a:xfrm>
              <a:custGeom>
                <a:avLst/>
                <a:gdLst/>
                <a:ahLst/>
                <a:rect l="0" t="0" r="r" b="b"/>
                <a:pathLst>
                  <a:path fill="none" w="124" h="102">
                    <a:moveTo>
                      <a:pt x="33" y="102"/>
                    </a:moveTo>
                    <a:lnTo>
                      <a:pt x="37" y="97"/>
                    </a:lnTo>
                    <a:lnTo>
                      <a:pt x="33" y="68"/>
                    </a:lnTo>
                    <a:lnTo>
                      <a:pt x="42" y="63"/>
                    </a:lnTo>
                    <a:lnTo>
                      <a:pt x="61" y="78"/>
                    </a:lnTo>
                    <a:lnTo>
                      <a:pt x="67" y="78"/>
                    </a:lnTo>
                    <a:lnTo>
                      <a:pt x="67" y="63"/>
                    </a:lnTo>
                    <a:lnTo>
                      <a:pt x="76" y="73"/>
                    </a:lnTo>
                    <a:lnTo>
                      <a:pt x="81" y="68"/>
                    </a:lnTo>
                    <a:lnTo>
                      <a:pt x="81" y="58"/>
                    </a:lnTo>
                    <a:lnTo>
                      <a:pt x="95" y="43"/>
                    </a:lnTo>
                    <a:lnTo>
                      <a:pt x="119" y="73"/>
                    </a:lnTo>
                    <a:lnTo>
                      <a:pt x="124" y="63"/>
                    </a:lnTo>
                    <a:lnTo>
                      <a:pt x="86" y="4"/>
                    </a:lnTo>
                    <a:lnTo>
                      <a:pt x="18" y="0"/>
                    </a:lnTo>
                    <a:lnTo>
                      <a:pt x="0" y="48"/>
                    </a:lnTo>
                    <a:lnTo>
                      <a:pt x="33" y="10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5445000" y="4959360"/>
                <a:ext cx="97200" cy="28800"/>
              </a:xfrm>
              <a:custGeom>
                <a:avLst/>
                <a:gdLst/>
                <a:ahLst/>
                <a:rect l="0" t="0" r="r" b="b"/>
                <a:pathLst>
                  <a:path fill="none" w="270" h="80">
                    <a:moveTo>
                      <a:pt x="233" y="80"/>
                    </a:moveTo>
                    <a:lnTo>
                      <a:pt x="233" y="43"/>
                    </a:lnTo>
                    <a:lnTo>
                      <a:pt x="166" y="43"/>
                    </a:lnTo>
                    <a:lnTo>
                      <a:pt x="147" y="52"/>
                    </a:lnTo>
                    <a:lnTo>
                      <a:pt x="133" y="43"/>
                    </a:lnTo>
                    <a:lnTo>
                      <a:pt x="100" y="43"/>
                    </a:lnTo>
                    <a:lnTo>
                      <a:pt x="95" y="52"/>
                    </a:lnTo>
                    <a:lnTo>
                      <a:pt x="76" y="52"/>
                    </a:lnTo>
                    <a:lnTo>
                      <a:pt x="71" y="61"/>
                    </a:lnTo>
                    <a:lnTo>
                      <a:pt x="51" y="61"/>
                    </a:lnTo>
                    <a:lnTo>
                      <a:pt x="51" y="71"/>
                    </a:lnTo>
                    <a:lnTo>
                      <a:pt x="37" y="7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14" y="28"/>
                    </a:lnTo>
                    <a:lnTo>
                      <a:pt x="37" y="28"/>
                    </a:lnTo>
                    <a:lnTo>
                      <a:pt x="37" y="14"/>
                    </a:lnTo>
                    <a:lnTo>
                      <a:pt x="4" y="14"/>
                    </a:lnTo>
                    <a:lnTo>
                      <a:pt x="18" y="0"/>
                    </a:lnTo>
                    <a:lnTo>
                      <a:pt x="270" y="0"/>
                    </a:lnTo>
                    <a:lnTo>
                      <a:pt x="237" y="14"/>
                    </a:lnTo>
                    <a:lnTo>
                      <a:pt x="237" y="80"/>
                    </a:lnTo>
                    <a:lnTo>
                      <a:pt x="233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5541840" y="494676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5532480" y="4946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5521320" y="494676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5511960" y="4946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5456160" y="4946760"/>
                <a:ext cx="52920" cy="5040"/>
              </a:xfrm>
              <a:custGeom>
                <a:avLst/>
                <a:gdLst/>
                <a:ahLst/>
                <a:rect l="0" t="0" r="r" b="b"/>
                <a:pathLst>
                  <a:path fill="none" w="147" h="14">
                    <a:moveTo>
                      <a:pt x="147" y="0"/>
                    </a:moveTo>
                    <a:lnTo>
                      <a:pt x="147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5541840" y="493236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19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5532480" y="493236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5521320" y="4932360"/>
                <a:ext cx="8280" cy="6840"/>
              </a:xfrm>
              <a:custGeom>
                <a:avLst/>
                <a:gdLst/>
                <a:ahLst/>
                <a:rect l="0" t="0" r="r" b="b"/>
                <a:pathLst>
                  <a:path fill="none" w="23" h="19">
                    <a:moveTo>
                      <a:pt x="23" y="0"/>
                    </a:moveTo>
                    <a:lnTo>
                      <a:pt x="23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5511960" y="493236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5456160" y="4932360"/>
                <a:ext cx="52920" cy="6840"/>
              </a:xfrm>
              <a:custGeom>
                <a:avLst/>
                <a:gdLst/>
                <a:ahLst/>
                <a:rect l="0" t="0" r="r" b="b"/>
                <a:pathLst>
                  <a:path fill="none" w="147" h="19">
                    <a:moveTo>
                      <a:pt x="147" y="0"/>
                    </a:moveTo>
                    <a:lnTo>
                      <a:pt x="147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4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5541840" y="4919760"/>
                <a:ext cx="1800" cy="5040"/>
              </a:xfrm>
              <a:custGeom>
                <a:avLst/>
                <a:gdLst/>
                <a:ahLst/>
                <a:rect l="0" t="0" r="r" b="b"/>
                <a:pathLst>
                  <a:path fill="none" w="5" h="14">
                    <a:moveTo>
                      <a:pt x="0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5532480" y="4919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5521320" y="491976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23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5511960" y="491976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19" y="0"/>
                    </a:moveTo>
                    <a:lnTo>
                      <a:pt x="19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5424480" y="4919760"/>
                <a:ext cx="84600" cy="41760"/>
              </a:xfrm>
              <a:custGeom>
                <a:avLst/>
                <a:gdLst/>
                <a:ahLst/>
                <a:rect l="0" t="0" r="r" b="b"/>
                <a:pathLst>
                  <a:path fill="none" w="235" h="116">
                    <a:moveTo>
                      <a:pt x="235" y="14"/>
                    </a:moveTo>
                    <a:lnTo>
                      <a:pt x="105" y="14"/>
                    </a:lnTo>
                    <a:lnTo>
                      <a:pt x="105" y="48"/>
                    </a:lnTo>
                    <a:lnTo>
                      <a:pt x="91" y="48"/>
                    </a:lnTo>
                    <a:lnTo>
                      <a:pt x="91" y="111"/>
                    </a:lnTo>
                    <a:lnTo>
                      <a:pt x="77" y="111"/>
                    </a:lnTo>
                    <a:lnTo>
                      <a:pt x="77" y="97"/>
                    </a:lnTo>
                    <a:lnTo>
                      <a:pt x="63" y="116"/>
                    </a:lnTo>
                    <a:lnTo>
                      <a:pt x="14" y="92"/>
                    </a:lnTo>
                    <a:lnTo>
                      <a:pt x="23" y="92"/>
                    </a:lnTo>
                    <a:lnTo>
                      <a:pt x="23" y="77"/>
                    </a:lnTo>
                    <a:lnTo>
                      <a:pt x="19" y="77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34"/>
                    </a:lnTo>
                    <a:lnTo>
                      <a:pt x="23" y="34"/>
                    </a:lnTo>
                    <a:lnTo>
                      <a:pt x="23" y="23"/>
                    </a:lnTo>
                    <a:lnTo>
                      <a:pt x="67" y="23"/>
                    </a:lnTo>
                    <a:lnTo>
                      <a:pt x="67" y="0"/>
                    </a:lnTo>
                    <a:lnTo>
                      <a:pt x="235" y="0"/>
                    </a:lnTo>
                    <a:lnTo>
                      <a:pt x="235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5456160" y="4919760"/>
                <a:ext cx="86040" cy="39960"/>
              </a:xfrm>
              <a:custGeom>
                <a:avLst/>
                <a:gdLst/>
                <a:ahLst/>
                <a:rect l="0" t="0" r="r" b="b"/>
                <a:pathLst>
                  <a:path fill="none" w="239" h="111">
                    <a:moveTo>
                      <a:pt x="239" y="111"/>
                    </a:move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5456160" y="49244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5456160" y="49323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5456160" y="49388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5456160" y="494676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5456160" y="49514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5472000" y="4883040"/>
                <a:ext cx="36720" cy="36720"/>
              </a:xfrm>
              <a:custGeom>
                <a:avLst/>
                <a:gdLst/>
                <a:ahLst/>
                <a:rect l="0" t="0" r="r" b="b"/>
                <a:pathLst>
                  <a:path fill="none" w="102" h="102">
                    <a:moveTo>
                      <a:pt x="102" y="83"/>
                    </a:moveTo>
                    <a:lnTo>
                      <a:pt x="54" y="83"/>
                    </a:lnTo>
                    <a:lnTo>
                      <a:pt x="54" y="102"/>
                    </a:lnTo>
                    <a:lnTo>
                      <a:pt x="14" y="102"/>
                    </a:lnTo>
                    <a:lnTo>
                      <a:pt x="14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83"/>
                    </a:lnTo>
                    <a:lnTo>
                      <a:pt x="102" y="8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5483160" y="4883040"/>
                <a:ext cx="1800" cy="28800"/>
              </a:xfrm>
              <a:custGeom>
                <a:avLst/>
                <a:gdLst/>
                <a:ahLst/>
                <a:rect l="0" t="0" r="r" b="b"/>
                <a:pathLst>
                  <a:path fill="none" w="5" h="80">
                    <a:moveTo>
                      <a:pt x="0" y="8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80"/>
                    </a:lnTo>
                    <a:lnTo>
                      <a:pt x="0" y="8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5487840" y="4892760"/>
                <a:ext cx="1800" cy="19440"/>
              </a:xfrm>
              <a:custGeom>
                <a:avLst/>
                <a:gdLst/>
                <a:ahLst/>
                <a:rect l="0" t="0" r="r" b="b"/>
                <a:pathLst>
                  <a:path fill="none" w="5" h="54">
                    <a:moveTo>
                      <a:pt x="0" y="5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54"/>
                    </a:lnTo>
                    <a:lnTo>
                      <a:pt x="0" y="5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5472000" y="488304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fill="none" w="102" h="80">
                    <a:moveTo>
                      <a:pt x="102" y="80"/>
                    </a:moveTo>
                    <a:lnTo>
                      <a:pt x="10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H="1" flipV="1">
                <a:off x="5495760" y="4911840"/>
                <a:ext cx="972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5443560" y="4915080"/>
                <a:ext cx="100440" cy="5040"/>
              </a:xfrm>
              <a:custGeom>
                <a:avLst/>
                <a:gdLst/>
                <a:ahLst/>
                <a:rect l="0" t="0" r="r" b="b"/>
                <a:pathLst>
                  <a:path fill="none" w="279" h="14">
                    <a:moveTo>
                      <a:pt x="279" y="14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3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5443560" y="491652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5475240" y="4876920"/>
                <a:ext cx="6840" cy="5040"/>
              </a:xfrm>
              <a:custGeom>
                <a:avLst/>
                <a:gdLst/>
                <a:ahLst/>
                <a:rect l="0" t="0" r="r" b="b"/>
                <a:pathLst>
                  <a:path fill="none" w="19" h="14">
                    <a:moveTo>
                      <a:pt x="0" y="1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5484960" y="4876920"/>
                <a:ext cx="20880" cy="5040"/>
              </a:xfrm>
              <a:custGeom>
                <a:avLst/>
                <a:gdLst/>
                <a:ahLst/>
                <a:rect l="0" t="0" r="r" b="b"/>
                <a:pathLst>
                  <a:path fill="none" w="58" h="14">
                    <a:moveTo>
                      <a:pt x="0" y="14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4"/>
                    </a:lnTo>
                    <a:lnTo>
                      <a:pt x="48" y="4"/>
                    </a:lnTo>
                    <a:lnTo>
                      <a:pt x="48" y="14"/>
                    </a:lnTo>
                    <a:lnTo>
                      <a:pt x="48" y="4"/>
                    </a:lnTo>
                    <a:lnTo>
                      <a:pt x="9" y="4"/>
                    </a:lnTo>
                    <a:lnTo>
                      <a:pt x="9" y="14"/>
                    </a:lnTo>
                    <a:lnTo>
                      <a:pt x="0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5478480" y="4873680"/>
                <a:ext cx="1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5483160" y="4792680"/>
                <a:ext cx="1800" cy="84600"/>
              </a:xfrm>
              <a:custGeom>
                <a:avLst/>
                <a:gdLst/>
                <a:ahLst/>
                <a:rect l="0" t="0" r="r" b="b"/>
                <a:pathLst>
                  <a:path fill="none" w="5" h="235">
                    <a:moveTo>
                      <a:pt x="0" y="235"/>
                    </a:moveTo>
                    <a:lnTo>
                      <a:pt x="5" y="0"/>
                    </a:lnTo>
                    <a:lnTo>
                      <a:pt x="5" y="235"/>
                    </a:lnTo>
                    <a:lnTo>
                      <a:pt x="0" y="23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5478480" y="485784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19"/>
                    </a:moveTo>
                    <a:lnTo>
                      <a:pt x="0" y="1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554184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553392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552780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551988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5513400" y="4915080"/>
                <a:ext cx="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550548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549756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547056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>
                <a:off x="5454720" y="4915080"/>
                <a:ext cx="144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5448240" y="4915080"/>
                <a:ext cx="0" cy="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5464080" y="49039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5459400" y="49039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5462640" y="4910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fill="none" w="5" h="27">
                    <a:moveTo>
                      <a:pt x="0" y="0"/>
                    </a:moveTo>
                    <a:lnTo>
                      <a:pt x="0" y="27"/>
                    </a:lnTo>
                    <a:lnTo>
                      <a:pt x="5" y="27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5533920" y="4908600"/>
                <a:ext cx="8280" cy="1800"/>
              </a:xfrm>
              <a:custGeom>
                <a:avLst/>
                <a:gdLst/>
                <a:ahLst/>
                <a:rect l="0" t="0" r="r" b="b"/>
                <a:pathLst>
                  <a:path fill="none" w="23" h="5">
                    <a:moveTo>
                      <a:pt x="23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5424480" y="4957920"/>
                <a:ext cx="20880" cy="11520"/>
              </a:xfrm>
              <a:custGeom>
                <a:avLst/>
                <a:gdLst/>
                <a:ahLst/>
                <a:rect l="0" t="0" r="r" b="b"/>
                <a:pathLst>
                  <a:path fill="none" w="58" h="32">
                    <a:moveTo>
                      <a:pt x="0" y="0"/>
                    </a:moveTo>
                    <a:lnTo>
                      <a:pt x="0" y="18"/>
                    </a:lnTo>
                    <a:lnTo>
                      <a:pt x="4" y="23"/>
                    </a:lnTo>
                    <a:lnTo>
                      <a:pt x="14" y="14"/>
                    </a:lnTo>
                    <a:lnTo>
                      <a:pt x="58" y="32"/>
                    </a:lnTo>
                    <a:lnTo>
                      <a:pt x="58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5432400" y="4971960"/>
                <a:ext cx="12960" cy="22680"/>
              </a:xfrm>
              <a:custGeom>
                <a:avLst/>
                <a:gdLst/>
                <a:ahLst/>
                <a:rect l="0" t="0" r="r" b="b"/>
                <a:pathLst>
                  <a:path fill="none" w="36" h="63">
                    <a:moveTo>
                      <a:pt x="0" y="0"/>
                    </a:moveTo>
                    <a:lnTo>
                      <a:pt x="36" y="0"/>
                    </a:lnTo>
                    <a:lnTo>
                      <a:pt x="36" y="54"/>
                    </a:lnTo>
                    <a:lnTo>
                      <a:pt x="31" y="58"/>
                    </a:lnTo>
                    <a:lnTo>
                      <a:pt x="21" y="58"/>
                    </a:lnTo>
                    <a:lnTo>
                      <a:pt x="15" y="63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V="1">
                <a:off x="5432400" y="4937040"/>
                <a:ext cx="7920" cy="3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5445000" y="4959360"/>
                <a:ext cx="3600" cy="12960"/>
              </a:xfrm>
              <a:custGeom>
                <a:avLst/>
                <a:gdLst/>
                <a:ahLst/>
                <a:rect l="0" t="0" r="r" b="b"/>
                <a:pathLst>
                  <a:path fill="none" w="10" h="36">
                    <a:moveTo>
                      <a:pt x="0" y="36"/>
                    </a:moveTo>
                    <a:lnTo>
                      <a:pt x="0" y="27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5407200" y="499752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fill="none" w="72" h="14">
                    <a:moveTo>
                      <a:pt x="67" y="1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67" y="1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5421240" y="49831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5416560" y="4983120"/>
                <a:ext cx="3600" cy="3600"/>
              </a:xfrm>
              <a:custGeom>
                <a:avLst/>
                <a:gdLst/>
                <a:ahLst/>
                <a:rect l="0" t="0" r="r" b="b"/>
                <a:pathLst>
                  <a:path fill="none"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7520" bIns="-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5419800" y="4989600"/>
                <a:ext cx="1800" cy="8280"/>
              </a:xfrm>
              <a:custGeom>
                <a:avLst/>
                <a:gdLst/>
                <a:ahLst/>
                <a:rect l="0" t="0" r="r" b="b"/>
                <a:pathLst>
                  <a:path fill="none" w="5" h="23">
                    <a:moveTo>
                      <a:pt x="0" y="0"/>
                    </a:move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5397480" y="4981680"/>
                <a:ext cx="35280" cy="14760"/>
              </a:xfrm>
              <a:custGeom>
                <a:avLst/>
                <a:gdLst/>
                <a:ahLst/>
                <a:rect l="0" t="0" r="r" b="b"/>
                <a:pathLst>
                  <a:path fill="none" w="98" h="41">
                    <a:moveTo>
                      <a:pt x="98" y="41"/>
                    </a:move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5407200" y="498168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fill="none" w="72" h="27">
                    <a:moveTo>
                      <a:pt x="72" y="0"/>
                    </a:moveTo>
                    <a:lnTo>
                      <a:pt x="43" y="27"/>
                    </a:lnTo>
                    <a:lnTo>
                      <a:pt x="29" y="0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5397480" y="4981680"/>
                <a:ext cx="0" cy="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5396040" y="499104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5396040" y="499428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5407200" y="500868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fill="none" w="63" h="27">
                    <a:moveTo>
                      <a:pt x="63" y="0"/>
                    </a:moveTo>
                    <a:lnTo>
                      <a:pt x="0" y="27"/>
                    </a:lnTo>
                    <a:lnTo>
                      <a:pt x="63" y="4"/>
                    </a:lnTo>
                    <a:lnTo>
                      <a:pt x="6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5416560" y="4998960"/>
                <a:ext cx="12960" cy="32040"/>
              </a:xfrm>
              <a:custGeom>
                <a:avLst/>
                <a:gdLst/>
                <a:ahLst/>
                <a:rect l="0" t="0" r="r" b="b"/>
                <a:pathLst>
                  <a:path fill="none" w="36" h="89">
                    <a:moveTo>
                      <a:pt x="36" y="79"/>
                    </a:moveTo>
                    <a:lnTo>
                      <a:pt x="0" y="0"/>
                    </a:lnTo>
                    <a:lnTo>
                      <a:pt x="23" y="8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5432400" y="492120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0" y="0"/>
                    </a:moveTo>
                    <a:lnTo>
                      <a:pt x="0" y="14"/>
                    </a:lnTo>
                    <a:lnTo>
                      <a:pt x="23" y="14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5429160" y="4908600"/>
                <a:ext cx="12960" cy="8280"/>
              </a:xfrm>
              <a:custGeom>
                <a:avLst/>
                <a:gdLst/>
                <a:ahLst/>
                <a:rect l="0" t="0" r="r" b="b"/>
                <a:pathLst>
                  <a:path fill="none" w="36" h="23">
                    <a:moveTo>
                      <a:pt x="0" y="12"/>
                    </a:moveTo>
                    <a:lnTo>
                      <a:pt x="36" y="0"/>
                    </a:lnTo>
                    <a:lnTo>
                      <a:pt x="36" y="5"/>
                    </a:lnTo>
                    <a:lnTo>
                      <a:pt x="36" y="17"/>
                    </a:lnTo>
                    <a:lnTo>
                      <a:pt x="3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 flipV="1">
                <a:off x="5429160" y="4911840"/>
                <a:ext cx="1296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5430960" y="4911840"/>
                <a:ext cx="0" cy="4680"/>
              </a:xfrm>
              <a:custGeom>
                <a:avLst/>
                <a:gdLst/>
                <a:ahLst/>
                <a:rect l="0" t="0" r="r" b="b"/>
                <a:pathLst>
                  <a:path fill="none" w="0" h="13">
                    <a:moveTo>
                      <a:pt x="0" y="0"/>
                    </a:moveTo>
                    <a:lnTo>
                      <a:pt x="0" y="6"/>
                    </a:lnTo>
                    <a:lnTo>
                      <a:pt x="0" y="1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543240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543384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5437080" y="4910040"/>
                <a:ext cx="0" cy="6120"/>
              </a:xfrm>
              <a:custGeom>
                <a:avLst/>
                <a:gdLst/>
                <a:ahLst/>
                <a:rect l="0" t="0" r="r" b="b"/>
                <a:pathLst>
                  <a:path fill="none" w="0" h="17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5438880" y="4910040"/>
                <a:ext cx="1800" cy="6840"/>
              </a:xfrm>
              <a:custGeom>
                <a:avLst/>
                <a:gdLst/>
                <a:ahLst/>
                <a:rect l="0" t="0" r="r" b="b"/>
                <a:pathLst>
                  <a:path fill="none" w="5" h="19">
                    <a:moveTo>
                      <a:pt x="0" y="0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5" y="1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5437080" y="491796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fill="none"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5429160" y="4844880"/>
                <a:ext cx="127440" cy="6840"/>
              </a:xfrm>
              <a:custGeom>
                <a:avLst/>
                <a:gdLst/>
                <a:ahLst/>
                <a:rect l="0" t="0" r="r" b="b"/>
                <a:pathLst>
                  <a:path fill="none" w="354" h="19">
                    <a:moveTo>
                      <a:pt x="0" y="6"/>
                    </a:moveTo>
                    <a:lnTo>
                      <a:pt x="153" y="0"/>
                    </a:lnTo>
                    <a:lnTo>
                      <a:pt x="354" y="6"/>
                    </a:lnTo>
                    <a:lnTo>
                      <a:pt x="177" y="6"/>
                    </a:lnTo>
                    <a:lnTo>
                      <a:pt x="153" y="19"/>
                    </a:lnTo>
                    <a:lnTo>
                      <a:pt x="139" y="6"/>
                    </a:lnTo>
                    <a:lnTo>
                      <a:pt x="0" y="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5429160" y="48150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fill="none" w="296" h="14">
                    <a:moveTo>
                      <a:pt x="0" y="4"/>
                    </a:moveTo>
                    <a:lnTo>
                      <a:pt x="153" y="0"/>
                    </a:lnTo>
                    <a:lnTo>
                      <a:pt x="296" y="4"/>
                    </a:lnTo>
                    <a:lnTo>
                      <a:pt x="172" y="9"/>
                    </a:lnTo>
                    <a:lnTo>
                      <a:pt x="153" y="14"/>
                    </a:lnTo>
                    <a:lnTo>
                      <a:pt x="138" y="9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5462640" y="4838760"/>
                <a:ext cx="38520" cy="1800"/>
              </a:xfrm>
              <a:custGeom>
                <a:avLst/>
                <a:gdLst/>
                <a:ahLst/>
                <a:rect l="0" t="0" r="r" b="b"/>
                <a:pathLst>
                  <a:path fill="none" w="107" h="5">
                    <a:moveTo>
                      <a:pt x="0" y="0"/>
                    </a:moveTo>
                    <a:lnTo>
                      <a:pt x="60" y="0"/>
                    </a:lnTo>
                    <a:lnTo>
                      <a:pt x="107" y="0"/>
                    </a:lnTo>
                    <a:lnTo>
                      <a:pt x="60" y="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flipV="1">
                <a:off x="5462640" y="4792680"/>
                <a:ext cx="22320" cy="46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5481720" y="47926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9" y="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9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5454720" y="479268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12" y="67"/>
                    </a:moveTo>
                    <a:lnTo>
                      <a:pt x="12" y="1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9" y="9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12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505480" y="4792680"/>
                <a:ext cx="6840" cy="24120"/>
              </a:xfrm>
              <a:custGeom>
                <a:avLst/>
                <a:gdLst/>
                <a:ahLst/>
                <a:rect l="0" t="0" r="r" b="b"/>
                <a:pathLst>
                  <a:path fill="none" w="19" h="67">
                    <a:moveTo>
                      <a:pt x="9" y="67"/>
                    </a:moveTo>
                    <a:lnTo>
                      <a:pt x="9" y="14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5" y="9"/>
                    </a:lnTo>
                    <a:lnTo>
                      <a:pt x="15" y="4"/>
                    </a:lnTo>
                    <a:lnTo>
                      <a:pt x="15" y="9"/>
                    </a:lnTo>
                    <a:lnTo>
                      <a:pt x="19" y="14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9" y="6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5459400" y="4816440"/>
                <a:ext cx="49680" cy="19440"/>
              </a:xfrm>
              <a:custGeom>
                <a:avLst/>
                <a:gdLst/>
                <a:ahLst/>
                <a:rect l="0" t="0" r="r" b="b"/>
                <a:pathLst>
                  <a:path fill="none" w="138" h="54">
                    <a:moveTo>
                      <a:pt x="138" y="0"/>
                    </a:moveTo>
                    <a:lnTo>
                      <a:pt x="71" y="5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 flipV="1">
                <a:off x="5491080" y="4748040"/>
                <a:ext cx="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5437080" y="4826160"/>
                <a:ext cx="0" cy="1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5443560" y="483696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5545080" y="4822920"/>
                <a:ext cx="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5522760" y="4836960"/>
                <a:ext cx="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5429160" y="4848120"/>
                <a:ext cx="1908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 flipH="1">
                <a:off x="5508720" y="4848120"/>
                <a:ext cx="475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 flipH="1">
                <a:off x="5506920" y="4848120"/>
                <a:ext cx="4284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5448240" y="4826160"/>
                <a:ext cx="19440" cy="9720"/>
              </a:xfrm>
              <a:custGeom>
                <a:avLst/>
                <a:gdLst/>
                <a:ahLst/>
                <a:rect l="0" t="0" r="r" b="b"/>
                <a:pathLst>
                  <a:path fill="none" w="54" h="27">
                    <a:moveTo>
                      <a:pt x="45" y="27"/>
                    </a:moveTo>
                    <a:lnTo>
                      <a:pt x="54" y="0"/>
                    </a:lnTo>
                    <a:lnTo>
                      <a:pt x="39" y="0"/>
                    </a:lnTo>
                    <a:lnTo>
                      <a:pt x="29" y="4"/>
                    </a:lnTo>
                    <a:lnTo>
                      <a:pt x="20" y="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20" y="27"/>
                    </a:lnTo>
                    <a:lnTo>
                      <a:pt x="4" y="23"/>
                    </a:lnTo>
                    <a:lnTo>
                      <a:pt x="0" y="18"/>
                    </a:lnTo>
                    <a:lnTo>
                      <a:pt x="4" y="0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29" y="14"/>
                    </a:lnTo>
                    <a:lnTo>
                      <a:pt x="45" y="14"/>
                    </a:lnTo>
                    <a:lnTo>
                      <a:pt x="45" y="2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5418000" y="485136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37" y="4"/>
                    </a:moveTo>
                    <a:lnTo>
                      <a:pt x="27" y="4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8" y="9"/>
                    </a:lnTo>
                    <a:lnTo>
                      <a:pt x="4" y="9"/>
                    </a:lnTo>
                    <a:lnTo>
                      <a:pt x="23" y="4"/>
                    </a:lnTo>
                    <a:lnTo>
                      <a:pt x="27" y="19"/>
                    </a:lnTo>
                    <a:lnTo>
                      <a:pt x="41" y="15"/>
                    </a:lnTo>
                    <a:lnTo>
                      <a:pt x="37" y="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5424480" y="4865760"/>
                <a:ext cx="12960" cy="11520"/>
              </a:xfrm>
              <a:custGeom>
                <a:avLst/>
                <a:gdLst/>
                <a:ahLst/>
                <a:rect l="0" t="0" r="r" b="b"/>
                <a:pathLst>
                  <a:path fill="none" w="36" h="32">
                    <a:moveTo>
                      <a:pt x="31" y="0"/>
                    </a:moveTo>
                    <a:lnTo>
                      <a:pt x="15" y="0"/>
                    </a:lnTo>
                    <a:lnTo>
                      <a:pt x="15" y="11"/>
                    </a:lnTo>
                    <a:lnTo>
                      <a:pt x="0" y="16"/>
                    </a:lnTo>
                    <a:lnTo>
                      <a:pt x="5" y="21"/>
                    </a:lnTo>
                    <a:lnTo>
                      <a:pt x="5" y="32"/>
                    </a:lnTo>
                    <a:lnTo>
                      <a:pt x="15" y="21"/>
                    </a:lnTo>
                    <a:lnTo>
                      <a:pt x="15" y="16"/>
                    </a:lnTo>
                    <a:lnTo>
                      <a:pt x="36" y="11"/>
                    </a:lnTo>
                    <a:lnTo>
                      <a:pt x="15" y="11"/>
                    </a:lnTo>
                    <a:lnTo>
                      <a:pt x="15" y="5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427720" y="4879800"/>
                <a:ext cx="11520" cy="5040"/>
              </a:xfrm>
              <a:custGeom>
                <a:avLst/>
                <a:gdLst/>
                <a:ahLst/>
                <a:rect l="0" t="0" r="r" b="b"/>
                <a:pathLst>
                  <a:path fill="none" w="32" h="14">
                    <a:moveTo>
                      <a:pt x="32" y="0"/>
                    </a:moveTo>
                    <a:lnTo>
                      <a:pt x="21" y="4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16" y="9"/>
                    </a:lnTo>
                    <a:lnTo>
                      <a:pt x="5" y="9"/>
                    </a:lnTo>
                    <a:lnTo>
                      <a:pt x="16" y="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32" y="14"/>
                    </a:lnTo>
                    <a:lnTo>
                      <a:pt x="32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5429160" y="4889520"/>
                <a:ext cx="12960" cy="9720"/>
              </a:xfrm>
              <a:custGeom>
                <a:avLst/>
                <a:gdLst/>
                <a:ahLst/>
                <a:rect l="0" t="0" r="r" b="b"/>
                <a:pathLst>
                  <a:path fill="none" w="36" h="27">
                    <a:moveTo>
                      <a:pt x="31" y="0"/>
                    </a:moveTo>
                    <a:lnTo>
                      <a:pt x="15" y="10"/>
                    </a:lnTo>
                    <a:lnTo>
                      <a:pt x="0" y="16"/>
                    </a:lnTo>
                    <a:lnTo>
                      <a:pt x="5" y="27"/>
                    </a:lnTo>
                    <a:lnTo>
                      <a:pt x="21" y="22"/>
                    </a:lnTo>
                    <a:lnTo>
                      <a:pt x="26" y="16"/>
                    </a:lnTo>
                    <a:lnTo>
                      <a:pt x="36" y="16"/>
                    </a:lnTo>
                    <a:lnTo>
                      <a:pt x="21" y="16"/>
                    </a:lnTo>
                    <a:lnTo>
                      <a:pt x="21" y="10"/>
                    </a:lnTo>
                    <a:lnTo>
                      <a:pt x="3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5459400" y="4834080"/>
                <a:ext cx="5040" cy="1800"/>
              </a:xfrm>
              <a:custGeom>
                <a:avLst/>
                <a:gdLst/>
                <a:ahLst/>
                <a:rect l="0" t="0" r="r" b="b"/>
                <a:pathLst>
                  <a:path fill="none" w="14" h="5">
                    <a:moveTo>
                      <a:pt x="0" y="5"/>
                    </a:moveTo>
                    <a:lnTo>
                      <a:pt x="9" y="0"/>
                    </a:lnTo>
                    <a:lnTo>
                      <a:pt x="14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5442120" y="485460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fill="none" w="19" h="19">
                    <a:moveTo>
                      <a:pt x="19" y="0"/>
                    </a:moveTo>
                    <a:lnTo>
                      <a:pt x="9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9" y="19"/>
                    </a:lnTo>
                    <a:lnTo>
                      <a:pt x="19" y="15"/>
                    </a:lnTo>
                    <a:lnTo>
                      <a:pt x="19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5529240" y="485604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27" y="0"/>
                    </a:lnTo>
                    <a:lnTo>
                      <a:pt x="23" y="9"/>
                    </a:lnTo>
                    <a:lnTo>
                      <a:pt x="14" y="9"/>
                    </a:lnTo>
                    <a:lnTo>
                      <a:pt x="0" y="14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7" y="9"/>
                    </a:lnTo>
                    <a:lnTo>
                      <a:pt x="32" y="14"/>
                    </a:lnTo>
                    <a:lnTo>
                      <a:pt x="27" y="4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5532480" y="4865760"/>
                <a:ext cx="9720" cy="6840"/>
              </a:xfrm>
              <a:custGeom>
                <a:avLst/>
                <a:gdLst/>
                <a:ahLst/>
                <a:rect l="0" t="0" r="r" b="b"/>
                <a:pathLst>
                  <a:path fill="none" w="27" h="19">
                    <a:moveTo>
                      <a:pt x="27" y="0"/>
                    </a:moveTo>
                    <a:lnTo>
                      <a:pt x="14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8" y="19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7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5519880" y="4873680"/>
                <a:ext cx="14760" cy="5040"/>
              </a:xfrm>
              <a:custGeom>
                <a:avLst/>
                <a:gdLst/>
                <a:ahLst/>
                <a:rect l="0" t="0" r="r" b="b"/>
                <a:pathLst>
                  <a:path fill="none" w="41" h="14">
                    <a:moveTo>
                      <a:pt x="41" y="0"/>
                    </a:moveTo>
                    <a:lnTo>
                      <a:pt x="30" y="0"/>
                    </a:lnTo>
                    <a:lnTo>
                      <a:pt x="25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20" y="14"/>
                    </a:lnTo>
                    <a:lnTo>
                      <a:pt x="25" y="14"/>
                    </a:lnTo>
                    <a:lnTo>
                      <a:pt x="30" y="14"/>
                    </a:lnTo>
                    <a:lnTo>
                      <a:pt x="25" y="9"/>
                    </a:lnTo>
                    <a:lnTo>
                      <a:pt x="30" y="0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5518080" y="4879800"/>
                <a:ext cx="16200" cy="5040"/>
              </a:xfrm>
              <a:custGeom>
                <a:avLst/>
                <a:gdLst/>
                <a:ahLst/>
                <a:rect l="0" t="0" r="r" b="b"/>
                <a:pathLst>
                  <a:path fill="none" w="45" h="14">
                    <a:moveTo>
                      <a:pt x="45" y="0"/>
                    </a:moveTo>
                    <a:lnTo>
                      <a:pt x="30" y="0"/>
                    </a:lnTo>
                    <a:lnTo>
                      <a:pt x="25" y="4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5" y="9"/>
                    </a:lnTo>
                    <a:lnTo>
                      <a:pt x="35" y="14"/>
                    </a:lnTo>
                    <a:lnTo>
                      <a:pt x="45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5511960" y="4886280"/>
                <a:ext cx="14760" cy="6840"/>
              </a:xfrm>
              <a:custGeom>
                <a:avLst/>
                <a:gdLst/>
                <a:ahLst/>
                <a:rect l="0" t="0" r="r" b="b"/>
                <a:pathLst>
                  <a:path fill="none" w="41" h="19">
                    <a:moveTo>
                      <a:pt x="41" y="0"/>
                    </a:moveTo>
                    <a:lnTo>
                      <a:pt x="30" y="0"/>
                    </a:lnTo>
                    <a:lnTo>
                      <a:pt x="25" y="6"/>
                    </a:lnTo>
                    <a:lnTo>
                      <a:pt x="0" y="12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25" y="19"/>
                    </a:lnTo>
                    <a:lnTo>
                      <a:pt x="30" y="6"/>
                    </a:lnTo>
                    <a:lnTo>
                      <a:pt x="41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5514840" y="489420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fill="none" w="23" h="14">
                    <a:moveTo>
                      <a:pt x="23" y="0"/>
                    </a:moveTo>
                    <a:lnTo>
                      <a:pt x="14" y="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23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07" name="" descr=""/>
            <p:cNvPicPr/>
            <p:nvPr/>
          </p:nvPicPr>
          <p:blipFill>
            <a:blip r:embed="rId3"/>
            <a:stretch/>
          </p:blipFill>
          <p:spPr>
            <a:xfrm>
              <a:off x="5346720" y="4738680"/>
              <a:ext cx="109872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8" name=""/>
          <p:cNvSpPr txBox="1"/>
          <p:nvPr/>
        </p:nvSpPr>
        <p:spPr>
          <a:xfrm>
            <a:off x="1587600" y="5838840"/>
            <a:ext cx="1038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9" name="" descr=""/>
          <p:cNvPicPr/>
          <p:nvPr/>
        </p:nvPicPr>
        <p:blipFill>
          <a:blip r:embed="rId4"/>
          <a:stretch/>
        </p:blipFill>
        <p:spPr>
          <a:xfrm>
            <a:off x="3876840" y="4473720"/>
            <a:ext cx="620640" cy="291960"/>
          </a:xfrm>
          <a:prstGeom prst="rect">
            <a:avLst/>
          </a:prstGeom>
          <a:ln w="0">
            <a:noFill/>
          </a:ln>
        </p:spPr>
      </p:pic>
      <p:pic>
        <p:nvPicPr>
          <p:cNvPr id="7110" name="" descr=""/>
          <p:cNvPicPr/>
          <p:nvPr/>
        </p:nvPicPr>
        <p:blipFill>
          <a:blip r:embed="rId5"/>
          <a:stretch/>
        </p:blipFill>
        <p:spPr>
          <a:xfrm>
            <a:off x="449280" y="5796000"/>
            <a:ext cx="933480" cy="419040"/>
          </a:xfrm>
          <a:prstGeom prst="rect">
            <a:avLst/>
          </a:prstGeom>
          <a:ln w="0">
            <a:noFill/>
          </a:ln>
        </p:spPr>
      </p:pic>
      <p:sp>
        <p:nvSpPr>
          <p:cNvPr id="7111" name=""/>
          <p:cNvSpPr/>
          <p:nvPr/>
        </p:nvSpPr>
        <p:spPr>
          <a:xfrm>
            <a:off x="1143000" y="414972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2" name="" descr=""/>
          <p:cNvPicPr/>
          <p:nvPr/>
        </p:nvPicPr>
        <p:blipFill>
          <a:blip r:embed="rId6"/>
          <a:stretch/>
        </p:blipFill>
        <p:spPr>
          <a:xfrm>
            <a:off x="1689120" y="3759120"/>
            <a:ext cx="436680" cy="395280"/>
          </a:xfrm>
          <a:prstGeom prst="rect">
            <a:avLst/>
          </a:prstGeom>
          <a:ln w="0">
            <a:noFill/>
          </a:ln>
        </p:spPr>
      </p:pic>
      <p:pic>
        <p:nvPicPr>
          <p:cNvPr id="7113" name="" descr=""/>
          <p:cNvPicPr/>
          <p:nvPr/>
        </p:nvPicPr>
        <p:blipFill>
          <a:blip r:embed="rId7"/>
          <a:stretch/>
        </p:blipFill>
        <p:spPr>
          <a:xfrm>
            <a:off x="262080" y="3768840"/>
            <a:ext cx="933480" cy="419040"/>
          </a:xfrm>
          <a:prstGeom prst="rect">
            <a:avLst/>
          </a:prstGeom>
          <a:ln w="0">
            <a:noFill/>
          </a:ln>
        </p:spPr>
      </p:pic>
      <p:sp>
        <p:nvSpPr>
          <p:cNvPr id="7114" name=""/>
          <p:cNvSpPr txBox="1"/>
          <p:nvPr/>
        </p:nvSpPr>
        <p:spPr>
          <a:xfrm>
            <a:off x="806400" y="6303960"/>
            <a:ext cx="219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5" name=""/>
          <p:cNvGrpSpPr/>
          <p:nvPr/>
        </p:nvGrpSpPr>
        <p:grpSpPr>
          <a:xfrm>
            <a:off x="1735200" y="5338800"/>
            <a:ext cx="843480" cy="432360"/>
            <a:chOff x="1735200" y="5338800"/>
            <a:chExt cx="843480" cy="432360"/>
          </a:xfrm>
        </p:grpSpPr>
        <p:sp>
          <p:nvSpPr>
            <p:cNvPr id="7116" name=""/>
            <p:cNvSpPr/>
            <p:nvPr/>
          </p:nvSpPr>
          <p:spPr>
            <a:xfrm>
              <a:off x="1735200" y="5675400"/>
              <a:ext cx="759240" cy="92520"/>
            </a:xfrm>
            <a:custGeom>
              <a:avLst/>
              <a:gdLst/>
              <a:ahLst/>
              <a:rect l="0" t="0" r="r" b="b"/>
              <a:pathLst>
                <a:path fill="none" w="2109" h="257">
                  <a:moveTo>
                    <a:pt x="1002" y="160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1002" y="257"/>
                  </a:lnTo>
                  <a:lnTo>
                    <a:pt x="2109" y="58"/>
                  </a:lnTo>
                  <a:lnTo>
                    <a:pt x="1932" y="38"/>
                  </a:lnTo>
                  <a:lnTo>
                    <a:pt x="1002" y="16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2098800" y="5429160"/>
              <a:ext cx="479880" cy="249480"/>
            </a:xfrm>
            <a:custGeom>
              <a:avLst/>
              <a:gdLst/>
              <a:ahLst/>
              <a:rect l="0" t="0" r="r" b="b"/>
              <a:pathLst>
                <a:path fill="none" w="1333" h="693">
                  <a:moveTo>
                    <a:pt x="0" y="0"/>
                  </a:moveTo>
                  <a:lnTo>
                    <a:pt x="951" y="217"/>
                  </a:lnTo>
                  <a:lnTo>
                    <a:pt x="951" y="448"/>
                  </a:lnTo>
                  <a:lnTo>
                    <a:pt x="1333" y="487"/>
                  </a:lnTo>
                  <a:lnTo>
                    <a:pt x="1333" y="606"/>
                  </a:lnTo>
                  <a:lnTo>
                    <a:pt x="0" y="69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1749600" y="5427720"/>
              <a:ext cx="346320" cy="235440"/>
            </a:xfrm>
            <a:custGeom>
              <a:avLst/>
              <a:gdLst/>
              <a:ahLst/>
              <a:rect l="0" t="0" r="r" b="b"/>
              <a:pathLst>
                <a:path fill="none" w="962" h="654">
                  <a:moveTo>
                    <a:pt x="0" y="275"/>
                  </a:moveTo>
                  <a:lnTo>
                    <a:pt x="962" y="0"/>
                  </a:lnTo>
                  <a:lnTo>
                    <a:pt x="962" y="654"/>
                  </a:lnTo>
                  <a:lnTo>
                    <a:pt x="0" y="595"/>
                  </a:lnTo>
                  <a:lnTo>
                    <a:pt x="0" y="275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1757520" y="5645160"/>
              <a:ext cx="673560" cy="87840"/>
            </a:xfrm>
            <a:custGeom>
              <a:avLst/>
              <a:gdLst/>
              <a:ahLst/>
              <a:rect l="0" t="0" r="r" b="b"/>
              <a:pathLst>
                <a:path fill="none" w="1871" h="244">
                  <a:moveTo>
                    <a:pt x="0" y="0"/>
                  </a:moveTo>
                  <a:lnTo>
                    <a:pt x="940" y="55"/>
                  </a:lnTo>
                  <a:lnTo>
                    <a:pt x="1871" y="22"/>
                  </a:lnTo>
                  <a:lnTo>
                    <a:pt x="1871" y="135"/>
                  </a:lnTo>
                  <a:lnTo>
                    <a:pt x="940" y="244"/>
                  </a:lnTo>
                  <a:lnTo>
                    <a:pt x="0" y="81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2495520" y="5629320"/>
              <a:ext cx="33840" cy="24120"/>
            </a:xfrm>
            <a:custGeom>
              <a:avLst/>
              <a:gdLst/>
              <a:ahLst/>
              <a:rect l="0" t="0" r="r" b="b"/>
              <a:pathLst>
                <a:path fill="none" w="94" h="67">
                  <a:moveTo>
                    <a:pt x="0" y="67"/>
                  </a:moveTo>
                  <a:lnTo>
                    <a:pt x="94" y="60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67"/>
                  </a:lnTo>
                </a:path>
              </a:pathLst>
            </a:custGeom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2249640" y="5657760"/>
              <a:ext cx="81360" cy="59040"/>
            </a:xfrm>
            <a:custGeom>
              <a:avLst/>
              <a:gdLst/>
              <a:ahLst/>
              <a:rect l="0" t="0" r="r" b="b"/>
              <a:pathLst>
                <a:path fill="none" w="226" h="164">
                  <a:moveTo>
                    <a:pt x="0" y="164"/>
                  </a:moveTo>
                  <a:lnTo>
                    <a:pt x="226" y="136"/>
                  </a:lnTo>
                  <a:lnTo>
                    <a:pt x="226" y="0"/>
                  </a:lnTo>
                  <a:lnTo>
                    <a:pt x="0" y="10"/>
                  </a:lnTo>
                  <a:lnTo>
                    <a:pt x="0" y="164"/>
                  </a:lnTo>
                </a:path>
              </a:pathLst>
            </a:custGeom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1862280" y="5656320"/>
              <a:ext cx="81360" cy="52920"/>
            </a:xfrm>
            <a:custGeom>
              <a:avLst/>
              <a:gdLst/>
              <a:ahLst/>
              <a:rect l="0" t="0" r="r" b="b"/>
              <a:pathLst>
                <a:path fill="none" w="226" h="147">
                  <a:moveTo>
                    <a:pt x="0" y="106"/>
                  </a:moveTo>
                  <a:lnTo>
                    <a:pt x="0" y="0"/>
                  </a:lnTo>
                  <a:lnTo>
                    <a:pt x="226" y="14"/>
                  </a:lnTo>
                  <a:lnTo>
                    <a:pt x="226" y="147"/>
                  </a:lnTo>
                  <a:lnTo>
                    <a:pt x="0" y="106"/>
                  </a:lnTo>
                </a:path>
              </a:pathLst>
            </a:custGeom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1749600" y="5427720"/>
              <a:ext cx="692640" cy="238320"/>
            </a:xfrm>
            <a:custGeom>
              <a:avLst/>
              <a:gdLst/>
              <a:ahLst/>
              <a:rect l="0" t="0" r="r" b="b"/>
              <a:pathLst>
                <a:path fill="none" w="1924" h="662">
                  <a:moveTo>
                    <a:pt x="0" y="278"/>
                  </a:moveTo>
                  <a:lnTo>
                    <a:pt x="964" y="0"/>
                  </a:lnTo>
                  <a:lnTo>
                    <a:pt x="1924" y="220"/>
                  </a:lnTo>
                  <a:lnTo>
                    <a:pt x="1924" y="623"/>
                  </a:lnTo>
                  <a:lnTo>
                    <a:pt x="964" y="662"/>
                  </a:lnTo>
                  <a:lnTo>
                    <a:pt x="0" y="602"/>
                  </a:lnTo>
                  <a:lnTo>
                    <a:pt x="0" y="2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1757520" y="5645160"/>
              <a:ext cx="675000" cy="92520"/>
            </a:xfrm>
            <a:custGeom>
              <a:avLst/>
              <a:gdLst/>
              <a:ahLst/>
              <a:rect l="0" t="0" r="r" b="b"/>
              <a:pathLst>
                <a:path fill="none" w="1875" h="257">
                  <a:moveTo>
                    <a:pt x="0" y="0"/>
                  </a:moveTo>
                  <a:lnTo>
                    <a:pt x="0" y="86"/>
                  </a:lnTo>
                  <a:lnTo>
                    <a:pt x="941" y="257"/>
                  </a:lnTo>
                  <a:lnTo>
                    <a:pt x="1875" y="140"/>
                  </a:lnTo>
                  <a:lnTo>
                    <a:pt x="1875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5" name=""/>
            <p:cNvSpPr/>
            <p:nvPr/>
          </p:nvSpPr>
          <p:spPr>
            <a:xfrm flipV="1">
              <a:off x="2097000" y="53388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1863720" y="565164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1882800" y="56516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1901880" y="56530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1924200" y="56545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1946160" y="56563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2249640" y="565776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2273400" y="565632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2295360" y="5656320"/>
              <a:ext cx="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2313000" y="5656320"/>
              <a:ext cx="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2332080" y="56563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1982880" y="5343480"/>
              <a:ext cx="114840" cy="78120"/>
            </a:xfrm>
            <a:custGeom>
              <a:avLst/>
              <a:gdLst/>
              <a:ahLst/>
              <a:rect l="0" t="0" r="r" b="b"/>
              <a:pathLst>
                <a:path fill="none" w="319" h="217">
                  <a:moveTo>
                    <a:pt x="319" y="0"/>
                  </a:moveTo>
                  <a:lnTo>
                    <a:pt x="187" y="42"/>
                  </a:lnTo>
                  <a:lnTo>
                    <a:pt x="173" y="115"/>
                  </a:lnTo>
                  <a:lnTo>
                    <a:pt x="0" y="217"/>
                  </a:lnTo>
                  <a:lnTo>
                    <a:pt x="156" y="189"/>
                  </a:lnTo>
                  <a:lnTo>
                    <a:pt x="163" y="164"/>
                  </a:lnTo>
                  <a:lnTo>
                    <a:pt x="319" y="125"/>
                  </a:lnTo>
                  <a:lnTo>
                    <a:pt x="3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2495520" y="5627520"/>
              <a:ext cx="36720" cy="27360"/>
            </a:xfrm>
            <a:custGeom>
              <a:avLst/>
              <a:gdLst/>
              <a:ahLst/>
              <a:rect l="0" t="0" r="r" b="b"/>
              <a:pathLst>
                <a:path fill="none" w="102" h="76">
                  <a:moveTo>
                    <a:pt x="0" y="76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6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8" name=""/>
            <p:cNvSpPr/>
            <p:nvPr/>
          </p:nvSpPr>
          <p:spPr>
            <a:xfrm flipV="1">
              <a:off x="2506680" y="56293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2514600" y="56293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2522520" y="5629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2116080" y="5460840"/>
              <a:ext cx="63720" cy="184680"/>
            </a:xfrm>
            <a:custGeom>
              <a:avLst/>
              <a:gdLst/>
              <a:ahLst/>
              <a:rect l="0" t="0" r="r" b="b"/>
              <a:pathLst>
                <a:path fill="none" w="177" h="513">
                  <a:moveTo>
                    <a:pt x="168" y="509"/>
                  </a:moveTo>
                  <a:lnTo>
                    <a:pt x="0" y="512"/>
                  </a:lnTo>
                  <a:lnTo>
                    <a:pt x="0" y="513"/>
                  </a:lnTo>
                  <a:lnTo>
                    <a:pt x="177" y="511"/>
                  </a:lnTo>
                  <a:lnTo>
                    <a:pt x="177" y="111"/>
                  </a:lnTo>
                  <a:lnTo>
                    <a:pt x="176" y="100"/>
                  </a:lnTo>
                  <a:lnTo>
                    <a:pt x="174" y="87"/>
                  </a:lnTo>
                  <a:lnTo>
                    <a:pt x="172" y="79"/>
                  </a:lnTo>
                  <a:lnTo>
                    <a:pt x="170" y="68"/>
                  </a:lnTo>
                  <a:lnTo>
                    <a:pt x="166" y="57"/>
                  </a:lnTo>
                  <a:lnTo>
                    <a:pt x="161" y="49"/>
                  </a:lnTo>
                  <a:lnTo>
                    <a:pt x="154" y="37"/>
                  </a:lnTo>
                  <a:lnTo>
                    <a:pt x="147" y="27"/>
                  </a:lnTo>
                  <a:lnTo>
                    <a:pt x="140" y="20"/>
                  </a:lnTo>
                  <a:lnTo>
                    <a:pt x="131" y="13"/>
                  </a:lnTo>
                  <a:lnTo>
                    <a:pt x="120" y="7"/>
                  </a:lnTo>
                  <a:lnTo>
                    <a:pt x="111" y="4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1"/>
                  </a:lnTo>
                  <a:lnTo>
                    <a:pt x="56" y="7"/>
                  </a:lnTo>
                  <a:lnTo>
                    <a:pt x="45" y="14"/>
                  </a:lnTo>
                  <a:lnTo>
                    <a:pt x="37" y="20"/>
                  </a:lnTo>
                  <a:lnTo>
                    <a:pt x="30" y="26"/>
                  </a:lnTo>
                  <a:lnTo>
                    <a:pt x="24" y="35"/>
                  </a:lnTo>
                  <a:lnTo>
                    <a:pt x="32" y="25"/>
                  </a:lnTo>
                  <a:lnTo>
                    <a:pt x="39" y="20"/>
                  </a:lnTo>
                  <a:lnTo>
                    <a:pt x="46" y="14"/>
                  </a:lnTo>
                  <a:lnTo>
                    <a:pt x="57" y="8"/>
                  </a:lnTo>
                  <a:lnTo>
                    <a:pt x="65" y="5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93" y="1"/>
                  </a:lnTo>
                  <a:lnTo>
                    <a:pt x="102" y="4"/>
                  </a:lnTo>
                  <a:lnTo>
                    <a:pt x="110" y="6"/>
                  </a:lnTo>
                  <a:lnTo>
                    <a:pt x="119" y="12"/>
                  </a:lnTo>
                  <a:lnTo>
                    <a:pt x="131" y="20"/>
                  </a:lnTo>
                  <a:lnTo>
                    <a:pt x="139" y="27"/>
                  </a:lnTo>
                  <a:lnTo>
                    <a:pt x="147" y="37"/>
                  </a:lnTo>
                  <a:lnTo>
                    <a:pt x="151" y="44"/>
                  </a:lnTo>
                  <a:lnTo>
                    <a:pt x="157" y="53"/>
                  </a:lnTo>
                  <a:lnTo>
                    <a:pt x="161" y="64"/>
                  </a:lnTo>
                  <a:lnTo>
                    <a:pt x="165" y="76"/>
                  </a:lnTo>
                  <a:lnTo>
                    <a:pt x="166" y="90"/>
                  </a:lnTo>
                  <a:lnTo>
                    <a:pt x="168" y="103"/>
                  </a:lnTo>
                  <a:lnTo>
                    <a:pt x="168" y="107"/>
                  </a:lnTo>
                  <a:lnTo>
                    <a:pt x="168" y="5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2190600" y="5477040"/>
              <a:ext cx="60840" cy="168480"/>
            </a:xfrm>
            <a:custGeom>
              <a:avLst/>
              <a:gdLst/>
              <a:ahLst/>
              <a:rect l="0" t="0" r="r" b="b"/>
              <a:pathLst>
                <a:path fill="none" w="169" h="468">
                  <a:moveTo>
                    <a:pt x="160" y="463"/>
                  </a:moveTo>
                  <a:lnTo>
                    <a:pt x="0" y="466"/>
                  </a:lnTo>
                  <a:lnTo>
                    <a:pt x="0" y="468"/>
                  </a:lnTo>
                  <a:lnTo>
                    <a:pt x="169" y="466"/>
                  </a:lnTo>
                  <a:lnTo>
                    <a:pt x="168" y="102"/>
                  </a:lnTo>
                  <a:lnTo>
                    <a:pt x="167" y="92"/>
                  </a:lnTo>
                  <a:lnTo>
                    <a:pt x="165" y="81"/>
                  </a:lnTo>
                  <a:lnTo>
                    <a:pt x="164" y="72"/>
                  </a:lnTo>
                  <a:lnTo>
                    <a:pt x="162" y="62"/>
                  </a:lnTo>
                  <a:lnTo>
                    <a:pt x="158" y="53"/>
                  </a:lnTo>
                  <a:lnTo>
                    <a:pt x="154" y="45"/>
                  </a:lnTo>
                  <a:lnTo>
                    <a:pt x="148" y="35"/>
                  </a:lnTo>
                  <a:lnTo>
                    <a:pt x="141" y="25"/>
                  </a:lnTo>
                  <a:lnTo>
                    <a:pt x="133" y="18"/>
                  </a:lnTo>
                  <a:lnTo>
                    <a:pt x="124" y="12"/>
                  </a:lnTo>
                  <a:lnTo>
                    <a:pt x="114" y="7"/>
                  </a:lnTo>
                  <a:lnTo>
                    <a:pt x="105" y="3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7" y="0"/>
                  </a:lnTo>
                  <a:lnTo>
                    <a:pt x="66" y="2"/>
                  </a:lnTo>
                  <a:lnTo>
                    <a:pt x="55" y="8"/>
                  </a:lnTo>
                  <a:lnTo>
                    <a:pt x="44" y="13"/>
                  </a:lnTo>
                  <a:lnTo>
                    <a:pt x="35" y="18"/>
                  </a:lnTo>
                  <a:lnTo>
                    <a:pt x="29" y="24"/>
                  </a:lnTo>
                  <a:lnTo>
                    <a:pt x="23" y="32"/>
                  </a:lnTo>
                  <a:lnTo>
                    <a:pt x="31" y="24"/>
                  </a:lnTo>
                  <a:lnTo>
                    <a:pt x="37" y="18"/>
                  </a:lnTo>
                  <a:lnTo>
                    <a:pt x="46" y="13"/>
                  </a:lnTo>
                  <a:lnTo>
                    <a:pt x="55" y="8"/>
                  </a:lnTo>
                  <a:lnTo>
                    <a:pt x="62" y="5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1"/>
                  </a:lnTo>
                  <a:lnTo>
                    <a:pt x="97" y="3"/>
                  </a:lnTo>
                  <a:lnTo>
                    <a:pt x="105" y="5"/>
                  </a:lnTo>
                  <a:lnTo>
                    <a:pt x="112" y="11"/>
                  </a:lnTo>
                  <a:lnTo>
                    <a:pt x="123" y="18"/>
                  </a:lnTo>
                  <a:lnTo>
                    <a:pt x="133" y="25"/>
                  </a:lnTo>
                  <a:lnTo>
                    <a:pt x="140" y="34"/>
                  </a:lnTo>
                  <a:lnTo>
                    <a:pt x="145" y="41"/>
                  </a:lnTo>
                  <a:lnTo>
                    <a:pt x="149" y="49"/>
                  </a:lnTo>
                  <a:lnTo>
                    <a:pt x="154" y="59"/>
                  </a:lnTo>
                  <a:lnTo>
                    <a:pt x="156" y="68"/>
                  </a:lnTo>
                  <a:lnTo>
                    <a:pt x="159" y="82"/>
                  </a:lnTo>
                  <a:lnTo>
                    <a:pt x="160" y="94"/>
                  </a:lnTo>
                  <a:lnTo>
                    <a:pt x="160" y="98"/>
                  </a:lnTo>
                  <a:lnTo>
                    <a:pt x="160" y="46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2260440" y="5489640"/>
              <a:ext cx="52920" cy="154440"/>
            </a:xfrm>
            <a:custGeom>
              <a:avLst/>
              <a:gdLst/>
              <a:ahLst/>
              <a:rect l="0" t="0" r="r" b="b"/>
              <a:pathLst>
                <a:path fill="none" w="147" h="429">
                  <a:moveTo>
                    <a:pt x="139" y="428"/>
                  </a:moveTo>
                  <a:lnTo>
                    <a:pt x="0" y="429"/>
                  </a:lnTo>
                  <a:lnTo>
                    <a:pt x="147" y="429"/>
                  </a:lnTo>
                  <a:lnTo>
                    <a:pt x="147" y="93"/>
                  </a:lnTo>
                  <a:lnTo>
                    <a:pt x="147" y="84"/>
                  </a:lnTo>
                  <a:lnTo>
                    <a:pt x="146" y="73"/>
                  </a:lnTo>
                  <a:lnTo>
                    <a:pt x="143" y="66"/>
                  </a:lnTo>
                  <a:lnTo>
                    <a:pt x="141" y="56"/>
                  </a:lnTo>
                  <a:lnTo>
                    <a:pt x="137" y="48"/>
                  </a:lnTo>
                  <a:lnTo>
                    <a:pt x="134" y="40"/>
                  </a:lnTo>
                  <a:lnTo>
                    <a:pt x="129" y="31"/>
                  </a:lnTo>
                  <a:lnTo>
                    <a:pt x="122" y="22"/>
                  </a:lnTo>
                  <a:lnTo>
                    <a:pt x="116" y="17"/>
                  </a:lnTo>
                  <a:lnTo>
                    <a:pt x="107" y="11"/>
                  </a:lnTo>
                  <a:lnTo>
                    <a:pt x="100" y="5"/>
                  </a:lnTo>
                  <a:lnTo>
                    <a:pt x="91" y="3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6" y="1"/>
                  </a:lnTo>
                  <a:lnTo>
                    <a:pt x="48" y="5"/>
                  </a:lnTo>
                  <a:lnTo>
                    <a:pt x="38" y="11"/>
                  </a:lnTo>
                  <a:lnTo>
                    <a:pt x="31" y="17"/>
                  </a:lnTo>
                  <a:lnTo>
                    <a:pt x="25" y="22"/>
                  </a:lnTo>
                  <a:lnTo>
                    <a:pt x="19" y="29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40" y="11"/>
                  </a:lnTo>
                  <a:lnTo>
                    <a:pt x="48" y="7"/>
                  </a:lnTo>
                  <a:lnTo>
                    <a:pt x="54" y="3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8" y="9"/>
                  </a:lnTo>
                  <a:lnTo>
                    <a:pt x="107" y="16"/>
                  </a:lnTo>
                  <a:lnTo>
                    <a:pt x="116" y="22"/>
                  </a:lnTo>
                  <a:lnTo>
                    <a:pt x="122" y="30"/>
                  </a:lnTo>
                  <a:lnTo>
                    <a:pt x="125" y="37"/>
                  </a:lnTo>
                  <a:lnTo>
                    <a:pt x="130" y="43"/>
                  </a:lnTo>
                  <a:lnTo>
                    <a:pt x="134" y="54"/>
                  </a:lnTo>
                  <a:lnTo>
                    <a:pt x="137" y="63"/>
                  </a:lnTo>
                  <a:lnTo>
                    <a:pt x="139" y="75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42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2322360" y="5502240"/>
              <a:ext cx="51120" cy="141480"/>
            </a:xfrm>
            <a:custGeom>
              <a:avLst/>
              <a:gdLst/>
              <a:ahLst/>
              <a:rect l="0" t="0" r="r" b="b"/>
              <a:pathLst>
                <a:path fill="none" w="142" h="393">
                  <a:moveTo>
                    <a:pt x="134" y="390"/>
                  </a:moveTo>
                  <a:lnTo>
                    <a:pt x="0" y="392"/>
                  </a:lnTo>
                  <a:lnTo>
                    <a:pt x="0" y="393"/>
                  </a:lnTo>
                  <a:lnTo>
                    <a:pt x="142" y="392"/>
                  </a:lnTo>
                  <a:lnTo>
                    <a:pt x="140" y="85"/>
                  </a:lnTo>
                  <a:lnTo>
                    <a:pt x="140" y="76"/>
                  </a:lnTo>
                  <a:lnTo>
                    <a:pt x="140" y="67"/>
                  </a:lnTo>
                  <a:lnTo>
                    <a:pt x="138" y="60"/>
                  </a:lnTo>
                  <a:lnTo>
                    <a:pt x="136" y="52"/>
                  </a:lnTo>
                  <a:lnTo>
                    <a:pt x="132" y="44"/>
                  </a:lnTo>
                  <a:lnTo>
                    <a:pt x="128" y="37"/>
                  </a:lnTo>
                  <a:lnTo>
                    <a:pt x="123" y="28"/>
                  </a:lnTo>
                  <a:lnTo>
                    <a:pt x="118" y="21"/>
                  </a:lnTo>
                  <a:lnTo>
                    <a:pt x="112" y="14"/>
                  </a:lnTo>
                  <a:lnTo>
                    <a:pt x="103" y="10"/>
                  </a:lnTo>
                  <a:lnTo>
                    <a:pt x="95" y="5"/>
                  </a:lnTo>
                  <a:lnTo>
                    <a:pt x="87" y="2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5" y="5"/>
                  </a:lnTo>
                  <a:lnTo>
                    <a:pt x="36" y="11"/>
                  </a:lnTo>
                  <a:lnTo>
                    <a:pt x="29" y="14"/>
                  </a:lnTo>
                  <a:lnTo>
                    <a:pt x="25" y="21"/>
                  </a:lnTo>
                  <a:lnTo>
                    <a:pt x="19" y="26"/>
                  </a:lnTo>
                  <a:lnTo>
                    <a:pt x="26" y="19"/>
                  </a:lnTo>
                  <a:lnTo>
                    <a:pt x="31" y="14"/>
                  </a:lnTo>
                  <a:lnTo>
                    <a:pt x="38" y="11"/>
                  </a:lnTo>
                  <a:lnTo>
                    <a:pt x="46" y="7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73" y="1"/>
                  </a:lnTo>
                  <a:lnTo>
                    <a:pt x="81" y="2"/>
                  </a:lnTo>
                  <a:lnTo>
                    <a:pt x="87" y="4"/>
                  </a:lnTo>
                  <a:lnTo>
                    <a:pt x="95" y="8"/>
                  </a:lnTo>
                  <a:lnTo>
                    <a:pt x="103" y="14"/>
                  </a:lnTo>
                  <a:lnTo>
                    <a:pt x="111" y="21"/>
                  </a:lnTo>
                  <a:lnTo>
                    <a:pt x="117" y="28"/>
                  </a:lnTo>
                  <a:lnTo>
                    <a:pt x="121" y="34"/>
                  </a:lnTo>
                  <a:lnTo>
                    <a:pt x="124" y="40"/>
                  </a:lnTo>
                  <a:lnTo>
                    <a:pt x="128" y="50"/>
                  </a:lnTo>
                  <a:lnTo>
                    <a:pt x="131" y="58"/>
                  </a:lnTo>
                  <a:lnTo>
                    <a:pt x="133" y="69"/>
                  </a:lnTo>
                  <a:lnTo>
                    <a:pt x="134" y="78"/>
                  </a:lnTo>
                  <a:lnTo>
                    <a:pt x="134" y="82"/>
                  </a:lnTo>
                  <a:lnTo>
                    <a:pt x="134" y="3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2382840" y="5511960"/>
              <a:ext cx="44640" cy="128880"/>
            </a:xfrm>
            <a:custGeom>
              <a:avLst/>
              <a:gdLst/>
              <a:ahLst/>
              <a:rect l="0" t="0" r="r" b="b"/>
              <a:pathLst>
                <a:path fill="none" w="124" h="358">
                  <a:moveTo>
                    <a:pt x="118" y="355"/>
                  </a:moveTo>
                  <a:lnTo>
                    <a:pt x="0" y="357"/>
                  </a:lnTo>
                  <a:lnTo>
                    <a:pt x="0" y="358"/>
                  </a:lnTo>
                  <a:lnTo>
                    <a:pt x="124" y="356"/>
                  </a:lnTo>
                  <a:lnTo>
                    <a:pt x="123" y="76"/>
                  </a:lnTo>
                  <a:lnTo>
                    <a:pt x="123" y="69"/>
                  </a:lnTo>
                  <a:lnTo>
                    <a:pt x="123" y="61"/>
                  </a:lnTo>
                  <a:lnTo>
                    <a:pt x="120" y="55"/>
                  </a:lnTo>
                  <a:lnTo>
                    <a:pt x="118" y="47"/>
                  </a:lnTo>
                  <a:lnTo>
                    <a:pt x="115" y="40"/>
                  </a:lnTo>
                  <a:lnTo>
                    <a:pt x="112" y="33"/>
                  </a:lnTo>
                  <a:lnTo>
                    <a:pt x="108" y="25"/>
                  </a:lnTo>
                  <a:lnTo>
                    <a:pt x="102" y="19"/>
                  </a:lnTo>
                  <a:lnTo>
                    <a:pt x="98" y="13"/>
                  </a:lnTo>
                  <a:lnTo>
                    <a:pt x="91" y="9"/>
                  </a:lnTo>
                  <a:lnTo>
                    <a:pt x="83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7" y="1"/>
                  </a:lnTo>
                  <a:lnTo>
                    <a:pt x="39" y="5"/>
                  </a:lnTo>
                  <a:lnTo>
                    <a:pt x="32" y="9"/>
                  </a:lnTo>
                  <a:lnTo>
                    <a:pt x="25" y="13"/>
                  </a:lnTo>
                  <a:lnTo>
                    <a:pt x="21" y="18"/>
                  </a:lnTo>
                  <a:lnTo>
                    <a:pt x="16" y="23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4" y="9"/>
                  </a:lnTo>
                  <a:lnTo>
                    <a:pt x="39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3" y="7"/>
                  </a:lnTo>
                  <a:lnTo>
                    <a:pt x="91" y="12"/>
                  </a:lnTo>
                  <a:lnTo>
                    <a:pt x="97" y="19"/>
                  </a:lnTo>
                  <a:lnTo>
                    <a:pt x="101" y="25"/>
                  </a:lnTo>
                  <a:lnTo>
                    <a:pt x="106" y="31"/>
                  </a:lnTo>
                  <a:lnTo>
                    <a:pt x="109" y="35"/>
                  </a:lnTo>
                  <a:lnTo>
                    <a:pt x="112" y="45"/>
                  </a:lnTo>
                  <a:lnTo>
                    <a:pt x="114" y="52"/>
                  </a:lnTo>
                  <a:lnTo>
                    <a:pt x="116" y="63"/>
                  </a:lnTo>
                  <a:lnTo>
                    <a:pt x="116" y="71"/>
                  </a:lnTo>
                  <a:lnTo>
                    <a:pt x="116" y="74"/>
                  </a:lnTo>
                  <a:lnTo>
                    <a:pt x="118" y="3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1757520" y="5645160"/>
              <a:ext cx="675000" cy="27360"/>
            </a:xfrm>
            <a:custGeom>
              <a:avLst/>
              <a:gdLst/>
              <a:ahLst/>
              <a:rect l="0" t="0" r="r" b="b"/>
              <a:pathLst>
                <a:path fill="none" w="1875" h="76">
                  <a:moveTo>
                    <a:pt x="942" y="5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942" y="76"/>
                  </a:lnTo>
                  <a:lnTo>
                    <a:pt x="1875" y="28"/>
                  </a:lnTo>
                  <a:lnTo>
                    <a:pt x="1875" y="17"/>
                  </a:lnTo>
                  <a:lnTo>
                    <a:pt x="942" y="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1763640" y="5637240"/>
              <a:ext cx="9720" cy="43200"/>
            </a:xfrm>
            <a:custGeom>
              <a:avLst/>
              <a:gdLst/>
              <a:ahLst/>
              <a:rect l="0" t="0" r="r" b="b"/>
              <a:pathLst>
                <a:path fill="none" w="27" h="120">
                  <a:moveTo>
                    <a:pt x="15" y="114"/>
                  </a:moveTo>
                  <a:lnTo>
                    <a:pt x="18" y="109"/>
                  </a:lnTo>
                  <a:lnTo>
                    <a:pt x="21" y="102"/>
                  </a:lnTo>
                  <a:lnTo>
                    <a:pt x="22" y="96"/>
                  </a:lnTo>
                  <a:lnTo>
                    <a:pt x="24" y="89"/>
                  </a:lnTo>
                  <a:lnTo>
                    <a:pt x="26" y="84"/>
                  </a:lnTo>
                  <a:lnTo>
                    <a:pt x="26" y="77"/>
                  </a:lnTo>
                  <a:lnTo>
                    <a:pt x="27" y="71"/>
                  </a:lnTo>
                  <a:lnTo>
                    <a:pt x="27" y="63"/>
                  </a:lnTo>
                  <a:lnTo>
                    <a:pt x="27" y="56"/>
                  </a:lnTo>
                  <a:lnTo>
                    <a:pt x="27" y="50"/>
                  </a:lnTo>
                  <a:lnTo>
                    <a:pt x="26" y="43"/>
                  </a:lnTo>
                  <a:lnTo>
                    <a:pt x="26" y="37"/>
                  </a:lnTo>
                  <a:lnTo>
                    <a:pt x="25" y="30"/>
                  </a:lnTo>
                  <a:lnTo>
                    <a:pt x="24" y="24"/>
                  </a:lnTo>
                  <a:lnTo>
                    <a:pt x="21" y="17"/>
                  </a:lnTo>
                  <a:lnTo>
                    <a:pt x="18" y="12"/>
                  </a:lnTo>
                  <a:lnTo>
                    <a:pt x="17" y="6"/>
                  </a:lnTo>
                  <a:lnTo>
                    <a:pt x="12" y="0"/>
                  </a:lnTo>
                  <a:lnTo>
                    <a:pt x="9" y="6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8" y="109"/>
                  </a:lnTo>
                  <a:lnTo>
                    <a:pt x="10" y="114"/>
                  </a:lnTo>
                  <a:lnTo>
                    <a:pt x="12" y="120"/>
                  </a:lnTo>
                  <a:lnTo>
                    <a:pt x="15" y="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1785960" y="5638680"/>
              <a:ext cx="11520" cy="46440"/>
            </a:xfrm>
            <a:custGeom>
              <a:avLst/>
              <a:gdLst/>
              <a:ahLst/>
              <a:rect l="0" t="0" r="r" b="b"/>
              <a:pathLst>
                <a:path fill="none" w="32" h="129">
                  <a:moveTo>
                    <a:pt x="18" y="124"/>
                  </a:moveTo>
                  <a:lnTo>
                    <a:pt x="21" y="117"/>
                  </a:lnTo>
                  <a:lnTo>
                    <a:pt x="23" y="111"/>
                  </a:lnTo>
                  <a:lnTo>
                    <a:pt x="27" y="103"/>
                  </a:lnTo>
                  <a:lnTo>
                    <a:pt x="28" y="96"/>
                  </a:lnTo>
                  <a:lnTo>
                    <a:pt x="30" y="90"/>
                  </a:lnTo>
                  <a:lnTo>
                    <a:pt x="30" y="82"/>
                  </a:lnTo>
                  <a:lnTo>
                    <a:pt x="32" y="75"/>
                  </a:lnTo>
                  <a:lnTo>
                    <a:pt x="32" y="69"/>
                  </a:lnTo>
                  <a:lnTo>
                    <a:pt x="32" y="62"/>
                  </a:lnTo>
                  <a:lnTo>
                    <a:pt x="32" y="54"/>
                  </a:lnTo>
                  <a:lnTo>
                    <a:pt x="30" y="48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26"/>
                  </a:lnTo>
                  <a:lnTo>
                    <a:pt x="23" y="18"/>
                  </a:lnTo>
                  <a:lnTo>
                    <a:pt x="21" y="13"/>
                  </a:lnTo>
                  <a:lnTo>
                    <a:pt x="18" y="6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2" y="90"/>
                  </a:lnTo>
                  <a:lnTo>
                    <a:pt x="4" y="96"/>
                  </a:lnTo>
                  <a:lnTo>
                    <a:pt x="4" y="103"/>
                  </a:lnTo>
                  <a:lnTo>
                    <a:pt x="7" y="111"/>
                  </a:lnTo>
                  <a:lnTo>
                    <a:pt x="11" y="117"/>
                  </a:lnTo>
                  <a:lnTo>
                    <a:pt x="13" y="124"/>
                  </a:lnTo>
                  <a:lnTo>
                    <a:pt x="15" y="129"/>
                  </a:lnTo>
                  <a:lnTo>
                    <a:pt x="18" y="1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1811160" y="5638680"/>
              <a:ext cx="9720" cy="52920"/>
            </a:xfrm>
            <a:custGeom>
              <a:avLst/>
              <a:gdLst/>
              <a:ahLst/>
              <a:rect l="0" t="0" r="r" b="b"/>
              <a:pathLst>
                <a:path fill="none" w="27" h="147">
                  <a:moveTo>
                    <a:pt x="16" y="140"/>
                  </a:moveTo>
                  <a:lnTo>
                    <a:pt x="19" y="133"/>
                  </a:lnTo>
                  <a:lnTo>
                    <a:pt x="21" y="125"/>
                  </a:lnTo>
                  <a:lnTo>
                    <a:pt x="23" y="118"/>
                  </a:lnTo>
                  <a:lnTo>
                    <a:pt x="25" y="109"/>
                  </a:lnTo>
                  <a:lnTo>
                    <a:pt x="26" y="102"/>
                  </a:lnTo>
                  <a:lnTo>
                    <a:pt x="26" y="94"/>
                  </a:lnTo>
                  <a:lnTo>
                    <a:pt x="27" y="84"/>
                  </a:lnTo>
                  <a:lnTo>
                    <a:pt x="27" y="78"/>
                  </a:lnTo>
                  <a:lnTo>
                    <a:pt x="27" y="70"/>
                  </a:lnTo>
                  <a:lnTo>
                    <a:pt x="27" y="61"/>
                  </a:lnTo>
                  <a:lnTo>
                    <a:pt x="26" y="54"/>
                  </a:lnTo>
                  <a:lnTo>
                    <a:pt x="26" y="46"/>
                  </a:lnTo>
                  <a:lnTo>
                    <a:pt x="25" y="38"/>
                  </a:lnTo>
                  <a:lnTo>
                    <a:pt x="24" y="30"/>
                  </a:lnTo>
                  <a:lnTo>
                    <a:pt x="21" y="21"/>
                  </a:lnTo>
                  <a:lnTo>
                    <a:pt x="19" y="15"/>
                  </a:lnTo>
                  <a:lnTo>
                    <a:pt x="17" y="7"/>
                  </a:lnTo>
                  <a:lnTo>
                    <a:pt x="14" y="0"/>
                  </a:lnTo>
                  <a:lnTo>
                    <a:pt x="11" y="7"/>
                  </a:lnTo>
                  <a:lnTo>
                    <a:pt x="8" y="15"/>
                  </a:lnTo>
                  <a:lnTo>
                    <a:pt x="6" y="21"/>
                  </a:lnTo>
                  <a:lnTo>
                    <a:pt x="4" y="30"/>
                  </a:lnTo>
                  <a:lnTo>
                    <a:pt x="4" y="38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4" y="109"/>
                  </a:lnTo>
                  <a:lnTo>
                    <a:pt x="4" y="118"/>
                  </a:lnTo>
                  <a:lnTo>
                    <a:pt x="6" y="125"/>
                  </a:lnTo>
                  <a:lnTo>
                    <a:pt x="8" y="133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6" y="1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1838160" y="5638680"/>
              <a:ext cx="11520" cy="55800"/>
            </a:xfrm>
            <a:custGeom>
              <a:avLst/>
              <a:gdLst/>
              <a:ahLst/>
              <a:rect l="0" t="0" r="r" b="b"/>
              <a:pathLst>
                <a:path fill="none" w="32" h="155">
                  <a:moveTo>
                    <a:pt x="19" y="148"/>
                  </a:moveTo>
                  <a:lnTo>
                    <a:pt x="21" y="141"/>
                  </a:lnTo>
                  <a:lnTo>
                    <a:pt x="25" y="131"/>
                  </a:lnTo>
                  <a:lnTo>
                    <a:pt x="27" y="125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99"/>
                  </a:lnTo>
                  <a:lnTo>
                    <a:pt x="32" y="91"/>
                  </a:lnTo>
                  <a:lnTo>
                    <a:pt x="32" y="83"/>
                  </a:lnTo>
                  <a:lnTo>
                    <a:pt x="32" y="72"/>
                  </a:lnTo>
                  <a:lnTo>
                    <a:pt x="32" y="64"/>
                  </a:lnTo>
                  <a:lnTo>
                    <a:pt x="31" y="55"/>
                  </a:lnTo>
                  <a:lnTo>
                    <a:pt x="31" y="48"/>
                  </a:lnTo>
                  <a:lnTo>
                    <a:pt x="29" y="39"/>
                  </a:lnTo>
                  <a:lnTo>
                    <a:pt x="28" y="32"/>
                  </a:lnTo>
                  <a:lnTo>
                    <a:pt x="25" y="23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6" y="0"/>
                  </a:lnTo>
                  <a:lnTo>
                    <a:pt x="13" y="7"/>
                  </a:lnTo>
                  <a:lnTo>
                    <a:pt x="10" y="15"/>
                  </a:lnTo>
                  <a:lnTo>
                    <a:pt x="6" y="23"/>
                  </a:lnTo>
                  <a:lnTo>
                    <a:pt x="5" y="32"/>
                  </a:lnTo>
                  <a:lnTo>
                    <a:pt x="5" y="39"/>
                  </a:lnTo>
                  <a:lnTo>
                    <a:pt x="2" y="48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1" y="99"/>
                  </a:lnTo>
                  <a:lnTo>
                    <a:pt x="2" y="109"/>
                  </a:lnTo>
                  <a:lnTo>
                    <a:pt x="5" y="116"/>
                  </a:lnTo>
                  <a:lnTo>
                    <a:pt x="5" y="125"/>
                  </a:lnTo>
                  <a:lnTo>
                    <a:pt x="7" y="131"/>
                  </a:lnTo>
                  <a:lnTo>
                    <a:pt x="10" y="141"/>
                  </a:lnTo>
                  <a:lnTo>
                    <a:pt x="14" y="148"/>
                  </a:lnTo>
                  <a:lnTo>
                    <a:pt x="16" y="155"/>
                  </a:lnTo>
                  <a:lnTo>
                    <a:pt x="19" y="1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1957320" y="5638680"/>
              <a:ext cx="16200" cy="79560"/>
            </a:xfrm>
            <a:custGeom>
              <a:avLst/>
              <a:gdLst/>
              <a:ahLst/>
              <a:rect l="0" t="0" r="r" b="b"/>
              <a:pathLst>
                <a:path fill="none" w="45" h="221">
                  <a:moveTo>
                    <a:pt x="26" y="212"/>
                  </a:moveTo>
                  <a:lnTo>
                    <a:pt x="30" y="202"/>
                  </a:lnTo>
                  <a:lnTo>
                    <a:pt x="34" y="189"/>
                  </a:lnTo>
                  <a:lnTo>
                    <a:pt x="37" y="178"/>
                  </a:lnTo>
                  <a:lnTo>
                    <a:pt x="38" y="165"/>
                  </a:lnTo>
                  <a:lnTo>
                    <a:pt x="42" y="153"/>
                  </a:lnTo>
                  <a:lnTo>
                    <a:pt x="42" y="142"/>
                  </a:lnTo>
                  <a:lnTo>
                    <a:pt x="45" y="129"/>
                  </a:lnTo>
                  <a:lnTo>
                    <a:pt x="45" y="118"/>
                  </a:lnTo>
                  <a:lnTo>
                    <a:pt x="45" y="105"/>
                  </a:lnTo>
                  <a:lnTo>
                    <a:pt x="45" y="92"/>
                  </a:lnTo>
                  <a:lnTo>
                    <a:pt x="42" y="82"/>
                  </a:lnTo>
                  <a:lnTo>
                    <a:pt x="42" y="69"/>
                  </a:lnTo>
                  <a:lnTo>
                    <a:pt x="39" y="58"/>
                  </a:lnTo>
                  <a:lnTo>
                    <a:pt x="37" y="45"/>
                  </a:lnTo>
                  <a:lnTo>
                    <a:pt x="34" y="33"/>
                  </a:lnTo>
                  <a:lnTo>
                    <a:pt x="30" y="22"/>
                  </a:lnTo>
                  <a:lnTo>
                    <a:pt x="27" y="12"/>
                  </a:lnTo>
                  <a:lnTo>
                    <a:pt x="19" y="0"/>
                  </a:lnTo>
                  <a:lnTo>
                    <a:pt x="17" y="12"/>
                  </a:lnTo>
                  <a:lnTo>
                    <a:pt x="13" y="22"/>
                  </a:lnTo>
                  <a:lnTo>
                    <a:pt x="8" y="33"/>
                  </a:lnTo>
                  <a:lnTo>
                    <a:pt x="5" y="45"/>
                  </a:lnTo>
                  <a:lnTo>
                    <a:pt x="4" y="58"/>
                  </a:lnTo>
                  <a:lnTo>
                    <a:pt x="1" y="69"/>
                  </a:lnTo>
                  <a:lnTo>
                    <a:pt x="1" y="82"/>
                  </a:lnTo>
                  <a:lnTo>
                    <a:pt x="0" y="92"/>
                  </a:lnTo>
                  <a:lnTo>
                    <a:pt x="0" y="105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1" y="142"/>
                  </a:lnTo>
                  <a:lnTo>
                    <a:pt x="1" y="153"/>
                  </a:lnTo>
                  <a:lnTo>
                    <a:pt x="4" y="165"/>
                  </a:lnTo>
                  <a:lnTo>
                    <a:pt x="7" y="178"/>
                  </a:lnTo>
                  <a:lnTo>
                    <a:pt x="10" y="189"/>
                  </a:lnTo>
                  <a:lnTo>
                    <a:pt x="13" y="202"/>
                  </a:lnTo>
                  <a:lnTo>
                    <a:pt x="18" y="212"/>
                  </a:lnTo>
                  <a:lnTo>
                    <a:pt x="19" y="221"/>
                  </a:lnTo>
                  <a:lnTo>
                    <a:pt x="26" y="2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1987560" y="5640480"/>
              <a:ext cx="18000" cy="84600"/>
            </a:xfrm>
            <a:custGeom>
              <a:avLst/>
              <a:gdLst/>
              <a:ahLst/>
              <a:rect l="0" t="0" r="r" b="b"/>
              <a:pathLst>
                <a:path fill="none" w="50" h="235">
                  <a:moveTo>
                    <a:pt x="28" y="224"/>
                  </a:moveTo>
                  <a:lnTo>
                    <a:pt x="32" y="214"/>
                  </a:lnTo>
                  <a:lnTo>
                    <a:pt x="38" y="201"/>
                  </a:lnTo>
                  <a:lnTo>
                    <a:pt x="40" y="189"/>
                  </a:lnTo>
                  <a:lnTo>
                    <a:pt x="43" y="175"/>
                  </a:lnTo>
                  <a:lnTo>
                    <a:pt x="46" y="163"/>
                  </a:lnTo>
                  <a:lnTo>
                    <a:pt x="47" y="150"/>
                  </a:lnTo>
                  <a:lnTo>
                    <a:pt x="50" y="137"/>
                  </a:lnTo>
                  <a:lnTo>
                    <a:pt x="50" y="125"/>
                  </a:lnTo>
                  <a:lnTo>
                    <a:pt x="50" y="112"/>
                  </a:lnTo>
                  <a:lnTo>
                    <a:pt x="50" y="99"/>
                  </a:lnTo>
                  <a:lnTo>
                    <a:pt x="47" y="86"/>
                  </a:lnTo>
                  <a:lnTo>
                    <a:pt x="46" y="74"/>
                  </a:lnTo>
                  <a:lnTo>
                    <a:pt x="44" y="62"/>
                  </a:lnTo>
                  <a:lnTo>
                    <a:pt x="42" y="47"/>
                  </a:lnTo>
                  <a:lnTo>
                    <a:pt x="38" y="34"/>
                  </a:lnTo>
                  <a:lnTo>
                    <a:pt x="32" y="23"/>
                  </a:lnTo>
                  <a:lnTo>
                    <a:pt x="29" y="12"/>
                  </a:lnTo>
                  <a:lnTo>
                    <a:pt x="23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10" y="34"/>
                  </a:lnTo>
                  <a:lnTo>
                    <a:pt x="7" y="47"/>
                  </a:lnTo>
                  <a:lnTo>
                    <a:pt x="5" y="62"/>
                  </a:lnTo>
                  <a:lnTo>
                    <a:pt x="1" y="74"/>
                  </a:lnTo>
                  <a:lnTo>
                    <a:pt x="1" y="86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1" y="150"/>
                  </a:lnTo>
                  <a:lnTo>
                    <a:pt x="3" y="163"/>
                  </a:lnTo>
                  <a:lnTo>
                    <a:pt x="5" y="175"/>
                  </a:lnTo>
                  <a:lnTo>
                    <a:pt x="7" y="189"/>
                  </a:lnTo>
                  <a:lnTo>
                    <a:pt x="10" y="201"/>
                  </a:lnTo>
                  <a:lnTo>
                    <a:pt x="15" y="214"/>
                  </a:lnTo>
                  <a:lnTo>
                    <a:pt x="20" y="224"/>
                  </a:lnTo>
                  <a:lnTo>
                    <a:pt x="23" y="235"/>
                  </a:lnTo>
                  <a:lnTo>
                    <a:pt x="28" y="2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019240" y="5640480"/>
              <a:ext cx="18000" cy="90720"/>
            </a:xfrm>
            <a:custGeom>
              <a:avLst/>
              <a:gdLst/>
              <a:ahLst/>
              <a:rect l="0" t="0" r="r" b="b"/>
              <a:pathLst>
                <a:path fill="none" w="50" h="252">
                  <a:moveTo>
                    <a:pt x="28" y="242"/>
                  </a:moveTo>
                  <a:lnTo>
                    <a:pt x="33" y="231"/>
                  </a:lnTo>
                  <a:lnTo>
                    <a:pt x="36" y="215"/>
                  </a:lnTo>
                  <a:lnTo>
                    <a:pt x="41" y="203"/>
                  </a:lnTo>
                  <a:lnTo>
                    <a:pt x="43" y="188"/>
                  </a:lnTo>
                  <a:lnTo>
                    <a:pt x="47" y="176"/>
                  </a:lnTo>
                  <a:lnTo>
                    <a:pt x="48" y="162"/>
                  </a:lnTo>
                  <a:lnTo>
                    <a:pt x="50" y="147"/>
                  </a:lnTo>
                  <a:lnTo>
                    <a:pt x="50" y="134"/>
                  </a:lnTo>
                  <a:lnTo>
                    <a:pt x="50" y="120"/>
                  </a:lnTo>
                  <a:lnTo>
                    <a:pt x="50" y="105"/>
                  </a:lnTo>
                  <a:lnTo>
                    <a:pt x="48" y="93"/>
                  </a:lnTo>
                  <a:lnTo>
                    <a:pt x="47" y="79"/>
                  </a:lnTo>
                  <a:lnTo>
                    <a:pt x="44" y="65"/>
                  </a:lnTo>
                  <a:lnTo>
                    <a:pt x="41" y="52"/>
                  </a:lnTo>
                  <a:lnTo>
                    <a:pt x="36" y="38"/>
                  </a:lnTo>
                  <a:lnTo>
                    <a:pt x="33" y="25"/>
                  </a:lnTo>
                  <a:lnTo>
                    <a:pt x="29" y="13"/>
                  </a:lnTo>
                  <a:lnTo>
                    <a:pt x="23" y="0"/>
                  </a:lnTo>
                  <a:lnTo>
                    <a:pt x="19" y="13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6" y="52"/>
                  </a:lnTo>
                  <a:lnTo>
                    <a:pt x="5" y="65"/>
                  </a:lnTo>
                  <a:lnTo>
                    <a:pt x="1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5" y="188"/>
                  </a:lnTo>
                  <a:lnTo>
                    <a:pt x="7" y="203"/>
                  </a:lnTo>
                  <a:lnTo>
                    <a:pt x="11" y="215"/>
                  </a:lnTo>
                  <a:lnTo>
                    <a:pt x="16" y="231"/>
                  </a:lnTo>
                  <a:lnTo>
                    <a:pt x="19" y="242"/>
                  </a:lnTo>
                  <a:lnTo>
                    <a:pt x="23" y="252"/>
                  </a:lnTo>
                  <a:lnTo>
                    <a:pt x="28" y="2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2057400" y="5640480"/>
              <a:ext cx="20880" cy="98640"/>
            </a:xfrm>
            <a:custGeom>
              <a:avLst/>
              <a:gdLst/>
              <a:ahLst/>
              <a:rect l="0" t="0" r="r" b="b"/>
              <a:pathLst>
                <a:path fill="none" w="58" h="274">
                  <a:moveTo>
                    <a:pt x="33" y="262"/>
                  </a:moveTo>
                  <a:lnTo>
                    <a:pt x="38" y="250"/>
                  </a:lnTo>
                  <a:lnTo>
                    <a:pt x="43" y="233"/>
                  </a:lnTo>
                  <a:lnTo>
                    <a:pt x="47" y="220"/>
                  </a:lnTo>
                  <a:lnTo>
                    <a:pt x="51" y="205"/>
                  </a:lnTo>
                  <a:lnTo>
                    <a:pt x="55" y="190"/>
                  </a:lnTo>
                  <a:lnTo>
                    <a:pt x="55" y="175"/>
                  </a:lnTo>
                  <a:lnTo>
                    <a:pt x="58" y="160"/>
                  </a:lnTo>
                  <a:lnTo>
                    <a:pt x="58" y="146"/>
                  </a:lnTo>
                  <a:lnTo>
                    <a:pt x="58" y="131"/>
                  </a:lnTo>
                  <a:lnTo>
                    <a:pt x="58" y="114"/>
                  </a:lnTo>
                  <a:lnTo>
                    <a:pt x="55" y="101"/>
                  </a:lnTo>
                  <a:lnTo>
                    <a:pt x="55" y="84"/>
                  </a:lnTo>
                  <a:lnTo>
                    <a:pt x="51" y="71"/>
                  </a:lnTo>
                  <a:lnTo>
                    <a:pt x="49" y="57"/>
                  </a:lnTo>
                  <a:lnTo>
                    <a:pt x="43" y="42"/>
                  </a:lnTo>
                  <a:lnTo>
                    <a:pt x="38" y="27"/>
                  </a:lnTo>
                  <a:lnTo>
                    <a:pt x="34" y="15"/>
                  </a:lnTo>
                  <a:lnTo>
                    <a:pt x="27" y="0"/>
                  </a:lnTo>
                  <a:lnTo>
                    <a:pt x="22" y="15"/>
                  </a:lnTo>
                  <a:lnTo>
                    <a:pt x="17" y="27"/>
                  </a:lnTo>
                  <a:lnTo>
                    <a:pt x="11" y="42"/>
                  </a:lnTo>
                  <a:lnTo>
                    <a:pt x="7" y="57"/>
                  </a:lnTo>
                  <a:lnTo>
                    <a:pt x="7" y="71"/>
                  </a:lnTo>
                  <a:lnTo>
                    <a:pt x="1" y="84"/>
                  </a:lnTo>
                  <a:lnTo>
                    <a:pt x="0" y="101"/>
                  </a:lnTo>
                  <a:lnTo>
                    <a:pt x="0" y="114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0"/>
                  </a:lnTo>
                  <a:lnTo>
                    <a:pt x="0" y="175"/>
                  </a:lnTo>
                  <a:lnTo>
                    <a:pt x="3" y="190"/>
                  </a:lnTo>
                  <a:lnTo>
                    <a:pt x="7" y="205"/>
                  </a:lnTo>
                  <a:lnTo>
                    <a:pt x="10" y="220"/>
                  </a:lnTo>
                  <a:lnTo>
                    <a:pt x="13" y="233"/>
                  </a:lnTo>
                  <a:lnTo>
                    <a:pt x="17" y="250"/>
                  </a:lnTo>
                  <a:lnTo>
                    <a:pt x="23" y="262"/>
                  </a:lnTo>
                  <a:lnTo>
                    <a:pt x="27" y="274"/>
                  </a:lnTo>
                  <a:lnTo>
                    <a:pt x="33" y="2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2100240" y="5699160"/>
              <a:ext cx="155880" cy="44640"/>
            </a:xfrm>
            <a:custGeom>
              <a:avLst/>
              <a:gdLst/>
              <a:ahLst/>
              <a:rect l="0" t="0" r="r" b="b"/>
              <a:pathLst>
                <a:path fill="none" w="433" h="124">
                  <a:moveTo>
                    <a:pt x="27" y="121"/>
                  </a:moveTo>
                  <a:lnTo>
                    <a:pt x="17" y="118"/>
                  </a:lnTo>
                  <a:lnTo>
                    <a:pt x="11" y="114"/>
                  </a:lnTo>
                  <a:lnTo>
                    <a:pt x="4" y="105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5" y="90"/>
                  </a:lnTo>
                  <a:lnTo>
                    <a:pt x="1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3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8" y="64"/>
                  </a:lnTo>
                  <a:lnTo>
                    <a:pt x="9" y="49"/>
                  </a:lnTo>
                  <a:lnTo>
                    <a:pt x="14" y="40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5" y="23"/>
                  </a:lnTo>
                  <a:lnTo>
                    <a:pt x="54" y="25"/>
                  </a:lnTo>
                  <a:lnTo>
                    <a:pt x="61" y="27"/>
                  </a:lnTo>
                  <a:lnTo>
                    <a:pt x="65" y="31"/>
                  </a:lnTo>
                  <a:lnTo>
                    <a:pt x="70" y="22"/>
                  </a:lnTo>
                  <a:lnTo>
                    <a:pt x="83" y="18"/>
                  </a:lnTo>
                  <a:lnTo>
                    <a:pt x="100" y="18"/>
                  </a:lnTo>
                  <a:lnTo>
                    <a:pt x="108" y="20"/>
                  </a:lnTo>
                  <a:lnTo>
                    <a:pt x="112" y="12"/>
                  </a:lnTo>
                  <a:lnTo>
                    <a:pt x="117" y="10"/>
                  </a:lnTo>
                  <a:lnTo>
                    <a:pt x="123" y="10"/>
                  </a:lnTo>
                  <a:lnTo>
                    <a:pt x="126" y="14"/>
                  </a:lnTo>
                  <a:lnTo>
                    <a:pt x="136" y="5"/>
                  </a:lnTo>
                  <a:lnTo>
                    <a:pt x="147" y="2"/>
                  </a:lnTo>
                  <a:lnTo>
                    <a:pt x="159" y="0"/>
                  </a:lnTo>
                  <a:lnTo>
                    <a:pt x="173" y="1"/>
                  </a:lnTo>
                  <a:lnTo>
                    <a:pt x="185" y="3"/>
                  </a:lnTo>
                  <a:lnTo>
                    <a:pt x="195" y="10"/>
                  </a:lnTo>
                  <a:lnTo>
                    <a:pt x="197" y="15"/>
                  </a:lnTo>
                  <a:lnTo>
                    <a:pt x="210" y="8"/>
                  </a:lnTo>
                  <a:lnTo>
                    <a:pt x="219" y="7"/>
                  </a:lnTo>
                  <a:lnTo>
                    <a:pt x="224" y="8"/>
                  </a:lnTo>
                  <a:lnTo>
                    <a:pt x="226" y="12"/>
                  </a:lnTo>
                  <a:lnTo>
                    <a:pt x="233" y="7"/>
                  </a:lnTo>
                  <a:lnTo>
                    <a:pt x="240" y="8"/>
                  </a:lnTo>
                  <a:lnTo>
                    <a:pt x="243" y="10"/>
                  </a:lnTo>
                  <a:lnTo>
                    <a:pt x="244" y="14"/>
                  </a:lnTo>
                  <a:lnTo>
                    <a:pt x="254" y="9"/>
                  </a:lnTo>
                  <a:lnTo>
                    <a:pt x="259" y="11"/>
                  </a:lnTo>
                  <a:lnTo>
                    <a:pt x="261" y="12"/>
                  </a:lnTo>
                  <a:lnTo>
                    <a:pt x="271" y="5"/>
                  </a:lnTo>
                  <a:lnTo>
                    <a:pt x="283" y="1"/>
                  </a:lnTo>
                  <a:lnTo>
                    <a:pt x="299" y="1"/>
                  </a:lnTo>
                  <a:lnTo>
                    <a:pt x="313" y="5"/>
                  </a:lnTo>
                  <a:lnTo>
                    <a:pt x="321" y="11"/>
                  </a:lnTo>
                  <a:lnTo>
                    <a:pt x="327" y="6"/>
                  </a:lnTo>
                  <a:lnTo>
                    <a:pt x="335" y="3"/>
                  </a:lnTo>
                  <a:lnTo>
                    <a:pt x="348" y="1"/>
                  </a:lnTo>
                  <a:lnTo>
                    <a:pt x="362" y="1"/>
                  </a:lnTo>
                  <a:lnTo>
                    <a:pt x="377" y="3"/>
                  </a:lnTo>
                  <a:lnTo>
                    <a:pt x="385" y="9"/>
                  </a:lnTo>
                  <a:lnTo>
                    <a:pt x="393" y="1"/>
                  </a:lnTo>
                  <a:lnTo>
                    <a:pt x="403" y="1"/>
                  </a:lnTo>
                  <a:lnTo>
                    <a:pt x="412" y="5"/>
                  </a:lnTo>
                  <a:lnTo>
                    <a:pt x="418" y="11"/>
                  </a:lnTo>
                  <a:lnTo>
                    <a:pt x="418" y="20"/>
                  </a:lnTo>
                  <a:lnTo>
                    <a:pt x="429" y="23"/>
                  </a:lnTo>
                  <a:lnTo>
                    <a:pt x="432" y="31"/>
                  </a:lnTo>
                  <a:lnTo>
                    <a:pt x="433" y="43"/>
                  </a:lnTo>
                  <a:lnTo>
                    <a:pt x="432" y="51"/>
                  </a:lnTo>
                  <a:lnTo>
                    <a:pt x="431" y="60"/>
                  </a:lnTo>
                  <a:lnTo>
                    <a:pt x="428" y="64"/>
                  </a:lnTo>
                  <a:lnTo>
                    <a:pt x="422" y="69"/>
                  </a:lnTo>
                  <a:lnTo>
                    <a:pt x="416" y="72"/>
                  </a:lnTo>
                  <a:lnTo>
                    <a:pt x="406" y="72"/>
                  </a:lnTo>
                  <a:lnTo>
                    <a:pt x="392" y="73"/>
                  </a:lnTo>
                  <a:lnTo>
                    <a:pt x="386" y="75"/>
                  </a:lnTo>
                  <a:lnTo>
                    <a:pt x="377" y="78"/>
                  </a:lnTo>
                  <a:lnTo>
                    <a:pt x="368" y="78"/>
                  </a:lnTo>
                  <a:lnTo>
                    <a:pt x="61" y="119"/>
                  </a:lnTo>
                  <a:lnTo>
                    <a:pt x="54" y="121"/>
                  </a:lnTo>
                  <a:lnTo>
                    <a:pt x="40" y="124"/>
                  </a:lnTo>
                  <a:lnTo>
                    <a:pt x="27" y="12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2335320" y="5681520"/>
              <a:ext cx="103680" cy="30600"/>
            </a:xfrm>
            <a:custGeom>
              <a:avLst/>
              <a:gdLst/>
              <a:ahLst/>
              <a:rect l="0" t="0" r="r" b="b"/>
              <a:pathLst>
                <a:path fill="none" w="288" h="85">
                  <a:moveTo>
                    <a:pt x="1" y="77"/>
                  </a:moveTo>
                  <a:lnTo>
                    <a:pt x="5" y="81"/>
                  </a:lnTo>
                  <a:lnTo>
                    <a:pt x="11" y="82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5"/>
                  </a:lnTo>
                  <a:lnTo>
                    <a:pt x="19" y="85"/>
                  </a:lnTo>
                  <a:lnTo>
                    <a:pt x="277" y="49"/>
                  </a:lnTo>
                  <a:lnTo>
                    <a:pt x="283" y="45"/>
                  </a:lnTo>
                  <a:lnTo>
                    <a:pt x="287" y="38"/>
                  </a:lnTo>
                  <a:lnTo>
                    <a:pt x="288" y="33"/>
                  </a:lnTo>
                  <a:lnTo>
                    <a:pt x="288" y="28"/>
                  </a:lnTo>
                  <a:lnTo>
                    <a:pt x="287" y="28"/>
                  </a:lnTo>
                  <a:lnTo>
                    <a:pt x="287" y="19"/>
                  </a:lnTo>
                  <a:lnTo>
                    <a:pt x="284" y="15"/>
                  </a:lnTo>
                  <a:lnTo>
                    <a:pt x="282" y="13"/>
                  </a:lnTo>
                  <a:lnTo>
                    <a:pt x="280" y="16"/>
                  </a:lnTo>
                  <a:lnTo>
                    <a:pt x="276" y="7"/>
                  </a:lnTo>
                  <a:lnTo>
                    <a:pt x="269" y="3"/>
                  </a:lnTo>
                  <a:lnTo>
                    <a:pt x="261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49" y="3"/>
                  </a:lnTo>
                  <a:lnTo>
                    <a:pt x="239" y="1"/>
                  </a:lnTo>
                  <a:lnTo>
                    <a:pt x="228" y="1"/>
                  </a:lnTo>
                  <a:lnTo>
                    <a:pt x="220" y="7"/>
                  </a:lnTo>
                  <a:lnTo>
                    <a:pt x="213" y="13"/>
                  </a:lnTo>
                  <a:lnTo>
                    <a:pt x="207" y="4"/>
                  </a:lnTo>
                  <a:lnTo>
                    <a:pt x="194" y="0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162" y="9"/>
                  </a:lnTo>
                  <a:lnTo>
                    <a:pt x="158" y="13"/>
                  </a:lnTo>
                  <a:lnTo>
                    <a:pt x="149" y="11"/>
                  </a:lnTo>
                  <a:lnTo>
                    <a:pt x="145" y="13"/>
                  </a:lnTo>
                  <a:lnTo>
                    <a:pt x="143" y="19"/>
                  </a:lnTo>
                  <a:lnTo>
                    <a:pt x="135" y="11"/>
                  </a:lnTo>
                  <a:lnTo>
                    <a:pt x="122" y="10"/>
                  </a:lnTo>
                  <a:lnTo>
                    <a:pt x="111" y="11"/>
                  </a:lnTo>
                  <a:lnTo>
                    <a:pt x="108" y="16"/>
                  </a:lnTo>
                  <a:lnTo>
                    <a:pt x="102" y="24"/>
                  </a:lnTo>
                  <a:lnTo>
                    <a:pt x="95" y="20"/>
                  </a:lnTo>
                  <a:lnTo>
                    <a:pt x="84" y="24"/>
                  </a:lnTo>
                  <a:lnTo>
                    <a:pt x="80" y="28"/>
                  </a:lnTo>
                  <a:lnTo>
                    <a:pt x="71" y="20"/>
                  </a:lnTo>
                  <a:lnTo>
                    <a:pt x="54" y="19"/>
                  </a:lnTo>
                  <a:lnTo>
                    <a:pt x="32" y="23"/>
                  </a:lnTo>
                  <a:lnTo>
                    <a:pt x="17" y="28"/>
                  </a:lnTo>
                  <a:lnTo>
                    <a:pt x="5" y="38"/>
                  </a:lnTo>
                  <a:lnTo>
                    <a:pt x="1" y="47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1735200" y="5675400"/>
              <a:ext cx="760680" cy="95760"/>
            </a:xfrm>
            <a:custGeom>
              <a:avLst/>
              <a:gdLst/>
              <a:ahLst/>
              <a:rect l="0" t="0" r="r" b="b"/>
              <a:pathLst>
                <a:path fill="none" w="2113" h="266">
                  <a:moveTo>
                    <a:pt x="66" y="0"/>
                  </a:moveTo>
                  <a:lnTo>
                    <a:pt x="0" y="0"/>
                  </a:lnTo>
                  <a:lnTo>
                    <a:pt x="1003" y="266"/>
                  </a:lnTo>
                  <a:lnTo>
                    <a:pt x="2113" y="60"/>
                  </a:lnTo>
                  <a:lnTo>
                    <a:pt x="1935" y="4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8" name=""/>
          <p:cNvSpPr/>
          <p:nvPr/>
        </p:nvSpPr>
        <p:spPr>
          <a:xfrm flipV="1">
            <a:off x="3489480" y="2136600"/>
            <a:ext cx="1585800" cy="2413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9" name=""/>
          <p:cNvSpPr/>
          <p:nvPr/>
        </p:nvSpPr>
        <p:spPr>
          <a:xfrm flipH="1" flipV="1">
            <a:off x="5132520" y="2147760"/>
            <a:ext cx="193680" cy="251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0" name=""/>
          <p:cNvSpPr/>
          <p:nvPr/>
        </p:nvSpPr>
        <p:spPr>
          <a:xfrm flipV="1">
            <a:off x="3238560" y="2125800"/>
            <a:ext cx="1801800" cy="241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1" name=""/>
          <p:cNvSpPr/>
          <p:nvPr/>
        </p:nvSpPr>
        <p:spPr>
          <a:xfrm>
            <a:off x="5235480" y="2111400"/>
            <a:ext cx="3473640" cy="229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2" name=""/>
          <p:cNvSpPr/>
          <p:nvPr/>
        </p:nvSpPr>
        <p:spPr>
          <a:xfrm flipH="1" flipV="1">
            <a:off x="5181480" y="2149560"/>
            <a:ext cx="1409760" cy="271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3" name=""/>
          <p:cNvSpPr/>
          <p:nvPr/>
        </p:nvSpPr>
        <p:spPr>
          <a:xfrm flipH="1" flipV="1">
            <a:off x="5211720" y="2141640"/>
            <a:ext cx="3192480" cy="2590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4" name=""/>
          <p:cNvGrpSpPr/>
          <p:nvPr/>
        </p:nvGrpSpPr>
        <p:grpSpPr>
          <a:xfrm>
            <a:off x="4560840" y="1854360"/>
            <a:ext cx="1146600" cy="240120"/>
            <a:chOff x="4560840" y="1854360"/>
            <a:chExt cx="1146600" cy="240120"/>
          </a:xfrm>
        </p:grpSpPr>
        <p:sp>
          <p:nvSpPr>
            <p:cNvPr id="7165" name=""/>
            <p:cNvSpPr/>
            <p:nvPr/>
          </p:nvSpPr>
          <p:spPr>
            <a:xfrm>
              <a:off x="5126040" y="1890720"/>
              <a:ext cx="95760" cy="163800"/>
            </a:xfrm>
            <a:custGeom>
              <a:avLst/>
              <a:gdLst/>
              <a:ahLst/>
              <a:rect l="0" t="0" r="r" b="b"/>
              <a:pathLst>
                <a:path fill="none" w="266" h="455">
                  <a:moveTo>
                    <a:pt x="266" y="70"/>
                  </a:moveTo>
                  <a:lnTo>
                    <a:pt x="159" y="433"/>
                  </a:lnTo>
                  <a:lnTo>
                    <a:pt x="22" y="455"/>
                  </a:lnTo>
                  <a:lnTo>
                    <a:pt x="0" y="57"/>
                  </a:lnTo>
                  <a:lnTo>
                    <a:pt x="26" y="39"/>
                  </a:lnTo>
                  <a:lnTo>
                    <a:pt x="80" y="17"/>
                  </a:lnTo>
                  <a:lnTo>
                    <a:pt x="142" y="0"/>
                  </a:lnTo>
                  <a:lnTo>
                    <a:pt x="181" y="17"/>
                  </a:lnTo>
                  <a:lnTo>
                    <a:pt x="240" y="48"/>
                  </a:lnTo>
                  <a:lnTo>
                    <a:pt x="266" y="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560840" y="1916280"/>
              <a:ext cx="518040" cy="178200"/>
            </a:xfrm>
            <a:custGeom>
              <a:avLst/>
              <a:gdLst/>
              <a:ahLst/>
              <a:rect l="0" t="0" r="r" b="b"/>
              <a:pathLst>
                <a:path fill="none" w="1439" h="495">
                  <a:moveTo>
                    <a:pt x="154" y="26"/>
                  </a:moveTo>
                  <a:lnTo>
                    <a:pt x="706" y="52"/>
                  </a:lnTo>
                  <a:lnTo>
                    <a:pt x="1179" y="70"/>
                  </a:lnTo>
                  <a:lnTo>
                    <a:pt x="1439" y="495"/>
                  </a:lnTo>
                  <a:lnTo>
                    <a:pt x="816" y="478"/>
                  </a:lnTo>
                  <a:lnTo>
                    <a:pt x="605" y="44"/>
                  </a:lnTo>
                  <a:lnTo>
                    <a:pt x="834" y="469"/>
                  </a:lnTo>
                  <a:lnTo>
                    <a:pt x="185" y="469"/>
                  </a:lnTo>
                  <a:lnTo>
                    <a:pt x="0" y="0"/>
                  </a:lnTo>
                  <a:lnTo>
                    <a:pt x="154" y="2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5191200" y="1924200"/>
              <a:ext cx="516240" cy="167040"/>
            </a:xfrm>
            <a:custGeom>
              <a:avLst/>
              <a:gdLst/>
              <a:ahLst/>
              <a:rect l="0" t="0" r="r" b="b"/>
              <a:pathLst>
                <a:path fill="none" w="1434" h="464">
                  <a:moveTo>
                    <a:pt x="149" y="0"/>
                  </a:moveTo>
                  <a:lnTo>
                    <a:pt x="705" y="22"/>
                  </a:lnTo>
                  <a:lnTo>
                    <a:pt x="1182" y="44"/>
                  </a:lnTo>
                  <a:lnTo>
                    <a:pt x="1434" y="464"/>
                  </a:lnTo>
                  <a:lnTo>
                    <a:pt x="821" y="441"/>
                  </a:lnTo>
                  <a:lnTo>
                    <a:pt x="608" y="13"/>
                  </a:lnTo>
                  <a:lnTo>
                    <a:pt x="838" y="441"/>
                  </a:lnTo>
                  <a:lnTo>
                    <a:pt x="229" y="424"/>
                  </a:lnTo>
                  <a:lnTo>
                    <a:pt x="0" y="4"/>
                  </a:lnTo>
                  <a:lnTo>
                    <a:pt x="14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5022720" y="1876320"/>
              <a:ext cx="116280" cy="203400"/>
            </a:xfrm>
            <a:custGeom>
              <a:avLst/>
              <a:gdLst/>
              <a:ahLst/>
              <a:rect l="0" t="0" r="r" b="b"/>
              <a:pathLst>
                <a:path fill="none" w="323" h="565">
                  <a:moveTo>
                    <a:pt x="137" y="0"/>
                  </a:moveTo>
                  <a:lnTo>
                    <a:pt x="323" y="251"/>
                  </a:lnTo>
                  <a:lnTo>
                    <a:pt x="168" y="565"/>
                  </a:lnTo>
                  <a:lnTo>
                    <a:pt x="0" y="322"/>
                  </a:lnTo>
                  <a:lnTo>
                    <a:pt x="1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9" name=""/>
            <p:cNvGrpSpPr/>
            <p:nvPr/>
          </p:nvGrpSpPr>
          <p:grpSpPr>
            <a:xfrm>
              <a:off x="5130720" y="2001960"/>
              <a:ext cx="77760" cy="71280"/>
              <a:chOff x="5130720" y="2001960"/>
              <a:chExt cx="77760" cy="71280"/>
            </a:xfrm>
          </p:grpSpPr>
          <p:sp>
            <p:nvSpPr>
              <p:cNvPr id="7170" name=""/>
              <p:cNvSpPr/>
              <p:nvPr/>
            </p:nvSpPr>
            <p:spPr>
              <a:xfrm>
                <a:off x="5130720" y="2001960"/>
                <a:ext cx="55440" cy="414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5137200" y="2011320"/>
                <a:ext cx="55440" cy="428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5146560" y="2022480"/>
                <a:ext cx="55440" cy="414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5153040" y="2033640"/>
                <a:ext cx="55440" cy="396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5168880" y="2048040"/>
                <a:ext cx="25560" cy="176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5" name=""/>
            <p:cNvSpPr/>
            <p:nvPr/>
          </p:nvSpPr>
          <p:spPr>
            <a:xfrm>
              <a:off x="5072040" y="1876320"/>
              <a:ext cx="95760" cy="93960"/>
            </a:xfrm>
            <a:custGeom>
              <a:avLst/>
              <a:gdLst/>
              <a:ahLst/>
              <a:rect l="0" t="0" r="r" b="b"/>
              <a:pathLst>
                <a:path fill="none" w="266" h="261">
                  <a:moveTo>
                    <a:pt x="0" y="0"/>
                  </a:moveTo>
                  <a:lnTo>
                    <a:pt x="89" y="4"/>
                  </a:lnTo>
                  <a:lnTo>
                    <a:pt x="266" y="261"/>
                  </a:lnTo>
                  <a:lnTo>
                    <a:pt x="186" y="2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5086440" y="1969920"/>
              <a:ext cx="82800" cy="117720"/>
            </a:xfrm>
            <a:custGeom>
              <a:avLst/>
              <a:gdLst/>
              <a:ahLst/>
              <a:rect l="0" t="0" r="r" b="b"/>
              <a:pathLst>
                <a:path fill="none" w="230" h="327">
                  <a:moveTo>
                    <a:pt x="230" y="4"/>
                  </a:moveTo>
                  <a:lnTo>
                    <a:pt x="83" y="327"/>
                  </a:lnTo>
                  <a:lnTo>
                    <a:pt x="0" y="309"/>
                  </a:lnTo>
                  <a:lnTo>
                    <a:pt x="146" y="0"/>
                  </a:lnTo>
                  <a:lnTo>
                    <a:pt x="15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5064120" y="1901880"/>
              <a:ext cx="27360" cy="51120"/>
            </a:xfrm>
            <a:custGeom>
              <a:avLst/>
              <a:gdLst/>
              <a:ahLst/>
              <a:rect l="0" t="0" r="r" b="b"/>
              <a:pathLst>
                <a:path fill="none" w="76" h="142">
                  <a:moveTo>
                    <a:pt x="0" y="70"/>
                  </a:moveTo>
                  <a:lnTo>
                    <a:pt x="31" y="0"/>
                  </a:lnTo>
                  <a:lnTo>
                    <a:pt x="76" y="75"/>
                  </a:lnTo>
                  <a:lnTo>
                    <a:pt x="49" y="142"/>
                  </a:lnTo>
                  <a:lnTo>
                    <a:pt x="0" y="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5091120" y="1940040"/>
              <a:ext cx="28800" cy="52920"/>
            </a:xfrm>
            <a:custGeom>
              <a:avLst/>
              <a:gdLst/>
              <a:ahLst/>
              <a:rect l="0" t="0" r="r" b="b"/>
              <a:pathLst>
                <a:path fill="none" w="80" h="147">
                  <a:moveTo>
                    <a:pt x="0" y="75"/>
                  </a:moveTo>
                  <a:lnTo>
                    <a:pt x="30" y="0"/>
                  </a:lnTo>
                  <a:lnTo>
                    <a:pt x="80" y="80"/>
                  </a:lnTo>
                  <a:lnTo>
                    <a:pt x="53" y="147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5076720" y="1971720"/>
              <a:ext cx="28800" cy="52920"/>
            </a:xfrm>
            <a:custGeom>
              <a:avLst/>
              <a:gdLst/>
              <a:ahLst/>
              <a:rect l="0" t="0" r="r" b="b"/>
              <a:pathLst>
                <a:path fill="none" w="80" h="147">
                  <a:moveTo>
                    <a:pt x="0" y="75"/>
                  </a:moveTo>
                  <a:lnTo>
                    <a:pt x="35" y="0"/>
                  </a:lnTo>
                  <a:lnTo>
                    <a:pt x="80" y="71"/>
                  </a:lnTo>
                  <a:lnTo>
                    <a:pt x="45" y="147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5064120" y="2001960"/>
              <a:ext cx="28800" cy="51120"/>
            </a:xfrm>
            <a:custGeom>
              <a:avLst/>
              <a:gdLst/>
              <a:ahLst/>
              <a:rect l="0" t="0" r="r" b="b"/>
              <a:pathLst>
                <a:path fill="none" w="80" h="142">
                  <a:moveTo>
                    <a:pt x="0" y="75"/>
                  </a:moveTo>
                  <a:lnTo>
                    <a:pt x="35" y="0"/>
                  </a:lnTo>
                  <a:lnTo>
                    <a:pt x="80" y="75"/>
                  </a:lnTo>
                  <a:lnTo>
                    <a:pt x="45" y="142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5037120" y="1967040"/>
              <a:ext cx="32040" cy="47880"/>
            </a:xfrm>
            <a:custGeom>
              <a:avLst/>
              <a:gdLst/>
              <a:ahLst/>
              <a:rect l="0" t="0" r="r" b="b"/>
              <a:pathLst>
                <a:path fill="none" w="89" h="133">
                  <a:moveTo>
                    <a:pt x="0" y="67"/>
                  </a:moveTo>
                  <a:lnTo>
                    <a:pt x="39" y="0"/>
                  </a:lnTo>
                  <a:lnTo>
                    <a:pt x="89" y="67"/>
                  </a:lnTo>
                  <a:lnTo>
                    <a:pt x="49" y="133"/>
                  </a:lnTo>
                  <a:lnTo>
                    <a:pt x="0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4986360" y="1947960"/>
              <a:ext cx="92520" cy="146520"/>
            </a:xfrm>
            <a:custGeom>
              <a:avLst/>
              <a:gdLst/>
              <a:ahLst/>
              <a:rect l="0" t="0" r="r" b="b"/>
              <a:pathLst>
                <a:path fill="none" w="257" h="407">
                  <a:moveTo>
                    <a:pt x="244" y="407"/>
                  </a:moveTo>
                  <a:lnTo>
                    <a:pt x="257" y="128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191200" y="1925640"/>
              <a:ext cx="87840" cy="146520"/>
            </a:xfrm>
            <a:custGeom>
              <a:avLst/>
              <a:gdLst/>
              <a:ahLst/>
              <a:rect l="0" t="0" r="r" b="b"/>
              <a:pathLst>
                <a:path fill="none" w="244" h="407">
                  <a:moveTo>
                    <a:pt x="244" y="407"/>
                  </a:moveTo>
                  <a:lnTo>
                    <a:pt x="0" y="195"/>
                  </a:lnTo>
                  <a:lnTo>
                    <a:pt x="26" y="0"/>
                  </a:lnTo>
                </a:path>
              </a:pathLst>
            </a:custGeom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5106960" y="1854360"/>
              <a:ext cx="116280" cy="59040"/>
            </a:xfrm>
            <a:custGeom>
              <a:avLst/>
              <a:gdLst/>
              <a:ahLst/>
              <a:rect l="0" t="0" r="r" b="b"/>
              <a:pathLst>
                <a:path fill="none" w="323" h="164">
                  <a:moveTo>
                    <a:pt x="0" y="61"/>
                  </a:moveTo>
                  <a:lnTo>
                    <a:pt x="66" y="17"/>
                  </a:lnTo>
                  <a:lnTo>
                    <a:pt x="128" y="0"/>
                  </a:lnTo>
                  <a:lnTo>
                    <a:pt x="190" y="4"/>
                  </a:lnTo>
                  <a:lnTo>
                    <a:pt x="239" y="39"/>
                  </a:lnTo>
                  <a:lnTo>
                    <a:pt x="257" y="66"/>
                  </a:lnTo>
                  <a:lnTo>
                    <a:pt x="323" y="164"/>
                  </a:lnTo>
                  <a:lnTo>
                    <a:pt x="270" y="124"/>
                  </a:lnTo>
                  <a:lnTo>
                    <a:pt x="199" y="98"/>
                  </a:lnTo>
                  <a:lnTo>
                    <a:pt x="146" y="102"/>
                  </a:lnTo>
                  <a:lnTo>
                    <a:pt x="89" y="137"/>
                  </a:lnTo>
                  <a:lnTo>
                    <a:pt x="52" y="1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5176800" y="1933560"/>
              <a:ext cx="50760" cy="48960"/>
              <a:chOff x="5176800" y="1933560"/>
              <a:chExt cx="50760" cy="48960"/>
            </a:xfrm>
          </p:grpSpPr>
          <p:sp>
            <p:nvSpPr>
              <p:cNvPr id="7186" name=""/>
              <p:cNvSpPr/>
              <p:nvPr/>
            </p:nvSpPr>
            <p:spPr>
              <a:xfrm>
                <a:off x="5176800" y="1933560"/>
                <a:ext cx="34920" cy="302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5181480" y="1938240"/>
                <a:ext cx="34920" cy="302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5186520" y="1946160"/>
                <a:ext cx="3492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5192640" y="1954080"/>
                <a:ext cx="3492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5199120" y="1962000"/>
                <a:ext cx="1908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1" name=""/>
            <p:cNvGrpSpPr/>
            <p:nvPr/>
          </p:nvGrpSpPr>
          <p:grpSpPr>
            <a:xfrm>
              <a:off x="5162400" y="1893960"/>
              <a:ext cx="46440" cy="44640"/>
              <a:chOff x="5162400" y="1893960"/>
              <a:chExt cx="46440" cy="44640"/>
            </a:xfrm>
          </p:grpSpPr>
          <p:sp>
            <p:nvSpPr>
              <p:cNvPr id="7192" name=""/>
              <p:cNvSpPr/>
              <p:nvPr/>
            </p:nvSpPr>
            <p:spPr>
              <a:xfrm>
                <a:off x="5162400" y="1893960"/>
                <a:ext cx="3348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5165640" y="1900080"/>
                <a:ext cx="3348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5170320" y="1906560"/>
                <a:ext cx="3348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5175360" y="1913040"/>
                <a:ext cx="3348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5187960" y="1920960"/>
                <a:ext cx="1584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7" name=""/>
            <p:cNvGrpSpPr/>
            <p:nvPr/>
          </p:nvGrpSpPr>
          <p:grpSpPr>
            <a:xfrm>
              <a:off x="5137200" y="1916280"/>
              <a:ext cx="49320" cy="47520"/>
              <a:chOff x="5137200" y="1916280"/>
              <a:chExt cx="49320" cy="47520"/>
            </a:xfrm>
          </p:grpSpPr>
          <p:sp>
            <p:nvSpPr>
              <p:cNvPr id="7198" name=""/>
              <p:cNvSpPr/>
              <p:nvPr/>
            </p:nvSpPr>
            <p:spPr>
              <a:xfrm>
                <a:off x="5137200" y="191628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141880" y="192420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146560" y="192888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151600" y="1936800"/>
                <a:ext cx="3492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159520" y="1943280"/>
                <a:ext cx="15840" cy="1260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3" name=""/>
            <p:cNvGrpSpPr/>
            <p:nvPr/>
          </p:nvGrpSpPr>
          <p:grpSpPr>
            <a:xfrm>
              <a:off x="5167440" y="1979640"/>
              <a:ext cx="48960" cy="47520"/>
              <a:chOff x="5167440" y="1979640"/>
              <a:chExt cx="48960" cy="47520"/>
            </a:xfrm>
          </p:grpSpPr>
          <p:sp>
            <p:nvSpPr>
              <p:cNvPr id="7204" name=""/>
              <p:cNvSpPr/>
              <p:nvPr/>
            </p:nvSpPr>
            <p:spPr>
              <a:xfrm>
                <a:off x="5167440" y="1979640"/>
                <a:ext cx="36360" cy="2844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172120" y="1987560"/>
                <a:ext cx="36360" cy="2556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176800" y="1994040"/>
                <a:ext cx="3636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180040" y="2000160"/>
                <a:ext cx="36360" cy="27000"/>
              </a:xfrm>
              <a:prstGeom prst="ellipse">
                <a:avLst/>
              </a:prstGeom>
              <a:noFill/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189400" y="2006640"/>
                <a:ext cx="15840" cy="1116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09" name=""/>
          <p:cNvSpPr/>
          <p:nvPr/>
        </p:nvSpPr>
        <p:spPr>
          <a:xfrm flipV="1">
            <a:off x="1957320" y="2144880"/>
            <a:ext cx="2978280" cy="1571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0" name=""/>
          <p:cNvSpPr txBox="1"/>
          <p:nvPr/>
        </p:nvSpPr>
        <p:spPr>
          <a:xfrm>
            <a:off x="7051680" y="4815000"/>
            <a:ext cx="614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-Theat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j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1" name=""/>
          <p:cNvSpPr txBox="1"/>
          <p:nvPr/>
        </p:nvSpPr>
        <p:spPr>
          <a:xfrm>
            <a:off x="7500960" y="5446800"/>
            <a:ext cx="2826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2" name=""/>
          <p:cNvSpPr txBox="1"/>
          <p:nvPr/>
        </p:nvSpPr>
        <p:spPr>
          <a:xfrm>
            <a:off x="6996240" y="6211800"/>
            <a:ext cx="995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at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3" name=""/>
          <p:cNvSpPr/>
          <p:nvPr/>
        </p:nvSpPr>
        <p:spPr>
          <a:xfrm flipV="1">
            <a:off x="5481720" y="57960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4" name=""/>
          <p:cNvSpPr txBox="1"/>
          <p:nvPr/>
        </p:nvSpPr>
        <p:spPr>
          <a:xfrm>
            <a:off x="8556480" y="5942160"/>
            <a:ext cx="3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5" name=""/>
          <p:cNvSpPr txBox="1"/>
          <p:nvPr/>
        </p:nvSpPr>
        <p:spPr>
          <a:xfrm>
            <a:off x="8337600" y="4764240"/>
            <a:ext cx="5508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6" name=""/>
          <p:cNvSpPr/>
          <p:nvPr/>
        </p:nvSpPr>
        <p:spPr>
          <a:xfrm flipH="1" flipV="1">
            <a:off x="5318280" y="2286000"/>
            <a:ext cx="1398600" cy="2473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7" name=""/>
          <p:cNvSpPr txBox="1"/>
          <p:nvPr/>
        </p:nvSpPr>
        <p:spPr>
          <a:xfrm>
            <a:off x="749160" y="2013120"/>
            <a:ext cx="1446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tellite Control Fac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8" name=""/>
          <p:cNvGrpSpPr/>
          <p:nvPr/>
        </p:nvGrpSpPr>
        <p:grpSpPr>
          <a:xfrm>
            <a:off x="792000" y="2217600"/>
            <a:ext cx="1360440" cy="446040"/>
            <a:chOff x="792000" y="2217600"/>
            <a:chExt cx="1360440" cy="446040"/>
          </a:xfrm>
        </p:grpSpPr>
        <p:pic>
          <p:nvPicPr>
            <p:cNvPr id="7219" name="" descr=""/>
            <p:cNvPicPr/>
            <p:nvPr/>
          </p:nvPicPr>
          <p:blipFill>
            <a:blip r:embed="rId8"/>
            <a:stretch/>
          </p:blipFill>
          <p:spPr>
            <a:xfrm>
              <a:off x="792000" y="2244600"/>
              <a:ext cx="9334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0" name="" descr=""/>
            <p:cNvPicPr/>
            <p:nvPr/>
          </p:nvPicPr>
          <p:blipFill>
            <a:blip r:embed="rId9"/>
            <a:stretch/>
          </p:blipFill>
          <p:spPr>
            <a:xfrm>
              <a:off x="1844640" y="2217600"/>
              <a:ext cx="30780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1" name=""/>
          <p:cNvSpPr/>
          <p:nvPr/>
        </p:nvSpPr>
        <p:spPr>
          <a:xfrm flipV="1">
            <a:off x="2209680" y="2027160"/>
            <a:ext cx="2278080" cy="266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2" name=""/>
          <p:cNvSpPr/>
          <p:nvPr/>
        </p:nvSpPr>
        <p:spPr>
          <a:xfrm>
            <a:off x="5578560" y="6469200"/>
            <a:ext cx="3054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3" name=""/>
          <p:cNvSpPr/>
          <p:nvPr/>
        </p:nvSpPr>
        <p:spPr>
          <a:xfrm flipV="1">
            <a:off x="5402160" y="6340320"/>
            <a:ext cx="138240" cy="25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4" name=""/>
          <p:cNvSpPr/>
          <p:nvPr/>
        </p:nvSpPr>
        <p:spPr>
          <a:xfrm flipV="1">
            <a:off x="5500800" y="6340320"/>
            <a:ext cx="137880" cy="25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5" name=""/>
          <p:cNvSpPr txBox="1"/>
          <p:nvPr/>
        </p:nvSpPr>
        <p:spPr>
          <a:xfrm>
            <a:off x="6083280" y="6507000"/>
            <a:ext cx="19684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loyable Comm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6" name=""/>
          <p:cNvGrpSpPr/>
          <p:nvPr/>
        </p:nvGrpSpPr>
        <p:grpSpPr>
          <a:xfrm>
            <a:off x="6726240" y="4776840"/>
            <a:ext cx="290880" cy="383040"/>
            <a:chOff x="6726240" y="4776840"/>
            <a:chExt cx="290880" cy="383040"/>
          </a:xfrm>
        </p:grpSpPr>
        <p:sp>
          <p:nvSpPr>
            <p:cNvPr id="7227" name=""/>
            <p:cNvSpPr/>
            <p:nvPr/>
          </p:nvSpPr>
          <p:spPr>
            <a:xfrm>
              <a:off x="6856560" y="4905360"/>
              <a:ext cx="160560" cy="254520"/>
            </a:xfrm>
            <a:custGeom>
              <a:avLst/>
              <a:gdLst/>
              <a:ahLst/>
              <a:rect l="0" t="0" r="r" b="b"/>
              <a:pathLst>
                <a:path fill="none" w="446" h="707">
                  <a:moveTo>
                    <a:pt x="0" y="707"/>
                  </a:moveTo>
                  <a:lnTo>
                    <a:pt x="446" y="707"/>
                  </a:lnTo>
                  <a:lnTo>
                    <a:pt x="222" y="0"/>
                  </a:lnTo>
                  <a:lnTo>
                    <a:pt x="0" y="70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8" name=""/>
            <p:cNvGrpSpPr/>
            <p:nvPr/>
          </p:nvGrpSpPr>
          <p:grpSpPr>
            <a:xfrm>
              <a:off x="6807240" y="4776840"/>
              <a:ext cx="176400" cy="273240"/>
              <a:chOff x="6807240" y="4776840"/>
              <a:chExt cx="176400" cy="273240"/>
            </a:xfrm>
          </p:grpSpPr>
          <p:sp>
            <p:nvSpPr>
              <p:cNvPr id="7229" name=""/>
              <p:cNvSpPr/>
              <p:nvPr/>
            </p:nvSpPr>
            <p:spPr>
              <a:xfrm>
                <a:off x="6807240" y="4778280"/>
                <a:ext cx="176400" cy="271800"/>
              </a:xfrm>
              <a:custGeom>
                <a:avLst/>
                <a:gdLst/>
                <a:ahLst/>
                <a:rect l="0" t="0" r="r" b="b"/>
                <a:pathLst>
                  <a:path fill="none" w="490" h="755">
                    <a:moveTo>
                      <a:pt x="475" y="23"/>
                    </a:moveTo>
                    <a:lnTo>
                      <a:pt x="478" y="47"/>
                    </a:lnTo>
                    <a:lnTo>
                      <a:pt x="484" y="76"/>
                    </a:lnTo>
                    <a:lnTo>
                      <a:pt x="490" y="103"/>
                    </a:lnTo>
                    <a:lnTo>
                      <a:pt x="490" y="133"/>
                    </a:lnTo>
                    <a:lnTo>
                      <a:pt x="484" y="171"/>
                    </a:lnTo>
                    <a:lnTo>
                      <a:pt x="475" y="218"/>
                    </a:lnTo>
                    <a:lnTo>
                      <a:pt x="463" y="275"/>
                    </a:lnTo>
                    <a:lnTo>
                      <a:pt x="445" y="331"/>
                    </a:lnTo>
                    <a:lnTo>
                      <a:pt x="420" y="394"/>
                    </a:lnTo>
                    <a:lnTo>
                      <a:pt x="375" y="462"/>
                    </a:lnTo>
                    <a:lnTo>
                      <a:pt x="327" y="530"/>
                    </a:lnTo>
                    <a:lnTo>
                      <a:pt x="288" y="574"/>
                    </a:lnTo>
                    <a:lnTo>
                      <a:pt x="238" y="621"/>
                    </a:lnTo>
                    <a:lnTo>
                      <a:pt x="184" y="666"/>
                    </a:lnTo>
                    <a:lnTo>
                      <a:pt x="142" y="701"/>
                    </a:lnTo>
                    <a:lnTo>
                      <a:pt x="96" y="725"/>
                    </a:lnTo>
                    <a:lnTo>
                      <a:pt x="63" y="740"/>
                    </a:lnTo>
                    <a:lnTo>
                      <a:pt x="39" y="755"/>
                    </a:lnTo>
                    <a:lnTo>
                      <a:pt x="15" y="755"/>
                    </a:lnTo>
                    <a:lnTo>
                      <a:pt x="0" y="743"/>
                    </a:lnTo>
                    <a:lnTo>
                      <a:pt x="454" y="0"/>
                    </a:lnTo>
                    <a:lnTo>
                      <a:pt x="475" y="2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6807240" y="4776840"/>
                <a:ext cx="165600" cy="268560"/>
              </a:xfrm>
              <a:custGeom>
                <a:avLst/>
                <a:gdLst/>
                <a:ahLst/>
                <a:rect l="0" t="0" r="r" b="b"/>
                <a:pathLst>
                  <a:path fill="none" w="460" h="746">
                    <a:moveTo>
                      <a:pt x="454" y="0"/>
                    </a:moveTo>
                    <a:lnTo>
                      <a:pt x="460" y="11"/>
                    </a:lnTo>
                    <a:lnTo>
                      <a:pt x="460" y="47"/>
                    </a:lnTo>
                    <a:lnTo>
                      <a:pt x="460" y="88"/>
                    </a:lnTo>
                    <a:lnTo>
                      <a:pt x="454" y="115"/>
                    </a:lnTo>
                    <a:lnTo>
                      <a:pt x="451" y="153"/>
                    </a:lnTo>
                    <a:lnTo>
                      <a:pt x="439" y="204"/>
                    </a:lnTo>
                    <a:lnTo>
                      <a:pt x="430" y="254"/>
                    </a:lnTo>
                    <a:lnTo>
                      <a:pt x="409" y="316"/>
                    </a:lnTo>
                    <a:lnTo>
                      <a:pt x="376" y="388"/>
                    </a:lnTo>
                    <a:lnTo>
                      <a:pt x="332" y="444"/>
                    </a:lnTo>
                    <a:lnTo>
                      <a:pt x="287" y="506"/>
                    </a:lnTo>
                    <a:lnTo>
                      <a:pt x="248" y="556"/>
                    </a:lnTo>
                    <a:lnTo>
                      <a:pt x="221" y="586"/>
                    </a:lnTo>
                    <a:lnTo>
                      <a:pt x="191" y="616"/>
                    </a:lnTo>
                    <a:lnTo>
                      <a:pt x="160" y="642"/>
                    </a:lnTo>
                    <a:lnTo>
                      <a:pt x="127" y="675"/>
                    </a:lnTo>
                    <a:lnTo>
                      <a:pt x="96" y="695"/>
                    </a:lnTo>
                    <a:lnTo>
                      <a:pt x="69" y="713"/>
                    </a:lnTo>
                    <a:lnTo>
                      <a:pt x="45" y="728"/>
                    </a:lnTo>
                    <a:lnTo>
                      <a:pt x="18" y="743"/>
                    </a:lnTo>
                    <a:lnTo>
                      <a:pt x="6" y="746"/>
                    </a:lnTo>
                    <a:lnTo>
                      <a:pt x="0" y="734"/>
                    </a:lnTo>
                    <a:lnTo>
                      <a:pt x="0" y="719"/>
                    </a:lnTo>
                    <a:lnTo>
                      <a:pt x="6" y="704"/>
                    </a:lnTo>
                    <a:lnTo>
                      <a:pt x="9" y="669"/>
                    </a:lnTo>
                    <a:lnTo>
                      <a:pt x="18" y="630"/>
                    </a:lnTo>
                    <a:lnTo>
                      <a:pt x="24" y="592"/>
                    </a:lnTo>
                    <a:lnTo>
                      <a:pt x="39" y="548"/>
                    </a:lnTo>
                    <a:lnTo>
                      <a:pt x="54" y="500"/>
                    </a:lnTo>
                    <a:lnTo>
                      <a:pt x="69" y="465"/>
                    </a:lnTo>
                    <a:lnTo>
                      <a:pt x="84" y="429"/>
                    </a:lnTo>
                    <a:lnTo>
                      <a:pt x="102" y="391"/>
                    </a:lnTo>
                    <a:lnTo>
                      <a:pt x="127" y="348"/>
                    </a:lnTo>
                    <a:lnTo>
                      <a:pt x="151" y="310"/>
                    </a:lnTo>
                    <a:lnTo>
                      <a:pt x="191" y="257"/>
                    </a:lnTo>
                    <a:lnTo>
                      <a:pt x="221" y="221"/>
                    </a:lnTo>
                    <a:lnTo>
                      <a:pt x="260" y="174"/>
                    </a:lnTo>
                    <a:lnTo>
                      <a:pt x="299" y="136"/>
                    </a:lnTo>
                    <a:lnTo>
                      <a:pt x="332" y="103"/>
                    </a:lnTo>
                    <a:lnTo>
                      <a:pt x="367" y="70"/>
                    </a:lnTo>
                    <a:lnTo>
                      <a:pt x="397" y="41"/>
                    </a:lnTo>
                    <a:lnTo>
                      <a:pt x="415" y="23"/>
                    </a:lnTo>
                    <a:lnTo>
                      <a:pt x="439" y="8"/>
                    </a:lnTo>
                    <a:lnTo>
                      <a:pt x="454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1" name=""/>
            <p:cNvSpPr/>
            <p:nvPr/>
          </p:nvSpPr>
          <p:spPr>
            <a:xfrm>
              <a:off x="6797520" y="4782960"/>
              <a:ext cx="51120" cy="184680"/>
            </a:xfrm>
            <a:custGeom>
              <a:avLst/>
              <a:gdLst/>
              <a:ahLst/>
              <a:rect l="0" t="0" r="r" b="b"/>
              <a:pathLst>
                <a:path fill="none" w="142" h="513">
                  <a:moveTo>
                    <a:pt x="142" y="513"/>
                  </a:moveTo>
                  <a:lnTo>
                    <a:pt x="0" y="513"/>
                  </a:lnTo>
                  <a:lnTo>
                    <a:pt x="70" y="0"/>
                  </a:lnTo>
                  <a:lnTo>
                    <a:pt x="142" y="5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6726240" y="4819680"/>
              <a:ext cx="63360" cy="2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3" name=""/>
          <p:cNvSpPr txBox="1"/>
          <p:nvPr/>
        </p:nvSpPr>
        <p:spPr>
          <a:xfrm>
            <a:off x="7348680" y="5446800"/>
            <a:ext cx="2826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4" name=""/>
          <p:cNvSpPr txBox="1"/>
          <p:nvPr/>
        </p:nvSpPr>
        <p:spPr>
          <a:xfrm>
            <a:off x="5900760" y="5651640"/>
            <a:ext cx="219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5" name="" descr=""/>
          <p:cNvPicPr/>
          <p:nvPr/>
        </p:nvPicPr>
        <p:blipFill>
          <a:blip r:embed="rId10"/>
          <a:stretch/>
        </p:blipFill>
        <p:spPr>
          <a:xfrm>
            <a:off x="5135400" y="5361120"/>
            <a:ext cx="673200" cy="476280"/>
          </a:xfrm>
          <a:prstGeom prst="rect">
            <a:avLst/>
          </a:prstGeom>
          <a:ln w="0">
            <a:noFill/>
          </a:ln>
        </p:spPr>
      </p:pic>
      <p:pic>
        <p:nvPicPr>
          <p:cNvPr id="7236" name="" descr=""/>
          <p:cNvPicPr/>
          <p:nvPr/>
        </p:nvPicPr>
        <p:blipFill>
          <a:blip r:embed="rId11"/>
          <a:stretch/>
        </p:blipFill>
        <p:spPr>
          <a:xfrm>
            <a:off x="6588000" y="5257800"/>
            <a:ext cx="673200" cy="476280"/>
          </a:xfrm>
          <a:prstGeom prst="rect">
            <a:avLst/>
          </a:prstGeom>
          <a:ln w="0">
            <a:noFill/>
          </a:ln>
        </p:spPr>
      </p:pic>
      <p:sp>
        <p:nvSpPr>
          <p:cNvPr id="7237" name=""/>
          <p:cNvSpPr/>
          <p:nvPr/>
        </p:nvSpPr>
        <p:spPr>
          <a:xfrm>
            <a:off x="2063880" y="1876320"/>
            <a:ext cx="6775920" cy="3762720"/>
          </a:xfrm>
          <a:custGeom>
            <a:avLst/>
            <a:gdLst/>
            <a:ahLst/>
            <a:rect l="0" t="0" r="r" b="b"/>
            <a:pathLst>
              <a:path fill="none" w="18822" h="10452">
                <a:moveTo>
                  <a:pt x="14783" y="0"/>
                </a:moveTo>
                <a:lnTo>
                  <a:pt x="18822" y="8595"/>
                </a:lnTo>
                <a:lnTo>
                  <a:pt x="16119" y="8595"/>
                </a:lnTo>
                <a:lnTo>
                  <a:pt x="16119" y="10452"/>
                </a:lnTo>
                <a:lnTo>
                  <a:pt x="0" y="8238"/>
                </a:lnTo>
                <a:lnTo>
                  <a:pt x="14818" y="8238"/>
                </a:lnTo>
                <a:lnTo>
                  <a:pt x="14783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8" name=""/>
          <p:cNvSpPr/>
          <p:nvPr/>
        </p:nvSpPr>
        <p:spPr>
          <a:xfrm>
            <a:off x="7866000" y="4970520"/>
            <a:ext cx="961920" cy="67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9" name="" descr=""/>
          <p:cNvPicPr/>
          <p:nvPr/>
        </p:nvPicPr>
        <p:blipFill>
          <a:blip r:embed="rId12"/>
          <a:stretch/>
        </p:blipFill>
        <p:spPr>
          <a:xfrm>
            <a:off x="7994520" y="5114880"/>
            <a:ext cx="463680" cy="365040"/>
          </a:xfrm>
          <a:prstGeom prst="rect">
            <a:avLst/>
          </a:prstGeom>
          <a:ln w="0">
            <a:noFill/>
          </a:ln>
        </p:spPr>
      </p:pic>
      <p:sp>
        <p:nvSpPr>
          <p:cNvPr id="7240" name=""/>
          <p:cNvSpPr txBox="1"/>
          <p:nvPr/>
        </p:nvSpPr>
        <p:spPr>
          <a:xfrm>
            <a:off x="8464680" y="5221440"/>
            <a:ext cx="2890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1" name=""/>
          <p:cNvSpPr txBox="1"/>
          <p:nvPr/>
        </p:nvSpPr>
        <p:spPr>
          <a:xfrm>
            <a:off x="2073240" y="1887480"/>
            <a:ext cx="5334120" cy="296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tion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 Downlink “Bit Stream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ilter Information Per CINC / End User Pro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isseminate Information to CINCs / En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cess User Queries (Pull, Retransmission, Rekey, etc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isplay Program 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dentify “Missed” Files (SBM Transmit vs. RBM Receive Recor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rchiv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fac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eceiver Termin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INCs / En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ployable Communications Infrastructure (e.g., TASDAC, MS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ISN / DI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2" name="" descr=""/>
          <p:cNvPicPr/>
          <p:nvPr/>
        </p:nvPicPr>
        <p:blipFill>
          <a:blip r:embed="rId13"/>
          <a:stretch/>
        </p:blipFill>
        <p:spPr>
          <a:xfrm>
            <a:off x="7261200" y="5803920"/>
            <a:ext cx="477720" cy="338040"/>
          </a:xfrm>
          <a:prstGeom prst="rect">
            <a:avLst/>
          </a:prstGeom>
          <a:ln w="0">
            <a:noFill/>
          </a:ln>
        </p:spPr>
      </p:pic>
      <p:sp>
        <p:nvSpPr>
          <p:cNvPr id="7243" name=""/>
          <p:cNvSpPr/>
          <p:nvPr/>
        </p:nvSpPr>
        <p:spPr>
          <a:xfrm>
            <a:off x="7396200" y="4832280"/>
            <a:ext cx="450720" cy="80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4" name=""/>
          <p:cNvSpPr/>
          <p:nvPr/>
        </p:nvSpPr>
        <p:spPr>
          <a:xfrm>
            <a:off x="7396200" y="1925640"/>
            <a:ext cx="484200" cy="305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5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6" name=""/>
          <p:cNvSpPr txBox="1"/>
          <p:nvPr/>
        </p:nvSpPr>
        <p:spPr>
          <a:xfrm>
            <a:off x="639720" y="1233360"/>
            <a:ext cx="78645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BS Broadcast Management is on a Fast Track to Deliver an Operational Capability in Earl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vernment Needs Industry’s Help to Define Innovative Acquisition Approaches and Cost Effective Technical Solutions for GBS Broadcas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7" name=""/>
          <p:cNvSpPr txBox="1"/>
          <p:nvPr/>
        </p:nvSpPr>
        <p:spPr>
          <a:xfrm>
            <a:off x="882720" y="4586400"/>
            <a:ext cx="7378560" cy="90972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Welcome Your Inputs and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al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TC Ludw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0" name=""/>
          <p:cNvSpPr txBox="1"/>
          <p:nvPr/>
        </p:nvSpPr>
        <p:spPr>
          <a:xfrm>
            <a:off x="5757840" y="3771720"/>
            <a:ext cx="239544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erminal planning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Procurement of broadcast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r-service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1" name=""/>
          <p:cNvSpPr txBox="1"/>
          <p:nvPr/>
        </p:nvSpPr>
        <p:spPr>
          <a:xfrm>
            <a:off x="382680" y="4060800"/>
            <a:ext cx="259704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Architecture Development/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Requirements/CONOP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Spec’s IC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End-end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2" name=""/>
          <p:cNvSpPr txBox="1"/>
          <p:nvPr/>
        </p:nvSpPr>
        <p:spPr>
          <a:xfrm>
            <a:off x="3056040" y="4060800"/>
            <a:ext cx="1843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fo Broadcast Mgt 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rface into DI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>
            <a:off x="3429000" y="1295280"/>
            <a:ext cx="2209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4" name=""/>
          <p:cNvSpPr txBox="1"/>
          <p:nvPr/>
        </p:nvSpPr>
        <p:spPr>
          <a:xfrm>
            <a:off x="3352680" y="1371600"/>
            <a:ext cx="236232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or - SMC/M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G Kwiatkow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5" name=""/>
          <p:cNvSpPr/>
          <p:nvPr/>
        </p:nvSpPr>
        <p:spPr>
          <a:xfrm>
            <a:off x="380880" y="304812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6" name=""/>
          <p:cNvSpPr/>
          <p:nvPr/>
        </p:nvSpPr>
        <p:spPr>
          <a:xfrm>
            <a:off x="441972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7" name=""/>
          <p:cNvSpPr txBox="1"/>
          <p:nvPr/>
        </p:nvSpPr>
        <p:spPr>
          <a:xfrm>
            <a:off x="3433680" y="1905120"/>
            <a:ext cx="2281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R Ayotte (ac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8" name=""/>
          <p:cNvSpPr/>
          <p:nvPr/>
        </p:nvSpPr>
        <p:spPr>
          <a:xfrm>
            <a:off x="1625760" y="2819520"/>
            <a:ext cx="5689800" cy="228960"/>
          </a:xfrm>
          <a:custGeom>
            <a:avLst/>
            <a:gdLst/>
            <a:ahLst/>
            <a:rect l="0" t="0" r="r" b="b"/>
            <a:pathLst>
              <a:path fill="none" w="15805" h="636">
                <a:moveTo>
                  <a:pt x="33" y="601"/>
                </a:moveTo>
                <a:lnTo>
                  <a:pt x="0" y="540"/>
                </a:lnTo>
                <a:lnTo>
                  <a:pt x="0" y="0"/>
                </a:lnTo>
                <a:lnTo>
                  <a:pt x="15771" y="0"/>
                </a:lnTo>
                <a:lnTo>
                  <a:pt x="15771" y="636"/>
                </a:lnTo>
                <a:lnTo>
                  <a:pt x="15805" y="61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9" name=""/>
          <p:cNvSpPr txBox="1"/>
          <p:nvPr/>
        </p:nvSpPr>
        <p:spPr>
          <a:xfrm>
            <a:off x="484200" y="3200400"/>
            <a:ext cx="241128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s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C Howard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0" name=""/>
          <p:cNvSpPr txBox="1"/>
          <p:nvPr/>
        </p:nvSpPr>
        <p:spPr>
          <a:xfrm>
            <a:off x="6680160" y="3200400"/>
            <a:ext cx="1320840" cy="11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l Proc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C Ludwig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1" name=""/>
          <p:cNvSpPr txBox="1"/>
          <p:nvPr/>
        </p:nvSpPr>
        <p:spPr>
          <a:xfrm>
            <a:off x="3179880" y="3124080"/>
            <a:ext cx="2479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adcas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t Col Troxel (US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2" name=""/>
          <p:cNvSpPr/>
          <p:nvPr/>
        </p:nvSpPr>
        <p:spPr>
          <a:xfrm>
            <a:off x="3429000" y="1981080"/>
            <a:ext cx="220968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3" name=""/>
          <p:cNvSpPr/>
          <p:nvPr/>
        </p:nvSpPr>
        <p:spPr>
          <a:xfrm>
            <a:off x="3162240" y="304812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4" name=""/>
          <p:cNvSpPr/>
          <p:nvPr/>
        </p:nvSpPr>
        <p:spPr>
          <a:xfrm>
            <a:off x="5791320" y="3048120"/>
            <a:ext cx="3124080" cy="9144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5" name=""/>
          <p:cNvSpPr/>
          <p:nvPr/>
        </p:nvSpPr>
        <p:spPr>
          <a:xfrm>
            <a:off x="4419720" y="1828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6" name=""/>
          <p:cNvSpPr/>
          <p:nvPr/>
        </p:nvSpPr>
        <p:spPr>
          <a:xfrm>
            <a:off x="1714680" y="4933800"/>
            <a:ext cx="316224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7" name=""/>
          <p:cNvSpPr txBox="1"/>
          <p:nvPr/>
        </p:nvSpPr>
        <p:spPr>
          <a:xfrm>
            <a:off x="2112840" y="4876920"/>
            <a:ext cx="2479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shington Integration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T Lee (US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8" name=""/>
          <p:cNvSpPr/>
          <p:nvPr/>
        </p:nvSpPr>
        <p:spPr>
          <a:xfrm>
            <a:off x="3048120" y="2819520"/>
            <a:ext cx="2880" cy="214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9" name=""/>
          <p:cNvSpPr txBox="1"/>
          <p:nvPr/>
        </p:nvSpPr>
        <p:spPr>
          <a:xfrm>
            <a:off x="378000" y="177840"/>
            <a:ext cx="81216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JPO Functiona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You Should Walk Awa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513400" y="1155600"/>
            <a:ext cx="2899080" cy="2670480"/>
            <a:chOff x="5513400" y="1155600"/>
            <a:chExt cx="2899080" cy="2670480"/>
          </a:xfrm>
        </p:grpSpPr>
        <p:grpSp>
          <p:nvGrpSpPr>
            <p:cNvPr id="608" name=""/>
            <p:cNvGrpSpPr/>
            <p:nvPr/>
          </p:nvGrpSpPr>
          <p:grpSpPr>
            <a:xfrm>
              <a:off x="6380280" y="1832040"/>
              <a:ext cx="1496880" cy="1425600"/>
              <a:chOff x="6380280" y="1832040"/>
              <a:chExt cx="1496880" cy="1425600"/>
            </a:xfrm>
          </p:grpSpPr>
          <p:sp>
            <p:nvSpPr>
              <p:cNvPr id="609" name=""/>
              <p:cNvSpPr/>
              <p:nvPr/>
            </p:nvSpPr>
            <p:spPr>
              <a:xfrm>
                <a:off x="6380280" y="1832040"/>
                <a:ext cx="1496880" cy="142560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6554880" y="2039760"/>
                <a:ext cx="1099800" cy="873720"/>
                <a:chOff x="6554880" y="2039760"/>
                <a:chExt cx="1099800" cy="873720"/>
              </a:xfrm>
            </p:grpSpPr>
            <p:pic>
              <p:nvPicPr>
                <p:cNvPr id="61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554880" y="2039760"/>
                  <a:ext cx="4809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"/>
                <p:cNvSpPr/>
                <p:nvPr/>
              </p:nvSpPr>
              <p:spPr>
                <a:xfrm>
                  <a:off x="6834240" y="2130480"/>
                  <a:ext cx="0" cy="725400"/>
                </a:xfrm>
                <a:prstGeom prst="line">
                  <a:avLst/>
                </a:prstGeom>
                <a:ln w="12600">
                  <a:solidFill>
                    <a:srgbClr val="00b7a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834240" y="2130480"/>
                  <a:ext cx="782640" cy="442800"/>
                </a:xfrm>
                <a:prstGeom prst="line">
                  <a:avLst/>
                </a:prstGeom>
                <a:ln w="12600">
                  <a:solidFill>
                    <a:srgbClr val="00b7a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808680" y="2573280"/>
                  <a:ext cx="846000" cy="30636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00b7a5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88200" y="2643120"/>
                  <a:ext cx="166680" cy="128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05520" y="2730600"/>
                  <a:ext cx="196920" cy="139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17" name=""/>
                <p:cNvGrpSpPr/>
                <p:nvPr/>
              </p:nvGrpSpPr>
              <p:grpSpPr>
                <a:xfrm>
                  <a:off x="7112160" y="2744640"/>
                  <a:ext cx="177840" cy="168840"/>
                  <a:chOff x="7112160" y="2744640"/>
                  <a:chExt cx="177840" cy="1688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7112160" y="2744640"/>
                    <a:ext cx="78120" cy="13536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376">
                        <a:moveTo>
                          <a:pt x="90" y="55"/>
                        </a:moveTo>
                        <a:lnTo>
                          <a:pt x="80" y="59"/>
                        </a:lnTo>
                        <a:lnTo>
                          <a:pt x="70" y="68"/>
                        </a:lnTo>
                        <a:lnTo>
                          <a:pt x="55" y="77"/>
                        </a:lnTo>
                        <a:lnTo>
                          <a:pt x="48" y="100"/>
                        </a:lnTo>
                        <a:lnTo>
                          <a:pt x="39" y="128"/>
                        </a:lnTo>
                        <a:lnTo>
                          <a:pt x="37" y="140"/>
                        </a:lnTo>
                        <a:lnTo>
                          <a:pt x="39" y="155"/>
                        </a:lnTo>
                        <a:lnTo>
                          <a:pt x="34" y="155"/>
                        </a:lnTo>
                        <a:lnTo>
                          <a:pt x="38" y="166"/>
                        </a:lnTo>
                        <a:lnTo>
                          <a:pt x="0" y="185"/>
                        </a:lnTo>
                        <a:lnTo>
                          <a:pt x="5" y="196"/>
                        </a:lnTo>
                        <a:lnTo>
                          <a:pt x="46" y="179"/>
                        </a:lnTo>
                        <a:lnTo>
                          <a:pt x="50" y="182"/>
                        </a:lnTo>
                        <a:lnTo>
                          <a:pt x="59" y="207"/>
                        </a:lnTo>
                        <a:lnTo>
                          <a:pt x="71" y="214"/>
                        </a:lnTo>
                        <a:lnTo>
                          <a:pt x="66" y="224"/>
                        </a:lnTo>
                        <a:lnTo>
                          <a:pt x="66" y="235"/>
                        </a:lnTo>
                        <a:lnTo>
                          <a:pt x="77" y="252"/>
                        </a:lnTo>
                        <a:lnTo>
                          <a:pt x="77" y="262"/>
                        </a:lnTo>
                        <a:lnTo>
                          <a:pt x="72" y="285"/>
                        </a:lnTo>
                        <a:lnTo>
                          <a:pt x="72" y="302"/>
                        </a:lnTo>
                        <a:lnTo>
                          <a:pt x="77" y="312"/>
                        </a:lnTo>
                        <a:lnTo>
                          <a:pt x="85" y="322"/>
                        </a:lnTo>
                        <a:lnTo>
                          <a:pt x="87" y="337"/>
                        </a:lnTo>
                        <a:lnTo>
                          <a:pt x="86" y="348"/>
                        </a:lnTo>
                        <a:lnTo>
                          <a:pt x="79" y="358"/>
                        </a:lnTo>
                        <a:lnTo>
                          <a:pt x="68" y="367"/>
                        </a:lnTo>
                        <a:lnTo>
                          <a:pt x="77" y="376"/>
                        </a:lnTo>
                        <a:lnTo>
                          <a:pt x="96" y="372"/>
                        </a:lnTo>
                        <a:lnTo>
                          <a:pt x="108" y="360"/>
                        </a:lnTo>
                        <a:lnTo>
                          <a:pt x="113" y="350"/>
                        </a:lnTo>
                        <a:lnTo>
                          <a:pt x="112" y="341"/>
                        </a:lnTo>
                        <a:lnTo>
                          <a:pt x="115" y="328"/>
                        </a:lnTo>
                        <a:lnTo>
                          <a:pt x="116" y="319"/>
                        </a:lnTo>
                        <a:lnTo>
                          <a:pt x="117" y="313"/>
                        </a:lnTo>
                        <a:lnTo>
                          <a:pt x="120" y="312"/>
                        </a:lnTo>
                        <a:lnTo>
                          <a:pt x="120" y="337"/>
                        </a:lnTo>
                        <a:lnTo>
                          <a:pt x="125" y="350"/>
                        </a:lnTo>
                        <a:lnTo>
                          <a:pt x="139" y="351"/>
                        </a:lnTo>
                        <a:lnTo>
                          <a:pt x="142" y="332"/>
                        </a:lnTo>
                        <a:lnTo>
                          <a:pt x="142" y="320"/>
                        </a:lnTo>
                        <a:lnTo>
                          <a:pt x="135" y="311"/>
                        </a:lnTo>
                        <a:lnTo>
                          <a:pt x="137" y="301"/>
                        </a:lnTo>
                        <a:lnTo>
                          <a:pt x="144" y="292"/>
                        </a:lnTo>
                        <a:lnTo>
                          <a:pt x="151" y="283"/>
                        </a:lnTo>
                        <a:lnTo>
                          <a:pt x="154" y="268"/>
                        </a:lnTo>
                        <a:lnTo>
                          <a:pt x="157" y="250"/>
                        </a:lnTo>
                        <a:lnTo>
                          <a:pt x="165" y="238"/>
                        </a:lnTo>
                        <a:lnTo>
                          <a:pt x="167" y="221"/>
                        </a:lnTo>
                        <a:lnTo>
                          <a:pt x="166" y="213"/>
                        </a:lnTo>
                        <a:lnTo>
                          <a:pt x="173" y="205"/>
                        </a:lnTo>
                        <a:lnTo>
                          <a:pt x="175" y="196"/>
                        </a:lnTo>
                        <a:lnTo>
                          <a:pt x="175" y="183"/>
                        </a:lnTo>
                        <a:lnTo>
                          <a:pt x="175" y="171"/>
                        </a:lnTo>
                        <a:lnTo>
                          <a:pt x="167" y="165"/>
                        </a:lnTo>
                        <a:lnTo>
                          <a:pt x="165" y="157"/>
                        </a:lnTo>
                        <a:lnTo>
                          <a:pt x="175" y="151"/>
                        </a:lnTo>
                        <a:lnTo>
                          <a:pt x="184" y="143"/>
                        </a:lnTo>
                        <a:lnTo>
                          <a:pt x="199" y="143"/>
                        </a:lnTo>
                        <a:lnTo>
                          <a:pt x="214" y="128"/>
                        </a:lnTo>
                        <a:lnTo>
                          <a:pt x="217" y="113"/>
                        </a:lnTo>
                        <a:lnTo>
                          <a:pt x="210" y="101"/>
                        </a:lnTo>
                        <a:lnTo>
                          <a:pt x="199" y="90"/>
                        </a:lnTo>
                        <a:lnTo>
                          <a:pt x="187" y="75"/>
                        </a:lnTo>
                        <a:lnTo>
                          <a:pt x="164" y="57"/>
                        </a:lnTo>
                        <a:lnTo>
                          <a:pt x="149" y="50"/>
                        </a:lnTo>
                        <a:lnTo>
                          <a:pt x="135" y="48"/>
                        </a:lnTo>
                        <a:lnTo>
                          <a:pt x="131" y="48"/>
                        </a:lnTo>
                        <a:lnTo>
                          <a:pt x="133" y="35"/>
                        </a:lnTo>
                        <a:lnTo>
                          <a:pt x="133" y="22"/>
                        </a:lnTo>
                        <a:lnTo>
                          <a:pt x="129" y="10"/>
                        </a:lnTo>
                        <a:lnTo>
                          <a:pt x="122" y="1"/>
                        </a:lnTo>
                        <a:lnTo>
                          <a:pt x="115" y="0"/>
                        </a:lnTo>
                        <a:lnTo>
                          <a:pt x="101" y="0"/>
                        </a:lnTo>
                        <a:lnTo>
                          <a:pt x="92" y="1"/>
                        </a:lnTo>
                        <a:lnTo>
                          <a:pt x="84" y="9"/>
                        </a:lnTo>
                        <a:lnTo>
                          <a:pt x="81" y="17"/>
                        </a:lnTo>
                        <a:lnTo>
                          <a:pt x="80" y="28"/>
                        </a:lnTo>
                        <a:lnTo>
                          <a:pt x="77" y="35"/>
                        </a:lnTo>
                        <a:lnTo>
                          <a:pt x="83" y="37"/>
                        </a:lnTo>
                        <a:lnTo>
                          <a:pt x="92" y="52"/>
                        </a:lnTo>
                        <a:lnTo>
                          <a:pt x="90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137360" y="2771640"/>
                    <a:ext cx="76680" cy="135360"/>
                  </a:xfrm>
                  <a:custGeom>
                    <a:avLst/>
                    <a:gdLst/>
                    <a:ahLst/>
                    <a:rect l="0" t="0" r="r" b="b"/>
                    <a:pathLst>
                      <a:path w="213" h="376">
                        <a:moveTo>
                          <a:pt x="89" y="55"/>
                        </a:moveTo>
                        <a:lnTo>
                          <a:pt x="79" y="59"/>
                        </a:lnTo>
                        <a:lnTo>
                          <a:pt x="69" y="68"/>
                        </a:lnTo>
                        <a:lnTo>
                          <a:pt x="54" y="77"/>
                        </a:lnTo>
                        <a:lnTo>
                          <a:pt x="47" y="100"/>
                        </a:lnTo>
                        <a:lnTo>
                          <a:pt x="39" y="128"/>
                        </a:lnTo>
                        <a:lnTo>
                          <a:pt x="36" y="140"/>
                        </a:lnTo>
                        <a:lnTo>
                          <a:pt x="39" y="155"/>
                        </a:lnTo>
                        <a:lnTo>
                          <a:pt x="33" y="155"/>
                        </a:lnTo>
                        <a:lnTo>
                          <a:pt x="37" y="166"/>
                        </a:lnTo>
                        <a:lnTo>
                          <a:pt x="0" y="185"/>
                        </a:lnTo>
                        <a:lnTo>
                          <a:pt x="5" y="196"/>
                        </a:lnTo>
                        <a:lnTo>
                          <a:pt x="45" y="179"/>
                        </a:lnTo>
                        <a:lnTo>
                          <a:pt x="49" y="182"/>
                        </a:lnTo>
                        <a:lnTo>
                          <a:pt x="58" y="207"/>
                        </a:lnTo>
                        <a:lnTo>
                          <a:pt x="71" y="214"/>
                        </a:lnTo>
                        <a:lnTo>
                          <a:pt x="66" y="224"/>
                        </a:lnTo>
                        <a:lnTo>
                          <a:pt x="66" y="235"/>
                        </a:lnTo>
                        <a:lnTo>
                          <a:pt x="77" y="252"/>
                        </a:lnTo>
                        <a:lnTo>
                          <a:pt x="77" y="262"/>
                        </a:lnTo>
                        <a:lnTo>
                          <a:pt x="72" y="285"/>
                        </a:lnTo>
                        <a:lnTo>
                          <a:pt x="72" y="302"/>
                        </a:lnTo>
                        <a:lnTo>
                          <a:pt x="77" y="312"/>
                        </a:lnTo>
                        <a:lnTo>
                          <a:pt x="84" y="322"/>
                        </a:lnTo>
                        <a:lnTo>
                          <a:pt x="86" y="337"/>
                        </a:lnTo>
                        <a:lnTo>
                          <a:pt x="85" y="348"/>
                        </a:lnTo>
                        <a:lnTo>
                          <a:pt x="79" y="358"/>
                        </a:lnTo>
                        <a:lnTo>
                          <a:pt x="67" y="367"/>
                        </a:lnTo>
                        <a:lnTo>
                          <a:pt x="76" y="376"/>
                        </a:lnTo>
                        <a:lnTo>
                          <a:pt x="95" y="372"/>
                        </a:lnTo>
                        <a:lnTo>
                          <a:pt x="107" y="360"/>
                        </a:lnTo>
                        <a:lnTo>
                          <a:pt x="111" y="350"/>
                        </a:lnTo>
                        <a:lnTo>
                          <a:pt x="110" y="341"/>
                        </a:lnTo>
                        <a:lnTo>
                          <a:pt x="112" y="328"/>
                        </a:lnTo>
                        <a:lnTo>
                          <a:pt x="114" y="319"/>
                        </a:lnTo>
                        <a:lnTo>
                          <a:pt x="115" y="313"/>
                        </a:lnTo>
                        <a:lnTo>
                          <a:pt x="117" y="312"/>
                        </a:lnTo>
                        <a:lnTo>
                          <a:pt x="117" y="337"/>
                        </a:lnTo>
                        <a:lnTo>
                          <a:pt x="123" y="350"/>
                        </a:lnTo>
                        <a:lnTo>
                          <a:pt x="136" y="351"/>
                        </a:lnTo>
                        <a:lnTo>
                          <a:pt x="139" y="332"/>
                        </a:lnTo>
                        <a:lnTo>
                          <a:pt x="139" y="320"/>
                        </a:lnTo>
                        <a:lnTo>
                          <a:pt x="133" y="311"/>
                        </a:lnTo>
                        <a:lnTo>
                          <a:pt x="134" y="301"/>
                        </a:lnTo>
                        <a:lnTo>
                          <a:pt x="141" y="292"/>
                        </a:lnTo>
                        <a:lnTo>
                          <a:pt x="148" y="283"/>
                        </a:lnTo>
                        <a:lnTo>
                          <a:pt x="151" y="268"/>
                        </a:lnTo>
                        <a:lnTo>
                          <a:pt x="154" y="250"/>
                        </a:lnTo>
                        <a:lnTo>
                          <a:pt x="163" y="238"/>
                        </a:lnTo>
                        <a:lnTo>
                          <a:pt x="165" y="221"/>
                        </a:lnTo>
                        <a:lnTo>
                          <a:pt x="164" y="213"/>
                        </a:lnTo>
                        <a:lnTo>
                          <a:pt x="171" y="205"/>
                        </a:lnTo>
                        <a:lnTo>
                          <a:pt x="173" y="196"/>
                        </a:lnTo>
                        <a:lnTo>
                          <a:pt x="173" y="183"/>
                        </a:lnTo>
                        <a:lnTo>
                          <a:pt x="172" y="171"/>
                        </a:lnTo>
                        <a:lnTo>
                          <a:pt x="165" y="165"/>
                        </a:lnTo>
                        <a:lnTo>
                          <a:pt x="163" y="157"/>
                        </a:lnTo>
                        <a:lnTo>
                          <a:pt x="172" y="151"/>
                        </a:lnTo>
                        <a:lnTo>
                          <a:pt x="181" y="143"/>
                        </a:lnTo>
                        <a:lnTo>
                          <a:pt x="196" y="143"/>
                        </a:lnTo>
                        <a:lnTo>
                          <a:pt x="210" y="128"/>
                        </a:lnTo>
                        <a:lnTo>
                          <a:pt x="213" y="113"/>
                        </a:lnTo>
                        <a:lnTo>
                          <a:pt x="206" y="101"/>
                        </a:lnTo>
                        <a:lnTo>
                          <a:pt x="196" y="90"/>
                        </a:lnTo>
                        <a:lnTo>
                          <a:pt x="184" y="75"/>
                        </a:lnTo>
                        <a:lnTo>
                          <a:pt x="161" y="57"/>
                        </a:lnTo>
                        <a:lnTo>
                          <a:pt x="146" y="50"/>
                        </a:lnTo>
                        <a:lnTo>
                          <a:pt x="132" y="48"/>
                        </a:lnTo>
                        <a:lnTo>
                          <a:pt x="128" y="48"/>
                        </a:lnTo>
                        <a:lnTo>
                          <a:pt x="131" y="35"/>
                        </a:lnTo>
                        <a:lnTo>
                          <a:pt x="130" y="22"/>
                        </a:lnTo>
                        <a:lnTo>
                          <a:pt x="127" y="10"/>
                        </a:lnTo>
                        <a:lnTo>
                          <a:pt x="119" y="1"/>
                        </a:lnTo>
                        <a:lnTo>
                          <a:pt x="112" y="0"/>
                        </a:lnTo>
                        <a:lnTo>
                          <a:pt x="100" y="0"/>
                        </a:lnTo>
                        <a:lnTo>
                          <a:pt x="91" y="1"/>
                        </a:lnTo>
                        <a:lnTo>
                          <a:pt x="83" y="9"/>
                        </a:lnTo>
                        <a:lnTo>
                          <a:pt x="81" y="17"/>
                        </a:lnTo>
                        <a:lnTo>
                          <a:pt x="79" y="28"/>
                        </a:lnTo>
                        <a:lnTo>
                          <a:pt x="77" y="35"/>
                        </a:lnTo>
                        <a:lnTo>
                          <a:pt x="83" y="37"/>
                        </a:lnTo>
                        <a:lnTo>
                          <a:pt x="91" y="52"/>
                        </a:lnTo>
                        <a:lnTo>
                          <a:pt x="89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215120" y="2776680"/>
                    <a:ext cx="7488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8" h="380">
                        <a:moveTo>
                          <a:pt x="87" y="55"/>
                        </a:moveTo>
                        <a:lnTo>
                          <a:pt x="77" y="59"/>
                        </a:lnTo>
                        <a:lnTo>
                          <a:pt x="67" y="68"/>
                        </a:lnTo>
                        <a:lnTo>
                          <a:pt x="52" y="77"/>
                        </a:lnTo>
                        <a:lnTo>
                          <a:pt x="46" y="100"/>
                        </a:lnTo>
                        <a:lnTo>
                          <a:pt x="38" y="129"/>
                        </a:lnTo>
                        <a:lnTo>
                          <a:pt x="35" y="141"/>
                        </a:lnTo>
                        <a:lnTo>
                          <a:pt x="38" y="155"/>
                        </a:lnTo>
                        <a:lnTo>
                          <a:pt x="33" y="155"/>
                        </a:lnTo>
                        <a:lnTo>
                          <a:pt x="36" y="167"/>
                        </a:lnTo>
                        <a:lnTo>
                          <a:pt x="0" y="186"/>
                        </a:lnTo>
                        <a:lnTo>
                          <a:pt x="5" y="199"/>
                        </a:lnTo>
                        <a:lnTo>
                          <a:pt x="44" y="180"/>
                        </a:lnTo>
                        <a:lnTo>
                          <a:pt x="48" y="183"/>
                        </a:lnTo>
                        <a:lnTo>
                          <a:pt x="56" y="209"/>
                        </a:lnTo>
                        <a:lnTo>
                          <a:pt x="68" y="217"/>
                        </a:lnTo>
                        <a:lnTo>
                          <a:pt x="64" y="226"/>
                        </a:lnTo>
                        <a:lnTo>
                          <a:pt x="64" y="238"/>
                        </a:lnTo>
                        <a:lnTo>
                          <a:pt x="74" y="255"/>
                        </a:lnTo>
                        <a:lnTo>
                          <a:pt x="74" y="265"/>
                        </a:lnTo>
                        <a:lnTo>
                          <a:pt x="69" y="287"/>
                        </a:lnTo>
                        <a:lnTo>
                          <a:pt x="69" y="304"/>
                        </a:lnTo>
                        <a:lnTo>
                          <a:pt x="74" y="315"/>
                        </a:lnTo>
                        <a:lnTo>
                          <a:pt x="81" y="325"/>
                        </a:lnTo>
                        <a:lnTo>
                          <a:pt x="83" y="339"/>
                        </a:lnTo>
                        <a:lnTo>
                          <a:pt x="82" y="351"/>
                        </a:lnTo>
                        <a:lnTo>
                          <a:pt x="76" y="362"/>
                        </a:lnTo>
                        <a:lnTo>
                          <a:pt x="65" y="371"/>
                        </a:lnTo>
                        <a:lnTo>
                          <a:pt x="73" y="380"/>
                        </a:lnTo>
                        <a:lnTo>
                          <a:pt x="92" y="375"/>
                        </a:lnTo>
                        <a:lnTo>
                          <a:pt x="105" y="364"/>
                        </a:lnTo>
                        <a:lnTo>
                          <a:pt x="109" y="353"/>
                        </a:lnTo>
                        <a:lnTo>
                          <a:pt x="107" y="344"/>
                        </a:lnTo>
                        <a:lnTo>
                          <a:pt x="110" y="330"/>
                        </a:lnTo>
                        <a:lnTo>
                          <a:pt x="111" y="322"/>
                        </a:lnTo>
                        <a:lnTo>
                          <a:pt x="113" y="316"/>
                        </a:lnTo>
                        <a:lnTo>
                          <a:pt x="115" y="315"/>
                        </a:lnTo>
                        <a:lnTo>
                          <a:pt x="115" y="339"/>
                        </a:lnTo>
                        <a:lnTo>
                          <a:pt x="120" y="353"/>
                        </a:lnTo>
                        <a:lnTo>
                          <a:pt x="133" y="354"/>
                        </a:lnTo>
                        <a:lnTo>
                          <a:pt x="136" y="335"/>
                        </a:lnTo>
                        <a:lnTo>
                          <a:pt x="136" y="323"/>
                        </a:lnTo>
                        <a:lnTo>
                          <a:pt x="130" y="313"/>
                        </a:lnTo>
                        <a:lnTo>
                          <a:pt x="131" y="304"/>
                        </a:lnTo>
                        <a:lnTo>
                          <a:pt x="138" y="295"/>
                        </a:lnTo>
                        <a:lnTo>
                          <a:pt x="145" y="286"/>
                        </a:lnTo>
                        <a:lnTo>
                          <a:pt x="148" y="271"/>
                        </a:lnTo>
                        <a:lnTo>
                          <a:pt x="151" y="252"/>
                        </a:lnTo>
                        <a:lnTo>
                          <a:pt x="158" y="241"/>
                        </a:lnTo>
                        <a:lnTo>
                          <a:pt x="160" y="224"/>
                        </a:lnTo>
                        <a:lnTo>
                          <a:pt x="160" y="215"/>
                        </a:lnTo>
                        <a:lnTo>
                          <a:pt x="166" y="208"/>
                        </a:lnTo>
                        <a:lnTo>
                          <a:pt x="168" y="199"/>
                        </a:lnTo>
                        <a:lnTo>
                          <a:pt x="168" y="185"/>
                        </a:lnTo>
                        <a:lnTo>
                          <a:pt x="167" y="172"/>
                        </a:lnTo>
                        <a:lnTo>
                          <a:pt x="160" y="166"/>
                        </a:lnTo>
                        <a:lnTo>
                          <a:pt x="158" y="158"/>
                        </a:lnTo>
                        <a:lnTo>
                          <a:pt x="167" y="151"/>
                        </a:lnTo>
                        <a:lnTo>
                          <a:pt x="177" y="144"/>
                        </a:lnTo>
                        <a:lnTo>
                          <a:pt x="191" y="144"/>
                        </a:lnTo>
                        <a:lnTo>
                          <a:pt x="205" y="129"/>
                        </a:lnTo>
                        <a:lnTo>
                          <a:pt x="208" y="113"/>
                        </a:lnTo>
                        <a:lnTo>
                          <a:pt x="201" y="101"/>
                        </a:lnTo>
                        <a:lnTo>
                          <a:pt x="191" y="91"/>
                        </a:lnTo>
                        <a:lnTo>
                          <a:pt x="179" y="75"/>
                        </a:lnTo>
                        <a:lnTo>
                          <a:pt x="157" y="58"/>
                        </a:lnTo>
                        <a:lnTo>
                          <a:pt x="143" y="50"/>
                        </a:lnTo>
                        <a:lnTo>
                          <a:pt x="129" y="49"/>
                        </a:lnTo>
                        <a:lnTo>
                          <a:pt x="125" y="49"/>
                        </a:lnTo>
                        <a:lnTo>
                          <a:pt x="128" y="35"/>
                        </a:lnTo>
                        <a:lnTo>
                          <a:pt x="127" y="22"/>
                        </a:lnTo>
                        <a:lnTo>
                          <a:pt x="124" y="11"/>
                        </a:lnTo>
                        <a:lnTo>
                          <a:pt x="117" y="1"/>
                        </a:lnTo>
                        <a:lnTo>
                          <a:pt x="110" y="0"/>
                        </a:lnTo>
                        <a:lnTo>
                          <a:pt x="97" y="0"/>
                        </a:lnTo>
                        <a:lnTo>
                          <a:pt x="88" y="1"/>
                        </a:lnTo>
                        <a:lnTo>
                          <a:pt x="81" y="9"/>
                        </a:lnTo>
                        <a:lnTo>
                          <a:pt x="78" y="17"/>
                        </a:lnTo>
                        <a:lnTo>
                          <a:pt x="77" y="29"/>
                        </a:lnTo>
                        <a:lnTo>
                          <a:pt x="74" y="35"/>
                        </a:lnTo>
                        <a:lnTo>
                          <a:pt x="80" y="38"/>
                        </a:lnTo>
                        <a:lnTo>
                          <a:pt x="88" y="53"/>
                        </a:lnTo>
                        <a:lnTo>
                          <a:pt x="87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2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54840" y="2573280"/>
                  <a:ext cx="246240" cy="13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24840" y="2536920"/>
                  <a:ext cx="41904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23" name=""/>
            <p:cNvGrpSpPr/>
            <p:nvPr/>
          </p:nvGrpSpPr>
          <p:grpSpPr>
            <a:xfrm>
              <a:off x="5513400" y="1155600"/>
              <a:ext cx="2899080" cy="2670480"/>
              <a:chOff x="5513400" y="1155600"/>
              <a:chExt cx="2899080" cy="2670480"/>
            </a:xfrm>
          </p:grpSpPr>
          <p:sp>
            <p:nvSpPr>
              <p:cNvPr id="624" name=""/>
              <p:cNvSpPr/>
              <p:nvPr/>
            </p:nvSpPr>
            <p:spPr>
              <a:xfrm>
                <a:off x="5861160" y="2801880"/>
                <a:ext cx="2227680" cy="1024200"/>
              </a:xfrm>
              <a:custGeom>
                <a:avLst/>
                <a:gdLst/>
                <a:ahLst/>
                <a:rect l="0" t="0" r="r" b="b"/>
                <a:pathLst>
                  <a:path w="6188" h="2845">
                    <a:moveTo>
                      <a:pt x="2405" y="2589"/>
                    </a:moveTo>
                    <a:lnTo>
                      <a:pt x="2473" y="2610"/>
                    </a:lnTo>
                    <a:lnTo>
                      <a:pt x="2563" y="2636"/>
                    </a:lnTo>
                    <a:lnTo>
                      <a:pt x="2649" y="2654"/>
                    </a:lnTo>
                    <a:lnTo>
                      <a:pt x="2713" y="2673"/>
                    </a:lnTo>
                    <a:lnTo>
                      <a:pt x="2792" y="2684"/>
                    </a:lnTo>
                    <a:lnTo>
                      <a:pt x="2867" y="2698"/>
                    </a:lnTo>
                    <a:lnTo>
                      <a:pt x="2942" y="2717"/>
                    </a:lnTo>
                    <a:lnTo>
                      <a:pt x="3017" y="2724"/>
                    </a:lnTo>
                    <a:lnTo>
                      <a:pt x="3100" y="2728"/>
                    </a:lnTo>
                    <a:lnTo>
                      <a:pt x="3193" y="2742"/>
                    </a:lnTo>
                    <a:lnTo>
                      <a:pt x="3280" y="2746"/>
                    </a:lnTo>
                    <a:lnTo>
                      <a:pt x="3362" y="2750"/>
                    </a:lnTo>
                    <a:lnTo>
                      <a:pt x="3452" y="2753"/>
                    </a:lnTo>
                    <a:lnTo>
                      <a:pt x="3546" y="2753"/>
                    </a:lnTo>
                    <a:lnTo>
                      <a:pt x="3625" y="2753"/>
                    </a:lnTo>
                    <a:lnTo>
                      <a:pt x="3704" y="2735"/>
                    </a:lnTo>
                    <a:lnTo>
                      <a:pt x="3779" y="2739"/>
                    </a:lnTo>
                    <a:lnTo>
                      <a:pt x="3857" y="2724"/>
                    </a:lnTo>
                    <a:lnTo>
                      <a:pt x="3936" y="2720"/>
                    </a:lnTo>
                    <a:lnTo>
                      <a:pt x="4030" y="2709"/>
                    </a:lnTo>
                    <a:lnTo>
                      <a:pt x="4120" y="2691"/>
                    </a:lnTo>
                    <a:lnTo>
                      <a:pt x="4199" y="2676"/>
                    </a:lnTo>
                    <a:lnTo>
                      <a:pt x="4274" y="2665"/>
                    </a:lnTo>
                    <a:lnTo>
                      <a:pt x="4405" y="2632"/>
                    </a:lnTo>
                    <a:lnTo>
                      <a:pt x="4529" y="2600"/>
                    </a:lnTo>
                    <a:lnTo>
                      <a:pt x="4661" y="2559"/>
                    </a:lnTo>
                    <a:lnTo>
                      <a:pt x="4785" y="2504"/>
                    </a:lnTo>
                    <a:lnTo>
                      <a:pt x="4879" y="2471"/>
                    </a:lnTo>
                    <a:lnTo>
                      <a:pt x="4984" y="2424"/>
                    </a:lnTo>
                    <a:lnTo>
                      <a:pt x="5108" y="2373"/>
                    </a:lnTo>
                    <a:lnTo>
                      <a:pt x="5205" y="2314"/>
                    </a:lnTo>
                    <a:lnTo>
                      <a:pt x="5314" y="2252"/>
                    </a:lnTo>
                    <a:lnTo>
                      <a:pt x="5438" y="2182"/>
                    </a:lnTo>
                    <a:lnTo>
                      <a:pt x="5892" y="2845"/>
                    </a:lnTo>
                    <a:lnTo>
                      <a:pt x="6188" y="724"/>
                    </a:lnTo>
                    <a:lnTo>
                      <a:pt x="4011" y="117"/>
                    </a:lnTo>
                    <a:lnTo>
                      <a:pt x="4503" y="812"/>
                    </a:lnTo>
                    <a:lnTo>
                      <a:pt x="4398" y="860"/>
                    </a:lnTo>
                    <a:lnTo>
                      <a:pt x="4308" y="900"/>
                    </a:lnTo>
                    <a:lnTo>
                      <a:pt x="4206" y="940"/>
                    </a:lnTo>
                    <a:lnTo>
                      <a:pt x="4120" y="973"/>
                    </a:lnTo>
                    <a:lnTo>
                      <a:pt x="4038" y="1002"/>
                    </a:lnTo>
                    <a:lnTo>
                      <a:pt x="3966" y="1028"/>
                    </a:lnTo>
                    <a:lnTo>
                      <a:pt x="3880" y="1050"/>
                    </a:lnTo>
                    <a:lnTo>
                      <a:pt x="3786" y="1068"/>
                    </a:lnTo>
                    <a:lnTo>
                      <a:pt x="3681" y="1079"/>
                    </a:lnTo>
                    <a:lnTo>
                      <a:pt x="3595" y="1098"/>
                    </a:lnTo>
                    <a:lnTo>
                      <a:pt x="3527" y="1098"/>
                    </a:lnTo>
                    <a:lnTo>
                      <a:pt x="3415" y="1101"/>
                    </a:lnTo>
                    <a:lnTo>
                      <a:pt x="3321" y="1098"/>
                    </a:lnTo>
                    <a:lnTo>
                      <a:pt x="3253" y="1090"/>
                    </a:lnTo>
                    <a:lnTo>
                      <a:pt x="3171" y="1079"/>
                    </a:lnTo>
                    <a:lnTo>
                      <a:pt x="3062" y="1057"/>
                    </a:lnTo>
                    <a:lnTo>
                      <a:pt x="2957" y="1028"/>
                    </a:lnTo>
                    <a:lnTo>
                      <a:pt x="2856" y="988"/>
                    </a:lnTo>
                    <a:lnTo>
                      <a:pt x="2706" y="926"/>
                    </a:lnTo>
                    <a:lnTo>
                      <a:pt x="2526" y="841"/>
                    </a:lnTo>
                    <a:lnTo>
                      <a:pt x="2383" y="754"/>
                    </a:lnTo>
                    <a:lnTo>
                      <a:pt x="2270" y="651"/>
                    </a:lnTo>
                    <a:lnTo>
                      <a:pt x="2139" y="545"/>
                    </a:lnTo>
                    <a:lnTo>
                      <a:pt x="2045" y="420"/>
                    </a:lnTo>
                    <a:lnTo>
                      <a:pt x="1933" y="300"/>
                    </a:lnTo>
                    <a:lnTo>
                      <a:pt x="1854" y="164"/>
                    </a:lnTo>
                    <a:lnTo>
                      <a:pt x="1783" y="0"/>
                    </a:lnTo>
                    <a:lnTo>
                      <a:pt x="0" y="124"/>
                    </a:lnTo>
                    <a:lnTo>
                      <a:pt x="30" y="219"/>
                    </a:lnTo>
                    <a:lnTo>
                      <a:pt x="71" y="329"/>
                    </a:lnTo>
                    <a:lnTo>
                      <a:pt x="101" y="428"/>
                    </a:lnTo>
                    <a:lnTo>
                      <a:pt x="142" y="523"/>
                    </a:lnTo>
                    <a:lnTo>
                      <a:pt x="180" y="618"/>
                    </a:lnTo>
                    <a:lnTo>
                      <a:pt x="225" y="724"/>
                    </a:lnTo>
                    <a:lnTo>
                      <a:pt x="273" y="812"/>
                    </a:lnTo>
                    <a:lnTo>
                      <a:pt x="315" y="900"/>
                    </a:lnTo>
                    <a:lnTo>
                      <a:pt x="382" y="992"/>
                    </a:lnTo>
                    <a:lnTo>
                      <a:pt x="427" y="1079"/>
                    </a:lnTo>
                    <a:lnTo>
                      <a:pt x="487" y="1167"/>
                    </a:lnTo>
                    <a:lnTo>
                      <a:pt x="544" y="1251"/>
                    </a:lnTo>
                    <a:lnTo>
                      <a:pt x="596" y="1336"/>
                    </a:lnTo>
                    <a:lnTo>
                      <a:pt x="652" y="1405"/>
                    </a:lnTo>
                    <a:lnTo>
                      <a:pt x="727" y="1498"/>
                    </a:lnTo>
                    <a:lnTo>
                      <a:pt x="802" y="1586"/>
                    </a:lnTo>
                    <a:lnTo>
                      <a:pt x="889" y="1673"/>
                    </a:lnTo>
                    <a:lnTo>
                      <a:pt x="956" y="1736"/>
                    </a:lnTo>
                    <a:lnTo>
                      <a:pt x="1024" y="1805"/>
                    </a:lnTo>
                    <a:lnTo>
                      <a:pt x="1103" y="1875"/>
                    </a:lnTo>
                    <a:lnTo>
                      <a:pt x="1174" y="1933"/>
                    </a:lnTo>
                    <a:lnTo>
                      <a:pt x="1256" y="2006"/>
                    </a:lnTo>
                    <a:lnTo>
                      <a:pt x="1343" y="2072"/>
                    </a:lnTo>
                    <a:lnTo>
                      <a:pt x="1436" y="2135"/>
                    </a:lnTo>
                    <a:lnTo>
                      <a:pt x="1530" y="2197"/>
                    </a:lnTo>
                    <a:lnTo>
                      <a:pt x="1644" y="2255"/>
                    </a:lnTo>
                    <a:lnTo>
                      <a:pt x="1715" y="2299"/>
                    </a:lnTo>
                    <a:lnTo>
                      <a:pt x="1824" y="2358"/>
                    </a:lnTo>
                    <a:lnTo>
                      <a:pt x="1933" y="2409"/>
                    </a:lnTo>
                    <a:lnTo>
                      <a:pt x="2023" y="2446"/>
                    </a:lnTo>
                    <a:lnTo>
                      <a:pt x="2117" y="2486"/>
                    </a:lnTo>
                    <a:lnTo>
                      <a:pt x="2222" y="2534"/>
                    </a:lnTo>
                    <a:lnTo>
                      <a:pt x="2323" y="2567"/>
                    </a:lnTo>
                    <a:lnTo>
                      <a:pt x="2405" y="2589"/>
                    </a:lnTo>
                    <a:close/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13400" y="1262160"/>
                <a:ext cx="1976760" cy="1829160"/>
              </a:xfrm>
              <a:custGeom>
                <a:avLst/>
                <a:gdLst/>
                <a:ahLst/>
                <a:rect l="0" t="0" r="r" b="b"/>
                <a:pathLst>
                  <a:path w="5491" h="5081">
                    <a:moveTo>
                      <a:pt x="5491" y="150"/>
                    </a:moveTo>
                    <a:lnTo>
                      <a:pt x="5419" y="135"/>
                    </a:lnTo>
                    <a:lnTo>
                      <a:pt x="5355" y="117"/>
                    </a:lnTo>
                    <a:lnTo>
                      <a:pt x="5258" y="95"/>
                    </a:lnTo>
                    <a:lnTo>
                      <a:pt x="5190" y="73"/>
                    </a:lnTo>
                    <a:lnTo>
                      <a:pt x="5111" y="62"/>
                    </a:lnTo>
                    <a:lnTo>
                      <a:pt x="5040" y="55"/>
                    </a:lnTo>
                    <a:lnTo>
                      <a:pt x="4961" y="36"/>
                    </a:lnTo>
                    <a:lnTo>
                      <a:pt x="4889" y="29"/>
                    </a:lnTo>
                    <a:lnTo>
                      <a:pt x="4814" y="22"/>
                    </a:lnTo>
                    <a:lnTo>
                      <a:pt x="4713" y="11"/>
                    </a:lnTo>
                    <a:lnTo>
                      <a:pt x="4630" y="7"/>
                    </a:lnTo>
                    <a:lnTo>
                      <a:pt x="4544" y="3"/>
                    </a:lnTo>
                    <a:lnTo>
                      <a:pt x="4457" y="3"/>
                    </a:lnTo>
                    <a:lnTo>
                      <a:pt x="4367" y="0"/>
                    </a:lnTo>
                    <a:lnTo>
                      <a:pt x="4284" y="7"/>
                    </a:lnTo>
                    <a:lnTo>
                      <a:pt x="4202" y="14"/>
                    </a:lnTo>
                    <a:lnTo>
                      <a:pt x="4123" y="18"/>
                    </a:lnTo>
                    <a:lnTo>
                      <a:pt x="4051" y="29"/>
                    </a:lnTo>
                    <a:lnTo>
                      <a:pt x="3965" y="36"/>
                    </a:lnTo>
                    <a:lnTo>
                      <a:pt x="3875" y="47"/>
                    </a:lnTo>
                    <a:lnTo>
                      <a:pt x="3788" y="73"/>
                    </a:lnTo>
                    <a:lnTo>
                      <a:pt x="3702" y="84"/>
                    </a:lnTo>
                    <a:lnTo>
                      <a:pt x="3623" y="99"/>
                    </a:lnTo>
                    <a:lnTo>
                      <a:pt x="3491" y="128"/>
                    </a:lnTo>
                    <a:lnTo>
                      <a:pt x="3360" y="176"/>
                    </a:lnTo>
                    <a:lnTo>
                      <a:pt x="3251" y="205"/>
                    </a:lnTo>
                    <a:lnTo>
                      <a:pt x="3119" y="256"/>
                    </a:lnTo>
                    <a:lnTo>
                      <a:pt x="3018" y="297"/>
                    </a:lnTo>
                    <a:lnTo>
                      <a:pt x="2913" y="348"/>
                    </a:lnTo>
                    <a:lnTo>
                      <a:pt x="2800" y="399"/>
                    </a:lnTo>
                    <a:lnTo>
                      <a:pt x="2698" y="454"/>
                    </a:lnTo>
                    <a:lnTo>
                      <a:pt x="2589" y="520"/>
                    </a:lnTo>
                    <a:lnTo>
                      <a:pt x="2480" y="579"/>
                    </a:lnTo>
                    <a:lnTo>
                      <a:pt x="2374" y="656"/>
                    </a:lnTo>
                    <a:lnTo>
                      <a:pt x="2277" y="715"/>
                    </a:lnTo>
                    <a:lnTo>
                      <a:pt x="2183" y="795"/>
                    </a:lnTo>
                    <a:lnTo>
                      <a:pt x="2081" y="876"/>
                    </a:lnTo>
                    <a:lnTo>
                      <a:pt x="1987" y="960"/>
                    </a:lnTo>
                    <a:lnTo>
                      <a:pt x="1893" y="1056"/>
                    </a:lnTo>
                    <a:lnTo>
                      <a:pt x="1777" y="1173"/>
                    </a:lnTo>
                    <a:lnTo>
                      <a:pt x="1672" y="1287"/>
                    </a:lnTo>
                    <a:lnTo>
                      <a:pt x="1574" y="1401"/>
                    </a:lnTo>
                    <a:lnTo>
                      <a:pt x="1491" y="1533"/>
                    </a:lnTo>
                    <a:lnTo>
                      <a:pt x="1394" y="1672"/>
                    </a:lnTo>
                    <a:lnTo>
                      <a:pt x="1277" y="1852"/>
                    </a:lnTo>
                    <a:lnTo>
                      <a:pt x="1198" y="2006"/>
                    </a:lnTo>
                    <a:lnTo>
                      <a:pt x="1131" y="2149"/>
                    </a:lnTo>
                    <a:lnTo>
                      <a:pt x="1067" y="2296"/>
                    </a:lnTo>
                    <a:lnTo>
                      <a:pt x="1025" y="2435"/>
                    </a:lnTo>
                    <a:lnTo>
                      <a:pt x="969" y="2586"/>
                    </a:lnTo>
                    <a:lnTo>
                      <a:pt x="928" y="2737"/>
                    </a:lnTo>
                    <a:lnTo>
                      <a:pt x="890" y="2909"/>
                    </a:lnTo>
                    <a:lnTo>
                      <a:pt x="868" y="3093"/>
                    </a:lnTo>
                    <a:lnTo>
                      <a:pt x="845" y="3254"/>
                    </a:lnTo>
                    <a:lnTo>
                      <a:pt x="834" y="3426"/>
                    </a:lnTo>
                    <a:lnTo>
                      <a:pt x="830" y="3599"/>
                    </a:lnTo>
                    <a:lnTo>
                      <a:pt x="841" y="3756"/>
                    </a:lnTo>
                    <a:lnTo>
                      <a:pt x="0" y="3815"/>
                    </a:lnTo>
                    <a:lnTo>
                      <a:pt x="1882" y="5081"/>
                    </a:lnTo>
                    <a:lnTo>
                      <a:pt x="3540" y="3610"/>
                    </a:lnTo>
                    <a:lnTo>
                      <a:pt x="2562" y="3643"/>
                    </a:lnTo>
                    <a:lnTo>
                      <a:pt x="2536" y="3485"/>
                    </a:lnTo>
                    <a:lnTo>
                      <a:pt x="2547" y="3360"/>
                    </a:lnTo>
                    <a:lnTo>
                      <a:pt x="2555" y="3232"/>
                    </a:lnTo>
                    <a:lnTo>
                      <a:pt x="2574" y="3107"/>
                    </a:lnTo>
                    <a:lnTo>
                      <a:pt x="2615" y="2993"/>
                    </a:lnTo>
                    <a:lnTo>
                      <a:pt x="2656" y="2891"/>
                    </a:lnTo>
                    <a:lnTo>
                      <a:pt x="2701" y="2784"/>
                    </a:lnTo>
                    <a:lnTo>
                      <a:pt x="2747" y="2678"/>
                    </a:lnTo>
                    <a:lnTo>
                      <a:pt x="2819" y="2564"/>
                    </a:lnTo>
                    <a:lnTo>
                      <a:pt x="2886" y="2450"/>
                    </a:lnTo>
                    <a:lnTo>
                      <a:pt x="2980" y="2332"/>
                    </a:lnTo>
                    <a:lnTo>
                      <a:pt x="3067" y="2244"/>
                    </a:lnTo>
                    <a:lnTo>
                      <a:pt x="3165" y="2149"/>
                    </a:lnTo>
                    <a:lnTo>
                      <a:pt x="3258" y="2065"/>
                    </a:lnTo>
                    <a:lnTo>
                      <a:pt x="3367" y="1998"/>
                    </a:lnTo>
                    <a:lnTo>
                      <a:pt x="3446" y="1940"/>
                    </a:lnTo>
                    <a:lnTo>
                      <a:pt x="3525" y="1907"/>
                    </a:lnTo>
                    <a:lnTo>
                      <a:pt x="3608" y="1863"/>
                    </a:lnTo>
                    <a:lnTo>
                      <a:pt x="3683" y="1826"/>
                    </a:lnTo>
                    <a:lnTo>
                      <a:pt x="3773" y="1789"/>
                    </a:lnTo>
                    <a:lnTo>
                      <a:pt x="3848" y="1767"/>
                    </a:lnTo>
                    <a:lnTo>
                      <a:pt x="3942" y="1734"/>
                    </a:lnTo>
                    <a:lnTo>
                      <a:pt x="4018" y="1720"/>
                    </a:lnTo>
                    <a:lnTo>
                      <a:pt x="4115" y="1694"/>
                    </a:lnTo>
                    <a:lnTo>
                      <a:pt x="4220" y="1679"/>
                    </a:lnTo>
                    <a:lnTo>
                      <a:pt x="4303" y="1672"/>
                    </a:lnTo>
                    <a:lnTo>
                      <a:pt x="4378" y="1665"/>
                    </a:lnTo>
                    <a:lnTo>
                      <a:pt x="4484" y="1657"/>
                    </a:lnTo>
                    <a:lnTo>
                      <a:pt x="4581" y="1665"/>
                    </a:lnTo>
                    <a:lnTo>
                      <a:pt x="4728" y="1690"/>
                    </a:lnTo>
                    <a:lnTo>
                      <a:pt x="5491" y="150"/>
                    </a:lnTo>
                    <a:close/>
                  </a:path>
                </a:pathLst>
              </a:custGeom>
              <a:solidFill>
                <a:srgbClr val="c8fec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13600" y="1155600"/>
                <a:ext cx="1298880" cy="2262600"/>
              </a:xfrm>
              <a:custGeom>
                <a:avLst/>
                <a:gdLst/>
                <a:ahLst/>
                <a:rect l="0" t="0" r="r" b="b"/>
                <a:pathLst>
                  <a:path w="3608" h="6285">
                    <a:moveTo>
                      <a:pt x="2082" y="920"/>
                    </a:moveTo>
                    <a:lnTo>
                      <a:pt x="2135" y="964"/>
                    </a:lnTo>
                    <a:lnTo>
                      <a:pt x="2206" y="1015"/>
                    </a:lnTo>
                    <a:lnTo>
                      <a:pt x="2278" y="1070"/>
                    </a:lnTo>
                    <a:lnTo>
                      <a:pt x="2326" y="1114"/>
                    </a:lnTo>
                    <a:lnTo>
                      <a:pt x="2383" y="1158"/>
                    </a:lnTo>
                    <a:lnTo>
                      <a:pt x="2443" y="1209"/>
                    </a:lnTo>
                    <a:lnTo>
                      <a:pt x="2499" y="1257"/>
                    </a:lnTo>
                    <a:lnTo>
                      <a:pt x="2541" y="1308"/>
                    </a:lnTo>
                    <a:lnTo>
                      <a:pt x="2604" y="1371"/>
                    </a:lnTo>
                    <a:lnTo>
                      <a:pt x="2672" y="1437"/>
                    </a:lnTo>
                    <a:lnTo>
                      <a:pt x="2728" y="1495"/>
                    </a:lnTo>
                    <a:lnTo>
                      <a:pt x="2781" y="1558"/>
                    </a:lnTo>
                    <a:lnTo>
                      <a:pt x="2845" y="1625"/>
                    </a:lnTo>
                    <a:lnTo>
                      <a:pt x="2905" y="1694"/>
                    </a:lnTo>
                    <a:lnTo>
                      <a:pt x="2946" y="1764"/>
                    </a:lnTo>
                    <a:lnTo>
                      <a:pt x="2991" y="1834"/>
                    </a:lnTo>
                    <a:lnTo>
                      <a:pt x="3037" y="1889"/>
                    </a:lnTo>
                    <a:lnTo>
                      <a:pt x="3070" y="1958"/>
                    </a:lnTo>
                    <a:lnTo>
                      <a:pt x="3123" y="2024"/>
                    </a:lnTo>
                    <a:lnTo>
                      <a:pt x="3164" y="2101"/>
                    </a:lnTo>
                    <a:lnTo>
                      <a:pt x="3206" y="2186"/>
                    </a:lnTo>
                    <a:lnTo>
                      <a:pt x="3239" y="2255"/>
                    </a:lnTo>
                    <a:lnTo>
                      <a:pt x="3281" y="2329"/>
                    </a:lnTo>
                    <a:lnTo>
                      <a:pt x="3333" y="2442"/>
                    </a:lnTo>
                    <a:lnTo>
                      <a:pt x="3386" y="2578"/>
                    </a:lnTo>
                    <a:lnTo>
                      <a:pt x="3427" y="2677"/>
                    </a:lnTo>
                    <a:lnTo>
                      <a:pt x="3469" y="2812"/>
                    </a:lnTo>
                    <a:lnTo>
                      <a:pt x="3491" y="2915"/>
                    </a:lnTo>
                    <a:lnTo>
                      <a:pt x="3514" y="3018"/>
                    </a:lnTo>
                    <a:lnTo>
                      <a:pt x="3544" y="3139"/>
                    </a:lnTo>
                    <a:lnTo>
                      <a:pt x="3563" y="3252"/>
                    </a:lnTo>
                    <a:lnTo>
                      <a:pt x="3581" y="3384"/>
                    </a:lnTo>
                    <a:lnTo>
                      <a:pt x="3593" y="3502"/>
                    </a:lnTo>
                    <a:lnTo>
                      <a:pt x="3600" y="3630"/>
                    </a:lnTo>
                    <a:lnTo>
                      <a:pt x="3608" y="3740"/>
                    </a:lnTo>
                    <a:lnTo>
                      <a:pt x="3604" y="3868"/>
                    </a:lnTo>
                    <a:lnTo>
                      <a:pt x="3600" y="3993"/>
                    </a:lnTo>
                    <a:lnTo>
                      <a:pt x="3589" y="4114"/>
                    </a:lnTo>
                    <a:lnTo>
                      <a:pt x="3578" y="4250"/>
                    </a:lnTo>
                    <a:lnTo>
                      <a:pt x="3551" y="4415"/>
                    </a:lnTo>
                    <a:lnTo>
                      <a:pt x="3521" y="4561"/>
                    </a:lnTo>
                    <a:lnTo>
                      <a:pt x="3487" y="4712"/>
                    </a:lnTo>
                    <a:lnTo>
                      <a:pt x="3442" y="4848"/>
                    </a:lnTo>
                    <a:lnTo>
                      <a:pt x="3390" y="5010"/>
                    </a:lnTo>
                    <a:lnTo>
                      <a:pt x="3315" y="5211"/>
                    </a:lnTo>
                    <a:lnTo>
                      <a:pt x="3239" y="5365"/>
                    </a:lnTo>
                    <a:lnTo>
                      <a:pt x="3168" y="5508"/>
                    </a:lnTo>
                    <a:lnTo>
                      <a:pt x="3082" y="5636"/>
                    </a:lnTo>
                    <a:lnTo>
                      <a:pt x="3003" y="5765"/>
                    </a:lnTo>
                    <a:lnTo>
                      <a:pt x="2916" y="5897"/>
                    </a:lnTo>
                    <a:lnTo>
                      <a:pt x="2811" y="6025"/>
                    </a:lnTo>
                    <a:lnTo>
                      <a:pt x="2695" y="6150"/>
                    </a:lnTo>
                    <a:lnTo>
                      <a:pt x="2571" y="6285"/>
                    </a:lnTo>
                    <a:lnTo>
                      <a:pt x="2721" y="5270"/>
                    </a:lnTo>
                    <a:lnTo>
                      <a:pt x="1529" y="4929"/>
                    </a:lnTo>
                    <a:lnTo>
                      <a:pt x="1630" y="4782"/>
                    </a:lnTo>
                    <a:lnTo>
                      <a:pt x="1687" y="4693"/>
                    </a:lnTo>
                    <a:lnTo>
                      <a:pt x="1743" y="4591"/>
                    </a:lnTo>
                    <a:lnTo>
                      <a:pt x="1796" y="4466"/>
                    </a:lnTo>
                    <a:lnTo>
                      <a:pt x="1838" y="4341"/>
                    </a:lnTo>
                    <a:lnTo>
                      <a:pt x="1879" y="4202"/>
                    </a:lnTo>
                    <a:lnTo>
                      <a:pt x="1894" y="4085"/>
                    </a:lnTo>
                    <a:lnTo>
                      <a:pt x="1906" y="3949"/>
                    </a:lnTo>
                    <a:lnTo>
                      <a:pt x="1913" y="3817"/>
                    </a:lnTo>
                    <a:lnTo>
                      <a:pt x="1913" y="3696"/>
                    </a:lnTo>
                    <a:lnTo>
                      <a:pt x="1906" y="3597"/>
                    </a:lnTo>
                    <a:lnTo>
                      <a:pt x="1883" y="3516"/>
                    </a:lnTo>
                    <a:lnTo>
                      <a:pt x="1868" y="3425"/>
                    </a:lnTo>
                    <a:lnTo>
                      <a:pt x="1853" y="3337"/>
                    </a:lnTo>
                    <a:lnTo>
                      <a:pt x="1819" y="3241"/>
                    </a:lnTo>
                    <a:lnTo>
                      <a:pt x="1792" y="3172"/>
                    </a:lnTo>
                    <a:lnTo>
                      <a:pt x="1762" y="3095"/>
                    </a:lnTo>
                    <a:lnTo>
                      <a:pt x="1728" y="3018"/>
                    </a:lnTo>
                    <a:lnTo>
                      <a:pt x="1687" y="2937"/>
                    </a:lnTo>
                    <a:lnTo>
                      <a:pt x="1634" y="2849"/>
                    </a:lnTo>
                    <a:lnTo>
                      <a:pt x="1581" y="2768"/>
                    </a:lnTo>
                    <a:lnTo>
                      <a:pt x="1544" y="2710"/>
                    </a:lnTo>
                    <a:lnTo>
                      <a:pt x="1484" y="2625"/>
                    </a:lnTo>
                    <a:lnTo>
                      <a:pt x="1424" y="2563"/>
                    </a:lnTo>
                    <a:lnTo>
                      <a:pt x="1375" y="2512"/>
                    </a:lnTo>
                    <a:lnTo>
                      <a:pt x="1315" y="2450"/>
                    </a:lnTo>
                    <a:lnTo>
                      <a:pt x="1224" y="2387"/>
                    </a:lnTo>
                    <a:lnTo>
                      <a:pt x="1142" y="2321"/>
                    </a:lnTo>
                    <a:lnTo>
                      <a:pt x="1048" y="2266"/>
                    </a:lnTo>
                    <a:lnTo>
                      <a:pt x="958" y="2215"/>
                    </a:lnTo>
                    <a:lnTo>
                      <a:pt x="901" y="2186"/>
                    </a:lnTo>
                    <a:lnTo>
                      <a:pt x="503" y="2970"/>
                    </a:lnTo>
                    <a:lnTo>
                      <a:pt x="0" y="923"/>
                    </a:lnTo>
                    <a:lnTo>
                      <a:pt x="1992" y="0"/>
                    </a:lnTo>
                    <a:lnTo>
                      <a:pt x="1649" y="674"/>
                    </a:lnTo>
                    <a:lnTo>
                      <a:pt x="1713" y="711"/>
                    </a:lnTo>
                    <a:lnTo>
                      <a:pt x="1812" y="762"/>
                    </a:lnTo>
                    <a:lnTo>
                      <a:pt x="1913" y="817"/>
                    </a:lnTo>
                    <a:lnTo>
                      <a:pt x="2003" y="872"/>
                    </a:lnTo>
                    <a:lnTo>
                      <a:pt x="2082" y="920"/>
                    </a:lnTo>
                    <a:close/>
                  </a:path>
                </a:pathLst>
              </a:custGeom>
              <a:solidFill>
                <a:srgbClr val="e3b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5400720" y="1457280"/>
            <a:ext cx="3365640" cy="21859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873000" y="1542960"/>
            <a:ext cx="2506680" cy="194616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2622600" y="1233360"/>
            <a:ext cx="3283200" cy="1365840"/>
            <a:chOff x="2622600" y="1233360"/>
            <a:chExt cx="3283200" cy="1365840"/>
          </a:xfrm>
        </p:grpSpPr>
        <p:sp>
          <p:nvSpPr>
            <p:cNvPr id="630" name=""/>
            <p:cNvSpPr/>
            <p:nvPr/>
          </p:nvSpPr>
          <p:spPr>
            <a:xfrm>
              <a:off x="2625840" y="1236600"/>
              <a:ext cx="3279960" cy="1362600"/>
            </a:xfrm>
            <a:custGeom>
              <a:avLst/>
              <a:gdLst/>
              <a:ahLst/>
              <a:rect l="0" t="0" r="r" b="b"/>
              <a:pathLst>
                <a:path w="9111" h="3785">
                  <a:moveTo>
                    <a:pt x="93" y="3785"/>
                  </a:moveTo>
                  <a:lnTo>
                    <a:pt x="0" y="3665"/>
                  </a:lnTo>
                  <a:lnTo>
                    <a:pt x="169" y="3335"/>
                  </a:lnTo>
                  <a:lnTo>
                    <a:pt x="280" y="3147"/>
                  </a:lnTo>
                  <a:lnTo>
                    <a:pt x="424" y="2997"/>
                  </a:lnTo>
                  <a:lnTo>
                    <a:pt x="534" y="2862"/>
                  </a:lnTo>
                  <a:lnTo>
                    <a:pt x="696" y="2696"/>
                  </a:lnTo>
                  <a:lnTo>
                    <a:pt x="832" y="2553"/>
                  </a:lnTo>
                  <a:lnTo>
                    <a:pt x="1027" y="2410"/>
                  </a:lnTo>
                  <a:lnTo>
                    <a:pt x="1171" y="2275"/>
                  </a:lnTo>
                  <a:lnTo>
                    <a:pt x="1324" y="2155"/>
                  </a:lnTo>
                  <a:lnTo>
                    <a:pt x="1570" y="1990"/>
                  </a:lnTo>
                  <a:lnTo>
                    <a:pt x="1791" y="1855"/>
                  </a:lnTo>
                  <a:lnTo>
                    <a:pt x="2054" y="1697"/>
                  </a:lnTo>
                  <a:lnTo>
                    <a:pt x="2428" y="1494"/>
                  </a:lnTo>
                  <a:lnTo>
                    <a:pt x="2725" y="1352"/>
                  </a:lnTo>
                  <a:lnTo>
                    <a:pt x="2988" y="1239"/>
                  </a:lnTo>
                  <a:lnTo>
                    <a:pt x="3370" y="1082"/>
                  </a:lnTo>
                  <a:lnTo>
                    <a:pt x="3667" y="976"/>
                  </a:lnTo>
                  <a:lnTo>
                    <a:pt x="3965" y="900"/>
                  </a:lnTo>
                  <a:lnTo>
                    <a:pt x="4279" y="803"/>
                  </a:lnTo>
                  <a:lnTo>
                    <a:pt x="4611" y="735"/>
                  </a:lnTo>
                  <a:lnTo>
                    <a:pt x="4891" y="690"/>
                  </a:lnTo>
                  <a:lnTo>
                    <a:pt x="5197" y="645"/>
                  </a:lnTo>
                  <a:lnTo>
                    <a:pt x="5485" y="653"/>
                  </a:lnTo>
                  <a:lnTo>
                    <a:pt x="5783" y="645"/>
                  </a:lnTo>
                  <a:lnTo>
                    <a:pt x="6088" y="668"/>
                  </a:lnTo>
                  <a:lnTo>
                    <a:pt x="6411" y="735"/>
                  </a:lnTo>
                  <a:lnTo>
                    <a:pt x="6657" y="795"/>
                  </a:lnTo>
                  <a:lnTo>
                    <a:pt x="6929" y="893"/>
                  </a:lnTo>
                  <a:lnTo>
                    <a:pt x="7150" y="954"/>
                  </a:lnTo>
                  <a:lnTo>
                    <a:pt x="7243" y="1006"/>
                  </a:lnTo>
                  <a:lnTo>
                    <a:pt x="7472" y="0"/>
                  </a:lnTo>
                  <a:lnTo>
                    <a:pt x="7600" y="157"/>
                  </a:lnTo>
                  <a:lnTo>
                    <a:pt x="7668" y="352"/>
                  </a:lnTo>
                  <a:lnTo>
                    <a:pt x="7744" y="517"/>
                  </a:lnTo>
                  <a:lnTo>
                    <a:pt x="7837" y="698"/>
                  </a:lnTo>
                  <a:lnTo>
                    <a:pt x="7939" y="878"/>
                  </a:lnTo>
                  <a:lnTo>
                    <a:pt x="8058" y="1059"/>
                  </a:lnTo>
                  <a:lnTo>
                    <a:pt x="8169" y="1217"/>
                  </a:lnTo>
                  <a:lnTo>
                    <a:pt x="8313" y="1374"/>
                  </a:lnTo>
                  <a:lnTo>
                    <a:pt x="8449" y="1539"/>
                  </a:lnTo>
                  <a:lnTo>
                    <a:pt x="8644" y="1735"/>
                  </a:lnTo>
                  <a:lnTo>
                    <a:pt x="8907" y="1907"/>
                  </a:lnTo>
                  <a:lnTo>
                    <a:pt x="9111" y="2148"/>
                  </a:lnTo>
                  <a:lnTo>
                    <a:pt x="8890" y="2163"/>
                  </a:lnTo>
                  <a:lnTo>
                    <a:pt x="8669" y="2185"/>
                  </a:lnTo>
                  <a:lnTo>
                    <a:pt x="8440" y="2223"/>
                  </a:lnTo>
                  <a:lnTo>
                    <a:pt x="8228" y="2268"/>
                  </a:lnTo>
                  <a:lnTo>
                    <a:pt x="8101" y="2313"/>
                  </a:lnTo>
                  <a:lnTo>
                    <a:pt x="7965" y="2365"/>
                  </a:lnTo>
                  <a:lnTo>
                    <a:pt x="7778" y="2440"/>
                  </a:lnTo>
                  <a:lnTo>
                    <a:pt x="7608" y="2523"/>
                  </a:lnTo>
                  <a:lnTo>
                    <a:pt x="7472" y="2598"/>
                  </a:lnTo>
                  <a:lnTo>
                    <a:pt x="7319" y="2726"/>
                  </a:lnTo>
                  <a:lnTo>
                    <a:pt x="7158" y="2838"/>
                  </a:lnTo>
                  <a:lnTo>
                    <a:pt x="6937" y="3049"/>
                  </a:lnTo>
                  <a:lnTo>
                    <a:pt x="6751" y="2816"/>
                  </a:lnTo>
                  <a:lnTo>
                    <a:pt x="7005" y="1975"/>
                  </a:lnTo>
                  <a:lnTo>
                    <a:pt x="6903" y="1937"/>
                  </a:lnTo>
                  <a:lnTo>
                    <a:pt x="6530" y="1855"/>
                  </a:lnTo>
                  <a:lnTo>
                    <a:pt x="6241" y="1802"/>
                  </a:lnTo>
                  <a:lnTo>
                    <a:pt x="5842" y="1735"/>
                  </a:lnTo>
                  <a:lnTo>
                    <a:pt x="5596" y="1712"/>
                  </a:lnTo>
                  <a:lnTo>
                    <a:pt x="5375" y="1690"/>
                  </a:lnTo>
                  <a:lnTo>
                    <a:pt x="5052" y="1667"/>
                  </a:lnTo>
                  <a:lnTo>
                    <a:pt x="4738" y="1667"/>
                  </a:lnTo>
                  <a:lnTo>
                    <a:pt x="4415" y="1690"/>
                  </a:lnTo>
                  <a:lnTo>
                    <a:pt x="4134" y="1720"/>
                  </a:lnTo>
                  <a:lnTo>
                    <a:pt x="3829" y="1765"/>
                  </a:lnTo>
                  <a:lnTo>
                    <a:pt x="3515" y="1825"/>
                  </a:lnTo>
                  <a:lnTo>
                    <a:pt x="3277" y="1877"/>
                  </a:lnTo>
                  <a:lnTo>
                    <a:pt x="2988" y="1975"/>
                  </a:lnTo>
                  <a:lnTo>
                    <a:pt x="2683" y="2087"/>
                  </a:lnTo>
                  <a:lnTo>
                    <a:pt x="2411" y="2193"/>
                  </a:lnTo>
                  <a:lnTo>
                    <a:pt x="2114" y="2305"/>
                  </a:lnTo>
                  <a:lnTo>
                    <a:pt x="1783" y="2448"/>
                  </a:lnTo>
                  <a:lnTo>
                    <a:pt x="1468" y="2598"/>
                  </a:lnTo>
                  <a:lnTo>
                    <a:pt x="1188" y="2763"/>
                  </a:lnTo>
                  <a:lnTo>
                    <a:pt x="993" y="2862"/>
                  </a:lnTo>
                  <a:lnTo>
                    <a:pt x="806" y="2997"/>
                  </a:lnTo>
                  <a:lnTo>
                    <a:pt x="670" y="3109"/>
                  </a:lnTo>
                  <a:lnTo>
                    <a:pt x="543" y="3237"/>
                  </a:lnTo>
                  <a:lnTo>
                    <a:pt x="433" y="3357"/>
                  </a:lnTo>
                  <a:lnTo>
                    <a:pt x="93" y="3785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22600" y="1233360"/>
              <a:ext cx="3207240" cy="1322640"/>
            </a:xfrm>
            <a:custGeom>
              <a:avLst/>
              <a:gdLst/>
              <a:ahLst/>
              <a:rect l="0" t="0" r="r" b="b"/>
              <a:pathLst>
                <a:path w="8909" h="3674">
                  <a:moveTo>
                    <a:pt x="0" y="3674"/>
                  </a:moveTo>
                  <a:lnTo>
                    <a:pt x="144" y="3238"/>
                  </a:lnTo>
                  <a:lnTo>
                    <a:pt x="237" y="3095"/>
                  </a:lnTo>
                  <a:lnTo>
                    <a:pt x="365" y="2930"/>
                  </a:lnTo>
                  <a:lnTo>
                    <a:pt x="475" y="2787"/>
                  </a:lnTo>
                  <a:lnTo>
                    <a:pt x="619" y="2622"/>
                  </a:lnTo>
                  <a:lnTo>
                    <a:pt x="764" y="2472"/>
                  </a:lnTo>
                  <a:lnTo>
                    <a:pt x="951" y="2322"/>
                  </a:lnTo>
                  <a:lnTo>
                    <a:pt x="1103" y="2186"/>
                  </a:lnTo>
                  <a:lnTo>
                    <a:pt x="1256" y="2066"/>
                  </a:lnTo>
                  <a:lnTo>
                    <a:pt x="1494" y="1893"/>
                  </a:lnTo>
                  <a:lnTo>
                    <a:pt x="1723" y="1765"/>
                  </a:lnTo>
                  <a:lnTo>
                    <a:pt x="1978" y="1607"/>
                  </a:lnTo>
                  <a:lnTo>
                    <a:pt x="2353" y="1397"/>
                  </a:lnTo>
                  <a:lnTo>
                    <a:pt x="2650" y="1254"/>
                  </a:lnTo>
                  <a:lnTo>
                    <a:pt x="2913" y="1149"/>
                  </a:lnTo>
                  <a:lnTo>
                    <a:pt x="3287" y="984"/>
                  </a:lnTo>
                  <a:lnTo>
                    <a:pt x="3584" y="871"/>
                  </a:lnTo>
                  <a:lnTo>
                    <a:pt x="3881" y="788"/>
                  </a:lnTo>
                  <a:lnTo>
                    <a:pt x="4195" y="698"/>
                  </a:lnTo>
                  <a:lnTo>
                    <a:pt x="4518" y="615"/>
                  </a:lnTo>
                  <a:lnTo>
                    <a:pt x="4807" y="570"/>
                  </a:lnTo>
                  <a:lnTo>
                    <a:pt x="5104" y="525"/>
                  </a:lnTo>
                  <a:lnTo>
                    <a:pt x="5384" y="525"/>
                  </a:lnTo>
                  <a:lnTo>
                    <a:pt x="5673" y="510"/>
                  </a:lnTo>
                  <a:lnTo>
                    <a:pt x="5970" y="525"/>
                  </a:lnTo>
                  <a:lnTo>
                    <a:pt x="6293" y="585"/>
                  </a:lnTo>
                  <a:lnTo>
                    <a:pt x="6531" y="638"/>
                  </a:lnTo>
                  <a:lnTo>
                    <a:pt x="6795" y="721"/>
                  </a:lnTo>
                  <a:lnTo>
                    <a:pt x="7016" y="781"/>
                  </a:lnTo>
                  <a:lnTo>
                    <a:pt x="7279" y="878"/>
                  </a:lnTo>
                  <a:lnTo>
                    <a:pt x="7474" y="0"/>
                  </a:lnTo>
                  <a:lnTo>
                    <a:pt x="7534" y="180"/>
                  </a:lnTo>
                  <a:lnTo>
                    <a:pt x="7610" y="353"/>
                  </a:lnTo>
                  <a:lnTo>
                    <a:pt x="7695" y="518"/>
                  </a:lnTo>
                  <a:lnTo>
                    <a:pt x="7788" y="691"/>
                  </a:lnTo>
                  <a:lnTo>
                    <a:pt x="7907" y="863"/>
                  </a:lnTo>
                  <a:lnTo>
                    <a:pt x="8009" y="1014"/>
                  </a:lnTo>
                  <a:lnTo>
                    <a:pt x="8145" y="1164"/>
                  </a:lnTo>
                  <a:lnTo>
                    <a:pt x="8272" y="1322"/>
                  </a:lnTo>
                  <a:lnTo>
                    <a:pt x="8459" y="1502"/>
                  </a:lnTo>
                  <a:lnTo>
                    <a:pt x="8620" y="1667"/>
                  </a:lnTo>
                  <a:lnTo>
                    <a:pt x="8756" y="1772"/>
                  </a:lnTo>
                  <a:lnTo>
                    <a:pt x="8909" y="1901"/>
                  </a:lnTo>
                  <a:lnTo>
                    <a:pt x="8697" y="1916"/>
                  </a:lnTo>
                  <a:lnTo>
                    <a:pt x="8476" y="1946"/>
                  </a:lnTo>
                  <a:lnTo>
                    <a:pt x="8247" y="1984"/>
                  </a:lnTo>
                  <a:lnTo>
                    <a:pt x="8043" y="2036"/>
                  </a:lnTo>
                  <a:lnTo>
                    <a:pt x="7907" y="2074"/>
                  </a:lnTo>
                  <a:lnTo>
                    <a:pt x="7788" y="2134"/>
                  </a:lnTo>
                  <a:lnTo>
                    <a:pt x="7593" y="2209"/>
                  </a:lnTo>
                  <a:lnTo>
                    <a:pt x="7423" y="2292"/>
                  </a:lnTo>
                  <a:lnTo>
                    <a:pt x="7287" y="2374"/>
                  </a:lnTo>
                  <a:lnTo>
                    <a:pt x="7134" y="2494"/>
                  </a:lnTo>
                  <a:lnTo>
                    <a:pt x="6973" y="2607"/>
                  </a:lnTo>
                  <a:lnTo>
                    <a:pt x="6752" y="2817"/>
                  </a:lnTo>
                  <a:lnTo>
                    <a:pt x="7033" y="1810"/>
                  </a:lnTo>
                  <a:lnTo>
                    <a:pt x="6744" y="1742"/>
                  </a:lnTo>
                  <a:lnTo>
                    <a:pt x="6378" y="1667"/>
                  </a:lnTo>
                  <a:lnTo>
                    <a:pt x="6089" y="1615"/>
                  </a:lnTo>
                  <a:lnTo>
                    <a:pt x="5698" y="1554"/>
                  </a:lnTo>
                  <a:lnTo>
                    <a:pt x="5461" y="1547"/>
                  </a:lnTo>
                  <a:lnTo>
                    <a:pt x="5248" y="1524"/>
                  </a:lnTo>
                  <a:lnTo>
                    <a:pt x="4926" y="1509"/>
                  </a:lnTo>
                  <a:lnTo>
                    <a:pt x="4620" y="1509"/>
                  </a:lnTo>
                  <a:lnTo>
                    <a:pt x="4297" y="1547"/>
                  </a:lnTo>
                  <a:lnTo>
                    <a:pt x="4025" y="1585"/>
                  </a:lnTo>
                  <a:lnTo>
                    <a:pt x="3720" y="1637"/>
                  </a:lnTo>
                  <a:lnTo>
                    <a:pt x="3414" y="1697"/>
                  </a:lnTo>
                  <a:lnTo>
                    <a:pt x="3185" y="1757"/>
                  </a:lnTo>
                  <a:lnTo>
                    <a:pt x="2888" y="1856"/>
                  </a:lnTo>
                  <a:lnTo>
                    <a:pt x="2590" y="1969"/>
                  </a:lnTo>
                  <a:lnTo>
                    <a:pt x="2319" y="2074"/>
                  </a:lnTo>
                  <a:lnTo>
                    <a:pt x="2020" y="2194"/>
                  </a:lnTo>
                  <a:lnTo>
                    <a:pt x="1689" y="2337"/>
                  </a:lnTo>
                  <a:lnTo>
                    <a:pt x="1375" y="2487"/>
                  </a:lnTo>
                  <a:lnTo>
                    <a:pt x="1095" y="2652"/>
                  </a:lnTo>
                  <a:lnTo>
                    <a:pt x="900" y="2750"/>
                  </a:lnTo>
                  <a:lnTo>
                    <a:pt x="713" y="2885"/>
                  </a:lnTo>
                  <a:lnTo>
                    <a:pt x="577" y="2998"/>
                  </a:lnTo>
                  <a:lnTo>
                    <a:pt x="433" y="3118"/>
                  </a:lnTo>
                  <a:lnTo>
                    <a:pt x="339" y="3238"/>
                  </a:lnTo>
                  <a:lnTo>
                    <a:pt x="0" y="367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 txBox="1"/>
          <p:nvPr/>
        </p:nvSpPr>
        <p:spPr>
          <a:xfrm>
            <a:off x="3948120" y="2409840"/>
            <a:ext cx="141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9234db"/>
                </a:solidFill>
                <a:latin typeface="ARIAL"/>
                <a:ea typeface="ARIAL"/>
              </a:rPr>
              <a:t>Integrated</a:t>
            </a:r>
            <a:br>
              <a:rPr sz="2000"/>
            </a:br>
            <a:r>
              <a:rPr b="1" lang="en-US" sz="2000" spc="-1" strike="noStrike">
                <a:solidFill>
                  <a:srgbClr val="9234db"/>
                </a:solidFill>
                <a:latin typeface="ARIAL"/>
                <a:ea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93760" y="4532400"/>
            <a:ext cx="3694320" cy="1098720"/>
            <a:chOff x="293760" y="4532400"/>
            <a:chExt cx="3694320" cy="1098720"/>
          </a:xfrm>
        </p:grpSpPr>
        <p:sp>
          <p:nvSpPr>
            <p:cNvPr id="634" name=""/>
            <p:cNvSpPr/>
            <p:nvPr/>
          </p:nvSpPr>
          <p:spPr>
            <a:xfrm>
              <a:off x="293760" y="5200560"/>
              <a:ext cx="3694320" cy="430560"/>
            </a:xfrm>
            <a:custGeom>
              <a:avLst/>
              <a:gdLst/>
              <a:ahLst/>
              <a:rect l="0" t="0" r="r" b="b"/>
              <a:pathLst>
                <a:path w="10262" h="1196">
                  <a:moveTo>
                    <a:pt x="9456" y="0"/>
                  </a:moveTo>
                  <a:lnTo>
                    <a:pt x="10262" y="707"/>
                  </a:lnTo>
                  <a:lnTo>
                    <a:pt x="9571" y="1196"/>
                  </a:lnTo>
                  <a:lnTo>
                    <a:pt x="7161" y="1196"/>
                  </a:lnTo>
                  <a:lnTo>
                    <a:pt x="5930" y="1196"/>
                  </a:lnTo>
                  <a:lnTo>
                    <a:pt x="5354" y="1119"/>
                  </a:lnTo>
                  <a:lnTo>
                    <a:pt x="6745" y="1119"/>
                  </a:lnTo>
                  <a:lnTo>
                    <a:pt x="5974" y="1043"/>
                  </a:lnTo>
                  <a:lnTo>
                    <a:pt x="4921" y="1041"/>
                  </a:lnTo>
                  <a:lnTo>
                    <a:pt x="4453" y="986"/>
                  </a:lnTo>
                  <a:lnTo>
                    <a:pt x="5632" y="986"/>
                  </a:lnTo>
                  <a:lnTo>
                    <a:pt x="5133" y="939"/>
                  </a:lnTo>
                  <a:lnTo>
                    <a:pt x="4070" y="930"/>
                  </a:lnTo>
                  <a:lnTo>
                    <a:pt x="3695" y="895"/>
                  </a:lnTo>
                  <a:lnTo>
                    <a:pt x="4825" y="884"/>
                  </a:lnTo>
                  <a:lnTo>
                    <a:pt x="4351" y="838"/>
                  </a:lnTo>
                  <a:lnTo>
                    <a:pt x="3452" y="837"/>
                  </a:lnTo>
                  <a:lnTo>
                    <a:pt x="2988" y="780"/>
                  </a:lnTo>
                  <a:lnTo>
                    <a:pt x="4076" y="780"/>
                  </a:lnTo>
                  <a:lnTo>
                    <a:pt x="3561" y="733"/>
                  </a:lnTo>
                  <a:lnTo>
                    <a:pt x="2578" y="724"/>
                  </a:lnTo>
                  <a:lnTo>
                    <a:pt x="2121" y="675"/>
                  </a:lnTo>
                  <a:lnTo>
                    <a:pt x="3289" y="675"/>
                  </a:lnTo>
                  <a:lnTo>
                    <a:pt x="2703" y="611"/>
                  </a:lnTo>
                  <a:lnTo>
                    <a:pt x="1747" y="611"/>
                  </a:lnTo>
                  <a:lnTo>
                    <a:pt x="1263" y="548"/>
                  </a:lnTo>
                  <a:lnTo>
                    <a:pt x="2402" y="548"/>
                  </a:lnTo>
                  <a:lnTo>
                    <a:pt x="1804" y="488"/>
                  </a:lnTo>
                  <a:lnTo>
                    <a:pt x="809" y="488"/>
                  </a:lnTo>
                  <a:lnTo>
                    <a:pt x="489" y="448"/>
                  </a:lnTo>
                  <a:lnTo>
                    <a:pt x="1510" y="448"/>
                  </a:lnTo>
                  <a:lnTo>
                    <a:pt x="1084" y="402"/>
                  </a:lnTo>
                  <a:lnTo>
                    <a:pt x="303" y="400"/>
                  </a:lnTo>
                  <a:lnTo>
                    <a:pt x="0" y="347"/>
                  </a:lnTo>
                  <a:lnTo>
                    <a:pt x="851" y="347"/>
                  </a:lnTo>
                  <a:lnTo>
                    <a:pt x="502" y="320"/>
                  </a:lnTo>
                  <a:lnTo>
                    <a:pt x="297" y="295"/>
                  </a:lnTo>
                  <a:lnTo>
                    <a:pt x="409" y="204"/>
                  </a:lnTo>
                  <a:lnTo>
                    <a:pt x="441" y="65"/>
                  </a:lnTo>
                  <a:lnTo>
                    <a:pt x="94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07880" y="4532400"/>
              <a:ext cx="3580200" cy="1041840"/>
              <a:chOff x="407880" y="4532400"/>
              <a:chExt cx="3580200" cy="104184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407880" y="4532400"/>
                <a:ext cx="3580200" cy="1041840"/>
                <a:chOff x="407880" y="4532400"/>
                <a:chExt cx="3580200" cy="1041840"/>
              </a:xfrm>
            </p:grpSpPr>
            <p:grpSp>
              <p:nvGrpSpPr>
                <p:cNvPr id="637" name=""/>
                <p:cNvGrpSpPr/>
                <p:nvPr/>
              </p:nvGrpSpPr>
              <p:grpSpPr>
                <a:xfrm>
                  <a:off x="407880" y="4532400"/>
                  <a:ext cx="3580200" cy="1041840"/>
                  <a:chOff x="407880" y="4532400"/>
                  <a:chExt cx="3580200" cy="1041840"/>
                </a:xfrm>
              </p:grpSpPr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2457360" y="4532400"/>
                    <a:ext cx="444960" cy="49320"/>
                    <a:chOff x="2457360" y="4532400"/>
                    <a:chExt cx="444960" cy="49320"/>
                  </a:xfrm>
                </p:grpSpPr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2457360" y="4537080"/>
                      <a:ext cx="64080" cy="44640"/>
                      <a:chOff x="2457360" y="4537080"/>
                      <a:chExt cx="64080" cy="44640"/>
                    </a:xfrm>
                  </p:grpSpPr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2457360" y="4537080"/>
                        <a:ext cx="63720" cy="44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77" h="124">
                            <a:moveTo>
                              <a:pt x="177" y="100"/>
                            </a:moveTo>
                            <a:lnTo>
                              <a:pt x="177" y="0"/>
                            </a:lnTo>
                            <a:lnTo>
                              <a:pt x="53" y="0"/>
                            </a:lnTo>
                            <a:lnTo>
                              <a:pt x="0" y="124"/>
                            </a:lnTo>
                            <a:lnTo>
                              <a:pt x="177" y="10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txBody>
                      <a:bodyPr lIns="90000" rIns="90000" tIns="-360" bIns="-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"/>
                      <p:cNvSpPr/>
                      <p:nvPr/>
                    </p:nvSpPr>
                    <p:spPr>
                      <a:xfrm>
                        <a:off x="2502000" y="4537080"/>
                        <a:ext cx="19440" cy="39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4" h="111">
                            <a:moveTo>
                              <a:pt x="54" y="99"/>
                            </a:moveTo>
                            <a:lnTo>
                              <a:pt x="54" y="0"/>
                            </a:lnTo>
                            <a:lnTo>
                              <a:pt x="0" y="0"/>
                            </a:lnTo>
                            <a:lnTo>
                              <a:pt x="0" y="111"/>
                            </a:lnTo>
                            <a:lnTo>
                              <a:pt x="54" y="99"/>
                            </a:lnTo>
                            <a:close/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2844720" y="4532400"/>
                      <a:ext cx="57600" cy="30600"/>
                      <a:chOff x="2844720" y="4532400"/>
                      <a:chExt cx="57600" cy="30600"/>
                    </a:xfrm>
                  </p:grpSpPr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2844720" y="4532400"/>
                        <a:ext cx="57600" cy="30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85">
                            <a:moveTo>
                              <a:pt x="0" y="78"/>
                            </a:moveTo>
                            <a:lnTo>
                              <a:pt x="49" y="0"/>
                            </a:lnTo>
                            <a:lnTo>
                              <a:pt x="160" y="0"/>
                            </a:lnTo>
                            <a:lnTo>
                              <a:pt x="160" y="85"/>
                            </a:lnTo>
                            <a:lnTo>
                              <a:pt x="0" y="78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2884320" y="4532400"/>
                        <a:ext cx="18000" cy="30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0" h="85">
                            <a:moveTo>
                              <a:pt x="0" y="84"/>
                            </a:moveTo>
                            <a:lnTo>
                              <a:pt x="0" y="0"/>
                            </a:lnTo>
                            <a:lnTo>
                              <a:pt x="50" y="0"/>
                            </a:lnTo>
                            <a:lnTo>
                              <a:pt x="50" y="85"/>
                            </a:lnTo>
                            <a:lnTo>
                              <a:pt x="0" y="84"/>
                            </a:lnTo>
                            <a:close/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407880" y="4560840"/>
                    <a:ext cx="3580200" cy="1013400"/>
                    <a:chOff x="407880" y="4560840"/>
                    <a:chExt cx="3580200" cy="1013400"/>
                  </a:xfrm>
                </p:grpSpPr>
                <p:grpSp>
                  <p:nvGrpSpPr>
                    <p:cNvPr id="646" name=""/>
                    <p:cNvGrpSpPr/>
                    <p:nvPr/>
                  </p:nvGrpSpPr>
                  <p:grpSpPr>
                    <a:xfrm>
                      <a:off x="407880" y="4560840"/>
                      <a:ext cx="3580200" cy="1013400"/>
                      <a:chOff x="407880" y="4560840"/>
                      <a:chExt cx="3580200" cy="1013400"/>
                    </a:xfrm>
                  </p:grpSpPr>
                  <p:grpSp>
                    <p:nvGrpSpPr>
                      <p:cNvPr id="647" name=""/>
                      <p:cNvGrpSpPr/>
                      <p:nvPr/>
                    </p:nvGrpSpPr>
                    <p:grpSpPr>
                      <a:xfrm>
                        <a:off x="407880" y="4560840"/>
                        <a:ext cx="3580200" cy="1013400"/>
                        <a:chOff x="407880" y="4560840"/>
                        <a:chExt cx="3580200" cy="1013400"/>
                      </a:xfrm>
                    </p:grpSpPr>
                    <p:grpSp>
                      <p:nvGrpSpPr>
                        <p:cNvPr id="648" name=""/>
                        <p:cNvGrpSpPr/>
                        <p:nvPr/>
                      </p:nvGrpSpPr>
                      <p:grpSpPr>
                        <a:xfrm>
                          <a:off x="414360" y="5234040"/>
                          <a:ext cx="3573720" cy="340200"/>
                          <a:chOff x="414360" y="5234040"/>
                          <a:chExt cx="3573720" cy="340200"/>
                        </a:xfrm>
                      </p:grpSpPr>
                      <p:sp>
                        <p:nvSpPr>
                          <p:cNvPr id="649" name=""/>
                          <p:cNvSpPr/>
                          <p:nvPr/>
                        </p:nvSpPr>
                        <p:spPr>
                          <a:xfrm>
                            <a:off x="414360" y="5234040"/>
                            <a:ext cx="3573720" cy="340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9927" h="945">
                                <a:moveTo>
                                  <a:pt x="0" y="0"/>
                                </a:moveTo>
                                <a:lnTo>
                                  <a:pt x="25" y="69"/>
                                </a:lnTo>
                                <a:lnTo>
                                  <a:pt x="12" y="83"/>
                                </a:lnTo>
                                <a:lnTo>
                                  <a:pt x="6" y="109"/>
                                </a:lnTo>
                                <a:lnTo>
                                  <a:pt x="12" y="125"/>
                                </a:lnTo>
                                <a:lnTo>
                                  <a:pt x="31" y="142"/>
                                </a:lnTo>
                                <a:lnTo>
                                  <a:pt x="5008" y="732"/>
                                </a:lnTo>
                                <a:lnTo>
                                  <a:pt x="7145" y="914"/>
                                </a:lnTo>
                                <a:lnTo>
                                  <a:pt x="9274" y="945"/>
                                </a:lnTo>
                                <a:lnTo>
                                  <a:pt x="9370" y="883"/>
                                </a:lnTo>
                                <a:lnTo>
                                  <a:pt x="9466" y="797"/>
                                </a:lnTo>
                                <a:lnTo>
                                  <a:pt x="9466" y="524"/>
                                </a:lnTo>
                                <a:lnTo>
                                  <a:pt x="9620" y="524"/>
                                </a:lnTo>
                                <a:lnTo>
                                  <a:pt x="9620" y="623"/>
                                </a:lnTo>
                                <a:lnTo>
                                  <a:pt x="9885" y="621"/>
                                </a:lnTo>
                                <a:lnTo>
                                  <a:pt x="9911" y="616"/>
                                </a:lnTo>
                                <a:lnTo>
                                  <a:pt x="9927" y="599"/>
                                </a:lnTo>
                                <a:lnTo>
                                  <a:pt x="9927" y="575"/>
                                </a:lnTo>
                                <a:lnTo>
                                  <a:pt x="9927" y="393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50" name=""/>
                          <p:cNvGrpSpPr/>
                          <p:nvPr/>
                        </p:nvGrpSpPr>
                        <p:grpSpPr>
                          <a:xfrm>
                            <a:off x="433440" y="5281560"/>
                            <a:ext cx="2541960" cy="243360"/>
                            <a:chOff x="433440" y="5281560"/>
                            <a:chExt cx="2541960" cy="243360"/>
                          </a:xfrm>
                        </p:grpSpPr>
                        <p:sp>
                          <p:nvSpPr>
                            <p:cNvPr id="651" name=""/>
                            <p:cNvSpPr/>
                            <p:nvPr/>
                          </p:nvSpPr>
                          <p:spPr>
                            <a:xfrm>
                              <a:off x="433440" y="5281560"/>
                              <a:ext cx="2541960" cy="24336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fill="none" w="7061" h="676">
                                  <a:moveTo>
                                    <a:pt x="0" y="0"/>
                                  </a:moveTo>
                                  <a:lnTo>
                                    <a:pt x="3032" y="309"/>
                                  </a:lnTo>
                                  <a:lnTo>
                                    <a:pt x="3032" y="149"/>
                                  </a:lnTo>
                                  <a:lnTo>
                                    <a:pt x="5831" y="309"/>
                                  </a:lnTo>
                                  <a:lnTo>
                                    <a:pt x="5831" y="587"/>
                                  </a:lnTo>
                                  <a:lnTo>
                                    <a:pt x="7061" y="676"/>
                                  </a:lnTo>
                                </a:path>
                              </a:pathLst>
                            </a:custGeom>
                            <a:ln w="12600">
                              <a:solidFill>
                                <a:srgbClr val="5f5f5f"/>
                              </a:solidFill>
                              <a:round/>
                            </a:ln>
                          </p:spPr>
                          <p:txBody>
                            <a:bodyPr lIns="96120" rIns="96120" tIns="51120" bIns="51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52" name=""/>
                            <p:cNvGrpSpPr/>
                            <p:nvPr/>
                          </p:nvGrpSpPr>
                          <p:grpSpPr>
                            <a:xfrm>
                              <a:off x="1592280" y="5343480"/>
                              <a:ext cx="858960" cy="160560"/>
                              <a:chOff x="1592280" y="5343480"/>
                              <a:chExt cx="858960" cy="160560"/>
                            </a:xfrm>
                          </p:grpSpPr>
                          <p:sp>
                            <p:nvSpPr>
                              <p:cNvPr id="653" name=""/>
                              <p:cNvSpPr/>
                              <p:nvPr/>
                            </p:nvSpPr>
                            <p:spPr>
                              <a:xfrm>
                                <a:off x="2230560" y="5384880"/>
                                <a:ext cx="220680" cy="11916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51120" bIns="51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4" name=""/>
                              <p:cNvSpPr/>
                              <p:nvPr/>
                            </p:nvSpPr>
                            <p:spPr>
                              <a:xfrm>
                                <a:off x="1781280" y="5357880"/>
                                <a:ext cx="168120" cy="8892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37800" bIns="37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5" name=""/>
                              <p:cNvSpPr/>
                              <p:nvPr/>
                            </p:nvSpPr>
                            <p:spPr>
                              <a:xfrm>
                                <a:off x="1996920" y="5372280"/>
                                <a:ext cx="190440" cy="1062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51120" bIns="51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6" name=""/>
                              <p:cNvSpPr/>
                              <p:nvPr/>
                            </p:nvSpPr>
                            <p:spPr>
                              <a:xfrm>
                                <a:off x="1592280" y="5343480"/>
                                <a:ext cx="144360" cy="8424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33120" bIns="33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7" name=""/>
                        <p:cNvGrpSpPr/>
                        <p:nvPr/>
                      </p:nvGrpSpPr>
                      <p:grpSpPr>
                        <a:xfrm>
                          <a:off x="407880" y="4560840"/>
                          <a:ext cx="3578760" cy="832320"/>
                          <a:chOff x="407880" y="4560840"/>
                          <a:chExt cx="3578760" cy="832320"/>
                        </a:xfrm>
                      </p:grpSpPr>
                      <p:sp>
                        <p:nvSpPr>
                          <p:cNvPr id="658" name=""/>
                          <p:cNvSpPr/>
                          <p:nvPr/>
                        </p:nvSpPr>
                        <p:spPr>
                          <a:xfrm>
                            <a:off x="407880" y="4560840"/>
                            <a:ext cx="3578760" cy="8132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9941" h="2259">
                                <a:moveTo>
                                  <a:pt x="2480" y="817"/>
                                </a:moveTo>
                                <a:lnTo>
                                  <a:pt x="1273" y="1106"/>
                                </a:lnTo>
                                <a:lnTo>
                                  <a:pt x="86" y="1432"/>
                                </a:lnTo>
                                <a:lnTo>
                                  <a:pt x="64" y="1441"/>
                                </a:lnTo>
                                <a:lnTo>
                                  <a:pt x="48" y="1454"/>
                                </a:lnTo>
                                <a:lnTo>
                                  <a:pt x="35" y="1474"/>
                                </a:lnTo>
                                <a:lnTo>
                                  <a:pt x="28" y="1497"/>
                                </a:lnTo>
                                <a:lnTo>
                                  <a:pt x="28" y="1714"/>
                                </a:lnTo>
                                <a:lnTo>
                                  <a:pt x="0" y="1736"/>
                                </a:lnTo>
                                <a:lnTo>
                                  <a:pt x="0" y="1797"/>
                                </a:lnTo>
                                <a:lnTo>
                                  <a:pt x="12" y="1813"/>
                                </a:lnTo>
                                <a:lnTo>
                                  <a:pt x="0" y="1830"/>
                                </a:lnTo>
                                <a:lnTo>
                                  <a:pt x="25" y="1887"/>
                                </a:lnTo>
                                <a:lnTo>
                                  <a:pt x="9928" y="2259"/>
                                </a:lnTo>
                                <a:lnTo>
                                  <a:pt x="9941" y="1665"/>
                                </a:lnTo>
                                <a:lnTo>
                                  <a:pt x="9762" y="1509"/>
                                </a:lnTo>
                                <a:lnTo>
                                  <a:pt x="9746" y="1506"/>
                                </a:lnTo>
                                <a:lnTo>
                                  <a:pt x="9643" y="1421"/>
                                </a:lnTo>
                                <a:lnTo>
                                  <a:pt x="9647" y="1390"/>
                                </a:lnTo>
                                <a:lnTo>
                                  <a:pt x="9592" y="1309"/>
                                </a:lnTo>
                                <a:lnTo>
                                  <a:pt x="9413" y="1139"/>
                                </a:lnTo>
                                <a:lnTo>
                                  <a:pt x="9275" y="999"/>
                                </a:lnTo>
                                <a:lnTo>
                                  <a:pt x="9256" y="962"/>
                                </a:lnTo>
                                <a:lnTo>
                                  <a:pt x="8072" y="869"/>
                                </a:lnTo>
                                <a:lnTo>
                                  <a:pt x="6433" y="869"/>
                                </a:lnTo>
                                <a:lnTo>
                                  <a:pt x="5597" y="913"/>
                                </a:lnTo>
                                <a:lnTo>
                                  <a:pt x="4842" y="973"/>
                                </a:lnTo>
                                <a:lnTo>
                                  <a:pt x="4842" y="654"/>
                                </a:lnTo>
                                <a:lnTo>
                                  <a:pt x="4865" y="643"/>
                                </a:lnTo>
                                <a:lnTo>
                                  <a:pt x="4861" y="508"/>
                                </a:lnTo>
                                <a:lnTo>
                                  <a:pt x="5233" y="438"/>
                                </a:lnTo>
                                <a:lnTo>
                                  <a:pt x="5645" y="378"/>
                                </a:lnTo>
                                <a:lnTo>
                                  <a:pt x="6193" y="359"/>
                                </a:lnTo>
                                <a:lnTo>
                                  <a:pt x="7175" y="359"/>
                                </a:lnTo>
                                <a:lnTo>
                                  <a:pt x="7592" y="361"/>
                                </a:lnTo>
                                <a:lnTo>
                                  <a:pt x="8415" y="468"/>
                                </a:lnTo>
                                <a:lnTo>
                                  <a:pt x="8402" y="416"/>
                                </a:lnTo>
                                <a:lnTo>
                                  <a:pt x="8383" y="401"/>
                                </a:lnTo>
                                <a:lnTo>
                                  <a:pt x="8354" y="389"/>
                                </a:lnTo>
                                <a:lnTo>
                                  <a:pt x="8043" y="302"/>
                                </a:lnTo>
                                <a:lnTo>
                                  <a:pt x="8024" y="240"/>
                                </a:lnTo>
                                <a:lnTo>
                                  <a:pt x="8005" y="225"/>
                                </a:lnTo>
                                <a:lnTo>
                                  <a:pt x="7976" y="214"/>
                                </a:lnTo>
                                <a:lnTo>
                                  <a:pt x="7890" y="181"/>
                                </a:lnTo>
                                <a:lnTo>
                                  <a:pt x="7784" y="152"/>
                                </a:lnTo>
                                <a:lnTo>
                                  <a:pt x="7675" y="117"/>
                                </a:lnTo>
                                <a:lnTo>
                                  <a:pt x="7656" y="67"/>
                                </a:lnTo>
                                <a:lnTo>
                                  <a:pt x="7643" y="56"/>
                                </a:lnTo>
                                <a:lnTo>
                                  <a:pt x="7618" y="49"/>
                                </a:lnTo>
                                <a:lnTo>
                                  <a:pt x="7583" y="44"/>
                                </a:lnTo>
                                <a:lnTo>
                                  <a:pt x="7541" y="38"/>
                                </a:lnTo>
                                <a:lnTo>
                                  <a:pt x="6855" y="5"/>
                                </a:lnTo>
                                <a:lnTo>
                                  <a:pt x="6481" y="0"/>
                                </a:lnTo>
                                <a:lnTo>
                                  <a:pt x="6154" y="11"/>
                                </a:lnTo>
                                <a:lnTo>
                                  <a:pt x="5543" y="71"/>
                                </a:lnTo>
                                <a:lnTo>
                                  <a:pt x="5140" y="132"/>
                                </a:lnTo>
                                <a:lnTo>
                                  <a:pt x="5015" y="154"/>
                                </a:lnTo>
                                <a:lnTo>
                                  <a:pt x="4807" y="132"/>
                                </a:lnTo>
                                <a:lnTo>
                                  <a:pt x="4653" y="130"/>
                                </a:lnTo>
                                <a:lnTo>
                                  <a:pt x="3124" y="490"/>
                                </a:lnTo>
                                <a:lnTo>
                                  <a:pt x="2858" y="561"/>
                                </a:lnTo>
                                <a:lnTo>
                                  <a:pt x="2813" y="581"/>
                                </a:lnTo>
                                <a:lnTo>
                                  <a:pt x="2772" y="601"/>
                                </a:lnTo>
                                <a:lnTo>
                                  <a:pt x="2727" y="634"/>
                                </a:lnTo>
                                <a:lnTo>
                                  <a:pt x="2480" y="8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9" name=""/>
                          <p:cNvSpPr/>
                          <p:nvPr/>
                        </p:nvSpPr>
                        <p:spPr>
                          <a:xfrm>
                            <a:off x="407880" y="5221440"/>
                            <a:ext cx="3578760" cy="1717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9941" h="477">
                                <a:moveTo>
                                  <a:pt x="0" y="8"/>
                                </a:moveTo>
                                <a:lnTo>
                                  <a:pt x="4842" y="10"/>
                                </a:lnTo>
                                <a:lnTo>
                                  <a:pt x="5207" y="0"/>
                                </a:lnTo>
                                <a:lnTo>
                                  <a:pt x="7335" y="10"/>
                                </a:lnTo>
                                <a:lnTo>
                                  <a:pt x="9941" y="53"/>
                                </a:lnTo>
                                <a:lnTo>
                                  <a:pt x="9938" y="477"/>
                                </a:lnTo>
                                <a:lnTo>
                                  <a:pt x="7047" y="437"/>
                                </a:lnTo>
                                <a:lnTo>
                                  <a:pt x="4769" y="322"/>
                                </a:lnTo>
                                <a:lnTo>
                                  <a:pt x="4509" y="308"/>
                                </a:lnTo>
                                <a:lnTo>
                                  <a:pt x="4513" y="230"/>
                                </a:lnTo>
                                <a:lnTo>
                                  <a:pt x="4260" y="219"/>
                                </a:lnTo>
                                <a:lnTo>
                                  <a:pt x="4263" y="299"/>
                                </a:lnTo>
                                <a:lnTo>
                                  <a:pt x="22" y="66"/>
                                </a:lnTo>
                                <a:lnTo>
                                  <a:pt x="0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60" name=""/>
                      <p:cNvGrpSpPr/>
                      <p:nvPr/>
                    </p:nvGrpSpPr>
                    <p:grpSpPr>
                      <a:xfrm>
                        <a:off x="407880" y="5054760"/>
                        <a:ext cx="3578760" cy="345960"/>
                        <a:chOff x="407880" y="5054760"/>
                        <a:chExt cx="3578760" cy="345960"/>
                      </a:xfrm>
                    </p:grpSpPr>
                    <p:grpSp>
                      <p:nvGrpSpPr>
                        <p:cNvPr id="661" name=""/>
                        <p:cNvGrpSpPr/>
                        <p:nvPr/>
                      </p:nvGrpSpPr>
                      <p:grpSpPr>
                        <a:xfrm>
                          <a:off x="3614760" y="5159520"/>
                          <a:ext cx="371880" cy="233280"/>
                          <a:chOff x="3614760" y="5159520"/>
                          <a:chExt cx="371880" cy="233280"/>
                        </a:xfrm>
                      </p:grpSpPr>
                      <p:sp>
                        <p:nvSpPr>
                          <p:cNvPr id="662" name=""/>
                          <p:cNvSpPr/>
                          <p:nvPr/>
                        </p:nvSpPr>
                        <p:spPr>
                          <a:xfrm>
                            <a:off x="3614760" y="5159520"/>
                            <a:ext cx="371880" cy="132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033" h="367">
                                <a:moveTo>
                                  <a:pt x="0" y="0"/>
                                </a:moveTo>
                                <a:lnTo>
                                  <a:pt x="1033" y="21"/>
                                </a:lnTo>
                                <a:lnTo>
                                  <a:pt x="1030" y="365"/>
                                </a:lnTo>
                                <a:lnTo>
                                  <a:pt x="0" y="36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3" name=""/>
                          <p:cNvSpPr/>
                          <p:nvPr/>
                        </p:nvSpPr>
                        <p:spPr>
                          <a:xfrm>
                            <a:off x="3614760" y="5232240"/>
                            <a:ext cx="371880" cy="1605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033" h="446">
                                <a:moveTo>
                                  <a:pt x="0" y="0"/>
                                </a:moveTo>
                                <a:lnTo>
                                  <a:pt x="1033" y="19"/>
                                </a:lnTo>
                                <a:lnTo>
                                  <a:pt x="1030" y="446"/>
                                </a:lnTo>
                                <a:lnTo>
                                  <a:pt x="0" y="43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4" name=""/>
                        <p:cNvGrpSpPr/>
                        <p:nvPr/>
                      </p:nvGrpSpPr>
                      <p:grpSpPr>
                        <a:xfrm>
                          <a:off x="407880" y="5054760"/>
                          <a:ext cx="3578760" cy="151200"/>
                          <a:chOff x="407880" y="5054760"/>
                          <a:chExt cx="3578760" cy="151200"/>
                        </a:xfrm>
                      </p:grpSpPr>
                      <p:sp>
                        <p:nvSpPr>
                          <p:cNvPr id="665" name=""/>
                          <p:cNvSpPr/>
                          <p:nvPr/>
                        </p:nvSpPr>
                        <p:spPr>
                          <a:xfrm>
                            <a:off x="3567240" y="5070600"/>
                            <a:ext cx="419400" cy="87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165" h="244">
                                <a:moveTo>
                                  <a:pt x="871" y="12"/>
                                </a:moveTo>
                                <a:lnTo>
                                  <a:pt x="0" y="0"/>
                                </a:lnTo>
                                <a:lnTo>
                                  <a:pt x="110" y="222"/>
                                </a:lnTo>
                                <a:lnTo>
                                  <a:pt x="1165" y="244"/>
                                </a:lnTo>
                                <a:lnTo>
                                  <a:pt x="985" y="92"/>
                                </a:lnTo>
                                <a:lnTo>
                                  <a:pt x="969" y="91"/>
                                </a:lnTo>
                                <a:lnTo>
                                  <a:pt x="871" y="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6" name=""/>
                          <p:cNvSpPr/>
                          <p:nvPr/>
                        </p:nvSpPr>
                        <p:spPr>
                          <a:xfrm>
                            <a:off x="407880" y="5054760"/>
                            <a:ext cx="3189600" cy="151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860" h="420">
                                <a:moveTo>
                                  <a:pt x="8757" y="44"/>
                                </a:moveTo>
                                <a:lnTo>
                                  <a:pt x="8860" y="274"/>
                                </a:lnTo>
                                <a:lnTo>
                                  <a:pt x="6881" y="255"/>
                                </a:lnTo>
                                <a:lnTo>
                                  <a:pt x="6319" y="255"/>
                                </a:lnTo>
                                <a:lnTo>
                                  <a:pt x="5676" y="265"/>
                                </a:lnTo>
                                <a:lnTo>
                                  <a:pt x="4244" y="318"/>
                                </a:lnTo>
                                <a:lnTo>
                                  <a:pt x="0" y="420"/>
                                </a:lnTo>
                                <a:lnTo>
                                  <a:pt x="0" y="361"/>
                                </a:lnTo>
                                <a:lnTo>
                                  <a:pt x="4475" y="94"/>
                                </a:lnTo>
                                <a:lnTo>
                                  <a:pt x="5696" y="21"/>
                                </a:lnTo>
                                <a:lnTo>
                                  <a:pt x="6328" y="0"/>
                                </a:lnTo>
                                <a:lnTo>
                                  <a:pt x="6881" y="0"/>
                                </a:lnTo>
                                <a:lnTo>
                                  <a:pt x="8757" y="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7" name=""/>
                        <p:cNvGrpSpPr/>
                        <p:nvPr/>
                      </p:nvGrpSpPr>
                      <p:grpSpPr>
                        <a:xfrm>
                          <a:off x="3273480" y="5273640"/>
                          <a:ext cx="558720" cy="127080"/>
                          <a:chOff x="3273480" y="5273640"/>
                          <a:chExt cx="558720" cy="127080"/>
                        </a:xfrm>
                      </p:grpSpPr>
                      <p:grpSp>
                        <p:nvGrpSpPr>
                          <p:cNvPr id="668" name=""/>
                          <p:cNvGrpSpPr/>
                          <p:nvPr/>
                        </p:nvGrpSpPr>
                        <p:grpSpPr>
                          <a:xfrm>
                            <a:off x="3273480" y="5273640"/>
                            <a:ext cx="550800" cy="127080"/>
                            <a:chOff x="3273480" y="5273640"/>
                            <a:chExt cx="550800" cy="127080"/>
                          </a:xfrm>
                        </p:grpSpPr>
                        <p:sp>
                          <p:nvSpPr>
                            <p:cNvPr id="669" name=""/>
                            <p:cNvSpPr/>
                            <p:nvPr/>
                          </p:nvSpPr>
                          <p:spPr>
                            <a:xfrm>
                              <a:off x="3273480" y="5273640"/>
                              <a:ext cx="0" cy="120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6120" rIns="96120" tIns="51120" bIns="51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70" name=""/>
                            <p:cNvSpPr/>
                            <p:nvPr/>
                          </p:nvSpPr>
                          <p:spPr>
                            <a:xfrm>
                              <a:off x="3824280" y="5276880"/>
                              <a:ext cx="0" cy="123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6120" rIns="96120" tIns="51120" bIns="51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71" name=""/>
                          <p:cNvGrpSpPr/>
                          <p:nvPr/>
                        </p:nvGrpSpPr>
                        <p:grpSpPr>
                          <a:xfrm>
                            <a:off x="3274920" y="5273640"/>
                            <a:ext cx="557280" cy="127080"/>
                            <a:chOff x="3274920" y="5273640"/>
                            <a:chExt cx="557280" cy="127080"/>
                          </a:xfrm>
                        </p:grpSpPr>
                        <p:sp>
                          <p:nvSpPr>
                            <p:cNvPr id="672" name=""/>
                            <p:cNvSpPr/>
                            <p:nvPr/>
                          </p:nvSpPr>
                          <p:spPr>
                            <a:xfrm>
                              <a:off x="3274920" y="5273640"/>
                              <a:ext cx="0" cy="120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6120" rIns="96120" tIns="51120" bIns="51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73" name=""/>
                            <p:cNvSpPr/>
                            <p:nvPr/>
                          </p:nvSpPr>
                          <p:spPr>
                            <a:xfrm>
                              <a:off x="3832200" y="5276880"/>
                              <a:ext cx="0" cy="123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6120" rIns="96120" tIns="51120" bIns="51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74" name=""/>
                        <p:cNvGrpSpPr/>
                        <p:nvPr/>
                      </p:nvGrpSpPr>
                      <p:grpSpPr>
                        <a:xfrm>
                          <a:off x="2136600" y="5226120"/>
                          <a:ext cx="1850040" cy="117720"/>
                          <a:chOff x="2136600" y="5226120"/>
                          <a:chExt cx="1850040" cy="117720"/>
                        </a:xfrm>
                      </p:grpSpPr>
                      <p:sp>
                        <p:nvSpPr>
                          <p:cNvPr id="675" name=""/>
                          <p:cNvSpPr/>
                          <p:nvPr/>
                        </p:nvSpPr>
                        <p:spPr>
                          <a:xfrm>
                            <a:off x="2144880" y="5240160"/>
                            <a:ext cx="1841760" cy="33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5116" h="94">
                                <a:moveTo>
                                  <a:pt x="22" y="6"/>
                                </a:moveTo>
                                <a:lnTo>
                                  <a:pt x="338" y="0"/>
                                </a:lnTo>
                                <a:lnTo>
                                  <a:pt x="2158" y="13"/>
                                </a:lnTo>
                                <a:lnTo>
                                  <a:pt x="4059" y="35"/>
                                </a:lnTo>
                                <a:lnTo>
                                  <a:pt x="5116" y="45"/>
                                </a:lnTo>
                                <a:lnTo>
                                  <a:pt x="5116" y="94"/>
                                </a:lnTo>
                                <a:lnTo>
                                  <a:pt x="4059" y="83"/>
                                </a:lnTo>
                                <a:lnTo>
                                  <a:pt x="2152" y="67"/>
                                </a:lnTo>
                                <a:lnTo>
                                  <a:pt x="335" y="45"/>
                                </a:lnTo>
                                <a:lnTo>
                                  <a:pt x="0" y="40"/>
                                </a:lnTo>
                                <a:lnTo>
                                  <a:pt x="22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6" name=""/>
                          <p:cNvSpPr/>
                          <p:nvPr/>
                        </p:nvSpPr>
                        <p:spPr>
                          <a:xfrm>
                            <a:off x="2136600" y="5226120"/>
                            <a:ext cx="9720" cy="1116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fill="none" w="27" h="310">
                                <a:moveTo>
                                  <a:pt x="27" y="0"/>
                                </a:moveTo>
                                <a:lnTo>
                                  <a:pt x="0" y="97"/>
                                </a:lnTo>
                                <a:lnTo>
                                  <a:pt x="0" y="310"/>
                                </a:lnTo>
                              </a:path>
                            </a:pathLst>
                          </a:custGeom>
                          <a:ln w="12600">
                            <a:solidFill>
                              <a:srgbClr val="9f9f9f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7" name=""/>
                          <p:cNvSpPr/>
                          <p:nvPr/>
                        </p:nvSpPr>
                        <p:spPr>
                          <a:xfrm>
                            <a:off x="2241720" y="5226120"/>
                            <a:ext cx="8280" cy="1177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fill="none" w="23" h="327">
                                <a:moveTo>
                                  <a:pt x="23" y="0"/>
                                </a:moveTo>
                                <a:lnTo>
                                  <a:pt x="0" y="58"/>
                                </a:lnTo>
                                <a:lnTo>
                                  <a:pt x="0" y="327"/>
                                </a:lnTo>
                              </a:path>
                            </a:pathLst>
                          </a:custGeom>
                          <a:ln w="12600">
                            <a:solidFill>
                              <a:srgbClr val="5f5f5f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1360440" y="4591080"/>
                      <a:ext cx="2373840" cy="320760"/>
                      <a:chOff x="1360440" y="4591080"/>
                      <a:chExt cx="2373840" cy="320760"/>
                    </a:xfrm>
                  </p:grpSpPr>
                  <p:grpSp>
                    <p:nvGrpSpPr>
                      <p:cNvPr id="679" name=""/>
                      <p:cNvGrpSpPr/>
                      <p:nvPr/>
                    </p:nvGrpSpPr>
                    <p:grpSpPr>
                      <a:xfrm>
                        <a:off x="2144880" y="4689360"/>
                        <a:ext cx="1589400" cy="222480"/>
                        <a:chOff x="2144880" y="4689360"/>
                        <a:chExt cx="1589400" cy="222480"/>
                      </a:xfrm>
                    </p:grpSpPr>
                    <p:grpSp>
                      <p:nvGrpSpPr>
                        <p:cNvPr id="680" name=""/>
                        <p:cNvGrpSpPr/>
                        <p:nvPr/>
                      </p:nvGrpSpPr>
                      <p:grpSpPr>
                        <a:xfrm>
                          <a:off x="2165400" y="4689360"/>
                          <a:ext cx="1565640" cy="213120"/>
                          <a:chOff x="2165400" y="4689360"/>
                          <a:chExt cx="1565640" cy="213120"/>
                        </a:xfrm>
                      </p:grpSpPr>
                      <p:sp>
                        <p:nvSpPr>
                          <p:cNvPr id="681" name=""/>
                          <p:cNvSpPr/>
                          <p:nvPr/>
                        </p:nvSpPr>
                        <p:spPr>
                          <a:xfrm>
                            <a:off x="2165400" y="4689360"/>
                            <a:ext cx="1565640" cy="213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349" h="592">
                                <a:moveTo>
                                  <a:pt x="0" y="147"/>
                                </a:moveTo>
                                <a:lnTo>
                                  <a:pt x="0" y="227"/>
                                </a:lnTo>
                                <a:lnTo>
                                  <a:pt x="403" y="154"/>
                                </a:lnTo>
                                <a:lnTo>
                                  <a:pt x="804" y="91"/>
                                </a:lnTo>
                                <a:lnTo>
                                  <a:pt x="1246" y="77"/>
                                </a:lnTo>
                                <a:lnTo>
                                  <a:pt x="1990" y="77"/>
                                </a:lnTo>
                                <a:lnTo>
                                  <a:pt x="2702" y="79"/>
                                </a:lnTo>
                                <a:lnTo>
                                  <a:pt x="3523" y="184"/>
                                </a:lnTo>
                                <a:lnTo>
                                  <a:pt x="3742" y="226"/>
                                </a:lnTo>
                                <a:lnTo>
                                  <a:pt x="4267" y="587"/>
                                </a:lnTo>
                                <a:lnTo>
                                  <a:pt x="4349" y="592"/>
                                </a:lnTo>
                                <a:lnTo>
                                  <a:pt x="3742" y="159"/>
                                </a:lnTo>
                                <a:lnTo>
                                  <a:pt x="3523" y="109"/>
                                </a:lnTo>
                                <a:lnTo>
                                  <a:pt x="2702" y="5"/>
                                </a:lnTo>
                                <a:lnTo>
                                  <a:pt x="1990" y="0"/>
                                </a:lnTo>
                                <a:lnTo>
                                  <a:pt x="1246" y="0"/>
                                </a:lnTo>
                                <a:lnTo>
                                  <a:pt x="772" y="21"/>
                                </a:lnTo>
                                <a:lnTo>
                                  <a:pt x="343" y="84"/>
                                </a:lnTo>
                                <a:lnTo>
                                  <a:pt x="0" y="14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82" name=""/>
                          <p:cNvGrpSpPr/>
                          <p:nvPr/>
                        </p:nvGrpSpPr>
                        <p:grpSpPr>
                          <a:xfrm>
                            <a:off x="2506680" y="4695840"/>
                            <a:ext cx="808560" cy="178200"/>
                            <a:chOff x="2506680" y="4695840"/>
                            <a:chExt cx="808560" cy="178200"/>
                          </a:xfrm>
                        </p:grpSpPr>
                        <p:grpSp>
                          <p:nvGrpSpPr>
                            <p:cNvPr id="683" name=""/>
                            <p:cNvGrpSpPr/>
                            <p:nvPr/>
                          </p:nvGrpSpPr>
                          <p:grpSpPr>
                            <a:xfrm>
                              <a:off x="3083040" y="4695840"/>
                              <a:ext cx="232200" cy="170280"/>
                              <a:chOff x="3083040" y="4695840"/>
                              <a:chExt cx="232200" cy="170280"/>
                            </a:xfrm>
                          </p:grpSpPr>
                          <p:sp>
                            <p:nvSpPr>
                              <p:cNvPr id="684" name=""/>
                              <p:cNvSpPr/>
                              <p:nvPr/>
                            </p:nvSpPr>
                            <p:spPr>
                              <a:xfrm>
                                <a:off x="3083040" y="4695840"/>
                                <a:ext cx="232200" cy="170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645" h="473">
                                    <a:moveTo>
                                      <a:pt x="108" y="0"/>
                                    </a:moveTo>
                                    <a:lnTo>
                                      <a:pt x="645" y="473"/>
                                    </a:lnTo>
                                    <a:lnTo>
                                      <a:pt x="540" y="473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08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5" name=""/>
                              <p:cNvSpPr/>
                              <p:nvPr/>
                            </p:nvSpPr>
                            <p:spPr>
                              <a:xfrm>
                                <a:off x="3083040" y="4695840"/>
                                <a:ext cx="192600" cy="170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535" h="473">
                                    <a:moveTo>
                                      <a:pt x="0" y="0"/>
                                    </a:moveTo>
                                    <a:lnTo>
                                      <a:pt x="535" y="473"/>
                                    </a:lnTo>
                                    <a:lnTo>
                                      <a:pt x="496" y="473"/>
                                    </a:lnTo>
                                    <a:lnTo>
                                      <a:pt x="33" y="65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6" name=""/>
                            <p:cNvGrpSpPr/>
                            <p:nvPr/>
                          </p:nvGrpSpPr>
                          <p:grpSpPr>
                            <a:xfrm>
                              <a:off x="2506680" y="4699080"/>
                              <a:ext cx="232200" cy="174960"/>
                              <a:chOff x="2506680" y="4699080"/>
                              <a:chExt cx="232200" cy="174960"/>
                            </a:xfrm>
                          </p:grpSpPr>
                          <p:sp>
                            <p:nvSpPr>
                              <p:cNvPr id="687" name=""/>
                              <p:cNvSpPr/>
                              <p:nvPr/>
                            </p:nvSpPr>
                            <p:spPr>
                              <a:xfrm>
                                <a:off x="2506680" y="4699080"/>
                                <a:ext cx="232200" cy="1749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645" h="486">
                                    <a:moveTo>
                                      <a:pt x="108" y="0"/>
                                    </a:moveTo>
                                    <a:lnTo>
                                      <a:pt x="645" y="486"/>
                                    </a:lnTo>
                                    <a:lnTo>
                                      <a:pt x="540" y="486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08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8" name=""/>
                              <p:cNvSpPr/>
                              <p:nvPr/>
                            </p:nvSpPr>
                            <p:spPr>
                              <a:xfrm>
                                <a:off x="2506680" y="4699080"/>
                                <a:ext cx="195480" cy="1749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543" h="486">
                                    <a:moveTo>
                                      <a:pt x="0" y="0"/>
                                    </a:moveTo>
                                    <a:lnTo>
                                      <a:pt x="543" y="486"/>
                                    </a:lnTo>
                                    <a:lnTo>
                                      <a:pt x="503" y="486"/>
                                    </a:lnTo>
                                    <a:lnTo>
                                      <a:pt x="33" y="6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689" name=""/>
                        <p:cNvSpPr/>
                        <p:nvPr/>
                      </p:nvSpPr>
                      <p:spPr>
                        <a:xfrm>
                          <a:off x="2144880" y="4689360"/>
                          <a:ext cx="1589400" cy="2224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4415" h="618">
                              <a:moveTo>
                                <a:pt x="3780" y="158"/>
                              </a:moveTo>
                              <a:lnTo>
                                <a:pt x="3581" y="113"/>
                              </a:lnTo>
                              <a:lnTo>
                                <a:pt x="2745" y="5"/>
                              </a:lnTo>
                              <a:lnTo>
                                <a:pt x="2038" y="0"/>
                              </a:lnTo>
                              <a:lnTo>
                                <a:pt x="1311" y="0"/>
                              </a:lnTo>
                              <a:lnTo>
                                <a:pt x="788" y="21"/>
                              </a:lnTo>
                              <a:lnTo>
                                <a:pt x="375" y="82"/>
                              </a:lnTo>
                              <a:lnTo>
                                <a:pt x="19" y="147"/>
                              </a:lnTo>
                              <a:lnTo>
                                <a:pt x="19" y="288"/>
                              </a:lnTo>
                              <a:lnTo>
                                <a:pt x="0" y="301"/>
                              </a:lnTo>
                              <a:lnTo>
                                <a:pt x="0" y="618"/>
                              </a:lnTo>
                              <a:lnTo>
                                <a:pt x="769" y="558"/>
                              </a:lnTo>
                              <a:lnTo>
                                <a:pt x="1583" y="514"/>
                              </a:lnTo>
                              <a:lnTo>
                                <a:pt x="3225" y="514"/>
                              </a:lnTo>
                              <a:lnTo>
                                <a:pt x="4415" y="607"/>
                              </a:lnTo>
                              <a:lnTo>
                                <a:pt x="4129" y="404"/>
                              </a:lnTo>
                              <a:lnTo>
                                <a:pt x="3809" y="175"/>
                              </a:lnTo>
                              <a:lnTo>
                                <a:pt x="3799" y="166"/>
                              </a:lnTo>
                              <a:lnTo>
                                <a:pt x="3780" y="158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0" name=""/>
                      <p:cNvGrpSpPr/>
                      <p:nvPr/>
                    </p:nvGrpSpPr>
                    <p:grpSpPr>
                      <a:xfrm>
                        <a:off x="1360440" y="4591080"/>
                        <a:ext cx="1937160" cy="307800"/>
                        <a:chOff x="1360440" y="4591080"/>
                        <a:chExt cx="1937160" cy="307800"/>
                      </a:xfrm>
                    </p:grpSpPr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>
                          <a:off x="2184480" y="4591080"/>
                          <a:ext cx="1113120" cy="846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092" h="235">
                              <a:moveTo>
                                <a:pt x="0" y="235"/>
                              </a:moveTo>
                              <a:lnTo>
                                <a:pt x="31" y="197"/>
                              </a:lnTo>
                              <a:lnTo>
                                <a:pt x="63" y="168"/>
                              </a:lnTo>
                              <a:lnTo>
                                <a:pt x="98" y="143"/>
                              </a:lnTo>
                              <a:lnTo>
                                <a:pt x="133" y="128"/>
                              </a:lnTo>
                              <a:lnTo>
                                <a:pt x="553" y="63"/>
                              </a:lnTo>
                              <a:lnTo>
                                <a:pt x="1291" y="9"/>
                              </a:lnTo>
                              <a:lnTo>
                                <a:pt x="1721" y="0"/>
                              </a:lnTo>
                              <a:lnTo>
                                <a:pt x="2208" y="7"/>
                              </a:lnTo>
                              <a:lnTo>
                                <a:pt x="2729" y="74"/>
                              </a:lnTo>
                              <a:lnTo>
                                <a:pt x="2917" y="108"/>
                              </a:lnTo>
                              <a:lnTo>
                                <a:pt x="3079" y="159"/>
                              </a:lnTo>
                              <a:lnTo>
                                <a:pt x="3092" y="206"/>
                              </a:lnTo>
                              <a:lnTo>
                                <a:pt x="2901" y="161"/>
                              </a:lnTo>
                              <a:lnTo>
                                <a:pt x="2716" y="126"/>
                              </a:lnTo>
                              <a:lnTo>
                                <a:pt x="2208" y="52"/>
                              </a:lnTo>
                              <a:lnTo>
                                <a:pt x="1294" y="52"/>
                              </a:lnTo>
                              <a:lnTo>
                                <a:pt x="562" y="97"/>
                              </a:lnTo>
                              <a:lnTo>
                                <a:pt x="149" y="170"/>
                              </a:lnTo>
                              <a:lnTo>
                                <a:pt x="85" y="193"/>
                              </a:lnTo>
                              <a:lnTo>
                                <a:pt x="0" y="2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39600" bIns="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 flipH="1">
                          <a:off x="1360440" y="4746600"/>
                          <a:ext cx="792360" cy="152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3f3f3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1414440" y="4653000"/>
                  <a:ext cx="2563920" cy="676800"/>
                  <a:chOff x="1414440" y="4653000"/>
                  <a:chExt cx="2563920" cy="67680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1414440" y="4653000"/>
                    <a:ext cx="2563920" cy="676800"/>
                    <a:chOff x="1414440" y="4653000"/>
                    <a:chExt cx="2563920" cy="676800"/>
                  </a:xfrm>
                </p:grpSpPr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2292480" y="4653000"/>
                      <a:ext cx="1685880" cy="574560"/>
                      <a:chOff x="2292480" y="4653000"/>
                      <a:chExt cx="1685880" cy="574560"/>
                    </a:xfrm>
                  </p:grpSpPr>
                  <p:grpSp>
                    <p:nvGrpSpPr>
                      <p:cNvPr id="696" name=""/>
                      <p:cNvGrpSpPr/>
                      <p:nvPr/>
                    </p:nvGrpSpPr>
                    <p:grpSpPr>
                      <a:xfrm>
                        <a:off x="2487600" y="4653000"/>
                        <a:ext cx="1490760" cy="574560"/>
                        <a:chOff x="2487600" y="4653000"/>
                        <a:chExt cx="1490760" cy="574560"/>
                      </a:xfrm>
                    </p:grpSpPr>
                    <p:grpSp>
                      <p:nvGrpSpPr>
                        <p:cNvPr id="697" name=""/>
                        <p:cNvGrpSpPr/>
                        <p:nvPr/>
                      </p:nvGrpSpPr>
                      <p:grpSpPr>
                        <a:xfrm>
                          <a:off x="3456000" y="4987800"/>
                          <a:ext cx="63720" cy="28800"/>
                          <a:chOff x="3456000" y="4987800"/>
                          <a:chExt cx="63720" cy="28800"/>
                        </a:xfrm>
                      </p:grpSpPr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>
                            <a:off x="3456000" y="4991040"/>
                            <a:ext cx="50760" cy="255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9440" bIns="-19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9" name=""/>
                          <p:cNvSpPr/>
                          <p:nvPr/>
                        </p:nvSpPr>
                        <p:spPr>
                          <a:xfrm>
                            <a:off x="3467160" y="4987800"/>
                            <a:ext cx="52560" cy="237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>
                            <a:off x="3463920" y="4989600"/>
                            <a:ext cx="50760" cy="2700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1" name=""/>
                        <p:cNvGrpSpPr/>
                        <p:nvPr/>
                      </p:nvGrpSpPr>
                      <p:grpSpPr>
                        <a:xfrm>
                          <a:off x="3933720" y="5178600"/>
                          <a:ext cx="44640" cy="48960"/>
                          <a:chOff x="3933720" y="5178600"/>
                          <a:chExt cx="44640" cy="48960"/>
                        </a:xfrm>
                      </p:grpSpPr>
                      <p:sp>
                        <p:nvSpPr>
                          <p:cNvPr id="702" name=""/>
                          <p:cNvSpPr/>
                          <p:nvPr/>
                        </p:nvSpPr>
                        <p:spPr>
                          <a:xfrm>
                            <a:off x="3940200" y="5178600"/>
                            <a:ext cx="38160" cy="4752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520" bIns="2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3" name=""/>
                          <p:cNvSpPr/>
                          <p:nvPr/>
                        </p:nvSpPr>
                        <p:spPr>
                          <a:xfrm>
                            <a:off x="3940200" y="5181480"/>
                            <a:ext cx="38160" cy="460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4" name=""/>
                          <p:cNvSpPr/>
                          <p:nvPr/>
                        </p:nvSpPr>
                        <p:spPr>
                          <a:xfrm>
                            <a:off x="3933720" y="5180040"/>
                            <a:ext cx="39600" cy="4608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5" name=""/>
                          <p:cNvSpPr/>
                          <p:nvPr/>
                        </p:nvSpPr>
                        <p:spPr>
                          <a:xfrm>
                            <a:off x="3933720" y="5195880"/>
                            <a:ext cx="9360" cy="648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6" name=""/>
                        <p:cNvGrpSpPr/>
                        <p:nvPr/>
                      </p:nvGrpSpPr>
                      <p:grpSpPr>
                        <a:xfrm>
                          <a:off x="2986200" y="5162400"/>
                          <a:ext cx="46080" cy="49320"/>
                          <a:chOff x="2986200" y="5162400"/>
                          <a:chExt cx="46080" cy="49320"/>
                        </a:xfrm>
                      </p:grpSpPr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>
                            <a:off x="2986200" y="5162400"/>
                            <a:ext cx="46080" cy="4284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>
                            <a:off x="2986200" y="5165640"/>
                            <a:ext cx="46080" cy="460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>
                            <a:off x="2986200" y="5165640"/>
                            <a:ext cx="39600" cy="4284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0" name=""/>
                          <p:cNvSpPr/>
                          <p:nvPr/>
                        </p:nvSpPr>
                        <p:spPr>
                          <a:xfrm>
                            <a:off x="2986200" y="5180040"/>
                            <a:ext cx="7920" cy="648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1" name=""/>
                        <p:cNvGrpSpPr/>
                        <p:nvPr/>
                      </p:nvGrpSpPr>
                      <p:grpSpPr>
                        <a:xfrm>
                          <a:off x="2487600" y="4653000"/>
                          <a:ext cx="125640" cy="18000"/>
                          <a:chOff x="2487600" y="4653000"/>
                          <a:chExt cx="125640" cy="18000"/>
                        </a:xfrm>
                      </p:grpSpPr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>
                            <a:off x="2487600" y="4653000"/>
                            <a:ext cx="105120" cy="180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2" h="50">
                                <a:moveTo>
                                  <a:pt x="0" y="6"/>
                                </a:moveTo>
                                <a:lnTo>
                                  <a:pt x="86" y="50"/>
                                </a:lnTo>
                                <a:lnTo>
                                  <a:pt x="292" y="44"/>
                                </a:lnTo>
                                <a:lnTo>
                                  <a:pt x="205" y="0"/>
                                </a:lnTo>
                                <a:lnTo>
                                  <a:pt x="0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7000" bIns="-27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>
                            <a:off x="2506680" y="4653000"/>
                            <a:ext cx="106560" cy="180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6" h="50">
                                <a:moveTo>
                                  <a:pt x="0" y="6"/>
                                </a:moveTo>
                                <a:lnTo>
                                  <a:pt x="87" y="50"/>
                                </a:lnTo>
                                <a:lnTo>
                                  <a:pt x="296" y="44"/>
                                </a:lnTo>
                                <a:lnTo>
                                  <a:pt x="209" y="0"/>
                                </a:lnTo>
                                <a:lnTo>
                                  <a:pt x="0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7000" bIns="-27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4" name=""/>
                          <p:cNvSpPr/>
                          <p:nvPr/>
                        </p:nvSpPr>
                        <p:spPr>
                          <a:xfrm>
                            <a:off x="2495520" y="4653000"/>
                            <a:ext cx="108360" cy="180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01" h="50">
                                <a:moveTo>
                                  <a:pt x="0" y="6"/>
                                </a:moveTo>
                                <a:lnTo>
                                  <a:pt x="89" y="50"/>
                                </a:lnTo>
                                <a:lnTo>
                                  <a:pt x="301" y="44"/>
                                </a:lnTo>
                                <a:lnTo>
                                  <a:pt x="212" y="0"/>
                                </a:lnTo>
                                <a:lnTo>
                                  <a:pt x="0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7000" bIns="-27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15" name=""/>
                      <p:cNvGrpSpPr/>
                      <p:nvPr/>
                    </p:nvGrpSpPr>
                    <p:grpSpPr>
                      <a:xfrm>
                        <a:off x="2292480" y="4746600"/>
                        <a:ext cx="1190880" cy="249480"/>
                        <a:chOff x="2292480" y="4746600"/>
                        <a:chExt cx="1190880" cy="249480"/>
                      </a:xfrm>
                    </p:grpSpPr>
                    <p:grpSp>
                      <p:nvGrpSpPr>
                        <p:cNvPr id="716" name=""/>
                        <p:cNvGrpSpPr/>
                        <p:nvPr/>
                      </p:nvGrpSpPr>
                      <p:grpSpPr>
                        <a:xfrm>
                          <a:off x="3059280" y="4746600"/>
                          <a:ext cx="424080" cy="155520"/>
                          <a:chOff x="3059280" y="4746600"/>
                          <a:chExt cx="424080" cy="155520"/>
                        </a:xfrm>
                      </p:grpSpPr>
                      <p:grpSp>
                        <p:nvGrpSpPr>
                          <p:cNvPr id="717" name=""/>
                          <p:cNvGrpSpPr/>
                          <p:nvPr/>
                        </p:nvGrpSpPr>
                        <p:grpSpPr>
                          <a:xfrm>
                            <a:off x="3189240" y="4746600"/>
                            <a:ext cx="294120" cy="155520"/>
                            <a:chOff x="3189240" y="4746600"/>
                            <a:chExt cx="294120" cy="155520"/>
                          </a:xfrm>
                        </p:grpSpPr>
                        <p:grpSp>
                          <p:nvGrpSpPr>
                            <p:cNvPr id="718" name=""/>
                            <p:cNvGrpSpPr/>
                            <p:nvPr/>
                          </p:nvGrpSpPr>
                          <p:grpSpPr>
                            <a:xfrm>
                              <a:off x="3189240" y="4746600"/>
                              <a:ext cx="289440" cy="151200"/>
                              <a:chOff x="3189240" y="4746600"/>
                              <a:chExt cx="289440" cy="151200"/>
                            </a:xfrm>
                          </p:grpSpPr>
                          <p:sp>
                            <p:nvSpPr>
                              <p:cNvPr id="719" name=""/>
                              <p:cNvSpPr/>
                              <p:nvPr/>
                            </p:nvSpPr>
                            <p:spPr>
                              <a:xfrm>
                                <a:off x="3189240" y="4749840"/>
                                <a:ext cx="281520" cy="143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782" h="398">
                                    <a:moveTo>
                                      <a:pt x="779" y="398"/>
                                    </a:moveTo>
                                    <a:lnTo>
                                      <a:pt x="782" y="391"/>
                                    </a:lnTo>
                                    <a:lnTo>
                                      <a:pt x="603" y="270"/>
                                    </a:lnTo>
                                    <a:lnTo>
                                      <a:pt x="137" y="81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239" y="208"/>
                                    </a:lnTo>
                                    <a:lnTo>
                                      <a:pt x="245" y="206"/>
                                    </a:lnTo>
                                    <a:lnTo>
                                      <a:pt x="169" y="110"/>
                                    </a:lnTo>
                                    <a:lnTo>
                                      <a:pt x="600" y="280"/>
                                    </a:lnTo>
                                    <a:lnTo>
                                      <a:pt x="779" y="39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0" name=""/>
                              <p:cNvSpPr/>
                              <p:nvPr/>
                            </p:nvSpPr>
                            <p:spPr>
                              <a:xfrm>
                                <a:off x="3189240" y="4746600"/>
                                <a:ext cx="289440" cy="15120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804" h="420">
                                    <a:moveTo>
                                      <a:pt x="804" y="420"/>
                                    </a:moveTo>
                                    <a:lnTo>
                                      <a:pt x="791" y="401"/>
                                    </a:lnTo>
                                    <a:lnTo>
                                      <a:pt x="622" y="267"/>
                                    </a:lnTo>
                                    <a:lnTo>
                                      <a:pt x="147" y="8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240" y="210"/>
                                    </a:lnTo>
                                    <a:lnTo>
                                      <a:pt x="169" y="111"/>
                                    </a:lnTo>
                                    <a:lnTo>
                                      <a:pt x="602" y="283"/>
                                    </a:lnTo>
                                    <a:lnTo>
                                      <a:pt x="804" y="42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1" name=""/>
                            <p:cNvGrpSpPr/>
                            <p:nvPr/>
                          </p:nvGrpSpPr>
                          <p:grpSpPr>
                            <a:xfrm>
                              <a:off x="3471840" y="4897440"/>
                              <a:ext cx="11520" cy="4680"/>
                              <a:chOff x="3471840" y="4897440"/>
                              <a:chExt cx="11520" cy="4680"/>
                            </a:xfrm>
                          </p:grpSpPr>
                          <p:grpSp>
                            <p:nvGrpSpPr>
                              <p:cNvPr id="722" name=""/>
                              <p:cNvGrpSpPr/>
                              <p:nvPr/>
                            </p:nvGrpSpPr>
                            <p:grpSpPr>
                              <a:xfrm>
                                <a:off x="3471840" y="4897440"/>
                                <a:ext cx="6840" cy="360"/>
                                <a:chOff x="3471840" y="4897440"/>
                                <a:chExt cx="6840" cy="360"/>
                              </a:xfrm>
                            </p:grpSpPr>
                            <p:sp>
                              <p:nvSpPr>
                                <p:cNvPr id="723" name=""/>
                                <p:cNvSpPr/>
                                <p:nvPr/>
                              </p:nvSpPr>
                              <p:spPr>
                                <a:xfrm>
                                  <a:off x="3471840" y="4897440"/>
                                  <a:ext cx="360" cy="3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4640" bIns="-4464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24" name=""/>
                                <p:cNvSpPr/>
                                <p:nvPr/>
                              </p:nvSpPr>
                              <p:spPr>
                                <a:xfrm>
                                  <a:off x="3478320" y="4897440"/>
                                  <a:ext cx="360" cy="3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4640" bIns="-4464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25" name=""/>
                              <p:cNvGrpSpPr/>
                              <p:nvPr/>
                            </p:nvGrpSpPr>
                            <p:grpSpPr>
                              <a:xfrm>
                                <a:off x="3478320" y="4898880"/>
                                <a:ext cx="5040" cy="3240"/>
                                <a:chOff x="3478320" y="4898880"/>
                                <a:chExt cx="5040" cy="3240"/>
                              </a:xfrm>
                            </p:grpSpPr>
                            <p:sp>
                              <p:nvSpPr>
                                <p:cNvPr id="726" name=""/>
                                <p:cNvSpPr/>
                                <p:nvPr/>
                              </p:nvSpPr>
                              <p:spPr>
                                <a:xfrm>
                                  <a:off x="3478320" y="4898880"/>
                                  <a:ext cx="1440" cy="32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1760" bIns="-417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27" name=""/>
                                <p:cNvSpPr/>
                                <p:nvPr/>
                              </p:nvSpPr>
                              <p:spPr>
                                <a:xfrm>
                                  <a:off x="3483000" y="4898880"/>
                                  <a:ext cx="360" cy="32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1760" bIns="-417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728" name=""/>
                          <p:cNvGrpSpPr/>
                          <p:nvPr/>
                        </p:nvGrpSpPr>
                        <p:grpSpPr>
                          <a:xfrm>
                            <a:off x="3059280" y="4762440"/>
                            <a:ext cx="160560" cy="137160"/>
                            <a:chOff x="3059280" y="4762440"/>
                            <a:chExt cx="160560" cy="137160"/>
                          </a:xfrm>
                        </p:grpSpPr>
                        <p:grpSp>
                          <p:nvGrpSpPr>
                            <p:cNvPr id="729" name=""/>
                            <p:cNvGrpSpPr/>
                            <p:nvPr/>
                          </p:nvGrpSpPr>
                          <p:grpSpPr>
                            <a:xfrm>
                              <a:off x="3059280" y="4762440"/>
                              <a:ext cx="160560" cy="137160"/>
                              <a:chOff x="3059280" y="4762440"/>
                              <a:chExt cx="160560" cy="137160"/>
                            </a:xfrm>
                          </p:grpSpPr>
                          <p:sp>
                            <p:nvSpPr>
                              <p:cNvPr id="730" name=""/>
                              <p:cNvSpPr/>
                              <p:nvPr/>
                            </p:nvSpPr>
                            <p:spPr>
                              <a:xfrm>
                                <a:off x="3059280" y="4799160"/>
                                <a:ext cx="86040" cy="1004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fill="none" w="239" h="279">
                                    <a:moveTo>
                                      <a:pt x="239" y="0"/>
                                    </a:moveTo>
                                    <a:lnTo>
                                      <a:pt x="194" y="3"/>
                                    </a:lnTo>
                                    <a:lnTo>
                                      <a:pt x="0" y="257"/>
                                    </a:lnTo>
                                    <a:lnTo>
                                      <a:pt x="25" y="279"/>
                                    </a:lnTo>
                                  </a:path>
                                </a:pathLst>
                              </a:custGeom>
                              <a:ln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49320" bIns="49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31" name=""/>
                              <p:cNvGrpSpPr/>
                              <p:nvPr/>
                            </p:nvGrpSpPr>
                            <p:grpSpPr>
                              <a:xfrm>
                                <a:off x="3073320" y="4762440"/>
                                <a:ext cx="146520" cy="135360"/>
                                <a:chOff x="3073320" y="4762440"/>
                                <a:chExt cx="146520" cy="135360"/>
                              </a:xfrm>
                            </p:grpSpPr>
                            <p:sp>
                              <p:nvSpPr>
                                <p:cNvPr id="732" name=""/>
                                <p:cNvSpPr/>
                                <p:nvPr/>
                              </p:nvSpPr>
                              <p:spPr>
                                <a:xfrm>
                                  <a:off x="3073320" y="4762440"/>
                                  <a:ext cx="140040" cy="135360"/>
                                </a:xfrm>
                                <a:custGeom>
                                  <a:avLst/>
                                  <a:gdLst/>
                                  <a:ahLst/>
                                  <a:rect l="0" t="0" r="r" b="b"/>
                                  <a:pathLst>
                                    <a:path w="389" h="376">
                                      <a:moveTo>
                                        <a:pt x="146" y="1"/>
                                      </a:moveTo>
                                      <a:lnTo>
                                        <a:pt x="152" y="0"/>
                                      </a:lnTo>
                                      <a:lnTo>
                                        <a:pt x="389" y="216"/>
                                      </a:lnTo>
                                      <a:lnTo>
                                        <a:pt x="386" y="222"/>
                                      </a:lnTo>
                                      <a:lnTo>
                                        <a:pt x="236" y="129"/>
                                      </a:lnTo>
                                      <a:lnTo>
                                        <a:pt x="11" y="376"/>
                                      </a:lnTo>
                                      <a:lnTo>
                                        <a:pt x="0" y="376"/>
                                      </a:lnTo>
                                      <a:lnTo>
                                        <a:pt x="203" y="104"/>
                                      </a:lnTo>
                                      <a:lnTo>
                                        <a:pt x="146" y="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3f3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45000" bIns="450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3" name=""/>
                                <p:cNvSpPr/>
                                <p:nvPr/>
                              </p:nvSpPr>
                              <p:spPr>
                                <a:xfrm>
                                  <a:off x="3073320" y="4762440"/>
                                  <a:ext cx="146520" cy="132120"/>
                                </a:xfrm>
                                <a:custGeom>
                                  <a:avLst/>
                                  <a:gdLst/>
                                  <a:ahLst/>
                                  <a:rect l="0" t="0" r="r" b="b"/>
                                  <a:pathLst>
                                    <a:path w="407" h="367">
                                      <a:moveTo>
                                        <a:pt x="155" y="0"/>
                                      </a:moveTo>
                                      <a:lnTo>
                                        <a:pt x="407" y="216"/>
                                      </a:lnTo>
                                      <a:lnTo>
                                        <a:pt x="248" y="124"/>
                                      </a:lnTo>
                                      <a:lnTo>
                                        <a:pt x="12" y="367"/>
                                      </a:lnTo>
                                      <a:lnTo>
                                        <a:pt x="0" y="367"/>
                                      </a:lnTo>
                                      <a:lnTo>
                                        <a:pt x="214" y="99"/>
                                      </a:lnTo>
                                      <a:lnTo>
                                        <a:pt x="155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45000" bIns="450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734" name=""/>
                            <p:cNvGrpSpPr/>
                            <p:nvPr/>
                          </p:nvGrpSpPr>
                          <p:grpSpPr>
                            <a:xfrm>
                              <a:off x="3067200" y="4892760"/>
                              <a:ext cx="10800" cy="6120"/>
                              <a:chOff x="3067200" y="4892760"/>
                              <a:chExt cx="10800" cy="6120"/>
                            </a:xfrm>
                          </p:grpSpPr>
                          <p:grpSp>
                            <p:nvGrpSpPr>
                              <p:cNvPr id="735" name=""/>
                              <p:cNvGrpSpPr/>
                              <p:nvPr/>
                            </p:nvGrpSpPr>
                            <p:grpSpPr>
                              <a:xfrm>
                                <a:off x="3073320" y="4892760"/>
                                <a:ext cx="4680" cy="4680"/>
                                <a:chOff x="3073320" y="4892760"/>
                                <a:chExt cx="4680" cy="4680"/>
                              </a:xfrm>
                            </p:grpSpPr>
                            <p:sp>
                              <p:nvSpPr>
                                <p:cNvPr id="736" name=""/>
                                <p:cNvSpPr/>
                                <p:nvPr/>
                              </p:nvSpPr>
                              <p:spPr>
                                <a:xfrm>
                                  <a:off x="3073320" y="4892760"/>
                                  <a:ext cx="360" cy="46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0320" bIns="-4032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7" name=""/>
                                <p:cNvSpPr/>
                                <p:nvPr/>
                              </p:nvSpPr>
                              <p:spPr>
                                <a:xfrm>
                                  <a:off x="3073320" y="4892760"/>
                                  <a:ext cx="4680" cy="46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0320" bIns="-4032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38" name=""/>
                              <p:cNvGrpSpPr/>
                              <p:nvPr/>
                            </p:nvGrpSpPr>
                            <p:grpSpPr>
                              <a:xfrm>
                                <a:off x="3067200" y="4897440"/>
                                <a:ext cx="4680" cy="1440"/>
                                <a:chOff x="3067200" y="4897440"/>
                                <a:chExt cx="4680" cy="1440"/>
                              </a:xfrm>
                            </p:grpSpPr>
                            <p:sp>
                              <p:nvSpPr>
                                <p:cNvPr id="739" name=""/>
                                <p:cNvSpPr/>
                                <p:nvPr/>
                              </p:nvSpPr>
                              <p:spPr>
                                <a:xfrm>
                                  <a:off x="3067200" y="4897440"/>
                                  <a:ext cx="360" cy="14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0" name=""/>
                                <p:cNvSpPr/>
                                <p:nvPr/>
                              </p:nvSpPr>
                              <p:spPr>
                                <a:xfrm>
                                  <a:off x="3067200" y="4897440"/>
                                  <a:ext cx="4680" cy="14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741" name=""/>
                        <p:cNvGrpSpPr/>
                        <p:nvPr/>
                      </p:nvGrpSpPr>
                      <p:grpSpPr>
                        <a:xfrm>
                          <a:off x="2292480" y="4821120"/>
                          <a:ext cx="235080" cy="174960"/>
                          <a:chOff x="2292480" y="4821120"/>
                          <a:chExt cx="235080" cy="174960"/>
                        </a:xfrm>
                      </p:grpSpPr>
                      <p:sp>
                        <p:nvSpPr>
                          <p:cNvPr id="742" name=""/>
                          <p:cNvSpPr/>
                          <p:nvPr/>
                        </p:nvSpPr>
                        <p:spPr>
                          <a:xfrm>
                            <a:off x="2457360" y="4921200"/>
                            <a:ext cx="35280" cy="74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98" h="208">
                                <a:moveTo>
                                  <a:pt x="93" y="12"/>
                                </a:moveTo>
                                <a:lnTo>
                                  <a:pt x="47" y="110"/>
                                </a:lnTo>
                                <a:lnTo>
                                  <a:pt x="47" y="0"/>
                                </a:lnTo>
                                <a:lnTo>
                                  <a:pt x="0" y="81"/>
                                </a:lnTo>
                                <a:lnTo>
                                  <a:pt x="0" y="208"/>
                                </a:lnTo>
                                <a:lnTo>
                                  <a:pt x="47" y="150"/>
                                </a:lnTo>
                                <a:lnTo>
                                  <a:pt x="47" y="130"/>
                                </a:lnTo>
                                <a:lnTo>
                                  <a:pt x="98" y="25"/>
                                </a:lnTo>
                                <a:lnTo>
                                  <a:pt x="93" y="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9880" bIns="29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743" name=""/>
                          <p:cNvGrpSpPr/>
                          <p:nvPr/>
                        </p:nvGrpSpPr>
                        <p:grpSpPr>
                          <a:xfrm>
                            <a:off x="2292480" y="4821120"/>
                            <a:ext cx="235080" cy="121320"/>
                            <a:chOff x="2292480" y="4821120"/>
                            <a:chExt cx="235080" cy="121320"/>
                          </a:xfrm>
                        </p:grpSpPr>
                        <p:grpSp>
                          <p:nvGrpSpPr>
                            <p:cNvPr id="744" name=""/>
                            <p:cNvGrpSpPr/>
                            <p:nvPr/>
                          </p:nvGrpSpPr>
                          <p:grpSpPr>
                            <a:xfrm>
                              <a:off x="2292480" y="4826160"/>
                              <a:ext cx="235080" cy="116280"/>
                              <a:chOff x="2292480" y="4826160"/>
                              <a:chExt cx="235080" cy="116280"/>
                            </a:xfrm>
                          </p:grpSpPr>
                          <p:sp>
                            <p:nvSpPr>
                              <p:cNvPr id="745" name=""/>
                              <p:cNvSpPr/>
                              <p:nvPr/>
                            </p:nvSpPr>
                            <p:spPr>
                              <a:xfrm>
                                <a:off x="2317680" y="4892760"/>
                                <a:ext cx="203400" cy="417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565" h="116">
                                    <a:moveTo>
                                      <a:pt x="82" y="1"/>
                                    </a:moveTo>
                                    <a:lnTo>
                                      <a:pt x="476" y="48"/>
                                    </a:lnTo>
                                    <a:lnTo>
                                      <a:pt x="510" y="55"/>
                                    </a:lnTo>
                                    <a:lnTo>
                                      <a:pt x="531" y="63"/>
                                    </a:lnTo>
                                    <a:lnTo>
                                      <a:pt x="544" y="74"/>
                                    </a:lnTo>
                                    <a:lnTo>
                                      <a:pt x="565" y="113"/>
                                    </a:lnTo>
                                    <a:lnTo>
                                      <a:pt x="507" y="116"/>
                                    </a:lnTo>
                                    <a:lnTo>
                                      <a:pt x="498" y="89"/>
                                    </a:lnTo>
                                    <a:lnTo>
                                      <a:pt x="492" y="80"/>
                                    </a:lnTo>
                                    <a:lnTo>
                                      <a:pt x="476" y="71"/>
                                    </a:lnTo>
                                    <a:lnTo>
                                      <a:pt x="449" y="66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79" y="0"/>
                                    </a:lnTo>
                                    <a:lnTo>
                                      <a:pt x="82" y="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3240" bIns="-3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6" name=""/>
                              <p:cNvSpPr/>
                              <p:nvPr/>
                            </p:nvSpPr>
                            <p:spPr>
                              <a:xfrm>
                                <a:off x="2500200" y="4935600"/>
                                <a:ext cx="27360" cy="68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76" h="19">
                                    <a:moveTo>
                                      <a:pt x="0" y="3"/>
                                    </a:moveTo>
                                    <a:lnTo>
                                      <a:pt x="76" y="0"/>
                                    </a:lnTo>
                                    <a:lnTo>
                                      <a:pt x="76" y="16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38160" bIns="-38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7" name=""/>
                              <p:cNvSpPr/>
                              <p:nvPr/>
                            </p:nvSpPr>
                            <p:spPr>
                              <a:xfrm>
                                <a:off x="2292480" y="4826160"/>
                                <a:ext cx="84600" cy="813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35" h="226">
                                    <a:moveTo>
                                      <a:pt x="0" y="226"/>
                                    </a:moveTo>
                                    <a:lnTo>
                                      <a:pt x="235" y="208"/>
                                    </a:lnTo>
                                    <a:lnTo>
                                      <a:pt x="235" y="0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0" y="22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30240" bIns="30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8" name=""/>
                            <p:cNvGrpSpPr/>
                            <p:nvPr/>
                          </p:nvGrpSpPr>
                          <p:grpSpPr>
                            <a:xfrm>
                              <a:off x="2295360" y="4821120"/>
                              <a:ext cx="232200" cy="119520"/>
                              <a:chOff x="2295360" y="4821120"/>
                              <a:chExt cx="232200" cy="119520"/>
                            </a:xfrm>
                          </p:grpSpPr>
                          <p:sp>
                            <p:nvSpPr>
                              <p:cNvPr id="749" name=""/>
                              <p:cNvSpPr/>
                              <p:nvPr/>
                            </p:nvSpPr>
                            <p:spPr>
                              <a:xfrm>
                                <a:off x="2317680" y="4890960"/>
                                <a:ext cx="205200" cy="417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570" h="116">
                                    <a:moveTo>
                                      <a:pt x="83" y="1"/>
                                    </a:moveTo>
                                    <a:lnTo>
                                      <a:pt x="481" y="48"/>
                                    </a:lnTo>
                                    <a:lnTo>
                                      <a:pt x="515" y="55"/>
                                    </a:lnTo>
                                    <a:lnTo>
                                      <a:pt x="537" y="63"/>
                                    </a:lnTo>
                                    <a:lnTo>
                                      <a:pt x="549" y="74"/>
                                    </a:lnTo>
                                    <a:lnTo>
                                      <a:pt x="570" y="113"/>
                                    </a:lnTo>
                                    <a:lnTo>
                                      <a:pt x="512" y="116"/>
                                    </a:lnTo>
                                    <a:lnTo>
                                      <a:pt x="503" y="89"/>
                                    </a:lnTo>
                                    <a:lnTo>
                                      <a:pt x="497" y="80"/>
                                    </a:lnTo>
                                    <a:lnTo>
                                      <a:pt x="481" y="71"/>
                                    </a:lnTo>
                                    <a:lnTo>
                                      <a:pt x="454" y="66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79" y="0"/>
                                    </a:lnTo>
                                    <a:lnTo>
                                      <a:pt x="83" y="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3240" bIns="-3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0" name=""/>
                              <p:cNvSpPr/>
                              <p:nvPr/>
                            </p:nvSpPr>
                            <p:spPr>
                              <a:xfrm>
                                <a:off x="2503440" y="4933800"/>
                                <a:ext cx="24120" cy="68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67" h="19">
                                    <a:moveTo>
                                      <a:pt x="0" y="3"/>
                                    </a:moveTo>
                                    <a:lnTo>
                                      <a:pt x="67" y="0"/>
                                    </a:lnTo>
                                    <a:lnTo>
                                      <a:pt x="67" y="16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38160" bIns="-38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1" name=""/>
                              <p:cNvSpPr/>
                              <p:nvPr/>
                            </p:nvSpPr>
                            <p:spPr>
                              <a:xfrm>
                                <a:off x="2295360" y="4821120"/>
                                <a:ext cx="90720" cy="8460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52" h="235">
                                    <a:moveTo>
                                      <a:pt x="0" y="235"/>
                                    </a:moveTo>
                                    <a:lnTo>
                                      <a:pt x="252" y="216"/>
                                    </a:lnTo>
                                    <a:lnTo>
                                      <a:pt x="252" y="0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0" y="2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12600">
                                <a:solidFill>
                                  <a:srgbClr val="80808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33480" bIns="33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752" name=""/>
                    <p:cNvGrpSpPr/>
                    <p:nvPr/>
                  </p:nvGrpSpPr>
                  <p:grpSpPr>
                    <a:xfrm>
                      <a:off x="1414440" y="4776840"/>
                      <a:ext cx="932040" cy="552960"/>
                      <a:chOff x="1414440" y="4776840"/>
                      <a:chExt cx="932040" cy="552960"/>
                    </a:xfrm>
                  </p:grpSpPr>
                  <p:grpSp>
                    <p:nvGrpSpPr>
                      <p:cNvPr id="753" name=""/>
                      <p:cNvGrpSpPr/>
                      <p:nvPr/>
                    </p:nvGrpSpPr>
                    <p:grpSpPr>
                      <a:xfrm>
                        <a:off x="1641600" y="5103720"/>
                        <a:ext cx="704880" cy="70200"/>
                        <a:chOff x="1641600" y="5103720"/>
                        <a:chExt cx="704880" cy="70200"/>
                      </a:xfrm>
                    </p:grpSpPr>
                    <p:grpSp>
                      <p:nvGrpSpPr>
                        <p:cNvPr id="754" name=""/>
                        <p:cNvGrpSpPr/>
                        <p:nvPr/>
                      </p:nvGrpSpPr>
                      <p:grpSpPr>
                        <a:xfrm>
                          <a:off x="2274840" y="5103720"/>
                          <a:ext cx="71640" cy="62280"/>
                          <a:chOff x="2274840" y="5103720"/>
                          <a:chExt cx="71640" cy="62280"/>
                        </a:xfrm>
                      </p:grpSpPr>
                      <p:sp>
                        <p:nvSpPr>
                          <p:cNvPr id="755" name=""/>
                          <p:cNvSpPr/>
                          <p:nvPr/>
                        </p:nvSpPr>
                        <p:spPr>
                          <a:xfrm>
                            <a:off x="2278080" y="5105520"/>
                            <a:ext cx="68400" cy="6048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5480" bIns="15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6" name=""/>
                          <p:cNvSpPr/>
                          <p:nvPr/>
                        </p:nvSpPr>
                        <p:spPr>
                          <a:xfrm>
                            <a:off x="2274840" y="5103720"/>
                            <a:ext cx="60480" cy="6192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6920" bIns="16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7" name=""/>
                          <p:cNvSpPr/>
                          <p:nvPr/>
                        </p:nvSpPr>
                        <p:spPr>
                          <a:xfrm>
                            <a:off x="2278080" y="5119560"/>
                            <a:ext cx="55440" cy="4608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8" name=""/>
                          <p:cNvSpPr/>
                          <p:nvPr/>
                        </p:nvSpPr>
                        <p:spPr>
                          <a:xfrm>
                            <a:off x="2278080" y="5103720"/>
                            <a:ext cx="55440" cy="475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520" bIns="2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9" name=""/>
                          <p:cNvSpPr/>
                          <p:nvPr/>
                        </p:nvSpPr>
                        <p:spPr>
                          <a:xfrm>
                            <a:off x="2278080" y="5113440"/>
                            <a:ext cx="55440" cy="4608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0" name=""/>
                        <p:cNvGrpSpPr/>
                        <p:nvPr/>
                      </p:nvGrpSpPr>
                      <p:grpSpPr>
                        <a:xfrm>
                          <a:off x="1641600" y="5127480"/>
                          <a:ext cx="50760" cy="46440"/>
                          <a:chOff x="1641600" y="5127480"/>
                          <a:chExt cx="50760" cy="46440"/>
                        </a:xfrm>
                      </p:grpSpPr>
                      <p:sp>
                        <p:nvSpPr>
                          <p:cNvPr id="761" name=""/>
                          <p:cNvSpPr/>
                          <p:nvPr/>
                        </p:nvSpPr>
                        <p:spPr>
                          <a:xfrm>
                            <a:off x="1643040" y="5127480"/>
                            <a:ext cx="49320" cy="4608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2" name=""/>
                          <p:cNvSpPr/>
                          <p:nvPr/>
                        </p:nvSpPr>
                        <p:spPr>
                          <a:xfrm>
                            <a:off x="1641600" y="5127480"/>
                            <a:ext cx="42840" cy="460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" bIns="1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3" name=""/>
                          <p:cNvSpPr/>
                          <p:nvPr/>
                        </p:nvSpPr>
                        <p:spPr>
                          <a:xfrm>
                            <a:off x="1643040" y="5140440"/>
                            <a:ext cx="34920" cy="3348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4" name=""/>
                          <p:cNvSpPr/>
                          <p:nvPr/>
                        </p:nvSpPr>
                        <p:spPr>
                          <a:xfrm>
                            <a:off x="1643040" y="5127480"/>
                            <a:ext cx="34920" cy="3168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5" name=""/>
                          <p:cNvSpPr/>
                          <p:nvPr/>
                        </p:nvSpPr>
                        <p:spPr>
                          <a:xfrm>
                            <a:off x="1643040" y="5132520"/>
                            <a:ext cx="34920" cy="3348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66" name=""/>
                      <p:cNvGrpSpPr/>
                      <p:nvPr/>
                    </p:nvGrpSpPr>
                    <p:grpSpPr>
                      <a:xfrm>
                        <a:off x="1414440" y="4776840"/>
                        <a:ext cx="814680" cy="552960"/>
                        <a:chOff x="1414440" y="4776840"/>
                        <a:chExt cx="814680" cy="552960"/>
                      </a:xfrm>
                    </p:grpSpPr>
                    <p:grpSp>
                      <p:nvGrpSpPr>
                        <p:cNvPr id="767" name=""/>
                        <p:cNvGrpSpPr/>
                        <p:nvPr/>
                      </p:nvGrpSpPr>
                      <p:grpSpPr>
                        <a:xfrm>
                          <a:off x="1943280" y="4776840"/>
                          <a:ext cx="179640" cy="198720"/>
                          <a:chOff x="1943280" y="4776840"/>
                          <a:chExt cx="179640" cy="198720"/>
                        </a:xfrm>
                      </p:grpSpPr>
                      <p:sp>
                        <p:nvSpPr>
                          <p:cNvPr id="768" name=""/>
                          <p:cNvSpPr/>
                          <p:nvPr/>
                        </p:nvSpPr>
                        <p:spPr>
                          <a:xfrm>
                            <a:off x="1943280" y="4776840"/>
                            <a:ext cx="179640" cy="669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99" h="186">
                                <a:moveTo>
                                  <a:pt x="0" y="87"/>
                                </a:moveTo>
                                <a:lnTo>
                                  <a:pt x="198" y="186"/>
                                </a:lnTo>
                                <a:lnTo>
                                  <a:pt x="499" y="132"/>
                                </a:lnTo>
                                <a:lnTo>
                                  <a:pt x="499" y="0"/>
                                </a:lnTo>
                                <a:lnTo>
                                  <a:pt x="0" y="8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1960" bIns="21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9" name=""/>
                          <p:cNvSpPr/>
                          <p:nvPr/>
                        </p:nvSpPr>
                        <p:spPr>
                          <a:xfrm>
                            <a:off x="1943280" y="4811760"/>
                            <a:ext cx="63720" cy="1638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77" h="455">
                                <a:moveTo>
                                  <a:pt x="0" y="0"/>
                                </a:moveTo>
                                <a:lnTo>
                                  <a:pt x="177" y="100"/>
                                </a:lnTo>
                                <a:lnTo>
                                  <a:pt x="177" y="439"/>
                                </a:lnTo>
                                <a:lnTo>
                                  <a:pt x="0" y="455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0" name=""/>
                          <p:cNvSpPr/>
                          <p:nvPr/>
                        </p:nvSpPr>
                        <p:spPr>
                          <a:xfrm>
                            <a:off x="2019240" y="4826160"/>
                            <a:ext cx="103680" cy="1400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389">
                                <a:moveTo>
                                  <a:pt x="288" y="0"/>
                                </a:moveTo>
                                <a:lnTo>
                                  <a:pt x="0" y="54"/>
                                </a:lnTo>
                                <a:lnTo>
                                  <a:pt x="0" y="389"/>
                                </a:lnTo>
                                <a:lnTo>
                                  <a:pt x="288" y="364"/>
                                </a:lnTo>
                                <a:lnTo>
                                  <a:pt x="28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1" name=""/>
                          <p:cNvSpPr/>
                          <p:nvPr/>
                        </p:nvSpPr>
                        <p:spPr>
                          <a:xfrm>
                            <a:off x="2031840" y="4797360"/>
                            <a:ext cx="0" cy="177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9f9f9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2" name=""/>
                        <p:cNvGrpSpPr/>
                        <p:nvPr/>
                      </p:nvGrpSpPr>
                      <p:grpSpPr>
                        <a:xfrm>
                          <a:off x="1414440" y="4799160"/>
                          <a:ext cx="814680" cy="530640"/>
                          <a:chOff x="1414440" y="4799160"/>
                          <a:chExt cx="814680" cy="530640"/>
                        </a:xfrm>
                      </p:grpSpPr>
                      <p:grpSp>
                        <p:nvGrpSpPr>
                          <p:cNvPr id="773" name=""/>
                          <p:cNvGrpSpPr/>
                          <p:nvPr/>
                        </p:nvGrpSpPr>
                        <p:grpSpPr>
                          <a:xfrm>
                            <a:off x="2166840" y="5267160"/>
                            <a:ext cx="62280" cy="62640"/>
                            <a:chOff x="2166840" y="5267160"/>
                            <a:chExt cx="62280" cy="62640"/>
                          </a:xfrm>
                        </p:grpSpPr>
                        <p:sp>
                          <p:nvSpPr>
                            <p:cNvPr id="774" name=""/>
                            <p:cNvSpPr/>
                            <p:nvPr/>
                          </p:nvSpPr>
                          <p:spPr>
                            <a:xfrm>
                              <a:off x="2166840" y="5268960"/>
                              <a:ext cx="62280" cy="6084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173" h="169">
                                  <a:moveTo>
                                    <a:pt x="0" y="0"/>
                                  </a:moveTo>
                                  <a:lnTo>
                                    <a:pt x="173" y="3"/>
                                  </a:lnTo>
                                  <a:lnTo>
                                    <a:pt x="173" y="169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15840" bIns="15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5" name=""/>
                            <p:cNvSpPr/>
                            <p:nvPr/>
                          </p:nvSpPr>
                          <p:spPr>
                            <a:xfrm>
                              <a:off x="2166840" y="5267160"/>
                              <a:ext cx="62280" cy="6228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173" h="173">
                                  <a:moveTo>
                                    <a:pt x="0" y="0"/>
                                  </a:moveTo>
                                  <a:lnTo>
                                    <a:pt x="173" y="173"/>
                                  </a:lnTo>
                                  <a:lnTo>
                                    <a:pt x="0" y="163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17280" bIns="17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76" name=""/>
                          <p:cNvGrpSpPr/>
                          <p:nvPr/>
                        </p:nvGrpSpPr>
                        <p:grpSpPr>
                          <a:xfrm>
                            <a:off x="1414440" y="4799160"/>
                            <a:ext cx="437040" cy="417600"/>
                            <a:chOff x="1414440" y="4799160"/>
                            <a:chExt cx="437040" cy="417600"/>
                          </a:xfrm>
                        </p:grpSpPr>
                        <p:grpSp>
                          <p:nvGrpSpPr>
                            <p:cNvPr id="777" name=""/>
                            <p:cNvGrpSpPr/>
                            <p:nvPr/>
                          </p:nvGrpSpPr>
                          <p:grpSpPr>
                            <a:xfrm>
                              <a:off x="1508040" y="4897440"/>
                              <a:ext cx="343440" cy="319320"/>
                              <a:chOff x="1508040" y="4897440"/>
                              <a:chExt cx="343440" cy="319320"/>
                            </a:xfrm>
                          </p:grpSpPr>
                          <p:grpSp>
                            <p:nvGrpSpPr>
                              <p:cNvPr id="778" name=""/>
                              <p:cNvGrpSpPr/>
                              <p:nvPr/>
                            </p:nvGrpSpPr>
                            <p:grpSpPr>
                              <a:xfrm>
                                <a:off x="1508040" y="4897440"/>
                                <a:ext cx="135000" cy="216000"/>
                                <a:chOff x="1508040" y="4897440"/>
                                <a:chExt cx="135000" cy="216000"/>
                              </a:xfrm>
                            </p:grpSpPr>
                            <p:grpSp>
                              <p:nvGrpSpPr>
                                <p:cNvPr id="779" name=""/>
                                <p:cNvGrpSpPr/>
                                <p:nvPr/>
                              </p:nvGrpSpPr>
                              <p:grpSpPr>
                                <a:xfrm>
                                  <a:off x="1508040" y="4935600"/>
                                  <a:ext cx="135000" cy="168120"/>
                                  <a:chOff x="1508040" y="4935600"/>
                                  <a:chExt cx="135000" cy="168120"/>
                                </a:xfrm>
                              </p:grpSpPr>
                              <p:sp>
                                <p:nvSpPr>
                                  <p:cNvPr id="780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8040" y="4935600"/>
                                    <a:ext cx="133560" cy="2052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30600" bIns="-30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1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8040" y="5100480"/>
                                    <a:ext cx="133560" cy="3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7880" bIns="-478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2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8040" y="4950000"/>
                                    <a:ext cx="133560" cy="172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33840" bIns="-338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3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8040" y="4967280"/>
                                    <a:ext cx="133560" cy="158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35280" bIns="-352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8040" y="4987800"/>
                                    <a:ext cx="135000" cy="972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1400" bIns="-414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8040" y="5003640"/>
                                    <a:ext cx="135000" cy="64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4640" bIns="-446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6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8040" y="5016600"/>
                                    <a:ext cx="135000" cy="9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1760" bIns="-417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7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8040" y="5032440"/>
                                    <a:ext cx="135000" cy="612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5000" bIns="-45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8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9840" y="5046840"/>
                                    <a:ext cx="131760" cy="612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5000" bIns="-45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9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9840" y="5059440"/>
                                    <a:ext cx="131760" cy="46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6440" bIns="-464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90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9840" y="5073480"/>
                                    <a:ext cx="131760" cy="82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2840" bIns="-428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91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509840" y="5086440"/>
                                    <a:ext cx="131760" cy="9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6120" rIns="96120" tIns="-41760" bIns="-417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92" name=""/>
                                <p:cNvSpPr/>
                                <p:nvPr/>
                              </p:nvSpPr>
                              <p:spPr>
                                <a:xfrm flipV="1">
                                  <a:off x="1579680" y="4897440"/>
                                  <a:ext cx="0" cy="21600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c0c0c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6120" rIns="96120" tIns="51120" bIns="5112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93" name=""/>
                              <p:cNvGrpSpPr/>
                              <p:nvPr/>
                            </p:nvGrpSpPr>
                            <p:grpSpPr>
                              <a:xfrm>
                                <a:off x="1736640" y="5103720"/>
                                <a:ext cx="114840" cy="113040"/>
                                <a:chOff x="1736640" y="5103720"/>
                                <a:chExt cx="114840" cy="113040"/>
                              </a:xfrm>
                            </p:grpSpPr>
                            <p:grpSp>
                              <p:nvGrpSpPr>
                                <p:cNvPr id="794" name=""/>
                                <p:cNvGrpSpPr/>
                                <p:nvPr/>
                              </p:nvGrpSpPr>
                              <p:grpSpPr>
                                <a:xfrm>
                                  <a:off x="1736640" y="5110200"/>
                                  <a:ext cx="49680" cy="106560"/>
                                  <a:chOff x="1736640" y="5110200"/>
                                  <a:chExt cx="49680" cy="106560"/>
                                </a:xfrm>
                              </p:grpSpPr>
                              <p:sp>
                                <p:nvSpPr>
                                  <p:cNvPr id="795" name=""/>
                                  <p:cNvSpPr/>
                                  <p:nvPr/>
                                </p:nvSpPr>
                                <p:spPr>
                                  <a:xfrm>
                                    <a:off x="1736640" y="5110200"/>
                                    <a:ext cx="49680" cy="1065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0" t="0" r="r" b="b"/>
                                    <a:pathLst>
                                      <a:path w="138" h="296">
                                        <a:moveTo>
                                          <a:pt x="0" y="7"/>
                                        </a:moveTo>
                                        <a:lnTo>
                                          <a:pt x="138" y="0"/>
                                        </a:lnTo>
                                        <a:lnTo>
                                          <a:pt x="138" y="296"/>
                                        </a:lnTo>
                                        <a:lnTo>
                                          <a:pt x="0" y="294"/>
                                        </a:lnTo>
                                        <a:lnTo>
                                          <a:pt x="0" y="7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45000" bIns="45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96" name=""/>
                                  <p:cNvSpPr/>
                                  <p:nvPr/>
                                </p:nvSpPr>
                                <p:spPr>
                                  <a:xfrm>
                                    <a:off x="1736640" y="5110200"/>
                                    <a:ext cx="49680" cy="576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0" t="0" r="r" b="b"/>
                                    <a:pathLst>
                                      <a:path w="138" h="160">
                                        <a:moveTo>
                                          <a:pt x="0" y="6"/>
                                        </a:moveTo>
                                        <a:lnTo>
                                          <a:pt x="138" y="0"/>
                                        </a:lnTo>
                                        <a:lnTo>
                                          <a:pt x="138" y="159"/>
                                        </a:lnTo>
                                        <a:lnTo>
                                          <a:pt x="0" y="160"/>
                                        </a:lnTo>
                                        <a:lnTo>
                                          <a:pt x="0" y="6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12600" bIns="12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ffff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797" name=""/>
                                <p:cNvGrpSpPr/>
                                <p:nvPr/>
                              </p:nvGrpSpPr>
                              <p:grpSpPr>
                                <a:xfrm>
                                  <a:off x="1808280" y="5103720"/>
                                  <a:ext cx="43200" cy="113040"/>
                                  <a:chOff x="1808280" y="5103720"/>
                                  <a:chExt cx="43200" cy="113040"/>
                                </a:xfrm>
                              </p:grpSpPr>
                              <p:sp>
                                <p:nvSpPr>
                                  <p:cNvPr id="798" name=""/>
                                  <p:cNvSpPr/>
                                  <p:nvPr/>
                                </p:nvSpPr>
                                <p:spPr>
                                  <a:xfrm>
                                    <a:off x="1808280" y="5103720"/>
                                    <a:ext cx="43200" cy="1130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0" t="0" r="r" b="b"/>
                                    <a:pathLst>
                                      <a:path w="120" h="314">
                                        <a:moveTo>
                                          <a:pt x="0" y="9"/>
                                        </a:moveTo>
                                        <a:lnTo>
                                          <a:pt x="120" y="0"/>
                                        </a:lnTo>
                                        <a:lnTo>
                                          <a:pt x="120" y="314"/>
                                        </a:lnTo>
                                        <a:lnTo>
                                          <a:pt x="0" y="312"/>
                                        </a:lnTo>
                                        <a:lnTo>
                                          <a:pt x="0" y="9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45000" bIns="45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99" name=""/>
                                  <p:cNvSpPr/>
                                  <p:nvPr/>
                                </p:nvSpPr>
                                <p:spPr>
                                  <a:xfrm>
                                    <a:off x="1808280" y="5103720"/>
                                    <a:ext cx="43200" cy="622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0" t="0" r="r" b="b"/>
                                    <a:pathLst>
                                      <a:path w="120" h="173">
                                        <a:moveTo>
                                          <a:pt x="0" y="8"/>
                                        </a:moveTo>
                                        <a:lnTo>
                                          <a:pt x="120" y="0"/>
                                        </a:lnTo>
                                        <a:lnTo>
                                          <a:pt x="120" y="172"/>
                                        </a:lnTo>
                                        <a:lnTo>
                                          <a:pt x="0" y="173"/>
                                        </a:lnTo>
                                        <a:lnTo>
                                          <a:pt x="0" y="8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17280" bIns="172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ffff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800" name=""/>
                            <p:cNvGrpSpPr/>
                            <p:nvPr/>
                          </p:nvGrpSpPr>
                          <p:grpSpPr>
                            <a:xfrm>
                              <a:off x="1414440" y="4799160"/>
                              <a:ext cx="65520" cy="71640"/>
                              <a:chOff x="1414440" y="4799160"/>
                              <a:chExt cx="65520" cy="71640"/>
                            </a:xfrm>
                          </p:grpSpPr>
                          <p:sp>
                            <p:nvSpPr>
                              <p:cNvPr id="801" name=""/>
                              <p:cNvSpPr/>
                              <p:nvPr/>
                            </p:nvSpPr>
                            <p:spPr>
                              <a:xfrm>
                                <a:off x="1414440" y="4799160"/>
                                <a:ext cx="65520" cy="716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82" h="199">
                                    <a:moveTo>
                                      <a:pt x="0" y="199"/>
                                    </a:moveTo>
                                    <a:lnTo>
                                      <a:pt x="182" y="159"/>
                                    </a:lnTo>
                                    <a:lnTo>
                                      <a:pt x="182" y="0"/>
                                    </a:lnTo>
                                    <a:lnTo>
                                      <a:pt x="0" y="37"/>
                                    </a:lnTo>
                                    <a:lnTo>
                                      <a:pt x="0" y="199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26640" bIns="26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02" name=""/>
                              <p:cNvSpPr/>
                              <p:nvPr/>
                            </p:nvSpPr>
                            <p:spPr>
                              <a:xfrm>
                                <a:off x="1414440" y="4799160"/>
                                <a:ext cx="65520" cy="385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82" h="107">
                                    <a:moveTo>
                                      <a:pt x="0" y="107"/>
                                    </a:moveTo>
                                    <a:lnTo>
                                      <a:pt x="31" y="65"/>
                                    </a:lnTo>
                                    <a:lnTo>
                                      <a:pt x="182" y="30"/>
                                    </a:lnTo>
                                    <a:lnTo>
                                      <a:pt x="182" y="0"/>
                                    </a:lnTo>
                                    <a:lnTo>
                                      <a:pt x="0" y="35"/>
                                    </a:lnTo>
                                    <a:lnTo>
                                      <a:pt x="0" y="10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6480" bIns="-6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2122560" y="4754520"/>
                    <a:ext cx="133560" cy="471960"/>
                    <a:chOff x="2122560" y="4754520"/>
                    <a:chExt cx="133560" cy="471960"/>
                  </a:xfrm>
                </p:grpSpPr>
                <p:grpSp>
                  <p:nvGrpSpPr>
                    <p:cNvPr id="804" name=""/>
                    <p:cNvGrpSpPr/>
                    <p:nvPr/>
                  </p:nvGrpSpPr>
                  <p:grpSpPr>
                    <a:xfrm>
                      <a:off x="2144880" y="4906800"/>
                      <a:ext cx="104760" cy="289080"/>
                      <a:chOff x="2144880" y="4906800"/>
                      <a:chExt cx="104760" cy="289080"/>
                    </a:xfrm>
                  </p:grpSpPr>
                  <p:grpSp>
                    <p:nvGrpSpPr>
                      <p:cNvPr id="805" name=""/>
                      <p:cNvGrpSpPr/>
                      <p:nvPr/>
                    </p:nvGrpSpPr>
                    <p:grpSpPr>
                      <a:xfrm>
                        <a:off x="2144880" y="4913280"/>
                        <a:ext cx="0" cy="282600"/>
                        <a:chOff x="2144880" y="4913280"/>
                        <a:chExt cx="0" cy="282600"/>
                      </a:xfrm>
                    </p:grpSpPr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>
                          <a:off x="2144880" y="4913280"/>
                          <a:ext cx="0" cy="282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>
                          <a:off x="2144880" y="5081760"/>
                          <a:ext cx="0" cy="83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32760" bIns="32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08" name=""/>
                      <p:cNvGrpSpPr/>
                      <p:nvPr/>
                    </p:nvGrpSpPr>
                    <p:grpSpPr>
                      <a:xfrm>
                        <a:off x="2249640" y="4906800"/>
                        <a:ext cx="0" cy="282600"/>
                        <a:chOff x="2249640" y="4906800"/>
                        <a:chExt cx="0" cy="282600"/>
                      </a:xfrm>
                    </p:grpSpPr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V="1">
                          <a:off x="2249640" y="4906800"/>
                          <a:ext cx="0" cy="282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>
                          <a:off x="2249640" y="5078520"/>
                          <a:ext cx="0" cy="87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36000" bIns="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1" name=""/>
                    <p:cNvGrpSpPr/>
                    <p:nvPr/>
                  </p:nvGrpSpPr>
                  <p:grpSpPr>
                    <a:xfrm>
                      <a:off x="2122560" y="4754520"/>
                      <a:ext cx="133560" cy="471960"/>
                      <a:chOff x="2122560" y="4754520"/>
                      <a:chExt cx="133560" cy="471960"/>
                    </a:xfrm>
                  </p:grpSpPr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2227320" y="4754520"/>
                        <a:ext cx="28800" cy="466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0" h="1297">
                            <a:moveTo>
                              <a:pt x="80" y="0"/>
                            </a:moveTo>
                            <a:lnTo>
                              <a:pt x="80" y="48"/>
                            </a:lnTo>
                            <a:lnTo>
                              <a:pt x="5" y="88"/>
                            </a:lnTo>
                            <a:lnTo>
                              <a:pt x="0" y="600"/>
                            </a:lnTo>
                            <a:lnTo>
                              <a:pt x="5" y="1167"/>
                            </a:lnTo>
                            <a:lnTo>
                              <a:pt x="65" y="1203"/>
                            </a:lnTo>
                            <a:lnTo>
                              <a:pt x="62" y="1297"/>
                            </a:lnTo>
                          </a:path>
                        </a:pathLst>
                      </a:cu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2122560" y="4770360"/>
                        <a:ext cx="32040" cy="4561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9" h="1267">
                            <a:moveTo>
                              <a:pt x="89" y="0"/>
                            </a:moveTo>
                            <a:lnTo>
                              <a:pt x="6" y="61"/>
                            </a:lnTo>
                            <a:lnTo>
                              <a:pt x="0" y="576"/>
                            </a:lnTo>
                            <a:lnTo>
                              <a:pt x="6" y="1144"/>
                            </a:lnTo>
                            <a:lnTo>
                              <a:pt x="66" y="1180"/>
                            </a:lnTo>
                            <a:lnTo>
                              <a:pt x="69" y="1267"/>
                            </a:lnTo>
                          </a:path>
                        </a:pathLst>
                      </a:cu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426960" y="4941720"/>
                <a:ext cx="837000" cy="244800"/>
                <a:chOff x="426960" y="4941720"/>
                <a:chExt cx="837000" cy="244800"/>
              </a:xfrm>
            </p:grpSpPr>
            <p:grpSp>
              <p:nvGrpSpPr>
                <p:cNvPr id="815" name=""/>
                <p:cNvGrpSpPr/>
                <p:nvPr/>
              </p:nvGrpSpPr>
              <p:grpSpPr>
                <a:xfrm>
                  <a:off x="426960" y="5059440"/>
                  <a:ext cx="255960" cy="127080"/>
                  <a:chOff x="426960" y="5059440"/>
                  <a:chExt cx="255960" cy="127080"/>
                </a:xfrm>
              </p:grpSpPr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426960" y="5059440"/>
                    <a:ext cx="255960" cy="108360"/>
                    <a:chOff x="426960" y="5059440"/>
                    <a:chExt cx="255960" cy="1083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426960" y="5059440"/>
                      <a:ext cx="255960" cy="108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11" h="301">
                          <a:moveTo>
                            <a:pt x="0" y="135"/>
                          </a:moveTo>
                          <a:lnTo>
                            <a:pt x="711" y="0"/>
                          </a:lnTo>
                          <a:lnTo>
                            <a:pt x="711" y="246"/>
                          </a:lnTo>
                          <a:lnTo>
                            <a:pt x="0" y="301"/>
                          </a:lnTo>
                          <a:lnTo>
                            <a:pt x="0" y="135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426960" y="5059440"/>
                      <a:ext cx="248040" cy="108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9" h="301">
                          <a:moveTo>
                            <a:pt x="0" y="138"/>
                          </a:moveTo>
                          <a:lnTo>
                            <a:pt x="689" y="0"/>
                          </a:lnTo>
                          <a:lnTo>
                            <a:pt x="689" y="248"/>
                          </a:lnTo>
                          <a:lnTo>
                            <a:pt x="0" y="301"/>
                          </a:lnTo>
                          <a:lnTo>
                            <a:pt x="0" y="13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428760" y="5059440"/>
                      <a:ext cx="246600" cy="106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5" h="296">
                          <a:moveTo>
                            <a:pt x="0" y="134"/>
                          </a:moveTo>
                          <a:lnTo>
                            <a:pt x="685" y="0"/>
                          </a:lnTo>
                          <a:lnTo>
                            <a:pt x="685" y="241"/>
                          </a:lnTo>
                          <a:lnTo>
                            <a:pt x="0" y="296"/>
                          </a:lnTo>
                          <a:lnTo>
                            <a:pt x="0" y="13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436680" y="5062680"/>
                    <a:ext cx="209520" cy="123840"/>
                    <a:chOff x="436680" y="5062680"/>
                    <a:chExt cx="209520" cy="123840"/>
                  </a:xfrm>
                </p:grpSpPr>
                <p:grpSp>
                  <p:nvGrpSpPr>
                    <p:cNvPr id="821" name=""/>
                    <p:cNvGrpSpPr/>
                    <p:nvPr/>
                  </p:nvGrpSpPr>
                  <p:grpSpPr>
                    <a:xfrm>
                      <a:off x="442800" y="5064120"/>
                      <a:ext cx="203400" cy="111240"/>
                      <a:chOff x="442800" y="5064120"/>
                      <a:chExt cx="203400" cy="111240"/>
                    </a:xfrm>
                  </p:grpSpPr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442800" y="5110200"/>
                        <a:ext cx="0" cy="651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14040" bIns="14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465120" y="5100480"/>
                        <a:ext cx="0" cy="730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488880" y="5097600"/>
                        <a:ext cx="0" cy="759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24840" bIns="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520560" y="5089680"/>
                        <a:ext cx="0" cy="824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>
                        <a:off x="550800" y="5084640"/>
                        <a:ext cx="0" cy="810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29880" bIns="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579600" y="5081760"/>
                        <a:ext cx="0" cy="838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32760" bIns="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614520" y="5073480"/>
                        <a:ext cx="0" cy="921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41040" bIns="41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646200" y="5064120"/>
                        <a:ext cx="0" cy="954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0" name=""/>
                    <p:cNvGrpSpPr/>
                    <p:nvPr/>
                  </p:nvGrpSpPr>
                  <p:grpSpPr>
                    <a:xfrm>
                      <a:off x="436680" y="5062680"/>
                      <a:ext cx="207720" cy="123840"/>
                      <a:chOff x="436680" y="5062680"/>
                      <a:chExt cx="207720" cy="123840"/>
                    </a:xfrm>
                  </p:grpSpPr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436680" y="5103720"/>
                        <a:ext cx="0" cy="828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460440" y="5100480"/>
                        <a:ext cx="0" cy="795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487440" y="5092560"/>
                        <a:ext cx="0" cy="874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"/>
                      <p:cNvSpPr/>
                      <p:nvPr/>
                    </p:nvSpPr>
                    <p:spPr>
                      <a:xfrm>
                        <a:off x="512640" y="5084640"/>
                        <a:ext cx="0" cy="939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42840" bIns="42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5" name=""/>
                      <p:cNvSpPr/>
                      <p:nvPr/>
                    </p:nvSpPr>
                    <p:spPr>
                      <a:xfrm>
                        <a:off x="546120" y="5075280"/>
                        <a:ext cx="0" cy="1033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574560" y="5073480"/>
                        <a:ext cx="0" cy="1000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48960" bIns="48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608040" y="5064120"/>
                        <a:ext cx="0" cy="1015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0400" bIns="50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8" name=""/>
                      <p:cNvSpPr/>
                      <p:nvPr/>
                    </p:nvSpPr>
                    <p:spPr>
                      <a:xfrm>
                        <a:off x="644400" y="5062680"/>
                        <a:ext cx="0" cy="1029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776160" y="4941720"/>
                  <a:ext cx="487800" cy="200520"/>
                  <a:chOff x="776160" y="4941720"/>
                  <a:chExt cx="487800" cy="200520"/>
                </a:xfrm>
              </p:grpSpPr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776160" y="4941720"/>
                    <a:ext cx="480240" cy="200520"/>
                    <a:chOff x="776160" y="4941720"/>
                    <a:chExt cx="480240" cy="200520"/>
                  </a:xfrm>
                </p:grpSpPr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776160" y="5029200"/>
                      <a:ext cx="55800" cy="113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55" h="314">
                          <a:moveTo>
                            <a:pt x="0" y="33"/>
                          </a:moveTo>
                          <a:lnTo>
                            <a:pt x="0" y="314"/>
                          </a:lnTo>
                          <a:lnTo>
                            <a:pt x="155" y="301"/>
                          </a:lnTo>
                          <a:lnTo>
                            <a:pt x="155" y="0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865080" y="5008680"/>
                      <a:ext cx="60840" cy="128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358">
                          <a:moveTo>
                            <a:pt x="169" y="0"/>
                          </a:moveTo>
                          <a:lnTo>
                            <a:pt x="169" y="341"/>
                          </a:lnTo>
                          <a:lnTo>
                            <a:pt x="0" y="358"/>
                          </a:lnTo>
                          <a:lnTo>
                            <a:pt x="0" y="39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957240" y="4989600"/>
                      <a:ext cx="70200" cy="138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385">
                          <a:moveTo>
                            <a:pt x="0" y="40"/>
                          </a:moveTo>
                          <a:lnTo>
                            <a:pt x="0" y="385"/>
                          </a:lnTo>
                          <a:lnTo>
                            <a:pt x="195" y="369"/>
                          </a:lnTo>
                          <a:lnTo>
                            <a:pt x="195" y="0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1055520" y="4965840"/>
                      <a:ext cx="79560" cy="154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1" h="429">
                          <a:moveTo>
                            <a:pt x="221" y="0"/>
                          </a:moveTo>
                          <a:lnTo>
                            <a:pt x="221" y="411"/>
                          </a:lnTo>
                          <a:lnTo>
                            <a:pt x="0" y="429"/>
                          </a:lnTo>
                          <a:lnTo>
                            <a:pt x="0" y="46"/>
                          </a:lnTo>
                          <a:lnTo>
                            <a:pt x="221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1160640" y="4941720"/>
                      <a:ext cx="9576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66" h="473">
                          <a:moveTo>
                            <a:pt x="266" y="0"/>
                          </a:moveTo>
                          <a:lnTo>
                            <a:pt x="266" y="452"/>
                          </a:lnTo>
                          <a:lnTo>
                            <a:pt x="0" y="473"/>
                          </a:lnTo>
                          <a:lnTo>
                            <a:pt x="0" y="57"/>
                          </a:lnTo>
                          <a:lnTo>
                            <a:pt x="266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789120" y="4941720"/>
                    <a:ext cx="474840" cy="200520"/>
                    <a:chOff x="789120" y="4941720"/>
                    <a:chExt cx="474840" cy="20052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789120" y="5029200"/>
                      <a:ext cx="57600" cy="113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0" h="314">
                          <a:moveTo>
                            <a:pt x="0" y="33"/>
                          </a:moveTo>
                          <a:lnTo>
                            <a:pt x="0" y="314"/>
                          </a:lnTo>
                          <a:lnTo>
                            <a:pt x="160" y="301"/>
                          </a:lnTo>
                          <a:lnTo>
                            <a:pt x="160" y="0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871560" y="5008680"/>
                      <a:ext cx="65520" cy="128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82" h="358">
                          <a:moveTo>
                            <a:pt x="182" y="0"/>
                          </a:moveTo>
                          <a:lnTo>
                            <a:pt x="182" y="341"/>
                          </a:lnTo>
                          <a:lnTo>
                            <a:pt x="0" y="358"/>
                          </a:lnTo>
                          <a:lnTo>
                            <a:pt x="0" y="39"/>
                          </a:lnTo>
                          <a:lnTo>
                            <a:pt x="182" y="0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966960" y="4989600"/>
                      <a:ext cx="70200" cy="138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385">
                          <a:moveTo>
                            <a:pt x="0" y="40"/>
                          </a:moveTo>
                          <a:lnTo>
                            <a:pt x="0" y="385"/>
                          </a:lnTo>
                          <a:lnTo>
                            <a:pt x="195" y="369"/>
                          </a:lnTo>
                          <a:lnTo>
                            <a:pt x="195" y="0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1068480" y="4965840"/>
                      <a:ext cx="74880" cy="154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08" h="429">
                          <a:moveTo>
                            <a:pt x="208" y="0"/>
                          </a:moveTo>
                          <a:lnTo>
                            <a:pt x="208" y="411"/>
                          </a:lnTo>
                          <a:lnTo>
                            <a:pt x="0" y="429"/>
                          </a:lnTo>
                          <a:lnTo>
                            <a:pt x="0" y="46"/>
                          </a:lnTo>
                          <a:lnTo>
                            <a:pt x="208" y="0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1174680" y="4941720"/>
                      <a:ext cx="8928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8" h="473">
                          <a:moveTo>
                            <a:pt x="248" y="0"/>
                          </a:moveTo>
                          <a:lnTo>
                            <a:pt x="248" y="452"/>
                          </a:lnTo>
                          <a:lnTo>
                            <a:pt x="0" y="473"/>
                          </a:lnTo>
                          <a:lnTo>
                            <a:pt x="0" y="57"/>
                          </a:lnTo>
                          <a:lnTo>
                            <a:pt x="248" y="0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781200" y="4941720"/>
                    <a:ext cx="478080" cy="200520"/>
                    <a:chOff x="781200" y="4941720"/>
                    <a:chExt cx="478080" cy="200520"/>
                  </a:xfrm>
                </p:grpSpPr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781200" y="5029200"/>
                      <a:ext cx="59040" cy="113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4" h="314">
                          <a:moveTo>
                            <a:pt x="0" y="33"/>
                          </a:moveTo>
                          <a:lnTo>
                            <a:pt x="0" y="314"/>
                          </a:lnTo>
                          <a:lnTo>
                            <a:pt x="164" y="301"/>
                          </a:lnTo>
                          <a:lnTo>
                            <a:pt x="164" y="0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871560" y="5008680"/>
                      <a:ext cx="63720" cy="128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77" h="358">
                          <a:moveTo>
                            <a:pt x="177" y="0"/>
                          </a:moveTo>
                          <a:lnTo>
                            <a:pt x="177" y="341"/>
                          </a:lnTo>
                          <a:lnTo>
                            <a:pt x="0" y="358"/>
                          </a:lnTo>
                          <a:lnTo>
                            <a:pt x="0" y="39"/>
                          </a:lnTo>
                          <a:lnTo>
                            <a:pt x="17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963720" y="4989600"/>
                      <a:ext cx="70200" cy="138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385">
                          <a:moveTo>
                            <a:pt x="0" y="40"/>
                          </a:moveTo>
                          <a:lnTo>
                            <a:pt x="0" y="385"/>
                          </a:lnTo>
                          <a:lnTo>
                            <a:pt x="195" y="369"/>
                          </a:lnTo>
                          <a:lnTo>
                            <a:pt x="195" y="0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062000" y="4965840"/>
                      <a:ext cx="78120" cy="154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17" h="429">
                          <a:moveTo>
                            <a:pt x="217" y="0"/>
                          </a:moveTo>
                          <a:lnTo>
                            <a:pt x="217" y="411"/>
                          </a:lnTo>
                          <a:lnTo>
                            <a:pt x="0" y="429"/>
                          </a:lnTo>
                          <a:lnTo>
                            <a:pt x="0" y="46"/>
                          </a:lnTo>
                          <a:lnTo>
                            <a:pt x="21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1168560" y="4941720"/>
                      <a:ext cx="9072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2" h="473">
                          <a:moveTo>
                            <a:pt x="252" y="0"/>
                          </a:moveTo>
                          <a:lnTo>
                            <a:pt x="252" y="452"/>
                          </a:lnTo>
                          <a:lnTo>
                            <a:pt x="0" y="473"/>
                          </a:lnTo>
                          <a:lnTo>
                            <a:pt x="0" y="57"/>
                          </a:lnTo>
                          <a:lnTo>
                            <a:pt x="25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58" name=""/>
          <p:cNvSpPr txBox="1"/>
          <p:nvPr/>
        </p:nvSpPr>
        <p:spPr>
          <a:xfrm>
            <a:off x="2860560" y="4068720"/>
            <a:ext cx="3882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On the “fast track” for delivery</a:t>
            </a:r>
            <a:br>
              <a:rPr sz="2000"/>
            </a:br>
            <a:r>
              <a:rPr b="1" lang="en-US" sz="2000" spc="-1" strike="noStrike">
                <a:solidFill>
                  <a:srgbClr val="3365fb"/>
                </a:solidFill>
                <a:latin typeface="ARIAL"/>
                <a:ea typeface="ARIAL"/>
              </a:rPr>
              <a:t>to   market  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11760" y="4548240"/>
            <a:ext cx="88560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094440" y="4357800"/>
            <a:ext cx="2100240" cy="2012760"/>
            <a:chOff x="6094440" y="4357800"/>
            <a:chExt cx="2100240" cy="2012760"/>
          </a:xfrm>
        </p:grpSpPr>
        <p:sp>
          <p:nvSpPr>
            <p:cNvPr id="861" name=""/>
            <p:cNvSpPr/>
            <p:nvPr/>
          </p:nvSpPr>
          <p:spPr>
            <a:xfrm>
              <a:off x="6270480" y="4532400"/>
              <a:ext cx="1790640" cy="170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6485040" y="4782960"/>
              <a:ext cx="1314360" cy="1045080"/>
              <a:chOff x="6485040" y="4782960"/>
              <a:chExt cx="1314360" cy="1045080"/>
            </a:xfrm>
          </p:grpSpPr>
          <p:pic>
            <p:nvPicPr>
              <p:cNvPr id="8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85040" y="4782960"/>
                <a:ext cx="57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>
                <a:off x="6816600" y="4896000"/>
                <a:ext cx="0" cy="868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816600" y="4896000"/>
                <a:ext cx="938160" cy="522000"/>
              </a:xfrm>
              <a:prstGeom prst="line">
                <a:avLst/>
              </a:prstGeom>
              <a:ln w="12600">
                <a:solidFill>
                  <a:srgbClr val="00b7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786720" y="5418000"/>
                <a:ext cx="1012680" cy="374760"/>
              </a:xfrm>
              <a:prstGeom prst="ellipse">
                <a:avLst/>
              </a:prstGeom>
              <a:noFill/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359480" y="5506920"/>
                <a:ext cx="19836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00840" y="5610240"/>
                <a:ext cx="233280" cy="16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9" name=""/>
              <p:cNvGrpSpPr/>
              <p:nvPr/>
            </p:nvGrpSpPr>
            <p:grpSpPr>
              <a:xfrm>
                <a:off x="7145280" y="5630760"/>
                <a:ext cx="216360" cy="197280"/>
                <a:chOff x="7145280" y="5630760"/>
                <a:chExt cx="216360" cy="19728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7145280" y="5630760"/>
                  <a:ext cx="92520" cy="162360"/>
                </a:xfrm>
                <a:custGeom>
                  <a:avLst/>
                  <a:gdLst/>
                  <a:ahLst/>
                  <a:rect l="0" t="0" r="r" b="b"/>
                  <a:pathLst>
                    <a:path fill="none" w="257" h="451">
                      <a:moveTo>
                        <a:pt x="108" y="66"/>
                      </a:moveTo>
                      <a:lnTo>
                        <a:pt x="96" y="70"/>
                      </a:lnTo>
                      <a:lnTo>
                        <a:pt x="84" y="81"/>
                      </a:lnTo>
                      <a:lnTo>
                        <a:pt x="66" y="92"/>
                      </a:lnTo>
                      <a:lnTo>
                        <a:pt x="57" y="120"/>
                      </a:lnTo>
                      <a:lnTo>
                        <a:pt x="47" y="154"/>
                      </a:lnTo>
                      <a:lnTo>
                        <a:pt x="43" y="168"/>
                      </a:lnTo>
                      <a:lnTo>
                        <a:pt x="47" y="185"/>
                      </a:lnTo>
                      <a:lnTo>
                        <a:pt x="40" y="185"/>
                      </a:lnTo>
                      <a:lnTo>
                        <a:pt x="45" y="199"/>
                      </a:lnTo>
                      <a:lnTo>
                        <a:pt x="0" y="222"/>
                      </a:lnTo>
                      <a:lnTo>
                        <a:pt x="6" y="235"/>
                      </a:lnTo>
                      <a:lnTo>
                        <a:pt x="55" y="215"/>
                      </a:lnTo>
                      <a:lnTo>
                        <a:pt x="60" y="218"/>
                      </a:lnTo>
                      <a:lnTo>
                        <a:pt x="71" y="248"/>
                      </a:lnTo>
                      <a:lnTo>
                        <a:pt x="85" y="257"/>
                      </a:lnTo>
                      <a:lnTo>
                        <a:pt x="80" y="269"/>
                      </a:lnTo>
                      <a:lnTo>
                        <a:pt x="80" y="282"/>
                      </a:lnTo>
                      <a:lnTo>
                        <a:pt x="93" y="302"/>
                      </a:lnTo>
                      <a:lnTo>
                        <a:pt x="93" y="315"/>
                      </a:lnTo>
                      <a:lnTo>
                        <a:pt x="87" y="341"/>
                      </a:lnTo>
                      <a:lnTo>
                        <a:pt x="87" y="362"/>
                      </a:lnTo>
                      <a:lnTo>
                        <a:pt x="93" y="374"/>
                      </a:lnTo>
                      <a:lnTo>
                        <a:pt x="102" y="387"/>
                      </a:lnTo>
                      <a:lnTo>
                        <a:pt x="104" y="404"/>
                      </a:lnTo>
                      <a:lnTo>
                        <a:pt x="102" y="417"/>
                      </a:lnTo>
                      <a:lnTo>
                        <a:pt x="95" y="430"/>
                      </a:lnTo>
                      <a:lnTo>
                        <a:pt x="81" y="441"/>
                      </a:lnTo>
                      <a:lnTo>
                        <a:pt x="92" y="451"/>
                      </a:lnTo>
                      <a:lnTo>
                        <a:pt x="115" y="446"/>
                      </a:lnTo>
                      <a:lnTo>
                        <a:pt x="129" y="432"/>
                      </a:lnTo>
                      <a:lnTo>
                        <a:pt x="134" y="420"/>
                      </a:lnTo>
                      <a:lnTo>
                        <a:pt x="132" y="409"/>
                      </a:lnTo>
                      <a:lnTo>
                        <a:pt x="136" y="393"/>
                      </a:lnTo>
                      <a:lnTo>
                        <a:pt x="137" y="383"/>
                      </a:lnTo>
                      <a:lnTo>
                        <a:pt x="139" y="376"/>
                      </a:lnTo>
                      <a:lnTo>
                        <a:pt x="141" y="374"/>
                      </a:lnTo>
                      <a:lnTo>
                        <a:pt x="141" y="404"/>
                      </a:lnTo>
                      <a:lnTo>
                        <a:pt x="148" y="420"/>
                      </a:lnTo>
                      <a:lnTo>
                        <a:pt x="164" y="421"/>
                      </a:lnTo>
                      <a:lnTo>
                        <a:pt x="168" y="398"/>
                      </a:lnTo>
                      <a:lnTo>
                        <a:pt x="167" y="384"/>
                      </a:lnTo>
                      <a:lnTo>
                        <a:pt x="160" y="373"/>
                      </a:lnTo>
                      <a:lnTo>
                        <a:pt x="162" y="361"/>
                      </a:lnTo>
                      <a:lnTo>
                        <a:pt x="171" y="350"/>
                      </a:lnTo>
                      <a:lnTo>
                        <a:pt x="179" y="340"/>
                      </a:lnTo>
                      <a:lnTo>
                        <a:pt x="182" y="322"/>
                      </a:lnTo>
                      <a:lnTo>
                        <a:pt x="186" y="299"/>
                      </a:lnTo>
                      <a:lnTo>
                        <a:pt x="196" y="285"/>
                      </a:lnTo>
                      <a:lnTo>
                        <a:pt x="199" y="265"/>
                      </a:lnTo>
                      <a:lnTo>
                        <a:pt x="198" y="255"/>
                      </a:lnTo>
                      <a:lnTo>
                        <a:pt x="206" y="246"/>
                      </a:lnTo>
                      <a:lnTo>
                        <a:pt x="208" y="235"/>
                      </a:lnTo>
                      <a:lnTo>
                        <a:pt x="208" y="220"/>
                      </a:lnTo>
                      <a:lnTo>
                        <a:pt x="208" y="205"/>
                      </a:lnTo>
                      <a:lnTo>
                        <a:pt x="199" y="198"/>
                      </a:lnTo>
                      <a:lnTo>
                        <a:pt x="196" y="188"/>
                      </a:lnTo>
                      <a:lnTo>
                        <a:pt x="208" y="181"/>
                      </a:lnTo>
                      <a:lnTo>
                        <a:pt x="219" y="171"/>
                      </a:lnTo>
                      <a:lnTo>
                        <a:pt x="237" y="171"/>
                      </a:lnTo>
                      <a:lnTo>
                        <a:pt x="254" y="154"/>
                      </a:lnTo>
                      <a:lnTo>
                        <a:pt x="257" y="135"/>
                      </a:lnTo>
                      <a:lnTo>
                        <a:pt x="249" y="121"/>
                      </a:lnTo>
                      <a:lnTo>
                        <a:pt x="237" y="108"/>
                      </a:lnTo>
                      <a:lnTo>
                        <a:pt x="222" y="90"/>
                      </a:lnTo>
                      <a:lnTo>
                        <a:pt x="195" y="69"/>
                      </a:lnTo>
                      <a:lnTo>
                        <a:pt x="176" y="60"/>
                      </a:lnTo>
                      <a:lnTo>
                        <a:pt x="159" y="58"/>
                      </a:lnTo>
                      <a:lnTo>
                        <a:pt x="154" y="58"/>
                      </a:lnTo>
                      <a:lnTo>
                        <a:pt x="158" y="42"/>
                      </a:lnTo>
                      <a:lnTo>
                        <a:pt x="157" y="26"/>
                      </a:lnTo>
                      <a:lnTo>
                        <a:pt x="153" y="13"/>
                      </a:lnTo>
                      <a:lnTo>
                        <a:pt x="144" y="2"/>
                      </a:lnTo>
                      <a:lnTo>
                        <a:pt x="136" y="0"/>
                      </a:lnTo>
                      <a:lnTo>
                        <a:pt x="121" y="0"/>
                      </a:lnTo>
                      <a:lnTo>
                        <a:pt x="110" y="2"/>
                      </a:lnTo>
                      <a:lnTo>
                        <a:pt x="101" y="11"/>
                      </a:lnTo>
                      <a:lnTo>
                        <a:pt x="97" y="20"/>
                      </a:lnTo>
                      <a:lnTo>
                        <a:pt x="96" y="34"/>
                      </a:lnTo>
                      <a:lnTo>
                        <a:pt x="93" y="42"/>
                      </a:lnTo>
                      <a:lnTo>
                        <a:pt x="100" y="45"/>
                      </a:lnTo>
                      <a:lnTo>
                        <a:pt x="110" y="63"/>
                      </a:lnTo>
                      <a:lnTo>
                        <a:pt x="108" y="66"/>
                      </a:ln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178760" y="5659560"/>
                  <a:ext cx="87840" cy="163800"/>
                </a:xfrm>
                <a:custGeom>
                  <a:avLst/>
                  <a:gdLst/>
                  <a:ahLst/>
                  <a:rect l="0" t="0" r="r" b="b"/>
                  <a:pathLst>
                    <a:path fill="none" w="244" h="455">
                      <a:moveTo>
                        <a:pt x="102" y="66"/>
                      </a:moveTo>
                      <a:lnTo>
                        <a:pt x="91" y="71"/>
                      </a:lnTo>
                      <a:lnTo>
                        <a:pt x="79" y="82"/>
                      </a:lnTo>
                      <a:lnTo>
                        <a:pt x="62" y="93"/>
                      </a:lnTo>
                      <a:lnTo>
                        <a:pt x="54" y="120"/>
                      </a:lnTo>
                      <a:lnTo>
                        <a:pt x="44" y="154"/>
                      </a:lnTo>
                      <a:lnTo>
                        <a:pt x="41" y="169"/>
                      </a:lnTo>
                      <a:lnTo>
                        <a:pt x="44" y="186"/>
                      </a:lnTo>
                      <a:lnTo>
                        <a:pt x="38" y="186"/>
                      </a:lnTo>
                      <a:lnTo>
                        <a:pt x="43" y="200"/>
                      </a:lnTo>
                      <a:lnTo>
                        <a:pt x="0" y="223"/>
                      </a:lnTo>
                      <a:lnTo>
                        <a:pt x="6" y="238"/>
                      </a:lnTo>
                      <a:lnTo>
                        <a:pt x="52" y="216"/>
                      </a:lnTo>
                      <a:lnTo>
                        <a:pt x="57" y="220"/>
                      </a:lnTo>
                      <a:lnTo>
                        <a:pt x="67" y="250"/>
                      </a:lnTo>
                      <a:lnTo>
                        <a:pt x="81" y="259"/>
                      </a:lnTo>
                      <a:lnTo>
                        <a:pt x="75" y="271"/>
                      </a:lnTo>
                      <a:lnTo>
                        <a:pt x="75" y="285"/>
                      </a:lnTo>
                      <a:lnTo>
                        <a:pt x="88" y="305"/>
                      </a:lnTo>
                      <a:lnTo>
                        <a:pt x="88" y="318"/>
                      </a:lnTo>
                      <a:lnTo>
                        <a:pt x="82" y="343"/>
                      </a:lnTo>
                      <a:lnTo>
                        <a:pt x="82" y="364"/>
                      </a:lnTo>
                      <a:lnTo>
                        <a:pt x="88" y="377"/>
                      </a:lnTo>
                      <a:lnTo>
                        <a:pt x="96" y="389"/>
                      </a:lnTo>
                      <a:lnTo>
                        <a:pt x="99" y="406"/>
                      </a:lnTo>
                      <a:lnTo>
                        <a:pt x="97" y="420"/>
                      </a:lnTo>
                      <a:lnTo>
                        <a:pt x="90" y="433"/>
                      </a:lnTo>
                      <a:lnTo>
                        <a:pt x="77" y="444"/>
                      </a:lnTo>
                      <a:lnTo>
                        <a:pt x="87" y="455"/>
                      </a:lnTo>
                      <a:lnTo>
                        <a:pt x="109" y="449"/>
                      </a:lnTo>
                      <a:lnTo>
                        <a:pt x="123" y="435"/>
                      </a:lnTo>
                      <a:lnTo>
                        <a:pt x="127" y="423"/>
                      </a:lnTo>
                      <a:lnTo>
                        <a:pt x="126" y="412"/>
                      </a:lnTo>
                      <a:lnTo>
                        <a:pt x="129" y="396"/>
                      </a:lnTo>
                      <a:lnTo>
                        <a:pt x="130" y="385"/>
                      </a:lnTo>
                      <a:lnTo>
                        <a:pt x="132" y="378"/>
                      </a:lnTo>
                      <a:lnTo>
                        <a:pt x="134" y="377"/>
                      </a:lnTo>
                      <a:lnTo>
                        <a:pt x="134" y="406"/>
                      </a:lnTo>
                      <a:lnTo>
                        <a:pt x="140" y="423"/>
                      </a:lnTo>
                      <a:lnTo>
                        <a:pt x="156" y="424"/>
                      </a:lnTo>
                      <a:lnTo>
                        <a:pt x="160" y="401"/>
                      </a:lnTo>
                      <a:lnTo>
                        <a:pt x="159" y="386"/>
                      </a:lnTo>
                      <a:lnTo>
                        <a:pt x="152" y="375"/>
                      </a:lnTo>
                      <a:lnTo>
                        <a:pt x="153" y="364"/>
                      </a:lnTo>
                      <a:lnTo>
                        <a:pt x="162" y="353"/>
                      </a:lnTo>
                      <a:lnTo>
                        <a:pt x="170" y="342"/>
                      </a:lnTo>
                      <a:lnTo>
                        <a:pt x="173" y="325"/>
                      </a:lnTo>
                      <a:lnTo>
                        <a:pt x="177" y="302"/>
                      </a:lnTo>
                      <a:lnTo>
                        <a:pt x="186" y="288"/>
                      </a:lnTo>
                      <a:lnTo>
                        <a:pt x="188" y="268"/>
                      </a:lnTo>
                      <a:lnTo>
                        <a:pt x="188" y="258"/>
                      </a:lnTo>
                      <a:lnTo>
                        <a:pt x="195" y="249"/>
                      </a:lnTo>
                      <a:lnTo>
                        <a:pt x="198" y="238"/>
                      </a:lnTo>
                      <a:lnTo>
                        <a:pt x="198" y="221"/>
                      </a:lnTo>
                      <a:lnTo>
                        <a:pt x="197" y="206"/>
                      </a:lnTo>
                      <a:lnTo>
                        <a:pt x="188" y="199"/>
                      </a:lnTo>
                      <a:lnTo>
                        <a:pt x="186" y="189"/>
                      </a:lnTo>
                      <a:lnTo>
                        <a:pt x="197" y="181"/>
                      </a:lnTo>
                      <a:lnTo>
                        <a:pt x="208" y="172"/>
                      </a:lnTo>
                      <a:lnTo>
                        <a:pt x="225" y="172"/>
                      </a:lnTo>
                      <a:lnTo>
                        <a:pt x="241" y="154"/>
                      </a:lnTo>
                      <a:lnTo>
                        <a:pt x="244" y="136"/>
                      </a:lnTo>
                      <a:lnTo>
                        <a:pt x="236" y="122"/>
                      </a:lnTo>
                      <a:lnTo>
                        <a:pt x="225" y="109"/>
                      </a:lnTo>
                      <a:lnTo>
                        <a:pt x="211" y="90"/>
                      </a:lnTo>
                      <a:lnTo>
                        <a:pt x="185" y="69"/>
                      </a:lnTo>
                      <a:lnTo>
                        <a:pt x="167" y="60"/>
                      </a:lnTo>
                      <a:lnTo>
                        <a:pt x="151" y="59"/>
                      </a:lnTo>
                      <a:lnTo>
                        <a:pt x="146" y="59"/>
                      </a:lnTo>
                      <a:lnTo>
                        <a:pt x="150" y="42"/>
                      </a:lnTo>
                      <a:lnTo>
                        <a:pt x="149" y="27"/>
                      </a:lnTo>
                      <a:lnTo>
                        <a:pt x="145" y="13"/>
                      </a:lnTo>
                      <a:lnTo>
                        <a:pt x="136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04" y="2"/>
                      </a:lnTo>
                      <a:lnTo>
                        <a:pt x="96" y="11"/>
                      </a:lnTo>
                      <a:lnTo>
                        <a:pt x="92" y="21"/>
                      </a:lnTo>
                      <a:lnTo>
                        <a:pt x="91" y="34"/>
                      </a:lnTo>
                      <a:lnTo>
                        <a:pt x="88" y="42"/>
                      </a:lnTo>
                      <a:lnTo>
                        <a:pt x="95" y="45"/>
                      </a:lnTo>
                      <a:lnTo>
                        <a:pt x="104" y="63"/>
                      </a:lnTo>
                      <a:lnTo>
                        <a:pt x="102" y="66"/>
                      </a:ln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7272360" y="5665680"/>
                  <a:ext cx="89280" cy="162360"/>
                </a:xfrm>
                <a:custGeom>
                  <a:avLst/>
                  <a:gdLst/>
                  <a:ahLst/>
                  <a:rect l="0" t="0" r="r" b="b"/>
                  <a:pathLst>
                    <a:path fill="none" w="248" h="451">
                      <a:moveTo>
                        <a:pt x="104" y="66"/>
                      </a:moveTo>
                      <a:lnTo>
                        <a:pt x="93" y="70"/>
                      </a:lnTo>
                      <a:lnTo>
                        <a:pt x="81" y="81"/>
                      </a:lnTo>
                      <a:lnTo>
                        <a:pt x="63" y="92"/>
                      </a:lnTo>
                      <a:lnTo>
                        <a:pt x="55" y="120"/>
                      </a:lnTo>
                      <a:lnTo>
                        <a:pt x="45" y="154"/>
                      </a:lnTo>
                      <a:lnTo>
                        <a:pt x="42" y="168"/>
                      </a:lnTo>
                      <a:lnTo>
                        <a:pt x="45" y="185"/>
                      </a:lnTo>
                      <a:lnTo>
                        <a:pt x="39" y="185"/>
                      </a:lnTo>
                      <a:lnTo>
                        <a:pt x="44" y="199"/>
                      </a:lnTo>
                      <a:lnTo>
                        <a:pt x="0" y="222"/>
                      </a:lnTo>
                      <a:lnTo>
                        <a:pt x="6" y="235"/>
                      </a:lnTo>
                      <a:lnTo>
                        <a:pt x="53" y="215"/>
                      </a:lnTo>
                      <a:lnTo>
                        <a:pt x="58" y="218"/>
                      </a:lnTo>
                      <a:lnTo>
                        <a:pt x="68" y="248"/>
                      </a:lnTo>
                      <a:lnTo>
                        <a:pt x="82" y="257"/>
                      </a:lnTo>
                      <a:lnTo>
                        <a:pt x="77" y="269"/>
                      </a:lnTo>
                      <a:lnTo>
                        <a:pt x="77" y="282"/>
                      </a:lnTo>
                      <a:lnTo>
                        <a:pt x="89" y="302"/>
                      </a:lnTo>
                      <a:lnTo>
                        <a:pt x="89" y="315"/>
                      </a:lnTo>
                      <a:lnTo>
                        <a:pt x="84" y="341"/>
                      </a:lnTo>
                      <a:lnTo>
                        <a:pt x="84" y="362"/>
                      </a:lnTo>
                      <a:lnTo>
                        <a:pt x="89" y="374"/>
                      </a:lnTo>
                      <a:lnTo>
                        <a:pt x="98" y="387"/>
                      </a:lnTo>
                      <a:lnTo>
                        <a:pt x="100" y="404"/>
                      </a:lnTo>
                      <a:lnTo>
                        <a:pt x="99" y="417"/>
                      </a:lnTo>
                      <a:lnTo>
                        <a:pt x="92" y="430"/>
                      </a:lnTo>
                      <a:lnTo>
                        <a:pt x="78" y="441"/>
                      </a:lnTo>
                      <a:lnTo>
                        <a:pt x="89" y="451"/>
                      </a:lnTo>
                      <a:lnTo>
                        <a:pt x="111" y="446"/>
                      </a:lnTo>
                      <a:lnTo>
                        <a:pt x="125" y="432"/>
                      </a:lnTo>
                      <a:lnTo>
                        <a:pt x="129" y="420"/>
                      </a:lnTo>
                      <a:lnTo>
                        <a:pt x="128" y="409"/>
                      </a:lnTo>
                      <a:lnTo>
                        <a:pt x="131" y="393"/>
                      </a:lnTo>
                      <a:lnTo>
                        <a:pt x="133" y="383"/>
                      </a:lnTo>
                      <a:lnTo>
                        <a:pt x="134" y="376"/>
                      </a:lnTo>
                      <a:lnTo>
                        <a:pt x="137" y="374"/>
                      </a:lnTo>
                      <a:lnTo>
                        <a:pt x="137" y="404"/>
                      </a:lnTo>
                      <a:lnTo>
                        <a:pt x="143" y="420"/>
                      </a:lnTo>
                      <a:lnTo>
                        <a:pt x="159" y="421"/>
                      </a:lnTo>
                      <a:lnTo>
                        <a:pt x="163" y="398"/>
                      </a:lnTo>
                      <a:lnTo>
                        <a:pt x="162" y="384"/>
                      </a:lnTo>
                      <a:lnTo>
                        <a:pt x="155" y="373"/>
                      </a:lnTo>
                      <a:lnTo>
                        <a:pt x="156" y="361"/>
                      </a:lnTo>
                      <a:lnTo>
                        <a:pt x="165" y="350"/>
                      </a:lnTo>
                      <a:lnTo>
                        <a:pt x="173" y="340"/>
                      </a:lnTo>
                      <a:lnTo>
                        <a:pt x="176" y="322"/>
                      </a:lnTo>
                      <a:lnTo>
                        <a:pt x="180" y="299"/>
                      </a:lnTo>
                      <a:lnTo>
                        <a:pt x="189" y="285"/>
                      </a:lnTo>
                      <a:lnTo>
                        <a:pt x="192" y="265"/>
                      </a:lnTo>
                      <a:lnTo>
                        <a:pt x="191" y="255"/>
                      </a:lnTo>
                      <a:lnTo>
                        <a:pt x="199" y="246"/>
                      </a:lnTo>
                      <a:lnTo>
                        <a:pt x="201" y="235"/>
                      </a:lnTo>
                      <a:lnTo>
                        <a:pt x="201" y="220"/>
                      </a:lnTo>
                      <a:lnTo>
                        <a:pt x="200" y="205"/>
                      </a:lnTo>
                      <a:lnTo>
                        <a:pt x="192" y="198"/>
                      </a:lnTo>
                      <a:lnTo>
                        <a:pt x="189" y="188"/>
                      </a:lnTo>
                      <a:lnTo>
                        <a:pt x="200" y="181"/>
                      </a:lnTo>
                      <a:lnTo>
                        <a:pt x="211" y="171"/>
                      </a:lnTo>
                      <a:lnTo>
                        <a:pt x="229" y="171"/>
                      </a:lnTo>
                      <a:lnTo>
                        <a:pt x="245" y="154"/>
                      </a:lnTo>
                      <a:lnTo>
                        <a:pt x="248" y="135"/>
                      </a:lnTo>
                      <a:lnTo>
                        <a:pt x="241" y="121"/>
                      </a:lnTo>
                      <a:lnTo>
                        <a:pt x="229" y="108"/>
                      </a:lnTo>
                      <a:lnTo>
                        <a:pt x="215" y="90"/>
                      </a:lnTo>
                      <a:lnTo>
                        <a:pt x="188" y="69"/>
                      </a:lnTo>
                      <a:lnTo>
                        <a:pt x="170" y="60"/>
                      </a:lnTo>
                      <a:lnTo>
                        <a:pt x="154" y="58"/>
                      </a:lnTo>
                      <a:lnTo>
                        <a:pt x="149" y="58"/>
                      </a:lnTo>
                      <a:lnTo>
                        <a:pt x="152" y="42"/>
                      </a:lnTo>
                      <a:lnTo>
                        <a:pt x="151" y="26"/>
                      </a:lnTo>
                      <a:lnTo>
                        <a:pt x="148" y="13"/>
                      </a:lnTo>
                      <a:lnTo>
                        <a:pt x="139" y="2"/>
                      </a:lnTo>
                      <a:lnTo>
                        <a:pt x="131" y="0"/>
                      </a:lnTo>
                      <a:lnTo>
                        <a:pt x="117" y="0"/>
                      </a:lnTo>
                      <a:lnTo>
                        <a:pt x="106" y="2"/>
                      </a:lnTo>
                      <a:lnTo>
                        <a:pt x="97" y="11"/>
                      </a:lnTo>
                      <a:lnTo>
                        <a:pt x="94" y="20"/>
                      </a:lnTo>
                      <a:lnTo>
                        <a:pt x="93" y="34"/>
                      </a:lnTo>
                      <a:lnTo>
                        <a:pt x="89" y="42"/>
                      </a:lnTo>
                      <a:lnTo>
                        <a:pt x="96" y="45"/>
                      </a:lnTo>
                      <a:lnTo>
                        <a:pt x="106" y="63"/>
                      </a:lnTo>
                      <a:lnTo>
                        <a:pt x="104" y="66"/>
                      </a:ln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66000" y="5418000"/>
                <a:ext cx="28584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84960" y="5376960"/>
                <a:ext cx="496800" cy="114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5" name="" descr=""/>
            <p:cNvPicPr/>
            <p:nvPr/>
          </p:nvPicPr>
          <p:blipFill>
            <a:blip r:embed="rId13"/>
            <a:stretch/>
          </p:blipFill>
          <p:spPr>
            <a:xfrm>
              <a:off x="6183360" y="5626080"/>
              <a:ext cx="19670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14"/>
            <a:stretch/>
          </p:blipFill>
          <p:spPr>
            <a:xfrm>
              <a:off x="6094440" y="4357800"/>
              <a:ext cx="2100240" cy="99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0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al IPT Point of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1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my-Future PM MILSAT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C Ludwig/Eric D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BS Joint Program Office-LTC Craig Ho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/ESC-Kathy Turbr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y-Bernard K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TPO-Jerry Inger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l School-CPT Size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2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al GBS 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3" name=""/>
          <p:cNvSpPr/>
          <p:nvPr/>
        </p:nvSpPr>
        <p:spPr>
          <a:xfrm>
            <a:off x="4191120" y="2133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"/>
          <p:cNvSpPr/>
          <p:nvPr/>
        </p:nvSpPr>
        <p:spPr>
          <a:xfrm>
            <a:off x="3276720" y="2209680"/>
            <a:ext cx="19051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"/>
          <p:cNvSpPr txBox="1"/>
          <p:nvPr/>
        </p:nvSpPr>
        <p:spPr>
          <a:xfrm>
            <a:off x="3200400" y="2286000"/>
            <a:ext cx="20574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L ENG. IPT FACILITAT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IC DA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"/>
          <p:cNvSpPr/>
          <p:nvPr/>
        </p:nvSpPr>
        <p:spPr>
          <a:xfrm>
            <a:off x="3314880" y="1371600"/>
            <a:ext cx="19432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"/>
          <p:cNvSpPr txBox="1"/>
          <p:nvPr/>
        </p:nvSpPr>
        <p:spPr>
          <a:xfrm>
            <a:off x="3467160" y="137160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M TACTICAL TERMI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 txBox="1"/>
          <p:nvPr/>
        </p:nvSpPr>
        <p:spPr>
          <a:xfrm>
            <a:off x="3429000" y="1828800"/>
            <a:ext cx="1828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TC DAVID LUDW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 txBox="1"/>
          <p:nvPr/>
        </p:nvSpPr>
        <p:spPr>
          <a:xfrm>
            <a:off x="228600" y="4419720"/>
            <a:ext cx="609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>
            <a:off x="5259240" y="3733920"/>
            <a:ext cx="8478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 txBox="1"/>
          <p:nvPr/>
        </p:nvSpPr>
        <p:spPr>
          <a:xfrm>
            <a:off x="4971960" y="3886200"/>
            <a:ext cx="144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/>
          <p:nvPr/>
        </p:nvSpPr>
        <p:spPr>
          <a:xfrm>
            <a:off x="6477120" y="4952880"/>
            <a:ext cx="16002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 txBox="1"/>
          <p:nvPr/>
        </p:nvSpPr>
        <p:spPr>
          <a:xfrm>
            <a:off x="6324480" y="5029200"/>
            <a:ext cx="198108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R FORCE  TERMINAL 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/>
          <p:nvPr/>
        </p:nvSpPr>
        <p:spPr>
          <a:xfrm>
            <a:off x="7467480" y="3733920"/>
            <a:ext cx="16002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 txBox="1"/>
          <p:nvPr/>
        </p:nvSpPr>
        <p:spPr>
          <a:xfrm>
            <a:off x="7467480" y="38098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 BUDGET/AC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>
            <a:off x="4419720" y="4952880"/>
            <a:ext cx="17524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 txBox="1"/>
          <p:nvPr/>
        </p:nvSpPr>
        <p:spPr>
          <a:xfrm>
            <a:off x="4327560" y="5181480"/>
            <a:ext cx="1920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>
            <a:off x="6248520" y="3733920"/>
            <a:ext cx="9907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 txBox="1"/>
          <p:nvPr/>
        </p:nvSpPr>
        <p:spPr>
          <a:xfrm>
            <a:off x="6324480" y="380988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T        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 flipH="1">
            <a:off x="457200" y="32004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/>
          <p:nvPr/>
        </p:nvSpPr>
        <p:spPr>
          <a:xfrm>
            <a:off x="45720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/>
          <p:nvPr/>
        </p:nvSpPr>
        <p:spPr>
          <a:xfrm>
            <a:off x="4191120" y="3200400"/>
            <a:ext cx="41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/>
          <p:nvPr/>
        </p:nvSpPr>
        <p:spPr>
          <a:xfrm>
            <a:off x="541008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/>
          <p:nvPr/>
        </p:nvSpPr>
        <p:spPr>
          <a:xfrm>
            <a:off x="662940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/>
          <p:nvPr/>
        </p:nvSpPr>
        <p:spPr>
          <a:xfrm>
            <a:off x="838188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>
            <a:off x="380880" y="4952880"/>
            <a:ext cx="18288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 txBox="1"/>
          <p:nvPr/>
        </p:nvSpPr>
        <p:spPr>
          <a:xfrm>
            <a:off x="228600" y="5029200"/>
            <a:ext cx="198108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VY     TERMINAL 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>
            <a:off x="1295280" y="3200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>
            <a:off x="5105520" y="3200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>
            <a:off x="7391520" y="3200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1" name=""/>
          <p:cNvGrpSpPr/>
          <p:nvPr/>
        </p:nvGrpSpPr>
        <p:grpSpPr>
          <a:xfrm>
            <a:off x="3771720" y="3733920"/>
            <a:ext cx="1295280" cy="942840"/>
            <a:chOff x="3771720" y="3733920"/>
            <a:chExt cx="1295280" cy="942840"/>
          </a:xfrm>
        </p:grpSpPr>
        <p:sp>
          <p:nvSpPr>
            <p:cNvPr id="7302" name=""/>
            <p:cNvSpPr/>
            <p:nvPr/>
          </p:nvSpPr>
          <p:spPr>
            <a:xfrm>
              <a:off x="3881520" y="3733920"/>
              <a:ext cx="10764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3" name=""/>
            <p:cNvSpPr txBox="1"/>
            <p:nvPr/>
          </p:nvSpPr>
          <p:spPr>
            <a:xfrm>
              <a:off x="3771720" y="3809880"/>
              <a:ext cx="12952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. MGM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4" name=""/>
            <p:cNvSpPr txBox="1"/>
            <p:nvPr/>
          </p:nvSpPr>
          <p:spPr>
            <a:xfrm>
              <a:off x="3962520" y="4419720"/>
              <a:ext cx="838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&amp;TC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5" name=""/>
          <p:cNvSpPr/>
          <p:nvPr/>
        </p:nvSpPr>
        <p:spPr>
          <a:xfrm>
            <a:off x="1976400" y="3733920"/>
            <a:ext cx="10969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 txBox="1"/>
          <p:nvPr/>
        </p:nvSpPr>
        <p:spPr>
          <a:xfrm>
            <a:off x="1865160" y="380988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L REQ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 txBox="1"/>
          <p:nvPr/>
        </p:nvSpPr>
        <p:spPr>
          <a:xfrm>
            <a:off x="1905120" y="4419720"/>
            <a:ext cx="13716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GCEN               CPT SIZE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 txBox="1"/>
          <p:nvPr/>
        </p:nvSpPr>
        <p:spPr>
          <a:xfrm>
            <a:off x="5181480" y="4419720"/>
            <a:ext cx="11430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O    WALTS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 txBox="1"/>
          <p:nvPr/>
        </p:nvSpPr>
        <p:spPr>
          <a:xfrm>
            <a:off x="6248520" y="4419720"/>
            <a:ext cx="1219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ITH TEITELB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 txBox="1"/>
          <p:nvPr/>
        </p:nvSpPr>
        <p:spPr>
          <a:xfrm>
            <a:off x="7391520" y="4419720"/>
            <a:ext cx="1600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CKIE SAY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 txBox="1"/>
          <p:nvPr/>
        </p:nvSpPr>
        <p:spPr>
          <a:xfrm>
            <a:off x="4572000" y="5638680"/>
            <a:ext cx="1828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SON KES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 txBox="1"/>
          <p:nvPr/>
        </p:nvSpPr>
        <p:spPr>
          <a:xfrm>
            <a:off x="1066680" y="5715000"/>
            <a:ext cx="685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 txBox="1"/>
          <p:nvPr/>
        </p:nvSpPr>
        <p:spPr>
          <a:xfrm>
            <a:off x="7086600" y="5715000"/>
            <a:ext cx="685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6" name=""/>
          <p:cNvSpPr/>
          <p:nvPr/>
        </p:nvSpPr>
        <p:spPr>
          <a:xfrm>
            <a:off x="3352680" y="3200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7" name=""/>
          <p:cNvSpPr txBox="1"/>
          <p:nvPr/>
        </p:nvSpPr>
        <p:spPr>
          <a:xfrm>
            <a:off x="2498760" y="5180040"/>
            <a:ext cx="1685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8" name=""/>
          <p:cNvSpPr txBox="1"/>
          <p:nvPr/>
        </p:nvSpPr>
        <p:spPr>
          <a:xfrm>
            <a:off x="259092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RY ASCH          CPT LYNN KIN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9" name=""/>
          <p:cNvSpPr/>
          <p:nvPr/>
        </p:nvSpPr>
        <p:spPr>
          <a:xfrm>
            <a:off x="46080" y="3733920"/>
            <a:ext cx="98424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"/>
          <p:cNvSpPr txBox="1"/>
          <p:nvPr/>
        </p:nvSpPr>
        <p:spPr>
          <a:xfrm>
            <a:off x="0" y="3809880"/>
            <a:ext cx="1066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 E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1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Terminal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2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rminal Segment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ject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ic-Fix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ctical-Mobi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ipbo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my is the Terminal Acquisition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3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ase II Terminal Definition Straw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4" name=""/>
          <p:cNvGrpSpPr/>
          <p:nvPr/>
        </p:nvGrpSpPr>
        <p:grpSpPr>
          <a:xfrm>
            <a:off x="152280" y="1333440"/>
            <a:ext cx="8686800" cy="5051520"/>
            <a:chOff x="152280" y="1333440"/>
            <a:chExt cx="8686800" cy="5051520"/>
          </a:xfrm>
        </p:grpSpPr>
        <p:sp>
          <p:nvSpPr>
            <p:cNvPr id="7325" name=""/>
            <p:cNvSpPr/>
            <p:nvPr/>
          </p:nvSpPr>
          <p:spPr>
            <a:xfrm>
              <a:off x="152280" y="1600200"/>
              <a:ext cx="3430440" cy="335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  <a:ds d="100000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6" name=""/>
            <p:cNvSpPr txBox="1"/>
            <p:nvPr/>
          </p:nvSpPr>
          <p:spPr>
            <a:xfrm>
              <a:off x="3768840" y="1638360"/>
              <a:ext cx="1300320" cy="14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FO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D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AC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1173240" y="3200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2708280" y="3200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9" name=""/>
            <p:cNvGrpSpPr/>
            <p:nvPr/>
          </p:nvGrpSpPr>
          <p:grpSpPr>
            <a:xfrm>
              <a:off x="189000" y="3494160"/>
              <a:ext cx="3343320" cy="957240"/>
              <a:chOff x="189000" y="3494160"/>
              <a:chExt cx="3343320" cy="957240"/>
            </a:xfrm>
          </p:grpSpPr>
          <p:sp>
            <p:nvSpPr>
              <p:cNvPr id="7330" name=""/>
              <p:cNvSpPr txBox="1"/>
              <p:nvPr/>
            </p:nvSpPr>
            <p:spPr>
              <a:xfrm>
                <a:off x="189000" y="3495600"/>
                <a:ext cx="1157400" cy="95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199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1199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/ CO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1199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ENCRYP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223920" y="3733920"/>
                <a:ext cx="109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223920" y="4114800"/>
                <a:ext cx="109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"/>
              <p:cNvSpPr txBox="1"/>
              <p:nvPr/>
            </p:nvSpPr>
            <p:spPr>
              <a:xfrm>
                <a:off x="2389320" y="3494160"/>
                <a:ext cx="1143000" cy="95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199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1199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/ CO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1199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ENCRYP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414520" y="3728880"/>
                <a:ext cx="10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2440080" y="4178160"/>
                <a:ext cx="106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6" name=""/>
            <p:cNvSpPr/>
            <p:nvPr/>
          </p:nvSpPr>
          <p:spPr>
            <a:xfrm>
              <a:off x="2562120" y="2666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1247760" y="205740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2562120" y="2209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3073320" y="1676520"/>
              <a:ext cx="437760" cy="457560"/>
            </a:xfrm>
            <a:custGeom>
              <a:avLst/>
              <a:gdLst/>
              <a:ahLst/>
              <a:rect l="0" t="0" r="r" b="b"/>
              <a:pathLst>
                <a:path fill="none" w="1216" h="1271">
                  <a:moveTo>
                    <a:pt x="0" y="0"/>
                  </a:moveTo>
                  <a:lnTo>
                    <a:pt x="0" y="0"/>
                  </a:lnTo>
                  <a:cubicBezTo>
                    <a:pt x="0" y="223"/>
                    <a:pt x="56" y="442"/>
                    <a:pt x="163" y="636"/>
                  </a:cubicBezTo>
                  <a:cubicBezTo>
                    <a:pt x="270" y="829"/>
                    <a:pt x="423" y="989"/>
                    <a:pt x="608" y="1101"/>
                  </a:cubicBezTo>
                  <a:cubicBezTo>
                    <a:pt x="793" y="1212"/>
                    <a:pt x="1003" y="1271"/>
                    <a:pt x="1216" y="127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0" name=""/>
            <p:cNvSpPr txBox="1"/>
            <p:nvPr/>
          </p:nvSpPr>
          <p:spPr>
            <a:xfrm>
              <a:off x="1506600" y="363996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1612800" y="3200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2052720" y="3200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3" name=""/>
            <p:cNvSpPr txBox="1"/>
            <p:nvPr/>
          </p:nvSpPr>
          <p:spPr>
            <a:xfrm>
              <a:off x="852480" y="1333440"/>
              <a:ext cx="210024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JECTION TERM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227160" y="5181480"/>
              <a:ext cx="86119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5" name=""/>
            <p:cNvSpPr txBox="1"/>
            <p:nvPr/>
          </p:nvSpPr>
          <p:spPr>
            <a:xfrm>
              <a:off x="1116000" y="5545080"/>
              <a:ext cx="142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 TO 23.5 Mb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6" name=""/>
            <p:cNvSpPr/>
            <p:nvPr/>
          </p:nvSpPr>
          <p:spPr>
            <a:xfrm flipV="1">
              <a:off x="663480" y="457200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7" name=""/>
            <p:cNvSpPr/>
            <p:nvPr/>
          </p:nvSpPr>
          <p:spPr>
            <a:xfrm flipV="1">
              <a:off x="1612800" y="457200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8" name=""/>
            <p:cNvSpPr/>
            <p:nvPr/>
          </p:nvSpPr>
          <p:spPr>
            <a:xfrm flipV="1">
              <a:off x="1978200" y="457200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9" name=""/>
            <p:cNvSpPr/>
            <p:nvPr/>
          </p:nvSpPr>
          <p:spPr>
            <a:xfrm flipV="1">
              <a:off x="3073320" y="46483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0" name=""/>
            <p:cNvSpPr txBox="1"/>
            <p:nvPr/>
          </p:nvSpPr>
          <p:spPr>
            <a:xfrm>
              <a:off x="3178080" y="5330880"/>
              <a:ext cx="2270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MANAGEMENT                   RESPONSI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5553000" y="1649520"/>
              <a:ext cx="3286080" cy="304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custDash>
                <a:ds d="202857" sp="202857"/>
                <a:ds d="100000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7013520" y="3745080"/>
              <a:ext cx="65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7013520" y="233532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6504120" y="2487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5627520" y="1725480"/>
              <a:ext cx="438480" cy="457560"/>
            </a:xfrm>
            <a:custGeom>
              <a:avLst/>
              <a:gdLst/>
              <a:ahLst/>
              <a:rect l="0" t="0" r="r" b="b"/>
              <a:pathLst>
                <a:path fill="none" w="1218" h="1271">
                  <a:moveTo>
                    <a:pt x="0" y="0"/>
                  </a:moveTo>
                  <a:lnTo>
                    <a:pt x="0" y="0"/>
                  </a:lnTo>
                  <a:cubicBezTo>
                    <a:pt x="0" y="223"/>
                    <a:pt x="56" y="442"/>
                    <a:pt x="163" y="636"/>
                  </a:cubicBezTo>
                  <a:cubicBezTo>
                    <a:pt x="270" y="829"/>
                    <a:pt x="424" y="989"/>
                    <a:pt x="609" y="1101"/>
                  </a:cubicBezTo>
                  <a:cubicBezTo>
                    <a:pt x="794" y="1212"/>
                    <a:pt x="1004" y="1271"/>
                    <a:pt x="1218" y="127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6504120" y="3249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7" name=""/>
            <p:cNvSpPr txBox="1"/>
            <p:nvPr/>
          </p:nvSpPr>
          <p:spPr>
            <a:xfrm>
              <a:off x="6192720" y="1382760"/>
              <a:ext cx="193212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TERM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6064200" y="38592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6283440" y="38592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6504120" y="38592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6723000" y="38592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6723000" y="5535720"/>
              <a:ext cx="51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6504120" y="59166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4" name=""/>
            <p:cNvSpPr txBox="1"/>
            <p:nvPr/>
          </p:nvSpPr>
          <p:spPr>
            <a:xfrm>
              <a:off x="7289640" y="5442120"/>
              <a:ext cx="6159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5" name=""/>
            <p:cNvSpPr txBox="1"/>
            <p:nvPr/>
          </p:nvSpPr>
          <p:spPr>
            <a:xfrm>
              <a:off x="7350120" y="5823000"/>
              <a:ext cx="4968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B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6" name=""/>
            <p:cNvSpPr/>
            <p:nvPr/>
          </p:nvSpPr>
          <p:spPr>
            <a:xfrm flipH="1">
              <a:off x="5773680" y="5916600"/>
              <a:ext cx="50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5773680" y="55357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8" name=""/>
            <p:cNvSpPr txBox="1"/>
            <p:nvPr/>
          </p:nvSpPr>
          <p:spPr>
            <a:xfrm>
              <a:off x="5154480" y="5442120"/>
              <a:ext cx="5983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T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9" name=""/>
            <p:cNvSpPr txBox="1"/>
            <p:nvPr/>
          </p:nvSpPr>
          <p:spPr>
            <a:xfrm>
              <a:off x="5240160" y="5823000"/>
              <a:ext cx="5144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0" name=""/>
            <p:cNvSpPr txBox="1"/>
            <p:nvPr/>
          </p:nvSpPr>
          <p:spPr>
            <a:xfrm>
              <a:off x="5365800" y="6127920"/>
              <a:ext cx="328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6429240" y="3859200"/>
              <a:ext cx="0" cy="236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2" name=""/>
            <p:cNvSpPr/>
            <p:nvPr/>
          </p:nvSpPr>
          <p:spPr>
            <a:xfrm flipH="1">
              <a:off x="5773680" y="6221520"/>
              <a:ext cx="65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3" name=""/>
            <p:cNvSpPr txBox="1"/>
            <p:nvPr/>
          </p:nvSpPr>
          <p:spPr>
            <a:xfrm>
              <a:off x="284040" y="1913040"/>
              <a:ext cx="10080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4" name=""/>
            <p:cNvSpPr txBox="1"/>
            <p:nvPr/>
          </p:nvSpPr>
          <p:spPr>
            <a:xfrm>
              <a:off x="1657440" y="1927080"/>
              <a:ext cx="134604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EN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5" name=""/>
            <p:cNvSpPr txBox="1"/>
            <p:nvPr/>
          </p:nvSpPr>
          <p:spPr>
            <a:xfrm>
              <a:off x="1657440" y="2376360"/>
              <a:ext cx="13716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6" name=""/>
            <p:cNvSpPr txBox="1"/>
            <p:nvPr/>
          </p:nvSpPr>
          <p:spPr>
            <a:xfrm>
              <a:off x="958680" y="2917800"/>
              <a:ext cx="20383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F M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7" name=""/>
            <p:cNvSpPr txBox="1"/>
            <p:nvPr/>
          </p:nvSpPr>
          <p:spPr>
            <a:xfrm>
              <a:off x="6103800" y="2228760"/>
              <a:ext cx="94788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EN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8" name=""/>
            <p:cNvSpPr txBox="1"/>
            <p:nvPr/>
          </p:nvSpPr>
          <p:spPr>
            <a:xfrm>
              <a:off x="7604280" y="2228760"/>
              <a:ext cx="10080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9" name=""/>
            <p:cNvSpPr txBox="1"/>
            <p:nvPr/>
          </p:nvSpPr>
          <p:spPr>
            <a:xfrm>
              <a:off x="5861160" y="2928960"/>
              <a:ext cx="13273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N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0" name=""/>
            <p:cNvSpPr txBox="1"/>
            <p:nvPr/>
          </p:nvSpPr>
          <p:spPr>
            <a:xfrm>
              <a:off x="5826240" y="3592440"/>
              <a:ext cx="121284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1" name=""/>
            <p:cNvSpPr txBox="1"/>
            <p:nvPr/>
          </p:nvSpPr>
          <p:spPr>
            <a:xfrm>
              <a:off x="7645320" y="3610080"/>
              <a:ext cx="11430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DECRY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2" name=""/>
          <p:cNvSpPr txBox="1"/>
          <p:nvPr/>
        </p:nvSpPr>
        <p:spPr>
          <a:xfrm>
            <a:off x="0" y="6095880"/>
            <a:ext cx="48769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 EXACT LOCATION OF BULK ENCRYPTION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3" name=""/>
          <p:cNvSpPr txBox="1"/>
          <p:nvPr/>
        </p:nvSpPr>
        <p:spPr>
          <a:xfrm>
            <a:off x="1063800" y="60480"/>
            <a:ext cx="63500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al Industry 1-1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4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rce Business Daily Announcement-20 F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ket Analysis of Projected GBS Terminal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ed Terminal Capabilities Published on CECOM Electronic Bulletin Board (EBB) 11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icit Industry Ideas on Terminal Capability Feasibility During 20-21 Mar Industry one-on-one sessions at Ft. Mon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 is CPT Lynn Kinley, (908) 532-54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5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 Analysi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6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ed Non Developmental Item (NDI) Strategy- Not True Commercial Off The Shelf (C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rminals Needed to support Sep 97 UFO 8 GBS Satellite Payload Grou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ved Joint Operational Requirement Document (JORD) by Jul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d Approach to Objective 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7" name=""/>
          <p:cNvSpPr txBox="1"/>
          <p:nvPr/>
        </p:nvSpPr>
        <p:spPr>
          <a:xfrm>
            <a:off x="1273320" y="54000"/>
            <a:ext cx="61405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ed GBS Termina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8" name=""/>
          <p:cNvGrpSpPr/>
          <p:nvPr/>
        </p:nvGrpSpPr>
        <p:grpSpPr>
          <a:xfrm>
            <a:off x="228600" y="1198440"/>
            <a:ext cx="8854920" cy="5029200"/>
            <a:chOff x="228600" y="1198440"/>
            <a:chExt cx="8854920" cy="5029200"/>
          </a:xfrm>
        </p:grpSpPr>
        <p:grpSp>
          <p:nvGrpSpPr>
            <p:cNvPr id="7389" name=""/>
            <p:cNvGrpSpPr/>
            <p:nvPr/>
          </p:nvGrpSpPr>
          <p:grpSpPr>
            <a:xfrm>
              <a:off x="228600" y="1503360"/>
              <a:ext cx="8854920" cy="4724280"/>
              <a:chOff x="228600" y="1503360"/>
              <a:chExt cx="8854920" cy="4724280"/>
            </a:xfrm>
          </p:grpSpPr>
          <p:sp>
            <p:nvSpPr>
              <p:cNvPr id="7390" name=""/>
              <p:cNvSpPr txBox="1"/>
              <p:nvPr/>
            </p:nvSpPr>
            <p:spPr>
              <a:xfrm>
                <a:off x="228600" y="1503360"/>
                <a:ext cx="2355840" cy="472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MINAL IPT FORME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ORD DEVELO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PO INDUSTRY DA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 SURVEY A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MINAL 1-ON-1’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QUISITION STRATEG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AFT DOCUMENTS (EBB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SUE SOLICIT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WARD/PRODU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/REC DE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FO/GBS LAUN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 TEST DT &amp; O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9083520" y="1627200"/>
                <a:ext cx="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28600" y="241776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28600" y="272268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28600" y="302724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28600" y="333216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28600" y="363708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28600" y="394164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28600" y="424656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28600" y="462744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28600" y="493236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" y="523728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8600" y="554184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8600" y="5846760"/>
                <a:ext cx="873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03560" y="6227640"/>
                <a:ext cx="676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5" name=""/>
              <p:cNvGrpSpPr/>
              <p:nvPr/>
            </p:nvGrpSpPr>
            <p:grpSpPr>
              <a:xfrm>
                <a:off x="2432160" y="1503360"/>
                <a:ext cx="6629400" cy="380880"/>
                <a:chOff x="2432160" y="1503360"/>
                <a:chExt cx="6629400" cy="380880"/>
              </a:xfrm>
            </p:grpSpPr>
            <p:sp>
              <p:nvSpPr>
                <p:cNvPr id="7406" name=""/>
                <p:cNvSpPr/>
                <p:nvPr/>
              </p:nvSpPr>
              <p:spPr>
                <a:xfrm>
                  <a:off x="2584440" y="1503360"/>
                  <a:ext cx="6381720" cy="380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7" name=""/>
                <p:cNvSpPr txBox="1"/>
                <p:nvPr/>
              </p:nvSpPr>
              <p:spPr>
                <a:xfrm>
                  <a:off x="2432160" y="1589040"/>
                  <a:ext cx="66294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   F     M    A    M    J    J     A    S    O    N    D    J     F   M    A    M   J     J    A     S    O    N    D    J    F    M    A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8" name=""/>
                <p:cNvSpPr/>
                <p:nvPr/>
              </p:nvSpPr>
              <p:spPr>
                <a:xfrm>
                  <a:off x="326880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9" name=""/>
                <p:cNvSpPr/>
                <p:nvPr/>
              </p:nvSpPr>
              <p:spPr>
                <a:xfrm>
                  <a:off x="349560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0" name=""/>
                <p:cNvSpPr/>
                <p:nvPr/>
              </p:nvSpPr>
              <p:spPr>
                <a:xfrm>
                  <a:off x="372420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1" name=""/>
                <p:cNvSpPr/>
                <p:nvPr/>
              </p:nvSpPr>
              <p:spPr>
                <a:xfrm>
                  <a:off x="395136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2" name=""/>
                <p:cNvSpPr/>
                <p:nvPr/>
              </p:nvSpPr>
              <p:spPr>
                <a:xfrm>
                  <a:off x="417996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3" name=""/>
                <p:cNvSpPr/>
                <p:nvPr/>
              </p:nvSpPr>
              <p:spPr>
                <a:xfrm>
                  <a:off x="440676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4" name=""/>
                <p:cNvSpPr/>
                <p:nvPr/>
              </p:nvSpPr>
              <p:spPr>
                <a:xfrm>
                  <a:off x="463536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5" name=""/>
                <p:cNvSpPr/>
                <p:nvPr/>
              </p:nvSpPr>
              <p:spPr>
                <a:xfrm>
                  <a:off x="486396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6" name=""/>
                <p:cNvSpPr/>
                <p:nvPr/>
              </p:nvSpPr>
              <p:spPr>
                <a:xfrm>
                  <a:off x="509112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7" name=""/>
                <p:cNvSpPr/>
                <p:nvPr/>
              </p:nvSpPr>
              <p:spPr>
                <a:xfrm>
                  <a:off x="531972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8" name=""/>
                <p:cNvSpPr/>
                <p:nvPr/>
              </p:nvSpPr>
              <p:spPr>
                <a:xfrm>
                  <a:off x="554688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9" name=""/>
                <p:cNvSpPr/>
                <p:nvPr/>
              </p:nvSpPr>
              <p:spPr>
                <a:xfrm>
                  <a:off x="577548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0" name=""/>
                <p:cNvSpPr/>
                <p:nvPr/>
              </p:nvSpPr>
              <p:spPr>
                <a:xfrm>
                  <a:off x="600408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1" name=""/>
                <p:cNvSpPr/>
                <p:nvPr/>
              </p:nvSpPr>
              <p:spPr>
                <a:xfrm>
                  <a:off x="623088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2" name=""/>
                <p:cNvSpPr/>
                <p:nvPr/>
              </p:nvSpPr>
              <p:spPr>
                <a:xfrm>
                  <a:off x="645948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3" name=""/>
                <p:cNvSpPr/>
                <p:nvPr/>
              </p:nvSpPr>
              <p:spPr>
                <a:xfrm>
                  <a:off x="668664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4" name=""/>
                <p:cNvSpPr/>
                <p:nvPr/>
              </p:nvSpPr>
              <p:spPr>
                <a:xfrm>
                  <a:off x="691524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5" name=""/>
                <p:cNvSpPr/>
                <p:nvPr/>
              </p:nvSpPr>
              <p:spPr>
                <a:xfrm>
                  <a:off x="714384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6" name=""/>
                <p:cNvSpPr/>
                <p:nvPr/>
              </p:nvSpPr>
              <p:spPr>
                <a:xfrm>
                  <a:off x="737064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7" name=""/>
                <p:cNvSpPr/>
                <p:nvPr/>
              </p:nvSpPr>
              <p:spPr>
                <a:xfrm>
                  <a:off x="759924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8" name=""/>
                <p:cNvSpPr/>
                <p:nvPr/>
              </p:nvSpPr>
              <p:spPr>
                <a:xfrm>
                  <a:off x="782640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9" name=""/>
                <p:cNvSpPr/>
                <p:nvPr/>
              </p:nvSpPr>
              <p:spPr>
                <a:xfrm>
                  <a:off x="805500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0" name=""/>
                <p:cNvSpPr/>
                <p:nvPr/>
              </p:nvSpPr>
              <p:spPr>
                <a:xfrm>
                  <a:off x="828216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1" name=""/>
                <p:cNvSpPr/>
                <p:nvPr/>
              </p:nvSpPr>
              <p:spPr>
                <a:xfrm>
                  <a:off x="851076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>
                  <a:off x="873936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>
                  <a:off x="304020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4" name=""/>
                <p:cNvSpPr/>
                <p:nvPr/>
              </p:nvSpPr>
              <p:spPr>
                <a:xfrm>
                  <a:off x="2811600" y="15033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35" name=""/>
              <p:cNvSpPr/>
              <p:nvPr/>
            </p:nvSpPr>
            <p:spPr>
              <a:xfrm flipH="1">
                <a:off x="228600" y="1884240"/>
                <a:ext cx="235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6" name=""/>
              <p:cNvSpPr txBox="1"/>
              <p:nvPr/>
            </p:nvSpPr>
            <p:spPr>
              <a:xfrm>
                <a:off x="987480" y="1601640"/>
                <a:ext cx="668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S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8966160" y="1808280"/>
                <a:ext cx="0" cy="441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8" name=""/>
            <p:cNvSpPr/>
            <p:nvPr/>
          </p:nvSpPr>
          <p:spPr>
            <a:xfrm>
              <a:off x="3040200" y="1884240"/>
              <a:ext cx="0" cy="43434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26880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9560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72420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395136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17996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40676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63536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486396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509112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531972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554688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77548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600408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623088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645948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668664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691524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714384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737064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759924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782640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805500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828216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851076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873936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811600" y="1884240"/>
              <a:ext cx="0" cy="4343400"/>
            </a:xfrm>
            <a:prstGeom prst="line">
              <a:avLst/>
            </a:prstGeom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660760" y="1960560"/>
              <a:ext cx="151200" cy="152640"/>
            </a:xfrm>
            <a:custGeom>
              <a:avLst/>
              <a:gdLst/>
              <a:ahLst/>
              <a:rect l="0" t="0" r="r" b="b"/>
              <a:pathLst>
                <a:path w="420" h="424">
                  <a:moveTo>
                    <a:pt x="0" y="424"/>
                  </a:moveTo>
                  <a:lnTo>
                    <a:pt x="420" y="424"/>
                  </a:lnTo>
                  <a:lnTo>
                    <a:pt x="210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3040200" y="27226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0" y="424"/>
                  </a:moveTo>
                  <a:lnTo>
                    <a:pt x="424" y="424"/>
                  </a:lnTo>
                  <a:lnTo>
                    <a:pt x="211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3116160" y="333216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0" y="424"/>
                  </a:moveTo>
                  <a:lnTo>
                    <a:pt x="424" y="424"/>
                  </a:lnTo>
                  <a:lnTo>
                    <a:pt x="211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3116160" y="333216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0" y="0"/>
                  </a:moveTo>
                  <a:lnTo>
                    <a:pt x="424" y="0"/>
                  </a:lnTo>
                  <a:lnTo>
                    <a:pt x="211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4255920" y="4322880"/>
              <a:ext cx="151200" cy="152640"/>
            </a:xfrm>
            <a:custGeom>
              <a:avLst/>
              <a:gdLst/>
              <a:ahLst/>
              <a:rect l="0" t="0" r="r" b="b"/>
              <a:pathLst>
                <a:path w="420" h="424">
                  <a:moveTo>
                    <a:pt x="0" y="424"/>
                  </a:moveTo>
                  <a:lnTo>
                    <a:pt x="420" y="424"/>
                  </a:lnTo>
                  <a:lnTo>
                    <a:pt x="210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8131320" y="5237280"/>
              <a:ext cx="151200" cy="152640"/>
            </a:xfrm>
            <a:custGeom>
              <a:avLst/>
              <a:gdLst/>
              <a:ahLst/>
              <a:rect l="0" t="0" r="r" b="b"/>
              <a:pathLst>
                <a:path w="420" h="424">
                  <a:moveTo>
                    <a:pt x="0" y="424"/>
                  </a:moveTo>
                  <a:lnTo>
                    <a:pt x="420" y="424"/>
                  </a:lnTo>
                  <a:lnTo>
                    <a:pt x="210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1" name=""/>
            <p:cNvGrpSpPr/>
            <p:nvPr/>
          </p:nvGrpSpPr>
          <p:grpSpPr>
            <a:xfrm>
              <a:off x="3040200" y="2417760"/>
              <a:ext cx="987480" cy="152640"/>
              <a:chOff x="3040200" y="2417760"/>
              <a:chExt cx="987480" cy="152640"/>
            </a:xfrm>
          </p:grpSpPr>
          <p:sp>
            <p:nvSpPr>
              <p:cNvPr id="7472" name=""/>
              <p:cNvSpPr/>
              <p:nvPr/>
            </p:nvSpPr>
            <p:spPr>
              <a:xfrm>
                <a:off x="3875040" y="241776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0"/>
                    </a:moveTo>
                    <a:lnTo>
                      <a:pt x="424" y="0"/>
                    </a:lnTo>
                    <a:lnTo>
                      <a:pt x="211" y="4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3116160" y="2494080"/>
                <a:ext cx="68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3040200" y="241776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3724200" y="2417760"/>
                <a:ext cx="151200" cy="152640"/>
              </a:xfrm>
              <a:custGeom>
                <a:avLst/>
                <a:gdLst/>
                <a:ahLst/>
                <a:rect l="0" t="0" r="r" b="b"/>
                <a:pathLst>
                  <a:path w="420" h="424">
                    <a:moveTo>
                      <a:pt x="0" y="424"/>
                    </a:moveTo>
                    <a:lnTo>
                      <a:pt x="420" y="424"/>
                    </a:lnTo>
                    <a:lnTo>
                      <a:pt x="210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6" name=""/>
            <p:cNvGrpSpPr/>
            <p:nvPr/>
          </p:nvGrpSpPr>
          <p:grpSpPr>
            <a:xfrm>
              <a:off x="3040200" y="3027240"/>
              <a:ext cx="379800" cy="152640"/>
              <a:chOff x="3040200" y="3027240"/>
              <a:chExt cx="379800" cy="152640"/>
            </a:xfrm>
          </p:grpSpPr>
          <p:sp>
            <p:nvSpPr>
              <p:cNvPr id="7477" name=""/>
              <p:cNvSpPr/>
              <p:nvPr/>
            </p:nvSpPr>
            <p:spPr>
              <a:xfrm>
                <a:off x="3116160" y="3103560"/>
                <a:ext cx="22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3040200" y="302724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3268800" y="3027240"/>
                <a:ext cx="151200" cy="152640"/>
              </a:xfrm>
              <a:custGeom>
                <a:avLst/>
                <a:gdLst/>
                <a:ahLst/>
                <a:rect l="0" t="0" r="r" b="b"/>
                <a:pathLst>
                  <a:path w="420" h="424">
                    <a:moveTo>
                      <a:pt x="0" y="0"/>
                    </a:moveTo>
                    <a:lnTo>
                      <a:pt x="420" y="0"/>
                    </a:lnTo>
                    <a:lnTo>
                      <a:pt x="210" y="4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0" name=""/>
            <p:cNvGrpSpPr/>
            <p:nvPr/>
          </p:nvGrpSpPr>
          <p:grpSpPr>
            <a:xfrm>
              <a:off x="3116160" y="3637080"/>
              <a:ext cx="379800" cy="152640"/>
              <a:chOff x="3116160" y="3637080"/>
              <a:chExt cx="379800" cy="152640"/>
            </a:xfrm>
          </p:grpSpPr>
          <p:sp>
            <p:nvSpPr>
              <p:cNvPr id="7481" name=""/>
              <p:cNvSpPr/>
              <p:nvPr/>
            </p:nvSpPr>
            <p:spPr>
              <a:xfrm>
                <a:off x="3192480" y="3713040"/>
                <a:ext cx="22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3116160" y="363708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3343320" y="363708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0"/>
                    </a:moveTo>
                    <a:lnTo>
                      <a:pt x="424" y="0"/>
                    </a:lnTo>
                    <a:lnTo>
                      <a:pt x="211" y="4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4" name=""/>
            <p:cNvGrpSpPr/>
            <p:nvPr/>
          </p:nvGrpSpPr>
          <p:grpSpPr>
            <a:xfrm>
              <a:off x="3419640" y="3941640"/>
              <a:ext cx="836640" cy="152640"/>
              <a:chOff x="3419640" y="3941640"/>
              <a:chExt cx="836640" cy="152640"/>
            </a:xfrm>
          </p:grpSpPr>
          <p:sp>
            <p:nvSpPr>
              <p:cNvPr id="7485" name=""/>
              <p:cNvSpPr/>
              <p:nvPr/>
            </p:nvSpPr>
            <p:spPr>
              <a:xfrm>
                <a:off x="3495600" y="4017960"/>
                <a:ext cx="68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3419640" y="394164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4103640" y="394164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0"/>
                    </a:moveTo>
                    <a:lnTo>
                      <a:pt x="424" y="0"/>
                    </a:lnTo>
                    <a:lnTo>
                      <a:pt x="211" y="4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8" name=""/>
            <p:cNvGrpSpPr/>
            <p:nvPr/>
          </p:nvGrpSpPr>
          <p:grpSpPr>
            <a:xfrm>
              <a:off x="5167440" y="4627440"/>
              <a:ext cx="3646440" cy="152640"/>
              <a:chOff x="5167440" y="4627440"/>
              <a:chExt cx="3646440" cy="152640"/>
            </a:xfrm>
          </p:grpSpPr>
          <p:sp>
            <p:nvSpPr>
              <p:cNvPr id="7489" name=""/>
              <p:cNvSpPr/>
              <p:nvPr/>
            </p:nvSpPr>
            <p:spPr>
              <a:xfrm>
                <a:off x="5243400" y="4703760"/>
                <a:ext cx="357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5167440" y="462744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1" name=""/>
            <p:cNvGrpSpPr/>
            <p:nvPr/>
          </p:nvGrpSpPr>
          <p:grpSpPr>
            <a:xfrm>
              <a:off x="7294680" y="4932360"/>
              <a:ext cx="532080" cy="152640"/>
              <a:chOff x="7294680" y="4932360"/>
              <a:chExt cx="532080" cy="152640"/>
            </a:xfrm>
          </p:grpSpPr>
          <p:sp>
            <p:nvSpPr>
              <p:cNvPr id="7492" name=""/>
              <p:cNvSpPr/>
              <p:nvPr/>
            </p:nvSpPr>
            <p:spPr>
              <a:xfrm>
                <a:off x="7370640" y="500868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7675560" y="4932360"/>
                <a:ext cx="151200" cy="152640"/>
              </a:xfrm>
              <a:custGeom>
                <a:avLst/>
                <a:gdLst/>
                <a:ahLst/>
                <a:rect l="0" t="0" r="r" b="b"/>
                <a:pathLst>
                  <a:path w="420" h="424">
                    <a:moveTo>
                      <a:pt x="0" y="0"/>
                    </a:moveTo>
                    <a:lnTo>
                      <a:pt x="420" y="0"/>
                    </a:lnTo>
                    <a:lnTo>
                      <a:pt x="210" y="4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7294680" y="493236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5" name=""/>
            <p:cNvGrpSpPr/>
            <p:nvPr/>
          </p:nvGrpSpPr>
          <p:grpSpPr>
            <a:xfrm>
              <a:off x="8055000" y="5541840"/>
              <a:ext cx="455760" cy="152640"/>
              <a:chOff x="8055000" y="5541840"/>
              <a:chExt cx="455760" cy="152640"/>
            </a:xfrm>
          </p:grpSpPr>
          <p:sp>
            <p:nvSpPr>
              <p:cNvPr id="7496" name=""/>
              <p:cNvSpPr/>
              <p:nvPr/>
            </p:nvSpPr>
            <p:spPr>
              <a:xfrm>
                <a:off x="8131320" y="5618160"/>
                <a:ext cx="3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8055000" y="554184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8358120" y="554184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0"/>
                    </a:moveTo>
                    <a:lnTo>
                      <a:pt x="424" y="0"/>
                    </a:lnTo>
                    <a:lnTo>
                      <a:pt x="211" y="4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9" name=""/>
            <p:cNvSpPr txBox="1"/>
            <p:nvPr/>
          </p:nvSpPr>
          <p:spPr>
            <a:xfrm>
              <a:off x="7962840" y="5694480"/>
              <a:ext cx="3430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/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0" name=""/>
            <p:cNvSpPr txBox="1"/>
            <p:nvPr/>
          </p:nvSpPr>
          <p:spPr>
            <a:xfrm>
              <a:off x="8265960" y="569448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/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1" name=""/>
            <p:cNvSpPr txBox="1"/>
            <p:nvPr/>
          </p:nvSpPr>
          <p:spPr>
            <a:xfrm>
              <a:off x="7962840" y="538956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/9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2" name=""/>
            <p:cNvSpPr txBox="1"/>
            <p:nvPr/>
          </p:nvSpPr>
          <p:spPr>
            <a:xfrm>
              <a:off x="7202520" y="509904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/2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3" name=""/>
            <p:cNvSpPr txBox="1"/>
            <p:nvPr/>
          </p:nvSpPr>
          <p:spPr>
            <a:xfrm>
              <a:off x="7523280" y="509904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/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8418600" y="601344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5" name=""/>
            <p:cNvSpPr txBox="1"/>
            <p:nvPr/>
          </p:nvSpPr>
          <p:spPr>
            <a:xfrm>
              <a:off x="4998960" y="4794120"/>
              <a:ext cx="4381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/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6" name=""/>
            <p:cNvSpPr txBox="1"/>
            <p:nvPr/>
          </p:nvSpPr>
          <p:spPr>
            <a:xfrm>
              <a:off x="4164120" y="448956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/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"/>
            <p:cNvSpPr txBox="1"/>
            <p:nvPr/>
          </p:nvSpPr>
          <p:spPr>
            <a:xfrm>
              <a:off x="3327480" y="410832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/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"/>
            <p:cNvSpPr txBox="1"/>
            <p:nvPr/>
          </p:nvSpPr>
          <p:spPr>
            <a:xfrm>
              <a:off x="4011480" y="4108320"/>
              <a:ext cx="325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/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"/>
            <p:cNvSpPr txBox="1"/>
            <p:nvPr/>
          </p:nvSpPr>
          <p:spPr>
            <a:xfrm>
              <a:off x="2963880" y="3803760"/>
              <a:ext cx="6858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/22   4/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"/>
            <p:cNvSpPr txBox="1"/>
            <p:nvPr/>
          </p:nvSpPr>
          <p:spPr>
            <a:xfrm>
              <a:off x="3024360" y="349884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/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"/>
            <p:cNvSpPr txBox="1"/>
            <p:nvPr/>
          </p:nvSpPr>
          <p:spPr>
            <a:xfrm>
              <a:off x="3176640" y="327024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/2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"/>
            <p:cNvSpPr txBox="1"/>
            <p:nvPr/>
          </p:nvSpPr>
          <p:spPr>
            <a:xfrm>
              <a:off x="2948040" y="3117960"/>
              <a:ext cx="6364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/11  4/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"/>
            <p:cNvSpPr txBox="1"/>
            <p:nvPr/>
          </p:nvSpPr>
          <p:spPr>
            <a:xfrm>
              <a:off x="2948040" y="288936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/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"/>
            <p:cNvSpPr txBox="1"/>
            <p:nvPr/>
          </p:nvSpPr>
          <p:spPr>
            <a:xfrm>
              <a:off x="2948040" y="2584440"/>
              <a:ext cx="325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/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"/>
            <p:cNvSpPr txBox="1"/>
            <p:nvPr/>
          </p:nvSpPr>
          <p:spPr>
            <a:xfrm>
              <a:off x="3632040" y="258444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/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"/>
            <p:cNvSpPr txBox="1"/>
            <p:nvPr/>
          </p:nvSpPr>
          <p:spPr>
            <a:xfrm>
              <a:off x="3935520" y="2432160"/>
              <a:ext cx="325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7" name=""/>
            <p:cNvSpPr txBox="1"/>
            <p:nvPr/>
          </p:nvSpPr>
          <p:spPr>
            <a:xfrm>
              <a:off x="2568600" y="212724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/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2584440" y="1198440"/>
              <a:ext cx="63817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4635360" y="1274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7370640" y="1274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1" name=""/>
            <p:cNvSpPr txBox="1"/>
            <p:nvPr/>
          </p:nvSpPr>
          <p:spPr>
            <a:xfrm>
              <a:off x="3251160" y="1274760"/>
              <a:ext cx="547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Y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2" name=""/>
            <p:cNvSpPr txBox="1"/>
            <p:nvPr/>
          </p:nvSpPr>
          <p:spPr>
            <a:xfrm>
              <a:off x="5683320" y="1244520"/>
              <a:ext cx="547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Y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3" name=""/>
            <p:cNvSpPr txBox="1"/>
            <p:nvPr/>
          </p:nvSpPr>
          <p:spPr>
            <a:xfrm>
              <a:off x="7886880" y="1244520"/>
              <a:ext cx="547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Y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4" name=""/>
            <p:cNvSpPr txBox="1"/>
            <p:nvPr/>
          </p:nvSpPr>
          <p:spPr>
            <a:xfrm>
              <a:off x="3859200" y="3803760"/>
              <a:ext cx="382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/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3951360" y="3637080"/>
              <a:ext cx="152640" cy="152640"/>
            </a:xfrm>
            <a:custGeom>
              <a:avLst/>
              <a:gdLst/>
              <a:ahLst/>
              <a:rect l="0" t="0" r="r" b="b"/>
              <a:pathLst>
                <a:path w="424" h="424">
                  <a:moveTo>
                    <a:pt x="424" y="0"/>
                  </a:moveTo>
                  <a:lnTo>
                    <a:pt x="0" y="0"/>
                  </a:lnTo>
                  <a:lnTo>
                    <a:pt x="211" y="42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6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7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BS Terminal IPT Welcomes Industry Ideas to Develop a Sensible, Cost Effective, COTS/NDI-based GBS Terminal Program That Will Meet 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Incorporate Industry Comments In All Terminal Procurement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DR Ay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0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quisition 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1" name=""/>
          <p:cNvSpPr txBox="1"/>
          <p:nvPr/>
        </p:nvSpPr>
        <p:spPr>
          <a:xfrm>
            <a:off x="6699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rage Commerc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driver for delivering system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nership with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t evolve system approach with commercial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for possible multipl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 Approach and Agency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italizing on team strengths - remove parochi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 on Mid/Long Range GBS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izing capability to cost - knee of curve - goo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ovative Acquisition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 architectures to maximize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PO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DR Ay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2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y - What Needs To Be Don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3" name=""/>
          <p:cNvGrpSpPr/>
          <p:nvPr/>
        </p:nvGrpSpPr>
        <p:grpSpPr>
          <a:xfrm>
            <a:off x="-3240" y="1073160"/>
            <a:ext cx="8969400" cy="5604120"/>
            <a:chOff x="-3240" y="1073160"/>
            <a:chExt cx="8969400" cy="5604120"/>
          </a:xfrm>
        </p:grpSpPr>
        <p:sp>
          <p:nvSpPr>
            <p:cNvPr id="7534" name=""/>
            <p:cNvSpPr/>
            <p:nvPr/>
          </p:nvSpPr>
          <p:spPr>
            <a:xfrm>
              <a:off x="7023240" y="3835440"/>
              <a:ext cx="291960" cy="671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7242120" y="3686040"/>
              <a:ext cx="366840" cy="820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7389720" y="3164040"/>
              <a:ext cx="657360" cy="1342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7" name=""/>
            <p:cNvGrpSpPr/>
            <p:nvPr/>
          </p:nvGrpSpPr>
          <p:grpSpPr>
            <a:xfrm>
              <a:off x="6600960" y="2668680"/>
              <a:ext cx="789120" cy="1166760"/>
              <a:chOff x="6600960" y="2668680"/>
              <a:chExt cx="789120" cy="1166760"/>
            </a:xfrm>
          </p:grpSpPr>
          <p:grpSp>
            <p:nvGrpSpPr>
              <p:cNvPr id="7538" name=""/>
              <p:cNvGrpSpPr/>
              <p:nvPr/>
            </p:nvGrpSpPr>
            <p:grpSpPr>
              <a:xfrm>
                <a:off x="6600960" y="2668680"/>
                <a:ext cx="789120" cy="1166760"/>
                <a:chOff x="6600960" y="2668680"/>
                <a:chExt cx="789120" cy="1166760"/>
              </a:xfrm>
            </p:grpSpPr>
            <p:grpSp>
              <p:nvGrpSpPr>
                <p:cNvPr id="7539" name=""/>
                <p:cNvGrpSpPr/>
                <p:nvPr/>
              </p:nvGrpSpPr>
              <p:grpSpPr>
                <a:xfrm>
                  <a:off x="6600960" y="2668680"/>
                  <a:ext cx="789120" cy="1166760"/>
                  <a:chOff x="6600960" y="2668680"/>
                  <a:chExt cx="789120" cy="1166760"/>
                </a:xfrm>
              </p:grpSpPr>
              <p:grpSp>
                <p:nvGrpSpPr>
                  <p:cNvPr id="7540" name=""/>
                  <p:cNvGrpSpPr/>
                  <p:nvPr/>
                </p:nvGrpSpPr>
                <p:grpSpPr>
                  <a:xfrm>
                    <a:off x="6600960" y="2668680"/>
                    <a:ext cx="789120" cy="1166760"/>
                    <a:chOff x="6600960" y="2668680"/>
                    <a:chExt cx="789120" cy="1166760"/>
                  </a:xfrm>
                </p:grpSpPr>
                <p:sp>
                  <p:nvSpPr>
                    <p:cNvPr id="7541" name=""/>
                    <p:cNvSpPr/>
                    <p:nvPr/>
                  </p:nvSpPr>
                  <p:spPr>
                    <a:xfrm>
                      <a:off x="6600960" y="2668680"/>
                      <a:ext cx="789120" cy="11667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2" name=""/>
                    <p:cNvSpPr/>
                    <p:nvPr/>
                  </p:nvSpPr>
                  <p:spPr>
                    <a:xfrm>
                      <a:off x="6684840" y="2787480"/>
                      <a:ext cx="619200" cy="925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43" name=""/>
                  <p:cNvSpPr/>
                  <p:nvPr/>
                </p:nvSpPr>
                <p:spPr>
                  <a:xfrm>
                    <a:off x="6770520" y="2914560"/>
                    <a:ext cx="449280" cy="6714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4" name=""/>
                <p:cNvSpPr/>
                <p:nvPr/>
              </p:nvSpPr>
              <p:spPr>
                <a:xfrm>
                  <a:off x="6853320" y="3040200"/>
                  <a:ext cx="282600" cy="42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5" name=""/>
              <p:cNvSpPr/>
              <p:nvPr/>
            </p:nvSpPr>
            <p:spPr>
              <a:xfrm>
                <a:off x="6937200" y="3165480"/>
                <a:ext cx="114480" cy="1699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6" name=""/>
            <p:cNvSpPr/>
            <p:nvPr/>
          </p:nvSpPr>
          <p:spPr>
            <a:xfrm>
              <a:off x="512640" y="1484280"/>
              <a:ext cx="6515280" cy="3994560"/>
            </a:xfrm>
            <a:custGeom>
              <a:avLst/>
              <a:gdLst/>
              <a:ahLst/>
              <a:rect l="0" t="0" r="r" b="b"/>
              <a:pathLst>
                <a:path w="18098" h="11096">
                  <a:moveTo>
                    <a:pt x="0" y="11096"/>
                  </a:moveTo>
                  <a:lnTo>
                    <a:pt x="17" y="9678"/>
                  </a:lnTo>
                  <a:lnTo>
                    <a:pt x="933" y="9337"/>
                  </a:lnTo>
                  <a:lnTo>
                    <a:pt x="1788" y="9012"/>
                  </a:lnTo>
                  <a:lnTo>
                    <a:pt x="2734" y="8661"/>
                  </a:lnTo>
                  <a:lnTo>
                    <a:pt x="3786" y="8240"/>
                  </a:lnTo>
                  <a:lnTo>
                    <a:pt x="4806" y="7860"/>
                  </a:lnTo>
                  <a:lnTo>
                    <a:pt x="5714" y="7503"/>
                  </a:lnTo>
                  <a:lnTo>
                    <a:pt x="6542" y="7204"/>
                  </a:lnTo>
                  <a:lnTo>
                    <a:pt x="7349" y="6923"/>
                  </a:lnTo>
                  <a:lnTo>
                    <a:pt x="8300" y="6598"/>
                  </a:lnTo>
                  <a:lnTo>
                    <a:pt x="9117" y="6337"/>
                  </a:lnTo>
                  <a:lnTo>
                    <a:pt x="10020" y="6066"/>
                  </a:lnTo>
                  <a:lnTo>
                    <a:pt x="11040" y="5789"/>
                  </a:lnTo>
                  <a:lnTo>
                    <a:pt x="11943" y="5556"/>
                  </a:lnTo>
                  <a:lnTo>
                    <a:pt x="12934" y="5339"/>
                  </a:lnTo>
                  <a:lnTo>
                    <a:pt x="12061" y="5205"/>
                  </a:lnTo>
                  <a:lnTo>
                    <a:pt x="11019" y="5059"/>
                  </a:lnTo>
                  <a:lnTo>
                    <a:pt x="9902" y="4880"/>
                  </a:lnTo>
                  <a:lnTo>
                    <a:pt x="8789" y="4676"/>
                  </a:lnTo>
                  <a:lnTo>
                    <a:pt x="7707" y="4463"/>
                  </a:lnTo>
                  <a:lnTo>
                    <a:pt x="6634" y="4208"/>
                  </a:lnTo>
                  <a:lnTo>
                    <a:pt x="5487" y="3895"/>
                  </a:lnTo>
                  <a:lnTo>
                    <a:pt x="4117" y="3440"/>
                  </a:lnTo>
                  <a:lnTo>
                    <a:pt x="3110" y="3083"/>
                  </a:lnTo>
                  <a:lnTo>
                    <a:pt x="2163" y="2686"/>
                  </a:lnTo>
                  <a:lnTo>
                    <a:pt x="1347" y="2269"/>
                  </a:lnTo>
                  <a:lnTo>
                    <a:pt x="148" y="1561"/>
                  </a:lnTo>
                  <a:lnTo>
                    <a:pt x="174" y="0"/>
                  </a:lnTo>
                  <a:lnTo>
                    <a:pt x="1121" y="522"/>
                  </a:lnTo>
                  <a:lnTo>
                    <a:pt x="2255" y="1054"/>
                  </a:lnTo>
                  <a:lnTo>
                    <a:pt x="3319" y="1510"/>
                  </a:lnTo>
                  <a:lnTo>
                    <a:pt x="4357" y="1944"/>
                  </a:lnTo>
                  <a:lnTo>
                    <a:pt x="5635" y="2403"/>
                  </a:lnTo>
                  <a:lnTo>
                    <a:pt x="6869" y="2808"/>
                  </a:lnTo>
                  <a:lnTo>
                    <a:pt x="7781" y="3086"/>
                  </a:lnTo>
                  <a:lnTo>
                    <a:pt x="8972" y="3369"/>
                  </a:lnTo>
                  <a:lnTo>
                    <a:pt x="10042" y="3618"/>
                  </a:lnTo>
                  <a:lnTo>
                    <a:pt x="10927" y="3797"/>
                  </a:lnTo>
                  <a:lnTo>
                    <a:pt x="12052" y="3997"/>
                  </a:lnTo>
                  <a:lnTo>
                    <a:pt x="12947" y="4141"/>
                  </a:lnTo>
                  <a:lnTo>
                    <a:pt x="13553" y="4233"/>
                  </a:lnTo>
                  <a:lnTo>
                    <a:pt x="14373" y="4332"/>
                  </a:lnTo>
                  <a:lnTo>
                    <a:pt x="15049" y="4408"/>
                  </a:lnTo>
                  <a:lnTo>
                    <a:pt x="15062" y="3621"/>
                  </a:lnTo>
                  <a:lnTo>
                    <a:pt x="18098" y="4992"/>
                  </a:lnTo>
                  <a:lnTo>
                    <a:pt x="15014" y="6640"/>
                  </a:lnTo>
                  <a:lnTo>
                    <a:pt x="15027" y="5856"/>
                  </a:lnTo>
                  <a:lnTo>
                    <a:pt x="14508" y="5938"/>
                  </a:lnTo>
                  <a:lnTo>
                    <a:pt x="13871" y="6063"/>
                  </a:lnTo>
                  <a:lnTo>
                    <a:pt x="13204" y="6248"/>
                  </a:lnTo>
                  <a:lnTo>
                    <a:pt x="12393" y="6477"/>
                  </a:lnTo>
                  <a:lnTo>
                    <a:pt x="11568" y="6735"/>
                  </a:lnTo>
                  <a:lnTo>
                    <a:pt x="10853" y="6965"/>
                  </a:lnTo>
                  <a:lnTo>
                    <a:pt x="10138" y="7204"/>
                  </a:lnTo>
                  <a:lnTo>
                    <a:pt x="9335" y="7475"/>
                  </a:lnTo>
                  <a:lnTo>
                    <a:pt x="8684" y="7701"/>
                  </a:lnTo>
                  <a:lnTo>
                    <a:pt x="7903" y="7965"/>
                  </a:lnTo>
                  <a:lnTo>
                    <a:pt x="6512" y="8473"/>
                  </a:lnTo>
                  <a:lnTo>
                    <a:pt x="5491" y="8862"/>
                  </a:lnTo>
                  <a:lnTo>
                    <a:pt x="4654" y="9184"/>
                  </a:lnTo>
                  <a:lnTo>
                    <a:pt x="3956" y="9455"/>
                  </a:lnTo>
                  <a:lnTo>
                    <a:pt x="2922" y="9882"/>
                  </a:lnTo>
                  <a:lnTo>
                    <a:pt x="1949" y="10274"/>
                  </a:lnTo>
                  <a:lnTo>
                    <a:pt x="1011" y="10666"/>
                  </a:lnTo>
                  <a:lnTo>
                    <a:pt x="0" y="1109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"/>
            <p:cNvSpPr txBox="1"/>
            <p:nvPr/>
          </p:nvSpPr>
          <p:spPr>
            <a:xfrm>
              <a:off x="5718240" y="1511280"/>
              <a:ext cx="2600280" cy="72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Re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A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"/>
            <p:cNvSpPr txBox="1"/>
            <p:nvPr/>
          </p:nvSpPr>
          <p:spPr>
            <a:xfrm>
              <a:off x="874800" y="148284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System Compon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"/>
            <p:cNvSpPr txBox="1"/>
            <p:nvPr/>
          </p:nvSpPr>
          <p:spPr>
            <a:xfrm>
              <a:off x="507960" y="6073920"/>
              <a:ext cx="8458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B                MAR             APR             MAY           JUN            JUL               A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"/>
            <p:cNvSpPr txBox="1"/>
            <p:nvPr/>
          </p:nvSpPr>
          <p:spPr>
            <a:xfrm>
              <a:off x="1606680" y="174456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ocate  Responsibil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"/>
            <p:cNvSpPr txBox="1"/>
            <p:nvPr/>
          </p:nvSpPr>
          <p:spPr>
            <a:xfrm>
              <a:off x="2190600" y="2043000"/>
              <a:ext cx="3429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 System/Program 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"/>
            <p:cNvSpPr txBox="1"/>
            <p:nvPr/>
          </p:nvSpPr>
          <p:spPr>
            <a:xfrm>
              <a:off x="3141720" y="234144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 with 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"/>
            <p:cNvSpPr txBox="1"/>
            <p:nvPr/>
          </p:nvSpPr>
          <p:spPr>
            <a:xfrm>
              <a:off x="3884760" y="2565360"/>
              <a:ext cx="3276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 Acquisition 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073320" y="4581360"/>
              <a:ext cx="292320" cy="224280"/>
            </a:xfrm>
            <a:custGeom>
              <a:avLst/>
              <a:gdLst/>
              <a:ahLst/>
              <a:rect l="0" t="0" r="r" b="b"/>
              <a:pathLst>
                <a:path w="812" h="623">
                  <a:moveTo>
                    <a:pt x="0" y="623"/>
                  </a:moveTo>
                  <a:lnTo>
                    <a:pt x="812" y="623"/>
                  </a:lnTo>
                  <a:lnTo>
                    <a:pt x="405" y="0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"/>
            <p:cNvSpPr txBox="1"/>
            <p:nvPr/>
          </p:nvSpPr>
          <p:spPr>
            <a:xfrm>
              <a:off x="3079800" y="4581360"/>
              <a:ext cx="3352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aft Program Review Pack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951360" y="4208400"/>
              <a:ext cx="292320" cy="224280"/>
            </a:xfrm>
            <a:custGeom>
              <a:avLst/>
              <a:gdLst/>
              <a:ahLst/>
              <a:rect l="0" t="0" r="r" b="b"/>
              <a:pathLst>
                <a:path w="812" h="623">
                  <a:moveTo>
                    <a:pt x="0" y="623"/>
                  </a:moveTo>
                  <a:lnTo>
                    <a:pt x="812" y="623"/>
                  </a:lnTo>
                  <a:lnTo>
                    <a:pt x="405" y="0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7" name=""/>
            <p:cNvSpPr txBox="1"/>
            <p:nvPr/>
          </p:nvSpPr>
          <p:spPr>
            <a:xfrm>
              <a:off x="4240080" y="4282920"/>
              <a:ext cx="3200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ipals Mgt &amp; PR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681440" y="3984480"/>
              <a:ext cx="294120" cy="224280"/>
            </a:xfrm>
            <a:custGeom>
              <a:avLst/>
              <a:gdLst/>
              <a:ahLst/>
              <a:rect l="0" t="0" r="r" b="b"/>
              <a:pathLst>
                <a:path w="817" h="623">
                  <a:moveTo>
                    <a:pt x="0" y="623"/>
                  </a:moveTo>
                  <a:lnTo>
                    <a:pt x="817" y="623"/>
                  </a:lnTo>
                  <a:lnTo>
                    <a:pt x="408" y="0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"/>
            <p:cNvSpPr txBox="1"/>
            <p:nvPr/>
          </p:nvSpPr>
          <p:spPr>
            <a:xfrm>
              <a:off x="4970520" y="398304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IPT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"/>
            <p:cNvSpPr txBox="1"/>
            <p:nvPr/>
          </p:nvSpPr>
          <p:spPr>
            <a:xfrm>
              <a:off x="5848200" y="3759120"/>
              <a:ext cx="1523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IPT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5559480" y="3686040"/>
              <a:ext cx="294120" cy="224280"/>
            </a:xfrm>
            <a:custGeom>
              <a:avLst/>
              <a:gdLst/>
              <a:ahLst/>
              <a:rect l="0" t="0" r="r" b="b"/>
              <a:pathLst>
                <a:path w="817" h="623">
                  <a:moveTo>
                    <a:pt x="0" y="623"/>
                  </a:moveTo>
                  <a:lnTo>
                    <a:pt x="817" y="623"/>
                  </a:lnTo>
                  <a:lnTo>
                    <a:pt x="408" y="0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2195640" y="4879800"/>
              <a:ext cx="292320" cy="224280"/>
            </a:xfrm>
            <a:custGeom>
              <a:avLst/>
              <a:gdLst/>
              <a:ahLst/>
              <a:rect l="0" t="0" r="r" b="b"/>
              <a:pathLst>
                <a:path w="812" h="623">
                  <a:moveTo>
                    <a:pt x="0" y="623"/>
                  </a:moveTo>
                  <a:lnTo>
                    <a:pt x="812" y="623"/>
                  </a:lnTo>
                  <a:lnTo>
                    <a:pt x="405" y="0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585720" y="5478480"/>
              <a:ext cx="292320" cy="224280"/>
            </a:xfrm>
            <a:custGeom>
              <a:avLst/>
              <a:gdLst/>
              <a:ahLst/>
              <a:rect l="0" t="0" r="r" b="b"/>
              <a:pathLst>
                <a:path w="812" h="623">
                  <a:moveTo>
                    <a:pt x="0" y="623"/>
                  </a:moveTo>
                  <a:lnTo>
                    <a:pt x="812" y="623"/>
                  </a:lnTo>
                  <a:lnTo>
                    <a:pt x="405" y="0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4" name=""/>
            <p:cNvSpPr txBox="1"/>
            <p:nvPr/>
          </p:nvSpPr>
          <p:spPr>
            <a:xfrm>
              <a:off x="874800" y="5477040"/>
              <a:ext cx="380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ipals Strategy Meeting </a:t>
              </a:r>
              <a:r>
                <a:rPr b="1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(held 2/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5" name=""/>
            <p:cNvSpPr txBox="1"/>
            <p:nvPr/>
          </p:nvSpPr>
          <p:spPr>
            <a:xfrm>
              <a:off x="2484360" y="4879800"/>
              <a:ext cx="3962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ipals JPO Mgt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1317600" y="5178600"/>
              <a:ext cx="292320" cy="225720"/>
            </a:xfrm>
            <a:custGeom>
              <a:avLst/>
              <a:gdLst/>
              <a:ahLst/>
              <a:rect l="0" t="0" r="r" b="b"/>
              <a:pathLst>
                <a:path w="812" h="627">
                  <a:moveTo>
                    <a:pt x="0" y="627"/>
                  </a:moveTo>
                  <a:lnTo>
                    <a:pt x="812" y="627"/>
                  </a:lnTo>
                  <a:lnTo>
                    <a:pt x="405" y="0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114ffb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7" name=""/>
            <p:cNvSpPr txBox="1"/>
            <p:nvPr/>
          </p:nvSpPr>
          <p:spPr>
            <a:xfrm>
              <a:off x="1679400" y="5178600"/>
              <a:ext cx="5029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 JPO Kick-off Meeting </a:t>
              </a:r>
              <a:r>
                <a:rPr b="1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(no longer need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365040" y="5925960"/>
              <a:ext cx="797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9" name=""/>
            <p:cNvSpPr txBox="1"/>
            <p:nvPr/>
          </p:nvSpPr>
          <p:spPr>
            <a:xfrm>
              <a:off x="42840" y="174456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Ta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"/>
            <p:cNvSpPr txBox="1"/>
            <p:nvPr/>
          </p:nvSpPr>
          <p:spPr>
            <a:xfrm>
              <a:off x="185760" y="435780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Ev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91960" y="2567160"/>
              <a:ext cx="1903680" cy="1791000"/>
            </a:xfrm>
            <a:custGeom>
              <a:avLst/>
              <a:gdLst/>
              <a:ahLst/>
              <a:rect l="0" t="0" r="r" b="b"/>
              <a:pathLst>
                <a:path w="5288" h="4975">
                  <a:moveTo>
                    <a:pt x="2643" y="0"/>
                  </a:moveTo>
                  <a:lnTo>
                    <a:pt x="2025" y="1905"/>
                  </a:lnTo>
                  <a:lnTo>
                    <a:pt x="0" y="1905"/>
                  </a:lnTo>
                  <a:lnTo>
                    <a:pt x="1645" y="3084"/>
                  </a:lnTo>
                  <a:lnTo>
                    <a:pt x="1027" y="4975"/>
                  </a:lnTo>
                  <a:lnTo>
                    <a:pt x="2643" y="3880"/>
                  </a:lnTo>
                  <a:lnTo>
                    <a:pt x="4260" y="4975"/>
                  </a:lnTo>
                  <a:lnTo>
                    <a:pt x="3638" y="3084"/>
                  </a:lnTo>
                  <a:lnTo>
                    <a:pt x="5288" y="1901"/>
                  </a:lnTo>
                  <a:lnTo>
                    <a:pt x="3261" y="1901"/>
                  </a:lnTo>
                  <a:lnTo>
                    <a:pt x="2643" y="0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2" name=""/>
            <p:cNvSpPr txBox="1"/>
            <p:nvPr/>
          </p:nvSpPr>
          <p:spPr>
            <a:xfrm>
              <a:off x="100080" y="3386160"/>
              <a:ext cx="22860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3" name=""/>
            <p:cNvSpPr txBox="1"/>
            <p:nvPr/>
          </p:nvSpPr>
          <p:spPr>
            <a:xfrm>
              <a:off x="3036960" y="3336840"/>
              <a:ext cx="1305000" cy="771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J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4008600" y="3260880"/>
              <a:ext cx="403200" cy="111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4251240" y="3608280"/>
              <a:ext cx="225720" cy="375120"/>
            </a:xfrm>
            <a:custGeom>
              <a:avLst/>
              <a:gdLst/>
              <a:ahLst/>
              <a:rect l="0" t="0" r="r" b="b"/>
              <a:pathLst>
                <a:path w="627" h="1042">
                  <a:moveTo>
                    <a:pt x="266" y="930"/>
                  </a:moveTo>
                  <a:lnTo>
                    <a:pt x="0" y="990"/>
                  </a:lnTo>
                  <a:lnTo>
                    <a:pt x="42" y="835"/>
                  </a:lnTo>
                  <a:lnTo>
                    <a:pt x="16" y="653"/>
                  </a:lnTo>
                  <a:lnTo>
                    <a:pt x="55" y="497"/>
                  </a:lnTo>
                  <a:lnTo>
                    <a:pt x="21" y="316"/>
                  </a:lnTo>
                  <a:lnTo>
                    <a:pt x="59" y="159"/>
                  </a:lnTo>
                  <a:lnTo>
                    <a:pt x="101" y="0"/>
                  </a:lnTo>
                  <a:lnTo>
                    <a:pt x="314" y="0"/>
                  </a:lnTo>
                  <a:lnTo>
                    <a:pt x="508" y="51"/>
                  </a:lnTo>
                  <a:lnTo>
                    <a:pt x="593" y="237"/>
                  </a:lnTo>
                  <a:lnTo>
                    <a:pt x="627" y="419"/>
                  </a:lnTo>
                  <a:lnTo>
                    <a:pt x="584" y="579"/>
                  </a:lnTo>
                  <a:lnTo>
                    <a:pt x="551" y="739"/>
                  </a:lnTo>
                  <a:lnTo>
                    <a:pt x="508" y="895"/>
                  </a:lnTo>
                  <a:lnTo>
                    <a:pt x="402" y="1042"/>
                  </a:lnTo>
                  <a:lnTo>
                    <a:pt x="266" y="93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6877080" y="4506840"/>
              <a:ext cx="1609920" cy="1419480"/>
            </a:xfrm>
            <a:custGeom>
              <a:avLst/>
              <a:gdLst/>
              <a:ahLst/>
              <a:rect l="0" t="0" r="r" b="b"/>
              <a:pathLst>
                <a:path w="4472" h="3943">
                  <a:moveTo>
                    <a:pt x="0" y="1972"/>
                  </a:moveTo>
                  <a:lnTo>
                    <a:pt x="894" y="3943"/>
                  </a:lnTo>
                  <a:lnTo>
                    <a:pt x="3578" y="3943"/>
                  </a:lnTo>
                  <a:lnTo>
                    <a:pt x="4472" y="1972"/>
                  </a:lnTo>
                  <a:lnTo>
                    <a:pt x="3578" y="0"/>
                  </a:lnTo>
                  <a:lnTo>
                    <a:pt x="894" y="0"/>
                  </a:lnTo>
                  <a:lnTo>
                    <a:pt x="0" y="1972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7" name=""/>
            <p:cNvSpPr txBox="1"/>
            <p:nvPr/>
          </p:nvSpPr>
          <p:spPr>
            <a:xfrm>
              <a:off x="6996240" y="4805280"/>
              <a:ext cx="1371600" cy="73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ace  Archit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SAT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chite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8" name=""/>
            <p:cNvSpPr txBox="1"/>
            <p:nvPr/>
          </p:nvSpPr>
          <p:spPr>
            <a:xfrm>
              <a:off x="7591320" y="3087720"/>
              <a:ext cx="838080" cy="47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i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"/>
            <p:cNvSpPr txBox="1"/>
            <p:nvPr/>
          </p:nvSpPr>
          <p:spPr>
            <a:xfrm>
              <a:off x="592200" y="1176480"/>
              <a:ext cx="3586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rements Definition  </a:t>
              </a: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ARIAL"/>
                </a:rPr>
                <a:t>...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in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2633760" y="1073160"/>
              <a:ext cx="0" cy="522612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"/>
            <p:cNvSpPr txBox="1"/>
            <p:nvPr/>
          </p:nvSpPr>
          <p:spPr>
            <a:xfrm>
              <a:off x="3362400" y="1371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"/>
            <p:cNvSpPr txBox="1"/>
            <p:nvPr/>
          </p:nvSpPr>
          <p:spPr>
            <a:xfrm>
              <a:off x="3727440" y="1595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1463760" y="6299280"/>
              <a:ext cx="1243440" cy="373320"/>
            </a:xfrm>
            <a:custGeom>
              <a:avLst/>
              <a:gdLst/>
              <a:ahLst/>
              <a:rect l="0" t="0" r="r" b="b"/>
              <a:pathLst>
                <a:path w="3454" h="1037">
                  <a:moveTo>
                    <a:pt x="3454" y="933"/>
                  </a:moveTo>
                  <a:lnTo>
                    <a:pt x="3454" y="207"/>
                  </a:lnTo>
                  <a:lnTo>
                    <a:pt x="3109" y="103"/>
                  </a:lnTo>
                  <a:lnTo>
                    <a:pt x="2764" y="103"/>
                  </a:lnTo>
                  <a:lnTo>
                    <a:pt x="3109" y="0"/>
                  </a:lnTo>
                  <a:lnTo>
                    <a:pt x="2417" y="103"/>
                  </a:lnTo>
                  <a:lnTo>
                    <a:pt x="345" y="103"/>
                  </a:lnTo>
                  <a:lnTo>
                    <a:pt x="0" y="207"/>
                  </a:lnTo>
                  <a:lnTo>
                    <a:pt x="0" y="933"/>
                  </a:lnTo>
                  <a:lnTo>
                    <a:pt x="345" y="1037"/>
                  </a:lnTo>
                  <a:lnTo>
                    <a:pt x="3109" y="1037"/>
                  </a:lnTo>
                  <a:lnTo>
                    <a:pt x="3454" y="933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"/>
            <p:cNvSpPr txBox="1"/>
            <p:nvPr/>
          </p:nvSpPr>
          <p:spPr>
            <a:xfrm>
              <a:off x="1752480" y="637236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400" spc="-1" strike="noStrike">
                  <a:solidFill>
                    <a:srgbClr val="618ffd"/>
                  </a:solidFill>
                  <a:latin typeface="Times New Roman"/>
                  <a:ea typeface="Times New Roman"/>
                </a:rPr>
                <a:t>tod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73080" y="5702400"/>
              <a:ext cx="292320" cy="224280"/>
            </a:xfrm>
            <a:custGeom>
              <a:avLst/>
              <a:gdLst/>
              <a:ahLst/>
              <a:rect l="0" t="0" r="r" b="b"/>
              <a:pathLst>
                <a:path fill="none" w="812" h="623">
                  <a:moveTo>
                    <a:pt x="0" y="623"/>
                  </a:moveTo>
                  <a:lnTo>
                    <a:pt x="812" y="623"/>
                  </a:lnTo>
                  <a:lnTo>
                    <a:pt x="405" y="0"/>
                  </a:lnTo>
                  <a:lnTo>
                    <a:pt x="0" y="623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"/>
            <p:cNvSpPr txBox="1"/>
            <p:nvPr/>
          </p:nvSpPr>
          <p:spPr>
            <a:xfrm>
              <a:off x="216000" y="5700600"/>
              <a:ext cx="380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ARIAL"/>
                </a:rPr>
                <a:t>....  OSD Direction   ..............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2706840" y="5702400"/>
              <a:ext cx="292320" cy="224280"/>
            </a:xfrm>
            <a:custGeom>
              <a:avLst/>
              <a:gdLst/>
              <a:ahLst/>
              <a:rect l="0" t="0" r="r" b="b"/>
              <a:pathLst>
                <a:path fill="none" w="812" h="623">
                  <a:moveTo>
                    <a:pt x="0" y="623"/>
                  </a:moveTo>
                  <a:lnTo>
                    <a:pt x="812" y="623"/>
                  </a:lnTo>
                  <a:lnTo>
                    <a:pt x="405" y="0"/>
                  </a:lnTo>
                  <a:lnTo>
                    <a:pt x="0" y="623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"/>
            <p:cNvSpPr txBox="1"/>
            <p:nvPr/>
          </p:nvSpPr>
          <p:spPr>
            <a:xfrm>
              <a:off x="-3240" y="5999040"/>
              <a:ext cx="685800" cy="32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3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ARIAL"/>
                </a:rPr>
                <a:t>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1541520" y="5281560"/>
              <a:ext cx="214560" cy="495720"/>
            </a:xfrm>
            <a:custGeom>
              <a:avLst/>
              <a:gdLst/>
              <a:ahLst/>
              <a:rect l="0" t="0" r="r" b="b"/>
              <a:pathLst>
                <a:path fill="none" w="596" h="1377">
                  <a:moveTo>
                    <a:pt x="596" y="1032"/>
                  </a:moveTo>
                  <a:lnTo>
                    <a:pt x="357" y="1377"/>
                  </a:lnTo>
                  <a:lnTo>
                    <a:pt x="118" y="1032"/>
                  </a:lnTo>
                  <a:lnTo>
                    <a:pt x="237" y="1032"/>
                  </a:lnTo>
                  <a:lnTo>
                    <a:pt x="237" y="343"/>
                  </a:lnTo>
                  <a:lnTo>
                    <a:pt x="220" y="293"/>
                  </a:lnTo>
                  <a:lnTo>
                    <a:pt x="187" y="257"/>
                  </a:lnTo>
                  <a:lnTo>
                    <a:pt x="142" y="236"/>
                  </a:lnTo>
                  <a:lnTo>
                    <a:pt x="74" y="230"/>
                  </a:lnTo>
                  <a:lnTo>
                    <a:pt x="0" y="230"/>
                  </a:lnTo>
                  <a:lnTo>
                    <a:pt x="0" y="0"/>
                  </a:lnTo>
                  <a:lnTo>
                    <a:pt x="114" y="1"/>
                  </a:lnTo>
                  <a:lnTo>
                    <a:pt x="166" y="9"/>
                  </a:lnTo>
                  <a:lnTo>
                    <a:pt x="220" y="18"/>
                  </a:lnTo>
                  <a:lnTo>
                    <a:pt x="259" y="32"/>
                  </a:lnTo>
                  <a:lnTo>
                    <a:pt x="302" y="52"/>
                  </a:lnTo>
                  <a:lnTo>
                    <a:pt x="337" y="74"/>
                  </a:lnTo>
                  <a:lnTo>
                    <a:pt x="378" y="109"/>
                  </a:lnTo>
                  <a:lnTo>
                    <a:pt x="413" y="148"/>
                  </a:lnTo>
                  <a:lnTo>
                    <a:pt x="437" y="188"/>
                  </a:lnTo>
                  <a:lnTo>
                    <a:pt x="460" y="234"/>
                  </a:lnTo>
                  <a:lnTo>
                    <a:pt x="474" y="290"/>
                  </a:lnTo>
                  <a:lnTo>
                    <a:pt x="477" y="343"/>
                  </a:lnTo>
                  <a:lnTo>
                    <a:pt x="477" y="1032"/>
                  </a:lnTo>
                  <a:lnTo>
                    <a:pt x="596" y="1032"/>
                  </a:ln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2414520" y="4954680"/>
              <a:ext cx="146520" cy="822600"/>
            </a:xfrm>
            <a:custGeom>
              <a:avLst/>
              <a:gdLst/>
              <a:ahLst/>
              <a:rect l="0" t="0" r="r" b="b"/>
              <a:pathLst>
                <a:path fill="none" w="407" h="2285">
                  <a:moveTo>
                    <a:pt x="407" y="1713"/>
                  </a:moveTo>
                  <a:lnTo>
                    <a:pt x="243" y="2285"/>
                  </a:lnTo>
                  <a:lnTo>
                    <a:pt x="80" y="1713"/>
                  </a:lnTo>
                  <a:lnTo>
                    <a:pt x="162" y="1713"/>
                  </a:lnTo>
                  <a:lnTo>
                    <a:pt x="162" y="569"/>
                  </a:lnTo>
                  <a:lnTo>
                    <a:pt x="151" y="487"/>
                  </a:lnTo>
                  <a:lnTo>
                    <a:pt x="128" y="426"/>
                  </a:lnTo>
                  <a:lnTo>
                    <a:pt x="97" y="393"/>
                  </a:lnTo>
                  <a:lnTo>
                    <a:pt x="50" y="382"/>
                  </a:lnTo>
                  <a:lnTo>
                    <a:pt x="0" y="382"/>
                  </a:lnTo>
                  <a:lnTo>
                    <a:pt x="0" y="0"/>
                  </a:lnTo>
                  <a:lnTo>
                    <a:pt x="78" y="2"/>
                  </a:lnTo>
                  <a:lnTo>
                    <a:pt x="114" y="15"/>
                  </a:lnTo>
                  <a:lnTo>
                    <a:pt x="151" y="31"/>
                  </a:lnTo>
                  <a:lnTo>
                    <a:pt x="178" y="53"/>
                  </a:lnTo>
                  <a:lnTo>
                    <a:pt x="206" y="87"/>
                  </a:lnTo>
                  <a:lnTo>
                    <a:pt x="230" y="122"/>
                  </a:lnTo>
                  <a:lnTo>
                    <a:pt x="258" y="181"/>
                  </a:lnTo>
                  <a:lnTo>
                    <a:pt x="281" y="245"/>
                  </a:lnTo>
                  <a:lnTo>
                    <a:pt x="298" y="312"/>
                  </a:lnTo>
                  <a:lnTo>
                    <a:pt x="315" y="388"/>
                  </a:lnTo>
                  <a:lnTo>
                    <a:pt x="324" y="482"/>
                  </a:lnTo>
                  <a:lnTo>
                    <a:pt x="326" y="569"/>
                  </a:lnTo>
                  <a:lnTo>
                    <a:pt x="326" y="1713"/>
                  </a:lnTo>
                  <a:lnTo>
                    <a:pt x="407" y="1713"/>
                  </a:ln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"/>
            <p:cNvSpPr txBox="1"/>
            <p:nvPr/>
          </p:nvSpPr>
          <p:spPr>
            <a:xfrm>
              <a:off x="4751280" y="4879800"/>
              <a:ext cx="220968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40000"/>
                </a:lnSpc>
                <a:spcBef>
                  <a:spcPts val="1199"/>
                </a:spcBef>
                <a:buClr>
                  <a:srgbClr val="000000"/>
                </a:buClr>
                <a:buFont typeface="Monotype Sorts"/>
                <a:buChar char=""/>
              </a:pPr>
              <a:r>
                <a:rPr b="1" lang="en-US" sz="1000" spc="-1" strike="noStrike">
                  <a:solidFill>
                    <a:srgbClr val="114ffb"/>
                  </a:solidFill>
                  <a:latin typeface="ARIAL"/>
                  <a:ea typeface="ARIAL"/>
                </a:rPr>
                <a:t>Draft package briefed to AQ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40000"/>
                </a:lnSpc>
                <a:spcBef>
                  <a:spcPts val="1199"/>
                </a:spcBef>
                <a:buClr>
                  <a:srgbClr val="000000"/>
                </a:buClr>
                <a:buFont typeface="Monotype Sorts"/>
                <a:buChar char=""/>
              </a:pPr>
              <a:r>
                <a:rPr b="1" lang="en-US" sz="1000" spc="-1" strike="noStrike">
                  <a:solidFill>
                    <a:srgbClr val="114ffb"/>
                  </a:solidFill>
                  <a:latin typeface="ARIAL"/>
                  <a:ea typeface="ARIAL"/>
                </a:rPr>
                <a:t>Draft out to AO for revi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2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We’re Looking For From You (RF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you plan to contribute to this effor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components to turn-ke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ed NDI leveraging off commercia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st way to satisfy our acquisition approach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M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es due by COB 26 April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4" name=""/>
          <p:cNvSpPr txBox="1"/>
          <p:nvPr/>
        </p:nvSpPr>
        <p:spPr>
          <a:xfrm>
            <a:off x="770040" y="2970360"/>
            <a:ext cx="7772400" cy="27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QUESTIONS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695160" y="144360"/>
            <a:ext cx="7034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BS J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2133720"/>
            <a:ext cx="11430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3200400"/>
            <a:ext cx="685800" cy="1066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971800"/>
            <a:ext cx="106668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4648320"/>
            <a:ext cx="1981080" cy="53352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76520" y="3276720"/>
            <a:ext cx="838080" cy="1447920"/>
          </a:xfrm>
          <a:prstGeom prst="ellipse">
            <a:avLst/>
          </a:prstGeom>
          <a:solidFill>
            <a:srgbClr val="f39fd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143000" y="3657600"/>
            <a:ext cx="914400" cy="1295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3425760" y="2305080"/>
            <a:ext cx="2224440" cy="2954520"/>
            <a:chOff x="3425760" y="2305080"/>
            <a:chExt cx="2224440" cy="2954520"/>
          </a:xfrm>
        </p:grpSpPr>
        <p:grpSp>
          <p:nvGrpSpPr>
            <p:cNvPr id="887" name=""/>
            <p:cNvGrpSpPr/>
            <p:nvPr/>
          </p:nvGrpSpPr>
          <p:grpSpPr>
            <a:xfrm>
              <a:off x="3425760" y="2305080"/>
              <a:ext cx="2224440" cy="2954520"/>
              <a:chOff x="3425760" y="2305080"/>
              <a:chExt cx="2224440" cy="2954520"/>
            </a:xfrm>
          </p:grpSpPr>
          <p:grpSp>
            <p:nvGrpSpPr>
              <p:cNvPr id="888" name=""/>
              <p:cNvGrpSpPr/>
              <p:nvPr/>
            </p:nvGrpSpPr>
            <p:grpSpPr>
              <a:xfrm>
                <a:off x="3425760" y="2305080"/>
                <a:ext cx="2224440" cy="2822760"/>
                <a:chOff x="3425760" y="2305080"/>
                <a:chExt cx="2224440" cy="282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3425760" y="2305080"/>
                  <a:ext cx="2189520" cy="2822760"/>
                </a:xfrm>
                <a:custGeom>
                  <a:avLst/>
                  <a:gdLst/>
                  <a:ahLst/>
                  <a:rect l="0" t="0" r="r" b="b"/>
                  <a:pathLst>
                    <a:path w="6082" h="7841">
                      <a:moveTo>
                        <a:pt x="0" y="7841"/>
                      </a:moveTo>
                      <a:lnTo>
                        <a:pt x="17" y="6840"/>
                      </a:lnTo>
                      <a:lnTo>
                        <a:pt x="321" y="6619"/>
                      </a:lnTo>
                      <a:lnTo>
                        <a:pt x="612" y="6408"/>
                      </a:lnTo>
                      <a:lnTo>
                        <a:pt x="926" y="6183"/>
                      </a:lnTo>
                      <a:lnTo>
                        <a:pt x="1283" y="5918"/>
                      </a:lnTo>
                      <a:lnTo>
                        <a:pt x="1627" y="5667"/>
                      </a:lnTo>
                      <a:lnTo>
                        <a:pt x="1931" y="5442"/>
                      </a:lnTo>
                      <a:lnTo>
                        <a:pt x="2213" y="5248"/>
                      </a:lnTo>
                      <a:lnTo>
                        <a:pt x="2478" y="5072"/>
                      </a:lnTo>
                      <a:lnTo>
                        <a:pt x="2800" y="4864"/>
                      </a:lnTo>
                      <a:lnTo>
                        <a:pt x="3078" y="4701"/>
                      </a:lnTo>
                      <a:lnTo>
                        <a:pt x="3383" y="4529"/>
                      </a:lnTo>
                      <a:lnTo>
                        <a:pt x="3718" y="4357"/>
                      </a:lnTo>
                      <a:lnTo>
                        <a:pt x="4031" y="4221"/>
                      </a:lnTo>
                      <a:lnTo>
                        <a:pt x="4357" y="4088"/>
                      </a:lnTo>
                      <a:lnTo>
                        <a:pt x="4071" y="3974"/>
                      </a:lnTo>
                      <a:lnTo>
                        <a:pt x="3718" y="3840"/>
                      </a:lnTo>
                      <a:lnTo>
                        <a:pt x="3352" y="3686"/>
                      </a:lnTo>
                      <a:lnTo>
                        <a:pt x="2980" y="3514"/>
                      </a:lnTo>
                      <a:lnTo>
                        <a:pt x="2619" y="3338"/>
                      </a:lnTo>
                      <a:lnTo>
                        <a:pt x="2262" y="3135"/>
                      </a:lnTo>
                      <a:lnTo>
                        <a:pt x="1882" y="2883"/>
                      </a:lnTo>
                      <a:lnTo>
                        <a:pt x="1424" y="2522"/>
                      </a:lnTo>
                      <a:lnTo>
                        <a:pt x="1093" y="2248"/>
                      </a:lnTo>
                      <a:lnTo>
                        <a:pt x="780" y="1949"/>
                      </a:lnTo>
                      <a:lnTo>
                        <a:pt x="511" y="1631"/>
                      </a:lnTo>
                      <a:lnTo>
                        <a:pt x="119" y="1098"/>
                      </a:lnTo>
                      <a:lnTo>
                        <a:pt x="136" y="0"/>
                      </a:lnTo>
                      <a:lnTo>
                        <a:pt x="449" y="392"/>
                      </a:lnTo>
                      <a:lnTo>
                        <a:pt x="829" y="793"/>
                      </a:lnTo>
                      <a:lnTo>
                        <a:pt x="1177" y="1142"/>
                      </a:lnTo>
                      <a:lnTo>
                        <a:pt x="1516" y="1472"/>
                      </a:lnTo>
                      <a:lnTo>
                        <a:pt x="1940" y="1830"/>
                      </a:lnTo>
                      <a:lnTo>
                        <a:pt x="2350" y="2147"/>
                      </a:lnTo>
                      <a:lnTo>
                        <a:pt x="2654" y="2363"/>
                      </a:lnTo>
                      <a:lnTo>
                        <a:pt x="3052" y="2592"/>
                      </a:lnTo>
                      <a:lnTo>
                        <a:pt x="3405" y="2795"/>
                      </a:lnTo>
                      <a:lnTo>
                        <a:pt x="3696" y="2941"/>
                      </a:lnTo>
                      <a:lnTo>
                        <a:pt x="4075" y="3117"/>
                      </a:lnTo>
                      <a:lnTo>
                        <a:pt x="4371" y="3241"/>
                      </a:lnTo>
                      <a:lnTo>
                        <a:pt x="4573" y="3320"/>
                      </a:lnTo>
                      <a:lnTo>
                        <a:pt x="4842" y="3413"/>
                      </a:lnTo>
                      <a:lnTo>
                        <a:pt x="5072" y="3479"/>
                      </a:lnTo>
                      <a:lnTo>
                        <a:pt x="5081" y="2923"/>
                      </a:lnTo>
                      <a:lnTo>
                        <a:pt x="6082" y="3969"/>
                      </a:lnTo>
                      <a:lnTo>
                        <a:pt x="5045" y="5063"/>
                      </a:lnTo>
                      <a:lnTo>
                        <a:pt x="5054" y="4507"/>
                      </a:lnTo>
                      <a:lnTo>
                        <a:pt x="4878" y="4547"/>
                      </a:lnTo>
                      <a:lnTo>
                        <a:pt x="4662" y="4622"/>
                      </a:lnTo>
                      <a:lnTo>
                        <a:pt x="4441" y="4732"/>
                      </a:lnTo>
                      <a:lnTo>
                        <a:pt x="4168" y="4878"/>
                      </a:lnTo>
                      <a:lnTo>
                        <a:pt x="3890" y="5041"/>
                      </a:lnTo>
                      <a:lnTo>
                        <a:pt x="3652" y="5186"/>
                      </a:lnTo>
                      <a:lnTo>
                        <a:pt x="3409" y="5341"/>
                      </a:lnTo>
                      <a:lnTo>
                        <a:pt x="3145" y="5508"/>
                      </a:lnTo>
                      <a:lnTo>
                        <a:pt x="2919" y="5654"/>
                      </a:lnTo>
                      <a:lnTo>
                        <a:pt x="2654" y="5821"/>
                      </a:lnTo>
                      <a:lnTo>
                        <a:pt x="2191" y="6143"/>
                      </a:lnTo>
                      <a:lnTo>
                        <a:pt x="1847" y="6399"/>
                      </a:lnTo>
                      <a:lnTo>
                        <a:pt x="1565" y="6597"/>
                      </a:lnTo>
                      <a:lnTo>
                        <a:pt x="1331" y="6778"/>
                      </a:lnTo>
                      <a:lnTo>
                        <a:pt x="983" y="7056"/>
                      </a:lnTo>
                      <a:lnTo>
                        <a:pt x="657" y="7303"/>
                      </a:lnTo>
                      <a:lnTo>
                        <a:pt x="339" y="7563"/>
                      </a:lnTo>
                      <a:lnTo>
                        <a:pt x="0" y="7841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264280" y="3359160"/>
                  <a:ext cx="25920" cy="322560"/>
                </a:xfrm>
                <a:custGeom>
                  <a:avLst/>
                  <a:gdLst/>
                  <a:ahLst/>
                  <a:rect l="0" t="0" r="r" b="b"/>
                  <a:pathLst>
                    <a:path w="72" h="896">
                      <a:moveTo>
                        <a:pt x="59" y="896"/>
                      </a:moveTo>
                      <a:lnTo>
                        <a:pt x="0" y="543"/>
                      </a:lnTo>
                      <a:lnTo>
                        <a:pt x="8" y="0"/>
                      </a:lnTo>
                      <a:lnTo>
                        <a:pt x="72" y="370"/>
                      </a:lnTo>
                      <a:lnTo>
                        <a:pt x="59" y="89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267160" y="3360600"/>
                  <a:ext cx="383040" cy="498960"/>
                </a:xfrm>
                <a:custGeom>
                  <a:avLst/>
                  <a:gdLst/>
                  <a:ahLst/>
                  <a:rect l="0" t="0" r="r" b="b"/>
                  <a:pathLst>
                    <a:path w="1064" h="1386">
                      <a:moveTo>
                        <a:pt x="1064" y="1386"/>
                      </a:moveTo>
                      <a:lnTo>
                        <a:pt x="972" y="1024"/>
                      </a:lnTo>
                      <a:lnTo>
                        <a:pt x="0" y="0"/>
                      </a:lnTo>
                      <a:lnTo>
                        <a:pt x="92" y="371"/>
                      </a:lnTo>
                      <a:lnTo>
                        <a:pt x="1064" y="138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254560" y="4017960"/>
                  <a:ext cx="24120" cy="235440"/>
                </a:xfrm>
                <a:custGeom>
                  <a:avLst/>
                  <a:gdLst/>
                  <a:ahLst/>
                  <a:rect l="0" t="0" r="r" b="b"/>
                  <a:pathLst>
                    <a:path w="67" h="654">
                      <a:moveTo>
                        <a:pt x="58" y="654"/>
                      </a:moveTo>
                      <a:lnTo>
                        <a:pt x="67" y="110"/>
                      </a:lnTo>
                      <a:lnTo>
                        <a:pt x="4" y="0"/>
                      </a:lnTo>
                      <a:lnTo>
                        <a:pt x="0" y="318"/>
                      </a:lnTo>
                      <a:lnTo>
                        <a:pt x="58" y="65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3468600" y="2308320"/>
                <a:ext cx="28800" cy="510120"/>
              </a:xfrm>
              <a:custGeom>
                <a:avLst/>
                <a:gdLst/>
                <a:ahLst/>
                <a:rect l="0" t="0" r="r" b="b"/>
                <a:pathLst>
                  <a:path w="80" h="1417">
                    <a:moveTo>
                      <a:pt x="62" y="1417"/>
                    </a:moveTo>
                    <a:lnTo>
                      <a:pt x="0" y="1064"/>
                    </a:lnTo>
                    <a:lnTo>
                      <a:pt x="17" y="0"/>
                    </a:lnTo>
                    <a:lnTo>
                      <a:pt x="80" y="352"/>
                    </a:lnTo>
                    <a:lnTo>
                      <a:pt x="62" y="141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425760" y="4781520"/>
                <a:ext cx="30600" cy="478080"/>
              </a:xfrm>
              <a:custGeom>
                <a:avLst/>
                <a:gdLst/>
                <a:ahLst/>
                <a:rect l="0" t="0" r="r" b="b"/>
                <a:pathLst>
                  <a:path w="85" h="1328">
                    <a:moveTo>
                      <a:pt x="62" y="1328"/>
                    </a:moveTo>
                    <a:lnTo>
                      <a:pt x="0" y="966"/>
                    </a:lnTo>
                    <a:lnTo>
                      <a:pt x="17" y="0"/>
                    </a:lnTo>
                    <a:lnTo>
                      <a:pt x="85" y="361"/>
                    </a:lnTo>
                    <a:lnTo>
                      <a:pt x="62" y="132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3454560" y="2414520"/>
              <a:ext cx="2188080" cy="2824560"/>
            </a:xfrm>
            <a:custGeom>
              <a:avLst/>
              <a:gdLst/>
              <a:ahLst/>
              <a:rect l="0" t="0" r="r" b="b"/>
              <a:pathLst>
                <a:path w="6078" h="7846">
                  <a:moveTo>
                    <a:pt x="0" y="7846"/>
                  </a:moveTo>
                  <a:lnTo>
                    <a:pt x="13" y="6841"/>
                  </a:lnTo>
                  <a:lnTo>
                    <a:pt x="317" y="6625"/>
                  </a:lnTo>
                  <a:lnTo>
                    <a:pt x="608" y="6418"/>
                  </a:lnTo>
                  <a:lnTo>
                    <a:pt x="926" y="6193"/>
                  </a:lnTo>
                  <a:lnTo>
                    <a:pt x="1278" y="5924"/>
                  </a:lnTo>
                  <a:lnTo>
                    <a:pt x="1623" y="5676"/>
                  </a:lnTo>
                  <a:lnTo>
                    <a:pt x="1928" y="5451"/>
                  </a:lnTo>
                  <a:lnTo>
                    <a:pt x="2210" y="5257"/>
                  </a:lnTo>
                  <a:lnTo>
                    <a:pt x="2483" y="5076"/>
                  </a:lnTo>
                  <a:lnTo>
                    <a:pt x="2796" y="4869"/>
                  </a:lnTo>
                  <a:lnTo>
                    <a:pt x="3074" y="4706"/>
                  </a:lnTo>
                  <a:lnTo>
                    <a:pt x="3383" y="4534"/>
                  </a:lnTo>
                  <a:lnTo>
                    <a:pt x="3718" y="4366"/>
                  </a:lnTo>
                  <a:lnTo>
                    <a:pt x="4027" y="4221"/>
                  </a:lnTo>
                  <a:lnTo>
                    <a:pt x="4357" y="4093"/>
                  </a:lnTo>
                  <a:lnTo>
                    <a:pt x="4066" y="3974"/>
                  </a:lnTo>
                  <a:lnTo>
                    <a:pt x="3718" y="3850"/>
                  </a:lnTo>
                  <a:lnTo>
                    <a:pt x="3347" y="3687"/>
                  </a:lnTo>
                  <a:lnTo>
                    <a:pt x="2973" y="3524"/>
                  </a:lnTo>
                  <a:lnTo>
                    <a:pt x="2615" y="3343"/>
                  </a:lnTo>
                  <a:lnTo>
                    <a:pt x="2258" y="3136"/>
                  </a:lnTo>
                  <a:lnTo>
                    <a:pt x="1879" y="2884"/>
                  </a:lnTo>
                  <a:lnTo>
                    <a:pt x="1424" y="2527"/>
                  </a:lnTo>
                  <a:lnTo>
                    <a:pt x="1093" y="2254"/>
                  </a:lnTo>
                  <a:lnTo>
                    <a:pt x="776" y="1949"/>
                  </a:lnTo>
                  <a:lnTo>
                    <a:pt x="511" y="1636"/>
                  </a:lnTo>
                  <a:lnTo>
                    <a:pt x="114" y="1102"/>
                  </a:lnTo>
                  <a:lnTo>
                    <a:pt x="136" y="0"/>
                  </a:lnTo>
                  <a:lnTo>
                    <a:pt x="445" y="396"/>
                  </a:lnTo>
                  <a:lnTo>
                    <a:pt x="820" y="798"/>
                  </a:lnTo>
                  <a:lnTo>
                    <a:pt x="1172" y="1146"/>
                  </a:lnTo>
                  <a:lnTo>
                    <a:pt x="1516" y="1481"/>
                  </a:lnTo>
                  <a:lnTo>
                    <a:pt x="1936" y="1834"/>
                  </a:lnTo>
                  <a:lnTo>
                    <a:pt x="2346" y="2152"/>
                  </a:lnTo>
                  <a:lnTo>
                    <a:pt x="2651" y="2369"/>
                  </a:lnTo>
                  <a:lnTo>
                    <a:pt x="3048" y="2598"/>
                  </a:lnTo>
                  <a:lnTo>
                    <a:pt x="3405" y="2801"/>
                  </a:lnTo>
                  <a:lnTo>
                    <a:pt x="3696" y="2946"/>
                  </a:lnTo>
                  <a:lnTo>
                    <a:pt x="4071" y="3123"/>
                  </a:lnTo>
                  <a:lnTo>
                    <a:pt x="4366" y="3242"/>
                  </a:lnTo>
                  <a:lnTo>
                    <a:pt x="4574" y="3325"/>
                  </a:lnTo>
                  <a:lnTo>
                    <a:pt x="4839" y="3418"/>
                  </a:lnTo>
                  <a:lnTo>
                    <a:pt x="5068" y="3489"/>
                  </a:lnTo>
                  <a:lnTo>
                    <a:pt x="5077" y="2929"/>
                  </a:lnTo>
                  <a:lnTo>
                    <a:pt x="6078" y="3974"/>
                  </a:lnTo>
                  <a:lnTo>
                    <a:pt x="5042" y="5063"/>
                  </a:lnTo>
                  <a:lnTo>
                    <a:pt x="5051" y="4512"/>
                  </a:lnTo>
                  <a:lnTo>
                    <a:pt x="4879" y="4551"/>
                  </a:lnTo>
                  <a:lnTo>
                    <a:pt x="4663" y="4626"/>
                  </a:lnTo>
                  <a:lnTo>
                    <a:pt x="4437" y="4737"/>
                  </a:lnTo>
                  <a:lnTo>
                    <a:pt x="4168" y="4882"/>
                  </a:lnTo>
                  <a:lnTo>
                    <a:pt x="3890" y="5045"/>
                  </a:lnTo>
                  <a:lnTo>
                    <a:pt x="3647" y="5191"/>
                  </a:lnTo>
                  <a:lnTo>
                    <a:pt x="3414" y="5341"/>
                  </a:lnTo>
                  <a:lnTo>
                    <a:pt x="3140" y="5513"/>
                  </a:lnTo>
                  <a:lnTo>
                    <a:pt x="2915" y="5663"/>
                  </a:lnTo>
                  <a:lnTo>
                    <a:pt x="2660" y="5830"/>
                  </a:lnTo>
                  <a:lnTo>
                    <a:pt x="2188" y="6153"/>
                  </a:lnTo>
                  <a:lnTo>
                    <a:pt x="1844" y="6400"/>
                  </a:lnTo>
                  <a:lnTo>
                    <a:pt x="1566" y="6603"/>
                  </a:lnTo>
                  <a:lnTo>
                    <a:pt x="1327" y="6784"/>
                  </a:lnTo>
                  <a:lnTo>
                    <a:pt x="983" y="7061"/>
                  </a:lnTo>
                  <a:lnTo>
                    <a:pt x="657" y="7317"/>
                  </a:lnTo>
                  <a:lnTo>
                    <a:pt x="343" y="7569"/>
                  </a:lnTo>
                  <a:lnTo>
                    <a:pt x="0" y="78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6095880" y="2322360"/>
            <a:ext cx="2759040" cy="29527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 txBox="1"/>
          <p:nvPr/>
        </p:nvSpPr>
        <p:spPr>
          <a:xfrm>
            <a:off x="365040" y="5394240"/>
            <a:ext cx="249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565440" y="539424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 of J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6537240" y="5394240"/>
            <a:ext cx="2149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GB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JPO Los Angeles, CA</dc:creator>
  <dc:description/>
  <dc:language>en-US</dc:language>
  <cp:lastModifiedBy>MJPO Los Angeles, CA</cp:lastModifiedBy>
  <cp:revision>0</cp:revision>
  <dc:subject/>
  <dc:title>Industry Day Briefing</dc:title>
</cp:coreProperties>
</file>